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69B9-399F-4612-B4DF-177F4783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BAB-8D68-40B8-A071-12B8E4BE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E6BB-BD05-426B-90DF-963E4391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A40-5CC3-499A-AB86-1F081F65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ECC-6A85-4F62-B9C1-76D4123A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E638-DDA4-485D-8160-CD331CE1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0EC-8990-4F0A-87DD-F34BDE48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A87-0022-4A54-AFCF-8B63A05E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8E0-F8DB-4A0A-BC7C-BE442056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17E-26F3-4FB9-B5E8-049679ED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9528-0A9B-4159-9803-2874EE39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8E51-FCE6-45F0-9820-5CF65A2D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395640"/>
            <a:ext cx="3808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/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BA0F0D0-045F-44CF-AC24-5C2D01228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13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Update on the MAC Coexistence Modeling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. Golmie and F. Mou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164-ACCD-4D94-98C1-96F7EE649D1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acket Encaps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2406600"/>
            <a:ext cx="7391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362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406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2406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2406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2406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2406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2406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482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L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482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482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2438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2482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O = 64/ 72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2482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01000" y="2482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L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1676520"/>
            <a:ext cx="304560" cy="761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1676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2794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C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21337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21337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21337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21337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21337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153280" y="21337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6629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352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F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3505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35053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3505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5053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O =ANY S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3505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2895480"/>
            <a:ext cx="3429000" cy="533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7619760" y="2895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31240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3124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124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8-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2004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4267080"/>
            <a:ext cx="6629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320" y="4267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4267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267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43434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annel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435924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34340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YLOAD = 77 / 85 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40384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40384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886200"/>
            <a:ext cx="220968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38098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1279440"/>
            <a:ext cx="22100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12794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1279440"/>
            <a:ext cx="22096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12794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CHO_RE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105084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64 x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97488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5105520"/>
            <a:ext cx="7543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5105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5105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5105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0280" y="5105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51814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_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5181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51814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51814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YLOAD= 81/ 89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51814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800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48006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4800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5029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14800" y="4800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5105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5105520"/>
            <a:ext cx="533520" cy="4572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4800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5105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48006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2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48720" y="5181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5867280"/>
            <a:ext cx="7543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5867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5867280"/>
            <a:ext cx="18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594360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5943600"/>
            <a:ext cx="114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594360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YLOAD = 1146 / 1251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5638680"/>
            <a:ext cx="52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5638680"/>
            <a:ext cx="52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867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e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05520" y="105084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72 x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33920" y="127944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AD12-F332-4C89-9651-95184F267AC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Master/ Slave Packet Transmissio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29200" y="6094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022400"/>
            <a:ext cx="0" cy="545472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1022400"/>
            <a:ext cx="0" cy="545472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11746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117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174680"/>
            <a:ext cx="762120" cy="3812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022400"/>
            <a:ext cx="0" cy="54547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295280" y="1098720"/>
            <a:ext cx="76320" cy="5378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174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1280" y="8380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C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34680" y="83808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L2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2520" y="8380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57800" y="1327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1251000"/>
            <a:ext cx="9144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1098720"/>
            <a:ext cx="0" cy="5378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1098720"/>
            <a:ext cx="0" cy="5378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31280" y="8380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C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11240" y="83808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L2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1160" y="8380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-295920" y="44323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8085960" y="26575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L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1327320"/>
            <a:ext cx="15238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rot="16200000">
            <a:off x="3703680" y="28803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7800" y="1860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784520"/>
            <a:ext cx="9144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3200" y="1860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1784520"/>
            <a:ext cx="9144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657240" y="1936800"/>
            <a:ext cx="15238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1174680"/>
            <a:ext cx="685800" cy="38124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117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3880" y="1174680"/>
            <a:ext cx="152640" cy="3812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2394000"/>
            <a:ext cx="6858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2394000"/>
            <a:ext cx="228600" cy="3808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43200" y="2394000"/>
            <a:ext cx="914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19520" y="2394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2851200"/>
            <a:ext cx="914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95480" y="2851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2317680"/>
            <a:ext cx="8229600" cy="0"/>
          </a:xfrm>
          <a:prstGeom prst="line">
            <a:avLst/>
          </a:prstGeom>
          <a:ln w="12600">
            <a:solidFill>
              <a:srgbClr val="96969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3308400"/>
            <a:ext cx="914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3308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23940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87964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333684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2927520"/>
            <a:ext cx="685800" cy="30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2927520"/>
            <a:ext cx="228600" cy="30456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3733920"/>
            <a:ext cx="8382240" cy="0"/>
          </a:xfrm>
          <a:prstGeom prst="line">
            <a:avLst/>
          </a:prstGeom>
          <a:ln w="12600">
            <a:solidFill>
              <a:srgbClr val="96969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2394000"/>
            <a:ext cx="914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2394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81480" y="2835360"/>
            <a:ext cx="914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2835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81480" y="3308400"/>
            <a:ext cx="914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3308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96080" y="3932280"/>
            <a:ext cx="838440" cy="3668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9608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cho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7120" y="3917880"/>
            <a:ext cx="838080" cy="38124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77120" y="3917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cho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24480" y="3917880"/>
            <a:ext cx="152640" cy="3812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3917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3841920"/>
            <a:ext cx="9144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4419720"/>
            <a:ext cx="8229600" cy="0"/>
          </a:xfrm>
          <a:prstGeom prst="line">
            <a:avLst/>
          </a:prstGeom>
          <a:ln w="12600">
            <a:solidFill>
              <a:srgbClr val="96969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5060880"/>
            <a:ext cx="8229600" cy="0"/>
          </a:xfrm>
          <a:prstGeom prst="line">
            <a:avLst/>
          </a:prstGeom>
          <a:ln w="12600">
            <a:solidFill>
              <a:srgbClr val="96969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57600" y="254628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57600" y="300348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600" y="3537000"/>
            <a:ext cx="15238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3917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3841920"/>
            <a:ext cx="9144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657240" y="4070520"/>
            <a:ext cx="15238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1752480"/>
            <a:ext cx="8229600" cy="0"/>
          </a:xfrm>
          <a:prstGeom prst="line">
            <a:avLst/>
          </a:prstGeom>
          <a:ln w="12600">
            <a:solidFill>
              <a:srgbClr val="96969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6019920"/>
            <a:ext cx="76212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6019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cho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6019920"/>
            <a:ext cx="685800" cy="380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00200" y="6019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cho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6019920"/>
            <a:ext cx="152640" cy="3808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96080" y="3308400"/>
            <a:ext cx="76212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96080" y="3308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77120" y="3308400"/>
            <a:ext cx="685800" cy="380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77120" y="3308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324480" y="3308400"/>
            <a:ext cx="152640" cy="3808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19320" y="1327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1327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2320" y="2546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3079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5880" y="3460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62920" y="3460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7315200" y="4070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095520" y="4070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4527720"/>
            <a:ext cx="914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19520" y="4527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19732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5197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6386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4120" y="5638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57800" y="6095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81480" y="4572000"/>
            <a:ext cx="914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572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4648320"/>
            <a:ext cx="152388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51814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95480" y="5181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19520" y="562284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71800" y="56228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9520" y="608004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608004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772400" y="5029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72400" y="5638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72400" y="60800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5181480"/>
            <a:ext cx="68580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00800" y="5181480"/>
            <a:ext cx="228600" cy="3812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5715000"/>
            <a:ext cx="685800" cy="304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00800" y="5715000"/>
            <a:ext cx="228600" cy="30492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09552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095520" y="5867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809880" y="5334120"/>
            <a:ext cx="137160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733560" y="5791320"/>
            <a:ext cx="144756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733560" y="6248520"/>
            <a:ext cx="144756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2362320" y="6248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1219320" y="6172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C1E9-4A7C-4857-B609-8D61051D1CF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Master/ Slave Packet Trans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29200" y="6094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1022400"/>
            <a:ext cx="0" cy="545472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1022400"/>
            <a:ext cx="0" cy="545472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11746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1174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080" y="1174680"/>
            <a:ext cx="762120" cy="3812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71800" y="1022400"/>
            <a:ext cx="0" cy="54547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676160" y="1098720"/>
            <a:ext cx="75960" cy="5378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174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92520" y="8380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C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15560" y="83808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L2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53760" y="8380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38680" y="1327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1251000"/>
            <a:ext cx="9144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848720" y="1098720"/>
            <a:ext cx="0" cy="5378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29400" y="1098720"/>
            <a:ext cx="0" cy="5378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012160" y="8380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C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792480" y="83808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L2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92040" y="8380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60199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60199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L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1327320"/>
            <a:ext cx="15242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rot="16200000">
            <a:off x="4085640" y="28803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1860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1784520"/>
            <a:ext cx="9144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1860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1784520"/>
            <a:ext cx="9144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038480" y="1936800"/>
            <a:ext cx="15242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1174680"/>
            <a:ext cx="685800" cy="38124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1174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05120" y="1174680"/>
            <a:ext cx="152280" cy="3812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38080" y="2317680"/>
            <a:ext cx="8229600" cy="0"/>
          </a:xfrm>
          <a:prstGeom prst="line">
            <a:avLst/>
          </a:prstGeom>
          <a:ln w="12600">
            <a:solidFill>
              <a:srgbClr val="96969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24080" y="2362320"/>
            <a:ext cx="914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00400" y="2362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080" y="2362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Choose Option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120" y="2819520"/>
            <a:ext cx="8381880" cy="0"/>
          </a:xfrm>
          <a:prstGeom prst="line">
            <a:avLst/>
          </a:prstGeom>
          <a:ln w="12600">
            <a:solidFill>
              <a:srgbClr val="96969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562720" y="2362320"/>
            <a:ext cx="914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38680" y="2362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2986200"/>
            <a:ext cx="838080" cy="36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001000" y="2971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cho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0" y="2971800"/>
            <a:ext cx="838080" cy="380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2971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cho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05720" y="2971800"/>
            <a:ext cx="152280" cy="3808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63868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562720" y="2895480"/>
            <a:ext cx="9144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3473280"/>
            <a:ext cx="8229600" cy="0"/>
          </a:xfrm>
          <a:prstGeom prst="line">
            <a:avLst/>
          </a:prstGeom>
          <a:ln w="12600">
            <a:solidFill>
              <a:srgbClr val="96969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4038480"/>
            <a:ext cx="8229600" cy="0"/>
          </a:xfrm>
          <a:prstGeom prst="line">
            <a:avLst/>
          </a:prstGeom>
          <a:ln w="12600">
            <a:solidFill>
              <a:srgbClr val="96969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38480" y="2590920"/>
            <a:ext cx="152424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2895480"/>
            <a:ext cx="9144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038480" y="3124080"/>
            <a:ext cx="15242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752480"/>
            <a:ext cx="8229600" cy="0"/>
          </a:xfrm>
          <a:prstGeom prst="line">
            <a:avLst/>
          </a:prstGeom>
          <a:ln w="12600">
            <a:solidFill>
              <a:srgbClr val="96969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38080" y="4038480"/>
            <a:ext cx="762120" cy="3812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2120" y="4038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cho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57400" y="4038480"/>
            <a:ext cx="685800" cy="38124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81080" y="4038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cho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05120" y="4038480"/>
            <a:ext cx="152280" cy="3812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077320" y="2362320"/>
            <a:ext cx="76176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077320" y="2362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0" y="2362320"/>
            <a:ext cx="685800" cy="380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0" y="2362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05720" y="2362320"/>
            <a:ext cx="152280" cy="3808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00200" y="1327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43200" y="1327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7712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7695720" y="31240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647676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537000"/>
            <a:ext cx="914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3537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62720" y="4114800"/>
            <a:ext cx="914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4114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3581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38680" y="3581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38480" y="3657600"/>
            <a:ext cx="15242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00400" y="4098960"/>
            <a:ext cx="914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720" y="40989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0" y="4098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Choose Option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114800" y="4267080"/>
            <a:ext cx="14479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74320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599840" y="4191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4572000"/>
            <a:ext cx="8229600" cy="0"/>
          </a:xfrm>
          <a:prstGeom prst="line">
            <a:avLst/>
          </a:prstGeom>
          <a:ln w="12600">
            <a:solidFill>
              <a:srgbClr val="96969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24080" y="4756320"/>
            <a:ext cx="914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00400" y="4756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62720" y="5334120"/>
            <a:ext cx="914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38680" y="5334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62720" y="4800600"/>
            <a:ext cx="914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38680" y="4800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38480" y="4876920"/>
            <a:ext cx="152424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00400" y="5318280"/>
            <a:ext cx="914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276720" y="5318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4114800" y="5486400"/>
            <a:ext cx="14479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2120" y="5257800"/>
            <a:ext cx="8229600" cy="0"/>
          </a:xfrm>
          <a:prstGeom prst="line">
            <a:avLst/>
          </a:prstGeom>
          <a:ln w="12600">
            <a:solidFill>
              <a:srgbClr val="96969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9480" y="914400"/>
            <a:ext cx="152640" cy="3657600"/>
          </a:xfrm>
          <a:custGeom>
            <a:avLst/>
            <a:gdLst>
              <a:gd name="textAreaLeft" fmla="*/ 97560 w 152640"/>
              <a:gd name="textAreaRight" fmla="*/ 153000 w 1526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4572000"/>
            <a:ext cx="76320" cy="1905120"/>
          </a:xfrm>
          <a:custGeom>
            <a:avLst/>
            <a:gdLst>
              <a:gd name="textAreaLeft" fmla="*/ 48960 w 76320"/>
              <a:gd name="textAreaRight" fmla="*/ 7632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6200000">
            <a:off x="-532080" y="258336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Repeat n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-592560" y="5315040"/>
            <a:ext cx="188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Idle Tim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2F1-FDF3-424A-877B-511FAEBEBBE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imulation Para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devices in a piconet: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devices (Master/ Slav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between devices: 10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: ICMP appl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2 and x = 0.00625 * n * (1/Load -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Load is % of max through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% Throughput = 464160 bits/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are perform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2CAP for access delay, throughput, and good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band for packet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345C-302E-40BF-9343-B05C53201CC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4800600" y="518148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838080" y="1089000"/>
          <a:ext cx="708660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89000"/>
                    <a:ext cx="708660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BER = 0.25% , Average Del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6847-7F4E-4111-A7BB-8279D0EE229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BER = 0.25% , Delay Percent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838080" y="1143000"/>
          <a:ext cx="739152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739152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2910-984D-47C3-98CA-CE7F9F4F9B8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BER = 0.25%, Coefficient of DelayVari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762120" y="1066680"/>
          <a:ext cx="7467480" cy="53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467480" cy="53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7FD8-5E39-4F03-927F-ACD5F8851B2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BER = 0.25% , Packet L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838080" y="1066680"/>
          <a:ext cx="7467840" cy="53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46784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9828-C4CF-4B82-A5C4-E6EDBAC400A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BER = 0.25% , Through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990720" y="990720"/>
          <a:ext cx="7467480" cy="53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90720"/>
                    <a:ext cx="746748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ABA6-E830-4913-A8C5-44B6E64F17B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BER = 0.25%, Good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685800" y="1044720"/>
          <a:ext cx="7467480" cy="53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44720"/>
                    <a:ext cx="746748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93B8-C34E-47D0-ADD3-5B7ED70AB60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: Progres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Features/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/ PHY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BER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I: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0D2-11C6-449C-A1A1-786C836AB8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BER = 1%, Average Del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914400" y="1066680"/>
          <a:ext cx="746748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066680"/>
                    <a:ext cx="746748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04E1-38A8-4EEE-A607-A697C812098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BER = 1% , Delay Percent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762120" y="1066680"/>
          <a:ext cx="746748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46748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48F9-F551-466A-8F89-FD03669860B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BER = 1%, Coefficient of DelayVari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685800" y="1066680"/>
          <a:ext cx="739152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39152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ECB3-A91D-4A58-A759-54C2A99AD69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BER = 1% , Packet L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762120" y="1066680"/>
          <a:ext cx="7467480" cy="53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46748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A811-436B-4445-B82D-C8BB328CC30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BER = 1% , Through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838080" y="1066680"/>
          <a:ext cx="7353360" cy="528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353360" cy="52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5E2-F4DB-4343-BCA6-3040B118992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BER = 1%, Good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838080" y="1066680"/>
          <a:ext cx="7429680" cy="53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429680" cy="53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239-A2E1-40F6-802F-D3217017BAC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Load 50%, Average Del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762120" y="1066680"/>
          <a:ext cx="7429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429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516-8D7F-42BB-B215-D43943A26CB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Load = 50% , Delay Percent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609480" y="1066680"/>
          <a:ext cx="74296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74296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9479-2F4F-4529-B9DE-30C30DC35E8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Load = 50%, Coefficient of Delay Vari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838080" y="1066680"/>
          <a:ext cx="74296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4296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E3B2-0DE1-4DB5-90C5-BF842641C12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Load= 50% , Packet L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914400" y="1066680"/>
          <a:ext cx="7353360" cy="528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066680"/>
                    <a:ext cx="7353360" cy="52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6320-D292-4396-A93E-16726269B8E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 progress update on the MAC modeling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 the model capabilities and experiment with different BER distrib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DA26-D0E2-4508-977D-47AF9C8038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Load = 50% , Through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838080" y="1066680"/>
          <a:ext cx="7277400" cy="52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277400" cy="52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57D8-55D6-4A94-8DCB-2F133FC9BB9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Load = 50%, Good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914400" y="1066680"/>
          <a:ext cx="74296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066680"/>
                    <a:ext cx="74296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27B5-83FD-4590-AA17-55E27A33CD8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Next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xperiments with different BER, loads, number of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BT MAC model develop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, master schedu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n MAC/ PHY interf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 mod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4920" y="914400"/>
            <a:ext cx="8610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a status report on the BT MAC model develop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an example of BER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6094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E2D-5613-4EB3-889F-63D77F883FC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rogress Repor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105A-F1F5-4066-BD54-9D458CE1FA4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Basic Model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3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 Robin master schedul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nchronous Connection-Less (ACL)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6094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ddionnal Features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5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4648320"/>
            <a:ext cx="8991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295280"/>
            <a:ext cx="4496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2CAP segmentation and reassemb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C, CRC and H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ansmission (ARQ and SEQ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DCA5-5198-4412-817B-DD2E1DD07C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MAC / PHY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371600"/>
            <a:ext cx="838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219320"/>
            <a:ext cx="815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ynamic inte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s 3 step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 of a bit 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call to PHY model and execution of MATLAB or “C” rout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neration of  Baseband frame (with erro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ametric inte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ptures the characteristics of the BER dis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errors in a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of errors in a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C463-EAE8-4856-BE45-D776BD3F68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Example of BER Model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ric interface based on a two-state Markov model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443400"/>
            <a:ext cx="1371600" cy="129528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3443400"/>
            <a:ext cx="1295280" cy="121896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062160"/>
            <a:ext cx="3352680" cy="3812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164" y="96"/>
                  <a:pt x="328" y="0"/>
                  <a:pt x="480" y="0"/>
                </a:cubicBezTo>
                <a:cubicBezTo>
                  <a:pt x="632" y="0"/>
                  <a:pt x="840" y="160"/>
                  <a:pt x="912" y="1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4662360"/>
            <a:ext cx="3352680" cy="317520"/>
          </a:xfrm>
          <a:custGeom>
            <a:avLst/>
            <a:gdLst/>
            <a:ahLst/>
            <a:rect l="l" t="t" r="r" b="b"/>
            <a:pathLst>
              <a:path w="2112" h="200">
                <a:moveTo>
                  <a:pt x="2112" y="0"/>
                </a:moveTo>
                <a:cubicBezTo>
                  <a:pt x="1808" y="92"/>
                  <a:pt x="1504" y="184"/>
                  <a:pt x="1152" y="192"/>
                </a:cubicBezTo>
                <a:cubicBezTo>
                  <a:pt x="800" y="200"/>
                  <a:pt x="400" y="124"/>
                  <a:pt x="0" y="4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35956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37479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2514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e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3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48909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g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86728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G. T. Nguyen, R. H. Katz, M. Satyanarayanan, B. Noble, “A Trace-based approach for modeling wireless channel behavior,” Proceedings of the Winter Simulation Conference, pp. 597-604, Orlando Florida, December 199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1604880"/>
            <a:ext cx="2646360" cy="2040840"/>
          </a:xfr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umber of erro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 percentage with respect to the packet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onentially distributed percentage with respect to the packet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3962520"/>
            <a:ext cx="2825640" cy="189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10" y="1412"/>
                </a:moveTo>
                <a:lnTo>
                  <a:pt x="-582" y="1333"/>
                </a:lnTo>
              </a:path>
              <a:path w="21600" h="21600">
                <a:moveTo>
                  <a:pt x="-582" y="0"/>
                </a:moveTo>
                <a:lnTo>
                  <a:pt x="-582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lacement of errors in packe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ndom (uniformly distributed on the packet length , U(0,1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ecutive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17C-BDDD-4E4A-96FB-3BDBFEBE07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Case St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0E48-ACF9-4DA0-BBA1-4DEDCF7ADDC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raffic Model: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onnectionless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ICMP application (i.e ping) is preferred over TCP because it has no error recovery and connection establishment mechanis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 Access Profile, Bluetooth Spec. V1.0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to PC connection using LAN a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4235400"/>
            <a:ext cx="1676520" cy="213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6064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52480" y="56833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53020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49975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46162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464832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P / IC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4997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5149800"/>
            <a:ext cx="1371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F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4235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83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2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6064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4997520"/>
            <a:ext cx="289548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606420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5683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53020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4997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4997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PP Network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5149800"/>
            <a:ext cx="1371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F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5683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2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64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5302080"/>
            <a:ext cx="53352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4311720"/>
            <a:ext cx="2895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537840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302080"/>
            <a:ext cx="38088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5378400"/>
            <a:ext cx="22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4311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62164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58356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5454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4419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39625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ata Terminal + LAN Access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38862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ata 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5302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4616280"/>
            <a:ext cx="2895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6483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P / IC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A57-6E02-4630-8CAB-BF13BD4E17A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31T23:47:08Z</dcterms:created>
  <dc:creator>Nada Golmie</dc:creator>
  <dc:description>&lt;doc#&gt;</dc:description>
  <dc:language>en-US</dc:language>
  <cp:lastModifiedBy>Nada Golmie</cp:lastModifiedBy>
  <cp:lastPrinted>2000-05-05T16:29:21Z</cp:lastPrinted>
  <dcterms:modified xsi:type="dcterms:W3CDTF">2000-05-05T22:40:04Z</dcterms:modified>
  <cp:revision>62</cp:revision>
  <dc:subject>IEEE 802.15 &lt;subject&gt;</dc:subject>
  <dc:title>IEEE P802.15 Working Group for Wireless Personal Area Networks</dc:title>
</cp:coreProperties>
</file>