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576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576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0400" y="698040"/>
            <a:ext cx="459720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9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92620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92620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847D86-D811-4660-90C8-ACA23F9D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9265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9280" y="8924760"/>
            <a:ext cx="54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2960" y="295200"/>
            <a:ext cx="55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0400" y="698400"/>
            <a:ext cx="4597200" cy="344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77960"/>
            <a:ext cx="502920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View’s key advantage is its ability to model and simulate complex systems,  such as multirate and mixed signal applications, while retaining ease-of-use. To create realistic models SystemView enables you to include the effects of noise, limited bit-widths, and fixed-point arithmetic. With SystemView, you can model your system comprehensively and in sufficient detail to optimize and test it thoroughly up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system-design tools are typically rather difficult to use. As a result, designers usually find it is difficult to completely model complex systems. This in turn reduces the effectiveness of design optimization and testing at the system-level, increasing the chances of problems occurring later in the design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5A1-3CC3-42AD-B06F-95CBA942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A42-243B-40CB-8CA4-4B5E5BD8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FE2-77EF-4FFE-8774-6FFF2F23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578-1824-4FD0-882E-6BD6243E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871-957B-4667-BAEA-F8E8E96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15A-3831-4339-A7AC-9D204C25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F1B-389A-4FA1-9A2C-EE9A4619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5DD-3CDA-4E46-A0C7-BFA2FE6D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FE0-2921-46C0-BCF6-FDC0B7D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920-A742-468C-A7DA-37E56B6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664-2145-4937-8BB8-CB0B4873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DED-C18B-4E09-941B-E19A77A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49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7A299F-EBF2-4CC8-B293-1602F8B99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3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1120" y="836640"/>
            <a:ext cx="776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2600" y="1469880"/>
            <a:ext cx="766188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ssion Tit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[ Interference/Coexistence of WLAN/WPANs via SystemVie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 Submit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 [ 9 May 200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[Maurice Schiff]    Company:  [Elanix, Inc.] and [Michael Dydyk] Company: [Motorola Inc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ress: [5655 Lindero Canyon Rd. ,Suite 721, Wetlake Village, CA, 9136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8220 E. Roosvelt St., Scottsdale, AZ, 85257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ce:[818-597-1414], FAX: [818-597-1427]&lt; E-Mail [maury@elanix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480-441-2074], FAX: [480-441-0830]&lt; E-Mail [michael.dydyk@motorola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[N/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[This presentation describes a PC based simulation engine that can be used to investi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y aspects of the WLAN/WPAN PHY layer performance, including BER performance, effec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user  interference, etc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 To provide WLAN/WPAN developers a means for rapidly and accurately investigating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 designs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is document has been prepared to assist the IEEE P802.15.  It is offered as a basi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ussion and is not binding on the contributing individual(s) or organization(s).  The material in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 is subject to change in form and content after further study.  The contributor(s) reserves(s)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ght to add, amend or withdraw the the material contained with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A7C-77EA-4F84-B3FA-5C600A69CB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ter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88960" y="1778040"/>
            <a:ext cx="631044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63E-27D1-4371-B09B-F3BBCC8771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47560" y="928800"/>
            <a:ext cx="3539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Paramet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270400" cy="44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15A-6D69-4F97-BB23-C053F6DA45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DSSS With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467480" cy="47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205-478C-4D5E-AA2A-2135BD8723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1722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582-3A80-4824-9D2B-F4D0DFFB8C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63920" y="928800"/>
            <a:ext cx="639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y of DSSS  and  Interference Spec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23760" y="1762200"/>
            <a:ext cx="745812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D54-D099-4654-856A-EA447E19CC4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SS Ey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17220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927-4C06-4BF0-8B52-C1C139C91C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Model with DSSS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523880"/>
            <a:ext cx="7632720" cy="4813560"/>
            <a:chOff x="838080" y="1523880"/>
            <a:chExt cx="7632720" cy="48135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7632720" cy="48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30240" y="1569960"/>
              <a:ext cx="7435800" cy="47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40A-DAA2-46EE-B325-29738C179F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762120"/>
            <a:ext cx="6629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 of DSSS Interferer on Bluetoo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A0E-7BD9-4D25-B621-BEBEF576281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Model With FH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5800" y="1219320"/>
            <a:ext cx="7785000" cy="5181480"/>
            <a:chOff x="685800" y="1219320"/>
            <a:chExt cx="7785000" cy="51814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778500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77960" y="1265400"/>
              <a:ext cx="7588080" cy="50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5AD-C211-40C8-BC45-704328A018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FH Interferer on Bluetooth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762200"/>
            <a:ext cx="716256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438-8678-4939-BD4C-45E0A3363D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System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o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Hoping Sprea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468-0CAF-4461-9927-D0C2EFE9DB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M Receiver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371600"/>
            <a:ext cx="7785000" cy="5041800"/>
            <a:chOff x="685800" y="1371600"/>
            <a:chExt cx="7785000" cy="50418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85800" y="1371600"/>
              <a:ext cx="7785000" cy="50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77960" y="1417680"/>
              <a:ext cx="7588080" cy="49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773-269C-485A-B3B1-59F3602E8C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View Optional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7040" y="2103480"/>
            <a:ext cx="7845480" cy="37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984-BC6D-4CF3-AD70-BA629583F8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n performance of WLAN/WPANs, as related to interference/coexistence, can be predicted apriory using existing simulation too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758-4132-410B-80D2-7445394CEB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ystemVie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pid prototyping tool for system design engineers that want 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design with minimum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d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e to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2F1-569A-4881-A51F-07F7195ED6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View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Bit-True, Multi-rate, and Mix-Mode simulations in an efficient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Based Software Simul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diagram editor with Application Specific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“Virtual Work Bench” that offers all the functions of “Real World” laboratory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800-ED42-4BA8-A80D-7A4CE48C77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SystemView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ll types of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y number of interferers with arbitrary modulation and powe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form complete parameter (BER) studies i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to end simulations includeing rf and DS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ions of the design (mixed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learn and Ease-of-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oductive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modify sophisticated user model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8E5-DB85-4EE4-AC0D-EB162A8484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Diagram 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7320" y="174636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4D9-2166-4667-9271-C57F3C4DEA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pecification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43000" y="1600200"/>
            <a:ext cx="7251840" cy="4498920"/>
            <a:chOff x="1143000" y="1600200"/>
            <a:chExt cx="7251840" cy="44989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143000" y="1600200"/>
              <a:ext cx="7251840" cy="44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35160" y="1646280"/>
              <a:ext cx="705492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F4F-E3B4-4FD4-865B-ED647B3C98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Analysis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8720" y="1670040"/>
            <a:ext cx="763092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1D3-4186-4C93-823F-6510E6DA73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View Filter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Design is Included in Basic System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nsive filter design window to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R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P bit tru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ce Schiff, Elan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3FD-CDF0-46DC-8FCE-D30D750B99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/>
  <dc:description>&lt;doc#&gt;</dc:description>
  <dc:language>en-US</dc:language>
  <cp:lastModifiedBy>Robert F.  Heile</cp:lastModifiedBy>
  <cp:lastPrinted>2000-05-03T19:28:02Z</cp:lastPrinted>
  <dcterms:modified xsi:type="dcterms:W3CDTF">2000-05-09T19:55:09Z</dcterms:modified>
  <cp:revision>40</cp:revision>
  <dc:subject>IEEE 802.15 &lt;subject&gt;</dc:subject>
  <dc:title>&lt;title&gt;</dc:title>
</cp:coreProperties>
</file>