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8120D-FE83-4C5C-A8AA-5AAA91C5B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1ABE-905C-4B22-8E1B-879625B36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6F325-D0FE-4E0D-A283-089914722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36FE6-0E97-4569-B3F3-76F5238A0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32AA1-9140-48AB-8FAF-B3829A915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E6C71-82F0-47C9-873F-53638554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3804-7CCE-4C90-9032-29345ED5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0545-1776-4435-89E8-1B72545D6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F33C8-F8F4-4DAF-8FFA-2D954ACBF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8BB4F-F001-4C46-B892-F2D5C31D2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FCE0-745B-4C25-9C20-DF3BD8BDB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7A3C4-7C45-4B30-A60A-30F0B4A96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39488A-6698-4044-80E1-8CF11F9FE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3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n Thurs ExCom Meeting</a:t>
            </a:r>
            <a:endParaRPr b="0" lang="en-US" sz="4400" spc="-1" strike="noStrike">
              <a:solidFill>
                <a:srgbClr val="000000"/>
              </a:solidFill>
              <a:latin typeface="Times New Roman"/>
            </a:endParaRPr>
          </a:p>
        </p:txBody>
      </p:sp>
      <p:sp>
        <p:nvSpPr>
          <p:cNvPr id="46" name=""/>
          <p:cNvSpPr/>
          <p:nvPr/>
        </p:nvSpPr>
        <p:spPr>
          <a:xfrm>
            <a:off x="533520" y="1828800"/>
            <a:ext cx="822960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tes of Meeting Available on Flash Card and CD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buqueque Attendance a record 598 with a net increase of $20K in operating reserv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disband the 802.14 Working Group and the 802.14a Task Force-Approved</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802 Executive Committee requests that Jim Carlo, Howard Frazier, Geoff Thompson negotiate with IEEE to establish an escrow account for the purpose of making 802 standards freely available. Funds deposited to the account will revert to the 802 committee in the event a workable funding mechansim cannot be implemented - Approv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B899833-061A-427A-BD59-F3552C7696BF}"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e MAC Enhancements PAR to NesCom-Passe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f IAPP Recommended Practice PAR to NesCom-Passe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b-cor1 Corrigenda PAR revision to NesCom-Withdrawn</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al approval of 802.11b-cor1 to Sponsor Ballot-Passed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to form 802.11 PHY Study Group-approved</a:t>
            </a:r>
            <a:endParaRPr b="0" lang="en-US" sz="2800" spc="-1" strike="noStrike">
              <a:solidFill>
                <a:srgbClr val="000000"/>
              </a:solidFill>
              <a:latin typeface="Times New Roman"/>
            </a:endParaRPr>
          </a:p>
        </p:txBody>
      </p:sp>
      <p:sp>
        <p:nvSpPr>
          <p:cNvPr id="4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n Thurs ExCom Meeting</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DEA96DA-0D4C-466E-946D-D21AEC4F10CE}"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1600200"/>
            <a:ext cx="807696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5.3 High Rate PAR to NesCom -approved</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mpson notes for the record that this establishes a precedent which is contrary to previous practice, which that we are allowing a WG to develop a new MAC without requiring them to spin off into another Working Group. 15</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ell asks how that is different from Gigabit Ethernet in 802.3? Thompson states that 802.3 has a single MAC. 802.15 appears to be seeking the freedom to start with a clean sheet of paper in 802.15.3.</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 says that without a restriction to stay with an existing MAC, the scope of future work is unbounded.</a:t>
            </a:r>
            <a:endParaRPr b="0" lang="en-US" sz="2400" spc="-1" strike="noStrike">
              <a:solidFill>
                <a:srgbClr val="000000"/>
              </a:solidFill>
              <a:latin typeface="Times New Roman"/>
            </a:endParaRPr>
          </a:p>
        </p:txBody>
      </p:sp>
      <p:sp>
        <p:nvSpPr>
          <p:cNvPr id="5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n Thurs ExCom Meeting</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3E6249F-7C19-4869-8FC3-DB82A7EF4A36}"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6.3 BBWA below 11 GHz PAR to NesCom-Approv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6 High Speed Unlicensed MAN (HUMAN) Study Group Formation-Approved</a:t>
            </a:r>
            <a:endParaRPr b="0" lang="en-US" sz="3200" spc="-1" strike="noStrike">
              <a:solidFill>
                <a:srgbClr val="000000"/>
              </a:solidFill>
              <a:latin typeface="Times New Roman"/>
            </a:endParaRPr>
          </a:p>
        </p:txBody>
      </p:sp>
      <p:sp>
        <p:nvSpPr>
          <p:cNvPr id="5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n Thurs ExCom Meeting</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5E03B1C-1046-44EB-84C7-50721CDAFCD0}"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n Thurs ExCom Meeting</a:t>
            </a:r>
            <a:endParaRPr b="0" lang="en-US" sz="4400" spc="-1" strike="noStrike">
              <a:solidFill>
                <a:srgbClr val="000000"/>
              </a:solidFill>
              <a:latin typeface="Times New Roman"/>
            </a:endParaRPr>
          </a:p>
        </p:txBody>
      </p:sp>
      <p:sp>
        <p:nvSpPr>
          <p:cNvPr id="54" name="PlaceHolder 2"/>
          <p:cNvSpPr>
            <a:spLocks noGrp="1"/>
          </p:cNvSpPr>
          <p:nvPr>
            <p:ph/>
          </p:nvPr>
        </p:nvSpPr>
        <p:spPr>
          <a:xfrm>
            <a:off x="456840" y="1828800"/>
            <a:ext cx="838188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 Officers reaffirmed for another 2 years: </a:t>
            </a:r>
            <a:endParaRPr b="0" lang="en-US" sz="24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Jim Carlo-Chair, Paul Nikolich – Vice Chair, Buzz Rigsbee – Exec Secretary, Howard Frazier - Recording Secretary, Bob Grow- Financ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to approve the slate of chairs and vice chairs-Approved</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 Tony Jeffree – Chair, Neil Jarvis – Vice Chai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3 Geoff Thompson – Chair, David Law – Vice Chair 15</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5 Bob Love – Chai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Stuart Kerry – Chair, Al Petrick - Vice Chair, Harry Worstell – Vice Chai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 Bob Heile – Chair, Ian Gifford – Vice Chair</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6 Roger Marks – Chair, Louis Olsen – Vice Chai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5CA98E4-2097-47D5-A86D-6A91A1FAD62B}"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n Thurs ExCom Meeting</a:t>
            </a:r>
            <a:endParaRPr b="0" lang="en-US" sz="4400" spc="-1" strike="noStrike">
              <a:solidFill>
                <a:srgbClr val="000000"/>
              </a:solidFill>
              <a:latin typeface="Times New Roman"/>
            </a:endParaRPr>
          </a:p>
        </p:txBody>
      </p:sp>
      <p:sp>
        <p:nvSpPr>
          <p:cNvPr id="56" name="PlaceHolder 2"/>
          <p:cNvSpPr>
            <a:spLocks noGrp="1"/>
          </p:cNvSpPr>
          <p:nvPr>
            <p:ph/>
          </p:nvPr>
        </p:nvSpPr>
        <p:spPr>
          <a:xfrm>
            <a:off x="380520" y="1676520"/>
            <a:ext cx="8458200" cy="4114800"/>
          </a:xfrm>
          <a:prstGeom prst="rect">
            <a:avLst/>
          </a:prstGeom>
          <a:noFill/>
          <a:ln w="0">
            <a:noFill/>
          </a:ln>
        </p:spPr>
        <p:txBody>
          <a:bodyPr lIns="92160" rIns="92160" tIns="46080" bIns="46080"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ng approval of the rules change ballot, conditionally eliminate the Friday morning closing plenary meeting, and disseminate the reports and announcements that are normally distributed at the meeting via the ieee802.org web page. Reports are to be provided to the LMSC Recording Secretary in the form of PDF files no later than 8:00 am on the Friday morning of 802 Plenary Sessions. This change will take effect at the July 2000 meeting-approved</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he SEC meeting from Thursday evening to Friday morning, 8:00 am to noon. This change will take effect at the July 2000 meeting - Fail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C7B6B9E-CA9E-4E29-A911-ADF64392EC85}"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2 Future Meeting Venues – Rigsb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10-15 2002 Acapulco 5, Albuquere 2, St Louis 9, Crystal City 4, Tampa 4. 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9-14 2003 Albuquerque 6 , St. Louis 10 , Austin , Tampa 4 , Palm Desert 0 , Phoenix 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7-12 2003 Denver 9, Palm Desert 4, Albuquerque 0, Tahoe 3, Maui 5, UK 12, Enschede 6, Israel 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EC members expressed an interest in having a meeting in Israel at some time, not necessarily July.</a:t>
            </a:r>
            <a:endParaRPr b="0" lang="en-US" sz="2400" spc="-1" strike="noStrike">
              <a:solidFill>
                <a:srgbClr val="000000"/>
              </a:solidFill>
              <a:latin typeface="Times New Roman"/>
            </a:endParaRPr>
          </a:p>
        </p:txBody>
      </p:sp>
      <p:sp>
        <p:nvSpPr>
          <p:cNvPr id="58"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n Thurs ExCom Meeting</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14080F6-3CA7-4C71-86A5-4EB418065120}"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12:42:31Z</dcterms:created>
  <dc:creator>Robert F. Heile</dc:creator>
  <dc:description/>
  <dc:language>en-US</dc:language>
  <cp:lastModifiedBy>Robert F.  Heile</cp:lastModifiedBy>
  <dcterms:modified xsi:type="dcterms:W3CDTF">2000-05-07T00:24:00Z</dcterms:modified>
  <cp:revision>17</cp:revision>
  <dc:subject/>
  <dc:title>WG Report on Thurs Albuquerque ExCom Meeting</dc:title>
</cp:coreProperties>
</file>