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3FAE7-AC5C-4796-BAF5-45AA856C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F801-214B-4AF5-9EA3-DC4D3E3A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7A161-68D5-4DAA-A601-5C4D54387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25FE7-7223-4422-ADAA-09E0F2A38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51C3-CB17-4772-B56A-9875ED48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8EFE-E6A9-4ACB-9CB4-D96B5DF2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60806-AB63-459B-AF26-7F5B169E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FEB7-AD78-4D7F-86B0-E528CCCE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BED17-45B0-48B4-80A7-542B57D90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920C-2A32-4DCA-A1A2-94F0B546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ABCC-E146-493A-97C1-61A40957F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C862-66D9-4D50-88BE-029D0AEC2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C823E2-6619-4FE2-92DC-42AB8E087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br>
              <a:rPr sz="3200"/>
            </a:br>
            <a:r>
              <a:rPr b="0" lang="en-US" sz="3200" spc="-1" strike="noStrike">
                <a:solidFill>
                  <a:srgbClr val="000000"/>
                </a:solidFill>
                <a:latin typeface="Times New Roman"/>
              </a:rPr>
              <a:t>Coexistence Working Group</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 Siz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Coexistence Working Group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al Interest Group</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l Laborator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9709D657-282C-40F1-BD4D-01CE6BD2B8AE}"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br>
              <a:rPr sz="3200"/>
            </a:br>
            <a:r>
              <a:rPr b="0" lang="en-US" sz="3200" spc="-1" strike="noStrike">
                <a:solidFill>
                  <a:srgbClr val="000000"/>
                </a:solidFill>
                <a:latin typeface="Times New Roman"/>
              </a:rPr>
              <a:t>Coexistence Working Group</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e 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Working Group Cha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we will investig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we will not investig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o 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TG2/ Bluetooth SIG Coexistence Working Group Coordin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09E0E3AD-F2A0-425B-9756-620E415B79BB}"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we are</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 (SIG) is a group of 9 Promoter Companies and over 1800 Adopter Companies committed to seeing Bluetooth be a ubiquitous, easy to use, wireless connectivity tool.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 has Working Groups which are charged to investigate areas of interest, draft working models, and draft specification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ing Groups are staffed by people from the 9 promoter companies and (in the future) by a select number of representatives from Associate Members in some of the Working Grou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7C969876-D665-42C0-BE29-9C06C0374990}"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Working Group Charter</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1752480"/>
            <a:ext cx="6934320" cy="4114800"/>
          </a:xfrm>
          <a:prstGeom prst="rect">
            <a:avLst/>
          </a:prstGeom>
          <a:noFill/>
          <a:ln w="0">
            <a:noFill/>
          </a:ln>
        </p:spPr>
        <p:txBody>
          <a:bodyPr lIns="92160" rIns="92160" tIns="46080" bIns="46080" anchor="t">
            <a:normAutofit fontScale="98000"/>
          </a:bodyPr>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in the Bluetooth™ community as well as with cross industry groups (e.g. IEEE) to quantify the detrimental effects which Bluetooth™ and other wireless products will have on the performance of both. This information will be imperative for members of the Bluetooth community to advise their customers of the realistic performance one can expect in different environments as well a build products which span between Bluetooth™ and other wireless products.  In addition, it will be used to disseminate SIG sponsored information on issues of coexistence to regulatory bodies.</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methods of Bluetooth™ operation that will be used to improve coexistence between systems in the shared radio band.  These will be issued as </a:t>
            </a:r>
            <a:r>
              <a:rPr b="0" i="1" lang="en-US" sz="1600" spc="-1" strike="noStrike">
                <a:solidFill>
                  <a:srgbClr val="000000"/>
                </a:solidFill>
                <a:latin typeface="Arial"/>
              </a:rPr>
              <a:t>Best Practices</a:t>
            </a:r>
            <a:r>
              <a:rPr b="0" lang="en-US" sz="1600" spc="-1" strike="noStrike">
                <a:solidFill>
                  <a:srgbClr val="000000"/>
                </a:solidFill>
                <a:latin typeface="Arial"/>
              </a:rPr>
              <a:t> white papers, improvements to the Bluetooth™ specifications, or formal profiles as necessary.</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ork closely with the Radio 2.0 Working Group to evaluate coexistence issues in new proposed radio designs.</a:t>
            </a: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E8F64489-D47D-4114-A09E-DD1C5CFCB0DA}"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as we will investigate(1)</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10670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mpact when Bluetooth and another device are operating in the 2.4 GHz band.</a:t>
            </a:r>
            <a:endParaRPr b="0" lang="en-US" sz="2400" spc="-1" strike="noStrike">
              <a:solidFill>
                <a:srgbClr val="000000"/>
              </a:solidFill>
              <a:latin typeface="Arial"/>
            </a:endParaRPr>
          </a:p>
        </p:txBody>
      </p:sp>
      <p:sp>
        <p:nvSpPr>
          <p:cNvPr id="55" name=""/>
          <p:cNvSpPr/>
          <p:nvPr/>
        </p:nvSpPr>
        <p:spPr>
          <a:xfrm>
            <a:off x="1219320" y="3124080"/>
            <a:ext cx="3276360" cy="194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vironments:</a:t>
            </a:r>
            <a:endParaRPr b="0" lang="en-US" sz="16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neral Residential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artment Building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closed office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open/cubical office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rport,  Shopping Mall, factory floor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p:cNvSpPr/>
          <p:nvPr/>
        </p:nvSpPr>
        <p:spPr>
          <a:xfrm>
            <a:off x="4800600" y="3124080"/>
            <a:ext cx="3657600" cy="225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ring system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 Frequency Hop</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 CCK</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RF</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PRM HomeRF Proposa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wave Ovens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c.</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38D78F35-32F2-4060-9ACD-B450908499EE}"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as we will investigate(2)</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Best Practices to optimize coexist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ase: Bluetooth and another WLAN standard in the same enclos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dditions/changes in the Bluetooth specification can make a significant difference in coexistence, this will be proposed as a Bluetooth Pro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the Radio 2.0 group who are charged with looking at higher rate radio options.  Our work will ensure that coexistence issues are in the forefront when architectures are develop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E09ADDE1-7691-4F04-B7E7-A411D712E5A2}"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as we will not investigate</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specific iss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make the job unmanage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efully will not make a significant impact on the conclusions of our studi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ompanies ARE developing simulations based on their particular implementation and can be used to check with the WG general resul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9053CA73-0B77-470F-AB33-366F033836C4}"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ess to date</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Face-to-Face in April, since then weekly by telecon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greed to use Matlab as the common simulation plat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developing assumptions to be used in simulations - e.g. fading statistics, path loss 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imulation results are immin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E30ECBB4-0528-4099-9254-9DACBC99578B}"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6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G2/ Bluetooth SIG Coexistence Working Group Coordination</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2742840"/>
            <a:ext cx="7772400" cy="33526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coordinate our efforts with those of the 802.15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o work with you on how best to work together and avoid duplication of eff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itch of Motorola is the liaison from the Working Group to the 802.15 TG2 effor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54908D90-3C39-4D82-8F6F-4117268939F8}"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4:02:26Z</dcterms:created>
  <dc:creator>Theodore Sizer</dc:creator>
  <dc:description>&lt;doc#&gt;</dc:description>
  <dc:language>en-US</dc:language>
  <cp:lastModifiedBy>Theodore Sizer</cp:lastModifiedBy>
  <cp:lastPrinted>1998-02-10T13:28:06Z</cp:lastPrinted>
  <dcterms:modified xsi:type="dcterms:W3CDTF">2000-05-07T03:17:57Z</dcterms:modified>
  <cp:revision>3</cp:revision>
  <dc:subject>IEEE 802.15 &lt;subject&gt;</dc:subject>
  <dc:title>Bluetooth SIG Coexistence Working Group</dc:title>
</cp:coreProperties>
</file>