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84DDC-08C0-4B6E-A05B-40B4CCBDC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446CB-81CA-46F5-A8C9-18D442121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92831-03FF-4FFE-A82E-8BE605473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D6B2A-2C2A-454E-AA4D-B2C106EC3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CA4D8-E813-4BD5-A5E8-6F172331D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B577F-2C4B-42AD-86E1-356415AAB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4FEAC-3C4C-4930-98A9-34C1B3592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FE78A-0452-4EA7-B7E5-53D9A95BA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4122F-8CB2-4254-8118-7CE5BAAF9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8AA6E-14F6-43F4-8477-73E680580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C5C73-8416-45C8-ADA5-979AC8C39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30867-3A00-4A61-A468-8013BA486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031212-2E54-4001-8ACB-8773C214E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39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529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Criteria Weighting Selection Process Proposal</a:t>
            </a:r>
            <a:r>
              <a:rPr b="0" lang="en-US" sz="2400" spc="-1" strike="noStrike">
                <a:solidFill>
                  <a:srgbClr val="000000"/>
                </a:solidFill>
                <a:latin typeface="Tahoma"/>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 8 May,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Mary DuVal</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6550 Chase Oaks Blvd, MS 8479, Plano, TX,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972)575-2330</a:t>
            </a:r>
            <a:r>
              <a:rPr b="0" lang="en-US" sz="1600" spc="-1" strike="noStrike">
                <a:solidFill>
                  <a:srgbClr val="000000"/>
                </a:solidFill>
                <a:latin typeface="Times New Roman"/>
              </a:rPr>
              <a:t>], FAX: [</a:t>
            </a:r>
            <a:r>
              <a:rPr b="0" lang="en-US" sz="1600" spc="-1" strike="noStrike">
                <a:solidFill>
                  <a:srgbClr val="ff0000"/>
                </a:solidFill>
                <a:latin typeface="Times New Roman"/>
              </a:rPr>
              <a:t>(972)575-0989</a:t>
            </a:r>
            <a:r>
              <a:rPr b="0" lang="en-US" sz="1600" spc="-1" strike="noStrike">
                <a:solidFill>
                  <a:srgbClr val="000000"/>
                </a:solidFill>
                <a:latin typeface="Times New Roman"/>
              </a:rPr>
              <a:t>], E-Mail:[</a:t>
            </a:r>
            <a:r>
              <a:rPr b="0" lang="en-US" sz="1600" spc="-1" strike="noStrike">
                <a:solidFill>
                  <a:srgbClr val="ff0000"/>
                </a:solidFill>
                <a:latin typeface="Times New Roman"/>
              </a:rPr>
              <a:t>m-duval@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A proposed process to use for determination of the weight values of  the agreed on selection criteri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information is proposed to the 802.15.3 Task Group to allow development of an agreed upon process for weight value selec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Mary DuVal, Texas Instruments</a:t>
            </a:r>
          </a:p>
        </p:txBody>
      </p:sp>
      <p:sp>
        <p:nvSpPr>
          <p:cNvPr id="3" name="PlaceHolder 2"/>
          <p:cNvSpPr>
            <a:spLocks noGrp="1"/>
          </p:cNvSpPr>
          <p:nvPr>
            <p:ph type="sldNum" idx="3"/>
          </p:nvPr>
        </p:nvSpPr>
        <p:spPr/>
        <p:txBody>
          <a:bodyPr/>
          <a:p>
            <a:fld id="{352A2BD4-18BB-493F-8571-A9478B22A12F}" type="slidenum">
              <a:t>1</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eria Weighting Selection Process Proposal</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Mary DuVal, Texas Instruments</a:t>
            </a:r>
          </a:p>
        </p:txBody>
      </p:sp>
      <p:sp>
        <p:nvSpPr>
          <p:cNvPr id="4" name="PlaceHolder 3"/>
          <p:cNvSpPr>
            <a:spLocks noGrp="1"/>
          </p:cNvSpPr>
          <p:nvPr>
            <p:ph type="sldNum" idx="3"/>
          </p:nvPr>
        </p:nvSpPr>
        <p:spPr/>
        <p:txBody>
          <a:bodyPr/>
          <a:p>
            <a:fld id="{97F12602-2D40-430E-9B7E-05671C41E278}" type="slidenum">
              <a:t>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iteria Definition Document</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00110r5_TG3-Criteria-Definition to establish definitions for criteria listed in 062r0 &amp; 007r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A information should be incorporated into this Criteria Definition Docu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s are applied to criteria to assist CFP evalu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ocument will be the preliminary P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FP submission needs to fill in evaluation matrix in last section of this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ary DuVal, Texas Instruments</a:t>
            </a:r>
          </a:p>
        </p:txBody>
      </p:sp>
      <p:sp>
        <p:nvSpPr>
          <p:cNvPr id="5" name="PlaceHolder 4"/>
          <p:cNvSpPr>
            <a:spLocks noGrp="1"/>
          </p:cNvSpPr>
          <p:nvPr>
            <p:ph type="sldNum" idx="3"/>
          </p:nvPr>
        </p:nvSpPr>
        <p:spPr/>
        <p:txBody>
          <a:bodyPr/>
          <a:p>
            <a:fld id="{79A0DF51-7EE3-4584-8DD0-6D5E035913FE}"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 for Criteria Definition Effort</a:t>
            </a:r>
            <a:endParaRPr b="0" lang="en-US" sz="3200" spc="-1" strike="noStrike">
              <a:solidFill>
                <a:srgbClr val="000000"/>
              </a:solidFill>
              <a:latin typeface="Times New Roman"/>
            </a:endParaRPr>
          </a:p>
        </p:txBody>
      </p:sp>
      <p:sp>
        <p:nvSpPr>
          <p:cNvPr id="50" name="PlaceHolder 2"/>
          <p:cNvSpPr>
            <a:spLocks noGrp="1"/>
          </p:cNvSpPr>
          <p:nvPr>
            <p:ph/>
          </p:nvPr>
        </p:nvSpPr>
        <p:spPr>
          <a:xfrm>
            <a:off x="762120" y="19051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Edit Criteria Defini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day</a:t>
            </a:r>
            <a:r>
              <a:rPr b="0" lang="en-US" sz="2400" spc="-1" strike="noStrike">
                <a:solidFill>
                  <a:srgbClr val="000000"/>
                </a:solidFill>
                <a:latin typeface="Arial"/>
              </a:rPr>
              <a:t> </a:t>
            </a:r>
            <a:endParaRPr b="0" lang="en-US" sz="24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hr):  Discuss General Solution Criteria</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hrs):  Breakout into MAC &amp; PHY group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esday</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us Check</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ing session, if needed</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 outlines need to be complete (weighting based on this inform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dnesday</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mins):  Intro weight criteria proces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ary DuVal, Texas Instruments</a:t>
            </a:r>
          </a:p>
        </p:txBody>
      </p:sp>
      <p:sp>
        <p:nvSpPr>
          <p:cNvPr id="5" name="PlaceHolder 4"/>
          <p:cNvSpPr>
            <a:spLocks noGrp="1"/>
          </p:cNvSpPr>
          <p:nvPr>
            <p:ph type="sldNum" idx="3"/>
          </p:nvPr>
        </p:nvSpPr>
        <p:spPr/>
        <p:txBody>
          <a:bodyPr/>
          <a:p>
            <a:fld id="{26C6EA3A-5A03-4F7A-8CEB-12D4611F8E93}" type="slidenum">
              <a:t>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 for Criteria Definition Effort (cont.)</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ghting of Criteria</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straw poll ballots to TG3 (Wednesda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Ballots by Thursday at 8 a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ame the file to include your na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rsday at 9 am</a:t>
            </a:r>
            <a:endParaRPr b="0" lang="en-US" sz="20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results to show ranking</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results</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e on results</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how to use Evaluation Matrix in CFP proces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Ballot to Working Group (May - July), if quorum not available at this meet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ary DuVal, Texas Instruments</a:t>
            </a:r>
          </a:p>
        </p:txBody>
      </p:sp>
      <p:sp>
        <p:nvSpPr>
          <p:cNvPr id="5" name="PlaceHolder 4"/>
          <p:cNvSpPr>
            <a:spLocks noGrp="1"/>
          </p:cNvSpPr>
          <p:nvPr>
            <p:ph type="sldNum" idx="3"/>
          </p:nvPr>
        </p:nvSpPr>
        <p:spPr/>
        <p:txBody>
          <a:bodyPr/>
          <a:p>
            <a:fld id="{2DAFEDE4-604A-4D1F-A3D4-4D0B79AF7602}"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Weight Selection Process</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ing in Evaluation Matrix of the Criteria Definition Docu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of 100 p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s distributed as des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eria Weighting based on average of voted poin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y DuVal, Texas Instruments</a:t>
            </a:r>
          </a:p>
        </p:txBody>
      </p:sp>
      <p:sp>
        <p:nvSpPr>
          <p:cNvPr id="5" name="PlaceHolder 4"/>
          <p:cNvSpPr>
            <a:spLocks noGrp="1"/>
          </p:cNvSpPr>
          <p:nvPr>
            <p:ph type="sldNum" idx="3"/>
          </p:nvPr>
        </p:nvSpPr>
        <p:spPr/>
        <p:txBody>
          <a:bodyPr/>
          <a:p>
            <a:fld id="{5C9ACC52-9899-4924-8F68-853E45ED61BD}"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3T17:32:37Z</dcterms:created>
  <dc:creator>Mary DuVal</dc:creator>
  <dc:description>00139</dc:description>
  <dc:language>en-US</dc:language>
  <cp:lastModifiedBy>Mary DuVal</cp:lastModifiedBy>
  <cp:lastPrinted>1998-02-10T13:28:06Z</cp:lastPrinted>
  <dcterms:modified xsi:type="dcterms:W3CDTF">2000-05-08T21:14:12Z</dcterms:modified>
  <cp:revision>19</cp:revision>
  <dc:subject>IEEE 802.15 Weight Process Proposal</dc:subject>
  <dc:title>No Slide Title</dc:title>
</cp:coreProperties>
</file>