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253E-E4C5-4E95-BEE0-111236D72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C383-8A19-4151-9546-4265B826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6D13-7F9C-4F10-8950-68C600F57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20B3-5184-4587-BB98-5B84EF8E0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3316-836D-42E7-B924-9157313F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7BA9-25C0-42DD-A24A-C633ADD9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BFDC-E371-4446-B5D2-580B9903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DFFE-38B2-451F-AFDF-C6DD29A7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5A68-2272-47B9-B3B1-CBE4527C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8788-2357-4A6C-B8BD-B0492783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02A3-A940-444C-B508-21D8D229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4FB7-B348-4F3F-BB70-5FD687AF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Shellhammer, Symbo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34B757E-DB2A-4E75-8BB6-376276161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14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existence Task Group Report #3 Joint 802.11 &amp; 802.15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attle, 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3E9E-03C5-4C82-9102-2565A2807EA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ives for La Jolla Me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777C-9869-459B-8384-11CC58CACE9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2 Deliver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existenc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describing the mutual interference of WLAN and WPAN upon one an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existence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sms or Techniques to facilitate coexistence of WLAN and WPAN de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to be documented in an IEEE Recommended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7CC5-F5D2-4662-8D2B-C0DF7F81AA6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2 Letter to Academ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EE 802.15 sent out 60 letters to Wireless Researchers around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ing TG2 Coexistence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citing their technical contributions on the Coexistence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406D-97D2-4B29-BB62-B2C79D177C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r plan for the we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1536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tooth SIG Coexistenc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Performance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of WLAN in Presence of Blueto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View Bluetooth 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torial on Standard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 of TG2 Recommended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 Simulator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F882-6F62-4920-AFD3-39E763EAD1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r plan for the week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1536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tooth PHY Model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 Level Analysis of BT impact on 11 Mbps W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A523-34C3-47BF-AE79-4CE64C7E9EC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cussions with Tod Si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 Sizer is the Chairman of the Bluetooth SIG Working Group on Coexis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 gave a presentation on BT SIG Coexistence WG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 Ditch will give regular updates to 802.15 on BT SIG Coexistence 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ing for ways to share model information between BT and 802.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C404-E752-4719-9AA5-D9457DDF3A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 Sizer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luetooth SIG Coexistence Working Group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138r0P802-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da Golmie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rformance Metrics of MAC Coexistence Evaluation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103r1P802-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Shellhammer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R of a WLAN in the Presence of Bluetooth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132r0P802-15 and 00133r0P802-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DA6A-CF61-4932-B2C1-63C6BCBAA4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hael Dydyk, Maurice Schiff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ference and Coexistence of WLAN &amp; WPAN via System View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136r0P802-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 Siep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ditorial Practices and Procedures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152r0P802-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 McGlynn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utline of TG2 Recommended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da Golmie, Update on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C Coexistence Modeling Effort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0134r0P802-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9D49-FFC9-4187-8659-D5031DD2313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ursday’s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m Lansford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hysical Layer Modeling Up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er Voltz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mpact of BT on 11 Mbps WLAN at Physical Lay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(Cancell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s on Outline of the TG2 Recommended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s on Coexistence Tes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s on PHY/MAC Model Inter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C5D4-8413-402F-9ECC-6E6BDE0DF9D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6:01:39Z</dcterms:created>
  <dc:creator>Steve Shellhammer</dc:creator>
  <dc:description>&lt;doc#&gt;</dc:description>
  <dc:language>en-US</dc:language>
  <cp:lastModifiedBy>Steve Shellhammer</cp:lastModifiedBy>
  <cp:lastPrinted>1998-02-10T13:28:06Z</cp:lastPrinted>
  <dcterms:modified xsi:type="dcterms:W3CDTF">2000-05-10T20:58:50Z</dcterms:modified>
  <cp:revision>164</cp:revision>
  <dc:subject>IEEE 802.15 &lt;subject&gt;</dc:subject>
  <dc:title>IEEE P802.15 Working Group for Wireless Personal Area Networks</dc:title>
</cp:coreProperties>
</file>