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738-869D-4C81-A688-EB6A28C4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35E-20CF-45C3-8B2E-E837515F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33B-998D-4C28-8C91-26BBE33E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937-9F67-4BB7-B148-82E4DDAC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43D-D5CC-4975-9509-5FF5E539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792-BBD5-49C8-8CB4-A1233891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880-2A8C-481A-9985-C52D8C4C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FDD-1E4D-423B-87C1-84AF8987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11E-A5B4-4498-BCA1-103E5D03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B1D-089F-4890-BCE8-BCE5A1C7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25C-B5E3-4EDB-9650-D5CB07DB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437-EE6E-4374-A2EE-87AC4C42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133649-8D0B-447A-903B-72B687FBB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4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Final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attle, 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16D-AE07-45B4-A16E-1C4D7DE9DEB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for La Jolla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Coexistence WG Liais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&amp; PHY Model 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several detailed PHY Model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MAC Model results using the PHY Model availabl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updated outline of Recommended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A36-D75A-464F-8E8D-C5FCDC41D7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75F-6841-42F8-9D6A-8BFD5C53F4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Letter to Acade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.15 sent out 60 letters to Wireless Researchers arou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ing TG2 Coexistenc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ing their technical contributions on the Coexistenc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AEF-856D-4A37-BD7B-AA15B4ECED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r plan for the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SIG Coexistenc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erformance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f WLAN in Presence of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View Bluetooth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 on Standar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of TG2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Simulator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C6A-DA4F-4374-BE3F-BD99037C94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r plan for the week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PHY Model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Level Analysis of BT impact on 11 Mbps W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1CE-E080-460D-989E-BFEC884030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ussions with Tod Si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 Sizer is the Chairman of the Bluetooth SIG Working Group on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 gave a presentation on BT SIG Coexistence W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itch will give regular updates to 802.15 on BT SIG Coexistenc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 ways to share model information between BT and 802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D54-2A6E-43AB-B231-B45297756E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 Siz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138r0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formance Metrics of MAC Coexistence Evaluat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103r1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 of a WLAN in the Presence of Bluetoot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132r0P802-15 and 00133r0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7E1-E018-4D00-BCD7-A039734846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Dydyk, Maurice Schiff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ference and Coexistence of WLAN &amp; WPAN via System View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136r0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itorial Practices and Procedur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152r0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McGlyn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line of TG2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Update o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C Coexistence Modeling Effor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0134r0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2F3-726B-4A09-8AFA-8A0F8F5566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rsday’s Discu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Lansfor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PHY Modeling Up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00156r0P80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on PHY/MAC Model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on Outline of the TG2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 on Coexistence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239-943D-4D50-A871-EF4FB8B172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ve Shellhammer</cp:lastModifiedBy>
  <cp:lastPrinted>1998-02-10T13:28:06Z</cp:lastPrinted>
  <dcterms:modified xsi:type="dcterms:W3CDTF">2000-05-11T21:42:38Z</dcterms:modified>
  <cp:revision>182</cp:revision>
  <dc:subject>IEEE 802.15 &lt;subject&gt;</dc:subject>
  <dc:title>IEEE P802.15 Working Group for Wireless Personal Area Networks</dc:title>
</cp:coreProperties>
</file>