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7E7-F972-4AFD-83AF-FD86746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F58-C84F-4D64-9460-CF24DD90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FC9-1AC1-4CEA-9730-CC3FFBFF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9F1-F166-48A5-9DE8-731AE65F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E6B-C2E0-4BDC-866C-DEB6D419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648-8310-4451-8BFF-7901DF99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EA7-DCAC-4B9F-8E77-D259E41E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C32-127B-45A9-9E4D-B1DEF06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5FA-ED05-461D-ADC0-A37046F6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D90-64DD-4A18-B3F9-7C30821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852-86E8-4C4C-89C1-6DEA79F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7B8-1FB5-48AC-BBAB-2147A6C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81F3F6-135F-4AF2-A63D-5DE2C61F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4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onse to the UK-RA Strawman proposal for the use of RLANs in the 5 GHz band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f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80" y="3124080"/>
            <a:ext cx="862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IEEE 802.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Loc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EEE 802.1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Person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by Vic Hayes, Ombudsman for Regulatory affairs of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802.11 doc number 0106Drfat38R-Presentation for the UK 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B56-276F-4267-BC6D-8FA80AB494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d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C06-5502-49E4-A301-C69CCF1FB9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665-8FD1-4A7B-BF7F-19CA5B1E3C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user owned and opera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F29-8F9A-4A0D-903C-F60D153F11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sigh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1CE-30C8-45E1-A5CB-A2CE9A55A1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for instance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EF5-9B35-4F40-976E-EE019ACE08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4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sider to exempt service providers from the requirement to use DFS for certain channe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5AB-E0C4-41BB-90F6-F27B02CBFE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removal of “HIPERLAN/1” from the 5150-5250 M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5470-5725 MHz band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8F1-DEF0-4A26-9BE1-9F4BA19C02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955880"/>
          <a:ext cx="8089920" cy="34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55880"/>
                    <a:ext cx="808992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D43-72A7-4401-926D-9A265AA7D6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gratelu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and IEEE 802.15 applauds the initiative of the UK-RA to change the situation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n unus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one which will shortly bring high data rates in the hands of the work force, educational institutes, the traveler a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uld only be improved by adoption throughout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987-8499-4FDF-8C76-57D6F8D35F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681-C5F6-41EB-8765-01F7CFA39E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C40-004C-4853-BF31-281AD4413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1 as title. No products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E0E-5479-4CA6-A5B7-DC0A8B1154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IPERLAN Type 1 support is a continued under-utilization of spectru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, but to remove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E8F-7400-4218-BC8C-0F476CD606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D8A-CB23-4946-8CDF-059A80EF32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provi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, 802.11, and so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F26-2BE5-463F-8E28-4AC5674E2B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6FB-05B5-48BE-B723-F5A6915B96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Robert F.  Heile</cp:lastModifiedBy>
  <cp:lastPrinted>1998-02-10T13:28:06Z</cp:lastPrinted>
  <dcterms:modified xsi:type="dcterms:W3CDTF">2000-05-11T21:54:58Z</dcterms:modified>
  <cp:revision>5</cp:revision>
  <dc:subject/>
  <dc:title>IEEE 802.11's response to the Strawman proposal</dc:title>
</cp:coreProperties>
</file>