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ADA5-C64A-41E4-9F34-6F8A602E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042B-0E44-46C5-9C8F-3BA8B558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CBD8-FABF-4F16-A1BD-2B0002C6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F008-7634-4069-A164-CE82E612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3AA7-09A8-4957-B9BC-9D330948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CD5F-F93F-44F4-9772-6BC101C7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BA04-49F7-4F48-85F7-036BA0A8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AB72-BEB7-46A1-8060-DEE28C71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A4F1-15F7-45DA-8B51-0157AED1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9EFC-D172-41D5-97BB-745F733B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D678-C3D6-4D39-95A2-8032A6B8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2D1B-8DBD-4A1C-8488-07C776A3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F566C0F-1585-4FD7-B861-FFA05D966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182880"/>
            <a:ext cx="3962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:IEEE 802.15-00/015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6520" y="647712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d 802.15.3 Applica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reless Home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3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457200"/>
            <a:ext cx="7085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ice Types: Personal Electron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76520" y="2133360"/>
            <a:ext cx="5790960" cy="304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kabout Ga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Still Cam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CamC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3 P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T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e Vie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3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560" y="457200"/>
            <a:ext cx="7389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ice Types: Telephone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28800" y="2286000"/>
            <a:ext cx="5410080" cy="23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S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G and 3G Cel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 Ghz Cordless Ph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less VOIP Ph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ing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3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686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Network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5898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9000"/>
          </a:bodyPr>
          <a:p>
            <a:pPr marL="202320" indent="-202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 mitigates the Train Wr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b WLANs will enter the home this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5.3  multimedia apps target the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fore wireless VOIP phon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have Bluetooth, HomeRF, 2.4 GHz cordless phone, microwave oven interfe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 is the logical extens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sary device coexis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rable device 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not add much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3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686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neral Application Id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“Wireless Network Coordinator” (WNC), acts as a home radio spectrum traffic c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NC controls transmissions from all 802.11b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802.15.3 devices in the home, assigning priorities and allocating bandwidth a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s associate and communicate directly with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ing occurs at data rates exceeding 40 Mbps, providing multiple simultaneous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5.3 rate scales down to 802.11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NC is an 802.11 point coord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3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686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990720" y="1697040"/>
          <a:ext cx="7704000" cy="41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97040"/>
                    <a:ext cx="770400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3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Requirements: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000080" y="1879560"/>
          <a:ext cx="7704360" cy="434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879560"/>
                    <a:ext cx="7704360" cy="43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3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81080" y="533520"/>
            <a:ext cx="686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Requirements: PH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54080" y="1677960"/>
          <a:ext cx="7764480" cy="491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4080" y="1677960"/>
                    <a:ext cx="7764480" cy="49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3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480" y="533520"/>
            <a:ext cx="686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Requirements: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084320" y="1914480"/>
          <a:ext cx="7696080" cy="42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4320" y="1914480"/>
                    <a:ext cx="769608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3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686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ingle, fat wireless pipe to service home connectivity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and all gateway, computing, CE, and telephony devices share the pipe in harm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ireless connectivity needs to be robust, full featured and extremely easy 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ireless connectivity needs to coexist with legacy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ireless connectivity needs to be in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3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ons of the Pres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nected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3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457200"/>
            <a:ext cx="7542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mer Device Connectivity T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1523520"/>
            <a:ext cx="7589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 devices are now communicating with each other in the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s to PCs and periph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Gateways to P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tainment Gateways to Set Top 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Electronics to PCs and periph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Electronics to TVs, VCRs and ST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Entertainment Units 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d connections: USB, 1394, Ethernet, Analo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handycam0rmtr" descr=""/>
          <p:cNvPicPr/>
          <p:nvPr/>
        </p:nvPicPr>
        <p:blipFill>
          <a:blip r:embed="rId1"/>
          <a:stretch/>
        </p:blipFill>
        <p:spPr>
          <a:xfrm>
            <a:off x="3460680" y="5370480"/>
            <a:ext cx="1873440" cy="1106640"/>
          </a:xfrm>
          <a:prstGeom prst="rect">
            <a:avLst/>
          </a:prstGeom>
          <a:ln w="0">
            <a:noFill/>
          </a:ln>
        </p:spPr>
      </p:pic>
      <p:pic>
        <p:nvPicPr>
          <p:cNvPr id="51" name="laptop" descr=""/>
          <p:cNvPicPr/>
          <p:nvPr/>
        </p:nvPicPr>
        <p:blipFill>
          <a:blip r:embed="rId2"/>
          <a:stretch/>
        </p:blipFill>
        <p:spPr>
          <a:xfrm>
            <a:off x="76320" y="2362320"/>
            <a:ext cx="1434960" cy="1093680"/>
          </a:xfrm>
          <a:prstGeom prst="rect">
            <a:avLst/>
          </a:prstGeom>
          <a:ln w="0">
            <a:noFill/>
          </a:ln>
        </p:spPr>
      </p:pic>
      <p:pic>
        <p:nvPicPr>
          <p:cNvPr id="52" name="palm%20pilot" descr=""/>
          <p:cNvPicPr/>
          <p:nvPr/>
        </p:nvPicPr>
        <p:blipFill>
          <a:blip r:embed="rId3"/>
          <a:stretch/>
        </p:blipFill>
        <p:spPr>
          <a:xfrm>
            <a:off x="7199280" y="2057400"/>
            <a:ext cx="649440" cy="101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3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752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ons of the Fu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irelessly Networked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3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5335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mer Device Connectivity Tomo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devices can and will communicate wireles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nterconnection c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devices can be 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an talk 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single network in the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le, scalable and full feat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ices rema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sum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easy 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xpensive wireless conne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477120" y="1599480"/>
            <a:ext cx="1981080" cy="1010520"/>
            <a:chOff x="6477120" y="1599480"/>
            <a:chExt cx="1981080" cy="1010520"/>
          </a:xfrm>
        </p:grpSpPr>
        <p:sp>
          <p:nvSpPr>
            <p:cNvPr id="58" name=""/>
            <p:cNvSpPr/>
            <p:nvPr/>
          </p:nvSpPr>
          <p:spPr>
            <a:xfrm>
              <a:off x="6772320" y="1599480"/>
              <a:ext cx="13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DCT-2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DCT%202000%20w%20Remote" descr=""/>
            <p:cNvPicPr/>
            <p:nvPr/>
          </p:nvPicPr>
          <p:blipFill>
            <a:blip r:embed="rId1"/>
            <a:stretch/>
          </p:blipFill>
          <p:spPr>
            <a:xfrm>
              <a:off x="6477120" y="1925640"/>
              <a:ext cx="1981080" cy="6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" name="KODAK%20CAMERA%20TEST" descr=""/>
          <p:cNvPicPr/>
          <p:nvPr/>
        </p:nvPicPr>
        <p:blipFill>
          <a:blip r:embed="rId2"/>
          <a:stretch/>
        </p:blipFill>
        <p:spPr>
          <a:xfrm>
            <a:off x="6858000" y="5208480"/>
            <a:ext cx="1152360" cy="96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302600" y="3048120"/>
            <a:ext cx="1460520" cy="130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3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37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irelessly Home Area Network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758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the wireless interconnection of electronic devices within the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and high speed through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time and non-real tim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prioritization and guaranteed bandwidth, la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simultaneous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coexistence, interoperability, coordination between all home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exist and interoperate with “visiting” or legacy devices designed to other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3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7960" y="457200"/>
            <a:ext cx="7161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ice Types: Residential Gatew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8960" y="2057040"/>
            <a:ext cx="7086600" cy="340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point into the home for Data and 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ellite TV 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ble TV Deco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ble Mo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L Mod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band Wireless” Mo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G Ph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3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686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ice Types: PCs and Periph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240" y="1904760"/>
            <a:ext cx="7010280" cy="34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ing devices and attach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ktop P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top PC, likely brought home from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speed color pr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3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457200"/>
            <a:ext cx="69339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ice Types: Entertainment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6933960" cy="31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o Visual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op 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Videorec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Entertainment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Fi Spe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ming Cons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3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05:17:09Z</dcterms:created>
  <dc:creator>Jim Zyren</dc:creator>
  <dc:description>073r0</dc:description>
  <dc:language>en-US</dc:language>
  <cp:lastModifiedBy>Carlos Rios</cp:lastModifiedBy>
  <cp:lastPrinted>1998-02-10T13:28:06Z</cp:lastPrinted>
  <dcterms:modified xsi:type="dcterms:W3CDTF">2000-05-09T22:02:12Z</dcterms:modified>
  <cp:revision>13</cp:revision>
  <dc:subject>IEEE 802.15 Tutorial</dc:subject>
  <dc:title>Reliability of IEEE 802.11 WLANs in Presence of Bluetooth Radios</dc:title>
</cp:coreProperties>
</file>