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37E51-C0CD-405D-A1BB-AC7E78F4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3A8E5-88D9-4C67-B0EF-D4331446F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B579F-F2B5-4CA3-BCFC-3191D52C4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DD13-9588-43E4-BED7-06C79474C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EB5B-091D-4C3F-9C20-2054A4522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5624-2482-4426-8475-36014BB7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F8BA-8850-4810-A2B9-3FA83959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C931-9F3E-419C-A60C-384EDB6A0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EE0E-CB37-4CF9-9FD5-45DE1679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4ECE-3C09-4537-8EC8-4D9AD3E5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3717B-B9D9-4AAE-8CE2-57578E88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5D9E2-9DEE-46B3-AAF1-30A5B1595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FA41E-5C02-4CC2-A368-35739664F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5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8BE252B-41D0-4DDF-AC0C-9DA1917B10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otion to Initiate TG1 LB</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0 Ma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otion for WG on 10May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e, then record WG vote on Ballot Propos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ter Ballot #3</a:t>
            </a:r>
            <a:endParaRPr b="0" lang="en-US" sz="3200" spc="-1" strike="noStrike">
              <a:solidFill>
                <a:srgbClr val="000000"/>
              </a:solidFill>
              <a:latin typeface="Times New Roman"/>
            </a:endParaRPr>
          </a:p>
        </p:txBody>
      </p:sp>
      <p:sp>
        <p:nvSpPr>
          <p:cNvPr id="50"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tion:</a:t>
            </a:r>
            <a:r>
              <a:rPr b="0" lang="en-US" sz="2400" spc="-1" strike="noStrike">
                <a:solidFill>
                  <a:srgbClr val="000000"/>
                </a:solidFill>
                <a:latin typeface="Arial"/>
              </a:rPr>
              <a:t> To empower the TG1 Chair and Vice Chair to submit the Draft D0.7.2 to Letter Ballot on behalf of TG1 to the 802.15 WG Chair for the purposes of conducting a Letter Ballot on D0.7.2.</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d: (Tom Siep)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hatschik Bisdikia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 Favor: 17</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pposed:0</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aining:2</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FCE2800-4706-4FE8-AC9B-93BC26BB52B2}"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03:56:51Z</dcterms:created>
  <dc:creator>Tom Siep</dc:creator>
  <dc:description>&lt;doc#&gt;</dc:description>
  <dc:language>en-US</dc:language>
  <cp:lastModifiedBy>Tom Siep</cp:lastModifiedBy>
  <cp:lastPrinted>1998-02-10T13:28:06Z</cp:lastPrinted>
  <dcterms:modified xsi:type="dcterms:W3CDTF">2000-05-10T23:00:58Z</dcterms:modified>
  <cp:revision>4</cp:revision>
  <dc:subject>IEEE 802.15 &lt;subject&gt;</dc:subject>
  <dc:title>PowerPoint Presentation</dc:title>
</cp:coreProperties>
</file>