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78BEA-5626-4EB0-8192-94A7CCDA1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2C63D-A22D-48A2-BF74-DDFD2FEE1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96981-8640-4F8C-A2C8-9BFD1D47F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EC005-20B5-473E-A905-78D0D08C2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63220-E9D6-4BFA-ACE0-5AED356A9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61B6A-A0DD-4CE4-89F3-AD610E891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86BEE-C4C4-46C5-B171-21991BEBE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F8709-D59E-4ED2-8E3D-7D8CA989B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E73E4-D92E-4531-B07A-1FFA4F061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5EABB-D0D8-4E9A-A9CD-9C87A4015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958B-83EE-400B-8026-A0C89D91B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74E18-97F8-44FB-AB58-19B0E6AF4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Ma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93DB8F-5388-477A-B734-DF191B2A8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5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59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Open Issues with the TG3 Criteria Documen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0</a:t>
            </a:r>
            <a:r>
              <a:rPr b="0" lang="en-US" sz="1600" spc="-1" strike="noStrike">
                <a:solidFill>
                  <a:srgbClr val="000000"/>
                </a:solidFill>
                <a:latin typeface="Times New Roman"/>
              </a:rPr>
              <a:t> Ma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B, San Diego, 92127, CA,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529</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jgilb@mobilia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000000"/>
                </a:solidFill>
                <a:latin typeface="Times New Roman"/>
              </a:rPr>
              <a:t>00110r7P802-15 TG3-Criteria-Defini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Identify unresolved issues in the TG3 Criteria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is presentation is to be used to track the open issues in the Criteria Document.  It is intended to be living document that changes as new issues are identified and old issues are close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8184CFE-B246-4A53-BB04-52EE7110E892}"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sues with the TG3 Criteria Document</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P. K. Gilb</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a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D0F56F5-2F0D-4F1B-BA2A-3294DED222E9}"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overhead for PHY only proposal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Section 4.2.1.1 “</a:t>
            </a:r>
            <a:r>
              <a:rPr b="0" lang="en-US" sz="2400" spc="-1" strike="noStrike">
                <a:solidFill>
                  <a:srgbClr val="000000"/>
                </a:solidFill>
                <a:latin typeface="Arial"/>
                <a:ea typeface="Times New Roman"/>
              </a:rPr>
              <a:t>Overhead should be based on needs determined by the MAC layer and is TBD (MAC subgroup shall provide this inform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To be resolved with conference cal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689FD2D-F2D4-45D1-9AD0-2509443F1F4F}"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wave Oven Model</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Section 2.2.4.2 “</a:t>
            </a:r>
            <a:r>
              <a:rPr b="0" lang="en-US" sz="2400" spc="-1" strike="noStrike">
                <a:solidFill>
                  <a:srgbClr val="000000"/>
                </a:solidFill>
                <a:latin typeface="Arial"/>
                <a:ea typeface="Times New Roman"/>
              </a:rPr>
              <a:t>A microwave oven at 3 m with a power and time profile specified in ??? (look in 802.11 do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Pat Kinney and Jim Lansford will provide 2 referen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68CEFE3-F3EA-401D-91DD-6EB63909858A}"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measure</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Section 3.10 “</a:t>
            </a:r>
            <a:r>
              <a:rPr b="0" lang="en-US" sz="2400" spc="-1" strike="noStrike">
                <a:solidFill>
                  <a:srgbClr val="000000"/>
                </a:solidFill>
                <a:latin typeface="Arial"/>
                <a:ea typeface="Times New Roman"/>
              </a:rPr>
              <a:t>The specific criteria will be developed in cooperation with the efforts of 802.11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802.11e is currently working on defining QoS but is not yet ready with a definition or measurements.  Allen Heberling will track the 802.11e efforts.  There may be divergence with 802.11e since they are working on extensions to an established MA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1618678-898E-4C5E-AA9C-10B28D565E3F}"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0T16:50:34Z</dcterms:created>
  <dc:creator>James P. K. Gilb</dc:creator>
  <dc:description>&lt;doc#&gt;</dc:description>
  <dc:language>en-US</dc:language>
  <cp:lastModifiedBy>James P. K. Gilb</cp:lastModifiedBy>
  <cp:lastPrinted>1998-02-10T13:28:06Z</cp:lastPrinted>
  <dcterms:modified xsi:type="dcterms:W3CDTF">2000-05-11T17:41:52Z</dcterms:modified>
  <cp:revision>11</cp:revision>
  <dc:subject>IEEE 802.15 &lt;subject&gt;</dc:subject>
  <dc:title>PowerPoint Presentation</dc:title>
</cp:coreProperties>
</file>