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D2D-1C4E-4CB3-8E83-9AFE38BC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F09-FE94-4458-A36C-55D3E605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ECB-1484-4572-BF61-9401578D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B21-0AD5-4C1C-85D3-68B5B99E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DE5-EB75-46B6-89FB-8181172E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9D5-180E-42F4-BB4B-10EB7DDE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4FB-2F46-492D-9A01-716B8177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57B-BBD5-4CF2-9312-FA1B64A9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E73-C6CB-4AE6-8FE8-40A564E0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5B9-44DD-4BA7-847E-D3126820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2AD-202D-41EA-848D-CBEC870F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F1A-FE67-4AF1-A563-7CE9C4F8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77156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7715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7715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263AE9B-DF07-4D3E-8572-98AD5E8C5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5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1219320"/>
            <a:ext cx="769608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2320" y="1680840"/>
            <a:ext cx="78393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lling-based PCF for Strong QoS Guarante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3047760"/>
            <a:ext cx="6384960" cy="1747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Jim Mollenau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Technical Strategy Associa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d Enrichnet In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Zvi Ganz and Bob Pisaca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Enrichnet In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EEE 802.11e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ay 200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28F-1933-4ED9-8631-FD29906C23D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traffic cop, saying who can go wh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implemented as a software shim lay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rcepts transmission cal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remote file system intercepting disk cal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this case, independent of PHY or original M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reless, twisted pair, fiber, power lin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delays, but some compensation possi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rt transmission early by amount of best-case OS del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bedded implementation: faster response possi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ASIC, but again above normal (DCF) M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 in control microprocess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01D-BD0E-4D8B-ADE7-A06709271A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84600" y="3865680"/>
            <a:ext cx="0" cy="71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ftware Implemen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11360" y="2084400"/>
            <a:ext cx="2321280" cy="312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11360" y="2389320"/>
            <a:ext cx="2321280" cy="660240"/>
          </a:xfrm>
          <a:prstGeom prst="rect">
            <a:avLst/>
          </a:prstGeom>
          <a:solidFill>
            <a:srgbClr val="f6f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PERATING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11360" y="3017880"/>
            <a:ext cx="232128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YER 3 AND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1360" y="3324240"/>
            <a:ext cx="2321280" cy="312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N QOS 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1360" y="3629160"/>
            <a:ext cx="232128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1360" y="4494240"/>
            <a:ext cx="232128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C C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0160" y="3429000"/>
            <a:ext cx="7254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A76-3A1B-43C3-A7F2-30FEB07C693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38800" y="3641760"/>
            <a:ext cx="0" cy="71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ardware/Firmware Implemen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5560" y="2173320"/>
            <a:ext cx="2322360" cy="312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65560" y="2479680"/>
            <a:ext cx="2322360" cy="660240"/>
          </a:xfrm>
          <a:prstGeom prst="rect">
            <a:avLst/>
          </a:prstGeom>
          <a:solidFill>
            <a:srgbClr val="f6f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PERATING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65560" y="3108240"/>
            <a:ext cx="232236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YER 3 AND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65560" y="3413160"/>
            <a:ext cx="232236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65560" y="4494240"/>
            <a:ext cx="232236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C C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95440" y="4324320"/>
            <a:ext cx="725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5560" y="4494240"/>
            <a:ext cx="232236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5560" y="4189320"/>
            <a:ext cx="2322360" cy="312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QOS COORD/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05360" y="4324320"/>
            <a:ext cx="1887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N NIC C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87920" y="4073400"/>
            <a:ext cx="3636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6C4-7C7E-48F9-BBCD-28E7D0A259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-Poll O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1057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 fontScale="19000"/>
          </a:bodyPr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tacking the hidden-station probl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station appends remaining polls to its transmiss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D is the coordinator, A is blocked by terrain and cannot hear pol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hears poll from B, can transmit to B or 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can’t transmit directly to D, E, or F, nor B to E and 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41120" indent="-5400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can’t repeal the laws of physic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41120" indent="-5400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y via B or C could be an op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14400" y="2959200"/>
            <a:ext cx="144720" cy="13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04920" y="3967200"/>
            <a:ext cx="144720" cy="135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38640" y="4437000"/>
            <a:ext cx="144360" cy="135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4560" y="4102200"/>
            <a:ext cx="144360" cy="13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70480" y="2622600"/>
            <a:ext cx="144360" cy="13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9960" y="3495600"/>
            <a:ext cx="144360" cy="135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40160" y="2286000"/>
            <a:ext cx="1379520" cy="1747800"/>
          </a:xfrm>
          <a:custGeom>
            <a:avLst/>
            <a:gdLst/>
            <a:ahLst/>
            <a:rect l="l" t="t" r="r" b="b"/>
            <a:pathLst>
              <a:path w="912" h="1248">
                <a:moveTo>
                  <a:pt x="192" y="384"/>
                </a:moveTo>
                <a:lnTo>
                  <a:pt x="144" y="432"/>
                </a:lnTo>
                <a:lnTo>
                  <a:pt x="96" y="480"/>
                </a:lnTo>
                <a:lnTo>
                  <a:pt x="144" y="576"/>
                </a:lnTo>
                <a:lnTo>
                  <a:pt x="96" y="672"/>
                </a:lnTo>
                <a:lnTo>
                  <a:pt x="0" y="912"/>
                </a:lnTo>
                <a:lnTo>
                  <a:pt x="144" y="912"/>
                </a:lnTo>
                <a:lnTo>
                  <a:pt x="192" y="1056"/>
                </a:lnTo>
                <a:lnTo>
                  <a:pt x="342" y="1104"/>
                </a:lnTo>
                <a:lnTo>
                  <a:pt x="528" y="1248"/>
                </a:lnTo>
                <a:lnTo>
                  <a:pt x="624" y="1248"/>
                </a:lnTo>
                <a:lnTo>
                  <a:pt x="768" y="1152"/>
                </a:lnTo>
                <a:lnTo>
                  <a:pt x="912" y="1056"/>
                </a:lnTo>
                <a:lnTo>
                  <a:pt x="912" y="1008"/>
                </a:lnTo>
                <a:lnTo>
                  <a:pt x="810" y="906"/>
                </a:lnTo>
                <a:lnTo>
                  <a:pt x="816" y="816"/>
                </a:lnTo>
                <a:lnTo>
                  <a:pt x="912" y="768"/>
                </a:lnTo>
                <a:lnTo>
                  <a:pt x="912" y="720"/>
                </a:lnTo>
                <a:lnTo>
                  <a:pt x="786" y="570"/>
                </a:lnTo>
                <a:lnTo>
                  <a:pt x="864" y="480"/>
                </a:lnTo>
                <a:lnTo>
                  <a:pt x="864" y="432"/>
                </a:lnTo>
                <a:lnTo>
                  <a:pt x="768" y="336"/>
                </a:lnTo>
                <a:lnTo>
                  <a:pt x="768" y="288"/>
                </a:lnTo>
                <a:lnTo>
                  <a:pt x="720" y="192"/>
                </a:lnTo>
                <a:lnTo>
                  <a:pt x="768" y="48"/>
                </a:lnTo>
                <a:lnTo>
                  <a:pt x="720" y="0"/>
                </a:lnTo>
                <a:lnTo>
                  <a:pt x="624" y="0"/>
                </a:lnTo>
                <a:lnTo>
                  <a:pt x="408" y="18"/>
                </a:lnTo>
                <a:lnTo>
                  <a:pt x="384" y="144"/>
                </a:lnTo>
                <a:lnTo>
                  <a:pt x="366" y="252"/>
                </a:lnTo>
                <a:lnTo>
                  <a:pt x="288" y="288"/>
                </a:lnTo>
                <a:lnTo>
                  <a:pt x="240" y="336"/>
                </a:lnTo>
                <a:lnTo>
                  <a:pt x="96" y="480"/>
                </a:lnTo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3400" y="3160800"/>
            <a:ext cx="725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9520" y="2890800"/>
            <a:ext cx="434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96960" y="3898800"/>
            <a:ext cx="434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03400" y="4370400"/>
            <a:ext cx="435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033800"/>
            <a:ext cx="181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 (coordinato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7920" y="2487600"/>
            <a:ext cx="434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97400" y="3429000"/>
            <a:ext cx="435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B9F-EC12-40F8-8CE8-32FFF71B6E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-Poll Struc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9640" y="1546200"/>
            <a:ext cx="1378080" cy="3128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87720" y="1546200"/>
            <a:ext cx="2239560" cy="276120"/>
            <a:chOff x="2187720" y="1546200"/>
            <a:chExt cx="2239560" cy="276120"/>
          </a:xfrm>
        </p:grpSpPr>
        <p:sp>
          <p:nvSpPr>
            <p:cNvPr id="130" name=""/>
            <p:cNvSpPr/>
            <p:nvPr/>
          </p:nvSpPr>
          <p:spPr>
            <a:xfrm>
              <a:off x="2187720" y="1546200"/>
              <a:ext cx="3207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08480" y="1546200"/>
              <a:ext cx="3189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27440" y="1546200"/>
              <a:ext cx="32004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94280" y="1546200"/>
              <a:ext cx="3189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7560" y="1546200"/>
              <a:ext cx="3189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06520" y="1546200"/>
              <a:ext cx="3207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7480" y="1546200"/>
              <a:ext cx="31968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67520" y="1546200"/>
              <a:ext cx="32004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913120" y="1949400"/>
            <a:ext cx="31208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lling list: station address, transmit interv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5560" y="2824200"/>
            <a:ext cx="1378080" cy="3128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2824200"/>
            <a:ext cx="2031840" cy="312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235480" y="2824200"/>
            <a:ext cx="1523880" cy="279720"/>
            <a:chOff x="5235480" y="2824200"/>
            <a:chExt cx="1523880" cy="279720"/>
          </a:xfrm>
        </p:grpSpPr>
        <p:sp>
          <p:nvSpPr>
            <p:cNvPr id="142" name=""/>
            <p:cNvSpPr/>
            <p:nvPr/>
          </p:nvSpPr>
          <p:spPr>
            <a:xfrm>
              <a:off x="523548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928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7980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5140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0556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4344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760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624040" y="3967200"/>
            <a:ext cx="1378080" cy="3128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02120" y="3967200"/>
            <a:ext cx="2685960" cy="312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688080" y="3967200"/>
            <a:ext cx="1450800" cy="284760"/>
            <a:chOff x="6688080" y="3967200"/>
            <a:chExt cx="1450800" cy="284760"/>
          </a:xfrm>
        </p:grpSpPr>
        <p:sp>
          <p:nvSpPr>
            <p:cNvPr id="152" name=""/>
            <p:cNvSpPr/>
            <p:nvPr/>
          </p:nvSpPr>
          <p:spPr>
            <a:xfrm>
              <a:off x="6688080" y="3967200"/>
              <a:ext cx="28980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19640" y="3967200"/>
              <a:ext cx="29088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57840" y="3967200"/>
              <a:ext cx="29088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48720" y="3967200"/>
              <a:ext cx="29016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77880" y="3967200"/>
              <a:ext cx="29088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69120" y="3967200"/>
              <a:ext cx="28836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494160" y="5110200"/>
            <a:ext cx="1379520" cy="3128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3680" y="5110200"/>
            <a:ext cx="2684520" cy="312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558200" y="5110200"/>
            <a:ext cx="871560" cy="289080"/>
            <a:chOff x="7558200" y="5110200"/>
            <a:chExt cx="871560" cy="289080"/>
          </a:xfrm>
        </p:grpSpPr>
        <p:sp>
          <p:nvSpPr>
            <p:cNvPr id="161" name=""/>
            <p:cNvSpPr/>
            <p:nvPr/>
          </p:nvSpPr>
          <p:spPr>
            <a:xfrm>
              <a:off x="7589880" y="5110200"/>
              <a:ext cx="21708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94520" y="5110200"/>
              <a:ext cx="21780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12680" y="5110200"/>
              <a:ext cx="21708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58200" y="5110200"/>
              <a:ext cx="21708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5280" y="5110200"/>
              <a:ext cx="21888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091120" y="3227400"/>
            <a:ext cx="2467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aining polling 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949400"/>
            <a:ext cx="195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 u="sng">
                <a:solidFill>
                  <a:srgbClr val="000099"/>
                </a:solidFill>
                <a:uFillTx/>
                <a:latin typeface="Arial"/>
              </a:rPr>
              <a:t>Coordinator send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7080" y="3294000"/>
            <a:ext cx="195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send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5560" y="4505400"/>
            <a:ext cx="195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 send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95680" y="5648400"/>
            <a:ext cx="1960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 send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5520" y="2421000"/>
            <a:ext cx="2178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 u="sng">
                <a:solidFill>
                  <a:srgbClr val="000099"/>
                </a:solidFill>
                <a:uFillTx/>
                <a:latin typeface="Arial"/>
              </a:rPr>
              <a:t>Stations Respond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16520" y="4370400"/>
            <a:ext cx="2467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aining polling 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80120" y="5513400"/>
            <a:ext cx="2467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aining polling 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5400" y="5826240"/>
            <a:ext cx="1960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1040" y="2946240"/>
            <a:ext cx="863640" cy="939960"/>
          </a:xfrm>
          <a:custGeom>
            <a:avLst/>
            <a:gdLst>
              <a:gd name="textAreaLeft" fmla="*/ 115560 w 863640"/>
              <a:gd name="textAreaRight" fmla="*/ 748080 w 863640"/>
              <a:gd name="textAreaTop" fmla="*/ 164520 h 939960"/>
              <a:gd name="textAreaBottom" fmla="*/ 68148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65360" y="3505320"/>
            <a:ext cx="4368960" cy="425160"/>
          </a:xfrm>
          <a:prstGeom prst="leftArrow">
            <a:avLst>
              <a:gd name="adj1" fmla="val 46509"/>
              <a:gd name="adj2" fmla="val 107518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8680" y="3683160"/>
            <a:ext cx="914400" cy="609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93960 h 609480"/>
              <a:gd name="textAreaBottom" fmla="*/ 4546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2468308"/>
                <a:lnTo>
                  <a:pt x="7200" y="21218"/>
                </a:lnTo>
                <a:lnTo>
                  <a:pt x="0" y="16391"/>
                </a:lnTo>
                <a:lnTo>
                  <a:pt x="7200" y="10800"/>
                </a:lnTo>
                <a:lnTo>
                  <a:pt x="7200" y="12960"/>
                </a:lnTo>
                <a:arcTo wR="21600" hR="6671" stAng="2468308" swAng="-1927237"/>
                <a:lnTo>
                  <a:pt x="19212" y="9720"/>
                </a:lnTo>
                <a:arcTo wR="21600" hR="6671" stAng="-541071" swAng="-4858929"/>
                <a:close/>
              </a:path>
              <a:path fill="darkenLess"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-541071"/>
                <a:lnTo>
                  <a:pt x="19212" y="9720"/>
                </a:lnTo>
                <a:arcTo wR="21600" hR="6671" stAng="-541071" swAng="-4858929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4064040"/>
            <a:ext cx="558720" cy="965160"/>
          </a:xfrm>
          <a:custGeom>
            <a:avLst/>
            <a:gdLst>
              <a:gd name="textAreaLeft" fmla="*/ 74880 w 558720"/>
              <a:gd name="textAreaRight" fmla="*/ 483840 w 558720"/>
              <a:gd name="textAreaTop" fmla="*/ 168840 h 965160"/>
              <a:gd name="textAreaBottom" fmla="*/ 69984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54560" y="4699080"/>
            <a:ext cx="4647960" cy="272880"/>
          </a:xfrm>
          <a:prstGeom prst="leftArrow">
            <a:avLst>
              <a:gd name="adj1" fmla="val 65120"/>
              <a:gd name="adj2" fmla="val 11694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413080" y="4826160"/>
            <a:ext cx="914400" cy="609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93960 h 609480"/>
              <a:gd name="textAreaBottom" fmla="*/ 4546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2468308"/>
                <a:lnTo>
                  <a:pt x="7200" y="21218"/>
                </a:lnTo>
                <a:lnTo>
                  <a:pt x="0" y="16391"/>
                </a:lnTo>
                <a:lnTo>
                  <a:pt x="7200" y="10800"/>
                </a:lnTo>
                <a:lnTo>
                  <a:pt x="7200" y="12960"/>
                </a:lnTo>
                <a:arcTo wR="21600" hR="6671" stAng="2468308" swAng="-1927237"/>
                <a:lnTo>
                  <a:pt x="19212" y="9720"/>
                </a:lnTo>
                <a:arcTo wR="21600" hR="6671" stAng="-541071" swAng="-4858929"/>
                <a:close/>
              </a:path>
              <a:path fill="darkenLess"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-541071"/>
                <a:lnTo>
                  <a:pt x="19212" y="9720"/>
                </a:lnTo>
                <a:arcTo wR="21600" hR="6671" stAng="-541071" swAng="-4858929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2E5-425D-4539-8985-1FEDABD034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airn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ions later in list have more chances to receive the po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refore coordinator varies the list from one poll to the nex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ndom, 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yclic: A,B,C,D then D,A,B,C…C,D,A,B…et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a station repeats the poll, it removes itself and repeats the list in the same order as receiv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erage probability of receiving poll is the same for all stations with the same traffic cla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u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f coordinator recognizes that some stations are in hard-to-reach locations, it puts them late in the list to increase the probability of poll being receiv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087-7F04-4AE5-9E0E-A19B321C84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roving the Polling Proc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With Super-Poll, probability of not receiving a poll goes down dramaticall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91880" indent="-1918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mulation shown for various group sizes and values of the probability P, the probability that a single poll is not received due to nois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31800" y="2583000"/>
            <a:ext cx="5035680" cy="3830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994360" y="2768760"/>
            <a:ext cx="2743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Ganz, A. Phonphoem, Z. Ganz, "Robust SuperPoll with Chaining Protocol for IEEE 802.11 Wireless LANs in support of Multimedia Applications"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ireless Networks Journ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o appear in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Ganz, A. Phonphoem, Z. Ganz, ``Robust SuperPoll Protocol for IEEE802-11 Wireless LANs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EEE Military Communications Conference, October 199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6AA-AB3F-49A0-9374-5F72D046AB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et Efficiency Improvem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hannel utilization  U = user transmission time / total tim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f poll is not received, channel is idle and utilization suff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fficiency gain  E = (U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Arial"/>
              </a:rPr>
              <a:t>super-poll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-U 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Arial"/>
              </a:rPr>
              <a:t>single poll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)/U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Arial"/>
              </a:rPr>
              <a:t>single pol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 as a function of G, the group size, for various values of P: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16200" y="3070080"/>
            <a:ext cx="5181480" cy="33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155-25DC-42BB-B90D-D10AB13FB9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verlapping B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2895480"/>
            <a:ext cx="2286000" cy="228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00680" y="2882880"/>
            <a:ext cx="2286000" cy="228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962520"/>
            <a:ext cx="152640" cy="1522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967920" y="2900520"/>
            <a:ext cx="2387160" cy="231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12" y="1513"/>
                </a:moveTo>
                <a:arcTo wR="10800" hR="10800" stAng="-3558582" swAng="7104718"/>
                <a:lnTo>
                  <a:pt x="10800" y="10800"/>
                </a:lnTo>
                <a:close/>
              </a:path>
              <a:path fill="none" w="21600" h="21600">
                <a:moveTo>
                  <a:pt x="16312" y="1513"/>
                </a:moveTo>
                <a:arcTo wR="10800" hR="10800" stAng="-3558582" swAng="7104718"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62280" y="2900520"/>
            <a:ext cx="2387160" cy="231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12" y="1513"/>
                </a:moveTo>
                <a:arcTo wR="10800" hR="10800" stAng="-3558582" swAng="7104718"/>
                <a:lnTo>
                  <a:pt x="10800" y="10800"/>
                </a:lnTo>
                <a:close/>
              </a:path>
              <a:path fill="none" w="21600" h="21600">
                <a:moveTo>
                  <a:pt x="16312" y="1513"/>
                </a:moveTo>
                <a:arcTo wR="10800" hR="10800" stAng="-3558582" swAng="7104718"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ions may be in range of either or both B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to avoid interference, allow both systems to oper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8240" y="34034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37591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59120" y="4216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45975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01920" y="4317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3733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32259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64240" y="37591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267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775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42418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13280" y="30988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2BC-87FD-4223-B882-CA1A71BF0D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ll Overl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stations are in range of both coordinato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27480" y="2108160"/>
            <a:ext cx="2286000" cy="2286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94160" y="3174840"/>
            <a:ext cx="15228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0240" y="485136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haves like singl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oordinator is cho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stations work with this 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60640" y="30988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35560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39369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51360" y="3073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32240" y="3581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1240" y="2438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2260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78440" y="27939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33019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228-E308-46F3-8787-ADDC294106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Polling Proposal for Qo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atibility with existing equip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chanism for dynamic bandwidth manag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ffici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erience with Ethernet and home phoneli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ftware/firmware implem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aling with hidden st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il-saf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cket classification iss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48A-9C64-45F9-B391-951B79400F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tial Overl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 more general ca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me stations hear both coordinators, some hear only o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92768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lution: one coordinator takes over fu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coordinator relinquishes, sends registration list to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per-poll mechanism polls all stations from one 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362320"/>
            <a:ext cx="2286000" cy="228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00680" y="2349360"/>
            <a:ext cx="2286000" cy="228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3429000"/>
            <a:ext cx="152640" cy="1522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67920" y="2367360"/>
            <a:ext cx="2387160" cy="231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12" y="1513"/>
                </a:moveTo>
                <a:arcTo wR="10800" hR="10800" stAng="-3558582" swAng="7104718"/>
                <a:lnTo>
                  <a:pt x="10800" y="10800"/>
                </a:lnTo>
                <a:close/>
              </a:path>
              <a:path fill="none" w="21600" h="21600">
                <a:moveTo>
                  <a:pt x="16312" y="1513"/>
                </a:moveTo>
                <a:arcTo wR="10800" hR="10800" stAng="-3558582" swAng="7104718"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62280" y="2367360"/>
            <a:ext cx="2387160" cy="231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12" y="1513"/>
                </a:moveTo>
                <a:arcTo wR="10800" hR="10800" stAng="-3558582" swAng="7104718"/>
                <a:lnTo>
                  <a:pt x="10800" y="10800"/>
                </a:lnTo>
                <a:close/>
              </a:path>
              <a:path fill="none" w="21600" h="21600">
                <a:moveTo>
                  <a:pt x="16312" y="1513"/>
                </a:moveTo>
                <a:arcTo wR="10800" hR="10800" stAng="-3558582" swAng="7104718"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78240" y="28702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32259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59120" y="36831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4064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01920" y="37846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32004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2692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64240" y="32259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3733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42418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37083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13280" y="256536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393800" y="326340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4088880" y="26539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428640" y="2908080"/>
            <a:ext cx="96516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377880" y="2908440"/>
            <a:ext cx="5076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835080" y="3289320"/>
            <a:ext cx="50796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378240" y="3746520"/>
            <a:ext cx="3556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442-1CE4-4FFB-9479-03C1E580BA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ail-Saf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QoS-enabled stations have coordinator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tivated only in current coordinat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failure of coordinator, another station takes on the ro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fail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unication fail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age by obsta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sistent interfer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 of ran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42A-7E69-4772-953D-914BD8A079F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cket Classific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 important topic but..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42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Not our iss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assification is independent of allocation mechanism adopted to provide corresponding level of servi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aptive polling can operate with explicit or implicit (heuristic) classific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be applied end-to-en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just L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just access netw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just backbone netw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atibility with IETF efforts for WAN is very importa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ordinator should have SBM (Subnet Bandwidth Mgr.) capabil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ch easier with PCF than otherwi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0E7-7B91-4FE1-BF49-D0A270ADB5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oals of the Proposa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ong Q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terministic mechanism, not statistic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ions don’t transmit until poll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ter effici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bandwidth loss or delays due to collis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thernet is 91% efficient in theory, 50% in practi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hanced reliabil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chanism to address hidden-station probl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atibility with existing equip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n-QoS equipment operates as befo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B4D-3B58-41AA-87CD-DF4F89102B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ckward Compatibilit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97544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isting 802.11 stations continue to function on best-efforts basi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units respect PCF interval even if they don’t use 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CF for remainder of the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n-QoS, lowest prior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ftware can be added to provide QoS for existing st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w devices can implement at software or firmware/hardwar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F1C-3A94-494F-9C36-3B12655385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ynamic Bandwidth Managem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int Coordination Function (PCF) is best way to provide strong Q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ordinator sets PC interval, then polls stations, specifying xmit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mit only when polled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collisions (except during registratio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aptive algorithm to set transmit interval and du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rval varies depending on recent history of s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ss polling avoid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statistical (weak) QoS based on prior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ce arrival of large amounts of high priority traffic causes problems in collision-based syste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93D-882C-4883-98F5-E0826D7DF2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daptive Pol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lling specifies station’s transmission period based on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icit QoS reques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tant bit r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able bit rate, with minimum / maximu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assification heuristic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ion need not report its own us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full period is not used, next station may start ear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this case, polling frequency may be c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ternatively, if all is used, allocations may be increas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licy is not strictly an interoperability iss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other stations must be ready to pick up coordinator fun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032-8799-44D4-9BEA-6878012E7E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ime 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9000" y="2890800"/>
            <a:ext cx="74026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39680" y="2689200"/>
            <a:ext cx="0" cy="4032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9000" y="3462480"/>
            <a:ext cx="452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11680" y="3462480"/>
            <a:ext cx="2880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0720" y="3686040"/>
            <a:ext cx="2998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CF-based, contention-fr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91080" y="3686040"/>
            <a:ext cx="3000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CF-based, contention peri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39680" y="2246400"/>
            <a:ext cx="460440" cy="64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00120" y="2246400"/>
            <a:ext cx="555840" cy="644400"/>
          </a:xfrm>
          <a:prstGeom prst="rect">
            <a:avLst/>
          </a:prstGeom>
          <a:solidFill>
            <a:srgbClr val="fe3a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52800" y="2890800"/>
            <a:ext cx="55692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06560" y="2890800"/>
            <a:ext cx="55584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76680" y="2890800"/>
            <a:ext cx="94284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2890800"/>
            <a:ext cx="55728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35480" y="2890800"/>
            <a:ext cx="168120" cy="50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3800" y="2246400"/>
            <a:ext cx="412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50800" y="2392200"/>
            <a:ext cx="67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6480" y="2992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27520" y="2992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6520" y="2992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86280" y="2992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19640" y="2890800"/>
            <a:ext cx="557280" cy="50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89560" y="2992320"/>
            <a:ext cx="241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800" y="4336920"/>
            <a:ext cx="4160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ordinator polls A, B, C, D, and 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, B, D, and E send 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 has no data, so D starts ear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 registers in DCF contention 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 has best-efforts data, uses DC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05840" y="2890800"/>
            <a:ext cx="55548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75400" y="2992320"/>
            <a:ext cx="241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3440" y="2363760"/>
            <a:ext cx="1162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46320" y="3014640"/>
            <a:ext cx="1160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33B-33AA-45B2-8107-0BAF3BFEF13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lling Efficien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1960" y="1344600"/>
            <a:ext cx="7774200" cy="44560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fficiency of polling is much higher than collision-based syste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l-life Ethernet systems have low useful throughpu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7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alculated asymptotic throughput for 802.3 is 91%, even better than “classical” CSMA/CD at 83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ut…delays get lo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7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orter backoff for new entrants causes instabilit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In real life, Ethernet is seldom run above 50% average load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7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rguments against polling: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eed to choose coordinator to do polli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eed to provide for failure of coordinato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veryone needs to hear pol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verhead of poll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olutions: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ordinator chosen from MAC address or manually designated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ll pollable stations contain coordinator cod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uper-poll reaches all station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Poll is ~20 bytes vs. average transmission of 500 bytes (inc. ACKs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Adaptive polling reduces excess poll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6653-BD20-444A-B5D4-E8BE3E9ACE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monstrated Capabilit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richNet protocol has been demonstrated over several network type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base T Ethern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me phone line networ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02.11 DC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ult is as desired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deo runs smoothly in the presence of large file transf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usable without EnrichNet lay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434-2908-4490-9B4D-6366DE261D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bert F.  Heile</cp:lastModifiedBy>
  <cp:lastPrinted>1998-02-10T13:28:06Z</cp:lastPrinted>
  <dcterms:modified xsi:type="dcterms:W3CDTF">2000-05-11T05:53:47Z</dcterms:modified>
  <cp:revision>16</cp:revision>
  <dc:subject/>
  <dc:title>No Slide Title</dc:title>
</cp:coreProperties>
</file>