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CA90A0-5751-475F-8FD8-373E14E21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E5217D-7497-4DBE-A6E3-7556339FB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: Tom Siep [siep@ti.co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: Thursday, November 02, 2000 12:3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: Task Grou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: 802.15.1 Version 1.1 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: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just spoke to Cathy Hughes of the Open Group.  There has been a MAJOR retrenchment: the TROFF version has been abandoned.  They will RE-IMPLEMENT Errata against the original v1.0b and stay in FrameMak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. The Open Group has had static from the SIG about "Conversion Errors" from FrameMaker to TROFF (Cathy says there were 5 in the 1600 pages, 4 of which were TROFF coding errors, one was a figu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. Open Group will use a consultant to apply the Err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. Cathy had made both editorial and technical cha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. The techinal changes will be reappli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. The editorial changes likely will be lo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. Kennith Wilson (the consultant) will be seeing the FM source for the first time tomorr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. The desired delivery for the updated FM is 24Nov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. It is not known at this time how long the SIG will need to review the new document, but 30 or even 40 days seems reasonable to both Cathy and 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. It seems likely that v1.1 will not be ready for the BT DevCon (4-7 Dec 00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TG1 (as I see th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. Earliest possible editorial changes on Clauses 7-11 is 1Dec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. Earliest possible start time for comment resolution is 1January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. No impact on Clauses 1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. No impact on magnitude of changes to base document; we can determine with what we know whether we need to do a reconsider (40 day) or confirmation (15 day) ballot -- I think 15 day will 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. No impact on responding to comments that were rejec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hough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Sie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Communications Business 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Instru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14) 480-678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72) 761-5581 FA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14) 808-2642 ce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p@ti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AFE-980C-4CD0-9353-9F7048EA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AFE-BE36-402C-A104-13C7F64B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249-F908-4009-8942-07D06806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C81-BA96-4C3B-9813-A0F5DE02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ED8-850A-4A74-AFA3-C29883BF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145-57E8-4846-BBF8-43A7369C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3D8-665E-4D9F-8020-FAC6A19C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D2E2-5A4F-46CD-A7FF-BCBCA5BB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C3E-A2E2-4DED-97BA-BFEB65B3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E8E-DA08-4ADC-8D39-449A9C05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E8E-49E5-4592-8756-E8D7C567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950-4C84-418F-B3FA-5FBCC7A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C76F7DA-2129-4C9C-8E21-56F73FF5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9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5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5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6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th Session of meetings of the 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Report to 8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6-10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att Regency 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Tampa City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mpa, FL 3360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D45-824B-4CAC-9854-4EAADF7247A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 of the November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conference call results and vote on acceptance of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presentations on MAC &amp; PHY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 to Reduce to one MAC/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he writing of the Draf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nterfaces between MAC/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Analyze Call for Pa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BSIG/IEEE contract s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BC9-AA84-4507-A74C-4BEE270B1A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ified 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ime required to obtain closure on MAC/PHY sel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560-9D24-49D5-83BF-77876ED327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3 January Meeting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alls: Begin writing of draft standard. Continue MAC/PHY refin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uary 15-19, 2001, Monterey, CA USA, Hyatt Regency, 802.11/15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im Mee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 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 interfaces between MAC/PHY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itorial Re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 and Analyze Call for 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1B9-4C78-450C-80C1-8E27E9C65C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5.3 High Rate MAC &amp; PHY selected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 Rate Task Group (TG3) selected final MAC and PHY proposals for 802.15.3 at the November 6-10, 2000 IEEE 802 Plenary Meeting held in Tampa, F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ing key components from multiple proposals, a hybrid MAC was developed and adopted for 802.15.3. The selected MAC enjoyed a 100% confidence vote from the WPAN High Rate Task Group and was affirmed by the 802.15 WPAN Working Group with only one dissenting vote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3FE-020C-42F1-BB6C-863D4DAE89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5.3 High Rate MAC &amp; PHY selec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n by consensus, TG3 adopted a modified PHY proposal based on a 2.4GHz radio design. The selected PHY proposal was confirmed by a consensus vote of 79% in the WPAN High Rate Task Group and affirmed by the 802.15 WPAN Working Group with only one dissenting vo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nteers are being solicited to work with the PHY and MAC subcommittees on the initial draft stand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established a target of November 2001 or early 2002 for completion of the draft standar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FB9-8C88-4927-BFD2-5D0E8DE52F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econference Ca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all November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Editor(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Gilb, Mobi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 GHz PHY sub-editor (James Gil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sub-editor (Al Heber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Interface sub-editor (Mary Du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will request volunteers for editorial help on Nov. 9 and report on status on Nov. 2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s, Agendas (to accommodate international participants) will be announced via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699-8B91-4649-9F24-133E5DC42DB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 Low Rate Study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w Rate Study Group (LRSG) incorporated coexistence comments in its draft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PAR passed both the Working Group and ExCom and is being forwarded to NesCom for approval in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completed a first draft of a project timelin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385r1P802-15), a draft press release (00384r0P802-15) and a Call for Applications (00390r1P802-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cons will begin on Tuesday, Nov 21. See 802.15 web site for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D77-B5BE-4AE9-83F4-1119D07EF0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 Radio2 Study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information flow restrictions from the Bluetooth SIG there was little new information which could be shared in a public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decided to let the Study Group fold rather than ask for another 4 months and reconstitute it when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8E2-DE80-4AD0-B1F6-44628DD053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5 Publicity Committe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Topics of Joint 11/15 S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Published/Pe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for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, always interested in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 of events updated and exp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peakers going to Comdex next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775-80CA-4E45-9487-67A545EE82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5 Publicity Committe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Topics of Joint 11/15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ublications to create collateral material for 802.11 and 80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releases/Press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ress releases need to be prepared  for web p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Kits prog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d definitions, market structure and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009-6D12-46F9-B8E6-2CB7675FF1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ieee802.org/15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1148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548640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.d.mcinnis@boe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761-D5C5-4299-BC2D-BB38A094EE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5 Publicity Committ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Items for Monte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definitions, market structure and forecasts for 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initial definitions, market structure and forecasts for .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releases/Press K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press releases based upon Monter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Press K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recently Published &amp; Pe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CB8-0B68-4455-AC69-1EC42A7D740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updates and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Calendar of Events updated and exp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tatus of  publications to create collateral mate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5 Publicity Committe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Items for Monte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C8E-C81E-4784-BD48-97E660C83C0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87400" y="1981080"/>
            <a:ext cx="7799400" cy="44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: January 15th-19th, 2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el Inform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att Regency Monterey, On Del Monte Golf Cour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ld Golf Course Roa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rey, CA 93940, U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Phone: +1 (408) 831-12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att Direct Reservations Phone: +1 (800) 233-12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Name: IEEE 802-Philips Semiconductors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nfo at:    www.ieee802.org/15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AFC-2608-44E4-A6C8-7D1B4C7FC3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for 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sk Group 1 (TG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deriving a draft standard from the Bluetoo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ation under IEEE PAR 802.15.1  At Session #9, the group made significant progress in progressing their draft standar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ring Session #9 the Letter Ballot 3 Comment Resolution Team met and significantly reduced the gap in resolving the outstanding com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22 Comment Total (388 Comments almost “F”inished (42 Comments “D”eclined, letters needs to be stamped &amp; mailed), 3 Comments still in BSIG “E”rrata DB, 30 Comments need Voter “C”larification, 1 Comment needs to be “R”esearch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ly, the Project Plan was altered on 3Nov00 when the BSIG informed the IEEE that unfortunately the BT v1.1 spec schedule is gated by feedback from UnPlugFest-4 (Nov 5-9) and resolution of editing problems (TROFF) by the Open Group.  The TG1 has offered the assistance of the TG1 Ed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ext step for TG1 is to review the Project Plan and prepare for the final WG Letter Ballot of IEEE Std 802.15.1-[2001] Draft 0.8 as well as initiate preliminary work for Sponsor Ballot; tentatively planned for Feb01/Mar01 time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3360" y="5905440"/>
            <a:ext cx="8458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G1 will hold Teleconference Calls during the month of December and all agen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utes, and rolling open action items will be available via the 802.15.1 reflector arch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C05-61DA-4C4F-AE94-B070039CE2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2438280" y="3457440"/>
            <a:ext cx="0" cy="102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362320"/>
            <a:ext cx="2577960" cy="335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2362320"/>
            <a:ext cx="5333760" cy="335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Balloting Planning-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680" y="2362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42120" y="2362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3005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1508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6716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7204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7692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1476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052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5296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8840" y="300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9720" y="300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4280" y="3005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5520" y="3005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7840" y="3005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7640" y="3005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68880" y="3005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9400" y="300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4680" y="3005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920" y="3005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6080" y="3005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21720" y="3005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2240" y="300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6800" y="300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20908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2160" y="2465280"/>
            <a:ext cx="1910520" cy="27648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opyright Addendum 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2770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289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89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26080" y="3289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7800" y="3009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9360" y="335268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380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24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040" y="3000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" y="3000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6200" y="30002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6720" y="3000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30800" y="30002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3516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289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867280"/>
            <a:ext cx="838224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SIG-IEEE need to discuss the process by which the IEEE would maintain a spec after accredi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is may determine whether the IEEE should accredit BT 1.1 or a more stable ver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560" y="1612800"/>
            <a:ext cx="1372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Rev 1.0 B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 FM Source 3Dec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8180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6304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1548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6756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008160"/>
            <a:ext cx="2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2600" y="3005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4920" y="3005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5080" y="3005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5275440"/>
            <a:ext cx="11430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tB 4-6Dec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534520" y="3352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0120" y="5326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1280" y="532116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po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9920" y="1614600"/>
            <a:ext cx="1432080" cy="459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Rev 1.1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 FM Source ~1Jan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2104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581280"/>
            <a:ext cx="167652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LB3 Balloted/Ap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24May00 – 6Nov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4952880"/>
            <a:ext cx="11430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tB 11-13Sep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543800" y="335232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33526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102200"/>
            <a:ext cx="114300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SB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1May – 15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019920" y="3352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4635360"/>
            <a:ext cx="129564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SB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15May – 31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248520" y="33523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102200"/>
            <a:ext cx="129564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LB(6) Recir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01Jan – 15Jan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648320" y="3352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59600" y="1614600"/>
            <a:ext cx="1368000" cy="459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Rev 1.2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 FM Source ~Jun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2104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57000" y="1614600"/>
            <a:ext cx="1121040" cy="276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Rev 1.x 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01000" y="1905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53280" y="1905120"/>
            <a:ext cx="76212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-bluetm001" descr=""/>
          <p:cNvPicPr/>
          <p:nvPr/>
        </p:nvPicPr>
        <p:blipFill>
          <a:blip r:embed="rId1"/>
          <a:stretch/>
        </p:blipFill>
        <p:spPr>
          <a:xfrm>
            <a:off x="1600200" y="154296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79" name="802" descr=""/>
          <p:cNvPicPr/>
          <p:nvPr/>
        </p:nvPicPr>
        <p:blipFill>
          <a:blip r:embed="rId2"/>
          <a:stretch/>
        </p:blipFill>
        <p:spPr>
          <a:xfrm>
            <a:off x="1447920" y="4133880"/>
            <a:ext cx="1014120" cy="1047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934320" y="32004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6240" y="32004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5824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5053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21600">
            <a:off x="6333840" y="402804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aft Deadline 3Aug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7800">
            <a:off x="7285680" y="4038840"/>
            <a:ext cx="14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aft Deadline 26Oct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960" y="5335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ou ar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762120"/>
            <a:ext cx="20574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800600"/>
            <a:ext cx="137160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LB(7) Recir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22Jan01 – 31Jan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800600" y="3352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114300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SB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16Mar – 30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D4F-EFFC-4D66-9223-69C44D0099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1 January Meeting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 Session #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G eLB MOTION Nov00: TO FINALIZE APPROVAL OF LB3 RESOLUTIONS -00/159r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OMPLETE PRODUCTION AND/OR REVIEW IEEE Std 802.15.1-[2001] Draft 0.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DETERMINE WHAT FORM OF LETTER BALLOT IS APPROPRIATE FOR DRAFT RE-CIRCULATION, IF V1.1 CHANGES ARE MINOR OR RECONSIDERATION, IF V1.1 CHANGES ARE MA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WG eLB MOTION Dec00/Jan01: INITIATE WG LETTER BALLOT PROCESS FOR DR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INITIATE SPONSOR BALLOT POOL INVIATI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ssion #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PROVIDE PROJECT PLANNING UPDATE -00/xxx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PROVIDE SESSION #11/HILTON HEAD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EC7-87A6-4667-B7F0-2A2FCB6BA2D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missions on 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ptember we sent out the Call for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on Coexistence Mechanisms are being made 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00 meeting (Ta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001 meeting (Monter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voting on selection procedure at this meeting (Thursday) 00/353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B10-598E-45D7-92F0-33057BB70B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 Siz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 #3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87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g Bin Ga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 Frequency Hopping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67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Lansfor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HTA: A Method of Coexist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60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4EB-20BB-444C-8E44-A0B372CA6D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ion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d on procedure for selection of coexistence mechanism, 00/353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bs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 affirmed by the Working Group at its closing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BFF-A9D4-4014-A64C-5FA053BF6A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Van Dyck, “PHY Level Coexistence Model”, 00/372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“MAC and PHY Coexistence Model Integration: Part 1”, 00388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Veriz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B9A-28B3-4B12-AE7E-99FD4C711C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21:30:51Z</dcterms:created>
  <dc:creator>Robert F.  Heile</dc:creator>
  <dc:description>00/396r0</dc:description>
  <dc:language>en-US</dc:language>
  <cp:lastModifiedBy>Robert F.  Heile</cp:lastModifiedBy>
  <cp:lastPrinted>1998-02-10T13:28:06Z</cp:lastPrinted>
  <dcterms:modified xsi:type="dcterms:W3CDTF">2000-11-17T17:30:25Z</dcterms:modified>
  <cp:revision>14</cp:revision>
  <dc:subject>IEEE 802.15 &lt;subject&gt;</dc:subject>
  <dc:title>WG Closing Report to 802</dc:title>
</cp:coreProperties>
</file>