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51829C-D7C1-4B2D-8E04-4B374C36D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54160" y="701640"/>
            <a:ext cx="4626000" cy="3468600"/>
          </a:xfrm>
          <a:prstGeom prst="rect">
            <a:avLst/>
          </a:prstGeom>
          <a:ln w="0">
            <a:noFill/>
          </a:ln>
        </p:spPr>
      </p:sp>
      <p:sp>
        <p:nvSpPr>
          <p:cNvPr id="10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802 Functional Requirements Document (FRD), Draft 6.8 Revised: July 10, 199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2 Compatibility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802 defines a family of standards. All standards shall be in conformance with IEEE 802.1 Architecture, Management and Interwork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LLC and MAC standards shall be compatible with ISO 10039[20], MAC Service Definition1, at the LLC/MAC boundary. Within the LLC Working Group there shall be one LLC standard, including one or more LLC protocols with a common LLC/MAC interface. Within a MAC Working Group there shall be one MAC standard and one or more Physical Layer standards with a common MAC/Physical layer interfa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ach standard in the IEEE 802 family of standards shall include a definition of managed objects which are compatible with OSI systems management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Note: This requirement is subject to final resolution of corrections and revision to current ISO 10039, currently inconsistent with ISO 8802 series standard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7D141-F633-48F4-9AF7-7AA6680D9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CCCB9-AD0F-4BEE-A7D3-0590CD48B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05952-F067-4F27-A879-DE2E9BB5E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CE5E7-F21A-4FB5-8DF0-8C21F452A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16B65-5D90-4FD4-8A1D-824035BC4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AC163-6541-467A-BBE2-2D9371FA7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25BE6-8EBB-4CBA-AC08-A5113528C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C7916-1E8B-455E-B8A3-A3015DF6E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A6840-F042-46FF-8BD8-F05E44AF6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50B90-6182-4592-B7E4-D95509CBC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F8438-A2EC-4D63-83A1-263286BD0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BBD43-9694-4471-AB94-E27BD520D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3A9D01-E8D5-4BE2-BE99-F2B58AA11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4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DE4C1B79-C6DA-48F7-B9B9-C2FB2FE0440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618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WG Liaison Report, No.1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6Nov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37r1,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Liaison Report is a running Liaison report that is offered to the WG for their consideration.  It is only as good as what is provided to the Author…there are many WG Liaisons that are not captured as they are not provided to the Author or Liaison Office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Our Sponsor requested that an official Liaison Officer be added to the WG.  This report is for the Sponsor and/or the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Report</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econ &amp; Meetings</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 </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to IEE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ug00 on TG1 Draft Std. Copyright License &amp; v1.1</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Sep00 Follow up on LAN/MAN 802.15 Balloting Pool status (Kahof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Sep00 Follow up on Bluetooth Pocket Guide Contract</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 </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from IEE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Sep00 LAN/MAN 802.15 Balloting Pool status report (Kahof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0, Aug00, and Sep00 on Copyright License &amp; v1.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Sep00 Follow up on Bluetooth Pocket Guide Contract</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Steps</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lve TG1 Draft Std. Copyright License &amp; v1.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 up on Bluetooth Pocket Guide Contract and Review Manuscript due 6Oct00</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MAN 802.15 Balloting Pool &amp; Invitation for TG1 Draft est. need 9Nov00</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5.1 Draft Std onto IEEE 802 Plus CD-ROM and SDL Machine Executabl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D5DAF5C-9ECA-4CC4-B8D6-93629DC89BBD}" type="slidenum">
              <a:t>10</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 up on liaison for Jan01 Plenary</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IG</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1 Draft Std. Copyright License &amp; v1.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ise on IEEE Draft 0.8 Standard Status i.e., Scenario B (con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 Specification v1.0C (v1.1) Status (con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BSIG-IEEE Telecon and f2f Meeting Date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SA TG1 Draft Std. Copyright License &amp; v1.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1/802.15 Interim Meetings?</a:t>
            </a:r>
            <a:endParaRPr b="0" lang="en-US" sz="14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identify hosts and venue 12months out, or more.</a:t>
            </a:r>
            <a:endParaRPr b="0" lang="en-US" sz="12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consider a single (.11/.15) Guideline for Interim Hosts</a:t>
            </a:r>
            <a:endParaRPr b="0" lang="en-US" sz="12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SA LAN/MAN 802.15 Balloting Pool?</a:t>
            </a:r>
            <a:endParaRPr b="0" lang="en-US" sz="1400" spc="-1" strike="noStrike">
              <a:solidFill>
                <a:srgbClr val="000000"/>
              </a:solidFill>
              <a:latin typeface="Times New Roman"/>
            </a:endParaRPr>
          </a:p>
          <a:p>
            <a:pPr lvl="2" marL="108576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monitor this process, prompt invitation when needed –3mo before Sponsor LB</a:t>
            </a:r>
            <a:endParaRPr b="0" lang="en-US" sz="1200" spc="-1" strike="noStrike">
              <a:solidFill>
                <a:srgbClr val="000000"/>
              </a:solidFill>
              <a:latin typeface="Times New Roman"/>
            </a:endParaRPr>
          </a:p>
        </p:txBody>
      </p:sp>
      <p:sp>
        <p:nvSpPr>
          <p:cNvPr id="82" name=""/>
          <p:cNvSpPr/>
          <p:nvPr/>
        </p:nvSpPr>
        <p:spPr>
          <a:xfrm>
            <a:off x="414360" y="5791320"/>
            <a:ext cx="83059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G Liaisons are fragmented and not all active liaisons are capture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9B967D9-B8AA-4399-89B5-382C2434E439}" type="slidenum">
              <a:t>11</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1 </a:t>
            </a:r>
            <a:br>
              <a:rPr sz="4400"/>
            </a:br>
            <a:r>
              <a:rPr b="0" lang="en-US" sz="4400" spc="-1" strike="noStrike">
                <a:solidFill>
                  <a:srgbClr val="000000"/>
                </a:solidFill>
                <a:latin typeface="Times New Roman"/>
              </a:rPr>
              <a:t>Wireless MAC Working Groups</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802</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is a single MAC Sublayer/W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is a single MAC Sublayer/W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could potentially look like 3 MAC Sublayer/WGs to IEEE 802 Family.</a:t>
            </a:r>
            <a:endParaRPr b="0" lang="en-US" sz="2400" spc="-1" strike="noStrike">
              <a:solidFill>
                <a:srgbClr val="000000"/>
              </a:solidFill>
              <a:latin typeface="Times New Roman"/>
            </a:endParaRPr>
          </a:p>
        </p:txBody>
      </p:sp>
      <p:graphicFrame>
        <p:nvGraphicFramePr>
          <p:cNvPr id="85" name=""/>
          <p:cNvGraphicFramePr/>
          <p:nvPr/>
        </p:nvGraphicFramePr>
        <p:xfrm>
          <a:off x="4460760" y="2212920"/>
          <a:ext cx="4532400" cy="3397320"/>
        </p:xfrm>
        <a:graphic>
          <a:graphicData uri="http://schemas.openxmlformats.org/presentationml/2006/ole">
            <p:oleObj r:id="rId1" spid="">
              <p:embed/>
              <p:pic>
                <p:nvPicPr>
                  <p:cNvPr id="86" name="" descr=""/>
                  <p:cNvPicPr/>
                  <p:nvPr/>
                </p:nvPicPr>
                <p:blipFill>
                  <a:blip r:embed="rId2"/>
                  <a:stretch/>
                </p:blipFill>
                <p:spPr>
                  <a:xfrm>
                    <a:off x="4460760" y="2212920"/>
                    <a:ext cx="4532400" cy="3397320"/>
                  </a:xfrm>
                  <a:prstGeom prst="rect">
                    <a:avLst/>
                  </a:prstGeom>
                  <a:ln w="0">
                    <a:noFill/>
                  </a:ln>
                </p:spPr>
              </p:pic>
            </p:oleObj>
          </a:graphicData>
        </a:graphic>
      </p:graphicFrame>
      <p:sp>
        <p:nvSpPr>
          <p:cNvPr id="87" name=""/>
          <p:cNvSpPr/>
          <p:nvPr/>
        </p:nvSpPr>
        <p:spPr>
          <a:xfrm>
            <a:off x="414360" y="5715000"/>
            <a:ext cx="83059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Sep00 - 802.16 Session #9 was notable for major progress in all Task Group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for a Working Group decision to use a single MAC across all projec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FD330F0-B4AF-494A-9127-6F5A4C683B9D}" type="slidenum">
              <a:t>12</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306440" y="3678120"/>
          <a:ext cx="6523200" cy="2711520"/>
        </p:xfrm>
        <a:graphic>
          <a:graphicData uri="http://schemas.openxmlformats.org/presentationml/2006/ole">
            <p:oleObj r:id="rId1" spid="">
              <p:embed/>
              <p:pic>
                <p:nvPicPr>
                  <p:cNvPr id="89" name="" descr=""/>
                  <p:cNvPicPr/>
                  <p:nvPr/>
                </p:nvPicPr>
                <p:blipFill>
                  <a:blip r:embed="rId2"/>
                  <a:stretch/>
                </p:blipFill>
                <p:spPr>
                  <a:xfrm>
                    <a:off x="1306440" y="3678120"/>
                    <a:ext cx="6523200" cy="2711520"/>
                  </a:xfrm>
                  <a:prstGeom prst="rect">
                    <a:avLst/>
                  </a:prstGeom>
                  <a:ln w="0">
                    <a:noFill/>
                  </a:ln>
                </p:spPr>
              </p:pic>
            </p:oleObj>
          </a:graphicData>
        </a:graphic>
      </p:graphicFrame>
      <p:graphicFrame>
        <p:nvGraphicFramePr>
          <p:cNvPr id="90" name=""/>
          <p:cNvGraphicFramePr/>
          <p:nvPr/>
        </p:nvGraphicFramePr>
        <p:xfrm>
          <a:off x="457200" y="660240"/>
          <a:ext cx="8218440" cy="2533680"/>
        </p:xfrm>
        <a:graphic>
          <a:graphicData uri="http://schemas.openxmlformats.org/presentationml/2006/ole">
            <p:oleObj r:id="rId3" spid="">
              <p:embed/>
              <p:pic>
                <p:nvPicPr>
                  <p:cNvPr id="91" name="" descr=""/>
                  <p:cNvPicPr/>
                  <p:nvPr/>
                </p:nvPicPr>
                <p:blipFill>
                  <a:blip r:embed="rId4"/>
                  <a:stretch/>
                </p:blipFill>
                <p:spPr>
                  <a:xfrm>
                    <a:off x="457200" y="660240"/>
                    <a:ext cx="8218440" cy="2533680"/>
                  </a:xfrm>
                  <a:prstGeom prst="rect">
                    <a:avLst/>
                  </a:prstGeom>
                  <a:ln w="0">
                    <a:noFill/>
                  </a:ln>
                </p:spPr>
              </p:pic>
            </p:oleObj>
          </a:graphicData>
        </a:graphic>
      </p:graphicFrame>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2629FEFA-738F-467D-8928-4EB40E914B1D}" type="slidenum">
              <a:t>13</a:t>
            </a:fld>
          </a:p>
        </p:txBody>
      </p:sp>
      <p:sp>
        <p:nvSpPr>
          <p:cNvPr id="4" name="PlaceHolder 3"/>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2</a:t>
            </a:r>
            <a:br>
              <a:rPr sz="4400"/>
            </a:br>
            <a:r>
              <a:rPr b="0" lang="en-US" sz="4400" spc="-1" strike="noStrike">
                <a:solidFill>
                  <a:srgbClr val="000000"/>
                </a:solidFill>
                <a:latin typeface="Times New Roman"/>
              </a:rPr>
              <a:t>- </a:t>
            </a:r>
            <a:r>
              <a:rPr b="0" lang="en-US" sz="4000" spc="-1" strike="noStrike">
                <a:solidFill>
                  <a:srgbClr val="000000"/>
                </a:solidFill>
                <a:latin typeface="Times New Roman"/>
              </a:rPr>
              <a:t>Stds take ~32 months to complete </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tistics show that standards take approximately 32 months to complete based on standards projects between the years 1990 and 1995.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ception is that standards developed take too long, while in reality many do no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must promote the fact that our standards are produced quickly.</a:t>
            </a:r>
            <a:endParaRPr b="0" lang="en-US" sz="2800" spc="-1" strike="noStrike">
              <a:solidFill>
                <a:srgbClr val="000000"/>
              </a:solidFill>
              <a:latin typeface="Times New Roman"/>
            </a:endParaRPr>
          </a:p>
        </p:txBody>
      </p:sp>
      <p:sp>
        <p:nvSpPr>
          <p:cNvPr id="94" name=""/>
          <p:cNvSpPr/>
          <p:nvPr/>
        </p:nvSpPr>
        <p:spPr>
          <a:xfrm>
            <a:off x="414360" y="5791320"/>
            <a:ext cx="83059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1 started Jul99; current planning for RevCom is 3Aug01 - ~24mo</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785EC94-30D3-49D1-8176-057B9A240ACD}" type="slidenum">
              <a:t>14</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3 Electronic Balloting</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ate there have been more than 30 successful electronic ballots.  The service that the balloting center provides is reliable and valid.  Invitations are still done by mail, and an email message goes to the balloting group giving the opening and closing date, the draft site, and the comment site.  Votes and comments are emailed to the WG Chai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67CBB1F-6831-44DA-A848-876A69E8BC57}" type="slidenum">
              <a:t>15</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3</a:t>
            </a:r>
            <a:br>
              <a:rPr sz="4400"/>
            </a:br>
            <a:r>
              <a:rPr b="0" lang="en-US" sz="4400" spc="-1" strike="noStrike">
                <a:solidFill>
                  <a:srgbClr val="000000"/>
                </a:solidFill>
                <a:latin typeface="Times New Roman"/>
              </a:rPr>
              <a:t>Electronic Balloting (cont.)</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nefits of e-balloting are savings of both time and money, and it is a quick and convenient process for members.  Other benefits include:</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 fields repopulat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comment uplo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ics with comment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s, instructions and link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llot summary report in pdf form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xt step is to provide the invitation to ballot electronical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2CE51DE-52E7-4A0A-A6B5-1BC1352AE8F5}" type="slidenum">
              <a:t>16</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4 -</a:t>
            </a:r>
            <a:br>
              <a:rPr sz="4400"/>
            </a:br>
            <a:r>
              <a:rPr b="0" lang="en-US" sz="4400" spc="-1" strike="noStrike">
                <a:solidFill>
                  <a:srgbClr val="000000"/>
                </a:solidFill>
                <a:latin typeface="Times New Roman"/>
              </a:rPr>
              <a:t>2000 Membership Statistic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SA Individual Membership total is </a:t>
            </a:r>
            <a:r>
              <a:rPr b="0" lang="en-US" sz="3200" spc="-1" strike="noStrike">
                <a:solidFill>
                  <a:srgbClr val="ff0000"/>
                </a:solidFill>
                <a:latin typeface="Times New Roman"/>
              </a:rPr>
              <a:t>5968</a:t>
            </a:r>
            <a:r>
              <a:rPr b="0" lang="en-US" sz="3200" spc="-1" strike="noStrike">
                <a:solidFill>
                  <a:srgbClr val="000000"/>
                </a:solidFill>
                <a:latin typeface="Times New Roman"/>
              </a:rPr>
              <a:t> as of 15 Augu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SA Members (who ballot) total </a:t>
            </a:r>
            <a:r>
              <a:rPr b="0" lang="en-US" sz="3200" spc="-1" strike="noStrike">
                <a:solidFill>
                  <a:srgbClr val="ff0000"/>
                </a:solidFill>
                <a:latin typeface="Times New Roman"/>
              </a:rPr>
              <a:t>592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Members total - </a:t>
            </a:r>
            <a:r>
              <a:rPr b="0" lang="en-US" sz="3200" spc="-1" strike="noStrike">
                <a:solidFill>
                  <a:srgbClr val="ff0000"/>
                </a:solidFill>
                <a:latin typeface="Times New Roman"/>
              </a:rPr>
              <a:t>368,22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ifornia, Region 6, has the most membership in both the IEEE and IEEE-S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1AE5715-EC0F-4C80-921C-0B6964E35C78}" type="slidenum">
              <a:t>17</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4 – Free Standards and Draft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 document exchange quite open and libe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 draft standards are currently limited due to IEEE copyright restrictions, we anticipate those restrictions ending by the end of this year due to a change of policy in which IEEE 802 standards may become available free of charge. In such a case, we expect to remove the restrictions on our drafts.</a:t>
            </a:r>
            <a:endParaRPr b="0" lang="en-US" sz="2800" spc="-1" strike="noStrike">
              <a:solidFill>
                <a:srgbClr val="000000"/>
              </a:solidFill>
              <a:latin typeface="Times New Roman"/>
            </a:endParaRPr>
          </a:p>
        </p:txBody>
      </p:sp>
      <p:sp>
        <p:nvSpPr>
          <p:cNvPr id="103" name=""/>
          <p:cNvSpPr/>
          <p:nvPr/>
        </p:nvSpPr>
        <p:spPr>
          <a:xfrm>
            <a:off x="414360" y="5791320"/>
            <a:ext cx="83059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strict 2 IEEE Std 802.15.1-[D0.6 &amp; D0.7.2] draft versions and their SDL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7ADD8C8-740B-49B2-93B7-2D175D1D56A1}" type="slidenum">
              <a:t>18</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 Liaison Reports On Web, Server &amp; Flash Card(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 -99/005r0 [99005r0P802-15_Liaison-Report.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2 -99/029r0 [99029r0P802-15_Liaison-Report-2.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3 -99/063r1 [99063r1P802-15_Liaison-Report-3.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4 -99/124r0 [99124r0P802-15_Liaison-Report-4.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5 -99/174r0 [99174r0P802-15_WG-Liaison-Report-5.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6 -00/037r1 [00037r1P802-15_WG-Liaison-Report-6.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7 -00/118r0 [00118r1P802-15_WG-Liaison-Report-7.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8 -00/182r0 [00182r0P802-15_WG-Liaison-Report-8.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9 -00/266r0 [00266r0P802-15_WG-Liaison-Report-9.pp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B5451E6-3B3B-4671-A887-E5779D12B08A}" type="slidenum">
              <a:t>19</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60" name="PlaceHolder 2"/>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aison Report #10</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vember 2000 Tampa, FL USA</a:t>
            </a:r>
            <a:endParaRPr b="0" lang="en-US" sz="3600" spc="-1" strike="noStrike">
              <a:solidFill>
                <a:srgbClr val="000000"/>
              </a:solidFill>
              <a:latin typeface="Times New Roman"/>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C73F625-093B-40DF-9465-A7E22F13B010}" type="slidenum">
              <a:t>2</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Summ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Negoti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serv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B105EB4-8063-411D-8DE7-3D20BB0CD57E}" type="slidenum">
              <a:t>3</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0873A8B-EF69-4C58-B2C2-24D08EE31B5D}" type="slidenum">
              <a:t>4</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6000"/>
          </a:bodyPr>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e Liaison List</a:t>
            </a:r>
            <a:endParaRPr b="0" lang="en-US" sz="18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pecial Interest Group (Gifford/Kardach/Truntzer)</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1 (Kraemer/Kerry)</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6 (/RogerM )</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t>
            </a:r>
            <a:endParaRPr b="0" lang="en-US" sz="1600" spc="-1" strike="noStrike">
              <a:solidFill>
                <a:srgbClr val="000000"/>
              </a:solidFill>
              <a:latin typeface="Times New Roman"/>
            </a:endParaRPr>
          </a:p>
          <a:p>
            <a:pPr lvl="2" marL="10422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s Activities, Standards Publishing Programs (Gifford/Tatiner)</a:t>
            </a:r>
            <a:endParaRPr b="0" lang="en-US" sz="1400" spc="-1" strike="noStrike">
              <a:solidFill>
                <a:srgbClr val="000000"/>
              </a:solidFill>
              <a:latin typeface="Times New Roman"/>
            </a:endParaRPr>
          </a:p>
          <a:p>
            <a:pPr lvl="2" marL="10422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tandards Dept., Balloting Center (Gifford/Kahofer)</a:t>
            </a:r>
            <a:endParaRPr b="0" lang="en-US" sz="14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2 Coexistence Letter to Academia (Shellhammer/)</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gital Imaging Group (Allen/)</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LANA (/DiCillo)</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SRC (/Kurihara)</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 BRAN (?/Khun-Jush)</a:t>
            </a:r>
            <a:endParaRPr b="0" lang="en-US" sz="1600" spc="-1" strike="noStrike">
              <a:solidFill>
                <a:srgbClr val="000000"/>
              </a:solidFill>
              <a:latin typeface="Times New Roman"/>
            </a:endParaRPr>
          </a:p>
        </p:txBody>
      </p:sp>
      <p:sp>
        <p:nvSpPr>
          <p:cNvPr id="6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active Liaison List</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 (/Lindinsky)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 (/Carls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M Forum WATM (/Delavers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RF Working Group (/Mann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Hei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DA (/McKa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WBWG (/Withingt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Forum (/Parrish)</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CA (?)</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Liaisons?</a:t>
            </a:r>
            <a:endParaRPr b="0" lang="en-US" sz="2000" spc="-1" strike="noStrike">
              <a:solidFill>
                <a:srgbClr val="000000"/>
              </a:solidFill>
              <a:latin typeface="Times New Roman"/>
            </a:endParaRPr>
          </a:p>
        </p:txBody>
      </p:sp>
      <p:sp>
        <p:nvSpPr>
          <p:cNvPr id="69" name=""/>
          <p:cNvSpPr/>
          <p:nvPr/>
        </p:nvSpPr>
        <p:spPr>
          <a:xfrm>
            <a:off x="7013520" y="5867280"/>
            <a:ext cx="1590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1: 802.15/Liais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2: ? Unknown</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18076E5F-45EE-4C2D-BF06-A2CB5EF6BF41}" type="slidenum">
              <a:t>5</a:t>
            </a:fld>
          </a:p>
        </p:txBody>
      </p:sp>
      <p:sp>
        <p:nvSpPr>
          <p:cNvPr id="7" name="PlaceHolder 6"/>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462BBE5-AFE5-42A3-ADF7-23CD314F7B33}" type="slidenum">
              <a:t>6</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n &amp; Meeting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Nov00 BSIG PM and IEE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to Bluetooth SIG</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Nov00 Follow up on Bluetooth open action item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from Bluetooth SIG</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Nov00 Follow up on BSIG-IEEE Action Item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Step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 BSIG PM during Session #9/Tamp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Dec00 BSIG Development Conferenc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MAN 802.15 Balloting Pool, promote to BSIG PM</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IGnal Editor/Publisher and Issue No. 7, 8, 9, etc., follow up</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1D7F854-86A5-4611-8A31-E6B2A7EE105F}" type="slidenum">
              <a:t>7</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A7DA2AB-3F4D-4697-8D10-FE6BD55E8C4E}" type="slidenum">
              <a:t>8</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 Report</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B6CCC7E-7C1D-4BCB-A1BE-92D77E8FEDDE}" type="slidenum">
              <a:t>9</a:t>
            </a:fld>
          </a:p>
        </p:txBody>
      </p:sp>
      <p:sp>
        <p:nvSpPr>
          <p:cNvPr id="6" name="PlaceHolder 5"/>
          <p:cNvSpPr>
            <a:spLocks noGrp="1"/>
          </p:cNvSpPr>
          <p:nvPr>
            <p:ph type="dt" idx="1"/>
          </p:nvPr>
        </p:nvSpPr>
        <p:spPr/>
        <p:txBody>
          <a:bodyPr/>
          <a:p>
            <a:r>
              <a:rPr lang="en-US"/>
              <a:t>Sept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C. Gifford</dc:creator>
  <dc:description>Ian Gifford, M/A-COM, Inc.</dc:description>
  <cp:keywords>November 2000</cp:keywords>
  <dc:language>en-US</dc:language>
  <cp:lastModifiedBy>Ian C. Gifford</cp:lastModifiedBy>
  <cp:lastPrinted>1998-02-10T13:28:06Z</cp:lastPrinted>
  <dcterms:modified xsi:type="dcterms:W3CDTF">2000-11-06T18:10:44Z</dcterms:modified>
  <cp:revision>269</cp:revision>
  <dc:subject>#10</dc:subject>
  <dc:title>Liaison Report</dc:title>
</cp:coreProperties>
</file>