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BB412-3590-4056-A48C-36442CF208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bb, John P [SMTP:John.P.Webb@intel.com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nt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iday, January 21, 2000 11:30 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ifford, Ian C.; Bluetooth SIGnal (E-mail); 'Roger Peacock'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c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ruce Kraemer (E-mail); Webb, John 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ubject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: IEEE &amp; Bluetooth SIGn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an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lad to hear you want to include an Article in The SIGnal. Roger is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ditor and can help with the below question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gard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----Original Message----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m: Gifford, Ian C. [mailto:giffordi@tycoelectronics.com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nt: Thursday, January 20, 2000 10:26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: Bluetooth SIGnal (E-mail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c: Bruce Kraemer (E-mail); John Webb (E-mail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ubject: IEEE &amp; Bluetooth SIGn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i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 appreciated the article on Wireless Personal Area Networks &amp; IEEE P802.15 in the Bluetooth SIGnal Issue no. 2, Sep99!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ow we are wondering how to write a SIGnal article as an update to this article and/or the standards-making work we are doing in the IEEE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02.15 Working Group for WPANs.  Here are some questions to start the dialog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1 Who should we contact and/or work with if we have an idea for an article that the SIGnal Readers might like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2 What are the author rul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3 The Bluetooth SIGnal Issue no. 2 Article is 383 words.  Is the typical word count that is considered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4 It appears that the next placement is for the 28 January 2000 issue of the Bluetooth SIGnal or Issue no. 4.  When is/was the deadline for the Issue no. 4?  When is no. 5 scheduled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5 Do you have themes for each of the up and coming Issu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an Giffo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iffordi@tycoelectronics.c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C11-0479-4AE0-A6F8-71D2FA90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3C5-A814-4619-B22F-C4A258EA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093-C6DF-4E90-8C40-FDFE4AE8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902-0007-4E7F-9895-E1F7515D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087-7931-4D1C-B069-CF3895DE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3D4-9E51-49D9-A73F-F815B4B6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EC1-107C-48D7-8EE4-15587815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09D-36C3-4727-BE99-C884639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EE7-C020-4F06-B9D4-D4E7E13B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69E-1561-48D9-AFC8-BAB97A7B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BA8-9EC0-48E3-8101-07887B61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5AF-20C9-4603-BFF6-EADB1EBC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E2EC14-A30A-4BD3-B691-EE7ADBCD8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5 &amp; .11 Working Grou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2000   Tampa, FL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802" descr=""/>
          <p:cNvPicPr/>
          <p:nvPr/>
        </p:nvPicPr>
        <p:blipFill>
          <a:blip r:embed="rId1"/>
          <a:stretch/>
        </p:blipFill>
        <p:spPr>
          <a:xfrm>
            <a:off x="3753000" y="733320"/>
            <a:ext cx="1581120" cy="16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E61-35F9-41C3-8037-374ED7FE8E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1400" y="669960"/>
          <a:ext cx="9061200" cy="55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669960"/>
                    <a:ext cx="906120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177-17C7-42A6-A910-19DA82782D7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838080"/>
            <a:ext cx="85489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ship requested some estimates of market size for the Standards being writ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umerous reports generated by market analysis companies but they are generally less useful than desired. Since the primary expertise in WLAN &amp; WPAN technology and market trends resides within the IEEE membership it appeared that we could materially improve the situation by offering guidance to the indus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itial action item is to review and agree upon basic market structure and terminology definitions for 802.11 WLAN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ly, initial market size projections will be collected from the attend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outputs will be refined and expanded to include WPANs over the course of the next few meet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961-7FB2-4360-855D-B9041AE071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 Items      Joint 11/15 M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 10:30-12am        Esplanad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/Pending/Prop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endar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teral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s/Press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C41-CE5C-451B-9453-FFFAE52718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11/.15 Articles sub rep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ublished/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tooth Signal:  Overview, Introduction, TG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azine publication suspended. Restart date uncert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sher and editorial approach TB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tooth World began Octo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approach on submission inter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 System Design on-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b Wireless Ethernet, 802.11a Wireless MM, 5G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ember, p61-65, Bluetooth Em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book of Microwave Communica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PAN Communication Ch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2AD-CF3C-4D10-9292-F84B7A3AEE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15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EEE 802.15 and its previous incarnations has had a web presence since Jan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ww.ieee802.org/15 Home Page is over 18 months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look and feel” was successfully changed 6 months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 vis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ieee802.org/15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lways comments are welc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11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d by Stuart Kerry and Harry Wors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 vis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ieee802.org/11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      Su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29C-1E9C-4E3B-B0AA-4FDFD73606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889280"/>
            <a:ext cx="8382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802.11 Handbook (A Designer’s Companion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trick, O'Hara (rev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: “Origin of 802.11 Standard and Updates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cted Q2, ’01, Petrick, O'H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EEE Guide: How to Find What You need in the Bluetooth Spec” November 2000, Tom Siep,   a pocket guide (~150 pg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802.15 Handbook (A Designer’s Companion)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cted Q2’02, Siep et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7440" y="85716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Pub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B8E-07C7-4BA0-985A-37DB843A253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s Kit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80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 for pre-prepared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5 WP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 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1 taking the l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 a "Press Kit Module" specific to TG1 on or before the Sep00 Inte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 a Promotional Brochure on or before the Sep00 Inte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288 in draf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486400"/>
            <a:ext cx="883944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EEE Press Kit would ideally cover the WG and/or all the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 WGs i.e., 802.11, 802.15, and 802.16, same w/ Broch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42A-D2FD-4576-BFA5-8CF983208B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PA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ess Ki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r Approach can be updated easi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: Someone wants to know what the latest information is and does not want to wade through the Web Site, Minut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The user could go to the WP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ss Kit html page and down load PowerPoint, News Releases, Minut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ss Kit – Working Group, etc. [?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 1 – Task Group 1 [responsibility - Ian Giffor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 2 – Task Group 2 [responsibility – Steve Shellhamm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 3 – Task Group 3 [responsibility – John Bar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 4 – Low Rate Stud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 0 – Study Group [responsibility - ?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45A-4DB3-475B-8B6F-9AAAE8FAFB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rences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13372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5 has maintained a calendar of events that was deemed relevant to its membership. and posted on its webs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ntents have been enhanced to include events of interest to 802.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lan is to maintain one document but make it equally accessible to both membershi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ture expansion to include 802.16 member interests will be consid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one can send suggested additions. Send them to bkraemer@intersil.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E4E-B5C3-4693-8AAC-BE5B4E9C6D9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42920" y="792000"/>
          <a:ext cx="8620200" cy="553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792000"/>
                    <a:ext cx="862020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BFE-7BB8-405C-B208-6E22A87A574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05:30:14Z</dcterms:created>
  <dc:creator>Bruce Kraemer</dc:creator>
  <dc:description>Bruce Kraemer, Intersil</dc:description>
  <dc:language>en-US</dc:language>
  <cp:lastModifiedBy>Bruce Kraemer</cp:lastModifiedBy>
  <cp:lastPrinted>1998-02-10T13:28:06Z</cp:lastPrinted>
  <dcterms:modified xsi:type="dcterms:W3CDTF">2000-11-08T21:01:28Z</dcterms:modified>
  <cp:revision>98</cp:revision>
  <dc:subject>MC WG Report</dc:subject>
  <dc:title>IEEE P802.15 Working Group for Wireless Personal Area Networks</dc:title>
</cp:coreProperties>
</file>