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83D-4767-4627-84B1-41A47E7C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AD0-370B-4ADB-A2AF-7A20BE5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702-FD61-4546-875C-BE59CC88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276-475B-4066-A0AE-346E8292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DD0-8F42-4258-8691-74550BD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EF0-D1DE-4B3C-B1A3-6A35BEA1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8C0-9152-428C-8E3D-59482B27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BE0-6157-4349-8ECB-53CBB621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9AD-C291-4DBF-AD4A-93B6405A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2ED-3C6C-467E-BD56-72896CD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61F-7FEC-4DF0-8C70-98591A2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F58-4167-4387-829F-9059904D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F66F-DD8A-4D37-A1CD-7739F88D9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11040"/>
            <a:ext cx="77724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9080"/>
            <a:ext cx="914400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9:11:15Z</dcterms:created>
  <dc:creator>Ivan Reede</dc:creator>
  <dc:description/>
  <dc:language>en-US</dc:language>
  <cp:lastModifiedBy>Ivan Reede</cp:lastModifiedBy>
  <dcterms:modified xsi:type="dcterms:W3CDTF">2000-11-05T19:24:00Z</dcterms:modified>
  <cp:revision>1</cp:revision>
  <dc:subject/>
  <dc:title>No Slide Title</dc:title>
</cp:coreProperties>
</file>