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6C2-218B-4939-A58D-A8EAB6C0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2DA-DA3E-4DC5-95FC-0B2A7802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870-EDC9-4005-899F-F6D429E6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D8D-372F-40C0-BA17-522D18BF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5BC-5D95-4067-8820-330ACFD9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EEC-00A1-4F62-9D30-8F64CE2A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DB0-21B4-4BC8-9546-24A3A734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FA9-65A7-4283-B075-3AE08B38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2BD-1867-4E8C-BB7D-F6FEDBB0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FCB-0649-4B98-94B0-0078CD5B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BDD-2011-477A-8686-E6B2AE5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2CE-B965-446C-99E4-745816D1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21207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6B21011-6872-4DC4-8901-6C7F7D888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210r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98480"/>
            <a:ext cx="883908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Supergold Encoding for High Rate WPAN Physical Layer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19 September 2000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T O’Farrell &amp; L.E. Aguado] Company [Supergold Communication Ltd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[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-3 Sandyford Village, Sandyford, Dublin 18, Ire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:[ +44 113 2332052 ], FAX: [ +44 113 2332032 ], E-Mail:[ tim.ofarrell@supergold.com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Physical layer modulation proposal for the IEEE P802.15.3 High Rate Wireless Personal Area Networks Standar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 0021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This contribution presents a coded modulation proposal for the physical layer part of the High Rate WPAN standard. This scheme is evaluated based on the Pugh criteria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Proposal for PHY part of IEEE P802.15.3 standard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290-C000-4BB1-8648-C31C5861AA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spectralMask" descr=""/>
          <p:cNvPicPr/>
          <p:nvPr/>
        </p:nvPicPr>
        <p:blipFill>
          <a:blip r:embed="rId1"/>
          <a:stretch/>
        </p:blipFill>
        <p:spPr>
          <a:xfrm>
            <a:off x="1112760" y="1233360"/>
            <a:ext cx="6862680" cy="5148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25680" y="950760"/>
            <a:ext cx="63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acteristic of pulse shape digital raised-cosin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0AA-CBA7-4E6E-A9E6-7CCD11CF248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3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1. Unit Manufactur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ilar to 802.15.1 equivalent UMC at 2H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architecture to IEEE 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simpler baseband processing than 802.11b (30K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power PA (0 dBm Tx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red RF architecture for 802.15.1 and 802.15.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hip RF / BB implementation + 5 extern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F83-0409-4719-B290-01B4C862A2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3200" y="69840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82120" y="1298160"/>
            <a:ext cx="806796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 Signal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dB loss of required sensitivit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MAI) = -6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CW) = -7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acent+1 channel power attenuation &gt; 50 dBc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-band interference protection &gt; 4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-of-band attenuation &gt; 8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ies with 802.15.1 out-of-band 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1D7-E14A-493F-B322-E0A957FC78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11440" y="1646280"/>
            <a:ext cx="6000480" cy="4505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7360" y="6149880"/>
            <a:ext cx="78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performance in the presence of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FF1-3545-4A60-85D8-03207412F4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35040" y="159840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3. Intermodulation Res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3 Specification of RF Front-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9400" y="3314880"/>
            <a:ext cx="571680" cy="571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72480" y="3314880"/>
            <a:ext cx="571320" cy="5713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3588120" y="3237480"/>
            <a:ext cx="836640" cy="7239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92880" y="3422520"/>
            <a:ext cx="355320" cy="355680"/>
          </a:xfrm>
          <a:prstGeom prst="flowChartSummingJunction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9" idx="3"/>
            <a:endCxn id="221" idx="3"/>
          </p:cNvCxnSpPr>
          <p:nvPr/>
        </p:nvCxnSpPr>
        <p:spPr>
          <a:xfrm flipV="1">
            <a:off x="2521080" y="3598560"/>
            <a:ext cx="11246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21" idx="0"/>
            <a:endCxn id="222" idx="2"/>
          </p:cNvCxnSpPr>
          <p:nvPr/>
        </p:nvCxnSpPr>
        <p:spPr>
          <a:xfrm>
            <a:off x="4368960" y="3598920"/>
            <a:ext cx="11246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2" idx="6"/>
            <a:endCxn id="220" idx="1"/>
          </p:cNvCxnSpPr>
          <p:nvPr/>
        </p:nvCxnSpPr>
        <p:spPr>
          <a:xfrm>
            <a:off x="5847840" y="3600000"/>
            <a:ext cx="1125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 flipH="1">
            <a:off x="1359000" y="35942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543800" y="35942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05560" y="267192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83800" y="2671920"/>
            <a:ext cx="55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20560" y="2671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3920" y="4354560"/>
            <a:ext cx="67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ain (dB)             -2                                 +15                                  +10                             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3  (dBm)            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                         -4                                     +5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1320" y="5400720"/>
            <a:ext cx="46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3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erred to the input = -9 d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AB2-0EE7-402B-8404-66039B3BBC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85800"/>
            <a:ext cx="7772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5040" y="1166760"/>
            <a:ext cx="77724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3. Intermodulation Resi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odulating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0400" y="5575320"/>
            <a:ext cx="71499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ceiver can tolerate intermodulating signals of up to -34dBm whilst retaining a BER=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ith 3 dB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oss. Input IP2 = +16.6 dB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41480" y="3835440"/>
            <a:ext cx="699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714680" y="3110760"/>
            <a:ext cx="520560" cy="723960"/>
          </a:xfrm>
          <a:custGeom>
            <a:avLst/>
            <a:gdLst>
              <a:gd name="textAreaLeft" fmla="*/ 114480 w 520560"/>
              <a:gd name="textAreaRight" fmla="*/ 406080 w 520560"/>
              <a:gd name="textAreaTop" fmla="*/ 159120 h 723960"/>
              <a:gd name="textAreaBottom" fmla="*/ 56484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59320" y="2488680"/>
            <a:ext cx="0" cy="146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718320" y="3580920"/>
            <a:ext cx="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146560" y="2501640"/>
            <a:ext cx="0" cy="146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981080" y="3580920"/>
            <a:ext cx="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33040" y="4014720"/>
            <a:ext cx="52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69520" y="4014720"/>
            <a:ext cx="52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44520" y="4014720"/>
            <a:ext cx="52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0640" y="401472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3640" y="2754360"/>
            <a:ext cx="87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+ 3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2480" y="2021040"/>
            <a:ext cx="13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34 d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70600" y="39196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q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91720" y="4416480"/>
            <a:ext cx="720792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sitivity S = -75 dB, C/I = 10 dB, Corr = 10log(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/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1) = 0 dB, IP3 = -9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3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T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-85.8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 = [2.IP3 +(S - C/I +Corr)]/3 = -34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D63-394F-4BE7-A3B3-77D8C19E6B9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20560" y="1288800"/>
            <a:ext cx="8377200" cy="49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4. Jamming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rowave oven inter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ference bandwidth = 2450 to 2460 MHz. CCA would detect jammer and select clear channel. Two free channel are available from 3 non-over-lapping channels while three free channels are available from 4 overlapping channe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-3. 802.15.1 pic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1 randomly hops over 78 1MHz-bands. 802.15.3 is jammed by hops into 15.625 MHz jamming sensitive area; jamming pro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15.625 / 78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0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5.3 transmitting MPG2-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VD bit stream takes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30% of channel throughput. If 2 un-coordinated WPANs share the 1 channel with CCA-deferred access then &gt;50% throughput exp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rwise 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on a disjoint frequency band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jam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 802.11b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B0B-1713-4C54-849C-E1B7933AC6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26680" y="17352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5. Multip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1.53 Mbit/s bit rat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roughput in [15, 20] Mbit/s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rdinated time-multiplexing used for multiple access to shared cha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nstraint when multiplexing an MPEG2 stream (4.5 Mbit/s) with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12-byte asynchronous packets (max. 273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1: three MPEG2 streams (at 4.5Mbit/s) share the total throughput (min.) 15 Mbit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2 and 3: one MPEG2 stream takes 4.5 Mbit/s whilst the asynchronous services share the remaining throughput in a time-multiplexing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BB5-9CC4-483A-B3E8-99FA148172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2320" y="1217520"/>
            <a:ext cx="84582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5.1 piconet scen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1 &amp; IC2: x = 7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3:           x = 9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4 &amp; IC5: x = 4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70600" y="2284560"/>
            <a:ext cx="8004960" cy="1852920"/>
            <a:chOff x="570600" y="2284560"/>
            <a:chExt cx="8004960" cy="1852920"/>
          </a:xfrm>
        </p:grpSpPr>
        <p:sp>
          <p:nvSpPr>
            <p:cNvPr id="257" name=""/>
            <p:cNvSpPr/>
            <p:nvPr/>
          </p:nvSpPr>
          <p:spPr>
            <a:xfrm>
              <a:off x="1962000" y="259992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59480" y="259992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69160" y="2598480"/>
              <a:ext cx="0" cy="116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32440" y="3460320"/>
              <a:ext cx="101880" cy="104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55840" y="3452400"/>
              <a:ext cx="101880" cy="104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91080" y="2798640"/>
              <a:ext cx="103320" cy="102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01880" y="2798640"/>
              <a:ext cx="101520" cy="102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66640" y="26697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98720" y="26683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09840" y="33350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91800" y="33350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3480" y="3830400"/>
              <a:ext cx="55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05120" y="382860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25560" y="3830400"/>
              <a:ext cx="46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34920" y="228456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hysical 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0600" y="2668320"/>
              <a:ext cx="8085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0600" y="3335040"/>
              <a:ext cx="808560" cy="307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69080" y="2860560"/>
              <a:ext cx="0" cy="66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75920" y="2993760"/>
              <a:ext cx="7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&lt; 0.5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06600" y="259992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55880" y="369072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16320" y="369072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76760" y="3690720"/>
              <a:ext cx="219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03E-7294-4C7B-9B0A-AE5CDF08CC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09480" y="1663560"/>
            <a:ext cx="78580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802.15.1 Devices Tx at 1 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1 will interfere with B1 but not B2 while A2 will interfere with B1 and B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1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 dBm; Pahtloss(A1-B1) ~ 50 dB; Rx Pwr at B1 due to A1 ~ -50 dBm in 15.625 MHz channel bandwidth; i.e. a power density of -61.5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interferes with B1 in the same manner as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2 Tx Pwr = 0 dBm; Pathloss(B2-B1) ~ 60dB;  Rx Pwr at B1 due to B2 ~ -6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 ~ -60 - (-50 +3) ~ -13 dB 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1 jams when signals col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2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 dBm; Pahtloss(A1-B2) ~ 62.4 dB; Rx Pwr at B2 due to A1 ~ -62.4 dBm in 15.625 MHz channel bandwidth; i.e. a power density of -74.3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Tx Pwr = 0 dBm; Pahtloss(A2-B2) ~ 57 dB; Rx Pwr at B2 due to A2 ~ -57 dBm in 15.625 MHz channel bandwidth; i.e. a power density of -69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1 Tx Pwr = 0 dBm; Pathloss(B1-B2) ~ 60dB;  Rx Pwr at B2 due to B1 ~ -6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 ~ -60 - 10log(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6.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7.4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~ 7.9 dB 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2 jams when signals col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2680" y="1217520"/>
            <a:ext cx="8458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 c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FC1-FC94-43FF-AE08-A5D59CE85F4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gol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0200" y="13219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 Communication is a campus start up company that specialises in solutions for wireless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 Coded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/Cod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efficiently exploiting the distance properties of sequences/codes, Supergold’s solutions balance the trade-off between bandwidth efficiency, BER performance and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’s solutions can be beneficially appli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reless 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ular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4BA-EA12-45DC-AD08-E71185EA71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480" y="1663560"/>
            <a:ext cx="78580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802.15.1 Devices Tx at 100 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ither A1 nor A2 will not interfere with either B1 or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1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 dBm; Pahtloss(A1-B1) ~ 50 dB; Rx Pwr at B1 due to A1 ~ -50 dBm in 15.625 MHz channel bandwidth; i.e. a power density of -61.5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interferes with B1 in the same manner as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2 Tx Pwr = 20 dBm; Pathloss(B2-B1) ~ 60dB;  Rx Pwr at B1 due to B2 ~ -4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 ~ -40 - (-61.5 +3) ~ 18.5 dB 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1 does not jam when signals col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2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 dBm; Pahtloss(A1-B2) ~ 62.4 dB; Rx Pwr at B2 due to A1 ~ -62.4 dBm in 15.625 MHz channel bandwidth; i.e. a power density of -74.3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Tx Pwr = 0 dBm; Pahtloss(A2-B2) ~ 57 dB; Rx Pwr at B2 due to A2 ~ -57 dBm in 15.625 MHz channel bandwidth; i.e. a power density of -69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1 Tx Pwr = 20 dBm; Pathloss(B1-B2) ~ 60dB;  Rx Pwr at B2 due to B1 ~ -4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 ~ -40 - 10log(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6.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7.4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~ 27.9 dB 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B2 does not jam when signals col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2680" y="1217520"/>
            <a:ext cx="8458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 c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32D-669E-4EFC-962C-903C0F92F23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8240" y="1225080"/>
            <a:ext cx="774036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1 &amp; IC2 - 802.15.1 network at 0 dBm Tx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bability of 802.15.1 hopping into 802.15.3  15.625 MHz channel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(interf.) = 15.625 / 78 = 20%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802.15.1 throughput over 8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1 &amp; IC2 - 802.15.1 network at 20 dBm Tx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 neither device is jammed the throughput is always 10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3 &amp; IC5 - 802.11b net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erent channels would be selected for each network via C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4 - 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3 and 802.11a use different frequency bands and would be able to co-exist without interfering with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2A4-E27B-4501-A177-BAFB5CD8F6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49160" y="1523880"/>
            <a:ext cx="770904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3.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802.15.3 WPAN implements a dual mode radio with shared RF blocks for interoperability with 802.15.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shared components include band filter, LNA, RF mixer and synthesiser, IF amplifier, IF mixer and synthesiser, anti-aliasing filters, ADCs and baseband processing un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x shared components include band filter, PA, RF mixer and Synthesiser, image rejection filter, IF mixer and synthesiser, smoothing filters, DACs and baseband processing un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dicated IF channel filter matched to the 802.25.1 channel bandwidth is required in addition to the 802.11.3 IF channel fil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85800"/>
            <a:ext cx="7772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67B-CC59-4627-BCCF-FE84FF650BC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30080" y="14889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4. Technical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1. Manufactur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architecture utilises pre-existing 802.11b and 802.15.1 techn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functionality similar to existing solutions such as MBOK and C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. Time to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-existence of technology will ensure short develop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PHY part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earlier than 1Q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324-4F87-4CD7-B07E-E61F90EF8F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73200" y="1542600"/>
            <a:ext cx="777240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3. Regulatory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posed scheme is compliant with regulatory standards FCC(25.249), ETSI 300-328 and ARIB STD-T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4. Maturity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ystem utilises existing 802.11b and 802.15.1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lying modulation is constant amplitude Q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less complicated than C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scheme tested in a general purpose hardwar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D71-E330-4A89-92A6-60A449116C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60240" y="6616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35040" y="1260000"/>
            <a:ext cx="7772400" cy="49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1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can be changed with impact on either range or throughput (through change in coding ra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2. 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level can be adjusted to fit power and channe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3. Frequency Band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odulation scheme can be applied at both 2.4 GHz and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4.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ging the level of coding or power would not significantly affect the uni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5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lisation can be introduced into the scheme inorder to enhance resistance to time dispersive channels with large delay sp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A9E-E9A4-4157-B61B-21FE17920B8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0200" y="172080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1. Size and Form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RF / BB parts integrated in one PHY c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ve external components: crystal oscillator, band filter, 802.15.1 IF filter, 802.15.3 SAW IF filter, Tx image rejection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chip for dual mode 802.15.1 / 802.15.3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MO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ze smaller than a Compact Flash Type 1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779-5C13-49B0-8F81-942D6D5A97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317600"/>
            <a:ext cx="7962840" cy="50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1. Minimum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ed data rate = 2 x 12.5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x (7/8) x (125/127) = 21.531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 overhead due to coding = 1 - (7/8 x 125/127) = 13.8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MAC/PHY throughput is met for services that use a MAC overhead of less than or equal to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2. High End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throughput level is o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791-431E-4785-88A1-12F5CC5931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1317600"/>
            <a:ext cx="79628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 MAC/PHY Throughput c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CP Packe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21000" y="3451320"/>
            <a:ext cx="3791160" cy="495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3454560"/>
            <a:ext cx="1955520" cy="495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*64 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89040" y="3451320"/>
            <a:ext cx="828720" cy="49536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12160" y="3451320"/>
            <a:ext cx="1511280" cy="4953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S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57920" y="290664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CP 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85760" y="29066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CP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120" y="250200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21000" y="2908440"/>
            <a:ext cx="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2160" y="2908440"/>
            <a:ext cx="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14600" y="3044880"/>
            <a:ext cx="806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5000" y="3044880"/>
            <a:ext cx="139392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45760" y="304308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3320640" y="3040200"/>
            <a:ext cx="135252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21000" y="3448080"/>
            <a:ext cx="933480" cy="4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59160" y="3448080"/>
            <a:ext cx="952560" cy="4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03800" y="3448080"/>
            <a:ext cx="952560" cy="4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59600" y="3448080"/>
            <a:ext cx="952560" cy="4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23440" y="251460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6120" y="260352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84840" y="23479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P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464000"/>
            <a:ext cx="1955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9960" y="4125960"/>
            <a:ext cx="439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82920" y="4464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17760" y="4464000"/>
            <a:ext cx="3807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71560" y="4125960"/>
            <a:ext cx="439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03640" y="4125960"/>
            <a:ext cx="439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52560" y="4608360"/>
            <a:ext cx="113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*12.5 Mchip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5600" y="460836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.531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47680" y="460836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.531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55600" y="5219640"/>
            <a:ext cx="684540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128/25000000 = 5.12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16/21531000   = 0.74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48/215310000 = 2.23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6CB-09A6-4CA5-ABE5-DAFBD21DEBA1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1317600"/>
            <a:ext cx="79628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 MAC/PHY Throughput c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CP Packet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0280" y="2768760"/>
            <a:ext cx="71625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CP Preamble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5.12 + 0.7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 5.86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CP Header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 2.23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IFSTIME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10.00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lotTIME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0.00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5CA-D16C-47B7-90E7-8E074E04DEE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Coded Modulation for High Rate WPAN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6960" y="1700280"/>
            <a:ext cx="7937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-ary symbol modulation using QPSK chip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ar constant amplitu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dB PA back-off and 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bust in multipath fading up to 30 ns rms 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-error-correcting concatenated RS(127,125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S code matched to M-ary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simple Berlekamp-Massey hard-decision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rate code (0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3 dB coding gain over QPSK  @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ctral efficiency: 21.53 Mbit/s data rate in 22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C10-8D9C-4225-B233-8EB8F0FB98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25440"/>
            <a:ext cx="7975440" cy="51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3. Frequency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posal is aimed at the 2.4 GHz ISM band, but is also applicable to the 5GHz ISM 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Number of Simultaneously Operating Full Throughput P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EEE 802.11b channelisation is adopted which provides for 14 overlapping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non-overlapping channels, up to 3 co-located networks can share the 2.4 GHz ISM band without co-channel interference,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on-overlapping 25 MHz channels 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412, 2437, 2462 MH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overlapping channels, up to 4 co-located networks can share the 2.4 GHz ISM band without significant co-channel interference,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overlapping 20 MHz channels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412, 2432, 2452, 2472M H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5 co-located networks could share the 5 GHz ISM band with no co-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2BC-81B4-47C3-A654-970A48C70E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06480" y="231948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248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9360" y="1217520"/>
            <a:ext cx="84582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C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892160" y="1828800"/>
            <a:ext cx="1078200" cy="50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92160" y="2374920"/>
            <a:ext cx="4094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24520" y="2333520"/>
            <a:ext cx="85680" cy="87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24280" y="1785960"/>
            <a:ext cx="8568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03280" y="2214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88720" y="162252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02280" y="2214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39840" y="1758960"/>
            <a:ext cx="4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26360" y="234324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55320" y="182736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18120" y="16225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1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0560" y="22147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3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9240" y="3378240"/>
            <a:ext cx="78580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dBm; Pahtloss(A1-A2) ~60 dB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athloss(B1-A2) ~ 40 dB and Pathloss(B2-A2) ~ 40 dB (avoids IM3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or 20 MHz channel separation the adjacent channel interference (ACI) produced by the filtered signals at 1 m is 3+ACI(0m) - pathloss(1m)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3 - 89 - 40 = -126 dB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s the receiver sensitivity is -75 dBm, then the C/I margin is at least 50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Hence there is no significant impact on throughput due to ACI nor associated IM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351840" y="22147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3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9360" y="5257800"/>
            <a:ext cx="76834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6.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0 dBm Tx. Power, range &gt; 10 m (for link budget presen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79560" y="2425680"/>
            <a:ext cx="1077840" cy="50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911320" y="2878200"/>
            <a:ext cx="86040" cy="87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9480" y="27147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90600" y="2698920"/>
            <a:ext cx="4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69240" y="271476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.452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F91-C097-4722-B1C7-867ADF95A041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606680" y="1560600"/>
            <a:ext cx="5676840" cy="46004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7080" y="6126120"/>
            <a:ext cx="769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F20-709A-4294-8254-671CD77453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555920" y="1568520"/>
            <a:ext cx="5676840" cy="46101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C7B-BD47-47FF-8659-3A5304F002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627200" y="1552680"/>
            <a:ext cx="5686560" cy="4667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BE5-2AF3-42C7-A142-73F9165935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492200" y="1484280"/>
            <a:ext cx="5965920" cy="4448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9160" y="6220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55480" y="1166400"/>
            <a:ext cx="80805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46000" y="5975280"/>
            <a:ext cx="769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 Performance in the multipath channel for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25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ABA-B442-4C81-B881-FAED92B367E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49160" y="9536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8600" y="1903320"/>
            <a:ext cx="8051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met for T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5 ns with no eq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lay spread of 30ns is tolerated for more than 90% of the channels  with FER &lt; 1% at E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7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qualis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7A1-3BCE-4AD5-98ED-E91CEB7421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73200" y="15429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9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dBm transmitte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PSK: near constant amplitude and 3 dB RFPA back-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baseband processor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w complexity fast transform correlation detection and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equal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0k BB processing gate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dicated ASIC using 0.18 u CMO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 peak power consumption is 330 m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luding M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201-0AC0-461C-AFBE-68568586BD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800280" y="1282680"/>
            <a:ext cx="37335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 (33% eff, 3dB back-of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up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p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oothing Filter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C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B Processing (ASIC)      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 2dB band filter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Tot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2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0120" y="755640"/>
            <a:ext cx="71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9. Power Consumption Budget in mW for 0.18 u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86480" y="1282680"/>
            <a:ext cx="37335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N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down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down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-aliasing Filter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 (RSSI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B Processing (ASI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x Tot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FD0-6F40-466E-9D2D-F7292221A313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63480" y="1461960"/>
          <a:ext cx="7791480" cy="56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461960"/>
                    <a:ext cx="7791480" cy="56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62C-60EB-4847-B45C-49D6A5D17E0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erties of the sequence coded modul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642680"/>
            <a:ext cx="74120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re-exist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asibl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802.15.1 / 802.15.3 using common R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 in the 2.4 GHz ISM band with 802.11 channe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s a 12.5 Mchip/s chipp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for 802.11b - 802.15.1 and 802.15.3 co-ex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operate in 5 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low baseb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Clear Channel Assessment (CCA) as in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D29-005E-4E37-BFDE-F7F232EEA9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822240" y="1270080"/>
          <a:ext cx="772164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270080"/>
                    <a:ext cx="772164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542-A8D6-45D5-B388-D2D89C7A76D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828720" y="1346040"/>
          <a:ext cx="758664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346040"/>
                    <a:ext cx="75866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FC6-A8BC-45CB-A491-E5FEEA5E1BA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93800" y="1662120"/>
          <a:ext cx="8066160" cy="56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662120"/>
                    <a:ext cx="806616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74C-984C-4A8C-A82A-DA80BDBE639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3870000"/>
            <a:ext cx="7786440" cy="23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based on: IEEE 802.15-00/050r1, Rick Robert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igure: 15 dB (inexpensive imple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Bandwidth: 15.625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loor: -174+10*log(15.625*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15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87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Loss Margin: 6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enna Gain: 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2160" y="1373040"/>
            <a:ext cx="4816440" cy="25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21C-7C2D-4332-9929-87FDA69ACA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6880" y="138240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Delay: 2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Refflection Coefficient: -6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d Direct Ray Range: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Equation (dB): L = 32.5+20log(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et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20log(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GH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2.4 GHz, assuming the direct ray is blocked, the loss of the reflected ray path (17.4 m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 = 32.5+24.8+7.6+6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71dB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6 dB reflection coeffici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ing antenna gain and implementa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 Loss Budget: L + 2x0 + 6 = 77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 is -7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Bm for an operating SNR of 10 dB a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Power: Noise Floor + SNR + Loss = -87 dBm + 10 dB + 77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x Pow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F6A-EEA6-4C55-A445-831396F5EB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67160" y="5854680"/>
            <a:ext cx="41655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HY Functional 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577440" y="698400"/>
            <a:ext cx="165240" cy="39384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760" y="1219320"/>
            <a:ext cx="571320" cy="571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79560" y="5803920"/>
            <a:ext cx="571680" cy="571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0080" y="1282680"/>
            <a:ext cx="571680" cy="571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660240"/>
            <a:ext cx="571680" cy="571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14440" y="2946240"/>
            <a:ext cx="317520" cy="279360"/>
            <a:chOff x="514440" y="2946240"/>
            <a:chExt cx="317520" cy="279360"/>
          </a:xfrm>
        </p:grpSpPr>
        <p:sp>
          <p:nvSpPr>
            <p:cNvPr id="64" name=""/>
            <p:cNvSpPr/>
            <p:nvPr/>
          </p:nvSpPr>
          <p:spPr>
            <a:xfrm>
              <a:off x="514440" y="3149640"/>
              <a:ext cx="76320" cy="75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8920" y="2946240"/>
              <a:ext cx="75960" cy="76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5640" y="3149640"/>
              <a:ext cx="76320" cy="75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rot="5400000">
            <a:off x="1259640" y="2831400"/>
            <a:ext cx="836640" cy="7236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457880" y="2831040"/>
            <a:ext cx="836640" cy="7239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823680" y="4519440"/>
            <a:ext cx="866880" cy="7491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8360" y="3835440"/>
            <a:ext cx="965160" cy="342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thes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057560" y="2793960"/>
            <a:ext cx="304560" cy="279360"/>
            <a:chOff x="4057560" y="2793960"/>
            <a:chExt cx="304560" cy="279360"/>
          </a:xfrm>
        </p:grpSpPr>
        <p:sp>
          <p:nvSpPr>
            <p:cNvPr id="72" name=""/>
            <p:cNvSpPr/>
            <p:nvPr/>
          </p:nvSpPr>
          <p:spPr>
            <a:xfrm flipV="1">
              <a:off x="4057560" y="2793960"/>
              <a:ext cx="7596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184280" y="2997000"/>
              <a:ext cx="7632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86160" y="2793960"/>
              <a:ext cx="7596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6880" y="3016080"/>
            <a:ext cx="355680" cy="355680"/>
          </a:xfrm>
          <a:prstGeom prst="flowChartSummingJunction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716360"/>
            <a:ext cx="355680" cy="355680"/>
          </a:xfrm>
          <a:prstGeom prst="flowChartSummingJunction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46560" y="4791240"/>
            <a:ext cx="203400" cy="203040"/>
          </a:xfrm>
          <a:prstGeom prst="flowChartOr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72320" y="4422600"/>
            <a:ext cx="253800" cy="254160"/>
          </a:xfrm>
          <a:prstGeom prst="flowChartSummingJunction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72320" y="5108400"/>
            <a:ext cx="253800" cy="254160"/>
          </a:xfrm>
          <a:prstGeom prst="flowChartSummingJunction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8" idx="2"/>
            <a:endCxn id="77" idx="0"/>
          </p:cNvCxnSpPr>
          <p:nvPr/>
        </p:nvCxnSpPr>
        <p:spPr>
          <a:xfrm flipV="1" rot="10800000">
            <a:off x="5247720" y="4548600"/>
            <a:ext cx="624600" cy="2422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9" idx="2"/>
            <a:endCxn id="77" idx="4"/>
          </p:cNvCxnSpPr>
          <p:nvPr/>
        </p:nvCxnSpPr>
        <p:spPr>
          <a:xfrm rot="10800000">
            <a:off x="5247720" y="4993560"/>
            <a:ext cx="624600" cy="2419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82" name=""/>
          <p:cNvGrpSpPr/>
          <p:nvPr/>
        </p:nvGrpSpPr>
        <p:grpSpPr>
          <a:xfrm>
            <a:off x="5278320" y="2714760"/>
            <a:ext cx="860400" cy="939600"/>
            <a:chOff x="5278320" y="2714760"/>
            <a:chExt cx="860400" cy="939600"/>
          </a:xfrm>
        </p:grpSpPr>
        <p:sp>
          <p:nvSpPr>
            <p:cNvPr id="83" name=""/>
            <p:cNvSpPr/>
            <p:nvPr/>
          </p:nvSpPr>
          <p:spPr>
            <a:xfrm>
              <a:off x="5884920" y="2714760"/>
              <a:ext cx="253800" cy="253800"/>
            </a:xfrm>
            <a:prstGeom prst="flowChartSummingJunction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84920" y="3400560"/>
              <a:ext cx="253800" cy="253800"/>
            </a:xfrm>
            <a:prstGeom prst="flowChartSummingJunction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4" idx="2"/>
              <a:endCxn id="83" idx="2"/>
            </p:cNvCxnSpPr>
            <p:nvPr/>
          </p:nvCxnSpPr>
          <p:spPr>
            <a:xfrm flipH="1" rot="10800000">
              <a:off x="5884560" y="2840760"/>
              <a:ext cx="2160" cy="686520"/>
            </a:xfrm>
            <a:prstGeom prst="bentConnector3">
              <a:avLst>
                <a:gd name="adj1" fmla="val -33700000"/>
              </a:avLst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86" name=""/>
          <p:cNvSpPr/>
          <p:nvPr/>
        </p:nvSpPr>
        <p:spPr>
          <a:xfrm>
            <a:off x="5235480" y="3193920"/>
            <a:ext cx="1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32040" y="3835440"/>
            <a:ext cx="965520" cy="342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thes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5" idx="4"/>
            <a:endCxn id="76" idx="0"/>
          </p:cNvCxnSpPr>
          <p:nvPr/>
        </p:nvCxnSpPr>
        <p:spPr>
          <a:xfrm>
            <a:off x="2844360" y="3371400"/>
            <a:ext cx="1080" cy="134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sm" type="arrow" w="sm"/>
          </a:ln>
        </p:spPr>
      </p:cxnSp>
      <p:cxnSp>
        <p:nvCxnSpPr>
          <p:cNvPr id="89" name=""/>
          <p:cNvCxnSpPr>
            <a:stCxn id="70" idx="3"/>
          </p:cNvCxnSpPr>
          <p:nvPr/>
        </p:nvCxnSpPr>
        <p:spPr>
          <a:xfrm flipV="1">
            <a:off x="2603520" y="3999960"/>
            <a:ext cx="241920" cy="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67" idx="0"/>
            <a:endCxn id="75" idx="2"/>
          </p:cNvCxnSpPr>
          <p:nvPr/>
        </p:nvCxnSpPr>
        <p:spPr>
          <a:xfrm>
            <a:off x="2039760" y="3192480"/>
            <a:ext cx="627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5" idx="6"/>
            <a:endCxn id="62" idx="1"/>
          </p:cNvCxnSpPr>
          <p:nvPr/>
        </p:nvCxnSpPr>
        <p:spPr>
          <a:xfrm flipV="1">
            <a:off x="3022560" y="945720"/>
            <a:ext cx="317880" cy="22485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61" idx="1"/>
          </p:cNvCxnSpPr>
          <p:nvPr/>
        </p:nvCxnSpPr>
        <p:spPr>
          <a:xfrm flipH="1" flipV="1">
            <a:off x="3174120" y="1561680"/>
            <a:ext cx="16596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61" idx="3"/>
            <a:endCxn id="72" idx="5"/>
          </p:cNvCxnSpPr>
          <p:nvPr/>
        </p:nvCxnSpPr>
        <p:spPr>
          <a:xfrm>
            <a:off x="3911760" y="1568160"/>
            <a:ext cx="210240" cy="12369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62" idx="3"/>
            <a:endCxn id="74" idx="4"/>
          </p:cNvCxnSpPr>
          <p:nvPr/>
        </p:nvCxnSpPr>
        <p:spPr>
          <a:xfrm>
            <a:off x="3911760" y="945720"/>
            <a:ext cx="411840" cy="18486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73" idx="0"/>
            <a:endCxn id="68" idx="3"/>
          </p:cNvCxnSpPr>
          <p:nvPr/>
        </p:nvCxnSpPr>
        <p:spPr>
          <a:xfrm flipH="1" rot="16200000">
            <a:off x="4308120" y="2985480"/>
            <a:ext cx="119880" cy="294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H="1" flipV="1">
            <a:off x="4124160" y="2804760"/>
            <a:ext cx="1080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58" idx="0"/>
            <a:endCxn id="59" idx="0"/>
          </p:cNvCxnSpPr>
          <p:nvPr/>
        </p:nvCxnSpPr>
        <p:spPr>
          <a:xfrm>
            <a:off x="659880" y="1090440"/>
            <a:ext cx="1080" cy="12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59" idx="2"/>
            <a:endCxn id="65" idx="0"/>
          </p:cNvCxnSpPr>
          <p:nvPr/>
        </p:nvCxnSpPr>
        <p:spPr>
          <a:xfrm>
            <a:off x="660240" y="1790640"/>
            <a:ext cx="7200" cy="1156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66" idx="6"/>
            <a:endCxn id="67" idx="3"/>
          </p:cNvCxnSpPr>
          <p:nvPr/>
        </p:nvCxnSpPr>
        <p:spPr>
          <a:xfrm>
            <a:off x="831600" y="3187440"/>
            <a:ext cx="484920" cy="540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64" idx="4"/>
            <a:endCxn id="69" idx="0"/>
          </p:cNvCxnSpPr>
          <p:nvPr/>
        </p:nvCxnSpPr>
        <p:spPr>
          <a:xfrm flipH="1" rot="16200000">
            <a:off x="-116640" y="3894840"/>
            <a:ext cx="1667520" cy="3290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60" idx="1"/>
            <a:endCxn id="69" idx="3"/>
          </p:cNvCxnSpPr>
          <p:nvPr/>
        </p:nvCxnSpPr>
        <p:spPr>
          <a:xfrm rot="10800000">
            <a:off x="1629720" y="4892040"/>
            <a:ext cx="249840" cy="1197360"/>
          </a:xfrm>
          <a:prstGeom prst="bentConnector3">
            <a:avLst>
              <a:gd name="adj1" fmla="val 4963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77" idx="2"/>
            <a:endCxn id="76" idx="6"/>
          </p:cNvCxnSpPr>
          <p:nvPr/>
        </p:nvCxnSpPr>
        <p:spPr>
          <a:xfrm flipH="1">
            <a:off x="3022200" y="4892760"/>
            <a:ext cx="21247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 flipH="1">
            <a:off x="590040" y="3025800"/>
            <a:ext cx="795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76" idx="2"/>
            <a:endCxn id="60" idx="3"/>
          </p:cNvCxnSpPr>
          <p:nvPr/>
        </p:nvCxnSpPr>
        <p:spPr>
          <a:xfrm flipV="1" rot="10800000">
            <a:off x="2450520" y="4893120"/>
            <a:ext cx="216360" cy="1196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295960" y="3879720"/>
            <a:ext cx="622080" cy="254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/  9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>
            <a:off x="4597560" y="4006440"/>
            <a:ext cx="699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448240" y="2965320"/>
            <a:ext cx="568440" cy="914400"/>
          </a:xfrm>
          <a:custGeom>
            <a:avLst/>
            <a:gdLst/>
            <a:ahLst/>
            <a:rect l="l" t="t" r="r" b="b"/>
            <a:pathLst>
              <a:path w="358" h="576">
                <a:moveTo>
                  <a:pt x="0" y="576"/>
                </a:moveTo>
                <a:lnTo>
                  <a:pt x="0" y="110"/>
                </a:lnTo>
                <a:lnTo>
                  <a:pt x="358" y="110"/>
                </a:lnTo>
                <a:lnTo>
                  <a:pt x="35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30840" y="3286080"/>
            <a:ext cx="276120" cy="593640"/>
          </a:xfrm>
          <a:custGeom>
            <a:avLst/>
            <a:gdLst/>
            <a:ahLst/>
            <a:rect l="l" t="t" r="r" b="b"/>
            <a:pathLst>
              <a:path w="174" h="374">
                <a:moveTo>
                  <a:pt x="0" y="374"/>
                </a:moveTo>
                <a:lnTo>
                  <a:pt x="0" y="0"/>
                </a:lnTo>
                <a:lnTo>
                  <a:pt x="174" y="0"/>
                </a:lnTo>
                <a:lnTo>
                  <a:pt x="174" y="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42120" y="4130640"/>
            <a:ext cx="564840" cy="977760"/>
          </a:xfrm>
          <a:custGeom>
            <a:avLst/>
            <a:gdLst/>
            <a:ahLst/>
            <a:rect l="l" t="t" r="r" b="b"/>
            <a:pathLst>
              <a:path w="356" h="616">
                <a:moveTo>
                  <a:pt x="0" y="0"/>
                </a:moveTo>
                <a:lnTo>
                  <a:pt x="0" y="524"/>
                </a:lnTo>
                <a:lnTo>
                  <a:pt x="356" y="524"/>
                </a:lnTo>
                <a:lnTo>
                  <a:pt x="356" y="61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34080" y="4130640"/>
            <a:ext cx="266760" cy="701640"/>
          </a:xfrm>
          <a:custGeom>
            <a:avLst/>
            <a:gdLst/>
            <a:ahLst/>
            <a:rect l="l" t="t" r="r" b="b"/>
            <a:pathLst>
              <a:path w="168" h="442">
                <a:moveTo>
                  <a:pt x="0" y="0"/>
                </a:moveTo>
                <a:lnTo>
                  <a:pt x="0" y="442"/>
                </a:lnTo>
                <a:lnTo>
                  <a:pt x="168" y="442"/>
                </a:lnTo>
                <a:lnTo>
                  <a:pt x="168" y="3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73720" y="27018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73720" y="33894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3720" y="44100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73720" y="509904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78" idx="6"/>
            <a:endCxn id="113" idx="1"/>
          </p:cNvCxnSpPr>
          <p:nvPr/>
        </p:nvCxnSpPr>
        <p:spPr>
          <a:xfrm>
            <a:off x="6126120" y="4549320"/>
            <a:ext cx="148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79" idx="6"/>
            <a:endCxn id="114" idx="1"/>
          </p:cNvCxnSpPr>
          <p:nvPr/>
        </p:nvCxnSpPr>
        <p:spPr>
          <a:xfrm>
            <a:off x="6126120" y="5235120"/>
            <a:ext cx="14832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3" idx="6"/>
            <a:endCxn id="111" idx="1"/>
          </p:cNvCxnSpPr>
          <p:nvPr/>
        </p:nvCxnSpPr>
        <p:spPr>
          <a:xfrm>
            <a:off x="6138360" y="2841120"/>
            <a:ext cx="1357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84" idx="6"/>
            <a:endCxn id="112" idx="1"/>
          </p:cNvCxnSpPr>
          <p:nvPr/>
        </p:nvCxnSpPr>
        <p:spPr>
          <a:xfrm>
            <a:off x="6138360" y="3526920"/>
            <a:ext cx="1357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6832440" y="27018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2440" y="33894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32440" y="44100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32440" y="50958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32440" y="22194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68" idx="1"/>
            <a:endCxn id="123" idx="1"/>
          </p:cNvCxnSpPr>
          <p:nvPr/>
        </p:nvCxnSpPr>
        <p:spPr>
          <a:xfrm flipH="1" flipV="1" rot="5400000">
            <a:off x="5542560" y="1692720"/>
            <a:ext cx="624600" cy="19562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</p:cxnSp>
      <p:cxnSp>
        <p:nvCxnSpPr>
          <p:cNvPr id="125" name=""/>
          <p:cNvCxnSpPr>
            <a:stCxn id="111" idx="3"/>
            <a:endCxn id="119" idx="1"/>
          </p:cNvCxnSpPr>
          <p:nvPr/>
        </p:nvCxnSpPr>
        <p:spPr>
          <a:xfrm>
            <a:off x="6667560" y="2841120"/>
            <a:ext cx="165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12" idx="3"/>
            <a:endCxn id="120" idx="1"/>
          </p:cNvCxnSpPr>
          <p:nvPr/>
        </p:nvCxnSpPr>
        <p:spPr>
          <a:xfrm>
            <a:off x="6667560" y="3528720"/>
            <a:ext cx="165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13" idx="3"/>
            <a:endCxn id="121" idx="1"/>
          </p:cNvCxnSpPr>
          <p:nvPr/>
        </p:nvCxnSpPr>
        <p:spPr>
          <a:xfrm>
            <a:off x="6667560" y="4549320"/>
            <a:ext cx="165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4" idx="3"/>
            <a:endCxn id="122" idx="1"/>
          </p:cNvCxnSpPr>
          <p:nvPr/>
        </p:nvCxnSpPr>
        <p:spPr>
          <a:xfrm flipV="1">
            <a:off x="6667560" y="5234760"/>
            <a:ext cx="1656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 flipV="1">
            <a:off x="1371600" y="2714760"/>
            <a:ext cx="393840" cy="1095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2222640"/>
            <a:ext cx="812520" cy="31496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26280" y="2359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23040" y="284148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23040" y="352728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23040" y="455616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23040" y="52387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55880" y="22417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54800" y="272412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x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54800" y="339732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x 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54800" y="4438800"/>
            <a:ext cx="44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x 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54800" y="512136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x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0920" y="2095560"/>
            <a:ext cx="1587600" cy="34034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5120" y="23842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965160"/>
            <a:ext cx="812520" cy="5968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0" idx="0"/>
          </p:cNvCxnSpPr>
          <p:nvPr/>
        </p:nvCxnSpPr>
        <p:spPr>
          <a:xfrm>
            <a:off x="7797600" y="1561680"/>
            <a:ext cx="1080" cy="66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228600" y="1955880"/>
            <a:ext cx="8470800" cy="3720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4080" y="128124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93760" y="5764320"/>
            <a:ext cx="56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94840" y="3594240"/>
            <a:ext cx="583920" cy="469800"/>
          </a:xfrm>
          <a:prstGeom prst="leftRightArrow">
            <a:avLst>
              <a:gd name="adj1" fmla="val 50000"/>
              <a:gd name="adj2" fmla="val 2474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41840" y="798480"/>
            <a:ext cx="125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02.15.3 IF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41840" y="142092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02.15.1 IF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A7B-92B8-414D-9A9C-3E74BAE476B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064040" y="3632040"/>
            <a:ext cx="1079640" cy="12956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18120" y="1854360"/>
            <a:ext cx="1079640" cy="12952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2160" y="3632040"/>
            <a:ext cx="1079640" cy="1295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645000"/>
            <a:ext cx="1079640" cy="12952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59200" y="1841400"/>
            <a:ext cx="1079280" cy="12956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472760" y="965160"/>
            <a:ext cx="6134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or — M-ary Sequence Coded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92160" y="391176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s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4720" y="3897360"/>
            <a:ext cx="11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imu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kelyhoo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21520" y="4037040"/>
            <a:ext cx="98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3680" y="426708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26400" y="2119320"/>
            <a:ext cx="107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of 128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82680" y="224640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08160" y="248904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248904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97760" y="219708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97760" y="28195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451240" y="234936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470480" y="236232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27880" y="20574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533640" y="2685960"/>
            <a:ext cx="2098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14360" y="46227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394344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5040" y="3943440"/>
            <a:ext cx="109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610160"/>
            <a:ext cx="109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57960" y="4273560"/>
            <a:ext cx="87012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55028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53716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441600" y="37972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422520" y="44640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479600" y="3809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60520" y="44830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3920" y="23432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1812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09600" y="222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5800" y="22017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218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64720" y="1906560"/>
            <a:ext cx="310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70480" y="2503440"/>
            <a:ext cx="41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3920" y="19051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3920" y="25336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82440" y="2027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72720" y="265572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27360" y="36100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27360" y="4295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9680" y="397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38360" y="36194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28640" y="430524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05800" y="39625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640" y="3790800"/>
            <a:ext cx="657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640" y="4476600"/>
            <a:ext cx="704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Q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49200" y="3646440"/>
            <a:ext cx="28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44520" y="4332240"/>
            <a:ext cx="33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14960" y="395460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10440" y="4037040"/>
            <a:ext cx="6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47960" y="3992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FA1-B3E2-4455-9264-A0953F524D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84280" y="1030320"/>
            <a:ext cx="828504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F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RF blocks shared between 802.15.1 and 802.15.3 modes.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ept IF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= 0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PA efficiency of 33%, 3 dB RFPA back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st transform correlators - 12.5 Mchips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bit Rx ADCs - 50 Msample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Tx DACs - 50 Msample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AGC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-tap digital raised-cosine pulse shaping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K gates for BB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u CMOS process in a dedicated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ip implementation, 1 crystal, 4 filters (front-end, IF x 2, Tx IR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BEF-FFC6-4BB7-8DC6-80836B4680F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6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18:19:05Z</dcterms:created>
  <dc:creator>Tim O'Farrell</dc:creator>
  <dc:description/>
  <dc:language>en-US</dc:language>
  <cp:lastModifiedBy>Tim O'Farrell</cp:lastModifiedBy>
  <cp:lastPrinted>2000-10-10T20:31:30Z</cp:lastPrinted>
  <dcterms:modified xsi:type="dcterms:W3CDTF">2000-10-16T08:15:53Z</dcterms:modified>
  <cp:revision>104</cp:revision>
  <dc:subject>IEEE 802.15 TG3</dc:subject>
  <dc:title>No Slide Title</dc:title>
</cp:coreProperties>
</file>