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3B09AA5-3770-4EF2-830B-5EB4A4FD23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54160" y="701640"/>
            <a:ext cx="4626000" cy="3468600"/>
          </a:xfrm>
          <a:prstGeom prst="rect">
            <a:avLst/>
          </a:prstGeom>
          <a:ln w="0">
            <a:noFill/>
          </a:ln>
        </p:spPr>
      </p:sp>
      <p:sp>
        <p:nvSpPr>
          <p:cNvPr id="163" name="PlaceHolder 2"/>
          <p:cNvSpPr>
            <a:spLocks noGrp="1"/>
          </p:cNvSpPr>
          <p:nvPr>
            <p:ph type="body"/>
          </p:nvPr>
        </p:nvSpPr>
        <p:spPr>
          <a:xfrm>
            <a:off x="923400" y="4408560"/>
            <a:ext cx="508644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rom: Jim Carlo [mailto:jcarlo@ti.co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ent: Monday, May 31, 1999 12:28 P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 Tom Siep</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c: Jim Carl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ubject: RE: Timeline for 802.15</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y timeline for 802.15. Feel free to also send to Ian Gifford and Bob Heil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uly1999</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itial Discussion on Proposal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pecification from Bluetooth introduced into the committee. The committee should do a review of this specification and clarify, understand what problems it will create with other 802 standards, etc.</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RE THERE OTHER PROPOSAL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v1999</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itial draft ready for WG ballot. This will require a lot of your work to edit the original bluetooth document and make it look like a standar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E THAT AT THIS TIME, IF HOMERF HAS A SPEC THEY WANT TO BRING IN, ONE COULD INITIATE A NEW PAR AND GO FOR THAT ON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an20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irst Ballot complete, second ballot kicked off.</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r20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raft ready for IEEE sponsor ballo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ul20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v20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ec20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pproval by IEEE Standards Boar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y view is this is not a career - rather we need to move the Bluetooth document into IEEE to get better market representation of Bluetooth as soon as possibl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im Carlo(jcarlo@ti.com) Cellular:1-214-693-1776  Voice&amp;FAX Mail:1-214-853-5274</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I Fellow, Networking Standards at Texas Instrument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hair, ISO/IEC JTC1/SC6 Telecom and Info Exchange Between System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hair, IEEE 802 LAN MAN Standards Committe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4160" y="701640"/>
            <a:ext cx="4626000" cy="3468600"/>
          </a:xfrm>
          <a:prstGeom prst="rect">
            <a:avLst/>
          </a:prstGeom>
          <a:ln w="0">
            <a:noFill/>
          </a:ln>
        </p:spPr>
      </p:sp>
      <p:sp>
        <p:nvSpPr>
          <p:cNvPr id="165"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EEE 802 Functional Requirements Document (FRD), Draft 6.8 Revised: July 10, 1991</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4.2 Compatibility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EEE 802 defines a family of standards. All standards shall be in conformance with IEEE 802.1 Architecture, Management and Interworkin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ll LLC and MAC standards shall be compatible with ISO 10039[20], MAC Service Definition1, at the LLC/MAC boundary. Within the LLC Working Group there shall be one LLC standard, including one or more LLC protocols with a common LLC/MAC interface. Within a MAC Working Group there shall be one MAC standard and one or more Physical Layer standards with a common MAC/Physical layer interfac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ach standard in the IEEE 802 family of standards shall include a definition of managed objects which are compatible with OSI systems management standard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1. Note: This requirement is subject to final resolution of corrections and revision to current ISO 10039, currently inconsistent with ISO 8802 series standard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C6BD0-56EF-4F05-A60B-A21AEF166E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6E330-DF4B-43FE-8CBD-094821BDC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9C7200-C6AF-41E0-9A8F-DFC431CDC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A58593-3D71-4332-87C9-FCE90E4232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6D816-6BD5-47A9-8DA8-62A60B872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EF99A-FB5D-4B11-97B0-BC36E334D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833DB-C1DB-42E4-8F8D-3B1781D59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77751-D446-4A4D-91AC-F5A8886B5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C7342-74F9-4D0C-919D-0A6DD7F75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1C6D0-7863-4113-BCED-D7FA6F252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44524-5886-4736-B537-C3405D6FC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23D6F-07FD-46AA-8B9F-084151266D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4E4AF8C-8146-4023-9C4E-6C4BCD0AA6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340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4.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CC72FEDD-9394-454A-9DFB-2AC86D4F59C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09480" y="395640"/>
            <a:ext cx="82728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76320" y="76320"/>
            <a:ext cx="8991360" cy="618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WG Liaison Report, No.10</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6Nov00</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Ian Gifford</a:t>
            </a:r>
            <a:r>
              <a:rPr b="0" lang="en-US" sz="1600" spc="-1" strike="noStrike">
                <a:solidFill>
                  <a:srgbClr val="000000"/>
                </a:solidFill>
                <a:latin typeface="Times New Roman"/>
              </a:rPr>
              <a:t>] Company [</a:t>
            </a:r>
            <a:r>
              <a:rPr b="0" lang="en-US" sz="1600" spc="-1" strike="noStrike">
                <a:solidFill>
                  <a:srgbClr val="ff0000"/>
                </a:solidFill>
                <a:latin typeface="Times New Roman"/>
              </a:rPr>
              <a:t>M/A-COM, In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011 Pawtucket Boulevard Lowell, MA USA 01853-3295</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978 442 4650</a:t>
            </a:r>
            <a:r>
              <a:rPr b="0" lang="en-US" sz="1600" spc="-1" strike="noStrike">
                <a:solidFill>
                  <a:srgbClr val="000000"/>
                </a:solidFill>
                <a:latin typeface="Times New Roman"/>
              </a:rPr>
              <a:t>], FAX: [</a:t>
            </a:r>
            <a:r>
              <a:rPr b="0" lang="en-US" sz="1600" spc="-1" strike="noStrike">
                <a:solidFill>
                  <a:srgbClr val="ff0000"/>
                </a:solidFill>
                <a:latin typeface="Times New Roman"/>
              </a:rPr>
              <a:t>+1 978 442 5442</a:t>
            </a:r>
            <a:r>
              <a:rPr b="0" lang="en-US" sz="1600" spc="-1" strike="noStrike">
                <a:solidFill>
                  <a:srgbClr val="000000"/>
                </a:solidFill>
                <a:latin typeface="Times New Roman"/>
              </a:rPr>
              <a:t>], E-Mail:[</a:t>
            </a:r>
            <a:r>
              <a:rPr b="0" lang="en-US" sz="1600" spc="-1" strike="noStrike">
                <a:solidFill>
                  <a:srgbClr val="ff0000"/>
                </a:solidFill>
                <a:latin typeface="Times New Roman"/>
              </a:rPr>
              <a:t>giffordi@ieee.or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00/37r1, et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is Liaison Report is a running Liaison report that is offered to the WG for their consideration.  It is only as good as what is provided to the Author…there are many WG Liaisons that are not captured as they are not provided to the Author or Liaison Officer.</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Our Sponsor requested that an official Liaison Officer be added to the WG.  This report is for the Sponsor and/or the W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ents &amp; Assumption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lestones based on backward scheduling from IEEE-SA RevCom Draft Submission Deadli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SIG v1.1 would become available mid Nov00.</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C552A0B-AA26-45F9-9572-2E7EF966B20F}" type="slidenum">
              <a:t>10</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1 Original Project Plan</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99</a:t>
            </a:r>
            <a:endParaRPr b="0"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itial Discussion on Proposals. </a:t>
            </a:r>
            <a:endParaRPr b="0" lang="en-US" sz="20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99</a:t>
            </a:r>
            <a:endParaRPr b="0"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itial draft ready for WG ballot.</a:t>
            </a:r>
            <a:endParaRPr b="0" lang="en-US" sz="20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n00</a:t>
            </a:r>
            <a:endParaRPr b="0"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Ballot complete, second ballot kicked off.</a:t>
            </a:r>
            <a:endParaRPr b="0" lang="en-US" sz="20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00</a:t>
            </a:r>
            <a:endParaRPr b="0"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ft ready for IEEE sponsor ballot. </a:t>
            </a:r>
            <a:endParaRPr b="0" lang="en-US" sz="20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00</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00</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00</a:t>
            </a:r>
            <a:endParaRPr b="0"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al by IEEE Standards Boar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CFD4DA7-BC01-4A66-A5BE-5DF69368B097}" type="slidenum">
              <a:t>11</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1 Current Project Planning</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99</a:t>
            </a:r>
            <a:endParaRPr b="0" lang="en-US" sz="2000" spc="-1" strike="noStrike">
              <a:solidFill>
                <a:srgbClr val="000000"/>
              </a:solidFill>
              <a:latin typeface="Times New Roman"/>
            </a:endParaRPr>
          </a:p>
          <a:p>
            <a:pPr lvl="1" marL="668520" indent="-257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ial Discussion on Proposals. </a:t>
            </a:r>
            <a:endParaRPr b="0" lang="en-US" sz="1800" spc="-1" strike="noStrike">
              <a:solidFill>
                <a:srgbClr val="000000"/>
              </a:solidFill>
              <a:latin typeface="Times New Roman"/>
            </a:endParaRPr>
          </a:p>
          <a:p>
            <a:pPr marL="308520" indent="-308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99</a:t>
            </a:r>
            <a:endParaRPr b="0" lang="en-US" sz="2000" spc="-1" strike="noStrike">
              <a:solidFill>
                <a:srgbClr val="000000"/>
              </a:solidFill>
              <a:latin typeface="Times New Roman"/>
            </a:endParaRPr>
          </a:p>
          <a:p>
            <a:pPr lvl="1" marL="668520" indent="-257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ial draft ready for WG ballot.</a:t>
            </a:r>
            <a:endParaRPr b="0" lang="en-US" sz="1800" spc="-1" strike="noStrike">
              <a:solidFill>
                <a:srgbClr val="000000"/>
              </a:solidFill>
              <a:latin typeface="Times New Roman"/>
            </a:endParaRPr>
          </a:p>
          <a:p>
            <a:pPr marL="308520" indent="-308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00</a:t>
            </a:r>
            <a:endParaRPr b="0" lang="en-US" sz="2000" spc="-1" strike="noStrike">
              <a:solidFill>
                <a:srgbClr val="000000"/>
              </a:solidFill>
              <a:latin typeface="Times New Roman"/>
            </a:endParaRPr>
          </a:p>
          <a:p>
            <a:pPr lvl="1" marL="668520" indent="-257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Ballot complete, second ballot kicked off.</a:t>
            </a:r>
            <a:endParaRPr b="0" lang="en-US" sz="1800" spc="-1" strike="noStrike">
              <a:solidFill>
                <a:srgbClr val="000000"/>
              </a:solidFill>
              <a:latin typeface="Times New Roman"/>
            </a:endParaRPr>
          </a:p>
          <a:p>
            <a:pPr marL="308520" indent="-308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01</a:t>
            </a:r>
            <a:endParaRPr b="0" lang="en-US" sz="2000" spc="-1" strike="noStrike">
              <a:solidFill>
                <a:srgbClr val="000000"/>
              </a:solidFill>
              <a:latin typeface="Times New Roman"/>
            </a:endParaRPr>
          </a:p>
          <a:p>
            <a:pPr lvl="1" marL="668520" indent="-257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ft ready for IEEE sponsor ballot. </a:t>
            </a:r>
            <a:endParaRPr b="0" lang="en-US" sz="1800" spc="-1" strike="noStrike">
              <a:solidFill>
                <a:srgbClr val="000000"/>
              </a:solidFill>
              <a:latin typeface="Times New Roman"/>
            </a:endParaRPr>
          </a:p>
          <a:p>
            <a:pPr marL="308520" indent="-308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01</a:t>
            </a: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01</a:t>
            </a:r>
            <a:endParaRPr b="0" lang="en-US" sz="2000" spc="-1" strike="noStrike">
              <a:solidFill>
                <a:srgbClr val="000000"/>
              </a:solidFill>
              <a:latin typeface="Times New Roman"/>
            </a:endParaRPr>
          </a:p>
          <a:p>
            <a:pPr lvl="1" marL="668520" indent="-257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roval by IEEE Standards Board</a:t>
            </a:r>
            <a:endParaRPr b="0" lang="en-US" sz="1800" spc="-1" strike="noStrike">
              <a:solidFill>
                <a:srgbClr val="000000"/>
              </a:solidFill>
              <a:latin typeface="Times New Roman"/>
            </a:endParaRPr>
          </a:p>
          <a:p>
            <a:pPr marL="308520" indent="-308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01</a:t>
            </a: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01</a:t>
            </a:r>
            <a:endParaRPr b="0" lang="en-US" sz="2000" spc="-1" strike="noStrike">
              <a:solidFill>
                <a:srgbClr val="000000"/>
              </a:solidFill>
              <a:latin typeface="Times New Roman"/>
            </a:endParaRPr>
          </a:p>
          <a:p>
            <a:pPr lvl="1" marL="668520" indent="-257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roval by IEEE Standards Board</a:t>
            </a:r>
            <a:endParaRPr b="0" lang="en-US" sz="1800" spc="-1" strike="noStrike">
              <a:solidFill>
                <a:srgbClr val="000000"/>
              </a:solidFill>
              <a:latin typeface="Times New Roman"/>
            </a:endParaRPr>
          </a:p>
        </p:txBody>
      </p:sp>
      <p:sp>
        <p:nvSpPr>
          <p:cNvPr id="86" name=""/>
          <p:cNvSpPr/>
          <p:nvPr/>
        </p:nvSpPr>
        <p:spPr>
          <a:xfrm>
            <a:off x="304920" y="5557680"/>
            <a:ext cx="6095880" cy="9144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783840" y="4572000"/>
            <a:ext cx="222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 Sponsor Expectation</a:t>
            </a:r>
            <a:endParaRPr b="0" lang="en-US" sz="1600" spc="-1" strike="noStrike">
              <a:solidFill>
                <a:srgbClr val="000000"/>
              </a:solidFill>
              <a:latin typeface="Times New Roman"/>
            </a:endParaRPr>
          </a:p>
        </p:txBody>
      </p:sp>
      <p:sp>
        <p:nvSpPr>
          <p:cNvPr id="88" name=""/>
          <p:cNvSpPr/>
          <p:nvPr/>
        </p:nvSpPr>
        <p:spPr>
          <a:xfrm flipH="1">
            <a:off x="5562360" y="4876920"/>
            <a:ext cx="198108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660720" y="3930480"/>
            <a:ext cx="2098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15.1 Project Target</a:t>
            </a:r>
            <a:endParaRPr b="0" lang="en-US" sz="1600" spc="-1" strike="noStrike">
              <a:solidFill>
                <a:srgbClr val="000000"/>
              </a:solidFill>
              <a:latin typeface="Times New Roman"/>
            </a:endParaRPr>
          </a:p>
        </p:txBody>
      </p:sp>
      <p:sp>
        <p:nvSpPr>
          <p:cNvPr id="90" name=""/>
          <p:cNvSpPr/>
          <p:nvPr/>
        </p:nvSpPr>
        <p:spPr>
          <a:xfrm flipH="1">
            <a:off x="5562360" y="4267080"/>
            <a:ext cx="198108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E831255-A1F8-4B12-906E-57EF5F9A35E8}" type="slidenum">
              <a:t>12</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lling Project Planning, as of 24Oct00</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99  Initial Discussion on Proposal submissions./Done, Jul99</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99  IEEE initial vote of support to draft 802.15 based on Bluetooth specification./Done, Jul99</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99  Overview the draft 802.15.1 based on the current Bluetooth specification to the timeline./Done, 9Nov99</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99  1st Draft 0.6 ready for WG LB1 (11Nov-23Dec)./Done, 4Nov99</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00  Comment Resolutions &amp; WG LB2 (23Feb-3Mar)</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00  Comment Resolutions/Done, 10Mar00</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00  2nd Draft 0.7.2 ready for WG LB3 (24May-3Jul00)./Done 24May00</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00  Comment Resolution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00  Comment Resolution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00  3rd Draft 0.8 ready for WG LB(6) (Nov-Dec).</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00  Comment Resolutions…</a:t>
            </a:r>
            <a:endParaRPr b="0" lang="en-US" sz="1800" spc="-1" strike="noStrike">
              <a:solidFill>
                <a:srgbClr val="000000"/>
              </a:solidFill>
              <a:latin typeface="Times New Roman"/>
            </a:endParaRPr>
          </a:p>
        </p:txBody>
      </p:sp>
      <p:sp>
        <p:nvSpPr>
          <p:cNvPr id="93" name=""/>
          <p:cNvSpPr/>
          <p:nvPr/>
        </p:nvSpPr>
        <p:spPr>
          <a:xfrm>
            <a:off x="304920" y="5834160"/>
            <a:ext cx="853416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ollowing are the scenarios we are considering as we enter Session #9/Tampa - TG1 is planning for Scenario A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ich is dependent on a mid Nov00 BSIG v1.1 publication release.  NO CHANGE FROM 13Oct00.</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141DADE-754E-440B-A6EC-5047BABD2E07}" type="slidenum">
              <a:t>13</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 A</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enario A (BSIG v1.1=IEEE Std 802.15.1-[2001])</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00  Comment Resolutions/Done, Dec00</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00  4th Draft 0.9 ready for WG LB(7) (Dec-Ja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01  Comment Resolution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01  Draft ready for IEEE sponsor ballo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01  Comment Resolution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01  Comment Resolution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01  Comment Resolution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ug01 Draft Submission Deadlin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01  Approval by IEEE Standards Boar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01 [sic] s/b Nov01 Maintenance PAR (BSIG v1.x=IEEE Std 802.15.1-[200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DF84506-D4FD-47CA-947E-21CB819664DA}" type="slidenum">
              <a:t>14</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 B</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enario B (BSIG v1.1=IEEE Std 802.15.1-[2001])</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01  Comment Resolutions/Done, Jan01</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01  4th Draft 0.9 ready for WG LB(7) (Jan-Feb).</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01  Draft 1.0 ready for IEEE sponsor ballot.</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01  Comment Resolution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01  Comment Resolution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01  Comment Resolution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01  Comment Resolution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6Oct01 Draft Submission Deadline*</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01</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01  Approval by IEEE Standards Board.</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02  Maintenance PAR (BSIG v1.x=IEEE Std 802.15.1-[200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EC4973C-92FD-4E09-9070-BF2175010FD3}" type="slidenum">
              <a:t>15</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 C</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enario C (BSIG v1.x=IEEE Std 802.15.1-[2002])</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051F5AF-346B-439D-9522-BCDA65E247BC}" type="slidenum">
              <a:t>16</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SDL model: updates from SIG</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SIG Position:</a:t>
            </a:r>
            <a:endParaRPr b="0"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lidating the model will be a very time consuming and labor intensive process. Validating against the TTCN vectors is not sufficient. The SIG does not currently have any resources for this project and does not anticipate having resources for quite sometime. We are unfortunately unable to provide validation help.</a:t>
            </a:r>
            <a:endParaRPr b="0" lang="en-US" sz="20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SIG Proposal:</a:t>
            </a:r>
            <a:endParaRPr b="0"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sh the SDL model as reference (instead of normative) document in the 802.15.1 appendix, until validated.</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 not plan on making it a normative part of the spec for a couple of years.</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SIG is suggesting to put a statement in the IEEE 802.15.1 spec that a product can only be called IEEE 802.15.1 compliant if it passes the proper subset of the Bluetooth certification program.</a:t>
            </a:r>
            <a:endParaRPr b="0" lang="en-US" sz="2000" spc="-1" strike="noStrike">
              <a:solidFill>
                <a:srgbClr val="000000"/>
              </a:solidFill>
              <a:latin typeface="Times New Roman"/>
            </a:endParaRPr>
          </a:p>
        </p:txBody>
      </p:sp>
      <p:sp>
        <p:nvSpPr>
          <p:cNvPr id="102" name=""/>
          <p:cNvSpPr/>
          <p:nvPr/>
        </p:nvSpPr>
        <p:spPr>
          <a:xfrm>
            <a:off x="81720" y="106200"/>
            <a:ext cx="222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rancis Truntzer 3Nov0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C5270F8-EA62-4AD7-9DFC-FED3C1569671}" type="slidenum">
              <a:t>17</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SDL model: updates from SIG (cont.)</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Proposa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s SDL model developer is invited to participate in the Bluetooth UnPlugFests to validate the SDL model against actual implementations (e.g. work with Telelogic to generate an implement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ld IEEE work with a University to conduct some validation?</a:t>
            </a:r>
            <a:endParaRPr b="0" lang="en-US" sz="2400" spc="-1" strike="noStrike">
              <a:solidFill>
                <a:srgbClr val="000000"/>
              </a:solidFill>
              <a:latin typeface="Times New Roman"/>
            </a:endParaRPr>
          </a:p>
        </p:txBody>
      </p:sp>
      <p:sp>
        <p:nvSpPr>
          <p:cNvPr id="105" name=""/>
          <p:cNvSpPr/>
          <p:nvPr/>
        </p:nvSpPr>
        <p:spPr>
          <a:xfrm>
            <a:off x="81720" y="106200"/>
            <a:ext cx="222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rancis Truntzer 3Nov0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A2DE009-700B-43F3-B268-4CC624F42F4A}" type="slidenum">
              <a:t>18</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Radio 2 and IEEE 802.15.3</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SIG's Position:</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SIG's concern is fragmentation of the WPAN market</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issue in the relationship between BSIG and IEEE:</a:t>
            </a:r>
            <a:endParaRPr b="0" lang="en-US" sz="2400" spc="-1" strike="noStrike">
              <a:solidFill>
                <a:srgbClr val="000000"/>
              </a:solidFill>
              <a:latin typeface="Times New Roman"/>
            </a:endParaRPr>
          </a:p>
          <a:p>
            <a:pPr lvl="2" marL="107460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wo organisations have different IP rules and fundamentally different decision making philosophies. This makes it difficult for the two organizations to work together on a single spec.</a:t>
            </a:r>
            <a:endParaRPr b="0" lang="en-US" sz="20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 if the BSIG and TG3 started from the same proposal and developed specs in parallel, there is no guarantee that the two resulting specs would be compatible.</a:t>
            </a:r>
            <a:endParaRPr b="0" lang="en-US" sz="2400" spc="-1" strike="noStrike">
              <a:solidFill>
                <a:srgbClr val="000000"/>
              </a:solidFill>
              <a:latin typeface="Times New Roman"/>
            </a:endParaRPr>
          </a:p>
        </p:txBody>
      </p:sp>
      <p:sp>
        <p:nvSpPr>
          <p:cNvPr id="108" name=""/>
          <p:cNvSpPr/>
          <p:nvPr/>
        </p:nvSpPr>
        <p:spPr>
          <a:xfrm>
            <a:off x="81720" y="106200"/>
            <a:ext cx="222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rancis Truntzer 3Nov0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A0DE330-5141-4980-A4A5-41EF78DE751B}" type="slidenum">
              <a:t>19</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15 Working Group for Wireless Personal Area Networks</a:t>
            </a:r>
            <a:r>
              <a:rPr b="0" lang="en-US" sz="4000" spc="-1" strike="noStrike">
                <a:solidFill>
                  <a:srgbClr val="000000"/>
                </a:solidFill>
                <a:latin typeface="Times New Roman"/>
                <a:ea typeface="Times New Roman"/>
              </a:rPr>
              <a:t>™</a:t>
            </a:r>
            <a:endParaRPr b="0" lang="en-US" sz="4000" spc="-1" strike="noStrike">
              <a:solidFill>
                <a:srgbClr val="000000"/>
              </a:solidFill>
              <a:latin typeface="Times New Roman"/>
            </a:endParaRPr>
          </a:p>
        </p:txBody>
      </p:sp>
      <p:sp>
        <p:nvSpPr>
          <p:cNvPr id="60" name="PlaceHolder 2"/>
          <p:cNvSpPr>
            <a:spLocks noGrp="1"/>
          </p:cNvSpPr>
          <p:nvPr>
            <p:ph type="subTitle"/>
          </p:nvPr>
        </p:nvSpPr>
        <p:spPr>
          <a:xfrm>
            <a:off x="1371600" y="3580920"/>
            <a:ext cx="6400800" cy="175284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aison Report #10</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vember 2000 Tampa, FL USA</a:t>
            </a:r>
            <a:endParaRPr b="0" lang="en-US" sz="3600" spc="-1" strike="noStrike">
              <a:solidFill>
                <a:srgbClr val="000000"/>
              </a:solidFill>
              <a:latin typeface="Times New Roman"/>
            </a:endParaRPr>
          </a:p>
        </p:txBody>
      </p:sp>
      <p:pic>
        <p:nvPicPr>
          <p:cNvPr id="6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1D2412D-02F3-4D42-9AB7-97EBC5A5050F}" type="slidenum">
              <a:t>2</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Radio 2 and IEEE 802.15.3 (cont.)</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SIG Proposal #1:</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G3 to follow the same relationship model as TG1, where one organization follows the other. This would guarantee that we end up with compatible specs. It is the BSIG's preferred solu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SIG Proposal #2:</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G3 to develop a radio solution which is highly differentiated (e.g.&gt; 40Mbit/sec data rate) from the BSIG's Radio 2 specification.</a:t>
            </a:r>
            <a:endParaRPr b="0" lang="en-US" sz="2400" spc="-1" strike="noStrike">
              <a:solidFill>
                <a:srgbClr val="000000"/>
              </a:solidFill>
              <a:latin typeface="Times New Roman"/>
            </a:endParaRPr>
          </a:p>
        </p:txBody>
      </p:sp>
      <p:sp>
        <p:nvSpPr>
          <p:cNvPr id="111" name=""/>
          <p:cNvSpPr/>
          <p:nvPr/>
        </p:nvSpPr>
        <p:spPr>
          <a:xfrm>
            <a:off x="81720" y="106200"/>
            <a:ext cx="222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rancis Truntzer 3Nov0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78F0D93-BDEE-4A51-B948-318D522D390E}" type="slidenum">
              <a:t>20</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Radio 2 and IEEE 802.15.3 (cont.)</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BSIG to adopt such a specification, all contributors would have to sign an Open IP agree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backward compliant with BT 1.0, IEEE's 802.15.3 must avoid overlapping the BT 1.0 spec, or an IEEE 802.15.3 product would not pass BT qualific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IEEE 802.15.3 is not backward compliant with BT 1.0, it would fragment the WPAN market, as there would be two incompatible WPAN specifications with little end-user differentiation.</a:t>
            </a:r>
            <a:endParaRPr b="0" lang="en-US" sz="2400" spc="-1" strike="noStrike">
              <a:solidFill>
                <a:srgbClr val="000000"/>
              </a:solidFill>
              <a:latin typeface="Times New Roman"/>
            </a:endParaRPr>
          </a:p>
        </p:txBody>
      </p:sp>
      <p:sp>
        <p:nvSpPr>
          <p:cNvPr id="114" name=""/>
          <p:cNvSpPr/>
          <p:nvPr/>
        </p:nvSpPr>
        <p:spPr>
          <a:xfrm>
            <a:off x="81720" y="106200"/>
            <a:ext cx="222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rancis Truntzer 3Nov0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CFCDBE5-873D-449A-A76F-0E9C956213C6}" type="slidenum">
              <a:t>21</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int Q&amp;As about Bluetooth SIG and IEEE relationship</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SIG issue:  Conflicting and confusing statements have been made by  the press, regarding the relationship between the BSIG and IEE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al: Agree on a common set of Q&amp;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e set of Q&amp;As below is a draft and has not yet been reviewed/approved by the BSIG's marketing team.</a:t>
            </a:r>
            <a:endParaRPr b="0" lang="en-US" sz="3200" spc="-1" strike="noStrike">
              <a:solidFill>
                <a:srgbClr val="000000"/>
              </a:solidFill>
              <a:latin typeface="Times New Roman"/>
            </a:endParaRPr>
          </a:p>
        </p:txBody>
      </p:sp>
      <p:sp>
        <p:nvSpPr>
          <p:cNvPr id="117" name=""/>
          <p:cNvSpPr/>
          <p:nvPr/>
        </p:nvSpPr>
        <p:spPr>
          <a:xfrm>
            <a:off x="81720" y="106200"/>
            <a:ext cx="222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rancis Truntzer 3Nov0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5C3D2B8-2162-4215-A7DA-F1FEBEA3BD25}" type="slidenum">
              <a:t>22</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int Q&amp;As about Bluetooth SIG and IEEE relationship (cont.)</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1:  What exactly is the relationship between IEEE and the Bluetooth SI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1:  There is no formal relationship between the organiza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2:  Is it true that IEEE will take over the Bluetooth Specifica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2:  No.  IEEE is adopting the Bluetooth 1.x specification for 802.15.1.</a:t>
            </a:r>
            <a:endParaRPr b="0" lang="en-US" sz="3200" spc="-1" strike="noStrike">
              <a:solidFill>
                <a:srgbClr val="000000"/>
              </a:solidFill>
              <a:latin typeface="Times New Roman"/>
            </a:endParaRPr>
          </a:p>
        </p:txBody>
      </p:sp>
      <p:sp>
        <p:nvSpPr>
          <p:cNvPr id="120" name=""/>
          <p:cNvSpPr/>
          <p:nvPr/>
        </p:nvSpPr>
        <p:spPr>
          <a:xfrm>
            <a:off x="81720" y="106200"/>
            <a:ext cx="222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rancis Truntzer 3Nov0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1622FA0-7869-4C16-B911-F1853E7E31AC}" type="slidenum">
              <a:t>23</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int Q&amp;As about Bluetooth SIG and IEEE relationship (cont.)</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3:  If someone implements the 802.15.1 specifications, will these products be Bluetooth compatible? Will they be Bluetooth certifiable?</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3:  Yes.  Companies using the technology in their products have to be Bluetooth SIG members and gain Bluetooth qualification for these product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4:  Is it true that the Bluetooth SIG submitted a proposal to the 802.15.3 Task Group?</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4:  No.</a:t>
            </a:r>
            <a:endParaRPr b="0" lang="en-US" sz="2800" spc="-1" strike="noStrike">
              <a:solidFill>
                <a:srgbClr val="000000"/>
              </a:solidFill>
              <a:latin typeface="Times New Roman"/>
            </a:endParaRPr>
          </a:p>
        </p:txBody>
      </p:sp>
      <p:sp>
        <p:nvSpPr>
          <p:cNvPr id="123" name=""/>
          <p:cNvSpPr/>
          <p:nvPr/>
        </p:nvSpPr>
        <p:spPr>
          <a:xfrm>
            <a:off x="81720" y="106200"/>
            <a:ext cx="222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rancis Truntzer 3Nov0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748C0BB-CB8C-477E-8F7D-F8AACD9574DB}" type="slidenum">
              <a:t>24</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int Q&amp;As about Bluetooth SIG and IEEE relationship (cont.)</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5:  Is it true that the SIG has agreed to use the 802.15.3 spec as the third generation Bluetooth radi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5:  N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6:  What is the difference between Bluetooth and IEEE's 802.15 group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6:  The Bluetooth SIG is a body of companies using and promoting the Bluetooth.  The IEEE is a body chartered to develop industry standards.</a:t>
            </a:r>
            <a:endParaRPr b="0" lang="en-US" sz="2800" spc="-1" strike="noStrike">
              <a:solidFill>
                <a:srgbClr val="000000"/>
              </a:solidFill>
              <a:latin typeface="Times New Roman"/>
            </a:endParaRPr>
          </a:p>
        </p:txBody>
      </p:sp>
      <p:sp>
        <p:nvSpPr>
          <p:cNvPr id="126" name=""/>
          <p:cNvSpPr/>
          <p:nvPr/>
        </p:nvSpPr>
        <p:spPr>
          <a:xfrm>
            <a:off x="81720" y="106200"/>
            <a:ext cx="222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rancis Truntzer 3Nov0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36A40CC-413D-4989-9E56-1D67F251DB4C}" type="slidenum">
              <a:t>25</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int Q&amp;As about Bluetooth SIG and IEEE relationship (cont.)</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7:  Is Bluetooth developing a follow-on technology that operates at 5 GHz?</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7:  No.  Bluetooth follow-on technology is targeted to stay within the 2.4 GHz ISM band.</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8:  Can people build 802.15 radios without being a Bluetooth member?</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8:  Yes, however manufacturers of devices using 802.15.1 radios have to be Bluetooth SIG members and must have their products qualified by the Bluetooth group, to get a free license to the Bluetooth IP.  IEEE is also working on 802.15.3 without involvement of the Bluetooth SIG.  It may be possible to ship these devices without being a member of the Bluetooth SIG.</a:t>
            </a:r>
            <a:endParaRPr b="0" lang="en-US" sz="2400" spc="-1" strike="noStrike">
              <a:solidFill>
                <a:srgbClr val="000000"/>
              </a:solidFill>
              <a:latin typeface="Times New Roman"/>
            </a:endParaRPr>
          </a:p>
        </p:txBody>
      </p:sp>
      <p:sp>
        <p:nvSpPr>
          <p:cNvPr id="129" name=""/>
          <p:cNvSpPr/>
          <p:nvPr/>
        </p:nvSpPr>
        <p:spPr>
          <a:xfrm>
            <a:off x="81720" y="106200"/>
            <a:ext cx="222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rancis Truntzer 3Nov0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4D4645B-8FAB-4538-AABF-30F275943C81}" type="slidenum">
              <a:t>26</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13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7F1D080-E25F-46E4-BCD4-A38AB803ECB2}" type="slidenum">
              <a:t>27</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 Report</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2A2A3F7-7AFB-4068-A79F-D9B87D9192CF}" type="slidenum">
              <a:t>28</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Report</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lecon &amp; Meetings</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scellaneous </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ail’s to IEEE</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Aug00 on TG1 Draft Std. Copyright License &amp; v1.1</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Sep00 Follow up on LAN/MAN 802.15 Balloting Pool status (Kahofe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Sep00 Follow up on Bluetooth Pocket Guide Contract</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scellaneous </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ail’s from IEEE</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Sep00 LAN/MAN 802.15 Balloting Pool status report (Kahofe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l00, Aug00, and Sep00 on Copyright License &amp; v1.1</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Sep00 Follow up on Bluetooth Pocket Guide Contract</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scellaneous</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xt Steps</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olve TG1 Draft Std. Copyright License &amp; v1.1</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llow up on Bluetooth Pocket Guide Contract and Review Manuscript due 6Oct00</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MAN 802.15 Balloting Pool &amp; Invitation for TG1 Draft est. need 9Nov00</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1 Draft Std onto IEEE 802 Plus CD-ROM and SDL Machine Executabl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45DA496-BBD5-4EE2-84B0-F864514A3C04}" type="slidenum">
              <a:t>29</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Objectiv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Summa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Repor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Negoti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Observation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63F3292-45A2-44B6-823F-C68CE31F0D4A}" type="slidenum">
              <a:t>3</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Negotiations</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SI</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llow up on liaison for Jan01 Plenary</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uetooth™ SIG</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1 Draft Std. Copyright License &amp; v1.1</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ise on IEEE Draft 0.8 Standard Status i.e., Scenario B (cont.)</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est Specification v1.0C (v1.1) Status (cont.)</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xt BSIG-IEEE Telecon and f2f Meeting Dates?</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SA TG1 Draft Std. Copyright License &amp; v1.1</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1/802.15 Interim Meetings?</a:t>
            </a:r>
            <a:endParaRPr b="0" lang="en-US" sz="1400" spc="-1" strike="noStrike">
              <a:solidFill>
                <a:srgbClr val="000000"/>
              </a:solidFill>
              <a:latin typeface="Times New Roman"/>
            </a:endParaRPr>
          </a:p>
          <a:p>
            <a:pPr lvl="2" marL="108576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identify hosts and venue 12months out, or more.</a:t>
            </a:r>
            <a:endParaRPr b="0" lang="en-US" sz="1200" spc="-1" strike="noStrike">
              <a:solidFill>
                <a:srgbClr val="000000"/>
              </a:solidFill>
              <a:latin typeface="Times New Roman"/>
            </a:endParaRPr>
          </a:p>
          <a:p>
            <a:pPr lvl="2" marL="108576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consider a single (.11/.15) Guideline for Interim Hosts</a:t>
            </a:r>
            <a:endParaRPr b="0" lang="en-US" sz="12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SA LAN/MAN 802.15 Balloting Pool?</a:t>
            </a:r>
            <a:endParaRPr b="0" lang="en-US" sz="1400" spc="-1" strike="noStrike">
              <a:solidFill>
                <a:srgbClr val="000000"/>
              </a:solidFill>
              <a:latin typeface="Times New Roman"/>
            </a:endParaRPr>
          </a:p>
          <a:p>
            <a:pPr lvl="2" marL="108576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monitor this process, prompt invitation when needed –3mo before Sponsor LB</a:t>
            </a:r>
            <a:endParaRPr b="0" lang="en-US" sz="1200" spc="-1" strike="noStrike">
              <a:solidFill>
                <a:srgbClr val="000000"/>
              </a:solidFill>
              <a:latin typeface="Times New Roman"/>
            </a:endParaRPr>
          </a:p>
        </p:txBody>
      </p:sp>
      <p:sp>
        <p:nvSpPr>
          <p:cNvPr id="138" name=""/>
          <p:cNvSpPr/>
          <p:nvPr/>
        </p:nvSpPr>
        <p:spPr>
          <a:xfrm>
            <a:off x="414360" y="5791320"/>
            <a:ext cx="830592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G Liaisons are fragmented and not all active liaisons are capture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B47BC92-813E-41C2-B56C-F2687428081A}" type="slidenum">
              <a:t>30</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servation #1 </a:t>
            </a:r>
            <a:br>
              <a:rPr sz="4400"/>
            </a:br>
            <a:r>
              <a:rPr b="0" lang="en-US" sz="4400" spc="-1" strike="noStrike">
                <a:solidFill>
                  <a:srgbClr val="000000"/>
                </a:solidFill>
                <a:latin typeface="Times New Roman"/>
              </a:rPr>
              <a:t>Wireless MAC Working Groups</a:t>
            </a:r>
            <a:endParaRPr b="0" lang="en-US" sz="4400" spc="-1" strike="noStrike">
              <a:solidFill>
                <a:srgbClr val="000000"/>
              </a:solidFill>
              <a:latin typeface="Times New Roman"/>
            </a:endParaRPr>
          </a:p>
        </p:txBody>
      </p:sp>
      <p:sp>
        <p:nvSpPr>
          <p:cNvPr id="14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reless 802</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 is a single MAC Sublayer/W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6 is a single MAC Sublayer/W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5 could potentially look like 3 MAC Sublayer/WGs to IEEE 802 Family.</a:t>
            </a:r>
            <a:endParaRPr b="0" lang="en-US" sz="2400" spc="-1" strike="noStrike">
              <a:solidFill>
                <a:srgbClr val="000000"/>
              </a:solidFill>
              <a:latin typeface="Times New Roman"/>
            </a:endParaRPr>
          </a:p>
        </p:txBody>
      </p:sp>
      <p:graphicFrame>
        <p:nvGraphicFramePr>
          <p:cNvPr id="141" name=""/>
          <p:cNvGraphicFramePr/>
          <p:nvPr/>
        </p:nvGraphicFramePr>
        <p:xfrm>
          <a:off x="4460760" y="2212920"/>
          <a:ext cx="4532400" cy="3397320"/>
        </p:xfrm>
        <a:graphic>
          <a:graphicData uri="http://schemas.openxmlformats.org/presentationml/2006/ole">
            <p:oleObj r:id="rId1" spid="">
              <p:embed/>
              <p:pic>
                <p:nvPicPr>
                  <p:cNvPr id="142" name="" descr=""/>
                  <p:cNvPicPr/>
                  <p:nvPr/>
                </p:nvPicPr>
                <p:blipFill>
                  <a:blip r:embed="rId2"/>
                  <a:stretch/>
                </p:blipFill>
                <p:spPr>
                  <a:xfrm>
                    <a:off x="4460760" y="2212920"/>
                    <a:ext cx="4532400" cy="3397320"/>
                  </a:xfrm>
                  <a:prstGeom prst="rect">
                    <a:avLst/>
                  </a:prstGeom>
                  <a:ln w="0">
                    <a:noFill/>
                  </a:ln>
                </p:spPr>
              </p:pic>
            </p:oleObj>
          </a:graphicData>
        </a:graphic>
      </p:graphicFrame>
      <p:sp>
        <p:nvSpPr>
          <p:cNvPr id="143" name=""/>
          <p:cNvSpPr/>
          <p:nvPr/>
        </p:nvSpPr>
        <p:spPr>
          <a:xfrm>
            <a:off x="414360" y="5715000"/>
            <a:ext cx="830592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Sep00 - 802.16 Session #9 was notable for major progress in all Task Group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for a Working Group decision to use a single MAC across all project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55A128E-88E1-47B7-B64E-98E5BAFB6C49}" type="slidenum">
              <a:t>31</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4" name=""/>
          <p:cNvGraphicFramePr/>
          <p:nvPr/>
        </p:nvGraphicFramePr>
        <p:xfrm>
          <a:off x="1306440" y="3678120"/>
          <a:ext cx="6523200" cy="2711520"/>
        </p:xfrm>
        <a:graphic>
          <a:graphicData uri="http://schemas.openxmlformats.org/presentationml/2006/ole">
            <p:oleObj r:id="rId1" spid="">
              <p:embed/>
              <p:pic>
                <p:nvPicPr>
                  <p:cNvPr id="145" name="" descr=""/>
                  <p:cNvPicPr/>
                  <p:nvPr/>
                </p:nvPicPr>
                <p:blipFill>
                  <a:blip r:embed="rId2"/>
                  <a:stretch/>
                </p:blipFill>
                <p:spPr>
                  <a:xfrm>
                    <a:off x="1306440" y="3678120"/>
                    <a:ext cx="6523200" cy="2711520"/>
                  </a:xfrm>
                  <a:prstGeom prst="rect">
                    <a:avLst/>
                  </a:prstGeom>
                  <a:ln w="0">
                    <a:noFill/>
                  </a:ln>
                </p:spPr>
              </p:pic>
            </p:oleObj>
          </a:graphicData>
        </a:graphic>
      </p:graphicFrame>
      <p:graphicFrame>
        <p:nvGraphicFramePr>
          <p:cNvPr id="146" name=""/>
          <p:cNvGraphicFramePr/>
          <p:nvPr/>
        </p:nvGraphicFramePr>
        <p:xfrm>
          <a:off x="457200" y="660240"/>
          <a:ext cx="8218440" cy="2533680"/>
        </p:xfrm>
        <a:graphic>
          <a:graphicData uri="http://schemas.openxmlformats.org/presentationml/2006/ole">
            <p:oleObj r:id="rId3" spid="">
              <p:embed/>
              <p:pic>
                <p:nvPicPr>
                  <p:cNvPr id="147" name="" descr=""/>
                  <p:cNvPicPr/>
                  <p:nvPr/>
                </p:nvPicPr>
                <p:blipFill>
                  <a:blip r:embed="rId4"/>
                  <a:stretch/>
                </p:blipFill>
                <p:spPr>
                  <a:xfrm>
                    <a:off x="457200" y="660240"/>
                    <a:ext cx="8218440" cy="2533680"/>
                  </a:xfrm>
                  <a:prstGeom prst="rect">
                    <a:avLst/>
                  </a:prstGeom>
                  <a:ln w="0">
                    <a:noFill/>
                  </a:ln>
                </p:spPr>
              </p:pic>
            </p:oleObj>
          </a:graphicData>
        </a:graphic>
      </p:graphicFrame>
      <p:sp>
        <p:nvSpPr>
          <p:cNvPr id="2" name="PlaceHolder 1"/>
          <p:cNvSpPr>
            <a:spLocks noGrp="1"/>
          </p:cNvSpPr>
          <p:nvPr>
            <p:ph type="ftr" idx="2"/>
          </p:nvPr>
        </p:nvSpPr>
        <p:spPr/>
        <p:txBody>
          <a:bodyPr/>
          <a:p>
            <a:r>
              <a:t>Ian Gifford, M/A-COM, Inc.</a:t>
            </a:r>
          </a:p>
        </p:txBody>
      </p:sp>
      <p:sp>
        <p:nvSpPr>
          <p:cNvPr id="3" name="PlaceHolder 2"/>
          <p:cNvSpPr>
            <a:spLocks noGrp="1"/>
          </p:cNvSpPr>
          <p:nvPr>
            <p:ph type="sldNum" idx="3"/>
          </p:nvPr>
        </p:nvSpPr>
        <p:spPr/>
        <p:txBody>
          <a:bodyPr/>
          <a:p>
            <a:fld id="{4FCFF1E6-B1E6-4348-A0B9-A9AA51820A30}" type="slidenum">
              <a:t>32</a:t>
            </a:fld>
          </a:p>
        </p:txBody>
      </p:sp>
      <p:sp>
        <p:nvSpPr>
          <p:cNvPr id="4" name="PlaceHolder 3"/>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servation #2</a:t>
            </a:r>
            <a:br>
              <a:rPr sz="4400"/>
            </a:br>
            <a:r>
              <a:rPr b="0" lang="en-US" sz="4400" spc="-1" strike="noStrike">
                <a:solidFill>
                  <a:srgbClr val="000000"/>
                </a:solidFill>
                <a:latin typeface="Times New Roman"/>
              </a:rPr>
              <a:t>- </a:t>
            </a:r>
            <a:r>
              <a:rPr b="0" lang="en-US" sz="4000" spc="-1" strike="noStrike">
                <a:solidFill>
                  <a:srgbClr val="000000"/>
                </a:solidFill>
                <a:latin typeface="Times New Roman"/>
              </a:rPr>
              <a:t>Stds take ~32 months to complete </a:t>
            </a:r>
            <a:endParaRPr b="0" lang="en-US" sz="40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atistics show that standards take approximately 32 months to complete based on standards projects between the years 1990 and 1995.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ception is that standards developed take too long, while in reality many do no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 must promote the fact that our standards are produced quickly.</a:t>
            </a:r>
            <a:endParaRPr b="0" lang="en-US" sz="2800" spc="-1" strike="noStrike">
              <a:solidFill>
                <a:srgbClr val="000000"/>
              </a:solidFill>
              <a:latin typeface="Times New Roman"/>
            </a:endParaRPr>
          </a:p>
        </p:txBody>
      </p:sp>
      <p:sp>
        <p:nvSpPr>
          <p:cNvPr id="150" name=""/>
          <p:cNvSpPr/>
          <p:nvPr/>
        </p:nvSpPr>
        <p:spPr>
          <a:xfrm>
            <a:off x="414360" y="5791320"/>
            <a:ext cx="830592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5.1 started Jul99; current planning for RevCom is 3Aug01 - ~24mo</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953C315-3D2C-417F-9483-C002739E51C0}" type="slidenum">
              <a:t>33</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servation #3 Electronic Balloting</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date there have been more than 30 successful electronic ballots.  The service that the balloting center provides is reliable and valid.  Invitations are still done by mail, and an email message goes to the balloting group giving the opening and closing date, the draft site, and the comment site.  Votes and comments are emailed to the WG Chai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E9AE5F3-CDBF-4E3E-A0FA-38C728D5BB95}" type="slidenum">
              <a:t>34</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servation #3</a:t>
            </a:r>
            <a:br>
              <a:rPr sz="4400"/>
            </a:br>
            <a:r>
              <a:rPr b="0" lang="en-US" sz="4400" spc="-1" strike="noStrike">
                <a:solidFill>
                  <a:srgbClr val="000000"/>
                </a:solidFill>
                <a:latin typeface="Times New Roman"/>
              </a:rPr>
              <a:t>Electronic Balloting (cont.)</a:t>
            </a: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enefits of e-balloting are savings of both time and money, and it is a quick and convenient process for members.  Other benefits include:</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ent fields repopulat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comment uploa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phics with comment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its, instructions and link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llot summary report in pdf forma</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ext step is to provide the invitation to ballot electronicall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8339C3F-34DA-4376-B40D-83B492479894}" type="slidenum">
              <a:t>35</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servation #4 -</a:t>
            </a:r>
            <a:br>
              <a:rPr sz="4400"/>
            </a:br>
            <a:r>
              <a:rPr b="0" lang="en-US" sz="4400" spc="-1" strike="noStrike">
                <a:solidFill>
                  <a:srgbClr val="000000"/>
                </a:solidFill>
                <a:latin typeface="Times New Roman"/>
              </a:rPr>
              <a:t>2000 Membership Statistics</a:t>
            </a: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SA Individual Membership total is </a:t>
            </a:r>
            <a:r>
              <a:rPr b="0" lang="en-US" sz="3200" spc="-1" strike="noStrike">
                <a:solidFill>
                  <a:srgbClr val="ff0000"/>
                </a:solidFill>
                <a:latin typeface="Times New Roman"/>
              </a:rPr>
              <a:t>5968</a:t>
            </a:r>
            <a:r>
              <a:rPr b="0" lang="en-US" sz="3200" spc="-1" strike="noStrike">
                <a:solidFill>
                  <a:srgbClr val="000000"/>
                </a:solidFill>
                <a:latin typeface="Times New Roman"/>
              </a:rPr>
              <a:t> as of 15 Augu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SA Members (who ballot) total </a:t>
            </a:r>
            <a:r>
              <a:rPr b="0" lang="en-US" sz="3200" spc="-1" strike="noStrike">
                <a:solidFill>
                  <a:srgbClr val="ff0000"/>
                </a:solidFill>
                <a:latin typeface="Times New Roman"/>
              </a:rPr>
              <a:t>592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Members total - </a:t>
            </a:r>
            <a:r>
              <a:rPr b="0" lang="en-US" sz="3200" spc="-1" strike="noStrike">
                <a:solidFill>
                  <a:srgbClr val="ff0000"/>
                </a:solidFill>
                <a:latin typeface="Times New Roman"/>
              </a:rPr>
              <a:t>368,22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ifornia, Region 6, has the most membership in both the IEEE and IEEE-SA.</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CFCB90B-5459-4115-B031-C72A3969C1B1}" type="slidenum">
              <a:t>36</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servation #4 – Free Standards and Drafts</a:t>
            </a: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5 document exchange quite open and liber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5 draft standards are currently limited due to IEEE copyright restrictions, we anticipate those restrictions ending by the end of this year due to a change of policy in which IEEE 802 standards may become available free of charge. In such a case, we expect to remove the restrictions on our drafts.</a:t>
            </a:r>
            <a:endParaRPr b="0" lang="en-US" sz="2800" spc="-1" strike="noStrike">
              <a:solidFill>
                <a:srgbClr val="000000"/>
              </a:solidFill>
              <a:latin typeface="Times New Roman"/>
            </a:endParaRPr>
          </a:p>
        </p:txBody>
      </p:sp>
      <p:sp>
        <p:nvSpPr>
          <p:cNvPr id="159" name=""/>
          <p:cNvSpPr/>
          <p:nvPr/>
        </p:nvSpPr>
        <p:spPr>
          <a:xfrm>
            <a:off x="414360" y="5791320"/>
            <a:ext cx="830592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restrict 2 IEEE Std 802.15.1-[D0.6 &amp; D0.7.2] draft versions and their SDL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7AB4D6D-50F0-4888-AF53-BE91B3E076E0}" type="slidenum">
              <a:t>37</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vious Liaison Reports On Web, Server &amp; Flash Card(s)</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1 -99/005r0 [99005r0P802-15_Liaison-Report.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2 -99/029r0 [99029r0P802-15_Liaison-Report-2.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3 -99/063r1 [99063r1P802-15_Liaison-Report-3.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4 -99/124r0 [99124r0P802-15_Liaison-Report-4.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5 -99/174r0 [99174r0P802-15_WG-Liaison-Report-5.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6 -00/037r1 [00037r1P802-15_WG-Liaison-Report-6.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7 -00/118r0 [00118r1P802-15_WG-Liaison-Report-7.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8 -00/182r0 [00182r0P802-15_WG-Liaison-Report-8.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9 -00/266r0 [00266r0P802-15_WG-Liaison-Report-9.pp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B3BF4C9-C902-417C-B002-54C2D8D4B115}" type="slidenum">
              <a:t>38</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jectives</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as a Value 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802 as a leader in Wireless Standards-Ma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P802.15 as an expert in WP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Receive Draft Standard Submissions from External and Internal (IEEE) from our Liaison activit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4660E7E-FCBC-4C98-956B-8D2A5D747E4A}" type="slidenum">
              <a:t>4</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Summary</a:t>
            </a:r>
            <a:endParaRPr b="0" lang="en-US" sz="4400" spc="-1" strike="noStrike">
              <a:solidFill>
                <a:srgbClr val="000000"/>
              </a:solidFill>
              <a:latin typeface="Times New Roman"/>
            </a:endParaRPr>
          </a:p>
        </p:txBody>
      </p:sp>
      <p:sp>
        <p:nvSpPr>
          <p:cNvPr id="6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6000"/>
          </a:bodyPr>
          <a:p>
            <a:pPr marL="329040" indent="-329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e Liaison List</a:t>
            </a:r>
            <a:endParaRPr b="0" lang="en-US" sz="18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uetooth™ Special Interest Group (Gifford/Kardach/Truntzer)</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802.11 (Kraemer/Kerry)</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802.16 (/RogerM )</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a:t>
            </a:r>
            <a:endParaRPr b="0" lang="en-US" sz="1600" spc="-1" strike="noStrike">
              <a:solidFill>
                <a:srgbClr val="000000"/>
              </a:solidFill>
              <a:latin typeface="Times New Roman"/>
            </a:endParaRPr>
          </a:p>
          <a:p>
            <a:pPr lvl="2" marL="1042200" indent="-2192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s Activities, Standards Publishing Programs (Gifford/Tatiner)</a:t>
            </a:r>
            <a:endParaRPr b="0" lang="en-US" sz="1400" spc="-1" strike="noStrike">
              <a:solidFill>
                <a:srgbClr val="000000"/>
              </a:solidFill>
              <a:latin typeface="Times New Roman"/>
            </a:endParaRPr>
          </a:p>
          <a:p>
            <a:pPr lvl="2" marL="1042200" indent="-2192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Standards Dept., Balloting Center (Gifford/Kahofer)</a:t>
            </a:r>
            <a:endParaRPr b="0" lang="en-US" sz="14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G2 Coexistence Letter to Academia (Shellhammer/)</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gital Imaging Group (Allen/)</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LANA (/DiCillo)</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SRC (/Kurihara)</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SI BRAN (?/Khun-Jush)</a:t>
            </a:r>
            <a:endParaRPr b="0" lang="en-US" sz="1600" spc="-1" strike="noStrike">
              <a:solidFill>
                <a:srgbClr val="000000"/>
              </a:solidFill>
              <a:latin typeface="Times New Roman"/>
            </a:endParaRPr>
          </a:p>
        </p:txBody>
      </p:sp>
      <p:sp>
        <p:nvSpPr>
          <p:cNvPr id="68"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active Liaison List</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 (/Lindinsky)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2 (/Carlso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M Forum WATM (/Delaverso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meRF Working Group (/Manny)</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TF (Heil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rDA (/McKay)</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WBWG (/Withingto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P Forum (/Parrish)</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CA (?)</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Liaisons?</a:t>
            </a:r>
            <a:endParaRPr b="0" lang="en-US" sz="2000" spc="-1" strike="noStrike">
              <a:solidFill>
                <a:srgbClr val="000000"/>
              </a:solidFill>
              <a:latin typeface="Times New Roman"/>
            </a:endParaRPr>
          </a:p>
        </p:txBody>
      </p:sp>
      <p:sp>
        <p:nvSpPr>
          <p:cNvPr id="69" name=""/>
          <p:cNvSpPr/>
          <p:nvPr/>
        </p:nvSpPr>
        <p:spPr>
          <a:xfrm>
            <a:off x="7013520" y="5867280"/>
            <a:ext cx="1590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1: 802.15/Liais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2: ? Unknown</a:t>
            </a: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Ian Gifford, M/A-COM, Inc.</a:t>
            </a:r>
          </a:p>
        </p:txBody>
      </p:sp>
      <p:sp>
        <p:nvSpPr>
          <p:cNvPr id="6" name="PlaceHolder 5"/>
          <p:cNvSpPr>
            <a:spLocks noGrp="1"/>
          </p:cNvSpPr>
          <p:nvPr>
            <p:ph type="sldNum" idx="3"/>
          </p:nvPr>
        </p:nvSpPr>
        <p:spPr/>
        <p:txBody>
          <a:bodyPr/>
          <a:p>
            <a:fld id="{DB16E8BE-4196-4BD7-9EFA-56EF8CD4F9BA}" type="slidenum">
              <a:t>5</a:t>
            </a:fld>
          </a:p>
        </p:txBody>
      </p:sp>
      <p:sp>
        <p:nvSpPr>
          <p:cNvPr id="7" name="PlaceHolder 6"/>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79908C6-4F70-415B-A410-86962C905155}" type="slidenum">
              <a:t>6</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Report</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lecon &amp; Meetings</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Nov00 BSIG PM and IEEE</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scellaneous</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s to Bluetooth SIG</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Nov00 Follow up on Bluetooth open action item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scellaneous</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s from Bluetooth SIG</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Nov00 Follow up on BSIG-IEEE Action Item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scellaneous</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 Steps</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pdate BSIG PM during Session #9/Tampa</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Dec00 BSIG Development Conference</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N/MAN 802.15 Balloting Pool, promote to BSIG PM</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uetooth SIGnal Editor/Publisher and Issue No. 7, 8, 9, etc., follow up</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19C1A1D-01B7-4B0C-BE73-08FAF3D6F1F1}" type="slidenum">
              <a:t>7</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G1 Schedule and synch with Bluetooth 1.x</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SIG Position:</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T v1.1 spec schedule is gated by:</a:t>
            </a:r>
            <a:endParaRPr b="0" lang="en-US" sz="2400" spc="-1" strike="noStrike">
              <a:solidFill>
                <a:srgbClr val="000000"/>
              </a:solidFill>
              <a:latin typeface="Times New Roman"/>
            </a:endParaRPr>
          </a:p>
          <a:p>
            <a:pPr lvl="2" marL="97704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edback from UnPlugFest-4 (Nov 5-9)</a:t>
            </a:r>
            <a:endParaRPr b="0" lang="en-US" sz="2000" spc="-1" strike="noStrike">
              <a:solidFill>
                <a:srgbClr val="000000"/>
              </a:solidFill>
              <a:latin typeface="Times New Roman"/>
            </a:endParaRPr>
          </a:p>
          <a:p>
            <a:pPr lvl="2" marL="97704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lution of editing problems by Open Group</a:t>
            </a:r>
            <a:endParaRPr b="0" lang="en-US" sz="20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 BT v1.1 target dates:</a:t>
            </a:r>
            <a:endParaRPr b="0" lang="en-US" sz="2400" spc="-1" strike="noStrike">
              <a:solidFill>
                <a:srgbClr val="000000"/>
              </a:solidFill>
              <a:latin typeface="Times New Roman"/>
            </a:endParaRPr>
          </a:p>
          <a:p>
            <a:pPr lvl="2" marL="97704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 draft 11/24</a:t>
            </a:r>
            <a:endParaRPr b="0" lang="en-US" sz="2000" spc="-1" strike="noStrike">
              <a:solidFill>
                <a:srgbClr val="000000"/>
              </a:solidFill>
              <a:latin typeface="Times New Roman"/>
            </a:endParaRPr>
          </a:p>
          <a:p>
            <a:pPr lvl="2" marL="97704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draft issued 12/8</a:t>
            </a:r>
            <a:endParaRPr b="0" lang="en-US" sz="2000" spc="-1" strike="noStrike">
              <a:solidFill>
                <a:srgbClr val="000000"/>
              </a:solidFill>
              <a:latin typeface="Times New Roman"/>
            </a:endParaRPr>
          </a:p>
          <a:p>
            <a:pPr lvl="2" marL="97704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 adoption 12/29/00</a:t>
            </a:r>
            <a:endParaRPr b="0" lang="en-US" sz="20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SIG recommendation:</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 for </a:t>
            </a:r>
            <a:r>
              <a:rPr b="0" lang="en-US" sz="2400" spc="-1" strike="noStrike">
                <a:solidFill>
                  <a:srgbClr val="ff0000"/>
                </a:solidFill>
                <a:latin typeface="Times New Roman"/>
              </a:rPr>
              <a:t>IEEE scenario B</a:t>
            </a:r>
            <a:endParaRPr b="0" lang="en-US" sz="2400" spc="-1" strike="noStrike">
              <a:solidFill>
                <a:srgbClr val="000000"/>
              </a:solidFill>
              <a:latin typeface="Times New Roman"/>
            </a:endParaRPr>
          </a:p>
          <a:p>
            <a:pPr lvl="2" marL="97704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01  4th Draft 0.9 ready for WG LB(7) (Jan-Feb).</a:t>
            </a:r>
            <a:endParaRPr b="0" lang="en-US" sz="2000" spc="-1" strike="noStrike">
              <a:solidFill>
                <a:srgbClr val="000000"/>
              </a:solidFill>
              <a:latin typeface="Times New Roman"/>
            </a:endParaRPr>
          </a:p>
          <a:p>
            <a:pPr lvl="2" marL="97704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01  Draft 1.0 ready for IEEE sponsor ballot.</a:t>
            </a:r>
            <a:endParaRPr b="0" lang="en-US" sz="2000" spc="-1" strike="noStrike">
              <a:solidFill>
                <a:srgbClr val="000000"/>
              </a:solidFill>
              <a:latin typeface="Times New Roman"/>
            </a:endParaRPr>
          </a:p>
        </p:txBody>
      </p:sp>
      <p:sp>
        <p:nvSpPr>
          <p:cNvPr id="76" name=""/>
          <p:cNvSpPr/>
          <p:nvPr/>
        </p:nvSpPr>
        <p:spPr>
          <a:xfrm>
            <a:off x="81720" y="106200"/>
            <a:ext cx="222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rancis Truntzer 3Nov0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38EC8BB-4614-4A96-B97B-C584B014182A}" type="slidenum">
              <a:t>8</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 Planning</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enario A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SIG v1.1=IEEE Std 802.15.1-[2001])</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enario B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SIG v1.1=IEEE Std 802.15.1-[2001])</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enario C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SIG v1.x=IEEE Std 802.15.1-[2002])</a:t>
            </a:r>
            <a:endParaRPr b="0" lang="en-US" sz="2800" spc="-1" strike="noStrike">
              <a:solidFill>
                <a:srgbClr val="000000"/>
              </a:solidFill>
              <a:latin typeface="Times New Roman"/>
            </a:endParaRPr>
          </a:p>
        </p:txBody>
      </p:sp>
      <p:sp>
        <p:nvSpPr>
          <p:cNvPr id="79" name=""/>
          <p:cNvSpPr/>
          <p:nvPr/>
        </p:nvSpPr>
        <p:spPr>
          <a:xfrm>
            <a:off x="304920" y="5791320"/>
            <a:ext cx="853416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scenarios depict possible futures but not specific strategies to deal wit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m, it makes sense to invite outsiders into this process.  Ergo CF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0679672-0AE2-40E0-A21B-81E785D39FDE}" type="slidenum">
              <a:t>9</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Ian C. Gifford</dc:creator>
  <dc:description>Ian Gifford, M/A-COM, Inc.</dc:description>
  <cp:keywords>November 2000</cp:keywords>
  <dc:language>en-US</dc:language>
  <cp:lastModifiedBy>Ian C. Gifford</cp:lastModifiedBy>
  <cp:lastPrinted>1998-02-10T13:28:06Z</cp:lastPrinted>
  <dcterms:modified xsi:type="dcterms:W3CDTF">2000-11-09T03:25:22Z</dcterms:modified>
  <cp:revision>273</cp:revision>
  <dc:subject>#10</dc:subject>
  <dc:title>Liaison Report</dc:title>
</cp:coreProperties>
</file>