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8129588" cy="6099175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0600" y="330624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15548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7496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5896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060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7496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5896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90600" y="1267920"/>
            <a:ext cx="73468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73468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7360" y="324720"/>
            <a:ext cx="735480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0600" y="1267920"/>
            <a:ext cx="73468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5548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0600" y="330624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15548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7496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8960" y="126792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9060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7496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358960" y="3306240"/>
            <a:ext cx="23655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73468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324720"/>
            <a:ext cx="735480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55480" y="330624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5480" y="1267920"/>
            <a:ext cx="358524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600" y="3306240"/>
            <a:ext cx="73468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600" spc="-1" strike="noStrike">
                <a:solidFill>
                  <a:srgbClr val="f4d37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267920"/>
            <a:ext cx="73468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06440" indent="-406440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79360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279720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Font typeface="Arial"/>
              <a:buChar char="-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08160" indent="-279360">
              <a:lnSpc>
                <a:spcPct val="95000"/>
              </a:lnSpc>
              <a:spcAft>
                <a:spcPts val="1400"/>
              </a:spcAft>
              <a:buClr>
                <a:srgbClr val="00ffff"/>
              </a:buClr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08160" indent="-279360">
              <a:lnSpc>
                <a:spcPct val="95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08160" indent="-279360">
              <a:lnSpc>
                <a:spcPct val="95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983880"/>
            <a:ext cx="69343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5600" spc="-1" strike="noStrike">
                <a:solidFill>
                  <a:srgbClr val="f4d376"/>
                </a:solidFill>
                <a:latin typeface="Arial"/>
              </a:rPr>
              <a:t>Click to edit the title text format</a:t>
            </a:r>
            <a:endParaRPr b="1" lang="en-US" sz="5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06440" y="1426680"/>
            <a:ext cx="7315560" cy="35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lnSpc>
                <a:spcPct val="9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73680" indent="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47720" indent="210240" algn="ctr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Font typeface="Arial"/>
              <a:buChar char="•"/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121760" indent="198360" algn="ctr">
              <a:lnSpc>
                <a:spcPct val="95000"/>
              </a:lnSpc>
              <a:spcAft>
                <a:spcPts val="1400"/>
              </a:spcAft>
              <a:buClr>
                <a:srgbClr val="f4d376"/>
              </a:buClr>
              <a:buFont typeface="Arial"/>
              <a:buChar char="-"/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451520" indent="230760" algn="ctr">
              <a:lnSpc>
                <a:spcPct val="95000"/>
              </a:lnSpc>
              <a:spcAft>
                <a:spcPts val="1225"/>
              </a:spcAft>
              <a:buClr>
                <a:srgbClr val="00ffff"/>
              </a:buClr>
              <a:buFont typeface="Wingdings" charset="2"/>
              <a:buChar char=""/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451520" indent="23076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451520" indent="23076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undersea" descr=""/>
          <p:cNvPicPr/>
          <p:nvPr/>
        </p:nvPicPr>
        <p:blipFill>
          <a:blip r:embed="rId2"/>
          <a:stretch/>
        </p:blipFill>
        <p:spPr>
          <a:xfrm>
            <a:off x="0" y="0"/>
            <a:ext cx="8129520" cy="6099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1752120"/>
            <a:ext cx="74041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5600" spc="-1" strike="noStrike">
                <a:solidFill>
                  <a:srgbClr val="f4d376"/>
                </a:solidFill>
                <a:latin typeface="Arial"/>
              </a:rPr>
              <a:t>Precision Agriculture</a:t>
            </a:r>
            <a:endParaRPr b="1" lang="en-US" sz="5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0920" y="2658600"/>
            <a:ext cx="69310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Arial"/>
              </a:rPr>
              <a:t>Smart Farm Sta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Mot._Labs.Hrzntl_frmt.jpeg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812880" y="0"/>
            <a:ext cx="6502320" cy="1077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440" y="1084320"/>
            <a:ext cx="7316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06440" y="5827680"/>
            <a:ext cx="731664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7000" y="420372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unxin Li and Raymond W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otorola Australian Research C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Changing Farm Environment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4280" y="1179000"/>
            <a:ext cx="498312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0644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erging and Consolidati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Run by corporations instead of famil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rger areas per f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creasing Global Compe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roifits from crop quality as well as quant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osts and productivity impr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7936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ore sophysticated machinery and equipment per far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ustainable grow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creasing Environmental Concer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and and environment conser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olution re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799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atural disaster damag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tall3" descr=""/>
          <p:cNvPicPr/>
          <p:nvPr/>
        </p:nvPicPr>
        <p:blipFill>
          <a:blip r:embed="rId2"/>
          <a:stretch/>
        </p:blipFill>
        <p:spPr>
          <a:xfrm>
            <a:off x="5451480" y="1436760"/>
            <a:ext cx="2379600" cy="356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Evolving Farming Technology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080" y="950760"/>
            <a:ext cx="326700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0644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Electrical and mechani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ardware orien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anual and on-sit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dependent dumb mach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ser and environment dem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npredictable quality and quant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29280" y="912600"/>
            <a:ext cx="3597120" cy="23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40644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oftware orien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utomatic and remote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tworked smart mach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ser and environment friend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redictable in quality and quant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70080"/>
            <a:ext cx="2997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6480" y="1257480"/>
            <a:ext cx="275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machine" descr=""/>
          <p:cNvPicPr/>
          <p:nvPr/>
        </p:nvPicPr>
        <p:blipFill>
          <a:blip r:embed="rId2"/>
          <a:stretch/>
        </p:blipFill>
        <p:spPr>
          <a:xfrm>
            <a:off x="4610160" y="3684600"/>
            <a:ext cx="2781360" cy="222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farmer1" descr=""/>
          <p:cNvPicPr/>
          <p:nvPr/>
        </p:nvPicPr>
        <p:blipFill>
          <a:blip r:embed="rId3"/>
          <a:stretch/>
        </p:blipFill>
        <p:spPr>
          <a:xfrm>
            <a:off x="660240" y="3745080"/>
            <a:ext cx="2667240" cy="218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581280" y="2806560"/>
            <a:ext cx="1067040" cy="52092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9480 h 520920"/>
              <a:gd name="textAreaBottom" fmla="*/ 451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ackground" descr=""/>
          <p:cNvPicPr/>
          <p:nvPr/>
        </p:nvPicPr>
        <p:blipFill>
          <a:blip r:embed="rId2"/>
          <a:stretch/>
        </p:blipFill>
        <p:spPr>
          <a:xfrm>
            <a:off x="1341360" y="735120"/>
            <a:ext cx="551340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554040" y="4495680"/>
            <a:ext cx="737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Precision Agriculture is an environment friendly system solution that optimizes product quality and quantity while minimising cost, human intervention and the variation caused by unpredictable na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440" y="451800"/>
            <a:ext cx="73551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Precision Agriculture Solutions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03040" y="1054440"/>
            <a:ext cx="4787640" cy="4720680"/>
            <a:chOff x="203040" y="1054440"/>
            <a:chExt cx="4787640" cy="4720680"/>
          </a:xfrm>
        </p:grpSpPr>
        <p:sp>
          <p:nvSpPr>
            <p:cNvPr id="98" name=""/>
            <p:cNvSpPr/>
            <p:nvPr/>
          </p:nvSpPr>
          <p:spPr>
            <a:xfrm>
              <a:off x="3593160" y="1093680"/>
              <a:ext cx="1397520" cy="14742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97920" y="2471760"/>
              <a:ext cx="1793880" cy="16254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040" y="3971880"/>
              <a:ext cx="1774080" cy="1803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datacollect" descr=""/>
            <p:cNvPicPr/>
            <p:nvPr/>
          </p:nvPicPr>
          <p:blipFill>
            <a:blip r:embed="rId2"/>
            <a:stretch/>
          </p:blipFill>
          <p:spPr>
            <a:xfrm>
              <a:off x="272160" y="4061520"/>
              <a:ext cx="1658880" cy="16448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aphicFrame>
          <p:nvGraphicFramePr>
            <p:cNvPr id="102" name=""/>
            <p:cNvGraphicFramePr/>
            <p:nvPr/>
          </p:nvGraphicFramePr>
          <p:xfrm>
            <a:off x="1943640" y="2554200"/>
            <a:ext cx="1699920" cy="146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43640" y="2554200"/>
                      <a:ext cx="1699920" cy="14673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104" name="Closeup2" descr=""/>
            <p:cNvPicPr/>
            <p:nvPr/>
          </p:nvPicPr>
          <p:blipFill>
            <a:blip r:embed="rId5"/>
            <a:stretch/>
          </p:blipFill>
          <p:spPr>
            <a:xfrm>
              <a:off x="3645360" y="1178280"/>
              <a:ext cx="1288440" cy="1288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 rot="18657600">
              <a:off x="542160" y="3139920"/>
              <a:ext cx="1796400" cy="232920"/>
            </a:xfrm>
            <a:custGeom>
              <a:avLst/>
              <a:gdLst>
                <a:gd name="textAreaLeft" fmla="*/ 314280 w 1796400"/>
                <a:gd name="textAreaRight" fmla="*/ 1302480 w 1796400"/>
                <a:gd name="textAreaTop" fmla="*/ 30960 h 232920"/>
                <a:gd name="textAreaBottom" fmla="*/ 20196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657600">
              <a:off x="2237400" y="1692720"/>
              <a:ext cx="1796760" cy="232920"/>
            </a:xfrm>
            <a:custGeom>
              <a:avLst/>
              <a:gdLst>
                <a:gd name="textAreaLeft" fmla="*/ 314280 w 1796760"/>
                <a:gd name="textAreaRight" fmla="*/ 1302840 w 1796760"/>
                <a:gd name="textAreaTop" fmla="*/ 30960 h 232920"/>
                <a:gd name="textAreaBottom" fmla="*/ 20196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06640" y="4746600"/>
            <a:ext cx="181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70200" y="303516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d, Bul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em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16600" y="977760"/>
            <a:ext cx="311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integ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97360" y="1854360"/>
            <a:ext cx="2425680" cy="2844720"/>
          </a:xfrm>
          <a:custGeom>
            <a:avLst/>
            <a:gdLst/>
            <a:ahLst/>
            <a:rect l="l" t="t" r="r" b="b"/>
            <a:pathLst>
              <a:path w="1544" h="1808">
                <a:moveTo>
                  <a:pt x="0" y="776"/>
                </a:moveTo>
                <a:lnTo>
                  <a:pt x="1544" y="0"/>
                </a:lnTo>
                <a:lnTo>
                  <a:pt x="1544" y="1808"/>
                </a:lnTo>
                <a:lnTo>
                  <a:pt x="0" y="1112"/>
                </a:lnTo>
                <a:lnTo>
                  <a:pt x="0" y="776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lin ang="108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59120" y="4533840"/>
            <a:ext cx="1892520" cy="1382760"/>
          </a:xfrm>
          <a:prstGeom prst="ellipse">
            <a:avLst/>
          </a:prstGeom>
          <a:solidFill>
            <a:srgbClr val="fbfa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360" y="3121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System Architecture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7280" y="4630680"/>
            <a:ext cx="1325520" cy="11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85880" y="4362480"/>
            <a:ext cx="1478160" cy="97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76200" y="3279600"/>
            <a:ext cx="76032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143000" y="3428640"/>
            <a:ext cx="723960" cy="10796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07040" y="5378400"/>
            <a:ext cx="825480" cy="30708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5370480"/>
            <a:ext cx="1168560" cy="30708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Farmho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54280" y="4784760"/>
            <a:ext cx="1523880" cy="2937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16120" y="5256360"/>
            <a:ext cx="1524240" cy="558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2760" y="5116680"/>
            <a:ext cx="152280" cy="144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952560" y="3378240"/>
            <a:ext cx="825480" cy="419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3040" y="4697280"/>
            <a:ext cx="1384560" cy="30708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Base S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84200" y="2184480"/>
            <a:ext cx="1752840" cy="1701720"/>
            <a:chOff x="1384200" y="2184480"/>
            <a:chExt cx="1752840" cy="1701720"/>
          </a:xfrm>
        </p:grpSpPr>
        <p:sp>
          <p:nvSpPr>
            <p:cNvPr id="125" name=""/>
            <p:cNvSpPr/>
            <p:nvPr/>
          </p:nvSpPr>
          <p:spPr>
            <a:xfrm>
              <a:off x="2052720" y="2798640"/>
              <a:ext cx="619200" cy="538200"/>
            </a:xfrm>
            <a:prstGeom prst="hexagon">
              <a:avLst>
                <a:gd name="adj" fmla="val 28763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87600" y="3093840"/>
              <a:ext cx="617400" cy="538200"/>
            </a:xfrm>
            <a:prstGeom prst="hexagon">
              <a:avLst>
                <a:gd name="adj" fmla="val 28679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7600" y="2544840"/>
              <a:ext cx="617400" cy="538200"/>
            </a:xfrm>
            <a:prstGeom prst="hexagon">
              <a:avLst>
                <a:gd name="adj" fmla="val 28679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9280" y="2544840"/>
              <a:ext cx="617760" cy="538200"/>
            </a:xfrm>
            <a:prstGeom prst="hexagon">
              <a:avLst>
                <a:gd name="adj" fmla="val 28696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2720" y="2260440"/>
              <a:ext cx="619200" cy="538200"/>
            </a:xfrm>
            <a:prstGeom prst="hexagon">
              <a:avLst>
                <a:gd name="adj" fmla="val 28763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43000" y="3348000"/>
              <a:ext cx="617760" cy="538200"/>
            </a:xfrm>
            <a:prstGeom prst="hexagon">
              <a:avLst>
                <a:gd name="adj" fmla="val 28696"/>
                <a:gd name="vf" fmla="val 115470"/>
              </a:avLst>
            </a:prstGeom>
            <a:noFill/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8120" y="3083040"/>
              <a:ext cx="619200" cy="539640"/>
            </a:xfrm>
            <a:prstGeom prst="hexagon">
              <a:avLst>
                <a:gd name="adj" fmla="val 28686"/>
                <a:gd name="vf" fmla="val 115470"/>
              </a:avLst>
            </a:prstGeom>
            <a:solidFill>
              <a:srgbClr val="006666"/>
            </a:solidFill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2502000"/>
              <a:ext cx="114480" cy="114120"/>
            </a:xfrm>
            <a:prstGeom prst="ellipse">
              <a:avLst/>
            </a:prstGeom>
            <a:solidFill>
              <a:srgbClr val="f163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54360" y="3289320"/>
              <a:ext cx="114120" cy="114120"/>
            </a:xfrm>
            <a:prstGeom prst="ellipse">
              <a:avLst/>
            </a:prstGeom>
            <a:solidFill>
              <a:srgbClr val="f163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84200" y="2184480"/>
              <a:ext cx="533520" cy="68580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499800">
              <a:off x="2442960" y="2627280"/>
              <a:ext cx="468000" cy="60948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789600">
              <a:off x="2138760" y="3045240"/>
              <a:ext cx="468360" cy="60948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55800" y="3289320"/>
              <a:ext cx="114480" cy="114120"/>
            </a:xfrm>
            <a:prstGeom prst="ellipse">
              <a:avLst/>
            </a:prstGeom>
            <a:solidFill>
              <a:srgbClr val="f163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397160"/>
            <a:ext cx="1143000" cy="63144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10-25 ac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Z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838080"/>
            <a:ext cx="1727280" cy="95580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Multi-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10-100m per 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smart anten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84600" y="1854360"/>
            <a:ext cx="3316320" cy="2844720"/>
            <a:chOff x="4584600" y="1854360"/>
            <a:chExt cx="3316320" cy="2844720"/>
          </a:xfrm>
        </p:grpSpPr>
        <p:sp>
          <p:nvSpPr>
            <p:cNvPr id="141" name=""/>
            <p:cNvSpPr/>
            <p:nvPr/>
          </p:nvSpPr>
          <p:spPr>
            <a:xfrm>
              <a:off x="4584600" y="1854360"/>
              <a:ext cx="3316320" cy="2844720"/>
            </a:xfrm>
            <a:prstGeom prst="hexagon">
              <a:avLst>
                <a:gd name="adj" fmla="val 29145"/>
                <a:gd name="vf" fmla="val 115470"/>
              </a:avLst>
            </a:prstGeom>
            <a:solidFill>
              <a:srgbClr val="008080"/>
            </a:solidFill>
            <a:ln w="38160">
              <a:solidFill>
                <a:srgbClr val="f8d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2200" y="3098880"/>
              <a:ext cx="114480" cy="114480"/>
            </a:xfrm>
            <a:prstGeom prst="ellipse">
              <a:avLst/>
            </a:prstGeom>
            <a:solidFill>
              <a:srgbClr val="f163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43200">
              <a:off x="6443640" y="3109680"/>
              <a:ext cx="666720" cy="77472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51560" y="2159280"/>
              <a:ext cx="531720" cy="90144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4833800">
              <a:off x="5570640" y="3258000"/>
              <a:ext cx="506520" cy="90792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4833800">
              <a:off x="6492600" y="2520360"/>
              <a:ext cx="244440" cy="590760"/>
            </a:xfrm>
            <a:custGeom>
              <a:avLst/>
              <a:gdLst/>
              <a:ahLst/>
              <a:rect l="l" t="t" r="r" b="b"/>
              <a:pathLst>
                <a:path w="1344" h="728">
                  <a:moveTo>
                    <a:pt x="0" y="0"/>
                  </a:moveTo>
                  <a:lnTo>
                    <a:pt x="904" y="392"/>
                  </a:lnTo>
                  <a:lnTo>
                    <a:pt x="512" y="368"/>
                  </a:lnTo>
                  <a:lnTo>
                    <a:pt x="1344" y="728"/>
                  </a:lnTo>
                  <a:lnTo>
                    <a:pt x="344" y="344"/>
                  </a:lnTo>
                  <a:lnTo>
                    <a:pt x="608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6920" y="320040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05320" y="3200400"/>
              <a:ext cx="10188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35520" y="3200400"/>
              <a:ext cx="10188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5880" y="429264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320040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18040" y="4292640"/>
              <a:ext cx="10188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4680" y="320040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2520" y="321336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75320" y="199404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56200" y="1994040"/>
              <a:ext cx="10188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37440" y="199404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8320" y="199404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43600" y="2578320"/>
              <a:ext cx="2374920" cy="88920"/>
              <a:chOff x="5043600" y="2578320"/>
              <a:chExt cx="2374920" cy="88920"/>
            </a:xfrm>
          </p:grpSpPr>
          <p:sp>
            <p:nvSpPr>
              <p:cNvPr id="160" name=""/>
              <p:cNvSpPr/>
              <p:nvPr/>
            </p:nvSpPr>
            <p:spPr>
              <a:xfrm>
                <a:off x="5043600" y="257832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21240" y="2578320"/>
                <a:ext cx="10188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00680" y="2578320"/>
                <a:ext cx="10188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80120" y="257832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58120" y="257832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17000" y="257832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37560" y="257832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351480" y="4292640"/>
              <a:ext cx="10188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6480" y="4305240"/>
              <a:ext cx="101520" cy="88920"/>
            </a:xfrm>
            <a:prstGeom prst="triangle">
              <a:avLst>
                <a:gd name="adj" fmla="val 50000"/>
              </a:avLst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056200" y="3810240"/>
              <a:ext cx="2374920" cy="88920"/>
              <a:chOff x="5056200" y="3810240"/>
              <a:chExt cx="2374920" cy="88920"/>
            </a:xfrm>
          </p:grpSpPr>
          <p:sp>
            <p:nvSpPr>
              <p:cNvPr id="170" name=""/>
              <p:cNvSpPr/>
              <p:nvPr/>
            </p:nvSpPr>
            <p:spPr>
              <a:xfrm>
                <a:off x="5056200" y="381024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33840" y="3810240"/>
                <a:ext cx="10188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3810240"/>
                <a:ext cx="10188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92720" y="381024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70720" y="381024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29600" y="381024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50160" y="3810240"/>
                <a:ext cx="101520" cy="88920"/>
              </a:xfrm>
              <a:prstGeom prst="triangle">
                <a:avLst>
                  <a:gd name="adj" fmla="val 50000"/>
                </a:avLst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019920" y="2959200"/>
              <a:ext cx="406440" cy="41904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2080" y="2793960"/>
              <a:ext cx="787320" cy="787680"/>
            </a:xfrm>
            <a:prstGeom prst="ellipse">
              <a:avLst/>
            </a:prstGeom>
            <a:noFill/>
            <a:ln w="9360">
              <a:solidFill>
                <a:srgbClr val="ff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51640" y="2579760"/>
              <a:ext cx="1182600" cy="1204920"/>
            </a:xfrm>
            <a:prstGeom prst="ellipse">
              <a:avLst/>
            </a:prstGeom>
            <a:noFill/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23040" y="2374920"/>
              <a:ext cx="1625400" cy="1636920"/>
            </a:xfrm>
            <a:prstGeom prst="ellipse">
              <a:avLst/>
            </a:prstGeom>
            <a:noFill/>
            <a:ln w="93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2146320"/>
              <a:ext cx="2121120" cy="2094120"/>
            </a:xfrm>
            <a:prstGeom prst="ellipse">
              <a:avLst/>
            </a:prstGeom>
            <a:noFill/>
            <a:ln w="936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0280" y="1905120"/>
              <a:ext cx="2603520" cy="2576520"/>
            </a:xfrm>
            <a:prstGeom prst="ellipse">
              <a:avLst/>
            </a:prstGeom>
            <a:noFill/>
            <a:ln w="936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13200" y="2019240"/>
              <a:ext cx="304920" cy="1854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38760" y="2032200"/>
              <a:ext cx="507960" cy="118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26160" y="1994040"/>
              <a:ext cx="965160" cy="1270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3616200" y="987480"/>
          <a:ext cx="14256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6200" y="987480"/>
                    <a:ext cx="1425600" cy="952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819520" y="1917720"/>
            <a:ext cx="1981080" cy="307080"/>
          </a:xfrm>
          <a:prstGeom prst="rect">
            <a:avLst/>
          </a:prstGeom>
          <a:solidFill>
            <a:srgbClr val="f163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Smart Farm S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3030600">
            <a:off x="2321640" y="3461400"/>
            <a:ext cx="561960" cy="1062000"/>
          </a:xfrm>
          <a:custGeom>
            <a:avLst/>
            <a:gdLst/>
            <a:ahLst/>
            <a:rect l="l" t="t" r="r" b="b"/>
            <a:pathLst>
              <a:path w="1344" h="728">
                <a:moveTo>
                  <a:pt x="0" y="0"/>
                </a:moveTo>
                <a:lnTo>
                  <a:pt x="904" y="392"/>
                </a:lnTo>
                <a:lnTo>
                  <a:pt x="512" y="368"/>
                </a:lnTo>
                <a:lnTo>
                  <a:pt x="1344" y="728"/>
                </a:lnTo>
                <a:lnTo>
                  <a:pt x="344" y="344"/>
                </a:lnTo>
                <a:lnTo>
                  <a:pt x="608" y="344"/>
                </a:lnTo>
                <a:lnTo>
                  <a:pt x="0" y="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System Requirements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3960" y="950760"/>
            <a:ext cx="67118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marL="40644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w-cost, low-power, small size networking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nliscenced b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hort distanc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w date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79360">
              <a:lnSpc>
                <a:spcPct val="95000"/>
              </a:lnSpc>
              <a:spcAft>
                <a:spcPts val="901"/>
              </a:spcAft>
              <a:buClr>
                <a:srgbClr val="f4d376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nsor information data &lt; 50 bps/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9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ow mo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ng Battery life (&gt; 8 mon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obust to environment var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emperature, humidity, rain, wind, growing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SzPct val="80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ser friend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inimal network set-up and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000" indent="-406440">
              <a:lnSpc>
                <a:spcPct val="95000"/>
              </a:lnSpc>
              <a:spcAft>
                <a:spcPts val="1001"/>
              </a:spcAft>
              <a:buClr>
                <a:srgbClr val="f4d376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inimal network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7360" y="32472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AU" sz="3600" spc="-1" strike="noStrike">
                <a:solidFill>
                  <a:srgbClr val="f4d376"/>
                </a:solidFill>
                <a:latin typeface="Arial"/>
              </a:rPr>
              <a:t>System Requirements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19040" y="977760"/>
          <a:ext cx="7710480" cy="512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977760"/>
                    <a:ext cx="771048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744480"/>
            <a:ext cx="73548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600" spc="-1" strike="noStrike">
                <a:solidFill>
                  <a:srgbClr val="f4d376"/>
                </a:solidFill>
                <a:latin typeface="Arial"/>
              </a:rPr>
              <a:t>Worry-free Tomorrow</a:t>
            </a:r>
            <a:endParaRPr b="1" lang="en-US" sz="3600" spc="-1" strike="noStrike">
              <a:solidFill>
                <a:srgbClr val="f4d376"/>
              </a:solidFill>
              <a:latin typeface="Arial"/>
            </a:endParaRPr>
          </a:p>
        </p:txBody>
      </p:sp>
      <p:pic>
        <p:nvPicPr>
          <p:cNvPr id="196" name="wheat" descr=""/>
          <p:cNvPicPr/>
          <p:nvPr/>
        </p:nvPicPr>
        <p:blipFill>
          <a:blip r:embed="rId2"/>
          <a:stretch/>
        </p:blipFill>
        <p:spPr>
          <a:xfrm>
            <a:off x="1536840" y="1798560"/>
            <a:ext cx="5155920" cy="346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checke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09:16:49Z</dcterms:created>
  <dc:creator>Trish Bauer</dc:creator>
  <dc:description/>
  <dc:language>en-US</dc:language>
  <cp:lastModifiedBy> Systems and Solutions Division</cp:lastModifiedBy>
  <cp:lastPrinted>2000-10-09T05:30:52Z</cp:lastPrinted>
  <dcterms:modified xsi:type="dcterms:W3CDTF">2000-10-19T18:55:32Z</dcterms:modified>
  <cp:revision>287</cp:revision>
  <dc:subject/>
  <dc:title>No Slide Title</dc:title>
</cp:coreProperties>
</file>