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29040" y="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16760"/>
            <a:ext cx="3005280" cy="463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29040" y="8816760"/>
            <a:ext cx="3005280" cy="463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7776C8-A0E4-49DC-8E22-0D9D8315EDE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rom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bb, John P [SMTP:John.P.Webb@intel.com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nt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riday, January 21, 2000 11:30 A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o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Gifford, Ian C.; Bluetooth SIGnal (E-mail); 'Roger Peacock'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c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ruce Kraemer (E-mail); Webb, John 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ubject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: IEEE &amp; Bluetooth SIGnal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an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Glad to hear you want to include an Article in The SIGnal. Roger is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ditor and can help with the below question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gards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----Original Message----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rom: Gifford, Ian C. [mailto:giffordi@tycoelectronics.com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nt: Thursday, January 20, 2000 10:26 P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o: Bluetooth SIGnal (E-mail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c: Bruce Kraemer (E-mail); John Webb (E-mail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ubject: IEEE &amp; Bluetooth SIGnal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i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 appreciated the article on Wireless Personal Area Networks &amp; IEEE P802.15 in the Bluetooth SIGnal Issue no. 2, Sep99!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ow we are wondering how to write a SIGnal article as an update to this article and/or the standards-making work we are doing in the IEEE Proje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02.15 Working Group for WPANs.  Here are some questions to start the dialog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Q1 Who should we contact and/or work with if we have an idea for an article that the SIGnal Readers might like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Q2 What are the author rul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Q3 The Bluetooth SIGnal Issue no. 2 Article is 383 words.  Is the typical word count that is considered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Q4 It appears that the next placement is for the 28 January 2000 issue of the Bluetooth SIGnal or Issue no. 4.  When is/was the deadline for the Issue no. 4?  When is no. 5 scheduled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Q5 Do you have themes for each of the up and coming Issu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-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an Giffor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26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giffordi@tycoelectronics.co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1043-BD06-4568-8516-94F51066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C1D4-AB38-4693-9867-15C03A0D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FCE2-0890-4620-97B8-12B3B583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29E4-C513-40A8-B907-576B4BBC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421D-0B7D-4F63-9317-373B3115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D4D8-55BB-432A-97E9-DEF70CDB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4335-870E-49EB-B9D1-88AE70E8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AC6F-052F-40AA-93CE-9E51CBF7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D15-DDFF-456B-9111-0CBB08B5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8A40-549A-441D-B426-7AF2CE5B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FFF8-185B-4218-8086-9D2C52BF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C3F9-0D19-4D06-B6F3-0E68E156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C295D6F-FFCD-4711-BB83-2E05728F7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35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802.15 &amp; .11 Working Grou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Committ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ing Report to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 2000   Tampa, FL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802" descr=""/>
          <p:cNvPicPr/>
          <p:nvPr/>
        </p:nvPicPr>
        <p:blipFill>
          <a:blip r:embed="rId1"/>
          <a:stretch/>
        </p:blipFill>
        <p:spPr>
          <a:xfrm>
            <a:off x="3753000" y="733320"/>
            <a:ext cx="1581120" cy="16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8B74-5660-450E-9624-18AA937FC0B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ion Topics of Joint 11/15 M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 of Published/Pen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for con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, always interested in com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endar of events updated and expa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speakers going to Comdex next we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Pub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publications to create collateral material for 802.11 and 802.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s releases/Press K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press releases need to be prepared  for web po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s Kits progr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ca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ted definitions, market structure and foreca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4949-0D97-45C0-85D9-61532FDEA67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11/15 MC      Work Items for Monter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219320"/>
            <a:ext cx="83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ca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ine definitions, market structure and forecasts for 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initial definitions, market structure and forecasts for .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s releases/Press K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are press releases based upon Monterey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Press K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recently Published &amp; Pen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updates and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Calendar of Events updated and expa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Pub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status of  publications to create collateral mater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1FC5-07F8-46C4-A0D0-52B150B4CA2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05:30:14Z</dcterms:created>
  <dc:creator>Bruce Kraemer</dc:creator>
  <dc:description>Bruce Kraemer, Intersil</dc:description>
  <dc:language>en-US</dc:language>
  <cp:lastModifiedBy>Bruce Kraemer</cp:lastModifiedBy>
  <cp:lastPrinted>1998-02-10T13:28:06Z</cp:lastPrinted>
  <dcterms:modified xsi:type="dcterms:W3CDTF">2000-11-08T21:00:26Z</dcterms:modified>
  <cp:revision>104</cp:revision>
  <dc:subject>MC WG Report</dc:subject>
  <dc:title>IEEE P802.15 Working Group for Wireless Personal Area Networks</dc:title>
</cp:coreProperties>
</file>