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0480"/>
            <a:ext cx="4559040" cy="3417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E8A7CE8A-9FBE-40A4-BDC3-5E798B2EA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520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19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1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22" name="PlaceHolder 2"/>
          <p:cNvSpPr>
            <a:spLocks noGrp="1"/>
          </p:cNvSpPr>
          <p:nvPr>
            <p:ph type="sldImg"/>
          </p:nvPr>
        </p:nvSpPr>
        <p:spPr>
          <a:xfrm>
            <a:off x="1152360" y="692280"/>
            <a:ext cx="455472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2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PlaceHolder 1"/>
          <p:cNvSpPr>
            <a:spLocks noGrp="1"/>
          </p:cNvSpPr>
          <p:nvPr>
            <p:ph type="sldImg"/>
          </p:nvPr>
        </p:nvSpPr>
        <p:spPr>
          <a:xfrm>
            <a:off x="1152360" y="692280"/>
            <a:ext cx="4554720" cy="3416040"/>
          </a:xfrm>
          <a:prstGeom prst="rect">
            <a:avLst/>
          </a:prstGeom>
          <a:ln w="0">
            <a:noFill/>
          </a:ln>
        </p:spPr>
      </p:sp>
      <p:sp>
        <p:nvSpPr>
          <p:cNvPr id="228"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3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sldImg"/>
          </p:nvPr>
        </p:nvSpPr>
        <p:spPr>
          <a:xfrm>
            <a:off x="1152360" y="692280"/>
            <a:ext cx="4554720" cy="3416040"/>
          </a:xfrm>
          <a:prstGeom prst="rect">
            <a:avLst/>
          </a:prstGeom>
          <a:ln w="0">
            <a:noFill/>
          </a:ln>
        </p:spPr>
      </p:sp>
      <p:sp>
        <p:nvSpPr>
          <p:cNvPr id="23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3881520" y="-34920"/>
            <a:ext cx="29527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81520" y="8648640"/>
            <a:ext cx="2952720" cy="459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37" name=""/>
          <p:cNvSpPr/>
          <p:nvPr/>
        </p:nvSpPr>
        <p:spPr>
          <a:xfrm>
            <a:off x="22320" y="8648640"/>
            <a:ext cx="295272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2320" y="-34920"/>
            <a:ext cx="29527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type="sldImg"/>
          </p:nvPr>
        </p:nvSpPr>
        <p:spPr>
          <a:xfrm>
            <a:off x="1152360" y="692280"/>
            <a:ext cx="4554720" cy="3416040"/>
          </a:xfrm>
          <a:prstGeom prst="rect">
            <a:avLst/>
          </a:prstGeom>
          <a:ln w="0">
            <a:noFill/>
          </a:ln>
        </p:spPr>
      </p:sp>
      <p:sp>
        <p:nvSpPr>
          <p:cNvPr id="240" name="PlaceHolder 2"/>
          <p:cNvSpPr>
            <a:spLocks noGrp="1"/>
          </p:cNvSpPr>
          <p:nvPr>
            <p:ph type="body"/>
          </p:nvPr>
        </p:nvSpPr>
        <p:spPr>
          <a:xfrm>
            <a:off x="932040" y="4346640"/>
            <a:ext cx="4992480" cy="40780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89C73-BD2E-40DA-9560-F8F6AD9B6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2EA2D-A446-4183-B680-495E24942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86027-A2D9-4CC8-B933-4AE507EDF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8F5E5-B893-403F-A909-CDA6C0B47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F8263-E384-48D1-9804-4B98A01F5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55FB9-CC86-4E54-9B89-B989DA215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246F9-9DE8-4D1D-829B-ADA4B169A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B3D24-DFB5-41EC-A12D-515535DEE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A316A-4BF0-44E2-8BE2-2A0A4A033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619A7-5FCA-4DD9-945D-EC23954ED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F374D-B020-49F6-93CB-FFE171D1F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E559A-A9A7-4FE8-B173-E7D4592D9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660E89-E34F-4DFC-BF61-2628C35CF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3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9th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191120"/>
            <a:ext cx="6400800" cy="175248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6-10, 2000</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att Regency Tampa</a:t>
            </a:r>
            <a:endParaRPr b="0" lang="en-US" sz="2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ampa City Center</a:t>
            </a:r>
            <a:endParaRPr b="0" lang="en-US" sz="2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ampa, FL 33602</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17D5BD4A-28B8-4F61-80EE-02439BFB5CC8}" type="slidenum">
              <a:t>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Tampa Meeting </a:t>
            </a:r>
            <a:br>
              <a:rPr sz="3200"/>
            </a:br>
            <a:r>
              <a:rPr b="0" lang="en-US" sz="3200" spc="-1" strike="noStrike">
                <a:solidFill>
                  <a:srgbClr val="000000"/>
                </a:solidFill>
                <a:latin typeface="Times New Roman"/>
              </a:rPr>
              <a:t>November 6-10, 2000</a:t>
            </a:r>
            <a:endParaRPr b="0" lang="en-US" sz="32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RATE STUDY GROUP OBJECTIVES FOR THIS MEETING:</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UMMARIZE CONFERENCE CALL RESULT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REVIEW PAR AND 5 CRITERIA</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MAKE LAST MINUTE UPDATES TO PAR AND 5 CRITERIA BASED ON COMMENT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ECURE PAR AND 5 CRITERIA APPROVAL WITH 802</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6865435D-689C-47CD-B0D1-F4B2B7A6EE54}"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50F751E1-955B-4035-91A4-2F98EE24DE21}"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Membership</a:t>
            </a:r>
            <a:endParaRPr b="0" lang="en-US" sz="3600" spc="-1" strike="noStrike">
              <a:solidFill>
                <a:srgbClr val="000000"/>
              </a:solidFill>
              <a:latin typeface="Times New Roman"/>
            </a:endParaRPr>
          </a:p>
        </p:txBody>
      </p:sp>
      <p:sp>
        <p:nvSpPr>
          <p:cNvPr id="114"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after, voting  membership in a Working Group is established by participating in at least 75% of  the meetings of the Working Group at two out of the last four Plenary sessions. Membership starts at the beginning of the third Plenary session attended, providing the 2 out of 4 rule is satisfied.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uly constituted interim Working Group Meeting may be substituted for the Working Group meetings at one of the two Plenary session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115" name=""/>
          <p:cNvSpPr/>
          <p:nvPr/>
        </p:nvSpPr>
        <p:spPr>
          <a:xfrm>
            <a:off x="448560" y="6056280"/>
            <a:ext cx="254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5.1.3 of the IEEE 802 Rule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E14C798F-D39E-401D-8ECE-8CBD629524FB}"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Meetings</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The privilege of observers to participate in discussions is at the discretion of  the Working Group Chair.</a:t>
            </a:r>
            <a:endParaRPr b="0" lang="en-US" sz="2000" spc="-1" strike="noStrike">
              <a:solidFill>
                <a:srgbClr val="000000"/>
              </a:solidFill>
              <a:latin typeface="Arial"/>
            </a:endParaRPr>
          </a:p>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asonable advance notification to all Working Group members, observers and liaison people (&gt;4 week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w last minute shifts in location (&lt;&lt; 1 per year),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nnouncement of Interim meeting at the plenar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E6C69071-1A37-4E63-98C2-E7997ECF893E}"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7000"/>
          </a:bodyPr>
          <a:p>
            <a:pPr marL="443160" indent="-44316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s are imposed within WG 802.15: </a:t>
            </a:r>
            <a:endParaRPr b="0" lang="en-US" sz="2000" spc="-1" strike="noStrike">
              <a:solidFill>
                <a:srgbClr val="000000"/>
              </a:solidFill>
              <a:latin typeface="Arial"/>
            </a:endParaRPr>
          </a:p>
          <a:p>
            <a:pPr lvl="1" marL="831240" indent="-276840">
              <a:spcBef>
                <a:spcPts val="45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 and SG meetings do not count towards 802.15 WG voting rights unless they are held in conjunction with a WG meeting.  </a:t>
            </a:r>
            <a:endParaRPr b="0" lang="en-US" sz="18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d retain voting rights participants must record and maintain complete contact information in the 802.15 database</a:t>
            </a:r>
            <a:endParaRPr b="0" lang="en-US" sz="2000" spc="-1" strike="noStrike">
              <a:solidFill>
                <a:srgbClr val="000000"/>
              </a:solidFill>
              <a:latin typeface="Arial"/>
            </a:endParaRPr>
          </a:p>
          <a:p>
            <a:pPr marL="443160" indent="-443160">
              <a:lnSpc>
                <a:spcPct val="9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ing rights may be lost by</a:t>
            </a:r>
            <a:r>
              <a:rPr b="0" lang="en-US" sz="2400" spc="-1" strike="noStrike">
                <a:solidFill>
                  <a:srgbClr val="000000"/>
                </a:solidFill>
                <a:latin typeface="Arial"/>
              </a:rPr>
              <a:t>:</a:t>
            </a:r>
            <a:endParaRPr b="0" lang="en-US" sz="24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a:p>
            <a:pPr marL="443160" indent="0">
              <a:spcBef>
                <a:spcPts val="49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D9E4BE41-85B0-4991-A7C7-F1ECBECA1219}" type="slidenum">
              <a:t>1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2F248567-BDBE-4A7F-8C83-50AA1B926494}"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23" name="PlaceHolder 2"/>
          <p:cNvSpPr>
            <a:spLocks noGrp="1"/>
          </p:cNvSpPr>
          <p:nvPr>
            <p:ph/>
          </p:nvPr>
        </p:nvSpPr>
        <p:spPr>
          <a:xfrm>
            <a:off x="304560" y="2057400"/>
            <a:ext cx="84582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controlled by Mike McInn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 for yourself, for the current se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book mo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FC4C38C8-2327-409A-AB6D-FD5BF9948349}" type="slidenum">
              <a:t>16</a:t>
            </a:fld>
          </a:p>
        </p:txBody>
      </p:sp>
      <p:sp>
        <p:nvSpPr>
          <p:cNvPr id="6" name="PlaceHolder 5"/>
          <p:cNvSpPr>
            <a:spLocks noGrp="1"/>
          </p:cNvSpPr>
          <p:nvPr>
            <p:ph type="dt" idx="1"/>
          </p:nvPr>
        </p:nvSpPr>
        <p:spPr/>
        <p:txBody>
          <a:bodyPr/>
          <a:p>
            <a:r>
              <a:rPr lang="en-US"/>
              <a:t>November 2000</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Nov 6-10, 2000</a:t>
            </a:r>
            <a:endParaRPr b="0" lang="en-US" sz="3600" spc="-1" strike="noStrike">
              <a:solidFill>
                <a:srgbClr val="000000"/>
              </a:solidFill>
              <a:latin typeface="Times New Roman"/>
            </a:endParaRPr>
          </a:p>
        </p:txBody>
      </p:sp>
      <p:graphicFrame>
        <p:nvGraphicFramePr>
          <p:cNvPr id="125" name=""/>
          <p:cNvGraphicFramePr/>
          <p:nvPr/>
        </p:nvGraphicFramePr>
        <p:xfrm>
          <a:off x="1733400" y="1523880"/>
          <a:ext cx="7305840" cy="2400480"/>
        </p:xfrm>
        <a:graphic>
          <a:graphicData uri="http://schemas.openxmlformats.org/presentationml/2006/ole">
            <p:oleObj progId="Word.Document.12" r:id="rId1" spid="">
              <p:embed/>
              <p:pic>
                <p:nvPicPr>
                  <p:cNvPr id="126" name="" descr=""/>
                  <p:cNvPicPr/>
                  <p:nvPr/>
                </p:nvPicPr>
                <p:blipFill>
                  <a:blip r:embed="rId2"/>
                  <a:stretch/>
                </p:blipFill>
                <p:spPr>
                  <a:xfrm>
                    <a:off x="1733400" y="1523880"/>
                    <a:ext cx="7305840" cy="2400480"/>
                  </a:xfrm>
                  <a:prstGeom prst="rect">
                    <a:avLst/>
                  </a:prstGeom>
                  <a:ln w="0">
                    <a:noFill/>
                  </a:ln>
                </p:spPr>
              </p:pic>
            </p:oleObj>
          </a:graphicData>
        </a:graphic>
      </p:graphicFrame>
      <p:sp>
        <p:nvSpPr>
          <p:cNvPr id="127" name="PlaceHolder 2"/>
          <p:cNvSpPr>
            <a:spLocks noGrp="1"/>
          </p:cNvSpPr>
          <p:nvPr>
            <p:ph/>
          </p:nvPr>
        </p:nvSpPr>
        <p:spPr>
          <a:xfrm>
            <a:off x="228600" y="4038120"/>
            <a:ext cx="8686800" cy="1908360"/>
          </a:xfrm>
          <a:prstGeom prst="rect">
            <a:avLst/>
          </a:prstGeom>
          <a:noFill/>
          <a:ln w="0">
            <a:noFill/>
          </a:ln>
        </p:spPr>
        <p:txBody>
          <a:bodyPr lIns="92160" rIns="92160" tIns="46080" bIns="46080" anchor="t">
            <a:normAutofit fontScale="86000"/>
          </a:bodyPr>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with your initials (no cross etc).  Do not underline. Only sign in the box designated with the applicable day and part of the day, AM/PM/Eve</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sign ahead</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at a minimum of 6 meetings is  required for the Session to count for voting rights.  If Scheduled, a Monday morning or Monday or Tuesday Evening session may be substitut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BB57D134-A14A-485A-8F3D-E4C5A01566B9}" type="slidenum">
              <a:t>17</a:t>
            </a:fld>
          </a:p>
        </p:txBody>
      </p:sp>
      <p:sp>
        <p:nvSpPr>
          <p:cNvPr id="6" name="PlaceHolder 5"/>
          <p:cNvSpPr>
            <a:spLocks noGrp="1"/>
          </p:cNvSpPr>
          <p:nvPr>
            <p:ph type="dt" idx="1"/>
          </p:nvPr>
        </p:nvSpPr>
        <p:spPr/>
        <p:txBody>
          <a:bodyPr/>
          <a:p>
            <a:r>
              <a:rPr lang="en-US"/>
              <a:t>November 2000</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ddresses crossed out,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o marked have been bounced when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address is so marked, please provide a working address--it is a requirement of maintaining your voting statu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D11FEBF7-308F-453F-91DB-10CFDB9E3074}" type="slidenum">
              <a:t>18</a:t>
            </a:fld>
          </a:p>
        </p:txBody>
      </p:sp>
      <p:sp>
        <p:nvSpPr>
          <p:cNvPr id="6" name="PlaceHolder 5"/>
          <p:cNvSpPr>
            <a:spLocks noGrp="1"/>
          </p:cNvSpPr>
          <p:nvPr>
            <p:ph type="dt" idx="1"/>
          </p:nvPr>
        </p:nvSpPr>
        <p:spPr/>
        <p:txBody>
          <a:bodyPr/>
          <a:p>
            <a:r>
              <a:rPr lang="en-US"/>
              <a:t>November 2000</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and Submissions must confirm to the Templates posted on the Web site and be accepted by the WG Chair or his designe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names should conform to the following convention:  00[xxx]r[y]P802-15_[WG,TG[z],MC]-Title-no-spac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numbers may be obtained from the WG Chair.</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must be available to meeting attendees prior to presentatio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000" spc="-1" strike="noStrike">
              <a:solidFill>
                <a:srgbClr val="000000"/>
              </a:solidFill>
              <a:latin typeface="Arial"/>
            </a:endParaRPr>
          </a:p>
        </p:txBody>
      </p:sp>
      <p:sp>
        <p:nvSpPr>
          <p:cNvPr id="131"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C8B8D5DD-504F-479A-8EF7-006549ADBCCE}" type="slidenum">
              <a:t>1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311040" y="2070000"/>
          <a:ext cx="8520120" cy="4017960"/>
        </p:xfrm>
        <a:graphic>
          <a:graphicData uri="http://schemas.openxmlformats.org/presentationml/2006/ole">
            <p:oleObj r:id="rId1" spid="">
              <p:embed/>
              <p:pic>
                <p:nvPicPr>
                  <p:cNvPr id="92" name="" descr=""/>
                  <p:cNvPicPr/>
                  <p:nvPr/>
                </p:nvPicPr>
                <p:blipFill>
                  <a:blip r:embed="rId2"/>
                  <a:stretch/>
                </p:blipFill>
                <p:spPr>
                  <a:xfrm>
                    <a:off x="311040" y="2070000"/>
                    <a:ext cx="8520120" cy="4017960"/>
                  </a:xfrm>
                  <a:prstGeom prst="rect">
                    <a:avLst/>
                  </a:prstGeom>
                  <a:ln w="0">
                    <a:noFill/>
                  </a:ln>
                </p:spPr>
              </p:pic>
            </p:oleObj>
          </a:graphicData>
        </a:graphic>
      </p:graphicFrame>
      <p:sp>
        <p:nvSpPr>
          <p:cNvPr id="2" name="PlaceHolder 1"/>
          <p:cNvSpPr>
            <a:spLocks noGrp="1"/>
          </p:cNvSpPr>
          <p:nvPr>
            <p:ph type="ftr" idx="2"/>
          </p:nvPr>
        </p:nvSpPr>
        <p:spPr/>
        <p:txBody>
          <a:bodyPr/>
          <a:p>
            <a:r>
              <a:t>Robert F. Heile, Veriazon</a:t>
            </a:r>
          </a:p>
        </p:txBody>
      </p:sp>
      <p:sp>
        <p:nvSpPr>
          <p:cNvPr id="3" name="PlaceHolder 2"/>
          <p:cNvSpPr>
            <a:spLocks noGrp="1"/>
          </p:cNvSpPr>
          <p:nvPr>
            <p:ph type="sldNum" idx="3"/>
          </p:nvPr>
        </p:nvSpPr>
        <p:spPr/>
        <p:txBody>
          <a:bodyPr/>
          <a:p>
            <a:fld id="{3E063804-AD65-470B-8B40-09B645FD967D}" type="slidenum">
              <a:t>2</a:t>
            </a:fld>
          </a:p>
        </p:txBody>
      </p:sp>
      <p:sp>
        <p:nvSpPr>
          <p:cNvPr id="4" name="PlaceHolder 3"/>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Board Bylaws (Jan1999)</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Board Operations Manual (Jan 2000)</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9ACCAFC6-0E0B-4A64-BB76-D64E6051A1DE}" type="slidenum">
              <a:t>20</a:t>
            </a:fld>
          </a:p>
        </p:txBody>
      </p:sp>
      <p:sp>
        <p:nvSpPr>
          <p:cNvPr id="6" name="PlaceHolder 5"/>
          <p:cNvSpPr>
            <a:spLocks noGrp="1"/>
          </p:cNvSpPr>
          <p:nvPr>
            <p:ph type="dt" idx="1"/>
          </p:nvPr>
        </p:nvSpPr>
        <p:spPr/>
        <p:txBody>
          <a:bodyPr/>
          <a:p>
            <a:r>
              <a:rPr lang="en-US"/>
              <a:t>November 2000</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Operations Manual (Jan 2000)</a:t>
            </a:r>
            <a:endParaRPr b="0" lang="en-US" sz="36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945C431A-D053-4F7E-B06D-568C51B653DF}" type="slidenum">
              <a:t>2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graphicFrame>
        <p:nvGraphicFramePr>
          <p:cNvPr id="137" name=""/>
          <p:cNvGraphicFramePr/>
          <p:nvPr/>
        </p:nvGraphicFramePr>
        <p:xfrm>
          <a:off x="380880" y="1219320"/>
          <a:ext cx="8305920" cy="5448240"/>
        </p:xfrm>
        <a:graphic>
          <a:graphicData uri="http://schemas.openxmlformats.org/presentationml/2006/ole">
            <p:oleObj progId="Excel.Sheet.12" r:id="rId1" spid="">
              <p:embed/>
              <p:pic>
                <p:nvPicPr>
                  <p:cNvPr id="138" name="" descr=""/>
                  <p:cNvPicPr/>
                  <p:nvPr/>
                </p:nvPicPr>
                <p:blipFill>
                  <a:blip r:embed="rId2"/>
                  <a:stretch/>
                </p:blipFill>
                <p:spPr>
                  <a:xfrm>
                    <a:off x="380880" y="1219320"/>
                    <a:ext cx="8305920" cy="5448240"/>
                  </a:xfrm>
                  <a:prstGeom prst="rect">
                    <a:avLst/>
                  </a:prstGeom>
                  <a:ln w="0">
                    <a:noFill/>
                  </a:ln>
                </p:spPr>
              </p:pic>
            </p:oleObj>
          </a:graphicData>
        </a:graphic>
      </p:graphicFrame>
      <p:sp>
        <p:nvSpPr>
          <p:cNvPr id="3" name="PlaceHolder 2"/>
          <p:cNvSpPr>
            <a:spLocks noGrp="1"/>
          </p:cNvSpPr>
          <p:nvPr>
            <p:ph type="ftr" idx="2"/>
          </p:nvPr>
        </p:nvSpPr>
        <p:spPr/>
        <p:txBody>
          <a:bodyPr/>
          <a:p>
            <a:r>
              <a:t>Robert F. Heile, Veriazon</a:t>
            </a:r>
          </a:p>
        </p:txBody>
      </p:sp>
      <p:sp>
        <p:nvSpPr>
          <p:cNvPr id="4" name="PlaceHolder 3"/>
          <p:cNvSpPr>
            <a:spLocks noGrp="1"/>
          </p:cNvSpPr>
          <p:nvPr>
            <p:ph type="sldNum" idx="3"/>
          </p:nvPr>
        </p:nvSpPr>
        <p:spPr/>
        <p:txBody>
          <a:bodyPr/>
          <a:p>
            <a:fld id="{F5113C3E-6ECC-4CED-BF99-87EB0012E128}" type="slidenum">
              <a:t>22</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Veriazon</a:t>
            </a:r>
          </a:p>
        </p:txBody>
      </p:sp>
      <p:sp>
        <p:nvSpPr>
          <p:cNvPr id="3" name="PlaceHolder 2"/>
          <p:cNvSpPr>
            <a:spLocks noGrp="1"/>
          </p:cNvSpPr>
          <p:nvPr>
            <p:ph type="sldNum" idx="3"/>
          </p:nvPr>
        </p:nvSpPr>
        <p:spPr/>
        <p:txBody>
          <a:bodyPr/>
          <a:p>
            <a:fld id="{D5CB59CA-1A0B-45FA-8B07-72EB9CD1EC4C}" type="slidenum">
              <a:t>23</a:t>
            </a:fld>
          </a:p>
        </p:txBody>
      </p:sp>
      <p:sp>
        <p:nvSpPr>
          <p:cNvPr id="4" name="PlaceHolder 3"/>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328F0A40-54B4-4978-991D-15342D29D490}" type="slidenum">
              <a:t>2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A74451E1-C841-4798-A4A6-7573AE20CD18}" type="slidenum">
              <a:t>2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13F88CF3-DCD4-416B-8B5E-979ECAEB993E}" type="slidenum">
              <a:t>2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1893960" y="2749680"/>
            <a:ext cx="1406520" cy="749160"/>
            <a:chOff x="1893960" y="2749680"/>
            <a:chExt cx="1406520" cy="749160"/>
          </a:xfrm>
        </p:grpSpPr>
        <p:sp>
          <p:nvSpPr>
            <p:cNvPr id="146"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48"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50" name=""/>
          <p:cNvGrpSpPr/>
          <p:nvPr/>
        </p:nvGrpSpPr>
        <p:grpSpPr>
          <a:xfrm>
            <a:off x="425520" y="3581280"/>
            <a:ext cx="1282680" cy="749520"/>
            <a:chOff x="425520" y="3581280"/>
            <a:chExt cx="1282680" cy="749520"/>
          </a:xfrm>
        </p:grpSpPr>
        <p:sp>
          <p:nvSpPr>
            <p:cNvPr id="151"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53"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55" name=""/>
          <p:cNvGrpSpPr/>
          <p:nvPr/>
        </p:nvGrpSpPr>
        <p:grpSpPr>
          <a:xfrm>
            <a:off x="4813200" y="5583240"/>
            <a:ext cx="1270080" cy="841320"/>
            <a:chOff x="4813200" y="5583240"/>
            <a:chExt cx="1270080" cy="841320"/>
          </a:xfrm>
        </p:grpSpPr>
        <p:sp>
          <p:nvSpPr>
            <p:cNvPr id="156"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58" name=""/>
          <p:cNvGrpSpPr/>
          <p:nvPr/>
        </p:nvGrpSpPr>
        <p:grpSpPr>
          <a:xfrm>
            <a:off x="1873080" y="3581280"/>
            <a:ext cx="1283040" cy="749520"/>
            <a:chOff x="1873080" y="3581280"/>
            <a:chExt cx="1283040" cy="749520"/>
          </a:xfrm>
        </p:grpSpPr>
        <p:sp>
          <p:nvSpPr>
            <p:cNvPr id="159"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61" name=""/>
          <p:cNvGrpSpPr/>
          <p:nvPr/>
        </p:nvGrpSpPr>
        <p:grpSpPr>
          <a:xfrm>
            <a:off x="6248520" y="4572000"/>
            <a:ext cx="1358640" cy="762120"/>
            <a:chOff x="6248520" y="4572000"/>
            <a:chExt cx="1358640" cy="762120"/>
          </a:xfrm>
        </p:grpSpPr>
        <p:sp>
          <p:nvSpPr>
            <p:cNvPr id="162"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64" name=""/>
          <p:cNvGrpSpPr/>
          <p:nvPr/>
        </p:nvGrpSpPr>
        <p:grpSpPr>
          <a:xfrm>
            <a:off x="3301920" y="3584520"/>
            <a:ext cx="1282680" cy="749520"/>
            <a:chOff x="3301920" y="3584520"/>
            <a:chExt cx="1282680" cy="749520"/>
          </a:xfrm>
        </p:grpSpPr>
        <p:sp>
          <p:nvSpPr>
            <p:cNvPr id="165"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67" name=""/>
          <p:cNvGrpSpPr/>
          <p:nvPr/>
        </p:nvGrpSpPr>
        <p:grpSpPr>
          <a:xfrm>
            <a:off x="446040" y="4540320"/>
            <a:ext cx="1282680" cy="749160"/>
            <a:chOff x="446040" y="4540320"/>
            <a:chExt cx="1282680" cy="749160"/>
          </a:xfrm>
        </p:grpSpPr>
        <p:sp>
          <p:nvSpPr>
            <p:cNvPr id="168"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70"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72" name=""/>
          <p:cNvGrpSpPr/>
          <p:nvPr/>
        </p:nvGrpSpPr>
        <p:grpSpPr>
          <a:xfrm>
            <a:off x="1849320" y="4540320"/>
            <a:ext cx="1300320" cy="749160"/>
            <a:chOff x="1849320" y="4540320"/>
            <a:chExt cx="1300320" cy="749160"/>
          </a:xfrm>
        </p:grpSpPr>
        <p:sp>
          <p:nvSpPr>
            <p:cNvPr id="173"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75" name=""/>
          <p:cNvGrpSpPr/>
          <p:nvPr/>
        </p:nvGrpSpPr>
        <p:grpSpPr>
          <a:xfrm>
            <a:off x="421920" y="2749680"/>
            <a:ext cx="1424880" cy="749160"/>
            <a:chOff x="421920" y="2749680"/>
            <a:chExt cx="1424880" cy="749160"/>
          </a:xfrm>
        </p:grpSpPr>
        <p:sp>
          <p:nvSpPr>
            <p:cNvPr id="176"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78"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80"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81" name=""/>
          <p:cNvGrpSpPr/>
          <p:nvPr/>
        </p:nvGrpSpPr>
        <p:grpSpPr>
          <a:xfrm>
            <a:off x="5854680" y="2762280"/>
            <a:ext cx="1346400" cy="749160"/>
            <a:chOff x="5854680" y="2762280"/>
            <a:chExt cx="1346400" cy="749160"/>
          </a:xfrm>
        </p:grpSpPr>
        <p:sp>
          <p:nvSpPr>
            <p:cNvPr id="182"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84" name=""/>
          <p:cNvGrpSpPr/>
          <p:nvPr/>
        </p:nvGrpSpPr>
        <p:grpSpPr>
          <a:xfrm>
            <a:off x="7301520" y="2743200"/>
            <a:ext cx="1469160" cy="749160"/>
            <a:chOff x="7301520" y="2743200"/>
            <a:chExt cx="1469160" cy="749160"/>
          </a:xfrm>
        </p:grpSpPr>
        <p:sp>
          <p:nvSpPr>
            <p:cNvPr id="185"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87" name=""/>
          <p:cNvGrpSpPr/>
          <p:nvPr/>
        </p:nvGrpSpPr>
        <p:grpSpPr>
          <a:xfrm>
            <a:off x="7324560" y="3584520"/>
            <a:ext cx="1346400" cy="749520"/>
            <a:chOff x="7324560" y="3584520"/>
            <a:chExt cx="1346400" cy="749520"/>
          </a:xfrm>
        </p:grpSpPr>
        <p:sp>
          <p:nvSpPr>
            <p:cNvPr id="188"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90" name=""/>
          <p:cNvGrpSpPr/>
          <p:nvPr/>
        </p:nvGrpSpPr>
        <p:grpSpPr>
          <a:xfrm>
            <a:off x="5851440" y="3581280"/>
            <a:ext cx="1406880" cy="749520"/>
            <a:chOff x="5851440" y="3581280"/>
            <a:chExt cx="1406880" cy="749520"/>
          </a:xfrm>
        </p:grpSpPr>
        <p:sp>
          <p:nvSpPr>
            <p:cNvPr id="191"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93"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94" name=""/>
          <p:cNvGrpSpPr/>
          <p:nvPr/>
        </p:nvGrpSpPr>
        <p:grpSpPr>
          <a:xfrm>
            <a:off x="3898800" y="2070000"/>
            <a:ext cx="1346400" cy="825480"/>
            <a:chOff x="3898800" y="2070000"/>
            <a:chExt cx="1346400" cy="825480"/>
          </a:xfrm>
        </p:grpSpPr>
        <p:sp>
          <p:nvSpPr>
            <p:cNvPr id="195"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97"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98"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99"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200"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201" name=""/>
          <p:cNvGrpSpPr/>
          <p:nvPr/>
        </p:nvGrpSpPr>
        <p:grpSpPr>
          <a:xfrm>
            <a:off x="3273480" y="4533840"/>
            <a:ext cx="1282680" cy="749160"/>
            <a:chOff x="3273480" y="4533840"/>
            <a:chExt cx="1282680" cy="749160"/>
          </a:xfrm>
        </p:grpSpPr>
        <p:sp>
          <p:nvSpPr>
            <p:cNvPr id="202"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204" name=""/>
          <p:cNvGrpSpPr/>
          <p:nvPr/>
        </p:nvGrpSpPr>
        <p:grpSpPr>
          <a:xfrm>
            <a:off x="4673520" y="4546440"/>
            <a:ext cx="1282680" cy="749160"/>
            <a:chOff x="4673520" y="4546440"/>
            <a:chExt cx="1282680" cy="749160"/>
          </a:xfrm>
        </p:grpSpPr>
        <p:sp>
          <p:nvSpPr>
            <p:cNvPr id="205"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Veriazon</a:t>
            </a:r>
          </a:p>
        </p:txBody>
      </p:sp>
      <p:sp>
        <p:nvSpPr>
          <p:cNvPr id="4" name="PlaceHolder 3"/>
          <p:cNvSpPr>
            <a:spLocks noGrp="1"/>
          </p:cNvSpPr>
          <p:nvPr>
            <p:ph type="sldNum" idx="3"/>
          </p:nvPr>
        </p:nvSpPr>
        <p:spPr/>
        <p:txBody>
          <a:bodyPr/>
          <a:p>
            <a:fld id="{D6AAFBF1-BEC6-4910-818A-535DF2227F5E}" type="slidenum">
              <a:t>27</a:t>
            </a:fld>
          </a:p>
        </p:txBody>
      </p:sp>
      <p:sp>
        <p:nvSpPr>
          <p:cNvPr id="5" name="PlaceHolder 4"/>
          <p:cNvSpPr>
            <a:spLocks noGrp="1"/>
          </p:cNvSpPr>
          <p:nvPr>
            <p:ph type="dt" idx="1"/>
          </p:nvPr>
        </p:nvSpPr>
        <p:spPr/>
        <p:txBody>
          <a:bodyPr/>
          <a:p>
            <a:r>
              <a:rPr lang="en-US"/>
              <a:t>November 2000</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1128600" y="1517760"/>
          <a:ext cx="7391520" cy="4425840"/>
        </p:xfrm>
        <a:graphic>
          <a:graphicData uri="http://schemas.openxmlformats.org/presentationml/2006/ole">
            <p:oleObj progId="Word.Document.12" r:id="rId1" spid="">
              <p:embed/>
              <p:pic>
                <p:nvPicPr>
                  <p:cNvPr id="209"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10"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Veriazon</a:t>
            </a:r>
          </a:p>
        </p:txBody>
      </p:sp>
      <p:sp>
        <p:nvSpPr>
          <p:cNvPr id="4" name="PlaceHolder 3"/>
          <p:cNvSpPr>
            <a:spLocks noGrp="1"/>
          </p:cNvSpPr>
          <p:nvPr>
            <p:ph type="sldNum" idx="3"/>
          </p:nvPr>
        </p:nvSpPr>
        <p:spPr/>
        <p:txBody>
          <a:bodyPr/>
          <a:p>
            <a:fld id="{CCB94AAD-0435-449C-9084-AF67349C5E93}" type="slidenum">
              <a:t>28</a:t>
            </a:fld>
          </a:p>
        </p:txBody>
      </p:sp>
      <p:sp>
        <p:nvSpPr>
          <p:cNvPr id="5" name="PlaceHolder 4"/>
          <p:cNvSpPr>
            <a:spLocks noGrp="1"/>
          </p:cNvSpPr>
          <p:nvPr>
            <p:ph type="dt" idx="1"/>
          </p:nvPr>
        </p:nvSpPr>
        <p:spPr/>
        <p:txBody>
          <a:bodyPr/>
          <a:p>
            <a:r>
              <a:rPr lang="en-US"/>
              <a:t>November 2000</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8A1B98FB-C9FB-4B6D-A127-9388E1F4A4A5}" type="slidenum">
              <a:t>2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4" name=""/>
          <p:cNvSpPr/>
          <p:nvPr/>
        </p:nvSpPr>
        <p:spPr>
          <a:xfrm>
            <a:off x="762120" y="1676520"/>
            <a:ext cx="7772400" cy="213336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ieee802.org/15/</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a:p>
            <a:pPr marL="219240" indent="-2192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
          <p:cNvSpPr/>
          <p:nvPr/>
        </p:nvSpPr>
        <p:spPr>
          <a:xfrm>
            <a:off x="685800" y="4114800"/>
            <a:ext cx="3962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t>
            </a:r>
            <a:r>
              <a:rPr b="0" lang="en-US" sz="2400" spc="-1" strike="noStrike">
                <a:solidFill>
                  <a:srgbClr val="000000"/>
                </a:solidFill>
                <a:latin typeface="Arial"/>
              </a:rPr>
              <a:t>michael.d.mcinnis@boeing.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Veriazon</a:t>
            </a:r>
          </a:p>
        </p:txBody>
      </p:sp>
      <p:sp>
        <p:nvSpPr>
          <p:cNvPr id="3" name="PlaceHolder 2"/>
          <p:cNvSpPr>
            <a:spLocks noGrp="1"/>
          </p:cNvSpPr>
          <p:nvPr>
            <p:ph type="sldNum" idx="3"/>
          </p:nvPr>
        </p:nvSpPr>
        <p:spPr/>
        <p:txBody>
          <a:bodyPr/>
          <a:p>
            <a:fld id="{B7EB3EA3-9E35-4269-8CF3-9C819D45B55B}" type="slidenum">
              <a:t>3</a:t>
            </a:fld>
          </a:p>
        </p:txBody>
      </p:sp>
      <p:sp>
        <p:nvSpPr>
          <p:cNvPr id="4" name="PlaceHolder 3"/>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15"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16"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Veriazon</a:t>
            </a:r>
          </a:p>
        </p:txBody>
      </p:sp>
      <p:sp>
        <p:nvSpPr>
          <p:cNvPr id="3" name="PlaceHolder 2"/>
          <p:cNvSpPr>
            <a:spLocks noGrp="1"/>
          </p:cNvSpPr>
          <p:nvPr>
            <p:ph type="sldNum" idx="3"/>
          </p:nvPr>
        </p:nvSpPr>
        <p:spPr/>
        <p:txBody>
          <a:bodyPr/>
          <a:p>
            <a:fld id="{A986D900-BF21-4263-82B4-1678CB7DF6E4}" type="slidenum">
              <a:t>30</a:t>
            </a:fld>
          </a:p>
        </p:txBody>
      </p:sp>
      <p:sp>
        <p:nvSpPr>
          <p:cNvPr id="4" name="PlaceHolder 3"/>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Tampa Meeting </a:t>
            </a:r>
            <a:br>
              <a:rPr sz="3200"/>
            </a:br>
            <a:r>
              <a:rPr b="0" lang="en-US" sz="3200" spc="-1" strike="noStrike">
                <a:solidFill>
                  <a:srgbClr val="000000"/>
                </a:solidFill>
                <a:latin typeface="Times New Roman"/>
              </a:rPr>
              <a:t>November 6-10, 2000</a:t>
            </a:r>
            <a:endParaRPr b="0"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ING GROUP OBJECTIVES FOR THIS MEETING:</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etermine Positions on Wireless HUMAN PAR, SMa PAR, and RSR PAR</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ecure Approval for Low Rate WPAN PAR</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0F3FC067-F433-4ACB-A60D-AC1D1DE25F28}"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Tampa Meeting </a:t>
            </a:r>
            <a:br>
              <a:rPr sz="3200"/>
            </a:br>
            <a:r>
              <a:rPr b="0" lang="en-US" sz="3200" spc="-1" strike="noStrike">
                <a:solidFill>
                  <a:srgbClr val="000000"/>
                </a:solidFill>
                <a:latin typeface="Times New Roman"/>
              </a:rPr>
              <a:t>November 6-10, 2000</a:t>
            </a:r>
            <a:endParaRPr b="0"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SK GROUP 1 OBJECTIVES FOR THIS MEETING:</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G MOTION 6Nov00: TO FINALIZE APPROVAL OF LB3 RESOLUTIONS -00/159r15</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OMPLETE PRODUCTION AND/OR REVIEW IEEE Std 802.15.1-[2001] Draft 0.8 </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DETERMINE WHAT FORM OF LETTER BALLOT IS APPROPRIATE FOR DRAFT RE-CIRCULATION, IF V1.1 CHANGES ARE MINOR OR RECONSIDERATION, IF V1.1 CHANGES ARE MAJOR</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INITIATE WG LETTER BALLOT PROCESS</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INITIATE SPONSOR BALLOT POOL INVIATION PROCESS</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PROVIDE PROJECT PLANNING UPDATE -00/xxxr0</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E40C80F2-45D6-4952-A9D6-C265EC0F2506}"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Tampa Meeting </a:t>
            </a:r>
            <a:br>
              <a:rPr sz="3200"/>
            </a:br>
            <a:r>
              <a:rPr b="0" lang="en-US" sz="3200" spc="-1" strike="noStrike">
                <a:solidFill>
                  <a:srgbClr val="000000"/>
                </a:solidFill>
                <a:latin typeface="Times New Roman"/>
              </a:rPr>
              <a:t>November 6-10, 2000</a:t>
            </a:r>
            <a:endParaRPr b="0"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SKGROUP 2 OBJECTIVES FOR THE MEETING:</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LIAISON REPORT FROM THE BLUETOOTH SIG COEXISTENCE WORKING GROUP</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OEXISTENCE MECHANISM PRESENTATION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VOTE ON A PROCEDURE FOR SELECTION OF A COEXISTENCE MECHANISM</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COMPLETE OUTLINE OF THE TG2 RECOMMENDED PRACTICE</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CONTINUE WORK ON THE COEXISTENCE MODEL</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COEXISTENCE MODEL PRESENTATION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BCB81BA3-3896-4FC4-90CC-3EAE9DE83BF4}"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Tampa Meeting </a:t>
            </a:r>
            <a:br>
              <a:rPr sz="3200"/>
            </a:br>
            <a:r>
              <a:rPr b="0" lang="en-US" sz="3200" spc="-1" strike="noStrike">
                <a:solidFill>
                  <a:srgbClr val="000000"/>
                </a:solidFill>
                <a:latin typeface="Times New Roman"/>
              </a:rPr>
              <a:t>November 6-10, 2000</a:t>
            </a:r>
            <a:endParaRPr b="0" lang="en-US" sz="32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SK GROUP 3 OBJECTIVES FOR THIS MEETING:</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ummarize Conference Call results &amp; Straw vote on acceptance of work</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ummary presentation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Vote to Reduce to one MAC/PHY</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Organize the writing of the Draft Standard</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Review interfaces between MAC/PHY etc.</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Review and Analyze Call for Patents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Review the BSIG / IEEE contract status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8A147371-6563-41CD-A67D-CBF8AF5DF5C1}"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Tampa Meeting </a:t>
            </a:r>
            <a:br>
              <a:rPr sz="3200"/>
            </a:br>
            <a:r>
              <a:rPr b="0" lang="en-US" sz="3200" spc="-1" strike="noStrike">
                <a:solidFill>
                  <a:srgbClr val="000000"/>
                </a:solidFill>
                <a:latin typeface="Times New Roman"/>
              </a:rPr>
              <a:t>November 6-10, 2000</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COMMITTEE OBJECTIVES FOR THIS MEETING:</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LOSE OUT SCOTTSDALE ACTION ITEMS/NEXT STEP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ROVIDE AN UPDATE ON MC SEP00 TO NOV00</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FACILITATE SUB WG UPDATE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IDENTIFY MC PROACTIVE PLANNING</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IDENTIFY JAN01 OBJECTIVES &amp; GRAPHIC/TIMESLOT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INT MARKETING COMMITTEE OBJECTIVES FOR THIS MEETING:</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LOSE OUT SCOTTSDALE JOINT ACTION ITEMS/NEXT STEP</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DENTIFY JOINT MC PROACTIVE PLANNING</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DENTIFY JOINT JAN01 JOINT OBJECTIVES &amp; GRAPHIC/TIMESLOT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765351F5-815A-4ABA-B5B4-4ACB1B972EBC}"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Objectives of the Tampa Meeting </a:t>
            </a:r>
            <a:br>
              <a:rPr sz="3200"/>
            </a:br>
            <a:r>
              <a:rPr b="0" lang="en-US" sz="3200" spc="-1" strike="noStrike">
                <a:solidFill>
                  <a:srgbClr val="000000"/>
                </a:solidFill>
                <a:latin typeface="Times New Roman"/>
              </a:rPr>
              <a:t>November 6-10, 2000</a:t>
            </a:r>
            <a:endParaRPr b="0" lang="en-US" sz="32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2SG OBJECTIVES FOR THIS MEETING:</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PROVIDE REPORTS TO WG &amp; MC, UPDATING THE MEMBERSHIP ON BT Radio2 WG</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PREPARE LIAISON TO BSIG, PROVIDING AN UPDATE TO THE BT Radio2 WG ON THE IEEE 802.15 WG.  INCLUDE MARKET POSITIONING CHARTS AND COLLATERAL FOR JOINT REVIEW TO DIFFERENTIATE THE ONGOING WORK IN IEEE AS WELL DIFFERENTIATE THE IEEE WORK TO THE BSIG.</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SOLICIT AND RECEIVE CONTRIBUTIONS TO ASSIST THE SG MAKE THEIR PENDING RECOMMENDATIONS</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DISCUSS EXISTING PROJECTS AS WELL AS PAR AND FIVE CRITERIA SCENARIOS AS WELL AS END OF LIFE (EOL) FOR SG IN NOV00</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WG MOTION TO EXTEND THE STUDY GROUP FROM NOV00 TO MAR01</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Veriazon</a:t>
            </a:r>
          </a:p>
        </p:txBody>
      </p:sp>
      <p:sp>
        <p:nvSpPr>
          <p:cNvPr id="5" name="PlaceHolder 4"/>
          <p:cNvSpPr>
            <a:spLocks noGrp="1"/>
          </p:cNvSpPr>
          <p:nvPr>
            <p:ph type="sldNum" idx="3"/>
          </p:nvPr>
        </p:nvSpPr>
        <p:spPr/>
        <p:txBody>
          <a:bodyPr/>
          <a:p>
            <a:fld id="{F04BA063-12E9-4AD9-BEDE-1BF6C893079B}"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00/338r0</dc:description>
  <dc:language>en-US</dc:language>
  <cp:lastModifiedBy>Robert F.  Heile</cp:lastModifiedBy>
  <cp:lastPrinted>2000-07-07T01:25:49Z</cp:lastPrinted>
  <dcterms:modified xsi:type="dcterms:W3CDTF">2000-11-05T00:20:55Z</dcterms:modified>
  <cp:revision>92</cp:revision>
  <dc:subject>IEEE 802.15 &lt;subject&gt;</dc:subject>
  <dc:title>WG- Nov00-meeting into and basic policies</dc:title>
</cp:coreProperties>
</file>