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BB0-BC88-49C6-BC3B-222198E6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A21-C741-4A00-AFA0-C25DB9BD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CD9-6D44-4F41-A7CC-9A053A51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5F8-6DE1-42A9-8FAF-BD8DBAB6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5C6-3523-4A79-A3A4-3B426CFF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215-C3F2-4014-B463-7379F44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92E-AAEB-49FE-9E4F-AB51BB8E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901-2682-413A-8907-1BFF83EB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78D-D4AD-4E04-B7B1-FF34FBF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D70-7093-4784-B78C-06A0ECF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6ED-22BB-4B53-A4F3-6F694E7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CA0-481D-47A4-A6C6-B129B132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3DD9F8-E894-43C3-AFA4-E41F4363E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53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dure for Selection of Coexistence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D04-E5B5-4CB2-92C0-EC919C9B8F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for Non-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can possibly accept more than one Non-Collaborative Coexistenc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nstead of ranking the proposals, we will rate each of them in terms of thei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judged by the TG2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vote on each of the proposals separ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677-C3CE-40FB-BA57-0257E24EA9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for Non-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posal, each member of TG2 assigns a rating between 1 and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G2 rating is determined by averaging all the individual ra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, with the proposal with the highest rating, TG2 votes to accept or reject each proposal, one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ccepted the proposal must receive at least 75% of the vo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C6D-834A-4973-957C-48413EFB07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Res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Collaborative Coexistence Mechanism are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Non-Collaborative Coexistence Mechanism are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develops a draft standard using the selected coexistence mechanisms as the basis for th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C5D-C89E-4158-A186-AF2EEE6664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eive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for Submission of Coexistence mechanisms (802.15-00/009r4) was sent out in September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are to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(Tampa, F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(Monterey, 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7DF-405F-44B0-8B5C-0ADDEAEB29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2 (TG2) will review all the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criteria will be summarized for all the proposals i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Criteria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may then choose to request additional information from the submi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25C-E279-4E07-9A3D-1FDA2D4E6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rs will then present the additional information to TG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then incorporate that information in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Criteria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6A9-7DB2-4362-BFEE-73A45D8165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r From All TG2 Particip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attending the meetings or conference calls (not just voting members) are then free to submit their list of comments on any and all propos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ment must be an official sub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then summarize the comments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ent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review by all members of TG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238-1E54-43A8-A67D-12F44725A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For Opportunities To Comb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may then suggest that certain submitters consider combining the best of each of their proposals if it makes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ubmitters may on their own choose to combine propos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combined proposals will be 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2B3-47BA-470A-B4BA-3925721683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d Evaluation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then upd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Criteria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also upd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ent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D93-9106-46C8-9494-3D9A86296A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for 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can possibly accept more than one Collaborative Coexistenc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nstead of ranking the proposals, we will rate each of them in terms of thei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s judged by the TG2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vote on each of the proposals separ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F6D-9602-45F9-805F-F3035C9C57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for 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posal, each member of TG2 assigns a rating between 1 and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G2 rating is determined by averaging all the individual ra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, with the proposal with the highest rating, TG2 votes to accept or reject each proposal, one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ccepted the proposal must receive at least 75% of th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ECE-551E-4D23-A8A3-902CD7BECC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10-10T18:49:31Z</cp:lastPrinted>
  <dcterms:modified xsi:type="dcterms:W3CDTF">2000-11-07T13:20:11Z</dcterms:modified>
  <cp:revision>277</cp:revision>
  <dc:subject>IEEE 802.15 &lt;subject&gt;</dc:subject>
  <dc:title>IEEE P802.15 Working Group for Wireless Personal Area Networks</dc:title>
</cp:coreProperties>
</file>