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12FC-A336-4290-BF43-057E791B5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9EBC-5F45-4702-8C7E-30867351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004E-045F-426B-ADA1-C97A2201C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E3E2-163E-4243-8B50-C611DCEF0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B208-5053-4093-9900-50B22C8B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ACE2-3018-43BF-AB7B-4A2F2BDE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6D65-EFA6-4F2F-A1FB-A30E8D7D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2410-7947-4AAF-8F50-9577424D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DA80-B375-49E5-9F40-A1B7CBED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C8DA-4591-437B-A478-BDCCD80B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581F-29F5-4B06-81A9-0F8044C1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3A10-7AF4-4496-B5FB-67FB4668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95640"/>
            <a:ext cx="609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1/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00BDB74-0E51-4670-86F1-97D17186D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114800" y="396000"/>
            <a:ext cx="434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388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520" y="2362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Using a combined MAC and PHY Simulation Model to Measure WLAN Interference on Bluetooth (Part I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da Golm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onal Institute of Standards and Techn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ithersburg, MD 20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56F1-F88A-4541-9772-3EA6AAA15D0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Packet Loss at Bluetooth Sl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774720" y="1033560"/>
          <a:ext cx="7794720" cy="533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720" y="1033560"/>
                    <a:ext cx="7794720" cy="53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17EF-A341-4134-8791-51B17E5B71F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Residual Number of Errors in Paylo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85800" y="609480"/>
          <a:ext cx="7696080" cy="590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7696080" cy="59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6933-E5F7-40C8-82CF-58A575E2B07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3120" y="32637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Next Ste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3812760"/>
            <a:ext cx="9144000" cy="258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 802.11b rece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ight feedback loop eff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ain results for impact of Bluetooth interference on 802.11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results using ACL type traff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887400"/>
            <a:ext cx="914400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d MAC and PHY simulation models integ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d results for impact of  802.11b on Bluetooth voice traffic (HV1 and HV3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6094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B7B2-2700-437E-9FA1-B1F8541C06E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08080" y="1108080"/>
            <a:ext cx="8675640" cy="51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6094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… </a:t>
            </a: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and planning for mo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85840" y="1152000"/>
            <a:ext cx="8518320" cy="502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ize interference scenarios for Bluetooth and 802.11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other interference devices such 802.11 (direct sequence and frequency hopping), HomeRF, Microwave Ove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 modeling: HomeRF, MO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 modeling:802.11, HomeRF, 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tooth and 802.11 acquisition phase mode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7B36-98F3-4A2A-8EF6-C704B1C4199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2840" y="1341360"/>
            <a:ext cx="2857320" cy="2351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Golmie, N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. Mouveaux, N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6094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03400" y="2919240"/>
            <a:ext cx="3367080" cy="24289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/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Golmie, N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Van Dyck, N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Soltanian, N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 Elbakkouri, N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37320" y="2019240"/>
            <a:ext cx="3093840" cy="2311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Ammer, Mobil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Lansford, Mobili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Van Dyck, N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Soltanian, N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B056-E715-4A9F-AED4-F4048F421A7C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7509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72520" y="1324080"/>
            <a:ext cx="8610840" cy="47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d MAC and PHY Simulation Mod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ion Experimen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ffic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B585-1126-40A6-B9B2-4AAE6E41EE5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582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Coexistence Modeling Upd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360" y="831600"/>
            <a:ext cx="9590040" cy="557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ar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of Bluetooth MAC modeling effort,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00/66r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ay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 performance metrics,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00/103r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uetooth MAC results (2-state BER model),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00/134r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Jul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erence of 802.11(a, b) on Bluetooth MAC results (based on an analytical interference model),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00/322r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ov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erence of 802.11b on Bluetooth MAC results  (based on integrated MAC - 00/134r1 and PHY- 00/308r0, 00/372r0,) simulation models),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00/388r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756B-2F45-495F-88F2-2BF108CB00B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MAC / PHY Interf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371600"/>
            <a:ext cx="838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219320"/>
            <a:ext cx="8153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interface" descr=""/>
          <p:cNvPicPr/>
          <p:nvPr/>
        </p:nvPicPr>
        <p:blipFill>
          <a:blip r:embed="rId1"/>
          <a:stretch/>
        </p:blipFill>
        <p:spPr>
          <a:xfrm>
            <a:off x="1887480" y="1297080"/>
            <a:ext cx="5581800" cy="508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CE86-4F64-43EF-B04A-EB78D6B13DF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9800" y="693360"/>
            <a:ext cx="720576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Simulation Parame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6480" y="1177920"/>
            <a:ext cx="8461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Bluetooth devices and 2 WLAN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tooth Parameters (Main signal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V1, HV3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= 1 m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LAN Parameters (Interfere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Sequence 11 Mbits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= 25 m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 frequency = 2437 M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4648320"/>
            <a:ext cx="8991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3D07-1C88-4E5B-B036-F6F2FF8070D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6960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Topolog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topology" descr=""/>
          <p:cNvPicPr/>
          <p:nvPr/>
        </p:nvPicPr>
        <p:blipFill>
          <a:blip r:embed="rId1"/>
          <a:stretch/>
        </p:blipFill>
        <p:spPr>
          <a:xfrm>
            <a:off x="1941480" y="1090440"/>
            <a:ext cx="50436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ED97-7017-4FB8-803B-319F7CB188C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762120"/>
            <a:ext cx="883908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Traffic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traffic" descr=""/>
          <p:cNvPicPr/>
          <p:nvPr/>
        </p:nvPicPr>
        <p:blipFill>
          <a:blip r:embed="rId1"/>
          <a:stretch/>
        </p:blipFill>
        <p:spPr>
          <a:xfrm>
            <a:off x="985680" y="1108080"/>
            <a:ext cx="7507440" cy="5343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9233-B4CD-426F-BD44-843C86587F6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3880" y="68904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Performance Measur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3600" y="1347840"/>
            <a:ext cx="8246880" cy="351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ments are performed at the Baseba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dual number of errors (uncorrected errors) in the paylo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A46C-ADF7-4A7D-801C-8FF61DF7601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3520" y="688680"/>
            <a:ext cx="7807320" cy="78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Error Occurrences and </a:t>
            </a:r>
            <a:br>
              <a:rPr sz="3600"/>
            </a:b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Packet Acceptance Deci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format" descr=""/>
          <p:cNvPicPr/>
          <p:nvPr/>
        </p:nvPicPr>
        <p:blipFill>
          <a:blip r:embed="rId1"/>
          <a:stretch/>
        </p:blipFill>
        <p:spPr>
          <a:xfrm>
            <a:off x="276120" y="4251240"/>
            <a:ext cx="8548920" cy="1979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30160" y="1782720"/>
            <a:ext cx="7328160" cy="2059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27240" y="1765440"/>
            <a:ext cx="0" cy="20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8680" y="1825560"/>
            <a:ext cx="0" cy="20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0160" y="2209680"/>
            <a:ext cx="729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12880" y="2625840"/>
            <a:ext cx="729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58960" y="3040200"/>
            <a:ext cx="729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26920" y="3440160"/>
            <a:ext cx="729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06480" y="1828800"/>
            <a:ext cx="20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rror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59680" y="1841400"/>
            <a:ext cx="19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tion Ta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17960" y="1827360"/>
            <a:ext cx="245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rror Cor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46080" y="2236680"/>
            <a:ext cx="20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2720" y="2627280"/>
            <a:ext cx="20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03240" y="3016080"/>
            <a:ext cx="20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V1 pay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80920" y="3449520"/>
            <a:ext cx="20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V3 pay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82960" y="2173320"/>
            <a:ext cx="35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mming distance, d=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51240" y="2584440"/>
            <a:ext cx="20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 F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08400" y="2995560"/>
            <a:ext cx="20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 F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87880" y="3408480"/>
            <a:ext cx="20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F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69200" y="2216160"/>
            <a:ext cx="14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83160" y="2604960"/>
            <a:ext cx="15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40320" y="3019320"/>
            <a:ext cx="15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p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342120" y="3387600"/>
            <a:ext cx="15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p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CB8B-9526-44D4-BAB6-EE7389F9934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31T23:47:08Z</dcterms:created>
  <dc:creator>Nada Golmie</dc:creator>
  <dc:description>&lt;doc#&gt;</dc:description>
  <dc:language>en-US</dc:language>
  <cp:lastModifiedBy>golmie</cp:lastModifiedBy>
  <cp:lastPrinted>2000-05-05T16:29:21Z</cp:lastPrinted>
  <dcterms:modified xsi:type="dcterms:W3CDTF">2000-11-09T15:51:58Z</dcterms:modified>
  <cp:revision>103</cp:revision>
  <dc:subject>IEEE 802.15 &lt;subject&gt;</dc:subject>
  <dc:title>IEEE P802.15 Working Group for Wireless Personal Area Networks</dc:title>
</cp:coreProperties>
</file>