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F87-0811-4DF2-A53E-6C1C9468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7D3-E07C-4436-B143-08EFC37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EE6-62FD-4E24-A14F-34D349DF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0C6-0B2D-46FF-8416-03557428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2EE-9721-4DC9-86A1-A42B77A3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97C-A0F8-4C9B-A002-E30BC7C5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144-319E-4112-B3DA-24CC8C3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3D6-2CB4-48F1-A557-F1C40CB5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67E-B3C3-428B-BBA9-95824855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339-7400-409D-9672-BC44D83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76B-8B24-4793-AB4F-F2AB4CF2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1B2-74BE-4421-82E4-B39889C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619A2D-5329-4AC9-9735-4AF459FD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53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cedure for Selection of WLAN-WPAN Coexistenc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E3A-4FBD-4FEA-BC29-01C507F5CB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Vote for Collocated Collaborative Mechanism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to approve the remaining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ss by 75% (Techn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 not pass receive comments on the no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to address the no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voting and comment resolution until reaching at least 75%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4F1-EAD2-4B28-A75E-BBD758998B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Vote for Non-Collocated 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for selecting a non-collocated coexistence mechanism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at for selecting a collocated collaborative coexistenc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process to the set of non-collocated collaborativ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755-5AC4-4BF2-85BA-A9B01D26A0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Vote for Non-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may choose one or more non-collaborative coexistenc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posal, each member of TG2 assigns a rating between 1 and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G2 rating is determined by averaging all the individual ra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69F-1D93-4491-A185-331B83D7D8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Vote for Non-Collaborative Mechanism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, with the proposal with the highest rating, TG2 votes to accept or reject each proposal, one proposal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ccepted the proposal must receive at least 75% of th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2D7-3935-465D-8101-B8CF0BFF4E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Vote for Non-Collaborative Mechanism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ne of the proposals is selected we repeat comment resolution and voting on the top two proposals until we select at leas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DBD-B5FF-49AC-B923-6535436E72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Res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ollocated collaborative coexistence mechanism is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on-collocated collaborative coexistence mechanism is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non-collaborative coexistence mechanism are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ected coexistence mechanisms will 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TG2 recommended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706-B4C7-4F9D-8364-D77D103C50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eive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for Submission of Coexistence mechanisms (802.15-00/009r4) was sent out in September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are to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(Tampa, F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(Monterey, 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6E6-F100-415F-9683-C4B4B1B414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2 (TG2) will review all the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criteria will be summarized for all the proposals i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Criteria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may then choose to request additional information from the submi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BDD-526A-4FD4-A24D-9F487E4607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rs will then present the additional information to TG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then incorporate that information in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Criteria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97C-3038-424C-97A2-BF8853F495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r From All TG2 Particip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attending the meetings or conference calls (not just voting members) are then free to submit their list of comments on any and all propos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ment must be an official sub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then summarize the comments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ent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review by all members of TG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C13-85AC-4326-81F6-11653B5F38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For Opportunities To Comb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may then suggest that certain submitters consider combining the best of each of their proposals if it makes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ubmitters may on their own choose to combine propos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combined proposals will be 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5ED-AC6E-473F-BEA1-48773C69F5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d Evaluation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then upd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Criteria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also upd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ent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1E4-F9C8-4929-AC2B-36ECD548A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for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existence Mechanisms can be partitioned into thre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ocated collaborative mechanisms (both WLAN and WPAN in the same u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llocated collaborative mechanisms (WLAN and WPAN in separate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llaborativ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eparate the proposals into these thre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6BB-7EA3-4D0F-B64B-33BD1B0F6F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Vote for Collocated Collaborativ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select one collocated collaborative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with N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embers of TG2 vote for one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al with the least number of votes is dro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is process until only one proposal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6EE-72A9-44B8-8F80-72F470C940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11-09T03:32:19Z</cp:lastPrinted>
  <dcterms:modified xsi:type="dcterms:W3CDTF">2000-11-09T03:42:41Z</dcterms:modified>
  <cp:revision>287</cp:revision>
  <dc:subject>IEEE 802.15 &lt;subject&gt;</dc:subject>
  <dc:title>IEEE P802.15 Working Group for Wireless Personal Area Networks</dc:title>
</cp:coreProperties>
</file>