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23760" y="750600"/>
            <a:ext cx="4948560" cy="370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0ED577-816E-4509-99C8-8671A79B6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9560" y="9610560"/>
            <a:ext cx="696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9560" y="9609120"/>
            <a:ext cx="537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5040" y="317520"/>
            <a:ext cx="552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B843A2-004B-41FB-8B76-F1A39C95F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A7DCBE-6969-4F95-90E5-532862C30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7388C6-0618-4AB3-BE7E-4B7FFD353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50349A-4EA2-4221-B6C0-0226189E4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099569-9D45-4893-84BF-47AF3D208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0E5244A-CAE8-4F30-8A52-E713E36E0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2BCD15-83F7-4A9B-9C46-09FE4DE77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38E584-DEE4-4A3A-9349-1CE597C91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6F37F21-A49E-44FA-87F0-7350091E7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4BD2C1-D42A-4045-9313-C594E80EF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A7C36A-4C00-487B-AD36-37E8D2CB7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E73AD2-784F-4A62-B4A9-5B40FAE0B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8A1903-2A2E-4895-9EF8-A29C256A7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D80F78-34EA-469E-B5CA-1CFE4BA60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34E8819-94EC-4495-A040-325F8AB4E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117E20-EEC1-4175-9504-FDDE1F0BF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874600" y="9610560"/>
            <a:ext cx="785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11E1FB-66D1-4C0A-B66C-78D622469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696840" y="9610560"/>
            <a:ext cx="2459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398760" y="119520"/>
            <a:ext cx="2757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41520" y="119520"/>
            <a:ext cx="2681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05040" y="4714560"/>
            <a:ext cx="49860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1B3-4513-4E13-978D-F99C94AD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5AB-8B2F-4D4A-9DD0-F4458B62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DB5-67F8-4C3F-91B3-77569CBE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472-7908-432D-97DF-5D18B9BF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4CB7-BECD-4005-823C-573E4A54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7C4-4F52-46D9-8814-C2664E79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872-B826-476A-AD8D-CA768F30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ECD-7B5D-4B0B-B804-AEB80527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28A-2632-4980-BFA2-FED08215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EED-7D17-4AEC-916A-08D09A10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7E1E-DA3C-40FF-8A42-E0FCF1C6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6B9-CB40-4848-A133-F961C882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2BFB15-0EE8-433B-8829-AC4A0F64D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6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2880" y="1752480"/>
            <a:ext cx="8021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aptive Frequency Hopping Implementation Proposals for IEEE 802.15.1/2 WPAN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o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ng Gan, Bijan Treister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ndspeed Pty L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EAF-405D-4DB6-9F34-1FDEA1CD69A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838080"/>
            <a:ext cx="7527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Knuth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et al.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U.S. patent 5418839: Environment adaptive mechanism in cordless telephones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1981080"/>
            <a:ext cx="7696080" cy="40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aptive hopping sche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-scanning the channel during idle time, a score is applied to each cha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ing preferred channel subset base on sc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nels within the Preferred Channel Subset which experience no or little interference over an extended time is then assigned to Clear Channel Sub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 is carried out in Clear Channel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nel scanning is done period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D5A-7062-4521-A510-F45B9D0C523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106668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Gillis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et al.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U.S. patent 5323447:Apparatus and method for modifying a frequency hopping sequence of a cordless telephone sys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2286000"/>
            <a:ext cx="7162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aptive hopping sche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ither the base or handset determines the quality of each channel of the First Group of predetermined channels, by measuring the interference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ing one or more channels from a Second Group of predetermined channels, which is substituted for channels in the First Group upon which the interference is de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F51-B6EB-492D-A950-00C4B87350A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985680" y="685800"/>
          <a:ext cx="740736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685800"/>
                    <a:ext cx="74073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609480" y="762120"/>
            <a:ext cx="7925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Gillis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et al.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U.S. patent 5323447:Apparatus and method for modifying a frequency hopping sequence of a cordless telephone sys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068-0594-451A-B289-BC44EB7F852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990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awrey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et al.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Multiuser OFDM, ISSPA’99, Australi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828800"/>
            <a:ext cx="72468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 multiuser OFDM system, users are in different locations and have different fading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user is allocated carriers which have the best SNR for that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st users can be allocated the best carriers for them with minimal cl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riers are updated every 5 cm.  A velocity of 60 km/Hr, update rate is 330 times per second, at 1 GHz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aptive hopping increases received power by 5-20 dB in a frequency-selective fading channel.  Adaptive hopping virtually eliminates frequency selective fading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C5C-CE19-4F5A-BD0F-7B6B19BA5E7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54160" y="685800"/>
          <a:ext cx="807372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685800"/>
                    <a:ext cx="8073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125360" y="762120"/>
            <a:ext cx="71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awrey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et al.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Multiuser OFDM, ISSPA’99, Austral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936-5BDE-448F-81E4-72CC24EA0A0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44560" y="838080"/>
            <a:ext cx="75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urrent Hop Sel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84320" y="2895480"/>
            <a:ext cx="372924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0360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3280" y="1905120"/>
            <a:ext cx="16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/79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70360" y="3809880"/>
            <a:ext cx="21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ion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266840" y="3048120"/>
            <a:ext cx="1758960" cy="825480"/>
            <a:chOff x="1266840" y="3048120"/>
            <a:chExt cx="1758960" cy="825480"/>
          </a:xfrm>
        </p:grpSpPr>
        <p:sp>
          <p:nvSpPr>
            <p:cNvPr id="150" name=""/>
            <p:cNvSpPr/>
            <p:nvPr/>
          </p:nvSpPr>
          <p:spPr>
            <a:xfrm>
              <a:off x="1336680" y="3505320"/>
              <a:ext cx="15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6840" y="3048120"/>
              <a:ext cx="17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AP/L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36680" y="3505320"/>
              <a:ext cx="125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266840" y="4267080"/>
            <a:ext cx="1758960" cy="825480"/>
            <a:chOff x="1266840" y="4267080"/>
            <a:chExt cx="1758960" cy="825480"/>
          </a:xfrm>
        </p:grpSpPr>
        <p:sp>
          <p:nvSpPr>
            <p:cNvPr id="154" name=""/>
            <p:cNvSpPr/>
            <p:nvPr/>
          </p:nvSpPr>
          <p:spPr>
            <a:xfrm>
              <a:off x="1336680" y="4724280"/>
              <a:ext cx="15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66840" y="4267080"/>
              <a:ext cx="17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36680" y="4724280"/>
              <a:ext cx="119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/28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543000" y="3706920"/>
            <a:ext cx="1770120" cy="407880"/>
            <a:chOff x="6543000" y="3706920"/>
            <a:chExt cx="1770120" cy="407880"/>
          </a:xfrm>
        </p:grpSpPr>
        <p:sp>
          <p:nvSpPr>
            <p:cNvPr id="158" name=""/>
            <p:cNvSpPr/>
            <p:nvPr/>
          </p:nvSpPr>
          <p:spPr>
            <a:xfrm>
              <a:off x="6613560" y="4114800"/>
              <a:ext cx="15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43000" y="370692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p frequenc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5C5-501A-4C5C-8D60-93B0E4F0641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74720" y="762120"/>
            <a:ext cx="75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urrent Hop Sel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8960" y="2209680"/>
            <a:ext cx="352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11400" y="2209680"/>
            <a:ext cx="350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4480" y="2209680"/>
            <a:ext cx="351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62040" y="2209680"/>
            <a:ext cx="352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8720" y="2209680"/>
            <a:ext cx="352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51160" y="2209680"/>
            <a:ext cx="352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35400" y="2209680"/>
            <a:ext cx="352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7840" y="2209680"/>
            <a:ext cx="352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69080" y="2209680"/>
            <a:ext cx="352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16640" y="2209680"/>
            <a:ext cx="352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66000" y="2209680"/>
            <a:ext cx="350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65480" y="2209680"/>
            <a:ext cx="1969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65480" y="3124080"/>
            <a:ext cx="3800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40280" y="220968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8960" y="1676520"/>
            <a:ext cx="64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   2    4    6              62  64             78    1                      73   75   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2280" y="3276720"/>
            <a:ext cx="3728880" cy="398880"/>
            <a:chOff x="422280" y="3276720"/>
            <a:chExt cx="3728880" cy="398880"/>
          </a:xfrm>
        </p:grpSpPr>
        <p:grpSp>
          <p:nvGrpSpPr>
            <p:cNvPr id="177" name=""/>
            <p:cNvGrpSpPr/>
            <p:nvPr/>
          </p:nvGrpSpPr>
          <p:grpSpPr>
            <a:xfrm>
              <a:off x="1758960" y="3429000"/>
              <a:ext cx="2392200" cy="152280"/>
              <a:chOff x="1758960" y="3429000"/>
              <a:chExt cx="2392200" cy="152280"/>
            </a:xfrm>
          </p:grpSpPr>
          <p:sp>
            <p:nvSpPr>
              <p:cNvPr id="178" name=""/>
              <p:cNvSpPr/>
              <p:nvPr/>
            </p:nvSpPr>
            <p:spPr>
              <a:xfrm>
                <a:off x="1758960" y="3504960"/>
                <a:ext cx="239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58960" y="34290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51160" y="34290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22280" y="3276720"/>
              <a:ext cx="126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gment 1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22280" y="4572000"/>
            <a:ext cx="7388280" cy="398880"/>
            <a:chOff x="422280" y="4572000"/>
            <a:chExt cx="7388280" cy="398880"/>
          </a:xfrm>
        </p:grpSpPr>
        <p:grpSp>
          <p:nvGrpSpPr>
            <p:cNvPr id="183" name=""/>
            <p:cNvGrpSpPr/>
            <p:nvPr/>
          </p:nvGrpSpPr>
          <p:grpSpPr>
            <a:xfrm>
              <a:off x="5418000" y="4724280"/>
              <a:ext cx="2392560" cy="152640"/>
              <a:chOff x="5418000" y="4724280"/>
              <a:chExt cx="2392560" cy="152640"/>
            </a:xfrm>
          </p:grpSpPr>
          <p:sp>
            <p:nvSpPr>
              <p:cNvPr id="184" name=""/>
              <p:cNvSpPr/>
              <p:nvPr/>
            </p:nvSpPr>
            <p:spPr>
              <a:xfrm>
                <a:off x="5418000" y="4800600"/>
                <a:ext cx="2392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18000" y="4724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10560" y="4724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422280" y="4572000"/>
              <a:ext cx="126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gment 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22280" y="3886200"/>
            <a:ext cx="5418000" cy="398880"/>
            <a:chOff x="422280" y="3886200"/>
            <a:chExt cx="5418000" cy="398880"/>
          </a:xfrm>
        </p:grpSpPr>
        <p:grpSp>
          <p:nvGrpSpPr>
            <p:cNvPr id="189" name=""/>
            <p:cNvGrpSpPr/>
            <p:nvPr/>
          </p:nvGrpSpPr>
          <p:grpSpPr>
            <a:xfrm>
              <a:off x="3448080" y="4038480"/>
              <a:ext cx="2392200" cy="152640"/>
              <a:chOff x="3448080" y="4038480"/>
              <a:chExt cx="2392200" cy="152640"/>
            </a:xfrm>
          </p:grpSpPr>
          <p:sp>
            <p:nvSpPr>
              <p:cNvPr id="190" name=""/>
              <p:cNvSpPr/>
              <p:nvPr/>
            </p:nvSpPr>
            <p:spPr>
              <a:xfrm>
                <a:off x="3448080" y="4114800"/>
                <a:ext cx="239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48080" y="4038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840280" y="4038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422280" y="3886200"/>
              <a:ext cx="126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gment 2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58960" y="3733920"/>
            <a:ext cx="1689120" cy="459720"/>
            <a:chOff x="1758960" y="3733920"/>
            <a:chExt cx="1689120" cy="459720"/>
          </a:xfrm>
        </p:grpSpPr>
        <p:sp>
          <p:nvSpPr>
            <p:cNvPr id="195" name=""/>
            <p:cNvSpPr/>
            <p:nvPr/>
          </p:nvSpPr>
          <p:spPr>
            <a:xfrm flipH="1">
              <a:off x="1758960" y="3733920"/>
              <a:ext cx="168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92200" y="373392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14400" y="5181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46720" y="5486400"/>
            <a:ext cx="2603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gment length 32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0AB-07B4-44A3-9D88-94639F26CF8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55520" y="838080"/>
            <a:ext cx="752796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urrent hopping scheme is blind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aptive Frequency Hopping could be applied to IEEE 802.15.1/2  to avoid interference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-selective fad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LAN IEEE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dless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wave 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by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08E-6405-4A12-8497-9A4D33DF16F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andspeed AFH proposals 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or IEEE 802.15.1/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456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channel classification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imple, but robus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l AF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quires ‘Bluetooth enhanced mode’ for full interoper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si AFH (adaptive slave TX sl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quires no modification of Bluetooth standard for full interoper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E0F-BC11-400A-82AC-00ECA2E768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41040" y="2463840"/>
            <a:ext cx="7090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posed Channel Classific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eme for 802.15.1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693-995B-4DD7-BFEA-12711C2D8AA8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74720" y="990720"/>
            <a:ext cx="752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2057400"/>
            <a:ext cx="76197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frequency hopping and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aptive frequency hopping (AFH) and w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ief overview of previous work on AF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als of implementing AFH in IEEE 802.15.1/2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s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8CE-F99C-418C-9719-8118952432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62120" y="1143000"/>
            <a:ext cx="7619760" cy="48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 1: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Cle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first choice of group of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 2: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o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second choice of group of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 3: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a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don’t b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at start - all channels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per bound on # of dead channels to adhere to F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ead channel will be visited to see whether it becomes bette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C5E-4F2A-4DB5-A82F-4985678172B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95280" y="685800"/>
            <a:ext cx="675648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hannel Classification Criter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elation (Error checkin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channel access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checking of head error control (H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checking of cyclic redundancy check (CR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R test by modified L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R test by new packet type (or known sequ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95560" y="5105520"/>
            <a:ext cx="6615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d on the performance of error checking, each channel is assigned to respective class. Dead channels redeemed after timeout or other schem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DE0-C8D9-4E5F-80EC-E539BBA67D3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2057400"/>
            <a:ext cx="81630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al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New Packet Type to Transm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Hopping Seq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B58-F750-40A9-82B2-DBE5FEBDC65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04920" y="990720"/>
          <a:ext cx="85312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85312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914400" y="3809880"/>
            <a:ext cx="7599240" cy="26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w packet type is proposed, say type 0101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ster broadcast this packet to all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laves adjust their hopping sequence after a timeout (say, x slo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sequence, either revert to Bluetooth sequence or repeat current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793-1FBD-4137-A7CC-ECDC64913FD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1752480"/>
            <a:ext cx="8153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al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ster Appends 3 byte to the Payload to Indicate the Channel Number for the Slave to Transmit in Next Time-s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D17-1D82-4860-941E-77C37F2770D1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28600" y="1143000"/>
          <a:ext cx="86882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6882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533520" y="3581280"/>
            <a:ext cx="8076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ster transmits on regular Bluetooth hopp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ave transmits on preferred frequency, only master listening to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nel classification table regularly updated because master transmits on all frequencies evenly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917-3FDA-40BA-8A68-7D43100387E0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66680" y="609480"/>
            <a:ext cx="71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able of Channel Classification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vs.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a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510552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xity can be reduced by grouping channels in chunks of coherence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pdate of table forced from higher layers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pdate of dead channels done after a predefined 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838080" y="1219320"/>
          <a:ext cx="7629480" cy="38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62948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C7B-76AB-42C3-92EE-E9977832F11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1066680" y="4038480"/>
            <a:ext cx="7135920" cy="108000"/>
            <a:chOff x="1066680" y="4038480"/>
            <a:chExt cx="7135920" cy="108000"/>
          </a:xfrm>
        </p:grpSpPr>
        <p:sp>
          <p:nvSpPr>
            <p:cNvPr id="219" name=""/>
            <p:cNvSpPr/>
            <p:nvPr/>
          </p:nvSpPr>
          <p:spPr>
            <a:xfrm>
              <a:off x="1066680" y="4092480"/>
              <a:ext cx="7135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02880" y="4038480"/>
              <a:ext cx="9972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0" y="68"/>
                  </a:moveTo>
                  <a:lnTo>
                    <a:pt x="68" y="3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066680" y="2362320"/>
            <a:ext cx="7135920" cy="108000"/>
            <a:chOff x="1066680" y="2362320"/>
            <a:chExt cx="7135920" cy="108000"/>
          </a:xfrm>
        </p:grpSpPr>
        <p:sp>
          <p:nvSpPr>
            <p:cNvPr id="222" name=""/>
            <p:cNvSpPr/>
            <p:nvPr/>
          </p:nvSpPr>
          <p:spPr>
            <a:xfrm>
              <a:off x="1066680" y="2414880"/>
              <a:ext cx="7135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02880" y="2362320"/>
              <a:ext cx="9972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0" y="68"/>
                  </a:moveTo>
                  <a:lnTo>
                    <a:pt x="68" y="3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219320" y="5943600"/>
            <a:ext cx="1828440" cy="74160"/>
            <a:chOff x="1219320" y="5943600"/>
            <a:chExt cx="1828440" cy="74160"/>
          </a:xfrm>
        </p:grpSpPr>
        <p:sp>
          <p:nvSpPr>
            <p:cNvPr id="225" name=""/>
            <p:cNvSpPr/>
            <p:nvPr/>
          </p:nvSpPr>
          <p:spPr>
            <a:xfrm>
              <a:off x="1292400" y="5981400"/>
              <a:ext cx="16822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19320" y="5943600"/>
              <a:ext cx="74880" cy="734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0"/>
                  </a:moveTo>
                  <a:lnTo>
                    <a:pt x="0" y="35"/>
                  </a:lnTo>
                  <a:lnTo>
                    <a:pt x="68" y="68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72520" y="5944320"/>
              <a:ext cx="75240" cy="734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0" y="68"/>
                  </a:moveTo>
                  <a:lnTo>
                    <a:pt x="68" y="34"/>
                  </a:lnTo>
                  <a:lnTo>
                    <a:pt x="0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173320" y="4017960"/>
            <a:ext cx="738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6095880"/>
            <a:ext cx="71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80360" y="2182680"/>
            <a:ext cx="230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62440" y="22431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80360" y="4040280"/>
            <a:ext cx="230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62440" y="40989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516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4440" y="38098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lave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752480" y="2590920"/>
            <a:ext cx="100080" cy="915480"/>
            <a:chOff x="1752480" y="2590920"/>
            <a:chExt cx="100080" cy="915480"/>
          </a:xfrm>
        </p:grpSpPr>
        <p:sp>
          <p:nvSpPr>
            <p:cNvPr id="237" name=""/>
            <p:cNvSpPr/>
            <p:nvPr/>
          </p:nvSpPr>
          <p:spPr>
            <a:xfrm>
              <a:off x="1803960" y="2590920"/>
              <a:ext cx="1080" cy="81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52480" y="3398760"/>
              <a:ext cx="100080" cy="1076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0" y="0"/>
                  </a:moveTo>
                  <a:lnTo>
                    <a:pt x="35" y="68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117880" y="692280"/>
            <a:ext cx="255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81080" y="762120"/>
            <a:ext cx="927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(2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gu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81280" y="2590920"/>
            <a:ext cx="98640" cy="915480"/>
            <a:chOff x="3581280" y="2590920"/>
            <a:chExt cx="98640" cy="915480"/>
          </a:xfrm>
        </p:grpSpPr>
        <p:sp>
          <p:nvSpPr>
            <p:cNvPr id="242" name=""/>
            <p:cNvSpPr/>
            <p:nvPr/>
          </p:nvSpPr>
          <p:spPr>
            <a:xfrm>
              <a:off x="3629160" y="2695320"/>
              <a:ext cx="1080" cy="81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81280" y="2590920"/>
              <a:ext cx="98640" cy="10908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69"/>
                  </a:moveTo>
                  <a:lnTo>
                    <a:pt x="33" y="0"/>
                  </a:lnTo>
                  <a:lnTo>
                    <a:pt x="0" y="69"/>
                  </a:lnTo>
                  <a:lnTo>
                    <a:pt x="6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619520" y="692280"/>
            <a:ext cx="255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486400" y="2514600"/>
            <a:ext cx="98280" cy="2513880"/>
            <a:chOff x="5486400" y="2514600"/>
            <a:chExt cx="98280" cy="2513880"/>
          </a:xfrm>
        </p:grpSpPr>
        <p:sp>
          <p:nvSpPr>
            <p:cNvPr id="246" name=""/>
            <p:cNvSpPr/>
            <p:nvPr/>
          </p:nvSpPr>
          <p:spPr>
            <a:xfrm>
              <a:off x="5536800" y="2514600"/>
              <a:ext cx="1440" cy="222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6400" y="4732200"/>
              <a:ext cx="98280" cy="29628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0" y="0"/>
                  </a:moveTo>
                  <a:lnTo>
                    <a:pt x="35" y="68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907320" y="692280"/>
            <a:ext cx="255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762120"/>
            <a:ext cx="927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(2k+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gu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1981080"/>
            <a:ext cx="928440" cy="374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981080"/>
            <a:ext cx="156960" cy="374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1981080"/>
            <a:ext cx="101520" cy="37476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838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’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(Cl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315200" y="2514600"/>
            <a:ext cx="98280" cy="2589840"/>
            <a:chOff x="7315200" y="2514600"/>
            <a:chExt cx="98280" cy="2589840"/>
          </a:xfrm>
        </p:grpSpPr>
        <p:sp>
          <p:nvSpPr>
            <p:cNvPr id="255" name=""/>
            <p:cNvSpPr/>
            <p:nvPr/>
          </p:nvSpPr>
          <p:spPr>
            <a:xfrm>
              <a:off x="7362720" y="2810520"/>
              <a:ext cx="1080" cy="229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15200" y="2514600"/>
              <a:ext cx="98280" cy="30924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69"/>
                  </a:moveTo>
                  <a:lnTo>
                    <a:pt x="33" y="0"/>
                  </a:lnTo>
                  <a:lnTo>
                    <a:pt x="0" y="69"/>
                  </a:lnTo>
                  <a:lnTo>
                    <a:pt x="6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066680" y="5715000"/>
            <a:ext cx="7135920" cy="108000"/>
            <a:chOff x="1066680" y="5715000"/>
            <a:chExt cx="7135920" cy="108000"/>
          </a:xfrm>
        </p:grpSpPr>
        <p:sp>
          <p:nvSpPr>
            <p:cNvPr id="258" name=""/>
            <p:cNvSpPr/>
            <p:nvPr/>
          </p:nvSpPr>
          <p:spPr>
            <a:xfrm>
              <a:off x="1066680" y="5769000"/>
              <a:ext cx="7135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02880" y="5715000"/>
              <a:ext cx="9972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0" y="68"/>
                  </a:moveTo>
                  <a:lnTo>
                    <a:pt x="68" y="3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54440" y="54864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lav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14479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14479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14479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14479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1981080"/>
            <a:ext cx="928800" cy="374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76920" y="1981080"/>
            <a:ext cx="156960" cy="374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1981080"/>
            <a:ext cx="101520" cy="37476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10640" y="838080"/>
            <a:ext cx="13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’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(G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047760" y="3657600"/>
            <a:ext cx="1189080" cy="374760"/>
            <a:chOff x="3047760" y="3657600"/>
            <a:chExt cx="1189080" cy="374760"/>
          </a:xfrm>
        </p:grpSpPr>
        <p:sp>
          <p:nvSpPr>
            <p:cNvPr id="270" name=""/>
            <p:cNvSpPr/>
            <p:nvPr/>
          </p:nvSpPr>
          <p:spPr>
            <a:xfrm flipH="1">
              <a:off x="3308040" y="3657600"/>
              <a:ext cx="928800" cy="374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047760" y="3657600"/>
              <a:ext cx="156960" cy="37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211200" y="3657600"/>
              <a:ext cx="101520" cy="37476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705360" y="5334120"/>
            <a:ext cx="1189080" cy="374400"/>
            <a:chOff x="6705360" y="5334120"/>
            <a:chExt cx="1189080" cy="374400"/>
          </a:xfrm>
        </p:grpSpPr>
        <p:sp>
          <p:nvSpPr>
            <p:cNvPr id="274" name=""/>
            <p:cNvSpPr/>
            <p:nvPr/>
          </p:nvSpPr>
          <p:spPr>
            <a:xfrm flipH="1">
              <a:off x="6965640" y="5334120"/>
              <a:ext cx="928800" cy="374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705360" y="5334120"/>
              <a:ext cx="156960" cy="3744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868800" y="5334120"/>
              <a:ext cx="101520" cy="37440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219320" y="3657600"/>
            <a:ext cx="1218960" cy="380880"/>
          </a:xfrm>
          <a:prstGeom prst="rect">
            <a:avLst/>
          </a:prstGeom>
          <a:noFill/>
          <a:ln w="1260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76920" y="5334120"/>
            <a:ext cx="1218960" cy="380880"/>
          </a:xfrm>
          <a:prstGeom prst="rect">
            <a:avLst/>
          </a:prstGeom>
          <a:noFill/>
          <a:ln w="1260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297080" y="1447920"/>
            <a:ext cx="1168200" cy="907920"/>
            <a:chOff x="1297080" y="1447920"/>
            <a:chExt cx="1168200" cy="907920"/>
          </a:xfrm>
        </p:grpSpPr>
        <p:sp>
          <p:nvSpPr>
            <p:cNvPr id="280" name=""/>
            <p:cNvSpPr/>
            <p:nvPr/>
          </p:nvSpPr>
          <p:spPr>
            <a:xfrm>
              <a:off x="2362320" y="1981080"/>
              <a:ext cx="102960" cy="3747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97080" y="1447920"/>
              <a:ext cx="103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Next cha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2480" y="1676520"/>
              <a:ext cx="685800" cy="2286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954680" y="1523880"/>
            <a:ext cx="1092240" cy="831960"/>
            <a:chOff x="4954680" y="1523880"/>
            <a:chExt cx="1092240" cy="831960"/>
          </a:xfrm>
        </p:grpSpPr>
        <p:sp>
          <p:nvSpPr>
            <p:cNvPr id="284" name=""/>
            <p:cNvSpPr/>
            <p:nvPr/>
          </p:nvSpPr>
          <p:spPr>
            <a:xfrm>
              <a:off x="5943600" y="1981080"/>
              <a:ext cx="103320" cy="3747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4680" y="1523880"/>
              <a:ext cx="103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Next cha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86400" y="1752480"/>
              <a:ext cx="533520" cy="1526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705720" y="1981080"/>
            <a:ext cx="1218960" cy="381240"/>
          </a:xfrm>
          <a:prstGeom prst="rect">
            <a:avLst/>
          </a:prstGeom>
          <a:noFill/>
          <a:ln w="1260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1981080"/>
            <a:ext cx="1219320" cy="381240"/>
          </a:xfrm>
          <a:prstGeom prst="rect">
            <a:avLst/>
          </a:prstGeom>
          <a:noFill/>
          <a:ln w="1260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46B1-EF1D-4EAC-8D99-CE9F515C60CA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33520" y="1523880"/>
            <a:ext cx="830556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H could be applied to 802.15.1/2/3 based on channel classification, a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n-collaborative Coexistence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nel classification could be based on error checking of CAC, HEC, and CRC, modified LMP or new packet type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w packet type is proposed to broadcast hopping sequenc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quasi-adaptive hopping is also 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H could potentially avoid interference, lower the transmitting power (important for battery-operated device) and increase through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andspe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 proprietary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‘AFH + equalizer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uld even enhance system performance further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65480" y="609480"/>
            <a:ext cx="267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962-7C32-4B09-B56E-8BF4281E70AC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295280"/>
            <a:ext cx="80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hopping is formed by linearly modulating a train of symbols with a sequence of pseudorandomly generated frequency shif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06520" y="2514600"/>
          <a:ext cx="6473880" cy="39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6520" y="2514600"/>
                    <a:ext cx="647388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523880" y="68580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at is Frequency Hopp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DCC0-3054-4F68-8F67-40CD7A99078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1219320"/>
            <a:ext cx="74581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combat frequency-selective f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combat narrow-band interfer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protect against intentional jamming and hostile surveill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2590920"/>
            <a:ext cx="5081760" cy="3736080"/>
            <a:chOff x="2438280" y="2590920"/>
            <a:chExt cx="5081760" cy="3736080"/>
          </a:xfrm>
        </p:grpSpPr>
        <p:sp>
          <p:nvSpPr>
            <p:cNvPr id="64" name=""/>
            <p:cNvSpPr/>
            <p:nvPr/>
          </p:nvSpPr>
          <p:spPr>
            <a:xfrm>
              <a:off x="2438280" y="6095880"/>
              <a:ext cx="478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438280" y="2895480"/>
              <a:ext cx="0" cy="320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38880" y="5867280"/>
              <a:ext cx="2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21080" y="2590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38280" y="3429000"/>
              <a:ext cx="4292640" cy="2362320"/>
            </a:xfrm>
            <a:custGeom>
              <a:avLst/>
              <a:gdLst/>
              <a:ahLst/>
              <a:rect l="l" t="t" r="r" b="b"/>
              <a:pathLst>
                <a:path w="2928" h="1104">
                  <a:moveTo>
                    <a:pt x="0" y="0"/>
                  </a:moveTo>
                  <a:cubicBezTo>
                    <a:pt x="88" y="356"/>
                    <a:pt x="176" y="712"/>
                    <a:pt x="240" y="768"/>
                  </a:cubicBezTo>
                  <a:cubicBezTo>
                    <a:pt x="304" y="824"/>
                    <a:pt x="336" y="320"/>
                    <a:pt x="384" y="336"/>
                  </a:cubicBezTo>
                  <a:cubicBezTo>
                    <a:pt x="432" y="352"/>
                    <a:pt x="488" y="824"/>
                    <a:pt x="528" y="864"/>
                  </a:cubicBezTo>
                  <a:cubicBezTo>
                    <a:pt x="568" y="904"/>
                    <a:pt x="576" y="568"/>
                    <a:pt x="624" y="576"/>
                  </a:cubicBezTo>
                  <a:cubicBezTo>
                    <a:pt x="672" y="584"/>
                    <a:pt x="760" y="912"/>
                    <a:pt x="816" y="912"/>
                  </a:cubicBezTo>
                  <a:cubicBezTo>
                    <a:pt x="872" y="912"/>
                    <a:pt x="912" y="576"/>
                    <a:pt x="960" y="576"/>
                  </a:cubicBezTo>
                  <a:cubicBezTo>
                    <a:pt x="1008" y="576"/>
                    <a:pt x="1064" y="896"/>
                    <a:pt x="1104" y="912"/>
                  </a:cubicBezTo>
                  <a:cubicBezTo>
                    <a:pt x="1144" y="928"/>
                    <a:pt x="1152" y="664"/>
                    <a:pt x="1200" y="672"/>
                  </a:cubicBezTo>
                  <a:cubicBezTo>
                    <a:pt x="1248" y="680"/>
                    <a:pt x="1328" y="952"/>
                    <a:pt x="1392" y="960"/>
                  </a:cubicBezTo>
                  <a:cubicBezTo>
                    <a:pt x="1456" y="968"/>
                    <a:pt x="1528" y="720"/>
                    <a:pt x="1584" y="720"/>
                  </a:cubicBezTo>
                  <a:cubicBezTo>
                    <a:pt x="1640" y="720"/>
                    <a:pt x="1672" y="960"/>
                    <a:pt x="1728" y="960"/>
                  </a:cubicBezTo>
                  <a:cubicBezTo>
                    <a:pt x="1784" y="960"/>
                    <a:pt x="1848" y="712"/>
                    <a:pt x="1920" y="720"/>
                  </a:cubicBezTo>
                  <a:cubicBezTo>
                    <a:pt x="1992" y="728"/>
                    <a:pt x="2088" y="984"/>
                    <a:pt x="2160" y="1008"/>
                  </a:cubicBezTo>
                  <a:cubicBezTo>
                    <a:pt x="2232" y="1032"/>
                    <a:pt x="2288" y="856"/>
                    <a:pt x="2352" y="864"/>
                  </a:cubicBezTo>
                  <a:cubicBezTo>
                    <a:pt x="2416" y="872"/>
                    <a:pt x="2488" y="1056"/>
                    <a:pt x="2544" y="1056"/>
                  </a:cubicBezTo>
                  <a:cubicBezTo>
                    <a:pt x="2600" y="1056"/>
                    <a:pt x="2624" y="856"/>
                    <a:pt x="2688" y="864"/>
                  </a:cubicBezTo>
                  <a:cubicBezTo>
                    <a:pt x="2752" y="872"/>
                    <a:pt x="2840" y="988"/>
                    <a:pt x="2928" y="110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352680" y="3429000"/>
            <a:ext cx="4856400" cy="2666880"/>
            <a:chOff x="3352680" y="3429000"/>
            <a:chExt cx="4856400" cy="2666880"/>
          </a:xfrm>
        </p:grpSpPr>
        <p:sp>
          <p:nvSpPr>
            <p:cNvPr id="70" name=""/>
            <p:cNvSpPr/>
            <p:nvPr/>
          </p:nvSpPr>
          <p:spPr>
            <a:xfrm>
              <a:off x="3352680" y="4038480"/>
              <a:ext cx="141480" cy="2057400"/>
            </a:xfrm>
            <a:prstGeom prst="upArrow">
              <a:avLst>
                <a:gd name="adj1" fmla="val 50000"/>
                <a:gd name="adj2" fmla="val 36355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45240" y="4038480"/>
              <a:ext cx="141120" cy="2057400"/>
            </a:xfrm>
            <a:prstGeom prst="upArrow">
              <a:avLst>
                <a:gd name="adj1" fmla="val 50000"/>
                <a:gd name="adj2" fmla="val 36447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91160" y="3429000"/>
              <a:ext cx="139680" cy="2666880"/>
            </a:xfrm>
            <a:prstGeom prst="upArrow">
              <a:avLst>
                <a:gd name="adj1" fmla="val 50000"/>
                <a:gd name="adj2" fmla="val 47732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78480" y="3429000"/>
              <a:ext cx="183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Narrow-band interfe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4971960" y="3809880"/>
              <a:ext cx="1617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09480" y="3505320"/>
            <a:ext cx="2040120" cy="1523880"/>
            <a:chOff x="609480" y="3505320"/>
            <a:chExt cx="2040120" cy="1523880"/>
          </a:xfrm>
        </p:grpSpPr>
        <p:sp>
          <p:nvSpPr>
            <p:cNvPr id="76" name=""/>
            <p:cNvSpPr/>
            <p:nvPr/>
          </p:nvSpPr>
          <p:spPr>
            <a:xfrm>
              <a:off x="609480" y="35053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Fading minim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65360" y="4191120"/>
              <a:ext cx="9842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58360" y="685800"/>
            <a:ext cx="4795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Frequency Hopp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35A-304D-4680-BE2E-F59E33974DF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075400" y="609480"/>
            <a:ext cx="53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ding of Signal vs. Distanc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requency in 2.4 GHz ISM Band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25800" y="1523880"/>
            <a:ext cx="5769000" cy="4686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2120" y="1752480"/>
            <a:ext cx="302580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mit signal at +0d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n-line of sight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om size 400m</a:t>
            </a:r>
            <a:r>
              <a:rPr b="1" lang="en-US" sz="1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ffice fl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asurements done in 3cm inc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tenn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SWR less than 2.0:1 for all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mni-direc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rface mou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mpedance (matched with network analyz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0120" y="60706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Measurements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spe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Laboratories, Melbourne,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41A-B38B-4A1D-A128-84614871F6D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912600" y="3276720"/>
            <a:ext cx="7237800" cy="2970000"/>
            <a:chOff x="912600" y="3276720"/>
            <a:chExt cx="7237800" cy="2970000"/>
          </a:xfrm>
        </p:grpSpPr>
        <p:sp>
          <p:nvSpPr>
            <p:cNvPr id="84" name=""/>
            <p:cNvSpPr/>
            <p:nvPr/>
          </p:nvSpPr>
          <p:spPr>
            <a:xfrm>
              <a:off x="985680" y="5334120"/>
              <a:ext cx="2954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hannel:          2.4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odulation:    FSK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ymbol Rate:  20Kb/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62360" y="3886200"/>
              <a:ext cx="182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seband TX sen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07760" y="4648320"/>
              <a:ext cx="22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seband RX receive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2600" y="3276720"/>
              <a:ext cx="184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crowave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4799160" y="3733920"/>
            <a:ext cx="3351240" cy="2512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99160" y="3733920"/>
                      <a:ext cx="3351240" cy="25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0" name=""/>
          <p:cNvGrpSpPr/>
          <p:nvPr/>
        </p:nvGrpSpPr>
        <p:grpSpPr>
          <a:xfrm>
            <a:off x="914400" y="838080"/>
            <a:ext cx="7234200" cy="2511720"/>
            <a:chOff x="914400" y="838080"/>
            <a:chExt cx="7234200" cy="2511720"/>
          </a:xfrm>
        </p:grpSpPr>
        <p:sp>
          <p:nvSpPr>
            <p:cNvPr id="91" name=""/>
            <p:cNvSpPr/>
            <p:nvPr/>
          </p:nvSpPr>
          <p:spPr>
            <a:xfrm>
              <a:off x="1972800" y="1295280"/>
              <a:ext cx="182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seband TX sen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07760" y="2082960"/>
              <a:ext cx="22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seband RX receive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14400" y="838080"/>
              <a:ext cx="196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crowave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O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4799160" y="838080"/>
            <a:ext cx="3349440" cy="251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99160" y="838080"/>
                      <a:ext cx="3349440" cy="251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204-E068-4067-B08A-E3084A21D5F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7621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daptive Frequency Hopping (AFH) and W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600200"/>
            <a:ext cx="769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le conventional frequency hopping is blindly passive, adaptive frequency hopping (AFH) classifies channels (say, Good or Bad) and adaptively selects from the pool of ‘Good’ channels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429000"/>
            <a:ext cx="7751520" cy="26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 avoidance of narrow-band interference, frequency- selective f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ter BER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ing transmitter power, up to 30 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ing with adaptive channel equalizers will further enhance system perform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438-A0BA-4C99-96E6-4B4C90E8D0B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85680" y="609480"/>
            <a:ext cx="75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verview of Previous Work on AF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44560" y="1905120"/>
            <a:ext cx="7457760" cy="3416400"/>
            <a:chOff x="844560" y="1905120"/>
            <a:chExt cx="7457760" cy="3416400"/>
          </a:xfrm>
        </p:grpSpPr>
        <p:sp>
          <p:nvSpPr>
            <p:cNvPr id="101" name=""/>
            <p:cNvSpPr/>
            <p:nvPr/>
          </p:nvSpPr>
          <p:spPr>
            <a:xfrm>
              <a:off x="1899720" y="2210040"/>
              <a:ext cx="1056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88760" y="3200400"/>
              <a:ext cx="15480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equency 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88760" y="4496040"/>
              <a:ext cx="15480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 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45640" y="2210040"/>
              <a:ext cx="10569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34680" y="3200400"/>
              <a:ext cx="15490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equency 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34680" y="4496040"/>
              <a:ext cx="15490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 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76600" y="3353040"/>
              <a:ext cx="11257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Q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4560" y="2438640"/>
              <a:ext cx="105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56320" y="2438640"/>
              <a:ext cx="238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02960" y="2438640"/>
              <a:ext cx="175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236760" y="3657600"/>
              <a:ext cx="189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684120" y="3581640"/>
              <a:ext cx="49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462400" y="4038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462400" y="26668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910120" y="4038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910120" y="26668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8480" y="1905120"/>
              <a:ext cx="119592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2960" y="2590920"/>
              <a:ext cx="126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69440" y="25909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28880" y="2590920"/>
              <a:ext cx="91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F Cha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7200" y="2725920"/>
              <a:ext cx="909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n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umb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85080" y="2743200"/>
              <a:ext cx="909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n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umb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94840" y="1981440"/>
              <a:ext cx="4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7036200" y="1981440"/>
                  <a:ext cx="24732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d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5" name=""/>
            <p:cNvSpPr/>
            <p:nvPr/>
          </p:nvSpPr>
          <p:spPr>
            <a:xfrm>
              <a:off x="7107840" y="3886200"/>
              <a:ext cx="1194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ink quality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914400" y="1143000"/>
            <a:ext cx="7458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nd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, Radio communication systems laboratory, Royal Institute of Technology, Sw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81240" y="5486400"/>
            <a:ext cx="63532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+ dB LESS transmitter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probability of interception by ene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638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BA5-695D-46DB-BAA8-A89279638E9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82800" y="914400"/>
          <a:ext cx="74167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914400"/>
                    <a:ext cx="74167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774720" y="685800"/>
            <a:ext cx="7527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Knuth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et al.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U.S. patent 5418839: Environment adaptive mechanism in cordless telephones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ngbing Gan, Bijan Treister, Bandspeed Pty Lt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88B-0CA1-454C-9BF5-E7A5108B011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Hong Bing Gan, Bijan Treister</dc:creator>
  <dc:description>&lt;doc#&gt;</dc:description>
  <cp:keywords>Adaptive Frequency Hopping</cp:keywords>
  <dc:language>en-US</dc:language>
  <cp:lastModifiedBy>Steve Shellhammer</cp:lastModifiedBy>
  <cp:lastPrinted>2000-10-31T23:55:08Z</cp:lastPrinted>
  <dcterms:modified xsi:type="dcterms:W3CDTF">2000-11-03T22:02:09Z</dcterms:modified>
  <cp:revision>38</cp:revision>
  <dc:subject>IEEE 802.15 Adaptive Frequency Hopping</dc:subject>
  <dc:title>Adaptive Frequency Hopping - Bandspeed</dc:title>
</cp:coreProperties>
</file>