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165-7FC5-424D-87AD-8BD74334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439-F6A7-4A29-B4E2-CFB9BF1B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E68-0793-4907-B464-F6585262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317-27E2-4E8C-897B-0ADAEF8B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180-24CD-4922-AE99-CFBF50C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876-4221-4D93-8570-65E335C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5CB-C921-4895-A478-64F9AEF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D9C-F15D-460A-AE6B-5E983EAF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3E4-D3D0-463F-9525-5EAD153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027-0DA4-490F-83E3-CF504BD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BF6-D082-4300-84E1-F298A8B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EFE-00AD-4A4D-BE20-A1B945C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201380-28C3-47E2-A100-F0038561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5v has been forwarded to Rev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d submitted to Sponso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 issue left un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motion to purchase 3 more proj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to work issue of fre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eliminate paper at tutorials was made and tabled pending discussion at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DFA-F8C2-41F7-BCA1-7E18168F03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802 hosted interims-will be addressed at join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2k+1 CD available Wednesday to Voting members of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Warning for Hilton Hea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D projectors must be turned off with power button and allowed to coo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719-A321-49F8-AE83-D4EB624359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339r0</dc:description>
  <dc:language>en-US</dc:language>
  <cp:lastModifiedBy>Robert F.  Heile</cp:lastModifiedBy>
  <cp:lastPrinted>2000-03-05T01:29:49Z</cp:lastPrinted>
  <dcterms:modified xsi:type="dcterms:W3CDTF">2000-11-06T15:24:09Z</dcterms:modified>
  <cp:revision>82</cp:revision>
  <dc:subject>IEEE 802.15 &lt;subject&gt;</dc:subject>
  <dc:title>Nov00 Report on Monday Excom Meeting</dc:title>
</cp:coreProperties>
</file>