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252-4CF1-455F-8014-47568899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70A-FB7F-46E3-8B4E-166D3610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510-4520-4989-865E-AC0224D4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AE9-4AC3-47F6-A23B-E381012D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1CF-A0E8-4D7B-8FDD-5A35A681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210-6FD7-472C-B966-53A1F46A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63E-C4BE-42DE-98CE-F2C5FD51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D53-ACB0-40E7-A433-2986358A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AB0-D04D-435D-A2BD-8206FC6E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62E-1C9F-41A6-A4CD-D703C568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8F9-2321-47E8-8F88-047A91A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C0F-1AA5-4A32-BEB5-9340351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24852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3040" y="62481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64BE01-5EDD-44B7-8D4C-ECA5D6320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182880"/>
            <a:ext cx="3962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9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2485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2485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al for an IEEE 802 Wireless Coexistenc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DC1-195D-4BF9-8C09-7F4620127F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members of 802.15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to 802.15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65E-9FF1-442F-BC46-67E4738D47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, 802.15 and 802.16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, 802.15 and 802.16 can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866-BC79-4A28-84B1-631B9794D5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3D1-BC0D-4DC3-8ADD-7FCD5797A6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ew structure meets the two needs of the 802 Wireless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forum to address all wireless coexistence issues of of relevance to the IEEE 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of the Wireless Coexistence Task Group can maintain membership in their “home” Working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4DB-2FAE-48C2-A901-47A0F1BA7F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Robert F.  Heile</cp:lastModifiedBy>
  <cp:lastPrinted>2000-09-20T20:30:42Z</cp:lastPrinted>
  <dcterms:modified xsi:type="dcterms:W3CDTF">2000-11-17T18:39:41Z</dcterms:modified>
  <cp:revision>273</cp:revision>
  <dc:subject>IEEE 802.15 &lt;subject&gt;</dc:subject>
  <dc:title>IEEE P802.15 Working Group for Wireless Personal Area Networks</dc:title>
</cp:coreProperties>
</file>