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B20327-B7BA-436C-9D72-465D75D3FC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C0257F-A50F-4BB0-8240-4342D21BCB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717B04-1694-4F61-816D-E2D5F18CF4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D9E6FA-430D-4261-B9D5-2AC8FC4256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DF52BC-4A76-4CCA-9F8E-A7B1DBA048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812DCE-DFCB-447B-8A47-EB6947781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1F5F63-8857-467A-BB77-4FFED940A2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015139-B266-46B6-A7F5-2F7B643998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EE8EA3-DF07-4167-9CA3-F39ABA403F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6478F-353A-433D-94B5-40BC0A100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18737-AF8F-4477-9388-A71A22760E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5D9BA-5D7D-4D27-BA9C-C13F6F613F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6856C91-8DA9-4F70-9063-ABBCAB52CE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382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609480"/>
            <a:ext cx="8991720" cy="4323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TG3-MAC-Committee-Report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ff0000"/>
                </a:solidFill>
                <a:latin typeface="Times New Roman"/>
              </a:rPr>
              <a:t>November 6, 2000</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Allen Heberling</a:t>
            </a:r>
            <a:r>
              <a:rPr b="0" lang="en-US" sz="1600" spc="-1" strike="noStrike">
                <a:solidFill>
                  <a:srgbClr val="000000"/>
                </a:solidFill>
                <a:latin typeface="Times New Roman"/>
              </a:rPr>
              <a:t>] Company [</a:t>
            </a:r>
            <a:r>
              <a:rPr b="0" lang="en-US" sz="1600" spc="-1" strike="noStrike">
                <a:solidFill>
                  <a:srgbClr val="ff0000"/>
                </a:solidFill>
                <a:latin typeface="Times New Roman"/>
              </a:rPr>
              <a:t>Eastman Kodak, Company</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4545 East River Road, Rochester, New York, 14650-0898, US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716)-781-9328</a:t>
            </a:r>
            <a:r>
              <a:rPr b="0" lang="en-US" sz="1600" spc="-1" strike="noStrike">
                <a:solidFill>
                  <a:srgbClr val="000000"/>
                </a:solidFill>
                <a:latin typeface="Times New Roman"/>
              </a:rPr>
              <a:t>], FAX: [</a:t>
            </a:r>
            <a:r>
              <a:rPr b="0" lang="en-US" sz="1600" spc="-1" strike="noStrike">
                <a:solidFill>
                  <a:srgbClr val="ff0000"/>
                </a:solidFill>
                <a:latin typeface="Times New Roman"/>
              </a:rPr>
              <a:t>(716)-781-9733</a:t>
            </a:r>
            <a:r>
              <a:rPr b="0" lang="en-US" sz="1600" spc="-1" strike="noStrike">
                <a:solidFill>
                  <a:srgbClr val="000000"/>
                </a:solidFill>
                <a:latin typeface="Times New Roman"/>
              </a:rPr>
              <a:t>], E-Mail:[</a:t>
            </a:r>
            <a:r>
              <a:rPr b="0" lang="en-US" sz="1600" spc="-1" strike="noStrike">
                <a:solidFill>
                  <a:srgbClr val="ff0000"/>
                </a:solidFill>
                <a:latin typeface="Times New Roman"/>
              </a:rPr>
              <a:t>allen.heberling@kodak.com</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ff0000"/>
                </a:solidFill>
                <a:latin typeface="Times New Roman"/>
              </a:rPr>
              <a:t>.</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To inform the 802.15 community of the TG3 MAC Committee’s accomplishments since the Phoenix interim meeting.</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Allen Heberling, Eastman Kodak, Co.</a:t>
            </a:r>
          </a:p>
        </p:txBody>
      </p:sp>
      <p:sp>
        <p:nvSpPr>
          <p:cNvPr id="3" name="PlaceHolder 2"/>
          <p:cNvSpPr>
            <a:spLocks noGrp="1"/>
          </p:cNvSpPr>
          <p:nvPr>
            <p:ph type="sldNum" idx="3"/>
          </p:nvPr>
        </p:nvSpPr>
        <p:spPr/>
        <p:txBody>
          <a:bodyPr/>
          <a:p>
            <a:fld id="{9BE3C509-AE6D-4C12-9DBC-C928FB62B58B}" type="slidenum">
              <a:t>1</a:t>
            </a:fld>
          </a:p>
        </p:txBody>
      </p:sp>
      <p:sp>
        <p:nvSpPr>
          <p:cNvPr id="4" name="PlaceHolder 3"/>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knowledgements:</a:t>
            </a:r>
            <a:endParaRPr b="0" lang="en-US" sz="32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would like to thank all of the MAC proposers for contributing their time, their technical insights and their passion to the MAC subcommittee’s evaluation process during the weekly conference calls and Plenary/Interim meeting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 Co.</a:t>
            </a:r>
          </a:p>
        </p:txBody>
      </p:sp>
      <p:sp>
        <p:nvSpPr>
          <p:cNvPr id="5" name="PlaceHolder 4"/>
          <p:cNvSpPr>
            <a:spLocks noGrp="1"/>
          </p:cNvSpPr>
          <p:nvPr>
            <p:ph type="sldNum" idx="3"/>
          </p:nvPr>
        </p:nvSpPr>
        <p:spPr/>
        <p:txBody>
          <a:bodyPr/>
          <a:p>
            <a:fld id="{15EEEE38-703B-4096-B3FE-6A008055A7DF}" type="slidenum">
              <a:t>10</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3 MAC Committee Monday Report</a:t>
            </a:r>
            <a:endParaRPr b="0" lang="en-US" sz="3600" spc="-1" strike="noStrike">
              <a:solidFill>
                <a:srgbClr val="000000"/>
              </a:solidFill>
              <a:latin typeface="Times New Roman"/>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 Co.</a:t>
            </a:r>
          </a:p>
        </p:txBody>
      </p:sp>
      <p:sp>
        <p:nvSpPr>
          <p:cNvPr id="5" name="PlaceHolder 4"/>
          <p:cNvSpPr>
            <a:spLocks noGrp="1"/>
          </p:cNvSpPr>
          <p:nvPr>
            <p:ph type="sldNum" idx="3"/>
          </p:nvPr>
        </p:nvSpPr>
        <p:spPr/>
        <p:txBody>
          <a:bodyPr/>
          <a:p>
            <a:fld id="{D0D5FFCD-0860-44FB-B0BF-440BB2F5D52E}" type="slidenum">
              <a:t>2</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 Status of TG3 MAC Committee</a:t>
            </a:r>
            <a:endParaRPr b="0" lang="en-US" sz="32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the interim Phoenix meeting the TG3 MAC committee has see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option of the Heberling MAC algorithm by both the Kinney MAC proposal and the Davis/Skellern/Parks MAC Propos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updating of the Kinney MAC proposal ratings in doc 00245r11 for: QoS and Power consump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ion of the Pugh MAC criteria matrix evaluation contained in doc 00245r11</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 Co.</a:t>
            </a:r>
          </a:p>
        </p:txBody>
      </p:sp>
      <p:sp>
        <p:nvSpPr>
          <p:cNvPr id="5" name="PlaceHolder 4"/>
          <p:cNvSpPr>
            <a:spLocks noGrp="1"/>
          </p:cNvSpPr>
          <p:nvPr>
            <p:ph type="sldNum" idx="3"/>
          </p:nvPr>
        </p:nvSpPr>
        <p:spPr/>
        <p:txBody>
          <a:bodyPr/>
          <a:p>
            <a:fld id="{44272AB1-8BEE-456C-945A-57C26E173858}" type="slidenum">
              <a:t>3</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 Status of TG3 MAC Committee </a:t>
            </a:r>
            <a:r>
              <a:rPr b="0" lang="en-US" sz="2400" spc="-1" strike="noStrike">
                <a:solidFill>
                  <a:srgbClr val="000000"/>
                </a:solidFill>
                <a:latin typeface="Times New Roman"/>
              </a:rPr>
              <a:t>continued</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dates by the MAC proposers to these documents:</a:t>
            </a:r>
            <a:endParaRPr b="0" lang="en-US" sz="24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inney’s doc: 205r2</a:t>
            </a:r>
            <a:endParaRPr b="0" lang="en-US" sz="20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vis/Skellern/Parks’ doc: 208r3 and 209r3</a:t>
            </a:r>
            <a:endParaRPr b="0" lang="en-US" sz="20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berling’s doc: 212r1</a:t>
            </a:r>
            <a:endParaRPr b="0" lang="en-US" sz="20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os’ doc:356r0, 357r0 and 358r0 </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ion of doc: 00354r2 </a:t>
            </a:r>
            <a:r>
              <a:rPr b="0" lang="en-US" sz="2400" spc="-1" strike="noStrike" u="sng">
                <a:solidFill>
                  <a:srgbClr val="000000"/>
                </a:solidFill>
                <a:uFillTx/>
                <a:latin typeface="Arial"/>
              </a:rPr>
              <a:t>MAC Scenarios Throughput Comparison Workbook.</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 Co.</a:t>
            </a:r>
          </a:p>
        </p:txBody>
      </p:sp>
      <p:sp>
        <p:nvSpPr>
          <p:cNvPr id="5" name="PlaceHolder 4"/>
          <p:cNvSpPr>
            <a:spLocks noGrp="1"/>
          </p:cNvSpPr>
          <p:nvPr>
            <p:ph type="sldNum" idx="3"/>
          </p:nvPr>
        </p:nvSpPr>
        <p:spPr/>
        <p:txBody>
          <a:bodyPr/>
          <a:p>
            <a:fld id="{95EE08AD-9150-4F1E-94BC-05138B45E6D6}" type="slidenum">
              <a:t>4</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verview of doc: 00354r2 </a:t>
            </a:r>
            <a:r>
              <a:rPr b="0" lang="en-US" sz="3200" spc="-1" strike="noStrike" u="sng">
                <a:solidFill>
                  <a:srgbClr val="000000"/>
                </a:solidFill>
                <a:uFillTx/>
                <a:latin typeface="Times New Roman"/>
              </a:rPr>
              <a:t>MAC Scenarios Throughput Comparison Workbook.</a:t>
            </a:r>
            <a:endParaRPr b="0" lang="en-US" sz="32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pose:</a:t>
            </a:r>
            <a:endParaRPr b="0" lang="en-US" sz="2800" spc="-1" strike="noStrike">
              <a:solidFill>
                <a:srgbClr val="000000"/>
              </a:solidFill>
              <a:latin typeface="Arial"/>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o provide a venue in which to compare competing MAC proposals on the basis of their percent efficiency and effective throughput rates using three different scenarios.</a:t>
            </a:r>
            <a:endParaRPr b="0" lang="en-US" sz="2800" spc="-1" strike="noStrike">
              <a:solidFill>
                <a:srgbClr val="000000"/>
              </a:solidFill>
              <a:latin typeface="Arial"/>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provide a summary comparison worksheet in which all of the MAC proposals are compared when paired with each PHY proposal.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 Co.</a:t>
            </a:r>
          </a:p>
        </p:txBody>
      </p:sp>
      <p:sp>
        <p:nvSpPr>
          <p:cNvPr id="5" name="PlaceHolder 4"/>
          <p:cNvSpPr>
            <a:spLocks noGrp="1"/>
          </p:cNvSpPr>
          <p:nvPr>
            <p:ph type="sldNum" idx="3"/>
          </p:nvPr>
        </p:nvSpPr>
        <p:spPr/>
        <p:txBody>
          <a:bodyPr/>
          <a:p>
            <a:fld id="{5553588F-8371-4A58-8A44-7CAC6DD5C70E}" type="slidenum">
              <a:t>5</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verview of doc: 00354r2 </a:t>
            </a:r>
            <a:r>
              <a:rPr b="0" lang="en-US" sz="3200" spc="-1" strike="noStrike" u="sng">
                <a:solidFill>
                  <a:srgbClr val="000000"/>
                </a:solidFill>
                <a:uFillTx/>
                <a:latin typeface="Times New Roman"/>
              </a:rPr>
              <a:t>MAC Scenarios Throughput Comparison Workbook </a:t>
            </a:r>
            <a:r>
              <a:rPr b="0" lang="en-US" sz="2400" spc="-1" strike="noStrike" u="sng">
                <a:solidFill>
                  <a:srgbClr val="000000"/>
                </a:solidFill>
                <a:uFillTx/>
                <a:latin typeface="Times New Roman"/>
              </a:rPr>
              <a:t>continued...</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provide the PHY and MAC subcommittees a means of answering these evaluation criteria: </a:t>
            </a:r>
            <a:endParaRPr b="0" lang="en-US" sz="28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um Delivered Throughput</a:t>
            </a:r>
            <a:endParaRPr b="0" lang="en-US" sz="24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end Delivered Throughput</a:t>
            </a:r>
            <a:endParaRPr b="0" lang="en-US" sz="24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um MAC/PHY delivered throughput</a:t>
            </a:r>
            <a:endParaRPr b="0" lang="en-US" sz="24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end MAC/PHY delivered throughpu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 Co.</a:t>
            </a:r>
          </a:p>
        </p:txBody>
      </p:sp>
      <p:sp>
        <p:nvSpPr>
          <p:cNvPr id="5" name="PlaceHolder 4"/>
          <p:cNvSpPr>
            <a:spLocks noGrp="1"/>
          </p:cNvSpPr>
          <p:nvPr>
            <p:ph type="sldNum" idx="3"/>
          </p:nvPr>
        </p:nvSpPr>
        <p:spPr/>
        <p:txBody>
          <a:bodyPr/>
          <a:p>
            <a:fld id="{DA1703AA-243C-440F-9863-7D5BD858109D}" type="slidenum">
              <a:t>6</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verview of doc: 00354r2 </a:t>
            </a:r>
            <a:r>
              <a:rPr b="0" lang="en-US" sz="3200" spc="-1" strike="noStrike" u="sng">
                <a:solidFill>
                  <a:srgbClr val="000000"/>
                </a:solidFill>
                <a:uFillTx/>
                <a:latin typeface="Times New Roman"/>
              </a:rPr>
              <a:t>MAC Scenarios Throughput Comparison Workbook </a:t>
            </a:r>
            <a:r>
              <a:rPr b="0" lang="en-US" sz="2400" spc="-1" strike="noStrike" u="sng">
                <a:solidFill>
                  <a:srgbClr val="000000"/>
                </a:solidFill>
                <a:uFillTx/>
                <a:latin typeface="Times New Roman"/>
              </a:rPr>
              <a:t>continued...</a:t>
            </a:r>
            <a:endParaRPr b="0" lang="en-US" sz="2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mparisons are:</a:t>
            </a:r>
            <a:endParaRPr b="0" lang="en-US" sz="28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irst level approximations based upon static models of each MAC/PHYpair.</a:t>
            </a:r>
            <a:endParaRPr b="0" lang="en-US" sz="24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upon the same data traffic scenario:</a:t>
            </a:r>
            <a:endParaRPr b="0" lang="en-US" sz="2400" spc="-1" strike="noStrike">
              <a:solidFill>
                <a:srgbClr val="000000"/>
              </a:solidFill>
              <a:latin typeface="Arial"/>
            </a:endParaRPr>
          </a:p>
          <a:p>
            <a:pPr lvl="3" marL="14288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ynchronous Data between nodes A--&gt;B and</a:t>
            </a:r>
            <a:endParaRPr b="0" lang="en-US" sz="2000" spc="-1" strike="noStrike">
              <a:solidFill>
                <a:srgbClr val="000000"/>
              </a:solidFill>
              <a:latin typeface="Arial"/>
            </a:endParaRPr>
          </a:p>
          <a:p>
            <a:pPr lvl="3" marL="14288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t;--&gt;D.</a:t>
            </a:r>
            <a:endParaRPr b="0" lang="en-US" sz="20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 Co.</a:t>
            </a:r>
          </a:p>
        </p:txBody>
      </p:sp>
      <p:sp>
        <p:nvSpPr>
          <p:cNvPr id="5" name="PlaceHolder 4"/>
          <p:cNvSpPr>
            <a:spLocks noGrp="1"/>
          </p:cNvSpPr>
          <p:nvPr>
            <p:ph type="sldNum" idx="3"/>
          </p:nvPr>
        </p:nvSpPr>
        <p:spPr/>
        <p:txBody>
          <a:bodyPr/>
          <a:p>
            <a:fld id="{D866E38C-9A12-4869-A7B6-1A685727ECAD}" type="slidenum">
              <a:t>7</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verview of doc: 00354r2 </a:t>
            </a:r>
            <a:r>
              <a:rPr b="0" lang="en-US" sz="3200" spc="-1" strike="noStrike" u="sng">
                <a:solidFill>
                  <a:srgbClr val="000000"/>
                </a:solidFill>
                <a:uFillTx/>
                <a:latin typeface="Times New Roman"/>
              </a:rPr>
              <a:t>MAC Scenarios Throughput Comparison Workbook </a:t>
            </a:r>
            <a:r>
              <a:rPr b="0" lang="en-US" sz="2400" spc="-1" strike="noStrike" u="sng">
                <a:solidFill>
                  <a:srgbClr val="000000"/>
                </a:solidFill>
                <a:uFillTx/>
                <a:latin typeface="Times New Roman"/>
              </a:rPr>
              <a:t>continued...</a:t>
            </a:r>
            <a:endParaRPr b="0" lang="en-US" sz="2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ces:</a:t>
            </a:r>
            <a:endParaRPr b="0" lang="en-US" sz="28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nney MAC, Davis/et al MAC, Heberling MAC are minor due to differences in:</a:t>
            </a:r>
            <a:endParaRPr b="0" lang="en-US" sz="2400" spc="-1" strike="noStrike">
              <a:solidFill>
                <a:srgbClr val="000000"/>
              </a:solidFill>
              <a:latin typeface="Arial"/>
            </a:endParaRPr>
          </a:p>
          <a:p>
            <a:pPr lvl="3" marL="142884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LCP header, MAC header and ACK header bit formats. </a:t>
            </a:r>
            <a:endParaRPr b="0" lang="en-US" sz="2000" spc="-1" strike="noStrike">
              <a:solidFill>
                <a:srgbClr val="000000"/>
              </a:solidFill>
              <a:latin typeface="Arial"/>
            </a:endParaRPr>
          </a:p>
          <a:p>
            <a:pPr lvl="3" marL="142884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due to their using the same Slot-Cycle TDMA algorithm.</a:t>
            </a:r>
            <a:endParaRPr b="0" lang="en-US" sz="20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os MAC illustrates the Point Coordination Function approach to managing data streams.</a:t>
            </a:r>
            <a:endParaRPr b="0" lang="en-US" sz="2400" spc="-1" strike="noStrike">
              <a:solidFill>
                <a:srgbClr val="000000"/>
              </a:solidFill>
              <a:latin typeface="Arial"/>
            </a:endParaRPr>
          </a:p>
          <a:p>
            <a:pPr lvl="2" marL="1085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 Co.</a:t>
            </a:r>
          </a:p>
        </p:txBody>
      </p:sp>
      <p:sp>
        <p:nvSpPr>
          <p:cNvPr id="5" name="PlaceHolder 4"/>
          <p:cNvSpPr>
            <a:spLocks noGrp="1"/>
          </p:cNvSpPr>
          <p:nvPr>
            <p:ph type="sldNum" idx="3"/>
          </p:nvPr>
        </p:nvSpPr>
        <p:spPr/>
        <p:txBody>
          <a:bodyPr/>
          <a:p>
            <a:fld id="{41FB8BC5-F40E-4692-8F63-07393CA21B8B}" type="slidenum">
              <a:t>8</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verview of doc: 00354r2 </a:t>
            </a:r>
            <a:r>
              <a:rPr b="0" lang="en-US" sz="3200" spc="-1" strike="noStrike" u="sng">
                <a:solidFill>
                  <a:srgbClr val="000000"/>
                </a:solidFill>
                <a:uFillTx/>
                <a:latin typeface="Times New Roman"/>
              </a:rPr>
              <a:t>MAC Scenarios Throughput Comparison Workbook </a:t>
            </a:r>
            <a:r>
              <a:rPr b="0" lang="en-US" sz="2400" spc="-1" strike="noStrike" u="sng">
                <a:solidFill>
                  <a:srgbClr val="000000"/>
                </a:solidFill>
                <a:uFillTx/>
                <a:latin typeface="Times New Roman"/>
              </a:rPr>
              <a:t>continued...</a:t>
            </a:r>
            <a:endParaRPr b="0" lang="en-US" sz="2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c 354r2 accomplished its objectiv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 fostering discussion among </a:t>
            </a:r>
            <a:endParaRPr b="0" lang="en-US" sz="28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C proposers</a:t>
            </a:r>
            <a:endParaRPr b="0" lang="en-US" sz="24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HY proposer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 providing a means for comparing the Effective through put rates and Protocol Efficiencies of each MAC/PHY pairing.</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 Co.</a:t>
            </a:r>
          </a:p>
        </p:txBody>
      </p:sp>
      <p:sp>
        <p:nvSpPr>
          <p:cNvPr id="5" name="PlaceHolder 4"/>
          <p:cNvSpPr>
            <a:spLocks noGrp="1"/>
          </p:cNvSpPr>
          <p:nvPr>
            <p:ph type="sldNum" idx="3"/>
          </p:nvPr>
        </p:nvSpPr>
        <p:spPr/>
        <p:txBody>
          <a:bodyPr/>
          <a:p>
            <a:fld id="{25F47060-1F81-49BF-B377-535D81CB0FBF}" type="slidenum">
              <a:t>9</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5T22:49:39Z</dcterms:created>
  <dc:creator>Allen Heberling</dc:creator>
  <dc:description>doc: 00382r0</dc:description>
  <dc:language>en-US</dc:language>
  <cp:lastModifiedBy>Allen Heberling</cp:lastModifiedBy>
  <cp:lastPrinted>1998-02-10T13:28:06Z</cp:lastPrinted>
  <dcterms:modified xsi:type="dcterms:W3CDTF">2000-11-07T23:14:43Z</dcterms:modified>
  <cp:revision>6</cp:revision>
  <dc:subject>IEEE 802.15 TG3-MAC Committee Monday Report</dc:subject>
  <dc:title>No Slide Title</dc:title>
</cp:coreProperties>
</file>