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0DF9A-389C-41D1-B828-6EF714524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1EFF9-3852-4677-B7E7-6431EB886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BD776-25FC-410F-8EC6-604D10B0B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C85D0-630C-4A40-84C9-6302B82CD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6D899-3793-49C0-BFCE-EBF269DD6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035B-E913-4735-B84A-3CCFA9393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CFA2B-C27E-43FE-8BF5-84BC55871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718DB-A790-403A-822F-B6113E2A7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E5A14-3048-4ECD-866E-7D534FCBB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B355-2088-40E5-A4C3-C19B98D3C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714FF-6D76-4028-9CBC-FBA3A07E6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21247-926F-41BB-A778-7868A383C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5272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21240" y="6552720"/>
            <a:ext cx="177840" cy="1828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DCCA-12A0-4D8D-B138-DA1852CF6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35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495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LinCom Wireless Proposal for High Rate WPAN MAC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27 October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Carlos Rios ] </a:t>
            </a:r>
            <a:r>
              <a:rPr b="0" lang="en-US" sz="1400" spc="-1" strike="noStrike">
                <a:solidFill>
                  <a:srgbClr val="000000"/>
                </a:solidFill>
                <a:latin typeface="Times New Roman"/>
              </a:rPr>
              <a:t>	</a:t>
            </a:r>
            <a:r>
              <a:rPr b="0" lang="en-US" sz="1400" spc="-1" strike="noStrike">
                <a:solidFill>
                  <a:srgbClr val="000000"/>
                </a:solidFill>
                <a:latin typeface="Times New Roman"/>
              </a:rPr>
              <a:t>Company [LinCom Wireless, In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5120 W Goldleaf Circle, Ste 400, Los Angeles, CA 90056]</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408 202 6294], FAX: [408 399 9704], E-Mail:[riosc@lincom.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1" lang="en-US" sz="1400" spc="-1" strike="noStrike">
                <a:solidFill>
                  <a:srgbClr val="000000"/>
                </a:solidFill>
                <a:latin typeface="Times New Roman"/>
              </a:rPr>
              <a:t>	</a:t>
            </a:r>
            <a:r>
              <a:rPr b="0" lang="en-US" sz="1400" spc="-1" strike="noStrike">
                <a:solidFill>
                  <a:srgbClr val="000000"/>
                </a:solidFill>
                <a:latin typeface="Times New Roman"/>
              </a:rPr>
              <a:t> [00355r0, 00357r0, 00358r0, 00197r3, 00198r3]</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A MAC proposal by LinCom Wireless, Inc., supporting a High Rate WPAN PHY and syste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the High Rate WPAN CF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os Rios, LinCom Wireless, Inc</a:t>
            </a:r>
          </a:p>
        </p:txBody>
      </p:sp>
      <p:sp>
        <p:nvSpPr>
          <p:cNvPr id="3" name="PlaceHolder 2"/>
          <p:cNvSpPr>
            <a:spLocks noGrp="1"/>
          </p:cNvSpPr>
          <p:nvPr>
            <p:ph type="sldNum" idx="3"/>
          </p:nvPr>
        </p:nvSpPr>
        <p:spPr/>
        <p:txBody>
          <a:bodyPr/>
          <a:p>
            <a:fld id="{CD3B841B-664F-4988-AB2C-77D9BF375DCD}" type="slidenum">
              <a:t>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FER Performance in 25ns DS Multipath</a:t>
            </a:r>
            <a:br>
              <a:rPr sz="3200"/>
            </a:br>
            <a:r>
              <a:rPr b="0" lang="en-US" sz="3200" spc="-1" strike="noStrike">
                <a:solidFill>
                  <a:srgbClr val="000000"/>
                </a:solidFill>
                <a:latin typeface="Times New Roman"/>
              </a:rPr>
              <a:t>11 MSps nQAM, 52x312 OFDM</a:t>
            </a:r>
            <a:endParaRPr b="0" lang="en-US" sz="3200" spc="-1" strike="noStrike">
              <a:solidFill>
                <a:srgbClr val="000000"/>
              </a:solidFill>
              <a:latin typeface="Times New Roman"/>
            </a:endParaRPr>
          </a:p>
        </p:txBody>
      </p:sp>
      <p:graphicFrame>
        <p:nvGraphicFramePr>
          <p:cNvPr id="69" name=""/>
          <p:cNvGraphicFramePr/>
          <p:nvPr/>
        </p:nvGraphicFramePr>
        <p:xfrm>
          <a:off x="152280" y="1523880"/>
          <a:ext cx="7944120" cy="4724640"/>
        </p:xfrm>
        <a:graphic>
          <a:graphicData uri="http://schemas.openxmlformats.org/presentationml/2006/ole">
            <p:oleObj r:id="rId1" spid="">
              <p:embed/>
              <p:pic>
                <p:nvPicPr>
                  <p:cNvPr id="70" name="" descr=""/>
                  <p:cNvPicPr/>
                  <p:nvPr/>
                </p:nvPicPr>
                <p:blipFill>
                  <a:blip r:embed="rId2"/>
                  <a:stretch/>
                </p:blipFill>
                <p:spPr>
                  <a:xfrm>
                    <a:off x="152280" y="1523880"/>
                    <a:ext cx="7944120" cy="4724640"/>
                  </a:xfrm>
                  <a:prstGeom prst="rect">
                    <a:avLst/>
                  </a:prstGeom>
                  <a:ln w="0">
                    <a:noFill/>
                  </a:ln>
                </p:spPr>
              </p:pic>
            </p:oleObj>
          </a:graphicData>
        </a:graphic>
      </p:graphicFrame>
      <p:sp>
        <p:nvSpPr>
          <p:cNvPr id="71" name=""/>
          <p:cNvSpPr/>
          <p:nvPr/>
        </p:nvSpPr>
        <p:spPr>
          <a:xfrm>
            <a:off x="6310440" y="148428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830599D7-3B42-4A5E-950A-21A45121D97C}"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and MAC Throughput, Latency, CBER</a:t>
            </a:r>
            <a:br>
              <a:rPr sz="3200"/>
            </a:br>
            <a:r>
              <a:rPr b="0" lang="en-US" sz="3200" spc="-1" strike="noStrike">
                <a:solidFill>
                  <a:srgbClr val="000000"/>
                </a:solidFill>
                <a:latin typeface="Times New Roman"/>
              </a:rPr>
              <a:t>Scenario 1</a:t>
            </a:r>
            <a:endParaRPr b="0" lang="en-US" sz="3200" spc="-1" strike="noStrike">
              <a:solidFill>
                <a:srgbClr val="000000"/>
              </a:solidFill>
              <a:latin typeface="Times New Roman"/>
            </a:endParaRPr>
          </a:p>
        </p:txBody>
      </p:sp>
      <p:graphicFrame>
        <p:nvGraphicFramePr>
          <p:cNvPr id="73" name=""/>
          <p:cNvGraphicFramePr/>
          <p:nvPr/>
        </p:nvGraphicFramePr>
        <p:xfrm>
          <a:off x="1447920" y="1828800"/>
          <a:ext cx="6553080" cy="4267080"/>
        </p:xfrm>
        <a:graphic>
          <a:graphicData uri="http://schemas.openxmlformats.org/presentationml/2006/ole">
            <p:oleObj progId="Excel.Sheet.12" r:id="rId1" spid="">
              <p:embed/>
              <p:pic>
                <p:nvPicPr>
                  <p:cNvPr id="74" name="" descr=""/>
                  <p:cNvPicPr/>
                  <p:nvPr/>
                </p:nvPicPr>
                <p:blipFill>
                  <a:blip r:embed="rId2"/>
                  <a:stretch/>
                </p:blipFill>
                <p:spPr>
                  <a:xfrm>
                    <a:off x="1447920" y="1828800"/>
                    <a:ext cx="6553080" cy="426708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ECAEB00F-D5D8-4AD7-AFBE-E0A3F02A3FF2}"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and MAC Throughput, Latency, CBER</a:t>
            </a:r>
            <a:br>
              <a:rPr sz="3200"/>
            </a:br>
            <a:r>
              <a:rPr b="0" lang="en-US" sz="3200" spc="-1" strike="noStrike">
                <a:solidFill>
                  <a:srgbClr val="000000"/>
                </a:solidFill>
                <a:latin typeface="Times New Roman"/>
              </a:rPr>
              <a:t>Scenario 2</a:t>
            </a:r>
            <a:endParaRPr b="0" lang="en-US" sz="3200" spc="-1" strike="noStrike">
              <a:solidFill>
                <a:srgbClr val="000000"/>
              </a:solidFill>
              <a:latin typeface="Times New Roman"/>
            </a:endParaRPr>
          </a:p>
        </p:txBody>
      </p:sp>
      <p:graphicFrame>
        <p:nvGraphicFramePr>
          <p:cNvPr id="76" name=""/>
          <p:cNvGraphicFramePr/>
          <p:nvPr/>
        </p:nvGraphicFramePr>
        <p:xfrm>
          <a:off x="1828800" y="1828800"/>
          <a:ext cx="5791320" cy="4419720"/>
        </p:xfrm>
        <a:graphic>
          <a:graphicData uri="http://schemas.openxmlformats.org/presentationml/2006/ole">
            <p:oleObj progId="Excel.Sheet.12" r:id="rId1" spid="">
              <p:embed/>
              <p:pic>
                <p:nvPicPr>
                  <p:cNvPr id="77" name="" descr=""/>
                  <p:cNvPicPr/>
                  <p:nvPr/>
                </p:nvPicPr>
                <p:blipFill>
                  <a:blip r:embed="rId2"/>
                  <a:stretch/>
                </p:blipFill>
                <p:spPr>
                  <a:xfrm>
                    <a:off x="1828800" y="1828800"/>
                    <a:ext cx="5791320" cy="441972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1D8857D1-455C-423A-8E49-711A6C80CABC}"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Access</a:t>
            </a:r>
            <a:endParaRPr b="0" lang="en-US" sz="3600" spc="-1" strike="noStrike">
              <a:solidFill>
                <a:srgbClr val="000000"/>
              </a:solidFill>
              <a:latin typeface="Times New Roman"/>
            </a:endParaRPr>
          </a:p>
        </p:txBody>
      </p:sp>
      <p:sp>
        <p:nvSpPr>
          <p:cNvPr id="7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480" y="1676520"/>
            <a:ext cx="8001000" cy="4495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Access- Master alternately transmits packets to distinct Slav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iconet of one Master and multiple Slav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initially establishing a network becomes the Mast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ster may later switch roles with a designated Slave</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aster Assignment” frame promotes the Slave, transfers the Access Control List to avoid need for reregistration of the other Slave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attributes can be used to select the “best” Master for a picone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 Line powered, Power Save packet buffering suppor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ourcing, sinking capability</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powered, SDRAM rich Portal makes the best Mast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7BE515F-2FDE-4B2F-A6A5-CA3505420476}"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ster Operation</a:t>
            </a:r>
            <a:endParaRPr b="0" lang="en-US" sz="3600" spc="-1" strike="noStrike">
              <a:solidFill>
                <a:srgbClr val="000000"/>
              </a:solidFill>
              <a:latin typeface="Times New Roman"/>
            </a:endParaRPr>
          </a:p>
        </p:txBody>
      </p:sp>
      <p:sp>
        <p:nvSpPr>
          <p:cNvPr id="8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04920" y="1295280"/>
            <a:ext cx="838188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operation uses 802.11-like timing relationships (SIFS, PIF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ization is determined using Automatic Channel Selec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ower up the Master Active Scans (issues Probe Requests), find a clear channel and starts transmitting Beac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laves Active Scan to find the Master as they come onlin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channel later degrade, the Master may decide to move</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aceful” degradation lets Master find new channel and notify slaves for a coordinated frequency shift</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brupt” link loss forces Master to move, slaves to find hi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line or disabled Master will be replaced by one of his Slav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Beacons, unACKed transmissions determine Master lo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lave needing to transmit will issue Beacons and prepare to register and authenticate the other orphaned Slav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phaned Slaves proceed to associate with the new Mast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CBD6DE71-3745-4322-B21F-58C92455D8EF}"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Join, Unjoin</a:t>
            </a:r>
            <a:endParaRPr b="0" lang="en-US" sz="3600" spc="-1" strike="noStrike">
              <a:solidFill>
                <a:srgbClr val="000000"/>
              </a:solidFill>
              <a:latin typeface="Times New Roman"/>
            </a:endParaRPr>
          </a:p>
        </p:txBody>
      </p:sp>
      <p:sp>
        <p:nvSpPr>
          <p:cNvPr id="8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457200" y="1295280"/>
            <a:ext cx="8458200" cy="4800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like Association services provide for simple network Join, Unjoi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Active Scan upon activation (Probe Request, 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issue Enhanced Association Request (EAR) to desired Master</a:t>
            </a:r>
            <a:endParaRPr b="0" lang="en-US" sz="2000" spc="-1" strike="noStrike">
              <a:solidFill>
                <a:srgbClr val="000000"/>
              </a:solidFill>
              <a:latin typeface="Times New Roman"/>
            </a:endParaRPr>
          </a:p>
          <a:p>
            <a:pPr lvl="2" marL="108576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includes device attribute information so that the best Master can be identified for possible later Assign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grants piconet access with an Association Respon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32 Slaves at a time can be Associated with one Mast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can broadcast a packet to multiple Slaves (Point to Multipoi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Slaves can talk directly to each other, bypassing the Mast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ing Slave sends Reassociation frame to desired recipient Slav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ient verifies the common Master, sends Reassociation 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to Peer link is active until either party requests Disassoci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A51083A-EBEC-43AF-87BE-F0AECF607604}"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Interoperability and Harmony</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57200" y="1447920"/>
            <a:ext cx="838188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supports coexistence, interoperability with Bluetoot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operating in 802.15.1 mode, and paired with an appropriate PHY obviously coexists and interopera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operating in 802.15.3 mode, takes a hit whenever a BT hops into its 14 MHz Nyquist BW, less than 20% of the tim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supports coexistence with 802.11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ed with an appropriate PHY, CCA and CSMA/CA protocol will defer to co-channel transmissions of the appropriate carrier center frequency and move to a different chann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supports Harmony with 802.11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ed with the LCW PHY, will demodulate and interpret the PLCP header for the transmission duration inform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force an “equitable” sharing of the single channel by “cheating” on PCF, DCF protocols and PIFS, DIFS tim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3FAA79F8-A3A5-46B1-9F70-19BDCAD7736A}"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urity- Registration and Authorization</a:t>
            </a:r>
            <a:endParaRPr b="0" lang="en-US" sz="3600" spc="-1" strike="noStrike">
              <a:solidFill>
                <a:srgbClr val="000000"/>
              </a:solidFill>
              <a:latin typeface="Times New Roman"/>
            </a:endParaRPr>
          </a:p>
        </p:txBody>
      </p:sp>
      <p:sp>
        <p:nvSpPr>
          <p:cNvPr id="9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57200" y="1219320"/>
            <a:ext cx="8153280" cy="4800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security protocols are designed to “undo the security damage” of eliminating cables for wireless connectiv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ation grants a device access to the networ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is the one-time act of Authorizing a devi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 is the proof of Authorization upon every ac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cy is the protection against eavesdropp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LCW-capable device features a unique, secret factory assigned signature in addition to its MAC addres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vice “Registers” with the Master upon first network acces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can be unaided or require user intervention at one or both end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Registration the device is Authorized to access the network in the futu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MAC Address is added to the Master’s Access Control Li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uthorization removes the MAC Address from the AC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9634E799-4EAB-4072-96B5-FA961397AA53}"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urity- Authentication and Privacy</a:t>
            </a:r>
            <a:endParaRPr b="0" lang="en-US" sz="3600" spc="-1" strike="noStrike">
              <a:solidFill>
                <a:srgbClr val="000000"/>
              </a:solidFill>
              <a:latin typeface="Times New Roman"/>
            </a:endParaRPr>
          </a:p>
        </p:txBody>
      </p:sp>
      <p:sp>
        <p:nvSpPr>
          <p:cNvPr id="9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80880" y="1523880"/>
            <a:ext cx="822960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subsequent network access the device undergoes Authentication to prove he is the authorized access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ure exchange (Diffie Helman) of MAC Address and secret signature “proves” identit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may demand “Reverse” or Mutual Authentication from the Master, to ensure that he is indeed accessing the network of intere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ils “man in the middle” attack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ret shared session key is automatically generated at both en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to enter PIN numbers or manual keys, eve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communications privacy by strongly encrypting (128b RC4) exchanged messag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one time only Registration the user NEED DO NOTHING to obtain highly secure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1206D1C-E2B8-45DF-84E3-E536DD7724B9}"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QOS</a:t>
            </a:r>
            <a:endParaRPr b="0" lang="en-US" sz="3600" spc="-1" strike="noStrike">
              <a:solidFill>
                <a:srgbClr val="000000"/>
              </a:solidFill>
              <a:latin typeface="Times New Roman"/>
            </a:endParaRPr>
          </a:p>
        </p:txBody>
      </p:sp>
      <p:sp>
        <p:nvSpPr>
          <p:cNvPr id="10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14479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support in-home distribution of voice, audio, video and interactive multimed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ingle Portal” model for distribution of content likely originating beyond the piconet, either real time broadcast or stored/cach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eliminates collisions, backoffs, retr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zation, bandwidth and latency guarantees support streaming applic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aware Master balances Automatic Channel Selection and Data Rate Shifting to ensure connectivity and throughput when the channel degrad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QOS MAC will focus solely on the home wireless interactive multimedia distribution issu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14ED114-28BC-422D-AA84-B4F0579677F9}"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CW MAC</a:t>
            </a:r>
            <a:br>
              <a:rPr sz="3600"/>
            </a:br>
            <a:r>
              <a:rPr b="1" lang="en-US" sz="3600" spc="-1" strike="noStrike">
                <a:solidFill>
                  <a:srgbClr val="000000"/>
                </a:solidFill>
                <a:latin typeface="Arial"/>
              </a:rPr>
              <a:t> A Proposal for a High Data Rate WPAN Medium Access Controller</a:t>
            </a:r>
            <a:endParaRPr b="0" lang="en-US" sz="3600" spc="-1" strike="noStrike">
              <a:solidFill>
                <a:srgbClr val="000000"/>
              </a:solidFill>
              <a:latin typeface="Times New Roman"/>
            </a:endParaRPr>
          </a:p>
        </p:txBody>
      </p:sp>
      <p:grpSp>
        <p:nvGrpSpPr>
          <p:cNvPr id="47" name=""/>
          <p:cNvGrpSpPr/>
          <p:nvPr/>
        </p:nvGrpSpPr>
        <p:grpSpPr>
          <a:xfrm>
            <a:off x="3733920" y="5410080"/>
            <a:ext cx="1752480" cy="685800"/>
            <a:chOff x="3733920" y="5410080"/>
            <a:chExt cx="1752480" cy="685800"/>
          </a:xfrm>
        </p:grpSpPr>
        <p:pic>
          <p:nvPicPr>
            <p:cNvPr id="48" name="" descr=""/>
            <p:cNvPicPr/>
            <p:nvPr/>
          </p:nvPicPr>
          <p:blipFill>
            <a:blip r:embed="rId1"/>
            <a:stretch/>
          </p:blipFill>
          <p:spPr>
            <a:xfrm>
              <a:off x="3733920" y="5410080"/>
              <a:ext cx="1752480" cy="659520"/>
            </a:xfrm>
            <a:prstGeom prst="rect">
              <a:avLst/>
            </a:prstGeom>
            <a:ln w="0">
              <a:noFill/>
            </a:ln>
          </p:spPr>
        </p:pic>
        <p:pic>
          <p:nvPicPr>
            <p:cNvPr id="49" name="" descr=""/>
            <p:cNvPicPr/>
            <p:nvPr/>
          </p:nvPicPr>
          <p:blipFill>
            <a:blip r:embed="rId2"/>
            <a:stretch/>
          </p:blipFill>
          <p:spPr>
            <a:xfrm>
              <a:off x="3733920" y="5865840"/>
              <a:ext cx="1752480" cy="230040"/>
            </a:xfrm>
            <a:prstGeom prst="rect">
              <a:avLst/>
            </a:prstGeom>
            <a:ln w="0">
              <a:noFill/>
            </a:ln>
          </p:spPr>
        </p:pic>
      </p:gr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50C5D594-EB2A-4FDB-8039-F50BD0CC27BF}"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Miscellany</a:t>
            </a:r>
            <a:endParaRPr b="0" lang="en-US" sz="3600" spc="-1" strike="noStrike">
              <a:solidFill>
                <a:srgbClr val="000000"/>
              </a:solidFill>
              <a:latin typeface="Times New Roman"/>
            </a:endParaRPr>
          </a:p>
        </p:txBody>
      </p:sp>
      <p:sp>
        <p:nvSpPr>
          <p:cNvPr id="10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1447920"/>
            <a:ext cx="8763120" cy="358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Data Rate Shift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is biased to operate at highest data rate possib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channel degrades, automatically downshifts to lower rat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s to QOS prioritization, bandwidth, latency contracts under PCF</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negotiate low power “sleep” intervals with Master</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er number of Beacon Intervals</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power down, except for time-keeping functions to wake up</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buffers all incoming packets for sleeping Slaves until they awake and reestablish active lin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s message buffering capability depends on its Device Typ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maintain a network connection while in Power Sav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can sleep for seconds before waking to poll for stored dat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ming, fragmentation, RTS/CTS, 802.11 adhoc are not support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7ED88412-961E-4586-A796-0C992484F17D}"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1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80880" y="1295280"/>
            <a:ext cx="8305920" cy="449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2.1</a:t>
            </a:r>
            <a:r>
              <a:rPr b="0" lang="en-US" sz="2000" spc="-1" strike="noStrike">
                <a:solidFill>
                  <a:srgbClr val="000000"/>
                </a:solidFill>
                <a:latin typeface="Arial"/>
              </a:rPr>
              <a:t> Unit Manufacturing Cost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imately associated with specific MAC, PHY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BB/RF Conversion architecture minimizes BOM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ay silicon technology supports single chip integration of</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Zero IF transceivers at 2.4 GHz</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nQAM modems, adaptive equalizers, RS FEC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IP processors suitable for software 802.11-like MACs, including encryption, QO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peed SR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8u CMOS process is available in low cost fabrication facil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3u CMOS process is now being introduc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odule available Q102 for &lt;1.5x 802.15.1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BCFAB05-17DA-4D12-9B32-56CD04E91799}"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1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072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 Interference and Susceptibilit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band, Non-Cochannel, Non-Adjacent Channel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 Intermodulation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IP3 of representative RF front end= -3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vel produced by 2 -35 dBm tones= -99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 level, LCW-40= -77 dBm (Sensitivity +3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LCW-40= 22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Jamming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vices will j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E51831D-38B6-408F-B9A1-62E84BE472C4}"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1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09480" y="1295280"/>
            <a:ext cx="800100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2.2.5</a:t>
            </a:r>
            <a:r>
              <a:rPr b="0" lang="en-US" sz="2000" spc="-1" strike="noStrike">
                <a:solidFill>
                  <a:srgbClr val="000000"/>
                </a:solidFill>
                <a:latin typeface="Arial"/>
              </a:rPr>
              <a:t> Multiple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enarios work with LCW-30, 4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2.2.6</a:t>
            </a:r>
            <a:r>
              <a:rPr b="0" lang="en-US" sz="2000" spc="-1" strike="noStrike">
                <a:solidFill>
                  <a:srgbClr val="000000"/>
                </a:solidFill>
                <a:latin typeface="Arial"/>
              </a:rPr>
              <a:t> Coexist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gt; 80% with devices 1, 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100% with devices 3, 4, 5</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2.3</a:t>
            </a:r>
            <a:r>
              <a:rPr b="0" lang="en-US" sz="2000" spc="-1" strike="noStrike">
                <a:solidFill>
                  <a:srgbClr val="000000"/>
                </a:solidFill>
                <a:latin typeface="Arial"/>
              </a:rPr>
              <a:t> Interope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802.15.1 PHY and MAC is embedded into LCW, achieving a dual mode radio switchable between 802.15.1 and 802.15.3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 Manufactu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equipment of similar complexity available in 200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633090E5-D389-4C0C-A24D-60B00536D096}"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2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9480" y="1219320"/>
            <a:ext cx="807732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2 Time to Mark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will be available Q40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 Regulatory Compliant with existing FCC (15.249), ETSI 300-32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 Maturity of 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 reduction, extension of 802.11b PHY and 802.11 M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Scal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scalable in data rate, frequency band, and fun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Location Awaren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I statistics distinguish device locations to resolution in me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A7482D6-0AB0-40AA-BDA1-0C1FB3C49A1F}"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2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914400" y="1219320"/>
            <a:ext cx="769608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 Fully Transparent to Upper Protocol Lay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 Unique 48 bit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3.2.2</a:t>
            </a:r>
            <a:r>
              <a:rPr b="0" lang="en-US" sz="2000" spc="-1" strike="noStrike">
                <a:solidFill>
                  <a:srgbClr val="000000"/>
                </a:solidFill>
                <a:latin typeface="Arial"/>
              </a:rPr>
              <a:t> Simple Network Join/Unjo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style Association, Disassociation for non hopping PHY is much simpler than that of 802.15.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3.2.3</a:t>
            </a:r>
            <a:r>
              <a:rPr b="0" lang="en-US" sz="2000" spc="-1" strike="noStrike">
                <a:solidFill>
                  <a:srgbClr val="000000"/>
                </a:solidFill>
                <a:latin typeface="Arial"/>
              </a:rPr>
              <a:t> Device Regist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 from Automatic Admit-All, to Automatic by Device Type, to various levels of Restricted Ac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2 Minimum Delivered Data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3 High End Delivered Data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193C61A-4306-4377-95E1-749F0FF7490D}"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3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62120" y="1371600"/>
            <a:ext cx="807696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Data Transfer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asynchronous and isochronous on a per packet basi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 Topologies supported: point/multipoint, point/point, peer/pe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2 Maximum number of Active Connections &gt; 1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3 Ad Hoc Networks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4 Access to a Portal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2 Master Redundancy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3 Loss of Connection Detection and Recovery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B8FA42A6-97BA-4BE9-98BC-35A1D045AC95}"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3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914400" y="1143000"/>
            <a:ext cx="7391520" cy="4952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Power Management as in 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in deep sleep maintain active piconet connec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 MAC Controller power consump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with 1.5W system power consump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3.9.1</a:t>
            </a:r>
            <a:r>
              <a:rPr b="0" lang="en-US" sz="2000" spc="-1" strike="noStrike">
                <a:solidFill>
                  <a:srgbClr val="000000"/>
                </a:solidFill>
                <a:latin typeface="Arial"/>
              </a:rPr>
              <a:t> Authent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poof-proof) mutual authent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3.9.2</a:t>
            </a:r>
            <a:r>
              <a:rPr b="0" lang="en-US" sz="2000" spc="-1" strike="noStrike">
                <a:solidFill>
                  <a:srgbClr val="000000"/>
                </a:solidFill>
                <a:latin typeface="Arial"/>
              </a:rPr>
              <a:t> Privac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Encryption (128b RC4)</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transparent encryption key generation, distribution, and mainten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0 QOS equivalent to 802.11e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E801D3D5-FC0A-4C37-8306-71D9664DB6CB}"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139" name="PlaceHolder 2"/>
          <p:cNvSpPr>
            <a:spLocks noGrp="1"/>
          </p:cNvSpPr>
          <p:nvPr>
            <p:ph/>
          </p:nvPr>
        </p:nvSpPr>
        <p:spPr>
          <a:xfrm>
            <a:off x="76320" y="1219320"/>
            <a:ext cx="8991360" cy="45720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is the result of a “Systems Design” approach to the HRWPAN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to integrate with the LCW P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mates robustly and efficiently with other 6 PHY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enables extraordinary transmission performanc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 high throughput, low error rate and low latency</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duced and Extended” 802.11-like MA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F Poll-response mechanism provides efficient, centralized piconet contro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uto Channel Select, Master-slave morph, peer to peer communic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s roaming, fragmentation, RTS/CTS and 802.11 adhoc</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Interoperability and Harmony with preexisting stand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End Securit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button push or equivalent initially establishes a highly secure WP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 does NOTHING to reestablish, maintain highly secure links thereaft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quality, interactive multimedia capable Q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3360" y="5715000"/>
            <a:ext cx="9080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CW MAC is a compelling choice for the HRWPAN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3DC829F-C9BB-4FEB-A924-C6C66ABF3AF3}" type="slidenum">
              <a:t>2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LinCom Wireless, Inc.</a:t>
            </a:r>
            <a:endParaRPr b="0" lang="en-US" sz="3600" spc="-1" strike="noStrike">
              <a:solidFill>
                <a:srgbClr val="000000"/>
              </a:solidFill>
              <a:latin typeface="Times New Roman"/>
            </a:endParaRPr>
          </a:p>
        </p:txBody>
      </p:sp>
      <p:sp>
        <p:nvSpPr>
          <p:cNvPr id="51"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the Commercial Business Units of LinCom Cor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 off as a separate corporation in April 2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ly owned subsidiary of Titan Corp., San Diego, 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year history of developing Satellite and Terrestrial Digital Wireless Communications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technical professionals dedicated to Systems Engineering, ASIC and embedded software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IP, ASICs, FW and board/module level products for Wireless LAN, PAN and Home Network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ystems Engineering services in commercial SatCom, PCS and short range wireless marke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379B9A2-FE95-4B45-B296-E8FA3A8086E8}"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533160"/>
            <a:ext cx="89913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ireless Home Network Application</a:t>
            </a:r>
            <a:endParaRPr b="0" lang="en-US" sz="3600" spc="-1" strike="noStrike">
              <a:solidFill>
                <a:srgbClr val="000000"/>
              </a:solidFill>
              <a:latin typeface="Times New Roman"/>
            </a:endParaRPr>
          </a:p>
        </p:txBody>
      </p:sp>
      <p:sp>
        <p:nvSpPr>
          <p:cNvPr id="53" name="PlaceHolder 2"/>
          <p:cNvSpPr>
            <a:spLocks noGrp="1"/>
          </p:cNvSpPr>
          <p:nvPr>
            <p:ph/>
          </p:nvPr>
        </p:nvSpPr>
        <p:spPr>
          <a:xfrm>
            <a:off x="837720" y="1523880"/>
            <a:ext cx="7589880" cy="4648320"/>
          </a:xfrm>
          <a:prstGeom prst="rect">
            <a:avLst/>
          </a:prstGeom>
          <a:noFill/>
          <a:ln w="0">
            <a:noFill/>
          </a:ln>
        </p:spPr>
        <p:txBody>
          <a:bodyPr lIns="92160" rIns="92160" tIns="46080" bIns="460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e the wireless interconnection of electronic devices within the hom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m range, including thru-wall propag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in excess of 30 Mbp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and non-real time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imultaneous connection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ioritization and guaranteed bandwidth, minimum latenc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coexistence, interoperability, coordination between all home wireless devic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 and perhaps interoperate with “visiting” or legacy devices designed to other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4897967-7F62-4F2C-8B2B-68F63CA2852A}"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ystems”</a:t>
            </a:r>
            <a:r>
              <a:rPr b="0" lang="en-US" sz="3200" spc="-1" strike="noStrike">
                <a:solidFill>
                  <a:srgbClr val="000000"/>
                </a:solidFill>
                <a:latin typeface="Times New Roman"/>
              </a:rPr>
              <a:t> </a:t>
            </a:r>
            <a:r>
              <a:rPr b="0" lang="en-US" sz="3600" spc="-1" strike="noStrike">
                <a:solidFill>
                  <a:srgbClr val="000000"/>
                </a:solidFill>
                <a:latin typeface="Times New Roman"/>
              </a:rPr>
              <a:t>Implications</a:t>
            </a:r>
            <a:endParaRPr b="0" lang="en-US" sz="3600" spc="-1" strike="noStrike">
              <a:solidFill>
                <a:srgbClr val="000000"/>
              </a:solidFill>
              <a:latin typeface="Times New Roman"/>
            </a:endParaRPr>
          </a:p>
        </p:txBody>
      </p:sp>
      <p:sp>
        <p:nvSpPr>
          <p:cNvPr id="55" name="PlaceHolder 2"/>
          <p:cNvSpPr>
            <a:spLocks noGrp="1"/>
          </p:cNvSpPr>
          <p:nvPr>
            <p:ph/>
          </p:nvPr>
        </p:nvSpPr>
        <p:spPr>
          <a:xfrm>
            <a:off x="533160" y="1447560"/>
            <a:ext cx="838188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needs to support high data rate, low latency, highly secure, multimedia capable, fully networked personal wireless communications in the indoor propagation chan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upport multiple simultaneous data, voice, video and interactive multimedia lin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30 Mbps aggregate, sustained, low latency throughpu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overcome, “tame” the onerous propagation chann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needs to provide powerful multipath mitigation, error cor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supports “smart” ARQ to improve throughput, latenc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rated, specifically designed PHY and MAC pair BEST addresses all these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at’s not what we are doing he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has been modified to mate with other PHY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n’t work quite as well as with the LCW PH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A527590-388F-4339-B5E7-2D1372927F20}"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6865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Description</a:t>
            </a:r>
            <a:endParaRPr b="0" lang="en-US" sz="3600" spc="-1" strike="noStrike">
              <a:solidFill>
                <a:srgbClr val="000000"/>
              </a:solidFill>
              <a:latin typeface="Times New Roman"/>
            </a:endParaRPr>
          </a:p>
        </p:txBody>
      </p:sp>
      <p:sp>
        <p:nvSpPr>
          <p:cNvPr id="57" name="PlaceHolder 2"/>
          <p:cNvSpPr>
            <a:spLocks noGrp="1"/>
          </p:cNvSpPr>
          <p:nvPr>
            <p:ph/>
          </p:nvPr>
        </p:nvSpPr>
        <p:spPr>
          <a:xfrm>
            <a:off x="533520" y="1218960"/>
            <a:ext cx="8076960" cy="51814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MAC Basi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mental MAC protocol is CSMA/CA PCF, akin to 802.1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 Slave to Master “morphing”, direct Slave to Slave communic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enhanced security and QO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ecurity featur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registr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authentic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 bit encrypti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transparent key generation and maintenanc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voice, audio, video and interactive multimedia suppo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provides 802.15.1 suppor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distinct and separable” 802.15.1 MAC included to support a dual mode HRWPAN/Bluetooth radi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legalities, NO further Bluetooth IP is reused by LCW MA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EB1B364-538D-4803-8C21-131C4D45908A}"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Transmission Enhancement</a:t>
            </a:r>
            <a:endParaRPr b="0" lang="en-US" sz="3600" spc="-1" strike="noStrike">
              <a:solidFill>
                <a:srgbClr val="000000"/>
              </a:solidFill>
              <a:latin typeface="Times New Roman"/>
            </a:endParaRPr>
          </a:p>
        </p:txBody>
      </p:sp>
      <p:sp>
        <p:nvSpPr>
          <p:cNvPr id="5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523880"/>
            <a:ext cx="8305560" cy="4724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oncert with an appropriate PHY, the LCW MAC improves transmission robustness, throughput and latency performance</a:t>
            </a:r>
            <a:endParaRPr b="0" lang="en-US" sz="20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HYs provides high raw data rates, multipath mitigation and error correction</a:t>
            </a:r>
            <a:endParaRPr b="0" lang="en-US" sz="20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Com PHY also segments packets into 200B blocks, and performs real time Reed Solomon FEC coding/decod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then provides for “smart” retransmissions using “Enhanced ACK” (EACK) and“Enhanced ARQ” (EARQ)</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K indicates the specific packet segments received with errors not correctable by the Reed Solomon decod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s the standard AC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s the transmitter which segments need to be retransmitted.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Q protocols at the source then retransmit only those specific RS encoded packet seg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ansmission overhead, LATENCY are reduced significantl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3DA4299-7630-4E99-896A-E3F963500C87}"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53316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Latency and Error Performance</a:t>
            </a:r>
            <a:endParaRPr b="0" lang="en-US" sz="3600" spc="-1" strike="noStrike">
              <a:solidFill>
                <a:srgbClr val="000000"/>
              </a:solidFill>
              <a:latin typeface="Times New Roman"/>
            </a:endParaRPr>
          </a:p>
        </p:txBody>
      </p:sp>
      <p:sp>
        <p:nvSpPr>
          <p:cNvPr id="63"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57200" y="1523880"/>
            <a:ext cx="830592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munications performance metrics for a wireless network</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Net data transmission rat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Time Delay caused by transmiss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ed Bit Error Rate- 1/ (Number of bits between error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Best” combination for a specific application involves tradeoff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hroughput can be readily achieved with large packet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packets ordinarily imply large retransmission latencie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latencies can be achieved at the expense of error rat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error rates can be had with large (retransmission) latencie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is inextricably tied to details of the specific MAC and PHY implementation</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ing a specific MAC with a “generic” PHY produces no meaningful result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was analyzed with all 7 proposed PHY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81C5389A-FDC7-4A55-AEF1-D5030BC20A5E}"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53316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Latency and Error Analysis</a:t>
            </a:r>
            <a:endParaRPr b="0" lang="en-US" sz="3600" spc="-1" strike="noStrike">
              <a:solidFill>
                <a:srgbClr val="000000"/>
              </a:solidFill>
              <a:latin typeface="Times New Roman"/>
            </a:endParaRPr>
          </a:p>
        </p:txBody>
      </p:sp>
      <p:sp>
        <p:nvSpPr>
          <p:cNvPr id="6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1523880"/>
            <a:ext cx="830592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Condit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nasty multipath propagation medium </a:t>
            </a:r>
            <a:br>
              <a:rPr sz="2000"/>
            </a:br>
            <a:r>
              <a:rPr b="0" lang="en-US" sz="2000" spc="-1" strike="noStrike">
                <a:solidFill>
                  <a:srgbClr val="000000"/>
                </a:solidFill>
                <a:latin typeface="Arial"/>
              </a:rPr>
              <a:t>(25 ns Rayleigh “Naftali” channel)</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high sustained throughputs </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3 MPEG2 channels (6 Mbps ea, 18 Mbps total, min)</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low peak latencies for interactive multimedia</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ms is consistent with pleasant voic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error rates</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digital video demands an error event no more than once per hour</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es to a BER better than 1x10</a:t>
            </a:r>
            <a:r>
              <a:rPr b="0" lang="en-US" sz="2000" spc="-1" strike="noStrike" baseline="30000">
                <a:solidFill>
                  <a:srgbClr val="000000"/>
                </a:solidFill>
                <a:latin typeface="Arial"/>
              </a:rPr>
              <a:t>-10</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acket data environment, use CBER = 1x10</a:t>
            </a:r>
            <a:r>
              <a:rPr b="0" lang="en-US" sz="2000" spc="-1" strike="noStrike" baseline="30000">
                <a:solidFill>
                  <a:srgbClr val="000000"/>
                </a:solidFill>
                <a:latin typeface="Arial"/>
              </a:rPr>
              <a:t>-10</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1- One way transmissions from A to B</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2- One way A-B and Bidirectional C-D transmiss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00E90C88-A430-49D0-837B-1443FC41F785}" type="slidenum">
              <a:t>9</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Carlos Rios</dc:creator>
  <dc:description>073r0</dc:description>
  <dc:language>en-US</dc:language>
  <cp:lastModifiedBy>Carlos Rios</cp:lastModifiedBy>
  <cp:lastPrinted>2000-07-29T16:32:21Z</cp:lastPrinted>
  <dcterms:modified xsi:type="dcterms:W3CDTF">2000-10-27T21:53:41Z</dcterms:modified>
  <cp:revision>67</cp:revision>
  <dc:subject/>
  <dc:title>L3C Proposal for HR WPAN</dc:title>
</cp:coreProperties>
</file>