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023A4-38F3-4D00-9A5D-8E68026D0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4140-20FD-4C67-8CC0-E96465CF0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17850-21F8-409A-B37D-A3B23ADE0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D4631-CAA9-4CBE-AAF5-A484DF644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D1310-DB73-4561-AFA5-F8C48EF5B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FFD32-FCCA-4685-A9E7-7F5940609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76286-ADED-41FF-9F5C-97BB7319A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552C9-4C07-4520-80C9-38321B26E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694F-7D34-40C0-829C-198CFBF8B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D093B-078B-49F8-818B-E0527FCBD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1CD1-11E4-4E5C-ABC5-C3D1ECD38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94DF-8358-4A7B-8FCB-37BB0ED71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B41EDD-92E6-44C2-9568-87085D734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5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224623A2-8594-4E23-BD9E-C8648F8A74C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57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2400" spc="-1" strike="noStrike">
                <a:solidFill>
                  <a:srgbClr val="ff0000"/>
                </a:solidFill>
                <a:latin typeface="Times New Roman"/>
              </a:rPr>
              <a:t>R2SG-Report</a:t>
            </a:r>
            <a:r>
              <a:rPr b="0" lang="en-US" sz="1600" spc="-1" strike="noStrike">
                <a:solidFill>
                  <a:srgbClr val="ff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08 November 200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Final</a:t>
            </a:r>
            <a:r>
              <a:rPr b="0" lang="en-US" sz="1600" spc="-1" strike="noStrike">
                <a:solidFill>
                  <a:srgbClr val="000000"/>
                </a:solidFill>
                <a:latin typeface="Times New Roman"/>
              </a:rPr>
              <a:t> </a:t>
            </a:r>
            <a:r>
              <a:rPr b="0" lang="en-US" sz="1600" spc="-1" strike="noStrike">
                <a:solidFill>
                  <a:srgbClr val="ff0000"/>
                </a:solidFill>
                <a:latin typeface="Times New Roman"/>
              </a:rPr>
              <a:t>Report from IEEE Radio2 Study Group</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report is to create a final report on the liaison activities between the BSIG on 802.15.3 activities and related effor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from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adio2 Study Group</a:t>
            </a:r>
            <a:endParaRPr b="0" lang="en-US" sz="32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43D94AB-2D4D-4A1B-8DDC-17E63CE9C1CA}"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Purpose of R2SG</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formal vehicle within IEEE 802.15 to track the activities of the Bluetooth™ SIG Radio2 Working Group (and related activities) and recommend appropriate action to 802.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2057B7A-2E03-4D4D-BE92-4D56396B5059}"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adio 2 and IEEE 802.15.3</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s Posi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IG's concern is fragmentation of the WPAN marke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issue in the relationship between BSIG and IEEE:</a:t>
            </a:r>
            <a:endParaRPr b="0" lang="en-US" sz="24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organisations have different IP rules and fundamentally different decision making philosophies. This makes it difficult for the two organizations to work together on a single spec.</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if the BSIG and TG3 started from the same proposal and developed specs in parallel, there is no guarantee that the two resulting specs would be compatible.</a:t>
            </a:r>
            <a:endParaRPr b="0" lang="en-US" sz="2400" spc="-1" strike="noStrike">
              <a:solidFill>
                <a:srgbClr val="000000"/>
              </a:solidFill>
              <a:latin typeface="Times New Roman"/>
            </a:endParaRPr>
          </a:p>
        </p:txBody>
      </p:sp>
      <p:sp>
        <p:nvSpPr>
          <p:cNvPr id="56"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3EFE34D-84ED-4847-9003-F91E16C4F8A2}"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adio 2 and IEEE 802.15.3 (co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roposal #1:</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3 to follow the same relationship model as TG1, where one organization follows the other. This would guarantee that we end up with compatible specs. It is the BSIG's preferred 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IG Proposal #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3 to develop a radio solution which is highly differentiated (e.g.&gt; 40Mbit/sec data rate) from the BSIG's Radio 2 specification.</a:t>
            </a:r>
            <a:endParaRPr b="0" lang="en-US" sz="2400" spc="-1" strike="noStrike">
              <a:solidFill>
                <a:srgbClr val="000000"/>
              </a:solidFill>
              <a:latin typeface="Times New Roman"/>
            </a:endParaRPr>
          </a:p>
        </p:txBody>
      </p:sp>
      <p:sp>
        <p:nvSpPr>
          <p:cNvPr id="59"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2D188DC-056E-4DDF-9168-3AF45B464A19}"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adio 2 and IEEE 802.15.3 (con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BSIG to adopt such a specification, all contributors would have to sign an Open IP agre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ackward compliant with BT 1.0, IEEE's 802.15.3 must avoid overlapping the BT 1.0 spec, or an IEEE 802.15.3 product would not pass BT qualif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EEE 802.15.3 is not backward compliant with BT 1.0, it would fragment the WPAN market, as there would be two incompatible WPAN specifications with little end-user differentiation.</a:t>
            </a:r>
            <a:endParaRPr b="0" lang="en-US" sz="2400" spc="-1" strike="noStrike">
              <a:solidFill>
                <a:srgbClr val="000000"/>
              </a:solidFill>
              <a:latin typeface="Times New Roman"/>
            </a:endParaRPr>
          </a:p>
        </p:txBody>
      </p:sp>
      <p:sp>
        <p:nvSpPr>
          <p:cNvPr id="62" name=""/>
          <p:cNvSpPr/>
          <p:nvPr/>
        </p:nvSpPr>
        <p:spPr>
          <a:xfrm>
            <a:off x="81720" y="106200"/>
            <a:ext cx="222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ancis Truntzer 3Nov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A5B66FB-1E9F-49D2-912F-E7F4F8793765}"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us of Radio2 Study Group</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must re-authorize at the November meeting in Tampa.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commendation: do not re-authorize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for TG3 is not based on Bluetooth™ Wireless Technolog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re information on Bluetooth Radio2 is forthcoming in the near futu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nformation is available from BSIG, this group can reconstitu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EC761CC-079D-4690-B912-EEBBAE5CEF74}"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re-authorize Radio2 Study Group (vote 2-0-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m Sie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Mike McInn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B823356-8048-4422-BDD4-790F5FB3A631}"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R2SG Reincarnatio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possible purposes in the fu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Specification/Radio2 could be a </a:t>
            </a:r>
            <a:r>
              <a:rPr b="0" lang="en-US" sz="2800" spc="-1" strike="noStrike" u="sng">
                <a:solidFill>
                  <a:srgbClr val="000000"/>
                </a:solidFill>
                <a:uFillTx/>
                <a:latin typeface="Times New Roman"/>
              </a:rPr>
              <a:t>supplement</a:t>
            </a:r>
            <a:r>
              <a:rPr b="0" lang="en-US" sz="2800" spc="-1" strike="noStrike">
                <a:solidFill>
                  <a:srgbClr val="000000"/>
                </a:solidFill>
                <a:latin typeface="Times New Roman"/>
              </a:rPr>
              <a:t> to 802.15.1</a:t>
            </a:r>
            <a:r>
              <a:rPr b="0" lang="en-US" sz="2800" spc="-1" strike="noStrike" u="sng">
                <a:solidFill>
                  <a:srgbClr val="ff0000"/>
                </a:solidFill>
                <a:uFillTx/>
                <a:latin typeface="Times New Roman"/>
              </a:rPr>
              <a:t>a</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Specification/Radio2 may become available to the IEEE in 2001 as </a:t>
            </a:r>
            <a:r>
              <a:rPr b="0" lang="en-US" sz="2800" spc="-1" strike="noStrike" u="sng">
                <a:solidFill>
                  <a:srgbClr val="000000"/>
                </a:solidFill>
                <a:uFillTx/>
                <a:latin typeface="Times New Roman"/>
              </a:rPr>
              <a:t>another derivative work</a:t>
            </a:r>
            <a:r>
              <a:rPr b="0" lang="en-US" sz="2800" spc="-1" strike="noStrike">
                <a:solidFill>
                  <a:srgbClr val="000000"/>
                </a:solidFill>
                <a:latin typeface="Times New Roman"/>
              </a:rPr>
              <a:t> product or something els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C1AD040-F41B-47DD-9746-CDBC9270F274}"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2:41:18Z</dcterms:created>
  <dc:creator>Tom Siep</dc:creator>
  <dc:description/>
  <cp:keywords>November 2000</cp:keywords>
  <dc:language>en-US</dc:language>
  <cp:lastModifiedBy>Tom Siep</cp:lastModifiedBy>
  <cp:lastPrinted>1998-02-10T13:28:06Z</cp:lastPrinted>
  <dcterms:modified xsi:type="dcterms:W3CDTF">2000-11-09T22:20:52Z</dcterms:modified>
  <cp:revision>10</cp:revision>
  <dc:subject>Radio2 SG</dc:subject>
  <dc:title>R2SG Final report</dc:title>
</cp:coreProperties>
</file>