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F93C35-7CD6-4C28-A17E-AC9F1816D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FF085E4-0AC6-4E75-9310-FC223B051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2" name="PlaceHolder 1"/>
          <p:cNvSpPr>
            <a:spLocks noGrp="1"/>
          </p:cNvSpPr>
          <p:nvPr>
            <p:ph type="sldImg"/>
          </p:nvPr>
        </p:nvSpPr>
        <p:spPr>
          <a:xfrm>
            <a:off x="1146240" y="695160"/>
            <a:ext cx="4641840" cy="3481560"/>
          </a:xfrm>
          <a:prstGeom prst="rect">
            <a:avLst/>
          </a:prstGeom>
          <a:ln w="0">
            <a:noFill/>
          </a:ln>
        </p:spPr>
      </p:sp>
      <p:sp>
        <p:nvSpPr>
          <p:cNvPr id="313"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Tom Siep [siep@ti.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nt: Thursday, November 02, 2000 12:32 P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Task Group 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ubject: 802.15.1 Version 1.1 not availabl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ortance: High</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 just spoke to Cathy Hughes of the Open Group.  There has been a MAJOR retrenchment: the TROFF version has been abandoned.  They will RE-IMPLEMENT Errata against the original v1.0b and stay in FrameMake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tai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Open Group has had static from the SIG about "Conversion Errors" from FrameMaker to TROFF (Cathy says there were 5 in the 1600 pages, 4 of which were TROFF coding errors, one was a figur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2.. Open Group will use a consultant to apply the Errata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3.. Cathy had made both editorial and technical change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4.. The techinal changes will be reappli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editorial changes likely will be los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6.. Kennith Wilson (the consultant) will be seeing the FM source for the first time tomorrow.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7.. The desired delivery for the updated FM is 24Novembe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8.. It is not known at this time how long the SIG will need to review the new document, but 30 or even 40 days seems reasonable to both Cathy and m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9.. It seems likely that v1.1 will not be ready for the BT DevCon (4-7 Dec 00)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lications for TG1 (as I see the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1.. Earliest possible editorial changes on Clauses 7-11 is 1Decembe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2.. Earliest possible start time for comment resolution is 1January01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3.. No impact on Clauses 1-6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4.. No impact on magnitude of changes to base document; we can determine with what we know whether we need to do a reconsider (40 day) or confirmation (15 day) ballot -- I think 15 day will do.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5.. No impact on responding to comments that were reject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ther though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m Siep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ireless Communications Business Uni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exas Instru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14) 480-6786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972) 761-5581 FAX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14) 808-2642 cell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iep@ti.co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54160" y="701640"/>
            <a:ext cx="4626000" cy="3468600"/>
          </a:xfrm>
          <a:prstGeom prst="rect">
            <a:avLst/>
          </a:prstGeom>
          <a:ln w="0">
            <a:noFill/>
          </a:ln>
        </p:spPr>
      </p:sp>
      <p:sp>
        <p:nvSpPr>
          <p:cNvPr id="315"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adaG used a non-standard Type of Comment e.g., 32 "E/t" and 4 "e/t".  I am unclear how to deal with these comments.  The Editor-in-Chief interpreted them as "t’s”; which nets 59 total of which 36 are hybri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tK forgot to code pwk19 e.g., Type of Comment e.g., "E/t/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oumanA used a non-standard numbering for comments e.g., 8a, 8b, etc. indicating he did not read the instructions.  He supplied 62 not 48 com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keP used "e" 100%  in the Type of comments (E/e/T/t) and added the N, t, T in the Part of NO vote (Y/N); indicating he did not read the instructions. Therefore he has 139 "e's" and he added 4 "t’s" and 3 "T’s" to the wrong column hence -7 "e’s" and a some T/t en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opped Dr. Yunxin Li as I could not find his comments.  Source: BobH results *.xls file. FOUND 10JAN00…All 250 of them!  He forgot to code yxl007.</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opped Mr. Daniel R. McGlynn &amp; Mr. Ivan Reede as they did not supply Comments w/ their “Nea” vote.  Therefore these balloters failed to vote.  Note: Ivan indicated 7Jan00 that he would change his “Nea” to a “Yea” w/o Comments if it stalled the WG Balloting process.  He will not supply comments on his nea vote - lost HD &amp; NadaG covered his com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B3 Comment Analysis</a:t>
            </a:r>
            <a:r>
              <a:rPr b="0" lang="en-US" sz="1200" spc="-1" strike="noStrike">
                <a:solidFill>
                  <a:srgbClr val="000000"/>
                </a:solidFill>
                <a:latin typeface="Times New Roman"/>
              </a:rPr>
              <a:t>	</a:t>
            </a:r>
            <a:r>
              <a:rPr b="0" lang="en-US" sz="1200" spc="-1" strike="noStrike">
                <a:solidFill>
                  <a:srgbClr val="000000"/>
                </a:solidFill>
                <a:latin typeface="Times New Roman"/>
              </a:rPr>
              <a:t>412</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Comments with Resolutions</a:t>
            </a:r>
            <a:r>
              <a:rPr b="0" lang="en-US" sz="1200" spc="-1" strike="noStrike">
                <a:solidFill>
                  <a:srgbClr val="000000"/>
                </a:solidFill>
                <a:latin typeface="Times New Roman"/>
              </a:rPr>
              <a:t>	</a:t>
            </a:r>
            <a:r>
              <a:rPr b="0" lang="en-US" sz="1200" spc="-1" strike="noStrike">
                <a:solidFill>
                  <a:srgbClr val="000000"/>
                </a:solidFill>
                <a:latin typeface="Times New Roman"/>
              </a:rPr>
              <a:t>422</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lta (+4 TomS &amp; +6 ThomasM)</a:t>
            </a:r>
            <a:r>
              <a:rPr b="0" lang="en-US" sz="1200" spc="-1" strike="noStrike">
                <a:solidFill>
                  <a:srgbClr val="000000"/>
                </a:solidFill>
                <a:latin typeface="Times New Roman"/>
              </a:rPr>
              <a:t>	</a:t>
            </a: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ms10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ms10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ms102</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ms10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TM00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TM002</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TM00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TM004</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TM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TM00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riginal BSIG Inputs (all comments)</a:t>
            </a:r>
            <a:r>
              <a:rPr b="0" lang="en-US" sz="1200" spc="-1" strike="noStrike">
                <a:solidFill>
                  <a:srgbClr val="000000"/>
                </a:solidFill>
                <a:latin typeface="Times New Roman"/>
              </a:rPr>
              <a:t>	</a:t>
            </a:r>
            <a:r>
              <a:rPr b="0" lang="en-US" sz="1200" spc="-1" strike="noStrike">
                <a:solidFill>
                  <a:srgbClr val="000000"/>
                </a:solidFill>
                <a:latin typeface="Times New Roman"/>
              </a:rPr>
              <a:t>12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riginal BSIG Inputs (consolidated comments)</a:t>
            </a:r>
            <a:r>
              <a:rPr b="0" lang="en-US" sz="1200" spc="-1" strike="noStrike">
                <a:solidFill>
                  <a:srgbClr val="000000"/>
                </a:solidFill>
                <a:latin typeface="Times New Roman"/>
              </a:rPr>
              <a:t>	</a:t>
            </a:r>
            <a:r>
              <a:rPr b="0" lang="en-US" sz="1200" spc="-1" strike="noStrike">
                <a:solidFill>
                  <a:srgbClr val="000000"/>
                </a:solidFill>
                <a:latin typeface="Times New Roman"/>
              </a:rPr>
              <a:t>12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SIG Input Results (all comments)</a:t>
            </a:r>
            <a:r>
              <a:rPr b="0" lang="en-US" sz="1200" spc="-1" strike="noStrike">
                <a:solidFill>
                  <a:srgbClr val="000000"/>
                </a:solidFill>
                <a:latin typeface="Times New Roman"/>
              </a:rPr>
              <a:t>	</a:t>
            </a:r>
            <a:r>
              <a:rPr b="0" lang="en-US" sz="1200" spc="-1" strike="noStrike">
                <a:solidFill>
                  <a:srgbClr val="000000"/>
                </a:solidFill>
                <a:latin typeface="Times New Roman"/>
              </a:rPr>
              <a:t>12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SIG Input Results (consolidated comments)</a:t>
            </a:r>
            <a:r>
              <a:rPr b="0" lang="en-US" sz="1200" spc="-1" strike="noStrike">
                <a:solidFill>
                  <a:srgbClr val="000000"/>
                </a:solidFill>
                <a:latin typeface="Times New Roman"/>
              </a:rPr>
              <a:t>	</a:t>
            </a:r>
            <a:r>
              <a:rPr b="0" lang="en-US" sz="1200" spc="-1" strike="noStrike">
                <a:solidFill>
                  <a:srgbClr val="000000"/>
                </a:solidFill>
                <a:latin typeface="Times New Roman"/>
              </a:rPr>
              <a:t>12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riginal BSIG PICS Inputs (via Fujio 25Sep00)</a:t>
            </a:r>
            <a:r>
              <a:rPr b="0" lang="en-US" sz="1200" spc="-1" strike="noStrike">
                <a:solidFill>
                  <a:srgbClr val="000000"/>
                </a:solidFill>
                <a:latin typeface="Times New Roman"/>
              </a:rPr>
              <a:t>	</a:t>
            </a:r>
            <a:r>
              <a:rPr b="0" lang="en-US" sz="1200" spc="-1" strike="noStrike">
                <a:solidFill>
                  <a:srgbClr val="000000"/>
                </a:solidFill>
                <a:latin typeface="Times New Roman"/>
              </a:rPr>
              <a:t>29</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4160" y="701640"/>
            <a:ext cx="4626000" cy="3468600"/>
          </a:xfrm>
          <a:prstGeom prst="rect">
            <a:avLst/>
          </a:prstGeom>
          <a:ln w="0">
            <a:noFill/>
          </a:ln>
        </p:spPr>
      </p:sp>
      <p:sp>
        <p:nvSpPr>
          <p:cNvPr id="317"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gain, there were a</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tal of 412 comments and we believe that 122 are directly related t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luetooth's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kinds of com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3 Yellow = Technical [these are important e.g., technical peer revie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entary and IEEE P802.15 would like the Bluetooth SIG to review a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vise on their ability to include these into the errata process to b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nsidered for inclusion to the v1.0B Bluetooth Specific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6 White = Protocol Implementation Conformance Statement (PICS) [these a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ortant but relate to separate Bluetooth documents and *not* the Core &am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ofiles Specifications.  I believe that the following BSIG Promoter/IE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Members Dr. Fujio Watanabe &lt;fwatanabe@ieee.org&gt; and Mr. Arto Pal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arto.palin@nokia.com&gt; are dealing directly with these comments in terms o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tooth Test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3 Blue = Editorial [these are less important e.g., grammar, typo'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ut should be considered in the errata process to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ey are provided sequentially in these colors on the Workshee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54160" y="701640"/>
            <a:ext cx="4626000" cy="3468600"/>
          </a:xfrm>
          <a:prstGeom prst="rect">
            <a:avLst/>
          </a:prstGeom>
          <a:ln w="0">
            <a:noFill/>
          </a:ln>
        </p:spPr>
      </p:sp>
      <p:sp>
        <p:nvSpPr>
          <p:cNvPr id="319"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gain, there were a</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tal of 412 comments and we believe that 122 are directly related t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luetooth's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kinds of com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3 Yellow = Technical [these are important e.g., technical peer revie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entary and IEEE P802.15 would like the Bluetooth SIG to review a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vise on their ability to include these into the errata process to b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nsidered for inclusion to the v1.0B Bluetooth Specific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6 White = Protocol Implementation Conformance Statement (PICS) [these a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ortant but relate to separate Bluetooth documents and *not* the Core &am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ofiles Specifications.  I believe that the following BSIG Promoter/IE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Members Dr. Fujio Watanabe &lt;fwatanabe@ieee.org&gt; and Mr. Arto Pal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arto.palin@nokia.com&gt; are dealing directly with these comments in terms o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tooth Test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3 Blue = Editorial [these are less important e.g., grammar, typo'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ut should be considered in the errata process to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ey are provided sequentially in these colors on the Workshee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322"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PlaceHolder 1"/>
          <p:cNvSpPr>
            <a:spLocks noGrp="1"/>
          </p:cNvSpPr>
          <p:nvPr>
            <p:ph type="sldImg"/>
          </p:nvPr>
        </p:nvSpPr>
        <p:spPr>
          <a:xfrm>
            <a:off x="1157400" y="703440"/>
            <a:ext cx="4622760" cy="3466800"/>
          </a:xfrm>
          <a:prstGeom prst="rect">
            <a:avLst/>
          </a:prstGeom>
          <a:ln w="0">
            <a:noFill/>
          </a:ln>
        </p:spPr>
      </p:sp>
      <p:sp>
        <p:nvSpPr>
          <p:cNvPr id="325"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8AFEEFC-6107-4FC9-9BDD-6A07411BB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6" name="PlaceHolder 1"/>
          <p:cNvSpPr>
            <a:spLocks noGrp="1"/>
          </p:cNvSpPr>
          <p:nvPr>
            <p:ph type="sldImg"/>
          </p:nvPr>
        </p:nvSpPr>
        <p:spPr>
          <a:xfrm>
            <a:off x="1146240" y="695160"/>
            <a:ext cx="4641840" cy="3481560"/>
          </a:xfrm>
          <a:prstGeom prst="rect">
            <a:avLst/>
          </a:prstGeom>
          <a:ln w="0">
            <a:noFill/>
          </a:ln>
        </p:spPr>
      </p:sp>
      <p:sp>
        <p:nvSpPr>
          <p:cNvPr id="307"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AFT IEEE 802.15 TG1 PROJECT PLANNING - LO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riginal Baselin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ATE   TASK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99  Initial Discussion on Proposal submission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99  IEEE initial vote of support to draft 802.15 based on Bluetooth specificatio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p99  Overview the draft 802.15.1 based on the current Bluetooth specification to the timelin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99  Initial draft ready for WG ballo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0  First Ballot complet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0  Draft ready for IEEE sponsor ballo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00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c00  Approval by IEEE Standards Bo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 Project Planning, as of 15Oct00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ATE   TASK/STATU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99  Initial Discussion on Proposal submissions./Done, Jul99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99  IEEE initial vote of support to draft 802.15 based on Bluetooth specification./Done, Jul99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99  Overview the draft 802.15.1 based on the current Bluetooth specification to the timeline./Done, 9Nov99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99  1st draft ready for WG LB1 (11Nov-23Dec)./Done, 4Nov99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0  Comment Resolutions &amp; WG LB2 WG LB1 (23Feb-3Ma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0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y00  2nd draft ready for WG LB3 (24May-3Jul00)./Done 24May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00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p00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00  3rd draft ready for WG LB3 (Nov-De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cenario A (BSIG v1.1=IEEE Std 802.15.1-[200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c00  4th draft ready for WG LB(6) (Dec-Ja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1  Draft ready for IEEE sponsor ballo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y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p01  Approval by IEEE Standards Bo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1  Maintenance PAR (BSIG v1.2=IEEE Std 802.15.1-[2002])</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cenario B (BSIG v1.1=IEEE Std 802.15.1-[200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1  4th draft ready for WG LB(6) (Dec-Ja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1  Draft ready for IEEE sponsor ballo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y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p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c01  Approval by IEEE Standards Bo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2  Maintenance PAR (BSIG v1.2=IEEE Std 802.15.1-[2002])</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cenario C (BSIG v1.2=IEEE Std 802.15.1-[200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B8EE2-A0AA-4D67-853C-45DF6AFF6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55043-911D-45B9-A235-1DA8B3495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ADF1B-029C-4F3E-8EEC-827E8A76A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CB3BD-6605-4C77-8A13-8C6A8B5B1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CEC5D-8E7D-44A4-A0D2-8057E6DC1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9B0DC-225D-4F77-A8AC-58AC3D347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562E2-9209-48F8-B739-DF9DFF5B0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F1C30-861A-49B2-8F84-420936D5D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5F7D2-0829-4CD8-9D8F-0BF995547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F0147-B17F-4972-A57B-CF4268442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15CBD-08A1-402B-A21F-9116A8A49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04926-C2AE-4AE3-9283-1AF134F5E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68A20F-9CAF-42CA-AA67-5B59D95FA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47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E6AE6B67-5FC9-4ABF-947A-15C9AB40ED5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ask Group 1 Closing Report for Session #9/Tampa</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9Nov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341r0,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Overview to TG1 and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report to TG1 to update them on the Derivative Work i.e., 802.15.1 St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V="1">
            <a:off x="2438280" y="3457440"/>
            <a:ext cx="0" cy="102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86400" y="2362320"/>
            <a:ext cx="2577960" cy="3352680"/>
          </a:xfrm>
          <a:prstGeom prst="rect">
            <a:avLst/>
          </a:prstGeom>
          <a:solidFill>
            <a:srgbClr val="ffffff"/>
          </a:solidFill>
          <a:ln w="12600">
            <a:solidFill>
              <a:srgbClr val="0000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6320" y="2362320"/>
            <a:ext cx="533376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Balloting Planning</a:t>
            </a:r>
            <a:endParaRPr b="0" lang="en-US" sz="3600" spc="-1" strike="noStrike">
              <a:solidFill>
                <a:srgbClr val="000000"/>
              </a:solidFill>
              <a:latin typeface="Times New Roman"/>
            </a:endParaRPr>
          </a:p>
        </p:txBody>
      </p:sp>
      <p:sp>
        <p:nvSpPr>
          <p:cNvPr id="152"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153"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a:t>
            </a:r>
            <a:endParaRPr b="0" lang="en-US" sz="2400" spc="-1" strike="noStrike">
              <a:solidFill>
                <a:srgbClr val="000000"/>
              </a:solidFill>
              <a:latin typeface="Times New Roman"/>
            </a:endParaRPr>
          </a:p>
        </p:txBody>
      </p:sp>
      <p:sp>
        <p:nvSpPr>
          <p:cNvPr id="154" name=""/>
          <p:cNvSpPr/>
          <p:nvPr/>
        </p:nvSpPr>
        <p:spPr>
          <a:xfrm>
            <a:off x="4572000" y="3005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915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2671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72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24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6769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3623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7147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005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1529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981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66"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67"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8"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69"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70"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71"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72"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73"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74" name=""/>
          <p:cNvSpPr/>
          <p:nvPr/>
        </p:nvSpPr>
        <p:spPr>
          <a:xfrm>
            <a:off x="53359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75" name=""/>
          <p:cNvSpPr/>
          <p:nvPr/>
        </p:nvSpPr>
        <p:spPr>
          <a:xfrm>
            <a:off x="57160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76" name=""/>
          <p:cNvSpPr/>
          <p:nvPr/>
        </p:nvSpPr>
        <p:spPr>
          <a:xfrm>
            <a:off x="60217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77" name=""/>
          <p:cNvSpPr/>
          <p:nvPr/>
        </p:nvSpPr>
        <p:spPr>
          <a:xfrm>
            <a:off x="64022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78"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79" name=""/>
          <p:cNvSpPr/>
          <p:nvPr/>
        </p:nvSpPr>
        <p:spPr>
          <a:xfrm>
            <a:off x="152280" y="209088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532160" y="2465280"/>
            <a:ext cx="1910520" cy="276480"/>
          </a:xfrm>
          <a:prstGeom prst="rect">
            <a:avLst/>
          </a:prstGeom>
          <a:noFill/>
          <a:ln w="1260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pyright Addendum Signed</a:t>
            </a:r>
            <a:endParaRPr b="0" lang="en-US" sz="1200" spc="-1" strike="noStrike">
              <a:solidFill>
                <a:srgbClr val="000000"/>
              </a:solidFill>
              <a:latin typeface="Times New Roman"/>
            </a:endParaRPr>
          </a:p>
        </p:txBody>
      </p:sp>
      <p:sp>
        <p:nvSpPr>
          <p:cNvPr id="181" name=""/>
          <p:cNvSpPr/>
          <p:nvPr/>
        </p:nvSpPr>
        <p:spPr>
          <a:xfrm>
            <a:off x="2895480" y="27702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4290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04812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62608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86" name=""/>
          <p:cNvSpPr/>
          <p:nvPr/>
        </p:nvSpPr>
        <p:spPr>
          <a:xfrm>
            <a:off x="279360" y="3352680"/>
            <a:ext cx="8610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2380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7624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90"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91"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92"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93"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94" name=""/>
          <p:cNvSpPr/>
          <p:nvPr/>
        </p:nvSpPr>
        <p:spPr>
          <a:xfrm>
            <a:off x="1235160" y="32846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6002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need to discuss the process by which the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197" name=""/>
          <p:cNvSpPr/>
          <p:nvPr/>
        </p:nvSpPr>
        <p:spPr>
          <a:xfrm>
            <a:off x="160560" y="1612800"/>
            <a:ext cx="13723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B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3Dec99</a:t>
            </a:r>
            <a:endParaRPr b="0" lang="en-US" sz="1200" spc="-1" strike="noStrike">
              <a:solidFill>
                <a:srgbClr val="000000"/>
              </a:solidFill>
              <a:latin typeface="Times New Roman"/>
            </a:endParaRPr>
          </a:p>
        </p:txBody>
      </p:sp>
      <p:sp>
        <p:nvSpPr>
          <p:cNvPr id="198" name=""/>
          <p:cNvSpPr/>
          <p:nvPr/>
        </p:nvSpPr>
        <p:spPr>
          <a:xfrm>
            <a:off x="738180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763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115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4675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086600" y="300816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3" name=""/>
          <p:cNvSpPr/>
          <p:nvPr/>
        </p:nvSpPr>
        <p:spPr>
          <a:xfrm>
            <a:off x="739260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04"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05"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06" name=""/>
          <p:cNvSpPr/>
          <p:nvPr/>
        </p:nvSpPr>
        <p:spPr>
          <a:xfrm>
            <a:off x="7010280" y="3276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391520" y="527544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4-6Dec01 </a:t>
            </a:r>
            <a:endParaRPr b="0" lang="en-US" sz="1200" spc="-1" strike="noStrike">
              <a:solidFill>
                <a:srgbClr val="000000"/>
              </a:solidFill>
              <a:latin typeface="Times New Roman"/>
            </a:endParaRPr>
          </a:p>
        </p:txBody>
      </p:sp>
      <p:sp>
        <p:nvSpPr>
          <p:cNvPr id="208" name=""/>
          <p:cNvSpPr/>
          <p:nvPr/>
        </p:nvSpPr>
        <p:spPr>
          <a:xfrm flipV="1">
            <a:off x="8534520" y="3352680"/>
            <a:ext cx="0" cy="190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120120" y="53262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a:t>
            </a:r>
            <a:endParaRPr b="0" lang="en-US" sz="2000" spc="-1" strike="noStrike">
              <a:solidFill>
                <a:srgbClr val="000000"/>
              </a:solidFill>
              <a:latin typeface="Times New Roman"/>
            </a:endParaRPr>
          </a:p>
        </p:txBody>
      </p:sp>
      <p:sp>
        <p:nvSpPr>
          <p:cNvPr id="210" name=""/>
          <p:cNvSpPr/>
          <p:nvPr/>
        </p:nvSpPr>
        <p:spPr>
          <a:xfrm>
            <a:off x="5561280" y="5321160"/>
            <a:ext cx="10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ponsor</a:t>
            </a:r>
            <a:endParaRPr b="0" lang="en-US" sz="2000" spc="-1" strike="noStrike">
              <a:solidFill>
                <a:srgbClr val="000000"/>
              </a:solidFill>
              <a:latin typeface="Times New Roman"/>
            </a:endParaRPr>
          </a:p>
        </p:txBody>
      </p:sp>
      <p:sp>
        <p:nvSpPr>
          <p:cNvPr id="211" name=""/>
          <p:cNvSpPr/>
          <p:nvPr/>
        </p:nvSpPr>
        <p:spPr>
          <a:xfrm>
            <a:off x="4579920" y="1614600"/>
            <a:ext cx="143208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1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1Jan01</a:t>
            </a:r>
            <a:endParaRPr b="0" lang="en-US" sz="1200" spc="-1" strike="noStrike">
              <a:solidFill>
                <a:srgbClr val="000000"/>
              </a:solidFill>
              <a:latin typeface="Times New Roman"/>
            </a:endParaRPr>
          </a:p>
        </p:txBody>
      </p:sp>
      <p:sp>
        <p:nvSpPr>
          <p:cNvPr id="212" name=""/>
          <p:cNvSpPr/>
          <p:nvPr/>
        </p:nvSpPr>
        <p:spPr>
          <a:xfrm>
            <a:off x="4572000" y="2104920"/>
            <a:ext cx="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209680" y="3581280"/>
            <a:ext cx="16765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3 Balloted/Appli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4May00 – 6Nov00</a:t>
            </a:r>
            <a:endParaRPr b="0" lang="en-US" sz="1200" spc="-1" strike="noStrike">
              <a:solidFill>
                <a:srgbClr val="000000"/>
              </a:solidFill>
              <a:latin typeface="Times New Roman"/>
            </a:endParaRPr>
          </a:p>
        </p:txBody>
      </p:sp>
      <p:sp>
        <p:nvSpPr>
          <p:cNvPr id="214" name=""/>
          <p:cNvSpPr/>
          <p:nvPr/>
        </p:nvSpPr>
        <p:spPr>
          <a:xfrm>
            <a:off x="3886200" y="3352680"/>
            <a:ext cx="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400800" y="495288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11-13Sep01 </a:t>
            </a:r>
            <a:endParaRPr b="0" lang="en-US" sz="1200" spc="-1" strike="noStrike">
              <a:solidFill>
                <a:srgbClr val="000000"/>
              </a:solidFill>
              <a:latin typeface="Times New Roman"/>
            </a:endParaRPr>
          </a:p>
        </p:txBody>
      </p:sp>
      <p:sp>
        <p:nvSpPr>
          <p:cNvPr id="216" name=""/>
          <p:cNvSpPr/>
          <p:nvPr/>
        </p:nvSpPr>
        <p:spPr>
          <a:xfrm flipV="1">
            <a:off x="7543800" y="3352320"/>
            <a:ext cx="0" cy="175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562720" y="3352680"/>
            <a:ext cx="144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876920" y="4102200"/>
            <a:ext cx="114300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May – 15May</a:t>
            </a:r>
            <a:endParaRPr b="0" lang="en-US" sz="1200" spc="-1" strike="noStrike">
              <a:solidFill>
                <a:srgbClr val="000000"/>
              </a:solidFill>
              <a:latin typeface="Times New Roman"/>
            </a:endParaRPr>
          </a:p>
        </p:txBody>
      </p:sp>
      <p:sp>
        <p:nvSpPr>
          <p:cNvPr id="219" name=""/>
          <p:cNvSpPr/>
          <p:nvPr/>
        </p:nvSpPr>
        <p:spPr>
          <a:xfrm flipV="1">
            <a:off x="601992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952880" y="4635360"/>
            <a:ext cx="129564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5May – 31May</a:t>
            </a:r>
            <a:endParaRPr b="0" lang="en-US" sz="1200" spc="-1" strike="noStrike">
              <a:solidFill>
                <a:srgbClr val="000000"/>
              </a:solidFill>
              <a:latin typeface="Times New Roman"/>
            </a:endParaRPr>
          </a:p>
        </p:txBody>
      </p:sp>
      <p:sp>
        <p:nvSpPr>
          <p:cNvPr id="221" name=""/>
          <p:cNvSpPr/>
          <p:nvPr/>
        </p:nvSpPr>
        <p:spPr>
          <a:xfrm flipV="1">
            <a:off x="6248520" y="33523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2680" y="4102200"/>
            <a:ext cx="129564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6) Recir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01Jan – 15Jan01</a:t>
            </a:r>
            <a:endParaRPr b="0" lang="en-US" sz="1200" spc="-1" strike="noStrike">
              <a:solidFill>
                <a:srgbClr val="000000"/>
              </a:solidFill>
              <a:latin typeface="Times New Roman"/>
            </a:endParaRPr>
          </a:p>
        </p:txBody>
      </p:sp>
      <p:sp>
        <p:nvSpPr>
          <p:cNvPr id="223" name=""/>
          <p:cNvSpPr/>
          <p:nvPr/>
        </p:nvSpPr>
        <p:spPr>
          <a:xfrm flipV="1">
            <a:off x="464832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159600" y="1614600"/>
            <a:ext cx="136800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2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Jun01</a:t>
            </a:r>
            <a:endParaRPr b="0" lang="en-US" sz="1200" spc="-1" strike="noStrike">
              <a:solidFill>
                <a:srgbClr val="000000"/>
              </a:solidFill>
              <a:latin typeface="Times New Roman"/>
            </a:endParaRPr>
          </a:p>
        </p:txBody>
      </p:sp>
      <p:sp>
        <p:nvSpPr>
          <p:cNvPr id="225" name=""/>
          <p:cNvSpPr/>
          <p:nvPr/>
        </p:nvSpPr>
        <p:spPr>
          <a:xfrm>
            <a:off x="6324480" y="2104920"/>
            <a:ext cx="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57000" y="1614600"/>
            <a:ext cx="1121040" cy="276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x specs</a:t>
            </a:r>
            <a:endParaRPr b="0" lang="en-US" sz="1200" spc="-1" strike="noStrike">
              <a:solidFill>
                <a:srgbClr val="000000"/>
              </a:solidFill>
              <a:latin typeface="Times New Roman"/>
            </a:endParaRPr>
          </a:p>
        </p:txBody>
      </p:sp>
      <p:sp>
        <p:nvSpPr>
          <p:cNvPr id="227" name=""/>
          <p:cNvSpPr/>
          <p:nvPr/>
        </p:nvSpPr>
        <p:spPr>
          <a:xfrm>
            <a:off x="8001000" y="1905120"/>
            <a:ext cx="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153280" y="1905120"/>
            <a:ext cx="76212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9" name="P-bluetm001" descr=""/>
          <p:cNvPicPr/>
          <p:nvPr/>
        </p:nvPicPr>
        <p:blipFill>
          <a:blip r:embed="rId1"/>
          <a:stretch/>
        </p:blipFill>
        <p:spPr>
          <a:xfrm>
            <a:off x="1600200" y="1542960"/>
            <a:ext cx="1143000" cy="762120"/>
          </a:xfrm>
          <a:prstGeom prst="rect">
            <a:avLst/>
          </a:prstGeom>
          <a:ln w="0">
            <a:noFill/>
          </a:ln>
        </p:spPr>
      </p:pic>
      <p:pic>
        <p:nvPicPr>
          <p:cNvPr id="230" name="802" descr=""/>
          <p:cNvPicPr/>
          <p:nvPr/>
        </p:nvPicPr>
        <p:blipFill>
          <a:blip r:embed="rId2"/>
          <a:stretch/>
        </p:blipFill>
        <p:spPr>
          <a:xfrm>
            <a:off x="1447920" y="4133880"/>
            <a:ext cx="1014120" cy="1047600"/>
          </a:xfrm>
          <a:prstGeom prst="rect">
            <a:avLst/>
          </a:prstGeom>
          <a:ln w="0">
            <a:noFill/>
          </a:ln>
        </p:spPr>
      </p:pic>
      <p:sp>
        <p:nvSpPr>
          <p:cNvPr id="231" name=""/>
          <p:cNvSpPr/>
          <p:nvPr/>
        </p:nvSpPr>
        <p:spPr>
          <a:xfrm>
            <a:off x="6934320" y="320040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896240" y="320040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8058240" y="3505320"/>
            <a:ext cx="0" cy="17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86600" y="350532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rot="16221600">
            <a:off x="6333840" y="4028040"/>
            <a:ext cx="138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3Aug01</a:t>
            </a:r>
            <a:endParaRPr b="0" lang="en-US" sz="1000" spc="-1" strike="noStrike">
              <a:solidFill>
                <a:srgbClr val="000000"/>
              </a:solidFill>
              <a:latin typeface="Times New Roman"/>
            </a:endParaRPr>
          </a:p>
        </p:txBody>
      </p:sp>
      <p:sp>
        <p:nvSpPr>
          <p:cNvPr id="236" name=""/>
          <p:cNvSpPr/>
          <p:nvPr/>
        </p:nvSpPr>
        <p:spPr>
          <a:xfrm rot="16207800">
            <a:off x="7285680" y="40388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26Oct01</a:t>
            </a:r>
            <a:endParaRPr b="0" lang="en-US" sz="1000" spc="-1" strike="noStrike">
              <a:solidFill>
                <a:srgbClr val="000000"/>
              </a:solidFill>
              <a:latin typeface="Times New Roman"/>
            </a:endParaRPr>
          </a:p>
        </p:txBody>
      </p:sp>
      <p:sp>
        <p:nvSpPr>
          <p:cNvPr id="237" name=""/>
          <p:cNvSpPr/>
          <p:nvPr/>
        </p:nvSpPr>
        <p:spPr>
          <a:xfrm>
            <a:off x="228960" y="5335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You are here</a:t>
            </a:r>
            <a:endParaRPr b="0" lang="en-US" sz="2400" spc="-1" strike="noStrike">
              <a:solidFill>
                <a:srgbClr val="000000"/>
              </a:solidFill>
              <a:latin typeface="Times New Roman"/>
            </a:endParaRPr>
          </a:p>
        </p:txBody>
      </p:sp>
      <p:sp>
        <p:nvSpPr>
          <p:cNvPr id="238" name=""/>
          <p:cNvSpPr/>
          <p:nvPr/>
        </p:nvSpPr>
        <p:spPr>
          <a:xfrm>
            <a:off x="1905120" y="762120"/>
            <a:ext cx="20574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429000" y="4800600"/>
            <a:ext cx="137160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7) Recir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2Jan01 – 31Jan01</a:t>
            </a:r>
            <a:endParaRPr b="0" lang="en-US" sz="1200" spc="-1" strike="noStrike">
              <a:solidFill>
                <a:srgbClr val="000000"/>
              </a:solidFill>
              <a:latin typeface="Times New Roman"/>
            </a:endParaRPr>
          </a:p>
        </p:txBody>
      </p:sp>
      <p:sp>
        <p:nvSpPr>
          <p:cNvPr id="240" name=""/>
          <p:cNvSpPr/>
          <p:nvPr/>
        </p:nvSpPr>
        <p:spPr>
          <a:xfrm flipV="1">
            <a:off x="4800600" y="3352680"/>
            <a:ext cx="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3581280"/>
            <a:ext cx="114300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Mar – 30Apr</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A5AF4EB5-7D4A-4ECD-A0B5-ECF000A51F90}" type="slidenum">
              <a:t>1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ative Needs for Jan01 Interim</a:t>
            </a:r>
            <a:endParaRPr b="0" lang="en-US" sz="36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19Jan01 (5 Days), TG1 Ad Hoc Sun&amp;Fr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Peop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trips, w/ 1 outlet per chai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 = Boardroom (or School Roo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 PC Screen Projector &amp; Screen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H=Overhead projector &amp; Scre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 Flipchart with markers</a:t>
            </a:r>
            <a:endParaRPr b="0" lang="en-US" sz="2800" spc="-1" strike="noStrike">
              <a:solidFill>
                <a:srgbClr val="000000"/>
              </a:solidFill>
              <a:latin typeface="Arial"/>
            </a:endParaRPr>
          </a:p>
        </p:txBody>
      </p:sp>
      <p:sp>
        <p:nvSpPr>
          <p:cNvPr id="244"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will provide a Jan01 graphic for TG1 on Thursday, 9Nov00 to the W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4D5C589-6A31-4D29-8E37-924CBFD68459}" type="slidenum">
              <a:t>1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0/Monterey - Objectives</a:t>
            </a:r>
            <a:endParaRPr b="0" lang="en-US" sz="36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Session #9</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G eLB MOTION Nov00: TO FINALIZE APPROVAL OF LB3 RESOLUTIONS -00/159r16</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MPLETE PRODUCTION AND/OR REVIEW IEEE Std 802.15.1-[2001] Draft 0.8 </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ETERMINE WHAT FORM OF LETTER BALLOT IS APPROPRIATE FOR DRAFT RE-CIRCULATION, IF V1.1 CHANGES ARE MINOR OR RECONSIDERATION, IF V1.1 CHANGES ARE MAJOR</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G eLB MOTION Dec00/Jan01: INITIATE WG LETTER BALLOT PROCESS FOR DRAFT</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INITIATE SPONSOR BALLOT POOL INVIATION PROCESS</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 #10 </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PROVIDE PROJECT PLANNING UPDATE -00/xxxr0</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PROVIDE SESSION #11/HILTON HEAD OBJECTIV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4E25EAB-1FF9-4D51-8292-B58B8BD18BFE}" type="slidenum">
              <a:t>1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1 Drafting History</a:t>
            </a:r>
            <a:endParaRPr b="0" lang="en-US" sz="3600" spc="-1" strike="noStrike">
              <a:solidFill>
                <a:srgbClr val="0000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0 - Tom Siep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1 - Tom Siep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2 - Tom Siep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3 - Tom Siep 100%</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3 Page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4 - Tom Siep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5 - BT-IEEE Editorial Working Group</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1 Page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6 Technical Editor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Bluetooth Promoter Company Reviewers w/ internal help</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0 Comment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6 - BT-IEEE Editorial Working Group</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8 Page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3 Comment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 – Tom Siep 100%</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17 Page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1 - IEEE 802.15 Task Group 1 Technical Editors</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3 Page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2 - IEEE 802.15 Task Group 1 Technical Editors</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73 Page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2 Comment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3 – Jennifer Longman, IEEE-SA Project Editor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8 - IEEE 802.15 Task Group 1 Technical Editor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DC552B8-9692-46CF-8927-D13AD738223B}"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2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B3 Summary Repor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E32E4BD-9E04-444F-A10D-8B762EDDCD9A}" type="slidenum">
              <a:t>1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Summary Report</a:t>
            </a:r>
            <a:endParaRPr b="0" lang="en-US" sz="36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May00 12pm EDT; LB3 Star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Std 802.15.1-[2001] Draft 0.7.2 Published and released to WG as Letter Ballot #3</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Jul00 12pm EDT; LB3 St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B3 Summa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Total Votes  (18/15/0) or 55%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chnical Motion Failed, needed 75%</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2 Commen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9360C56-58CD-440D-A1C1-F58CE18A3717}" type="slidenum">
              <a:t>1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Summary Report (cont.)</a:t>
            </a:r>
            <a:endParaRPr b="0" lang="en-US" sz="36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Jul00 LB3 Motion 1 failed with 18/15/0 or 55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49 Voting members. 33 submitted their vote. (25 required for a valid vot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urn ratio is 33/49 = 67 % (50 % is required) and the abstention rate was less than 30% of those voting.  The ballot is vali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 15 yes w/o comment, 3 yes with comment, 15 no, 0 abstains, and 16 failed to vot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Jul00 TG1 formed a Comment Resolution Group to resolve commen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B3 yielded 422 Comments to be resolved, summarized in –00/159r7 workbook.</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49C97E5-EA5C-4801-9CF8-FCDED859C8AA}" type="slidenum">
              <a:t>1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Summary Report (cont.)</a:t>
            </a:r>
            <a:endParaRPr b="0" lang="en-US" sz="36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ook releases with results of LB3</a:t>
            </a:r>
            <a:endParaRPr b="0" lang="en-US" sz="16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Jul00</a:t>
            </a:r>
            <a:endParaRPr b="0" lang="en-US" sz="16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7</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ug00</a:t>
            </a:r>
            <a:endParaRPr b="0" lang="en-US" sz="16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11</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ug00</a:t>
            </a:r>
            <a:endParaRPr b="0" lang="en-US" sz="16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12</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ug00</a:t>
            </a:r>
            <a:endParaRPr b="0" lang="en-US" sz="16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13</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kinds of comments: Technical, PICS (separate BT doc), Editorial</a:t>
            </a:r>
            <a:endParaRPr b="0" lang="en-US" sz="14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29Aug00</a:t>
            </a:r>
            <a:endParaRPr b="0" lang="en-US" sz="16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14</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14aP802-15_Extract_for_BSIG.xls &lt;sent to Jon Inouye</a:t>
            </a:r>
            <a:endParaRPr b="0" lang="en-US" sz="14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Sep00</a:t>
            </a:r>
            <a:endParaRPr b="0" lang="en-US" sz="16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15</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Nov00</a:t>
            </a:r>
            <a:endParaRPr b="0" lang="en-US" sz="16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59r</a:t>
            </a:r>
            <a:r>
              <a:rPr b="1" lang="en-US" sz="1400" spc="-1" strike="noStrike">
                <a:solidFill>
                  <a:srgbClr val="ff0000"/>
                </a:solidFill>
                <a:latin typeface="Arial"/>
              </a:rPr>
              <a:t>15c</a:t>
            </a:r>
            <a:r>
              <a:rPr b="0" lang="en-US" sz="1400" spc="-1" strike="noStrike">
                <a:solidFill>
                  <a:srgbClr val="000000"/>
                </a:solidFill>
                <a:latin typeface="Arial"/>
              </a:rPr>
              <a:t>P802-15_TG1-Results_of_LB3.xl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1EA9B9B-D636-4845-82EA-103BB4A274C1}" type="slidenum">
              <a:t>1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Summary Report (cont.)</a:t>
            </a:r>
            <a:endParaRPr b="0" lang="en-US" sz="3600" spc="-1" strike="noStrike">
              <a:solidFill>
                <a:srgbClr val="000000"/>
              </a:solidFill>
              <a:latin typeface="Times New Roman"/>
            </a:endParaRPr>
          </a:p>
        </p:txBody>
      </p:sp>
      <p:graphicFrame>
        <p:nvGraphicFramePr>
          <p:cNvPr id="258" name=""/>
          <p:cNvGraphicFramePr/>
          <p:nvPr/>
        </p:nvGraphicFramePr>
        <p:xfrm>
          <a:off x="1343160" y="1676520"/>
          <a:ext cx="6453000" cy="4649760"/>
        </p:xfrm>
        <a:graphic>
          <a:graphicData uri="http://schemas.openxmlformats.org/presentationml/2006/ole">
            <p:oleObj progId="Excel.Sheet.12" r:id="rId1" spid="">
              <p:embed/>
              <p:pic>
                <p:nvPicPr>
                  <p:cNvPr id="259" name="" descr=""/>
                  <p:cNvPicPr/>
                  <p:nvPr/>
                </p:nvPicPr>
                <p:blipFill>
                  <a:blip r:embed="rId2"/>
                  <a:stretch/>
                </p:blipFill>
                <p:spPr>
                  <a:xfrm>
                    <a:off x="1343160" y="1676520"/>
                    <a:ext cx="6453000" cy="46497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49DC175C-26ED-43E0-AA6D-184F7F73AB18}" type="slidenum">
              <a:t>1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Summary Report (cont.)</a:t>
            </a:r>
            <a:endParaRPr b="0" lang="en-US" sz="3600" spc="-1" strike="noStrike">
              <a:solidFill>
                <a:srgbClr val="000000"/>
              </a:solidFill>
              <a:latin typeface="Times New Roman"/>
            </a:endParaRPr>
          </a:p>
        </p:txBody>
      </p:sp>
      <p:graphicFrame>
        <p:nvGraphicFramePr>
          <p:cNvPr id="261" name=""/>
          <p:cNvGraphicFramePr/>
          <p:nvPr/>
        </p:nvGraphicFramePr>
        <p:xfrm>
          <a:off x="973080" y="1635120"/>
          <a:ext cx="7194600" cy="4460760"/>
        </p:xfrm>
        <a:graphic>
          <a:graphicData uri="http://schemas.openxmlformats.org/presentationml/2006/ole">
            <p:oleObj progId="Excel.Sheet.12" r:id="rId1" spid="">
              <p:embed/>
              <p:pic>
                <p:nvPicPr>
                  <p:cNvPr id="262" name="" descr=""/>
                  <p:cNvPicPr/>
                  <p:nvPr/>
                </p:nvPicPr>
                <p:blipFill>
                  <a:blip r:embed="rId2"/>
                  <a:stretch/>
                </p:blipFill>
                <p:spPr>
                  <a:xfrm>
                    <a:off x="973080" y="1635120"/>
                    <a:ext cx="7194600" cy="44607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72F5190-2119-447C-AB91-B28ABA6A7398}" type="slidenum">
              <a:t>1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Closing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 2000 Tampa, FL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F1DC088-100D-4686-A84B-9A7D4075D3FD}"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Summary Report (cont.)</a:t>
            </a:r>
            <a:endParaRPr b="0" lang="en-US" sz="3600" spc="-1" strike="noStrike">
              <a:solidFill>
                <a:srgbClr val="000000"/>
              </a:solidFill>
              <a:latin typeface="Times New Roman"/>
            </a:endParaRPr>
          </a:p>
        </p:txBody>
      </p:sp>
      <p:sp>
        <p:nvSpPr>
          <p:cNvPr id="264" name=""/>
          <p:cNvSpPr/>
          <p:nvPr/>
        </p:nvSpPr>
        <p:spPr>
          <a:xfrm>
            <a:off x="380880" y="5410080"/>
            <a:ext cx="838224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appreciates the work these twenty (20) Members di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providing these Comments!  SteveS &amp; TomM were late but are included.</a:t>
            </a:r>
            <a:endParaRPr b="0" lang="en-US" sz="2000" spc="-1" strike="noStrike">
              <a:solidFill>
                <a:srgbClr val="000000"/>
              </a:solidFill>
              <a:latin typeface="Times New Roman"/>
            </a:endParaRPr>
          </a:p>
        </p:txBody>
      </p:sp>
      <p:graphicFrame>
        <p:nvGraphicFramePr>
          <p:cNvPr id="265" name=""/>
          <p:cNvGraphicFramePr/>
          <p:nvPr/>
        </p:nvGraphicFramePr>
        <p:xfrm>
          <a:off x="123840" y="1562040"/>
          <a:ext cx="8896320" cy="3733920"/>
        </p:xfrm>
        <a:graphic>
          <a:graphicData uri="http://schemas.openxmlformats.org/presentationml/2006/ole">
            <p:oleObj progId="Excel.Sheet.12" r:id="rId1" spid="">
              <p:embed/>
              <p:pic>
                <p:nvPicPr>
                  <p:cNvPr id="266" name="" descr=""/>
                  <p:cNvPicPr/>
                  <p:nvPr/>
                </p:nvPicPr>
                <p:blipFill>
                  <a:blip r:embed="rId2"/>
                  <a:stretch/>
                </p:blipFill>
                <p:spPr>
                  <a:xfrm>
                    <a:off x="123840" y="1562040"/>
                    <a:ext cx="8896320" cy="373392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F5E85244-0AA9-49B5-81A0-1B6DF8A60568}" type="slidenum">
              <a:t>2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Summary Report (cont.)</a:t>
            </a:r>
            <a:endParaRPr b="0" lang="en-US" sz="3600" spc="-1" strike="noStrike">
              <a:solidFill>
                <a:srgbClr val="000000"/>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Acce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 Dec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 Clarif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 Err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 Finish</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866E194-D7EF-47E6-81A8-4CB69AC766E5}" type="slidenum">
              <a:t>2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Summary Report (cont.)</a:t>
            </a:r>
            <a:endParaRPr b="0" lang="en-US" sz="3600" spc="-1" strike="noStrike">
              <a:solidFill>
                <a:srgbClr val="000000"/>
              </a:solidFill>
              <a:latin typeface="Times New Roman"/>
            </a:endParaRPr>
          </a:p>
        </p:txBody>
      </p:sp>
      <p:sp>
        <p:nvSpPr>
          <p:cNvPr id="27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Resolution Status 9Nov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8 Comments </a:t>
            </a:r>
            <a:r>
              <a:rPr b="0" i="1" lang="en-US" sz="2800" spc="-1" strike="noStrike">
                <a:solidFill>
                  <a:srgbClr val="000000"/>
                </a:solidFill>
                <a:latin typeface="Arial"/>
              </a:rPr>
              <a:t>almost</a:t>
            </a:r>
            <a:r>
              <a:rPr b="0" lang="en-US" sz="2800" spc="-1" strike="noStrike">
                <a:solidFill>
                  <a:srgbClr val="000000"/>
                </a:solidFill>
                <a:latin typeface="Arial"/>
              </a:rPr>
              <a:t> “F”inished</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 Comments “D”ecline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omments still in “E”rrata D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Comments need to be “C”larifi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Comment needs to be “R”esearch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2 Comment Tot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DF54D7E-A4D5-4EB5-99FB-FC3E3942E749}" type="slidenum">
              <a:t>2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3 Summary Report (cont.)</a:t>
            </a:r>
            <a:endParaRPr b="0" lang="en-US" sz="36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Sep00</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d a “smoothed” version of the IEEE Std 802.15.1-[2001] Draft 0.7.3 from IEEE-SA Project Editor in FM v6.0  </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new going forward Draft.</a:t>
            </a: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Nov00</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LB3 Comments resolved, present to WG for authorization to proceed, apply edits –00/159r16, BSIG v1.1, et. al. to next Draft 0.7.3 (smoothed)</a:t>
            </a: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B(6) Recirculation, est. Jan01 (plan for 1 more LB, likely 2)</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ready for Sponsor Ballot prior to Mar00 Plenary</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Info:</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ttp://ieee802.org/15/pub/LB3/LB3.html</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941CA1D-79B5-4C9A-A9BD-73881F305A55}" type="slidenum">
              <a:t>2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Overview</a:t>
            </a:r>
            <a:endParaRPr b="0" lang="en-US" sz="36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2</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F7019CA-D74D-4291-9D31-B96F585A25CB}" type="slidenum">
              <a:t>2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6) Motion to the 802.15 Working Group</a:t>
            </a:r>
            <a:endParaRPr b="0" lang="en-US" sz="36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move that the 802.15 WG approve the application of the –00/159r16 LB3 comment resolutions to 802.15.1 Std D0.7.3.</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 Technical 50% (Procedur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N/A: //, </a:t>
            </a:r>
            <a:endParaRPr b="0" lang="en-US" sz="2000" spc="-1" strike="noStrike">
              <a:solidFill>
                <a:srgbClr val="000000"/>
              </a:solidFill>
              <a:latin typeface="Arial"/>
            </a:endParaRPr>
          </a:p>
        </p:txBody>
      </p:sp>
      <p:sp>
        <p:nvSpPr>
          <p:cNvPr id="277" name=""/>
          <p:cNvSpPr/>
          <p:nvPr/>
        </p:nvSpPr>
        <p:spPr>
          <a:xfrm>
            <a:off x="585360" y="6202440"/>
            <a:ext cx="384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is to apply ALL 422 LB3 Comment Resolution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669CB7D-9035-4AA1-9A8F-10A57B445DA9}" type="slidenum">
              <a:t>2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7) Motion to the 802.15 Working Group</a:t>
            </a:r>
            <a:endParaRPr b="0" lang="en-US" sz="36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move that the 802.15 WG submit the contents of document IEEE P802-15/D0.8 to Sponsor Ballot; Draft_0-8.zip, available via (password required):http://grouper.ieee.org/groups/802/15/pub/LB(7)/LB(7).html</a:t>
            </a:r>
            <a:endParaRPr b="0" lang="en-US" sz="2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75%</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d:</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N/A: //,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6EE2826-D32D-4C76-8C30-AD05CB7B61F4}" type="slidenum">
              <a:t>2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tuff</a:t>
            </a:r>
            <a:endParaRPr b="0" lang="en-US" sz="3600" spc="-1" strike="noStrike">
              <a:solidFill>
                <a:srgbClr val="000000"/>
              </a:solidFill>
              <a:latin typeface="Times New Roman"/>
            </a:endParaRPr>
          </a:p>
        </p:txBody>
      </p:sp>
      <p:sp>
        <p:nvSpPr>
          <p:cNvPr id="28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n Basic Polic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7E784AA-685A-423E-BD7C-3DB2DD563D4B}" type="slidenum">
              <a:t>2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Future Meetings</a:t>
            </a:r>
            <a:endParaRPr b="0" lang="en-US" sz="36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uary 15-19, 2001 Monterey, CA USA, Hyatt Regency Monterey, 802.15 Interim Meet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 12-15, 2001 Hilton Head, SC USA, Hyatt Regency, 802 Plenary Meet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Inf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ieee802.org/15/pub/Meeting_Plan.htm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326917F-981F-454A-8129-E1BFAB7C2668}" type="slidenum">
              <a:t>2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Requirements for Working Group Voting Membership</a:t>
            </a:r>
            <a:endParaRPr b="0" lang="en-US" sz="32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 to vote on 802.15 standards at the Working Group Ballot stage you need to become a Voting Member of Working Group 802.15.</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hip is by individual, not company.</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come a voter:</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end and sign the attendance book at least 75% of the sessions of two Working Group 802.15 Plenary meetings (within the last four).</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attendance at a two day or more duly constituted Working Group 802.15 Interim Meeting can be substituted for attendance at one plenary.</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complete and current contact information recorded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o become a voter during a Working Group 802.15 Opening or Closing plenary meeting when additions to the voter list are solicited by the Chair from the "Potential Voter" list.</a:t>
            </a:r>
            <a:endParaRPr b="0" lang="en-US" sz="14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main a voter you must:</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 current contact information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75% attendance during at least two of the last four plenaries (Attendance at an interim can substitute for attendance at no more than 1 plenary).</a:t>
            </a:r>
            <a:endParaRPr b="0" lang="en-US" sz="1400" spc="-1" strike="noStrike">
              <a:solidFill>
                <a:srgbClr val="000000"/>
              </a:solidFill>
              <a:latin typeface="Arial"/>
            </a:endParaRPr>
          </a:p>
          <a:p>
            <a:pPr lvl="2" marL="1097280" indent="-21924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e in Working Group ballots. You can be dropped for not returning or abstaining in two of the last three ballots.</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CEA29EF-A9BC-4518-B78F-9EBEEDB0E1A1}" type="slidenum">
              <a:t>2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Session #9/Tampa</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ssions</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Planning Status</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Meeting</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tative Needs for</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 for</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History</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B3 Summary Repor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2D5F1BA-297C-4D2B-8855-23121AA4382B}"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287"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Bylaws (Oct1999)</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bylaws/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Operations Manual (Jan2000)</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3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opma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Standards Companion (1995)</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Request and Patent Response Letters (Annex A)</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nformation on Patents is Out-of-date</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companio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Chairs should review patent policy at each meeting</a:t>
            </a: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valuating alternative technologies:</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letters can be requested and tabulated for each technology</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s and Conditions NOT appropriate (Violates cost discussions)</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tent claims may not be visible at time of tabul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54AFE65-7AF0-49A4-B38F-D1FC416877BE}" type="slidenum">
              <a:t>30</a:t>
            </a:fld>
          </a:p>
        </p:txBody>
      </p:sp>
      <p:sp>
        <p:nvSpPr>
          <p:cNvPr id="6" name="PlaceHolder 5"/>
          <p:cNvSpPr>
            <a:spLocks noGrp="1"/>
          </p:cNvSpPr>
          <p:nvPr>
            <p:ph type="dt" idx="1"/>
          </p:nvPr>
        </p:nvSpPr>
        <p:spPr/>
        <p:txBody>
          <a:bodyPr/>
          <a:p>
            <a:r>
              <a:rPr lang="en-US"/>
              <a:t>November 2000</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Bylaws (Oct1999) – 6 Patents</a:t>
            </a:r>
            <a:endParaRPr b="0" lang="en-US" sz="3600" spc="-1" strike="noStrike">
              <a:solidFill>
                <a:srgbClr val="0000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 statement that a license will be made available to all applicants without compensation or under reasonable rates, with reasonable terms and conditions that are demonstrably free of any unfair discrimin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8CBCF9A-04C2-4A39-8AE0-2BE31534353D}" type="slidenum">
              <a:t>3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tent policy is set forth in clause 6 of the IEEE-SA Standards Board Bylaws.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holders shall submit letters of assurance to the IEEE Standards Department (to the attention of the Administrator, Intellectual Property) before the time of IEEE-SA Standards Board review for approval.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vent that a patent may apply to a standard and a letter of assurance cannot be obtained, the working group shall refer this matter to the Patents Administrator in the IEEE Standards Department.</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the letter of assurance is received from an individual within the issuing organization who has clear authority for intellectual property and/or legal matters, the IEEE Standards Department (Administrator, Intellectual Property) shall send a certified letter, return receipt requested, to the General Counsel of the issuing organization to confirm receipt of the letter of assurance and to ensure that the letter of assurance is factually correct and was submitted by an appropriate individual within the issuing organization. No response to this letter, other than the return receipt, is required.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6FB639D-F27C-46BB-B907-B8D5877AD0B3}" type="slidenum">
              <a:t>3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will provide contact information about the patent holder upon request.</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1 Public notice</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AADD2F0-33A0-4A9C-AC85-875E34C8C3A3}" type="slidenum">
              <a:t>3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able rates and nondiscriminatory, reasonable terms and conditions to all applicants desiring to obtain such licenses. The IEEE makes no representation as to the reasonableness of rates and/or terms and conditions of the license agreements offered by patent holders. Further information may be obtained from the IEEE Standards Department.</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IEEE has not received letters of assurance prior to the time of publication, the following notice shall appea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848E6A3-5B6F-492B-8088-0489CE310BC6}" type="slidenum">
              <a:t>3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2 Submitt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tandards may include the known use of patents if there is technical justification, the working group should not attempt to determine whether or not a patent applies. The working group shall accept the view of the patent holde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E76F9B2-B581-4189-9CD4-47FEA5AEC897}" type="slidenum">
              <a:t>3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3 Disclai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shall not be responsible for identifying all patents for which a license may be required by an IEEE standard or for conducting inquiries into the legal validity or scope of those patents that are brought to its atten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0B974BE-E77C-4DA3-B662-6C7107FCA6C9}" type="slidenum">
              <a:t>3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Info:</a:t>
            </a:r>
            <a:endParaRPr b="0" lang="en-US" sz="3600" spc="-1" strike="noStrike">
              <a:solidFill>
                <a:srgbClr val="0000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1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ieee802.org/1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Process-at-a-Gl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resources/glance.htm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AC91C3E-8286-4652-8EED-2AEC6FE332AB}" type="slidenum">
              <a:t>3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sk Group 1 (TG1)</a:t>
            </a:r>
            <a:r>
              <a:rPr b="0" lang="en-US" sz="1600" spc="-1" strike="noStrike">
                <a:solidFill>
                  <a:srgbClr val="000000"/>
                </a:solidFill>
                <a:latin typeface="Times New Roman"/>
              </a:rPr>
              <a:t> is deriving a draft standard from the Bluetooth</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specification under IEEE PAR 802.15.1  At Session #9, the group made significant progress in progressing their draft standar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ring Session #9 the Letter Ballot 3 Comment Resolution Team met and significantly reduced the gap in resolving the outstanding comments:</a:t>
            </a:r>
            <a:endParaRPr b="0" lang="en-US" sz="1600" spc="-1" strike="noStrike">
              <a:solidFill>
                <a:srgbClr val="000000"/>
              </a:solidFill>
              <a:latin typeface="Arial"/>
            </a:endParaRPr>
          </a:p>
          <a:p>
            <a:pPr lvl="1" marL="743040" indent="-2858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22 Comment Total (388 Comments almost “F”inished (42 Comments “D”eclined, letters needs to be stamped &amp; mailed), 3 Comments still in BSIG “E”rrata DB, 30 Comments need Voter “C”larification, 1 Comment needs to be “R”esearched)</a:t>
            </a:r>
            <a:endParaRPr b="0" lang="en-US" sz="14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itionally, the Project Plan was altered on 3Nov00 when the BSIG informed the IEEE that unfortunately the BT v1.1 spec schedule is gated by feedback from UnPlugFest-4 (Nov 5-9) and resolution of editing problems (TROFF) by the Open Group.  The TG1 has offered the assistance of the TG1 Editors.</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step for TG1 is to review the Project Plan and prepare for the final WG Letter Ballot of IEEE Std 802.15.1-[2001] Draft 0.8 as well as initiate preliminary work for Sponsor Ballot; tentatively planned for Feb01/Mar01 timeframe.</a:t>
            </a:r>
            <a:endParaRPr b="0" lang="en-US" sz="1600" spc="-1" strike="noStrike">
              <a:solidFill>
                <a:srgbClr val="000000"/>
              </a:solidFill>
              <a:latin typeface="Arial"/>
            </a:endParaRPr>
          </a:p>
        </p:txBody>
      </p:sp>
      <p:sp>
        <p:nvSpPr>
          <p:cNvPr id="66" name=""/>
          <p:cNvSpPr/>
          <p:nvPr/>
        </p:nvSpPr>
        <p:spPr>
          <a:xfrm>
            <a:off x="333360" y="5905440"/>
            <a:ext cx="84582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G1 will hold Teleconference Calls during the month of December and all agend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utes, and rolling open action items will be available via the 802.15.1 reflector archiv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AEF126D-10FB-49F0-95D0-F7E50E8E1401}"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9/Tampa - Objective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G MOTION 6Nov00: TO FINALIZE APPROVAL OF LB3 RESOLUTIONS -00/159r15</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OMPLETE PRODUCTION AND/OR REVIEW IEEE Std 802.15.1-[2001] Draft 0.8 </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ETERMINE WHAT FORM OF LETTER BALLOT IS APPROPRIATE FOR DRAFT RE-CIRCULATION, IF V1.1 CHANGES ARE MINOR OR RECONSIDERATION, IF V1.1 CHANGES ARE MAJOR</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INITIATE WG LETTER BALLOT PROC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NITIATE SPONSOR BALLOT POOL INVIATION PROC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ROVIDE PROJECT PLANNING UPDATE -00/xxxr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PROVIDE SESSION #10/MONTEREY OBJECTIV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 DISCUSSION THE SPONSOR REORG INPUT?</a:t>
            </a:r>
            <a:endParaRPr b="0" lang="en-US" sz="2000" spc="-1" strike="noStrike">
              <a:solidFill>
                <a:srgbClr val="000000"/>
              </a:solidFill>
              <a:latin typeface="Arial"/>
            </a:endParaRPr>
          </a:p>
        </p:txBody>
      </p:sp>
      <p:sp>
        <p:nvSpPr>
          <p:cNvPr id="69" name=""/>
          <p:cNvSpPr/>
          <p:nvPr/>
        </p:nvSpPr>
        <p:spPr>
          <a:xfrm>
            <a:off x="332280" y="1797120"/>
            <a:ext cx="427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DBAA516-6C4A-4211-A31C-D45A7DEB01E4}"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9/Tampa - Submissions</a:t>
            </a:r>
            <a:endParaRPr b="0" lang="en-US" sz="3600" spc="-1" strike="noStrike">
              <a:solidFill>
                <a:srgbClr val="000000"/>
              </a:solidFill>
              <a:latin typeface="Times New Roman"/>
            </a:endParaRPr>
          </a:p>
        </p:txBody>
      </p:sp>
      <p:graphicFrame>
        <p:nvGraphicFramePr>
          <p:cNvPr id="71" name=""/>
          <p:cNvGraphicFramePr/>
          <p:nvPr/>
        </p:nvGraphicFramePr>
        <p:xfrm>
          <a:off x="135000" y="2052720"/>
          <a:ext cx="8885160" cy="2727360"/>
        </p:xfrm>
        <a:graphic>
          <a:graphicData uri="http://schemas.openxmlformats.org/presentationml/2006/ole">
            <p:oleObj progId="Excel.Sheet.12" r:id="rId1" spid="">
              <p:embed/>
              <p:pic>
                <p:nvPicPr>
                  <p:cNvPr id="72" name="" descr=""/>
                  <p:cNvPicPr/>
                  <p:nvPr/>
                </p:nvPicPr>
                <p:blipFill>
                  <a:blip r:embed="rId2"/>
                  <a:stretch/>
                </p:blipFill>
                <p:spPr>
                  <a:xfrm>
                    <a:off x="135000" y="2052720"/>
                    <a:ext cx="8885160" cy="27273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4266B5FE-D8BC-4109-9A83-137DEE3989AA}" type="slidenum">
              <a:t>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Current Project Planning</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iscussion on Proposals.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raft ready for WG ballot.</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00</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Ballot complete, second ballot kicked off.</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ready for IEEE sponsor ballot.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p:txBody>
      </p:sp>
      <p:sp>
        <p:nvSpPr>
          <p:cNvPr id="75" name=""/>
          <p:cNvSpPr/>
          <p:nvPr/>
        </p:nvSpPr>
        <p:spPr>
          <a:xfrm>
            <a:off x="304920" y="5557680"/>
            <a:ext cx="609588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783840" y="4572000"/>
            <a:ext cx="222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 Sponsor Expectation</a:t>
            </a:r>
            <a:endParaRPr b="0" lang="en-US" sz="1600" spc="-1" strike="noStrike">
              <a:solidFill>
                <a:srgbClr val="000000"/>
              </a:solidFill>
              <a:latin typeface="Times New Roman"/>
            </a:endParaRPr>
          </a:p>
        </p:txBody>
      </p:sp>
      <p:sp>
        <p:nvSpPr>
          <p:cNvPr id="77" name=""/>
          <p:cNvSpPr/>
          <p:nvPr/>
        </p:nvSpPr>
        <p:spPr>
          <a:xfrm flipH="1">
            <a:off x="5562360" y="4876920"/>
            <a:ext cx="19810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660720" y="3930480"/>
            <a:ext cx="209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1 Project Target</a:t>
            </a:r>
            <a:endParaRPr b="0" lang="en-US" sz="1600" spc="-1" strike="noStrike">
              <a:solidFill>
                <a:srgbClr val="000000"/>
              </a:solidFill>
              <a:latin typeface="Times New Roman"/>
            </a:endParaRPr>
          </a:p>
        </p:txBody>
      </p:sp>
      <p:sp>
        <p:nvSpPr>
          <p:cNvPr id="79" name=""/>
          <p:cNvSpPr/>
          <p:nvPr/>
        </p:nvSpPr>
        <p:spPr>
          <a:xfrm flipH="1">
            <a:off x="5562360" y="4267080"/>
            <a:ext cx="19810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B24EB7E-33EC-4C8A-B6B5-C914864E50F3}"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Planning - Short</a:t>
            </a:r>
            <a:endParaRPr b="0" lang="en-US" sz="3600" spc="-1" strike="noStrike">
              <a:solidFill>
                <a:srgbClr val="000000"/>
              </a:solidFill>
              <a:latin typeface="Times New Roman"/>
            </a:endParaRPr>
          </a:p>
        </p:txBody>
      </p:sp>
      <p:sp>
        <p:nvSpPr>
          <p:cNvPr id="81" name=""/>
          <p:cNvSpPr/>
          <p:nvPr/>
        </p:nvSpPr>
        <p:spPr>
          <a:xfrm>
            <a:off x="2286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S</a:t>
            </a:r>
            <a:endParaRPr b="0" lang="en-US" sz="2000" spc="-1" strike="noStrike">
              <a:solidFill>
                <a:srgbClr val="000000"/>
              </a:solidFill>
              <a:latin typeface="Times New Roman"/>
            </a:endParaRPr>
          </a:p>
        </p:txBody>
      </p:sp>
      <p:sp>
        <p:nvSpPr>
          <p:cNvPr id="82" name=""/>
          <p:cNvSpPr/>
          <p:nvPr/>
        </p:nvSpPr>
        <p:spPr>
          <a:xfrm>
            <a:off x="5410080" y="3124080"/>
            <a:ext cx="1433520" cy="152424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0.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v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00/159r16</a:t>
            </a:r>
            <a:endParaRPr b="0" lang="en-US" sz="2000" spc="-1" strike="noStrike">
              <a:solidFill>
                <a:srgbClr val="000000"/>
              </a:solidFill>
              <a:latin typeface="Times New Roman"/>
            </a:endParaRPr>
          </a:p>
        </p:txBody>
      </p:sp>
      <p:sp>
        <p:nvSpPr>
          <p:cNvPr id="83" name=""/>
          <p:cNvSpPr/>
          <p:nvPr/>
        </p:nvSpPr>
        <p:spPr>
          <a:xfrm>
            <a:off x="304920" y="251460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8954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149200" y="190512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May00</a:t>
            </a:r>
            <a:endParaRPr b="0" lang="en-US" sz="2400" spc="-1" strike="noStrike">
              <a:solidFill>
                <a:srgbClr val="000000"/>
              </a:solidFill>
              <a:latin typeface="Times New Roman"/>
            </a:endParaRPr>
          </a:p>
        </p:txBody>
      </p:sp>
      <p:sp>
        <p:nvSpPr>
          <p:cNvPr id="86" name=""/>
          <p:cNvSpPr/>
          <p:nvPr/>
        </p:nvSpPr>
        <p:spPr>
          <a:xfrm>
            <a:off x="7238880" y="2514600"/>
            <a:ext cx="99072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6200600">
            <a:off x="6628680" y="3684960"/>
            <a:ext cx="2318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5 Day LB</a:t>
            </a:r>
            <a:endParaRPr b="0" lang="en-US" sz="2400" spc="-1" strike="noStrike">
              <a:solidFill>
                <a:srgbClr val="000000"/>
              </a:solidFill>
              <a:latin typeface="Times New Roman"/>
            </a:endParaRPr>
          </a:p>
        </p:txBody>
      </p:sp>
      <p:sp>
        <p:nvSpPr>
          <p:cNvPr id="88" name=""/>
          <p:cNvSpPr/>
          <p:nvPr/>
        </p:nvSpPr>
        <p:spPr>
          <a:xfrm>
            <a:off x="4343400" y="2895480"/>
            <a:ext cx="1447920" cy="1685880"/>
          </a:xfrm>
          <a:custGeom>
            <a:avLst/>
            <a:gdLst>
              <a:gd name="textAreaLeft" fmla="*/ 226080 w 1447920"/>
              <a:gd name="textAreaRight" fmla="*/ 1267200 w 1447920"/>
              <a:gd name="textAreaTop" fmla="*/ 421560 h 1685880"/>
              <a:gd name="textAreaBottom" fmla="*/ 1264680 h 168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Nov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a errata</a:t>
            </a:r>
            <a:endParaRPr b="0" lang="en-US" sz="1800" spc="-1" strike="noStrike">
              <a:solidFill>
                <a:srgbClr val="000000"/>
              </a:solidFill>
              <a:latin typeface="Times New Roman"/>
            </a:endParaRPr>
          </a:p>
        </p:txBody>
      </p:sp>
      <p:sp>
        <p:nvSpPr>
          <p:cNvPr id="89" name=""/>
          <p:cNvSpPr/>
          <p:nvPr/>
        </p:nvSpPr>
        <p:spPr>
          <a:xfrm>
            <a:off x="7238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rot="19812000">
            <a:off x="6929640" y="174276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Jan01</a:t>
            </a:r>
            <a:endParaRPr b="0" lang="en-US" sz="2400" spc="-1" strike="noStrike">
              <a:solidFill>
                <a:srgbClr val="000000"/>
              </a:solidFill>
              <a:latin typeface="Times New Roman"/>
            </a:endParaRPr>
          </a:p>
        </p:txBody>
      </p:sp>
      <p:sp>
        <p:nvSpPr>
          <p:cNvPr id="91" name=""/>
          <p:cNvSpPr/>
          <p:nvPr/>
        </p:nvSpPr>
        <p:spPr>
          <a:xfrm>
            <a:off x="6858000" y="1752480"/>
            <a:ext cx="0" cy="3886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13824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7632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523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87240" y="19051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May00</a:t>
            </a:r>
            <a:endParaRPr b="0" lang="en-US" sz="2400" spc="-1" strike="noStrike">
              <a:solidFill>
                <a:srgbClr val="000000"/>
              </a:solidFill>
              <a:latin typeface="Times New Roman"/>
            </a:endParaRPr>
          </a:p>
        </p:txBody>
      </p:sp>
      <p:sp>
        <p:nvSpPr>
          <p:cNvPr id="96" name=""/>
          <p:cNvSpPr/>
          <p:nvPr/>
        </p:nvSpPr>
        <p:spPr>
          <a:xfrm>
            <a:off x="16002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s</a:t>
            </a:r>
            <a:endParaRPr b="0" lang="en-US" sz="2000" spc="-1" strike="noStrike">
              <a:solidFill>
                <a:srgbClr val="000000"/>
              </a:solidFill>
              <a:latin typeface="Times New Roman"/>
            </a:endParaRPr>
          </a:p>
        </p:txBody>
      </p:sp>
      <p:sp>
        <p:nvSpPr>
          <p:cNvPr id="97" name=""/>
          <p:cNvSpPr/>
          <p:nvPr/>
        </p:nvSpPr>
        <p:spPr>
          <a:xfrm>
            <a:off x="427212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601800" y="190512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Sep00</a:t>
            </a:r>
            <a:endParaRPr b="0" lang="en-US" sz="2400" spc="-1" strike="noStrike">
              <a:solidFill>
                <a:srgbClr val="000000"/>
              </a:solidFill>
              <a:latin typeface="Times New Roman"/>
            </a:endParaRPr>
          </a:p>
        </p:txBody>
      </p:sp>
      <p:sp>
        <p:nvSpPr>
          <p:cNvPr id="99" name=""/>
          <p:cNvSpPr/>
          <p:nvPr/>
        </p:nvSpPr>
        <p:spPr>
          <a:xfrm>
            <a:off x="619200" y="5919840"/>
            <a:ext cx="5214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ate released by Editor-in-Chi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Based on an IEEE estimate for planning purposes; not confirmed by BSIG </a:t>
            </a:r>
            <a:endParaRPr b="0" lang="en-US" sz="1200" spc="-1" strike="noStrike">
              <a:solidFill>
                <a:srgbClr val="000000"/>
              </a:solidFill>
              <a:latin typeface="Times New Roman"/>
            </a:endParaRPr>
          </a:p>
        </p:txBody>
      </p:sp>
      <p:sp>
        <p:nvSpPr>
          <p:cNvPr id="100" name=""/>
          <p:cNvSpPr/>
          <p:nvPr/>
        </p:nvSpPr>
        <p:spPr>
          <a:xfrm>
            <a:off x="29718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Smooth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6154560" y="13572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Dec00</a:t>
            </a:r>
            <a:endParaRPr b="0" lang="en-US" sz="2400" spc="-1" strike="noStrike">
              <a:solidFill>
                <a:srgbClr val="000000"/>
              </a:solidFill>
              <a:latin typeface="Times New Roman"/>
            </a:endParaRPr>
          </a:p>
        </p:txBody>
      </p:sp>
      <p:sp>
        <p:nvSpPr>
          <p:cNvPr id="102" name=""/>
          <p:cNvSpPr/>
          <p:nvPr/>
        </p:nvSpPr>
        <p:spPr>
          <a:xfrm>
            <a:off x="5860440" y="5961240"/>
            <a:ext cx="28112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e (1) week before ballot starts.</a:t>
            </a:r>
            <a:endParaRPr b="0" lang="en-US" sz="1200" spc="-1" strike="noStrike">
              <a:solidFill>
                <a:srgbClr val="000000"/>
              </a:solidFill>
              <a:latin typeface="Times New Roman"/>
            </a:endParaRPr>
          </a:p>
        </p:txBody>
      </p:sp>
      <p:sp>
        <p:nvSpPr>
          <p:cNvPr id="103" name=""/>
          <p:cNvSpPr/>
          <p:nvPr/>
        </p:nvSpPr>
        <p:spPr>
          <a:xfrm flipV="1">
            <a:off x="6934320" y="5504040"/>
            <a:ext cx="7596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858000" y="5410080"/>
            <a:ext cx="38088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19556400">
            <a:off x="7844040" y="173340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Jan0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98C767E-A521-44B3-8052-164C4F87FB38}" type="slidenum">
              <a:t>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04920" y="1905120"/>
            <a:ext cx="426708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
          <p:cNvGrpSpPr/>
          <p:nvPr/>
        </p:nvGrpSpPr>
        <p:grpSpPr>
          <a:xfrm>
            <a:off x="4361040" y="1368720"/>
            <a:ext cx="698760" cy="3965400"/>
            <a:chOff x="4361040" y="1368720"/>
            <a:chExt cx="698760" cy="3965400"/>
          </a:xfrm>
        </p:grpSpPr>
        <p:sp>
          <p:nvSpPr>
            <p:cNvPr id="108" name=""/>
            <p:cNvSpPr/>
            <p:nvPr/>
          </p:nvSpPr>
          <p:spPr>
            <a:xfrm>
              <a:off x="4571640" y="1905120"/>
              <a:ext cx="0" cy="3429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19504800">
              <a:off x="4391280" y="1523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oday</a:t>
              </a:r>
              <a:endParaRPr b="0" lang="en-US" sz="1400" spc="-1" strike="noStrike">
                <a:solidFill>
                  <a:srgbClr val="000000"/>
                </a:solidFill>
                <a:latin typeface="Times New Roman"/>
              </a:endParaRPr>
            </a:p>
          </p:txBody>
        </p:sp>
      </p:grpSp>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Planning - Long</a:t>
            </a:r>
            <a:endParaRPr b="0" lang="en-US" sz="3600" spc="-1" strike="noStrike">
              <a:solidFill>
                <a:srgbClr val="000000"/>
              </a:solidFill>
              <a:latin typeface="Times New Roman"/>
            </a:endParaRPr>
          </a:p>
        </p:txBody>
      </p:sp>
      <p:sp>
        <p:nvSpPr>
          <p:cNvPr id="111"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need to discuss the process by which the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112" name=""/>
          <p:cNvSpPr/>
          <p:nvPr/>
        </p:nvSpPr>
        <p:spPr>
          <a:xfrm>
            <a:off x="152280" y="5181480"/>
            <a:ext cx="8610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49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04920" y="1905120"/>
            <a:ext cx="1828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115" name=""/>
          <p:cNvSpPr/>
          <p:nvPr/>
        </p:nvSpPr>
        <p:spPr>
          <a:xfrm>
            <a:off x="75600" y="5394240"/>
            <a:ext cx="45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99</a:t>
            </a:r>
            <a:endParaRPr b="0" lang="en-US" sz="1000" spc="-1" strike="noStrike">
              <a:solidFill>
                <a:srgbClr val="000000"/>
              </a:solidFill>
              <a:latin typeface="Times New Roman"/>
            </a:endParaRPr>
          </a:p>
        </p:txBody>
      </p:sp>
      <p:sp>
        <p:nvSpPr>
          <p:cNvPr id="116" name=""/>
          <p:cNvSpPr/>
          <p:nvPr/>
        </p:nvSpPr>
        <p:spPr>
          <a:xfrm>
            <a:off x="3428640" y="5410080"/>
            <a:ext cx="45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00</a:t>
            </a:r>
            <a:endParaRPr b="0" lang="en-US" sz="1000" spc="-1" strike="noStrike">
              <a:solidFill>
                <a:srgbClr val="000000"/>
              </a:solidFill>
              <a:latin typeface="Times New Roman"/>
            </a:endParaRPr>
          </a:p>
        </p:txBody>
      </p:sp>
      <p:sp>
        <p:nvSpPr>
          <p:cNvPr id="117" name=""/>
          <p:cNvSpPr/>
          <p:nvPr/>
        </p:nvSpPr>
        <p:spPr>
          <a:xfrm>
            <a:off x="7011360" y="5410080"/>
            <a:ext cx="49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p01</a:t>
            </a:r>
            <a:endParaRPr b="0" lang="en-US" sz="1000" spc="-1" strike="noStrike">
              <a:solidFill>
                <a:srgbClr val="000000"/>
              </a:solidFill>
              <a:latin typeface="Times New Roman"/>
            </a:endParaRPr>
          </a:p>
        </p:txBody>
      </p:sp>
      <p:sp>
        <p:nvSpPr>
          <p:cNvPr id="118" name=""/>
          <p:cNvSpPr/>
          <p:nvPr/>
        </p:nvSpPr>
        <p:spPr>
          <a:xfrm>
            <a:off x="6401880" y="5410080"/>
            <a:ext cx="45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01</a:t>
            </a:r>
            <a:endParaRPr b="0" lang="en-US" sz="1000" spc="-1" strike="noStrike">
              <a:solidFill>
                <a:srgbClr val="000000"/>
              </a:solidFill>
              <a:latin typeface="Times New Roman"/>
            </a:endParaRPr>
          </a:p>
        </p:txBody>
      </p:sp>
      <p:sp>
        <p:nvSpPr>
          <p:cNvPr id="119" name=""/>
          <p:cNvSpPr/>
          <p:nvPr/>
        </p:nvSpPr>
        <p:spPr>
          <a:xfrm>
            <a:off x="7821360" y="5410080"/>
            <a:ext cx="47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n02</a:t>
            </a:r>
            <a:endParaRPr b="0" lang="en-US" sz="1000" spc="-1" strike="noStrike">
              <a:solidFill>
                <a:srgbClr val="000000"/>
              </a:solidFill>
              <a:latin typeface="Times New Roman"/>
            </a:endParaRPr>
          </a:p>
        </p:txBody>
      </p:sp>
      <p:sp>
        <p:nvSpPr>
          <p:cNvPr id="120" name=""/>
          <p:cNvSpPr/>
          <p:nvPr/>
        </p:nvSpPr>
        <p:spPr>
          <a:xfrm>
            <a:off x="21337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21" name=""/>
          <p:cNvSpPr/>
          <p:nvPr/>
        </p:nvSpPr>
        <p:spPr>
          <a:xfrm>
            <a:off x="51055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1</a:t>
            </a:r>
            <a:endParaRPr b="0" lang="en-US" sz="1800" spc="-1" strike="noStrike">
              <a:solidFill>
                <a:srgbClr val="000000"/>
              </a:solidFill>
              <a:latin typeface="Times New Roman"/>
            </a:endParaRPr>
          </a:p>
        </p:txBody>
      </p:sp>
      <p:sp>
        <p:nvSpPr>
          <p:cNvPr id="122" name=""/>
          <p:cNvSpPr/>
          <p:nvPr/>
        </p:nvSpPr>
        <p:spPr>
          <a:xfrm>
            <a:off x="80773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025520" y="5410080"/>
            <a:ext cx="49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p01</a:t>
            </a:r>
            <a:endParaRPr b="0" lang="en-US" sz="1000" spc="-1" strike="noStrike">
              <a:solidFill>
                <a:srgbClr val="000000"/>
              </a:solidFill>
              <a:latin typeface="Times New Roman"/>
            </a:endParaRPr>
          </a:p>
        </p:txBody>
      </p:sp>
      <p:sp>
        <p:nvSpPr>
          <p:cNvPr id="124" name=""/>
          <p:cNvSpPr/>
          <p:nvPr/>
        </p:nvSpPr>
        <p:spPr>
          <a:xfrm>
            <a:off x="51055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337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851360" y="5410080"/>
            <a:ext cx="47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n01</a:t>
            </a:r>
            <a:endParaRPr b="0" lang="en-US" sz="1000" spc="-1" strike="noStrike">
              <a:solidFill>
                <a:srgbClr val="000000"/>
              </a:solidFill>
              <a:latin typeface="Times New Roman"/>
            </a:endParaRPr>
          </a:p>
        </p:txBody>
      </p:sp>
      <p:sp>
        <p:nvSpPr>
          <p:cNvPr id="127" name=""/>
          <p:cNvSpPr/>
          <p:nvPr/>
        </p:nvSpPr>
        <p:spPr>
          <a:xfrm>
            <a:off x="1873080" y="5394240"/>
            <a:ext cx="47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n00</a:t>
            </a:r>
            <a:endParaRPr b="0" lang="en-US" sz="1000" spc="-1" strike="noStrike">
              <a:solidFill>
                <a:srgbClr val="000000"/>
              </a:solidFill>
              <a:latin typeface="Times New Roman"/>
            </a:endParaRPr>
          </a:p>
        </p:txBody>
      </p:sp>
      <p:sp>
        <p:nvSpPr>
          <p:cNvPr id="128" name=""/>
          <p:cNvSpPr/>
          <p:nvPr/>
        </p:nvSpPr>
        <p:spPr>
          <a:xfrm>
            <a:off x="7924680" y="1905120"/>
            <a:ext cx="0" cy="3429000"/>
          </a:xfrm>
          <a:prstGeom prst="line">
            <a:avLst/>
          </a:prstGeom>
          <a:ln w="38160">
            <a:solidFill>
              <a:srgbClr val="00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rot="19504800">
            <a:off x="7676640" y="1308960"/>
            <a:ext cx="139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imes New Roman"/>
              </a:rPr>
              <a:t>Approval by StB</a:t>
            </a:r>
            <a:endParaRPr b="0" lang="en-US" sz="1400" spc="-1" strike="noStrike">
              <a:solidFill>
                <a:srgbClr val="000000"/>
              </a:solidFill>
              <a:latin typeface="Times New Roman"/>
            </a:endParaRPr>
          </a:p>
        </p:txBody>
      </p:sp>
      <p:sp>
        <p:nvSpPr>
          <p:cNvPr id="130" name=""/>
          <p:cNvSpPr/>
          <p:nvPr/>
        </p:nvSpPr>
        <p:spPr>
          <a:xfrm>
            <a:off x="1600200" y="2666880"/>
            <a:ext cx="1066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1</a:t>
            </a:r>
            <a:endParaRPr b="0" lang="en-US" sz="1600" spc="-1" strike="noStrike">
              <a:solidFill>
                <a:srgbClr val="000000"/>
              </a:solidFill>
              <a:latin typeface="Times New Roman"/>
            </a:endParaRPr>
          </a:p>
        </p:txBody>
      </p:sp>
      <p:sp>
        <p:nvSpPr>
          <p:cNvPr id="131" name=""/>
          <p:cNvSpPr/>
          <p:nvPr/>
        </p:nvSpPr>
        <p:spPr>
          <a:xfrm>
            <a:off x="3200400" y="2666880"/>
            <a:ext cx="1066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3</a:t>
            </a:r>
            <a:endParaRPr b="0" lang="en-US" sz="1600" spc="-1" strike="noStrike">
              <a:solidFill>
                <a:srgbClr val="000000"/>
              </a:solidFill>
              <a:latin typeface="Times New Roman"/>
            </a:endParaRPr>
          </a:p>
        </p:txBody>
      </p:sp>
      <p:sp>
        <p:nvSpPr>
          <p:cNvPr id="132" name=""/>
          <p:cNvSpPr/>
          <p:nvPr/>
        </p:nvSpPr>
        <p:spPr>
          <a:xfrm>
            <a:off x="220968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2</a:t>
            </a:r>
            <a:endParaRPr b="0" lang="en-US" sz="1600" spc="-1" strike="noStrike">
              <a:solidFill>
                <a:srgbClr val="000000"/>
              </a:solidFill>
              <a:latin typeface="Times New Roman"/>
            </a:endParaRPr>
          </a:p>
        </p:txBody>
      </p:sp>
      <p:sp>
        <p:nvSpPr>
          <p:cNvPr id="133" name=""/>
          <p:cNvSpPr/>
          <p:nvPr/>
        </p:nvSpPr>
        <p:spPr>
          <a:xfrm>
            <a:off x="5105520" y="2666880"/>
            <a:ext cx="3045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134" name=""/>
          <p:cNvSpPr/>
          <p:nvPr/>
        </p:nvSpPr>
        <p:spPr>
          <a:xfrm>
            <a:off x="1228320" y="278928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6</a:t>
            </a:r>
            <a:endParaRPr b="0" lang="en-US" sz="1000" spc="-1" strike="noStrike">
              <a:solidFill>
                <a:srgbClr val="000000"/>
              </a:solidFill>
              <a:latin typeface="Times New Roman"/>
            </a:endParaRPr>
          </a:p>
        </p:txBody>
      </p:sp>
      <p:sp>
        <p:nvSpPr>
          <p:cNvPr id="135" name=""/>
          <p:cNvSpPr/>
          <p:nvPr/>
        </p:nvSpPr>
        <p:spPr>
          <a:xfrm>
            <a:off x="2733120" y="2803680"/>
            <a:ext cx="52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7.2</a:t>
            </a:r>
            <a:endParaRPr b="0" lang="en-US" sz="1000" spc="-1" strike="noStrike">
              <a:solidFill>
                <a:srgbClr val="000000"/>
              </a:solidFill>
              <a:latin typeface="Times New Roman"/>
            </a:endParaRPr>
          </a:p>
        </p:txBody>
      </p:sp>
      <p:sp>
        <p:nvSpPr>
          <p:cNvPr id="136" name=""/>
          <p:cNvSpPr/>
          <p:nvPr/>
        </p:nvSpPr>
        <p:spPr>
          <a:xfrm>
            <a:off x="4747680" y="279072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8</a:t>
            </a:r>
            <a:endParaRPr b="0" lang="en-US" sz="1000" spc="-1" strike="noStrike">
              <a:solidFill>
                <a:srgbClr val="000000"/>
              </a:solidFill>
              <a:latin typeface="Times New Roman"/>
            </a:endParaRPr>
          </a:p>
        </p:txBody>
      </p:sp>
      <p:sp>
        <p:nvSpPr>
          <p:cNvPr id="137" name=""/>
          <p:cNvSpPr/>
          <p:nvPr/>
        </p:nvSpPr>
        <p:spPr>
          <a:xfrm>
            <a:off x="5410080" y="3124080"/>
            <a:ext cx="3049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138" name=""/>
          <p:cNvSpPr/>
          <p:nvPr/>
        </p:nvSpPr>
        <p:spPr>
          <a:xfrm>
            <a:off x="5052600" y="326088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9</a:t>
            </a:r>
            <a:endParaRPr b="0" lang="en-US" sz="1000" spc="-1" strike="noStrike">
              <a:solidFill>
                <a:srgbClr val="000000"/>
              </a:solidFill>
              <a:latin typeface="Times New Roman"/>
            </a:endParaRPr>
          </a:p>
        </p:txBody>
      </p:sp>
      <p:sp>
        <p:nvSpPr>
          <p:cNvPr id="139" name=""/>
          <p:cNvSpPr/>
          <p:nvPr/>
        </p:nvSpPr>
        <p:spPr>
          <a:xfrm>
            <a:off x="303120" y="3032280"/>
            <a:ext cx="1082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15 W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ing</a:t>
            </a:r>
            <a:endParaRPr b="0" lang="en-US" sz="1000" spc="-1" strike="noStrike">
              <a:solidFill>
                <a:srgbClr val="000000"/>
              </a:solidFill>
              <a:latin typeface="Times New Roman"/>
            </a:endParaRPr>
          </a:p>
        </p:txBody>
      </p:sp>
      <p:grpSp>
        <p:nvGrpSpPr>
          <p:cNvPr id="140" name=""/>
          <p:cNvGrpSpPr/>
          <p:nvPr/>
        </p:nvGrpSpPr>
        <p:grpSpPr>
          <a:xfrm>
            <a:off x="5487840" y="4191120"/>
            <a:ext cx="2121120" cy="457200"/>
            <a:chOff x="5487840" y="4191120"/>
            <a:chExt cx="2121120" cy="457200"/>
          </a:xfrm>
        </p:grpSpPr>
        <p:sp>
          <p:nvSpPr>
            <p:cNvPr id="141" name=""/>
            <p:cNvSpPr/>
            <p:nvPr/>
          </p:nvSpPr>
          <p:spPr>
            <a:xfrm>
              <a:off x="5837400" y="4191120"/>
              <a:ext cx="4428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2" name=""/>
            <p:cNvSpPr/>
            <p:nvPr/>
          </p:nvSpPr>
          <p:spPr>
            <a:xfrm>
              <a:off x="6581880" y="4191120"/>
              <a:ext cx="3747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3" name=""/>
            <p:cNvSpPr/>
            <p:nvPr/>
          </p:nvSpPr>
          <p:spPr>
            <a:xfrm>
              <a:off x="6224400" y="43149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1</a:t>
              </a:r>
              <a:endParaRPr b="0" lang="en-US" sz="1000" spc="-1" strike="noStrike">
                <a:solidFill>
                  <a:srgbClr val="000000"/>
                </a:solidFill>
                <a:latin typeface="Times New Roman"/>
              </a:endParaRPr>
            </a:p>
          </p:txBody>
        </p:sp>
        <p:sp>
          <p:nvSpPr>
            <p:cNvPr id="144" name=""/>
            <p:cNvSpPr/>
            <p:nvPr/>
          </p:nvSpPr>
          <p:spPr>
            <a:xfrm>
              <a:off x="5487840" y="43131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0</a:t>
              </a:r>
              <a:endParaRPr b="0" lang="en-US" sz="1000" spc="-1" strike="noStrike">
                <a:solidFill>
                  <a:srgbClr val="000000"/>
                </a:solidFill>
                <a:latin typeface="Times New Roman"/>
              </a:endParaRPr>
            </a:p>
          </p:txBody>
        </p:sp>
        <p:sp>
          <p:nvSpPr>
            <p:cNvPr id="145" name=""/>
            <p:cNvSpPr/>
            <p:nvPr/>
          </p:nvSpPr>
          <p:spPr>
            <a:xfrm>
              <a:off x="7234560" y="4191120"/>
              <a:ext cx="374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46" name=""/>
            <p:cNvSpPr/>
            <p:nvPr/>
          </p:nvSpPr>
          <p:spPr>
            <a:xfrm>
              <a:off x="6876720" y="43149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3</a:t>
              </a:r>
              <a:endParaRPr b="0" lang="en-US" sz="1000" spc="-1" strike="noStrike">
                <a:solidFill>
                  <a:srgbClr val="000000"/>
                </a:solidFill>
                <a:latin typeface="Times New Roman"/>
              </a:endParaRPr>
            </a:p>
          </p:txBody>
        </p:sp>
      </p:grpSp>
      <p:sp>
        <p:nvSpPr>
          <p:cNvPr id="147" name=""/>
          <p:cNvSpPr/>
          <p:nvPr/>
        </p:nvSpPr>
        <p:spPr>
          <a:xfrm>
            <a:off x="305280" y="42512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Sponsor Balloting</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69572390-BA78-4B6B-820C-184EA537F49B}" type="slidenum">
              <a:t>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Mr. Ian Gifford 
Director of Standards 
M/A-COM, Inc. 
1011 Pawtucket Boulevard 
Lowell, MA 01853-3295, USA 
TEL +1 978 442 4650 
FAX +1 978 442 5442 
E-M giffordi@tycoelectronics.com
</dc:description>
  <dc:language>en-US</dc:language>
  <cp:lastModifiedBy>Ian C. Gifford</cp:lastModifiedBy>
  <cp:lastPrinted>1998-02-10T13:28:06Z</cp:lastPrinted>
  <dcterms:modified xsi:type="dcterms:W3CDTF">2000-11-13T21:06:54Z</dcterms:modified>
  <cp:revision>256</cp:revision>
  <dc:subject>IEEE 802.15 TG1 Report</dc:subject>
  <dc:title>IEEE P802.15 Working Group for Wireless Personal Area Networks</dc:title>
</cp:coreProperties>
</file>