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28366-D337-486F-A9A2-37F666118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76FC9-4D19-491F-92FF-77FB2F866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7B128-5EC9-4571-B336-66089942B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008E8-F72C-49B5-89B3-3E4845CBB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FF911-3A05-4F5E-9A5B-13C5A6D25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E4AC5-7BDA-4481-9EC0-D9B207E71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22954-E16A-44C9-BD1A-43828C8F9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DB8D2-D046-494D-91CA-D84A8CAC3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AA616-1392-458A-A8F3-0B0CB6F4A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2BD79-3CF2-4D4B-9FBA-1BA2C0D3B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C75EF-0B5D-47BE-8FA0-31FE1127B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71301-F30C-409B-B62D-D40551EFB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E4D489-A657-4A98-A2FF-CB6DECD93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8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standards.ieee.org/wireless/index.html" TargetMode="External"/><Relationship Id="rId2" Type="http://schemas.openxmlformats.org/officeDocument/2006/relationships/hyperlink" Target="http://standards.ieee.org/wireless/index.html" TargetMode="External"/><Relationship Id="rId3" Type="http://schemas.openxmlformats.org/officeDocument/2006/relationships/hyperlink" Target="http://standards.ieee.org/wireless/index.html" TargetMode="External"/><Relationship Id="rId4" Type="http://schemas.openxmlformats.org/officeDocument/2006/relationships/hyperlink" Target="mailto:m.plessel@ieee.org" TargetMode="External"/><Relationship Id="rId5" Type="http://schemas.openxmlformats.org/officeDocument/2006/relationships/hyperlink" Target="mailto:m.plessel@ieee.org" TargetMode="External"/><Relationship Id="rId6" Type="http://schemas.openxmlformats.org/officeDocument/2006/relationships/hyperlink" Target="mailto:m.plessel@ieee.org" TargetMode="External"/><Relationship Id="rId7" Type="http://schemas.openxmlformats.org/officeDocument/2006/relationships/hyperlink" Target="mailto:m.plessel@ieee.org" TargetMode="External"/><Relationship Id="rId8" Type="http://schemas.openxmlformats.org/officeDocument/2006/relationships/hyperlink" Target="mailto:m.plessel@ieee.org" TargetMode="External"/><Relationship Id="rId9"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BA064A1A-C10D-4AEB-862C-DB4E7C225F2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520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Marketing Committee Marketing Plan</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6Nov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276r0,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Marketing Plan input to MC Chair.</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MC Acting Chair report to MC Chair to update him on the various Marketing Planning MARCOM initiatives and Action Item updat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 Marketing Pl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 2000 Tampa, FL USA</a:t>
            </a:r>
            <a:endParaRPr b="0" lang="en-US" sz="3200" spc="-1" strike="noStrike">
              <a:solidFill>
                <a:srgbClr val="000000"/>
              </a:solidFill>
              <a:latin typeface="Arial"/>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2BA32CA-428D-437D-836F-7B4F0986BA78}" type="slidenum">
              <a:t>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vs. Project Life Cyc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Planning Upd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standing Action Item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E4495A3-3E9E-47B8-B069-1F50B0B43E5C}" type="slidenum">
              <a:t>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Sep00 Interim Meeting in Scottsdale, AZ USA we summarized the then Marketing Plan and outgoing Action I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n update for the MC Chai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B61E68C-9A53-4CA7-8DEE-529214E22473}" type="slidenum">
              <a:t>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vs. Project Life Cycles</a:t>
            </a:r>
            <a:endParaRPr b="0" lang="en-US" sz="3600" spc="-1" strike="noStrike">
              <a:solidFill>
                <a:srgbClr val="000000"/>
              </a:solidFill>
              <a:latin typeface="Times New Roman"/>
            </a:endParaRPr>
          </a:p>
        </p:txBody>
      </p:sp>
      <p:pic>
        <p:nvPicPr>
          <p:cNvPr id="57" name="" descr=""/>
          <p:cNvPicPr/>
          <p:nvPr/>
        </p:nvPicPr>
        <p:blipFill>
          <a:blip r:embed="rId1"/>
          <a:stretch/>
        </p:blipFill>
        <p:spPr>
          <a:xfrm>
            <a:off x="108000" y="2209680"/>
            <a:ext cx="8921880" cy="3353040"/>
          </a:xfrm>
          <a:prstGeom prst="rect">
            <a:avLst/>
          </a:prstGeom>
          <a:ln w="0">
            <a:noFill/>
          </a:ln>
        </p:spPr>
      </p:pic>
      <p:sp>
        <p:nvSpPr>
          <p:cNvPr id="58" name=""/>
          <p:cNvSpPr/>
          <p:nvPr/>
        </p:nvSpPr>
        <p:spPr>
          <a:xfrm>
            <a:off x="609480" y="5715000"/>
            <a:ext cx="152640" cy="15228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09480" y="5943600"/>
            <a:ext cx="15264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09480" y="6172200"/>
            <a:ext cx="15264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53480" y="5664240"/>
            <a:ext cx="3626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ject WORK via PAR date baseline or as a revision.</a:t>
            </a:r>
            <a:endParaRPr b="0" lang="en-US" sz="1200" spc="-1" strike="noStrike">
              <a:solidFill>
                <a:srgbClr val="000000"/>
              </a:solidFill>
              <a:latin typeface="Times New Roman"/>
            </a:endParaRPr>
          </a:p>
        </p:txBody>
      </p:sp>
      <p:sp>
        <p:nvSpPr>
          <p:cNvPr id="62" name=""/>
          <p:cNvSpPr/>
          <p:nvPr/>
        </p:nvSpPr>
        <p:spPr>
          <a:xfrm>
            <a:off x="772560" y="5897520"/>
            <a:ext cx="372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ject REWIEW via Project planning schedule review.</a:t>
            </a:r>
            <a:endParaRPr b="0" lang="en-US" sz="1200" spc="-1" strike="noStrike">
              <a:solidFill>
                <a:srgbClr val="000000"/>
              </a:solidFill>
              <a:latin typeface="Times New Roman"/>
            </a:endParaRPr>
          </a:p>
        </p:txBody>
      </p:sp>
      <p:sp>
        <p:nvSpPr>
          <p:cNvPr id="63" name=""/>
          <p:cNvSpPr/>
          <p:nvPr/>
        </p:nvSpPr>
        <p:spPr>
          <a:xfrm>
            <a:off x="768240" y="6126120"/>
            <a:ext cx="353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ject STOP via PAR date baseline or as a revision.</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1CC3C66-1B32-4AA9-B24E-03F0A57D0111}" type="slidenum">
              <a:t>5</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ing Plan</a:t>
            </a:r>
            <a:endParaRPr b="0" lang="en-US" sz="3600" spc="-1" strike="noStrike">
              <a:solidFill>
                <a:srgbClr val="000000"/>
              </a:solidFill>
              <a:latin typeface="Times New Roman"/>
            </a:endParaRPr>
          </a:p>
        </p:txBody>
      </p:sp>
      <p:pic>
        <p:nvPicPr>
          <p:cNvPr id="65" name="" descr=""/>
          <p:cNvPicPr/>
          <p:nvPr/>
        </p:nvPicPr>
        <p:blipFill>
          <a:blip r:embed="rId1"/>
          <a:stretch/>
        </p:blipFill>
        <p:spPr>
          <a:xfrm>
            <a:off x="87480" y="1990800"/>
            <a:ext cx="8967600" cy="410688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2DF84EB-334A-4EDB-9C90-A2F002F1E593}" type="slidenum">
              <a:t>6</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standing Action Items</a:t>
            </a:r>
            <a:endParaRPr b="0" lang="en-US" sz="3600" spc="-1" strike="noStrike">
              <a:solidFill>
                <a:srgbClr val="000000"/>
              </a:solidFill>
              <a:latin typeface="Times New Roman"/>
            </a:endParaRPr>
          </a:p>
        </p:txBody>
      </p:sp>
      <p:grpSp>
        <p:nvGrpSpPr>
          <p:cNvPr id="67" name=""/>
          <p:cNvGrpSpPr/>
          <p:nvPr/>
        </p:nvGrpSpPr>
        <p:grpSpPr>
          <a:xfrm>
            <a:off x="1254240" y="1879560"/>
            <a:ext cx="6637320" cy="4368600"/>
            <a:chOff x="1254240" y="1879560"/>
            <a:chExt cx="6637320" cy="4368600"/>
          </a:xfrm>
        </p:grpSpPr>
        <p:grpSp>
          <p:nvGrpSpPr>
            <p:cNvPr id="68" name=""/>
            <p:cNvGrpSpPr/>
            <p:nvPr/>
          </p:nvGrpSpPr>
          <p:grpSpPr>
            <a:xfrm>
              <a:off x="1258920" y="1884240"/>
              <a:ext cx="6627960" cy="4359240"/>
              <a:chOff x="1258920" y="1884240"/>
              <a:chExt cx="6627960" cy="4359240"/>
            </a:xfrm>
          </p:grpSpPr>
          <p:grpSp>
            <p:nvGrpSpPr>
              <p:cNvPr id="69" name=""/>
              <p:cNvGrpSpPr/>
              <p:nvPr/>
            </p:nvGrpSpPr>
            <p:grpSpPr>
              <a:xfrm>
                <a:off x="1258920" y="1884240"/>
                <a:ext cx="506520" cy="609480"/>
                <a:chOff x="1258920" y="1884240"/>
                <a:chExt cx="506520" cy="609480"/>
              </a:xfrm>
            </p:grpSpPr>
            <p:sp>
              <p:nvSpPr>
                <p:cNvPr id="70" name=""/>
                <p:cNvSpPr/>
                <p:nvPr/>
              </p:nvSpPr>
              <p:spPr>
                <a:xfrm>
                  <a:off x="1327320" y="1884240"/>
                  <a:ext cx="3697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 name=""/>
                <p:cNvSpPr/>
                <p:nvPr/>
              </p:nvSpPr>
              <p:spPr>
                <a:xfrm>
                  <a:off x="1258920" y="1884240"/>
                  <a:ext cx="50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1765440" y="1884240"/>
                <a:ext cx="4025880" cy="609480"/>
                <a:chOff x="1765440" y="1884240"/>
                <a:chExt cx="4025880" cy="609480"/>
              </a:xfrm>
            </p:grpSpPr>
            <p:sp>
              <p:nvSpPr>
                <p:cNvPr id="73" name=""/>
                <p:cNvSpPr/>
                <p:nvPr/>
              </p:nvSpPr>
              <p:spPr>
                <a:xfrm>
                  <a:off x="1833480" y="1884240"/>
                  <a:ext cx="38894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H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 name=""/>
                <p:cNvSpPr/>
                <p:nvPr/>
              </p:nvSpPr>
              <p:spPr>
                <a:xfrm>
                  <a:off x="1765440" y="1884240"/>
                  <a:ext cx="4025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791320" y="1884240"/>
                <a:ext cx="1136520" cy="609480"/>
                <a:chOff x="5791320" y="1884240"/>
                <a:chExt cx="1136520" cy="609480"/>
              </a:xfrm>
            </p:grpSpPr>
            <p:sp>
              <p:nvSpPr>
                <p:cNvPr id="76" name=""/>
                <p:cNvSpPr/>
                <p:nvPr/>
              </p:nvSpPr>
              <p:spPr>
                <a:xfrm>
                  <a:off x="5859360" y="1884240"/>
                  <a:ext cx="10004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H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 name=""/>
                <p:cNvSpPr/>
                <p:nvPr/>
              </p:nvSpPr>
              <p:spPr>
                <a:xfrm>
                  <a:off x="5791320" y="1884240"/>
                  <a:ext cx="11365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6927840" y="1884240"/>
                <a:ext cx="959040" cy="609480"/>
                <a:chOff x="6927840" y="1884240"/>
                <a:chExt cx="959040" cy="609480"/>
              </a:xfrm>
            </p:grpSpPr>
            <p:sp>
              <p:nvSpPr>
                <p:cNvPr id="79" name=""/>
                <p:cNvSpPr/>
                <p:nvPr/>
              </p:nvSpPr>
              <p:spPr>
                <a:xfrm>
                  <a:off x="6996240" y="1884240"/>
                  <a:ext cx="8222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H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
                <p:cNvSpPr/>
                <p:nvPr/>
              </p:nvSpPr>
              <p:spPr>
                <a:xfrm>
                  <a:off x="6927840" y="1884240"/>
                  <a:ext cx="9590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1258920" y="2493720"/>
                <a:ext cx="506520" cy="701640"/>
                <a:chOff x="1258920" y="2493720"/>
                <a:chExt cx="506520" cy="701640"/>
              </a:xfrm>
            </p:grpSpPr>
            <p:sp>
              <p:nvSpPr>
                <p:cNvPr id="82" name=""/>
                <p:cNvSpPr/>
                <p:nvPr/>
              </p:nvSpPr>
              <p:spPr>
                <a:xfrm>
                  <a:off x="1327320" y="2493720"/>
                  <a:ext cx="36972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 name=""/>
                <p:cNvSpPr/>
                <p:nvPr/>
              </p:nvSpPr>
              <p:spPr>
                <a:xfrm>
                  <a:off x="1258920" y="2493720"/>
                  <a:ext cx="50652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1765440" y="2493720"/>
                <a:ext cx="4025880" cy="701640"/>
                <a:chOff x="1765440" y="2493720"/>
                <a:chExt cx="4025880" cy="701640"/>
              </a:xfrm>
            </p:grpSpPr>
            <p:sp>
              <p:nvSpPr>
                <p:cNvPr id="85" name=""/>
                <p:cNvSpPr/>
                <p:nvPr/>
              </p:nvSpPr>
              <p:spPr>
                <a:xfrm>
                  <a:off x="1833480" y="2493720"/>
                  <a:ext cx="388944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luetooth</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IGnal Newsletter:  The schedule for future IEEE column inserts is on hold.  </a:t>
                  </a:r>
                  <a:r>
                    <a:rPr b="1" lang="en-US" sz="1400" spc="-1" strike="noStrike">
                      <a:solidFill>
                        <a:srgbClr val="000000"/>
                      </a:solidFill>
                      <a:latin typeface="Arial"/>
                      <a:ea typeface="Arial"/>
                    </a:rPr>
                    <a:t>Action Item:  MC to advise on stat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
                <p:cNvSpPr/>
                <p:nvPr/>
              </p:nvSpPr>
              <p:spPr>
                <a:xfrm>
                  <a:off x="1765440" y="2493720"/>
                  <a:ext cx="402588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5791320" y="2493720"/>
                <a:ext cx="1136520" cy="701640"/>
                <a:chOff x="5791320" y="2493720"/>
                <a:chExt cx="1136520" cy="701640"/>
              </a:xfrm>
            </p:grpSpPr>
            <p:sp>
              <p:nvSpPr>
                <p:cNvPr id="88" name=""/>
                <p:cNvSpPr/>
                <p:nvPr/>
              </p:nvSpPr>
              <p:spPr>
                <a:xfrm>
                  <a:off x="5859360" y="2493720"/>
                  <a:ext cx="100044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iffo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
                <p:cNvSpPr/>
                <p:nvPr/>
              </p:nvSpPr>
              <p:spPr>
                <a:xfrm>
                  <a:off x="5791320" y="2493720"/>
                  <a:ext cx="113652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6927840" y="2493720"/>
                <a:ext cx="959040" cy="701640"/>
                <a:chOff x="6927840" y="2493720"/>
                <a:chExt cx="959040" cy="701640"/>
              </a:xfrm>
            </p:grpSpPr>
            <p:sp>
              <p:nvSpPr>
                <p:cNvPr id="91" name=""/>
                <p:cNvSpPr/>
                <p:nvPr/>
              </p:nvSpPr>
              <p:spPr>
                <a:xfrm>
                  <a:off x="6996240" y="2493720"/>
                  <a:ext cx="82224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Still ongo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 name=""/>
                <p:cNvSpPr/>
                <p:nvPr/>
              </p:nvSpPr>
              <p:spPr>
                <a:xfrm>
                  <a:off x="6927840" y="2493720"/>
                  <a:ext cx="959040" cy="70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1258920" y="3195360"/>
                <a:ext cx="506520" cy="914400"/>
                <a:chOff x="1258920" y="3195360"/>
                <a:chExt cx="506520" cy="914400"/>
              </a:xfrm>
            </p:grpSpPr>
            <p:sp>
              <p:nvSpPr>
                <p:cNvPr id="94" name=""/>
                <p:cNvSpPr/>
                <p:nvPr/>
              </p:nvSpPr>
              <p:spPr>
                <a:xfrm>
                  <a:off x="1327320" y="3195360"/>
                  <a:ext cx="36972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 name=""/>
                <p:cNvSpPr/>
                <p:nvPr/>
              </p:nvSpPr>
              <p:spPr>
                <a:xfrm>
                  <a:off x="1258920" y="3195360"/>
                  <a:ext cx="506520" cy="91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1765440" y="3195360"/>
                <a:ext cx="4025880" cy="914400"/>
                <a:chOff x="1765440" y="3195360"/>
                <a:chExt cx="4025880" cy="914400"/>
              </a:xfrm>
            </p:grpSpPr>
            <p:sp>
              <p:nvSpPr>
                <p:cNvPr id="97" name=""/>
                <p:cNvSpPr/>
                <p:nvPr/>
              </p:nvSpPr>
              <p:spPr>
                <a:xfrm>
                  <a:off x="1833480" y="3195360"/>
                  <a:ext cx="38894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02.15 website: displayed the new format (look and feel) for this site as well as next steps.  </a:t>
                  </a:r>
                  <a:r>
                    <a:rPr b="1" lang="en-US" sz="1400" spc="-1" strike="noStrike">
                      <a:solidFill>
                        <a:srgbClr val="000000"/>
                      </a:solidFill>
                      <a:latin typeface="Arial"/>
                      <a:ea typeface="Arial"/>
                    </a:rPr>
                    <a:t>Action Item:  MC to advise on stat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1765440" y="3195360"/>
                  <a:ext cx="4025880" cy="91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5791320" y="3195360"/>
                <a:ext cx="1136520" cy="914400"/>
                <a:chOff x="5791320" y="3195360"/>
                <a:chExt cx="1136520" cy="914400"/>
              </a:xfrm>
            </p:grpSpPr>
            <p:sp>
              <p:nvSpPr>
                <p:cNvPr id="100" name=""/>
                <p:cNvSpPr/>
                <p:nvPr/>
              </p:nvSpPr>
              <p:spPr>
                <a:xfrm>
                  <a:off x="5859360" y="3195360"/>
                  <a:ext cx="10004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iffo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
                <p:cNvSpPr/>
                <p:nvPr/>
              </p:nvSpPr>
              <p:spPr>
                <a:xfrm>
                  <a:off x="5791320" y="3195360"/>
                  <a:ext cx="1136520" cy="91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6927840" y="3195360"/>
                <a:ext cx="959040" cy="914400"/>
                <a:chOff x="6927840" y="3195360"/>
                <a:chExt cx="959040" cy="914400"/>
              </a:xfrm>
            </p:grpSpPr>
            <p:sp>
              <p:nvSpPr>
                <p:cNvPr id="103" name=""/>
                <p:cNvSpPr/>
                <p:nvPr/>
              </p:nvSpPr>
              <p:spPr>
                <a:xfrm>
                  <a:off x="6996240" y="3195360"/>
                  <a:ext cx="8222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Waiting on MC input</a:t>
                  </a:r>
                  <a:endParaRPr b="0" lang="en-US" sz="1400" spc="-1" strike="noStrike">
                    <a:solidFill>
                      <a:srgbClr val="000000"/>
                    </a:solidFill>
                    <a:latin typeface="Times New Roman"/>
                  </a:endParaRPr>
                </a:p>
              </p:txBody>
            </p:sp>
            <p:sp>
              <p:nvSpPr>
                <p:cNvPr id="104" name=""/>
                <p:cNvSpPr/>
                <p:nvPr/>
              </p:nvSpPr>
              <p:spPr>
                <a:xfrm>
                  <a:off x="6927840" y="3195360"/>
                  <a:ext cx="959040" cy="91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1258920" y="4109760"/>
                <a:ext cx="506520" cy="762120"/>
                <a:chOff x="1258920" y="4109760"/>
                <a:chExt cx="506520" cy="762120"/>
              </a:xfrm>
            </p:grpSpPr>
            <p:sp>
              <p:nvSpPr>
                <p:cNvPr id="106" name=""/>
                <p:cNvSpPr/>
                <p:nvPr/>
              </p:nvSpPr>
              <p:spPr>
                <a:xfrm>
                  <a:off x="1327320" y="4109760"/>
                  <a:ext cx="3697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
                <p:cNvSpPr/>
                <p:nvPr/>
              </p:nvSpPr>
              <p:spPr>
                <a:xfrm>
                  <a:off x="1258920" y="4109760"/>
                  <a:ext cx="5065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1765440" y="4109760"/>
                <a:ext cx="4025880" cy="762120"/>
                <a:chOff x="1765440" y="4109760"/>
                <a:chExt cx="4025880" cy="762120"/>
              </a:xfrm>
            </p:grpSpPr>
            <p:sp>
              <p:nvSpPr>
                <p:cNvPr id="109" name=""/>
                <p:cNvSpPr/>
                <p:nvPr/>
              </p:nvSpPr>
              <p:spPr>
                <a:xfrm>
                  <a:off x="1833480" y="4109760"/>
                  <a:ext cx="38894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ss kit:  </a:t>
                  </a:r>
                  <a:r>
                    <a:rPr b="1" lang="en-US" sz="1400" spc="-1" strike="noStrike">
                      <a:solidFill>
                        <a:srgbClr val="000000"/>
                      </a:solidFill>
                      <a:latin typeface="Arial"/>
                      <a:ea typeface="Arial"/>
                    </a:rPr>
                    <a:t>Action Item: MC to make sure that all marketing information is current and available as a press k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
                <p:cNvSpPr/>
                <p:nvPr/>
              </p:nvSpPr>
              <p:spPr>
                <a:xfrm>
                  <a:off x="1765440" y="4109760"/>
                  <a:ext cx="40258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791320" y="4109760"/>
                <a:ext cx="1136520" cy="762120"/>
                <a:chOff x="5791320" y="4109760"/>
                <a:chExt cx="1136520" cy="762120"/>
              </a:xfrm>
            </p:grpSpPr>
            <p:sp>
              <p:nvSpPr>
                <p:cNvPr id="112" name=""/>
                <p:cNvSpPr/>
                <p:nvPr/>
              </p:nvSpPr>
              <p:spPr>
                <a:xfrm>
                  <a:off x="5859360" y="4109760"/>
                  <a:ext cx="10004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457200"/>
                      <a:tab algn="ctr" pos="2743200"/>
                      <a:tab algn="r" pos="5486400"/>
                      <a:tab algn="l" pos="6400800"/>
                      <a:tab algn="l" pos="7315200"/>
                      <a:tab algn="l" pos="8229600"/>
                      <a:tab algn="l" pos="9144000"/>
                      <a:tab algn="l" pos="10058400"/>
                    </a:tabLst>
                  </a:pPr>
                  <a:r>
                    <a:rPr b="0" lang="en-US" sz="1400" spc="-1" strike="noStrike">
                      <a:solidFill>
                        <a:srgbClr val="000000"/>
                      </a:solidFill>
                      <a:latin typeface="Arial"/>
                      <a:ea typeface="Arial"/>
                    </a:rPr>
                    <a:t>Gifford</a:t>
                  </a:r>
                  <a:endParaRPr b="0" lang="en-US" sz="1400" spc="-1" strike="noStrike">
                    <a:solidFill>
                      <a:srgbClr val="000000"/>
                    </a:solidFill>
                    <a:latin typeface="Times New Roman"/>
                  </a:endParaRPr>
                </a:p>
                <a:p>
                  <a:pPr>
                    <a:lnSpc>
                      <a:spcPct val="100000"/>
                    </a:lnSpc>
                    <a:tabLst>
                      <a:tab algn="l" pos="0"/>
                      <a:tab algn="r" pos="457200"/>
                      <a:tab algn="ctr" pos="2743200"/>
                      <a:tab algn="r"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a:off x="5791320" y="4109760"/>
                  <a:ext cx="11365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6927840" y="4109760"/>
                <a:ext cx="959040" cy="762120"/>
                <a:chOff x="6927840" y="4109760"/>
                <a:chExt cx="959040" cy="762120"/>
              </a:xfrm>
            </p:grpSpPr>
            <p:sp>
              <p:nvSpPr>
                <p:cNvPr id="115" name=""/>
                <p:cNvSpPr/>
                <p:nvPr/>
              </p:nvSpPr>
              <p:spPr>
                <a:xfrm>
                  <a:off x="6996240" y="4109760"/>
                  <a:ext cx="8222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Still ongo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6927840" y="4109760"/>
                  <a:ext cx="9590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1258920" y="4871880"/>
                <a:ext cx="506520" cy="1371600"/>
                <a:chOff x="1258920" y="4871880"/>
                <a:chExt cx="506520" cy="1371600"/>
              </a:xfrm>
            </p:grpSpPr>
            <p:sp>
              <p:nvSpPr>
                <p:cNvPr id="118" name=""/>
                <p:cNvSpPr/>
                <p:nvPr/>
              </p:nvSpPr>
              <p:spPr>
                <a:xfrm>
                  <a:off x="1327320" y="4871880"/>
                  <a:ext cx="3697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 name=""/>
                <p:cNvSpPr/>
                <p:nvPr/>
              </p:nvSpPr>
              <p:spPr>
                <a:xfrm>
                  <a:off x="1258920" y="4871880"/>
                  <a:ext cx="506520" cy="137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1765440" y="4871880"/>
                <a:ext cx="4025880" cy="1371600"/>
                <a:chOff x="1765440" y="4871880"/>
                <a:chExt cx="4025880" cy="1371600"/>
              </a:xfrm>
            </p:grpSpPr>
            <p:sp>
              <p:nvSpPr>
                <p:cNvPr id="121" name=""/>
                <p:cNvSpPr/>
                <p:nvPr/>
              </p:nvSpPr>
              <p:spPr>
                <a:xfrm>
                  <a:off x="1833480" y="4871880"/>
                  <a:ext cx="388944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a:t>
                  </a:r>
                  <a:r>
                    <a:rPr b="1" i="1" lang="en-US" sz="1400" spc="-1" strike="noStrike">
                      <a:solidFill>
                        <a:srgbClr val="000000"/>
                      </a:solidFill>
                      <a:latin typeface="Arial"/>
                      <a:ea typeface="Arial"/>
                    </a:rPr>
                    <a:t>An IEEE Guide: How to Find What You Need in the Bluetooth Specification”, </a:t>
                  </a:r>
                  <a:r>
                    <a:rPr b="1" i="1" lang="en-US" sz="1400" spc="-1" strike="noStrike">
                      <a:solidFill>
                        <a:srgbClr val="ff0000"/>
                      </a:solidFill>
                      <a:latin typeface="Arial"/>
                      <a:ea typeface="Arial"/>
                    </a:rPr>
                    <a:t>by Thomas M. Siep, IEEE P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 name=""/>
                <p:cNvSpPr/>
                <p:nvPr/>
              </p:nvSpPr>
              <p:spPr>
                <a:xfrm>
                  <a:off x="1765440" y="4871880"/>
                  <a:ext cx="4025880" cy="137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5791320" y="4871880"/>
                <a:ext cx="1136520" cy="1371600"/>
                <a:chOff x="5791320" y="4871880"/>
                <a:chExt cx="1136520" cy="1371600"/>
              </a:xfrm>
            </p:grpSpPr>
            <p:sp>
              <p:nvSpPr>
                <p:cNvPr id="124" name=""/>
                <p:cNvSpPr/>
                <p:nvPr/>
              </p:nvSpPr>
              <p:spPr>
                <a:xfrm>
                  <a:off x="5859360" y="4871880"/>
                  <a:ext cx="100044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457200"/>
                      <a:tab algn="ctr" pos="2743200"/>
                      <a:tab algn="r" pos="5486400"/>
                      <a:tab algn="l" pos="6400800"/>
                      <a:tab algn="l" pos="7315200"/>
                      <a:tab algn="l" pos="8229600"/>
                      <a:tab algn="l" pos="9144000"/>
                      <a:tab algn="l" pos="10058400"/>
                    </a:tabLst>
                  </a:pPr>
                  <a:r>
                    <a:rPr b="0" lang="en-US" sz="1400" spc="-1" strike="noStrike">
                      <a:solidFill>
                        <a:srgbClr val="ff0000"/>
                      </a:solidFill>
                      <a:latin typeface="Arial"/>
                      <a:ea typeface="Arial"/>
                    </a:rPr>
                    <a:t>Siep/ Gifford</a:t>
                  </a:r>
                  <a:endParaRPr b="0" lang="en-US" sz="1400" spc="-1" strike="noStrike">
                    <a:solidFill>
                      <a:srgbClr val="000000"/>
                    </a:solidFill>
                    <a:latin typeface="Times New Roman"/>
                  </a:endParaRPr>
                </a:p>
                <a:p>
                  <a:pPr>
                    <a:lnSpc>
                      <a:spcPct val="100000"/>
                    </a:lnSpc>
                    <a:tabLst>
                      <a:tab algn="l" pos="0"/>
                      <a:tab algn="r" pos="457200"/>
                      <a:tab algn="ctr" pos="2743200"/>
                      <a:tab algn="r"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 name=""/>
                <p:cNvSpPr/>
                <p:nvPr/>
              </p:nvSpPr>
              <p:spPr>
                <a:xfrm>
                  <a:off x="5791320" y="4871880"/>
                  <a:ext cx="1136520" cy="137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6927840" y="4871880"/>
                <a:ext cx="959040" cy="1371600"/>
                <a:chOff x="6927840" y="4871880"/>
                <a:chExt cx="959040" cy="1371600"/>
              </a:xfrm>
            </p:grpSpPr>
            <p:sp>
              <p:nvSpPr>
                <p:cNvPr id="127" name=""/>
                <p:cNvSpPr/>
                <p:nvPr/>
              </p:nvSpPr>
              <p:spPr>
                <a:xfrm>
                  <a:off x="6996240" y="4871880"/>
                  <a:ext cx="82224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15Nov 20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
                <p:cNvSpPr/>
                <p:nvPr/>
              </p:nvSpPr>
              <p:spPr>
                <a:xfrm>
                  <a:off x="6927840" y="4871880"/>
                  <a:ext cx="959040" cy="137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9" name=""/>
            <p:cNvSpPr/>
            <p:nvPr/>
          </p:nvSpPr>
          <p:spPr>
            <a:xfrm>
              <a:off x="1254240" y="1879560"/>
              <a:ext cx="6637320" cy="4368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290520" y="1568520"/>
            <a:ext cx="326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e: </a:t>
            </a:r>
            <a:r>
              <a:rPr b="1" lang="en-US" sz="1600" spc="-1" strike="noStrike">
                <a:solidFill>
                  <a:srgbClr val="ff0000"/>
                </a:solidFill>
                <a:latin typeface="Times New Roman"/>
              </a:rPr>
              <a:t>RED</a:t>
            </a:r>
            <a:r>
              <a:rPr b="1" lang="en-US" sz="1600" spc="-1" strike="noStrike">
                <a:solidFill>
                  <a:srgbClr val="000000"/>
                </a:solidFill>
                <a:latin typeface="Times New Roman"/>
              </a:rPr>
              <a:t> MEANS 6NOV00 EDI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4CCFC625-EF66-4C7B-90DE-46FD7788E4A2}" type="slidenum">
              <a:t>7</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standing Action Items (cont.)</a:t>
            </a:r>
            <a:endParaRPr b="0" lang="en-US" sz="3600" spc="-1" strike="noStrike">
              <a:solidFill>
                <a:srgbClr val="000000"/>
              </a:solidFill>
              <a:latin typeface="Times New Roman"/>
            </a:endParaRPr>
          </a:p>
        </p:txBody>
      </p:sp>
      <p:grpSp>
        <p:nvGrpSpPr>
          <p:cNvPr id="132" name=""/>
          <p:cNvGrpSpPr/>
          <p:nvPr/>
        </p:nvGrpSpPr>
        <p:grpSpPr>
          <a:xfrm>
            <a:off x="1254240" y="2124000"/>
            <a:ext cx="6637320" cy="3514680"/>
            <a:chOff x="1254240" y="2124000"/>
            <a:chExt cx="6637320" cy="3514680"/>
          </a:xfrm>
        </p:grpSpPr>
        <p:grpSp>
          <p:nvGrpSpPr>
            <p:cNvPr id="133" name=""/>
            <p:cNvGrpSpPr/>
            <p:nvPr/>
          </p:nvGrpSpPr>
          <p:grpSpPr>
            <a:xfrm>
              <a:off x="1258920" y="2128680"/>
              <a:ext cx="6627960" cy="3505320"/>
              <a:chOff x="1258920" y="2128680"/>
              <a:chExt cx="6627960" cy="3505320"/>
            </a:xfrm>
          </p:grpSpPr>
          <p:grpSp>
            <p:nvGrpSpPr>
              <p:cNvPr id="134" name=""/>
              <p:cNvGrpSpPr/>
              <p:nvPr/>
            </p:nvGrpSpPr>
            <p:grpSpPr>
              <a:xfrm>
                <a:off x="1258920" y="2128680"/>
                <a:ext cx="506520" cy="914400"/>
                <a:chOff x="1258920" y="2128680"/>
                <a:chExt cx="506520" cy="914400"/>
              </a:xfrm>
            </p:grpSpPr>
            <p:sp>
              <p:nvSpPr>
                <p:cNvPr id="135" name=""/>
                <p:cNvSpPr/>
                <p:nvPr/>
              </p:nvSpPr>
              <p:spPr>
                <a:xfrm>
                  <a:off x="1327320" y="2128680"/>
                  <a:ext cx="36972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457200"/>
                      <a:tab algn="ctr" pos="2743200"/>
                      <a:tab algn="r"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Times New Roman"/>
                  </a:endParaRPr>
                </a:p>
                <a:p>
                  <a:pPr>
                    <a:lnSpc>
                      <a:spcPct val="100000"/>
                    </a:lnSpc>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258920" y="2128680"/>
                  <a:ext cx="506520" cy="91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1765440" y="2128680"/>
                <a:ext cx="4025880" cy="914400"/>
                <a:chOff x="1765440" y="2128680"/>
                <a:chExt cx="4025880" cy="914400"/>
              </a:xfrm>
            </p:grpSpPr>
            <p:sp>
              <p:nvSpPr>
                <p:cNvPr id="138" name=""/>
                <p:cNvSpPr/>
                <p:nvPr/>
              </p:nvSpPr>
              <p:spPr>
                <a:xfrm>
                  <a:off x="1833480" y="2128680"/>
                  <a:ext cx="38894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IEEE 802.15.1 Handbook, A Designer’s Companion”. This collateral is still in author/publisher review   </a:t>
                  </a:r>
                  <a:r>
                    <a:rPr b="1" lang="en-US" sz="1200" spc="-1" strike="noStrike">
                      <a:solidFill>
                        <a:srgbClr val="000000"/>
                      </a:solidFill>
                      <a:latin typeface="Arial"/>
                      <a:ea typeface="Arial"/>
                    </a:rPr>
                    <a:t>Action Item:  </a:t>
                  </a:r>
                  <a:r>
                    <a:rPr b="1" lang="en-US" sz="1200" spc="-1" strike="noStrike">
                      <a:solidFill>
                        <a:srgbClr val="ff0000"/>
                      </a:solidFill>
                      <a:latin typeface="Arial"/>
                      <a:ea typeface="Arial"/>
                    </a:rPr>
                    <a:t>Author’s</a:t>
                  </a:r>
                  <a:r>
                    <a:rPr b="1" lang="en-US" sz="1200" spc="-1" strike="noStrike">
                      <a:solidFill>
                        <a:srgbClr val="000000"/>
                      </a:solidFill>
                      <a:latin typeface="Arial"/>
                      <a:ea typeface="Arial"/>
                    </a:rPr>
                    <a:t> to advise on manuscript &amp; contract stat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
                <p:cNvSpPr/>
                <p:nvPr/>
              </p:nvSpPr>
              <p:spPr>
                <a:xfrm>
                  <a:off x="1765440" y="2128680"/>
                  <a:ext cx="4025880" cy="91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791320" y="2128680"/>
                <a:ext cx="1136520" cy="914400"/>
                <a:chOff x="5791320" y="2128680"/>
                <a:chExt cx="1136520" cy="914400"/>
              </a:xfrm>
            </p:grpSpPr>
            <p:sp>
              <p:nvSpPr>
                <p:cNvPr id="141" name=""/>
                <p:cNvSpPr/>
                <p:nvPr/>
              </p:nvSpPr>
              <p:spPr>
                <a:xfrm>
                  <a:off x="5859360" y="2128680"/>
                  <a:ext cx="10004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ifford/Sie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5791320" y="2128680"/>
                  <a:ext cx="1136520" cy="91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6927840" y="2128680"/>
                <a:ext cx="959040" cy="914400"/>
                <a:chOff x="6927840" y="2128680"/>
                <a:chExt cx="959040" cy="914400"/>
              </a:xfrm>
            </p:grpSpPr>
            <p:sp>
              <p:nvSpPr>
                <p:cNvPr id="144" name=""/>
                <p:cNvSpPr/>
                <p:nvPr/>
              </p:nvSpPr>
              <p:spPr>
                <a:xfrm>
                  <a:off x="6996240" y="2128680"/>
                  <a:ext cx="8222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Mar 2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
                <p:cNvSpPr/>
                <p:nvPr/>
              </p:nvSpPr>
              <p:spPr>
                <a:xfrm>
                  <a:off x="6927840" y="2128680"/>
                  <a:ext cx="959040" cy="91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1258920" y="3043080"/>
                <a:ext cx="506520" cy="1523880"/>
                <a:chOff x="1258920" y="3043080"/>
                <a:chExt cx="506520" cy="1523880"/>
              </a:xfrm>
            </p:grpSpPr>
            <p:sp>
              <p:nvSpPr>
                <p:cNvPr id="147" name=""/>
                <p:cNvSpPr/>
                <p:nvPr/>
              </p:nvSpPr>
              <p:spPr>
                <a:xfrm>
                  <a:off x="1327320" y="3043080"/>
                  <a:ext cx="36972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258920" y="3043080"/>
                  <a:ext cx="506520" cy="152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1765440" y="3043080"/>
                <a:ext cx="4025880" cy="1523880"/>
                <a:chOff x="1765440" y="3043080"/>
                <a:chExt cx="4025880" cy="1523880"/>
              </a:xfrm>
            </p:grpSpPr>
            <p:sp>
              <p:nvSpPr>
                <p:cNvPr id="150" name=""/>
                <p:cNvSpPr/>
                <p:nvPr/>
              </p:nvSpPr>
              <p:spPr>
                <a:xfrm>
                  <a:off x="1833480" y="3043080"/>
                  <a:ext cx="388944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estion: IEEE testing to ensure compatibility? Reply: No, but Bluetooth is licensing third party companies to conduct these tests. Question: What about putting the IEEE logo on products? Reply: In the past the IEEE's logo hasn't been allowed on products.  Comment: Bluetooth testing also includes profiles which are above the MAC layer.  </a:t>
                  </a:r>
                  <a:r>
                    <a:rPr b="1" lang="en-US" sz="1200" spc="-1" strike="noStrike">
                      <a:solidFill>
                        <a:srgbClr val="ff0000"/>
                      </a:solidFill>
                      <a:latin typeface="Arial"/>
                      <a:ea typeface="Arial"/>
                    </a:rPr>
                    <a:t>Action Item: MC to investigate this further and clarify the ques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1765440" y="3043080"/>
                  <a:ext cx="4025880" cy="152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5791320" y="3043080"/>
                <a:ext cx="1136520" cy="1523880"/>
                <a:chOff x="5791320" y="3043080"/>
                <a:chExt cx="1136520" cy="1523880"/>
              </a:xfrm>
            </p:grpSpPr>
            <p:sp>
              <p:nvSpPr>
                <p:cNvPr id="153" name=""/>
                <p:cNvSpPr/>
                <p:nvPr/>
              </p:nvSpPr>
              <p:spPr>
                <a:xfrm>
                  <a:off x="5859360" y="3043080"/>
                  <a:ext cx="100044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iffo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5791320" y="3043080"/>
                  <a:ext cx="1136520" cy="152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6927840" y="3043080"/>
                <a:ext cx="959040" cy="1523880"/>
                <a:chOff x="6927840" y="3043080"/>
                <a:chExt cx="959040" cy="1523880"/>
              </a:xfrm>
            </p:grpSpPr>
            <p:sp>
              <p:nvSpPr>
                <p:cNvPr id="156" name=""/>
                <p:cNvSpPr/>
                <p:nvPr/>
              </p:nvSpPr>
              <p:spPr>
                <a:xfrm>
                  <a:off x="6996240" y="3043080"/>
                  <a:ext cx="82224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6927840" y="3043080"/>
                  <a:ext cx="959040" cy="152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1258920" y="4566960"/>
                <a:ext cx="506520" cy="1067040"/>
                <a:chOff x="1258920" y="4566960"/>
                <a:chExt cx="506520" cy="1067040"/>
              </a:xfrm>
            </p:grpSpPr>
            <p:sp>
              <p:nvSpPr>
                <p:cNvPr id="159" name=""/>
                <p:cNvSpPr/>
                <p:nvPr/>
              </p:nvSpPr>
              <p:spPr>
                <a:xfrm>
                  <a:off x="1327320" y="4566960"/>
                  <a:ext cx="36972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1258920" y="4566960"/>
                  <a:ext cx="506520" cy="106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1765440" y="4566960"/>
                <a:ext cx="4025880" cy="1067040"/>
                <a:chOff x="1765440" y="4566960"/>
                <a:chExt cx="4025880" cy="1067040"/>
              </a:xfrm>
            </p:grpSpPr>
            <p:sp>
              <p:nvSpPr>
                <p:cNvPr id="162" name=""/>
                <p:cNvSpPr/>
                <p:nvPr/>
              </p:nvSpPr>
              <p:spPr>
                <a:xfrm>
                  <a:off x="1833480" y="4566960"/>
                  <a:ext cx="388944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C chair talked to the status on the WPAN trademark and URL effort IEEE has registered 802.15.  </a:t>
                  </a:r>
                  <a:r>
                    <a:rPr b="1" lang="en-US" sz="1200" spc="-1" strike="noStrike">
                      <a:solidFill>
                        <a:srgbClr val="000000"/>
                      </a:solidFill>
                      <a:latin typeface="Arial"/>
                      <a:ea typeface="Arial"/>
                    </a:rPr>
                    <a:t>Action Item: MC to submit protest to internic.com concerning the use of WPAN as a domain names by other concer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765440" y="4566960"/>
                  <a:ext cx="4025880" cy="106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5791320" y="4566960"/>
                <a:ext cx="1136520" cy="1067040"/>
                <a:chOff x="5791320" y="4566960"/>
                <a:chExt cx="1136520" cy="1067040"/>
              </a:xfrm>
            </p:grpSpPr>
            <p:sp>
              <p:nvSpPr>
                <p:cNvPr id="165" name=""/>
                <p:cNvSpPr/>
                <p:nvPr/>
              </p:nvSpPr>
              <p:spPr>
                <a:xfrm>
                  <a:off x="5859360" y="4566960"/>
                  <a:ext cx="100044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iffo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5791320" y="4566960"/>
                  <a:ext cx="1136520" cy="106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6927840" y="4566960"/>
                <a:ext cx="959040" cy="1067040"/>
                <a:chOff x="6927840" y="4566960"/>
                <a:chExt cx="959040" cy="1067040"/>
              </a:xfrm>
            </p:grpSpPr>
            <p:sp>
              <p:nvSpPr>
                <p:cNvPr id="168" name=""/>
                <p:cNvSpPr/>
                <p:nvPr/>
              </p:nvSpPr>
              <p:spPr>
                <a:xfrm>
                  <a:off x="6996240" y="4566960"/>
                  <a:ext cx="82224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
                <p:cNvSpPr/>
                <p:nvPr/>
              </p:nvSpPr>
              <p:spPr>
                <a:xfrm>
                  <a:off x="6927840" y="4566960"/>
                  <a:ext cx="959040" cy="106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0" name=""/>
            <p:cNvSpPr/>
            <p:nvPr/>
          </p:nvSpPr>
          <p:spPr>
            <a:xfrm>
              <a:off x="1254240" y="2124000"/>
              <a:ext cx="6637320" cy="3514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6F315CF1-6E00-49B8-B3E3-8BDA7B0E013C}" type="slidenum">
              <a:t>8</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standing Action Items (cont.)</a:t>
            </a:r>
            <a:endParaRPr b="0" lang="en-US" sz="3600" spc="-1" strike="noStrike">
              <a:solidFill>
                <a:srgbClr val="000000"/>
              </a:solidFill>
              <a:latin typeface="Times New Roman"/>
            </a:endParaRPr>
          </a:p>
        </p:txBody>
      </p:sp>
      <p:grpSp>
        <p:nvGrpSpPr>
          <p:cNvPr id="172" name=""/>
          <p:cNvGrpSpPr/>
          <p:nvPr/>
        </p:nvGrpSpPr>
        <p:grpSpPr>
          <a:xfrm>
            <a:off x="1254240" y="2505240"/>
            <a:ext cx="6637320" cy="3209760"/>
            <a:chOff x="1254240" y="2505240"/>
            <a:chExt cx="6637320" cy="3209760"/>
          </a:xfrm>
        </p:grpSpPr>
        <p:grpSp>
          <p:nvGrpSpPr>
            <p:cNvPr id="173" name=""/>
            <p:cNvGrpSpPr/>
            <p:nvPr/>
          </p:nvGrpSpPr>
          <p:grpSpPr>
            <a:xfrm>
              <a:off x="1258920" y="2509920"/>
              <a:ext cx="6627960" cy="3200400"/>
              <a:chOff x="1258920" y="2509920"/>
              <a:chExt cx="6627960" cy="3200400"/>
            </a:xfrm>
          </p:grpSpPr>
          <p:grpSp>
            <p:nvGrpSpPr>
              <p:cNvPr id="174" name=""/>
              <p:cNvGrpSpPr/>
              <p:nvPr/>
            </p:nvGrpSpPr>
            <p:grpSpPr>
              <a:xfrm>
                <a:off x="1258920" y="2509920"/>
                <a:ext cx="506520" cy="762120"/>
                <a:chOff x="1258920" y="2509920"/>
                <a:chExt cx="506520" cy="762120"/>
              </a:xfrm>
            </p:grpSpPr>
            <p:sp>
              <p:nvSpPr>
                <p:cNvPr id="175" name=""/>
                <p:cNvSpPr/>
                <p:nvPr/>
              </p:nvSpPr>
              <p:spPr>
                <a:xfrm>
                  <a:off x="1327320" y="2509920"/>
                  <a:ext cx="3697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258920" y="2509920"/>
                  <a:ext cx="5065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1765440" y="2509920"/>
                <a:ext cx="4025880" cy="762120"/>
                <a:chOff x="1765440" y="2509920"/>
                <a:chExt cx="4025880" cy="762120"/>
              </a:xfrm>
            </p:grpSpPr>
            <p:sp>
              <p:nvSpPr>
                <p:cNvPr id="178" name=""/>
                <p:cNvSpPr/>
                <p:nvPr/>
              </p:nvSpPr>
              <p:spPr>
                <a:xfrm>
                  <a:off x="1833480" y="2509920"/>
                  <a:ext cx="38894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ction Item: MC to update templates and webpage with notices on use of the trademark of the term WP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
                <p:cNvSpPr/>
                <p:nvPr/>
              </p:nvSpPr>
              <p:spPr>
                <a:xfrm>
                  <a:off x="1765440" y="2509920"/>
                  <a:ext cx="40258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5791320" y="2509920"/>
                <a:ext cx="1136520" cy="762120"/>
                <a:chOff x="5791320" y="2509920"/>
                <a:chExt cx="1136520" cy="762120"/>
              </a:xfrm>
            </p:grpSpPr>
            <p:sp>
              <p:nvSpPr>
                <p:cNvPr id="181" name=""/>
                <p:cNvSpPr/>
                <p:nvPr/>
              </p:nvSpPr>
              <p:spPr>
                <a:xfrm>
                  <a:off x="5859360" y="2509920"/>
                  <a:ext cx="10004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iffo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5791320" y="2509920"/>
                  <a:ext cx="11365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6927840" y="2509920"/>
                <a:ext cx="959040" cy="762120"/>
                <a:chOff x="6927840" y="2509920"/>
                <a:chExt cx="959040" cy="762120"/>
              </a:xfrm>
            </p:grpSpPr>
            <p:sp>
              <p:nvSpPr>
                <p:cNvPr id="184" name=""/>
                <p:cNvSpPr/>
                <p:nvPr/>
              </p:nvSpPr>
              <p:spPr>
                <a:xfrm>
                  <a:off x="6996240" y="2509920"/>
                  <a:ext cx="82224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Done</a:t>
                  </a:r>
                  <a:endParaRPr b="0" lang="en-US" sz="1200" spc="-1" strike="noStrike">
                    <a:solidFill>
                      <a:srgbClr val="000000"/>
                    </a:solidFill>
                    <a:latin typeface="Times New Roman"/>
                  </a:endParaRPr>
                </a:p>
              </p:txBody>
            </p:sp>
            <p:sp>
              <p:nvSpPr>
                <p:cNvPr id="185" name=""/>
                <p:cNvSpPr/>
                <p:nvPr/>
              </p:nvSpPr>
              <p:spPr>
                <a:xfrm>
                  <a:off x="6927840" y="2509920"/>
                  <a:ext cx="9590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1258920" y="3272040"/>
                <a:ext cx="506520" cy="1371600"/>
                <a:chOff x="1258920" y="3272040"/>
                <a:chExt cx="506520" cy="1371600"/>
              </a:xfrm>
            </p:grpSpPr>
            <p:sp>
              <p:nvSpPr>
                <p:cNvPr id="187" name=""/>
                <p:cNvSpPr/>
                <p:nvPr/>
              </p:nvSpPr>
              <p:spPr>
                <a:xfrm>
                  <a:off x="1327320" y="3272040"/>
                  <a:ext cx="3697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1258920" y="3272040"/>
                  <a:ext cx="506520" cy="137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1765440" y="3272040"/>
                <a:ext cx="4025880" cy="1371600"/>
                <a:chOff x="1765440" y="3272040"/>
                <a:chExt cx="4025880" cy="1371600"/>
              </a:xfrm>
            </p:grpSpPr>
            <p:sp>
              <p:nvSpPr>
                <p:cNvPr id="190" name=""/>
                <p:cNvSpPr/>
                <p:nvPr/>
              </p:nvSpPr>
              <p:spPr>
                <a:xfrm>
                  <a:off x="1833480" y="3272040"/>
                  <a:ext cx="388944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new IEEE Wireless Standards Zone </a:t>
                  </a:r>
                  <a:r>
                    <a:rPr b="0" lang="en-US" sz="1200" spc="-1" strike="noStrike" u="sng">
                      <a:solidFill>
                        <a:srgbClr val="ccccff"/>
                      </a:solidFill>
                      <a:uFillTx/>
                      <a:latin typeface="Arial"/>
                      <a:ea typeface="Arial"/>
                      <a:hlinkClick r:id="rId1"/>
                    </a:rPr>
                    <a:t>http://standards.</a:t>
                  </a:r>
                  <a:r>
                    <a:rPr b="0" lang="en-US" sz="1200" spc="-1" strike="noStrike" u="sng">
                      <a:solidFill>
                        <a:srgbClr val="ccccff"/>
                      </a:solidFill>
                      <a:uFillTx/>
                      <a:latin typeface="Arial"/>
                      <a:ea typeface="Arial"/>
                      <a:hlinkClick r:id="rId2"/>
                    </a:rPr>
                    <a:t>ieee</a:t>
                  </a:r>
                  <a:r>
                    <a:rPr b="0" lang="en-US" sz="1200" spc="-1" strike="noStrike" u="sng">
                      <a:solidFill>
                        <a:srgbClr val="ccccff"/>
                      </a:solidFill>
                      <a:uFillTx/>
                      <a:latin typeface="Arial"/>
                      <a:ea typeface="Arial"/>
                      <a:hlinkClick r:id="rId3"/>
                    </a:rPr>
                    <a:t>.org/wireless/index.html</a:t>
                  </a:r>
                  <a:r>
                    <a:rPr b="0" lang="en-US" sz="1200" spc="-1" strike="noStrike">
                      <a:solidFill>
                        <a:srgbClr val="000000"/>
                      </a:solidFill>
                      <a:latin typeface="Arial"/>
                      <a:ea typeface="Arial"/>
                    </a:rPr>
                    <a:t>  was profiled.  The Doc Master is Markus Plessel, Standards Marketing Administrator, +1 732 562 3989, </a:t>
                  </a:r>
                  <a:r>
                    <a:rPr b="0" lang="en-US" sz="1200" spc="-1" strike="noStrike" u="sng">
                      <a:solidFill>
                        <a:srgbClr val="ccccff"/>
                      </a:solidFill>
                      <a:uFillTx/>
                      <a:latin typeface="Arial"/>
                      <a:ea typeface="Arial"/>
                      <a:hlinkClick r:id="rId4"/>
                    </a:rPr>
                    <a:t>m.</a:t>
                  </a:r>
                  <a:r>
                    <a:rPr b="0" lang="en-US" sz="1200" spc="-1" strike="noStrike" u="sng">
                      <a:solidFill>
                        <a:srgbClr val="ccccff"/>
                      </a:solidFill>
                      <a:uFillTx/>
                      <a:latin typeface="Arial"/>
                      <a:ea typeface="Arial"/>
                      <a:hlinkClick r:id="rId5"/>
                    </a:rPr>
                    <a:t>plessel</a:t>
                  </a:r>
                  <a:r>
                    <a:rPr b="0" lang="en-US" sz="1200" spc="-1" strike="noStrike" u="sng">
                      <a:solidFill>
                        <a:srgbClr val="ccccff"/>
                      </a:solidFill>
                      <a:uFillTx/>
                      <a:latin typeface="Arial"/>
                      <a:ea typeface="Arial"/>
                      <a:hlinkClick r:id="rId6"/>
                    </a:rPr>
                    <a:t>@</a:t>
                  </a:r>
                  <a:r>
                    <a:rPr b="0" lang="en-US" sz="1200" spc="-1" strike="noStrike" u="sng">
                      <a:solidFill>
                        <a:srgbClr val="ccccff"/>
                      </a:solidFill>
                      <a:uFillTx/>
                      <a:latin typeface="Arial"/>
                      <a:ea typeface="Arial"/>
                      <a:hlinkClick r:id="rId7"/>
                    </a:rPr>
                    <a:t>ieee</a:t>
                  </a:r>
                  <a:r>
                    <a:rPr b="0" lang="en-US" sz="1200" spc="-1" strike="noStrike" u="sng">
                      <a:solidFill>
                        <a:srgbClr val="ccccff"/>
                      </a:solidFill>
                      <a:uFillTx/>
                      <a:latin typeface="Arial"/>
                      <a:ea typeface="Arial"/>
                      <a:hlinkClick r:id="rId8"/>
                    </a:rPr>
                    <a:t>.org</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ction Item:  Identify how to manage i.e., meaning “push” from 802.11/802.15 to this new IEEE-SA Web MARCOM Re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1765440" y="3272040"/>
                  <a:ext cx="4025880" cy="137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5791320" y="3272040"/>
                <a:ext cx="1136520" cy="1371600"/>
                <a:chOff x="5791320" y="3272040"/>
                <a:chExt cx="1136520" cy="1371600"/>
              </a:xfrm>
            </p:grpSpPr>
            <p:sp>
              <p:nvSpPr>
                <p:cNvPr id="193" name=""/>
                <p:cNvSpPr/>
                <p:nvPr/>
              </p:nvSpPr>
              <p:spPr>
                <a:xfrm>
                  <a:off x="5859360" y="3272040"/>
                  <a:ext cx="100044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iffo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5791320" y="3272040"/>
                  <a:ext cx="1136520" cy="137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6927840" y="3272040"/>
                <a:ext cx="959040" cy="1371600"/>
                <a:chOff x="6927840" y="3272040"/>
                <a:chExt cx="959040" cy="1371600"/>
              </a:xfrm>
            </p:grpSpPr>
            <p:sp>
              <p:nvSpPr>
                <p:cNvPr id="196" name=""/>
                <p:cNvSpPr/>
                <p:nvPr/>
              </p:nvSpPr>
              <p:spPr>
                <a:xfrm>
                  <a:off x="6996240" y="3272040"/>
                  <a:ext cx="82224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Done</a:t>
                  </a:r>
                  <a:endParaRPr b="0" lang="en-US" sz="1200" spc="-1" strike="noStrike">
                    <a:solidFill>
                      <a:srgbClr val="000000"/>
                    </a:solidFill>
                    <a:latin typeface="Times New Roman"/>
                  </a:endParaRPr>
                </a:p>
              </p:txBody>
            </p:sp>
            <p:sp>
              <p:nvSpPr>
                <p:cNvPr id="197" name=""/>
                <p:cNvSpPr/>
                <p:nvPr/>
              </p:nvSpPr>
              <p:spPr>
                <a:xfrm>
                  <a:off x="6927840" y="3272040"/>
                  <a:ext cx="959040" cy="137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1258920" y="4643640"/>
                <a:ext cx="506520" cy="1066680"/>
                <a:chOff x="1258920" y="4643640"/>
                <a:chExt cx="506520" cy="1066680"/>
              </a:xfrm>
            </p:grpSpPr>
            <p:sp>
              <p:nvSpPr>
                <p:cNvPr id="199" name=""/>
                <p:cNvSpPr/>
                <p:nvPr/>
              </p:nvSpPr>
              <p:spPr>
                <a:xfrm>
                  <a:off x="1327320" y="4643640"/>
                  <a:ext cx="36972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1258920" y="4643640"/>
                  <a:ext cx="506520" cy="106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1765440" y="4643640"/>
                <a:ext cx="4025880" cy="1066680"/>
                <a:chOff x="1765440" y="4643640"/>
                <a:chExt cx="4025880" cy="1066680"/>
              </a:xfrm>
            </p:grpSpPr>
            <p:sp>
              <p:nvSpPr>
                <p:cNvPr id="202" name=""/>
                <p:cNvSpPr/>
                <p:nvPr/>
              </p:nvSpPr>
              <p:spPr>
                <a:xfrm>
                  <a:off x="1833480" y="4643640"/>
                  <a:ext cx="388944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cting Chair suggests that the single Joint MC Session be merged and that the 802.15 MC Chair consider adding a second timeslot on Monday for 802.15 preparatory work.  </a:t>
                  </a:r>
                  <a:r>
                    <a:rPr b="1" lang="en-US" sz="1200" spc="-1" strike="noStrike">
                      <a:solidFill>
                        <a:srgbClr val="000000"/>
                      </a:solidFill>
                      <a:latin typeface="Arial"/>
                      <a:ea typeface="Arial"/>
                    </a:rPr>
                    <a:t>Action Item: MC to investigate this furth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1765440" y="4643640"/>
                  <a:ext cx="4025880" cy="106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5791320" y="4643640"/>
                <a:ext cx="1136520" cy="1066680"/>
                <a:chOff x="5791320" y="4643640"/>
                <a:chExt cx="1136520" cy="1066680"/>
              </a:xfrm>
            </p:grpSpPr>
            <p:sp>
              <p:nvSpPr>
                <p:cNvPr id="205" name=""/>
                <p:cNvSpPr/>
                <p:nvPr/>
              </p:nvSpPr>
              <p:spPr>
                <a:xfrm>
                  <a:off x="5859360" y="4643640"/>
                  <a:ext cx="100044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rae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5791320" y="4643640"/>
                  <a:ext cx="1136520" cy="106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6927840" y="4643640"/>
                <a:ext cx="959040" cy="1066680"/>
                <a:chOff x="6927840" y="4643640"/>
                <a:chExt cx="959040" cy="1066680"/>
              </a:xfrm>
            </p:grpSpPr>
            <p:sp>
              <p:nvSpPr>
                <p:cNvPr id="208" name=""/>
                <p:cNvSpPr/>
                <p:nvPr/>
              </p:nvSpPr>
              <p:spPr>
                <a:xfrm>
                  <a:off x="6996240" y="4643640"/>
                  <a:ext cx="82224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Done</a:t>
                  </a:r>
                  <a:endParaRPr b="0" lang="en-US" sz="1200" spc="-1" strike="noStrike">
                    <a:solidFill>
                      <a:srgbClr val="000000"/>
                    </a:solidFill>
                    <a:latin typeface="Times New Roman"/>
                  </a:endParaRPr>
                </a:p>
              </p:txBody>
            </p:sp>
            <p:sp>
              <p:nvSpPr>
                <p:cNvPr id="209" name=""/>
                <p:cNvSpPr/>
                <p:nvPr/>
              </p:nvSpPr>
              <p:spPr>
                <a:xfrm>
                  <a:off x="6927840" y="4643640"/>
                  <a:ext cx="959040" cy="106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1254240" y="2505240"/>
              <a:ext cx="6637320" cy="3209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685800" y="3962520"/>
            <a:ext cx="7696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85800" y="2895480"/>
            <a:ext cx="7696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800" y="5181480"/>
            <a:ext cx="7696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66F22FA5-2CB1-4F63-BE29-BE2FBE328C10}" type="slidenum">
              <a:t>9</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Mr. Ian Gifford 
Director of Standards 
M/A-COM, Inc. 
1011 Pawtucket Boulevard 
Lowell, MA 01853-3295, USA 
TEL +1 978 442 4650 
FAX +1 978 442 5442 
E-M giffordi@tycoelectronics.com
</dc:description>
  <dc:language>en-US</dc:language>
  <cp:lastModifiedBy>Ian C. Gifford</cp:lastModifiedBy>
  <cp:lastPrinted>1998-02-10T13:28:06Z</cp:lastPrinted>
  <dcterms:modified xsi:type="dcterms:W3CDTF">2000-11-08T21:03:54Z</dcterms:modified>
  <cp:revision>244</cp:revision>
  <dc:subject>IEEE 802.15 MC Report</dc:subject>
  <dc:title>IEEE P802.15 Working Group for Wireless Personal Area Networks</dc:title>
</cp:coreProperties>
</file>