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ED5D2-B4B7-4788-A088-D7864500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5821-E150-49D6-A9CD-C187D54A6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791D6-7761-4761-B589-9FBEDA71B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8B5FA-90DC-451A-93A2-992D07829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1AED-4BAD-4E85-9696-F6DF6F24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A220-9F3F-446E-930D-0B38B885F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A48F-2666-465B-892C-D2ED5556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E664-9583-421B-A62C-B19BB40C7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F472B-4525-448E-9903-FE5BAEB8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1CAC-F43E-4AD0-ABBD-87281900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1F44-20C1-446C-963E-7682371F4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9F9A-62AF-4800-A16C-C1F86F4DA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2CEF83-E437-425B-BD5C-E599EFE07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a:t>
            </a:r>
            <a:r>
              <a:rPr b="0" lang="en-US" sz="1600" spc="-1" strike="noStrike">
                <a:solidFill>
                  <a:srgbClr val="000000"/>
                </a:solidFill>
                <a:latin typeface="Times New Roman"/>
              </a:rPr>
              <a:t>PHY-Subcommittee-Report-Tamp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9 Sept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P802.15-00/110r14_TG3-Criteria-Definitions]</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results of the PHY subcommittee's evaluation of the proposed physical layers for the candidate draft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ovide a summary of the PHY subcommittee's wo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A6F7931-E79C-4B35-B030-EB784084715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ings Not in Matrix (cont.)</a:t>
            </a:r>
            <a:endParaRPr b="0" lang="en-US" sz="3600" spc="-1" strike="noStrike">
              <a:solidFill>
                <a:srgbClr val="000000"/>
              </a:solidFill>
              <a:latin typeface="Arial"/>
            </a:endParaRPr>
          </a:p>
        </p:txBody>
      </p:sp>
      <p:sp>
        <p:nvSpPr>
          <p:cNvPr id="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1 Minimum MAC/PHY through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2 High End MAC/PHY throughpu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came up with more than one number for the MAC overhead, depending on the MAC/PHY combin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given in the P802.15-00/110r14 annex</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2 Delay Spread Toler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definition flawed, a new definition, with 2 criteria was develop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presented in P802.15-00/110r14 anne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570D8D8-ED09-4658-93D0-B9150EC38765}"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PHY section</a:t>
            </a:r>
            <a:endParaRPr b="0" lang="en-US" sz="3600" spc="-1" strike="noStrike">
              <a:solidFill>
                <a:srgbClr val="000000"/>
              </a:solidFill>
              <a:latin typeface="Arial"/>
            </a:endParaRPr>
          </a:p>
        </p:txBody>
      </p:sp>
      <p:graphicFrame>
        <p:nvGraphicFramePr>
          <p:cNvPr id="65" name=""/>
          <p:cNvGraphicFramePr/>
          <p:nvPr/>
        </p:nvGraphicFramePr>
        <p:xfrm>
          <a:off x="762120" y="1835280"/>
          <a:ext cx="7543800" cy="3498840"/>
        </p:xfrm>
        <a:graphic>
          <a:graphicData uri="http://schemas.openxmlformats.org/drawingml/2006/table">
            <a:tbl>
              <a:tblPr/>
              <a:tblGrid>
                <a:gridCol w="2087640"/>
                <a:gridCol w="2941560"/>
                <a:gridCol w="25146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 Size and Form Fac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Frequency Ba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5 G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D60D8BD-5F61-4F44-AAA2-22F290DF21FE}"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PHY section (cont.)</a:t>
            </a:r>
            <a:endParaRPr b="0" lang="en-US" sz="3600" spc="-1" strike="noStrike">
              <a:solidFill>
                <a:srgbClr val="000000"/>
              </a:solidFill>
              <a:latin typeface="Arial"/>
            </a:endParaRPr>
          </a:p>
        </p:txBody>
      </p:sp>
      <p:graphicFrame>
        <p:nvGraphicFramePr>
          <p:cNvPr id="67" name=""/>
          <p:cNvGraphicFramePr/>
          <p:nvPr/>
        </p:nvGraphicFramePr>
        <p:xfrm>
          <a:off x="609480" y="1717560"/>
          <a:ext cx="8077320" cy="4043520"/>
        </p:xfrm>
        <a:graphic>
          <a:graphicData uri="http://schemas.openxmlformats.org/drawingml/2006/table">
            <a:tbl>
              <a:tblPr/>
              <a:tblGrid>
                <a:gridCol w="1676520"/>
                <a:gridCol w="3352680"/>
                <a:gridCol w="1295640"/>
                <a:gridCol w="175248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Number of Simultaneously Operating Full-Throughput PA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 Ran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 Power Consump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74E38C3-B8D6-4E5D-B5C3-ED4A73C0840D}"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ex: Intermodulation Resistance</a:t>
            </a:r>
            <a:endParaRPr b="0" lang="en-US" sz="3600" spc="-1" strike="noStrike">
              <a:solidFill>
                <a:srgbClr val="000000"/>
              </a:solidFill>
              <a:latin typeface="Arial"/>
            </a:endParaRPr>
          </a:p>
        </p:txBody>
      </p:sp>
      <p:graphicFrame>
        <p:nvGraphicFramePr>
          <p:cNvPr id="69" name=""/>
          <p:cNvGraphicFramePr/>
          <p:nvPr/>
        </p:nvGraphicFramePr>
        <p:xfrm>
          <a:off x="609480" y="1717560"/>
          <a:ext cx="8001000" cy="3768840"/>
        </p:xfrm>
        <a:graphic>
          <a:graphicData uri="http://schemas.openxmlformats.org/drawingml/2006/table">
            <a:tbl>
              <a:tblPr/>
              <a:tblGrid>
                <a:gridCol w="1752840"/>
                <a:gridCol w="3657600"/>
                <a:gridCol w="25905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3 Intermodulation resistance (relative to sensitiv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 Coexistence (with 100 mW 802.15.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0AE3AD7-DC0D-428D-90C6-0F4780D68978}"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ex: Delay Spread Tolerance</a:t>
            </a:r>
            <a:endParaRPr b="0" lang="en-US" sz="3600" spc="-1" strike="noStrike">
              <a:solidFill>
                <a:srgbClr val="000000"/>
              </a:solidFill>
              <a:latin typeface="Arial"/>
            </a:endParaRPr>
          </a:p>
        </p:txBody>
      </p:sp>
      <p:graphicFrame>
        <p:nvGraphicFramePr>
          <p:cNvPr id="71" name=""/>
          <p:cNvGraphicFramePr/>
          <p:nvPr/>
        </p:nvGraphicFramePr>
        <p:xfrm>
          <a:off x="609480" y="1717560"/>
          <a:ext cx="8001000" cy="3864240"/>
        </p:xfrm>
        <a:graphic>
          <a:graphicData uri="http://schemas.openxmlformats.org/drawingml/2006/table">
            <a:tbl>
              <a:tblPr/>
              <a:tblGrid>
                <a:gridCol w="1978200"/>
                <a:gridCol w="3051000"/>
                <a:gridCol w="2971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2 Delay Spread Toleran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_RMS, 90 % of channe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_RMS, 95 % of channel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0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respo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0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0 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EA0DA8D-9C04-4857-9191-783B665BEE44}"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hancements to Proposals</a:t>
            </a:r>
            <a:endParaRPr b="0" lang="en-US" sz="36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posals provided enhanced modes to improve ra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ails were available too late for the PHY subcommittee to fully evalu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PHY subcommittee was able to come to some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932BFB-91E8-46AD-AA61-EEF0D4C18BE7}"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ments for Karaoguz</a:t>
            </a:r>
            <a:endParaRPr b="0" lang="en-US" sz="3200" spc="-1" strike="noStrike">
              <a:solidFill>
                <a:srgbClr val="000000"/>
              </a:solidFill>
              <a:latin typeface="Arial"/>
            </a:endParaRPr>
          </a:p>
        </p:txBody>
      </p:sp>
      <p:sp>
        <p:nvSpPr>
          <p:cNvPr id="75" name=""/>
          <p:cNvSpPr/>
          <p:nvPr/>
        </p:nvSpPr>
        <p:spPr>
          <a:xfrm>
            <a:off x="685800" y="1731960"/>
            <a:ext cx="7772400" cy="30816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aoguz has presented enhancements to the proposal (8 Mbaud, non hopping) which he believes would improve the overall score.  The self ratings would be</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2.1 Minimum MAC/PHY throughput (24, 32 and 40 Mb/s raw) +1</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4 Number of simultaneously operating full throughput PAN's (8) +1</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dversely affecting any of the other rating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HY subcommittee believes that the proposed enhancements appear to be reasonable, but did not have sufficient time to review them in dep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F226D86-4CEF-4635-A22D-45A263F5DF3D}"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ments for Allen/Carlson</a:t>
            </a:r>
            <a:endParaRPr b="0" lang="en-US" sz="3200" spc="-1" strike="noStrike">
              <a:solidFill>
                <a:srgbClr val="000000"/>
              </a:solidFill>
              <a:latin typeface="Arial"/>
            </a:endParaRPr>
          </a:p>
        </p:txBody>
      </p:sp>
      <p:sp>
        <p:nvSpPr>
          <p:cNvPr id="77" name=""/>
          <p:cNvSpPr/>
          <p:nvPr/>
        </p:nvSpPr>
        <p:spPr>
          <a:xfrm>
            <a:off x="685800" y="1731960"/>
            <a:ext cx="7772400" cy="4428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n/Carlson has presented enhancements to the proposal which they believe would improve the overall scores.  The self-ratings would be</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2.1 Minimum MAC/PHY throughput (33, 44 Mb/s raw) +1</a:t>
            </a:r>
            <a:endParaRPr b="0" lang="en-US" sz="18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2.2 High end MAC/PHY throughput (33, 44 Mb/s raw) +1</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dversely affecting any of the other rating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enhancements (coding from O'Farrell and 16 QAM from Dabak) have individually been evaluated by the PHY subcommittee for other proposal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subcommittee did not have sufficient time to review the impact of the combination of the modes to the system performance, although each of the proposed enhancements have been individually evaluate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4F1E451-C535-4719-9F46-DE95BA00ACEB}"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ments for O'Farrell</a:t>
            </a:r>
            <a:endParaRPr b="0" lang="en-US" sz="3200" spc="-1" strike="noStrike">
              <a:solidFill>
                <a:srgbClr val="000000"/>
              </a:solidFill>
              <a:latin typeface="Arial"/>
            </a:endParaRPr>
          </a:p>
        </p:txBody>
      </p:sp>
      <p:sp>
        <p:nvSpPr>
          <p:cNvPr id="79" name=""/>
          <p:cNvSpPr/>
          <p:nvPr/>
        </p:nvSpPr>
        <p:spPr>
          <a:xfrm>
            <a:off x="685800" y="1731960"/>
            <a:ext cx="7772400" cy="27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arrell has presented enhancements to the proposal which he believes would improve the overall score.  The self ratings would be</a:t>
            </a:r>
            <a:endParaRPr b="0" lang="en-US" sz="2000" spc="-1" strike="noStrike">
              <a:solidFill>
                <a:srgbClr val="000000"/>
              </a:solidFill>
              <a:latin typeface="Times New Roman"/>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2.1 Minimum MAC/PHY throughput +1</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dversely affecting any of the other rating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enhancement (33 Mb/s, MBCK 16-QAM) appears to be reasonable.  However, the PHY subcommittee did not have sufficient time to review the proposed enhancement in dep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E87DAAE-D16E-4DCD-A64B-7D97C7911A9F}"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on Metho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of conference calls and face-to-face meetings in Scottsdale and Tamp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ubcommittee ratings determined by unanimous cons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proposals reduced from 9 to 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roposals merged (de Courville and Skell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dropped (Davis, PHY layer only).</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77DA762-C36D-4BCC-9993-C35676B467E3}"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ubcommittees</a:t>
            </a:r>
            <a:endParaRPr b="0" lang="en-US" sz="3600" spc="-1" strike="noStrike">
              <a:solidFill>
                <a:srgbClr val="000000"/>
              </a:solidFill>
              <a:latin typeface="Arial"/>
            </a:endParaRPr>
          </a:p>
        </p:txBody>
      </p:sp>
      <p:sp>
        <p:nvSpPr>
          <p:cNvPr id="49"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ub-subcommittees, the results are in the annex of P802.15-00/110r1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 spread tolerance: Anand Dabak and Stanley Ling</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new definition that uniquely defined the theoretical delay spread environmen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riteria, 90% and 95% of channel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wave oven model: Anand Dabak</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ed models in literature, summarized results for use in 2.2.4</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mony: Carlos Rio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interest at this time, could be brought up later</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06F7BCD-852A-4EF9-885D-FD5388653DE2}"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Section 2</a:t>
            </a:r>
            <a:endParaRPr b="0" lang="en-US" sz="3600" spc="-1" strike="noStrike">
              <a:solidFill>
                <a:srgbClr val="000000"/>
              </a:solidFill>
              <a:latin typeface="Arial"/>
            </a:endParaRPr>
          </a:p>
        </p:txBody>
      </p:sp>
      <p:graphicFrame>
        <p:nvGraphicFramePr>
          <p:cNvPr id="51" name=""/>
          <p:cNvGraphicFramePr/>
          <p:nvPr/>
        </p:nvGraphicFramePr>
        <p:xfrm>
          <a:off x="685800" y="1905120"/>
          <a:ext cx="8001000" cy="4043160"/>
        </p:xfrm>
        <a:graphic>
          <a:graphicData uri="http://schemas.openxmlformats.org/drawingml/2006/table">
            <a:tbl>
              <a:tblPr/>
              <a:tblGrid>
                <a:gridCol w="1746360"/>
                <a:gridCol w="1903320"/>
                <a:gridCol w="1989000"/>
                <a:gridCol w="236232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 Unit Manufacturing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 Interference and Suscept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3 Intermodul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77D3A8A-653C-4DF6-8589-E09E9992F643}"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Section 2</a:t>
            </a:r>
            <a:endParaRPr b="0" lang="en-US" sz="3600" spc="-1" strike="noStrike">
              <a:solidFill>
                <a:srgbClr val="000000"/>
              </a:solidFill>
              <a:latin typeface="Arial"/>
            </a:endParaRPr>
          </a:p>
        </p:txBody>
      </p:sp>
      <p:graphicFrame>
        <p:nvGraphicFramePr>
          <p:cNvPr id="53" name=""/>
          <p:cNvGraphicFramePr/>
          <p:nvPr/>
        </p:nvGraphicFramePr>
        <p:xfrm>
          <a:off x="685800" y="1905120"/>
          <a:ext cx="8001000" cy="3768480"/>
        </p:xfrm>
        <a:graphic>
          <a:graphicData uri="http://schemas.openxmlformats.org/drawingml/2006/table">
            <a:tbl>
              <a:tblPr/>
              <a:tblGrid>
                <a:gridCol w="1746360"/>
                <a:gridCol w="1903320"/>
                <a:gridCol w="1989000"/>
                <a:gridCol w="23623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4 Jamming Resist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5 Multiple Acc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 Coexisten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9492FAA-C2EF-4A9C-AB75-91904C9D2430}"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Section 2</a:t>
            </a:r>
            <a:endParaRPr b="0" lang="en-US" sz="3600" spc="-1" strike="noStrike">
              <a:solidFill>
                <a:srgbClr val="000000"/>
              </a:solidFill>
              <a:latin typeface="Arial"/>
            </a:endParaRPr>
          </a:p>
        </p:txBody>
      </p:sp>
      <p:graphicFrame>
        <p:nvGraphicFramePr>
          <p:cNvPr id="55" name=""/>
          <p:cNvGraphicFramePr/>
          <p:nvPr/>
        </p:nvGraphicFramePr>
        <p:xfrm>
          <a:off x="685800" y="1905120"/>
          <a:ext cx="8001000" cy="3768480"/>
        </p:xfrm>
        <a:graphic>
          <a:graphicData uri="http://schemas.openxmlformats.org/drawingml/2006/table">
            <a:tbl>
              <a:tblPr/>
              <a:tblGrid>
                <a:gridCol w="1746360"/>
                <a:gridCol w="1834920"/>
                <a:gridCol w="2210040"/>
                <a:gridCol w="22096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 Interoper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1 Manufactur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 Time to Marke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21EBC03-3ED6-4A36-959A-2A5B18883BD7}"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Section 2</a:t>
            </a:r>
            <a:endParaRPr b="0" lang="en-US" sz="3600" spc="-1" strike="noStrike">
              <a:solidFill>
                <a:srgbClr val="000000"/>
              </a:solidFill>
              <a:latin typeface="Arial"/>
            </a:endParaRPr>
          </a:p>
        </p:txBody>
      </p:sp>
      <p:graphicFrame>
        <p:nvGraphicFramePr>
          <p:cNvPr id="57" name=""/>
          <p:cNvGraphicFramePr/>
          <p:nvPr/>
        </p:nvGraphicFramePr>
        <p:xfrm>
          <a:off x="685800" y="1905120"/>
          <a:ext cx="7467480" cy="3498840"/>
        </p:xfrm>
        <a:graphic>
          <a:graphicData uri="http://schemas.openxmlformats.org/drawingml/2006/table">
            <a:tbl>
              <a:tblPr/>
              <a:tblGrid>
                <a:gridCol w="1746360"/>
                <a:gridCol w="2825640"/>
                <a:gridCol w="28954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3 Regulatory Impac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 Maturity of Solu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FAD9602-FA60-48AC-A8A5-BA35DA3A1593}"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gh Matrix, Section 2</a:t>
            </a:r>
            <a:endParaRPr b="0" lang="en-US" sz="3600" spc="-1" strike="noStrike">
              <a:solidFill>
                <a:srgbClr val="000000"/>
              </a:solidFill>
              <a:latin typeface="Arial"/>
            </a:endParaRPr>
          </a:p>
        </p:txBody>
      </p:sp>
      <p:graphicFrame>
        <p:nvGraphicFramePr>
          <p:cNvPr id="59" name=""/>
          <p:cNvGraphicFramePr/>
          <p:nvPr/>
        </p:nvGraphicFramePr>
        <p:xfrm>
          <a:off x="1143000" y="1905120"/>
          <a:ext cx="6858000" cy="3498840"/>
        </p:xfrm>
        <a:graphic>
          <a:graphicData uri="http://schemas.openxmlformats.org/drawingml/2006/table">
            <a:tbl>
              <a:tblPr/>
              <a:tblGrid>
                <a:gridCol w="1746360"/>
                <a:gridCol w="2139840"/>
                <a:gridCol w="2971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 Scal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Location Awarenes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ourville/ Skeller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rls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rre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a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Corkle/ Rofhe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aoguz</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B375F51-1186-48FE-9F49-33113C683EB4}"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ings Not in Matrix</a:t>
            </a:r>
            <a:endParaRPr b="0"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riteria only requested the reporting of the information, the results were not to be graded in the Pugh matrix.  For section 4, these we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 Frequency b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 Signal Acquis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7 Sensitivit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gh matrix numbers for these sections are 0 (same) for all proposa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2AA6EBC-F567-4434-B575-4EA6C6D2D85B}"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JPKG</cp:lastModifiedBy>
  <cp:lastPrinted>1998-02-10T13:28:06Z</cp:lastPrinted>
  <dcterms:modified xsi:type="dcterms:W3CDTF">2000-11-06T14:37:27Z</dcterms:modified>
  <cp:revision>31</cp:revision>
  <dc:subject>IEEE 802.15 &lt;subject&gt;</dc:subject>
  <dc:title>No Slide Title</dc:title>
</cp:coreProperties>
</file>