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5B8-4A3C-446A-AE7D-02F5958D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DE5-8AC3-49E9-8610-AB5763E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34E-7B0E-49B5-9A1C-651B3350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111-B088-4EB7-B7C1-DBAB5BF5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C99-77B8-4B9C-9CBE-09600A2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C8F-3325-4BD5-8054-0D9C33F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48C-5032-4C7A-8CBE-D521E24B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079-49FB-45A8-BF59-642D0109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FBA-2585-415D-9DEE-973929B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9D0-C5C4-4903-A198-2148484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9EA-0BA9-47B4-8D77-5DCDFAD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9AA-A155-43FD-BE10-0E29FDB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F0D7A8-7552-4472-B667-05C7BB9B0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4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802.11/.15 Joint Meeting Report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mpa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B58-415F-45FA-868D-BC8BF35D4C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261-947D-4875-A5F1-3B25824CA1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missions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ptember we sent out the Call for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echanisms are being made 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 (T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 (Monter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voting on selection procedure at this meeting (Thursday) 00/353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966-8A7E-46D0-ABF4-D95D7DE61B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3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8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Bin Ga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equency Hopp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HTA: A Method of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A05-429D-4470-B9D0-57BEF0228F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’s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on Procedure for selection of Coexistence Mechanism, 00/353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Level mode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evel model integration with PHY Lev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E73-172F-439B-8BCA-CAF12D1B17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Robert F.  Heile</cp:lastModifiedBy>
  <cp:lastPrinted>2000-09-20T20:30:42Z</cp:lastPrinted>
  <dcterms:modified xsi:type="dcterms:W3CDTF">2000-11-16T20:34:37Z</dcterms:modified>
  <cp:revision>263</cp:revision>
  <dc:subject>IEEE 802.15 &lt;subject&gt;</dc:subject>
  <dc:title>IEEE P802.15 Working Group for Wireless Personal Area Networks</dc:title>
</cp:coreProperties>
</file>