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6643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29E-FB1C-471B-BDC8-83CDD739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B5D-2787-425E-A33E-B283FF06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D4B-F4B8-42A2-8FA4-8E43F954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024-49A7-4A60-990D-B0D5A4F9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E5B-7FC7-493E-BE8D-E40E896D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55E-6317-461B-B622-CCAEC45C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18F-6816-4978-BFE8-45025C49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20B-4A0B-46A6-BB1F-C0784EA8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A36-0B68-49C5-AC14-7898BA4A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F1F-465D-46FA-93BE-213C5C19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3BE5-09AD-45B6-AE2D-8A8D8A17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D8B-4E67-46A6-A8E9-730FFD8D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21207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1D332CD-73E0-439D-92DD-6B55A4821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210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798480"/>
            <a:ext cx="883908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: IEEE P802.15 Working Group for Wireless Personal Area Networks (WP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 Tit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Supergold Encoding for High Rate WPAN Physical Layer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Submitte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19 September 2000 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T O’Farrell &amp; L.E. Aguado] Company [Supergold Communication Ltd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[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-3 Sandyford Village, Sandyford, Dublin 18, Ire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:[ +44 113 2332052 ], FAX: [ +44 113 2332032 ], E-Mail:[ tim.ofarrell@supergold.com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Physical layer modulation proposal for the IEEE P802.15.3 High Rate Wireless Personal Area Networks Standar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 00210P802.1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trac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This contribution presents a coded modulation proposal for the physical layer part of the High Rate WPAN standard. This scheme is evaluated based on the Pugh criteria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Proposal for PHY part of IEEE P802.15.3 standard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ocument has been prepared to assist the IEEE P802.15.  It is offered as a basis for discussion and is not binding on the contributing individ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) or organization(s). The material in this document is subject to change in form and content after further study. The contributor(s) reserve(s) the right to add, amend or withdraw material contained here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tributor acknowledges and accepts that this contribution becomes the property of IEEE and may be made publicly available by P802.1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884-E762-44D1-B7D6-5E13FC0ADA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01200" y="696960"/>
            <a:ext cx="619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 transfer function of root raised cosin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% roll-off factor, 22 t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70120" y="1674720"/>
            <a:ext cx="5657760" cy="39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2ED-8E18-41B1-8973-55405480DC0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455920" y="861840"/>
            <a:ext cx="478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ter response of root raised cosin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ata showing RF 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178000" y="1817640"/>
            <a:ext cx="5334120" cy="4086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938840" y="2543040"/>
            <a:ext cx="2066760" cy="1019160"/>
          </a:xfrm>
          <a:custGeom>
            <a:avLst/>
            <a:gdLst/>
            <a:ahLst/>
            <a:rect l="l" t="t" r="r" b="b"/>
            <a:pathLst>
              <a:path w="1302" h="642">
                <a:moveTo>
                  <a:pt x="0" y="0"/>
                </a:moveTo>
                <a:lnTo>
                  <a:pt x="576" y="0"/>
                </a:lnTo>
                <a:lnTo>
                  <a:pt x="576" y="387"/>
                </a:lnTo>
                <a:lnTo>
                  <a:pt x="1146" y="387"/>
                </a:lnTo>
                <a:lnTo>
                  <a:pt x="1146" y="642"/>
                </a:lnTo>
                <a:lnTo>
                  <a:pt x="1302" y="6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60560" y="2543040"/>
            <a:ext cx="2067120" cy="1019160"/>
          </a:xfrm>
          <a:custGeom>
            <a:avLst/>
            <a:gdLst/>
            <a:ahLst/>
            <a:rect l="l" t="t" r="r" b="b"/>
            <a:pathLst>
              <a:path w="1302" h="642">
                <a:moveTo>
                  <a:pt x="0" y="0"/>
                </a:moveTo>
                <a:lnTo>
                  <a:pt x="576" y="0"/>
                </a:lnTo>
                <a:lnTo>
                  <a:pt x="576" y="387"/>
                </a:lnTo>
                <a:lnTo>
                  <a:pt x="1146" y="387"/>
                </a:lnTo>
                <a:lnTo>
                  <a:pt x="1146" y="642"/>
                </a:lnTo>
                <a:lnTo>
                  <a:pt x="1302" y="6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1594800" y="351720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ive magnitude (dB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720" y="5649840"/>
            <a:ext cx="11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cy (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47120" y="2830680"/>
            <a:ext cx="7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F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03000" y="291312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30 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55560" y="341640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0 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473-E697-4693-80F2-574677683A6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3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1. Unit Manufactur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ilar to 802.15.1 equivalent UMC at 2H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ilar architecture to IEEE 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ch simpler baseband processing than 802.11b (30K 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power PA (0 dBm Tx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red RF architecture for 802.15.1 and 802.15.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hip RF / BB implementation + 5 extern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348-9A5B-493B-88B4-545A685860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3200" y="698400"/>
            <a:ext cx="77724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82120" y="1298160"/>
            <a:ext cx="806796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 Signal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2. Interference and Suscep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R criterion =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3dB loss of required sensitivity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(MAI) = -6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/S (CW) = -7 dB co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jacent+1 channel power attenuation &gt; 50 dBc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-band interference protection &gt; 40 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1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-of-band attenuation &gt; 80 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ies with 802.15.1 out-of-band 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9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DC9-1162-4D4E-87C3-9E1D281513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11440" y="1646280"/>
            <a:ext cx="6000480" cy="45054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35252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2. Interference and Susceptibility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7360" y="6149880"/>
            <a:ext cx="78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 performance in the presence of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62A-276C-4D2E-9BA8-B4464DCF2C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35040" y="159840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3. Intermodulation Resi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3 Specification of RF Front-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49400" y="3314880"/>
            <a:ext cx="571680" cy="571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72480" y="3314880"/>
            <a:ext cx="571320" cy="5713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588120" y="3237480"/>
            <a:ext cx="836640" cy="72396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92880" y="3422520"/>
            <a:ext cx="355320" cy="355680"/>
          </a:xfrm>
          <a:prstGeom prst="flowChartSummingJunction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28" idx="3"/>
            <a:endCxn id="230" idx="3"/>
          </p:cNvCxnSpPr>
          <p:nvPr/>
        </p:nvCxnSpPr>
        <p:spPr>
          <a:xfrm flipV="1">
            <a:off x="2521080" y="3598560"/>
            <a:ext cx="11246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230" idx="0"/>
            <a:endCxn id="231" idx="2"/>
          </p:cNvCxnSpPr>
          <p:nvPr/>
        </p:nvCxnSpPr>
        <p:spPr>
          <a:xfrm>
            <a:off x="4368960" y="3598920"/>
            <a:ext cx="11246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231" idx="6"/>
            <a:endCxn id="229" idx="1"/>
          </p:cNvCxnSpPr>
          <p:nvPr/>
        </p:nvCxnSpPr>
        <p:spPr>
          <a:xfrm>
            <a:off x="5847840" y="3600000"/>
            <a:ext cx="1125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35" name=""/>
          <p:cNvSpPr/>
          <p:nvPr/>
        </p:nvSpPr>
        <p:spPr>
          <a:xfrm flipH="1">
            <a:off x="1359000" y="35942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35942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05560" y="2671920"/>
            <a:ext cx="51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83800" y="2671920"/>
            <a:ext cx="55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20560" y="2671920"/>
            <a:ext cx="86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9760" y="4329000"/>
            <a:ext cx="66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ain (dB)         -2                             +15                             +10                        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P3  (dBm)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          -4                               +5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1320" y="5400720"/>
            <a:ext cx="467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3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ferred to the input = -9 d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533-9109-4762-BE3D-B460993D346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85800"/>
            <a:ext cx="7772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5040" y="1166760"/>
            <a:ext cx="77724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3. Intermodulation Resi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modulating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50760" y="5575320"/>
            <a:ext cx="7150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ceiver can tolerate intermodulating signals of up to -34dBm whilst retaining a BER=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ith 3 dB E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loss. Input IP2 = +16.6 dB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50760" y="2021040"/>
            <a:ext cx="7578720" cy="2452680"/>
            <a:chOff x="950760" y="2021040"/>
            <a:chExt cx="7578720" cy="2452680"/>
          </a:xfrm>
        </p:grpSpPr>
        <p:sp>
          <p:nvSpPr>
            <p:cNvPr id="246" name=""/>
            <p:cNvSpPr/>
            <p:nvPr/>
          </p:nvSpPr>
          <p:spPr>
            <a:xfrm>
              <a:off x="950760" y="3835440"/>
              <a:ext cx="6997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1623960" y="3110760"/>
              <a:ext cx="520560" cy="723960"/>
            </a:xfrm>
            <a:custGeom>
              <a:avLst/>
              <a:gdLst>
                <a:gd name="textAreaLeft" fmla="*/ 114480 w 520560"/>
                <a:gd name="textAreaRight" fmla="*/ 406080 w 520560"/>
                <a:gd name="textAreaTop" fmla="*/ 159120 h 723960"/>
                <a:gd name="textAreaBottom" fmla="*/ 564840 h 7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468600" y="2488680"/>
              <a:ext cx="0" cy="146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636960" y="3580920"/>
              <a:ext cx="0" cy="36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055840" y="2501640"/>
              <a:ext cx="0" cy="146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1900080" y="3580920"/>
              <a:ext cx="0" cy="36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42320" y="4014720"/>
              <a:ext cx="52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4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h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78800" y="4014720"/>
              <a:ext cx="52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4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h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53800" y="4014720"/>
              <a:ext cx="52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45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h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9920" y="4014720"/>
              <a:ext cx="546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4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h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92920" y="275436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 + 3 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41760" y="2021040"/>
              <a:ext cx="133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34 d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9880" y="3919680"/>
              <a:ext cx="84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req M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982080" y="4416480"/>
            <a:ext cx="720792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nsitivity S = -75 dB, C/I = 10 dB, Corr = 10log(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/1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1) = 0 dB, IP3 = -9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3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TO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= -85.8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 = [2.IP3 +(S - C/I +Corr)]/3 = -34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1568-CF73-4351-9AC4-50996A6E321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20560" y="1288800"/>
            <a:ext cx="8377200" cy="499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4. Jamming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crowave oven interfer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ference bandwidth = 2450 to 2460 MHz. CCA would detect jammer and select clear channel. Two free channels are available from 3 non-overlapping channels while three free channels are available from 4 tightly packed channe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-3. 802.15.1 pic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02.15.1 randomly hops over 79 1MHz-bands. 802.15.3 is jammed by hops into 16 MHz jamming sensitive area; jamming prob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16 / 79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20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2.15.3 transmitting MPG2-D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VD bit stream takes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30% of channel throughput. If 2 un-coordinated WPANs share the 1 channel with CCA-deferred access then &gt;50% throughput exp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therwise CCA in subject WPAN would select clea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2.11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on a disjoint frequency band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o jam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 802.11b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CA in subject WPAN would select clea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1AC-E6A0-4D4F-B34C-F57D72E45D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26680" y="173520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5. Multipl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1.53 Mbit/s maximum bit rat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roughput in [15, 20] Mbit/s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ordinated time-multiplexing used for multiple access to shared chan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constraint when multiplexing an MPEG2 stream (4.5 Mbit/s) with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12-byte asynchronous packets (max. 273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E 1: three MPEG2 streams (at 4.5Mbit/s) share the total throughput (min.) 15 Mbit/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E 2 and 3: one MPEG2 stream takes 4.5 Mbit/s whilst the asynchronous services share the remaining throughput in a time-multiplexing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583-79D1-4084-B6A1-A155ABFF21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2320" y="1217160"/>
            <a:ext cx="8458200" cy="9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6. Coex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2.15.1 piconet scen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70600" y="2284560"/>
            <a:ext cx="8004960" cy="1852920"/>
            <a:chOff x="570600" y="2284560"/>
            <a:chExt cx="8004960" cy="1852920"/>
          </a:xfrm>
        </p:grpSpPr>
        <p:sp>
          <p:nvSpPr>
            <p:cNvPr id="267" name=""/>
            <p:cNvSpPr/>
            <p:nvPr/>
          </p:nvSpPr>
          <p:spPr>
            <a:xfrm>
              <a:off x="1962000" y="259992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59480" y="259992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69160" y="2598480"/>
              <a:ext cx="0" cy="116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32440" y="3460320"/>
              <a:ext cx="101880" cy="104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5840" y="3452400"/>
              <a:ext cx="101880" cy="104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1080" y="2798640"/>
              <a:ext cx="103320" cy="102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01880" y="2798640"/>
              <a:ext cx="101520" cy="102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66640" y="26697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98720" y="266832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09840" y="33350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91800" y="33350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73480" y="3830400"/>
              <a:ext cx="55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3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05120" y="382860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3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25560" y="3830400"/>
              <a:ext cx="46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4920" y="228456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hysical Lay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0600" y="2668320"/>
              <a:ext cx="8085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802.15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0600" y="3335040"/>
              <a:ext cx="808560" cy="307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802.15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69080" y="2860560"/>
              <a:ext cx="0" cy="66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75920" y="2993760"/>
              <a:ext cx="73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&lt; 0.5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06600" y="259992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55880" y="369072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16320" y="369072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76760" y="3690720"/>
              <a:ext cx="219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992320" y="4754520"/>
            <a:ext cx="3159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IC1 &amp; IC2: x = 7  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IC3:           x = 9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IC4 &amp; IC5: x = 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970-D4F4-42EE-8CAE-8589F2F490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gold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00200" y="1321920"/>
            <a:ext cx="7772400" cy="49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gold Communication is a campus start up company that specialises in solutions for wireless commun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 Coded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/Cod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efficiently exploiting the distance properties of sequences/codes, Supergold’s solutions balance the trade-off between bandwidth efficiency, BER performance and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gold’s solutions can be beneficially appli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reless 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llular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539-A3A6-4E74-B224-007285457A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09480" y="1663560"/>
            <a:ext cx="785808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802.15.1 Devices Tx at 1 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1 will interfere with B1 but not B2 while A2 will interfere with B1 and B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B1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1 Tx Pwr = 0 dBm; Pahtloss(A1-B1) ~ 50 dB; Rx Pwr at B1 due to A1 ~ -50 dBm in 16 MHz channel bandwidth; i.e. a power density of -61.5 dBm/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2 interferes with B1 in the same manner as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2 Tx Pwr = 0 dBm; Pathloss(B2-B1) ~ 60dB;  Rx Pwr at B1 due to B2 ~ -6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/I ~ -60 - (-50 +3) ~ -13 dB 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1 jams when signals col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B2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1 Tx Pwr = 0 dBm; Pahtloss(A1-B2) ~ 62.4 dB; Rx Pwr at B2 due to A1 ~ -62.4 dBm in 16 MHz channel bandwidth; i.e. a power density of -74.3 dBm/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2 Tx Pwr = 0 dBm; Pahtloss(A2-B2) ~ 57 dB; Rx Pwr at B2 due to A2 ~ -57 dBm in 16 MHz channel bandwidth; i.e. a power density of -69 dBm/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1 Tx Pwr = 0 dBm; Pathloss(B1-B2) ~ 60dB;  Rx Pwr at B2 due to B1 ~ -6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/I ~ -60 - 10log(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-6.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-7.4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~ 7.9 dB 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2 jams when signals col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8580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2680" y="1217520"/>
            <a:ext cx="8458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6. Coexistence co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5F5-3EB4-4B81-AD5F-B290F2D95B6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09480" y="1663560"/>
            <a:ext cx="785808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802.15.1 Devices Tx at 100 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ither A1 nor A2 will not interfere with either B1 or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B1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1 Tx Pwr = 0 dBm; Pahtloss(A1-B1) ~ 50 dB; Rx Pwr at B1 due to A1 ~ -50 dBm in 16 MHz channel bandwidth; i.e. a power density of -61.5 dBm/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2 interferes with B1 in the same manner as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2 Tx Pwr = 20 dBm; Pathloss(B2-B1) ~ 60dB;  Rx Pwr at B1 due to B2 ~ -4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/I ~ -40 - (-61.5 +3) ~ 18.5 dB 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1 does not jam when signals col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B2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1 Tx Pwr = 0 dBm; Pahtloss(A1-B2) ~ 62.4 dB; Rx Pwr at B2 due to A1 ~ -62.4 dBm in 16 MHz channel bandwidth; i.e. a power density of -74.3 dBm/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2 Tx Pwr = 0 dBm; Pahtloss(A2-B2) ~ 57 dB; Rx Pwr at B2 due to A2 ~ -57 dBm in 16 MHz channel bandwidth; i.e. a power density of -69 dBm/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B1 Tx Pwr = 20 dBm; Pathloss(B1-B2) ~ 60dB;  Rx Pwr at B2 due to B1 ~ -4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/I ~ -40 - 10log(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-6.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-7.4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~ 27.9 dB 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B2 does not jam when signals col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68580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2680" y="1217520"/>
            <a:ext cx="8458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6. Coexistence co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E4A-317F-4450-B283-6E061C8876A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98240" y="1225080"/>
            <a:ext cx="774036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2.6. Coexistence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1 &amp; IC2 - 802.15.1 network at 0 dBm Tx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bability of 802.15.1 hopping into 802.15.3  16 MHz channel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(interf.) = 16 / 79 = 20%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802.15.1 throughput over 8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1 &amp; IC2 - 802.15.1 network at 20 dBm Tx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 neither device is jammed the throughput is always 10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3 &amp; IC5 - 802.11b net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erent channels would be selected for each network via C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4 - 802.11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02.15.3 and 802.11a use different frequency bands and would be able to co-exist without interfering with each 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1ED-B891-4311-9690-D747CD33D62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749160" y="1523880"/>
            <a:ext cx="770904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3. 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802.15.3 WPAN implements a dual mode radio with shared RF blocks for interoperability with 802.15.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shared components include band filter, LNA, RF mixer and synthesiser, IF amplifier, IF mixer and synthesiser, anti-aliasing filters, ADCs and baseband processing un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x shared components include band filter, PA, RF mixer and Synthesiser, image rejection filter, IF mixer and synthesiser, smoothing filters, DACs and baseband processing un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edicated IF channel filter matched to the 802.25.1 channel bandwidth is required in addition to the 802.11.3 IF channel fil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685800"/>
            <a:ext cx="7772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126-E61A-4CC4-9833-B3ADECD0BFF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30080" y="14889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4. Technical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1. Manufacture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 architecture utilises pre-existing 802.11b and 802.15.1 techn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ing functionality similar to existing solutions such as MBOK and C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. Time to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-existence of technology will ensure short developmen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PHY part prop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8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earlier than 1Q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514B-F9B2-479A-8311-4BD20E60870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73200" y="1542600"/>
            <a:ext cx="777240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3. Regulatory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posed scheme is compliant with regulatory standards FCC(25.249), ETSI 300-328 and ARIB STD-T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4. Maturity of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ystem utilises existing 802.11b and 802.15.1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lying modulation is constant amplitude QP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ing less complicated than C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scheme tested in a general purpose hardware demon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228-93CF-45A8-A42E-B200F3C015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60240" y="66168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35040" y="1260000"/>
            <a:ext cx="7772400" cy="49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1.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 power can be changed with impact on either range or throughput (through change in coding ra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2. Dat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ing level can be adjusted to fit power and channel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3. Frequency Band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odulation scheme can be applied at both 2.4 GHz and 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4.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ging the level of coding or power would not significantly affect the unit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5.1.5.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lisation can be introduced into the scheme inorder to enhance resistance to time dispersive channels with large delay sp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B33-1A1A-41EA-86B9-3EA5E7D4A65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00200" y="172080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1. Size and Form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mode RF / BB parts integrated in one PHY c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ve external components: crystal oscillator, band filter, 802.15.1 IF filter, 802.15.3 SAW IF filter, Tx image rejection fil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chip for dual mode 802.15.1 / 802.15.3 M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8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MO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ze smaller than a Compact Flash Type 1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790A-20A6-4753-8E4E-4C8217DE41C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317600"/>
            <a:ext cx="7962840" cy="50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1. Minimum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red data rate = 2 x 12.5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x (7/8) x (125/127) = 21.531 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Y overhead due to coding = 1 - (7/8 x 125/127) = 13.8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um MAC/PHY throughput is met for services that use a MAC overhead of less than or equal to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2. High End MAC/PHY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throughput level is off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F82-0E52-4515-AE45-3FA8FCBA9B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5800" y="1317600"/>
            <a:ext cx="7962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 MAC/PHY Throughput Cont: PLCP Packe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4867200"/>
            <a:ext cx="328932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en-GB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 = 128/25000000 = 5.12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en-GB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 = 16/25000000   = 0.64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en-GB" sz="16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 = 40/25000000   = 1.60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33520" y="1995480"/>
            <a:ext cx="8089920" cy="2719440"/>
            <a:chOff x="533520" y="1995480"/>
            <a:chExt cx="8089920" cy="2719440"/>
          </a:xfrm>
        </p:grpSpPr>
        <p:sp>
          <p:nvSpPr>
            <p:cNvPr id="315" name=""/>
            <p:cNvSpPr/>
            <p:nvPr/>
          </p:nvSpPr>
          <p:spPr>
            <a:xfrm>
              <a:off x="3321000" y="3098880"/>
              <a:ext cx="3791160" cy="495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3520" y="3102120"/>
              <a:ext cx="1955520" cy="4950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Syn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*64 ch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89040" y="3098880"/>
              <a:ext cx="828720" cy="4953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SF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12160" y="3098880"/>
              <a:ext cx="1511280" cy="495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PS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57920" y="2554200"/>
              <a:ext cx="11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PLCP Pream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85760" y="255420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PLCP 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6120" y="2149560"/>
              <a:ext cx="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21000" y="255600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12160" y="255600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14600" y="2692440"/>
              <a:ext cx="80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15000" y="2692440"/>
              <a:ext cx="1393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45760" y="269064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3320640" y="2687760"/>
              <a:ext cx="13525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21000" y="3095640"/>
              <a:ext cx="933480" cy="49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4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59160" y="3095640"/>
              <a:ext cx="952560" cy="49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4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03800" y="3095640"/>
              <a:ext cx="952560" cy="49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59600" y="3095640"/>
              <a:ext cx="952560" cy="49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623440" y="2162160"/>
              <a:ext cx="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120" y="2251080"/>
              <a:ext cx="807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84840" y="1995480"/>
              <a:ext cx="5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PP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3520" y="411156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99960" y="3773520"/>
              <a:ext cx="439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Times New Roman"/>
                </a:rPr>
                <a:t>1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82920" y="41115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7760" y="4111560"/>
              <a:ext cx="38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71560" y="3773520"/>
              <a:ext cx="439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03640" y="3773520"/>
              <a:ext cx="439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Times New Roman"/>
                </a:rPr>
                <a:t>3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52560" y="4255920"/>
              <a:ext cx="1137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*12.5 Mchip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QP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49160" y="4255920"/>
              <a:ext cx="685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5 Mb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QP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80880" y="4255920"/>
              <a:ext cx="685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5 Mb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QP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18280" y="4111560"/>
              <a:ext cx="150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80960" y="3773520"/>
              <a:ext cx="56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Times New Roman"/>
                </a:rPr>
                <a:t>psdu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416360" y="4255920"/>
              <a:ext cx="951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1.531 Mb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QP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285-A9C7-4C78-8480-432A2F72AEDF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Coded Modulation for High Rate WPAN 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6960" y="1700280"/>
            <a:ext cx="7937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-ary symbol modulation using QPSK chip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ar constant amplitu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dB PA back-off and low 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bust in multipath fading up to 30 ns rms delay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-error-correcting concatenated RS(127,125)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S code matched to M-ary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simple Berlekamp-Massey hard-decision 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rate code (0.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3 dB coding gain over QPSK  @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spectral efficiency: 21.53 Mbit/s data rate in 22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EEE-355A-4201-B42B-41085CC08F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1317600"/>
            <a:ext cx="7962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2. MAC/PHY Throughput cont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-SAP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0280" y="1854360"/>
            <a:ext cx="716256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CP Preamble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= 5.12 + 0.64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=    5.76 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CP Header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=    1.60 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xPLCPDela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=    7.36 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xRxTurnroundTime/ aRxTxTurnroundTim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1.00 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xRfDelay/aTxRfDela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0.25 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ADela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2.00 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ATime = aCCADelay + aRxRfDelay + aRxPLCPDela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10.00 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AirPropagationTi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0.03 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MACProcessingTi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2.00 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2000" y="5319720"/>
            <a:ext cx="883116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aSIFSTIME  = aRxRfDelay + aRxPLCPDelay + aMACProcessingTime + aTxRxTurnround              </a:t>
            </a:r>
            <a:r>
              <a:rPr b="0" lang="en-GB" sz="16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11.00 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aSLOTTIME = aCCATime + aRxTxTurnround + 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aAirPropagationTime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+ aMACProcessingTime  </a:t>
            </a:r>
            <a:r>
              <a:rPr b="0" lang="en-GB" sz="16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13.00 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8EB-59F0-458C-A9D7-1DF540FD3BF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250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225440"/>
            <a:ext cx="7975440" cy="517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3. Frequency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oposal is aimed at the 2.4 GHz ISM band, but is also applicable to the 5GHz ISM 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4. Number of Simultaneously Operating Full Throughput P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EEE 802.11b channelisation is adopted which provides for 14 overlapping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25 MHz channel spacing, up to 3 co-located networks can share the 2.4 GHz ISM band without significant adjacent channel interference,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channel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412, 2437, 2462 MH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20 MHz channel spacing, up to 4 co-located networks can share the 2.4 GHz ISM band without significant  adjacent channel interference,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 channel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412, 2432, 2452, 2472M H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to 5 co-located networks may share the 5 GHz ISM band without significant adjacent channel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139-FD86-4113-8F7B-0CD97303DEB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582480" y="68580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9360" y="1217520"/>
            <a:ext cx="84582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4. Cont. Adjacent Channel Interferenc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4720" y="3645000"/>
            <a:ext cx="785808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1 Tx Pwr = 0dBm; Pahtloss(A1-A2) ~60 dB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thloss(B1-A2) ~ 40 dB and Pathloss(B2-A2) ~ 40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20 MHz channel separation the adjacent channel interference (ACI) produced by the filtered signals at 1 m is 3+ACI(0m) - pathloss(1m)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3 - 55 - 40 = -92 dB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x Pwr at A1 due to A2 ~ -60 dBm, then the C/I margin is at least 32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a Rx Pwr of -75 dBm (= sensitivity), then the C/I margin is at least 17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s the modulation scheme can tolerate co-channel interference up to -6 dB then -17 dB of interference will not substantially degrade the system throughpu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057680" y="1812960"/>
            <a:ext cx="7295400" cy="1612440"/>
            <a:chOff x="1057680" y="1812960"/>
            <a:chExt cx="7295400" cy="1612440"/>
          </a:xfrm>
        </p:grpSpPr>
        <p:sp>
          <p:nvSpPr>
            <p:cNvPr id="357" name=""/>
            <p:cNvSpPr/>
            <p:nvPr/>
          </p:nvSpPr>
          <p:spPr>
            <a:xfrm>
              <a:off x="2163600" y="2509920"/>
              <a:ext cx="85680" cy="87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249280" y="2019240"/>
              <a:ext cx="107820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9280" y="2565360"/>
              <a:ext cx="40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81640" y="2523960"/>
              <a:ext cx="85680" cy="874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81400" y="1976400"/>
              <a:ext cx="85680" cy="874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0400" y="24051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45840" y="181296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59400" y="24051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96960" y="1949400"/>
              <a:ext cx="46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83480" y="253368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0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12440" y="201780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hysical Lay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75240" y="181296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802.15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2.412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57680" y="240516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802.15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2.432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08960" y="240516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802.15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2.432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36680" y="2616120"/>
              <a:ext cx="107784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268440" y="3067920"/>
              <a:ext cx="86040" cy="874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96600" y="29052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47720" y="2889360"/>
              <a:ext cx="46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26360" y="290520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802.15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2.452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BC0-E77F-4361-97DE-1872C4AD6A6B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82480" y="68580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9360" y="1217520"/>
            <a:ext cx="84582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4. Cont. IM3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74720" y="4222800"/>
            <a:ext cx="785808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Pathloss(B1-A2) ~ 40 dB and Pathloss(B2-A2) ~ 40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IM at A2 due to B1 and B2 is -40 dBm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rom slides 15 &amp; 16, the maximum IM that can be tollerated is –34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Therefore IM3 effects are avoided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057680" y="2008080"/>
            <a:ext cx="7295400" cy="1612440"/>
            <a:chOff x="1057680" y="2008080"/>
            <a:chExt cx="7295400" cy="1612440"/>
          </a:xfrm>
        </p:grpSpPr>
        <p:sp>
          <p:nvSpPr>
            <p:cNvPr id="380" name=""/>
            <p:cNvSpPr/>
            <p:nvPr/>
          </p:nvSpPr>
          <p:spPr>
            <a:xfrm>
              <a:off x="2163600" y="2705040"/>
              <a:ext cx="85680" cy="87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249280" y="2214360"/>
              <a:ext cx="107820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49280" y="2760480"/>
              <a:ext cx="40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81640" y="2719080"/>
              <a:ext cx="85680" cy="874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81400" y="2171520"/>
              <a:ext cx="85680" cy="87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60400" y="26002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45840" y="200808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59400" y="26002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96960" y="2144520"/>
              <a:ext cx="46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83480" y="272880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0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012440" y="221292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hysical Lay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75240" y="200808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802.15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2.432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57680" y="260028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802.15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2.412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08960" y="260028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802.15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2.412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36680" y="2811240"/>
              <a:ext cx="107784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3268440" y="3263760"/>
              <a:ext cx="86040" cy="87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396600" y="310032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7720" y="3084480"/>
              <a:ext cx="46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26360" y="310032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802.15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2.452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F27-C116-4C36-A39F-73E52D1B1AD9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84360" y="685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1280" y="1116000"/>
            <a:ext cx="8458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4. Cont.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Channel Selectivity for 25 MHz Channel S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33520" y="1498680"/>
            <a:ext cx="8279280" cy="4751640"/>
            <a:chOff x="533520" y="1498680"/>
            <a:chExt cx="8279280" cy="4751640"/>
          </a:xfrm>
        </p:grpSpPr>
        <p:pic>
          <p:nvPicPr>
            <p:cNvPr id="402" name="" descr=""/>
            <p:cNvPicPr/>
            <p:nvPr/>
          </p:nvPicPr>
          <p:blipFill>
            <a:blip r:embed="rId1"/>
            <a:stretch/>
          </p:blipFill>
          <p:spPr>
            <a:xfrm>
              <a:off x="1252800" y="1819080"/>
              <a:ext cx="6578280" cy="404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2"/>
            <a:stretch/>
          </p:blipFill>
          <p:spPr>
            <a:xfrm>
              <a:off x="1944720" y="1828800"/>
              <a:ext cx="6297840" cy="37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1413000" y="1498680"/>
              <a:ext cx="0" cy="450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81360" y="5918040"/>
              <a:ext cx="723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37480" y="1498680"/>
              <a:ext cx="0" cy="450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83080" y="586728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48120" y="586728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13520" y="586728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80360" y="586728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81240" y="5973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89920" y="59738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83760" y="59738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80000" y="59738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54760" y="59738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63920" y="5973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02000" y="5516640"/>
              <a:ext cx="91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Freq (M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22560" y="1850760"/>
              <a:ext cx="652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22560" y="3057480"/>
              <a:ext cx="65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222560" y="2450880"/>
              <a:ext cx="650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22560" y="3666960"/>
              <a:ext cx="65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22560" y="4276800"/>
              <a:ext cx="652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22560" y="4886280"/>
              <a:ext cx="652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22560" y="5495760"/>
              <a:ext cx="651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1712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1920" y="23065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1920" y="29145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920" y="35352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-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71920" y="41418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600" y="476244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-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5600" y="537048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-1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-204840" y="3688560"/>
              <a:ext cx="175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Relative magnitude (dB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CAC-9EF8-465F-A1E8-B121BE8F3C33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4360" y="6858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1280" y="1116000"/>
            <a:ext cx="8458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4. Cont.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Channel Selectivity for 20 MHz Channel S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63680" y="1676520"/>
            <a:ext cx="8339760" cy="4751640"/>
            <a:chOff x="463680" y="1676520"/>
            <a:chExt cx="8339760" cy="4751640"/>
          </a:xfrm>
        </p:grpSpPr>
        <p:pic>
          <p:nvPicPr>
            <p:cNvPr id="436" name="" descr=""/>
            <p:cNvPicPr/>
            <p:nvPr/>
          </p:nvPicPr>
          <p:blipFill>
            <a:blip r:embed="rId1"/>
            <a:stretch/>
          </p:blipFill>
          <p:spPr>
            <a:xfrm>
              <a:off x="1243080" y="1996920"/>
              <a:ext cx="6578640" cy="404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2"/>
            <a:stretch/>
          </p:blipFill>
          <p:spPr>
            <a:xfrm>
              <a:off x="678240" y="2006640"/>
              <a:ext cx="6297480" cy="37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971640" y="6095880"/>
              <a:ext cx="723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1000" y="1676520"/>
              <a:ext cx="0" cy="450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73720" y="604512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38760" y="604512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04160" y="604512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71000" y="604512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31360" y="604512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71880" y="6151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0560" y="61516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74400" y="61516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70640" y="61516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45400" y="61516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54560" y="6151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892640" y="5694480"/>
              <a:ext cx="91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Freq (M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3680" y="3276720"/>
              <a:ext cx="93996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38400" y="2028600"/>
              <a:ext cx="652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38400" y="3235320"/>
              <a:ext cx="651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38400" y="2628720"/>
              <a:ext cx="650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38400" y="3844800"/>
              <a:ext cx="651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8400" y="4454640"/>
              <a:ext cx="652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38400" y="5064120"/>
              <a:ext cx="652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38400" y="5673600"/>
              <a:ext cx="651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00360" y="1890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3640" y="24843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3640" y="30924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73640" y="37130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-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3640" y="43196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7320" y="494028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-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7320" y="55483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-1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-201600" y="3854160"/>
              <a:ext cx="175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Relative magnitude (dB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03640" y="1676520"/>
              <a:ext cx="0" cy="450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2CC-C97D-4198-9149-4E3F9591687A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762120" y="5403960"/>
            <a:ext cx="768348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6.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0 dBm Tx. Power, range &gt; 10 m (for link budget presen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685800"/>
            <a:ext cx="793728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4.4 Co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spectral efficiency of an 802.11 channelisation scheme is low because the channel  bandwidth allocation  is over dimensionsed. A channel separation of 25 MHz can support a Nyquist bandwidth of 12.5 MHz while a chipping rate of 12.5 Mchip/s requires a Nyquist bandwidth of 6.25 MHz. Though undesirable to fully occupy the available Nyquist bandwidth, it is possible to increase the occupancy by reducing the separation between channels. A Root Raised Cosine Filter with 25% roll-off factor and half-amplitude frequency of 6.25 MHz can support a channel separation of 20 MHz without a substantial loss of performance. This allows 4 full throughput wireless PANs to transmit simultaneously in the ISM band at 2.4 G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 a channel sepration of 25 MHz, a Root Raised Cosine Filter with 25% roll-off factor and half-amplitude frequency of 6.25 MHz introduced about -55 dBc of ACI. The frequency separation between main-lobes is about 9 MHz and there is no overlap between 1st and 2nd sidelobes. For a channel sepration of 20 MHz, the same filter introduces the same level of ACI. The frequency sepration between main lobes is reduced to 4 MHz and there is overlap of the 1st and 2nd sidelobes but not the main-lobes. The small power in the sidelobes together with their further attenuation by the SAW channel select filter substantially reduces their contribution to the interference budg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DEF-BF78-4981-9A5C-C9B536948CBB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606680" y="1560600"/>
            <a:ext cx="5676840" cy="460044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57080" y="6126120"/>
            <a:ext cx="7697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 v. E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A68-81B6-4A37-A2F3-5EDEC4CA2A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555920" y="1568520"/>
            <a:ext cx="5676840" cy="46101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57080" y="6126120"/>
            <a:ext cx="76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 v. SNR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AD6-D233-4165-B5D9-A885F2F0522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627200" y="1552680"/>
            <a:ext cx="5686560" cy="466704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98400" y="77580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388880"/>
            <a:ext cx="5880240" cy="35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7.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7080" y="6126120"/>
            <a:ext cx="76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 v. SNR Performance in the AWG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BB3-BE9A-4DB9-9522-1D91FAAC5A6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erties of the sequence coded modula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642680"/>
            <a:ext cx="741204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pre-existing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asibl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rt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mode 802.15.1 / 802.15.3 using common RF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 in the 2.4 GHz ISM band with 802.11 channe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s a 12.5 Mchip/s chipping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for 802.11b - 802.15.1 and 802.15.3 co-ex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operate in 5 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low baseb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s Clear Channel Assessment (CCA) as in 802.1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602-F803-4447-91B2-22C2A95DBB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492200" y="1484280"/>
            <a:ext cx="5965920" cy="444816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9160" y="62208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55480" y="1166400"/>
            <a:ext cx="80805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8.2. Delay Sprea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6000" y="5975280"/>
            <a:ext cx="7697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 Performance in the multipath channel for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RM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 25 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682-6051-4C99-AAA0-19D11C1C4F3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9160" y="95364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03320"/>
            <a:ext cx="805176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8.2. Delay Sprea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elay spread of 30ns is tolerated for more than 90% of the channels  with FER &lt; 1% at E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7.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equalisatio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6AF-E557-4FED-9730-432939EA710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73200" y="15429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9.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PSK with 0 dBm transmitte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PA efficiency = 33%, 3 dB back-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baseband processor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w complexity fast transform correlation detection and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equali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0k BB processing gate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dicated ASIC using 0.18 u CMO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 peak power consumption is 330 m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luding MAC (i.e 100mA drain for 3.3V suppl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B37-3F66-4134-9E54-71232936DCB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800280" y="1282680"/>
            <a:ext cx="37335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 (33% eff, 3dB back-of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up-mix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Synthesis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up-mix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ynthesis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oothing Filters (I&amp;Q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Cs (I&amp;Q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B Processing (ASIC)      1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 2dB band filter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x Tot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2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90120" y="755640"/>
            <a:ext cx="71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9. Power Consumption Budget in mW for 0.18 u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86480" y="1282680"/>
            <a:ext cx="37335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N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down-mix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Synthesis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m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down-mix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ynthesis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i-aliasing Filters (I&amp;Q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Cs (I&amp;Q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C (RSSI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B Processing (ASIC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x Tot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B4C-F9B9-4C71-84B9-C2F29790D08A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63480" y="1461960"/>
          <a:ext cx="7791480" cy="562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461960"/>
                    <a:ext cx="7791480" cy="56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74E-2B72-49BA-BE2F-49EF55C19F9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General Solu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822240" y="1270080"/>
          <a:ext cx="7721640" cy="58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270080"/>
                    <a:ext cx="772164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C32-D745-41F0-8372-99BD898F723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828720" y="1346040"/>
          <a:ext cx="758664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346040"/>
                    <a:ext cx="75866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CA44-07C9-42F8-A1DC-CA78F82368B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gh Matrix - PHY Layer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793800" y="1662120"/>
          <a:ext cx="8066160" cy="56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662120"/>
                    <a:ext cx="806616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744-8CB2-4050-895E-18C4D2845FC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Link Budget for Two-Ra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9080" y="3870000"/>
            <a:ext cx="7786440" cy="23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based on: IEEE 802.15-00/050r1, Rick Robert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Figure: 15 dB (inexpensive imple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Bandwidth: 16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Noise Floor: -174+10*log(16*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+15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87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 Loss Margin: 6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enna Gain: 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2160" y="1373040"/>
            <a:ext cx="4816440" cy="252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6F4-E01F-4CFE-BB22-A7D9CCE7EA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of Link Budget for Two-Ray Model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6880" y="1382400"/>
            <a:ext cx="7810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Second Ray Delay: 25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Second Ray Refflection Coefficient: -6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d Direct Ray Range: 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 Equation (dB): L = 32.5+20log(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met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+20log(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GH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2.4 GHz, assuming the direct ray is blocked, the loss of the reflected ray path (17.4 m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 = 32.5+24.8+7.6+6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71dB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6 dB reflection coeffici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ing antenna gain and implementation lo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 Loss Budget: L + 2x0 + 5 = 77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x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sitivity is -7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Bm for an operating SNR of 10 dB at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x Power: Noise Floor + SNR + Loss = -87 dBm + 10 dB + 77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x Power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7E9-2DDA-48B3-93F1-AE23C79B83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67160" y="5854680"/>
            <a:ext cx="41655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HY Functional Sch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577440" y="698400"/>
            <a:ext cx="165240" cy="39384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760" y="1219320"/>
            <a:ext cx="571320" cy="571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79560" y="5803920"/>
            <a:ext cx="571680" cy="571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0080" y="1282680"/>
            <a:ext cx="571680" cy="5716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40080" y="660240"/>
            <a:ext cx="571680" cy="5716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14440" y="2946240"/>
            <a:ext cx="317520" cy="279360"/>
            <a:chOff x="514440" y="2946240"/>
            <a:chExt cx="317520" cy="279360"/>
          </a:xfrm>
        </p:grpSpPr>
        <p:sp>
          <p:nvSpPr>
            <p:cNvPr id="64" name=""/>
            <p:cNvSpPr/>
            <p:nvPr/>
          </p:nvSpPr>
          <p:spPr>
            <a:xfrm>
              <a:off x="514440" y="3149640"/>
              <a:ext cx="76320" cy="75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8920" y="2946240"/>
              <a:ext cx="75960" cy="76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5640" y="3149640"/>
              <a:ext cx="76320" cy="75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rot="5400000">
            <a:off x="1259640" y="2831400"/>
            <a:ext cx="836640" cy="7236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457880" y="2831040"/>
            <a:ext cx="836640" cy="7239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823680" y="4519440"/>
            <a:ext cx="866880" cy="74916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38360" y="3835440"/>
            <a:ext cx="965160" cy="342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thesi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057560" y="2793960"/>
            <a:ext cx="304560" cy="279360"/>
            <a:chOff x="4057560" y="2793960"/>
            <a:chExt cx="304560" cy="279360"/>
          </a:xfrm>
        </p:grpSpPr>
        <p:sp>
          <p:nvSpPr>
            <p:cNvPr id="72" name=""/>
            <p:cNvSpPr/>
            <p:nvPr/>
          </p:nvSpPr>
          <p:spPr>
            <a:xfrm flipV="1">
              <a:off x="4057560" y="2793960"/>
              <a:ext cx="75960" cy="763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184280" y="2997000"/>
              <a:ext cx="76320" cy="763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286160" y="2793960"/>
              <a:ext cx="75960" cy="763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6880" y="3016080"/>
            <a:ext cx="355680" cy="355680"/>
          </a:xfrm>
          <a:prstGeom prst="flowChartSummingJunction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716360"/>
            <a:ext cx="355680" cy="355680"/>
          </a:xfrm>
          <a:prstGeom prst="flowChartSummingJunction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46560" y="4791240"/>
            <a:ext cx="203400" cy="203040"/>
          </a:xfrm>
          <a:prstGeom prst="flowChartOr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72320" y="4422600"/>
            <a:ext cx="253800" cy="254160"/>
          </a:xfrm>
          <a:prstGeom prst="flowChartSummingJunction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72320" y="5108400"/>
            <a:ext cx="253800" cy="254160"/>
          </a:xfrm>
          <a:prstGeom prst="flowChartSummingJunction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8" idx="2"/>
            <a:endCxn id="77" idx="0"/>
          </p:cNvCxnSpPr>
          <p:nvPr/>
        </p:nvCxnSpPr>
        <p:spPr>
          <a:xfrm flipV="1" rot="10800000">
            <a:off x="5247720" y="4548600"/>
            <a:ext cx="624600" cy="2422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79" idx="2"/>
            <a:endCxn id="77" idx="4"/>
          </p:cNvCxnSpPr>
          <p:nvPr/>
        </p:nvCxnSpPr>
        <p:spPr>
          <a:xfrm rot="10800000">
            <a:off x="5247720" y="4993560"/>
            <a:ext cx="624600" cy="2419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82" name=""/>
          <p:cNvGrpSpPr/>
          <p:nvPr/>
        </p:nvGrpSpPr>
        <p:grpSpPr>
          <a:xfrm>
            <a:off x="5278320" y="2714760"/>
            <a:ext cx="860400" cy="939600"/>
            <a:chOff x="5278320" y="2714760"/>
            <a:chExt cx="860400" cy="939600"/>
          </a:xfrm>
        </p:grpSpPr>
        <p:sp>
          <p:nvSpPr>
            <p:cNvPr id="83" name=""/>
            <p:cNvSpPr/>
            <p:nvPr/>
          </p:nvSpPr>
          <p:spPr>
            <a:xfrm>
              <a:off x="5884920" y="2714760"/>
              <a:ext cx="253800" cy="253800"/>
            </a:xfrm>
            <a:prstGeom prst="flowChartSummingJunction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84920" y="3400560"/>
              <a:ext cx="253800" cy="253800"/>
            </a:xfrm>
            <a:prstGeom prst="flowChartSummingJunction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" name=""/>
            <p:cNvCxnSpPr>
              <a:stCxn id="84" idx="2"/>
              <a:endCxn id="83" idx="2"/>
            </p:cNvCxnSpPr>
            <p:nvPr/>
          </p:nvCxnSpPr>
          <p:spPr>
            <a:xfrm flipH="1" rot="10800000">
              <a:off x="5884560" y="2840760"/>
              <a:ext cx="2160" cy="686520"/>
            </a:xfrm>
            <a:prstGeom prst="bentConnector3">
              <a:avLst>
                <a:gd name="adj1" fmla="val -33700000"/>
              </a:avLst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86" name=""/>
          <p:cNvSpPr/>
          <p:nvPr/>
        </p:nvSpPr>
        <p:spPr>
          <a:xfrm>
            <a:off x="5235480" y="3193920"/>
            <a:ext cx="11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32040" y="3835440"/>
            <a:ext cx="965520" cy="342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thesi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75" idx="4"/>
            <a:endCxn id="76" idx="0"/>
          </p:cNvCxnSpPr>
          <p:nvPr/>
        </p:nvCxnSpPr>
        <p:spPr>
          <a:xfrm>
            <a:off x="2844360" y="3371400"/>
            <a:ext cx="1080" cy="1345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sm" type="arrow" w="sm"/>
          </a:ln>
        </p:spPr>
      </p:cxnSp>
      <p:cxnSp>
        <p:nvCxnSpPr>
          <p:cNvPr id="89" name=""/>
          <p:cNvCxnSpPr>
            <a:stCxn id="70" idx="3"/>
          </p:cNvCxnSpPr>
          <p:nvPr/>
        </p:nvCxnSpPr>
        <p:spPr>
          <a:xfrm flipV="1">
            <a:off x="2603520" y="3999960"/>
            <a:ext cx="241920" cy="6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67" idx="0"/>
            <a:endCxn id="75" idx="2"/>
          </p:cNvCxnSpPr>
          <p:nvPr/>
        </p:nvCxnSpPr>
        <p:spPr>
          <a:xfrm>
            <a:off x="2039760" y="3192480"/>
            <a:ext cx="627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5" idx="6"/>
            <a:endCxn id="62" idx="1"/>
          </p:cNvCxnSpPr>
          <p:nvPr/>
        </p:nvCxnSpPr>
        <p:spPr>
          <a:xfrm flipV="1">
            <a:off x="3022560" y="945720"/>
            <a:ext cx="317880" cy="22485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61" idx="1"/>
          </p:cNvCxnSpPr>
          <p:nvPr/>
        </p:nvCxnSpPr>
        <p:spPr>
          <a:xfrm flipH="1" flipV="1">
            <a:off x="3174120" y="1561680"/>
            <a:ext cx="16596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61" idx="3"/>
            <a:endCxn id="72" idx="5"/>
          </p:cNvCxnSpPr>
          <p:nvPr/>
        </p:nvCxnSpPr>
        <p:spPr>
          <a:xfrm>
            <a:off x="3911760" y="1568160"/>
            <a:ext cx="210240" cy="12369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62" idx="3"/>
            <a:endCxn id="74" idx="4"/>
          </p:cNvCxnSpPr>
          <p:nvPr/>
        </p:nvCxnSpPr>
        <p:spPr>
          <a:xfrm>
            <a:off x="3911760" y="945720"/>
            <a:ext cx="411840" cy="18486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73" idx="0"/>
            <a:endCxn id="68" idx="3"/>
          </p:cNvCxnSpPr>
          <p:nvPr/>
        </p:nvCxnSpPr>
        <p:spPr>
          <a:xfrm flipH="1" rot="16200000">
            <a:off x="4308120" y="2985480"/>
            <a:ext cx="119880" cy="294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H="1" flipV="1">
            <a:off x="4124160" y="2804760"/>
            <a:ext cx="1080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58" idx="0"/>
            <a:endCxn id="59" idx="0"/>
          </p:cNvCxnSpPr>
          <p:nvPr/>
        </p:nvCxnSpPr>
        <p:spPr>
          <a:xfrm>
            <a:off x="659880" y="1090440"/>
            <a:ext cx="1080" cy="129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59" idx="2"/>
            <a:endCxn id="65" idx="0"/>
          </p:cNvCxnSpPr>
          <p:nvPr/>
        </p:nvCxnSpPr>
        <p:spPr>
          <a:xfrm>
            <a:off x="660240" y="1790640"/>
            <a:ext cx="7200" cy="1156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66" idx="6"/>
            <a:endCxn id="67" idx="3"/>
          </p:cNvCxnSpPr>
          <p:nvPr/>
        </p:nvCxnSpPr>
        <p:spPr>
          <a:xfrm>
            <a:off x="831600" y="3187440"/>
            <a:ext cx="484920" cy="5400"/>
          </a:xfrm>
          <a:prstGeom prst="bentConnector3">
            <a:avLst>
              <a:gd name="adj1" fmla="val 4977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64" idx="4"/>
            <a:endCxn id="69" idx="0"/>
          </p:cNvCxnSpPr>
          <p:nvPr/>
        </p:nvCxnSpPr>
        <p:spPr>
          <a:xfrm flipH="1" rot="16200000">
            <a:off x="-116640" y="3894840"/>
            <a:ext cx="1667520" cy="3290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60" idx="1"/>
            <a:endCxn id="69" idx="3"/>
          </p:cNvCxnSpPr>
          <p:nvPr/>
        </p:nvCxnSpPr>
        <p:spPr>
          <a:xfrm rot="10800000">
            <a:off x="1629720" y="4892040"/>
            <a:ext cx="249840" cy="1197360"/>
          </a:xfrm>
          <a:prstGeom prst="bentConnector3">
            <a:avLst>
              <a:gd name="adj1" fmla="val 49639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77" idx="2"/>
            <a:endCxn id="76" idx="6"/>
          </p:cNvCxnSpPr>
          <p:nvPr/>
        </p:nvCxnSpPr>
        <p:spPr>
          <a:xfrm flipH="1">
            <a:off x="3022200" y="4892760"/>
            <a:ext cx="21247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 flipH="1">
            <a:off x="590040" y="3025800"/>
            <a:ext cx="7956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76" idx="2"/>
            <a:endCxn id="60" idx="3"/>
          </p:cNvCxnSpPr>
          <p:nvPr/>
        </p:nvCxnSpPr>
        <p:spPr>
          <a:xfrm flipV="1" rot="10800000">
            <a:off x="2450520" y="4893120"/>
            <a:ext cx="216360" cy="11962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5295960" y="3879720"/>
            <a:ext cx="622080" cy="254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/  90</a:t>
            </a:r>
            <a:r>
              <a:rPr b="0" lang="en-GB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>
            <a:off x="4597560" y="4006440"/>
            <a:ext cx="6991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448240" y="2965320"/>
            <a:ext cx="568440" cy="914400"/>
          </a:xfrm>
          <a:custGeom>
            <a:avLst/>
            <a:gdLst/>
            <a:ahLst/>
            <a:rect l="l" t="t" r="r" b="b"/>
            <a:pathLst>
              <a:path w="358" h="576">
                <a:moveTo>
                  <a:pt x="0" y="576"/>
                </a:moveTo>
                <a:lnTo>
                  <a:pt x="0" y="110"/>
                </a:lnTo>
                <a:lnTo>
                  <a:pt x="358" y="110"/>
                </a:lnTo>
                <a:lnTo>
                  <a:pt x="35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30840" y="3286080"/>
            <a:ext cx="276120" cy="593640"/>
          </a:xfrm>
          <a:custGeom>
            <a:avLst/>
            <a:gdLst/>
            <a:ahLst/>
            <a:rect l="l" t="t" r="r" b="b"/>
            <a:pathLst>
              <a:path w="174" h="374">
                <a:moveTo>
                  <a:pt x="0" y="374"/>
                </a:moveTo>
                <a:lnTo>
                  <a:pt x="0" y="0"/>
                </a:lnTo>
                <a:lnTo>
                  <a:pt x="174" y="0"/>
                </a:lnTo>
                <a:lnTo>
                  <a:pt x="174" y="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42120" y="4130640"/>
            <a:ext cx="564840" cy="977760"/>
          </a:xfrm>
          <a:custGeom>
            <a:avLst/>
            <a:gdLst/>
            <a:ahLst/>
            <a:rect l="l" t="t" r="r" b="b"/>
            <a:pathLst>
              <a:path w="356" h="616">
                <a:moveTo>
                  <a:pt x="0" y="0"/>
                </a:moveTo>
                <a:lnTo>
                  <a:pt x="0" y="524"/>
                </a:lnTo>
                <a:lnTo>
                  <a:pt x="356" y="524"/>
                </a:lnTo>
                <a:lnTo>
                  <a:pt x="356" y="61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34080" y="4130640"/>
            <a:ext cx="266760" cy="701640"/>
          </a:xfrm>
          <a:custGeom>
            <a:avLst/>
            <a:gdLst/>
            <a:ahLst/>
            <a:rect l="l" t="t" r="r" b="b"/>
            <a:pathLst>
              <a:path w="168" h="442">
                <a:moveTo>
                  <a:pt x="0" y="0"/>
                </a:moveTo>
                <a:lnTo>
                  <a:pt x="0" y="442"/>
                </a:lnTo>
                <a:lnTo>
                  <a:pt x="168" y="442"/>
                </a:lnTo>
                <a:lnTo>
                  <a:pt x="168" y="3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73720" y="27018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73720" y="33894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73720" y="44100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73720" y="509904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78" idx="6"/>
            <a:endCxn id="113" idx="1"/>
          </p:cNvCxnSpPr>
          <p:nvPr/>
        </p:nvCxnSpPr>
        <p:spPr>
          <a:xfrm>
            <a:off x="6126120" y="4549320"/>
            <a:ext cx="148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79" idx="6"/>
            <a:endCxn id="114" idx="1"/>
          </p:cNvCxnSpPr>
          <p:nvPr/>
        </p:nvCxnSpPr>
        <p:spPr>
          <a:xfrm>
            <a:off x="6126120" y="5235120"/>
            <a:ext cx="14832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3" idx="6"/>
            <a:endCxn id="111" idx="1"/>
          </p:cNvCxnSpPr>
          <p:nvPr/>
        </p:nvCxnSpPr>
        <p:spPr>
          <a:xfrm>
            <a:off x="6138360" y="2841120"/>
            <a:ext cx="1357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84" idx="6"/>
            <a:endCxn id="112" idx="1"/>
          </p:cNvCxnSpPr>
          <p:nvPr/>
        </p:nvCxnSpPr>
        <p:spPr>
          <a:xfrm>
            <a:off x="6138360" y="3526920"/>
            <a:ext cx="13572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6832440" y="27018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32440" y="33894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32440" y="44100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32440" y="50958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32440" y="2219400"/>
            <a:ext cx="393840" cy="279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68" idx="1"/>
            <a:endCxn id="123" idx="1"/>
          </p:cNvCxnSpPr>
          <p:nvPr/>
        </p:nvCxnSpPr>
        <p:spPr>
          <a:xfrm flipH="1" flipV="1" rot="5400000">
            <a:off x="5542560" y="1692720"/>
            <a:ext cx="624600" cy="19562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</p:cxnSp>
      <p:cxnSp>
        <p:nvCxnSpPr>
          <p:cNvPr id="125" name=""/>
          <p:cNvCxnSpPr>
            <a:stCxn id="111" idx="3"/>
            <a:endCxn id="119" idx="1"/>
          </p:cNvCxnSpPr>
          <p:nvPr/>
        </p:nvCxnSpPr>
        <p:spPr>
          <a:xfrm>
            <a:off x="6667560" y="2841120"/>
            <a:ext cx="165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12" idx="3"/>
            <a:endCxn id="120" idx="1"/>
          </p:cNvCxnSpPr>
          <p:nvPr/>
        </p:nvCxnSpPr>
        <p:spPr>
          <a:xfrm>
            <a:off x="6667560" y="3528720"/>
            <a:ext cx="165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13" idx="3"/>
            <a:endCxn id="121" idx="1"/>
          </p:cNvCxnSpPr>
          <p:nvPr/>
        </p:nvCxnSpPr>
        <p:spPr>
          <a:xfrm>
            <a:off x="6667560" y="4549320"/>
            <a:ext cx="165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4" idx="3"/>
            <a:endCxn id="122" idx="1"/>
          </p:cNvCxnSpPr>
          <p:nvPr/>
        </p:nvCxnSpPr>
        <p:spPr>
          <a:xfrm flipV="1">
            <a:off x="6667560" y="5234760"/>
            <a:ext cx="16560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 flipV="1">
            <a:off x="1371600" y="2714760"/>
            <a:ext cx="393840" cy="1095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2222640"/>
            <a:ext cx="812520" cy="31496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26280" y="23590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23040" y="2841480"/>
            <a:ext cx="1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23040" y="3527280"/>
            <a:ext cx="1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23040" y="4556160"/>
            <a:ext cx="1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23040" y="52387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55880" y="22417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54800" y="272412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x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54800" y="3397320"/>
            <a:ext cx="45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x 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54800" y="4438800"/>
            <a:ext cx="44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x 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54800" y="512136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x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30920" y="2095560"/>
            <a:ext cx="1587600" cy="34034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5120" y="238428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S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965160"/>
            <a:ext cx="812520" cy="5968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cil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30" idx="0"/>
          </p:cNvCxnSpPr>
          <p:nvPr/>
        </p:nvCxnSpPr>
        <p:spPr>
          <a:xfrm>
            <a:off x="7797600" y="1561680"/>
            <a:ext cx="1080" cy="661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228600" y="1955880"/>
            <a:ext cx="8470800" cy="3720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4080" y="1281240"/>
            <a:ext cx="51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93760" y="5764320"/>
            <a:ext cx="56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94840" y="3594240"/>
            <a:ext cx="583920" cy="469800"/>
          </a:xfrm>
          <a:prstGeom prst="leftRightArrow">
            <a:avLst>
              <a:gd name="adj1" fmla="val 50000"/>
              <a:gd name="adj2" fmla="val 2474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41840" y="798480"/>
            <a:ext cx="125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02.15.3 IF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41840" y="1420920"/>
            <a:ext cx="125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02.15.1 IF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3087-151C-443E-8D02-810D2F7DBCA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064040" y="3632040"/>
            <a:ext cx="1079640" cy="129564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18120" y="1854360"/>
            <a:ext cx="1079640" cy="12952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92160" y="3632040"/>
            <a:ext cx="1079640" cy="1295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3645000"/>
            <a:ext cx="1079640" cy="12952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59200" y="1841400"/>
            <a:ext cx="1079280" cy="12956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472760" y="965160"/>
            <a:ext cx="6134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band Processor — M-ary Sequence Coded 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92160" y="391176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s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for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14720" y="3897360"/>
            <a:ext cx="11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imu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kelyhood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21520" y="4037040"/>
            <a:ext cx="98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3680" y="4267080"/>
            <a:ext cx="1028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26400" y="2119320"/>
            <a:ext cx="107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of 128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82680" y="2246400"/>
            <a:ext cx="84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08160" y="2489040"/>
            <a:ext cx="85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248904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97760" y="219708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97760" y="281952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451240" y="234936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470480" y="236232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27880" y="205740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533640" y="2685960"/>
            <a:ext cx="20988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14360" y="46227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394344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5040" y="3943440"/>
            <a:ext cx="109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610160"/>
            <a:ext cx="109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57960" y="4273560"/>
            <a:ext cx="87012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550280" y="4133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537160" y="4133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441600" y="37972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422520" y="446400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479600" y="38098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60520" y="4483080"/>
            <a:ext cx="2095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3920" y="23432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A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1812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09600" y="2220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5800" y="22017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3280" y="218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64720" y="1906560"/>
            <a:ext cx="310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70480" y="2503440"/>
            <a:ext cx="416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03920" y="19051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3920" y="25336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82440" y="2027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72720" y="265572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27360" y="36100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27360" y="42958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9680" y="39798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38360" y="36194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28640" y="430524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05800" y="39625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640" y="3790800"/>
            <a:ext cx="657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640" y="4476600"/>
            <a:ext cx="704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 Q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49200" y="3646440"/>
            <a:ext cx="28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44520" y="4332240"/>
            <a:ext cx="33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14960" y="395460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10440" y="4037040"/>
            <a:ext cx="60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47960" y="3992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46C-0F63-490F-91BE-70DBEA18E7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84280" y="1030320"/>
            <a:ext cx="828504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F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RF blocks shared between 802.15.1 and 802.15.3 modes.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ept IF 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 power = 0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PA efficiency of 33%, 3 dB RFPA back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OS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B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st transform correlators - 12.5 Mchips/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-bit Rx ADCs - 50 Msample/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-bit Tx DACs - 50 Msample/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-bit AGC 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2-tap digital root raised-cosine pulse shaping filter (25% rolloff fa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K gates for BB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18u CMOS process in a dedicated 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chip implementation, 1 crystal, 4 filters (front-end, IF x 2, Tx IR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'Farrell &amp; Aguado, Supergold Comm. Lt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F85-EBF1-44E1-BE06-6652E595702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3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18:19:05Z</dcterms:created>
  <dc:creator>Tim O'Farrell</dc:creator>
  <dc:description/>
  <dc:language>en-US</dc:language>
  <cp:lastModifiedBy>Preferred Customer</cp:lastModifiedBy>
  <cp:lastPrinted>2000-10-10T20:31:30Z</cp:lastPrinted>
  <dcterms:modified xsi:type="dcterms:W3CDTF">2000-10-23T17:49:35Z</dcterms:modified>
  <cp:revision>152</cp:revision>
  <dc:subject>IEEE 802.15 TG3</dc:subject>
  <dc:title>No Slide Title</dc:title>
</cp:coreProperties>
</file>