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368-9C4F-458F-977D-570A0673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90-828C-4156-B226-9A55421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49D-02DD-4903-AE16-4A44AF46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0D2-A29E-4E1D-BA4F-6534457A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D25-FC3B-4837-92AA-3493536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61A-286C-4832-8916-FE917C65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4DA-9BA7-49E6-A69F-54A7FB0F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279-70B0-427D-A36E-F8583CC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394-37C4-4622-818D-EA55F9D0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B54-E1B6-4684-A8F0-1D110787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0CB-6621-411F-B14B-C47365C3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E89-3F1F-4674-9512-7FD3D70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178FD1-C74C-459B-B603-9294DEC9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4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Meeting Closing Report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mpa, 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F6A-724D-4297-AB2F-9926BDF812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01D-1C8B-4E01-AF8D-108C014F99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missions on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ptember we sent out the Call for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echanisms are being made 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 (T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 (Monter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voting on selection procedure at this meeting (Thursday) 00/353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156-15DB-4913-8063-8DC63ED9F0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3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87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Bin Ga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Frequency Hopping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7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HTA: A Method of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778-EADC-4316-8F25-28204AF627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d on procedure for selection of coexistence mechanism, 00/353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b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6C2-8020-4533-ADCB-5319D1F0E6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Van Dyck, “PHY Level Coexistence Model”, 00/372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“MAC and PHY Coexistence Model Integration: Part 1”, 00388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70C-8651-439A-9FB1-AA9C178F5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2 moves that the 802.15 Working Group votes to approve 00/353r2 as the procedure for selection of the coexistence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60A-7CA4-428F-8734-93C6AA161B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0-11-09T15:16:14Z</dcterms:modified>
  <cp:revision>275</cp:revision>
  <dc:subject>IEEE 802.15 &lt;subject&gt;</dc:subject>
  <dc:title>IEEE P802.15 Working Group for Wireless Personal Area Networks</dc:title>
</cp:coreProperties>
</file>