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E25F4-5486-4D61-8F0D-17185D4AE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3C1A2-74C0-468E-8179-7AC4CFF3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A238D-FEE3-4830-A0C7-5D6A14D40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34E1F-C229-4C27-8E30-49513033A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06CEC-F219-43AC-BAC6-70776AFB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F0B43-99F5-489E-B247-CAA6C50E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2CFCD-9239-4CAA-B694-60AE6F18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93E6-19CE-4EEB-9101-2DED879EA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8AB99-7DCE-4069-AC08-77429DE8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3ED6-63CA-4E94-870D-E2EB6AA3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DCC5-DC5A-4BE0-9C08-E6C19272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AA39-60A5-4377-A29C-E45C2B782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E622E0-F3CC-4A7F-8D6E-A9A3D7C85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9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802.15.3 PHY Proposal Compromi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 Novem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USA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716) 781-9024, FAX: (716) 781-9733, E-Mail: 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IEEE 802.15.3 PHY Proposal Compromis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contains the text of Dabak PHYproposal changes presented prior to the fourth and final PHY proposal confirmation vote  held during the November 2000 IEEE 802 Plenary Meeting held in Tampa, FL. The text was co-authored and approved by Tom Siep, Anand Dabak and Mohammed Naf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ick Alfvin, Eastman Kodak Company</a:t>
            </a:r>
          </a:p>
        </p:txBody>
      </p:sp>
      <p:sp>
        <p:nvSpPr>
          <p:cNvPr id="3" name="PlaceHolder 2"/>
          <p:cNvSpPr>
            <a:spLocks noGrp="1"/>
          </p:cNvSpPr>
          <p:nvPr>
            <p:ph type="sldNum" idx="3"/>
          </p:nvPr>
        </p:nvSpPr>
        <p:spPr/>
        <p:txBody>
          <a:bodyPr/>
          <a:p>
            <a:fld id="{3D7FD9D1-A8A1-4101-B1F4-88969FDD27F1}" type="slidenum">
              <a:t>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bak/Allen/Carlson PHY Compromise</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 agrees to adopt OQPSK as their base modulation sche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 assumes that the TG3 committee will validate this approach and make a sound marketing/technical decision in terms of equalization and other delay spread techniq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 to consider alternate coding schemes for the higher rates, paying special attention to “lightweight” coding sche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k Alfvin, Eastman Kodak Company</a:t>
            </a:r>
          </a:p>
        </p:txBody>
      </p:sp>
      <p:sp>
        <p:nvSpPr>
          <p:cNvPr id="5" name="PlaceHolder 4"/>
          <p:cNvSpPr>
            <a:spLocks noGrp="1"/>
          </p:cNvSpPr>
          <p:nvPr>
            <p:ph type="sldNum" idx="3"/>
          </p:nvPr>
        </p:nvSpPr>
        <p:spPr/>
        <p:txBody>
          <a:bodyPr/>
          <a:p>
            <a:fld id="{06DFC219-B504-4839-9729-2C0ECB87D9FE}"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9T16:53:13Z</dcterms:created>
  <dc:creator>Richard L. Alfvin</dc:creator>
  <dc:description>00/392r0</dc:description>
  <dc:language>en-US</dc:language>
  <cp:lastModifiedBy>Richard L. Alfvin</cp:lastModifiedBy>
  <cp:lastPrinted>1998-02-10T13:28:06Z</cp:lastPrinted>
  <dcterms:modified xsi:type="dcterms:W3CDTF">2000-11-09T21:18:17Z</dcterms:modified>
  <cp:revision>2</cp:revision>
  <dc:subject>IEEE 802.15 PHY Proposal Compromise</dc:subject>
  <dc:title>No Slide Title</dc:title>
</cp:coreProperties>
</file>