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C85BDD-3303-4471-8EF4-9608B37C3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4160" y="701640"/>
            <a:ext cx="4626000" cy="3468600"/>
          </a:xfrm>
          <a:prstGeom prst="rect">
            <a:avLst/>
          </a:prstGeom>
          <a:ln w="0">
            <a:noFill/>
          </a:ln>
        </p:spPr>
      </p:sp>
      <p:sp>
        <p:nvSpPr>
          <p:cNvPr id="16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4160" y="701640"/>
            <a:ext cx="4626000" cy="3468600"/>
          </a:xfrm>
          <a:prstGeom prst="rect">
            <a:avLst/>
          </a:prstGeom>
          <a:ln w="0">
            <a:noFill/>
          </a:ln>
        </p:spPr>
      </p:sp>
      <p:sp>
        <p:nvSpPr>
          <p:cNvPr id="16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Functional Requirements Document (FRD), Draft 6.8 Revised: July 10, 199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2 Compatibil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defines a family of standards. All standards shall be in conformance with IEEE 802.1 Architecture, Management and Interwork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LLC and MAC standards shall be compatible with ISO 10039[20], MAC Service Definition1, at the LLC/MAC boundary. Within the LLC Working Group there shall be one LLC standard, including one or more LLC protocols with a common LLC/MAC interface. Within a MAC Working Group there shall be one MAC standard and one or more Physical Layer standards with a common MAC/Physical laye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tandard in the IEEE 802 family of standards shall include a definition of managed objects which are compatible with OSI systems management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Note: This requirement is subject to final resolution of corrections and revision to current ISO 10039, currently inconsistent with ISO 8802 series standard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975D2-220B-4759-990C-736910F9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5D52-7781-4FD1-8622-E206E627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1917B-9CF5-42CC-BC06-30F99E971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0183-A715-4E3A-9EAD-8BA460EAB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EA1F-CD10-4510-B0DF-94FDCDC5E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95D8-AE38-4176-89D3-A33A005D4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07E5-74AF-4C72-8B7B-64DE5BFA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8544-D713-4DB6-A4FE-1760F358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8AB3-5985-4300-BE46-A655562D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B0D6-0380-4089-8B77-A47F7D85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7961-D05C-41AD-8E8E-C3732F260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85D6-7C5A-4AB6-BC9B-F1C1CB511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F6C1FC-A37A-4239-BFD0-22B425E9B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1EDC27D-C175-43B6-8949-78265BCF5D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7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s &amp; Assump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estones based on backward scheduling from IEEE-SA RevCom Draft Submission Dead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IG v1.1 would become available mid Nov0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93506AA-879A-4604-B3C0-3EF668E62907}" type="slidenum">
              <a:t>1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1 Original Project Pla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99</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iscussion on Proposals. </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99</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raft ready for WG ballot.</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Ballot complete, second ballot kicked off.</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ready for IEEE sponsor ballot. </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00</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al by IEEE Standards Bo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0316961-DEDD-4A02-9F9B-9025153D62D2}" type="slidenum">
              <a:t>1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1 Current Project Plannin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iscussion on Proposals.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raft ready for WG ballot.</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0</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Ballot complete, second ballot kicked off.</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ready for IEEE sponsor ballot.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p:txBody>
      </p:sp>
      <p:sp>
        <p:nvSpPr>
          <p:cNvPr id="86"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88"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90"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9C377D-F2EF-44BC-9C74-1C4F79F3E3A3}" type="slidenum">
              <a:t>1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ling Project Planning, as of 24Oct00</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99  Initial Discussion on Proposal submissions./Done, Jul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99  IEEE initial vote of support to draft 802.15 based on Bluetooth specification./Done, Jul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99  Overview the draft 802.15.1 based on the current Bluetooth specification to the timeline./Done, 9Nov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99  1st Draft 0.6 ready for WG LB1 (11Nov-23Dec)./Done, 4Nov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00  Comment Resolutions &amp; WG LB2 (23Feb-3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00  Comment Resolutions/Done, 10Mar0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00  2nd Draft 0.7.2 ready for WG LB3 (24May-3Jul00)./Done 24May0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00  Comment Resolu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00  Comment Resolu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00  3rd Draft 0.8 ready for WG LB(6) (Nov-De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00  Comment Resolutions…</a:t>
            </a:r>
            <a:endParaRPr b="0" lang="en-US" sz="1800" spc="-1" strike="noStrike">
              <a:solidFill>
                <a:srgbClr val="000000"/>
              </a:solidFill>
              <a:latin typeface="Times New Roman"/>
            </a:endParaRPr>
          </a:p>
        </p:txBody>
      </p:sp>
      <p:sp>
        <p:nvSpPr>
          <p:cNvPr id="93" name=""/>
          <p:cNvSpPr/>
          <p:nvPr/>
        </p:nvSpPr>
        <p:spPr>
          <a:xfrm>
            <a:off x="304920" y="583416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are the scenarios we are considering as we enter Session #9/Tampa - TG1 is planning for Scenario 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dependent on a mid Nov00 BSIG v1.1 publication release.  NO CHANGE FROM 13Oct00.</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0309A4A-3884-484D-B6DF-64425B159C6B}" type="slidenum">
              <a:t>1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A (BSIG v1.1=IEEE Std 802.15.1-[200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Comment Resolutions/Done, Dec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4th Draft 0.9 ready for WG LB(7) (Dec-Ja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Draft ready for IEEE sponsor ballo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ug01 Draft Submission Dead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Approval by IEEE Standards Bo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sic] s/b Nov01 Maintenance PAR (BSIG v1.x=IEEE Std 802.15.1-[20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48A691-A0E7-42EF-8031-004D4396CC69}" type="slidenum">
              <a:t>1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B</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B (BSIG v1.1=IEEE Std 802.15.1-[2001])</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Comment Resolutions/Done, Jan01</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4th Draft 0.9 ready for WG LB(7) (Jan-Feb).</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Draft 1.0 ready for IEEE sponsor ballo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Oct01 Draft Submission Deadlin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01</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1  Approval by IEEE Standards Bo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2  Maintenance PAR (BSIG v1.x=IEEE Std 802.15.1-[20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57A7F7-67C1-4B4B-B24A-EAABA0E214E9}" type="slidenum">
              <a:t>1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C</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 (BSIG v1.x=IEEE Std 802.15.1-[200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F297CA-DFD1-4D1A-A146-4B22D122BC8A}" type="slidenum">
              <a:t>1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DL model: updates from SI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Position:</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ing the model will be a very time consuming and labor intensive process. Validating against the TTCN vectors is not sufficient. The SIG does not currently have any resources for this project and does not anticipate having resources for quite sometime. We are unfortunately unable to provide validation help.</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Proposal:</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sh the SDL model as reference (instead of normative) document in the 802.15.1 appendix, until validated.</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plan on making it a normative part of the spec for a couple of years.</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is suggesting to put a statement in the IEEE 802.15.1 spec that a product can only be called IEEE 802.15.1 compliant if it passes the proper subset of the Bluetooth certification program.</a:t>
            </a:r>
            <a:endParaRPr b="0" lang="en-US" sz="2000" spc="-1" strike="noStrike">
              <a:solidFill>
                <a:srgbClr val="000000"/>
              </a:solidFill>
              <a:latin typeface="Times New Roman"/>
            </a:endParaRPr>
          </a:p>
        </p:txBody>
      </p:sp>
      <p:sp>
        <p:nvSpPr>
          <p:cNvPr id="102"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9A26F5B-DA6C-4A81-AB8C-9C03141F8227}" type="slidenum">
              <a:t>1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s Posi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IG's concern is fragmentation of the WPAN mark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issue in the relationship between BSIG and IEEE:</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organisations have different IP rules and fundamentally different decision making philosophies. This makes it difficult for the two organizations to work together on a single spec.</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the BSIG and TG3 started from the same proposal and developed specs in parallel, there is no guarantee that the two resulting specs would be compatible.</a:t>
            </a:r>
            <a:endParaRPr b="0" lang="en-US" sz="2400" spc="-1" strike="noStrike">
              <a:solidFill>
                <a:srgbClr val="000000"/>
              </a:solidFill>
              <a:latin typeface="Times New Roman"/>
            </a:endParaRPr>
          </a:p>
        </p:txBody>
      </p:sp>
      <p:sp>
        <p:nvSpPr>
          <p:cNvPr id="105"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140D25-0B5B-4A9F-A77A-9FC52701441F}" type="slidenum">
              <a:t>1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follow the same relationship model as TG1, where one organization follows the other. This would guarantee that we end up with compatible specs. It is the BSIG's preferred 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develop a radio solution which is highly differentiated (e.g.&gt; 40Mbit/sec data rate) from the BSIG's Radio 2 specification.</a:t>
            </a:r>
            <a:endParaRPr b="0" lang="en-US" sz="2400" spc="-1" strike="noStrike">
              <a:solidFill>
                <a:srgbClr val="000000"/>
              </a:solidFill>
              <a:latin typeface="Times New Roman"/>
            </a:endParaRPr>
          </a:p>
        </p:txBody>
      </p:sp>
      <p:sp>
        <p:nvSpPr>
          <p:cNvPr id="108"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3641B4-D459-4810-92C8-11DA6680C786}" type="slidenum">
              <a:t>1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0</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2000 Tampa, FL USA</a:t>
            </a:r>
            <a:endParaRPr b="0" lang="en-US" sz="36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014F13-8ABF-489D-B19A-8B6BA332B2E6}" type="slidenum">
              <a:t>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BSIG to adopt such a specification, all contributors would have to sign an Open 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ackward compliant with BT 1.0, IEEE's 802.15.3 must avoid overlapping the BT 1.0 spec, or an IEEE 802.15.3 product would not pass BT qualif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EEE 802.15.3 is not backward compliant with BT 1.0, it would fragment the WPAN market, as there would be two incompatible WPAN specifications with little end-user differentiation.</a:t>
            </a:r>
            <a:endParaRPr b="0" lang="en-US" sz="2400" spc="-1" strike="noStrike">
              <a:solidFill>
                <a:srgbClr val="000000"/>
              </a:solidFill>
              <a:latin typeface="Times New Roman"/>
            </a:endParaRPr>
          </a:p>
        </p:txBody>
      </p:sp>
      <p:sp>
        <p:nvSpPr>
          <p:cNvPr id="111"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C611FF-954C-4DDD-89A6-10A605F0C796}" type="slidenum">
              <a:t>2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DL model: updates from SIG (cont.)</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pos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 SDL model developer is invited to participate in the Bluetooth UnPlugFests to validate the SDL model against actual implementations (e.g. work with Telelogic to generate an implem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IEEE work with a University to conduct some validation?</a:t>
            </a:r>
            <a:endParaRPr b="0" lang="en-US" sz="2400" spc="-1" strike="noStrike">
              <a:solidFill>
                <a:srgbClr val="000000"/>
              </a:solidFill>
              <a:latin typeface="Times New Roman"/>
            </a:endParaRPr>
          </a:p>
        </p:txBody>
      </p:sp>
      <p:sp>
        <p:nvSpPr>
          <p:cNvPr id="114"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71FEF4-54CD-424E-861B-E46E97BB5CAE}" type="slidenum">
              <a:t>2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IG issue:  Conflicting and confusing statements have been made by  the press, regarding the relationship between the BSIG and IE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Agree on a common set of Q&amp;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set of Q&amp;As below is a draft and has not yet been reviewed/approved by the BSIG's marketing team.</a:t>
            </a:r>
            <a:endParaRPr b="0" lang="en-US" sz="3200" spc="-1" strike="noStrike">
              <a:solidFill>
                <a:srgbClr val="000000"/>
              </a:solidFill>
              <a:latin typeface="Times New Roman"/>
            </a:endParaRPr>
          </a:p>
        </p:txBody>
      </p:sp>
      <p:sp>
        <p:nvSpPr>
          <p:cNvPr id="117"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A82307-E5F5-464C-A0CF-B899272CF6BD}" type="slidenum">
              <a:t>2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  What exactly is the relationship between IEEE and the Bluetooth SI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1:  There is no formal relationship between the organiz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2:  Is it true that IEEE will take over the Bluetoo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2:  No.  IEEE is adopting the Bluetooth 1.x specification for 802.15.1.</a:t>
            </a:r>
            <a:endParaRPr b="0" lang="en-US" sz="3200" spc="-1" strike="noStrike">
              <a:solidFill>
                <a:srgbClr val="000000"/>
              </a:solidFill>
              <a:latin typeface="Times New Roman"/>
            </a:endParaRPr>
          </a:p>
        </p:txBody>
      </p:sp>
      <p:sp>
        <p:nvSpPr>
          <p:cNvPr id="120"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BE85DB-DC22-469D-8479-B62725FC7C80}" type="slidenum">
              <a:t>2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3:  If someone implements the 802.15.1 specifications, will these products be Bluetooth compatible? Will they be Bluetooth certifi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3:  Yes.  Companies using the technology in their products have to be Bluetooth SIG members and gain Bluetooth qualification for these product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4:  Is it true that the Bluetooth SIG submitted a proposal to the 802.15.3 Task Group?</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4:  No.</a:t>
            </a:r>
            <a:endParaRPr b="0" lang="en-US" sz="2800" spc="-1" strike="noStrike">
              <a:solidFill>
                <a:srgbClr val="000000"/>
              </a:solidFill>
              <a:latin typeface="Times New Roman"/>
            </a:endParaRPr>
          </a:p>
        </p:txBody>
      </p:sp>
      <p:sp>
        <p:nvSpPr>
          <p:cNvPr id="123"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93B202-6769-42B5-B82C-B54083097534}" type="slidenum">
              <a:t>2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5:  Is it true that the SIG has agreed to use the 802.15.3 spec as the third generation Bluetooth ra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5: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6:  What is the difference between Bluetooth and IEEE's 802.15 gro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6:  The Bluetooth SIG is a body of companies using and promoting the Bluetooth.  The IEEE is a body chartered to develop industry standards.</a:t>
            </a:r>
            <a:endParaRPr b="0" lang="en-US" sz="2800" spc="-1" strike="noStrike">
              <a:solidFill>
                <a:srgbClr val="000000"/>
              </a:solidFill>
              <a:latin typeface="Times New Roman"/>
            </a:endParaRPr>
          </a:p>
        </p:txBody>
      </p:sp>
      <p:sp>
        <p:nvSpPr>
          <p:cNvPr id="126"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D8A4E32-6817-4AF9-9787-9F236E9520D1}" type="slidenum">
              <a:t>2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7:  Is Bluetooth developing a follow-on technology that operates at 5 GHz?</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7:  No.  Bluetooth follow-on technology is targeted to stay within the 2.4 GHz ISM ban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8:  Can people build 802.15 radios without being a Bluetooth memb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8:  Yes, however manufacturers of devices using 802.15.1 radios have to be Bluetooth SIG members and must have their products qualified by the Bluetooth group, to get a free license to the Bluetooth IP.  IEEE is also working on 802.15.3 without involvement of the Bluetooth SIG.  It may be possible to ship these devices without being a member of the Bluetooth SIG.</a:t>
            </a:r>
            <a:endParaRPr b="0" lang="en-US" sz="2400" spc="-1" strike="noStrike">
              <a:solidFill>
                <a:srgbClr val="000000"/>
              </a:solidFill>
              <a:latin typeface="Times New Roman"/>
            </a:endParaRPr>
          </a:p>
        </p:txBody>
      </p:sp>
      <p:sp>
        <p:nvSpPr>
          <p:cNvPr id="129"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BC54AA5-5A27-46E7-928A-48626C9FA87C}" type="slidenum">
              <a:t>2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04E8BD-69EA-4CF4-8068-DCCEC6A77A9C}" type="slidenum">
              <a:t>2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3DA2AA-71B1-433A-8E38-A6BC663243D2}" type="slidenum">
              <a:t>2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ug00 on TG1 Draft Std. Copyright License &amp; v1.1</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Sep00 Follow up on LAN/MAN 802.15 Balloting Pool status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Sep00 LAN/MAN 802.15 Balloting Pool status report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 Aug00, and Sep00 on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Bluetooth Pocket Guide Contract and Review Manuscript due 6Oct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 &amp; Invitation for TG1 Draft est. need 9Nov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Draft Std onto IEEE 802 Plus CD-ROM and SDL Machine Executabl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0395E8-905F-41F8-890C-8242D1A81FE7}" type="slidenum">
              <a:t>2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4EC17B-E3F4-4F5B-89FB-412D984B445F}" type="slidenum">
              <a:t>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liaison for Jan01 Plenar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e on IEEE Draft 0.8 Standard Status i.e., Scenario B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 Specification v1.0C (v1.1) Status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BSIG-IEEE Telecon and f2f Meeting D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802.15 Interim Meetings?</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dentify hosts and venue 12months out, or more.</a:t>
            </a:r>
            <a:endParaRPr b="0" lang="en-US" sz="12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consider a single (.11/.15) Guideline for Interim Host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LAN/MAN 802.15 Balloting Pool?</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monitor this process, prompt invitation when needed –3mo before Sponsor LB</a:t>
            </a:r>
            <a:endParaRPr b="0" lang="en-US" sz="1200" spc="-1" strike="noStrike">
              <a:solidFill>
                <a:srgbClr val="000000"/>
              </a:solidFill>
              <a:latin typeface="Times New Roman"/>
            </a:endParaRPr>
          </a:p>
        </p:txBody>
      </p:sp>
      <p:sp>
        <p:nvSpPr>
          <p:cNvPr id="138"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Liaisons are fragmented and not all active liaisons are captur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42D9DC-0809-46F7-A73D-2C6CCD34BDD2}" type="slidenum">
              <a:t>3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a:t>
            </a:r>
            <a:br>
              <a:rPr sz="4400"/>
            </a:br>
            <a:r>
              <a:rPr b="0" lang="en-US" sz="4400" spc="-1" strike="noStrike">
                <a:solidFill>
                  <a:srgbClr val="000000"/>
                </a:solidFill>
                <a:latin typeface="Times New Roman"/>
              </a:rPr>
              <a:t>Wireless MAC Working Group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8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could potentially look like 3 MAC Sublayer/WGs to IEEE 802 Family.</a:t>
            </a:r>
            <a:endParaRPr b="0" lang="en-US" sz="2400" spc="-1" strike="noStrike">
              <a:solidFill>
                <a:srgbClr val="000000"/>
              </a:solidFill>
              <a:latin typeface="Times New Roman"/>
            </a:endParaRPr>
          </a:p>
        </p:txBody>
      </p:sp>
      <p:graphicFrame>
        <p:nvGraphicFramePr>
          <p:cNvPr id="141" name=""/>
          <p:cNvGraphicFramePr/>
          <p:nvPr/>
        </p:nvGraphicFramePr>
        <p:xfrm>
          <a:off x="4460760" y="2212920"/>
          <a:ext cx="4532400" cy="3397320"/>
        </p:xfrm>
        <a:graphic>
          <a:graphicData uri="http://schemas.openxmlformats.org/presentationml/2006/ole">
            <p:oleObj r:id="rId1" spid="">
              <p:embed/>
              <p:pic>
                <p:nvPicPr>
                  <p:cNvPr id="142" name="" descr=""/>
                  <p:cNvPicPr/>
                  <p:nvPr/>
                </p:nvPicPr>
                <p:blipFill>
                  <a:blip r:embed="rId2"/>
                  <a:stretch/>
                </p:blipFill>
                <p:spPr>
                  <a:xfrm>
                    <a:off x="4460760" y="2212920"/>
                    <a:ext cx="4532400" cy="3397320"/>
                  </a:xfrm>
                  <a:prstGeom prst="rect">
                    <a:avLst/>
                  </a:prstGeom>
                  <a:ln w="0">
                    <a:noFill/>
                  </a:ln>
                </p:spPr>
              </p:pic>
            </p:oleObj>
          </a:graphicData>
        </a:graphic>
      </p:graphicFrame>
      <p:sp>
        <p:nvSpPr>
          <p:cNvPr id="143" name=""/>
          <p:cNvSpPr/>
          <p:nvPr/>
        </p:nvSpPr>
        <p:spPr>
          <a:xfrm>
            <a:off x="414360" y="5715000"/>
            <a:ext cx="8305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Sep00 - 802.16 Session #9 was notable for major progress in all Task Grou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for a Working Group decision to use a single MAC across all projec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B0A2D72-62CD-4BD9-A4BA-8F5FD6972A6F}" type="slidenum">
              <a:t>3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1306440" y="3678120"/>
          <a:ext cx="6523200" cy="2711520"/>
        </p:xfrm>
        <a:graphic>
          <a:graphicData uri="http://schemas.openxmlformats.org/presentationml/2006/ole">
            <p:oleObj r:id="rId1" spid="">
              <p:embed/>
              <p:pic>
                <p:nvPicPr>
                  <p:cNvPr id="145" name="" descr=""/>
                  <p:cNvPicPr/>
                  <p:nvPr/>
                </p:nvPicPr>
                <p:blipFill>
                  <a:blip r:embed="rId2"/>
                  <a:stretch/>
                </p:blipFill>
                <p:spPr>
                  <a:xfrm>
                    <a:off x="1306440" y="3678120"/>
                    <a:ext cx="6523200" cy="2711520"/>
                  </a:xfrm>
                  <a:prstGeom prst="rect">
                    <a:avLst/>
                  </a:prstGeom>
                  <a:ln w="0">
                    <a:noFill/>
                  </a:ln>
                </p:spPr>
              </p:pic>
            </p:oleObj>
          </a:graphicData>
        </a:graphic>
      </p:graphicFrame>
      <p:graphicFrame>
        <p:nvGraphicFramePr>
          <p:cNvPr id="146" name=""/>
          <p:cNvGraphicFramePr/>
          <p:nvPr/>
        </p:nvGraphicFramePr>
        <p:xfrm>
          <a:off x="457200" y="660240"/>
          <a:ext cx="8218440" cy="2533680"/>
        </p:xfrm>
        <a:graphic>
          <a:graphicData uri="http://schemas.openxmlformats.org/presentationml/2006/ole">
            <p:oleObj r:id="rId3" spid="">
              <p:embed/>
              <p:pic>
                <p:nvPicPr>
                  <p:cNvPr id="147" name="" descr=""/>
                  <p:cNvPicPr/>
                  <p:nvPr/>
                </p:nvPicPr>
                <p:blipFill>
                  <a:blip r:embed="rId4"/>
                  <a:stretch/>
                </p:blipFill>
                <p:spPr>
                  <a:xfrm>
                    <a:off x="457200" y="660240"/>
                    <a:ext cx="8218440" cy="2533680"/>
                  </a:xfrm>
                  <a:prstGeom prst="rect">
                    <a:avLst/>
                  </a:prstGeom>
                  <a:ln w="0">
                    <a:noFill/>
                  </a:ln>
                </p:spPr>
              </p:pic>
            </p:oleObj>
          </a:graphicData>
        </a:graphic>
      </p:graphicFrame>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05C6B68E-CCCE-45DC-A1C8-44708F7EE490}" type="slidenum">
              <a:t>32</a:t>
            </a:fld>
          </a:p>
        </p:txBody>
      </p:sp>
      <p:sp>
        <p:nvSpPr>
          <p:cNvPr id="4" name="PlaceHolder 3"/>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 </a:t>
            </a:r>
            <a:r>
              <a:rPr b="0" lang="en-US" sz="4000" spc="-1" strike="noStrike">
                <a:solidFill>
                  <a:srgbClr val="000000"/>
                </a:solidFill>
                <a:latin typeface="Times New Roman"/>
              </a:rPr>
              <a:t>Stds take ~32 months to complete </a:t>
            </a:r>
            <a:endParaRPr b="0" lang="en-US" sz="40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s show that standards take approximately 32 months to complete based on standards projects between the years 1990 and 19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ption is that standards developed take too long, while in reality many do no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must promote the fact that our standards are produced quickly.</a:t>
            </a:r>
            <a:endParaRPr b="0" lang="en-US" sz="2800" spc="-1" strike="noStrike">
              <a:solidFill>
                <a:srgbClr val="000000"/>
              </a:solidFill>
              <a:latin typeface="Times New Roman"/>
            </a:endParaRPr>
          </a:p>
        </p:txBody>
      </p:sp>
      <p:sp>
        <p:nvSpPr>
          <p:cNvPr id="150"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 started Jul99; current planning for RevCom is 3Aug01 - ~24m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3709D09-B273-420D-B741-58C6FBA217DB}" type="slidenum">
              <a:t>3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 Electronic Balloting</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ate there have been more than 30 successful electronic ballots.  The service that the balloting center provides is reliable and valid.  Invitations are still done by mail, and an email message goes to the balloting group giving the opening and closing date, the draft site, and the comment site.  Votes and comments are emailed to the WG Chai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D8A8086-C6B4-4496-AF18-4907E0742ED7}" type="slidenum">
              <a:t>3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Electronic Balloting (cont.)</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nefits of e-balloting are savings of both time and money, and it is a quick and convenient process for members.  Other benefits includ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fields repopulat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omment uplo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with comme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s, instructions and link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 summary report in pdf form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step is to provide the invitation to ballot electron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499AD7-302D-4F9E-A2A1-5479ADE19BC0}" type="slidenum">
              <a:t>3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a:t>
            </a:r>
            <a:br>
              <a:rPr sz="4400"/>
            </a:br>
            <a:r>
              <a:rPr b="0" lang="en-US" sz="4400" spc="-1" strike="noStrike">
                <a:solidFill>
                  <a:srgbClr val="000000"/>
                </a:solidFill>
                <a:latin typeface="Times New Roman"/>
              </a:rPr>
              <a:t>2000 Membership Statistic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Individual Membership total is </a:t>
            </a:r>
            <a:r>
              <a:rPr b="0" lang="en-US" sz="3200" spc="-1" strike="noStrike">
                <a:solidFill>
                  <a:srgbClr val="ff0000"/>
                </a:solidFill>
                <a:latin typeface="Times New Roman"/>
              </a:rPr>
              <a:t>5968</a:t>
            </a:r>
            <a:r>
              <a:rPr b="0" lang="en-US" sz="3200" spc="-1" strike="noStrike">
                <a:solidFill>
                  <a:srgbClr val="000000"/>
                </a:solidFill>
                <a:latin typeface="Times New Roman"/>
              </a:rPr>
              <a:t> as of 15 Augu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Members (who ballot) total </a:t>
            </a:r>
            <a:r>
              <a:rPr b="0" lang="en-US" sz="3200" spc="-1" strike="noStrike">
                <a:solidFill>
                  <a:srgbClr val="ff0000"/>
                </a:solidFill>
                <a:latin typeface="Times New Roman"/>
              </a:rPr>
              <a:t>59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Members total - </a:t>
            </a:r>
            <a:r>
              <a:rPr b="0" lang="en-US" sz="3200" spc="-1" strike="noStrike">
                <a:solidFill>
                  <a:srgbClr val="ff0000"/>
                </a:solidFill>
                <a:latin typeface="Times New Roman"/>
              </a:rPr>
              <a:t>368,2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ifornia, Region 6, has the most membership in both the IEEE and IEEE-S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9AB142A-FCF4-47EA-9C37-321C6FD825E2}" type="slidenum">
              <a:t>3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 Free Standards and Draft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ocument exchange quite open and lib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raft standards are currently limited due to IEEE copyright restrictions, we anticipate those restrictions ending by the end of this year due to a change of policy in which IEEE 802 standards may become available free of charge. In such a case, we expect to remove the restrictions on our drafts.</a:t>
            </a:r>
            <a:endParaRPr b="0" lang="en-US" sz="2800" spc="-1" strike="noStrike">
              <a:solidFill>
                <a:srgbClr val="000000"/>
              </a:solidFill>
              <a:latin typeface="Times New Roman"/>
            </a:endParaRPr>
          </a:p>
        </p:txBody>
      </p:sp>
      <p:sp>
        <p:nvSpPr>
          <p:cNvPr id="159"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strict 2 IEEE Std 802.15.1-[D0.6 &amp; D0.7.2] draft versions and their SD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0E6F57C-E0AE-4467-BB71-7BA1DEF33405}" type="slidenum">
              <a:t>3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4F2E72-8091-421C-838C-0B4611836360}" type="slidenum">
              <a:t>3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0252AE-8E86-441E-8B3F-717D1535533E}" type="slidenum">
              <a:t>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Gifford/Kardach/Truntz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 Forum WATM (/Delaver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He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cK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WBWG (/Withingt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Parri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CA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sp>
        <p:nvSpPr>
          <p:cNvPr id="6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88451870-CC70-4459-BA24-02E7FC2E6AB3}" type="slidenum">
              <a:t>5</a:t>
            </a:fld>
          </a:p>
        </p:txBody>
      </p:sp>
      <p:sp>
        <p:nvSpPr>
          <p:cNvPr id="7" name="PlaceHolder 6"/>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3D33DA-B04E-4F14-BB62-D45ABF2ADD79}" type="slidenum">
              <a:t>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Nov00 BSIG PM and IEE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ov00 Follow up on Bluetooth open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Nov00 Follow up on BSIG-IEEE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BSIG PM during Session #9/Tamp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Dec00 BSIG Development Conferen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MAN 802.15 Balloting Pool, promote to BSIG PM</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nal Editor/Publisher and Issue No. 7, 8, 9, etc., follow up</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E076F3-165B-4689-8376-DC3C99969AFD}" type="slidenum">
              <a:t>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G1 Schedule and synch with Bluetooth 1.x</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osition:</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v1.1 spec schedule is gated by:</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from UnPlugFest-4 (Nov 5-9)</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of editing problems by Open Group</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BT v1.1 target dates:</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draft 11/24</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draft issued 12/8</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 adoption 12/29/00</a:t>
            </a:r>
            <a:endParaRPr b="0" lang="en-US" sz="20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recommendation:</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for </a:t>
            </a:r>
            <a:r>
              <a:rPr b="0" lang="en-US" sz="2400" spc="-1" strike="noStrike">
                <a:solidFill>
                  <a:srgbClr val="ff0000"/>
                </a:solidFill>
                <a:latin typeface="Times New Roman"/>
              </a:rPr>
              <a:t>IEEE scenario B</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4th Draft 0.9 ready for WG LB(7) (Jan-Feb).</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Draft 1.0 ready for IEEE sponsor ballot.</a:t>
            </a:r>
            <a:endParaRPr b="0" lang="en-US" sz="2000" spc="-1" strike="noStrike">
              <a:solidFill>
                <a:srgbClr val="000000"/>
              </a:solidFill>
              <a:latin typeface="Times New Roman"/>
            </a:endParaRPr>
          </a:p>
        </p:txBody>
      </p:sp>
      <p:sp>
        <p:nvSpPr>
          <p:cNvPr id="76"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15367F-46B2-4CE9-A3E5-2917E1CEDC53}" type="slidenum">
              <a:t>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Plann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1=IEEE Std 802.15.1-[200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B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1=IEEE Std 802.15.1-[200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x=IEEE Std 802.15.1-[2002])</a:t>
            </a:r>
            <a:endParaRPr b="0" lang="en-US" sz="2800" spc="-1" strike="noStrike">
              <a:solidFill>
                <a:srgbClr val="000000"/>
              </a:solidFill>
              <a:latin typeface="Times New Roman"/>
            </a:endParaRPr>
          </a:p>
        </p:txBody>
      </p:sp>
      <p:sp>
        <p:nvSpPr>
          <p:cNvPr id="79" name=""/>
          <p:cNvSpPr/>
          <p:nvPr/>
        </p:nvSpPr>
        <p:spPr>
          <a:xfrm>
            <a:off x="304920" y="579132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cenarios depict possible futures but not specific strategies to deal 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m, it makes sense to invite outsiders into this process.  Ergo CF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4AE658-8AFB-4FEE-A772-36D5C0BF76B6}" type="slidenum">
              <a:t>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November 2000</cp:keywords>
  <dc:language>en-US</dc:language>
  <cp:lastModifiedBy>Ian C. Gifford</cp:lastModifiedBy>
  <cp:lastPrinted>1998-02-10T13:28:06Z</cp:lastPrinted>
  <dcterms:modified xsi:type="dcterms:W3CDTF">2000-11-08T12:08:19Z</dcterms:modified>
  <cp:revision>272</cp:revision>
  <dc:subject>#10</dc:subject>
  <dc:title>Liaison Report</dc:title>
</cp:coreProperties>
</file>