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BCA-A8E3-4B9D-B070-1CC58891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17A-5BD6-4179-A0D7-70B7AD9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BAF-F464-415A-91D7-D3D2B23E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F29-966F-4F9D-9E5F-4F839471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566-7AD9-42C1-80B1-1499F27A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9FC-54E2-4573-8B9E-0C0F65EF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762-68A3-453A-83D9-A475134A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2F6-2CA9-4F50-AF09-D390C9E9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5EE-E41E-4C0F-84D9-BC033A2C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AD4-24BD-4AED-93F9-E20B9004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FBF-E9E2-474C-8357-1060DC2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7C3-1731-4D5E-8587-AF463EB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21207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C27640-A140-421B-BD3B-2E6997346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19 September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04 ], FAX: [ +44 113 2332032 ], E-Mail:[ enrique@supergold.com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D98-B75E-4603-8BFF-88FBD97313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spectralMask" descr=""/>
          <p:cNvPicPr/>
          <p:nvPr/>
        </p:nvPicPr>
        <p:blipFill>
          <a:blip r:embed="rId1"/>
          <a:stretch/>
        </p:blipFill>
        <p:spPr>
          <a:xfrm>
            <a:off x="1112760" y="1233360"/>
            <a:ext cx="6862680" cy="5148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25680" y="950760"/>
            <a:ext cx="63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 of pulse shape digital raised-cosin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8AE-9F43-48E9-935E-9113CC0290A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3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1. 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to 802.15.1 equivalent UMC at 2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 (30K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RF architecture for 802.15.1 and 802.15.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ip RF / BB implementation + 5 exter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7C5-8941-4DD6-8144-4BA5BDFB3E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 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tenuation &gt; 50 dBc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-band interference protection &gt; 4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-of-band attenuation &gt; 8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ies with 802.15.1 out-of-band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EDE-6FC2-4601-987E-544F75B446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132-7612-4355-866B-84A6F1898C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35040" y="159840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3 Specification of RF Front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9400" y="3314880"/>
            <a:ext cx="57168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72480" y="3314880"/>
            <a:ext cx="571320" cy="571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3588120" y="3237480"/>
            <a:ext cx="836640" cy="7239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92880" y="3422520"/>
            <a:ext cx="35532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9" idx="3"/>
            <a:endCxn id="221" idx="3"/>
          </p:cNvCxnSpPr>
          <p:nvPr/>
        </p:nvCxnSpPr>
        <p:spPr>
          <a:xfrm flipV="1">
            <a:off x="2521080" y="3598560"/>
            <a:ext cx="11246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1" idx="0"/>
            <a:endCxn id="222" idx="2"/>
          </p:cNvCxnSpPr>
          <p:nvPr/>
        </p:nvCxnSpPr>
        <p:spPr>
          <a:xfrm>
            <a:off x="4368960" y="3598920"/>
            <a:ext cx="11246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2" idx="6"/>
            <a:endCxn id="220" idx="1"/>
          </p:cNvCxnSpPr>
          <p:nvPr/>
        </p:nvCxnSpPr>
        <p:spPr>
          <a:xfrm>
            <a:off x="5847840" y="3600000"/>
            <a:ext cx="1125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 flipH="1">
            <a:off x="1359000" y="35942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543800" y="35942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05560" y="267192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3800" y="2671920"/>
            <a:ext cx="55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20560" y="2671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920" y="4354560"/>
            <a:ext cx="67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ain (dB)             -2                                 +15                                  +10                             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3  (dBm)            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                       -4                                     +5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1320" y="5400720"/>
            <a:ext cx="46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3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erred to the input = -9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D55-FB10-4EF5-BCF1-257D75CC9E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85800"/>
            <a:ext cx="777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5040" y="1166760"/>
            <a:ext cx="77724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odulating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0400" y="5575320"/>
            <a:ext cx="71499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eiver can tolerate intermodulating signals of up to -34dBm whilst retaining a BER=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ith 3 dB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oss. Input IP2 = +16.6 dB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41480" y="3835440"/>
            <a:ext cx="699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14680" y="3110760"/>
            <a:ext cx="520560" cy="723960"/>
          </a:xfrm>
          <a:custGeom>
            <a:avLst/>
            <a:gdLst>
              <a:gd name="textAreaLeft" fmla="*/ 114480 w 520560"/>
              <a:gd name="textAreaRight" fmla="*/ 406080 w 520560"/>
              <a:gd name="textAreaTop" fmla="*/ 159120 h 723960"/>
              <a:gd name="textAreaBottom" fmla="*/ 5648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59320" y="248868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18320" y="3580920"/>
            <a:ext cx="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146560" y="250164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981080" y="3580920"/>
            <a:ext cx="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33040" y="4014720"/>
            <a:ext cx="52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69520" y="4014720"/>
            <a:ext cx="52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44520" y="4014720"/>
            <a:ext cx="52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0640" y="401472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3640" y="2754360"/>
            <a:ext cx="8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+ 3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2480" y="202104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34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0600" y="39196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1720" y="4416480"/>
            <a:ext cx="72079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sitivity S = -75 dB, C/I = 10 dB, Corr = 10log(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/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) = 0 dB, IP3 = -9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3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-85.8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= [2.IP3 +(S - C/I +Corr)]/3 = -34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FA3-E902-4CD9-9BFE-04B9268E888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3200" y="1288800"/>
            <a:ext cx="8161200" cy="49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4. 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 oven inter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bandwidth = 25MHz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 least 1 free channe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would detect jammer an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-3. 802.15.1 pic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1 randomly hops over 78 1MHz-bands. It will jam 802.15.3 if it hops within 20MHz-jamming sensitive are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robability of jamming: 20 / 78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3 transmitting MPG2-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stream take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6% of channel throughput. If 2 un-coordinated WPANs share the 1 channel with CCA-deferred access &gt;50% throughput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wise 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on a disjoint frequency band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 802.11b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2A9-E25B-4EC9-AC16-8ECC3287CE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26680" y="1735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5. 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 Mbit/s bit r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put in [17.5, 20] Mbit/s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ed time-multiplexing used for multiple access to shared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straint when multiplexing an MPEG2 stream (4.5 Mbit/s) with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12-byte asynchronous packets (max. 234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1: three MPEG2 streams (at 4.5Mbit/s) share the total throughput (min.) 17.5Mbit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2 and 3: one MPEG2 stream takes 4.5 Mbit/s whilst the asynchronous services share the remaining throughput in a time-multiplexing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8AF-2859-4CE8-9AA4-6B2C6E504B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2320" y="1217160"/>
            <a:ext cx="845820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picon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47960" y="210672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67200" y="210168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14880" y="210816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70680" y="210024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7960" y="2324160"/>
            <a:ext cx="112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70080" y="2568600"/>
            <a:ext cx="1154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3080" y="2857680"/>
            <a:ext cx="187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27840" y="282888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78160" y="2822400"/>
            <a:ext cx="8604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27240" y="226836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9800" y="228132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69960" y="2135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92400" y="21207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0524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77920" y="26971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3920" y="301608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13160" y="30081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58200" y="301608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58640" y="2322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11760" y="207648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6440" y="2583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52560" y="3365640"/>
            <a:ext cx="785808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1 and A2 will not interfere with B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dBm; Pahtloss(A2-B2) ~62.4dB; A2 Rx Pwr at B2 ~ -62.4dBm over 12.5MHz (Nyquist frequency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~ -73.4dBm over 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0dBm; Pathloss(B1-B2) ~60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2 Rx Pwr ~ -60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(B2) ~ -60 - (-73.4) ~ 13.4d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40680" y="4937040"/>
            <a:ext cx="829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on B1: Probability of 802.15.1 hopping on 802.15.3 interfering BW (&lt; 20MHz)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(interf.) &lt; 20 / 78 &lt; 26%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802.15.1 throughput &gt; 7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 in 802.15.2 would be applicable to 802.1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73F-944B-4233-BB34-DF6BEA5E9B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240" y="1492200"/>
            <a:ext cx="77403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3 &amp; IC5 - 802.11b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 channels would be selected for each network via C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4 - 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3 and 802.11a use different frequency bands and would be able to co-exist without interfering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802.15.3 WPAN implements a dual mode radio with shared RF blocks for interoperability with 802.15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1A0-C995-4493-8AED-428A3A1D5C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13219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4A8-7E08-4541-9B23-63AD9469E1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30080" y="14889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4. 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1. 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802.11b and 802.15.1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solutions such as MBOK and C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. 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earlier than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536-53CF-48A8-98F9-BACFA8F0BC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3. 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 FCC(25.249) and ETSI 300-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4. 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utilises existing 802.11b and 802.15.1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D92-7D60-4A06-960D-E780AE3C5E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1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can be changed with impact on either range or throughput (through change in coding r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2. 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level can be adjusted to fit power and channe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3. 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4.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or power would not significantly affect the uni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5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an be introduced into the scheme inorder to enhance resistance to time dispersive channels with large delay sp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2F5-5EC0-4734-AAA5-897BE8292A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00200" y="172080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1. 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RF / BB parts integrated in one PHY c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ve external components: crystal oscillator, band filter, 802.15.1 IF filter, 802.15.3 SAW IF filter, Tx image rejection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chip for dual mode 802.15.1 / 802.15.3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 smaller than a Compact Flash Type 1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8E0-AA56-40F6-BFA6-00E86DAC72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317600"/>
            <a:ext cx="7962840" cy="50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1. 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 = 2 x 12.5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(7/8) x (125/127) = 21.65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 overhead due to coding = 1 - (7/8 x 125/127) = 13.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MAC/PHY throughput is met for services that use a MAC overhead of less than or equal to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2. 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739-6E02-4387-839C-F168B88635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45368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3. 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imed at the 2.4 GHz ISM band, but is also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b channelisation is adopted which provides for 14 overlapp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non-overlapping channels, up to 3 co-located networks can share the 2.4 GHz ISM band without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overlapping channels, up to 4 co-located networks can share the 2.4 GHz ISM band without significant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could share the 5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EB9-864B-4107-A302-317FF6ECA6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806480" y="231948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248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9360" y="1217520"/>
            <a:ext cx="84582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892160" y="1828800"/>
            <a:ext cx="1078200" cy="50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92160" y="2374920"/>
            <a:ext cx="4094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24520" y="233352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24280" y="178596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03280" y="2214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8720" y="1622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02280" y="2214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9840" y="1758960"/>
            <a:ext cx="4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26360" y="234324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55320" y="1827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18120" y="16225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1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0560" y="22147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3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9240" y="3378240"/>
            <a:ext cx="7858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dBm; Pahtloss(A1-A2) ~60 dB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athloss(B1-A2) ~ 40 dB and Pathloss(B2-A2) ~ 40 dB (avoids IM3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r 20 MHz channel separation the adjacent channel interference (ACI) produced by the filtered signals at 1 m is 3+ACI(0m) - pathloss(1m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3 - 89 - 40 = -126 dB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s the receiver sensitivity is -75 dBm, then the C/I margin is at least 5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Hence there is no significant impact on throughput due to ACI nor associated IM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51840" y="22147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3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9360" y="5257800"/>
            <a:ext cx="76834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6.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79560" y="2425680"/>
            <a:ext cx="1077840" cy="50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911320" y="2878200"/>
            <a:ext cx="8604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39480" y="27147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0600" y="2698920"/>
            <a:ext cx="4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69240" y="271476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5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D1F-F227-42B1-9DB9-D408D91BB2C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AD0-907E-4E50-9555-10D4F669D9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030-6183-47B2-81AD-000F79D47B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97F-0A72-4A1F-9408-CE3123460E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1700280"/>
            <a:ext cx="7937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 using QPSK or OQPSK chip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r constant amplitu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PA back-off and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ust in multipath fading up to 30 ns rms 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-error-correcting concatenated RS(127,125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S code matched to M-ary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simple Berlekamp-Massey hard-decision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rate (0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ctral efficiency: 22 Mbit/s data rate in 2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CD8-500D-4EE1-AA82-1CA92887DE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5965920" cy="4448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55480" y="1166400"/>
            <a:ext cx="80805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6000" y="5975280"/>
            <a:ext cx="769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B4A-4B58-4AA0-81C5-686E564DA8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9160" y="9536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8600" y="1903320"/>
            <a:ext cx="8051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t for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5 ns with 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lay spread of 30ns is tolerated for more than 90% of the channels  with FER &lt; 1% at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7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971-9F9A-4D2A-AD6A-FB446CEAAA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dBm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PSK/OQPSK: near constant amplitude and small RFPA back-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baseband processor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 complexity fast transform correlation detection and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q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k BB processing gat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dicated ASIC using 0.18 u CMO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 peak power consumption is 330 m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luding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E78-5472-4239-9058-24BE06431A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800280" y="1282680"/>
            <a:ext cx="37335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 (33% efficienc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ooth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      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2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0120" y="755640"/>
            <a:ext cx="71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 Budget in mW for 0.18 u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86480" y="1282680"/>
            <a:ext cx="37335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N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-alias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 (RSS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E74-33C3-440D-AA46-D5CF57D76D35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63480" y="1461960"/>
          <a:ext cx="7791480" cy="56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461960"/>
                    <a:ext cx="779148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7E2-3C5D-48E2-BFB4-180289B10DD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822240" y="1270080"/>
          <a:ext cx="772164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70080"/>
                    <a:ext cx="77216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06A-82DE-4531-8FE1-EA8E0BC3F6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828720" y="1346040"/>
          <a:ext cx="758664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346040"/>
                    <a:ext cx="7586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455-99C0-48B3-B334-C96B907BC46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93800" y="1662120"/>
          <a:ext cx="806616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616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821-58EA-4E54-8BD2-3399E560D5D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64268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802.15.1 / 802.15.3 using common R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 with 802.11 channe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s a 12.5 Mchip/s chipp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b - 802.15.1 and 802.15.3 co-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operate in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Clear Channel Assessment (CCA) as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D3D-F6D8-42F5-B615-434C471094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22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85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4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0B3-336E-4BC6-AC00-01E5303D26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71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x0 + 4 = 7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 is -7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Bm for an operating SNR of 10 dB a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Power: Noise Floor + SNR + Loss = -85 dBm + 10 dB + 7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56B-FA1A-4F12-8003-7C26FF9C2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67160" y="5854680"/>
            <a:ext cx="4165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HY Functional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577440" y="698400"/>
            <a:ext cx="165240" cy="3938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760" y="1219320"/>
            <a:ext cx="57132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79560" y="5803920"/>
            <a:ext cx="57168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0080" y="1282680"/>
            <a:ext cx="571680" cy="571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660240"/>
            <a:ext cx="571680" cy="571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14440" y="2946240"/>
            <a:ext cx="317520" cy="279360"/>
            <a:chOff x="514440" y="2946240"/>
            <a:chExt cx="317520" cy="279360"/>
          </a:xfrm>
        </p:grpSpPr>
        <p:sp>
          <p:nvSpPr>
            <p:cNvPr id="64" name=""/>
            <p:cNvSpPr/>
            <p:nvPr/>
          </p:nvSpPr>
          <p:spPr>
            <a:xfrm>
              <a:off x="514440" y="3149640"/>
              <a:ext cx="76320" cy="75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8920" y="2946240"/>
              <a:ext cx="75960" cy="76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5640" y="3149640"/>
              <a:ext cx="76320" cy="75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5400000">
            <a:off x="1259640" y="2831400"/>
            <a:ext cx="836640" cy="7236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457880" y="2831040"/>
            <a:ext cx="836640" cy="7239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823680" y="4519440"/>
            <a:ext cx="866880" cy="7491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8360" y="3835440"/>
            <a:ext cx="965160" cy="342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057560" y="2793960"/>
            <a:ext cx="304560" cy="279360"/>
            <a:chOff x="4057560" y="2793960"/>
            <a:chExt cx="304560" cy="279360"/>
          </a:xfrm>
        </p:grpSpPr>
        <p:sp>
          <p:nvSpPr>
            <p:cNvPr id="72" name=""/>
            <p:cNvSpPr/>
            <p:nvPr/>
          </p:nvSpPr>
          <p:spPr>
            <a:xfrm flipV="1">
              <a:off x="4057560" y="2793960"/>
              <a:ext cx="7596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184280" y="2997000"/>
              <a:ext cx="7632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86160" y="2793960"/>
              <a:ext cx="7596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6880" y="3016080"/>
            <a:ext cx="35568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716360"/>
            <a:ext cx="35568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6560" y="4791240"/>
            <a:ext cx="203400" cy="203040"/>
          </a:xfrm>
          <a:prstGeom prst="flowChartOr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72320" y="4422600"/>
            <a:ext cx="253800" cy="254160"/>
          </a:xfrm>
          <a:prstGeom prst="flowChartSummingJunction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72320" y="5108400"/>
            <a:ext cx="253800" cy="254160"/>
          </a:xfrm>
          <a:prstGeom prst="flowChartSummingJunction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8" idx="2"/>
            <a:endCxn id="77" idx="0"/>
          </p:cNvCxnSpPr>
          <p:nvPr/>
        </p:nvCxnSpPr>
        <p:spPr>
          <a:xfrm flipV="1" rot="10800000">
            <a:off x="5247720" y="4548600"/>
            <a:ext cx="624600" cy="2422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9" idx="2"/>
            <a:endCxn id="77" idx="4"/>
          </p:cNvCxnSpPr>
          <p:nvPr/>
        </p:nvCxnSpPr>
        <p:spPr>
          <a:xfrm rot="10800000">
            <a:off x="5247720" y="4993560"/>
            <a:ext cx="624600" cy="2419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82" name=""/>
          <p:cNvGrpSpPr/>
          <p:nvPr/>
        </p:nvGrpSpPr>
        <p:grpSpPr>
          <a:xfrm>
            <a:off x="5278320" y="2714760"/>
            <a:ext cx="860400" cy="939600"/>
            <a:chOff x="5278320" y="2714760"/>
            <a:chExt cx="860400" cy="939600"/>
          </a:xfrm>
        </p:grpSpPr>
        <p:sp>
          <p:nvSpPr>
            <p:cNvPr id="83" name=""/>
            <p:cNvSpPr/>
            <p:nvPr/>
          </p:nvSpPr>
          <p:spPr>
            <a:xfrm>
              <a:off x="5884920" y="2714760"/>
              <a:ext cx="253800" cy="253800"/>
            </a:xfrm>
            <a:prstGeom prst="flowChartSummingJunction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4920" y="3400560"/>
              <a:ext cx="253800" cy="253800"/>
            </a:xfrm>
            <a:prstGeom prst="flowChartSummingJunction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4" idx="2"/>
              <a:endCxn id="83" idx="2"/>
            </p:cNvCxnSpPr>
            <p:nvPr/>
          </p:nvCxnSpPr>
          <p:spPr>
            <a:xfrm flipH="1" rot="10800000">
              <a:off x="5884560" y="2840760"/>
              <a:ext cx="2160" cy="686520"/>
            </a:xfrm>
            <a:prstGeom prst="bentConnector3">
              <a:avLst>
                <a:gd name="adj1" fmla="val -33700000"/>
              </a:avLst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86" name=""/>
          <p:cNvSpPr/>
          <p:nvPr/>
        </p:nvSpPr>
        <p:spPr>
          <a:xfrm>
            <a:off x="5235480" y="3193920"/>
            <a:ext cx="1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2040" y="3835440"/>
            <a:ext cx="965520" cy="342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5" idx="4"/>
            <a:endCxn id="76" idx="0"/>
          </p:cNvCxnSpPr>
          <p:nvPr/>
        </p:nvCxnSpPr>
        <p:spPr>
          <a:xfrm>
            <a:off x="2844360" y="3371400"/>
            <a:ext cx="1080" cy="13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sm" type="arrow" w="sm"/>
          </a:ln>
        </p:spPr>
      </p:cxnSp>
      <p:cxnSp>
        <p:nvCxnSpPr>
          <p:cNvPr id="89" name=""/>
          <p:cNvCxnSpPr>
            <a:stCxn id="70" idx="3"/>
          </p:cNvCxnSpPr>
          <p:nvPr/>
        </p:nvCxnSpPr>
        <p:spPr>
          <a:xfrm flipV="1">
            <a:off x="2603520" y="3999960"/>
            <a:ext cx="24192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67" idx="0"/>
            <a:endCxn id="75" idx="2"/>
          </p:cNvCxnSpPr>
          <p:nvPr/>
        </p:nvCxnSpPr>
        <p:spPr>
          <a:xfrm>
            <a:off x="2039760" y="3192480"/>
            <a:ext cx="627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5" idx="6"/>
            <a:endCxn id="62" idx="1"/>
          </p:cNvCxnSpPr>
          <p:nvPr/>
        </p:nvCxnSpPr>
        <p:spPr>
          <a:xfrm flipV="1">
            <a:off x="3022560" y="945720"/>
            <a:ext cx="317880" cy="2248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61" idx="1"/>
          </p:cNvCxnSpPr>
          <p:nvPr/>
        </p:nvCxnSpPr>
        <p:spPr>
          <a:xfrm flipH="1" flipV="1">
            <a:off x="3174120" y="1561680"/>
            <a:ext cx="16596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61" idx="3"/>
            <a:endCxn id="72" idx="5"/>
          </p:cNvCxnSpPr>
          <p:nvPr/>
        </p:nvCxnSpPr>
        <p:spPr>
          <a:xfrm>
            <a:off x="3911760" y="1568160"/>
            <a:ext cx="210240" cy="12369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62" idx="3"/>
            <a:endCxn id="74" idx="4"/>
          </p:cNvCxnSpPr>
          <p:nvPr/>
        </p:nvCxnSpPr>
        <p:spPr>
          <a:xfrm>
            <a:off x="3911760" y="945720"/>
            <a:ext cx="411840" cy="18486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73" idx="0"/>
            <a:endCxn id="68" idx="3"/>
          </p:cNvCxnSpPr>
          <p:nvPr/>
        </p:nvCxnSpPr>
        <p:spPr>
          <a:xfrm flipH="1" rot="16200000">
            <a:off x="4308120" y="2985480"/>
            <a:ext cx="119880" cy="294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H="1" flipV="1">
            <a:off x="4124160" y="2804760"/>
            <a:ext cx="1080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58" idx="0"/>
            <a:endCxn id="59" idx="0"/>
          </p:cNvCxnSpPr>
          <p:nvPr/>
        </p:nvCxnSpPr>
        <p:spPr>
          <a:xfrm>
            <a:off x="659880" y="1090440"/>
            <a:ext cx="1080" cy="12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59" idx="2"/>
            <a:endCxn id="65" idx="0"/>
          </p:cNvCxnSpPr>
          <p:nvPr/>
        </p:nvCxnSpPr>
        <p:spPr>
          <a:xfrm>
            <a:off x="660240" y="1790640"/>
            <a:ext cx="7200" cy="1156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66" idx="6"/>
            <a:endCxn id="67" idx="3"/>
          </p:cNvCxnSpPr>
          <p:nvPr/>
        </p:nvCxnSpPr>
        <p:spPr>
          <a:xfrm>
            <a:off x="831600" y="3187440"/>
            <a:ext cx="484920" cy="540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64" idx="4"/>
            <a:endCxn id="69" idx="0"/>
          </p:cNvCxnSpPr>
          <p:nvPr/>
        </p:nvCxnSpPr>
        <p:spPr>
          <a:xfrm flipH="1" rot="16200000">
            <a:off x="-116640" y="3894840"/>
            <a:ext cx="1667520" cy="3290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60" idx="1"/>
            <a:endCxn id="69" idx="3"/>
          </p:cNvCxnSpPr>
          <p:nvPr/>
        </p:nvCxnSpPr>
        <p:spPr>
          <a:xfrm rot="10800000">
            <a:off x="1629720" y="4892040"/>
            <a:ext cx="249840" cy="1197360"/>
          </a:xfrm>
          <a:prstGeom prst="bentConnector3">
            <a:avLst>
              <a:gd name="adj1" fmla="val 4963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77" idx="2"/>
            <a:endCxn id="76" idx="6"/>
          </p:cNvCxnSpPr>
          <p:nvPr/>
        </p:nvCxnSpPr>
        <p:spPr>
          <a:xfrm flipH="1">
            <a:off x="3022200" y="4892760"/>
            <a:ext cx="21247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 flipH="1">
            <a:off x="590040" y="3025800"/>
            <a:ext cx="795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76" idx="2"/>
            <a:endCxn id="60" idx="3"/>
          </p:cNvCxnSpPr>
          <p:nvPr/>
        </p:nvCxnSpPr>
        <p:spPr>
          <a:xfrm flipV="1" rot="10800000">
            <a:off x="2450520" y="4893120"/>
            <a:ext cx="216360" cy="1196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295960" y="3879720"/>
            <a:ext cx="622080" cy="25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/  9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4597560" y="4006440"/>
            <a:ext cx="699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448240" y="2965320"/>
            <a:ext cx="568440" cy="914400"/>
          </a:xfrm>
          <a:custGeom>
            <a:avLst/>
            <a:gdLst/>
            <a:ahLst/>
            <a:rect l="l" t="t" r="r" b="b"/>
            <a:pathLst>
              <a:path w="358" h="576">
                <a:moveTo>
                  <a:pt x="0" y="576"/>
                </a:moveTo>
                <a:lnTo>
                  <a:pt x="0" y="110"/>
                </a:lnTo>
                <a:lnTo>
                  <a:pt x="358" y="110"/>
                </a:lnTo>
                <a:lnTo>
                  <a:pt x="35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30840" y="3286080"/>
            <a:ext cx="276120" cy="593640"/>
          </a:xfrm>
          <a:custGeom>
            <a:avLst/>
            <a:gdLst/>
            <a:ahLst/>
            <a:rect l="l" t="t" r="r" b="b"/>
            <a:pathLst>
              <a:path w="174" h="374">
                <a:moveTo>
                  <a:pt x="0" y="374"/>
                </a:moveTo>
                <a:lnTo>
                  <a:pt x="0" y="0"/>
                </a:lnTo>
                <a:lnTo>
                  <a:pt x="174" y="0"/>
                </a:lnTo>
                <a:lnTo>
                  <a:pt x="174" y="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42120" y="4130640"/>
            <a:ext cx="564840" cy="977760"/>
          </a:xfrm>
          <a:custGeom>
            <a:avLst/>
            <a:gdLst/>
            <a:ahLst/>
            <a:rect l="l" t="t" r="r" b="b"/>
            <a:pathLst>
              <a:path w="356" h="616">
                <a:moveTo>
                  <a:pt x="0" y="0"/>
                </a:moveTo>
                <a:lnTo>
                  <a:pt x="0" y="524"/>
                </a:lnTo>
                <a:lnTo>
                  <a:pt x="356" y="524"/>
                </a:lnTo>
                <a:lnTo>
                  <a:pt x="356" y="6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34080" y="4130640"/>
            <a:ext cx="266760" cy="701640"/>
          </a:xfrm>
          <a:custGeom>
            <a:avLst/>
            <a:gdLst/>
            <a:ahLst/>
            <a:rect l="l" t="t" r="r" b="b"/>
            <a:pathLst>
              <a:path w="168" h="442">
                <a:moveTo>
                  <a:pt x="0" y="0"/>
                </a:moveTo>
                <a:lnTo>
                  <a:pt x="0" y="442"/>
                </a:lnTo>
                <a:lnTo>
                  <a:pt x="168" y="442"/>
                </a:lnTo>
                <a:lnTo>
                  <a:pt x="168" y="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73720" y="2701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73720" y="338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3720" y="44100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73720" y="509904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78" idx="6"/>
            <a:endCxn id="113" idx="1"/>
          </p:cNvCxnSpPr>
          <p:nvPr/>
        </p:nvCxnSpPr>
        <p:spPr>
          <a:xfrm>
            <a:off x="6126120" y="4549320"/>
            <a:ext cx="148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79" idx="6"/>
            <a:endCxn id="114" idx="1"/>
          </p:cNvCxnSpPr>
          <p:nvPr/>
        </p:nvCxnSpPr>
        <p:spPr>
          <a:xfrm>
            <a:off x="6126120" y="5235120"/>
            <a:ext cx="14832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3" idx="6"/>
            <a:endCxn id="111" idx="1"/>
          </p:cNvCxnSpPr>
          <p:nvPr/>
        </p:nvCxnSpPr>
        <p:spPr>
          <a:xfrm>
            <a:off x="6138360" y="2841120"/>
            <a:ext cx="1357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84" idx="6"/>
            <a:endCxn id="112" idx="1"/>
          </p:cNvCxnSpPr>
          <p:nvPr/>
        </p:nvCxnSpPr>
        <p:spPr>
          <a:xfrm>
            <a:off x="6138360" y="3526920"/>
            <a:ext cx="1357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6832440" y="2701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338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32440" y="44100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32440" y="5095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32440" y="221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68" idx="1"/>
            <a:endCxn id="123" idx="1"/>
          </p:cNvCxnSpPr>
          <p:nvPr/>
        </p:nvCxnSpPr>
        <p:spPr>
          <a:xfrm flipH="1" flipV="1" rot="5400000">
            <a:off x="5542560" y="1692720"/>
            <a:ext cx="624600" cy="19562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</p:cxnSp>
      <p:cxnSp>
        <p:nvCxnSpPr>
          <p:cNvPr id="125" name=""/>
          <p:cNvCxnSpPr>
            <a:stCxn id="111" idx="3"/>
            <a:endCxn id="119" idx="1"/>
          </p:cNvCxnSpPr>
          <p:nvPr/>
        </p:nvCxnSpPr>
        <p:spPr>
          <a:xfrm>
            <a:off x="6667560" y="28411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2" idx="3"/>
            <a:endCxn id="120" idx="1"/>
          </p:cNvCxnSpPr>
          <p:nvPr/>
        </p:nvCxnSpPr>
        <p:spPr>
          <a:xfrm>
            <a:off x="6667560" y="35287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13" idx="3"/>
            <a:endCxn id="121" idx="1"/>
          </p:cNvCxnSpPr>
          <p:nvPr/>
        </p:nvCxnSpPr>
        <p:spPr>
          <a:xfrm>
            <a:off x="6667560" y="45493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4" idx="3"/>
            <a:endCxn id="122" idx="1"/>
          </p:cNvCxnSpPr>
          <p:nvPr/>
        </p:nvCxnSpPr>
        <p:spPr>
          <a:xfrm flipV="1">
            <a:off x="6667560" y="5234760"/>
            <a:ext cx="1656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 flipV="1">
            <a:off x="1371600" y="2714760"/>
            <a:ext cx="393840" cy="1095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2222640"/>
            <a:ext cx="812520" cy="31496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26280" y="2359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040" y="284148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23040" y="352728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23040" y="455616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23040" y="52387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5880" y="22417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54800" y="272412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x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54800" y="339732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x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54800" y="443880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54800" y="512136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0920" y="2095560"/>
            <a:ext cx="1587600" cy="34034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5120" y="23842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965160"/>
            <a:ext cx="812520" cy="5968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0" idx="0"/>
          </p:cNvCxnSpPr>
          <p:nvPr/>
        </p:nvCxnSpPr>
        <p:spPr>
          <a:xfrm>
            <a:off x="7797600" y="1561680"/>
            <a:ext cx="1080" cy="66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228600" y="1955880"/>
            <a:ext cx="8470800" cy="3720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4080" y="128124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93760" y="5764320"/>
            <a:ext cx="56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4840" y="3594240"/>
            <a:ext cx="583920" cy="469800"/>
          </a:xfrm>
          <a:prstGeom prst="leftRightArrow">
            <a:avLst>
              <a:gd name="adj1" fmla="val 50000"/>
              <a:gd name="adj2" fmla="val 2474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41840" y="798480"/>
            <a:ext cx="125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02.15.3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41840" y="142092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02.15.1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D0A-B4C0-454D-9C7C-4F271DB3360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064040" y="3632040"/>
            <a:ext cx="1079640" cy="12956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18120" y="1854360"/>
            <a:ext cx="1079640" cy="12952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2160" y="3632040"/>
            <a:ext cx="1079640" cy="1295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645000"/>
            <a:ext cx="1079640" cy="12952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9200" y="1841400"/>
            <a:ext cx="1079280" cy="12956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472760" y="965160"/>
            <a:ext cx="6134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or — M-ary Sequence coded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92160" y="391176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4720" y="389736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imu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kelyhoo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21520" y="403704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3680" y="42670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400" y="2119320"/>
            <a:ext cx="107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of 128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2680" y="2246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8160" y="248904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24890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97760" y="21970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97760" y="28195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451240" y="234936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470480" y="236232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27880" y="20574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533640" y="2685960"/>
            <a:ext cx="209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14360" y="46227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39434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5040" y="3943440"/>
            <a:ext cx="109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610160"/>
            <a:ext cx="109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57960" y="4273560"/>
            <a:ext cx="8701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55028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53716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441600" y="37972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422520" y="44640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479600" y="3809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60520" y="44830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3920" y="2343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1812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09600" y="222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5800" y="22017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218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64720" y="1906560"/>
            <a:ext cx="310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70480" y="2503440"/>
            <a:ext cx="41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392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3920" y="25336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82440" y="2027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72720" y="26557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27360" y="36100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27360" y="4295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9680" y="397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38360" y="36194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28640" y="43052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05800" y="39625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640" y="3790800"/>
            <a:ext cx="657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640" y="4476600"/>
            <a:ext cx="70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Q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49200" y="36464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44520" y="4332240"/>
            <a:ext cx="33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14960" y="395460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10440" y="403704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7960" y="3992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ECE-8222-456F-BB11-7D4C0B95DB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84280" y="1030320"/>
            <a:ext cx="82850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F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F blocks shared between 802.15.1 and 802.15.3 mode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ept IF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= 0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PA efficiency of 33%, small RFPA ba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transform correlators - 12.5 Mchips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bit Rx AD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Tx DA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AGC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-tap digital raised-cosine pulse shap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K gates for BB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u CMOS process in a dedicated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ip implementation, 1 crystal, 4 filters (front-end, IF x 2, Tx I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E9A-9DA4-4585-B503-54A003B551C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18:19:05Z</dcterms:created>
  <dc:creator>Tim O'Farrell</dc:creator>
  <dc:description/>
  <dc:language>en-US</dc:language>
  <cp:lastModifiedBy>Tim O'Farrell</cp:lastModifiedBy>
  <cp:lastPrinted>2000-10-10T20:31:30Z</cp:lastPrinted>
  <dcterms:modified xsi:type="dcterms:W3CDTF">2000-10-11T08:10:15Z</dcterms:modified>
  <cp:revision>55</cp:revision>
  <dc:subject>IEEE 802.15 TG3</dc:subject>
  <dc:title>No Slide Title</dc:title>
</cp:coreProperties>
</file>