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93A91-E1A9-47D2-BAB8-D3E6DD0B8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AD8D3-277C-4C7F-8A9C-54F5ECAB4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48401-F78F-4536-AE50-E6FD83106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CEADA-9908-4945-9AF2-398BCFBAF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AF8D-0ED8-48BA-A96C-6CB16F98E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CACA8-3DCF-455A-966A-D45B62319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61084-B56E-4439-B90C-B1921CBFD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E2092-B166-4C91-83D0-EBA9B3E65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C216C-5A6F-4F1A-8BF7-836E9DCD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D4B8-149B-4199-A804-D67D4D336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5CEB-58D5-41EB-8194-CFAB24AC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982B9-749C-4FDE-8BF4-BB11B9A60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109C7F-1092-419E-B74D-9911FE796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9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rsday Excom Meeting Presentation</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9, 200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Verizon</a:t>
            </a:r>
          </a:p>
        </p:txBody>
      </p:sp>
      <p:sp>
        <p:nvSpPr>
          <p:cNvPr id="5" name="PlaceHolder 4"/>
          <p:cNvSpPr>
            <a:spLocks noGrp="1"/>
          </p:cNvSpPr>
          <p:nvPr>
            <p:ph type="sldNum" idx="3"/>
          </p:nvPr>
        </p:nvSpPr>
        <p:spPr/>
        <p:txBody>
          <a:bodyPr/>
          <a:p>
            <a:fld id="{2D6A6E84-E1F0-4BEF-9EEE-087E7110626A}" type="slidenum">
              <a:t>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Rate WPAN PAR</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comment from 802.11 on including direct reference to the 5G SG which was accepted by the Low Rate Study Group and the Working Group with the addition of the words “</a:t>
            </a:r>
            <a:r>
              <a:rPr b="1" lang="en-US" sz="2800" spc="-1" strike="noStrike">
                <a:solidFill>
                  <a:srgbClr val="000000"/>
                </a:solidFill>
                <a:latin typeface="Arial"/>
              </a:rPr>
              <a:t>and 802.11/ETSI-BRAN/MMAC 5GSG” </a:t>
            </a:r>
            <a:r>
              <a:rPr b="0" lang="en-US" sz="2800" spc="-1" strike="noStrike">
                <a:solidFill>
                  <a:srgbClr val="000000"/>
                </a:solidFill>
                <a:latin typeface="Arial"/>
              </a:rPr>
              <a:t>end of the sentence in item 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d PAR passed the Working Group by a vote of 36/1/1 on Wednesday, Nov 8, 2000 at 3:45p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Verizon</a:t>
            </a:r>
          </a:p>
        </p:txBody>
      </p:sp>
      <p:sp>
        <p:nvSpPr>
          <p:cNvPr id="5" name="PlaceHolder 4"/>
          <p:cNvSpPr>
            <a:spLocks noGrp="1"/>
          </p:cNvSpPr>
          <p:nvPr>
            <p:ph type="sldNum" idx="3"/>
          </p:nvPr>
        </p:nvSpPr>
        <p:spPr/>
        <p:txBody>
          <a:bodyPr/>
          <a:p>
            <a:fld id="{3311ACB8-FF77-4867-87F6-6CF56195865D}"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Low Rate Task Group Leadership</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ob Heile (ac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a:t>
            </a:r>
            <a:r>
              <a:rPr b="0" lang="en-US" sz="3200" spc="-1" strike="noStrike">
                <a:solidFill>
                  <a:srgbClr val="000000"/>
                </a:solidFill>
                <a:latin typeface="Arial"/>
              </a:rPr>
              <a:t>	</a:t>
            </a:r>
            <a:r>
              <a:rPr b="0" lang="en-US" sz="3200" spc="-1" strike="noStrike">
                <a:solidFill>
                  <a:srgbClr val="000000"/>
                </a:solidFill>
                <a:latin typeface="Arial"/>
              </a:rPr>
              <a:t>Pat Kinne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ary:</a:t>
            </a:r>
            <a:r>
              <a:rPr b="0" lang="en-US" sz="3200" spc="-1" strike="noStrike">
                <a:solidFill>
                  <a:srgbClr val="000000"/>
                </a:solidFill>
                <a:latin typeface="Arial"/>
              </a:rPr>
              <a:t>	</a:t>
            </a:r>
            <a:r>
              <a:rPr b="0" lang="en-US" sz="3200" spc="-1" strike="noStrike">
                <a:solidFill>
                  <a:srgbClr val="000000"/>
                </a:solidFill>
                <a:latin typeface="Arial"/>
              </a:rPr>
              <a:t>Marco Na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Edito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Verizon</a:t>
            </a:r>
          </a:p>
        </p:txBody>
      </p:sp>
      <p:sp>
        <p:nvSpPr>
          <p:cNvPr id="5" name="PlaceHolder 4"/>
          <p:cNvSpPr>
            <a:spLocks noGrp="1"/>
          </p:cNvSpPr>
          <p:nvPr>
            <p:ph type="sldNum" idx="3"/>
          </p:nvPr>
        </p:nvSpPr>
        <p:spPr/>
        <p:txBody>
          <a:bodyPr/>
          <a:p>
            <a:fld id="{AD486C64-AACA-40CA-93DB-669FC1CF559F}"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SEC</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hat the SEC forward the 802.15.4 Low Rate PAR, Document 00/248r4, to the December Meeting of NesCom for approval.</a:t>
            </a:r>
            <a:endParaRPr b="0" lang="en-US" sz="32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ob Heil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a:t>
            </a:r>
            <a:r>
              <a:rPr b="0" lang="en-US" sz="2000" spc="-1" strike="noStrike">
                <a:solidFill>
                  <a:srgbClr val="000000"/>
                </a:solidFill>
                <a:latin typeface="Arial"/>
              </a:rPr>
              <a:t>	</a:t>
            </a:r>
            <a:r>
              <a:rPr b="0" lang="en-US" sz="2000" spc="-1" strike="noStrike">
                <a:solidFill>
                  <a:srgbClr val="000000"/>
                </a:solidFill>
                <a:latin typeface="Arial"/>
              </a:rPr>
              <a:t>Stuart Kerry</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ai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Verizon</a:t>
            </a:r>
          </a:p>
        </p:txBody>
      </p:sp>
      <p:sp>
        <p:nvSpPr>
          <p:cNvPr id="5" name="PlaceHolder 4"/>
          <p:cNvSpPr>
            <a:spLocks noGrp="1"/>
          </p:cNvSpPr>
          <p:nvPr>
            <p:ph type="sldNum" idx="3"/>
          </p:nvPr>
        </p:nvSpPr>
        <p:spPr/>
        <p:txBody>
          <a:bodyPr/>
          <a:p>
            <a:fld id="{243B7AC1-C148-46B0-9FDC-D8D4919E122D}"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 on Study Group Motion</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3 selected a MAC and 2.4 gig PHY as the Baseline for the High Rate WPAN Stand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gnificant 5gig faction emerged during the selection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duce the potential of random fragmentation it was deemed better to form a Study Group which could be closely tied to the 5Gig SG of 802.11which could look at options for a 5gig PHY for 802.15.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Verizon</a:t>
            </a:r>
          </a:p>
        </p:txBody>
      </p:sp>
      <p:sp>
        <p:nvSpPr>
          <p:cNvPr id="5" name="PlaceHolder 4"/>
          <p:cNvSpPr>
            <a:spLocks noGrp="1"/>
          </p:cNvSpPr>
          <p:nvPr>
            <p:ph type="sldNum" idx="3"/>
          </p:nvPr>
        </p:nvSpPr>
        <p:spPr/>
        <p:txBody>
          <a:bodyPr/>
          <a:p>
            <a:fld id="{B2E27BA2-07A2-42C5-AF6F-98AEA4AD8801}"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tion: Form a 5GHz High Rate WPAN study group within 802.15 to address the creation of a 5 GHz PHY option within the 802.15.3 WPAN HR framework. The study group will work closely with the 802.11/ETSI-BRAN/MMAC 5GHz Study Group to ensure coexistence. (Passed the WG </a:t>
            </a:r>
            <a:r>
              <a:rPr b="0" lang="en-US" sz="2000" spc="-1" strike="noStrike">
                <a:solidFill>
                  <a:srgbClr val="000000"/>
                </a:solidFill>
                <a:latin typeface="Arial"/>
              </a:rPr>
              <a:t>14/5/10</a:t>
            </a:r>
            <a:r>
              <a:rPr b="0" i="1" lang="en-US"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posed Chair: Bruce Kraemer</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d:  Bob Heile</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Paul Nikolich</a:t>
            </a:r>
            <a:endParaRPr b="0" lang="en-US" sz="1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no/abstain   1/3/6</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Verizon</a:t>
            </a:r>
          </a:p>
        </p:txBody>
      </p:sp>
      <p:sp>
        <p:nvSpPr>
          <p:cNvPr id="5" name="PlaceHolder 4"/>
          <p:cNvSpPr>
            <a:spLocks noGrp="1"/>
          </p:cNvSpPr>
          <p:nvPr>
            <p:ph type="sldNum" idx="3"/>
          </p:nvPr>
        </p:nvSpPr>
        <p:spPr/>
        <p:txBody>
          <a:bodyPr/>
          <a:p>
            <a:fld id="{FD54DAB7-BC80-425E-9794-6E8DF8E24E02}"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9T22:50:31Z</dcterms:created>
  <dc:creator>Robert F.  Heile</dc:creator>
  <dc:description>&lt;doc#&gt;</dc:description>
  <dc:language>en-US</dc:language>
  <cp:lastModifiedBy>Robert F.  Heile</cp:lastModifiedBy>
  <cp:lastPrinted>1998-02-10T13:28:06Z</cp:lastPrinted>
  <dcterms:modified xsi:type="dcterms:W3CDTF">2000-11-17T22:47:06Z</dcterms:modified>
  <cp:revision>18</cp:revision>
  <dc:subject>IEEE 802.15 &lt;subject&gt;</dc:subject>
  <dc:title>No Slide Title</dc:title>
</cp:coreProperties>
</file>