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4D420-4361-4AB1-BEFC-90917DE96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0AA99-3C7F-40A1-A6A5-9F56FCE00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ADFB3-7A5E-4529-ACD9-8F7325E16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94578-5142-4F10-9B62-FB45E1259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17ED9-7EE7-4122-805B-AF09B2290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9AAD8-E889-48EF-8493-86711F0A2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756EA-A697-4492-8435-0DD0D2C6B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B80AB-A0DD-4B25-9D7C-18C0D8C86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AF620-8673-43D5-A782-01D0584A9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2A79E-6C25-42C6-B7E8-445B1D226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497FC-D413-4E0F-95E8-C2D287726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F6429-21FE-465D-95EE-260F3D240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379800"/>
            <a:ext cx="160020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27625948-CDA1-4096-BE1F-8F8EA2972A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5-00/368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1752480" y="685800"/>
            <a:ext cx="5645160" cy="1711440"/>
            <a:chOff x="1752480" y="685800"/>
            <a:chExt cx="5645160" cy="1711440"/>
          </a:xfrm>
        </p:grpSpPr>
        <p:pic>
          <p:nvPicPr>
            <p:cNvPr id="46" name="802" descr=""/>
            <p:cNvPicPr/>
            <p:nvPr/>
          </p:nvPicPr>
          <p:blipFill>
            <a:blip r:embed="rId1"/>
            <a:stretch/>
          </p:blipFill>
          <p:spPr>
            <a:xfrm>
              <a:off x="5737320" y="685800"/>
              <a:ext cx="1660320" cy="1711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7" name=""/>
            <p:cNvGrpSpPr/>
            <p:nvPr/>
          </p:nvGrpSpPr>
          <p:grpSpPr>
            <a:xfrm>
              <a:off x="1752480" y="933480"/>
              <a:ext cx="5477040" cy="1114560"/>
              <a:chOff x="1752480" y="933480"/>
              <a:chExt cx="5477040" cy="1114560"/>
            </a:xfrm>
          </p:grpSpPr>
          <p:sp>
            <p:nvSpPr>
              <p:cNvPr id="48" name=""/>
              <p:cNvSpPr/>
              <p:nvPr/>
            </p:nvSpPr>
            <p:spPr>
              <a:xfrm>
                <a:off x="1752480" y="933480"/>
                <a:ext cx="4181760" cy="111456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3630240" y="1028880"/>
                <a:ext cx="206748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400" spc="-1" strike="noStrike">
                    <a:solidFill>
                      <a:srgbClr val="0066ff"/>
                    </a:solidFill>
                    <a:latin typeface="Times New Roman"/>
                  </a:rPr>
                  <a:t>802.15</a:t>
                </a:r>
                <a:endParaRPr b="0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0" name=""/>
              <p:cNvGrpSpPr/>
              <p:nvPr/>
            </p:nvGrpSpPr>
            <p:grpSpPr>
              <a:xfrm>
                <a:off x="1895400" y="976320"/>
                <a:ext cx="1595520" cy="1045800"/>
                <a:chOff x="1895400" y="976320"/>
                <a:chExt cx="1595520" cy="1045800"/>
              </a:xfrm>
            </p:grpSpPr>
            <p:grpSp>
              <p:nvGrpSpPr>
                <p:cNvPr id="51" name=""/>
                <p:cNvGrpSpPr/>
                <p:nvPr/>
              </p:nvGrpSpPr>
              <p:grpSpPr>
                <a:xfrm>
                  <a:off x="2165400" y="985680"/>
                  <a:ext cx="1325520" cy="1036440"/>
                  <a:chOff x="2165400" y="985680"/>
                  <a:chExt cx="1325520" cy="1036440"/>
                </a:xfrm>
              </p:grpSpPr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65400" y="1245960"/>
                    <a:ext cx="103824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grpSp>
                <p:nvGrpSpPr>
                  <p:cNvPr id="53" name=""/>
                  <p:cNvGrpSpPr/>
                  <p:nvPr/>
                </p:nvGrpSpPr>
                <p:grpSpPr>
                  <a:xfrm>
                    <a:off x="2544840" y="985680"/>
                    <a:ext cx="946080" cy="944640"/>
                    <a:chOff x="2544840" y="985680"/>
                    <a:chExt cx="946080" cy="944640"/>
                  </a:xfrm>
                </p:grpSpPr>
                <p:sp>
                  <p:nvSpPr>
                    <p:cNvPr id="54" name=""/>
                    <p:cNvSpPr/>
                    <p:nvPr/>
                  </p:nvSpPr>
                  <p:spPr>
                    <a:xfrm>
                      <a:off x="2544840" y="985680"/>
                      <a:ext cx="946080" cy="94464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fc0128"/>
                      </a:solidFill>
                      <a:prstDash val="sysDot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5" name=""/>
                    <p:cNvSpPr/>
                    <p:nvPr/>
                  </p:nvSpPr>
                  <p:spPr>
                    <a:xfrm>
                      <a:off x="2616120" y="1056960"/>
                      <a:ext cx="804960" cy="80352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fc0128"/>
                      </a:solidFill>
                      <a:prstDash val="sysDot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6" name=""/>
                    <p:cNvSpPr/>
                    <p:nvPr/>
                  </p:nvSpPr>
                  <p:spPr>
                    <a:xfrm>
                      <a:off x="2690640" y="1133280"/>
                      <a:ext cx="654120" cy="65088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fc0128"/>
                      </a:solidFill>
                      <a:prstDash val="sysDot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7" name=""/>
                    <p:cNvSpPr/>
                    <p:nvPr/>
                  </p:nvSpPr>
                  <p:spPr>
                    <a:xfrm>
                      <a:off x="2776320" y="1211040"/>
                      <a:ext cx="482760" cy="49680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fc0128"/>
                      </a:solidFill>
                      <a:prstDash val="sysDot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8" name=""/>
                    <p:cNvSpPr/>
                    <p:nvPr/>
                  </p:nvSpPr>
                  <p:spPr>
                    <a:xfrm>
                      <a:off x="2865240" y="1306440"/>
                      <a:ext cx="304920" cy="30456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fc0128"/>
                      </a:solidFill>
                      <a:prstDash val="sysDot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9" name=""/>
                    <p:cNvSpPr/>
                    <p:nvPr/>
                  </p:nvSpPr>
                  <p:spPr>
                    <a:xfrm>
                      <a:off x="2935080" y="1376280"/>
                      <a:ext cx="165240" cy="16668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fc0128"/>
                      </a:solidFill>
                      <a:prstDash val="sysDot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0" name=""/>
                    <p:cNvSpPr/>
                    <p:nvPr/>
                  </p:nvSpPr>
                  <p:spPr>
                    <a:xfrm>
                      <a:off x="2979720" y="1420560"/>
                      <a:ext cx="76320" cy="7776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fc0128"/>
                      </a:solidFill>
                      <a:prstDash val="sysDot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8640" bIns="8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61" name=""/>
                  <p:cNvGrpSpPr/>
                  <p:nvPr/>
                </p:nvGrpSpPr>
                <p:grpSpPr>
                  <a:xfrm>
                    <a:off x="2212920" y="1041120"/>
                    <a:ext cx="946080" cy="944640"/>
                    <a:chOff x="2212920" y="1041120"/>
                    <a:chExt cx="946080" cy="944640"/>
                  </a:xfrm>
                </p:grpSpPr>
                <p:sp>
                  <p:nvSpPr>
                    <p:cNvPr id="62" name=""/>
                    <p:cNvSpPr/>
                    <p:nvPr/>
                  </p:nvSpPr>
                  <p:spPr>
                    <a:xfrm>
                      <a:off x="2212920" y="1041120"/>
                      <a:ext cx="946080" cy="94464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fc0128"/>
                      </a:solidFill>
                      <a:prstDash val="sysDot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" name=""/>
                    <p:cNvSpPr/>
                    <p:nvPr/>
                  </p:nvSpPr>
                  <p:spPr>
                    <a:xfrm>
                      <a:off x="2286000" y="1110960"/>
                      <a:ext cx="801720" cy="80172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fc0128"/>
                      </a:solidFill>
                      <a:prstDash val="sysDot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4" name=""/>
                    <p:cNvSpPr/>
                    <p:nvPr/>
                  </p:nvSpPr>
                  <p:spPr>
                    <a:xfrm>
                      <a:off x="2360520" y="1185480"/>
                      <a:ext cx="652320" cy="65268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fc0128"/>
                      </a:solidFill>
                      <a:prstDash val="sysDot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5" name=""/>
                    <p:cNvSpPr/>
                    <p:nvPr/>
                  </p:nvSpPr>
                  <p:spPr>
                    <a:xfrm>
                      <a:off x="2444760" y="1265040"/>
                      <a:ext cx="484200" cy="49536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fc0128"/>
                      </a:solidFill>
                      <a:prstDash val="sysDot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6" name=""/>
                    <p:cNvSpPr/>
                    <p:nvPr/>
                  </p:nvSpPr>
                  <p:spPr>
                    <a:xfrm>
                      <a:off x="2533680" y="1360440"/>
                      <a:ext cx="306360" cy="30456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fc0128"/>
                      </a:solidFill>
                      <a:prstDash val="sysDot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7" name=""/>
                    <p:cNvSpPr/>
                    <p:nvPr/>
                  </p:nvSpPr>
                  <p:spPr>
                    <a:xfrm>
                      <a:off x="2603520" y="1430280"/>
                      <a:ext cx="166680" cy="16668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fc0128"/>
                      </a:solidFill>
                      <a:prstDash val="sysDot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8" name=""/>
                    <p:cNvSpPr/>
                    <p:nvPr/>
                  </p:nvSpPr>
                  <p:spPr>
                    <a:xfrm>
                      <a:off x="2647800" y="1473120"/>
                      <a:ext cx="77760" cy="7776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fc0128"/>
                      </a:solidFill>
                      <a:prstDash val="sysDot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8640" bIns="8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1895400" y="976320"/>
                  <a:ext cx="946080" cy="942840"/>
                  <a:chOff x="1895400" y="976320"/>
                  <a:chExt cx="946080" cy="94284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>
                    <a:off x="1895400" y="976320"/>
                    <a:ext cx="946080" cy="9428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fc0128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>
                    <a:off x="1965240" y="1045800"/>
                    <a:ext cx="804960" cy="803160"/>
                  </a:xfrm>
                  <a:prstGeom prst="ellipse">
                    <a:avLst/>
                  </a:prstGeom>
                  <a:noFill/>
                  <a:ln w="12600">
                    <a:solidFill>
                      <a:srgbClr val="fc0128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" name=""/>
                  <p:cNvSpPr/>
                  <p:nvPr/>
                </p:nvSpPr>
                <p:spPr>
                  <a:xfrm>
                    <a:off x="2041560" y="1122120"/>
                    <a:ext cx="654120" cy="650520"/>
                  </a:xfrm>
                  <a:prstGeom prst="ellipse">
                    <a:avLst/>
                  </a:prstGeom>
                  <a:noFill/>
                  <a:ln w="12600">
                    <a:solidFill>
                      <a:srgbClr val="fc0128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" name=""/>
                  <p:cNvSpPr/>
                  <p:nvPr/>
                </p:nvSpPr>
                <p:spPr>
                  <a:xfrm>
                    <a:off x="2127240" y="1201680"/>
                    <a:ext cx="482400" cy="494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fc0128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>
                    <a:off x="2216160" y="1296720"/>
                    <a:ext cx="304560" cy="302760"/>
                  </a:xfrm>
                  <a:prstGeom prst="ellipse">
                    <a:avLst/>
                  </a:prstGeom>
                  <a:noFill/>
                  <a:ln w="12600">
                    <a:solidFill>
                      <a:srgbClr val="fc0128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" name=""/>
                  <p:cNvSpPr/>
                  <p:nvPr/>
                </p:nvSpPr>
                <p:spPr>
                  <a:xfrm>
                    <a:off x="2286000" y="1366560"/>
                    <a:ext cx="164880" cy="164880"/>
                  </a:xfrm>
                  <a:prstGeom prst="ellipse">
                    <a:avLst/>
                  </a:prstGeom>
                  <a:noFill/>
                  <a:ln w="12600">
                    <a:solidFill>
                      <a:srgbClr val="fc0128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" name=""/>
                  <p:cNvSpPr/>
                  <p:nvPr/>
                </p:nvSpPr>
                <p:spPr>
                  <a:xfrm>
                    <a:off x="2330280" y="1409400"/>
                    <a:ext cx="76320" cy="774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fc0128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8280" bIns="8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77" name=""/>
              <p:cNvSpPr/>
              <p:nvPr/>
            </p:nvSpPr>
            <p:spPr>
              <a:xfrm>
                <a:off x="5924520" y="933480"/>
                <a:ext cx="1305000" cy="11145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6212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9th Session of meetings of the IEEE 802.15 Working Group for Wireless Personal Area Networ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vember 6-10, 2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yatt Regency Tamp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 Tampa City Ce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ampa, FL 3360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, Veriz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0469C-89A0-4D94-9C45-807CCD72E576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380880" y="685800"/>
            <a:ext cx="83822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02.15 Functional Organization Cha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311040" y="2070000"/>
          <a:ext cx="8520120" cy="401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1040" y="2070000"/>
                    <a:ext cx="8520120" cy="401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, Veriz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47651-A7F0-4929-91AD-DB800CDC10C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ry of Major 802.15 Activities since July20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G1 continues comment resolution and convergence with Bluetooth spec v1.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G2 Conducting CFP for Coexistence Mechanis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G3 is Poised to pick one MAC and one PHY from a field of 4 MACs and 8 PH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w Rate SG has submitted a Draft PAR to 802 for review and approv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, Veriz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1CC82-C384-46A1-B8BB-C52411D641E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bjectives of the Tampa Meet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ovember 6-10, 20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380880" y="2209680"/>
          <a:ext cx="8535960" cy="3475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209680"/>
                    <a:ext cx="8535960" cy="347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, Veriz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B422C-BE3A-42C9-8678-249101CDD758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bjectives of the Tampa Meet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ovember 6-10, 20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152280" y="2362320"/>
          <a:ext cx="10749240" cy="2103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2362320"/>
                    <a:ext cx="10749240" cy="210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, Veriz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2D940-B5FD-4FB1-8B0E-7CF67237FB95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bjectives of the Tampa Meet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ovember 6-10, 20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228600" y="1981080"/>
          <a:ext cx="10517040" cy="2629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981080"/>
                    <a:ext cx="10517040" cy="262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, Veriz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BD6AC-1CAA-4FF6-A1F8-96BDF616642C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bjectives of the Tampa Meet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ovember 6-10, 20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0" y="1905120"/>
          <a:ext cx="8688240" cy="297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905120"/>
                    <a:ext cx="8688240" cy="297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, Veriz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2E111-6852-484C-AF76-C8277CE06297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bjectives of the Tampa Meet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ovember 6-10, 20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304920" y="2438280"/>
          <a:ext cx="9264600" cy="1212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438280"/>
                    <a:ext cx="9264600" cy="121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>
            <a:off x="914400" y="4114800"/>
            <a:ext cx="480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utorial Tonite at 6:30p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, Veriz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33ED6-8338-442C-A620-702397B036E2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ogistics-Meeting Graphi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380880" y="1219320"/>
          <a:ext cx="8305920" cy="5448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19320"/>
                    <a:ext cx="8305920" cy="544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, Veriz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F1771-4631-48C5-9159-8B25538121A7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22T06:24:01Z</dcterms:created>
  <dc:creator>Robert F. Heile</dc:creator>
  <dc:description>00/338ro</dc:description>
  <dc:language>en-US</dc:language>
  <cp:lastModifiedBy>Robert F.  Heile</cp:lastModifiedBy>
  <cp:lastPrinted>2000-03-05T01:29:49Z</cp:lastPrinted>
  <dcterms:modified xsi:type="dcterms:W3CDTF">2000-11-06T16:38:12Z</dcterms:modified>
  <cp:revision>87</cp:revision>
  <dc:subject>IEEE 802.15 &lt;subject&gt;</dc:subject>
  <dc:title>Nov00  Report to 802 Opening Plenary</dc:title>
</cp:coreProperties>
</file>