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FDEEE-40A7-4C4F-868C-34117AC84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9E23-AD61-438E-ADC1-F6E6F5B1F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A955D-31D0-4444-A3C2-6F006E481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36A48-2655-46D8-A644-41929A42F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332F-C1AE-4DDC-B497-6C01F365F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FF28-917F-4224-AD67-4BE3BC0A3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C8A0-A3AA-4CE3-BDA7-A0DE9366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B0043-AEAA-46B2-9E98-2B02FF5F0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9381-EC8D-4439-BBDC-88114326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2EB23-381F-4164-95C4-73BDD8D80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C671-9CA3-4417-BBD6-06F613AF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EC27-6054-4560-BE24-669F2EA0D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F44BDF-9B56-4508-AABB-E8592EFED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FCE06F4-9ABC-4990-B4C3-805C443235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6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5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327R1P802-15_TG3-Nov00-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Voting Process (1 of 2)</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for the voters, by roll call vote, to vote for one proposal or none of the abo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the proposal (or proposals in case of a "tie") receiving the least votes is elimin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 the process continues with a vote as in "a" and "b" eliminating proposals one by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time the number of proposals in the eliminating process for either the MAC or PHY has been reduced to four and two a panel discussion shall be held with the remaining proposers as panel members.  The length of discussion shall be limited to 15 minutes times the number of remaining proposals.  Discussion shall be limited to voting members and the presenters (or their designat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8C1D1B0-6C7C-49F1-BD77-9E05AE271A7B}"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Voting Process (2 of 2)</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when one proposal is left the voters shall vote for the proposal or none of the above and the proposal shall be required to achieve a 75% majority in order to be submitted to the working group as a recommendation.  If the remaining proposal fails to achieve a 75% majority, the members who voted "no" shall be requested to state why they voted no and what would be required to change their vote to an affirmative vote.  The proposer shall have an opportunity to respond to the concerns of the no voters.  After which a roll call vote will be taken to approve the propos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 if the last remaining proposal fails to receive 75% majority, the process shall begin again with the proposals remaining after 50% were eliminated.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320F1CE-4A59-498F-AD4C-B2E934ABA0A1}"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Voting Rule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votes taken to reduce number of proposals will be by paper ballot during the session with results posted immediately following the vote on how everyone vo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ation votes will be via open roll call vote. Everyone who votes “none of the above” will need to provide a reason for the vote if at least 75% of the voters do not vote for the proposed se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f the ‘no’ votes will proceed until 75% approval is reached or no further progress can be made. (Back off to last 50%, and go agai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980AA3C-942D-4BB5-A2D0-DA7FD0CF091A}"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nel Proces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time for panel is 15 minutes * number of remaining proposa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inute position statement from each member of the panel (option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mp;A – Questions may only be asked by voting member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 queue of questions will be kept by Chair.</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question per position in the queu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 must be stated in no more than one minute</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s must be stated in no more than two minut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tions will be considered during the pan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791D2D8-14DD-4228-9365-9048FC6C96E9}"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Selection Goal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chose a single starting point for the draft standard that focuses our efforts on the best possible solu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rting point does not completely define the final draft standard, good ideas from other proposals can be added to the proposal during the development of the draft standar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of systems issues may introduce additional requirements to include items from other propos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success criteria is mass adoption of a high-rate WPAN radio standard, not the success of an individual compan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92A7FC0-263F-462C-9C36-B03E56806F96}"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Proposal Voting Tim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ound – Monday Afterno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6 MAC Vote A (4 to 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1 MAC Vote B (3 to 2)</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el Discussion on Remaining 2 MA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1 Each proposer has 10 minutes with 5 minute Q/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Round – Monday Even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1 MAC Vote C (2 to 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nfirmation Vo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6 Confirmation Role Call Vo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1 Resolution of No Votes (if necessary for 7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C819E40-4F0D-4C24-BCC9-52AF71330225}"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 Proposal Voting Times (1 of 2)</a:t>
            </a:r>
            <a:endParaRPr b="0" lang="en-US" sz="3600" spc="-1" strike="noStrike">
              <a:solidFill>
                <a:srgbClr val="000000"/>
              </a:solidFill>
              <a:latin typeface="Times New Roman"/>
            </a:endParaRPr>
          </a:p>
        </p:txBody>
      </p:sp>
      <p:sp>
        <p:nvSpPr>
          <p:cNvPr id="113"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ound – Tuesday Eve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1 PM PHY Vote A (7 to 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1 PM PHY Vote B (6 to 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1 PM PHY Vote C (5 to 4)</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el Discussion on Remaining 4 PHYs (W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6 AM Each proposer has 10 minutes with 5 minute Q/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Round – Wednesday Mor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6 AM PHY Vote D (4 to 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6 AM PHY Vote E (3 to 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00F8632-3F35-4D78-9968-A14C192A39B0}"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 Proposal Voting Times (2 of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el Discussion on Remaining 2 PHYs 10:56 AM Each proposer has 10 minutes with 5 minute Q/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Round – Wednesday Morn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6 AM PHY Vote F (2 to 1)</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Confirmation Vote (Wednesda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56 AM Roll Call Vote on Confirm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1 PM Resolution of No Votes (if necessary)</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DF9F60A-43A9-42EC-A830-F0D3BA30F9C2}"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Document Summary (1 of 2)</a:t>
            </a:r>
            <a:endParaRPr b="0" lang="en-US" sz="3600" spc="-1" strike="noStrike">
              <a:solidFill>
                <a:srgbClr val="000000"/>
              </a:solidFill>
              <a:latin typeface="Times New Roman"/>
            </a:endParaRPr>
          </a:p>
        </p:txBody>
      </p:sp>
      <p:graphicFrame>
        <p:nvGraphicFramePr>
          <p:cNvPr id="117" name=""/>
          <p:cNvGraphicFramePr/>
          <p:nvPr/>
        </p:nvGraphicFramePr>
        <p:xfrm>
          <a:off x="685800" y="1563840"/>
          <a:ext cx="8001000" cy="4379760"/>
        </p:xfrm>
        <a:graphic>
          <a:graphicData uri="http://schemas.openxmlformats.org/presentationml/2006/ole">
            <p:oleObj progId="Excel.Sheet.12" r:id="rId1" spid="">
              <p:embed/>
              <p:pic>
                <p:nvPicPr>
                  <p:cNvPr id="118" name="" descr=""/>
                  <p:cNvPicPr/>
                  <p:nvPr/>
                </p:nvPicPr>
                <p:blipFill>
                  <a:blip r:embed="rId2"/>
                  <a:stretch/>
                </p:blipFill>
                <p:spPr>
                  <a:xfrm>
                    <a:off x="685800" y="1563840"/>
                    <a:ext cx="8001000" cy="437976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D5331628-D1D2-49B4-8F9C-554BEEE0741B}"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Document Summary (2 of 2)</a:t>
            </a:r>
            <a:endParaRPr b="0" lang="en-US" sz="3600" spc="-1" strike="noStrike">
              <a:solidFill>
                <a:srgbClr val="000000"/>
              </a:solidFill>
              <a:latin typeface="Times New Roman"/>
            </a:endParaRPr>
          </a:p>
        </p:txBody>
      </p:sp>
      <p:graphicFrame>
        <p:nvGraphicFramePr>
          <p:cNvPr id="120" name=""/>
          <p:cNvGraphicFramePr/>
          <p:nvPr/>
        </p:nvGraphicFramePr>
        <p:xfrm>
          <a:off x="304920" y="1905120"/>
          <a:ext cx="8381880" cy="1614240"/>
        </p:xfrm>
        <a:graphic>
          <a:graphicData uri="http://schemas.openxmlformats.org/presentationml/2006/ole">
            <p:oleObj progId="Excel.Sheet.12" r:id="rId1" spid="">
              <p:embed/>
              <p:pic>
                <p:nvPicPr>
                  <p:cNvPr id="121" name="" descr=""/>
                  <p:cNvPicPr/>
                  <p:nvPr/>
                </p:nvPicPr>
                <p:blipFill>
                  <a:blip r:embed="rId2"/>
                  <a:stretch/>
                </p:blipFill>
                <p:spPr>
                  <a:xfrm>
                    <a:off x="304920" y="1905120"/>
                    <a:ext cx="8381880" cy="1614240"/>
                  </a:xfrm>
                  <a:prstGeom prst="rect">
                    <a:avLst/>
                  </a:prstGeom>
                  <a:ln w="0">
                    <a:noFill/>
                  </a:ln>
                </p:spPr>
              </p:pic>
            </p:oleObj>
          </a:graphicData>
        </a:graphic>
      </p:graphicFrame>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CC02131A-6C0F-4BC2-B407-EA10A619D058}"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2000, Tampa, FL</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DE1D6D2-8E01-402E-9A1C-88D4D17FC000}"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November Sessions</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Review of committee work and resolution of outstanding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Summary MAC Presentations and voting to obtain MAC starting point for draft standar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Summary PHY Presentations and first round of PHY vo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 Final PHY voting to obtain PHY starting point for draft standar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Develop process for creating initial draft standard and structure of technical committees going forw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758AEF0-EB4F-41EA-8A34-177E6C48B63D}"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November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7FC54BB-03D8-4423-8E5F-4E14DCE2EF62}"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November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Process and Voting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and Voting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89288D7-E3A2-48A3-A43E-3A9D60E3F514}"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November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conference call results and vote on acceptance of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presentations on MAC &amp; PHY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to Reduce to one MAC/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the writing of the Draf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erfaces between MAC/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and Analyze Call for Pa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BSIG/IEEE contract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EF3C358-CBB1-4437-ABAD-DE4AA149E12F}"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2734EBA-005A-4CDB-87BD-C244BC20A1C3}"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everything you need to know to construct the lower layers of high rate WPA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Select candidate MAC/PHY, November, 2001. Working Group draft, Ma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4C7C229-EB16-4A2A-83CD-B6EC68223FEB}"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Complete criteria document update, evaluate proposals, combine proposals into better solutions, prepare for final proposal sel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4144DFA-65B5-48F0-B734-DC65CF4B526C}"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Proposals</a:t>
            </a:r>
            <a:br>
              <a:rPr sz="3600"/>
            </a:br>
            <a:r>
              <a:rPr b="0" lang="en-US" sz="3600" spc="-1" strike="noStrike">
                <a:solidFill>
                  <a:srgbClr val="000000"/>
                </a:solidFill>
                <a:latin typeface="Times New Roman"/>
              </a:rPr>
              <a:t>(Order of Summary Presentations)</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2057400"/>
            <a:ext cx="3886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Monda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1 Kin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6 Par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1 Ri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6 Heberlin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Tuesda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24 O’Farre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9 Daba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1 Skell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1 Ri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6 Karaogu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1 Rofhea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6 Carlson</a:t>
            </a:r>
            <a:endParaRPr b="0" lang="en-US" sz="2400" spc="-1" strike="noStrike">
              <a:solidFill>
                <a:srgbClr val="000000"/>
              </a:solidFill>
              <a:latin typeface="Times New Roman"/>
            </a:endParaRPr>
          </a:p>
        </p:txBody>
      </p:sp>
      <p:sp>
        <p:nvSpPr>
          <p:cNvPr id="97" name=""/>
          <p:cNvSpPr/>
          <p:nvPr/>
        </p:nvSpPr>
        <p:spPr>
          <a:xfrm>
            <a:off x="804240" y="5486400"/>
            <a:ext cx="7835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proposer will have 30 minutes for their summary presen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ed by a 15 minute discussion period. Discussion limited to vo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 and the presenters (or their designate).</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John Barr, Motorola</a:t>
            </a:r>
          </a:p>
        </p:txBody>
      </p:sp>
      <p:sp>
        <p:nvSpPr>
          <p:cNvPr id="6" name="PlaceHolder 5"/>
          <p:cNvSpPr>
            <a:spLocks noGrp="1"/>
          </p:cNvSpPr>
          <p:nvPr>
            <p:ph type="sldNum" idx="3"/>
          </p:nvPr>
        </p:nvSpPr>
        <p:spPr/>
        <p:txBody>
          <a:bodyPr/>
          <a:p>
            <a:fld id="{7D6A690B-2B83-47DC-A92F-328497C94E4E}" type="slidenum">
              <a:t>8</a:t>
            </a:fld>
          </a:p>
        </p:txBody>
      </p:sp>
      <p:sp>
        <p:nvSpPr>
          <p:cNvPr id="7" name="PlaceHolder 6"/>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Updates</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ve comments on evaluation criteria will be noted in appendix to 110R14 (TG3 Criteria Definitions) authored by MAC, PHY, and Systems Committee chai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MAC and PHY separately, optimizing task group resour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 and PMD functionality will be defined for 802.15.3 as the basis for the initial dra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choice will be concluded prior to final PHY cho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39851E4-DC1D-4F21-8AD2-3EEA187A5329}"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ohn R. Barr</cp:lastModifiedBy>
  <cp:lastPrinted>1998-02-10T13:28:06Z</cp:lastPrinted>
  <dcterms:modified xsi:type="dcterms:W3CDTF">2000-11-06T12:45:50Z</dcterms:modified>
  <cp:revision>210</cp:revision>
  <dc:subject>TG3 Opening Report, 6Nov00</dc:subject>
  <dc:title>IEEE P802.15 Working Group for Wireless Personal Area Networks</dc:title>
</cp:coreProperties>
</file>