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CB7362-A772-456A-9970-5B48DE8CB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3692FF-1A7D-4C8E-960A-AA69C5D44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2" name="PlaceHolder 1"/>
          <p:cNvSpPr>
            <a:spLocks noGrp="1"/>
          </p:cNvSpPr>
          <p:nvPr>
            <p:ph type="sldImg"/>
          </p:nvPr>
        </p:nvSpPr>
        <p:spPr>
          <a:xfrm>
            <a:off x="1146240" y="695160"/>
            <a:ext cx="4641840" cy="3481560"/>
          </a:xfrm>
          <a:prstGeom prst="rect">
            <a:avLst/>
          </a:prstGeom>
          <a:ln w="0">
            <a:noFill/>
          </a:ln>
        </p:spPr>
      </p:sp>
      <p:sp>
        <p:nvSpPr>
          <p:cNvPr id="313"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Tom Siep [siep@ti.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Thursday, November 02, 2000 12:32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Task Group 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802.15.1 Version 1.1 not availab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ce: Hig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just spoke to Cathy Hughes of the Open Group.  There has been a MAJOR retrenchment: the TROFF version has been abandoned.  They will RE-IMPLEMENT Errata against the original v1.0b and stay in FrameMak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tai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Open Group has had static from the SIG about "Conversion Errors" from FrameMaker to TROFF (Cathy says there were 5 in the 1600 pages, 4 of which were TROFF coding errors, one was a figur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2.. Open Group will use a consultant to apply the Errata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3.. Cathy had made both editorial and technical chang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4.. The techinal changes will be reappli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editorial changes likely will be los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6.. Kennith Wilson (the consultant) will be seeing the FM source for the first time tomorrow.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7.. The desired delivery for the updated FM is 24Novemb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8.. It is not known at this time how long the SIG will need to review the new document, but 30 or even 40 days seems reasonable to both Cathy and m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9.. It seems likely that v1.1 will not be ready for the BT DevCon (4-7 Dec 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lications for TG1 (as I see th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1.. Earliest possible editorial changes on Clauses 7-11 is 1Decemb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2.. Earliest possible start time for comment resolution is 1January01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3.. No impact on Clauses 1-6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4.. No impact on magnitude of changes to base document; we can determine with what we know whether we need to do a reconsider (40 day) or confirmation (15 day) ballot -- I think 15 day will do.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5.. No impact on responding to comments that were reject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ther though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 Siep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reless Communications Business Uni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exas Instru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14) 480-6786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972) 761-5581 FAX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14) 808-2642 cell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iep@ti.co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4160" y="701640"/>
            <a:ext cx="4626000" cy="3468600"/>
          </a:xfrm>
          <a:prstGeom prst="rect">
            <a:avLst/>
          </a:prstGeom>
          <a:ln w="0">
            <a:noFill/>
          </a:ln>
        </p:spPr>
      </p:sp>
      <p:sp>
        <p:nvSpPr>
          <p:cNvPr id="315"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adaG used a non-standard Type of Comment e.g., 32 "E/t" and 4 "e/t".  I am unclear how to deal with these comments.  The Editor-in-Chief interpreted them as "t’s”; which nets 59 total of which 36 are hybr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tK forgot to code pwk19 e.g., Type of Comment e.g., "E/t/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oumanA used a non-standard numbering for comments e.g., 8a, 8b, etc. indicating he did not read the instructions.  He supplied 62 not 48 com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keP used "e" 100%  in the Type of comments (E/e/T/t) and added the N, t, T in the Part of NO vote (Y/N); indicating he did not read the instructions. Therefore he has 139 "e's" and he added 4 "t’s" and 3 "T’s" to the wrong column hence -7 "e’s" and a some T/t en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opped Dr. Yunxin Li as I could not find his comments.  Source: BobH results *.xls file. FOUND 10JAN00…All 250 of them!  He forgot to code yxl00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opped Mr. Daniel R. McGlynn &amp; Mr. Ivan Reede as they did not supply Comments w/ their “Nea” vote.  Therefore these balloters failed to vote.  Note: Ivan indicated 7Jan00 that he would change his “Nea” to a “Yea” w/o Comments if it stalled the WG Balloting process.  He will not supply comments on his nea vote - lost HD &amp; NadaG covered his com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3 Comment Analysis</a:t>
            </a:r>
            <a:r>
              <a:rPr b="0" lang="en-US" sz="1200" spc="-1" strike="noStrike">
                <a:solidFill>
                  <a:srgbClr val="000000"/>
                </a:solidFill>
                <a:latin typeface="Times New Roman"/>
              </a:rPr>
              <a:t>	</a:t>
            </a:r>
            <a:r>
              <a:rPr b="0" lang="en-US" sz="1200" spc="-1" strike="noStrike">
                <a:solidFill>
                  <a:srgbClr val="000000"/>
                </a:solidFill>
                <a:latin typeface="Times New Roman"/>
              </a:rPr>
              <a:t>41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Comments with Resolutions</a:t>
            </a:r>
            <a:r>
              <a:rPr b="0" lang="en-US" sz="1200" spc="-1" strike="noStrike">
                <a:solidFill>
                  <a:srgbClr val="000000"/>
                </a:solidFill>
                <a:latin typeface="Times New Roman"/>
              </a:rPr>
              <a:t>	</a:t>
            </a:r>
            <a:r>
              <a:rPr b="0" lang="en-US" sz="1200" spc="-1" strike="noStrike">
                <a:solidFill>
                  <a:srgbClr val="000000"/>
                </a:solidFill>
                <a:latin typeface="Times New Roman"/>
              </a:rPr>
              <a:t>42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lta (+4 TomS &amp; +6 ThomasM)</a:t>
            </a:r>
            <a:r>
              <a:rPr b="0" lang="en-US" sz="1200" spc="-1" strike="noStrike">
                <a:solidFill>
                  <a:srgbClr val="000000"/>
                </a:solidFill>
                <a:latin typeface="Times New Roman"/>
              </a:rPr>
              <a:t>	</a:t>
            </a: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ms1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ms10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ms10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ms10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TM00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TM00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TM00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TM004</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TM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TM00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iginal BSIG Inputs (all comments)</a:t>
            </a:r>
            <a:r>
              <a:rPr b="0" lang="en-US" sz="1200" spc="-1" strike="noStrike">
                <a:solidFill>
                  <a:srgbClr val="000000"/>
                </a:solidFill>
                <a:latin typeface="Times New Roman"/>
              </a:rPr>
              <a:t>	</a:t>
            </a:r>
            <a:r>
              <a:rPr b="0" lang="en-US" sz="1200" spc="-1" strike="noStrike">
                <a:solidFill>
                  <a:srgbClr val="000000"/>
                </a:solidFill>
                <a:latin typeface="Times New Roman"/>
              </a:rPr>
              <a:t>12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iginal BSIG Inputs (consolidated comments)</a:t>
            </a:r>
            <a:r>
              <a:rPr b="0" lang="en-US" sz="1200" spc="-1" strike="noStrike">
                <a:solidFill>
                  <a:srgbClr val="000000"/>
                </a:solidFill>
                <a:latin typeface="Times New Roman"/>
              </a:rPr>
              <a:t>	</a:t>
            </a:r>
            <a:r>
              <a:rPr b="0" lang="en-US" sz="1200" spc="-1" strike="noStrike">
                <a:solidFill>
                  <a:srgbClr val="000000"/>
                </a:solidFill>
                <a:latin typeface="Times New Roman"/>
              </a:rPr>
              <a:t>12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SIG Input Results (all comments)</a:t>
            </a:r>
            <a:r>
              <a:rPr b="0" lang="en-US" sz="1200" spc="-1" strike="noStrike">
                <a:solidFill>
                  <a:srgbClr val="000000"/>
                </a:solidFill>
                <a:latin typeface="Times New Roman"/>
              </a:rPr>
              <a:t>	</a:t>
            </a:r>
            <a:r>
              <a:rPr b="0" lang="en-US" sz="1200" spc="-1" strike="noStrike">
                <a:solidFill>
                  <a:srgbClr val="000000"/>
                </a:solidFill>
                <a:latin typeface="Times New Roman"/>
              </a:rPr>
              <a:t>12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SIG Input Results (consolidated comments)</a:t>
            </a:r>
            <a:r>
              <a:rPr b="0" lang="en-US" sz="1200" spc="-1" strike="noStrike">
                <a:solidFill>
                  <a:srgbClr val="000000"/>
                </a:solidFill>
                <a:latin typeface="Times New Roman"/>
              </a:rPr>
              <a:t>	</a:t>
            </a:r>
            <a:r>
              <a:rPr b="0" lang="en-US" sz="1200" spc="-1" strike="noStrike">
                <a:solidFill>
                  <a:srgbClr val="000000"/>
                </a:solidFill>
                <a:latin typeface="Times New Roman"/>
              </a:rPr>
              <a:t>12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iginal BSIG PICS Inputs (via Fujio 25Sep00)</a:t>
            </a:r>
            <a:r>
              <a:rPr b="0" lang="en-US" sz="1200" spc="-1" strike="noStrike">
                <a:solidFill>
                  <a:srgbClr val="000000"/>
                </a:solidFill>
                <a:latin typeface="Times New Roman"/>
              </a:rPr>
              <a:t>	</a:t>
            </a:r>
            <a:r>
              <a:rPr b="0" lang="en-US" sz="1200" spc="-1" strike="noStrike">
                <a:solidFill>
                  <a:srgbClr val="000000"/>
                </a:solidFill>
                <a:latin typeface="Times New Roman"/>
              </a:rPr>
              <a:t>29</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4160" y="701640"/>
            <a:ext cx="4626000" cy="3468600"/>
          </a:xfrm>
          <a:prstGeom prst="rect">
            <a:avLst/>
          </a:prstGeom>
          <a:ln w="0">
            <a:noFill/>
          </a:ln>
        </p:spPr>
      </p:sp>
      <p:sp>
        <p:nvSpPr>
          <p:cNvPr id="317"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there were 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tal of 412 comments and we believe that 122 are directly relat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luetooth's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kinds of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3 Yellow = Technical [these are important e.g., technical 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ry and IEEE P802.15 would like the Bluetooth SIG to review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ise on their ability to include these into the errata process to b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ed for inclusion to the v1.0B Bluetooth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6 White = Protocol Implementation Conformance Statement (PICS) [these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t but relate to separate Bluetooth documents and *not* the Core &a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files Specifications.  I believe that the following BSIG Promoter/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Members Dr. Fujio Watanabe &lt;fwatanabe@ieee.org&gt; and Mr. Arto Pal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rto.palin@nokia.com&gt; are dealing directly with these comments in terms o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Test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3 Blue = Editorial [these are less important e.g., grammar, typo'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ut should be considered in the errata process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y are provided sequentially in these colors on the Workshee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54160" y="701640"/>
            <a:ext cx="4626000" cy="3468600"/>
          </a:xfrm>
          <a:prstGeom prst="rect">
            <a:avLst/>
          </a:prstGeom>
          <a:ln w="0">
            <a:noFill/>
          </a:ln>
        </p:spPr>
      </p:sp>
      <p:sp>
        <p:nvSpPr>
          <p:cNvPr id="319"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there were 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tal of 412 comments and we believe that 122 are directly relat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luetooth's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kinds of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3 Yellow = Technical [these are important e.g., technical 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ry and IEEE P802.15 would like the Bluetooth SIG to review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ise on their ability to include these into the errata process to b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ed for inclusion to the v1.0B Bluetooth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6 White = Protocol Implementation Conformance Statement (PICS) [these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t but relate to separate Bluetooth documents and *not* the Core &a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files Specifications.  I believe that the following BSIG Promoter/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Members Dr. Fujio Watanabe &lt;fwatanabe@ieee.org&gt; and Mr. Arto Pal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rto.palin@nokia.com&gt; are dealing directly with these comments in terms o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Test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3 Blue = Editorial [these are less important e.g., grammar, typo'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ut should be considered in the errata process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y are provided sequentially in these colors on the Workshee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22"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sldImg"/>
          </p:nvPr>
        </p:nvSpPr>
        <p:spPr>
          <a:xfrm>
            <a:off x="1157400" y="703440"/>
            <a:ext cx="4622760" cy="3466800"/>
          </a:xfrm>
          <a:prstGeom prst="rect">
            <a:avLst/>
          </a:prstGeom>
          <a:ln w="0">
            <a:noFill/>
          </a:ln>
        </p:spPr>
      </p:sp>
      <p:sp>
        <p:nvSpPr>
          <p:cNvPr id="325"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67A7B0-ADA8-44D6-ACD2-0CA4FB441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6" name="PlaceHolder 1"/>
          <p:cNvSpPr>
            <a:spLocks noGrp="1"/>
          </p:cNvSpPr>
          <p:nvPr>
            <p:ph type="sldImg"/>
          </p:nvPr>
        </p:nvSpPr>
        <p:spPr>
          <a:xfrm>
            <a:off x="1146240" y="695160"/>
            <a:ext cx="4641840" cy="3481560"/>
          </a:xfrm>
          <a:prstGeom prst="rect">
            <a:avLst/>
          </a:prstGeom>
          <a:ln w="0">
            <a:noFill/>
          </a:ln>
        </p:spPr>
      </p:sp>
      <p:sp>
        <p:nvSpPr>
          <p:cNvPr id="307"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AFT IEEE 802.15 TG1 PROJECT PLANNING - LO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iginal Baselin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ATE   TASK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nitial Discussion on Proposal submission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EEE initial vote of support to draft 802.15 based on Bluetooth specificatio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99  Overview the draft 802.15.1 based on the current Bluetooth specification to the timelin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99  Initial draft ready for WG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0  First Ballot complet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0  Draft ready for IEEE sponsor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00  Approval by IEEE Standards Bo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 Project Planning, as of 15Oct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ATE   TASK/STATU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nitial Discussion on Proposal submissions./Done, Jul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EEE initial vote of support to draft 802.15 based on Bluetooth specification./Done, Jul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99  Overview the draft 802.15.1 based on the current Bluetooth specification to the timeline./Done, 9Nov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99  1st draft ready for WG LB1 (11Nov-23Dec)./Done, 4Nov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0  Comment Resolutions &amp; WG LB2 WG LB1 (23Feb-3Ma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0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y00  2nd draft ready for WG LB3 (24May-3Jul00)./Done 24May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00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00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00  3rd draft ready for WG LB3 (Nov-De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cenario A (BSIG v1.1=IEEE Std 802.15.1-[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00  4th draft ready for WG LB(6) (Dec-Ja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Draft ready for IEEE sponsor bal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y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01  Approval by IEEE Standards Bo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1  Maintenance PAR (BSIG v1.2=IEEE Std 802.15.1-[2002])</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cenario B (BSIG v1.1=IEEE Std 802.15.1-[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4th draft ready for WG LB(6) (Dec-Ja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1  Draft ready for IEEE sponsor bal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y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01  Approval by IEEE Standards Bo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2  Maintenance PAR (BSIG v1.2=IEEE Std 802.15.1-[2002])</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cenario C (BSIG v1.2=IEEE Std 802.15.1-[200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3BC9E-0382-4F9B-BA66-AEDA75589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CDBD2-82BA-42B1-B75B-CF9552F29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4577D-3A93-4692-91B6-9A3877BDF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CCA3A-1FC2-4BEF-952C-09018696E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B140F-BC0A-4649-92F1-33D998E5F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958B0-25D3-44C9-A4C2-7DDC21F4F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E578C-FFB2-4A7B-A2F9-059C3A949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B2CE7-E8A4-431C-8941-A43B7186D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28CB6-052C-4F6B-AEEB-D2EAF1402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AD56A-A7AC-421D-9375-33D0261C2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5A79E-E6E8-44D1-AAEF-02E10D4AE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A7AE2-BF2E-4CC7-90AD-F8FAEF9E4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FE2D21-34F5-4F8B-9639-DA304BB1E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4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FB28960A-BC1F-420E-94AE-95D86A33EBD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ask Group 1 Closing Report for Session #9/Tampa</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9Nov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341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Derivative Work i.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V="1">
            <a:off x="2438280" y="345744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86400" y="2362320"/>
            <a:ext cx="257796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320" y="2362320"/>
            <a:ext cx="533376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lloting Planning</a:t>
            </a:r>
            <a:endParaRPr b="0" lang="en-US" sz="3600" spc="-1" strike="noStrike">
              <a:solidFill>
                <a:srgbClr val="000000"/>
              </a:solidFill>
              <a:latin typeface="Times New Roman"/>
            </a:endParaRPr>
          </a:p>
        </p:txBody>
      </p:sp>
      <p:sp>
        <p:nvSpPr>
          <p:cNvPr id="152"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53"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154"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66"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67"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8"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69"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70"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71"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72"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3"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74"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75"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76"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77"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8"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9" name=""/>
          <p:cNvSpPr/>
          <p:nvPr/>
        </p:nvSpPr>
        <p:spPr>
          <a:xfrm>
            <a:off x="152280" y="20908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32160" y="2465280"/>
            <a:ext cx="191052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181" name=""/>
          <p:cNvSpPr/>
          <p:nvPr/>
        </p:nvSpPr>
        <p:spPr>
          <a:xfrm>
            <a:off x="2895480" y="2770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86" name=""/>
          <p:cNvSpPr/>
          <p:nvPr/>
        </p:nvSpPr>
        <p:spPr>
          <a:xfrm>
            <a:off x="279360" y="3352680"/>
            <a:ext cx="861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0"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91"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2"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93"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4"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need to discuss the process by which the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197"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198"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3"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4"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05"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06"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91520" y="527544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208"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12012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210" name=""/>
          <p:cNvSpPr/>
          <p:nvPr/>
        </p:nvSpPr>
        <p:spPr>
          <a:xfrm>
            <a:off x="556128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00"/>
              </a:solidFill>
              <a:latin typeface="Times New Roman"/>
            </a:endParaRPr>
          </a:p>
        </p:txBody>
      </p:sp>
      <p:sp>
        <p:nvSpPr>
          <p:cNvPr id="211" name=""/>
          <p:cNvSpPr/>
          <p:nvPr/>
        </p:nvSpPr>
        <p:spPr>
          <a:xfrm>
            <a:off x="4579920" y="1614600"/>
            <a:ext cx="143208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1Jan01</a:t>
            </a:r>
            <a:endParaRPr b="0" lang="en-US" sz="1200" spc="-1" strike="noStrike">
              <a:solidFill>
                <a:srgbClr val="000000"/>
              </a:solidFill>
              <a:latin typeface="Times New Roman"/>
            </a:endParaRPr>
          </a:p>
        </p:txBody>
      </p:sp>
      <p:sp>
        <p:nvSpPr>
          <p:cNvPr id="212" name=""/>
          <p:cNvSpPr/>
          <p:nvPr/>
        </p:nvSpPr>
        <p:spPr>
          <a:xfrm>
            <a:off x="4572000" y="21049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Balloted/Appli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6Nov00</a:t>
            </a:r>
            <a:endParaRPr b="0" lang="en-US" sz="1200" spc="-1" strike="noStrike">
              <a:solidFill>
                <a:srgbClr val="000000"/>
              </a:solidFill>
              <a:latin typeface="Times New Roman"/>
            </a:endParaRPr>
          </a:p>
        </p:txBody>
      </p:sp>
      <p:sp>
        <p:nvSpPr>
          <p:cNvPr id="214" name=""/>
          <p:cNvSpPr/>
          <p:nvPr/>
        </p:nvSpPr>
        <p:spPr>
          <a:xfrm>
            <a:off x="388620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216"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56272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876920" y="410220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May – 15May</a:t>
            </a:r>
            <a:endParaRPr b="0" lang="en-US" sz="1200" spc="-1" strike="noStrike">
              <a:solidFill>
                <a:srgbClr val="000000"/>
              </a:solidFill>
              <a:latin typeface="Times New Roman"/>
            </a:endParaRPr>
          </a:p>
        </p:txBody>
      </p:sp>
      <p:sp>
        <p:nvSpPr>
          <p:cNvPr id="219" name=""/>
          <p:cNvSpPr/>
          <p:nvPr/>
        </p:nvSpPr>
        <p:spPr>
          <a:xfrm flipV="1">
            <a:off x="601992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952880" y="4635360"/>
            <a:ext cx="129564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5May – 31May</a:t>
            </a:r>
            <a:endParaRPr b="0" lang="en-US" sz="1200" spc="-1" strike="noStrike">
              <a:solidFill>
                <a:srgbClr val="000000"/>
              </a:solidFill>
              <a:latin typeface="Times New Roman"/>
            </a:endParaRPr>
          </a:p>
        </p:txBody>
      </p:sp>
      <p:sp>
        <p:nvSpPr>
          <p:cNvPr id="221" name=""/>
          <p:cNvSpPr/>
          <p:nvPr/>
        </p:nvSpPr>
        <p:spPr>
          <a:xfrm flipV="1">
            <a:off x="624852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2680" y="4102200"/>
            <a:ext cx="12956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1Jan – 15Jan01</a:t>
            </a:r>
            <a:endParaRPr b="0" lang="en-US" sz="1200" spc="-1" strike="noStrike">
              <a:solidFill>
                <a:srgbClr val="000000"/>
              </a:solidFill>
              <a:latin typeface="Times New Roman"/>
            </a:endParaRPr>
          </a:p>
        </p:txBody>
      </p:sp>
      <p:sp>
        <p:nvSpPr>
          <p:cNvPr id="223" name=""/>
          <p:cNvSpPr/>
          <p:nvPr/>
        </p:nvSpPr>
        <p:spPr>
          <a:xfrm flipV="1">
            <a:off x="464832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59600" y="1614600"/>
            <a:ext cx="136800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2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Jun01</a:t>
            </a:r>
            <a:endParaRPr b="0" lang="en-US" sz="1200" spc="-1" strike="noStrike">
              <a:solidFill>
                <a:srgbClr val="000000"/>
              </a:solidFill>
              <a:latin typeface="Times New Roman"/>
            </a:endParaRPr>
          </a:p>
        </p:txBody>
      </p:sp>
      <p:sp>
        <p:nvSpPr>
          <p:cNvPr id="225" name=""/>
          <p:cNvSpPr/>
          <p:nvPr/>
        </p:nvSpPr>
        <p:spPr>
          <a:xfrm>
            <a:off x="6324480" y="21049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227" name=""/>
          <p:cNvSpPr/>
          <p:nvPr/>
        </p:nvSpPr>
        <p:spPr>
          <a:xfrm>
            <a:off x="8001000" y="19051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53280" y="1905120"/>
            <a:ext cx="76212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9" name="P-bluetm001" descr=""/>
          <p:cNvPicPr/>
          <p:nvPr/>
        </p:nvPicPr>
        <p:blipFill>
          <a:blip r:embed="rId1"/>
          <a:stretch/>
        </p:blipFill>
        <p:spPr>
          <a:xfrm>
            <a:off x="1600200" y="1542960"/>
            <a:ext cx="1143000" cy="762120"/>
          </a:xfrm>
          <a:prstGeom prst="rect">
            <a:avLst/>
          </a:prstGeom>
          <a:ln w="0">
            <a:noFill/>
          </a:ln>
        </p:spPr>
      </p:pic>
      <p:pic>
        <p:nvPicPr>
          <p:cNvPr id="230" name="802" descr=""/>
          <p:cNvPicPr/>
          <p:nvPr/>
        </p:nvPicPr>
        <p:blipFill>
          <a:blip r:embed="rId2"/>
          <a:stretch/>
        </p:blipFill>
        <p:spPr>
          <a:xfrm>
            <a:off x="1447920" y="4133880"/>
            <a:ext cx="1014120" cy="1047600"/>
          </a:xfrm>
          <a:prstGeom prst="rect">
            <a:avLst/>
          </a:prstGeom>
          <a:ln w="0">
            <a:noFill/>
          </a:ln>
        </p:spPr>
      </p:pic>
      <p:sp>
        <p:nvSpPr>
          <p:cNvPr id="231"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236"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237" name=""/>
          <p:cNvSpPr/>
          <p:nvPr/>
        </p:nvSpPr>
        <p:spPr>
          <a:xfrm>
            <a:off x="228960" y="533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ou are here</a:t>
            </a:r>
            <a:endParaRPr b="0" lang="en-US" sz="2400" spc="-1" strike="noStrike">
              <a:solidFill>
                <a:srgbClr val="000000"/>
              </a:solidFill>
              <a:latin typeface="Times New Roman"/>
            </a:endParaRPr>
          </a:p>
        </p:txBody>
      </p:sp>
      <p:sp>
        <p:nvSpPr>
          <p:cNvPr id="238" name=""/>
          <p:cNvSpPr/>
          <p:nvPr/>
        </p:nvSpPr>
        <p:spPr>
          <a:xfrm>
            <a:off x="1905120" y="762120"/>
            <a:ext cx="20574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429000" y="4800600"/>
            <a:ext cx="137160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7)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2Jan01 – 31Jan01</a:t>
            </a:r>
            <a:endParaRPr b="0" lang="en-US" sz="1200" spc="-1" strike="noStrike">
              <a:solidFill>
                <a:srgbClr val="000000"/>
              </a:solidFill>
              <a:latin typeface="Times New Roman"/>
            </a:endParaRPr>
          </a:p>
        </p:txBody>
      </p:sp>
      <p:sp>
        <p:nvSpPr>
          <p:cNvPr id="240" name=""/>
          <p:cNvSpPr/>
          <p:nvPr/>
        </p:nvSpPr>
        <p:spPr>
          <a:xfrm flipV="1">
            <a:off x="4800600" y="33526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358128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Mar – 30Apr</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612F0B6-82AA-4E88-85D3-FA653267723F}" type="slidenum">
              <a:t>1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Jan01 Interim</a:t>
            </a:r>
            <a:endParaRPr b="0" lang="en-US" sz="36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19Jan01 (5 Days), TG1 Ad Hoc Sun&amp;Fr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Peop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 (or School Ro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H=Overhead projector &amp; Scre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p:txBody>
      </p:sp>
      <p:sp>
        <p:nvSpPr>
          <p:cNvPr id="244"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will provide a Jan01 graphic for TG1 on Thursday, 9Nov00 to the W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6ACC0C0-A0F8-4CB3-A3BE-95AE7F34925C}"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0/Monterey - Objectives</a:t>
            </a: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Session #9</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G eLB MOTION Nov00: TO FINALIZE APPROVAL OF LB3 RESOLUTIONS -00/159r16</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MPLETE PRODUCTION AND/OR REVIEW IEEE Std 802.15.1-[2001] Draft 0.8 </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ETERMINE WHAT FORM OF LETTER BALLOT IS APPROPRIATE FOR DRAFT RE-CIRCULATION, IF V1.1 CHANGES ARE MINOR OR RECONSIDERATION, IF V1.1 CHANGES ARE MAJOR</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G eLB MOTION Dec00/Jan01: INITIATE WG LETTER BALLOT PROCESS FOR DRAFT</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INITIATE SPONSOR BALLOT POOL INVIATION PROCESS</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10 </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PROVIDE PROJECT PLANNING UPDATE -00/xxxr0</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ROVIDE SESSION #11/HILTON HEAD OBJECTIV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E5AF83E-D48A-46A3-98A3-D9D7F207E763}"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Drafting History</a:t>
            </a:r>
            <a:endParaRPr b="0" lang="en-US" sz="36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0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1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2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3 - Tom Siep 100%</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3 Page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4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5 - BT-IEEE Editorial Working Group</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1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6 Technical Editor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Bluetooth Promoter Company Reviewers w/ internal help</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 Comment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6 - BT-IEEE Editorial Working Group</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8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3 Comment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 – Tom Siep 100%</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7 Page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1 - IEEE 802.15 Task Group 1 Technical Editors</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3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2 - IEEE 802.15 Task Group 1 Technical Editors</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3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2 Comment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3 – Jennifer Longman, IEEE-SA Project Editor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8 - IEEE 802.15 Task Group 1 Technical Editor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A464E96-7CE5-424C-9D3A-065A9668C03A}"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2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B3 Summary Repor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C1B21DA-9010-4F9A-ADAE-E788E66B1EE6}"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May00 12pm EDT; LB3 Star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d 802.15.1-[2001] Draft 0.7.2 Published and released to WG as Letter Ballot #3</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Jul00 12pm EDT; LB3 St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B3 Summ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Total Votes  (18/15/0) or 55%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chnical Motion Failed, needed 7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2 Comme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13B72F5-4498-4B75-8EA4-A19C9C658723}"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Jul00 LB3 Motion 1 failed with 18/15/0 or 55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49 Voting members. 33 submitted their vote. (25 required for a valid vot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ratio is 33/49 = 67 % (50 % is required) and the abstention rate was less than 30% of those voting.  The ballot is vali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 15 yes w/o comment, 3 yes with comment, 15 no, 0 abstains, and 16 failed to vot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Jul00 TG1 formed a Comment Resolution Group to resolve comme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3 yielded 422 Comments to be resolved, summarized in –00/159r7 workbook.</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BA84161-6DDC-426A-8F9A-58D01ADAFDA1}" type="slidenum">
              <a:t>1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ook releases with results of LB3</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Jul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7</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ug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1</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ug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2</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ug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3</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kinds of comments: Technical, PICS (separate BT doc), Editorial</a:t>
            </a:r>
            <a:endParaRPr b="0" lang="en-US" sz="14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29Aug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4</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14aP802-15_Extract_for_BSIG.xls &lt;sent to Jon Inouye</a:t>
            </a:r>
            <a:endParaRPr b="0" lang="en-US" sz="14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Sep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5</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Nov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5c</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3A9BAF7-BD93-49D7-B3C6-3AA085FC1374}"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graphicFrame>
        <p:nvGraphicFramePr>
          <p:cNvPr id="258" name=""/>
          <p:cNvGraphicFramePr/>
          <p:nvPr/>
        </p:nvGraphicFramePr>
        <p:xfrm>
          <a:off x="1343160" y="1676520"/>
          <a:ext cx="6453000" cy="4649760"/>
        </p:xfrm>
        <a:graphic>
          <a:graphicData uri="http://schemas.openxmlformats.org/presentationml/2006/ole">
            <p:oleObj progId="Excel.Sheet.12" r:id="rId1" spid="">
              <p:embed/>
              <p:pic>
                <p:nvPicPr>
                  <p:cNvPr id="259" name="" descr=""/>
                  <p:cNvPicPr/>
                  <p:nvPr/>
                </p:nvPicPr>
                <p:blipFill>
                  <a:blip r:embed="rId2"/>
                  <a:stretch/>
                </p:blipFill>
                <p:spPr>
                  <a:xfrm>
                    <a:off x="1343160" y="1676520"/>
                    <a:ext cx="6453000" cy="46497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EEAC8A8-3225-431C-AF51-3FEA80710B3E}" type="slidenum">
              <a:t>1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graphicFrame>
        <p:nvGraphicFramePr>
          <p:cNvPr id="261" name=""/>
          <p:cNvGraphicFramePr/>
          <p:nvPr/>
        </p:nvGraphicFramePr>
        <p:xfrm>
          <a:off x="973080" y="1635120"/>
          <a:ext cx="7194600" cy="4460760"/>
        </p:xfrm>
        <a:graphic>
          <a:graphicData uri="http://schemas.openxmlformats.org/presentationml/2006/ole">
            <p:oleObj progId="Excel.Sheet.12" r:id="rId1" spid="">
              <p:embed/>
              <p:pic>
                <p:nvPicPr>
                  <p:cNvPr id="262" name="" descr=""/>
                  <p:cNvPicPr/>
                  <p:nvPr/>
                </p:nvPicPr>
                <p:blipFill>
                  <a:blip r:embed="rId2"/>
                  <a:stretch/>
                </p:blipFill>
                <p:spPr>
                  <a:xfrm>
                    <a:off x="973080" y="1635120"/>
                    <a:ext cx="7194600" cy="44607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E98B982-A6F9-40F6-8C19-CD4FC1A59F70}" type="slidenum">
              <a:t>1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Clos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2000 Tampa, FL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653353C-F9E7-4C18-B5E4-02B6BB994341}"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sp>
        <p:nvSpPr>
          <p:cNvPr id="264" name=""/>
          <p:cNvSpPr/>
          <p:nvPr/>
        </p:nvSpPr>
        <p:spPr>
          <a:xfrm>
            <a:off x="380880" y="5410080"/>
            <a:ext cx="838224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appreciates the work these twenty (20) Members di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roviding these Comments!  SteveS &amp; TomM were late but are included.</a:t>
            </a:r>
            <a:endParaRPr b="0" lang="en-US" sz="2000" spc="-1" strike="noStrike">
              <a:solidFill>
                <a:srgbClr val="000000"/>
              </a:solidFill>
              <a:latin typeface="Times New Roman"/>
            </a:endParaRPr>
          </a:p>
        </p:txBody>
      </p:sp>
      <p:graphicFrame>
        <p:nvGraphicFramePr>
          <p:cNvPr id="265" name=""/>
          <p:cNvGraphicFramePr/>
          <p:nvPr/>
        </p:nvGraphicFramePr>
        <p:xfrm>
          <a:off x="123840" y="1562040"/>
          <a:ext cx="8896320" cy="3733920"/>
        </p:xfrm>
        <a:graphic>
          <a:graphicData uri="http://schemas.openxmlformats.org/presentationml/2006/ole">
            <p:oleObj progId="Excel.Sheet.12" r:id="rId1" spid="">
              <p:embed/>
              <p:pic>
                <p:nvPicPr>
                  <p:cNvPr id="266" name="" descr=""/>
                  <p:cNvPicPr/>
                  <p:nvPr/>
                </p:nvPicPr>
                <p:blipFill>
                  <a:blip r:embed="rId2"/>
                  <a:stretch/>
                </p:blipFill>
                <p:spPr>
                  <a:xfrm>
                    <a:off x="123840" y="1562040"/>
                    <a:ext cx="8896320" cy="37339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A68EDD2-0DB1-4E1A-AB73-6C1709517210}" type="slidenum">
              <a:t>2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Ac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 Dec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 Clarif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 Err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 Finish</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0AC3EDD-A08E-4914-9E68-1AEC75C5C26C}" type="slidenum">
              <a:t>2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sp>
        <p:nvSpPr>
          <p:cNvPr id="27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Resolution Status 9Nov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8 Comments </a:t>
            </a:r>
            <a:r>
              <a:rPr b="0" i="1" lang="en-US" sz="2800" spc="-1" strike="noStrike">
                <a:solidFill>
                  <a:srgbClr val="000000"/>
                </a:solidFill>
                <a:latin typeface="Arial"/>
              </a:rPr>
              <a:t>almost</a:t>
            </a:r>
            <a:r>
              <a:rPr b="0" lang="en-US" sz="2800" spc="-1" strike="noStrike">
                <a:solidFill>
                  <a:srgbClr val="000000"/>
                </a:solidFill>
                <a:latin typeface="Arial"/>
              </a:rPr>
              <a:t> “F”inished</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 Comments “D”ecline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mments still in “E”rrata D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Comments need to be “C”lari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omment needs to be “R”esearch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2 Comment Tot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0E1A1C7-BEC7-4765-8CEE-E6D26DDAAF07}" type="slidenum">
              <a:t>2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Sep00</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d a “smoothed” version of the IEEE Std 802.15.1-[2001] Draft 0.7.3 from IEEE-SA Project Editor in FM v6.0  </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new going forward Draft.</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Nov00</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LB3 Comments resolved, present to WG for authorization to proceed, apply edits –00/159r16, BSIG v1.1, et. al. to next Draft 0.7.3 (smoothed)</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6) Recirculation, est. Jan01 (plan for 1 more LB, likely 2)</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ready for Sponsor Ballot prior to Mar00 Plenary</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Info:</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ttp://ieee802.org/15/pub/LB3/LB3.html</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5C79987-A7B4-40D1-85B1-D245A8ACBF66}" type="slidenum">
              <a:t>2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Overview</a:t>
            </a:r>
            <a:endParaRPr b="0" lang="en-US" sz="36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2</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6552AB8-9AF0-4168-B1CF-3A4E1371F274}" type="slidenum">
              <a:t>2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Motion to the 802.15 Working Group</a:t>
            </a:r>
            <a:endParaRPr b="0" lang="en-US" sz="36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move that the 802.15 WG approve the application of the –00/159r16 LB3 comment resolutions to 802.15.1 Std D0.7.3.</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 Technical 50% (Procedur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N/A: //, </a:t>
            </a:r>
            <a:endParaRPr b="0" lang="en-US" sz="2000" spc="-1" strike="noStrike">
              <a:solidFill>
                <a:srgbClr val="000000"/>
              </a:solidFill>
              <a:latin typeface="Arial"/>
            </a:endParaRPr>
          </a:p>
        </p:txBody>
      </p:sp>
      <p:sp>
        <p:nvSpPr>
          <p:cNvPr id="277" name=""/>
          <p:cNvSpPr/>
          <p:nvPr/>
        </p:nvSpPr>
        <p:spPr>
          <a:xfrm>
            <a:off x="585360" y="6202440"/>
            <a:ext cx="384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is to apply ALL 422 LB3 Comment Resolution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53AF047-5983-4102-B6D4-8C88A504735E}" type="slidenum">
              <a:t>2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7) Motion to the 802.15 Working Group</a:t>
            </a:r>
            <a:endParaRPr b="0" lang="en-US" sz="36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move that the 802.15 WG submit the contents of document IEEE P802-15/D0.8 to Sponsor Ballot; Draft_0-8.zip, available via (password required):http://grouper.ieee.org/groups/802/15/pub/LB(7)/LB(7).html</a:t>
            </a:r>
            <a:endParaRPr b="0" lang="en-US" sz="2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75%</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d:</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N/A: //,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263A71C-4AB8-4121-9DA7-EE20A578BD0A}" type="slidenum">
              <a:t>2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BFFA6CB-9497-4158-A02F-5A6083B9C270}" type="slidenum">
              <a:t>2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Future Meetings</a:t>
            </a:r>
            <a:endParaRPr b="0" lang="en-US" sz="36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6-9, 2000 Tampa, FL USA, Hyatt Regency, 802 Plenary Mee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15-19, 2001 Monterey, CA USA, Hyatt Regency Monterey, 802.15 Interim Meet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12-15, 2001 Hilton Head, SC USA, Hyatt Regency, 802 Plenary Meet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nf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ieee802.org/15/pub/Meeting_Plan.htm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0CCF025-F472-4AE6-91F0-F6B0E5B127BA}" type="slidenum">
              <a:t>2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Requirements for Working Group Voting Membership</a:t>
            </a:r>
            <a:endParaRPr b="0" lang="en-US" sz="32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vote on 802.15 standards at the Working Group Ballot stage you need to become a Voting Member of Working Group 802.15.</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is by individual, not company.</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come a voter:</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and sign the attendance book at least 75% of the sessions of two Working Group 802.15 Plenary meetings (within the last four).</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ttendance at a two day or more duly constituted Working Group 802.15 Interim Meeting can be substituted for attendance at one plenary.</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complete and current contact information recorded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o become a voter during a Working Group 802.15 Opening or Closing plenary meeting when additions to the voter list are solicited by the Chair from the "Potential Voter" list.</a:t>
            </a:r>
            <a:endParaRPr b="0" lang="en-US" sz="1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ain a voter you must:</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urrent contact information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75% attendance during at least two of the last four plenaries (Attendance at an interim can substitute for attendance at no more than 1 plenary).</a:t>
            </a:r>
            <a:endParaRPr b="0" lang="en-US" sz="1400" spc="-1" strike="noStrike">
              <a:solidFill>
                <a:srgbClr val="000000"/>
              </a:solidFill>
              <a:latin typeface="Arial"/>
            </a:endParaRPr>
          </a:p>
          <a:p>
            <a:pPr lvl="2" marL="1097280" indent="-2192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Working Group ballots. You can be dropped for not returning or abstaining in two of the last three ballot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510CD4A-333A-42D7-BF92-74E94705DDED}" type="slidenum">
              <a:t>2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Session #9/Tampa</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ssions</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Planning Status</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Meeting</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 Needs for</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 for</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History</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B3 Summary Repor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08B1735-6E52-4F59-9339-D67A444955CE}"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287"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EB71C2E-6578-4C8F-B18C-FFFEAD1128DE}" type="slidenum">
              <a:t>30</a:t>
            </a:fld>
          </a:p>
        </p:txBody>
      </p:sp>
      <p:sp>
        <p:nvSpPr>
          <p:cNvPr id="6" name="PlaceHolder 5"/>
          <p:cNvSpPr>
            <a:spLocks noGrp="1"/>
          </p:cNvSpPr>
          <p:nvPr>
            <p:ph type="dt" idx="1"/>
          </p:nvPr>
        </p:nvSpPr>
        <p:spPr/>
        <p:txBody>
          <a:bodyPr/>
          <a:p>
            <a:r>
              <a:rPr lang="en-US"/>
              <a:t>November 2000</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Oct1999) – 6 Patents</a:t>
            </a:r>
            <a:endParaRPr b="0" lang="en-US" sz="36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a license will be made available to all applicants without compensation or under reasonable rates, with reasonable terms and conditions that are demonstrably free of any unfair discrimin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3B9B116-24B0-4ABF-9571-8717025AC54E}" type="slidenum">
              <a:t>3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ent policy is set forth in clause 6 of the IEEE-SA Standards Board Bylaws.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holders shall submit letters of assurance to the IEEE Standards Department (to the attention of the Administrator, Intellectual Property) before the time of IEEE-SA Standards Board review for approval.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that a patent may apply to a standard and a letter of assurance cannot be obtained, the working group shall refer this matter to the Patents Administrator in the IEEE Standards Department.</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E656610-D51F-44B9-A0D5-FC15CE37DD61}" type="slidenum">
              <a:t>3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rovide contact information about the patent holder upon request.</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 Public notice</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DCF90C7-1677-48FF-93E1-42A78EDA901F}" type="slidenum">
              <a:t>3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IEEE has not received letters of assurance prior to the time of publication, the following notice shall appea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F4089E2-902B-4D72-A160-7E29E2529D65}" type="slidenum">
              <a:t>3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2 Submitt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tandards may include the known use of patents if there is technical justification, the working group should not attempt to determine whether or not a patent applies. The working group shall accept the view of the patent hold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0DFD29F-BA5A-4FF9-941B-929CA9108F2A}" type="slidenum">
              <a:t>3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3 Disclai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shall not be responsible for identifying all patents for which a license may be required by an IEEE standard or for conducting inquiries into the legal validity or scope of those patents that are brought to its at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50E8AC4-5B5D-4849-8153-D640F9F89FD7}" type="slidenum">
              <a:t>3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eee802.org/1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ocess-at-a-Gl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resources/glance.htm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A11EC7C-CCAA-428B-9769-AC82B97C28F9}" type="slidenum">
              <a:t>3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sk Group 1 (TG1)</a:t>
            </a:r>
            <a:r>
              <a:rPr b="0" lang="en-US" sz="1600" spc="-1" strike="noStrike">
                <a:solidFill>
                  <a:srgbClr val="000000"/>
                </a:solidFill>
                <a:latin typeface="Times New Roman"/>
              </a:rPr>
              <a:t> is deriving a draft standard from the Bluetooth</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specification under IEEE PAR 802.15.1  At Session #9, the group made significant progress in progressing their draft standar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ing Session #9 the Letter Ballot 3 Comment Resolution Team met and significantly reduced the gap in resolving the outstanding comments:</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22 Comment Total (388 Comments almost “F”inished (42 Comments “D”eclined, letters needs to be stamped &amp; mailed), 3 Comments still in BSIG “E”rrata DB, 30 Comments need Voter “C”larification, 1 Comment needs to be “R”esearched)</a:t>
            </a:r>
            <a:endParaRPr b="0" lang="en-US" sz="14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itionally, the Project Plan was altered on 3Nov00 when the BSIG informed the IEEE that unfortunately the BT v1.1 spec schedule is gated by feedback from UnPlugFest-4 (Nov 5-9) and resolution of editing problems (TROFF) by the Open Group.  The TG1 has offered the assistance of the TG1 Editors.</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step for TG1 is to review the Project Plan and prepare for the final WG Letter Ballot of IEEE Std 802.15.1-[2001] Draft 0.8 as well as initiate preliminary work for Sponsor Ballot; tentatively planned for Feb01/Mar01 timeframe.</a:t>
            </a:r>
            <a:endParaRPr b="0" lang="en-US" sz="1600" spc="-1" strike="noStrike">
              <a:solidFill>
                <a:srgbClr val="000000"/>
              </a:solidFill>
              <a:latin typeface="Arial"/>
            </a:endParaRPr>
          </a:p>
        </p:txBody>
      </p:sp>
      <p:sp>
        <p:nvSpPr>
          <p:cNvPr id="66" name=""/>
          <p:cNvSpPr/>
          <p:nvPr/>
        </p:nvSpPr>
        <p:spPr>
          <a:xfrm>
            <a:off x="333360" y="5905440"/>
            <a:ext cx="84582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G1 will hold Teleconference Calls during the month of December and all agend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utes, and rolling open action items will be available via the 802.15.1 reflector archiv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C549038-99ED-4410-A224-70509EB7D09D}"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Objective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G MOTION 6Nov00: TO FINALIZE APPROVAL OF LB3 RESOLUTIONS -00/159r15</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OMPLETE PRODUCTION AND/OR REVIEW IEEE Std 802.15.1-[2001] Draft 0.8 </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ETERMINE WHAT FORM OF LETTER BALLOT IS APPROPRIATE FOR DRAFT RE-CIRCULATION, IF V1.1 CHANGES ARE MINOR OR RECONSIDERATION, IF V1.1 CHANGES ARE MAJOR</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NITIATE WG LETTER BALLOT PROC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NITIATE SPONSOR BALLOT POOL INVIATION PROC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VIDE PROJECT PLANNING UPDATE -00/xxxr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PROVIDE SESSION #10/MONTEREY OBJECTIV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DISCUSSION THE SPONSOR REORG INPUT?</a:t>
            </a:r>
            <a:endParaRPr b="0" lang="en-US" sz="2000" spc="-1" strike="noStrike">
              <a:solidFill>
                <a:srgbClr val="000000"/>
              </a:solidFill>
              <a:latin typeface="Arial"/>
            </a:endParaRPr>
          </a:p>
        </p:txBody>
      </p:sp>
      <p:sp>
        <p:nvSpPr>
          <p:cNvPr id="69" name=""/>
          <p:cNvSpPr/>
          <p:nvPr/>
        </p:nvSpPr>
        <p:spPr>
          <a:xfrm>
            <a:off x="332280" y="1797120"/>
            <a:ext cx="427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E73B8F4-7E20-4534-BB97-8869E70DAD92}"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Submissions</a:t>
            </a:r>
            <a:endParaRPr b="0" lang="en-US" sz="3600" spc="-1" strike="noStrike">
              <a:solidFill>
                <a:srgbClr val="000000"/>
              </a:solidFill>
              <a:latin typeface="Times New Roman"/>
            </a:endParaRPr>
          </a:p>
        </p:txBody>
      </p:sp>
      <p:graphicFrame>
        <p:nvGraphicFramePr>
          <p:cNvPr id="71" name=""/>
          <p:cNvGraphicFramePr/>
          <p:nvPr/>
        </p:nvGraphicFramePr>
        <p:xfrm>
          <a:off x="71280" y="2367000"/>
          <a:ext cx="8977320" cy="3073320"/>
        </p:xfrm>
        <a:graphic>
          <a:graphicData uri="http://schemas.openxmlformats.org/presentationml/2006/ole">
            <p:oleObj progId="Excel.Sheet.12" r:id="rId1" spid="">
              <p:embed/>
              <p:pic>
                <p:nvPicPr>
                  <p:cNvPr id="72" name="" descr=""/>
                  <p:cNvPicPr/>
                  <p:nvPr/>
                </p:nvPicPr>
                <p:blipFill>
                  <a:blip r:embed="rId2"/>
                  <a:stretch/>
                </p:blipFill>
                <p:spPr>
                  <a:xfrm>
                    <a:off x="71280" y="2367000"/>
                    <a:ext cx="8977320" cy="30733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8B0BB90-CBFE-49FE-8D46-A9DBDB63DE9B}" type="slidenum">
              <a:t>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Current Project Planning</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75"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3840" y="4572000"/>
            <a:ext cx="222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p:txBody>
      </p:sp>
      <p:sp>
        <p:nvSpPr>
          <p:cNvPr id="77"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660720" y="393048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a:t>
            </a:r>
            <a:endParaRPr b="0" lang="en-US" sz="1600" spc="-1" strike="noStrike">
              <a:solidFill>
                <a:srgbClr val="000000"/>
              </a:solidFill>
              <a:latin typeface="Times New Roman"/>
            </a:endParaRPr>
          </a:p>
        </p:txBody>
      </p:sp>
      <p:sp>
        <p:nvSpPr>
          <p:cNvPr id="79" name=""/>
          <p:cNvSpPr/>
          <p:nvPr/>
        </p:nvSpPr>
        <p:spPr>
          <a:xfrm flipH="1">
            <a:off x="55623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A55EA7D-EEC7-499D-967A-54C978F1B911}"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Short</a:t>
            </a:r>
            <a:endParaRPr b="0" lang="en-US" sz="3600" spc="-1" strike="noStrike">
              <a:solidFill>
                <a:srgbClr val="000000"/>
              </a:solidFill>
              <a:latin typeface="Times New Roman"/>
            </a:endParaRPr>
          </a:p>
        </p:txBody>
      </p:sp>
      <p:sp>
        <p:nvSpPr>
          <p:cNvPr id="81" name=""/>
          <p:cNvSpPr/>
          <p:nvPr/>
        </p:nvSpPr>
        <p:spPr>
          <a:xfrm>
            <a:off x="2286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82" name=""/>
          <p:cNvSpPr/>
          <p:nvPr/>
        </p:nvSpPr>
        <p:spPr>
          <a:xfrm>
            <a:off x="5410080" y="3124080"/>
            <a:ext cx="1433520" cy="15242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0/159r16</a:t>
            </a:r>
            <a:endParaRPr b="0" lang="en-US" sz="2000" spc="-1" strike="noStrike">
              <a:solidFill>
                <a:srgbClr val="000000"/>
              </a:solidFill>
              <a:latin typeface="Times New Roman"/>
            </a:endParaRPr>
          </a:p>
        </p:txBody>
      </p:sp>
      <p:sp>
        <p:nvSpPr>
          <p:cNvPr id="83"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8954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14920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ay00</a:t>
            </a:r>
            <a:endParaRPr b="0" lang="en-US" sz="2400" spc="-1" strike="noStrike">
              <a:solidFill>
                <a:srgbClr val="000000"/>
              </a:solidFill>
              <a:latin typeface="Times New Roman"/>
            </a:endParaRPr>
          </a:p>
        </p:txBody>
      </p:sp>
      <p:sp>
        <p:nvSpPr>
          <p:cNvPr id="86" name=""/>
          <p:cNvSpPr/>
          <p:nvPr/>
        </p:nvSpPr>
        <p:spPr>
          <a:xfrm>
            <a:off x="7238880" y="2514600"/>
            <a:ext cx="990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6200600">
            <a:off x="6628680" y="3684960"/>
            <a:ext cx="2318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5 Day LB</a:t>
            </a:r>
            <a:endParaRPr b="0" lang="en-US" sz="2400" spc="-1" strike="noStrike">
              <a:solidFill>
                <a:srgbClr val="000000"/>
              </a:solidFill>
              <a:latin typeface="Times New Roman"/>
            </a:endParaRPr>
          </a:p>
        </p:txBody>
      </p:sp>
      <p:sp>
        <p:nvSpPr>
          <p:cNvPr id="88" name=""/>
          <p:cNvSpPr/>
          <p:nvPr/>
        </p:nvSpPr>
        <p:spPr>
          <a:xfrm>
            <a:off x="4343400" y="2895480"/>
            <a:ext cx="1447920" cy="1685880"/>
          </a:xfrm>
          <a:custGeom>
            <a:avLst/>
            <a:gdLst>
              <a:gd name="textAreaLeft" fmla="*/ 226080 w 1447920"/>
              <a:gd name="textAreaRight" fmla="*/ 1267200 w 1447920"/>
              <a:gd name="textAreaTop" fmla="*/ 421560 h 1685880"/>
              <a:gd name="textAreaBottom" fmla="*/ 1264680 h 168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Nov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a errata</a:t>
            </a:r>
            <a:endParaRPr b="0" lang="en-US" sz="1800" spc="-1" strike="noStrike">
              <a:solidFill>
                <a:srgbClr val="000000"/>
              </a:solidFill>
              <a:latin typeface="Times New Roman"/>
            </a:endParaRPr>
          </a:p>
        </p:txBody>
      </p:sp>
      <p:sp>
        <p:nvSpPr>
          <p:cNvPr id="89"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19812000">
            <a:off x="6929640" y="174276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Jan01</a:t>
            </a:r>
            <a:endParaRPr b="0" lang="en-US" sz="2400" spc="-1" strike="noStrike">
              <a:solidFill>
                <a:srgbClr val="000000"/>
              </a:solidFill>
              <a:latin typeface="Times New Roman"/>
            </a:endParaRPr>
          </a:p>
        </p:txBody>
      </p:sp>
      <p:sp>
        <p:nvSpPr>
          <p:cNvPr id="91"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523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87240" y="19051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96" name=""/>
          <p:cNvSpPr/>
          <p:nvPr/>
        </p:nvSpPr>
        <p:spPr>
          <a:xfrm>
            <a:off x="16002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p:txBody>
      </p:sp>
      <p:sp>
        <p:nvSpPr>
          <p:cNvPr id="97" name=""/>
          <p:cNvSpPr/>
          <p:nvPr/>
        </p:nvSpPr>
        <p:spPr>
          <a:xfrm>
            <a:off x="427212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601800" y="190512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Sep00</a:t>
            </a:r>
            <a:endParaRPr b="0" lang="en-US" sz="2400" spc="-1" strike="noStrike">
              <a:solidFill>
                <a:srgbClr val="000000"/>
              </a:solidFill>
              <a:latin typeface="Times New Roman"/>
            </a:endParaRPr>
          </a:p>
        </p:txBody>
      </p:sp>
      <p:sp>
        <p:nvSpPr>
          <p:cNvPr id="99" name=""/>
          <p:cNvSpPr/>
          <p:nvPr/>
        </p:nvSpPr>
        <p:spPr>
          <a:xfrm>
            <a:off x="619200" y="5919840"/>
            <a:ext cx="521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sed on an IEEE estimate for planning purposes; not confirmed by BSIG </a:t>
            </a:r>
            <a:endParaRPr b="0" lang="en-US" sz="1200" spc="-1" strike="noStrike">
              <a:solidFill>
                <a:srgbClr val="000000"/>
              </a:solidFill>
              <a:latin typeface="Times New Roman"/>
            </a:endParaRPr>
          </a:p>
        </p:txBody>
      </p:sp>
      <p:sp>
        <p:nvSpPr>
          <p:cNvPr id="100" name=""/>
          <p:cNvSpPr/>
          <p:nvPr/>
        </p:nvSpPr>
        <p:spPr>
          <a:xfrm>
            <a:off x="29718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Smooth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6154560" y="13572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00</a:t>
            </a:r>
            <a:endParaRPr b="0" lang="en-US" sz="2400" spc="-1" strike="noStrike">
              <a:solidFill>
                <a:srgbClr val="000000"/>
              </a:solidFill>
              <a:latin typeface="Times New Roman"/>
            </a:endParaRPr>
          </a:p>
        </p:txBody>
      </p:sp>
      <p:sp>
        <p:nvSpPr>
          <p:cNvPr id="102" name=""/>
          <p:cNvSpPr/>
          <p:nvPr/>
        </p:nvSpPr>
        <p:spPr>
          <a:xfrm>
            <a:off x="5860440" y="5961240"/>
            <a:ext cx="2811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e (1) week before ballot starts.</a:t>
            </a:r>
            <a:endParaRPr b="0" lang="en-US" sz="1200" spc="-1" strike="noStrike">
              <a:solidFill>
                <a:srgbClr val="000000"/>
              </a:solidFill>
              <a:latin typeface="Times New Roman"/>
            </a:endParaRPr>
          </a:p>
        </p:txBody>
      </p:sp>
      <p:sp>
        <p:nvSpPr>
          <p:cNvPr id="103" name=""/>
          <p:cNvSpPr/>
          <p:nvPr/>
        </p:nvSpPr>
        <p:spPr>
          <a:xfrm flipV="1">
            <a:off x="6934320" y="5504040"/>
            <a:ext cx="7596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858000" y="541008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19556400">
            <a:off x="7844040" y="173340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Jan0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61BFA2E-9F77-4510-8E64-0AEDD4ACF661}" type="slidenum">
              <a:t>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4920" y="1905120"/>
            <a:ext cx="426708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4361040" y="1368720"/>
            <a:ext cx="698760" cy="3965400"/>
            <a:chOff x="4361040" y="1368720"/>
            <a:chExt cx="698760" cy="3965400"/>
          </a:xfrm>
        </p:grpSpPr>
        <p:sp>
          <p:nvSpPr>
            <p:cNvPr id="108" name=""/>
            <p:cNvSpPr/>
            <p:nvPr/>
          </p:nvSpPr>
          <p:spPr>
            <a:xfrm>
              <a:off x="4571640" y="1905120"/>
              <a:ext cx="0" cy="3429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19504800">
              <a:off x="4391280" y="1523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oday</a:t>
              </a:r>
              <a:endParaRPr b="0" lang="en-US" sz="1400" spc="-1" strike="noStrike">
                <a:solidFill>
                  <a:srgbClr val="000000"/>
                </a:solidFill>
                <a:latin typeface="Times New Roman"/>
              </a:endParaRPr>
            </a:p>
          </p:txBody>
        </p:sp>
      </p:grpSp>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Long</a:t>
            </a:r>
            <a:endParaRPr b="0" lang="en-US" sz="3600" spc="-1" strike="noStrike">
              <a:solidFill>
                <a:srgbClr val="000000"/>
              </a:solidFill>
              <a:latin typeface="Times New Roman"/>
            </a:endParaRPr>
          </a:p>
        </p:txBody>
      </p:sp>
      <p:sp>
        <p:nvSpPr>
          <p:cNvPr id="111"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need to discuss the process by which the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112" name=""/>
          <p:cNvSpPr/>
          <p:nvPr/>
        </p:nvSpPr>
        <p:spPr>
          <a:xfrm>
            <a:off x="152280" y="5181480"/>
            <a:ext cx="861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9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04920" y="1905120"/>
            <a:ext cx="1828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15" name=""/>
          <p:cNvSpPr/>
          <p:nvPr/>
        </p:nvSpPr>
        <p:spPr>
          <a:xfrm>
            <a:off x="75600" y="539424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99</a:t>
            </a:r>
            <a:endParaRPr b="0" lang="en-US" sz="1000" spc="-1" strike="noStrike">
              <a:solidFill>
                <a:srgbClr val="000000"/>
              </a:solidFill>
              <a:latin typeface="Times New Roman"/>
            </a:endParaRPr>
          </a:p>
        </p:txBody>
      </p:sp>
      <p:sp>
        <p:nvSpPr>
          <p:cNvPr id="116" name=""/>
          <p:cNvSpPr/>
          <p:nvPr/>
        </p:nvSpPr>
        <p:spPr>
          <a:xfrm>
            <a:off x="3428640" y="541008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00</a:t>
            </a:r>
            <a:endParaRPr b="0" lang="en-US" sz="1000" spc="-1" strike="noStrike">
              <a:solidFill>
                <a:srgbClr val="000000"/>
              </a:solidFill>
              <a:latin typeface="Times New Roman"/>
            </a:endParaRPr>
          </a:p>
        </p:txBody>
      </p:sp>
      <p:sp>
        <p:nvSpPr>
          <p:cNvPr id="117" name=""/>
          <p:cNvSpPr/>
          <p:nvPr/>
        </p:nvSpPr>
        <p:spPr>
          <a:xfrm>
            <a:off x="7011360" y="5410080"/>
            <a:ext cx="49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01</a:t>
            </a:r>
            <a:endParaRPr b="0" lang="en-US" sz="1000" spc="-1" strike="noStrike">
              <a:solidFill>
                <a:srgbClr val="000000"/>
              </a:solidFill>
              <a:latin typeface="Times New Roman"/>
            </a:endParaRPr>
          </a:p>
        </p:txBody>
      </p:sp>
      <p:sp>
        <p:nvSpPr>
          <p:cNvPr id="118" name=""/>
          <p:cNvSpPr/>
          <p:nvPr/>
        </p:nvSpPr>
        <p:spPr>
          <a:xfrm>
            <a:off x="6401880" y="541008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01</a:t>
            </a:r>
            <a:endParaRPr b="0" lang="en-US" sz="1000" spc="-1" strike="noStrike">
              <a:solidFill>
                <a:srgbClr val="000000"/>
              </a:solidFill>
              <a:latin typeface="Times New Roman"/>
            </a:endParaRPr>
          </a:p>
        </p:txBody>
      </p:sp>
      <p:sp>
        <p:nvSpPr>
          <p:cNvPr id="119" name=""/>
          <p:cNvSpPr/>
          <p:nvPr/>
        </p:nvSpPr>
        <p:spPr>
          <a:xfrm>
            <a:off x="7821360" y="5410080"/>
            <a:ext cx="47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02</a:t>
            </a:r>
            <a:endParaRPr b="0" lang="en-US" sz="1000" spc="-1" strike="noStrike">
              <a:solidFill>
                <a:srgbClr val="000000"/>
              </a:solidFill>
              <a:latin typeface="Times New Roman"/>
            </a:endParaRPr>
          </a:p>
        </p:txBody>
      </p:sp>
      <p:sp>
        <p:nvSpPr>
          <p:cNvPr id="120" name=""/>
          <p:cNvSpPr/>
          <p:nvPr/>
        </p:nvSpPr>
        <p:spPr>
          <a:xfrm>
            <a:off x="21337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21" name=""/>
          <p:cNvSpPr/>
          <p:nvPr/>
        </p:nvSpPr>
        <p:spPr>
          <a:xfrm>
            <a:off x="51055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122" name=""/>
          <p:cNvSpPr/>
          <p:nvPr/>
        </p:nvSpPr>
        <p:spPr>
          <a:xfrm>
            <a:off x="80773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025520" y="5410080"/>
            <a:ext cx="49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01</a:t>
            </a:r>
            <a:endParaRPr b="0" lang="en-US" sz="1000" spc="-1" strike="noStrike">
              <a:solidFill>
                <a:srgbClr val="000000"/>
              </a:solidFill>
              <a:latin typeface="Times New Roman"/>
            </a:endParaRPr>
          </a:p>
        </p:txBody>
      </p:sp>
      <p:sp>
        <p:nvSpPr>
          <p:cNvPr id="124" name=""/>
          <p:cNvSpPr/>
          <p:nvPr/>
        </p:nvSpPr>
        <p:spPr>
          <a:xfrm>
            <a:off x="51055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337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851360" y="5410080"/>
            <a:ext cx="47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01</a:t>
            </a:r>
            <a:endParaRPr b="0" lang="en-US" sz="1000" spc="-1" strike="noStrike">
              <a:solidFill>
                <a:srgbClr val="000000"/>
              </a:solidFill>
              <a:latin typeface="Times New Roman"/>
            </a:endParaRPr>
          </a:p>
        </p:txBody>
      </p:sp>
      <p:sp>
        <p:nvSpPr>
          <p:cNvPr id="127" name=""/>
          <p:cNvSpPr/>
          <p:nvPr/>
        </p:nvSpPr>
        <p:spPr>
          <a:xfrm>
            <a:off x="1873080" y="5394240"/>
            <a:ext cx="47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00</a:t>
            </a:r>
            <a:endParaRPr b="0" lang="en-US" sz="1000" spc="-1" strike="noStrike">
              <a:solidFill>
                <a:srgbClr val="000000"/>
              </a:solidFill>
              <a:latin typeface="Times New Roman"/>
            </a:endParaRPr>
          </a:p>
        </p:txBody>
      </p:sp>
      <p:sp>
        <p:nvSpPr>
          <p:cNvPr id="128" name=""/>
          <p:cNvSpPr/>
          <p:nvPr/>
        </p:nvSpPr>
        <p:spPr>
          <a:xfrm>
            <a:off x="7924680" y="1905120"/>
            <a:ext cx="0" cy="3429000"/>
          </a:xfrm>
          <a:prstGeom prst="line">
            <a:avLst/>
          </a:prstGeom>
          <a:ln w="3816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rot="19504800">
            <a:off x="7676640" y="1308960"/>
            <a:ext cx="139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Approval by StB</a:t>
            </a:r>
            <a:endParaRPr b="0" lang="en-US" sz="1400" spc="-1" strike="noStrike">
              <a:solidFill>
                <a:srgbClr val="000000"/>
              </a:solidFill>
              <a:latin typeface="Times New Roman"/>
            </a:endParaRPr>
          </a:p>
        </p:txBody>
      </p:sp>
      <p:sp>
        <p:nvSpPr>
          <p:cNvPr id="130" name=""/>
          <p:cNvSpPr/>
          <p:nvPr/>
        </p:nvSpPr>
        <p:spPr>
          <a:xfrm>
            <a:off x="16002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1</a:t>
            </a:r>
            <a:endParaRPr b="0" lang="en-US" sz="1600" spc="-1" strike="noStrike">
              <a:solidFill>
                <a:srgbClr val="000000"/>
              </a:solidFill>
              <a:latin typeface="Times New Roman"/>
            </a:endParaRPr>
          </a:p>
        </p:txBody>
      </p:sp>
      <p:sp>
        <p:nvSpPr>
          <p:cNvPr id="131" name=""/>
          <p:cNvSpPr/>
          <p:nvPr/>
        </p:nvSpPr>
        <p:spPr>
          <a:xfrm>
            <a:off x="32004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3</a:t>
            </a:r>
            <a:endParaRPr b="0" lang="en-US" sz="1600" spc="-1" strike="noStrike">
              <a:solidFill>
                <a:srgbClr val="000000"/>
              </a:solidFill>
              <a:latin typeface="Times New Roman"/>
            </a:endParaRPr>
          </a:p>
        </p:txBody>
      </p:sp>
      <p:sp>
        <p:nvSpPr>
          <p:cNvPr id="132" name=""/>
          <p:cNvSpPr/>
          <p:nvPr/>
        </p:nvSpPr>
        <p:spPr>
          <a:xfrm>
            <a:off x="220968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2</a:t>
            </a:r>
            <a:endParaRPr b="0" lang="en-US" sz="1600" spc="-1" strike="noStrike">
              <a:solidFill>
                <a:srgbClr val="000000"/>
              </a:solidFill>
              <a:latin typeface="Times New Roman"/>
            </a:endParaRPr>
          </a:p>
        </p:txBody>
      </p:sp>
      <p:sp>
        <p:nvSpPr>
          <p:cNvPr id="133" name=""/>
          <p:cNvSpPr/>
          <p:nvPr/>
        </p:nvSpPr>
        <p:spPr>
          <a:xfrm>
            <a:off x="5105520" y="2666880"/>
            <a:ext cx="3045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134" name=""/>
          <p:cNvSpPr/>
          <p:nvPr/>
        </p:nvSpPr>
        <p:spPr>
          <a:xfrm>
            <a:off x="1228320" y="27892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6</a:t>
            </a:r>
            <a:endParaRPr b="0" lang="en-US" sz="1000" spc="-1" strike="noStrike">
              <a:solidFill>
                <a:srgbClr val="000000"/>
              </a:solidFill>
              <a:latin typeface="Times New Roman"/>
            </a:endParaRPr>
          </a:p>
        </p:txBody>
      </p:sp>
      <p:sp>
        <p:nvSpPr>
          <p:cNvPr id="135" name=""/>
          <p:cNvSpPr/>
          <p:nvPr/>
        </p:nvSpPr>
        <p:spPr>
          <a:xfrm>
            <a:off x="2733120" y="2803680"/>
            <a:ext cx="52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7.2</a:t>
            </a:r>
            <a:endParaRPr b="0" lang="en-US" sz="1000" spc="-1" strike="noStrike">
              <a:solidFill>
                <a:srgbClr val="000000"/>
              </a:solidFill>
              <a:latin typeface="Times New Roman"/>
            </a:endParaRPr>
          </a:p>
        </p:txBody>
      </p:sp>
      <p:sp>
        <p:nvSpPr>
          <p:cNvPr id="136" name=""/>
          <p:cNvSpPr/>
          <p:nvPr/>
        </p:nvSpPr>
        <p:spPr>
          <a:xfrm>
            <a:off x="4747680" y="279072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8</a:t>
            </a:r>
            <a:endParaRPr b="0" lang="en-US" sz="1000" spc="-1" strike="noStrike">
              <a:solidFill>
                <a:srgbClr val="000000"/>
              </a:solidFill>
              <a:latin typeface="Times New Roman"/>
            </a:endParaRPr>
          </a:p>
        </p:txBody>
      </p:sp>
      <p:sp>
        <p:nvSpPr>
          <p:cNvPr id="137" name=""/>
          <p:cNvSpPr/>
          <p:nvPr/>
        </p:nvSpPr>
        <p:spPr>
          <a:xfrm>
            <a:off x="5410080" y="3124080"/>
            <a:ext cx="3049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138" name=""/>
          <p:cNvSpPr/>
          <p:nvPr/>
        </p:nvSpPr>
        <p:spPr>
          <a:xfrm>
            <a:off x="5052600" y="32608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9</a:t>
            </a:r>
            <a:endParaRPr b="0" lang="en-US" sz="1000" spc="-1" strike="noStrike">
              <a:solidFill>
                <a:srgbClr val="000000"/>
              </a:solidFill>
              <a:latin typeface="Times New Roman"/>
            </a:endParaRPr>
          </a:p>
        </p:txBody>
      </p:sp>
      <p:sp>
        <p:nvSpPr>
          <p:cNvPr id="139" name=""/>
          <p:cNvSpPr/>
          <p:nvPr/>
        </p:nvSpPr>
        <p:spPr>
          <a:xfrm>
            <a:off x="303120" y="3032280"/>
            <a:ext cx="108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15 W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ing</a:t>
            </a:r>
            <a:endParaRPr b="0" lang="en-US" sz="1000" spc="-1" strike="noStrike">
              <a:solidFill>
                <a:srgbClr val="000000"/>
              </a:solidFill>
              <a:latin typeface="Times New Roman"/>
            </a:endParaRPr>
          </a:p>
        </p:txBody>
      </p:sp>
      <p:grpSp>
        <p:nvGrpSpPr>
          <p:cNvPr id="140" name=""/>
          <p:cNvGrpSpPr/>
          <p:nvPr/>
        </p:nvGrpSpPr>
        <p:grpSpPr>
          <a:xfrm>
            <a:off x="5487840" y="4191120"/>
            <a:ext cx="2121120" cy="457200"/>
            <a:chOff x="5487840" y="4191120"/>
            <a:chExt cx="2121120" cy="457200"/>
          </a:xfrm>
        </p:grpSpPr>
        <p:sp>
          <p:nvSpPr>
            <p:cNvPr id="141" name=""/>
            <p:cNvSpPr/>
            <p:nvPr/>
          </p:nvSpPr>
          <p:spPr>
            <a:xfrm>
              <a:off x="5837400" y="4191120"/>
              <a:ext cx="4428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2" name=""/>
            <p:cNvSpPr/>
            <p:nvPr/>
          </p:nvSpPr>
          <p:spPr>
            <a:xfrm>
              <a:off x="6581880" y="4191120"/>
              <a:ext cx="3747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3" name=""/>
            <p:cNvSpPr/>
            <p:nvPr/>
          </p:nvSpPr>
          <p:spPr>
            <a:xfrm>
              <a:off x="6224400" y="4314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1</a:t>
              </a:r>
              <a:endParaRPr b="0" lang="en-US" sz="1000" spc="-1" strike="noStrike">
                <a:solidFill>
                  <a:srgbClr val="000000"/>
                </a:solidFill>
                <a:latin typeface="Times New Roman"/>
              </a:endParaRPr>
            </a:p>
          </p:txBody>
        </p:sp>
        <p:sp>
          <p:nvSpPr>
            <p:cNvPr id="144" name=""/>
            <p:cNvSpPr/>
            <p:nvPr/>
          </p:nvSpPr>
          <p:spPr>
            <a:xfrm>
              <a:off x="5487840" y="43131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0</a:t>
              </a:r>
              <a:endParaRPr b="0" lang="en-US" sz="1000" spc="-1" strike="noStrike">
                <a:solidFill>
                  <a:srgbClr val="000000"/>
                </a:solidFill>
                <a:latin typeface="Times New Roman"/>
              </a:endParaRPr>
            </a:p>
          </p:txBody>
        </p:sp>
        <p:sp>
          <p:nvSpPr>
            <p:cNvPr id="145" name=""/>
            <p:cNvSpPr/>
            <p:nvPr/>
          </p:nvSpPr>
          <p:spPr>
            <a:xfrm>
              <a:off x="7234560" y="4191120"/>
              <a:ext cx="374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46" name=""/>
            <p:cNvSpPr/>
            <p:nvPr/>
          </p:nvSpPr>
          <p:spPr>
            <a:xfrm>
              <a:off x="6876720" y="4314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3</a:t>
              </a:r>
              <a:endParaRPr b="0" lang="en-US" sz="1000" spc="-1" strike="noStrike">
                <a:solidFill>
                  <a:srgbClr val="000000"/>
                </a:solidFill>
                <a:latin typeface="Times New Roman"/>
              </a:endParaRPr>
            </a:p>
          </p:txBody>
        </p:sp>
      </p:grpSp>
      <p:sp>
        <p:nvSpPr>
          <p:cNvPr id="147" name=""/>
          <p:cNvSpPr/>
          <p:nvPr/>
        </p:nvSpPr>
        <p:spPr>
          <a:xfrm>
            <a:off x="305280" y="42512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Sponsor Balloting</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92DEB5E-540D-4300-B7F8-F6B81719F4BB}" type="slidenum">
              <a:t>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Ian C. Gifford</cp:lastModifiedBy>
  <cp:lastPrinted>1998-02-10T13:28:06Z</cp:lastPrinted>
  <dcterms:modified xsi:type="dcterms:W3CDTF">2000-11-13T09:15:05Z</dcterms:modified>
  <cp:revision>254</cp:revision>
  <dc:subject>IEEE 802.15 TG1 Report</dc:subject>
  <dc:title>IEEE P802.15 Working Group for Wireless Personal Area Networks</dc:title>
</cp:coreProperties>
</file>