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68770-5812-477E-9775-900108AC1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CD91A-CA3C-48C6-8708-7818A1E0B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2951B-CEE4-4F92-BC16-1C85E54AA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2060A-1015-4BA2-A27B-9B9001293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C0E43-9700-4564-9737-EFA6595EF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051AB-065C-48C4-B3F9-72215C948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DA61D-D60D-484F-90C6-863D42C76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B88DE-841C-4161-B61F-DB3A53C26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C2A3A-AB70-49FD-8471-B57E604D3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EDB6A-61AC-4E4F-80E6-75BB4ABAD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6EA67-0CD1-49DE-BD40-FBE456D79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177B4-13FD-4917-8C82-47A181620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FB64CC-C213-459C-BF94-1CDCB857B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9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TG3 PHY compromise</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10 November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P. K. Gilb]    Company: [Mobili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1031 Via Frontera, San Diego, CA 9212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858-451-3438], FAX: [</a:t>
            </a:r>
            <a:r>
              <a:rPr b="0" lang="en-US" sz="1600" spc="-1" strike="noStrike">
                <a:solidFill>
                  <a:srgbClr val="000000"/>
                </a:solidFill>
                <a:latin typeface="Times New Roman"/>
              </a:rPr>
              <a:t>1-858-451-3546</a:t>
            </a:r>
            <a:r>
              <a:rPr b="0" lang="en-US" sz="1600" spc="-1" strike="noStrike">
                <a:solidFill>
                  <a:srgbClr val="000000"/>
                </a:solidFill>
                <a:latin typeface="Times New Roman"/>
              </a:rPr>
              <a:t>], E-Mail:[</a:t>
            </a:r>
            <a:r>
              <a:rPr b="0" lang="en-US" sz="1600" spc="-1" strike="noStrike">
                <a:solidFill>
                  <a:srgbClr val="000000"/>
                </a:solidFill>
                <a:latin typeface="Times New Roman"/>
              </a:rPr>
              <a:t>gilb@ieee.or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A summary of the compromise PHY standar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record the changes and direction given by TG3 to develop a PHY layer for the draft standa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ference Documents</a:t>
            </a:r>
            <a:endParaRPr b="0" lang="en-US" sz="3600" spc="-1" strike="noStrike">
              <a:solidFill>
                <a:srgbClr val="000000"/>
              </a:solidFill>
              <a:latin typeface="Arial"/>
            </a:endParaRPr>
          </a:p>
        </p:txBody>
      </p:sp>
      <p:sp>
        <p:nvSpPr>
          <p:cNvPr id="4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bak propos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802.15-00/199r2, P802.15-00/200r9, P802.15-00/394r0</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romise presentation for Dabak propos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bak, P802.15-00/392r0</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als containing coding and modu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os, P802.15-00/355r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raoguz, P802.15-00/211r5</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rrell, P802.15-00/210r9</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osed Modulation formats</a:t>
            </a:r>
            <a:endParaRPr b="0" lang="en-US" sz="3600" spc="-1" strike="noStrike">
              <a:solidFill>
                <a:srgbClr val="000000"/>
              </a:solidFill>
              <a:latin typeface="Arial"/>
            </a:endParaRPr>
          </a:p>
        </p:txBody>
      </p:sp>
      <p:sp>
        <p:nvSpPr>
          <p:cNvPr id="4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Mbau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Modulation forma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QPSK, uncod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QAM, coding format TB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 QAM, coding format TB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QAM, coding format TB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the following target data ra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 33 and 44 Mb/s (possibly 55 Mb/s)</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romise Statement by Dabak</a:t>
            </a:r>
            <a:endParaRPr b="0" lang="en-US" sz="36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bak's statement (IEEE802.15-00/392r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Dabak agrees to adopt OQPSK as their base modulation scheme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Dabak assumes that the TG3 committee will validate this approach and make a sound marketing technical decision in terms of equalization and other delay spread techniques and other facto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gree to consider alternate coding schemes for the higher rates paying special attention to "lightweight" coding sche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ems to resolve vs. Dabak presentation</a:t>
            </a:r>
            <a:endParaRPr b="0" lang="en-US" sz="36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minimum required noise fig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the TX power to a uniform lev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 802.11 22 MHz PSD template and eliminate any reference to a 22 MHz bandwid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rrow the bandwidth of the PS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 any reference to Turbo Cod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t; 10 µS latency for lightweight</a:t>
            </a:r>
            <a:r>
              <a:rPr b="0" lang="en-US" sz="2800" spc="-1" strike="noStrike">
                <a:solidFill>
                  <a:srgbClr val="000000"/>
                </a:solidFill>
                <a:latin typeface="Times New Roman"/>
              </a:rPr>
              <a:t> cod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ly include codes that have &gt; 20 Mb/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9T12:52:46Z</dcterms:created>
  <dc:creator>Jim Allen</dc:creator>
  <dc:description/>
  <dc:language>en-US</dc:language>
  <cp:lastModifiedBy>JPKG</cp:lastModifiedBy>
  <dcterms:modified xsi:type="dcterms:W3CDTF">2000-11-09T19:58:08Z</dcterms:modified>
  <cp:revision>10</cp:revision>
  <dc:subject/>
  <dc:title>PowerPoint Presentation</dc:title>
</cp:coreProperties>
</file>