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3DF-2378-468D-A74C-E4B1D4A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575-046A-4B1C-9D52-50B286F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B4F-42A0-41A6-BB04-39DF50CC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7D3-0F04-4F0E-B667-775BC71F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288-A007-4EC0-8765-CF2252D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3D1-CD97-43BF-8E4C-053C06DD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0D0-D466-4CD6-B168-944A3EC5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899-37B5-4814-B6A3-0A00CBE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E5F-A0C1-4617-8CED-3B279E5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BBB-7B0A-4750-8963-02F620F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496-281F-4C7F-B211-5868DAE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902-97CC-4F15-B1A7-875C960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1512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67D08F-6DD0-45DF-9194-FB020A3C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674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9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3808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 proposal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2840" y="1270080"/>
            <a:ext cx="8001000" cy="48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rate is 11 MSPS (same as 802.11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Mbps QPSK u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Mbps 16 QAM, rate 1/2 coding (TB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 Mbps 16 QAM, rate 3/4 coding (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 Mbps (exact modulation and coding T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nd Dabak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04A-2324-41D1-A501-A7F0810903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 proposal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0312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symbol rate of 11 M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design for baseline 22 Mbps can be reused for the 33 and 44 Mbps higher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additional cost to implement the higher rates of 33 and 44 M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usability of system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baseline 22 Mbps to 33, 44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mplement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built using either discrete or integrate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nd Dabak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432-FD9C-4A35-A903-C9A6E7B0F4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 Proposal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 has clearly demonstrated flexibility to address the concerns of the committee/other propo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greed to an evaluation of different coding techniques including Turbo codes /TCM/ MBCK/ Reed Solom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greed to an evaluation of coded 44 M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nd Dabak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F6F-DEFB-4606-9767-05D07720F1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MSK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 scalab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2Mbps GMSK is not scalable to higher data rates of 33, 44 M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nsiste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ymbol rate and modulation schemes (22 MSPS, GMSK) for the baseline are completely different than those of the higher data rates (11 MSPS, Q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 cost advant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ctly the same cost as 11 MSPS QP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eds equaliz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 simulations (and IEEE papers) show that without equalization, hits an error flo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nd Dabak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210-9EEC-4090-9175-CA71FEBD6F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8:54:11Z</dcterms:created>
  <dc:creator>Tom Siep</dc:creator>
  <dc:description>&lt;doc#&gt;</dc:description>
  <dc:language>en-US</dc:language>
  <cp:lastModifiedBy>Richard L. Alfvin</cp:lastModifiedBy>
  <cp:lastPrinted>2000-10-27T21:14:57Z</cp:lastPrinted>
  <dcterms:modified xsi:type="dcterms:W3CDTF">2000-11-09T20:41:47Z</dcterms:modified>
  <cp:revision>370</cp:revision>
  <dc:subject>IEEE 802.15 &lt;subject&gt;</dc:subject>
  <dc:title>No Slide Title</dc:title>
</cp:coreProperties>
</file>