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D978C-5423-4063-8EA0-D9F58459B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4CBA0-48D4-40DD-8675-E7B2DB24F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86C29-9CB5-48DA-AF0D-852288D45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078B2-6D8C-4425-A2FA-5045964EB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890CC-342B-4D0C-BFE7-88C3297DD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2E831-6033-49EA-83BF-8D396AC01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7B6F5-8C2F-45CE-825D-8CA3A9289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B4871-77F9-4AD8-855C-897EBF5F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07758-D974-41D3-86C8-D4EA6B6C8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D5A4E-F243-4D93-8821-45C4DE7FF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92CAC-5171-4CC8-BB39-F2421AD4E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5F202-6CF1-4AB6-B660-AA775BC07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6C8548-CBC3-44AA-BEBA-F0F4635A0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doc#&gt;</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46" name=""/>
          <p:cNvSpPr/>
          <p:nvPr/>
        </p:nvSpPr>
        <p:spPr>
          <a:xfrm>
            <a:off x="152280" y="609480"/>
            <a:ext cx="8991720" cy="52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Add name of submiss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The date the document is contributed, in the format “21 May, 1999”</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Add name of submission Author</a:t>
            </a:r>
            <a:r>
              <a:rPr b="0" lang="en-US" sz="1600" spc="-1" strike="noStrike">
                <a:solidFill>
                  <a:srgbClr val="000000"/>
                </a:solidFill>
                <a:latin typeface="Times New Roman"/>
              </a:rPr>
              <a:t>] Company [</a:t>
            </a:r>
            <a:r>
              <a:rPr b="0" lang="en-US" sz="1600" spc="-1" strike="noStrike">
                <a:solidFill>
                  <a:srgbClr val="ff0000"/>
                </a:solidFill>
                <a:latin typeface="Times New Roman"/>
              </a:rPr>
              <a:t>Add name of Affili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Add address Street, City, PC, Province/State, Countr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Add telephone number</a:t>
            </a:r>
            <a:r>
              <a:rPr b="0" lang="en-US" sz="1600" spc="-1" strike="noStrike">
                <a:solidFill>
                  <a:srgbClr val="000000"/>
                </a:solidFill>
                <a:latin typeface="Times New Roman"/>
              </a:rPr>
              <a:t>], FAX: [</a:t>
            </a:r>
            <a:r>
              <a:rPr b="0" lang="en-US" sz="1600" spc="-1" strike="noStrike">
                <a:solidFill>
                  <a:srgbClr val="ff0000"/>
                </a:solidFill>
                <a:latin typeface="Times New Roman"/>
              </a:rPr>
              <a:t>Add FAX number</a:t>
            </a:r>
            <a:r>
              <a:rPr b="0" lang="en-US" sz="1600" spc="-1" strike="noStrike">
                <a:solidFill>
                  <a:srgbClr val="000000"/>
                </a:solidFill>
                <a:latin typeface="Times New Roman"/>
              </a:rPr>
              <a:t>], E-Mail:[</a:t>
            </a:r>
            <a:r>
              <a:rPr b="0" lang="en-US" sz="1600" spc="-1" strike="noStrike">
                <a:solidFill>
                  <a:srgbClr val="ff0000"/>
                </a:solidFill>
                <a:latin typeface="Times New Roman"/>
              </a:rPr>
              <a:t>Add e-mail address</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If this is a proposed revision, cite the 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f this is a response to a Call for Contributions, cite the name and date of the Call for Contributions to which this document responds, as well as the relevant item number in the Call for Contribu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ote: Contributions that are not responsive to this section of the template, and contributions which 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ot address the topic under which they are submitted, may be refused or consigned to the “General Contributions” area.]</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escription of document cont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escription of what the author wants P802.15 to do with the information in the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786D9D1-C8E4-4F35-B5B4-CA179D1D517E}"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55EFF5C-4A61-4E69-BB0A-1252FC21FA0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on Thursday Excom Meeting</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attendance --926 growth in reserve by 40K mainly due to free social.  Probable reduction in fees to limit further growth.</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 Spectrum Managed PAR passed 11/0/0</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4 PAR passed 10/0/0</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6 Wireless HUMAN PAR passed 10/0/0</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 Position Statement to the FCC passed 7/0/3</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0447570-8C62-4CB1-B6CC-33E0FCE9798D}"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on Thursday Excom Meeting</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7 RPR PAR passed 11/0/0</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ke Takefman appointed Chair of 802.17 through March 01 Plenary</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Standards for Free- passed 10/1/0</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pdfs commencing 6 months from Standards Board approval</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loss offset by $75/head fee from 802 meeting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Jan 1, 2001</a:t>
            </a:r>
            <a:endParaRPr b="0" lang="en-US" sz="28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71580C2-2616-40A7-A2C6-D6B7466774A9}"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on Thursday Excom Meeting</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ernet in the last Mile SG approved 11/0/0</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ed $15k for ongoing wireless network services at plenari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for 802 to manage May01 Meeting Passe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have paperless tutorials pass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E930AD9-E505-419D-96CC-D2C4DF05E0B3}"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on Thursday Excom Meeting</a:t>
            </a:r>
            <a:endParaRPr b="0" lang="en-US" sz="3200" spc="-1" strike="noStrike">
              <a:solidFill>
                <a:srgbClr val="000000"/>
              </a:solidFill>
              <a:latin typeface="Times New Roman"/>
            </a:endParaRPr>
          </a:p>
        </p:txBody>
      </p:sp>
      <p:sp>
        <p:nvSpPr>
          <p:cNvPr id="56"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form HR 5G SG failed, although TG3 is not restricted from proceeding down this path independen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me Marketing Committees Publicity Committe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F0839A6-E775-4800-A6E3-EDBB1E597061}"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0T00:21:29Z</dcterms:created>
  <dc:creator>Robert F.  Heile</dc:creator>
  <dc:description>&lt;doc#&gt;</dc:description>
  <dc:language>en-US</dc:language>
  <cp:lastModifiedBy>Robert F.  Heile</cp:lastModifiedBy>
  <cp:lastPrinted>1998-02-10T13:28:06Z</cp:lastPrinted>
  <dcterms:modified xsi:type="dcterms:W3CDTF">2000-11-10T05:02:26Z</dcterms:modified>
  <cp:revision>6</cp:revision>
  <dc:subject>IEEE 802.15 &lt;subject&gt;</dc:subject>
  <dc:title>No Slide Title</dc:title>
</cp:coreProperties>
</file>