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9CA3A-9F20-4C29-ADC7-414AB26B6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CC65D-079D-49A7-9715-623B04D4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CEE48-30ED-42B0-AE42-0DE46C736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4021-B1FF-42D2-9053-3C89B4828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A588C-7041-49F8-9EAF-C823565A3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F14E-FDB1-4CBF-A6AE-C7B507240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02E5-48F0-44A4-86B5-1A415D9AE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7F65-A3C6-4C35-B6A3-F12E7878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3C0F-3BF9-4ED7-B8DF-535C9A15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19DF-0E34-4569-A82B-FD7D9400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8144-297B-459D-833D-FEAC2AE2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0602-9CB0-4D8D-90E0-5A0367E74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8F2D-AEDF-47F0-B7A9-305DCB1A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3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495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inCom Wireless Proposal for High Rate WPAN MAC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27 Octo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1" lang="en-US" sz="1400" spc="-1" strike="noStrike">
                <a:solidFill>
                  <a:srgbClr val="000000"/>
                </a:solidFill>
                <a:latin typeface="Times New Roman"/>
              </a:rPr>
              <a:t>	</a:t>
            </a:r>
            <a:r>
              <a:rPr b="0" lang="en-US" sz="1400" spc="-1" strike="noStrike">
                <a:solidFill>
                  <a:srgbClr val="000000"/>
                </a:solidFill>
                <a:latin typeface="Times New Roman"/>
              </a:rPr>
              <a:t> [00355r0, 00357r0, 00358r0, 00197r3, 00198r3]</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MAC proposal by LinCom Wireless, Inc., supporting a High Rate WPAN PHY and syste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F2E2286E-95F9-41CC-94A5-1AA5D626BE91}"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FER Performance in 25ns DS Multipath</a:t>
            </a:r>
            <a:br>
              <a:rPr sz="3200"/>
            </a:br>
            <a:r>
              <a:rPr b="0" lang="en-US" sz="3200" spc="-1" strike="noStrike">
                <a:solidFill>
                  <a:srgbClr val="000000"/>
                </a:solidFill>
                <a:latin typeface="Times New Roman"/>
              </a:rPr>
              <a:t>11 MSps nQAM, 52x312 OFDM</a:t>
            </a:r>
            <a:endParaRPr b="0" lang="en-US" sz="3200" spc="-1" strike="noStrike">
              <a:solidFill>
                <a:srgbClr val="000000"/>
              </a:solidFill>
              <a:latin typeface="Times New Roman"/>
            </a:endParaRPr>
          </a:p>
        </p:txBody>
      </p:sp>
      <p:graphicFrame>
        <p:nvGraphicFramePr>
          <p:cNvPr id="69" name=""/>
          <p:cNvGraphicFramePr/>
          <p:nvPr/>
        </p:nvGraphicFramePr>
        <p:xfrm>
          <a:off x="152280" y="1523880"/>
          <a:ext cx="7944120" cy="4724640"/>
        </p:xfrm>
        <a:graphic>
          <a:graphicData uri="http://schemas.openxmlformats.org/presentationml/2006/ole">
            <p:oleObj r:id="rId1" spid="">
              <p:embed/>
              <p:pic>
                <p:nvPicPr>
                  <p:cNvPr id="70" name="" descr=""/>
                  <p:cNvPicPr/>
                  <p:nvPr/>
                </p:nvPicPr>
                <p:blipFill>
                  <a:blip r:embed="rId2"/>
                  <a:stretch/>
                </p:blipFill>
                <p:spPr>
                  <a:xfrm>
                    <a:off x="152280" y="1523880"/>
                    <a:ext cx="7944120" cy="4724640"/>
                  </a:xfrm>
                  <a:prstGeom prst="rect">
                    <a:avLst/>
                  </a:prstGeom>
                  <a:ln w="0">
                    <a:noFill/>
                  </a:ln>
                </p:spPr>
              </p:pic>
            </p:oleObj>
          </a:graphicData>
        </a:graphic>
      </p:graphicFrame>
      <p:sp>
        <p:nvSpPr>
          <p:cNvPr id="71" name=""/>
          <p:cNvSpPr/>
          <p:nvPr/>
        </p:nvSpPr>
        <p:spPr>
          <a:xfrm>
            <a:off x="6310440" y="14842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D5084EF6-B925-4B60-A696-DFC69D9C51AF}"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graphicFrame>
        <p:nvGraphicFramePr>
          <p:cNvPr id="73" name=""/>
          <p:cNvGraphicFramePr/>
          <p:nvPr/>
        </p:nvGraphicFramePr>
        <p:xfrm>
          <a:off x="1447920" y="1828800"/>
          <a:ext cx="6553080" cy="4267080"/>
        </p:xfrm>
        <a:graphic>
          <a:graphicData uri="http://schemas.openxmlformats.org/presentationml/2006/ole">
            <p:oleObj progId="Excel.Sheet.12" r:id="rId1" spid="">
              <p:embed/>
              <p:pic>
                <p:nvPicPr>
                  <p:cNvPr id="74" name="" descr=""/>
                  <p:cNvPicPr/>
                  <p:nvPr/>
                </p:nvPicPr>
                <p:blipFill>
                  <a:blip r:embed="rId2"/>
                  <a:stretch/>
                </p:blipFill>
                <p:spPr>
                  <a:xfrm>
                    <a:off x="1447920" y="1828800"/>
                    <a:ext cx="6553080" cy="426708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D9772B56-4B39-407C-A23E-45C211B77F55}"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2</a:t>
            </a:r>
            <a:endParaRPr b="0" lang="en-US" sz="3200" spc="-1" strike="noStrike">
              <a:solidFill>
                <a:srgbClr val="000000"/>
              </a:solidFill>
              <a:latin typeface="Times New Roman"/>
            </a:endParaRPr>
          </a:p>
        </p:txBody>
      </p:sp>
      <p:graphicFrame>
        <p:nvGraphicFramePr>
          <p:cNvPr id="76" name=""/>
          <p:cNvGraphicFramePr/>
          <p:nvPr/>
        </p:nvGraphicFramePr>
        <p:xfrm>
          <a:off x="1828800" y="1828800"/>
          <a:ext cx="5791320" cy="4419720"/>
        </p:xfrm>
        <a:graphic>
          <a:graphicData uri="http://schemas.openxmlformats.org/presentationml/2006/ole">
            <p:oleObj progId="Excel.Sheet.12" r:id="rId1" spid="">
              <p:embed/>
              <p:pic>
                <p:nvPicPr>
                  <p:cNvPr id="77" name="" descr=""/>
                  <p:cNvPicPr/>
                  <p:nvPr/>
                </p:nvPicPr>
                <p:blipFill>
                  <a:blip r:embed="rId2"/>
                  <a:stretch/>
                </p:blipFill>
                <p:spPr>
                  <a:xfrm>
                    <a:off x="1828800" y="1828800"/>
                    <a:ext cx="5791320" cy="44197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07058997-88E2-49AD-862A-23495717E23B}"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Access</a:t>
            </a:r>
            <a:endParaRPr b="0" lang="en-US" sz="3600" spc="-1" strike="noStrike">
              <a:solidFill>
                <a:srgbClr val="000000"/>
              </a:solidFill>
              <a:latin typeface="Times New Roman"/>
            </a:endParaRPr>
          </a:p>
        </p:txBody>
      </p:sp>
      <p:sp>
        <p:nvSpPr>
          <p:cNvPr id="7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676520"/>
            <a:ext cx="8001000" cy="4495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Access- Master alternately transmits packets to distinct Slav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iconet of one Master and multiple Slav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initially establishing a network becomes the Mast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ster may later switch roles with a designated Slave</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ster Assignment” frame promotes the Slave, transfers the Access Control List to avoid need for reregistration of the other Slav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attributes can be used to select the “best” Master for a picone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Line powered, Power Save packet buffering support</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ourcing, sinking capability</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powered, SDRAM rich Portal makes the best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ECA701B-E351-4BD6-9BBD-4477686177D0}"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ster Operation</a:t>
            </a:r>
            <a:endParaRPr b="0" lang="en-US" sz="3600" spc="-1" strike="noStrike">
              <a:solidFill>
                <a:srgbClr val="000000"/>
              </a:solidFill>
              <a:latin typeface="Times New Roman"/>
            </a:endParaRPr>
          </a:p>
        </p:txBody>
      </p:sp>
      <p:sp>
        <p:nvSpPr>
          <p:cNvPr id="8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04920" y="1295280"/>
            <a:ext cx="838188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operation uses 802.11-like timing relationships (SIFS, PIF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 is determined using Automatic Channel Sele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ower up the Master Active Scans (issues Probe Requests), find a clear channel and starts transmitting Beac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laves Active Scan to find the Master as they come onlin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channel later degrade, the Master may decide to move</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aceful” degradation lets Master find new channel and notify slaves for a coordinated frequency shift</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brupt” link loss forces Master to move, slaves to find hi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line or disabled Master will be replaced by one of his Slav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eacons, unACKed transmissions determine Master lo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lave needing to transmit will issue Beacons and prepare to register and authenticate the other orphaned Slav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ed Slaves proceed to associate with the new Mast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CFCB2FF-1741-4F34-8D5A-33F75804056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Join, Unjoin</a:t>
            </a:r>
            <a:endParaRPr b="0" lang="en-US" sz="3600" spc="-1" strike="noStrike">
              <a:solidFill>
                <a:srgbClr val="000000"/>
              </a:solidFill>
              <a:latin typeface="Times New Roman"/>
            </a:endParaRPr>
          </a:p>
        </p:txBody>
      </p:sp>
      <p:sp>
        <p:nvSpPr>
          <p:cNvPr id="8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57200" y="1295280"/>
            <a:ext cx="845820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like Association services provide for simple network Join, Unjoi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Active Scan upon activation (Probe Request,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ssue Enhanced Association Request (EAR) to desired Master</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includes device attribute information so that the best Master can be identified for possible later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grants piconet access with an Association Respon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32 Slaves at a time can be Associated with one Mast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can broadcast a packet to multiple Slaves (Point to Multipoi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Slaves can talk directly to each other, bypassing the Mast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ng Slave sends Reassociation frame to desired recipient Slav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 verifies the common Master, sends Reassociation respons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link is active until either party requests Disassoci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96BD8AB-1AD8-4801-8FBC-4B6F3BC8FD21}"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Harmony</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57200" y="1447920"/>
            <a:ext cx="83818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coexistence, interoperability with Bluetoot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1 mode, and paired with an appropriate PHY obviously coexists and interopera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3 mode, takes a hit whenever a BT hops into its 14 MHz Nyquist BW, less than 20% of the ti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coexistence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an appropriate PHY, CCA and CSMA/CA protocol will defer to co-channel transmissions of the appropriate carrier center frequency and move to a different chann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upports Harmony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the LCW PHY, will demodulate and interpret the PLCP header for the transmission duration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rce an “equitable” sharing of the single channel by “cheating” on PCF, DCF protocols and PIFS, DIFS tim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5F22E4F-4C27-45E8-AB15-CB23515CEB31}"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Registration and Authorization</a:t>
            </a:r>
            <a:endParaRPr b="0" lang="en-US" sz="3600" spc="-1" strike="noStrike">
              <a:solidFill>
                <a:srgbClr val="000000"/>
              </a:solidFill>
              <a:latin typeface="Times New Roman"/>
            </a:endParaRPr>
          </a:p>
        </p:txBody>
      </p:sp>
      <p:sp>
        <p:nvSpPr>
          <p:cNvPr id="9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57200" y="1219320"/>
            <a:ext cx="8153280" cy="4800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security protocols are designed to “undo the security damage” of eliminating cables for wireless connectiv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grants a device access to the networ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the one-time act of Authorizing a devi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is the proof of Authorization upon every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cy is the protection against eavesdropp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LCW-capable device features a unique, secret factory assigned signature in addition to its MAC addres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vice “Registers” with the Master upon first network acces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can be unaided or require user intervention at one or both en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Registration the device is Authorized to access the network in the futu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MAC Address is added to the Master’s Access Control Li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uthorization removes the MAC Address from the AC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301A77E-FE83-4F95-9771-9843CDCE7BF9}"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Authentication and Privacy</a:t>
            </a:r>
            <a:endParaRPr b="0" lang="en-US" sz="3600" spc="-1" strike="noStrike">
              <a:solidFill>
                <a:srgbClr val="000000"/>
              </a:solidFill>
              <a:latin typeface="Times New Roman"/>
            </a:endParaRPr>
          </a:p>
        </p:txBody>
      </p:sp>
      <p:sp>
        <p:nvSpPr>
          <p:cNvPr id="9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80880" y="1523880"/>
            <a:ext cx="822960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subsequent network access the device undergoes Authentication to prove he is the authorized access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exchange (Diffie Helman) of MAC Address and secret signature “proves” ident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may demand “Reverse” or Mutual Authentication from the Master, to ensure that he is indeed accessing the network of intere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ils “man in the middle” attack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ret shared session key is automatically generated at both en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enter PIN numbers or manual keys, ev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s communications privacy by strongly encrypting (128b RC4) exchanged messag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one time only Registration the user NEED DO NOTHING to obtain highly secure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6520C0B2-89AE-4E24-ABF8-4970684EEB7E}"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QOS</a:t>
            </a:r>
            <a:endParaRPr b="0" lang="en-US" sz="3600" spc="-1" strike="noStrike">
              <a:solidFill>
                <a:srgbClr val="000000"/>
              </a:solidFill>
              <a:latin typeface="Times New Roman"/>
            </a:endParaRPr>
          </a:p>
        </p:txBody>
      </p:sp>
      <p:sp>
        <p:nvSpPr>
          <p:cNvPr id="10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14479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support in-home distribution of voice, audio, video and interactive multimed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ingle Portal” model for distribution of content likely originating beyond the piconet, either real time broadcast or stored/cach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eliminates collisions, backoffs, retr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zation, bandwidth and latency guarantees support streaming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aware Master balances Automatic Channel Selection and Data Rate Shifting to ensure connectivity and throughput when the channel degr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QOS MAC will focus solely on the home wireless interactive multimedia distribution issu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9D4FF56-72AE-4DFE-9B14-3450FC325DD3}"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 MAC</a:t>
            </a:r>
            <a:br>
              <a:rPr sz="3600"/>
            </a:br>
            <a:r>
              <a:rPr b="1" lang="en-US" sz="3600" spc="-1" strike="noStrike">
                <a:solidFill>
                  <a:srgbClr val="000000"/>
                </a:solidFill>
                <a:latin typeface="Arial"/>
              </a:rPr>
              <a:t> A Proposal for a High Data Rate WPAN Medium Access Controller</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pic>
          <p:nvPicPr>
            <p:cNvPr id="48" name="" descr=""/>
            <p:cNvPicPr/>
            <p:nvPr/>
          </p:nvPicPr>
          <p:blipFill>
            <a:blip r:embed="rId1"/>
            <a:stretch/>
          </p:blipFill>
          <p:spPr>
            <a:xfrm>
              <a:off x="3733920" y="5410080"/>
              <a:ext cx="1752480" cy="659520"/>
            </a:xfrm>
            <a:prstGeom prst="rect">
              <a:avLst/>
            </a:prstGeom>
            <a:ln w="0">
              <a:noFill/>
            </a:ln>
          </p:spPr>
        </p:pic>
        <p:pic>
          <p:nvPicPr>
            <p:cNvPr id="49" name="" descr=""/>
            <p:cNvPicPr/>
            <p:nvPr/>
          </p:nvPicPr>
          <p:blipFill>
            <a:blip r:embed="rId2"/>
            <a:stretch/>
          </p:blipFill>
          <p:spPr>
            <a:xfrm>
              <a:off x="3733920" y="5865840"/>
              <a:ext cx="1752480" cy="230040"/>
            </a:xfrm>
            <a:prstGeom prst="rect">
              <a:avLst/>
            </a:prstGeom>
            <a:ln w="0">
              <a:noFill/>
            </a:ln>
          </p:spPr>
        </p:pic>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44DD33E7-8833-4016-B49B-B960329E7358}"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iscellany</a:t>
            </a:r>
            <a:endParaRPr b="0" lang="en-US" sz="3600" spc="-1" strike="noStrike">
              <a:solidFill>
                <a:srgbClr val="000000"/>
              </a:solidFill>
              <a:latin typeface="Times New Roman"/>
            </a:endParaRPr>
          </a:p>
        </p:txBody>
      </p:sp>
      <p:sp>
        <p:nvSpPr>
          <p:cNvPr id="10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1447920"/>
            <a:ext cx="8763120" cy="358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ata Rate Shift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is biased to operate at highest data rate possib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channel degrades, automatically downshifts to lower rat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s to QOS prioritization, bandwidth, latency contracts under PCF</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negotiate low power “sleep” intervals with Master</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er number of Beacon Intervals</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power down, except for time-keeping functions to wake up</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buffers all incoming packets for sleeping Slaves until they awake and reestablish active lin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 message buffering capability depends on its Device Ty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maintain a network connection while in Power Sav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can sleep for seconds before waking to poll for stored dat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ming, fragmentation, RTS/CTS, 802.11 adhoc are not suppor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2A778CCC-FA72-4099-A58D-88AB0AA8D125}"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80880" y="1295280"/>
            <a:ext cx="830592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1</a:t>
            </a:r>
            <a:r>
              <a:rPr b="0" lang="en-US" sz="2000" spc="-1" strike="noStrike">
                <a:solidFill>
                  <a:srgbClr val="000000"/>
                </a:solidFill>
                <a:latin typeface="Arial"/>
              </a:rPr>
              <a:t>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u CMOS process is now being introduc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102 for &lt;1.5x 802.15.1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97CB4601-D0A7-4B01-BFCB-1F863B2FEBDE}"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CCDAD47-CBCD-4762-9D2A-DE8FC9854182}"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1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2.5</a:t>
            </a:r>
            <a:r>
              <a:rPr b="0" lang="en-US" sz="2000" spc="-1" strike="noStrike">
                <a:solidFill>
                  <a:srgbClr val="000000"/>
                </a:solidFill>
                <a:latin typeface="Arial"/>
              </a:rPr>
              <a:t>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2.6</a:t>
            </a:r>
            <a:r>
              <a:rPr b="0" lang="en-US" sz="2000" spc="-1" strike="noStrike">
                <a:solidFill>
                  <a:srgbClr val="000000"/>
                </a:solidFill>
                <a:latin typeface="Arial"/>
              </a:rPr>
              <a:t>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2.3</a:t>
            </a:r>
            <a:r>
              <a:rPr b="0" lang="en-US" sz="2000" spc="-1" strike="noStrike">
                <a:solidFill>
                  <a:srgbClr val="000000"/>
                </a:solidFill>
                <a:latin typeface="Arial"/>
              </a:rPr>
              <a:t>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B47A4764-0418-4C8C-A002-F9036CE98033}"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23"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9480" y="1219320"/>
            <a:ext cx="807732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will be available Q40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AAA0F46-E92A-4DC3-B2BB-1E2190B82A6C}"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27"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914400" y="12193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 Fully Transparent to Upper Protocol Lay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1 Unique 48 bit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2.2</a:t>
            </a:r>
            <a:r>
              <a:rPr b="0" lang="en-US" sz="2000" spc="-1" strike="noStrike">
                <a:solidFill>
                  <a:srgbClr val="000000"/>
                </a:solidFill>
                <a:latin typeface="Arial"/>
              </a:rPr>
              <a:t> Simple Network Join/Un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style Association, Disassociation for non hopping PHY is much simpler than that of 802.15.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2.3</a:t>
            </a:r>
            <a:r>
              <a:rPr b="0" lang="en-US" sz="2000" spc="-1" strike="noStrike">
                <a:solidFill>
                  <a:srgbClr val="000000"/>
                </a:solidFill>
                <a:latin typeface="Arial"/>
              </a:rPr>
              <a:t> Device Regist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ble from Automatic Admit-All, to Automatic by Device Type, to various levels of Restricte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2 Minimum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3 High End Delivered Data Throughpu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C3F5EDD-A8A6-41D2-BB63-276E038ACA7E}"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31"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2120" y="1371600"/>
            <a:ext cx="807696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ata Transfer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F, asynchronous and isochronous on a per packet bas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 Topologies supported: point/multipoint, point/point, peer/pe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2 Maximum number of Active Connections &gt; 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3 Ad Hoc Networks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 Access to a Portal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2 Master Redundanc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3 Loss of Connection Detection and Recovery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AE78AF0-AE84-4EBA-B57E-6B8F2AB3EAB0}"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MAC Criteria</a:t>
            </a:r>
            <a:endParaRPr b="0" lang="en-US" sz="3600" spc="-1" strike="noStrike">
              <a:solidFill>
                <a:srgbClr val="000000"/>
              </a:solidFill>
              <a:latin typeface="Times New Roman"/>
            </a:endParaRPr>
          </a:p>
        </p:txBody>
      </p:sp>
      <p:sp>
        <p:nvSpPr>
          <p:cNvPr id="135"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14400" y="1143000"/>
            <a:ext cx="7391520" cy="4952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Power Management as in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in deep sleep maintain active piconet conne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 MAC Controller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1.5W system power consump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9.1</a:t>
            </a:r>
            <a:r>
              <a:rPr b="0" lang="en-US" sz="2000" spc="-1" strike="noStrike">
                <a:solidFill>
                  <a:srgbClr val="000000"/>
                </a:solidFill>
                <a:latin typeface="Arial"/>
              </a:rPr>
              <a:t>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poof-proof) mutual authent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3.9.2</a:t>
            </a:r>
            <a:r>
              <a:rPr b="0" lang="en-US" sz="2000" spc="-1" strike="noStrike">
                <a:solidFill>
                  <a:srgbClr val="000000"/>
                </a:solidFill>
                <a:latin typeface="Arial"/>
              </a:rPr>
              <a:t> Privac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Encryption (128b RC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transparent encryption key generation, distribution, and mainten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0 QOS equivalent to 802.11e suppor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5BA07DC-BB77-438A-B4C7-74E42D0E3A0C}"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39" name="PlaceHolder 2"/>
          <p:cNvSpPr>
            <a:spLocks noGrp="1"/>
          </p:cNvSpPr>
          <p:nvPr>
            <p:ph/>
          </p:nvPr>
        </p:nvSpPr>
        <p:spPr>
          <a:xfrm>
            <a:off x="76320" y="1219320"/>
            <a:ext cx="8991360" cy="45720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is the result of a “Systems Design” approach to the HRWPAN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integrate with the LCW P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mates robustly and efficiently with other 6 PHY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enables extraordinary transmission performanc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high throughput, low error rate and low latenc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duced and Extended” 802.11-like MA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F Poll-response mechanism provides efficient, centralized piconet contr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uto Channel Select, Master-slave morph, peer to peer commun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s roaming, fragmentation, RTS/CTS and 802.11 adho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Interoperability and Harmony with preexisting stand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End Securit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button push or equivalent initially establishes a highly secure WP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 does NOTHING to reestablish, maintain highly secure links thereaft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quality, interactive multimedia capable Q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3360" y="5715000"/>
            <a:ext cx="908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CW MAC is a compelling choice for the HRWPAN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D568A940-923C-47ED-BD47-92EF11EE0892}"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 San Diego, 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3C1F261-38FF-476B-97B3-A36018D4A82C}"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33160"/>
            <a:ext cx="8991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3"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in excess of 30 Mb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minimum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CE8377A9-6B70-40BF-BA45-6981B8B60EC0}"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533160" y="1447560"/>
            <a:ext cx="838188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needs to support high data rate, low latency, highly secure, multimedia capable, fully networked personal wireless communications in the indoor propagation chan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upport multiple simultaneous data, voice, video and interactive multimedia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 Mbps aggregate, sustained, low latency throughpu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overcome, “tame” the onerous propagation chan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needs to provide powerful multipath mitigation, error cor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supports “smart” ARQ to improve throughput, lat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specifically designed PHY and MAC pair BEST addresses all thes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at’s not what we are doing he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has been modified to mate with other PHY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work quite as well as with the LCW PH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8046D78-A690-49FB-A080-7E4305B8128C}"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Description</a:t>
            </a:r>
            <a:endParaRPr b="0" lang="en-US" sz="3600" spc="-1" strike="noStrike">
              <a:solidFill>
                <a:srgbClr val="000000"/>
              </a:solidFill>
              <a:latin typeface="Times New Roman"/>
            </a:endParaRPr>
          </a:p>
        </p:txBody>
      </p:sp>
      <p:sp>
        <p:nvSpPr>
          <p:cNvPr id="57" name="PlaceHolder 2"/>
          <p:cNvSpPr>
            <a:spLocks noGrp="1"/>
          </p:cNvSpPr>
          <p:nvPr>
            <p:ph/>
          </p:nvPr>
        </p:nvSpPr>
        <p:spPr>
          <a:xfrm>
            <a:off x="533520" y="1218960"/>
            <a:ext cx="8076960" cy="51814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MAC Basi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MAC protocol is CSMA/CA PCF, akin to 802.1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Slave to Master “morphing”, direct Slave to Slave communicat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enhanced security and QO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ecurity featur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authent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 bit encrypti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transparent key generation and maintenanc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voice, audio, video and interactive multimedia suppo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provides 802.15.1 suppor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istinct and separable” 802.15.1 MAC included to support a dual mode HRWPAN/Bluetooth radi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legalities, NO further Bluetooth IP is reused by LCW MA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478F126-9051-4392-AACC-6D8B106826E4}"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MAC Transmission Enhancement</a:t>
            </a:r>
            <a:endParaRPr b="0" lang="en-US" sz="3600" spc="-1" strike="noStrike">
              <a:solidFill>
                <a:srgbClr val="000000"/>
              </a:solidFill>
              <a:latin typeface="Times New Roman"/>
            </a:endParaRPr>
          </a:p>
        </p:txBody>
      </p:sp>
      <p:sp>
        <p:nvSpPr>
          <p:cNvPr id="59"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523880"/>
            <a:ext cx="830556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cert with an appropriate PHY, the LCW MAC improves transmission robustness, throughput and latency performance</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HYs provides high raw data rates, multipath mitigation and error correction</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Com PHY also segments packets into 200B blocks, and performs real time Reed Solomon FEC coding/decod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AC then provides for “smart” retransmissions using “Enhanced ACK” (EACK) and“Enhanced ARQ” (EARQ)</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K indicates the specific packet segments received with errors not correctable by the Reed Solomon decod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s the standard A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s the transmitter which segments need to be retransmitted.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Q protocols at the source then retransmit only those specific RS encoded packet seg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nsmission overhead, LATENCY are reduced significantl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0BEF3CD-2911-4663-B93F-3770E8DF5952}"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Performance</a:t>
            </a:r>
            <a:endParaRPr b="0" lang="en-US" sz="3600" spc="-1" strike="noStrike">
              <a:solidFill>
                <a:srgbClr val="000000"/>
              </a:solidFill>
              <a:latin typeface="Times New Roman"/>
            </a:endParaRPr>
          </a:p>
        </p:txBody>
      </p:sp>
      <p:sp>
        <p:nvSpPr>
          <p:cNvPr id="6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munications performance metrics for a wireless network</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Net data transmission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Time Delay caused by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Bit Error Rate- 1/ (Number of bits between error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est” combination for a specific application involves tradeoff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hroughput can be readily achieved with large packe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packets ordinarily imply large retransmission latenci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latencies can be achieved at the expense of error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error rates can be had with large (retransmission) latenci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is inextricably tied to details of the specific MAC and PHY implementatio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a specific MAC with a “generic” PHY produces no meaningful resul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MAC was analyzed with all 7 proposed PHY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03B11679-9AF5-48D2-B931-EE2DF49F4308}"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Analysis</a:t>
            </a:r>
            <a:endParaRPr b="0" lang="en-US" sz="3600" spc="-1" strike="noStrike">
              <a:solidFill>
                <a:srgbClr val="000000"/>
              </a:solidFill>
              <a:latin typeface="Times New Roman"/>
            </a:endParaRPr>
          </a:p>
        </p:txBody>
      </p:sp>
      <p:sp>
        <p:nvSpPr>
          <p:cNvPr id="66"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Condit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nasty multipath propagation medium </a:t>
            </a:r>
            <a:br>
              <a:rPr sz="2000"/>
            </a:br>
            <a:r>
              <a:rPr b="0" lang="en-US" sz="2000" spc="-1" strike="noStrike">
                <a:solidFill>
                  <a:srgbClr val="000000"/>
                </a:solidFill>
                <a:latin typeface="Arial"/>
              </a:rPr>
              <a:t>(25 ns Rayleigh “Naftali” channel)</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high sustained throughputs </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3 MPEG2 channels (6 Mbps ea, 18 Mbps total, mi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low peak latencies for interactive multimedia</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ms is consistent with pleasant voic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error rates</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igital video demands an error event no more than once per hour</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s to a BER better than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acket data environment, use CBER =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One way transmissions from A to B</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2- One way A-B and Bidirectional C-D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6B81CD44-9DC3-4855-9765-B3F70321A117}" type="slidenum">
              <a:t>9</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10-27T21:53:41Z</dcterms:modified>
  <cp:revision>67</cp:revision>
  <dc:subject/>
  <dc:title>L3C Proposal for HR WPAN</dc:title>
</cp:coreProperties>
</file>