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609AD-A002-43B2-B9AC-7F40E89DC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AECCE-4AE5-4A2B-BC34-99CE09782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13124-BEEF-49ED-B8BE-626B4D384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8BF95-5E47-4FCF-B1E7-3CC003E3B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F95E2-9578-44AA-A387-02EDBE1CD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60EDE-D042-49D9-A1D0-B4ABB4A60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B9A8A-A9BD-405A-9D8A-5ECE9C377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5F9D2-7D14-4A61-9C4D-D51F30C37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F1BBB-62A8-4977-9B0D-2BDB59AD4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2A97-3AB0-47DC-BD9E-F15A28E1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D5F53-413B-46FA-ADB6-26CE22C72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1D6BA-D4D9-4B86-918C-475D52D61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379800"/>
            <a:ext cx="29718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55272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521240" y="6552720"/>
            <a:ext cx="177840" cy="1828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2EAA-B4A6-40D2-B264-6065F5872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82880"/>
            <a:ext cx="3962520" cy="42660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5-00/035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6520" y="647712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990720"/>
            <a:ext cx="8077320" cy="495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802.15 Working Group for Wireless Personal Area Networks (WPAN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LinCom Wireless Proposal for High Rate WPAN PHY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27 October 2000]</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1" lang="en-US" sz="1400" spc="-1" strike="noStrike">
                <a:solidFill>
                  <a:srgbClr val="000000"/>
                </a:solidFill>
                <a:latin typeface="Times New Roman"/>
              </a:rPr>
              <a:t>	</a:t>
            </a:r>
            <a:r>
              <a:rPr b="0" lang="en-US" sz="1400" spc="-1" strike="noStrike">
                <a:solidFill>
                  <a:srgbClr val="000000"/>
                </a:solidFill>
                <a:latin typeface="Times New Roman"/>
              </a:rPr>
              <a:t>Name [Carlos Rios ] </a:t>
            </a:r>
            <a:r>
              <a:rPr b="0" lang="en-US" sz="1400" spc="-1" strike="noStrike">
                <a:solidFill>
                  <a:srgbClr val="000000"/>
                </a:solidFill>
                <a:latin typeface="Times New Roman"/>
              </a:rPr>
              <a:t>	</a:t>
            </a:r>
            <a:r>
              <a:rPr b="0" lang="en-US" sz="1400" spc="-1" strike="noStrike">
                <a:solidFill>
                  <a:srgbClr val="000000"/>
                </a:solidFill>
                <a:latin typeface="Times New Roman"/>
              </a:rPr>
              <a:t>Company [LinCom Wireless, Inc.]</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dress [5120 W Goldleaf Circle, Ste 400, Los Angeles, CA 90056]</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ce:[408 202 6294], FAX: [408 399 9704], E-Mail:[riosc@lincom.co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1" lang="en-US" sz="1400" spc="-1" strike="noStrike">
                <a:solidFill>
                  <a:srgbClr val="000000"/>
                </a:solidFill>
                <a:latin typeface="Times New Roman"/>
              </a:rPr>
              <a:t>	</a:t>
            </a:r>
            <a:r>
              <a:rPr b="0" lang="en-US" sz="1400" spc="-1" strike="noStrike">
                <a:solidFill>
                  <a:srgbClr val="000000"/>
                </a:solidFill>
                <a:latin typeface="Times New Roman"/>
              </a:rPr>
              <a:t> [00356r0, 00357r0, 00358r0, 00197r3, 00198r3]</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A PHY proposal by LinCom Wireless, Inc., supporting a High Rate WPAN PHY and system]</a:t>
            </a:r>
            <a:endParaRPr b="0" lang="en-US" sz="1400" spc="-1" strike="noStrike">
              <a:solidFill>
                <a:srgbClr val="000000"/>
              </a:solidFill>
              <a:latin typeface="Times New Roman"/>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the High Rate WPAN CFP]</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os Rios, LinCom Wireless, Inc</a:t>
            </a:r>
          </a:p>
        </p:txBody>
      </p:sp>
      <p:sp>
        <p:nvSpPr>
          <p:cNvPr id="3" name="PlaceHolder 2"/>
          <p:cNvSpPr>
            <a:spLocks noGrp="1"/>
          </p:cNvSpPr>
          <p:nvPr>
            <p:ph type="sldNum" idx="3"/>
          </p:nvPr>
        </p:nvSpPr>
        <p:spPr/>
        <p:txBody>
          <a:bodyPr/>
          <a:p>
            <a:fld id="{3C6E53CB-B4F5-4137-99CB-8C27A3E37299}" type="slidenum">
              <a:t>1</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FEC and ARQ</a:t>
            </a:r>
            <a:endParaRPr b="0" lang="en-US" sz="3600" spc="-1" strike="noStrike">
              <a:solidFill>
                <a:srgbClr val="000000"/>
              </a:solidFill>
              <a:latin typeface="Times New Roman"/>
            </a:endParaRPr>
          </a:p>
        </p:txBody>
      </p:sp>
      <p:sp>
        <p:nvSpPr>
          <p:cNvPr id="65" name="PlaceHolder 2"/>
          <p:cNvSpPr>
            <a:spLocks noGrp="1"/>
          </p:cNvSpPr>
          <p:nvPr>
            <p:ph/>
          </p:nvPr>
        </p:nvSpPr>
        <p:spPr>
          <a:xfrm>
            <a:off x="533160" y="1371600"/>
            <a:ext cx="7848360" cy="50292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Reed-Solomon Block Code “localizes” if not corrects whitened burst erro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220,200) corrects 10 of 200B in a bloc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oder sets a flags if the block is uncorrect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220,200) is efficient (R=10/11), adds little overhea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nterleaving is necessary, so no innate latency is introduc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olutional codes are less efficient (R=1/2, 3/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bo Codes feature large interleavers, produce much latenc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theless, packets will be dropped (Diversity + Equalization + FEC = 1% F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Repeat Request (ARQ, or retransmission) MAC protocols are essential to improve error performa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don’t have to retransmit entire packet, just the flagged uncorrectable block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8E7489AF-A03B-4020-B291-7C402523E8CC}"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53316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Latency and Error Performance</a:t>
            </a:r>
            <a:endParaRPr b="0" lang="en-US" sz="3600" spc="-1" strike="noStrike">
              <a:solidFill>
                <a:srgbClr val="000000"/>
              </a:solidFill>
              <a:latin typeface="Times New Roman"/>
            </a:endParaRPr>
          </a:p>
        </p:txBody>
      </p:sp>
      <p:sp>
        <p:nvSpPr>
          <p:cNvPr id="67"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57200" y="1523880"/>
            <a:ext cx="830592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munications performance metrics for a wireless network</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put- Net data transmission rate</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 Time Delay caused by transmission(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ed Bit Error Rate- 1/ (Number of bits between errors)</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Best” combination for a specific application involves tradeoff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throughput can be readily achieved with large packet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packets ordinarily imply large retransmission latencie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 latencies can be achieved at the expense of error rate</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error rates can be had with large (retransmission) latencies</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is inextricably tied to details of the specific PHY and MAC implementation</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ing a specific PHY with a “generic” MAC produces no meaningful result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7 proposed PHYs were analyzed against the LCW MAC</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0D914F08-1983-4478-81FF-F55162068EAD}"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53316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oughput, Latency and Error Analysis</a:t>
            </a:r>
            <a:endParaRPr b="0" lang="en-US" sz="3600" spc="-1" strike="noStrike">
              <a:solidFill>
                <a:srgbClr val="000000"/>
              </a:solidFill>
              <a:latin typeface="Times New Roman"/>
            </a:endParaRPr>
          </a:p>
        </p:txBody>
      </p:sp>
      <p:sp>
        <p:nvSpPr>
          <p:cNvPr id="70"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85800" y="1523880"/>
            <a:ext cx="815328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Condition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nasty multipath propagation medium </a:t>
            </a:r>
            <a:br>
              <a:rPr sz="2000"/>
            </a:br>
            <a:r>
              <a:rPr b="0" lang="en-US" sz="2000" spc="-1" strike="noStrike">
                <a:solidFill>
                  <a:srgbClr val="000000"/>
                </a:solidFill>
                <a:latin typeface="Arial"/>
              </a:rPr>
              <a:t>(25 ns Rayleigh “Naftali” channel)</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high sustained throughputs </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3 MPEG2 channels (6 Mbps ea, 18 Mbps total, min)</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e low peak latencies for interactive multimedia</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ms is consistent with pleasant voice</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 error rates</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cast digital video demands an error event no more than once per hour</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es to a BER better than 1x10</a:t>
            </a:r>
            <a:r>
              <a:rPr b="0" lang="en-US" sz="2000" spc="-1" strike="noStrike" baseline="30000">
                <a:solidFill>
                  <a:srgbClr val="000000"/>
                </a:solidFill>
                <a:latin typeface="Arial"/>
              </a:rPr>
              <a:t>-10</a:t>
            </a:r>
            <a:endParaRPr b="0" lang="en-US" sz="20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acket data environment, use CBER = 1x10</a:t>
            </a:r>
            <a:r>
              <a:rPr b="0" lang="en-US" sz="2000" spc="-1" strike="noStrike" baseline="30000">
                <a:solidFill>
                  <a:srgbClr val="000000"/>
                </a:solidFill>
                <a:latin typeface="Arial"/>
              </a:rPr>
              <a:t>-10</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1- One way transmissions from A to B</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2- One way A-B and Bidirectional C-D transmission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9E624954-DF36-488A-AB29-B2F6A5DE45A4}" type="slidenum">
              <a:t>1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FER Performance in 25ns DS Multipath</a:t>
            </a:r>
            <a:br>
              <a:rPr sz="3200"/>
            </a:br>
            <a:r>
              <a:rPr b="0" lang="en-US" sz="3200" spc="-1" strike="noStrike">
                <a:solidFill>
                  <a:srgbClr val="000000"/>
                </a:solidFill>
                <a:latin typeface="Times New Roman"/>
              </a:rPr>
              <a:t>11 MSps nQAM, 52x312 OFDM</a:t>
            </a:r>
            <a:endParaRPr b="0" lang="en-US" sz="3200" spc="-1" strike="noStrike">
              <a:solidFill>
                <a:srgbClr val="000000"/>
              </a:solidFill>
              <a:latin typeface="Times New Roman"/>
            </a:endParaRPr>
          </a:p>
        </p:txBody>
      </p:sp>
      <p:graphicFrame>
        <p:nvGraphicFramePr>
          <p:cNvPr id="73" name=""/>
          <p:cNvGraphicFramePr/>
          <p:nvPr/>
        </p:nvGraphicFramePr>
        <p:xfrm>
          <a:off x="152280" y="1523880"/>
          <a:ext cx="7944120" cy="4724640"/>
        </p:xfrm>
        <a:graphic>
          <a:graphicData uri="http://schemas.openxmlformats.org/presentationml/2006/ole">
            <p:oleObj r:id="rId1" spid="">
              <p:embed/>
              <p:pic>
                <p:nvPicPr>
                  <p:cNvPr id="74" name="" descr=""/>
                  <p:cNvPicPr/>
                  <p:nvPr/>
                </p:nvPicPr>
                <p:blipFill>
                  <a:blip r:embed="rId2"/>
                  <a:stretch/>
                </p:blipFill>
                <p:spPr>
                  <a:xfrm>
                    <a:off x="152280" y="1523880"/>
                    <a:ext cx="7944120" cy="4724640"/>
                  </a:xfrm>
                  <a:prstGeom prst="rect">
                    <a:avLst/>
                  </a:prstGeom>
                  <a:ln w="0">
                    <a:noFill/>
                  </a:ln>
                </p:spPr>
              </p:pic>
            </p:oleObj>
          </a:graphicData>
        </a:graphic>
      </p:graphicFrame>
      <p:sp>
        <p:nvSpPr>
          <p:cNvPr id="75" name=""/>
          <p:cNvSpPr/>
          <p:nvPr/>
        </p:nvSpPr>
        <p:spPr>
          <a:xfrm>
            <a:off x="6310440" y="148428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7885440" y="2181240"/>
            <a:ext cx="955080" cy="2547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resentativ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Ys</a:t>
            </a:r>
            <a:endParaRPr b="0" lang="en-US" sz="9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44</a:t>
            </a:r>
            <a:endParaRPr b="0" lang="en-US" sz="9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33, TI-22</a:t>
            </a:r>
            <a:endParaRPr b="0" lang="en-US" sz="900" spc="-1" strike="noStrike">
              <a:solidFill>
                <a:srgbClr val="000000"/>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CW-40</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CW-30</a:t>
            </a:r>
            <a:endParaRPr b="0" lang="en-US" sz="9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dk-22</a:t>
            </a:r>
            <a:endParaRPr b="0" lang="en-US" sz="9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G-21.7</a:t>
            </a:r>
            <a:endParaRPr b="0" lang="en-US" sz="9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CW-20</a:t>
            </a:r>
            <a:endParaRPr b="0" lang="en-US" sz="9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t/Rad </a:t>
            </a:r>
            <a:endParaRPr b="0" lang="en-US" sz="900" spc="-1" strike="noStrike">
              <a:solidFill>
                <a:srgbClr val="000000"/>
              </a:solidFill>
              <a:latin typeface="Times New Roman"/>
            </a:endParaRPr>
          </a:p>
        </p:txBody>
      </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80ABAADA-8C01-443C-9B5E-E9D3A9ACDCF5}" type="slidenum">
              <a:t>1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and MAC Throughput, Latency, CBER</a:t>
            </a:r>
            <a:br>
              <a:rPr sz="3200"/>
            </a:br>
            <a:r>
              <a:rPr b="0" lang="en-US" sz="3200" spc="-1" strike="noStrike">
                <a:solidFill>
                  <a:srgbClr val="000000"/>
                </a:solidFill>
                <a:latin typeface="Times New Roman"/>
              </a:rPr>
              <a:t>Scenario 1</a:t>
            </a:r>
            <a:endParaRPr b="0" lang="en-US" sz="3200" spc="-1" strike="noStrike">
              <a:solidFill>
                <a:srgbClr val="000000"/>
              </a:solidFill>
              <a:latin typeface="Times New Roman"/>
            </a:endParaRPr>
          </a:p>
        </p:txBody>
      </p:sp>
      <p:graphicFrame>
        <p:nvGraphicFramePr>
          <p:cNvPr id="78" name=""/>
          <p:cNvGraphicFramePr/>
          <p:nvPr/>
        </p:nvGraphicFramePr>
        <p:xfrm>
          <a:off x="1447920" y="1828800"/>
          <a:ext cx="6553080" cy="4267080"/>
        </p:xfrm>
        <a:graphic>
          <a:graphicData uri="http://schemas.openxmlformats.org/presentationml/2006/ole">
            <p:oleObj progId="Excel.Sheet.12" r:id="rId1" spid="">
              <p:embed/>
              <p:pic>
                <p:nvPicPr>
                  <p:cNvPr id="79" name="" descr=""/>
                  <p:cNvPicPr/>
                  <p:nvPr/>
                </p:nvPicPr>
                <p:blipFill>
                  <a:blip r:embed="rId2"/>
                  <a:stretch/>
                </p:blipFill>
                <p:spPr>
                  <a:xfrm>
                    <a:off x="1447920" y="1828800"/>
                    <a:ext cx="6553080" cy="426708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2B64A39B-AB9E-4354-9D1E-E126FC239444}" type="slidenum">
              <a:t>14</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and MAC Throughput, Latency, CBER</a:t>
            </a:r>
            <a:br>
              <a:rPr sz="3200"/>
            </a:br>
            <a:r>
              <a:rPr b="0" lang="en-US" sz="3200" spc="-1" strike="noStrike">
                <a:solidFill>
                  <a:srgbClr val="000000"/>
                </a:solidFill>
                <a:latin typeface="Times New Roman"/>
              </a:rPr>
              <a:t>Scenario 2</a:t>
            </a:r>
            <a:endParaRPr b="0" lang="en-US" sz="3200" spc="-1" strike="noStrike">
              <a:solidFill>
                <a:srgbClr val="000000"/>
              </a:solidFill>
              <a:latin typeface="Times New Roman"/>
            </a:endParaRPr>
          </a:p>
        </p:txBody>
      </p:sp>
      <p:graphicFrame>
        <p:nvGraphicFramePr>
          <p:cNvPr id="81" name=""/>
          <p:cNvGraphicFramePr/>
          <p:nvPr/>
        </p:nvGraphicFramePr>
        <p:xfrm>
          <a:off x="1828800" y="1828800"/>
          <a:ext cx="5791320" cy="4419720"/>
        </p:xfrm>
        <a:graphic>
          <a:graphicData uri="http://schemas.openxmlformats.org/presentationml/2006/ole">
            <p:oleObj progId="Excel.Sheet.12" r:id="rId1" spid="">
              <p:embed/>
              <p:pic>
                <p:nvPicPr>
                  <p:cNvPr id="82" name="" descr=""/>
                  <p:cNvPicPr/>
                  <p:nvPr/>
                </p:nvPicPr>
                <p:blipFill>
                  <a:blip r:embed="rId2"/>
                  <a:stretch/>
                </p:blipFill>
                <p:spPr>
                  <a:xfrm>
                    <a:off x="1828800" y="1828800"/>
                    <a:ext cx="5791320" cy="4419720"/>
                  </a:xfrm>
                  <a:prstGeom prst="rect">
                    <a:avLst/>
                  </a:prstGeom>
                  <a:ln w="0">
                    <a:noFill/>
                  </a:ln>
                </p:spPr>
              </p:pic>
            </p:oleObj>
          </a:graphicData>
        </a:graphic>
      </p:graphicFrame>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D791C936-6DA2-4B29-93D3-0AE78D4CC6AA}" type="slidenum">
              <a:t>15</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Interoperability and Harmony</a:t>
            </a:r>
            <a:endParaRPr b="0" lang="en-US" sz="3600" spc="-1" strike="noStrike">
              <a:solidFill>
                <a:srgbClr val="000000"/>
              </a:solidFill>
              <a:latin typeface="Times New Roman"/>
            </a:endParaRPr>
          </a:p>
        </p:txBody>
      </p:sp>
      <p:sp>
        <p:nvSpPr>
          <p:cNvPr id="84"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57200" y="1447920"/>
            <a:ext cx="838188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PHY supports coexistence, interoperability with Bluetooth</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operating in 802.15.1 mode, and paired with an appropriate Bluetooth MAC obviously coexists and interoperat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operating in 802.15.3 mode, takes a hit whenever a BT hops into its 14 MHz Nyquist BW, less than 20% of the tim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PHY supports coexistence with 802.11b</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ed with an appropriate MAC, CCA and CSMA/CA protocol will defer to co-channel transmissions of the appropriate carrier center frequency and move to a different channe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PHY supports Harmony with 802.11b</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ed with the LCW MAC, will demodulate and interpret the PLCP header for the transmission duration inform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force an “equitable” sharing of the single channel by “cheating” on PCF, DCF protocols and PIFS, DIFS tim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1F9F1517-7964-4EB1-964B-F2F839C51C00}"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88"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80880" y="1295280"/>
            <a:ext cx="8305920" cy="449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Unit Manufacturing Cost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intimately associated with specific MAC, PHY implement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BB/RF Conversion architecture minimizes BOM cos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ay silicon technology supports single chip integration of</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Zero IF transceivers at 2.4 GHz</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nQAM modems, adaptive equalizers, RS FEC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MIP processors suitable for software 802.11-like MACs, including encryption, QOS</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peed SR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8u CMOS process is available in low cost fabrication facilit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3u CMOS process is now being introduc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Module available Q102 for &lt;1.5x 802.15.1 cost</a:t>
            </a:r>
            <a:endParaRPr b="0" lang="en-US" sz="2000" spc="-1" strike="noStrike">
              <a:solidFill>
                <a:srgbClr val="000000"/>
              </a:solidFill>
              <a:latin typeface="Times New Roman"/>
            </a:endParaRPr>
          </a:p>
          <a:p>
            <a:pPr lvl="2" marL="108576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enable further integration of SRAM, flash memory on chip</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0BAE796C-9AA9-4414-8D25-9AEF09A605D8}"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92"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90720" y="1371600"/>
            <a:ext cx="7772400" cy="4876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 Interference and Susceptibilit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band, Non-Cochannel, Non-Adjacent Channel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 of Band &gt; 35 dB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 Intermodulation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IP3 of representative RF front end= -3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level produced by 2 -35 dBm tones= -99 dB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I level, LCW-40= -77 dBm (Sensitivity +3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R, LCW-40= 22 d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 Jamming Resis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evices will jam</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FFC849EB-913C-4C79-970E-97C5EB67FC2A}"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96"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609480" y="1295280"/>
            <a:ext cx="800100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5 Multiple Acces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cenarios work with LCW-30, 4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 Coexiste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gt; 80% with devices 1, 2</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coexists 100% with devices 3, 4, 5</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 Interope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802.15.1 PHY and MAC is embedded into LCW, achieving a dual mode radio switchable between 802.15.1 and 802.15.3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1 Manufacturabi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equipment of similar complexity available in 200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E6658635-6C90-4BD9-BF7C-37079EF16B02}"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CW PHY</a:t>
            </a:r>
            <a:br>
              <a:rPr sz="3600"/>
            </a:br>
            <a:r>
              <a:rPr b="1" lang="en-US" sz="3600" spc="-1" strike="noStrike">
                <a:solidFill>
                  <a:srgbClr val="000000"/>
                </a:solidFill>
                <a:latin typeface="Arial"/>
              </a:rPr>
              <a:t> A Proposal for a High Data Rate WPAN Physical Layer</a:t>
            </a:r>
            <a:endParaRPr b="0" lang="en-US" sz="3600" spc="-1" strike="noStrike">
              <a:solidFill>
                <a:srgbClr val="000000"/>
              </a:solidFill>
              <a:latin typeface="Times New Roman"/>
            </a:endParaRPr>
          </a:p>
        </p:txBody>
      </p:sp>
      <p:grpSp>
        <p:nvGrpSpPr>
          <p:cNvPr id="47" name=""/>
          <p:cNvGrpSpPr/>
          <p:nvPr/>
        </p:nvGrpSpPr>
        <p:grpSpPr>
          <a:xfrm>
            <a:off x="3733920" y="5410080"/>
            <a:ext cx="1752480" cy="685800"/>
            <a:chOff x="3733920" y="5410080"/>
            <a:chExt cx="1752480" cy="685800"/>
          </a:xfrm>
        </p:grpSpPr>
        <p:pic>
          <p:nvPicPr>
            <p:cNvPr id="48" name="" descr=""/>
            <p:cNvPicPr/>
            <p:nvPr/>
          </p:nvPicPr>
          <p:blipFill>
            <a:blip r:embed="rId1"/>
            <a:stretch/>
          </p:blipFill>
          <p:spPr>
            <a:xfrm>
              <a:off x="3733920" y="5410080"/>
              <a:ext cx="1752480" cy="659520"/>
            </a:xfrm>
            <a:prstGeom prst="rect">
              <a:avLst/>
            </a:prstGeom>
            <a:ln w="0">
              <a:noFill/>
            </a:ln>
          </p:spPr>
        </p:pic>
        <p:pic>
          <p:nvPicPr>
            <p:cNvPr id="49" name="" descr=""/>
            <p:cNvPicPr/>
            <p:nvPr/>
          </p:nvPicPr>
          <p:blipFill>
            <a:blip r:embed="rId2"/>
            <a:stretch/>
          </p:blipFill>
          <p:spPr>
            <a:xfrm>
              <a:off x="3733920" y="5865840"/>
              <a:ext cx="1752480" cy="230040"/>
            </a:xfrm>
            <a:prstGeom prst="rect">
              <a:avLst/>
            </a:prstGeom>
            <a:ln w="0">
              <a:noFill/>
            </a:ln>
          </p:spPr>
        </p:pic>
      </p:grpSp>
      <p:sp>
        <p:nvSpPr>
          <p:cNvPr id="3" name="PlaceHolder 2"/>
          <p:cNvSpPr>
            <a:spLocks noGrp="1"/>
          </p:cNvSpPr>
          <p:nvPr>
            <p:ph type="ftr" idx="2"/>
          </p:nvPr>
        </p:nvSpPr>
        <p:spPr/>
        <p:txBody>
          <a:bodyPr/>
          <a:p>
            <a:r>
              <a:t>Carlos Rios, LinCom Wireless, Inc</a:t>
            </a:r>
          </a:p>
        </p:txBody>
      </p:sp>
      <p:sp>
        <p:nvSpPr>
          <p:cNvPr id="4" name="PlaceHolder 3"/>
          <p:cNvSpPr>
            <a:spLocks noGrp="1"/>
          </p:cNvSpPr>
          <p:nvPr>
            <p:ph type="sldNum" idx="3"/>
          </p:nvPr>
        </p:nvSpPr>
        <p:spPr/>
        <p:txBody>
          <a:bodyPr/>
          <a:p>
            <a:fld id="{2F4551C0-E41C-4E9A-A93B-3EFE08D34662}"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General Solution Criteria</a:t>
            </a:r>
            <a:endParaRPr b="0" lang="en-US" sz="3600" spc="-1" strike="noStrike">
              <a:solidFill>
                <a:srgbClr val="000000"/>
              </a:solidFill>
              <a:latin typeface="Times New Roman"/>
            </a:endParaRPr>
          </a:p>
        </p:txBody>
      </p:sp>
      <p:sp>
        <p:nvSpPr>
          <p:cNvPr id="100"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09480" y="1219320"/>
            <a:ext cx="822960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2 Time to Marke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will be available Q10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3 Regulatory Compliant with existing FCC (15.249), ETSI 300-32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 Maturity of Solu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a reduction, extension of 802.11b PHY and 802.11 MA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5 Scalabil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is scalable in data rate, frequency band, and fun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1</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 Location Awaren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I statistics distinguish device locations to resolution in me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10BC56ED-9191-4E42-A48E-924CEFC050B2}"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PHY Criteria</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219320"/>
            <a:ext cx="7772400" cy="45720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 Size and Form Factor</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than Compact Flash Type 1, Q102</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1</a:t>
            </a:r>
            <a:endParaRPr b="0" lang="en-US" sz="18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1 Minimum Delivered Data Throughput</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 Header, MAC header, Payload, SIFS, EACK, PIF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40, 8000 B payload = 34.89 Mbp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30, 8000 B payload = 26.99 Mbp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20, 8000 B payload = 18.55 Mbp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1 </a:t>
            </a:r>
            <a:endParaRPr b="0" lang="en-US" sz="18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2 High End Delivered Data Throughput</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 Header, MAC header, Payload, SIFS, EACK, DIF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40, 8000B payload = 34.89 Mbp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0</a:t>
            </a:r>
            <a:endParaRPr b="0" lang="en-US" sz="18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Frequency Band of Operation 2.40-2.483 GHz, unlicensed</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Comparison= 0</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42373E09-B2EA-40C2-8BE6-A895521339DA}"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vs TG3 PHY Criteria</a:t>
            </a:r>
            <a:endParaRPr b="0" lang="en-US" sz="3600" spc="-1" strike="noStrike">
              <a:solidFill>
                <a:srgbClr val="000000"/>
              </a:solidFill>
              <a:latin typeface="Times New Roman"/>
            </a:endParaRPr>
          </a:p>
        </p:txBody>
      </p:sp>
      <p:sp>
        <p:nvSpPr>
          <p:cNvPr id="106" name="PlaceHolder 2"/>
          <p:cNvSpPr>
            <a:spLocks noGrp="1"/>
          </p:cNvSpPr>
          <p:nvPr>
            <p:ph/>
          </p:nvPr>
        </p:nvSpPr>
        <p:spPr>
          <a:xfrm>
            <a:off x="456840" y="1218960"/>
            <a:ext cx="8458200" cy="5257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1432080" y="1636560"/>
            <a:ext cx="18396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914400" y="1371600"/>
            <a:ext cx="716292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38080" y="1143000"/>
            <a:ext cx="8077320" cy="5430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Number of simultaneously operating full rate WPANs</a:t>
            </a:r>
            <a:endParaRPr b="0" lang="en-US" sz="2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LCW-40s can operate with slight frequency overlap</a:t>
            </a:r>
            <a:endParaRPr b="0" lang="en-US" sz="2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Signal Acquisition identical to 802.11</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 Range not less than 30 meters, indoors (home)</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EC plus equalization and diversity provide necessary range</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0</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 Sensitivity, 10E-5 BER</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0= -86 dBm</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30= -83 dBm</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80 dB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Multipath Tolerance</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ive equalizer mitigates &gt; 25 ns delay spread</a:t>
            </a:r>
            <a:endParaRPr b="0" lang="en-US" sz="2000" spc="-1" strike="noStrike">
              <a:solidFill>
                <a:srgbClr val="000000"/>
              </a:solidFill>
              <a:latin typeface="Times New Roman"/>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 PHY Power Consumption consistent with 0.5 W system power</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Comparison= +1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30A7D276-B566-42FD-B70C-D55FA72E24E9}"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111" name="PlaceHolder 2"/>
          <p:cNvSpPr>
            <a:spLocks noGrp="1"/>
          </p:cNvSpPr>
          <p:nvPr>
            <p:ph/>
          </p:nvPr>
        </p:nvSpPr>
        <p:spPr>
          <a:xfrm>
            <a:off x="228600" y="1219320"/>
            <a:ext cx="8610480" cy="40384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PHY results from a “Systems Design” approach to the HRWPAN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designed to integrate with the LCW MA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can mate robustly and efficiently with other MAC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PHY enables extraordinary transmission performanc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taneous high throughput, low error rate and low latency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modulation, multipath mitigation and cod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PSK, DQPSK, 8QAM, 16QA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Adaptive Equalizer and Antenna Diversit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d Solomon Forward Error Correction</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low power, low cost yet very high performan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 Interoperability and Harmony with preexisting wireless networking standar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
          <p:cNvSpPr/>
          <p:nvPr/>
        </p:nvSpPr>
        <p:spPr>
          <a:xfrm>
            <a:off x="63360" y="5257800"/>
            <a:ext cx="9080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CW PHY is a compelling choice for the HRWPAN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5996D44F-BDEC-41D6-879E-FC2EB5669AEC}"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LinCom Wireless, Inc.</a:t>
            </a:r>
            <a:endParaRPr b="0" lang="en-US" sz="3600" spc="-1" strike="noStrike">
              <a:solidFill>
                <a:srgbClr val="000000"/>
              </a:solidFill>
              <a:latin typeface="Times New Roman"/>
            </a:endParaRPr>
          </a:p>
        </p:txBody>
      </p:sp>
      <p:sp>
        <p:nvSpPr>
          <p:cNvPr id="51"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ly the Commercial Business Units of LinCom Cor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un off as a separate corporation in April 2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ly owned subsidiary of Titan Corp., San Diego, 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year history of developing Satellite and Terrestrial Digital Wireless Communications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technical professionals dedicated to Systems Engineering, ASIC and embedded software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IP, ASICs, FW and board/module level products for Wireless LAN, PAN and Home Network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ystems Engineering services in commercial SatCom, PCS and short range wireless marke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91A04809-A05D-4747-95BA-2C4CE3D53FF1}"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533160"/>
            <a:ext cx="89913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ireless Home Network Application</a:t>
            </a:r>
            <a:endParaRPr b="0" lang="en-US" sz="3600" spc="-1" strike="noStrike">
              <a:solidFill>
                <a:srgbClr val="000000"/>
              </a:solidFill>
              <a:latin typeface="Times New Roman"/>
            </a:endParaRPr>
          </a:p>
        </p:txBody>
      </p:sp>
      <p:sp>
        <p:nvSpPr>
          <p:cNvPr id="53" name="PlaceHolder 2"/>
          <p:cNvSpPr>
            <a:spLocks noGrp="1"/>
          </p:cNvSpPr>
          <p:nvPr>
            <p:ph/>
          </p:nvPr>
        </p:nvSpPr>
        <p:spPr>
          <a:xfrm>
            <a:off x="837720" y="1523880"/>
            <a:ext cx="7589880" cy="4648320"/>
          </a:xfrm>
          <a:prstGeom prst="rect">
            <a:avLst/>
          </a:prstGeom>
          <a:noFill/>
          <a:ln w="0">
            <a:noFill/>
          </a:ln>
        </p:spPr>
        <p:txBody>
          <a:bodyPr lIns="92160" rIns="92160" tIns="46080" bIns="4608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e the wireless interconnection of electronic devices within the hom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m range, including thru-wall propag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in excess of 30 Mbp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time and non-real time data</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imultaneous connections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prioritization and guaranteed bandwidth, minimum latenc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coexistence, interoperability, coordination between all home wireless devic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 and perhaps interoperate with “visiting” or legacy devices designed to other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3FAEEAF8-C491-410F-AC82-0037295D0CEC}"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ystems”</a:t>
            </a:r>
            <a:r>
              <a:rPr b="0" lang="en-US" sz="3200" spc="-1" strike="noStrike">
                <a:solidFill>
                  <a:srgbClr val="000000"/>
                </a:solidFill>
                <a:latin typeface="Times New Roman"/>
              </a:rPr>
              <a:t> </a:t>
            </a:r>
            <a:r>
              <a:rPr b="0" lang="en-US" sz="3600" spc="-1" strike="noStrike">
                <a:solidFill>
                  <a:srgbClr val="000000"/>
                </a:solidFill>
                <a:latin typeface="Times New Roman"/>
              </a:rPr>
              <a:t>Implications</a:t>
            </a:r>
            <a:endParaRPr b="0" lang="en-US" sz="3600" spc="-1" strike="noStrike">
              <a:solidFill>
                <a:srgbClr val="000000"/>
              </a:solidFill>
              <a:latin typeface="Times New Roman"/>
            </a:endParaRPr>
          </a:p>
        </p:txBody>
      </p:sp>
      <p:sp>
        <p:nvSpPr>
          <p:cNvPr id="55" name="PlaceHolder 2"/>
          <p:cNvSpPr>
            <a:spLocks noGrp="1"/>
          </p:cNvSpPr>
          <p:nvPr>
            <p:ph/>
          </p:nvPr>
        </p:nvSpPr>
        <p:spPr>
          <a:xfrm>
            <a:off x="304920" y="1219320"/>
            <a:ext cx="8610480" cy="50292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needs to support high data rate, low latency, highly secure, multimedia capable, fully networked personal wireless communications in the indoor propagation channel</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support multiple simultaneous data, voice, video and interactive multimedia link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30 Mbps sustained, low latency, low error throughput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overcome the onerous propagation channel</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 PHY needs to provide powerful multipath mitigation, error correction and spatial diversity</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needs to support “smart” ARQ to improve throughput, latenc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PHY and MAC embedded for compatibility with 802.15.1</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grated, specifically designed PHY and MAC pair BEST addresses all these requirement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at’s not what we are doing her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PHY can mate with any other MAC</a:t>
            </a:r>
            <a:endParaRPr b="0" lang="en-US" sz="2000" spc="-1" strike="noStrike">
              <a:solidFill>
                <a:srgbClr val="000000"/>
              </a:solidFill>
              <a:latin typeface="Arial"/>
            </a:endParaRPr>
          </a:p>
          <a:p>
            <a:pPr lvl="2" marL="107460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n’t work quite as well as with the LCW MA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ADF51C72-F181-4D59-A165-F2913C4DA671}"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533160"/>
            <a:ext cx="68659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Description</a:t>
            </a:r>
            <a:endParaRPr b="0" lang="en-US" sz="3600" spc="-1" strike="noStrike">
              <a:solidFill>
                <a:srgbClr val="000000"/>
              </a:solidFill>
              <a:latin typeface="Times New Roman"/>
            </a:endParaRPr>
          </a:p>
        </p:txBody>
      </p:sp>
      <p:sp>
        <p:nvSpPr>
          <p:cNvPr id="57" name="PlaceHolder 2"/>
          <p:cNvSpPr>
            <a:spLocks noGrp="1"/>
          </p:cNvSpPr>
          <p:nvPr>
            <p:ph/>
          </p:nvPr>
        </p:nvSpPr>
        <p:spPr>
          <a:xfrm>
            <a:off x="685440" y="1600200"/>
            <a:ext cx="8001000" cy="41911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W PHY provides high throughput, low latency, low B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d nQAM signaling provides data rates of 1, 2, 10, 20, 30, 40 Mb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enna Diversity, Adaptive Equalization, Reed Solomon FEC improve high end throughp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operation per FCC 15.24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le with IEEE 802.11DS, coexists with on-channel 802.11b</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802.15.1 modem provides interoperability with Bluetoo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luetooth class” device in size, cost, power consump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8817A06A-AAB4-4540-8051-E49C8BCE2076}"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Modulation</a:t>
            </a:r>
            <a:endParaRPr b="0" lang="en-US" sz="3600" spc="-1" strike="noStrike">
              <a:solidFill>
                <a:srgbClr val="000000"/>
              </a:solidFill>
              <a:latin typeface="Times New Roman"/>
            </a:endParaRPr>
          </a:p>
        </p:txBody>
      </p:sp>
      <p:sp>
        <p:nvSpPr>
          <p:cNvPr id="59" name="PlaceHolder 2"/>
          <p:cNvSpPr>
            <a:spLocks noGrp="1"/>
          </p:cNvSpPr>
          <p:nvPr>
            <p:ph/>
          </p:nvPr>
        </p:nvSpPr>
        <p:spPr>
          <a:xfrm>
            <a:off x="609480" y="1218960"/>
            <a:ext cx="8229600" cy="5257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1 is 1 Mbps (11 chip) Barker encoded DBP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 is 2 Mbps (11 chip) Barker encoded DQP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10 is 10 Mbps RS(220,200) encoded  DBP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20 is 20 Mbps RS(220,200) encoded  DQP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30 is 30 Mbps RS(220,200) encoded  8Q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W-40 is 40 Mbps RS(220,200) encoded  16Q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roduce 11 MSps 802.11 DSSS-like 22 MHz spectr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use the 802.11 PLCP header, with appropriate service field extensions, and slightly different preambl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1, 2, 10 and 20 use the identical 802.11b 96 us short preambl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30 uses a 96 us preamble featuring DBPSK, DQPSK and 8QAM symbols to aid equalizer train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W-40 uses a 96 us preamble featuring DBPSK, DQPSK and 16QAM symbols to aid equalizer training</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1 Modem is embedded into the PH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E0C15E62-3BCD-4F39-95DD-355CB9BED7C4}"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Channelization</a:t>
            </a:r>
            <a:endParaRPr b="0" lang="en-US" sz="3600" spc="-1" strike="noStrike">
              <a:solidFill>
                <a:srgbClr val="000000"/>
              </a:solidFill>
              <a:latin typeface="Times New Roman"/>
            </a:endParaRPr>
          </a:p>
        </p:txBody>
      </p:sp>
      <p:sp>
        <p:nvSpPr>
          <p:cNvPr id="61" name="PlaceHolder 2"/>
          <p:cNvSpPr>
            <a:spLocks noGrp="1"/>
          </p:cNvSpPr>
          <p:nvPr>
            <p:ph/>
          </p:nvPr>
        </p:nvSpPr>
        <p:spPr>
          <a:xfrm>
            <a:off x="762120" y="1371600"/>
            <a:ext cx="7696080" cy="4495680"/>
          </a:xfrm>
          <a:prstGeom prst="rect">
            <a:avLst/>
          </a:prstGeom>
          <a:noFill/>
          <a:ln w="0">
            <a:noFill/>
          </a:ln>
        </p:spPr>
        <p:txBody>
          <a:bodyPr lIns="92160" rIns="92160" tIns="46080" bIns="46080"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ization</a:t>
            </a:r>
            <a:endParaRPr b="0" lang="en-US" sz="20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overlapping 20 MHz channels </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 2412, 2432, 2452, 2472 MHz</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Hz overlap on each side</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802.11b European Overlapped Channelization </a:t>
            </a:r>
            <a:endParaRPr b="0" lang="en-US" sz="1800" spc="-1" strike="noStrike">
              <a:solidFill>
                <a:srgbClr val="000000"/>
              </a:solidFill>
              <a:latin typeface="Arial"/>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tandard 25 MHz channels </a:t>
            </a:r>
            <a:endParaRPr b="0" lang="en-US" sz="20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 2412, 2437, 2462 MHz</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802.11 USA Non Overlapped Channelization</a:t>
            </a:r>
            <a:endParaRPr b="0" lang="en-US" sz="1800" spc="-1" strike="noStrike">
              <a:solidFill>
                <a:srgbClr val="000000"/>
              </a:solidFill>
              <a:latin typeface="Arial"/>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et Raised Cosine pulse shaping </a:t>
            </a:r>
            <a:endParaRPr b="0" lang="en-US" sz="20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sidebands by more than 50 dBc</a:t>
            </a:r>
            <a:endParaRPr b="0" lang="en-US" sz="1800" spc="-1" strike="noStrike">
              <a:solidFill>
                <a:srgbClr val="000000"/>
              </a:solidFill>
              <a:latin typeface="Arial"/>
            </a:endParaRPr>
          </a:p>
          <a:p>
            <a:pPr lvl="2" marL="1009440" indent="-212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compliance with US FCC emissions limits above 2.835 MHz </a:t>
            </a:r>
            <a:endParaRPr b="0" lang="en-US" sz="18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A mechanism is identical to 802.11 </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b 5.5 and 11 Mbps CCK, PBCC are not supported</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802.15.1 PHY is included, is mode switchable with LCW</a:t>
            </a:r>
            <a:endParaRPr b="0" lang="en-US" sz="20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architecture supports both QAM and GFSK up/down conversion</a:t>
            </a:r>
            <a:endParaRPr b="0" lang="en-US" sz="1800" spc="-1" strike="noStrike">
              <a:solidFill>
                <a:srgbClr val="000000"/>
              </a:solidFill>
              <a:latin typeface="Arial"/>
            </a:endParaRPr>
          </a:p>
          <a:p>
            <a:pPr lvl="1" marL="690840" indent="-265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band hardware includes both 802.15.3 and 802.15.1 modem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AB0A6FBB-B390-41AB-96E1-A4A4C8C0ED87}"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W PHY Equalization and Diversity</a:t>
            </a:r>
            <a:endParaRPr b="0" lang="en-US" sz="3600" spc="-1" strike="noStrike">
              <a:solidFill>
                <a:srgbClr val="000000"/>
              </a:solidFill>
              <a:latin typeface="Times New Roman"/>
            </a:endParaRPr>
          </a:p>
        </p:txBody>
      </p:sp>
      <p:sp>
        <p:nvSpPr>
          <p:cNvPr id="63" name="PlaceHolder 2"/>
          <p:cNvSpPr>
            <a:spLocks noGrp="1"/>
          </p:cNvSpPr>
          <p:nvPr>
            <p:ph/>
          </p:nvPr>
        </p:nvSpPr>
        <p:spPr>
          <a:xfrm>
            <a:off x="304920" y="1218960"/>
            <a:ext cx="853416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ful equalizer minimizes and “whitens” the burst errors characteristic of the 25 ns Delay Spread “Naftali” chann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ges as rapidly as possible to the precise channel estimate (less the multipath components) and tracks for the packet duration</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PHY preamble of adequate length (hundreds of symbols) to train equalizer and generate the appropriate tap coefficients</a:t>
            </a:r>
            <a:endParaRPr b="0"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ontinuously adapt, update coefficients, symbol by symbol, over the entire duration of the frame (up to 8000 Byte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enna Diversity is also necessa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ftali Model produces channel instantiations that cannot be equalized up to 5% of the ti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CW PHY integrates a spatial diversity switching mechanism into the Equalizer convergence algorithm</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if the Equalizer hasn’t converged midway through training sequenc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equate antenna diversity then reduces non-equalizable channel instantiations to below 1%</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os Rios, LinCom Wireless, Inc</a:t>
            </a:r>
          </a:p>
        </p:txBody>
      </p:sp>
      <p:sp>
        <p:nvSpPr>
          <p:cNvPr id="5" name="PlaceHolder 4"/>
          <p:cNvSpPr>
            <a:spLocks noGrp="1"/>
          </p:cNvSpPr>
          <p:nvPr>
            <p:ph type="sldNum" idx="3"/>
          </p:nvPr>
        </p:nvSpPr>
        <p:spPr/>
        <p:txBody>
          <a:bodyPr/>
          <a:p>
            <a:fld id="{F718FE53-0256-49C8-8882-A77112162F7E}"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05:17:09Z</dcterms:created>
  <dc:creator>Carlos Rios</dc:creator>
  <dc:description>073r0</dc:description>
  <dc:language>en-US</dc:language>
  <cp:lastModifiedBy>Carlos Rios</cp:lastModifiedBy>
  <cp:lastPrinted>2000-07-29T16:32:21Z</cp:lastPrinted>
  <dcterms:modified xsi:type="dcterms:W3CDTF">2000-10-27T21:53:28Z</dcterms:modified>
  <cp:revision>70</cp:revision>
  <dc:subject/>
  <dc:title>L3C Proposal for HR WPAN</dc:title>
</cp:coreProperties>
</file>