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6E67-DDD0-4919-86F0-5B94BD84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7C5-1720-4AC7-931C-939304C1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9833-CFB2-456A-8B78-216770A1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F8CF-42A7-4D66-9AD3-51C61B4A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F996-4EEE-4B45-B488-34E69B01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25F9-35D4-46C9-8060-258988FD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4E2-7067-4F72-8F8A-AC55B169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AB13-D199-4340-9296-C7034A22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43F-2703-4639-8696-AC949A85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57D4-7E6F-4414-989E-E459F04B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4AFB-1FEC-49E3-B4D8-84057777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9B0-D100-4462-AEFE-0EDDFBEA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1D06B0E-28BF-49D6-A770-558903B43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29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3276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ucture of the IEEE 802.15.2 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3CA-D787-403A-8792-FF836D22D63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sical Layer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from MAC Model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rameters (e.g. frequency) of Data Packet being sent on Devices under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from MAC Model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rameters of (e.g. which interfering source at what frequency) any packets being sent by Interfering Devices during Data p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A8D6-2F30-48A8-AA38-94F5EE8848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sical Layer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from Channel Model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ower level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receiver of device under test, of both desired signal and interfering sign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to MAC Model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it Error Stat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ata P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y be a bit error rate (BER) or possibly more detailed stat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AB1-E09B-4D34-B9C4-D44C3B67F7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F Channe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from User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rameters of Channe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 Propagation Model parame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ding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ath delay spread parame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from User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ocation of the de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 test and interfering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1601-F2E4-4602-BABC-DA3D0151ACF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F Channe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to PHY Model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ower level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he receiver of the device under test, of desired signal and interfering sign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 with PHY Model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ading and Multipath spread may need to be incorporated with PHY Model to calculate Bit Error Stat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3EE8-18AD-448B-B9AD-AE5E8F369F3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762120"/>
            <a:ext cx="167616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Traffic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vice Under Te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2057400"/>
            <a:ext cx="167616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vice Under Te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12952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13716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with proper stat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3124080"/>
            <a:ext cx="0" cy="129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58128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red Packet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590920" y="31237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33526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t Error Stat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762120"/>
            <a:ext cx="167652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Traffic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terfering Devi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2057400"/>
            <a:ext cx="167652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terfering Devi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1680" y="12952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137160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with proper stat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31240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320040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ering Packet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581280"/>
            <a:ext cx="1676520" cy="106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5257800"/>
            <a:ext cx="167652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38862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44197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333760" y="403848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495680" y="46479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46483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 Levels of Desired and Interfering Sig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CE59-CDA0-4056-A973-8D222A7A3DC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sections of the Coexistence Model have been briefly descri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faces between the sections of the Coexistence Model have been descri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tails of each of the sections of the Coexistence Model are covered in other presen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237D-C0A7-41F9-AD37-B99FB872FE8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rpose of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Inputs to the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different sections of the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information flow between sections of the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Outputs of the Coexistenc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5DF1-F92F-4BB1-8EB8-218FCC1CA7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ents on Termi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given implementation of the Coexistence Model there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s under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ing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a set of several Bluetooth devices in a Piconet may be the devices under test.  And a set 802.11 WLAN devices are the interfering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AF70-6A88-444B-BA12-59939E0773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puts to the 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ysical Lo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Devices under Test and the Interfering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ower Lev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both the Devices under Test and the Interfering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ata Traffic Mod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both the Devices under Test and the Interfering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pecific Parame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ither the Devices under Test or the Interfering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B00F-B87B-4A24-8C8F-4DBA480939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tions of the 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raffic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Layer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Traffic Data Analysis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Layer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 Channe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D28-7CD6-476E-9A7D-8750AB4DEC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Traff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atistical Descriptions of the Data Traffic 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both the Devices under Test and the Interfering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 data source like voice in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sson source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from the user -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lected parame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ata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to MAC Model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Data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4B4-39DD-4443-A56D-C08FCEB8C4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Layer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Models of both the Devices under Test and the Interfering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from Data Traffic Model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ata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to PHY Model - What are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fering pack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uring desired packets, and at what frequ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ime overl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esired packet and any interfering pac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549C-0E75-4FB9-BA85-A1857C0AF3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Layer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from PHY Model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it Error Stat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ata p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cket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Traffic Data Analysis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vert Packet Errors into Performance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685-6F16-4003-B4CC-55F63189ACD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twork Traffic Data Analysis N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MAC Layer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cket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s Statistical Analysis on packet errors to produce Performance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cket Error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894E-AF8B-41CE-9B0B-AA285BA384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ve Shellhammer</cp:lastModifiedBy>
  <cp:lastPrinted>2000-09-05T17:52:51Z</cp:lastPrinted>
  <dcterms:modified xsi:type="dcterms:W3CDTF">2000-09-15T17:34:39Z</dcterms:modified>
  <cp:revision>329</cp:revision>
  <dc:subject>IEEE 802.15 &lt;subject&gt;</dc:subject>
  <dc:title>IEEE P802.15 Working Group for Wireless Personal Area Networks</dc:title>
</cp:coreProperties>
</file>