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2EE45-F21A-479F-A849-5AF32CF4B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B9592-4DD5-4E31-A244-61E9E460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ACB6C-05FC-4E6B-BE61-DB75BD7E9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852AA-BAD3-452F-AC44-0BDBA332C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526A8-275E-48B9-8718-E35ADD81C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97D98-C754-4C90-9DB6-3CC9F20A4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B10DD-DE3E-4A1D-8AF8-C72AE6F78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17F14-A6F5-45FC-BC2D-904F1425E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B6EF5-CFD3-49CC-97A3-D7D31A273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1604-BBFF-4E0F-95D6-DC67CFFB2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6CFD-555C-4A00-8644-F93D2A20A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C1C9-957B-44DF-BFA5-A66E4A0CE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 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8D70B1-A7D6-4C22-AF1B-F5E2EFB40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8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45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TG3 PHY Subcommittee Criteria Review Summary</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8 Sept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P802.15-</a:t>
            </a:r>
            <a:r>
              <a:rPr b="0" lang="en-US" sz="1600" spc="-1" strike="noStrike">
                <a:solidFill>
                  <a:srgbClr val="000000"/>
                </a:solidFill>
                <a:latin typeface="Times New Roman"/>
              </a:rPr>
              <a:t>00/110r12 TG3 Criteria Defini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is presentation provides a summary of results of the PHY subcommittee conference calls from July 20, 2000 through September 14, 2000.  The PHY subcommittee was tasked with evaluating the 9 physical layer proposals against the criteria document and reporting the results to both TG3 and the 802.15 working group.</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is submission is provided as a summary of the key results of the subcommittee conference call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56D0CA7-FB02-4DFC-885A-EC47893E2CB7}"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to be done in Scottsdale</a:t>
            </a:r>
            <a:endParaRPr b="0" lang="en-US" sz="3600" spc="-1" strike="noStrike">
              <a:solidFill>
                <a:srgbClr val="000000"/>
              </a:solidFill>
              <a:latin typeface="Arial"/>
            </a:endParaRPr>
          </a:p>
        </p:txBody>
      </p:sp>
      <p:sp>
        <p:nvSpPr>
          <p:cNvPr id="65" name="PlaceHolder 2"/>
          <p:cNvSpPr>
            <a:spLocks noGrp="1"/>
          </p:cNvSpPr>
          <p:nvPr>
            <p:ph/>
          </p:nvPr>
        </p:nvSpPr>
        <p:spPr>
          <a:xfrm>
            <a:off x="762120" y="1676160"/>
            <a:ext cx="77724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 evaluation of </a:t>
            </a:r>
            <a:r>
              <a:rPr b="0" lang="en-US" sz="2400" spc="-1" strike="noStrike">
                <a:solidFill>
                  <a:srgbClr val="000000"/>
                </a:solidFill>
                <a:latin typeface="Times New Roman"/>
                <a:ea typeface="Times New Roman"/>
              </a:rPr>
              <a:t>criteria 2.1, 4.1, 4.9, 2.2.2, 2.2.3, 2.2.4 and 2.2.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any problems with finished evalu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overhead for minimum and high-end data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 for 4.4 in light of response for 2.4.3 for de Courville/Skeller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responses for delay spread tolera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to be added the PHY annex of P802.15-00/110r14 and comment section of P802.15-00/245r9)</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evaluating changes to proposals (time permit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os and Allen have requested consideration of updat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possible merged proposals (time permitt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7FBCF42-8EA0-4CBF-B074-B9674A100B8F}"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Inform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7BA58DB-914D-40E7-A9B7-0091D8084851}"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attendance</a:t>
            </a:r>
            <a:endParaRPr b="0" lang="en-US" sz="3600" spc="-1" strike="noStrike">
              <a:solidFill>
                <a:srgbClr val="000000"/>
              </a:solidFill>
              <a:latin typeface="Arial"/>
            </a:endParaRPr>
          </a:p>
        </p:txBody>
      </p:sp>
      <p:graphicFrame>
        <p:nvGraphicFramePr>
          <p:cNvPr id="68" name=""/>
          <p:cNvGraphicFramePr/>
          <p:nvPr/>
        </p:nvGraphicFramePr>
        <p:xfrm>
          <a:off x="2666880" y="1828800"/>
          <a:ext cx="3962520" cy="4114800"/>
        </p:xfrm>
        <a:graphic>
          <a:graphicData uri="http://schemas.openxmlformats.org/drawingml/2006/table">
            <a:tbl>
              <a:tblPr/>
              <a:tblGrid>
                <a:gridCol w="2362320"/>
                <a:gridCol w="1600200"/>
              </a:tblGrid>
              <a:tr h="37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nde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7,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3,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10,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17,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24,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31,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7,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 2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A786E45-840E-423F-89BD-582232BFC00F}"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que attendees</a:t>
            </a:r>
            <a:endParaRPr b="0" lang="en-US" sz="3600" spc="-1" strike="noStrike">
              <a:solidFill>
                <a:srgbClr val="000000"/>
              </a:solidFill>
              <a:latin typeface="Arial"/>
            </a:endParaRPr>
          </a:p>
        </p:txBody>
      </p:sp>
      <p:sp>
        <p:nvSpPr>
          <p:cNvPr id="70" name="PlaceHolder 2"/>
          <p:cNvSpPr>
            <a:spLocks noGrp="1"/>
          </p:cNvSpPr>
          <p:nvPr>
            <p:ph/>
          </p:nvPr>
        </p:nvSpPr>
        <p:spPr>
          <a:xfrm>
            <a:off x="685440" y="1523520"/>
            <a:ext cx="3429000" cy="4496040"/>
          </a:xfrm>
          <a:prstGeom prst="rect">
            <a:avLst/>
          </a:prstGeom>
          <a:noFill/>
          <a:ln w="0">
            <a:noFill/>
          </a:ln>
        </p:spPr>
        <p:txBody>
          <a:bodyPr lIns="92160" rIns="92160" tIns="46080" bIns="46080"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guado, Enriqu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ergold</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fvin, Ric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dak</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en, Jam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dak</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in, Ja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me Domai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rr, Joh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torola</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liwala, Edu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aq</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uzenac, Veroniqu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torola</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eng, Jam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l </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loway, E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torola</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lson, Gran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dak</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bak, An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 Courville, Mar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torola</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Val, Mar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ydyk, Michae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torola</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ans, Nic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torola</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atherer, Allen</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fford, 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yco </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lb, Jam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bilian</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nsen, C</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berling, Alle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dak</a:t>
            </a:r>
            <a:endParaRPr b="0" lang="en-US" sz="1200" spc="-1" strike="noStrike">
              <a:solidFill>
                <a:srgbClr val="000000"/>
              </a:solidFill>
              <a:latin typeface="Times New Roman"/>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ile, Bo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BN/GTE/Verizon</a:t>
            </a:r>
            <a:endParaRPr b="0" lang="en-US" sz="1200" spc="-1" strike="noStrike">
              <a:solidFill>
                <a:srgbClr val="000000"/>
              </a:solidFill>
              <a:latin typeface="Times New Roman"/>
            </a:endParaRPr>
          </a:p>
        </p:txBody>
      </p:sp>
      <p:sp>
        <p:nvSpPr>
          <p:cNvPr id="71" name=""/>
          <p:cNvSpPr/>
          <p:nvPr/>
        </p:nvSpPr>
        <p:spPr>
          <a:xfrm>
            <a:off x="4343400" y="1523880"/>
            <a:ext cx="342900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nman, Mar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dak</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raoguz, Jeyh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roadcom</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inney, P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rmec</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ng, Stanle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l</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ttle, Jam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cCorkle, Joh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treme Spectrum</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ller, Ti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rsil</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sic, Wayn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roadcom</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fie, Mohamme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arrell, Ti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ergold</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ards, Ji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me Domain</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os, Carlo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ncom Wireless</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berts, Ric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rsil</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fheart, Marti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tremeSpectrum</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ypinski, Ch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sultant</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hmidl, Ti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hrader, Mar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dak</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ep, To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n, </a:t>
            </a:r>
            <a:r>
              <a:rPr b="0" lang="en-US" sz="1200" spc="-1" strike="noStrike">
                <a:solidFill>
                  <a:srgbClr val="000000"/>
                </a:solidFill>
                <a:latin typeface="Times New Roman"/>
                <a:ea typeface="Times New Roman"/>
              </a:rPr>
              <a:t>Teik-Kheo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Com</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lborn, Mat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tremeSpectrum </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lding, Dav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AE3A0C8-8E16-4637-A67B-DE005A44A859}"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istics</a:t>
            </a:r>
            <a:endParaRPr b="0" lang="en-US" sz="36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conference calls, 1.5 hours in leng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30 attendees, averaged 2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 different people attended at least one cal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PHY proposals to start, de Courville (Motorola) and Skellern (Radiata) merged at the end of Augu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ost all decisions by unanimous cons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roll call votes, 2 regarding request for size, form factor, cost and power one for an interim ra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final subcommittee ratings passed by unanimous consent (including the propose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CC9EC86-B8DF-48DF-B0F4-27AFDB34E4EE}"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s Learned</a:t>
            </a:r>
            <a:endParaRPr b="0"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criteria with single numbers rather than ranges (e.g. exactly 20 Mb/s vs. 15-25 Mb/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 changing to "-1" provided a method to encourage a timely respon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1212764-BC69-453F-9FD7-EAB087794EC4}"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 Size and Form Factor – Criteria called only for PHY size, but MAC is just as important.</a:t>
            </a:r>
            <a:endParaRPr b="0" lang="en-US" sz="2400" spc="-1" strike="noStrike">
              <a:solidFill>
                <a:srgbClr val="000000"/>
              </a:solidFill>
              <a:latin typeface="Times New Roman"/>
            </a:endParaRPr>
          </a:p>
          <a:p>
            <a:pPr lvl="1" marL="9144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mittee requested additional information (see PHY annex in P802.15-00/110r13), information due September 4.</a:t>
            </a:r>
            <a:endParaRPr b="0" lang="en-US" sz="2000" spc="-1" strike="noStrike">
              <a:solidFill>
                <a:srgbClr val="000000"/>
              </a:solidFill>
              <a:latin typeface="Times New Roman"/>
            </a:endParaRPr>
          </a:p>
          <a:p>
            <a:pPr lvl="2" marL="1238400" indent="-381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blocks for 15.1 compatibility, PA backoff/efficiency</a:t>
            </a:r>
            <a:endParaRPr b="0" lang="en-US" sz="1800" spc="-1" strike="noStrike">
              <a:solidFill>
                <a:srgbClr val="000000"/>
              </a:solidFill>
              <a:latin typeface="Times New Roman"/>
            </a:endParaRPr>
          </a:p>
          <a:p>
            <a:pPr lvl="2" marL="1238400" indent="-381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complexity (e.g. gate count), die size, ADC &amp; DAC size/speed, filters</a:t>
            </a:r>
            <a:endParaRPr b="0" lang="en-US" sz="1800" spc="-1" strike="noStrike">
              <a:solidFill>
                <a:srgbClr val="000000"/>
              </a:solidFill>
              <a:latin typeface="Times New Roman"/>
            </a:endParaRPr>
          </a:p>
          <a:p>
            <a:pPr lvl="2" marL="1238400" indent="-381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number of chips and external components</a:t>
            </a:r>
            <a:endParaRPr b="0" lang="en-US" sz="1800" spc="-1" strike="noStrike">
              <a:solidFill>
                <a:srgbClr val="000000"/>
              </a:solidFill>
              <a:latin typeface="Times New Roman"/>
            </a:endParaRPr>
          </a:p>
          <a:p>
            <a:pPr lvl="1" marL="9144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out of 8 responded.</a:t>
            </a:r>
            <a:endParaRPr b="0" lang="en-US" sz="20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1 Minimum MAC/PHY throughput – can't  be exactly 20 Mb/s, so only –1 or +1 allow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F5FC108-3D98-498E-8BA9-44608C3697D0}"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 (cont.)</a:t>
            </a:r>
            <a:endParaRPr b="0" lang="en-US" sz="36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2 Delay Spr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a definition is broken, it does not uniquely define the chann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nd Dabak led sub-group for new definition (result in document P802.15-00/110r1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 requested by Sep. 12, 6 out of 8 respon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modification to criteria document, 4.8.2 is not evaluated</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633850D-3ED2-452A-BD11-F3E69A4B3E24}"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not rated</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 Frequency band – informational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 Signal acquisition method – informational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7 Sensitivity – no rating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2 Delay Spread Tolerance – criteria broken, response to new definition requested as informati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A33D137-1920-41A0-B934-2802051AC4BE}"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not completed</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Unit Manufacturing Co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 Interference and Susceptibil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3 Intermodulation Resist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4 Jamming Resist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6 Coexiste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 Size and Form Fa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 Power Consump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828C233-12E0-4FF3-873D-25D16BAFA41F}"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Ratings</a:t>
            </a:r>
            <a:endParaRPr b="0" lang="en-US" sz="3600" spc="-1" strike="noStrike">
              <a:solidFill>
                <a:srgbClr val="000000"/>
              </a:solidFill>
              <a:latin typeface="Arial"/>
            </a:endParaRPr>
          </a:p>
        </p:txBody>
      </p:sp>
      <p:graphicFrame>
        <p:nvGraphicFramePr>
          <p:cNvPr id="59" name=""/>
          <p:cNvGraphicFramePr/>
          <p:nvPr/>
        </p:nvGraphicFramePr>
        <p:xfrm>
          <a:off x="838080" y="1905120"/>
          <a:ext cx="7640640" cy="3257280"/>
        </p:xfrm>
        <a:graphic>
          <a:graphicData uri="http://schemas.openxmlformats.org/presentationml/2006/ole">
            <p:oleObj progId="Excel.Sheet.12" r:id="rId1" spid="">
              <p:embed/>
              <p:pic>
                <p:nvPicPr>
                  <p:cNvPr id="60" name="" descr=""/>
                  <p:cNvPicPr/>
                  <p:nvPr/>
                </p:nvPicPr>
                <p:blipFill>
                  <a:blip r:embed="rId2"/>
                  <a:stretch/>
                </p:blipFill>
                <p:spPr>
                  <a:xfrm>
                    <a:off x="838080" y="1905120"/>
                    <a:ext cx="7640640" cy="32572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73920DF-7183-4E97-93B3-8484F385A1A4}"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Ratings</a:t>
            </a:r>
            <a:endParaRPr b="0" lang="en-US" sz="3600" spc="-1" strike="noStrike">
              <a:solidFill>
                <a:srgbClr val="000000"/>
              </a:solidFill>
              <a:latin typeface="Arial"/>
            </a:endParaRPr>
          </a:p>
        </p:txBody>
      </p:sp>
      <p:graphicFrame>
        <p:nvGraphicFramePr>
          <p:cNvPr id="62" name=""/>
          <p:cNvGraphicFramePr/>
          <p:nvPr/>
        </p:nvGraphicFramePr>
        <p:xfrm>
          <a:off x="457200" y="1752480"/>
          <a:ext cx="8229600" cy="4091040"/>
        </p:xfrm>
        <a:graphic>
          <a:graphicData uri="http://schemas.openxmlformats.org/presentationml/2006/ole">
            <p:oleObj progId="Excel.Sheet.12" r:id="rId1" spid="">
              <p:embed/>
              <p:pic>
                <p:nvPicPr>
                  <p:cNvPr id="63" name="" descr=""/>
                  <p:cNvPicPr/>
                  <p:nvPr/>
                </p:nvPicPr>
                <p:blipFill>
                  <a:blip r:embed="rId2"/>
                  <a:stretch/>
                </p:blipFill>
                <p:spPr>
                  <a:xfrm>
                    <a:off x="457200" y="1752480"/>
                    <a:ext cx="8229600" cy="409104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2491636-9C59-4DE8-81EB-2C0F061735FD}"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user </cp:lastModifiedBy>
  <cp:lastPrinted>1998-02-10T13:28:06Z</cp:lastPrinted>
  <dcterms:modified xsi:type="dcterms:W3CDTF">2000-09-18T18:16:35Z</dcterms:modified>
  <cp:revision>16</cp:revision>
  <dc:subject>IEEE 802.15 &lt;subject&gt;</dc:subject>
  <dc:title>No Slide Title</dc:title>
</cp:coreProperties>
</file>