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435-DC63-4EC9-9E0F-83C1C337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09D-A9A2-4D22-A85E-2F45366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C41-EFDD-424F-AD35-C05E9172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146-B26D-440E-9478-909EA0E6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BE3-D3D3-416D-97BC-4F551D38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45E-91FF-462F-9357-48C69CFE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1AD-1C6A-445D-AB0E-C4E23989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AE2-9A6B-482D-92C7-AEF27257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39C-8608-437E-8C72-9DE8F76C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25E-B5D6-42A7-9845-1A88B0DB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159-95AD-43B3-852D-7A5881A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FAC-80A0-4FFE-B775-EAAD90BD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E7FFB53-ADC8-4E03-BF7B-B9FB5896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Recent FCC Ruling on Wide Band 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E0A-470B-4321-894A-9258479C9E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at last two years the FCC has been evaluating a modification to FCC Part 15 section 247 which regulates the operation of devices in the ISM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change proposed by Hom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posal was to modify the rule to allow for wide band frequency h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has opposed the change due to the potential increased inter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869-6D23-48AA-BD8D-96621D9F19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BFH R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(August 22, 2000) amended Part 15 section 247 (See FCC 00-31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was to allow for high rate Frequency Hopping Spread Spectrum systems in the 2.4 GHz IS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to give “parity” of data rates with DSSS systems (e.g. IEEE 802.11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7F8-B1B7-4105-AD8E-1A12034CAA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iginal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1905120"/>
          <a:ext cx="7429680" cy="382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429680" cy="38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B4F-9B92-4786-87EF-C29BCCB7D8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Amended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14400" y="1905120"/>
          <a:ext cx="74296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429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F35-6B7F-49D4-8780-839DC2E1A7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act on 802.15 T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we are focusing our efforts the mutual impact of Bluetooth and IEEE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is amended rule 10 Mbps HomeRF systems are now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presents a new interference source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425-6727-43DA-94DF-DC0D90D43D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act on 802.15 T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model the impact of the interference of HomeRF on Blueto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hould we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model the impact of the interference of HomeRF on 802.1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hould we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0EE-E0EA-40C6-9A5F-5C7AB781BB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1998-02-10T13:28:06Z</cp:lastPrinted>
  <dcterms:modified xsi:type="dcterms:W3CDTF">2000-09-18T18:29:19Z</dcterms:modified>
  <cp:revision>199</cp:revision>
  <dc:subject>IEEE 802.15 &lt;subject&gt;</dc:subject>
  <dc:title>IEEE P802.15 Working Group for Wireless Personal Area Networks</dc:title>
</cp:coreProperties>
</file>