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457F1-C31E-40EF-BD17-E9F24CC80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33813-EC79-4ACA-A438-6AFDCB84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0E54B-9F12-4A57-A916-3DE3DCF53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A64C-70CF-481B-8E26-84D622931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07640-1E8D-4CE7-BA89-E0F33F4A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3477-98E5-4B0A-8856-4175B946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8835-8537-4486-A8E9-57339A6A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7C69-496D-4215-9C37-C3FDEC7F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219D-954C-4418-99A0-691699BF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F7A2-A3EC-4283-AEAD-F8CD48AC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27EC-2BDC-4361-8968-7B5CE9C8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827D-5E68-41A9-888D-A8F0528F6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2284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4450CE-9F1A-4A0E-A06E-C49589B42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19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5169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CW Proposal for High Rate WPAN Combined PHY and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13 July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joint PHY and MAC proposal by LinCom Wireless Corporation for a 1 to 40 Mbps WPAN operating in the 2.4 GHz band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7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3520" y="1600200"/>
            <a:ext cx="8305560" cy="4495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MOS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401 for &lt;1.5x 802.15.1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7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1 will jam with 16.6% probability. No other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8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762120" y="1295280"/>
            <a:ext cx="81532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does not interoperate with 802.15.1 by itself, but readily interfaces with a companion BT device for dual mode operatio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28600" y="1295280"/>
            <a:ext cx="876312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available Q4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and extension of 802.11b PHY and 802.11 MA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 relative RSSI statistics distinguish locations of devic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14400" y="1828800"/>
            <a:ext cx="7696080" cy="419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 Simple Network Join/Unjo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802.11 style association, disassoci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 Device Registr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14400" y="1371600"/>
            <a:ext cx="716292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PHY Header, MAC header, Payload, SIFS, AC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6380 B payload = 17.14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3300 B payload = 20.21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3300 B payload = 24.31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PHY Header, MAC header, Payload, SIFS, AC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6600 B payload = 30.24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30800 B payload = 37.41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2. Data Transfer Typ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or isochronous on a per packet ba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9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2120" y="1295280"/>
            <a:ext cx="807696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 plus Dynamic Rx Block Bi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0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43000" y="144792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1 Authentic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 Privac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than Compact Flash Type 1, Q401</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3300 B payload = 24.31 Mbp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30800 B payload = 37.41 Mbp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CW-40s can operate with slight frequency overlap</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914400" y="1295280"/>
            <a:ext cx="7924680" cy="51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provide necessary rang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86 dBm</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83 dBm</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80 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p level adaptive equalizer mitigates &gt; 50ns delay spread</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1.5 W system pow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CW- A Proposal for a High Data Rate WPAN in the 2.4 GHz Band</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graphicFrame>
          <p:nvGraphicFramePr>
            <p:cNvPr id="48" name=""/>
            <p:cNvGraphicFramePr/>
            <p:nvPr/>
          </p:nvGraphicFramePr>
          <p:xfrm>
            <a:off x="3733920" y="5410080"/>
            <a:ext cx="1752480" cy="659520"/>
          </p:xfrm>
          <a:graphic>
            <a:graphicData uri="http://schemas.openxmlformats.org/presentationml/2006/ole">
              <p:oleObj r:id="rId1" spid="">
                <p:embed/>
                <p:pic>
                  <p:nvPicPr>
                    <p:cNvPr id="49" name="" descr=""/>
                    <p:cNvPicPr/>
                    <p:nvPr/>
                  </p:nvPicPr>
                  <p:blipFill>
                    <a:blip r:embed="rId2"/>
                    <a:stretch/>
                  </p:blipFill>
                  <p:spPr>
                    <a:xfrm>
                      <a:off x="3733920" y="5410080"/>
                      <a:ext cx="1752480" cy="659520"/>
                    </a:xfrm>
                    <a:prstGeom prst="rect">
                      <a:avLst/>
                    </a:prstGeom>
                    <a:ln w="0">
                      <a:noFill/>
                    </a:ln>
                  </p:spPr>
                </p:pic>
              </p:oleObj>
            </a:graphicData>
          </a:graphic>
        </p:graphicFrame>
        <p:graphicFrame>
          <p:nvGraphicFramePr>
            <p:cNvPr id="50" name=""/>
            <p:cNvGraphicFramePr/>
            <p:nvPr/>
          </p:nvGraphicFramePr>
          <p:xfrm>
            <a:off x="3733920" y="5865840"/>
            <a:ext cx="1752480" cy="230040"/>
          </p:xfrm>
          <a:graphic>
            <a:graphicData uri="http://schemas.openxmlformats.org/presentationml/2006/ole">
              <p:oleObj r:id="rId3" spid="">
                <p:embed/>
                <p:pic>
                  <p:nvPicPr>
                    <p:cNvPr id="51" name="" descr=""/>
                    <p:cNvPicPr/>
                    <p:nvPr/>
                  </p:nvPicPr>
                  <p:blipFill>
                    <a:blip r:embed="rId4"/>
                    <a:stretch/>
                  </p:blipFill>
                  <p:spPr>
                    <a:xfrm>
                      <a:off x="3733920" y="5865840"/>
                      <a:ext cx="1752480" cy="230040"/>
                    </a:xfrm>
                    <a:prstGeom prst="rect">
                      <a:avLst/>
                    </a:prstGeom>
                    <a:ln w="0">
                      <a:noFill/>
                    </a:ln>
                  </p:spPr>
                </p:pic>
              </p:oleObj>
            </a:graphicData>
          </a:graphic>
        </p:graphicFrame>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83808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W-20 Performance- AWGN, 50ns DS Multipath</a:t>
            </a:r>
            <a:endParaRPr b="0" lang="en-US" sz="3200" spc="-1" strike="noStrike">
              <a:solidFill>
                <a:srgbClr val="000000"/>
              </a:solidFill>
              <a:latin typeface="Times New Roman"/>
            </a:endParaRPr>
          </a:p>
        </p:txBody>
      </p:sp>
      <p:graphicFrame>
        <p:nvGraphicFramePr>
          <p:cNvPr id="114" name=""/>
          <p:cNvGraphicFramePr/>
          <p:nvPr/>
        </p:nvGraphicFramePr>
        <p:xfrm>
          <a:off x="838080" y="1371600"/>
          <a:ext cx="7477200" cy="5029200"/>
        </p:xfrm>
        <a:graphic>
          <a:graphicData uri="http://schemas.openxmlformats.org/presentationml/2006/ole">
            <p:oleObj r:id="rId1" spid="">
              <p:embed/>
              <p:pic>
                <p:nvPicPr>
                  <p:cNvPr id="115" name="" descr=""/>
                  <p:cNvPicPr/>
                  <p:nvPr/>
                </p:nvPicPr>
                <p:blipFill>
                  <a:blip r:embed="rId2"/>
                  <a:stretch/>
                </p:blipFill>
                <p:spPr>
                  <a:xfrm>
                    <a:off x="838080" y="1371600"/>
                    <a:ext cx="7477200" cy="502920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p:txBody>
      </p:sp>
      <p:sp>
        <p:nvSpPr>
          <p:cNvPr id="117" name="PlaceHolder 2"/>
          <p:cNvSpPr>
            <a:spLocks noGrp="1"/>
          </p:cNvSpPr>
          <p:nvPr>
            <p:ph/>
          </p:nvPr>
        </p:nvSpPr>
        <p:spPr>
          <a:xfrm>
            <a:off x="685800" y="144792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rovides for robust 1, 2, 10, 20, 30 and 40 Mbps WPAN communications in the 2.4 GHz b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based upon mature 802.11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manufacturable at near Bluetooth cost po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with 802.15.1 and interoperates with 802.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LCW MAC provides ease of use, scalability, high data throughput, flexible network topology, and reliable, power efficient commun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also supports advanced security and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provides for small, cost effective, high performance and low power digital wireless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n ideal candidate for the 802.15.3 High Rate WPAN stand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33520"/>
            <a:ext cx="89913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3" name="PlaceHolder 2"/>
          <p:cNvSpPr>
            <a:spLocks noGrp="1"/>
          </p:cNvSpPr>
          <p:nvPr>
            <p:ph/>
          </p:nvPr>
        </p:nvSpPr>
        <p:spPr>
          <a:xfrm>
            <a:off x="837720" y="160020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nd high speed throughpu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520"/>
            <a:ext cx="68659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Description</a:t>
            </a:r>
            <a:endParaRPr b="0" lang="en-US" sz="3600" spc="-1" strike="noStrike">
              <a:solidFill>
                <a:srgbClr val="000000"/>
              </a:solidFill>
              <a:latin typeface="Times New Roman"/>
            </a:endParaRPr>
          </a:p>
        </p:txBody>
      </p:sp>
      <p:sp>
        <p:nvSpPr>
          <p:cNvPr id="55" name="PlaceHolder 2"/>
          <p:cNvSpPr>
            <a:spLocks noGrp="1"/>
          </p:cNvSpPr>
          <p:nvPr>
            <p:ph/>
          </p:nvPr>
        </p:nvSpPr>
        <p:spPr>
          <a:xfrm>
            <a:off x="304560" y="1447560"/>
            <a:ext cx="8762760" cy="5105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PH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 nQAM signaling provides data rates of 1, 2, 10, 20, 30, 40 Mb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ation improves range, high end through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1, 2 Mbps DSSS, coexists with 5.5, 11 Mbps C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MAC will align with 802.11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s 802.11 CSMA/CA, DCF and PC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client to AP “morphing”, direct peer to peer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 device authorization, registration, mutual authentication, 128 bit encryption and user transparent key mainten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a:t>
            </a:r>
            <a:endParaRPr b="0" lang="en-US" sz="3600" spc="-1" strike="noStrike">
              <a:solidFill>
                <a:srgbClr val="000000"/>
              </a:solidFill>
              <a:latin typeface="Times New Roman"/>
            </a:endParaRPr>
          </a:p>
        </p:txBody>
      </p:sp>
      <p:sp>
        <p:nvSpPr>
          <p:cNvPr id="57" name="PlaceHolder 2"/>
          <p:cNvSpPr>
            <a:spLocks noGrp="1"/>
          </p:cNvSpPr>
          <p:nvPr>
            <p:ph/>
          </p:nvPr>
        </p:nvSpPr>
        <p:spPr>
          <a:xfrm>
            <a:off x="837720" y="1219320"/>
            <a:ext cx="7543800" cy="50292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 is 1 Mbps (11 chip) Barker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 is 2 Mbps (11 chip) Barker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0 is 10 Mbps RS(220,200)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is 20 Mbps RS(220,200)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is 30 Mbps RS(220,200) encoded  8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is 40 Mbps RS(220,200) encoded  16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 can be 4 WPAN-only slightly overlapping 20 MHz channels or 3 standard 802.11 25 MHz channel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upport both long and short preambl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11 Mbps CCK, PBCC are not suppor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nteroperates with 802.11 DS, coexists with 802.11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General</a:t>
            </a:r>
            <a:endParaRPr b="0" lang="en-US" sz="3600" spc="-1" strike="noStrike">
              <a:solidFill>
                <a:srgbClr val="000000"/>
              </a:solidFill>
              <a:latin typeface="Times New Roman"/>
            </a:endParaRPr>
          </a:p>
        </p:txBody>
      </p:sp>
      <p:sp>
        <p:nvSpPr>
          <p:cNvPr id="5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80880" y="1600200"/>
            <a:ext cx="861084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802.11 MAC to support High Rate WPA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SS consisting of one Master (AP) and multiple Slaves (clients). The device initially establishing a network becomes the Master. A Slave may later become the Master, as appropriate, and the roles may be switch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controls 802.11 Association and Disassociation services. Associated Slaves may communicate directly (peer to peer) with each oth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uniquely supports any active Portal, and so can support 802.11 Distribution and Integration servi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uniquely provides and controls security services: registration, authorization, authentication and privac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controls all PCF and QOS ser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Multiple Access</a:t>
            </a:r>
            <a:endParaRPr b="0" lang="en-US" sz="3600" spc="-1" strike="noStrike">
              <a:solidFill>
                <a:srgbClr val="000000"/>
              </a:solidFill>
              <a:latin typeface="Times New Roman"/>
            </a:endParaRPr>
          </a:p>
        </p:txBody>
      </p:sp>
      <p:sp>
        <p:nvSpPr>
          <p:cNvPr id="6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0880" y="1676520"/>
            <a:ext cx="861084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protocol remains CSMA/CA with a positive ACK and ARQ scheme. Enhanced ACK/ARQ protocols are support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ARQ provides for retransmission of only those RS blocks (codewords) received with uncorrectable errors within a given frame. The enhanced ACK indicates the codewords to be retransmitt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point/multipoint, point/point and peer/peer link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F and (extended, QOS capable) PCF modes are supported with identical 802.11 timing relationships (SIFS, DIFS, PIF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 is supported, but may defer to QOS prioritization and guaranteed bandwidth, latency contra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 support may vary between device types, depending on individual message buffering capabilit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Security</a:t>
            </a:r>
            <a:endParaRPr b="0" lang="en-US" sz="3600" spc="-1" strike="noStrike">
              <a:solidFill>
                <a:srgbClr val="000000"/>
              </a:solidFill>
              <a:latin typeface="Times New Roman"/>
            </a:endParaRPr>
          </a:p>
        </p:txBody>
      </p:sp>
      <p:sp>
        <p:nvSpPr>
          <p:cNvPr id="6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1371600"/>
            <a:ext cx="876312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CW-capable device features a unique, secret factory assigned signature in addition to its MAC addres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Regis-tration may require user intervention at one or both e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to access the network in the future, under the aegis of the Master (AC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 likely with a secure exchange (Diffie Helman) of MAC Address and secret signatu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optionally demand “Reverse” or Mutual Authentication from the Master, to ensure that he is indeed accessing the network of interes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secret shared session key is automatically generated at both ends during Authentication, and is then used to ensure communications privacy by strongly encrypting (128b RC4) exchanged messag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QOS</a:t>
            </a:r>
            <a:endParaRPr b="0" lang="en-US" sz="3600" spc="-1" strike="noStrike">
              <a:solidFill>
                <a:srgbClr val="000000"/>
              </a:solidFill>
              <a:latin typeface="Times New Roman"/>
            </a:endParaRPr>
          </a:p>
        </p:txBody>
      </p:sp>
      <p:sp>
        <p:nvSpPr>
          <p:cNvPr id="7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80880" y="137160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single BSS,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are needed to mitigate wireless network overhead (framing, gaps, ACK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reduces overhead, prevents collisions and prioritizes incoming traffic, likely over all available channel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T&amp;T, ShareWave and Lucent solution for 802.11e QOS supports these services (and mo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QOS MAC will “streamline” this solution as needed to focus solely on the home wireless interactive multimedia distribution proble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and Maria Rios</cp:lastModifiedBy>
  <cp:lastPrinted>2000-07-29T16:32:21Z</cp:lastPrinted>
  <dcterms:modified xsi:type="dcterms:W3CDTF">2000-08-17T23:56:08Z</dcterms:modified>
  <cp:revision>51</cp:revision>
  <dc:subject/>
  <dc:title>L3C Proposal for HR WPAN</dc:title>
</cp:coreProperties>
</file>