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6A78-B0A5-44FA-A8D0-28A1AFF1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025-AF07-4D86-B5BB-698EE49E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A25-C33B-48AD-9533-1F0EF888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5DE-AA38-4EAB-AF42-B0BF4B15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DEE-0611-441C-B16D-F3F175CD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517-A699-4574-B6B5-1D2D9A3F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C44-5603-4805-9442-FFB84C81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156-D9E7-46A7-A3E9-63176954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0E9-EA69-42AF-AA8C-EF724611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D14-EBA5-4B7C-BB44-88CCDB98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75D-45F5-481E-95BE-88562E83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A03-DC7F-4C1D-B59B-989BF1D0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3372B31-930F-4ED0-BA06-8DC4A90A7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210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798480"/>
            <a:ext cx="883908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: IEEE P802.15 Working Group for Wireless Personal Area Networks (WP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 Tit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Supergold Encoding for High Rate WPAN Physical Layer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Submitte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19 September 2000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T O’Farrell &amp; L.E. Aguado] Company [Supergold Communication Ltd.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[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-3 Sandyford Village, Sandyford, Dublin 18, Ire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ce:[ +44 113 2332004 ], FAX: [ +44 113 2332032 ], E-Mail:[ enrique@supergold.com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Physical layer modulation proposal for the IEEE P802.15.3 High Rate Wireless Personal Area Networks Standar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 00210P802.1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trac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This contribution presents a coded modulation proposal for the physical layer part of the High Rate WPAN standard. This scheme is evaluated based on the Pugh criteria.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Proposal for PHY part of IEEE P802.15.3 standard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ocument has been prepared to assist the IEEE P802.15.  It is offered as a basis for discussion and is not binding on the contributing individ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) or organization(s). The material in this document is subject to change in form and content after further study. The contributor(s) reserve(s) the right to add, amend or withdraw material contained here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ntributor acknowledges and accepts that this contribution becomes the property of IEEE and may be made publicly available by P802.1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26C-1449-4569-9362-76C67F256B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pectralMask" descr=""/>
          <p:cNvPicPr/>
          <p:nvPr/>
        </p:nvPicPr>
        <p:blipFill>
          <a:blip r:embed="rId1"/>
          <a:stretch/>
        </p:blipFill>
        <p:spPr>
          <a:xfrm>
            <a:off x="1112760" y="1233360"/>
            <a:ext cx="6862680" cy="5148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25680" y="950760"/>
            <a:ext cx="63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racteristic of pulse shape digital raised-cosin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18D8-27B1-4532-9C4A-811EE063459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3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1. Unit Manufactur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ilar to 802.15.1 equivalent UMC at 2H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ilar architecture to IEEE 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ch simpler baseband processing than 802.11b (~30K 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power PA (0 dBm Tx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red RF architecture for 802.15.1 and 802.15.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hip RF / BB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160-467C-4B44-AE0E-3329D1FE3F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3200" y="698400"/>
            <a:ext cx="77724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2120" y="1298160"/>
            <a:ext cx="806796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 Signal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2. Interference and Suscep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R criterion =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3dB loss of required sensitivity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(MAI) = -6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(CW) = -7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jacent+1 channel power atenuation &gt; 50 dBc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-band interference protection &gt; 40 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-of-band attenuation &gt; 80 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ies with BT1.0b out-of-band b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4D4-16AF-4932-A32E-4079D59C99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11440" y="1646280"/>
            <a:ext cx="6000480" cy="450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5252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2. Interference and Susceptibility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7360" y="6149880"/>
            <a:ext cx="78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 performance in the presence of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7D2-FEF7-4707-95AF-6FC645BD82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35040" y="1814040"/>
            <a:ext cx="7772400" cy="33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3. Intermodulation Resi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ceiver can tolerate an intermodulating signal of up to -21dBm whilst retaining a BER=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th 3dB E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NA parameters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NA input IP3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 -10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NA gai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 16.2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NA P1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 -5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 produced by one -35dBm tone = -106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8B7-0657-456F-A9C6-2F5E2F2371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3200" y="1288800"/>
            <a:ext cx="8161200" cy="499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4. Jamming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crowave oven interfer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ference bandwidth = 25MHz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t least 1 free channel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CA would detect jammer and select clear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-3. 802.15.1 pic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02.15.1 randomly hops over 78 1MHz-bands. It will jam 802.15.3 if it hops within 20MHz-jamming sensitive area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robability of jamming: 20 / 78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2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2.15.3 transmitting MPG2-D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stream takes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26% of channel throughput. If 2 un-coordinated WPANs share the 1 channel with CCA-deferred access &gt;50% throughput exp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therwise CCA in subject WPAN would select clear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2.11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on a disjoint frequency band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o jam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 802.11b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CA in subject WPAN would select clear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E1D-572C-4818-B7B3-EB4360F633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26680" y="173520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5. Multipl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2 Mbit/s bit rat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roughput in [17.5, 20] Mbit/s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ordinated time-multiplexing used for multiple access to shared chan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constraint when multiplexing an MPEG2 stream (4.5 Mbit/s) with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12-byte asynchronous packets (max. 234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E 1: three MPEG2 streams (at 4.5Mbit/s) share the total throughput (min.) 17.5Mbit/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E 2 and 3: one MPEG2 stream takes 4.5 Mbit/s whilst the asynchronous services share the remaining throughput in a time-multiplexing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B2B-D40B-4777-9A9C-5BECD386E71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2320" y="1217160"/>
            <a:ext cx="8458200" cy="8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6. Coex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1 &amp; IC2 - 802.15.1 picon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47960" y="2106720"/>
            <a:ext cx="0" cy="9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67200" y="210168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14880" y="210816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70680" y="210024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47960" y="2324160"/>
            <a:ext cx="1125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70080" y="2568600"/>
            <a:ext cx="1154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3080" y="2857680"/>
            <a:ext cx="187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27840" y="2828880"/>
            <a:ext cx="85680" cy="87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78160" y="2822400"/>
            <a:ext cx="86040" cy="87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27240" y="2268360"/>
            <a:ext cx="85680" cy="87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9800" y="2281320"/>
            <a:ext cx="85680" cy="87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69960" y="2135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92400" y="21207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05240" y="26971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7920" y="26971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93920" y="301608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13160" y="300816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8200" y="301608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58640" y="232236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hysical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11760" y="207648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6440" y="2583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2560" y="3365640"/>
            <a:ext cx="785808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1 and A2 will not interfere with B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2 Tx Pwr = 0dBm; Pahtloss(A2-B2) ~62.4dB; A2 Rx Pwr at B2 ~ -62.4dBm over 12.5MHz (Nyquist frequency)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~ -73.4dBm over 1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1 Tx Pwr = 0dBm; Pathloss(B1-B2) ~60dB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2 Rx Pwr ~ -60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/I(B2) ~ -60 - (-73.4) ~ 13.4dB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o jam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40680" y="4937040"/>
            <a:ext cx="829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ference on B1: Probability of 802.15.1 hopping on 802.15.3 interfering BW (&lt; 20MHz)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(interf.) &lt; 20 / 78 &lt; 26%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802.15.1 throughput &gt; 7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 in 802.15.2 would be applicable to 802.1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B56-6F0D-41D5-8DF5-DCFE304C6CD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8240" y="1492200"/>
            <a:ext cx="77403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6. Coex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3 &amp; IC5 - 802.11b net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erent channels would be selected for each network via C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4 - 802.11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02.15.3 and 802.11a use different frequency bands and would be able to co-exist without interfering to each 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802.15.3 WPAN implements a dual mode radio with shared RF blocks for interoperability with 802.15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625-D444-4735-B778-66DC43B3A2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30080" y="14889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4. Technical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1. Manufacture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 architecture utilises pre-existing 802.11b and 802.15.1 techn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ing functionality similar to existing applic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. Time to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-existence of technology will ensure short developmen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PHY part prop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earlier than 1Q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A64-5090-407D-BDD7-5D298F4B8F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gold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00200" y="1321920"/>
            <a:ext cx="7772400" cy="49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gold Communication is a campus start up company that specialises in solutions for wireless commun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uence Coded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uence/Cod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chr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efficiently exploiting the distance properties of sequences/codes, Supergold’s solutions balance the trade-off between bandwidth efficiency, BER performance and complex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gold’s solutions can be beneficially appli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reless 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llular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958-C41B-4C17-B8E5-204C38CB1D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3200" y="1542600"/>
            <a:ext cx="777240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3. Regulatory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posed scheme is compliant with regulatory standards FCC(25.249) and ETSI 300-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4. Maturity of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ystem utilises existing 802.11b and 802.15.1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lying modulation is constant amplitude QP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ing less complicated than C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scheme tested in a general purpose hardware demon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21F-0524-47F9-804A-7FE8760E0BA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60240" y="66168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35040" y="1260000"/>
            <a:ext cx="7772400" cy="49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1.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 power can be changed with impact on either range or throughput (through change in coding ra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2. Dat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ing level can be adjusted to fit power and channel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3. Frequency Band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odulation scheme can be applied at both 2.4 GHz and 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4.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ging the level of coding or power would not significantly affect the unit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5.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alisation can be introduced into the scheme inorder to enhance resistance to time dispersive channels with large delay sp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05D-80B3-4187-8DF8-96AD4FEA78F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00200" y="1720800"/>
            <a:ext cx="7772400" cy="36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1. Size and Form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 mode RF / BB parts integrated in one PHY c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e external components: crystal oscillator, front-end filter and SAW IF fil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chip for dual mode 802.15.1 / 802.15.3 M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18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MO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ze smaller than a Compact Flash Type 1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E57-20C2-454A-AA92-960D418386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17600"/>
            <a:ext cx="7962840" cy="50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1. Minimum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red data rate: 22 Mbit/s, 21.65 Mbit/s with coding PHY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mum MAC/PHY throughput met for services that use a MAC OH of less than or equal to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2. High End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throughput level is off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3. Frequency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oposal is aimed at the 2.4 GHz ISM band, but is also applicable to the 5GHz ISM b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6F2-41D1-445C-AE02-ECE86BB26AC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53680"/>
            <a:ext cx="7772400" cy="47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4. Number of Simultaneously Operating Full Throughput P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EEE 802.11b channelisation is adopted which provides for 14 overlapping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non-overlapping channels, up to 3 co-located networks can share the 2.4 GHz ISM band without co-channel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overlapping channels, up to 4 co-located networks can share the 2.4 GHz ISM band without significant co-channel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to 5 co-located networks could share the 5 GHz ISM band with no co-channel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856-B8E9-4951-9E09-37279A11113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06480" y="2814480"/>
            <a:ext cx="85680" cy="87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2480" y="68580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9360" y="1217520"/>
            <a:ext cx="84582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4. Co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892160" y="2324160"/>
            <a:ext cx="1078200" cy="50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92160" y="2870280"/>
            <a:ext cx="4094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4520" y="2828880"/>
            <a:ext cx="85680" cy="87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24280" y="2281320"/>
            <a:ext cx="85680" cy="87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27097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88720" y="21178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02280" y="27097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39840" y="2254320"/>
            <a:ext cx="4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26360" y="288936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55320" y="232236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hysical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16680" y="211788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9120" y="270972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49240" y="3441600"/>
            <a:ext cx="785808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1 Tx Pwr = 0dBm; Pahtloss(A1-A2) ~60 dB; Pathloss(B1-A2) ~ 40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or 20 MHz channel separation the adjacent channel interference (ACI) produced by the filtered signal at 1 m is ACI(0m) - pathloss(1m) = -86 -40 = -126 dB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s the receiver sensitivity is -85 dBm, then the C/I margin is 40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Therefore there is no significant impact on throughp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50400" y="270972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9360" y="5181480"/>
            <a:ext cx="768348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6.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0 dBm Tx. Power, range &gt; 10 m (for link budget presen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5BD0-8D37-45CC-BC9B-726A36C17C8C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06680" y="1560600"/>
            <a:ext cx="5676840" cy="46004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7080" y="6126120"/>
            <a:ext cx="7697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 v. E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07D-4F8A-4387-91E5-5BFB667D29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55920" y="1568520"/>
            <a:ext cx="5676840" cy="4610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7080" y="6126120"/>
            <a:ext cx="76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 v. SNR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617-F8BE-4E8E-BB6D-2C9AA212CF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27200" y="1552680"/>
            <a:ext cx="5686560" cy="4667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7080" y="6126120"/>
            <a:ext cx="76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 v. SNR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5FD-893B-4813-A9D0-29A50F1373F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92200" y="1484280"/>
            <a:ext cx="5965920" cy="44481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9160" y="62208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55480" y="1166400"/>
            <a:ext cx="80805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8.2. Delay Spread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46000" y="5975280"/>
            <a:ext cx="7697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 Performance in the multipath channel for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RM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 25 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6D9-D826-4643-86EF-4A75E900946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Coded Modulation for High Rate WPAN 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6960" y="1700280"/>
            <a:ext cx="7937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-ary symbol modulation — QPSK / OQPSK chip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ant amplitu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PA back-off, low 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bust in multipath fading up to 30 ns rms delay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-error-correcting concatenated RS(127,125)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S code matched to M-ary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simple Berlekamp-Massey hard-decision 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rate (0.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3 dB coding gain over QPSK  @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spectral efficiency: 22 Mbit/s data rate in 22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1AFA-7C8B-489C-857D-77AB4DE610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9160" y="95364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8600" y="1903320"/>
            <a:ext cx="805176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8.2. Delay Spread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BER criterion =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met for 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R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25 ns with no eq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elay spread of 30ns is tolerated for more than 90% of the channels  with FER &lt; 1% at E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7.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equalisatio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29D-795A-44CB-B437-8A9CBC4B723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73200" y="15429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9.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dBm transmitte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PSK/OQPSK: near constant amplitude and small RFPA back-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baseband processor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y low complexity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equali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0k BB processor gate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ak power consumption is 200 mW (excluding M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DAD-C600-48DD-8D6C-D8F8CE89DE5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63480" y="1461960"/>
          <a:ext cx="7791480" cy="562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461960"/>
                    <a:ext cx="7791480" cy="56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C65-104D-4163-8B79-74557C21EDD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822240" y="1270080"/>
          <a:ext cx="7721640" cy="58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270080"/>
                    <a:ext cx="772164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1E4-A676-4D97-BFDD-CA8599BA293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28720" y="1346040"/>
          <a:ext cx="758664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346040"/>
                    <a:ext cx="75866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DC2-CB86-4428-AF8B-9976BD579BC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93800" y="1662120"/>
          <a:ext cx="8066160" cy="56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662120"/>
                    <a:ext cx="806616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45D-7A80-452F-B3DD-71FA74C1D69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erties of the sequence coded modula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642680"/>
            <a:ext cx="741204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pre-existing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asibl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rt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 mode 802.15.1 / 802.15.3 using common RF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 in the 2.4 GHz ISM band with 802.11 channe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 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s for 802.11b - 802.15.1 and 802.15.3 co-ex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operate in 5 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low baseb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CA as in 802.1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1CB-58EC-4BCB-A728-C91C8F7450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Link Budget for Two-Ra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9080" y="3870000"/>
            <a:ext cx="7786440" cy="23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based on: IEEE 802.15-00/050r1, Rick Robert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Figure: 15 dB (inexpensive imple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Bandwidth: 22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Floor: -174+10*log(22*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+15 = -85.6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ation Loss Margin: 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enna Gain: 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2160" y="1373040"/>
            <a:ext cx="4816440" cy="252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D47-8C5B-48B6-BB73-384AFD3F44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Link Budget for Two-Ray Model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6880" y="1382400"/>
            <a:ext cx="7810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Second Ray Delay: 25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Second Ray Refflection Coefficient: -6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d Direct Ray Range: 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 Equation (dB): L = 32.5+20log(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met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+20log(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GH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2.4 GHz, assuming the direct ray is blocked, the loss of the reflected ray path (17.4 m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 = 32.5+24.8+7.6+6 = 70.9 dB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6 dB reflection coeffici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ing antenna gain and implementation lo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 Loss Budget: L + 2*0 + 5 = 75.9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ng SNR is 10 dB for 10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x Power: Noise Floor + SNR + Loss = -85.6 dBm + 10 dB + 75.9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x Power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0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814-F19D-42D6-8683-6DC798E374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Y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623960"/>
            <a:ext cx="7772400" cy="3932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67160" y="5041800"/>
            <a:ext cx="939600" cy="50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36960" y="504180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56080" y="5162400"/>
            <a:ext cx="4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25880" y="51624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01920" y="5600880"/>
            <a:ext cx="123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cy Synthesi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85000" y="3708360"/>
            <a:ext cx="584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27880" y="2133720"/>
            <a:ext cx="2095560" cy="3390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1280" y="3681360"/>
            <a:ext cx="84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D4F-2C73-4F12-94DC-909D96F2BE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472760" y="965160"/>
            <a:ext cx="6134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or — M-ary Sequence coded 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92160" y="391176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s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nsfor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14720" y="3897360"/>
            <a:ext cx="11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ximu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kelyhood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1520" y="4037040"/>
            <a:ext cx="98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43680" y="4267080"/>
            <a:ext cx="1028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26400" y="2119320"/>
            <a:ext cx="107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of 128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18120" y="1854360"/>
            <a:ext cx="107964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2160" y="3632040"/>
            <a:ext cx="107964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4040" y="3632040"/>
            <a:ext cx="107964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3645000"/>
            <a:ext cx="107964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2680" y="2246400"/>
            <a:ext cx="84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59200" y="1841400"/>
            <a:ext cx="107928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08160" y="2489040"/>
            <a:ext cx="85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8480" y="248904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97760" y="219708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97760" y="281952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451240" y="234936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70480" y="236232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527880" y="205740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533640" y="2685960"/>
            <a:ext cx="20988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14360" y="46227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14360" y="394344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5040" y="3943440"/>
            <a:ext cx="109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4610160"/>
            <a:ext cx="109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57960" y="4273560"/>
            <a:ext cx="87012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550280" y="4133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37160" y="4133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441600" y="37972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422520" y="446400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479600" y="3809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460520" y="44830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3920" y="23432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TA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1812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09600" y="2220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5800" y="22017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218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64720" y="1906560"/>
            <a:ext cx="310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0480" y="2503440"/>
            <a:ext cx="416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3920" y="190512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3920" y="25336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82440" y="2027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72720" y="265572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37080" y="361008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0" y="429588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9680" y="39798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38360" y="36194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28640" y="430524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39625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5160" y="3790800"/>
            <a:ext cx="657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640" y="4476600"/>
            <a:ext cx="704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 Q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03200" y="3646440"/>
            <a:ext cx="28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31920" y="4332240"/>
            <a:ext cx="33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4960" y="395460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10440" y="4037040"/>
            <a:ext cx="60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47960" y="3992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960-9C6C-4303-B3B7-7B2BAF4ED31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84280" y="1030320"/>
            <a:ext cx="828504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F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RF blocks shared between 802.15.1 and 802.15.3 modes. 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blocks rep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 power = 0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RFPA back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B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st transform correlators - 12.5 Mchips/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-bit Rx ADCs - 50 Msample/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-bit Tx DACs - 50 Msample/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-bit AGC 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-tap digital raised-cosine pulse shape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K gates for BB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18u CMO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chip implementation, 1 crystal, 2 filters (front-end, SAW 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8FC-FD16-452F-B80A-186FC949DB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18:19:05Z</dcterms:created>
  <dc:creator>Dr. Luis Enrique Aguado</dc:creator>
  <dc:description>&lt;doc#&gt;</dc:description>
  <dc:language>en-US</dc:language>
  <cp:lastModifiedBy>Tim O'Farrell</cp:lastModifiedBy>
  <cp:lastPrinted>2000-07-05T15:11:46Z</cp:lastPrinted>
  <dcterms:modified xsi:type="dcterms:W3CDTF">2000-09-20T04:23:40Z</dcterms:modified>
  <cp:revision>21</cp:revision>
  <dc:subject>IEEE 802.15 TG3</dc:subject>
  <dc:title>No Slide Title</dc:title>
</cp:coreProperties>
</file>