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01EF-B12E-4489-B5D7-16D32816B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1D08-A9D4-42AB-960D-B03430E0C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0AC2-C5E2-4C27-B3C2-0358F2683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B9E1-1063-4873-802B-E8A43C679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4654-5212-408E-9665-88BEF8D6A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74A7-2667-4CFC-95B1-8F209A077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7524-FAB6-49FC-8C1E-4D848FB8F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EC35-911C-49A2-B85B-DBD176157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F0E6-85C0-403B-94F8-B20F3DAC6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621D-F774-4E5A-A546-1208D6297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FC00-383B-4098-92B8-7E55D203A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E696-173E-4C93-8414-61296F94A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3993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57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08C4377-9D17-4529-9E2B-A8BD0A40F5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0/315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7240" y="609480"/>
            <a:ext cx="7770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92200" y="6446880"/>
            <a:ext cx="898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7240" y="6477120"/>
            <a:ext cx="784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gulatory Ad Hoc Group Repo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sdale, AZ, U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ptember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8370-5763-49F9-A178-4434C3F7742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WB Upd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79400"/>
            <a:ext cx="7772400" cy="456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PRM is released 98-15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ents closed Sept 12,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y comments will close Oct 12,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ission proposes to allow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ntional emissions at Class B limit &gt; 2G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dB below Class B limit &lt; 2G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WB technology promises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able new class of communications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emely high rate, low power, short r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 non-communication apps (rada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6B64-D89F-4520-A432-50021C46D02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65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 GHz WLAN I.A.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ive: 1 Global 5 GHz WLAN St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itiated by Compaq, Intel, Microso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ernativ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ke a new stand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ck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ive Converg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ck one for early ado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aisons established w/ IEEE and ETSI BR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xt meeting 10/20/00 in Houst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0C60-F257-4A87-85FD-701ECB13264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EEE 802.11a in Europ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EEE 802.11 / ETSI BRAN Correspond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H drafted response to ETSI BRAN Letter of May 2,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rifications requested 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act on users of existing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existence of HiperLAN and 802.11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PC and D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H draft forwarded to plenary for appro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ED57-0DDD-49FF-8030-8D0605A8B11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PRM 99-23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eding has been bifurc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&amp; O issued on WBF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SSS Processing Gain Test issue remains a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ission authorizes WBF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ifies Part 15 rules for FH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380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5 mW power li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380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15 non-overlapping channels spanning 75 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380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5 Hz hop 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SS Processing Gain issue not deci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380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H Group passed resolution to contact FCC in Nov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380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warded motion to 802.11b HR SG for joint 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472D-1DC9-4AE9-B721-B1A9544AD92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orld Radiocomm. Conference (WRC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C expected US proposal for global allocation of upper UNII band for RLAN ap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rrent world allocation:  5.15 - 5.725 G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 not include ISM band at 5.725 - 5.825 G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…US had no propos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 needs to make request for inclusion of 5.725 - 5.825 GHz band into global allocation for R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s to be included in agenda for next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posals from industry are needed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info:  http:\\www.ero.d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021F-6ECB-4E1C-B8D5-F758B4D2EEF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0T19:41:06Z</dcterms:created>
  <dc:creator>Harris Semiconductor</dc:creator>
  <dc:description/>
  <dc:language>en-US</dc:language>
  <cp:lastModifiedBy>Robert F.  Heile</cp:lastModifiedBy>
  <cp:lastPrinted>1998-02-10T13:28:06Z</cp:lastPrinted>
  <dcterms:modified xsi:type="dcterms:W3CDTF">2000-10-04T08:16:05Z</dcterms:modified>
  <cp:revision>12</cp:revision>
  <dc:subject/>
  <dc:title>No Slide Title</dc:title>
</cp:coreProperties>
</file>