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18A32-6726-453A-A241-83FA3B557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31E8F-6973-4D06-90B9-01088DEBB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09BC4-8742-4665-A0C2-A0E7C2C5A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E2F9B-5750-494F-BD5C-A1D3E86E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ADE94-7145-41C8-8D2C-072B28DA1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4627-4495-42EC-A530-CB9BF040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BADD-E6B8-4045-92DF-498BB5F10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46232-71B3-488A-8B54-17AA8DB57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8425-6CF7-4AF4-A595-E684CBDDD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59D6-B7F9-4DA8-ABFB-14803923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779D-588B-4736-9148-507A2F32A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2986-C936-414B-A1B5-030EA286D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 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C3ED3F-D2ED-4FC9-9BA2-E89C05E91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9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PHY Subcommittee Scottsdale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9 Sept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proposal to reduce the number of PHY layers that will lead toward the development of a standard that satisfies the PA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document is intended to stimulate discussion for the voting proce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37C56FB-71BA-45E2-AF35-90B661E562A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items</a:t>
            </a:r>
            <a:endParaRPr b="0" lang="en-US" sz="36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by Carlos Rios, P802.15-00/299r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 evaluation of </a:t>
            </a:r>
            <a:r>
              <a:rPr b="0" lang="en-US" sz="2000" spc="-1" strike="noStrike">
                <a:solidFill>
                  <a:srgbClr val="000000"/>
                </a:solidFill>
                <a:latin typeface="Times New Roman"/>
                <a:ea typeface="Times New Roman"/>
              </a:rPr>
              <a:t>criteria 2.1, 4.1, 4.9, 2.2.2, 2.2.3, 2.2.4 and 2.2.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any problems with finished evalua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overhead for minimum and high-end data ra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for 4.4 in light of response for 2.4.3 for de Courville/Skeller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responses for delay spread toleranc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to be added the PHY annex of P802.15-00/110r14 and comment section of P802.15-00/245r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evaluating changes to proposals (time permitt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os and Allen have requested consideration of updat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possible merged proposals (time permit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02CFFF1-B286-4D95-969D-D36DA9C845A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Review Order</a:t>
            </a:r>
            <a:endParaRPr b="0" lang="en-US" sz="3200" spc="-1" strike="noStrike">
              <a:solidFill>
                <a:srgbClr val="000000"/>
              </a:solidFill>
              <a:latin typeface="Arial"/>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to table range evaluation for Kodak until after clarifications to criteria upda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potential problems with </a:t>
            </a:r>
            <a:r>
              <a:rPr b="0" lang="en-US" sz="2000" spc="-1" strike="noStrike">
                <a:solidFill>
                  <a:srgbClr val="000000"/>
                </a:solidFill>
                <a:latin typeface="Times New Roman"/>
                <a:ea typeface="Times New Roman"/>
              </a:rPr>
              <a:t>2.2.2, 2.2.3, 2.2.4 and 2.2.6</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proposals for potentially missing data or misunderstanding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responses for delay spread tolerance (4.8.2 informational)</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to be added the PHY annex of P802.15-00/110r14 and comment section of P802.15-00/245r9)</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MAC overhead to be used for minimum and high-end data rat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mine data rates for MAC subcommittee on Thursday, 21 September, 8:00 am</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meeting with MAC subcommittee to determine MAC overhead, Thursday, 21 September, 10:30 am</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conference call minutes, 1:00 p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8945159-1966-44AD-9C51-E4F5FE0CC331}"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Review Order (2)</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issues to Chair for consideration, presentations available for review prior to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permit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issues with current evalu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 for 4.4 in light of response for 2.4.3 for de Courville/Skeller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evaluating changes to proposals (time permit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os and Allen have requested consideration of updat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possible merged proposals (time permitt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364E56B-48C1-4A25-A771-F1A9E7878D8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Review, 21 Sep. 2000</a:t>
            </a:r>
            <a:endParaRPr b="0" lang="en-US" sz="3600" spc="-1" strike="noStrike">
              <a:solidFill>
                <a:srgbClr val="0000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 </a:t>
            </a:r>
            <a:r>
              <a:rPr b="0" lang="en-US" sz="2400" spc="-1" strike="noStrike">
                <a:solidFill>
                  <a:srgbClr val="000000"/>
                </a:solidFill>
                <a:latin typeface="Times New Roman"/>
                <a:ea typeface="Times New Roman"/>
              </a:rPr>
              <a:t>2.2.6</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proposals for potentially missing data or misunderstanding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responses for delay spread tolerance (4.8.2 informational)</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to be added the PHY annex of P802.15-00/110r14 and comment section of P802.15-00/245r9)</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Subcommittee will supply MAC overhead</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subcommittee meeting Thursday, 21 September, 10:30 am</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 conference call minutes, 1:00 p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business, time permittin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xico style Mexican food field trip</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8DC01C-B0E7-420E-951C-E074DADFF009}"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user </cp:lastModifiedBy>
  <cp:lastPrinted>1998-02-10T13:28:06Z</cp:lastPrinted>
  <dcterms:modified xsi:type="dcterms:W3CDTF">2000-09-21T17:09:58Z</dcterms:modified>
  <cp:revision>10</cp:revision>
  <dc:subject>IEEE 802.15 &lt;subject&gt;</dc:subject>
  <dc:title>No Slide Title</dc:title>
</cp:coreProperties>
</file>