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EFB8D-4EB3-492B-91FF-A48DBB627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5809C-A87D-4C23-A3D0-73BCE810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EBEFD-C56F-4F9B-BA78-BE871D484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07168-442D-4803-9E46-3B60B880B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36294-42BB-41AA-BA04-ACFBBDC7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F3240-933A-4BA1-AC83-78D4C0A1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4BBDD-DF7C-4603-B015-3948D327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2093-7165-4812-8481-CDE1078E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6C57-A26E-430D-8901-3EDCEFDAF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C290-69A3-45C3-AED1-CEE2107C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4BD1-3881-47C3-B101-DC10DCCE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1DD12-686D-40F7-A5D8-B2EDDFD61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91177A-DB03-4A8C-9C41-3B7CCD255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6BE1EE5-EC9B-4D84-9BA5-E8B14097DA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Jul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1Sept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Jim Allen] Company [Motorola/Kod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253R1P802-15_TG3-High-Rate-Agenda-Sept00.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September interim meeting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990720"/>
            <a:ext cx="7772400" cy="4114800"/>
          </a:xfrm>
          <a:prstGeom prst="rect">
            <a:avLst/>
          </a:prstGeom>
          <a:noFill/>
          <a:ln w="0">
            <a:noFill/>
          </a:ln>
        </p:spPr>
        <p:txBody>
          <a:bodyPr lIns="92160" rIns="92160" tIns="46080" bIns="46080" anchor="t">
            <a:normAutofit fontScale="89000"/>
          </a:bodyPr>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 that when one proposal is left, there shall be a roll call vote either in favor of  the proposal or for none of the above.  The proposal shall be required to achieve a 75% majority in order to be submitted to the working group as a recommendation.  If the remaining proposal fails to achieve a 75% majority, the members who voted "no" shall be requested to state why they voted no and what would be required to change their vote to an affirmative vote.  The proposer shall have an opportunity to respond to the concerns of the no voters.  After which a roll call vote will be taken to approve the proposal.</a:t>
            </a:r>
            <a:endParaRPr b="0" lang="en-US" sz="20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 if the last remaining proposal fails to receive 75% majority, the process shall begin with the proposals remaining after at least 50% were eliminated.  (e.g. 50% of 7 becomes 3).</a:t>
            </a:r>
            <a:endParaRPr b="0" lang="en-US" sz="20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Gilb             Yes/No/Abstain:12/0/3</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30768D06-6610-46B1-88D1-75DC43734F7C}" type="slidenum">
              <a:t>1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4</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at the MAC follows the same process as described for the PHY . </a:t>
            </a:r>
            <a:br>
              <a:rPr sz="2800"/>
            </a:br>
            <a:br>
              <a:rPr sz="2800"/>
            </a:br>
            <a:r>
              <a:rPr b="0" lang="en-US" sz="2000" spc="-1" strike="noStrike">
                <a:solidFill>
                  <a:srgbClr val="000000"/>
                </a:solidFill>
                <a:latin typeface="Times New Roman"/>
              </a:rPr>
              <a:t>TG3 Vote was No opposition - motion pas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Alfvin        Yes/No/Abstain:13/0/2</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461E688-A1BF-42D4-83D7-F13C081FFCB2}"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5</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at for each time the number of proposals in the eliminating process for either the MAC or PHY has been reduced to four and two, that a panel discussion shall be held with the remaining proposers as panel members.  The length of discussion shall be limited to 15 minutes times the number of remaining proposals.  Discussion shall be limited to voting members and the presenters or their designee. </a:t>
            </a:r>
            <a:br>
              <a:rPr sz="2400"/>
            </a:b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Alfvin           Yes/No/Abstain:13/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0464C78-AED5-41F0-87D9-CFAA846799D5}"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6</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at the presentation of each of the proposals shall not exceed 30 minutes and that the combination of presentation and discussion for each of the proposals be limited to 45 minutes.  Discussion shall be limited to voting members and the presenters or their designee. </a:t>
            </a:r>
            <a:br>
              <a:rPr sz="2400"/>
            </a:b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2/3rd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Gilb       Yes/No/Abstain: 15/0/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6DA2CFC-D920-42B2-AF3D-F3F376C16562}"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1 of 3)</a:t>
            </a:r>
            <a:endParaRPr b="0" lang="en-US" sz="3600" spc="-1" strike="noStrike">
              <a:solidFill>
                <a:srgbClr val="000000"/>
              </a:solidFill>
              <a:latin typeface="Times New Roman"/>
            </a:endParaRPr>
          </a:p>
        </p:txBody>
      </p:sp>
      <p:graphicFrame>
        <p:nvGraphicFramePr>
          <p:cNvPr id="106" name=""/>
          <p:cNvGraphicFramePr/>
          <p:nvPr/>
        </p:nvGraphicFramePr>
        <p:xfrm>
          <a:off x="228600" y="1427040"/>
          <a:ext cx="8610480" cy="4805640"/>
        </p:xfrm>
        <a:graphic>
          <a:graphicData uri="http://schemas.openxmlformats.org/presentationml/2006/ole">
            <p:oleObj progId="Excel.Sheet.12" r:id="rId1" spid="">
              <p:embed/>
              <p:pic>
                <p:nvPicPr>
                  <p:cNvPr id="107" name="" descr=""/>
                  <p:cNvPicPr/>
                  <p:nvPr/>
                </p:nvPicPr>
                <p:blipFill>
                  <a:blip r:embed="rId2"/>
                  <a:stretch/>
                </p:blipFill>
                <p:spPr>
                  <a:xfrm>
                    <a:off x="228600" y="1427040"/>
                    <a:ext cx="8610480" cy="480564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53E462A6-A382-4AC8-9247-AC7C6D41FF3A}" type="slidenum">
              <a:t>14</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2 of 3)</a:t>
            </a:r>
            <a:endParaRPr b="0" lang="en-US" sz="3600" spc="-1" strike="noStrike">
              <a:solidFill>
                <a:srgbClr val="000000"/>
              </a:solidFill>
              <a:latin typeface="Times New Roman"/>
            </a:endParaRPr>
          </a:p>
        </p:txBody>
      </p:sp>
      <p:graphicFrame>
        <p:nvGraphicFramePr>
          <p:cNvPr id="109" name=""/>
          <p:cNvGraphicFramePr/>
          <p:nvPr/>
        </p:nvGraphicFramePr>
        <p:xfrm>
          <a:off x="304920" y="1874880"/>
          <a:ext cx="8534160" cy="4068720"/>
        </p:xfrm>
        <a:graphic>
          <a:graphicData uri="http://schemas.openxmlformats.org/presentationml/2006/ole">
            <p:oleObj progId="Excel.Sheet.12" r:id="rId1" spid="">
              <p:embed/>
              <p:pic>
                <p:nvPicPr>
                  <p:cNvPr id="110" name="" descr=""/>
                  <p:cNvPicPr/>
                  <p:nvPr/>
                </p:nvPicPr>
                <p:blipFill>
                  <a:blip r:embed="rId2"/>
                  <a:stretch/>
                </p:blipFill>
                <p:spPr>
                  <a:xfrm>
                    <a:off x="304920" y="1874880"/>
                    <a:ext cx="8534160" cy="40687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9727CE4A-A393-42A8-A0C7-6B076BE94894}" type="slidenum">
              <a:t>15</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3 of 3)</a:t>
            </a:r>
            <a:endParaRPr b="0" lang="en-US" sz="3600" spc="-1" strike="noStrike">
              <a:solidFill>
                <a:srgbClr val="000000"/>
              </a:solidFill>
              <a:latin typeface="Times New Roman"/>
            </a:endParaRPr>
          </a:p>
        </p:txBody>
      </p:sp>
      <p:graphicFrame>
        <p:nvGraphicFramePr>
          <p:cNvPr id="112" name=""/>
          <p:cNvGraphicFramePr/>
          <p:nvPr/>
        </p:nvGraphicFramePr>
        <p:xfrm>
          <a:off x="304920" y="1905120"/>
          <a:ext cx="8534160" cy="4068720"/>
        </p:xfrm>
        <a:graphic>
          <a:graphicData uri="http://schemas.openxmlformats.org/presentationml/2006/ole">
            <p:oleObj progId="Excel.Sheet.12" r:id="rId1" spid="">
              <p:embed/>
              <p:pic>
                <p:nvPicPr>
                  <p:cNvPr id="113" name="" descr=""/>
                  <p:cNvPicPr/>
                  <p:nvPr/>
                </p:nvPicPr>
                <p:blipFill>
                  <a:blip r:embed="rId2"/>
                  <a:stretch/>
                </p:blipFill>
                <p:spPr>
                  <a:xfrm>
                    <a:off x="304920" y="1905120"/>
                    <a:ext cx="8534160" cy="40687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D4FF5467-2FB7-4EAA-A834-EF052DFA2E0B}" type="slidenum">
              <a:t>1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e Next wee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tea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 Mary DuVal - Email/TB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 James Gilb - Thursdays/Emai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 Allen Heberling - Tuesday/Emai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s, Agendas (to accommodate international participants) will be announced via emai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15C57BC-4F7C-4C12-9CE2-B6BAC97C1E7F}" type="slidenum">
              <a:t>1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00, Scottsdale, AZ</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E86E94B-6A6C-48E6-B7B7-791AA3263A2C}"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September Meeting</a:t>
            </a:r>
            <a:endParaRPr b="0" lang="en-US" sz="3600" spc="-1" strike="noStrike">
              <a:solidFill>
                <a:srgbClr val="000000"/>
              </a:solidFill>
              <a:latin typeface="Times New Roman"/>
            </a:endParaRPr>
          </a:p>
        </p:txBody>
      </p:sp>
      <p:sp>
        <p:nvSpPr>
          <p:cNvPr id="8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conference call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work letter ballots to date.</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remainig MAC/PHY/System evaluation process.(10:30 Wedne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possible options by at least 50%. (4 PM Wednesday) </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f vote (8AM Thur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how to reach consensus selection of final MAC/PHY. (Thur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NOV00 Objectives (Thursd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3772C7F-F936-4B62-ACEE-D4E32ADA8D18}"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Agenda</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nda has been modified to reflect the TG’s consensus opinion that more work is necessary before the first 50% vote. No vote this week.</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253r4P802.15_TG3</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 PM and Thursday will focus on PHY criteria clarificatio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day AM will be a Systems meeting to discuss the system interface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duction to one PHY/MAC is targeted to happen in November 2000 after final presen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F7A8DD0-3B13-4D6F-AECA-F8A6A577D664}"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Meeting Goals</a:t>
            </a:r>
            <a:endParaRPr b="0" lang="en-US" sz="3600" spc="-1" strike="noStrike">
              <a:solidFill>
                <a:srgbClr val="000000"/>
              </a:solidFill>
              <a:latin typeface="Times New Roman"/>
            </a:endParaRPr>
          </a:p>
        </p:txBody>
      </p:sp>
      <p:sp>
        <p:nvSpPr>
          <p:cNvPr id="89"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nCalls:  Focus on updates from subcommittees, narrow choices to 1 .  Look for ways to improve performance of proposals. </a:t>
            </a:r>
            <a:endParaRPr b="0" lang="en-US" sz="2000" spc="-1" strike="noStrike">
              <a:solidFill>
                <a:srgbClr val="000000"/>
              </a:solidFill>
              <a:latin typeface="Times New Roman"/>
            </a:endParaRPr>
          </a:p>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ember 6-10, Tampa, FL USA, Hyatt Regency, 802 </a:t>
            </a:r>
            <a:r>
              <a:rPr b="1" i="1" lang="en-US" sz="2000" spc="-1" strike="noStrike">
                <a:solidFill>
                  <a:srgbClr val="000000"/>
                </a:solidFill>
                <a:latin typeface="Times New Roman"/>
              </a:rPr>
              <a:t>Plenary Meet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Con. Call results &amp; Straw vote on acceptance of work</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presentations </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te to Reduce to one MAC/PHY</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the writing of the Draft Standard</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interfaces between MAC/PHY etc.</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the BSIG / IEEE contract status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9047D37-DC4D-4C59-B5E9-1109336456F7}"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Meeting Format</a:t>
            </a:r>
            <a:endParaRPr b="0" lang="en-US" sz="3600" spc="-1" strike="noStrike">
              <a:solidFill>
                <a:srgbClr val="000000"/>
              </a:solidFill>
              <a:latin typeface="Times New Roman"/>
            </a:endParaRPr>
          </a:p>
        </p:txBody>
      </p:sp>
      <p:sp>
        <p:nvSpPr>
          <p:cNvPr id="91"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97000"/>
          </a:bodyPr>
          <a:p>
            <a:pPr lvl="2" marL="105300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day - Committee Ad Hoc Work (to be scheduled)</a:t>
            </a:r>
            <a:endParaRPr b="0" lang="en-US" sz="2400" spc="-1" strike="noStrike">
              <a:solidFill>
                <a:srgbClr val="000000"/>
              </a:solidFill>
              <a:latin typeface="Times New Roman"/>
            </a:endParaRPr>
          </a:p>
          <a:p>
            <a:pPr lvl="2" marL="105300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a:t>
            </a:r>
            <a:endParaRPr b="0" lang="en-US" sz="24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s from the chairs</a:t>
            </a:r>
            <a:endParaRPr b="0" lang="en-US" sz="20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review</a:t>
            </a:r>
            <a:endParaRPr b="0" lang="en-US" sz="20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a:t>
            </a:r>
            <a:endParaRPr b="0" lang="en-US" sz="2000" spc="-1" strike="noStrike">
              <a:solidFill>
                <a:srgbClr val="000000"/>
              </a:solidFill>
              <a:latin typeface="Times New Roman"/>
            </a:endParaRPr>
          </a:p>
          <a:p>
            <a:pPr lvl="2" marL="105300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Wed, Thursday</a:t>
            </a:r>
            <a:endParaRPr b="0" lang="en-US" sz="24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a:t>
            </a:r>
            <a:endParaRPr b="0" lang="en-US" sz="20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tion Vote</a:t>
            </a:r>
            <a:endParaRPr b="0" lang="en-US" sz="20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el Discussions</a:t>
            </a:r>
            <a:endParaRPr b="0" lang="en-US" sz="2000" spc="-1" strike="noStrike">
              <a:solidFill>
                <a:srgbClr val="000000"/>
              </a:solidFill>
              <a:latin typeface="Times New Roman"/>
            </a:endParaRPr>
          </a:p>
          <a:p>
            <a:pPr lvl="3" marL="1385640" indent="-2214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tion Vote…..</a:t>
            </a:r>
            <a:endParaRPr b="0" lang="en-US" sz="2000" spc="-1" strike="noStrike">
              <a:solidFill>
                <a:srgbClr val="000000"/>
              </a:solidFill>
              <a:latin typeface="Times New Roman"/>
            </a:endParaRPr>
          </a:p>
          <a:p>
            <a:pPr lvl="2" marL="105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A870A8F-12AB-45FA-A6D0-CB3E75B2C245}"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1</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at supporting documentation for the proposals be submitted to J Barr, J Allen, I Gifford, R Alfvin and the committee chairs with notification to the TG3 reflector on or before 5 PM PST on the 27 October, 2000.</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3 Vote was No opposition - motion pas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Gilb               Yes/No/Abstai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CB4EBF9-BA62-4946-B3A9-D14101D0B008}"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2</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at all modifications to proposals, merged proposals, and all final presentations for the November Plenary Session be sent to J Barr, J Allen, I Gifford, R Alfvin and the subcommittee chairs with notification to the TG3 reflector on or before 5 PM PT on the 27 October, 2000.  These will be the proposal presentations given at the November 2000 plenary session. </a:t>
            </a:r>
            <a:br>
              <a:rPr sz="2800"/>
            </a:b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Allen      Second:  DuVal           Yes/No/Abstain: 15/0/0</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7F39CE1-3204-45F8-8186-57815AC68B77}"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3</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election of a PHY for TG3 shall b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by roll call vote, to vote for one proposal or “none of the abov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 the proposal (or proposals in case of a "tie") receiving the least votes is eliminat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 the process continues with a vote as in "a" and "b" eliminating proposal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otion continued on next pa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4304E18-32EB-4662-8340-70584AA48EEE}"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Jim Allen</dc:creator>
  <dc:description>-00/275r0</dc:description>
  <dc:language>en-US</dc:language>
  <cp:lastModifiedBy>Digital and Applied Imaging</cp:lastModifiedBy>
  <cp:lastPrinted>1998-02-10T13:28:06Z</cp:lastPrinted>
  <dcterms:modified xsi:type="dcterms:W3CDTF">2000-09-22T17:58:18Z</dcterms:modified>
  <cp:revision>221</cp:revision>
  <dc:subject>TG3 Closing Report, 21Sept00</dc:subject>
  <dc:title>IEEE P802.15 Working Group for Wireless Personal Area Networks</dc:title>
</cp:coreProperties>
</file>