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86E-D0B7-489C-98F8-CB81C602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BCB-ED03-4B91-8481-4072BEDE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E72-7E60-455D-9A5B-30D52A7A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821-C13A-45AE-83CE-A85FE136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989-E7C9-4458-BA61-C53ECA85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A70-E8FD-4AFB-B2E5-EEA3E203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830-5A31-49AA-8064-80048199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A7D-CC7C-4F0D-8D08-B477F322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66F-3685-4107-A275-19467F57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8ED-669E-482D-B1E8-1E96DC36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29F-8DF7-48E6-A5E6-948800D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C8E-00DD-4CB6-B8A9-949036B8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92EBE6-507E-47E1-A2A2-C189E2E93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3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Joint 802.11 and 802.15 May 2000 Seatt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im Meeting - Accounting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el D. McIn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eing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el.d.mcinnis@boeing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D. McInnis, The Boe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DE9-738F-4A0D-906B-E2A21BA40D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Joint 802.11 and 802.15 May 2000 Seat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 Meeting - Accoun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nned for between 60 and 75 registr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ctu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ison hotel collection for 163 Meeting registrants @ $325 each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$52,9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Madison hotel charg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 ($34,190.13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ison hotel remainder to IE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$18,784.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($6,4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 labor, pwr cords, office supplies, et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 ($3,232.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sc cost tota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($9,657.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-total remainder from hotel payment to IE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$9,127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e registrant paid by traveler’s che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$   32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otal of 164 registration fees collected = $ 53,3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ainder to IEEE 802.11 and 802.15 in July 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$9,452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-$215) in July for a network hub, remainder to IEEE 802 in Sept. 00    = $9,237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D. McInnis, The Boe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40A-2AE4-4CD2-9134-D9DD2EF3E5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Joint 802.11 and 802.15 May 2000 Seat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 Meeting - Accoun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Beverage (actu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t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Price              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655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429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726.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8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682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40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53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40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11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2,96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Ser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4,133.4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% T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465.8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9,562.7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, xDSL line, phone lines, copies, etc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$  4,627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hotel charge     (actu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4,190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(100 attendees) and misc costs   (actu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9,657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all costs     (actu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43,847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all actual costs divided by 164 attendees = $267.36 each (+$57.64 = $3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D. McInnis, The Boe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5CF-DC5B-4EE9-AE6A-0A41B93D7A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Joint 802.11 and 802.15 May 2000 Seat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 Meeting - Accoun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Beverage (planne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t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Price              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85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52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85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8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03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85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87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85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52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8,37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Ser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5,106.9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% T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2,581.8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6,060.8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, xDSL line, phone lines, copies, etc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$  4,627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hotel charge  (planne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40,688.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(164 attendees) &amp; misc costs   (plan+ac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3,177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all costs  (planned + actu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3,866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all planned costs divided by 164 attendees = $328.45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D. McInnis, The Boe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CA3-3781-4551-BDD0-BC659C8E91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Everett Site Standard</cp:lastModifiedBy>
  <cp:lastPrinted>1998-02-10T13:28:06Z</cp:lastPrinted>
  <dcterms:modified xsi:type="dcterms:W3CDTF">2000-09-20T22:29:52Z</dcterms:modified>
  <cp:revision>26</cp:revision>
  <dc:subject/>
  <dc:title>No Slide Title</dc:title>
</cp:coreProperties>
</file>