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7D5-B8F6-4F1E-8092-F07F485A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E60-FCD9-40D7-9D68-FBC6E5D7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7FA-B19D-4AF5-8B44-66918DF5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705-77F5-4915-BEDE-9AC1D94E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B32-D1BF-4E9F-A8EE-85F719A6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234-6B0D-4D8A-9C2E-97CF5894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F55-FA21-410D-A73C-7A2CCD95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DF5-D97E-4284-9CC4-59D3E6F9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E67-421A-4BD0-8CF1-6D0D6959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DB0-4332-423E-A879-389BF2BE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6DF-A844-49F8-AA11-F8F7FCF6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A320-F09C-490A-9C2A-D766E0EE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1B3C2C2-7D7E-4048-AF15-4B1B58B9C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210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98480"/>
            <a:ext cx="883908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Supergold Encoding for High Rate WPAN Physical Layer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5 September 2000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T O’Farrell &amp; L.E. Aguado] Company [Supergold Communication Ltd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[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-3 Sandyford Village, Sandyford, Dublin 18, Ire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:[ +44 113 2332004 ], FAX: [ +44 113 2332032 ], E-Mail:[ enrique@supergold.com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Physical layer modulation proposal for the IEEE P802.15.3 High Rate Wireless Personal Area Networks Standar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 00210P802.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This contribution presents a coded modulation proposal for the physical layer part of the High Rate WPAN standard. This scheme is evaluated based on the Pugh criteria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Proposal for PHY part of IEEE P802.15.3 standard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ocument has been prepared to assist the IEEE P802.15.  It is offered as a basis for discussion and is not binding on the contributing individ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 or organization(s). The material in this document is subject to change in form and content after further study. The contributor(s) 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tributor acknowledges and accepts that this contribution becomes the property of IEEE 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B12-C37B-4815-9D43-11DEA87906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3200" y="698400"/>
            <a:ext cx="77724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2120" y="1298160"/>
            <a:ext cx="8067960" cy="50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gnal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ference and Suscep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 based on co-channel interference simulation of multiple access and CW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dB loss of required sensitivity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MAI) = -6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CW) = -7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acent+1 channel power atenuation &gt; 50 dB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ference protection &gt; 4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924-45A2-40EB-9496-5383C9B3F8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11440" y="1646280"/>
            <a:ext cx="6000480" cy="4505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5252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ference and Susceptibility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7360" y="6149880"/>
            <a:ext cx="78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performance in the presence of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724-CE28-4AC0-A71D-A0264B569D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3200" y="2398320"/>
            <a:ext cx="777240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modulation Res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 including model of RF chain pe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ming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 including model of RF chain 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BAE-1282-43BB-9A38-C291C80439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6680" y="173520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pl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2 Mbit/s bit rat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roughput in [17.5, 20] Mbit/s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rdinated time-multiplexing used for multiple access to shared chan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onstraint when multiplexing an MPEG2 stream (4.5 Mbit/s) with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12-byte asynchronous packets (max. 234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1: three MPEG2 streams (at 4.5Mbit/s) share the total throughput (min.) 17.5Mbit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2 and 3: one MPEG2 stream takes 4.5 Mbit/s whilst the asynchronous services share the remaining throughput in a time-multiplexing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082-F097-4ED4-ACAE-0EC1EAC875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2320" y="1607760"/>
            <a:ext cx="845820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802.11b by using common channelis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802.15.1 as (to be) given by TG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802.11a by being in disjoint b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terminal for interoperability with 802.15.1, working at 2.4 GH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on channelisation could support interoperability with 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EC7-6E5D-461F-B736-F9012FBCBC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6040" y="157464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ical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ufacture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architecture utilises pre-existing 802.11b and 802.15.1 techn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functionality similar to existing appli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to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-existence of technology will ensure short developme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PHY part pro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earlier than 1Q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32F-5D47-4DB9-A764-119C3800EE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3200" y="1542600"/>
            <a:ext cx="777240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tory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posed scheme is compliant with regulatory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urity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ystem utilises existing 802.11b and 802.15.1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lying modulation is constant amplitude Q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less complicated than C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scheme tested in a general purpose hardware demon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AC4-17BB-423B-B471-A5DE20234E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0240" y="66168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5040" y="1260000"/>
            <a:ext cx="7772400" cy="49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can be changed with impact on either range or throughput (through change in coding ra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ing level can be adjusted to fit power and channe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Band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odulation scheme can be applied at both 2.4 GHz and 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ging the level of coding or power would not significantly affect the unit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lisation can be introduced into the scheme inorder to enhance resistance to time dispersive channels with large delay sp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E16-93BD-4ACC-A50E-E95106BD1C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60240" y="662040"/>
            <a:ext cx="77724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040" y="1260360"/>
            <a:ext cx="77724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ation Awar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 sequence signalling with 12.5 Mchip/s Chip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le of providing sufficient spacial resolution for an interpolation algorithm to establish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elation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B processor already uses correlators for sync and data 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amble /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ther the preamble or a separate short packet can carry a suitable sequence with good autocorrelation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175-FD15-4B7F-83C3-276F10FC0B9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138400"/>
            <a:ext cx="7772400" cy="36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ze and Form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RF / BB parts integrated in one PHY c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external components: crystal oscillator, front-end filter and SAW IF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chip for dual mode 802.15.1 / 802.15.3 M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ze smaller than a Compact Flash Type 1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6A8-0027-4822-9F01-AF33E4CBCC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gol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0200" y="13219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 Communication is a campus start up company that specialises in solutions for wireless commun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 Coded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/Cod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efficiently exploiting the distance properties of sequences/codes, Supergold’s solutions balance the trade-off between bandwidth efficiency, BER performance and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’s solutions can be beneficially appli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reless 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lular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CCB-8B51-4C1F-9F65-07AF92500E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4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um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ed data rate: 22 Mbit/s, 21.65 Mbit/s with coding PHY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End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throughput level is o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265-AC20-4647-B195-30248DB57BC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53680"/>
            <a:ext cx="7772400" cy="47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posal is aimed at the 2.4 GHz ISM band, but is also be applicable to the 5GHz ISM 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Simultaneously Operating Full Throughput P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EEE 802.11 channelisation is ado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to 3 co-located networks could share the 2.4 GHz ISM band with no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to 5 co-located networks could share the 5 GHz ISM band with no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0 dBm Tx. Power, range &gt; 10 m (for link budget presen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CC2-E009-4A52-AFF2-2835EB2F91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06680" y="1560600"/>
            <a:ext cx="5676840" cy="4600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7080" y="6126120"/>
            <a:ext cx="769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978-7788-48A6-B60A-D2A007C729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55920" y="1568520"/>
            <a:ext cx="5676840" cy="4610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C8B-E09F-4739-91C4-F1F9578F2D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27200" y="1552680"/>
            <a:ext cx="5686560" cy="4667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8F1-A576-44FD-B0F5-10E5E2A0FB9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92200" y="1484280"/>
            <a:ext cx="5965920" cy="4448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9160" y="62208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55480" y="1166400"/>
            <a:ext cx="80805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6000" y="5975280"/>
            <a:ext cx="7697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 Performance in the multipath channel for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25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30F-4FFF-4C1B-BB7E-7510B2A638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9160" y="95364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03320"/>
            <a:ext cx="8051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met for 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25 ns with no eq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lay spread of 25ns is tolerated for more than 90% of the channels  with FER &lt; 1% at E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7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qualisat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2CA-8671-4724-9534-03FD94C2404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3200" y="15429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dBm transmitte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ant amplitud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o RFPA back-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baseband processor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y low complexity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equal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mall BB processor gate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 consumption below 0.5 Wat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D34-7AE1-403D-A633-7CBFD5719C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63480" y="1457280"/>
          <a:ext cx="780732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457280"/>
                    <a:ext cx="780732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1A3-3856-4621-AB18-E894E376604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22240" y="1270080"/>
          <a:ext cx="772164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270080"/>
                    <a:ext cx="772164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303-3674-4478-AB67-D0076AC5B92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Coded Modulation for High Rate WPAN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30240"/>
            <a:ext cx="7283520" cy="427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PSK / OQPSK chip modulation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ant ampl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-ary symbol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e single-error-correcting concatenated RS(127,125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3 dB coding gain over QPSK  @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spectral efficiency: 22 Mbit/s data rate in 22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e to operate in 2.4 GHz ISM band (can operate in 5 GHz b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983-DCF9-4CBE-817C-147341D304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4040" y="1341360"/>
          <a:ext cx="7602480" cy="548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040" y="1341360"/>
                    <a:ext cx="7602480" cy="54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932-60CD-4054-8FDA-9BA6F3CF80A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93800" y="1662120"/>
          <a:ext cx="8066160" cy="56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662120"/>
                    <a:ext cx="806616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583-3294-4CCB-81DD-73DAD16AF02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erties of the sequence coded modula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28560"/>
            <a:ext cx="74120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pre-exist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asibl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rt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 in the 2.4 GHz ISM band with 802.11 channe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for 802.11 - 802.15.1 and 802.15.3 co-ex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low baseb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s robustness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al mode 802.15.1 / 802.15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38F-E612-486B-9683-D2DF7398FB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9080" y="3870000"/>
            <a:ext cx="7786440" cy="23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based on: IEEE 802.15-00/050r1, Rick Roberts, Intersil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igure: 15 dB (inexpensive imple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Bandwidth: 22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loor: -174+10*log(22*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15 = -85.6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Loss Margin: 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enna Gain: 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2160" y="1373040"/>
            <a:ext cx="4816440" cy="25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F22-14BA-4488-9D23-0806131BD3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6880" y="1382400"/>
            <a:ext cx="7810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Delay: 25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Refflection Coefficient: -6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d Direct Ray Range: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Equation (dB): L = 32.5+20log(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et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20log(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GH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2.4 GHz, assuming the direct ray is blocked, the loss of the reflected ray path (17.4 m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 = 32.5+24.8+7.6+6 = 70.9 dB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6 dB reflection coeffici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ing antenna gain and implementation l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 Loss Budget: L + 2*0 + 5 = 75.9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ng SNR is 10 dB for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x Power: Noise Floor + SNR + Loss = -85.6 dBm + 10 dB + 75.9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x Power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A9F-444E-4FD3-BC2B-D10BC34C14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Y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623960"/>
            <a:ext cx="7772400" cy="393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FB5-729C-4EF6-BCC5-2707D056B86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84280" y="1030320"/>
            <a:ext cx="828504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F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RF blocks shared for 802.15.1 and 802.15.5 modes.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blocks rep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= 0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RFPA back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O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-bit Rx AD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AGC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~ 30K gates for BB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hip implementation, 1 crystal, 2 filters (front-end, SAW 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07F-5A59-430A-A0AC-DE78B999BC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 Manufactur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architecture to IEEE 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ch simpler baseband processing than 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power PA (0 dBm Tx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red RF architecture for 802.15.1 and 802.15.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to 802.15.1 equivalent UMC at 2H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7D4-C7C9-4526-8A30-20B872C7D4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8:59:45Z</dcterms:created>
  <dc:creator>James D. Allen</dc:creator>
  <dc:description>&lt;doc#&gt;</dc:description>
  <dc:language>en-US</dc:language>
  <cp:lastModifiedBy>Tim O'Farrell</cp:lastModifiedBy>
  <cp:lastPrinted>2000-07-05T15:11:46Z</cp:lastPrinted>
  <dcterms:modified xsi:type="dcterms:W3CDTF">2000-09-07T00:22:31Z</dcterms:modified>
  <cp:revision>102</cp:revision>
  <dc:subject>IEEE 802.15 TG3</dc:subject>
  <dc:title>Selection Process Flow Chart</dc:title>
</cp:coreProperties>
</file>