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CF7D6-876E-4F23-AA86-C88789B74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7E058-64CC-4F7F-859E-4BCE974CF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A64C9-2D7D-4C6E-97CD-961B3F86B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02BA1-ACE1-42FB-8118-0214E09CE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AEADF-09B0-47AE-87AB-C702D5A5A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D75B3-FBEC-42F9-97FE-1D45BC044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C9F35-E426-4619-A070-B5BBCF15F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4179B-FDE4-4C79-A4F5-51D0884BC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D5D24-5490-46F3-9906-E0509E50E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0CAE0-70A5-4AA2-9001-84973AB2C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D5D46-FD08-49C9-94FC-28C30BA26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D1FF1-ACE2-43B4-BEB3-62098341B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95061E-7324-46B5-8E7C-9E6B487E2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0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Liaison Report #2</a:t>
            </a:r>
            <a:endParaRPr b="0" lang="en-US" sz="4400" spc="-1" strike="noStrike">
              <a:solidFill>
                <a:srgbClr val="000000"/>
              </a:solidFill>
              <a:latin typeface="Times New Roman"/>
            </a:endParaRPr>
          </a:p>
        </p:txBody>
      </p:sp>
      <p:sp>
        <p:nvSpPr>
          <p:cNvPr id="46" name=""/>
          <p:cNvSpPr/>
          <p:nvPr/>
        </p:nvSpPr>
        <p:spPr>
          <a:xfrm>
            <a:off x="533520" y="1828800"/>
            <a:ext cx="8229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Coexistence Working Grou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tered by Bluetooth SIG to address coexistence issues of Bluetooth with other devices operating in the 2.4 GHz ISM unlicensed ba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ed by Tod Sizer of Luc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 include Lucent, Motorola, Ericsson, Toshiba, 3CO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ichard Ditch, Motorola</a:t>
            </a:r>
          </a:p>
        </p:txBody>
      </p:sp>
      <p:sp>
        <p:nvSpPr>
          <p:cNvPr id="3" name="PlaceHolder 2"/>
          <p:cNvSpPr>
            <a:spLocks noGrp="1"/>
          </p:cNvSpPr>
          <p:nvPr>
            <p:ph type="sldNum" idx="3"/>
          </p:nvPr>
        </p:nvSpPr>
        <p:spPr/>
        <p:txBody>
          <a:bodyPr/>
          <a:p>
            <a:fld id="{AB1EFAF6-2588-4E73-91D9-C2B451544CCF}" type="slidenum">
              <a:t>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Liaison Report #2</a:t>
            </a:r>
            <a:endParaRPr b="0" lang="en-US" sz="4400" spc="-1" strike="noStrike">
              <a:solidFill>
                <a:srgbClr val="000000"/>
              </a:solidFill>
              <a:latin typeface="Times New Roman"/>
            </a:endParaRPr>
          </a:p>
        </p:txBody>
      </p:sp>
      <p:sp>
        <p:nvSpPr>
          <p:cNvPr id="48" name=""/>
          <p:cNvSpPr/>
          <p:nvPr/>
        </p:nvSpPr>
        <p:spPr>
          <a:xfrm>
            <a:off x="533520" y="1828800"/>
            <a:ext cx="8229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la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amp; Frequency simulations - assume a particular time usage (due to specific traffic models) together with frequency hoping scenarios to establish collision rate between Bluetooth and the interfering syste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ichard Ditch, Motorola</a:t>
            </a:r>
          </a:p>
        </p:txBody>
      </p:sp>
      <p:sp>
        <p:nvSpPr>
          <p:cNvPr id="3" name="PlaceHolder 2"/>
          <p:cNvSpPr>
            <a:spLocks noGrp="1"/>
          </p:cNvSpPr>
          <p:nvPr>
            <p:ph type="sldNum" idx="3"/>
          </p:nvPr>
        </p:nvSpPr>
        <p:spPr/>
        <p:txBody>
          <a:bodyPr/>
          <a:p>
            <a:fld id="{CEEF4403-8BA4-41F7-A529-FF19AF6D6E5C}" type="slidenum">
              <a:t>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Liaison Report #2</a:t>
            </a:r>
            <a:endParaRPr b="0" lang="en-US" sz="4400" spc="-1" strike="noStrike">
              <a:solidFill>
                <a:srgbClr val="000000"/>
              </a:solidFill>
              <a:latin typeface="Times New Roman"/>
            </a:endParaRPr>
          </a:p>
        </p:txBody>
      </p:sp>
      <p:sp>
        <p:nvSpPr>
          <p:cNvPr id="50" name=""/>
          <p:cNvSpPr/>
          <p:nvPr/>
        </p:nvSpPr>
        <p:spPr>
          <a:xfrm>
            <a:off x="533520" y="1828800"/>
            <a:ext cx="8229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nt 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Net Tutorial from Taylor Salm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papers covering Fading Model and Path Loss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 samples in WAV format output from two CVSD Corruption Simulato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requirements to Bluetooth Radio 2 Group</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ichard Ditch, Motorola</a:t>
            </a:r>
          </a:p>
        </p:txBody>
      </p:sp>
      <p:sp>
        <p:nvSpPr>
          <p:cNvPr id="3" name="PlaceHolder 2"/>
          <p:cNvSpPr>
            <a:spLocks noGrp="1"/>
          </p:cNvSpPr>
          <p:nvPr>
            <p:ph type="sldNum" idx="3"/>
          </p:nvPr>
        </p:nvSpPr>
        <p:spPr/>
        <p:txBody>
          <a:bodyPr/>
          <a:p>
            <a:fld id="{7D712E66-A3A8-4C24-98E7-27BF33B7FB58}" type="slidenum">
              <a:t>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Liaison Report #2</a:t>
            </a:r>
            <a:endParaRPr b="0" lang="en-US" sz="4400" spc="-1" strike="noStrike">
              <a:solidFill>
                <a:srgbClr val="000000"/>
              </a:solidFill>
              <a:latin typeface="Times New Roman"/>
            </a:endParaRPr>
          </a:p>
        </p:txBody>
      </p:sp>
      <p:sp>
        <p:nvSpPr>
          <p:cNvPr id="52" name=""/>
          <p:cNvSpPr/>
          <p:nvPr/>
        </p:nvSpPr>
        <p:spPr>
          <a:xfrm>
            <a:off x="533520" y="1828800"/>
            <a:ext cx="8229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 samples in WAV format output from two CVSD Corruption Simula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t packet filled with white background noise encoded in binary as alternating ones and zeros of the same size as the lost packet(s). Assumes packet headers have been corrupted during transmission, allowing the decoder to recognize a corrupt packet and handle it according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s packet headers have been left intact, preventing the decoder from recognizing the packet as corrupt. 50% of the “lost” packets are recognized as corrupt and treated as above, while the other 50% are filled with random bits simulating the corrupted paylo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ichard Ditch, Motorola</a:t>
            </a:r>
          </a:p>
        </p:txBody>
      </p:sp>
      <p:sp>
        <p:nvSpPr>
          <p:cNvPr id="3" name="PlaceHolder 2"/>
          <p:cNvSpPr>
            <a:spLocks noGrp="1"/>
          </p:cNvSpPr>
          <p:nvPr>
            <p:ph type="sldNum" idx="3"/>
          </p:nvPr>
        </p:nvSpPr>
        <p:spPr/>
        <p:txBody>
          <a:bodyPr/>
          <a:p>
            <a:fld id="{941EE924-1CC1-40A9-8B49-4E4CCAE7F54F}" type="slidenum">
              <a:t>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Liaison Report #2</a:t>
            </a:r>
            <a:endParaRPr b="0" lang="en-US" sz="4400" spc="-1" strike="noStrike">
              <a:solidFill>
                <a:srgbClr val="000000"/>
              </a:solidFill>
              <a:latin typeface="Times New Roman"/>
            </a:endParaRPr>
          </a:p>
        </p:txBody>
      </p:sp>
      <p:sp>
        <p:nvSpPr>
          <p:cNvPr id="54" name=""/>
          <p:cNvSpPr/>
          <p:nvPr/>
        </p:nvSpPr>
        <p:spPr>
          <a:xfrm>
            <a:off x="533520" y="1828800"/>
            <a:ext cx="8229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e-to-Face Mee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cted in mid Octob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s to begin testing of real hardwa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ichard Ditch, Motorola</a:t>
            </a:r>
          </a:p>
        </p:txBody>
      </p:sp>
      <p:sp>
        <p:nvSpPr>
          <p:cNvPr id="3" name="PlaceHolder 2"/>
          <p:cNvSpPr>
            <a:spLocks noGrp="1"/>
          </p:cNvSpPr>
          <p:nvPr>
            <p:ph type="sldNum" idx="3"/>
          </p:nvPr>
        </p:nvSpPr>
        <p:spPr/>
        <p:txBody>
          <a:bodyPr/>
          <a:p>
            <a:fld id="{1943F716-82C1-44ED-B5A5-E4F278E73A12}" type="slidenum">
              <a:t>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12:42:31Z</dcterms:created>
  <dc:creator>Rich Ditch</dc:creator>
  <dc:description/>
  <dc:language>en-US</dc:language>
  <cp:lastModifiedBy>Motorola PC</cp:lastModifiedBy>
  <cp:lastPrinted>2000-09-18T22:22:33Z</cp:lastPrinted>
  <dcterms:modified xsi:type="dcterms:W3CDTF">2000-09-19T18:07:37Z</dcterms:modified>
  <cp:revision>29</cp:revision>
  <dc:subject/>
  <dc:title>Coexistence Liaison Report #2</dc:title>
</cp:coreProperties>
</file>