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D36EE-0FAA-4CB4-A30C-BDD43485F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88BD9-560F-4DC6-9DBE-CD220B21C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A9C28-5AC5-45A0-8320-AE3CA833E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27264-BE76-4714-9C82-BF94B8FA7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C503D-398E-49FE-9D6E-459CF9630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9E8AF-0A27-4842-A1C2-CA5CDB563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C5220-4FB6-4D6E-9B5B-97D321705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6CC23-D695-407C-A36E-854D4F812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EF329-D331-4122-913B-D1F90D98A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6AE27-1266-4A76-8D0E-9AE54CFD1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8CE65-3093-49DE-A62C-FE5667780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F4F4C-6414-4601-BD77-70899B695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ED5E93-E3E1-4D31-AF25-0F478BFEF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6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36343DF9-48A9-4A28-9C78-B6D4B2989A8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618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WG Liaison Report, No.9</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8Sep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37r1,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Liaison Report is a running Liaison report that is offered to the WG for their consideration.  It is only as good as what is provided to the Author…there are many WG Liaisons that are not captured as they are not provided to the Author or Liaison Office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Our Sponsor requested that an official Liaison Officer be added to the WG.  This report is for the Sponsor and/or the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271200" y="5370480"/>
            <a:ext cx="2764080" cy="798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QRB = Bluetooth Qualification Review Board</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TAB = Bluetooth Technical Advisor Board</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QA = Bluetooth Qualification Administrato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QB = Bluetooth Qualification Body</a:t>
            </a:r>
            <a:r>
              <a:rPr b="0" lang="sv-SE" sz="1000" spc="-1" strike="noStrike">
                <a:solidFill>
                  <a:srgbClr val="000000"/>
                </a:solidFill>
                <a:latin typeface="Arial"/>
                <a:ea typeface="Times New Roman"/>
              </a:rPr>
              <a:t> </a:t>
            </a:r>
            <a:endParaRPr b="0" lang="en-US" sz="1000" spc="-1" strike="noStrike">
              <a:solidFill>
                <a:srgbClr val="000000"/>
              </a:solidFill>
              <a:latin typeface="Times New Roman"/>
            </a:endParaRPr>
          </a:p>
        </p:txBody>
      </p:sp>
      <p:graphicFrame>
        <p:nvGraphicFramePr>
          <p:cNvPr id="69" name=""/>
          <p:cNvGraphicFramePr/>
          <p:nvPr/>
        </p:nvGraphicFramePr>
        <p:xfrm>
          <a:off x="762120" y="1498680"/>
          <a:ext cx="7543800" cy="4140000"/>
        </p:xfrm>
        <a:graphic>
          <a:graphicData uri="http://schemas.openxmlformats.org/presentationml/2006/ole">
            <p:oleObj r:id="rId1" spid="">
              <p:embed/>
              <p:pic>
                <p:nvPicPr>
                  <p:cNvPr id="70" name="" descr=""/>
                  <p:cNvPicPr/>
                  <p:nvPr/>
                </p:nvPicPr>
                <p:blipFill>
                  <a:blip r:embed="rId2"/>
                  <a:stretch/>
                </p:blipFill>
                <p:spPr>
                  <a:xfrm>
                    <a:off x="762120" y="1498680"/>
                    <a:ext cx="7543800" cy="4140000"/>
                  </a:xfrm>
                  <a:prstGeom prst="rect">
                    <a:avLst/>
                  </a:prstGeom>
                  <a:ln w="0">
                    <a:noFill/>
                  </a:ln>
                </p:spPr>
              </p:pic>
            </p:oleObj>
          </a:graphicData>
        </a:graphic>
      </p:graphicFrame>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SIG Structure</a:t>
            </a:r>
            <a:endParaRPr b="0" lang="en-US" sz="4400" spc="-1" strike="noStrike">
              <a:solidFill>
                <a:srgbClr val="000000"/>
              </a:solidFill>
              <a:latin typeface="Times New Roman"/>
            </a:endParaRPr>
          </a:p>
        </p:txBody>
      </p:sp>
      <p:sp>
        <p:nvSpPr>
          <p:cNvPr id="72" name=""/>
          <p:cNvSpPr/>
          <p:nvPr/>
        </p:nvSpPr>
        <p:spPr>
          <a:xfrm>
            <a:off x="599040" y="6208560"/>
            <a:ext cx="355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SIG, Associate Participation Process v0.2.ppt</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00B746F-F12D-47DC-B895-C896F7CB063F}" type="slidenum">
              <a:t>10</a:t>
            </a:fld>
          </a:p>
        </p:txBody>
      </p:sp>
      <p:sp>
        <p:nvSpPr>
          <p:cNvPr id="5" name="PlaceHolder 4"/>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838080"/>
            <a:ext cx="7792920" cy="92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a:t>
            </a:r>
            <a:endParaRPr b="0" lang="en-US" sz="4400" spc="-1" strike="noStrike">
              <a:solidFill>
                <a:srgbClr val="000000"/>
              </a:solidFill>
              <a:latin typeface="Times New Roman"/>
            </a:endParaRPr>
          </a:p>
        </p:txBody>
      </p:sp>
      <p:graphicFrame>
        <p:nvGraphicFramePr>
          <p:cNvPr id="74" name=""/>
          <p:cNvGraphicFramePr/>
          <p:nvPr/>
        </p:nvGraphicFramePr>
        <p:xfrm>
          <a:off x="717480" y="1598760"/>
          <a:ext cx="7916760" cy="4725720"/>
        </p:xfrm>
        <a:graphic>
          <a:graphicData uri="http://schemas.openxmlformats.org/presentationml/2006/ole">
            <p:oleObj r:id="rId1" spid="">
              <p:embed/>
              <p:pic>
                <p:nvPicPr>
                  <p:cNvPr id="75" name="" descr=""/>
                  <p:cNvPicPr/>
                  <p:nvPr/>
                </p:nvPicPr>
                <p:blipFill>
                  <a:blip r:embed="rId2"/>
                  <a:stretch/>
                </p:blipFill>
                <p:spPr>
                  <a:xfrm>
                    <a:off x="717480" y="1598760"/>
                    <a:ext cx="7916760" cy="47257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793D968-1B57-4C8F-8A6D-E47446D8C024}" type="slidenum">
              <a:t>11</a:t>
            </a:fld>
          </a:p>
        </p:txBody>
      </p:sp>
      <p:sp>
        <p:nvSpPr>
          <p:cNvPr id="5" name="PlaceHolder 4"/>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71440" y="1838160"/>
            <a:ext cx="861048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SIG-IEEE Liaison Mapping</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PM BOAR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m Kardach/Francis Truntzer</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IG MKT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 Webb</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IG Coexistence W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d Siz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IG Radio2 W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l Stevenson</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5 WG</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n Gifford</a:t>
            </a:r>
            <a:endParaRPr b="0" lang="en-US" sz="20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5.1 TG1</a:t>
            </a:r>
            <a:endParaRPr b="0"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m Siep/Ian Gifford</a:t>
            </a:r>
            <a:endParaRPr b="0" lang="en-US" sz="18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5 MC</a:t>
            </a:r>
            <a:endParaRPr b="0"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uce Kraemer/Ian Gifford</a:t>
            </a:r>
            <a:endParaRPr b="0" lang="en-US" sz="18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5.2 TG2</a:t>
            </a:r>
            <a:endParaRPr b="0"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ch Ditch/Steve Shellhammer</a:t>
            </a:r>
            <a:endParaRPr b="0" lang="en-US" sz="18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5.3 TG3</a:t>
            </a:r>
            <a:endParaRPr b="0"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Barr/Jim Allen</a:t>
            </a:r>
            <a:endParaRPr b="0" lang="en-US" sz="18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R2SG</a:t>
            </a:r>
            <a:endParaRPr b="0"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m Siep</a:t>
            </a:r>
            <a:endParaRPr b="0" lang="en-US" sz="1800" spc="-1" strike="noStrike">
              <a:solidFill>
                <a:srgbClr val="000000"/>
              </a:solidFill>
              <a:latin typeface="Times New Roman"/>
            </a:endParaRPr>
          </a:p>
        </p:txBody>
      </p:sp>
      <p:sp>
        <p:nvSpPr>
          <p:cNvPr id="80" name=""/>
          <p:cNvSpPr/>
          <p:nvPr/>
        </p:nvSpPr>
        <p:spPr>
          <a:xfrm>
            <a:off x="3962520" y="2514600"/>
            <a:ext cx="9903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733920" y="2895480"/>
            <a:ext cx="1371600" cy="76212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649280" y="2133720"/>
            <a:ext cx="94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ais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a:t>
            </a:r>
            <a:endParaRPr b="0" lang="en-US" sz="1800" spc="-1" strike="noStrike">
              <a:solidFill>
                <a:srgbClr val="000000"/>
              </a:solidFill>
              <a:latin typeface="Times New Roman"/>
            </a:endParaRPr>
          </a:p>
        </p:txBody>
      </p:sp>
      <p:sp>
        <p:nvSpPr>
          <p:cNvPr id="83" name=""/>
          <p:cNvSpPr/>
          <p:nvPr/>
        </p:nvSpPr>
        <p:spPr>
          <a:xfrm>
            <a:off x="2971800" y="4191120"/>
            <a:ext cx="175248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1800" y="4876920"/>
            <a:ext cx="175248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733920" y="5791320"/>
            <a:ext cx="990360" cy="36648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809880" y="5547960"/>
            <a:ext cx="914400" cy="16668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834320" y="5653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RSG?</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E4C76C07-0244-4F82-8366-C1123941D578}" type="slidenum">
              <a:t>12</a:t>
            </a:fld>
          </a:p>
        </p:txBody>
      </p:sp>
      <p:sp>
        <p:nvSpPr>
          <p:cNvPr id="7" name="PlaceHolder 6"/>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EBAF1CD-4296-405C-9BCF-B6E7DA3D9882}" type="slidenum">
              <a:t>13</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838080"/>
            <a:ext cx="7792920" cy="92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 Organization</a:t>
            </a:r>
            <a:endParaRPr b="0" lang="en-US" sz="4400" spc="-1" strike="noStrike">
              <a:solidFill>
                <a:srgbClr val="000000"/>
              </a:solidFill>
              <a:latin typeface="Times New Roman"/>
            </a:endParaRPr>
          </a:p>
        </p:txBody>
      </p:sp>
      <p:graphicFrame>
        <p:nvGraphicFramePr>
          <p:cNvPr id="91" name=""/>
          <p:cNvGraphicFramePr/>
          <p:nvPr/>
        </p:nvGraphicFramePr>
        <p:xfrm>
          <a:off x="1521000" y="1800360"/>
          <a:ext cx="6137280" cy="4600440"/>
        </p:xfrm>
        <a:graphic>
          <a:graphicData uri="http://schemas.openxmlformats.org/presentationml/2006/ole">
            <p:oleObj r:id="rId1" spid="">
              <p:embed/>
              <p:pic>
                <p:nvPicPr>
                  <p:cNvPr id="92" name="" descr=""/>
                  <p:cNvPicPr/>
                  <p:nvPr/>
                </p:nvPicPr>
                <p:blipFill>
                  <a:blip r:embed="rId2"/>
                  <a:stretch/>
                </p:blipFill>
                <p:spPr>
                  <a:xfrm>
                    <a:off x="1521000" y="1800360"/>
                    <a:ext cx="6137280" cy="4600440"/>
                  </a:xfrm>
                  <a:prstGeom prst="rect">
                    <a:avLst/>
                  </a:prstGeom>
                  <a:ln w="0">
                    <a:noFill/>
                  </a:ln>
                </p:spPr>
              </p:pic>
            </p:oleObj>
          </a:graphicData>
        </a:graphic>
      </p:graphicFrame>
      <p:sp>
        <p:nvSpPr>
          <p:cNvPr id="93" name=""/>
          <p:cNvSpPr/>
          <p:nvPr/>
        </p:nvSpPr>
        <p:spPr>
          <a:xfrm>
            <a:off x="6474240" y="2743200"/>
            <a:ext cx="209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ive Officers</a:t>
            </a:r>
            <a:endParaRPr b="0" lang="en-US" sz="2000" spc="-1" strike="noStrike">
              <a:solidFill>
                <a:srgbClr val="000000"/>
              </a:solidFill>
              <a:latin typeface="Times New Roman"/>
            </a:endParaRPr>
          </a:p>
        </p:txBody>
      </p:sp>
      <p:sp>
        <p:nvSpPr>
          <p:cNvPr id="94" name=""/>
          <p:cNvSpPr/>
          <p:nvPr/>
        </p:nvSpPr>
        <p:spPr>
          <a:xfrm rot="16200000">
            <a:off x="-391320" y="4878360"/>
            <a:ext cx="270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Group Officers</a:t>
            </a:r>
            <a:endParaRPr b="0" lang="en-US" sz="2000" spc="-1" strike="noStrike">
              <a:solidFill>
                <a:srgbClr val="000000"/>
              </a:solidFill>
              <a:latin typeface="Times New Roman"/>
            </a:endParaRPr>
          </a:p>
        </p:txBody>
      </p:sp>
      <p:sp>
        <p:nvSpPr>
          <p:cNvPr id="95" name=""/>
          <p:cNvSpPr/>
          <p:nvPr/>
        </p:nvSpPr>
        <p:spPr>
          <a:xfrm>
            <a:off x="533520" y="216360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33520" y="2544840"/>
            <a:ext cx="304560" cy="304560"/>
          </a:xfrm>
          <a:prstGeom prst="rect">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22600" y="2101680"/>
            <a:ext cx="106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ctive</a:t>
            </a:r>
            <a:endParaRPr b="0" lang="en-US" sz="2000" spc="-1" strike="noStrike">
              <a:solidFill>
                <a:srgbClr val="000000"/>
              </a:solidFill>
              <a:latin typeface="Times New Roman"/>
            </a:endParaRPr>
          </a:p>
        </p:txBody>
      </p:sp>
      <p:sp>
        <p:nvSpPr>
          <p:cNvPr id="98" name=""/>
          <p:cNvSpPr/>
          <p:nvPr/>
        </p:nvSpPr>
        <p:spPr>
          <a:xfrm>
            <a:off x="836280" y="2514600"/>
            <a:ext cx="160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Hibernation</a:t>
            </a:r>
            <a:endParaRPr b="0" lang="en-US" sz="2000" spc="-1" strike="noStrike">
              <a:solidFill>
                <a:srgbClr val="000000"/>
              </a:solidFill>
              <a:latin typeface="Times New Roman"/>
            </a:endParaRPr>
          </a:p>
        </p:txBody>
      </p:sp>
      <p:sp>
        <p:nvSpPr>
          <p:cNvPr id="99" name=""/>
          <p:cNvSpPr/>
          <p:nvPr/>
        </p:nvSpPr>
        <p:spPr>
          <a:xfrm>
            <a:off x="546120" y="2925720"/>
            <a:ext cx="304920" cy="304920"/>
          </a:xfrm>
          <a:prstGeom prst="rect">
            <a:avLst/>
          </a:prstGeom>
          <a:solidFill>
            <a:srgbClr val="ffffff"/>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49600" y="2895480"/>
            <a:ext cx="147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isbanded</a:t>
            </a:r>
            <a:endParaRPr b="0" lang="en-US" sz="2000" spc="-1" strike="noStrike">
              <a:solidFill>
                <a:srgbClr val="000000"/>
              </a:solidFill>
              <a:latin typeface="Times New Roman"/>
            </a:endParaRPr>
          </a:p>
        </p:txBody>
      </p:sp>
      <p:sp>
        <p:nvSpPr>
          <p:cNvPr id="101" name=""/>
          <p:cNvSpPr/>
          <p:nvPr/>
        </p:nvSpPr>
        <p:spPr>
          <a:xfrm>
            <a:off x="533520" y="3306600"/>
            <a:ext cx="304560" cy="304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21520" y="324468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Wireles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601FCDF-F04A-45B8-868B-83D71F297EB8}" type="slidenum">
              <a:t>14</a:t>
            </a:fld>
          </a:p>
        </p:txBody>
      </p:sp>
      <p:sp>
        <p:nvSpPr>
          <p:cNvPr id="5" name="PlaceHolder 4"/>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 Report</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12120" indent="-312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802.11</a:t>
            </a:r>
            <a:endParaRPr b="0" lang="en-US" sz="24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Sep00 Joint Chair Meeting</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12120" indent="-312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802.11</a:t>
            </a:r>
            <a:endParaRPr b="0" lang="en-US" sz="24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12120" indent="-312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Joint Interim Meeting Hosting Guidelines doc and provide feedback, -00/189r0.</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1 Interim Meeting in San Jose, CA Venue doc?</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01 Interim Meeting in Orlando, FL Venue doc?</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01 Interim Meeting &amp; Venue doc?</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MAN 802.15 Balloting Poo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114028C-79CD-4C70-95E2-71F60B66BADC}" type="slidenum">
              <a:t>15</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Report</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econ &amp; Meetings</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 </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to IEE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ug00 on TG1 Draft Std. Copyright License &amp; v1.1</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Sep00 Follow up on LAN/MAN 802.15 Balloting Pool status (Kahof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Sep00 Follow up on Bluetooth Pocket Guide Contract</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 </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from IEE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Sep00 LAN/MAN 802.15 Balloting Pool status report (Kahof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0, Aug00, and Sep00 on Copyright License &amp;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Sep00 Follow up on Bluetooth Pocket Guide Contract</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Steps</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TG1 Draft Std. Copyright License &amp;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 up on Bluetooth Pocket Guide Contract and Review Manuscript due 6Oct00</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MAN 802.15 Balloting Pool &amp; Invitation for TG1 Draft est. need 9Nov00</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 Draft Std onto IEEE 802 Plus CD-ROM and SDL Machine Executabl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C625CC7-674D-4353-9D91-3C9D99366C7F}" type="slidenum">
              <a:t>16</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 up on liaison for Nov00 Plenary</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IG</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1 Draft Std. Copyright License &amp;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ise on IEEE Draft 0.8 Standard Status (con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 Specification v1.0C (v1.1) Status (con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BSIG-IEEE Telecon and f2f Meeting Date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SA TG1 Draft Std. Copyright License &amp;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SA TG3 networkin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1/802.15 Interim Meetings?</a:t>
            </a:r>
            <a:endParaRPr b="0" lang="en-US" sz="14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identify hosts and venue 12months out, or more.</a:t>
            </a:r>
            <a:endParaRPr b="0" lang="en-US" sz="12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consider a single (.11/.15) Guideline for Interim Hosts</a:t>
            </a: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SA LAN/MAN 802.15 Balloting Pool?</a:t>
            </a:r>
            <a:endParaRPr b="0" lang="en-US" sz="14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increase the awareness of this process</a:t>
            </a:r>
            <a:endParaRPr b="0" lang="en-US" sz="1200" spc="-1" strike="noStrike">
              <a:solidFill>
                <a:srgbClr val="000000"/>
              </a:solidFill>
              <a:latin typeface="Times New Roman"/>
            </a:endParaRPr>
          </a:p>
        </p:txBody>
      </p:sp>
      <p:sp>
        <p:nvSpPr>
          <p:cNvPr id="109" name=""/>
          <p:cNvSpPr/>
          <p:nvPr/>
        </p:nvSpPr>
        <p:spPr>
          <a:xfrm>
            <a:off x="414360" y="5791320"/>
            <a:ext cx="83059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G Liaisons are fragmented and not all active liaisons are capture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2A71730-ED86-41D3-AF59-9BF13359EB59}" type="slidenum">
              <a:t>17</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1</a:t>
            </a:r>
            <a:br>
              <a:rPr sz="4400"/>
            </a:br>
            <a:r>
              <a:rPr b="0" lang="en-US" sz="4400" spc="-1" strike="noStrike">
                <a:solidFill>
                  <a:srgbClr val="000000"/>
                </a:solidFill>
                <a:latin typeface="Times New Roman"/>
              </a:rPr>
              <a:t>ETSI Mirror – Take a look!</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e to liaison efforts by the IEEE 802.11 the European Technical Standards Institute (ETSI) Project Broadband Radio Access Networks (BRAN) has provide free access to their ETSI Project BRAN documentation area; you MUST use the IEEE 802.15 WG Members Only Username &amp; Password.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groups/802/15/pub/Download.html or</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eee802.org/11/private/ETSI_documents/BRAN/ieee_p802_ETSI_BRAN_Mirrored_Site.ht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CD81ED0-97D3-42BA-8019-0AD352410828}" type="slidenum">
              <a:t>18</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2</a:t>
            </a:r>
            <a:br>
              <a:rPr sz="4400"/>
            </a:br>
            <a:r>
              <a:rPr b="0" lang="en-US" sz="4400" spc="-1" strike="noStrike">
                <a:solidFill>
                  <a:srgbClr val="000000"/>
                </a:solidFill>
                <a:latin typeface="Times New Roman"/>
              </a:rPr>
              <a:t>TG1 Should wait for v1.1</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luetooth SIG continues to be interested in the IEEE Standards-Making Proc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luetooth SIG has been advised of the impact of the v1.1 errata delay and understands the IEEE Project Planning iss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EEE 802.15 Task Group 1 needs to review their schedule and advise the BSIG what and when they are needed in terms of v1.1, TTCN, etc.</a:t>
            </a:r>
            <a:endParaRPr b="0" lang="en-US" sz="2800" spc="-1" strike="noStrike">
              <a:solidFill>
                <a:srgbClr val="000000"/>
              </a:solidFill>
              <a:latin typeface="Times New Roman"/>
            </a:endParaRPr>
          </a:p>
        </p:txBody>
      </p:sp>
      <p:sp>
        <p:nvSpPr>
          <p:cNvPr id="114" name=""/>
          <p:cNvSpPr/>
          <p:nvPr/>
        </p:nvSpPr>
        <p:spPr>
          <a:xfrm>
            <a:off x="414360" y="5791320"/>
            <a:ext cx="83059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Session #8/Scottsdale TG1 will update the BSIG PM 22Sep00 or soone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F6D0702-7491-4426-AC2F-6B6A2EBBD51A}" type="slidenum">
              <a:t>19</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aison Report #9</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ptember 2000 Scottsdale, AZ USA</a:t>
            </a:r>
            <a:endParaRPr b="0" lang="en-US" sz="3600" spc="-1" strike="noStrike">
              <a:solidFill>
                <a:srgbClr val="000000"/>
              </a:solidFill>
              <a:latin typeface="Times New Roman"/>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85C4239-C9B1-4666-87F0-AC4DE6F9D00B}" type="slidenum">
              <a:t>2</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3</a:t>
            </a:r>
            <a:br>
              <a:rPr sz="4400"/>
            </a:br>
            <a:r>
              <a:rPr b="0" lang="en-US" sz="4400" spc="-1" strike="noStrike">
                <a:solidFill>
                  <a:srgbClr val="000000"/>
                </a:solidFill>
                <a:latin typeface="Times New Roman"/>
              </a:rPr>
              <a:t> WG needs to use liaison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Sep00 BSIG-IEEE TG Chairs:</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R Ian Gifford] In a future IEEE-PM meeting, discuss the process by which the IEEE would maintain a spec after accreditation. (This may determine whether the IEEE should accredit BT 1.1 or a more stable version)</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R Ian Gifford] Review the status and milestones of IEEE's SDL model at the Scottsdale meeting. Estimate effort required by the SIG, should the SIG be interested in accelerating the schedule. Send meeting minutes to Francis.</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AR Francis] Discuss SDL model resource requirements ( probably from BTI) at one of the next PM meetings and decide whether the SIG can staff and commit to this activity. Communicate the decision back to Ian Gifford.</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an Gifford]: Define with IEEE's attorney, a process or solution for ensuring that errata submitted by IEEE to the SIG do not violate the SIG's IP policy.</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om Siep] Send minutes from IEEE radio2 study group meetings, to the SIG (Francis)</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Francis &amp; Ian] : Set up a follow-up meeting between SIG PMs and IEEE 802.15 chairs in late Octobe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4062ECF-9188-4EE4-BC83-D4A6C59CDE95}" type="slidenum">
              <a:t>20</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 Liaison Reports On Web, Server &amp; Flash Card(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 -99/005 [99005r0P802-15_Liaison-Report.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2 -99/029 [99029r0P802-15_Liaison-Report-2.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3 -99/063 [99063r1P802-15_Liaison-Report-3.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4 -99/124 [99124r0P802-15_Liaison-Report-4.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5 -99/174 [99174r0P802-15_WG-Liaison-Report-5.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6 -00/037r1 [00037r1P802-15_WG-Liaison-Report-6.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7 -00/118r0 [00118r1P802-15_WG-Liaison-Report-7.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8 -00/182r0 [00182r0P802-15_WG-Liaison-Report-8.pp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5813AFC-18B1-49D2-AFCF-81564ADD046D}" type="slidenum">
              <a:t>21</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Summ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Negoti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serv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52674E9-CE5E-404A-AA4C-48C89469BE73}" type="slidenum">
              <a:t>3</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4B2AB7F-EA4F-4935-80C9-BCB7FF0AB1F4}" type="slidenum">
              <a:t>4</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5000"/>
          </a:bodyPr>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e Liaison List</a:t>
            </a:r>
            <a:endParaRPr b="0" lang="en-US" sz="18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pecial Interest Group (Gifford/Kardach/Truntzer)</a:t>
            </a:r>
            <a:endParaRPr b="0" lang="en-US" sz="16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 (Kraemer/Kerry)</a:t>
            </a:r>
            <a:endParaRPr b="0" lang="en-US" sz="16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6 (/RogerM )</a:t>
            </a:r>
            <a:endParaRPr b="0" lang="en-US" sz="16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t>
            </a:r>
            <a:endParaRPr b="0" lang="en-US" sz="1600" spc="-1" strike="noStrike">
              <a:solidFill>
                <a:srgbClr val="000000"/>
              </a:solidFill>
              <a:latin typeface="Times New Roman"/>
            </a:endParaRPr>
          </a:p>
          <a:p>
            <a:pPr lvl="2" marL="1031400" indent="-21708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s Activities, Standards Publishing Programs (Gifford/Tatiner)</a:t>
            </a:r>
            <a:endParaRPr b="0" lang="en-US" sz="1400" spc="-1" strike="noStrike">
              <a:solidFill>
                <a:srgbClr val="000000"/>
              </a:solidFill>
              <a:latin typeface="Times New Roman"/>
            </a:endParaRPr>
          </a:p>
          <a:p>
            <a:pPr lvl="2" marL="1031400" indent="-21708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tandards Dept., Balloting Center (Gifford/Kahofer)</a:t>
            </a:r>
            <a:endParaRPr b="0" lang="en-US" sz="14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2 Coexistence Letter to Academia (Shellhammer/)</a:t>
            </a:r>
            <a:endParaRPr b="0" lang="en-US" sz="16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gital Imaging Group (Allen/)</a:t>
            </a:r>
            <a:endParaRPr b="0" lang="en-US" sz="16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LANA (/DiCillo)</a:t>
            </a:r>
            <a:endParaRPr b="0" lang="en-US" sz="16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SRC (/Kurihara)</a:t>
            </a:r>
            <a:endParaRPr b="0" lang="en-US" sz="16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 BRAN (Watanabe/Khun-Jush)</a:t>
            </a:r>
            <a:endParaRPr b="0" lang="en-US" sz="1600" spc="-1" strike="noStrike">
              <a:solidFill>
                <a:srgbClr val="000000"/>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 (/Lindinsky)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 (/Carls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 Forum WATM (/Delavers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Hei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McKa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WBWG (/Withingt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Parrish)</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CA (?)</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p:txBody>
      </p:sp>
      <p:sp>
        <p:nvSpPr>
          <p:cNvPr id="59" name=""/>
          <p:cNvSpPr/>
          <p:nvPr/>
        </p:nvSpPr>
        <p:spPr>
          <a:xfrm>
            <a:off x="7013520" y="5867280"/>
            <a:ext cx="1590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1: 802.15/Liais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2: ? Unknown</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A23DD38E-77DA-454C-8D2A-E774C56F68D1}" type="slidenum">
              <a:t>5</a:t>
            </a:fld>
          </a:p>
        </p:txBody>
      </p:sp>
      <p:sp>
        <p:nvSpPr>
          <p:cNvPr id="7" name="PlaceHolder 6"/>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01C19BC-21B1-4B71-903D-D1EC4559C6CE}" type="slidenum">
              <a:t>6</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BRAN - Report</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in BRA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s to create PAN activity in BRA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 is not addressed in BRA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ification of roles of the 802.15 and BT before ETSI starts any activities in this area.</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 Oct00 BRAN #20 in Stresa, Italy</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24, Nov00 BRAN#21 in Sophia Antipolis, France</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ujio Watanabe, Nokia</a:t>
            </a:r>
          </a:p>
        </p:txBody>
      </p:sp>
      <p:sp>
        <p:nvSpPr>
          <p:cNvPr id="5" name="PlaceHolder 4"/>
          <p:cNvSpPr>
            <a:spLocks noGrp="1"/>
          </p:cNvSpPr>
          <p:nvPr>
            <p:ph type="sldNum" idx="3"/>
          </p:nvPr>
        </p:nvSpPr>
        <p:spPr/>
        <p:txBody>
          <a:bodyPr/>
          <a:p>
            <a:fld id="{6A729FB0-C2A6-4B2C-8727-796A35CDC414}" type="slidenum">
              <a:t>7</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BRAN - Next Step</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 for decision in next BRAN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 of liaison with BRA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 of BRAN is handl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ujio Watanabe, Nokia</a:t>
            </a:r>
          </a:p>
        </p:txBody>
      </p:sp>
      <p:sp>
        <p:nvSpPr>
          <p:cNvPr id="5" name="PlaceHolder 4"/>
          <p:cNvSpPr>
            <a:spLocks noGrp="1"/>
          </p:cNvSpPr>
          <p:nvPr>
            <p:ph type="sldNum" idx="3"/>
          </p:nvPr>
        </p:nvSpPr>
        <p:spPr/>
        <p:txBody>
          <a:bodyPr/>
          <a:p>
            <a:fld id="{65A9D816-D7B7-462D-ACCE-8E1D64C22840}" type="slidenum">
              <a:t>8</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econ &amp; Meeting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Sep00 BSIG PM and IEE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to Bluetooth SIG</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Sep00 Follow up on Bluetooth v1.0 C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Sep00 Follow up on Bluetooth Pocket Guide Contrac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Sep00 Follow up on Bluetooth SIGna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from Bluetooth SIG</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Sep00 Follow up on BSIG-IEEE Action Item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Step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 and the IEEE Pocket Guide Contract; almost don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 v1.1, need to resolve license as well as TROFF sourc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MAN 802.15 Balloting Pool, promote to BSIG PM</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 SIGnal Editor/Publisher and Issue No. 7, 8, 9, etc., follow up</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ADFDFAC-9444-4CC1-A37C-F40946E0893F}" type="slidenum">
              <a:t>9</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C. Gifford</dc:creator>
  <dc:description>Ian Gifford, M/A-COM, Inc.</dc:description>
  <cp:keywords>July 2000</cp:keywords>
  <dc:language>en-US</dc:language>
  <cp:lastModifiedBy>Ian C. Gifford</cp:lastModifiedBy>
  <cp:lastPrinted>1998-02-10T13:28:06Z</cp:lastPrinted>
  <dcterms:modified xsi:type="dcterms:W3CDTF">2000-09-18T16:08:47Z</dcterms:modified>
  <cp:revision>249</cp:revision>
  <dc:subject>#8</dc:subject>
  <dc:title>Liaison Report</dc:title>
</cp:coreProperties>
</file>