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8.wmf" ContentType="image/x-wmf"/>
  <Override PartName="/ppt/media/image3.jpeg" ContentType="image/jpeg"/>
  <Override PartName="/ppt/media/image1.wmf" ContentType="image/x-wmf"/>
  <Override PartName="/ppt/media/image2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539-1539-44E2-8AF0-3782213D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C6D-FC46-4DCD-9D86-5EA31199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AF8-975B-486B-8794-694E29DE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ED8-626A-443A-8D01-0A25BFFD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8F1-2767-43A4-887D-FDBF0206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4B9-D840-4796-8B39-86964203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8EA-0ED8-4A95-9C2F-CDD2147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B62-9A93-45CB-A1EB-D5976A01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1AE-F75B-42D4-8FED-C705B3D3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561-B485-4EAA-B278-B1047971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254-0C3A-4C54-A8F6-0E026910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931-27B5-4224-AEA8-DC61D0B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67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9A08A9-AD13-420E-94C5-E1555E94A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0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mec’s PicoLink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ed Data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posed aggregate rate of 44 Mbps a throughput of 28 Mbps is anticipated but depends upon the 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 reducing Rx-Tx to 10µS increases throughput to 34 Mbps with 2048 byte fr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response time for small packets is under 5 mS for current 1 Mbps system, projected to be less at higher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nsfer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respons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MA/CA; collision sense/collision avoidance (very much like 802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chron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propose a timebounded service to provide a level of QoS although CSMA presents bandwidth limitation for Isochronous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traffic loa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number of activ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0 nodes pe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ad-hoc networks are als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ode on the network can provide a portal to anothe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als a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ode on the network can assume the master(coordinator) role either by request from the master or by disappearance of the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system does provide a method for detection and recovering from the loss of a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has options allowing it to conserve current drain by allowing periodic searches for link re-establishment rather than continuous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Managemen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ime increments for sleeping are selectable, e.g. 1,2…beac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service intervals allow the MAC to adapt to various PHY wakeu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cons are scheduled and allow the nodes to wakeup listen for any pending messages and then go back to sleep if there are no mess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Consumption of MAC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.3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wer Consump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search duty cycle during loss of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to slave links require less energy in a Peer to Peer topology than a Master/Slav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. Propose a modified Safer algorithm be used, as in Bluetoot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.  Propose the use of the Bluetoot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a function of environment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/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n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described for the HR MAC is estimated to be much less than 6,000 gates additional to the 802.15.1 MAC (10,000 gates w/o reu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32 Kbytes in addition to the 802.15.1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228600" y="1295280"/>
          <a:ext cx="8686800" cy="386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4" name=""/>
          <p:cNvGraphicFramePr/>
          <p:nvPr/>
        </p:nvGraphicFramePr>
        <p:xfrm>
          <a:off x="228600" y="1600200"/>
          <a:ext cx="8556480" cy="31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5564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Targeted Applications for PicoLink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05120"/>
            <a:ext cx="5333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le replacement (point to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rcode scanner to portable/mobile 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ter to portable/mobile 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rea connectivity (peer to p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nd held computer to numerous peripheral devices including scanners, printers, wide area network radi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91520" y="762120"/>
          <a:ext cx="761760" cy="19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762120"/>
                    <a:ext cx="76176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456240" y="4987800"/>
            <a:ext cx="1244880" cy="1241280"/>
            <a:chOff x="6456240" y="4987800"/>
            <a:chExt cx="1244880" cy="1241280"/>
          </a:xfrm>
        </p:grpSpPr>
        <p:grpSp>
          <p:nvGrpSpPr>
            <p:cNvPr id="52" name=""/>
            <p:cNvGrpSpPr/>
            <p:nvPr/>
          </p:nvGrpSpPr>
          <p:grpSpPr>
            <a:xfrm>
              <a:off x="6456240" y="5973840"/>
              <a:ext cx="68400" cy="135000"/>
              <a:chOff x="6456240" y="5973840"/>
              <a:chExt cx="68400" cy="135000"/>
            </a:xfrm>
          </p:grpSpPr>
          <p:sp>
            <p:nvSpPr>
              <p:cNvPr id="53" name=""/>
              <p:cNvSpPr/>
              <p:nvPr/>
            </p:nvSpPr>
            <p:spPr>
              <a:xfrm>
                <a:off x="6462720" y="5973840"/>
                <a:ext cx="54000" cy="79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6456240" y="5991120"/>
                <a:ext cx="68400" cy="117720"/>
                <a:chOff x="6456240" y="5991120"/>
                <a:chExt cx="68400" cy="11772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6456240" y="5991120"/>
                  <a:ext cx="68400" cy="82800"/>
                  <a:chOff x="6456240" y="5991120"/>
                  <a:chExt cx="68400" cy="828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6456240" y="5991120"/>
                    <a:ext cx="334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2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20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6492960" y="5991120"/>
                    <a:ext cx="316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2">
                        <a:moveTo>
                          <a:pt x="19" y="0"/>
                        </a:moveTo>
                        <a:lnTo>
                          <a:pt x="19" y="26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6481800" y="6075360"/>
                  <a:ext cx="23400" cy="33480"/>
                  <a:chOff x="6481800" y="6075360"/>
                  <a:chExt cx="23400" cy="334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6481800" y="6075360"/>
                    <a:ext cx="792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flipH="1">
                    <a:off x="6486120" y="6075360"/>
                    <a:ext cx="1908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1" name=""/>
            <p:cNvSpPr/>
            <p:nvPr/>
          </p:nvSpPr>
          <p:spPr>
            <a:xfrm>
              <a:off x="6515280" y="5963040"/>
              <a:ext cx="103140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7" y="10541"/>
                  </a:moveTo>
                  <a:arcTo wR="10800" hR="10800" stAng="-82580" swAng="10923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7" y="10541"/>
                  </a:moveTo>
                  <a:arcTo wR="10800" hR="10800" stAng="-82580" swAng="109237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7543800" y="5471640"/>
              <a:ext cx="144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288200" y="4987800"/>
              <a:ext cx="4129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5683320" y="4808160"/>
            <a:ext cx="1320840" cy="1148040"/>
            <a:chOff x="5683320" y="4808160"/>
            <a:chExt cx="1320840" cy="1148040"/>
          </a:xfrm>
        </p:grpSpPr>
        <p:grpSp>
          <p:nvGrpSpPr>
            <p:cNvPr id="65" name=""/>
            <p:cNvGrpSpPr/>
            <p:nvPr/>
          </p:nvGrpSpPr>
          <p:grpSpPr>
            <a:xfrm>
              <a:off x="5683320" y="5059440"/>
              <a:ext cx="1320840" cy="896760"/>
              <a:chOff x="5683320" y="5059440"/>
              <a:chExt cx="1320840" cy="89676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5683320" y="5059440"/>
                <a:ext cx="1320840" cy="896760"/>
                <a:chOff x="5683320" y="5059440"/>
                <a:chExt cx="1320840" cy="8967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83320" y="5059440"/>
                  <a:ext cx="1320840" cy="896760"/>
                </a:xfrm>
                <a:prstGeom prst="rect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43520" y="5186520"/>
                  <a:ext cx="1000080" cy="64296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865840" y="5205240"/>
                  <a:ext cx="955800" cy="605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5772240" y="5191200"/>
                <a:ext cx="1170000" cy="6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1680" rIns="31680" tIns="15840" bIns="158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1000" spc="-1" strike="noStrike">
                    <a:solidFill>
                      <a:srgbClr val="ffcc00"/>
                    </a:solidFill>
                    <a:latin typeface="Arial"/>
                  </a:rPr>
                  <a:t>PEN*KEY 6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800" spc="-1" strike="noStrike">
                    <a:solidFill>
                      <a:srgbClr val="ffcc00"/>
                    </a:solidFill>
                    <a:latin typeface="Arial"/>
                  </a:rPr>
                  <a:t>Picking 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Scan Item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000123456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Description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Tide Liq., 50oz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Scan Location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BAY 3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Enter Quantity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40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Take to Location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Dock 5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5892840" y="5735520"/>
                <a:ext cx="906480" cy="47880"/>
                <a:chOff x="5892840" y="5735520"/>
                <a:chExt cx="906480" cy="47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896080" y="5735520"/>
                  <a:ext cx="903240" cy="47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5892840" y="5735520"/>
                  <a:ext cx="449280" cy="47880"/>
                  <a:chOff x="5892840" y="5735520"/>
                  <a:chExt cx="449280" cy="4788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5892840" y="5735520"/>
                    <a:ext cx="44928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5896080" y="5735520"/>
                    <a:ext cx="21744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6353280" y="5735520"/>
                  <a:ext cx="446040" cy="47880"/>
                  <a:chOff x="6353280" y="5735520"/>
                  <a:chExt cx="446040" cy="4788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6353280" y="5735520"/>
                    <a:ext cx="44604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354720" y="5735520"/>
                    <a:ext cx="21600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9" name=""/>
              <p:cNvSpPr/>
              <p:nvPr/>
            </p:nvSpPr>
            <p:spPr>
              <a:xfrm>
                <a:off x="5877720" y="5718240"/>
                <a:ext cx="22860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Keyboar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128640" y="5718240"/>
                <a:ext cx="1951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Keypa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83160" y="5718240"/>
                <a:ext cx="14328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Help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615360" y="5718240"/>
                <a:ext cx="12960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Exi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029280" y="4808160"/>
              <a:ext cx="345960" cy="238680"/>
              <a:chOff x="6029280" y="4808160"/>
              <a:chExt cx="345960" cy="238680"/>
            </a:xfrm>
          </p:grpSpPr>
          <p:sp>
            <p:nvSpPr>
              <p:cNvPr id="84" name=""/>
              <p:cNvSpPr/>
              <p:nvPr/>
            </p:nvSpPr>
            <p:spPr>
              <a:xfrm>
                <a:off x="6029280" y="5019840"/>
                <a:ext cx="11160" cy="27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3300000">
                <a:off x="6354360" y="4816800"/>
                <a:ext cx="23760" cy="46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3300000">
                <a:off x="6185880" y="4755600"/>
                <a:ext cx="17280" cy="326520"/>
              </a:xfrm>
              <a:custGeom>
                <a:avLst/>
                <a:gdLst>
                  <a:gd name="textAreaLeft" fmla="*/ 3600 w 17280"/>
                  <a:gd name="textAreaRight" fmla="*/ 13680 w 17280"/>
                  <a:gd name="textAreaTop" fmla="*/ 71640 h 326520"/>
                  <a:gd name="textAreaBottom" fmla="*/ 254880 h 32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6862680" y="3313080"/>
            <a:ext cx="1263600" cy="1147680"/>
            <a:chOff x="6862680" y="3313080"/>
            <a:chExt cx="1263600" cy="1147680"/>
          </a:xfrm>
        </p:grpSpPr>
        <p:grpSp>
          <p:nvGrpSpPr>
            <p:cNvPr id="88" name=""/>
            <p:cNvGrpSpPr/>
            <p:nvPr/>
          </p:nvGrpSpPr>
          <p:grpSpPr>
            <a:xfrm>
              <a:off x="6862680" y="3554280"/>
              <a:ext cx="1263600" cy="906480"/>
              <a:chOff x="6862680" y="3554280"/>
              <a:chExt cx="1263600" cy="906480"/>
            </a:xfrm>
          </p:grpSpPr>
          <p:sp>
            <p:nvSpPr>
              <p:cNvPr id="89" name=""/>
              <p:cNvSpPr/>
              <p:nvPr/>
            </p:nvSpPr>
            <p:spPr>
              <a:xfrm>
                <a:off x="6862680" y="3554280"/>
                <a:ext cx="303120" cy="606600"/>
              </a:xfrm>
              <a:custGeom>
                <a:avLst/>
                <a:gdLst/>
                <a:ahLst/>
                <a:rect l="l" t="t" r="r" b="b"/>
                <a:pathLst>
                  <a:path w="191" h="382">
                    <a:moveTo>
                      <a:pt x="23" y="381"/>
                    </a:moveTo>
                    <a:lnTo>
                      <a:pt x="0" y="381"/>
                    </a:lnTo>
                    <a:lnTo>
                      <a:pt x="0" y="364"/>
                    </a:lnTo>
                    <a:lnTo>
                      <a:pt x="0" y="345"/>
                    </a:lnTo>
                    <a:lnTo>
                      <a:pt x="3" y="323"/>
                    </a:lnTo>
                    <a:lnTo>
                      <a:pt x="9" y="300"/>
                    </a:lnTo>
                    <a:lnTo>
                      <a:pt x="18" y="280"/>
                    </a:lnTo>
                    <a:lnTo>
                      <a:pt x="24" y="266"/>
                    </a:lnTo>
                    <a:lnTo>
                      <a:pt x="176" y="0"/>
                    </a:lnTo>
                    <a:lnTo>
                      <a:pt x="190" y="1"/>
                    </a:lnTo>
                    <a:lnTo>
                      <a:pt x="158" y="61"/>
                    </a:lnTo>
                    <a:lnTo>
                      <a:pt x="23" y="38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96160" y="3554280"/>
                <a:ext cx="1227240" cy="906480"/>
              </a:xfrm>
              <a:custGeom>
                <a:avLst/>
                <a:gdLst/>
                <a:ahLst/>
                <a:rect l="l" t="t" r="r" b="b"/>
                <a:pathLst>
                  <a:path w="773" h="571">
                    <a:moveTo>
                      <a:pt x="623" y="570"/>
                    </a:moveTo>
                    <a:lnTo>
                      <a:pt x="21" y="438"/>
                    </a:lnTo>
                    <a:lnTo>
                      <a:pt x="15" y="423"/>
                    </a:lnTo>
                    <a:lnTo>
                      <a:pt x="5" y="392"/>
                    </a:lnTo>
                    <a:lnTo>
                      <a:pt x="0" y="372"/>
                    </a:lnTo>
                    <a:lnTo>
                      <a:pt x="1" y="353"/>
                    </a:lnTo>
                    <a:lnTo>
                      <a:pt x="6" y="325"/>
                    </a:lnTo>
                    <a:lnTo>
                      <a:pt x="20" y="289"/>
                    </a:lnTo>
                    <a:lnTo>
                      <a:pt x="58" y="209"/>
                    </a:lnTo>
                    <a:lnTo>
                      <a:pt x="173" y="0"/>
                    </a:lnTo>
                    <a:lnTo>
                      <a:pt x="772" y="109"/>
                    </a:lnTo>
                    <a:lnTo>
                      <a:pt x="626" y="519"/>
                    </a:lnTo>
                    <a:lnTo>
                      <a:pt x="621" y="550"/>
                    </a:lnTo>
                    <a:lnTo>
                      <a:pt x="623" y="57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62680" y="4164120"/>
                <a:ext cx="60480" cy="8244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0"/>
                    </a:moveTo>
                    <a:lnTo>
                      <a:pt x="3" y="11"/>
                    </a:lnTo>
                    <a:lnTo>
                      <a:pt x="10" y="27"/>
                    </a:lnTo>
                    <a:lnTo>
                      <a:pt x="21" y="45"/>
                    </a:lnTo>
                    <a:lnTo>
                      <a:pt x="37" y="51"/>
                    </a:lnTo>
                    <a:lnTo>
                      <a:pt x="1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96160" y="4165560"/>
                <a:ext cx="949320" cy="228600"/>
              </a:xfrm>
              <a:custGeom>
                <a:avLst/>
                <a:gdLst/>
                <a:ahLst/>
                <a:rect l="l" t="t" r="r" b="b"/>
                <a:pathLst>
                  <a:path w="598" h="144">
                    <a:moveTo>
                      <a:pt x="4" y="25"/>
                    </a:moveTo>
                    <a:lnTo>
                      <a:pt x="597" y="143"/>
                    </a:lnTo>
                    <a:lnTo>
                      <a:pt x="594" y="117"/>
                    </a:lnTo>
                    <a:lnTo>
                      <a:pt x="0" y="0"/>
                    </a:lnTo>
                    <a:lnTo>
                      <a:pt x="4" y="2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69040" y="3618000"/>
                <a:ext cx="895320" cy="506160"/>
              </a:xfrm>
              <a:custGeom>
                <a:avLst/>
                <a:gdLst/>
                <a:ahLst/>
                <a:rect l="l" t="t" r="r" b="b"/>
                <a:pathLst>
                  <a:path w="564" h="319">
                    <a:moveTo>
                      <a:pt x="23" y="154"/>
                    </a:moveTo>
                    <a:lnTo>
                      <a:pt x="11" y="175"/>
                    </a:lnTo>
                    <a:lnTo>
                      <a:pt x="0" y="205"/>
                    </a:lnTo>
                    <a:lnTo>
                      <a:pt x="12" y="209"/>
                    </a:lnTo>
                    <a:lnTo>
                      <a:pt x="3" y="226"/>
                    </a:lnTo>
                    <a:lnTo>
                      <a:pt x="74" y="242"/>
                    </a:lnTo>
                    <a:lnTo>
                      <a:pt x="73" y="248"/>
                    </a:lnTo>
                    <a:lnTo>
                      <a:pt x="180" y="271"/>
                    </a:lnTo>
                    <a:lnTo>
                      <a:pt x="182" y="265"/>
                    </a:lnTo>
                    <a:lnTo>
                      <a:pt x="410" y="318"/>
                    </a:lnTo>
                    <a:lnTo>
                      <a:pt x="416" y="301"/>
                    </a:lnTo>
                    <a:lnTo>
                      <a:pt x="485" y="316"/>
                    </a:lnTo>
                    <a:lnTo>
                      <a:pt x="563" y="94"/>
                    </a:lnTo>
                    <a:lnTo>
                      <a:pt x="69" y="0"/>
                    </a:lnTo>
                    <a:lnTo>
                      <a:pt x="23" y="109"/>
                    </a:lnTo>
                    <a:lnTo>
                      <a:pt x="4" y="149"/>
                    </a:lnTo>
                    <a:lnTo>
                      <a:pt x="23" y="15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853400" y="4121280"/>
                <a:ext cx="87120" cy="336600"/>
              </a:xfrm>
              <a:custGeom>
                <a:avLst/>
                <a:gdLst/>
                <a:ahLst/>
                <a:rect l="l" t="t" r="r" b="b"/>
                <a:pathLst>
                  <a:path w="55" h="212">
                    <a:moveTo>
                      <a:pt x="6" y="211"/>
                    </a:moveTo>
                    <a:lnTo>
                      <a:pt x="3" y="203"/>
                    </a:lnTo>
                    <a:lnTo>
                      <a:pt x="1" y="193"/>
                    </a:lnTo>
                    <a:lnTo>
                      <a:pt x="0" y="177"/>
                    </a:lnTo>
                    <a:lnTo>
                      <a:pt x="5" y="145"/>
                    </a:lnTo>
                    <a:lnTo>
                      <a:pt x="8" y="130"/>
                    </a:lnTo>
                    <a:lnTo>
                      <a:pt x="17" y="107"/>
                    </a:lnTo>
                    <a:lnTo>
                      <a:pt x="24" y="79"/>
                    </a:lnTo>
                    <a:lnTo>
                      <a:pt x="36" y="48"/>
                    </a:lnTo>
                    <a:lnTo>
                      <a:pt x="54" y="0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881760" y="4205160"/>
                <a:ext cx="1011240" cy="206640"/>
              </a:xfrm>
              <a:custGeom>
                <a:avLst/>
                <a:gdLst/>
                <a:ahLst/>
                <a:rect l="l" t="t" r="r" b="b"/>
                <a:pathLst>
                  <a:path w="637" h="130">
                    <a:moveTo>
                      <a:pt x="636" y="124"/>
                    </a:moveTo>
                    <a:lnTo>
                      <a:pt x="617" y="129"/>
                    </a:lnTo>
                    <a:lnTo>
                      <a:pt x="600" y="126"/>
                    </a:lnTo>
                    <a:lnTo>
                      <a:pt x="183" y="3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94360" y="3557520"/>
                <a:ext cx="274680" cy="696960"/>
              </a:xfrm>
              <a:custGeom>
                <a:avLst/>
                <a:gdLst/>
                <a:ahLst/>
                <a:rect l="l" t="t" r="r" b="b"/>
                <a:pathLst>
                  <a:path w="173" h="439">
                    <a:moveTo>
                      <a:pt x="22" y="438"/>
                    </a:moveTo>
                    <a:lnTo>
                      <a:pt x="4" y="386"/>
                    </a:lnTo>
                    <a:lnTo>
                      <a:pt x="0" y="365"/>
                    </a:lnTo>
                    <a:lnTo>
                      <a:pt x="3" y="341"/>
                    </a:lnTo>
                    <a:lnTo>
                      <a:pt x="10" y="313"/>
                    </a:lnTo>
                    <a:lnTo>
                      <a:pt x="20" y="289"/>
                    </a:lnTo>
                    <a:lnTo>
                      <a:pt x="40" y="246"/>
                    </a:lnTo>
                    <a:lnTo>
                      <a:pt x="61" y="203"/>
                    </a:lnTo>
                    <a:lnTo>
                      <a:pt x="112" y="112"/>
                    </a:lnTo>
                    <a:lnTo>
                      <a:pt x="172" y="0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78600" y="3720960"/>
                <a:ext cx="247680" cy="735120"/>
              </a:xfrm>
              <a:custGeom>
                <a:avLst/>
                <a:gdLst/>
                <a:ahLst/>
                <a:rect l="l" t="t" r="r" b="b"/>
                <a:pathLst>
                  <a:path w="156" h="463">
                    <a:moveTo>
                      <a:pt x="147" y="0"/>
                    </a:moveTo>
                    <a:lnTo>
                      <a:pt x="30" y="333"/>
                    </a:lnTo>
                    <a:lnTo>
                      <a:pt x="16" y="376"/>
                    </a:lnTo>
                    <a:lnTo>
                      <a:pt x="6" y="406"/>
                    </a:lnTo>
                    <a:lnTo>
                      <a:pt x="3" y="421"/>
                    </a:lnTo>
                    <a:lnTo>
                      <a:pt x="0" y="437"/>
                    </a:lnTo>
                    <a:lnTo>
                      <a:pt x="0" y="452"/>
                    </a:lnTo>
                    <a:lnTo>
                      <a:pt x="3" y="460"/>
                    </a:lnTo>
                    <a:lnTo>
                      <a:pt x="8" y="462"/>
                    </a:lnTo>
                    <a:lnTo>
                      <a:pt x="16" y="460"/>
                    </a:lnTo>
                    <a:lnTo>
                      <a:pt x="25" y="455"/>
                    </a:lnTo>
                    <a:lnTo>
                      <a:pt x="30" y="450"/>
                    </a:lnTo>
                    <a:lnTo>
                      <a:pt x="36" y="441"/>
                    </a:lnTo>
                    <a:lnTo>
                      <a:pt x="47" y="419"/>
                    </a:lnTo>
                    <a:lnTo>
                      <a:pt x="63" y="375"/>
                    </a:lnTo>
                    <a:lnTo>
                      <a:pt x="155" y="95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43840" y="36036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7" y="0"/>
                    </a:moveTo>
                    <a:lnTo>
                      <a:pt x="0" y="35"/>
                    </a:lnTo>
                    <a:lnTo>
                      <a:pt x="31" y="41"/>
                    </a:lnTo>
                    <a:lnTo>
                      <a:pt x="47" y="7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67600" y="36241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1" y="7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7143840" y="4037040"/>
                <a:ext cx="649080" cy="306360"/>
                <a:chOff x="7143840" y="4037040"/>
                <a:chExt cx="649080" cy="3063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143840" y="4089240"/>
                  <a:ext cx="617400" cy="254160"/>
                </a:xfrm>
                <a:custGeom>
                  <a:avLst/>
                  <a:gdLst/>
                  <a:ahLst/>
                  <a:rect l="l" t="t" r="r" b="b"/>
                  <a:pathLst>
                    <a:path w="389" h="160">
                      <a:moveTo>
                        <a:pt x="0" y="76"/>
                      </a:moveTo>
                      <a:lnTo>
                        <a:pt x="3" y="47"/>
                      </a:lnTo>
                      <a:lnTo>
                        <a:pt x="18" y="0"/>
                      </a:lnTo>
                      <a:lnTo>
                        <a:pt x="388" y="93"/>
                      </a:lnTo>
                      <a:lnTo>
                        <a:pt x="382" y="131"/>
                      </a:lnTo>
                      <a:lnTo>
                        <a:pt x="376" y="159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161120" y="4037040"/>
                  <a:ext cx="631800" cy="203040"/>
                </a:xfrm>
                <a:custGeom>
                  <a:avLst/>
                  <a:gdLst/>
                  <a:ahLst/>
                  <a:rect l="l" t="t" r="r" b="b"/>
                  <a:pathLst>
                    <a:path w="398" h="128">
                      <a:moveTo>
                        <a:pt x="0" y="48"/>
                      </a:moveTo>
                      <a:lnTo>
                        <a:pt x="8" y="29"/>
                      </a:lnTo>
                      <a:lnTo>
                        <a:pt x="13" y="18"/>
                      </a:lnTo>
                      <a:lnTo>
                        <a:pt x="24" y="0"/>
                      </a:lnTo>
                      <a:lnTo>
                        <a:pt x="397" y="80"/>
                      </a:lnTo>
                      <a:lnTo>
                        <a:pt x="386" y="99"/>
                      </a:lnTo>
                      <a:lnTo>
                        <a:pt x="380" y="112"/>
                      </a:lnTo>
                      <a:lnTo>
                        <a:pt x="376" y="127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7362720" y="4091040"/>
                  <a:ext cx="95400" cy="61920"/>
                  <a:chOff x="7362720" y="4091040"/>
                  <a:chExt cx="95400" cy="619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7372440" y="4091040"/>
                    <a:ext cx="856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9" y="0"/>
                        </a:moveTo>
                        <a:lnTo>
                          <a:pt x="0" y="21"/>
                        </a:lnTo>
                        <a:lnTo>
                          <a:pt x="44" y="31"/>
                        </a:lnTo>
                        <a:lnTo>
                          <a:pt x="53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62720" y="4137120"/>
                    <a:ext cx="65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38" y="9"/>
                        </a:lnTo>
                        <a:lnTo>
                          <a:pt x="40" y="6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450200" y="4108320"/>
                  <a:ext cx="93600" cy="63720"/>
                  <a:chOff x="7450200" y="4108320"/>
                  <a:chExt cx="93600" cy="6372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7461360" y="4108320"/>
                    <a:ext cx="824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3">
                        <a:moveTo>
                          <a:pt x="9" y="0"/>
                        </a:moveTo>
                        <a:lnTo>
                          <a:pt x="0" y="21"/>
                        </a:lnTo>
                        <a:lnTo>
                          <a:pt x="42" y="32"/>
                        </a:lnTo>
                        <a:lnTo>
                          <a:pt x="51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7450200" y="4154400"/>
                    <a:ext cx="65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1">
                        <a:moveTo>
                          <a:pt x="2" y="0"/>
                        </a:moveTo>
                        <a:lnTo>
                          <a:pt x="0" y="4"/>
                        </a:lnTo>
                        <a:lnTo>
                          <a:pt x="38" y="10"/>
                        </a:lnTo>
                        <a:lnTo>
                          <a:pt x="40" y="7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275600" y="4071960"/>
                  <a:ext cx="93600" cy="63360"/>
                  <a:chOff x="7275600" y="4071960"/>
                  <a:chExt cx="93600" cy="6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284960" y="4071960"/>
                    <a:ext cx="842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3">
                        <a:moveTo>
                          <a:pt x="9" y="0"/>
                        </a:moveTo>
                        <a:lnTo>
                          <a:pt x="0" y="22"/>
                        </a:lnTo>
                        <a:lnTo>
                          <a:pt x="43" y="32"/>
                        </a:lnTo>
                        <a:lnTo>
                          <a:pt x="52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275600" y="4119480"/>
                    <a:ext cx="65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37" y="9"/>
                        </a:lnTo>
                        <a:lnTo>
                          <a:pt x="40" y="6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7675560" y="4154400"/>
                  <a:ext cx="82440" cy="50760"/>
                </a:xfrm>
                <a:custGeom>
                  <a:avLst/>
                  <a:gdLst/>
                  <a:ahLst/>
                  <a:rect l="l" t="t" r="r" b="b"/>
                  <a:pathLst>
                    <a:path w="52" h="32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42" y="31"/>
                      </a:lnTo>
                      <a:lnTo>
                        <a:pt x="51" y="9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64400" y="4200480"/>
                  <a:ext cx="65160" cy="17640"/>
                </a:xfrm>
                <a:custGeom>
                  <a:avLst/>
                  <a:gdLst/>
                  <a:ahLst/>
                  <a:rect l="l" t="t" r="r" b="b"/>
                  <a:pathLst>
                    <a:path w="41" h="11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38" y="10"/>
                      </a:lnTo>
                      <a:lnTo>
                        <a:pt x="40" y="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574040" y="4130640"/>
                  <a:ext cx="65160" cy="17640"/>
                </a:xfrm>
                <a:custGeom>
                  <a:avLst/>
                  <a:gdLst/>
                  <a:ahLst/>
                  <a:rect l="l" t="t" r="r" b="b"/>
                  <a:pathLst>
                    <a:path w="41" h="11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38" y="10"/>
                      </a:lnTo>
                      <a:lnTo>
                        <a:pt x="40" y="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566120" y="4151160"/>
                  <a:ext cx="65160" cy="17640"/>
                </a:xfrm>
                <a:custGeom>
                  <a:avLst/>
                  <a:gdLst/>
                  <a:ahLst/>
                  <a:rect l="l" t="t" r="r" b="b"/>
                  <a:pathLst>
                    <a:path w="41" h="11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37" y="10"/>
                      </a:lnTo>
                      <a:lnTo>
                        <a:pt x="40" y="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558200" y="4175280"/>
                  <a:ext cx="66600" cy="15840"/>
                </a:xfrm>
                <a:custGeom>
                  <a:avLst/>
                  <a:gdLst/>
                  <a:ahLst/>
                  <a:rect l="l" t="t" r="r" b="b"/>
                  <a:pathLst>
                    <a:path w="42" h="1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38" y="9"/>
                      </a:lnTo>
                      <a:lnTo>
                        <a:pt x="41" y="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84880" y="4097160"/>
                  <a:ext cx="65160" cy="16200"/>
                </a:xfrm>
                <a:custGeom>
                  <a:avLst/>
                  <a:gdLst/>
                  <a:ahLst/>
                  <a:rect l="l" t="t" r="r" b="b"/>
                  <a:pathLst>
                    <a:path w="41" h="10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37" y="9"/>
                      </a:lnTo>
                      <a:lnTo>
                        <a:pt x="40" y="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6958080" y="4003560"/>
                <a:ext cx="191880" cy="87480"/>
              </a:xfrm>
              <a:custGeom>
                <a:avLst/>
                <a:gdLst/>
                <a:ahLst/>
                <a:rect l="l" t="t" r="r" b="b"/>
                <a:pathLst>
                  <a:path w="121" h="55">
                    <a:moveTo>
                      <a:pt x="0" y="34"/>
                    </a:moveTo>
                    <a:lnTo>
                      <a:pt x="13" y="0"/>
                    </a:lnTo>
                    <a:lnTo>
                      <a:pt x="120" y="20"/>
                    </a:lnTo>
                    <a:lnTo>
                      <a:pt x="107" y="5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59520" y="4041720"/>
                <a:ext cx="173160" cy="49320"/>
              </a:xfrm>
              <a:custGeom>
                <a:avLst/>
                <a:gdLst/>
                <a:ahLst/>
                <a:rect l="l" t="t" r="r" b="b"/>
                <a:pathLst>
                  <a:path w="109" h="31">
                    <a:moveTo>
                      <a:pt x="4" y="0"/>
                    </a:moveTo>
                    <a:lnTo>
                      <a:pt x="0" y="10"/>
                    </a:lnTo>
                    <a:lnTo>
                      <a:pt x="105" y="30"/>
                    </a:lnTo>
                    <a:lnTo>
                      <a:pt x="108" y="2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970680" y="4044960"/>
                <a:ext cx="163440" cy="205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280280" y="3992400"/>
                <a:ext cx="258840" cy="63720"/>
              </a:xfrm>
              <a:custGeom>
                <a:avLst/>
                <a:gdLst/>
                <a:ahLst/>
                <a:rect l="l" t="t" r="r" b="b"/>
                <a:pathLst>
                  <a:path w="163" h="40">
                    <a:moveTo>
                      <a:pt x="1" y="7"/>
                    </a:moveTo>
                    <a:lnTo>
                      <a:pt x="38" y="1"/>
                    </a:lnTo>
                    <a:lnTo>
                      <a:pt x="65" y="1"/>
                    </a:lnTo>
                    <a:lnTo>
                      <a:pt x="87" y="0"/>
                    </a:lnTo>
                    <a:lnTo>
                      <a:pt x="100" y="1"/>
                    </a:lnTo>
                    <a:lnTo>
                      <a:pt x="120" y="4"/>
                    </a:lnTo>
                    <a:lnTo>
                      <a:pt x="138" y="10"/>
                    </a:lnTo>
                    <a:lnTo>
                      <a:pt x="154" y="25"/>
                    </a:lnTo>
                    <a:lnTo>
                      <a:pt x="160" y="38"/>
                    </a:lnTo>
                    <a:lnTo>
                      <a:pt x="162" y="39"/>
                    </a:lnTo>
                    <a:lnTo>
                      <a:pt x="113" y="29"/>
                    </a:lnTo>
                    <a:lnTo>
                      <a:pt x="112" y="35"/>
                    </a:lnTo>
                    <a:lnTo>
                      <a:pt x="0" y="13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32760" y="3686040"/>
                <a:ext cx="766800" cy="195480"/>
              </a:xfrm>
              <a:custGeom>
                <a:avLst/>
                <a:gdLst/>
                <a:ahLst/>
                <a:rect l="l" t="t" r="r" b="b"/>
                <a:pathLst>
                  <a:path w="483" h="123">
                    <a:moveTo>
                      <a:pt x="474" y="100"/>
                    </a:moveTo>
                    <a:lnTo>
                      <a:pt x="482" y="100"/>
                    </a:lnTo>
                    <a:lnTo>
                      <a:pt x="475" y="122"/>
                    </a:lnTo>
                    <a:lnTo>
                      <a:pt x="467" y="119"/>
                    </a:lnTo>
                    <a:lnTo>
                      <a:pt x="468" y="114"/>
                    </a:lnTo>
                    <a:lnTo>
                      <a:pt x="15" y="25"/>
                    </a:lnTo>
                    <a:lnTo>
                      <a:pt x="10" y="34"/>
                    </a:lnTo>
                    <a:lnTo>
                      <a:pt x="0" y="31"/>
                    </a:lnTo>
                    <a:lnTo>
                      <a:pt x="13" y="0"/>
                    </a:lnTo>
                    <a:lnTo>
                      <a:pt x="24" y="2"/>
                    </a:lnTo>
                    <a:lnTo>
                      <a:pt x="20" y="11"/>
                    </a:lnTo>
                    <a:lnTo>
                      <a:pt x="474" y="10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283520" y="3808440"/>
                <a:ext cx="137880" cy="77760"/>
                <a:chOff x="7283520" y="3808440"/>
                <a:chExt cx="137880" cy="777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283520" y="3808440"/>
                  <a:ext cx="137880" cy="77760"/>
                </a:xfrm>
                <a:custGeom>
                  <a:avLst/>
                  <a:gdLst/>
                  <a:ahLst/>
                  <a:rect l="l" t="t" r="r" b="b"/>
                  <a:pathLst>
                    <a:path w="87" h="49">
                      <a:moveTo>
                        <a:pt x="0" y="31"/>
                      </a:moveTo>
                      <a:lnTo>
                        <a:pt x="1" y="22"/>
                      </a:lnTo>
                      <a:lnTo>
                        <a:pt x="25" y="0"/>
                      </a:lnTo>
                      <a:lnTo>
                        <a:pt x="76" y="9"/>
                      </a:lnTo>
                      <a:lnTo>
                        <a:pt x="86" y="38"/>
                      </a:lnTo>
                      <a:lnTo>
                        <a:pt x="83" y="48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21680" y="3825720"/>
                  <a:ext cx="69840" cy="2412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3" y="0"/>
                      </a:moveTo>
                      <a:lnTo>
                        <a:pt x="0" y="8"/>
                      </a:lnTo>
                      <a:lnTo>
                        <a:pt x="42" y="14"/>
                      </a:lnTo>
                      <a:lnTo>
                        <a:pt x="43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7734240" y="3895560"/>
                <a:ext cx="138240" cy="76320"/>
              </a:xfrm>
              <a:custGeom>
                <a:avLst/>
                <a:gdLst/>
                <a:ahLst/>
                <a:rect l="l" t="t" r="r" b="b"/>
                <a:pathLst>
                  <a:path w="87" h="48">
                    <a:moveTo>
                      <a:pt x="0" y="31"/>
                    </a:moveTo>
                    <a:lnTo>
                      <a:pt x="1" y="22"/>
                    </a:lnTo>
                    <a:lnTo>
                      <a:pt x="25" y="0"/>
                    </a:lnTo>
                    <a:lnTo>
                      <a:pt x="77" y="9"/>
                    </a:lnTo>
                    <a:lnTo>
                      <a:pt x="86" y="38"/>
                    </a:lnTo>
                    <a:lnTo>
                      <a:pt x="84" y="47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773840" y="3911760"/>
                <a:ext cx="68400" cy="2520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0" y="0"/>
                    </a:moveTo>
                    <a:lnTo>
                      <a:pt x="0" y="10"/>
                    </a:lnTo>
                    <a:lnTo>
                      <a:pt x="41" y="15"/>
                    </a:lnTo>
                    <a:lnTo>
                      <a:pt x="42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93080" y="382428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0" y="17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19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82000" y="3828960"/>
                <a:ext cx="782640" cy="182520"/>
              </a:xfrm>
              <a:custGeom>
                <a:avLst/>
                <a:gdLst/>
                <a:ahLst/>
                <a:rect l="l" t="t" r="r" b="b"/>
                <a:pathLst>
                  <a:path w="493" h="115">
                    <a:moveTo>
                      <a:pt x="152" y="30"/>
                    </a:moveTo>
                    <a:lnTo>
                      <a:pt x="151" y="38"/>
                    </a:lnTo>
                    <a:lnTo>
                      <a:pt x="157" y="39"/>
                    </a:lnTo>
                    <a:lnTo>
                      <a:pt x="158" y="30"/>
                    </a:lnTo>
                    <a:lnTo>
                      <a:pt x="211" y="40"/>
                    </a:lnTo>
                    <a:lnTo>
                      <a:pt x="210" y="47"/>
                    </a:lnTo>
                    <a:lnTo>
                      <a:pt x="217" y="48"/>
                    </a:lnTo>
                    <a:lnTo>
                      <a:pt x="218" y="42"/>
                    </a:lnTo>
                    <a:lnTo>
                      <a:pt x="251" y="48"/>
                    </a:lnTo>
                    <a:lnTo>
                      <a:pt x="249" y="55"/>
                    </a:lnTo>
                    <a:lnTo>
                      <a:pt x="256" y="57"/>
                    </a:lnTo>
                    <a:lnTo>
                      <a:pt x="258" y="50"/>
                    </a:lnTo>
                    <a:lnTo>
                      <a:pt x="349" y="67"/>
                    </a:lnTo>
                    <a:lnTo>
                      <a:pt x="433" y="84"/>
                    </a:lnTo>
                    <a:lnTo>
                      <a:pt x="432" y="91"/>
                    </a:lnTo>
                    <a:lnTo>
                      <a:pt x="437" y="92"/>
                    </a:lnTo>
                    <a:lnTo>
                      <a:pt x="439" y="85"/>
                    </a:lnTo>
                    <a:lnTo>
                      <a:pt x="492" y="95"/>
                    </a:lnTo>
                    <a:lnTo>
                      <a:pt x="488" y="114"/>
                    </a:lnTo>
                    <a:lnTo>
                      <a:pt x="0" y="20"/>
                    </a:lnTo>
                    <a:lnTo>
                      <a:pt x="5" y="0"/>
                    </a:lnTo>
                    <a:lnTo>
                      <a:pt x="74" y="14"/>
                    </a:lnTo>
                    <a:lnTo>
                      <a:pt x="152" y="3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215120" y="3313080"/>
              <a:ext cx="890640" cy="662040"/>
              <a:chOff x="7215120" y="3313080"/>
              <a:chExt cx="890640" cy="662040"/>
            </a:xfrm>
          </p:grpSpPr>
          <p:sp>
            <p:nvSpPr>
              <p:cNvPr id="131" name=""/>
              <p:cNvSpPr/>
              <p:nvPr/>
            </p:nvSpPr>
            <p:spPr>
              <a:xfrm>
                <a:off x="7265880" y="3313080"/>
                <a:ext cx="839880" cy="498600"/>
              </a:xfrm>
              <a:custGeom>
                <a:avLst/>
                <a:gdLst/>
                <a:ahLst/>
                <a:rect l="l" t="t" r="r" b="b"/>
                <a:pathLst>
                  <a:path w="529" h="314">
                    <a:moveTo>
                      <a:pt x="490" y="313"/>
                    </a:moveTo>
                    <a:lnTo>
                      <a:pt x="528" y="93"/>
                    </a:lnTo>
                    <a:lnTo>
                      <a:pt x="42" y="0"/>
                    </a:lnTo>
                    <a:lnTo>
                      <a:pt x="0" y="218"/>
                    </a:lnTo>
                    <a:lnTo>
                      <a:pt x="490" y="31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54720" y="3525840"/>
                <a:ext cx="770040" cy="325440"/>
              </a:xfrm>
              <a:custGeom>
                <a:avLst/>
                <a:gdLst/>
                <a:ahLst/>
                <a:rect l="l" t="t" r="r" b="b"/>
                <a:pathLst>
                  <a:path w="485" h="205">
                    <a:moveTo>
                      <a:pt x="426" y="192"/>
                    </a:moveTo>
                    <a:lnTo>
                      <a:pt x="459" y="204"/>
                    </a:lnTo>
                    <a:lnTo>
                      <a:pt x="484" y="91"/>
                    </a:lnTo>
                    <a:lnTo>
                      <a:pt x="29" y="0"/>
                    </a:lnTo>
                    <a:lnTo>
                      <a:pt x="0" y="108"/>
                    </a:lnTo>
                    <a:lnTo>
                      <a:pt x="426" y="19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15120" y="3381480"/>
                <a:ext cx="827280" cy="593640"/>
              </a:xfrm>
              <a:custGeom>
                <a:avLst/>
                <a:gdLst/>
                <a:ahLst/>
                <a:rect l="l" t="t" r="r" b="b"/>
                <a:pathLst>
                  <a:path w="521" h="374">
                    <a:moveTo>
                      <a:pt x="0" y="282"/>
                    </a:moveTo>
                    <a:lnTo>
                      <a:pt x="15" y="191"/>
                    </a:lnTo>
                    <a:lnTo>
                      <a:pt x="21" y="147"/>
                    </a:lnTo>
                    <a:lnTo>
                      <a:pt x="34" y="105"/>
                    </a:lnTo>
                    <a:lnTo>
                      <a:pt x="52" y="42"/>
                    </a:lnTo>
                    <a:lnTo>
                      <a:pt x="65" y="0"/>
                    </a:lnTo>
                    <a:lnTo>
                      <a:pt x="520" y="88"/>
                    </a:lnTo>
                    <a:lnTo>
                      <a:pt x="502" y="146"/>
                    </a:lnTo>
                    <a:lnTo>
                      <a:pt x="479" y="256"/>
                    </a:lnTo>
                    <a:lnTo>
                      <a:pt x="459" y="373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6" name=""/>
          <p:cNvGraphicFramePr/>
          <p:nvPr/>
        </p:nvGraphicFramePr>
        <p:xfrm>
          <a:off x="0" y="1830240"/>
          <a:ext cx="9144000" cy="33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0240"/>
                    <a:ext cx="914400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152280" y="685800"/>
          <a:ext cx="8798040" cy="556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79804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952487822_port_2101PRO_jpg" descr=""/>
          <p:cNvPicPr/>
          <p:nvPr/>
        </p:nvPicPr>
        <p:blipFill>
          <a:blip r:embed="rId1"/>
          <a:srcRect l="16822" t="4648" r="18897" b="10500"/>
          <a:stretch/>
        </p:blipFill>
        <p:spPr>
          <a:xfrm>
            <a:off x="7529400" y="1370160"/>
            <a:ext cx="816120" cy="1357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20384400">
            <a:off x="4522680" y="519120"/>
            <a:ext cx="4321440" cy="5343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19626600">
            <a:off x="609480" y="1523880"/>
            <a:ext cx="3027600" cy="413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100ct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1752840" cy="1646280"/>
          </a:xfrm>
          <a:prstGeom prst="rect">
            <a:avLst/>
          </a:prstGeom>
          <a:ln w="0">
            <a:noFill/>
          </a:ln>
        </p:spPr>
      </p:pic>
      <p:pic>
        <p:nvPicPr>
          <p:cNvPr id="138" name="StarTac" descr=""/>
          <p:cNvPicPr/>
          <p:nvPr/>
        </p:nvPicPr>
        <p:blipFill>
          <a:blip r:embed="rId3"/>
          <a:stretch/>
        </p:blipFill>
        <p:spPr>
          <a:xfrm>
            <a:off x="838080" y="2819520"/>
            <a:ext cx="92556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Palm%20Pilot%203%20with%20antenna" descr=""/>
          <p:cNvPicPr/>
          <p:nvPr/>
        </p:nvPicPr>
        <p:blipFill>
          <a:blip r:embed="rId4"/>
          <a:stretch/>
        </p:blipFill>
        <p:spPr>
          <a:xfrm>
            <a:off x="1295280" y="1447920"/>
            <a:ext cx="887400" cy="1218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00200" y="342900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0720" y="2285640"/>
            <a:ext cx="381240" cy="121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019920" y="23623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4520" y="586728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Rate WP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3040" y="556272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ing WP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APTIVA%20PC%20-%20C" descr=""/>
          <p:cNvPicPr/>
          <p:nvPr/>
        </p:nvPicPr>
        <p:blipFill>
          <a:blip r:embed="rId5"/>
          <a:stretch/>
        </p:blipFill>
        <p:spPr>
          <a:xfrm>
            <a:off x="6705720" y="4038480"/>
            <a:ext cx="1904760" cy="1332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H="1">
            <a:off x="7619760" y="2819520"/>
            <a:ext cx="15228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48520" y="2743200"/>
            <a:ext cx="1218960" cy="1371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5257800" y="1143000"/>
            <a:ext cx="1390680" cy="933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16002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ly Targeted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handycam0rmtr" descr=""/>
          <p:cNvPicPr/>
          <p:nvPr/>
        </p:nvPicPr>
        <p:blipFill>
          <a:blip r:embed="rId7"/>
          <a:stretch/>
        </p:blipFill>
        <p:spPr>
          <a:xfrm>
            <a:off x="4876920" y="4038480"/>
            <a:ext cx="1873080" cy="1106640"/>
          </a:xfrm>
          <a:prstGeom prst="rect">
            <a:avLst/>
          </a:prstGeom>
          <a:ln w="0">
            <a:noFill/>
          </a:ln>
        </p:spPr>
      </p:pic>
      <p:pic>
        <p:nvPicPr>
          <p:cNvPr id="152" name="KODAK%20CAMERA%20TEST" descr=""/>
          <p:cNvPicPr/>
          <p:nvPr/>
        </p:nvPicPr>
        <p:blipFill>
          <a:blip r:embed="rId8"/>
          <a:stretch/>
        </p:blipFill>
        <p:spPr>
          <a:xfrm>
            <a:off x="4876920" y="2438280"/>
            <a:ext cx="11523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4600" y="762120"/>
            <a:ext cx="6707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PAN Solution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523880"/>
            <a:ext cx="650232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y 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pow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al attach/detach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erence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e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licensed, international 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51960" y="838080"/>
            <a:ext cx="4497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oLink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52640" y="2071800"/>
            <a:ext cx="7557840" cy="43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mentary to WLAN/IEEE 802.11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of the WLAN’s areas of performance have been sacrificed for cost/size/current d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d range, roaming is not opt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 complexity than WLAN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d RF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d MAC/PHY complex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C has similarities to the 802.11 IBSS/adh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atures which do not add recurr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er to peer with up to 10 nodes per 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olink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71960" y="191772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1960" y="301608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71960" y="1978200"/>
            <a:ext cx="2343240" cy="9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71960" y="2033640"/>
            <a:ext cx="1200240" cy="1525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72200" y="2033640"/>
            <a:ext cx="1155600" cy="1525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71960" y="3076560"/>
            <a:ext cx="113184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97600" y="2460600"/>
            <a:ext cx="30240" cy="657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059000" y="1978200"/>
            <a:ext cx="2368440" cy="92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49960" y="3063600"/>
            <a:ext cx="1065240" cy="507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6680" y="1738440"/>
            <a:ext cx="1467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2000" y="4710240"/>
            <a:ext cx="2350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324320" y="5059440"/>
            <a:ext cx="477720" cy="972720"/>
            <a:chOff x="4324320" y="5059440"/>
            <a:chExt cx="477720" cy="972720"/>
          </a:xfrm>
        </p:grpSpPr>
        <p:grpSp>
          <p:nvGrpSpPr>
            <p:cNvPr id="170" name=""/>
            <p:cNvGrpSpPr/>
            <p:nvPr/>
          </p:nvGrpSpPr>
          <p:grpSpPr>
            <a:xfrm>
              <a:off x="4324320" y="5343480"/>
              <a:ext cx="477720" cy="688680"/>
              <a:chOff x="4324320" y="5343480"/>
              <a:chExt cx="477720" cy="6886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4324320" y="5343480"/>
                <a:ext cx="477720" cy="688680"/>
                <a:chOff x="4324320" y="5343480"/>
                <a:chExt cx="477720" cy="688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346640" y="5381640"/>
                  <a:ext cx="453960" cy="61740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389480" y="5424480"/>
                  <a:ext cx="36360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76880" y="5425920"/>
                  <a:ext cx="1404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753080" y="5423040"/>
                  <a:ext cx="15840" cy="48240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352760" y="5957640"/>
                  <a:ext cx="438480" cy="1404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4770360" y="5389560"/>
                  <a:ext cx="27000" cy="604800"/>
                  <a:chOff x="4770360" y="5389560"/>
                  <a:chExt cx="27000" cy="6048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4770360" y="539100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776840" y="54180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776840" y="54864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776840" y="55213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776840" y="5556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776840" y="55911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776840" y="56293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776840" y="56689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776840" y="57056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776840" y="5745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776840" y="57862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776840" y="58212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776840" y="59292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797360" y="538956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324320" y="5343480"/>
                  <a:ext cx="474840" cy="47520"/>
                  <a:chOff x="4324320" y="5343480"/>
                  <a:chExt cx="474840" cy="475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4343400" y="5361120"/>
                    <a:ext cx="455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44840" y="534348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351320" y="538020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324320" y="5353200"/>
                    <a:ext cx="4665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54560" y="535464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508640" y="535140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510080" y="534996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V="1">
                    <a:off x="4797360" y="535140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V="1">
                    <a:off x="4344840" y="53575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4346640" y="5391000"/>
                  <a:ext cx="30240" cy="606600"/>
                  <a:chOff x="4346640" y="5391000"/>
                  <a:chExt cx="30240" cy="6066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376880" y="539100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352760" y="54133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352760" y="54864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4352760" y="55198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352760" y="55515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352760" y="55897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352760" y="56275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4352760" y="56674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352760" y="5703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352760" y="5742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352760" y="5781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352760" y="58183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352760" y="59292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346640" y="539100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4344840" y="5989320"/>
                  <a:ext cx="457200" cy="42840"/>
                  <a:chOff x="4344840" y="5989320"/>
                  <a:chExt cx="457200" cy="4284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344840" y="600228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346640" y="601020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351320" y="601812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352760" y="600408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352760" y="600552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4797360" y="598932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4351320" y="5405400"/>
                  <a:ext cx="17640" cy="219240"/>
                  <a:chOff x="4351320" y="5405400"/>
                  <a:chExt cx="17640" cy="219240"/>
                </a:xfrm>
              </p:grpSpPr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4351320" y="5405400"/>
                    <a:ext cx="17640" cy="219240"/>
                    <a:chOff x="4351320" y="5405400"/>
                    <a:chExt cx="17640" cy="21924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351320" y="5405400"/>
                      <a:ext cx="1440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351320" y="5405400"/>
                      <a:ext cx="1764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4351320" y="5416560"/>
                    <a:ext cx="14400" cy="158760"/>
                    <a:chOff x="4351320" y="5416560"/>
                    <a:chExt cx="14400" cy="1587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4351320" y="541656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4352760" y="5425920"/>
                      <a:ext cx="11160" cy="131760"/>
                      <a:chOff x="4352760" y="5425920"/>
                      <a:chExt cx="11160" cy="131760"/>
                    </a:xfrm>
                  </p:grpSpPr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352760" y="543240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4352760" y="542592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4778280" y="5405400"/>
                  <a:ext cx="19080" cy="219240"/>
                  <a:chOff x="4778280" y="5405400"/>
                  <a:chExt cx="19080" cy="21924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4778280" y="5405400"/>
                    <a:ext cx="19080" cy="219240"/>
                    <a:chOff x="4778280" y="5405400"/>
                    <a:chExt cx="19080" cy="21924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4778280" y="5405400"/>
                      <a:ext cx="1584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778280" y="540540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778280" y="5416560"/>
                    <a:ext cx="15840" cy="158760"/>
                    <a:chOff x="4778280" y="5416560"/>
                    <a:chExt cx="15840" cy="15876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778280" y="541656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782960" y="5425920"/>
                      <a:ext cx="9720" cy="131760"/>
                      <a:chOff x="4782960" y="5425920"/>
                      <a:chExt cx="9720" cy="13176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782960" y="543240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4782960" y="542592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4403880" y="5935680"/>
                <a:ext cx="331560" cy="12600"/>
                <a:chOff x="4403880" y="5935680"/>
                <a:chExt cx="331560" cy="1260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403880" y="5937120"/>
                  <a:ext cx="117360" cy="5040"/>
                  <a:chOff x="4403880" y="5937120"/>
                  <a:chExt cx="117360" cy="50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430880" y="59371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59320" y="59371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486320" y="59371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514760" y="5937120"/>
                    <a:ext cx="648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403880" y="59371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4619520" y="5938920"/>
                  <a:ext cx="115920" cy="4680"/>
                  <a:chOff x="4619520" y="5938920"/>
                  <a:chExt cx="115920" cy="468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4646520" y="593892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673520" y="593892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02320" y="593892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730760" y="593892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19520" y="59389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024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7541"/>
                        </a:lnTo>
                        <a:arcTo wR="2699" hR="2699" stAng="10800000" swAng="-5400000"/>
                        <a:lnTo>
                          <a:pt x="18901" y="3024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4546440" y="5935680"/>
                  <a:ext cx="39960" cy="12600"/>
                  <a:chOff x="4546440" y="5935680"/>
                  <a:chExt cx="39960" cy="126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546440" y="5935680"/>
                    <a:ext cx="7920" cy="126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565520" y="5935680"/>
                    <a:ext cx="7920" cy="126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579920" y="5935680"/>
                    <a:ext cx="6480" cy="1260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9" name=""/>
            <p:cNvGrpSpPr/>
            <p:nvPr/>
          </p:nvGrpSpPr>
          <p:grpSpPr>
            <a:xfrm>
              <a:off x="4413240" y="5059440"/>
              <a:ext cx="11160" cy="279360"/>
              <a:chOff x="4413240" y="5059440"/>
              <a:chExt cx="11160" cy="279360"/>
            </a:xfrm>
          </p:grpSpPr>
          <p:sp>
            <p:nvSpPr>
              <p:cNvPr id="260" name=""/>
              <p:cNvSpPr/>
              <p:nvPr/>
            </p:nvSpPr>
            <p:spPr>
              <a:xfrm flipV="1">
                <a:off x="4413240" y="522936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14680" y="507996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13240" y="505944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3" name=""/>
          <p:cNvGraphicFramePr/>
          <p:nvPr/>
        </p:nvGraphicFramePr>
        <p:xfrm>
          <a:off x="3276720" y="2819520"/>
          <a:ext cx="6094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19520"/>
                    <a:ext cx="609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6613920" y="1401840"/>
            <a:ext cx="474120" cy="972720"/>
            <a:chOff x="6613920" y="1401840"/>
            <a:chExt cx="474120" cy="972720"/>
          </a:xfrm>
        </p:grpSpPr>
        <p:grpSp>
          <p:nvGrpSpPr>
            <p:cNvPr id="266" name=""/>
            <p:cNvGrpSpPr/>
            <p:nvPr/>
          </p:nvGrpSpPr>
          <p:grpSpPr>
            <a:xfrm>
              <a:off x="6613920" y="1684440"/>
              <a:ext cx="474120" cy="690120"/>
              <a:chOff x="6613920" y="1684440"/>
              <a:chExt cx="474120" cy="6901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613920" y="1684440"/>
                <a:ext cx="474120" cy="690120"/>
                <a:chOff x="6613920" y="1684440"/>
                <a:chExt cx="474120" cy="6901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34080" y="1722600"/>
                  <a:ext cx="452520" cy="618840"/>
                </a:xfrm>
                <a:custGeom>
                  <a:avLst/>
                  <a:gdLst/>
                  <a:ahLst/>
                  <a:rect l="l" t="t" r="r" b="b"/>
                  <a:pathLst>
                    <a:path w="285" h="390">
                      <a:moveTo>
                        <a:pt x="0" y="0"/>
                      </a:moveTo>
                      <a:lnTo>
                        <a:pt x="284" y="0"/>
                      </a:lnTo>
                      <a:lnTo>
                        <a:pt x="284" y="389"/>
                      </a:lnTo>
                      <a:lnTo>
                        <a:pt x="0" y="3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676920" y="1765440"/>
                  <a:ext cx="362160" cy="480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664320" y="176832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039080" y="1763640"/>
                  <a:ext cx="15840" cy="484200"/>
                </a:xfrm>
                <a:custGeom>
                  <a:avLst/>
                  <a:gdLst/>
                  <a:ahLst/>
                  <a:rect l="l" t="t" r="r" b="b"/>
                  <a:pathLst>
                    <a:path w="10" h="305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4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640560" y="2306520"/>
                  <a:ext cx="436680" cy="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7056360" y="1730520"/>
                  <a:ext cx="27000" cy="606240"/>
                  <a:chOff x="7056360" y="1730520"/>
                  <a:chExt cx="27000" cy="60624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7056360" y="173340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062840" y="17604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062840" y="1830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062840" y="18637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062840" y="1898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062840" y="19335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062840" y="197316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062840" y="20131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062840" y="2046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062840" y="2085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062840" y="2127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062840" y="2163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062840" y="22701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083360" y="173052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6613920" y="1684440"/>
                  <a:ext cx="471240" cy="48960"/>
                  <a:chOff x="6613920" y="1684440"/>
                  <a:chExt cx="471240" cy="489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6629400" y="1701720"/>
                    <a:ext cx="455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4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630840" y="1684440"/>
                    <a:ext cx="452520" cy="302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637320" y="172260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613920" y="1697040"/>
                    <a:ext cx="4654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2" y="0"/>
                        </a:moveTo>
                        <a:arcTo wR="10800" hR="10800" stAng="-5421790" swAng="48952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2" y="0"/>
                        </a:moveTo>
                        <a:arcTo wR="10800" hR="10800" stAng="-5421790" swAng="4895251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638760" y="1697040"/>
                    <a:ext cx="419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39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395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96080" y="169236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797520" y="169056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V="1">
                    <a:off x="7083360" y="1692360"/>
                    <a:ext cx="0" cy="410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6630840" y="169848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6634080" y="1733400"/>
                  <a:ext cx="30240" cy="606600"/>
                  <a:chOff x="6634080" y="1733400"/>
                  <a:chExt cx="30240" cy="60660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6664320" y="173340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640560" y="1755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6640560" y="18273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640560" y="18622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6640560" y="18939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6640560" y="19335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640560" y="19699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6640560" y="20098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640560" y="20448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640560" y="20844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640560" y="21240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640560" y="2160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640560" y="2270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634080" y="173340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6630840" y="2331720"/>
                  <a:ext cx="457200" cy="42840"/>
                  <a:chOff x="6630840" y="2331720"/>
                  <a:chExt cx="457200" cy="428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6630840" y="234468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634080" y="235260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637320" y="236052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640560" y="234648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640560" y="234648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7083360" y="233172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6638760" y="1749600"/>
                  <a:ext cx="17640" cy="215640"/>
                  <a:chOff x="6638760" y="1749600"/>
                  <a:chExt cx="17640" cy="215640"/>
                </a:xfrm>
              </p:grpSpPr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6638760" y="1749600"/>
                    <a:ext cx="17640" cy="215640"/>
                    <a:chOff x="6638760" y="1749600"/>
                    <a:chExt cx="17640" cy="21564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6638760" y="1749600"/>
                      <a:ext cx="14400" cy="212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638760" y="1749600"/>
                      <a:ext cx="1764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5" y="135"/>
                          </a:lnTo>
                          <a:lnTo>
                            <a:pt x="8" y="134"/>
                          </a:lnTo>
                          <a:lnTo>
                            <a:pt x="10" y="130"/>
                          </a:lnTo>
                          <a:lnTo>
                            <a:pt x="10" y="125"/>
                          </a:lnTo>
                          <a:lnTo>
                            <a:pt x="10" y="7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6638760" y="1758960"/>
                    <a:ext cx="14400" cy="158760"/>
                    <a:chOff x="6638760" y="1758960"/>
                    <a:chExt cx="14400" cy="15876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6638760" y="175896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6" name=""/>
                    <p:cNvGrpSpPr/>
                    <p:nvPr/>
                  </p:nvGrpSpPr>
                  <p:grpSpPr>
                    <a:xfrm>
                      <a:off x="6640560" y="1768320"/>
                      <a:ext cx="11160" cy="131760"/>
                      <a:chOff x="6640560" y="1768320"/>
                      <a:chExt cx="11160" cy="131760"/>
                    </a:xfrm>
                  </p:grpSpPr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6640560" y="177480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6640560" y="176832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064280" y="1749600"/>
                  <a:ext cx="19080" cy="215640"/>
                  <a:chOff x="7064280" y="1749600"/>
                  <a:chExt cx="19080" cy="21564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7064280" y="1749600"/>
                    <a:ext cx="19080" cy="215640"/>
                    <a:chOff x="7064280" y="1749600"/>
                    <a:chExt cx="19080" cy="2156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064280" y="1749600"/>
                      <a:ext cx="15840" cy="212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064280" y="1749600"/>
                      <a:ext cx="1908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6" y="135"/>
                          </a:lnTo>
                          <a:lnTo>
                            <a:pt x="9" y="134"/>
                          </a:lnTo>
                          <a:lnTo>
                            <a:pt x="11" y="130"/>
                          </a:lnTo>
                          <a:lnTo>
                            <a:pt x="11" y="125"/>
                          </a:lnTo>
                          <a:lnTo>
                            <a:pt x="11" y="7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7064280" y="1758960"/>
                    <a:ext cx="15840" cy="158760"/>
                    <a:chOff x="7064280" y="1758960"/>
                    <a:chExt cx="15840" cy="1587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7064280" y="175896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5" name=""/>
                    <p:cNvGrpSpPr/>
                    <p:nvPr/>
                  </p:nvGrpSpPr>
                  <p:grpSpPr>
                    <a:xfrm>
                      <a:off x="7068960" y="1768320"/>
                      <a:ext cx="9720" cy="131760"/>
                      <a:chOff x="7068960" y="1768320"/>
                      <a:chExt cx="9720" cy="131760"/>
                    </a:xfrm>
                  </p:grpSpPr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7068960" y="177480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7068960" y="176832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38" name=""/>
              <p:cNvGrpSpPr/>
              <p:nvPr/>
            </p:nvGrpSpPr>
            <p:grpSpPr>
              <a:xfrm>
                <a:off x="6691320" y="2278080"/>
                <a:ext cx="330120" cy="11160"/>
                <a:chOff x="6691320" y="2278080"/>
                <a:chExt cx="330120" cy="1116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6691320" y="2281320"/>
                  <a:ext cx="115920" cy="1440"/>
                  <a:chOff x="6691320" y="2281320"/>
                  <a:chExt cx="115920" cy="14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671832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746760" y="2281320"/>
                    <a:ext cx="50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773760" y="2281320"/>
                    <a:ext cx="32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80256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69132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907320" y="2282760"/>
                  <a:ext cx="114120" cy="3240"/>
                  <a:chOff x="6907320" y="2282760"/>
                  <a:chExt cx="114120" cy="32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93252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96132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988320" y="2282760"/>
                    <a:ext cx="612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01676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907320" y="2282760"/>
                    <a:ext cx="324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834240" y="2278080"/>
                  <a:ext cx="39600" cy="11160"/>
                  <a:chOff x="6834240" y="2278080"/>
                  <a:chExt cx="39600" cy="111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6834240" y="2278080"/>
                    <a:ext cx="7920" cy="111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851520" y="2278080"/>
                    <a:ext cx="7920" cy="111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865920" y="2278080"/>
                    <a:ext cx="7920" cy="111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5" name=""/>
            <p:cNvGrpSpPr/>
            <p:nvPr/>
          </p:nvGrpSpPr>
          <p:grpSpPr>
            <a:xfrm>
              <a:off x="6700680" y="1401840"/>
              <a:ext cx="9720" cy="280440"/>
              <a:chOff x="6700680" y="1401840"/>
              <a:chExt cx="9720" cy="280440"/>
            </a:xfrm>
          </p:grpSpPr>
          <p:sp>
            <p:nvSpPr>
              <p:cNvPr id="356" name=""/>
              <p:cNvSpPr/>
              <p:nvPr/>
            </p:nvSpPr>
            <p:spPr>
              <a:xfrm flipV="1">
                <a:off x="6700680" y="1569240"/>
                <a:ext cx="6480" cy="112680"/>
              </a:xfrm>
              <a:custGeom>
                <a:avLst/>
                <a:gdLst>
                  <a:gd name="textAreaLeft" fmla="*/ 1440 w 6480"/>
                  <a:gd name="textAreaRight" fmla="*/ 5040 w 6480"/>
                  <a:gd name="textAreaTop" fmla="*/ 24840 h 112680"/>
                  <a:gd name="textAreaBottom" fmla="*/ 878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702480" y="1422360"/>
                <a:ext cx="7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05720" y="1401840"/>
                <a:ext cx="1440" cy="30240"/>
              </a:xfrm>
              <a:custGeom>
                <a:avLst/>
                <a:gdLst/>
                <a:ahLst/>
                <a:rect l="l" t="t" r="r" b="b"/>
                <a:pathLst>
                  <a:path w="21600" h="367200">
                    <a:moveTo>
                      <a:pt x="2699" y="0"/>
                    </a:moveTo>
                    <a:arcTo wR="2699" hR="2699" stAng="16200000" swAng="-5400000"/>
                    <a:lnTo>
                      <a:pt x="0" y="364501"/>
                    </a:lnTo>
                    <a:arcTo wR="2699" hR="2699" stAng="10800000" swAng="-5400000"/>
                    <a:lnTo>
                      <a:pt x="18901" y="36720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1429200" y="5288040"/>
            <a:ext cx="477360" cy="972720"/>
            <a:chOff x="1429200" y="5288040"/>
            <a:chExt cx="477360" cy="972720"/>
          </a:xfrm>
        </p:grpSpPr>
        <p:grpSp>
          <p:nvGrpSpPr>
            <p:cNvPr id="360" name=""/>
            <p:cNvGrpSpPr/>
            <p:nvPr/>
          </p:nvGrpSpPr>
          <p:grpSpPr>
            <a:xfrm>
              <a:off x="1429200" y="5572080"/>
              <a:ext cx="477360" cy="688680"/>
              <a:chOff x="1429200" y="5572080"/>
              <a:chExt cx="477360" cy="68868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429200" y="5572080"/>
                <a:ext cx="477360" cy="688680"/>
                <a:chOff x="1429200" y="5572080"/>
                <a:chExt cx="477360" cy="6886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450800" y="5610240"/>
                  <a:ext cx="454320" cy="61740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494000" y="5653080"/>
                  <a:ext cx="36324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481040" y="565452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57240" y="5651640"/>
                  <a:ext cx="15840" cy="48240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457280" y="6186240"/>
                  <a:ext cx="438120" cy="1404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1874880" y="5618160"/>
                  <a:ext cx="27000" cy="604800"/>
                  <a:chOff x="1874880" y="5618160"/>
                  <a:chExt cx="27000" cy="6048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1874880" y="561960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881360" y="564660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881360" y="571500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881360" y="574992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881360" y="57848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881360" y="58197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881360" y="58579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881360" y="58975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881360" y="5934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881360" y="59738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881360" y="601488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881360" y="60498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881360" y="615780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901880" y="561816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1429200" y="5572080"/>
                  <a:ext cx="474120" cy="47520"/>
                  <a:chOff x="1429200" y="5572080"/>
                  <a:chExt cx="474120" cy="475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1447920" y="5589720"/>
                    <a:ext cx="4554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449360" y="557208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455840" y="5608800"/>
                    <a:ext cx="43956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429200" y="5581800"/>
                    <a:ext cx="4658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458720" y="558324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612800" y="558000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614600" y="557856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V="1">
                    <a:off x="1901880" y="558000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V="1">
                    <a:off x="1449360" y="55861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1450800" y="5619600"/>
                  <a:ext cx="30240" cy="606600"/>
                  <a:chOff x="1450800" y="5619600"/>
                  <a:chExt cx="30240" cy="6066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1481040" y="561960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457280" y="56419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457280" y="5715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457280" y="57484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457280" y="5780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457280" y="58183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457280" y="58561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457280" y="58960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457280" y="59324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457280" y="5970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457280" y="60102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1457280" y="60469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457280" y="61578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1450800" y="561960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1449360" y="6217920"/>
                  <a:ext cx="457200" cy="42840"/>
                  <a:chOff x="1449360" y="6217920"/>
                  <a:chExt cx="457200" cy="428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1449360" y="623088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450800" y="623880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455840" y="624672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457280" y="623268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457280" y="623412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901880" y="621792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1455840" y="5634000"/>
                  <a:ext cx="17280" cy="219240"/>
                  <a:chOff x="1455840" y="5634000"/>
                  <a:chExt cx="17280" cy="21924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1455840" y="5634000"/>
                    <a:ext cx="17280" cy="219240"/>
                    <a:chOff x="1455840" y="5634000"/>
                    <a:chExt cx="17280" cy="21924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1455840" y="5634000"/>
                      <a:ext cx="1404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1455840" y="5634000"/>
                      <a:ext cx="172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1455840" y="5645160"/>
                    <a:ext cx="14040" cy="158760"/>
                    <a:chOff x="1455840" y="5645160"/>
                    <a:chExt cx="14040" cy="1587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1455840" y="5645160"/>
                      <a:ext cx="140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1457280" y="5654520"/>
                      <a:ext cx="11160" cy="131760"/>
                      <a:chOff x="1457280" y="5654520"/>
                      <a:chExt cx="11160" cy="131760"/>
                    </a:xfrm>
                  </p:grpSpPr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1457280" y="566100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1457280" y="565452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882800" y="5634000"/>
                  <a:ext cx="19080" cy="219240"/>
                  <a:chOff x="1882800" y="5634000"/>
                  <a:chExt cx="19080" cy="21924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1882800" y="5634000"/>
                    <a:ext cx="19080" cy="219240"/>
                    <a:chOff x="1882800" y="5634000"/>
                    <a:chExt cx="19080" cy="2192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1882800" y="5634000"/>
                      <a:ext cx="1584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1882800" y="563400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1882800" y="5645160"/>
                    <a:ext cx="15840" cy="158760"/>
                    <a:chOff x="1882800" y="5645160"/>
                    <a:chExt cx="15840" cy="158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1882800" y="564516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9" name=""/>
                    <p:cNvGrpSpPr/>
                    <p:nvPr/>
                  </p:nvGrpSpPr>
                  <p:grpSpPr>
                    <a:xfrm>
                      <a:off x="1887480" y="5654520"/>
                      <a:ext cx="9720" cy="131760"/>
                      <a:chOff x="1887480" y="5654520"/>
                      <a:chExt cx="9720" cy="131760"/>
                    </a:xfrm>
                  </p:grpSpPr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1887480" y="566100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1887480" y="565452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1508040" y="6164280"/>
                <a:ext cx="331920" cy="12600"/>
                <a:chOff x="1508040" y="6164280"/>
                <a:chExt cx="331920" cy="1260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1508040" y="6165720"/>
                  <a:ext cx="117720" cy="5040"/>
                  <a:chOff x="1508040" y="6165720"/>
                  <a:chExt cx="117720" cy="504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1535040" y="61657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1563840" y="61657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590840" y="61657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1619280" y="6165720"/>
                    <a:ext cx="648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1508040" y="61657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1724040" y="6167520"/>
                  <a:ext cx="115920" cy="4680"/>
                  <a:chOff x="1724040" y="6167520"/>
                  <a:chExt cx="115920" cy="46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751040" y="616752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78040" y="616752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806480" y="616752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835280" y="616752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724040" y="6167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024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7541"/>
                        </a:lnTo>
                        <a:arcTo wR="2699" hR="2699" stAng="10800000" swAng="-5400000"/>
                        <a:lnTo>
                          <a:pt x="18901" y="3024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1650960" y="6164280"/>
                  <a:ext cx="39600" cy="12600"/>
                  <a:chOff x="1650960" y="6164280"/>
                  <a:chExt cx="39600" cy="1260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1650960" y="6164280"/>
                    <a:ext cx="7920" cy="126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670040" y="6164280"/>
                    <a:ext cx="7920" cy="126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1684440" y="6164280"/>
                    <a:ext cx="6120" cy="1260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9" name=""/>
            <p:cNvGrpSpPr/>
            <p:nvPr/>
          </p:nvGrpSpPr>
          <p:grpSpPr>
            <a:xfrm>
              <a:off x="1517760" y="5288040"/>
              <a:ext cx="11160" cy="279360"/>
              <a:chOff x="1517760" y="5288040"/>
              <a:chExt cx="11160" cy="27936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1517760" y="545796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19200" y="530856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17760" y="528804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3638520" y="4068720"/>
            <a:ext cx="477720" cy="972720"/>
            <a:chOff x="3638520" y="4068720"/>
            <a:chExt cx="477720" cy="972720"/>
          </a:xfrm>
        </p:grpSpPr>
        <p:grpSp>
          <p:nvGrpSpPr>
            <p:cNvPr id="454" name=""/>
            <p:cNvGrpSpPr/>
            <p:nvPr/>
          </p:nvGrpSpPr>
          <p:grpSpPr>
            <a:xfrm>
              <a:off x="3638520" y="4352760"/>
              <a:ext cx="477720" cy="688680"/>
              <a:chOff x="3638520" y="4352760"/>
              <a:chExt cx="477720" cy="6886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638520" y="4352760"/>
                <a:ext cx="477720" cy="688680"/>
                <a:chOff x="3638520" y="4352760"/>
                <a:chExt cx="477720" cy="6886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660840" y="4390920"/>
                  <a:ext cx="453960" cy="61776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703680" y="4433760"/>
                  <a:ext cx="36360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691080" y="4435560"/>
                  <a:ext cx="1404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067280" y="4432320"/>
                  <a:ext cx="15840" cy="48276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3666960" y="4967280"/>
                  <a:ext cx="438480" cy="1440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4084560" y="4398840"/>
                  <a:ext cx="27000" cy="604800"/>
                  <a:chOff x="4084560" y="4398840"/>
                  <a:chExt cx="27000" cy="6048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4084560" y="4400640"/>
                    <a:ext cx="0" cy="6030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091040" y="4427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091040" y="44956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091040" y="45306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091040" y="4565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091040" y="46004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091040" y="4638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091040" y="46782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091040" y="47149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091040" y="4754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091040" y="47959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091040" y="48308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091040" y="4938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111560" y="439884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3638520" y="4352760"/>
                  <a:ext cx="474840" cy="47880"/>
                  <a:chOff x="3638520" y="4352760"/>
                  <a:chExt cx="474840" cy="4788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3657600" y="4370400"/>
                    <a:ext cx="455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659040" y="435276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3665520" y="438948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638520" y="4362480"/>
                    <a:ext cx="4665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668760" y="436392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822840" y="436104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824280" y="43592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V="1">
                    <a:off x="4111560" y="436104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V="1">
                    <a:off x="3659040" y="43668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3660840" y="4400640"/>
                  <a:ext cx="30240" cy="606240"/>
                  <a:chOff x="3660840" y="4400640"/>
                  <a:chExt cx="30240" cy="60624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3691080" y="440064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666960" y="4422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666960" y="44956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666960" y="4529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666960" y="4560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3666960" y="4599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3666960" y="4637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666960" y="46767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666960" y="47131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666960" y="47512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666960" y="47912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666960" y="4827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3666960" y="4938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660840" y="4400640"/>
                    <a:ext cx="0" cy="60624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3659040" y="4998600"/>
                  <a:ext cx="457200" cy="42840"/>
                  <a:chOff x="3659040" y="4998600"/>
                  <a:chExt cx="457200" cy="4284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3659040" y="501156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660840" y="5019840"/>
                    <a:ext cx="0" cy="28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665520" y="502776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666960" y="501336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666960" y="501480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V="1">
                    <a:off x="4111560" y="499860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3665520" y="4414680"/>
                  <a:ext cx="17640" cy="219240"/>
                  <a:chOff x="3665520" y="4414680"/>
                  <a:chExt cx="17640" cy="21924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3665520" y="4414680"/>
                    <a:ext cx="17640" cy="219240"/>
                    <a:chOff x="3665520" y="4414680"/>
                    <a:chExt cx="17640" cy="21924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3665520" y="4414680"/>
                      <a:ext cx="1440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665520" y="4414680"/>
                      <a:ext cx="1764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3665520" y="4425840"/>
                    <a:ext cx="14400" cy="158760"/>
                    <a:chOff x="3665520" y="4425840"/>
                    <a:chExt cx="14400" cy="15876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665520" y="442584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3666960" y="4435560"/>
                      <a:ext cx="11160" cy="131760"/>
                      <a:chOff x="3666960" y="4435560"/>
                      <a:chExt cx="11160" cy="131760"/>
                    </a:xfrm>
                  </p:grpSpPr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3666960" y="444168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3666960" y="443556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092480" y="4414680"/>
                  <a:ext cx="19080" cy="219240"/>
                  <a:chOff x="4092480" y="4414680"/>
                  <a:chExt cx="19080" cy="21924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4092480" y="4414680"/>
                    <a:ext cx="19080" cy="219240"/>
                    <a:chOff x="4092480" y="4414680"/>
                    <a:chExt cx="19080" cy="21924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4092480" y="4414680"/>
                      <a:ext cx="1584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4092480" y="441468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4092480" y="4425840"/>
                    <a:ext cx="15840" cy="158760"/>
                    <a:chOff x="4092480" y="4425840"/>
                    <a:chExt cx="15840" cy="15876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4092480" y="442584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3" name=""/>
                    <p:cNvGrpSpPr/>
                    <p:nvPr/>
                  </p:nvGrpSpPr>
                  <p:grpSpPr>
                    <a:xfrm>
                      <a:off x="4097160" y="4435560"/>
                      <a:ext cx="9720" cy="131760"/>
                      <a:chOff x="4097160" y="4435560"/>
                      <a:chExt cx="9720" cy="131760"/>
                    </a:xfrm>
                  </p:grpSpPr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4097160" y="444168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4097160" y="443556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3718080" y="4944960"/>
                <a:ext cx="331560" cy="12960"/>
                <a:chOff x="3718080" y="4944960"/>
                <a:chExt cx="331560" cy="12960"/>
              </a:xfrm>
            </p:grpSpPr>
            <p:grpSp>
              <p:nvGrpSpPr>
                <p:cNvPr id="527" name=""/>
                <p:cNvGrpSpPr/>
                <p:nvPr/>
              </p:nvGrpSpPr>
              <p:grpSpPr>
                <a:xfrm>
                  <a:off x="3718080" y="4946760"/>
                  <a:ext cx="117360" cy="4680"/>
                  <a:chOff x="3718080" y="4946760"/>
                  <a:chExt cx="117360" cy="468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745080" y="4946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3773520" y="4946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800520" y="4946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828960" y="494676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718080" y="4946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933720" y="4948200"/>
                  <a:ext cx="115920" cy="4680"/>
                  <a:chOff x="3933720" y="4948200"/>
                  <a:chExt cx="115920" cy="46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960720" y="49482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987720" y="494820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4016520" y="494820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044960" y="49482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3933720" y="494820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024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7541"/>
                        </a:lnTo>
                        <a:arcTo wR="2699" hR="2699" stAng="10800000" swAng="-5400000"/>
                        <a:lnTo>
                          <a:pt x="18901" y="3024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3860640" y="4944960"/>
                  <a:ext cx="39960" cy="12960"/>
                  <a:chOff x="3860640" y="4944960"/>
                  <a:chExt cx="39960" cy="1296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3860640" y="4944960"/>
                    <a:ext cx="7920" cy="129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879720" y="4944960"/>
                    <a:ext cx="7920" cy="129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3894120" y="4944960"/>
                    <a:ext cx="6480" cy="129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3" name=""/>
            <p:cNvGrpSpPr/>
            <p:nvPr/>
          </p:nvGrpSpPr>
          <p:grpSpPr>
            <a:xfrm>
              <a:off x="3727440" y="4068720"/>
              <a:ext cx="11160" cy="279360"/>
              <a:chOff x="3727440" y="4068720"/>
              <a:chExt cx="11160" cy="27936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3727440" y="423864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728880" y="408924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727440" y="406872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591480" y="4068720"/>
            <a:ext cx="477000" cy="972720"/>
            <a:chOff x="591480" y="4068720"/>
            <a:chExt cx="477000" cy="972720"/>
          </a:xfrm>
        </p:grpSpPr>
        <p:grpSp>
          <p:nvGrpSpPr>
            <p:cNvPr id="548" name=""/>
            <p:cNvGrpSpPr/>
            <p:nvPr/>
          </p:nvGrpSpPr>
          <p:grpSpPr>
            <a:xfrm>
              <a:off x="591480" y="4351320"/>
              <a:ext cx="477000" cy="690120"/>
              <a:chOff x="591480" y="4351320"/>
              <a:chExt cx="477000" cy="69012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91480" y="4351320"/>
                <a:ext cx="477000" cy="690120"/>
                <a:chOff x="591480" y="4351320"/>
                <a:chExt cx="477000" cy="6901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12720" y="4389480"/>
                  <a:ext cx="453960" cy="619200"/>
                </a:xfrm>
                <a:custGeom>
                  <a:avLst/>
                  <a:gdLst/>
                  <a:ahLst/>
                  <a:rect l="l" t="t" r="r" b="b"/>
                  <a:pathLst>
                    <a:path w="286" h="390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9"/>
                      </a:lnTo>
                      <a:lnTo>
                        <a:pt x="0" y="3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55560" y="4432320"/>
                  <a:ext cx="363600" cy="480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42960" y="4433760"/>
                  <a:ext cx="14400" cy="481320"/>
                </a:xfrm>
                <a:custGeom>
                  <a:avLst/>
                  <a:gdLst/>
                  <a:ahLst/>
                  <a:rect l="l" t="t" r="r" b="b"/>
                  <a:pathLst>
                    <a:path w="9" h="30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2"/>
                      </a:lnTo>
                      <a:lnTo>
                        <a:pt x="0" y="3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019160" y="4430880"/>
                  <a:ext cx="15840" cy="484200"/>
                </a:xfrm>
                <a:custGeom>
                  <a:avLst/>
                  <a:gdLst/>
                  <a:ahLst/>
                  <a:rect l="l" t="t" r="r" b="b"/>
                  <a:pathLst>
                    <a:path w="10" h="305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4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19200" y="4973760"/>
                  <a:ext cx="438120" cy="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" name=""/>
                <p:cNvGrpSpPr/>
                <p:nvPr/>
              </p:nvGrpSpPr>
              <p:grpSpPr>
                <a:xfrm>
                  <a:off x="1036800" y="4397400"/>
                  <a:ext cx="27000" cy="606240"/>
                  <a:chOff x="1036800" y="4397400"/>
                  <a:chExt cx="27000" cy="6062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1036800" y="440208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042920" y="4427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1042920" y="44974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1042920" y="45306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042920" y="4565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042920" y="4602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042920" y="46404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042920" y="46800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042920" y="47131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042920" y="47530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042920" y="47941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042920" y="48308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042920" y="49370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063800" y="439740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591480" y="4351320"/>
                  <a:ext cx="473760" cy="48960"/>
                  <a:chOff x="591480" y="4351320"/>
                  <a:chExt cx="473760" cy="489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609480" y="4368960"/>
                    <a:ext cx="4557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4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11280" y="4351320"/>
                    <a:ext cx="452520" cy="302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17400" y="438948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591480" y="4363920"/>
                    <a:ext cx="465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7523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75231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19200" y="4363920"/>
                    <a:ext cx="418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3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3858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74720" y="435924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76160" y="43578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V="1">
                    <a:off x="1063800" y="4358880"/>
                    <a:ext cx="0" cy="414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>
                    <a:off x="611280" y="436536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612720" y="4402080"/>
                  <a:ext cx="30240" cy="604800"/>
                  <a:chOff x="612720" y="4402080"/>
                  <a:chExt cx="30240" cy="60480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642960" y="4402080"/>
                    <a:ext cx="0" cy="6001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19200" y="44226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19200" y="44942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19200" y="4529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19200" y="45608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19200" y="46004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19200" y="46353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19200" y="46753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619200" y="47116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619200" y="47512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619200" y="47912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619200" y="48276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619200" y="49370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12720" y="440208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611280" y="4998600"/>
                  <a:ext cx="457200" cy="42840"/>
                  <a:chOff x="611280" y="4998600"/>
                  <a:chExt cx="457200" cy="4284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611280" y="501156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12720" y="5019840"/>
                    <a:ext cx="0" cy="28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17400" y="5027760"/>
                    <a:ext cx="44316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19200" y="501336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619200" y="501336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1063800" y="499860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617400" y="4416480"/>
                  <a:ext cx="17640" cy="216000"/>
                  <a:chOff x="617400" y="4416480"/>
                  <a:chExt cx="17640" cy="216000"/>
                </a:xfrm>
              </p:grpSpPr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617400" y="4416480"/>
                    <a:ext cx="17640" cy="216000"/>
                    <a:chOff x="617400" y="4416480"/>
                    <a:chExt cx="17640" cy="21600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617400" y="4416480"/>
                      <a:ext cx="14400" cy="21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617400" y="4416480"/>
                      <a:ext cx="1764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5" y="135"/>
                          </a:lnTo>
                          <a:lnTo>
                            <a:pt x="8" y="134"/>
                          </a:lnTo>
                          <a:lnTo>
                            <a:pt x="10" y="130"/>
                          </a:lnTo>
                          <a:lnTo>
                            <a:pt x="10" y="125"/>
                          </a:lnTo>
                          <a:lnTo>
                            <a:pt x="10" y="7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617400" y="4425840"/>
                    <a:ext cx="14400" cy="158760"/>
                    <a:chOff x="617400" y="4425840"/>
                    <a:chExt cx="14400" cy="15876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617400" y="442584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08" name=""/>
                    <p:cNvGrpSpPr/>
                    <p:nvPr/>
                  </p:nvGrpSpPr>
                  <p:grpSpPr>
                    <a:xfrm>
                      <a:off x="619200" y="4433760"/>
                      <a:ext cx="11160" cy="133560"/>
                      <a:chOff x="619200" y="4433760"/>
                      <a:chExt cx="11160" cy="133560"/>
                    </a:xfrm>
                  </p:grpSpPr>
                  <p:sp>
                    <p:nvSpPr>
                      <p:cNvPr id="609" name=""/>
                      <p:cNvSpPr/>
                      <p:nvPr/>
                    </p:nvSpPr>
                    <p:spPr>
                      <a:xfrm>
                        <a:off x="619200" y="4440240"/>
                        <a:ext cx="7920" cy="117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619200" y="4433760"/>
                        <a:ext cx="11160" cy="13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4">
                            <a:moveTo>
                              <a:pt x="0" y="6"/>
                            </a:moveTo>
                            <a:lnTo>
                              <a:pt x="1" y="79"/>
                            </a:lnTo>
                            <a:lnTo>
                              <a:pt x="1" y="82"/>
                            </a:lnTo>
                            <a:lnTo>
                              <a:pt x="3" y="83"/>
                            </a:lnTo>
                            <a:lnTo>
                              <a:pt x="5" y="82"/>
                            </a:lnTo>
                            <a:lnTo>
                              <a:pt x="5" y="79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1044720" y="4416480"/>
                  <a:ext cx="19080" cy="216000"/>
                  <a:chOff x="1044720" y="4416480"/>
                  <a:chExt cx="19080" cy="216000"/>
                </a:xfrm>
              </p:grpSpPr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1044720" y="4416480"/>
                    <a:ext cx="19080" cy="216000"/>
                    <a:chOff x="1044720" y="4416480"/>
                    <a:chExt cx="19080" cy="21600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1044720" y="4416480"/>
                      <a:ext cx="15840" cy="21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1044720" y="4416480"/>
                      <a:ext cx="190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6" y="135"/>
                          </a:lnTo>
                          <a:lnTo>
                            <a:pt x="9" y="134"/>
                          </a:lnTo>
                          <a:lnTo>
                            <a:pt x="11" y="130"/>
                          </a:lnTo>
                          <a:lnTo>
                            <a:pt x="11" y="125"/>
                          </a:lnTo>
                          <a:lnTo>
                            <a:pt x="11" y="7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1044720" y="4425840"/>
                    <a:ext cx="15840" cy="158760"/>
                    <a:chOff x="1044720" y="4425840"/>
                    <a:chExt cx="15840" cy="15876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1044720" y="442584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17" name=""/>
                    <p:cNvGrpSpPr/>
                    <p:nvPr/>
                  </p:nvGrpSpPr>
                  <p:grpSpPr>
                    <a:xfrm>
                      <a:off x="1049400" y="4433760"/>
                      <a:ext cx="9360" cy="133560"/>
                      <a:chOff x="1049400" y="4433760"/>
                      <a:chExt cx="9360" cy="133560"/>
                    </a:xfrm>
                  </p:grpSpPr>
                  <p:sp>
                    <p:nvSpPr>
                      <p:cNvPr id="618" name=""/>
                      <p:cNvSpPr/>
                      <p:nvPr/>
                    </p:nvSpPr>
                    <p:spPr>
                      <a:xfrm>
                        <a:off x="1049400" y="4440240"/>
                        <a:ext cx="7920" cy="117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" name=""/>
                      <p:cNvSpPr/>
                      <p:nvPr/>
                    </p:nvSpPr>
                    <p:spPr>
                      <a:xfrm>
                        <a:off x="1049400" y="4433760"/>
                        <a:ext cx="9360" cy="13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4">
                            <a:moveTo>
                              <a:pt x="0" y="6"/>
                            </a:moveTo>
                            <a:lnTo>
                              <a:pt x="1" y="79"/>
                            </a:lnTo>
                            <a:lnTo>
                              <a:pt x="1" y="82"/>
                            </a:lnTo>
                            <a:lnTo>
                              <a:pt x="3" y="83"/>
                            </a:lnTo>
                            <a:lnTo>
                              <a:pt x="4" y="82"/>
                            </a:lnTo>
                            <a:lnTo>
                              <a:pt x="4" y="79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669960" y="4944960"/>
                <a:ext cx="331920" cy="11160"/>
                <a:chOff x="669960" y="4944960"/>
                <a:chExt cx="331920" cy="11160"/>
              </a:xfrm>
            </p:grpSpPr>
            <p:grpSp>
              <p:nvGrpSpPr>
                <p:cNvPr id="621" name=""/>
                <p:cNvGrpSpPr/>
                <p:nvPr/>
              </p:nvGrpSpPr>
              <p:grpSpPr>
                <a:xfrm>
                  <a:off x="669960" y="4948200"/>
                  <a:ext cx="117360" cy="1800"/>
                  <a:chOff x="669960" y="4948200"/>
                  <a:chExt cx="117360" cy="18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696960" y="494820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725400" y="494820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752400" y="494820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81200" y="4948200"/>
                    <a:ext cx="612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69960" y="494820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885960" y="4950000"/>
                  <a:ext cx="115920" cy="1440"/>
                  <a:chOff x="885960" y="4950000"/>
                  <a:chExt cx="115920" cy="144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912960" y="495000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939960" y="4950000"/>
                    <a:ext cx="612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968400" y="4950000"/>
                    <a:ext cx="64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996840" y="4950000"/>
                    <a:ext cx="50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885960" y="4950000"/>
                    <a:ext cx="28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812880" y="4944960"/>
                  <a:ext cx="39600" cy="11160"/>
                  <a:chOff x="812880" y="4944960"/>
                  <a:chExt cx="39600" cy="111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812880" y="4944960"/>
                    <a:ext cx="7920" cy="111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31960" y="4944960"/>
                    <a:ext cx="7920" cy="111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846000" y="4944960"/>
                    <a:ext cx="6480" cy="111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7" name=""/>
            <p:cNvGrpSpPr/>
            <p:nvPr/>
          </p:nvGrpSpPr>
          <p:grpSpPr>
            <a:xfrm>
              <a:off x="679320" y="4068720"/>
              <a:ext cx="11160" cy="280800"/>
              <a:chOff x="679320" y="4068720"/>
              <a:chExt cx="11160" cy="280800"/>
            </a:xfrm>
          </p:grpSpPr>
          <p:sp>
            <p:nvSpPr>
              <p:cNvPr id="638" name=""/>
              <p:cNvSpPr/>
              <p:nvPr/>
            </p:nvSpPr>
            <p:spPr>
              <a:xfrm flipV="1">
                <a:off x="679320" y="4236480"/>
                <a:ext cx="7920" cy="11268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840 h 112680"/>
                  <a:gd name="textAreaBottom" fmla="*/ 878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1120" y="4089240"/>
                <a:ext cx="7920" cy="15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79320" y="406872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1" name=""/>
          <p:cNvSpPr/>
          <p:nvPr/>
        </p:nvSpPr>
        <p:spPr>
          <a:xfrm>
            <a:off x="2270160" y="5499000"/>
            <a:ext cx="847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2496960" y="4722840"/>
            <a:ext cx="427320" cy="74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3" name=""/>
          <p:cNvGraphicFramePr/>
          <p:nvPr/>
        </p:nvGraphicFramePr>
        <p:xfrm>
          <a:off x="6488280" y="3033720"/>
          <a:ext cx="1023840" cy="33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8280" y="3033720"/>
                    <a:ext cx="102384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1225440" y="4807080"/>
            <a:ext cx="1054080" cy="34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063880" y="5403960"/>
            <a:ext cx="291960" cy="65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3041280" y="4730760"/>
            <a:ext cx="469800" cy="412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54240" y="5340240"/>
            <a:ext cx="1130400" cy="48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83840" y="3441600"/>
            <a:ext cx="1226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owerShip 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13920" y="3365640"/>
            <a:ext cx="86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stra Pri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75080" y="2222640"/>
            <a:ext cx="103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ADS 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99160" y="3670200"/>
            <a:ext cx="41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147080" y="1917720"/>
            <a:ext cx="7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ower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665600" y="3695760"/>
            <a:ext cx="873360" cy="228600"/>
            <a:chOff x="4665600" y="3695760"/>
            <a:chExt cx="873360" cy="228600"/>
          </a:xfrm>
        </p:grpSpPr>
        <p:sp>
          <p:nvSpPr>
            <p:cNvPr id="655" name=""/>
            <p:cNvSpPr/>
            <p:nvPr/>
          </p:nvSpPr>
          <p:spPr>
            <a:xfrm>
              <a:off x="5351400" y="3695760"/>
              <a:ext cx="2880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51280" y="373680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11640" y="3774960"/>
              <a:ext cx="306360" cy="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30960" y="373680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65600" y="376884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4792680" y="3774960"/>
              <a:ext cx="266760" cy="28800"/>
              <a:chOff x="4792680" y="3774960"/>
              <a:chExt cx="266760" cy="28800"/>
            </a:xfrm>
          </p:grpSpPr>
          <p:sp>
            <p:nvSpPr>
              <p:cNvPr id="661" name=""/>
              <p:cNvSpPr/>
              <p:nvPr/>
            </p:nvSpPr>
            <p:spPr>
              <a:xfrm>
                <a:off x="4792680" y="3774960"/>
                <a:ext cx="2556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87188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91184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8308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9514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92840" y="3774960"/>
                <a:ext cx="252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0640" y="3774960"/>
                <a:ext cx="288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4792680" y="3816360"/>
              <a:ext cx="266760" cy="28440"/>
              <a:chOff x="4792680" y="3816360"/>
              <a:chExt cx="266760" cy="28440"/>
            </a:xfrm>
          </p:grpSpPr>
          <p:sp>
            <p:nvSpPr>
              <p:cNvPr id="669" name=""/>
              <p:cNvSpPr/>
              <p:nvPr/>
            </p:nvSpPr>
            <p:spPr>
              <a:xfrm>
                <a:off x="4792680" y="381636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87188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1184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8308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514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992840" y="381636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30640" y="381636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792680" y="3857760"/>
              <a:ext cx="266760" cy="25200"/>
              <a:chOff x="4792680" y="3857760"/>
              <a:chExt cx="266760" cy="25200"/>
            </a:xfrm>
          </p:grpSpPr>
          <p:sp>
            <p:nvSpPr>
              <p:cNvPr id="677" name=""/>
              <p:cNvSpPr/>
              <p:nvPr/>
            </p:nvSpPr>
            <p:spPr>
              <a:xfrm>
                <a:off x="479268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87188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91184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308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514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92840" y="3857760"/>
                <a:ext cx="252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3064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130720" y="3857760"/>
              <a:ext cx="268200" cy="25200"/>
              <a:chOff x="5130720" y="3857760"/>
              <a:chExt cx="268200" cy="25200"/>
            </a:xfrm>
          </p:grpSpPr>
          <p:sp>
            <p:nvSpPr>
              <p:cNvPr id="685" name=""/>
              <p:cNvSpPr/>
              <p:nvPr/>
            </p:nvSpPr>
            <p:spPr>
              <a:xfrm>
                <a:off x="51307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117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513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1721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9272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3088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72280" y="3857760"/>
                <a:ext cx="266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535788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783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991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18120" y="382284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78360" y="3701880"/>
              <a:ext cx="54000" cy="16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7" name=""/>
          <p:cNvGraphicFramePr/>
          <p:nvPr/>
        </p:nvGraphicFramePr>
        <p:xfrm>
          <a:off x="3189240" y="1523880"/>
          <a:ext cx="750960" cy="70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89240" y="1523880"/>
                    <a:ext cx="7509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9" name=""/>
          <p:cNvGrpSpPr/>
          <p:nvPr/>
        </p:nvGrpSpPr>
        <p:grpSpPr>
          <a:xfrm>
            <a:off x="1998720" y="4076640"/>
            <a:ext cx="873000" cy="228600"/>
            <a:chOff x="1998720" y="4076640"/>
            <a:chExt cx="873000" cy="228600"/>
          </a:xfrm>
        </p:grpSpPr>
        <p:sp>
          <p:nvSpPr>
            <p:cNvPr id="700" name=""/>
            <p:cNvSpPr/>
            <p:nvPr/>
          </p:nvSpPr>
          <p:spPr>
            <a:xfrm>
              <a:off x="2684520" y="4076640"/>
              <a:ext cx="28440" cy="28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4400" y="4118040"/>
              <a:ext cx="708120" cy="18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44760" y="4156200"/>
              <a:ext cx="306360" cy="2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63720" y="4118040"/>
              <a:ext cx="108000" cy="18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98720" y="414972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2125800" y="4156200"/>
              <a:ext cx="266400" cy="28440"/>
              <a:chOff x="2125800" y="4156200"/>
              <a:chExt cx="266400" cy="28440"/>
            </a:xfrm>
          </p:grpSpPr>
          <p:sp>
            <p:nvSpPr>
              <p:cNvPr id="706" name=""/>
              <p:cNvSpPr/>
              <p:nvPr/>
            </p:nvSpPr>
            <p:spPr>
              <a:xfrm>
                <a:off x="2125800" y="415620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205000" y="415620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244600" y="415620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163600" y="415620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284560" y="415620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25600" y="415620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363760" y="415620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2125800" y="4197240"/>
              <a:ext cx="266400" cy="28800"/>
              <a:chOff x="2125800" y="4197240"/>
              <a:chExt cx="266400" cy="28800"/>
            </a:xfrm>
          </p:grpSpPr>
          <p:sp>
            <p:nvSpPr>
              <p:cNvPr id="714" name=""/>
              <p:cNvSpPr/>
              <p:nvPr/>
            </p:nvSpPr>
            <p:spPr>
              <a:xfrm>
                <a:off x="2125800" y="4197240"/>
                <a:ext cx="252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05000" y="419724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244600" y="419724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163600" y="4197240"/>
                <a:ext cx="288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284560" y="419724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325600" y="4197240"/>
                <a:ext cx="2556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363760" y="419724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2125800" y="4238640"/>
              <a:ext cx="266400" cy="25560"/>
              <a:chOff x="2125800" y="4238640"/>
              <a:chExt cx="266400" cy="25560"/>
            </a:xfrm>
          </p:grpSpPr>
          <p:sp>
            <p:nvSpPr>
              <p:cNvPr id="722" name=""/>
              <p:cNvSpPr/>
              <p:nvPr/>
            </p:nvSpPr>
            <p:spPr>
              <a:xfrm>
                <a:off x="2125800" y="423864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20500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24460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163600" y="423864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28456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325600" y="4238640"/>
                <a:ext cx="2556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36376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2463840" y="4238640"/>
              <a:ext cx="268200" cy="25560"/>
              <a:chOff x="2463840" y="4238640"/>
              <a:chExt cx="268200" cy="25560"/>
            </a:xfrm>
          </p:grpSpPr>
          <p:sp>
            <p:nvSpPr>
              <p:cNvPr id="730" name=""/>
              <p:cNvSpPr/>
              <p:nvPr/>
            </p:nvSpPr>
            <p:spPr>
              <a:xfrm>
                <a:off x="246384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54484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8444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524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25840" y="423864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66400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0504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690640" y="420372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11440" y="420372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32240" y="4203720"/>
              <a:ext cx="536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51240" y="420372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11480" y="4083120"/>
              <a:ext cx="54000" cy="1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2684520" y="6058080"/>
            <a:ext cx="873000" cy="228600"/>
            <a:chOff x="2684520" y="6058080"/>
            <a:chExt cx="873000" cy="228600"/>
          </a:xfrm>
        </p:grpSpPr>
        <p:sp>
          <p:nvSpPr>
            <p:cNvPr id="743" name=""/>
            <p:cNvSpPr/>
            <p:nvPr/>
          </p:nvSpPr>
          <p:spPr>
            <a:xfrm>
              <a:off x="3370320" y="6058080"/>
              <a:ext cx="2844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70200" y="609912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30560" y="6137280"/>
              <a:ext cx="306360" cy="2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49520" y="609912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84520" y="613080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811600" y="6137280"/>
              <a:ext cx="266400" cy="28440"/>
              <a:chOff x="2811600" y="6137280"/>
              <a:chExt cx="266400" cy="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2811600" y="613728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890800" y="61372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30400" y="61372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849400" y="613728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70360" y="61372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11400" y="613728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049560" y="61372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2811600" y="6178680"/>
              <a:ext cx="266400" cy="28440"/>
              <a:chOff x="2811600" y="6178680"/>
              <a:chExt cx="266400" cy="28440"/>
            </a:xfrm>
          </p:grpSpPr>
          <p:sp>
            <p:nvSpPr>
              <p:cNvPr id="757" name=""/>
              <p:cNvSpPr/>
              <p:nvPr/>
            </p:nvSpPr>
            <p:spPr>
              <a:xfrm>
                <a:off x="2811600" y="617868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90800" y="61786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30400" y="61786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849400" y="617868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70360" y="61786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011400" y="617868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049560" y="61786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2811600" y="6219720"/>
              <a:ext cx="266400" cy="25560"/>
              <a:chOff x="2811600" y="6219720"/>
              <a:chExt cx="266400" cy="25560"/>
            </a:xfrm>
          </p:grpSpPr>
          <p:sp>
            <p:nvSpPr>
              <p:cNvPr id="765" name=""/>
              <p:cNvSpPr/>
              <p:nvPr/>
            </p:nvSpPr>
            <p:spPr>
              <a:xfrm>
                <a:off x="2811600" y="621972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89080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3040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849400" y="621972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7036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11400" y="6219720"/>
                <a:ext cx="2556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04956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3149640" y="6219720"/>
              <a:ext cx="268200" cy="25560"/>
              <a:chOff x="3149640" y="6219720"/>
              <a:chExt cx="268200" cy="25560"/>
            </a:xfrm>
          </p:grpSpPr>
          <p:sp>
            <p:nvSpPr>
              <p:cNvPr id="773" name=""/>
              <p:cNvSpPr/>
              <p:nvPr/>
            </p:nvSpPr>
            <p:spPr>
              <a:xfrm>
                <a:off x="314964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23064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27024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19104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311640" y="621972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4980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9084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3376440" y="61848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97240" y="61848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18040" y="6184800"/>
              <a:ext cx="536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37040" y="618480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97280" y="6064200"/>
              <a:ext cx="54000" cy="1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292480" y="4502160"/>
            <a:ext cx="44424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30560" y="5721480"/>
            <a:ext cx="444600" cy="266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25640" y="525780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565800" y="504180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colink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71960" y="191772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71960" y="301608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71960" y="1978200"/>
            <a:ext cx="2343240" cy="9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71960" y="2033640"/>
            <a:ext cx="1200240" cy="1525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5272200" y="2033640"/>
            <a:ext cx="1155600" cy="1525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071960" y="3076560"/>
            <a:ext cx="113184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97600" y="2460600"/>
            <a:ext cx="30240" cy="657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059000" y="1978200"/>
            <a:ext cx="2368440" cy="92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349960" y="3063600"/>
            <a:ext cx="1065240" cy="507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976680" y="1738440"/>
            <a:ext cx="1467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3276720" y="2819520"/>
          <a:ext cx="6094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19520"/>
                    <a:ext cx="609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2" name=""/>
          <p:cNvGrpSpPr/>
          <p:nvPr/>
        </p:nvGrpSpPr>
        <p:grpSpPr>
          <a:xfrm>
            <a:off x="6613920" y="1401840"/>
            <a:ext cx="474120" cy="972720"/>
            <a:chOff x="6613920" y="1401840"/>
            <a:chExt cx="474120" cy="972720"/>
          </a:xfrm>
        </p:grpSpPr>
        <p:grpSp>
          <p:nvGrpSpPr>
            <p:cNvPr id="803" name=""/>
            <p:cNvGrpSpPr/>
            <p:nvPr/>
          </p:nvGrpSpPr>
          <p:grpSpPr>
            <a:xfrm>
              <a:off x="6613920" y="1684440"/>
              <a:ext cx="474120" cy="690120"/>
              <a:chOff x="6613920" y="1684440"/>
              <a:chExt cx="474120" cy="69012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6613920" y="1684440"/>
                <a:ext cx="474120" cy="690120"/>
                <a:chOff x="6613920" y="1684440"/>
                <a:chExt cx="474120" cy="69012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6634080" y="1722600"/>
                  <a:ext cx="452520" cy="618840"/>
                </a:xfrm>
                <a:custGeom>
                  <a:avLst/>
                  <a:gdLst/>
                  <a:ahLst/>
                  <a:rect l="l" t="t" r="r" b="b"/>
                  <a:pathLst>
                    <a:path w="285" h="390">
                      <a:moveTo>
                        <a:pt x="0" y="0"/>
                      </a:moveTo>
                      <a:lnTo>
                        <a:pt x="284" y="0"/>
                      </a:lnTo>
                      <a:lnTo>
                        <a:pt x="284" y="389"/>
                      </a:lnTo>
                      <a:lnTo>
                        <a:pt x="0" y="3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676920" y="1765440"/>
                  <a:ext cx="362160" cy="480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664320" y="176832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039080" y="1763640"/>
                  <a:ext cx="15840" cy="484200"/>
                </a:xfrm>
                <a:custGeom>
                  <a:avLst/>
                  <a:gdLst/>
                  <a:ahLst/>
                  <a:rect l="l" t="t" r="r" b="b"/>
                  <a:pathLst>
                    <a:path w="10" h="305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4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640560" y="2306520"/>
                  <a:ext cx="436680" cy="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7056360" y="1730520"/>
                  <a:ext cx="27000" cy="606240"/>
                  <a:chOff x="7056360" y="1730520"/>
                  <a:chExt cx="27000" cy="60624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7056360" y="173340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7062840" y="17604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7062840" y="1830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7062840" y="18637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7062840" y="1898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062840" y="19335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7062840" y="197316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062840" y="20131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062840" y="2046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062840" y="2085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062840" y="2127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7062840" y="2163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7062840" y="22701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7083360" y="173052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6613920" y="1684440"/>
                  <a:ext cx="471240" cy="48960"/>
                  <a:chOff x="6613920" y="1684440"/>
                  <a:chExt cx="471240" cy="489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6629400" y="1701720"/>
                    <a:ext cx="455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4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630840" y="1684440"/>
                    <a:ext cx="452520" cy="302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637320" y="172260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613920" y="1697040"/>
                    <a:ext cx="4654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2" y="0"/>
                        </a:moveTo>
                        <a:arcTo wR="10800" hR="10800" stAng="-5421790" swAng="48952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2" y="0"/>
                        </a:moveTo>
                        <a:arcTo wR="10800" hR="10800" stAng="-5421790" swAng="4895251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638760" y="1697040"/>
                    <a:ext cx="419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39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395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796080" y="169236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797520" y="169056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>
                    <a:off x="7083360" y="1692360"/>
                    <a:ext cx="0" cy="410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>
                    <a:off x="6630840" y="169848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6634080" y="1733400"/>
                  <a:ext cx="30240" cy="606600"/>
                  <a:chOff x="6634080" y="1733400"/>
                  <a:chExt cx="30240" cy="60660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664320" y="173340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640560" y="1755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640560" y="18273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640560" y="18622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640560" y="18939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640560" y="19335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640560" y="19699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640560" y="20098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640560" y="20448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640560" y="20844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640560" y="21240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640560" y="2160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640560" y="2270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634080" y="173340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6630840" y="2331720"/>
                  <a:ext cx="457200" cy="42840"/>
                  <a:chOff x="6630840" y="2331720"/>
                  <a:chExt cx="457200" cy="4284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6630840" y="234468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634080" y="235260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637320" y="236052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640560" y="234648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640560" y="234648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V="1">
                    <a:off x="7083360" y="233172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6638760" y="1749600"/>
                  <a:ext cx="17640" cy="215640"/>
                  <a:chOff x="6638760" y="1749600"/>
                  <a:chExt cx="17640" cy="215640"/>
                </a:xfrm>
              </p:grpSpPr>
              <p:grpSp>
                <p:nvGrpSpPr>
                  <p:cNvPr id="858" name=""/>
                  <p:cNvGrpSpPr/>
                  <p:nvPr/>
                </p:nvGrpSpPr>
                <p:grpSpPr>
                  <a:xfrm>
                    <a:off x="6638760" y="1749600"/>
                    <a:ext cx="17640" cy="215640"/>
                    <a:chOff x="6638760" y="1749600"/>
                    <a:chExt cx="17640" cy="215640"/>
                  </a:xfrm>
                </p:grpSpPr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6638760" y="1749600"/>
                      <a:ext cx="14400" cy="212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6638760" y="1749600"/>
                      <a:ext cx="1764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5" y="135"/>
                          </a:lnTo>
                          <a:lnTo>
                            <a:pt x="8" y="134"/>
                          </a:lnTo>
                          <a:lnTo>
                            <a:pt x="10" y="130"/>
                          </a:lnTo>
                          <a:lnTo>
                            <a:pt x="10" y="125"/>
                          </a:lnTo>
                          <a:lnTo>
                            <a:pt x="10" y="7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6638760" y="1758960"/>
                    <a:ext cx="14400" cy="158760"/>
                    <a:chOff x="6638760" y="1758960"/>
                    <a:chExt cx="14400" cy="158760"/>
                  </a:xfrm>
                </p:grpSpPr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6638760" y="175896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63" name=""/>
                    <p:cNvGrpSpPr/>
                    <p:nvPr/>
                  </p:nvGrpSpPr>
                  <p:grpSpPr>
                    <a:xfrm>
                      <a:off x="6640560" y="1768320"/>
                      <a:ext cx="11160" cy="131760"/>
                      <a:chOff x="6640560" y="1768320"/>
                      <a:chExt cx="11160" cy="131760"/>
                    </a:xfrm>
                  </p:grpSpPr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6640560" y="177480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6640560" y="176832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7064280" y="1749600"/>
                  <a:ext cx="19080" cy="215640"/>
                  <a:chOff x="7064280" y="1749600"/>
                  <a:chExt cx="19080" cy="215640"/>
                </a:xfrm>
              </p:grpSpPr>
              <p:grpSp>
                <p:nvGrpSpPr>
                  <p:cNvPr id="867" name=""/>
                  <p:cNvGrpSpPr/>
                  <p:nvPr/>
                </p:nvGrpSpPr>
                <p:grpSpPr>
                  <a:xfrm>
                    <a:off x="7064280" y="1749600"/>
                    <a:ext cx="19080" cy="215640"/>
                    <a:chOff x="7064280" y="1749600"/>
                    <a:chExt cx="19080" cy="215640"/>
                  </a:xfrm>
                </p:grpSpPr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7064280" y="1749600"/>
                      <a:ext cx="15840" cy="212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7064280" y="1749600"/>
                      <a:ext cx="1908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6" y="135"/>
                          </a:lnTo>
                          <a:lnTo>
                            <a:pt x="9" y="134"/>
                          </a:lnTo>
                          <a:lnTo>
                            <a:pt x="11" y="130"/>
                          </a:lnTo>
                          <a:lnTo>
                            <a:pt x="11" y="125"/>
                          </a:lnTo>
                          <a:lnTo>
                            <a:pt x="11" y="7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7064280" y="1758960"/>
                    <a:ext cx="15840" cy="158760"/>
                    <a:chOff x="7064280" y="1758960"/>
                    <a:chExt cx="15840" cy="15876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7064280" y="175896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72" name=""/>
                    <p:cNvGrpSpPr/>
                    <p:nvPr/>
                  </p:nvGrpSpPr>
                  <p:grpSpPr>
                    <a:xfrm>
                      <a:off x="7068960" y="1768320"/>
                      <a:ext cx="9720" cy="131760"/>
                      <a:chOff x="7068960" y="1768320"/>
                      <a:chExt cx="9720" cy="131760"/>
                    </a:xfrm>
                  </p:grpSpPr>
                  <p:sp>
                    <p:nvSpPr>
                      <p:cNvPr id="873" name=""/>
                      <p:cNvSpPr/>
                      <p:nvPr/>
                    </p:nvSpPr>
                    <p:spPr>
                      <a:xfrm>
                        <a:off x="7068960" y="177480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7068960" y="176832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75" name=""/>
              <p:cNvGrpSpPr/>
              <p:nvPr/>
            </p:nvGrpSpPr>
            <p:grpSpPr>
              <a:xfrm>
                <a:off x="6691320" y="2278080"/>
                <a:ext cx="330120" cy="11160"/>
                <a:chOff x="6691320" y="2278080"/>
                <a:chExt cx="330120" cy="11160"/>
              </a:xfrm>
            </p:grpSpPr>
            <p:grpSp>
              <p:nvGrpSpPr>
                <p:cNvPr id="876" name=""/>
                <p:cNvGrpSpPr/>
                <p:nvPr/>
              </p:nvGrpSpPr>
              <p:grpSpPr>
                <a:xfrm>
                  <a:off x="6691320" y="2281320"/>
                  <a:ext cx="115920" cy="1440"/>
                  <a:chOff x="6691320" y="2281320"/>
                  <a:chExt cx="115920" cy="144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>
                    <a:off x="671832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746760" y="2281320"/>
                    <a:ext cx="50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773760" y="2281320"/>
                    <a:ext cx="32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80256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669132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6907320" y="2282760"/>
                  <a:ext cx="114120" cy="3240"/>
                  <a:chOff x="6907320" y="2282760"/>
                  <a:chExt cx="114120" cy="324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693252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96132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6988320" y="2282760"/>
                    <a:ext cx="612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701676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6907320" y="2282760"/>
                    <a:ext cx="324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6834240" y="2278080"/>
                  <a:ext cx="39600" cy="11160"/>
                  <a:chOff x="6834240" y="2278080"/>
                  <a:chExt cx="39600" cy="1116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6834240" y="2278080"/>
                    <a:ext cx="7920" cy="111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6851520" y="2278080"/>
                    <a:ext cx="7920" cy="111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6865920" y="2278080"/>
                    <a:ext cx="7920" cy="111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2" name=""/>
            <p:cNvGrpSpPr/>
            <p:nvPr/>
          </p:nvGrpSpPr>
          <p:grpSpPr>
            <a:xfrm>
              <a:off x="6700680" y="1401840"/>
              <a:ext cx="9720" cy="280440"/>
              <a:chOff x="6700680" y="1401840"/>
              <a:chExt cx="9720" cy="280440"/>
            </a:xfrm>
          </p:grpSpPr>
          <p:sp>
            <p:nvSpPr>
              <p:cNvPr id="893" name=""/>
              <p:cNvSpPr/>
              <p:nvPr/>
            </p:nvSpPr>
            <p:spPr>
              <a:xfrm flipV="1">
                <a:off x="6700680" y="1569240"/>
                <a:ext cx="6480" cy="112680"/>
              </a:xfrm>
              <a:custGeom>
                <a:avLst/>
                <a:gdLst>
                  <a:gd name="textAreaLeft" fmla="*/ 1440 w 6480"/>
                  <a:gd name="textAreaRight" fmla="*/ 5040 w 6480"/>
                  <a:gd name="textAreaTop" fmla="*/ 24840 h 112680"/>
                  <a:gd name="textAreaBottom" fmla="*/ 878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702480" y="1422360"/>
                <a:ext cx="7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705720" y="1401840"/>
                <a:ext cx="1440" cy="30240"/>
              </a:xfrm>
              <a:custGeom>
                <a:avLst/>
                <a:gdLst/>
                <a:ahLst/>
                <a:rect l="l" t="t" r="r" b="b"/>
                <a:pathLst>
                  <a:path w="21600" h="367200">
                    <a:moveTo>
                      <a:pt x="2699" y="0"/>
                    </a:moveTo>
                    <a:arcTo wR="2699" hR="2699" stAng="16200000" swAng="-5400000"/>
                    <a:lnTo>
                      <a:pt x="0" y="364501"/>
                    </a:lnTo>
                    <a:arcTo wR="2699" hR="2699" stAng="10800000" swAng="-5400000"/>
                    <a:lnTo>
                      <a:pt x="18901" y="36720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96" name=""/>
          <p:cNvGraphicFramePr/>
          <p:nvPr/>
        </p:nvGraphicFramePr>
        <p:xfrm>
          <a:off x="6488280" y="3033720"/>
          <a:ext cx="1023840" cy="33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8280" y="3033720"/>
                    <a:ext cx="102384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3183840" y="3441600"/>
            <a:ext cx="1226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owerShip 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613920" y="3365640"/>
            <a:ext cx="86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stra Pri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75080" y="2222640"/>
            <a:ext cx="103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ADS 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699160" y="3670200"/>
            <a:ext cx="41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147080" y="1917720"/>
            <a:ext cx="7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ower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4665600" y="3695760"/>
            <a:ext cx="873360" cy="228600"/>
            <a:chOff x="4665600" y="3695760"/>
            <a:chExt cx="873360" cy="228600"/>
          </a:xfrm>
        </p:grpSpPr>
        <p:sp>
          <p:nvSpPr>
            <p:cNvPr id="904" name=""/>
            <p:cNvSpPr/>
            <p:nvPr/>
          </p:nvSpPr>
          <p:spPr>
            <a:xfrm>
              <a:off x="5351400" y="3695760"/>
              <a:ext cx="2880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51280" y="373680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11640" y="3774960"/>
              <a:ext cx="306360" cy="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30960" y="373680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65600" y="376884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4792680" y="3774960"/>
              <a:ext cx="266760" cy="28800"/>
              <a:chOff x="4792680" y="3774960"/>
              <a:chExt cx="266760" cy="28800"/>
            </a:xfrm>
          </p:grpSpPr>
          <p:sp>
            <p:nvSpPr>
              <p:cNvPr id="910" name=""/>
              <p:cNvSpPr/>
              <p:nvPr/>
            </p:nvSpPr>
            <p:spPr>
              <a:xfrm>
                <a:off x="4792680" y="3774960"/>
                <a:ext cx="2556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87188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91184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8308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9514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992840" y="3774960"/>
                <a:ext cx="252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30640" y="3774960"/>
                <a:ext cx="288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4792680" y="3816360"/>
              <a:ext cx="266760" cy="28440"/>
              <a:chOff x="4792680" y="3816360"/>
              <a:chExt cx="266760" cy="28440"/>
            </a:xfrm>
          </p:grpSpPr>
          <p:sp>
            <p:nvSpPr>
              <p:cNvPr id="918" name=""/>
              <p:cNvSpPr/>
              <p:nvPr/>
            </p:nvSpPr>
            <p:spPr>
              <a:xfrm>
                <a:off x="4792680" y="381636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87188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91184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308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9514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992840" y="381636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30640" y="381636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4792680" y="3857760"/>
              <a:ext cx="266760" cy="25200"/>
              <a:chOff x="4792680" y="3857760"/>
              <a:chExt cx="266760" cy="25200"/>
            </a:xfrm>
          </p:grpSpPr>
          <p:sp>
            <p:nvSpPr>
              <p:cNvPr id="926" name=""/>
              <p:cNvSpPr/>
              <p:nvPr/>
            </p:nvSpPr>
            <p:spPr>
              <a:xfrm>
                <a:off x="479268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87188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91184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8308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9514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992840" y="3857760"/>
                <a:ext cx="252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3064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5130720" y="3857760"/>
              <a:ext cx="268200" cy="25200"/>
              <a:chOff x="5130720" y="3857760"/>
              <a:chExt cx="268200" cy="25200"/>
            </a:xfrm>
          </p:grpSpPr>
          <p:sp>
            <p:nvSpPr>
              <p:cNvPr id="934" name=""/>
              <p:cNvSpPr/>
              <p:nvPr/>
            </p:nvSpPr>
            <p:spPr>
              <a:xfrm>
                <a:off x="51307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17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2513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1721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9272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33088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372280" y="3857760"/>
                <a:ext cx="266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535788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783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991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18120" y="382284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78360" y="3701880"/>
              <a:ext cx="54000" cy="16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6" name=""/>
          <p:cNvGraphicFramePr/>
          <p:nvPr/>
        </p:nvGraphicFramePr>
        <p:xfrm>
          <a:off x="3189240" y="1523880"/>
          <a:ext cx="75096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9240" y="1523880"/>
                    <a:ext cx="7509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990720" y="4114800"/>
            <a:ext cx="7238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rea Network (PAN; Peer-to-P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Networks co-habitate (20 or more have been tested, but this attribute is dependent upon the PH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 to 10 devices in a single 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ynamic PAN and device IDs with network ini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maintained devices coming and 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orary devices and NETWORKS also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olink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310440" y="2347920"/>
            <a:ext cx="2527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fra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163120" y="2697120"/>
            <a:ext cx="477360" cy="972720"/>
            <a:chOff x="5163120" y="2697120"/>
            <a:chExt cx="477360" cy="972720"/>
          </a:xfrm>
        </p:grpSpPr>
        <p:grpSp>
          <p:nvGrpSpPr>
            <p:cNvPr id="952" name=""/>
            <p:cNvGrpSpPr/>
            <p:nvPr/>
          </p:nvGrpSpPr>
          <p:grpSpPr>
            <a:xfrm>
              <a:off x="5163120" y="2981160"/>
              <a:ext cx="477360" cy="688680"/>
              <a:chOff x="5163120" y="2981160"/>
              <a:chExt cx="477360" cy="68868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5163120" y="2981160"/>
                <a:ext cx="477360" cy="688680"/>
                <a:chOff x="5163120" y="2981160"/>
                <a:chExt cx="477360" cy="68868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5184720" y="3019320"/>
                  <a:ext cx="453960" cy="61776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227560" y="3062160"/>
                  <a:ext cx="36360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214960" y="306396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591160" y="3060720"/>
                  <a:ext cx="15840" cy="48276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5191200" y="3595680"/>
                  <a:ext cx="438120" cy="1440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9" name=""/>
                <p:cNvGrpSpPr/>
                <p:nvPr/>
              </p:nvGrpSpPr>
              <p:grpSpPr>
                <a:xfrm>
                  <a:off x="5608800" y="3027240"/>
                  <a:ext cx="27000" cy="604800"/>
                  <a:chOff x="5608800" y="3027240"/>
                  <a:chExt cx="27000" cy="60480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5608800" y="3029040"/>
                    <a:ext cx="0" cy="6030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614920" y="30560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5614920" y="31240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5614920" y="31590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614920" y="31939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5614920" y="3228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5614920" y="32670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614920" y="3306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614920" y="33433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614920" y="33829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614920" y="34243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614920" y="3459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5614920" y="3567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5635800" y="302724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5163120" y="2981160"/>
                  <a:ext cx="474120" cy="47880"/>
                  <a:chOff x="5163120" y="2981160"/>
                  <a:chExt cx="474120" cy="4788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>
                    <a:off x="5181480" y="2998800"/>
                    <a:ext cx="455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5183280" y="298116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5189400" y="301788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5163120" y="2990880"/>
                    <a:ext cx="4658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5192640" y="299232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5346720" y="298944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5348160" y="29876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flipV="1">
                    <a:off x="5635800" y="298944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V="1">
                    <a:off x="5183280" y="29952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5184720" y="3029040"/>
                  <a:ext cx="30240" cy="606240"/>
                  <a:chOff x="5184720" y="3029040"/>
                  <a:chExt cx="30240" cy="60624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5214960" y="302904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5191200" y="30510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5191200" y="31240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5191200" y="31575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5191200" y="31892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5191200" y="32274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5191200" y="32655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5191200" y="3305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5191200" y="33415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5191200" y="33796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5191200" y="34196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191200" y="34560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5191200" y="35672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5184720" y="3029040"/>
                    <a:ext cx="0" cy="60624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9" name=""/>
                <p:cNvGrpSpPr/>
                <p:nvPr/>
              </p:nvGrpSpPr>
              <p:grpSpPr>
                <a:xfrm>
                  <a:off x="5183280" y="3627000"/>
                  <a:ext cx="457200" cy="42840"/>
                  <a:chOff x="5183280" y="3627000"/>
                  <a:chExt cx="457200" cy="4284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5183280" y="363996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5184720" y="3648240"/>
                    <a:ext cx="0" cy="28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5189400" y="3656160"/>
                    <a:ext cx="44316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5191200" y="364176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191200" y="364320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V="1">
                    <a:off x="5635800" y="362700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5189400" y="3043080"/>
                  <a:ext cx="17640" cy="219240"/>
                  <a:chOff x="5189400" y="3043080"/>
                  <a:chExt cx="17640" cy="219240"/>
                </a:xfrm>
              </p:grpSpPr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5189400" y="3043080"/>
                    <a:ext cx="17640" cy="219240"/>
                    <a:chOff x="5189400" y="3043080"/>
                    <a:chExt cx="17640" cy="21924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5189400" y="3043080"/>
                      <a:ext cx="1440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5189400" y="3043080"/>
                      <a:ext cx="1764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5189400" y="3054240"/>
                    <a:ext cx="14400" cy="158760"/>
                    <a:chOff x="5189400" y="3054240"/>
                    <a:chExt cx="14400" cy="15876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5189400" y="305424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12" name=""/>
                    <p:cNvGrpSpPr/>
                    <p:nvPr/>
                  </p:nvGrpSpPr>
                  <p:grpSpPr>
                    <a:xfrm>
                      <a:off x="5191200" y="3063960"/>
                      <a:ext cx="11160" cy="131760"/>
                      <a:chOff x="5191200" y="3063960"/>
                      <a:chExt cx="11160" cy="131760"/>
                    </a:xfrm>
                  </p:grpSpPr>
                  <p:sp>
                    <p:nvSpPr>
                      <p:cNvPr id="1013" name=""/>
                      <p:cNvSpPr/>
                      <p:nvPr/>
                    </p:nvSpPr>
                    <p:spPr>
                      <a:xfrm>
                        <a:off x="5191200" y="307008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4" name=""/>
                      <p:cNvSpPr/>
                      <p:nvPr/>
                    </p:nvSpPr>
                    <p:spPr>
                      <a:xfrm>
                        <a:off x="5191200" y="306396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5616720" y="3043080"/>
                  <a:ext cx="19080" cy="219240"/>
                  <a:chOff x="5616720" y="3043080"/>
                  <a:chExt cx="19080" cy="219240"/>
                </a:xfrm>
              </p:grpSpPr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5616720" y="3043080"/>
                    <a:ext cx="19080" cy="219240"/>
                    <a:chOff x="5616720" y="3043080"/>
                    <a:chExt cx="19080" cy="21924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616720" y="3043080"/>
                      <a:ext cx="1584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5616720" y="304308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5616720" y="3054240"/>
                    <a:ext cx="15840" cy="158760"/>
                    <a:chOff x="5616720" y="3054240"/>
                    <a:chExt cx="15840" cy="15876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5616720" y="305424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21" name=""/>
                    <p:cNvGrpSpPr/>
                    <p:nvPr/>
                  </p:nvGrpSpPr>
                  <p:grpSpPr>
                    <a:xfrm>
                      <a:off x="5621400" y="3063960"/>
                      <a:ext cx="9360" cy="131760"/>
                      <a:chOff x="5621400" y="3063960"/>
                      <a:chExt cx="9360" cy="131760"/>
                    </a:xfrm>
                  </p:grpSpPr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5621400" y="307008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5621400" y="3063960"/>
                        <a:ext cx="93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24" name=""/>
              <p:cNvGrpSpPr/>
              <p:nvPr/>
            </p:nvGrpSpPr>
            <p:grpSpPr>
              <a:xfrm>
                <a:off x="5241960" y="3573360"/>
                <a:ext cx="331920" cy="12960"/>
                <a:chOff x="5241960" y="3573360"/>
                <a:chExt cx="331920" cy="12960"/>
              </a:xfrm>
            </p:grpSpPr>
            <p:grpSp>
              <p:nvGrpSpPr>
                <p:cNvPr id="1025" name=""/>
                <p:cNvGrpSpPr/>
                <p:nvPr/>
              </p:nvGrpSpPr>
              <p:grpSpPr>
                <a:xfrm>
                  <a:off x="5241960" y="3575160"/>
                  <a:ext cx="117360" cy="4680"/>
                  <a:chOff x="5241960" y="3575160"/>
                  <a:chExt cx="117360" cy="468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5268960" y="35751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297400" y="35751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324400" y="35751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353200" y="357516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241960" y="35751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1" name=""/>
                <p:cNvGrpSpPr/>
                <p:nvPr/>
              </p:nvGrpSpPr>
              <p:grpSpPr>
                <a:xfrm>
                  <a:off x="5457960" y="3576600"/>
                  <a:ext cx="115920" cy="4680"/>
                  <a:chOff x="5457960" y="3576600"/>
                  <a:chExt cx="115920" cy="468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5484960" y="35766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5511960" y="357660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5540400" y="357660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5568840" y="3576600"/>
                    <a:ext cx="504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457960" y="3576600"/>
                    <a:ext cx="2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360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30901"/>
                        </a:lnTo>
                        <a:arcTo wR="2699" hR="2699" stAng="10800000" swAng="-5400000"/>
                        <a:lnTo>
                          <a:pt x="18901" y="3360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5384880" y="3573360"/>
                  <a:ext cx="39600" cy="12960"/>
                  <a:chOff x="5384880" y="3573360"/>
                  <a:chExt cx="39600" cy="1296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5384880" y="3573360"/>
                    <a:ext cx="7920" cy="129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403960" y="3573360"/>
                    <a:ext cx="7920" cy="129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418000" y="3573360"/>
                    <a:ext cx="6480" cy="129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41" name=""/>
            <p:cNvGrpSpPr/>
            <p:nvPr/>
          </p:nvGrpSpPr>
          <p:grpSpPr>
            <a:xfrm>
              <a:off x="5251320" y="2697120"/>
              <a:ext cx="11160" cy="279360"/>
              <a:chOff x="5251320" y="2697120"/>
              <a:chExt cx="11160" cy="279360"/>
            </a:xfrm>
          </p:grpSpPr>
          <p:sp>
            <p:nvSpPr>
              <p:cNvPr id="1042" name=""/>
              <p:cNvSpPr/>
              <p:nvPr/>
            </p:nvSpPr>
            <p:spPr>
              <a:xfrm flipV="1">
                <a:off x="5251320" y="286704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53120" y="271764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51320" y="269712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2266920" y="2925720"/>
            <a:ext cx="477720" cy="972720"/>
            <a:chOff x="2266920" y="2925720"/>
            <a:chExt cx="477720" cy="972720"/>
          </a:xfrm>
        </p:grpSpPr>
        <p:grpSp>
          <p:nvGrpSpPr>
            <p:cNvPr id="1046" name=""/>
            <p:cNvGrpSpPr/>
            <p:nvPr/>
          </p:nvGrpSpPr>
          <p:grpSpPr>
            <a:xfrm>
              <a:off x="2266920" y="3209760"/>
              <a:ext cx="477720" cy="688680"/>
              <a:chOff x="2266920" y="3209760"/>
              <a:chExt cx="477720" cy="68868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2266920" y="3209760"/>
                <a:ext cx="477720" cy="688680"/>
                <a:chOff x="2266920" y="3209760"/>
                <a:chExt cx="477720" cy="68868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2289240" y="3247920"/>
                  <a:ext cx="453960" cy="61776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332080" y="3290760"/>
                  <a:ext cx="36360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319480" y="3292560"/>
                  <a:ext cx="1404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695680" y="3289320"/>
                  <a:ext cx="15840" cy="48276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V="1">
                  <a:off x="2295360" y="3824280"/>
                  <a:ext cx="438480" cy="1440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2712960" y="3255840"/>
                  <a:ext cx="27000" cy="604800"/>
                  <a:chOff x="2712960" y="3255840"/>
                  <a:chExt cx="27000" cy="60480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2712960" y="3257640"/>
                    <a:ext cx="0" cy="6030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719440" y="3284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719440" y="33526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19440" y="33876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19440" y="3422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19440" y="34574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19440" y="3495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19440" y="35352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19440" y="35719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719440" y="3611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2719440" y="36529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19440" y="36878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19440" y="3795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39960" y="325584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8" name=""/>
                <p:cNvGrpSpPr/>
                <p:nvPr/>
              </p:nvGrpSpPr>
              <p:grpSpPr>
                <a:xfrm>
                  <a:off x="2266920" y="3209760"/>
                  <a:ext cx="474840" cy="47880"/>
                  <a:chOff x="2266920" y="3209760"/>
                  <a:chExt cx="474840" cy="4788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>
                    <a:off x="2286000" y="3227400"/>
                    <a:ext cx="455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287440" y="320976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293920" y="324648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266920" y="3219480"/>
                    <a:ext cx="4665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297160" y="322092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451240" y="321804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452680" y="32162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V="1">
                    <a:off x="2739960" y="321804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V="1">
                    <a:off x="2287440" y="32238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2289240" y="3257640"/>
                  <a:ext cx="30240" cy="606240"/>
                  <a:chOff x="2289240" y="3257640"/>
                  <a:chExt cx="30240" cy="60624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2319480" y="325764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295360" y="3279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95360" y="33526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295360" y="3386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95360" y="3417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295360" y="3456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295360" y="3494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295360" y="35337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295360" y="35701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295360" y="36082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295360" y="36482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295360" y="3684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295360" y="3795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289240" y="3257640"/>
                    <a:ext cx="0" cy="60624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2287440" y="3855600"/>
                  <a:ext cx="457200" cy="42840"/>
                  <a:chOff x="2287440" y="3855600"/>
                  <a:chExt cx="457200" cy="42840"/>
                </a:xfrm>
              </p:grpSpPr>
              <p:sp>
                <p:nvSpPr>
                  <p:cNvPr id="1094" name=""/>
                  <p:cNvSpPr/>
                  <p:nvPr/>
                </p:nvSpPr>
                <p:spPr>
                  <a:xfrm>
                    <a:off x="2287440" y="386856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289240" y="3876840"/>
                    <a:ext cx="0" cy="28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293920" y="388476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295360" y="387036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295360" y="387180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 flipV="1">
                    <a:off x="2739960" y="385560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2293920" y="3271680"/>
                  <a:ext cx="17640" cy="219240"/>
                  <a:chOff x="2293920" y="3271680"/>
                  <a:chExt cx="17640" cy="219240"/>
                </a:xfrm>
              </p:grpSpPr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2293920" y="3271680"/>
                    <a:ext cx="17640" cy="219240"/>
                    <a:chOff x="2293920" y="3271680"/>
                    <a:chExt cx="17640" cy="21924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2293920" y="3271680"/>
                      <a:ext cx="1440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2293920" y="3271680"/>
                      <a:ext cx="1764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2293920" y="3282840"/>
                    <a:ext cx="14400" cy="158760"/>
                    <a:chOff x="2293920" y="3282840"/>
                    <a:chExt cx="14400" cy="15876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2293920" y="328284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06" name=""/>
                    <p:cNvGrpSpPr/>
                    <p:nvPr/>
                  </p:nvGrpSpPr>
                  <p:grpSpPr>
                    <a:xfrm>
                      <a:off x="2295360" y="3292560"/>
                      <a:ext cx="11160" cy="131760"/>
                      <a:chOff x="2295360" y="3292560"/>
                      <a:chExt cx="11160" cy="131760"/>
                    </a:xfrm>
                  </p:grpSpPr>
                  <p:sp>
                    <p:nvSpPr>
                      <p:cNvPr id="1107" name=""/>
                      <p:cNvSpPr/>
                      <p:nvPr/>
                    </p:nvSpPr>
                    <p:spPr>
                      <a:xfrm>
                        <a:off x="2295360" y="329868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8" name=""/>
                      <p:cNvSpPr/>
                      <p:nvPr/>
                    </p:nvSpPr>
                    <p:spPr>
                      <a:xfrm>
                        <a:off x="2295360" y="329256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09" name=""/>
                <p:cNvGrpSpPr/>
                <p:nvPr/>
              </p:nvGrpSpPr>
              <p:grpSpPr>
                <a:xfrm>
                  <a:off x="2720880" y="3271680"/>
                  <a:ext cx="19080" cy="219240"/>
                  <a:chOff x="2720880" y="3271680"/>
                  <a:chExt cx="19080" cy="219240"/>
                </a:xfrm>
              </p:grpSpPr>
              <p:grpSp>
                <p:nvGrpSpPr>
                  <p:cNvPr id="1110" name=""/>
                  <p:cNvGrpSpPr/>
                  <p:nvPr/>
                </p:nvGrpSpPr>
                <p:grpSpPr>
                  <a:xfrm>
                    <a:off x="2720880" y="3271680"/>
                    <a:ext cx="19080" cy="219240"/>
                    <a:chOff x="2720880" y="3271680"/>
                    <a:chExt cx="19080" cy="219240"/>
                  </a:xfrm>
                </p:grpSpPr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2720880" y="3271680"/>
                      <a:ext cx="1584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2720880" y="327168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3" name=""/>
                  <p:cNvGrpSpPr/>
                  <p:nvPr/>
                </p:nvGrpSpPr>
                <p:grpSpPr>
                  <a:xfrm>
                    <a:off x="2720880" y="3282840"/>
                    <a:ext cx="15840" cy="158760"/>
                    <a:chOff x="2720880" y="3282840"/>
                    <a:chExt cx="15840" cy="158760"/>
                  </a:xfrm>
                </p:grpSpPr>
                <p:sp>
                  <p:nvSpPr>
                    <p:cNvPr id="1114" name=""/>
                    <p:cNvSpPr/>
                    <p:nvPr/>
                  </p:nvSpPr>
                  <p:spPr>
                    <a:xfrm>
                      <a:off x="2720880" y="328284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15" name=""/>
                    <p:cNvGrpSpPr/>
                    <p:nvPr/>
                  </p:nvGrpSpPr>
                  <p:grpSpPr>
                    <a:xfrm>
                      <a:off x="2725560" y="3292560"/>
                      <a:ext cx="9720" cy="131760"/>
                      <a:chOff x="2725560" y="3292560"/>
                      <a:chExt cx="9720" cy="131760"/>
                    </a:xfrm>
                  </p:grpSpPr>
                  <p:sp>
                    <p:nvSpPr>
                      <p:cNvPr id="1116" name=""/>
                      <p:cNvSpPr/>
                      <p:nvPr/>
                    </p:nvSpPr>
                    <p:spPr>
                      <a:xfrm>
                        <a:off x="2725560" y="329868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7" name=""/>
                      <p:cNvSpPr/>
                      <p:nvPr/>
                    </p:nvSpPr>
                    <p:spPr>
                      <a:xfrm>
                        <a:off x="2725560" y="329256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2346480" y="3801960"/>
                <a:ext cx="331560" cy="12960"/>
                <a:chOff x="2346480" y="3801960"/>
                <a:chExt cx="331560" cy="129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2346480" y="3803760"/>
                  <a:ext cx="117360" cy="4680"/>
                  <a:chOff x="2346480" y="3803760"/>
                  <a:chExt cx="117360" cy="468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2373480" y="3803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401920" y="3803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428920" y="3803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457360" y="380376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346480" y="3803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2562120" y="3805200"/>
                  <a:ext cx="115920" cy="4680"/>
                  <a:chOff x="2562120" y="3805200"/>
                  <a:chExt cx="115920" cy="468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2589120" y="38052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616120" y="380520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644920" y="380520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673360" y="38052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562120" y="380520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024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7541"/>
                        </a:lnTo>
                        <a:arcTo wR="2699" hR="2699" stAng="10800000" swAng="-5400000"/>
                        <a:lnTo>
                          <a:pt x="18901" y="3024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2489040" y="3801960"/>
                  <a:ext cx="39960" cy="12960"/>
                  <a:chOff x="2489040" y="3801960"/>
                  <a:chExt cx="39960" cy="1296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2489040" y="3801960"/>
                    <a:ext cx="7920" cy="129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508120" y="3801960"/>
                    <a:ext cx="7920" cy="129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522520" y="3801960"/>
                    <a:ext cx="6480" cy="129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35" name=""/>
            <p:cNvGrpSpPr/>
            <p:nvPr/>
          </p:nvGrpSpPr>
          <p:grpSpPr>
            <a:xfrm>
              <a:off x="2355840" y="2925720"/>
              <a:ext cx="11160" cy="279360"/>
              <a:chOff x="2355840" y="2925720"/>
              <a:chExt cx="11160" cy="279360"/>
            </a:xfrm>
          </p:grpSpPr>
          <p:sp>
            <p:nvSpPr>
              <p:cNvPr id="1136" name=""/>
              <p:cNvSpPr/>
              <p:nvPr/>
            </p:nvSpPr>
            <p:spPr>
              <a:xfrm flipV="1">
                <a:off x="2355840" y="309564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357280" y="294624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355840" y="292572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9" name=""/>
          <p:cNvGrpSpPr/>
          <p:nvPr/>
        </p:nvGrpSpPr>
        <p:grpSpPr>
          <a:xfrm>
            <a:off x="4477320" y="1706400"/>
            <a:ext cx="477360" cy="973080"/>
            <a:chOff x="4477320" y="1706400"/>
            <a:chExt cx="477360" cy="973080"/>
          </a:xfrm>
        </p:grpSpPr>
        <p:grpSp>
          <p:nvGrpSpPr>
            <p:cNvPr id="1140" name=""/>
            <p:cNvGrpSpPr/>
            <p:nvPr/>
          </p:nvGrpSpPr>
          <p:grpSpPr>
            <a:xfrm>
              <a:off x="4477320" y="1990800"/>
              <a:ext cx="477360" cy="688680"/>
              <a:chOff x="4477320" y="1990800"/>
              <a:chExt cx="477360" cy="68868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4477320" y="1990800"/>
                <a:ext cx="477360" cy="688680"/>
                <a:chOff x="4477320" y="1990800"/>
                <a:chExt cx="477360" cy="68868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498920" y="2028960"/>
                  <a:ext cx="453960" cy="61740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541760" y="2071800"/>
                  <a:ext cx="363600" cy="4791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529160" y="207324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905360" y="2070000"/>
                  <a:ext cx="15840" cy="48276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4505400" y="2604960"/>
                  <a:ext cx="438120" cy="1440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7" name=""/>
                <p:cNvGrpSpPr/>
                <p:nvPr/>
              </p:nvGrpSpPr>
              <p:grpSpPr>
                <a:xfrm>
                  <a:off x="4923000" y="2036880"/>
                  <a:ext cx="27000" cy="604800"/>
                  <a:chOff x="4923000" y="2036880"/>
                  <a:chExt cx="27000" cy="60480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4923000" y="203832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4929120" y="20653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4929120" y="21337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4929120" y="2168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929120" y="22035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4929120" y="22384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4929120" y="22766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929120" y="2316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4929120" y="2352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4929120" y="23922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4929120" y="24336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929120" y="24685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929120" y="2576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950000" y="2036880"/>
                    <a:ext cx="0" cy="6030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4477320" y="1990800"/>
                  <a:ext cx="474120" cy="47520"/>
                  <a:chOff x="4477320" y="1990800"/>
                  <a:chExt cx="474120" cy="4752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4495680" y="2008080"/>
                    <a:ext cx="455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497480" y="1990800"/>
                    <a:ext cx="452520" cy="284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4503600" y="202716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477320" y="2000160"/>
                    <a:ext cx="4658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506840" y="200196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4660920" y="199872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4662360" y="199692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 flipV="1">
                    <a:off x="4950000" y="199872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V="1">
                    <a:off x="4497480" y="200448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4498920" y="2038320"/>
                  <a:ext cx="30240" cy="606600"/>
                  <a:chOff x="4498920" y="2038320"/>
                  <a:chExt cx="30240" cy="60660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>
                    <a:off x="4529160" y="203832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505400" y="20606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505400" y="2133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505400" y="21668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4505400" y="21985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4505400" y="22366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505400" y="22748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4505400" y="23144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505400" y="2351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505400" y="23893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505400" y="24289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4505400" y="24652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505400" y="25765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4498920" y="203832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7" name=""/>
                <p:cNvGrpSpPr/>
                <p:nvPr/>
              </p:nvGrpSpPr>
              <p:grpSpPr>
                <a:xfrm>
                  <a:off x="4497480" y="2636640"/>
                  <a:ext cx="457200" cy="42840"/>
                  <a:chOff x="4497480" y="2636640"/>
                  <a:chExt cx="457200" cy="4284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>
                    <a:off x="4497480" y="2649600"/>
                    <a:ext cx="45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4498920" y="265752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4503600" y="2665440"/>
                    <a:ext cx="44316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4505400" y="265104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505400" y="265284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V="1">
                    <a:off x="4950000" y="263664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4503600" y="2052720"/>
                  <a:ext cx="17640" cy="218880"/>
                  <a:chOff x="4503600" y="2052720"/>
                  <a:chExt cx="17640" cy="218880"/>
                </a:xfrm>
              </p:grpSpPr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4503600" y="2052720"/>
                    <a:ext cx="17640" cy="218880"/>
                    <a:chOff x="4503600" y="2052720"/>
                    <a:chExt cx="17640" cy="218880"/>
                  </a:xfrm>
                </p:grpSpPr>
                <p:sp>
                  <p:nvSpPr>
                    <p:cNvPr id="1196" name=""/>
                    <p:cNvSpPr/>
                    <p:nvPr/>
                  </p:nvSpPr>
                  <p:spPr>
                    <a:xfrm>
                      <a:off x="4503600" y="2052720"/>
                      <a:ext cx="1440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>
                      <a:off x="4503600" y="2052720"/>
                      <a:ext cx="1764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4503600" y="2063880"/>
                    <a:ext cx="14400" cy="158760"/>
                    <a:chOff x="4503600" y="2063880"/>
                    <a:chExt cx="14400" cy="158760"/>
                  </a:xfrm>
                </p:grpSpPr>
                <p:sp>
                  <p:nvSpPr>
                    <p:cNvPr id="1199" name=""/>
                    <p:cNvSpPr/>
                    <p:nvPr/>
                  </p:nvSpPr>
                  <p:spPr>
                    <a:xfrm>
                      <a:off x="4503600" y="206388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00" name=""/>
                    <p:cNvGrpSpPr/>
                    <p:nvPr/>
                  </p:nvGrpSpPr>
                  <p:grpSpPr>
                    <a:xfrm>
                      <a:off x="4505400" y="2073240"/>
                      <a:ext cx="11160" cy="131760"/>
                      <a:chOff x="4505400" y="2073240"/>
                      <a:chExt cx="11160" cy="131760"/>
                    </a:xfrm>
                  </p:grpSpPr>
                  <p:sp>
                    <p:nvSpPr>
                      <p:cNvPr id="1201" name=""/>
                      <p:cNvSpPr/>
                      <p:nvPr/>
                    </p:nvSpPr>
                    <p:spPr>
                      <a:xfrm>
                        <a:off x="4505400" y="207972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" name=""/>
                      <p:cNvSpPr/>
                      <p:nvPr/>
                    </p:nvSpPr>
                    <p:spPr>
                      <a:xfrm>
                        <a:off x="4505400" y="207324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03" name=""/>
                <p:cNvGrpSpPr/>
                <p:nvPr/>
              </p:nvGrpSpPr>
              <p:grpSpPr>
                <a:xfrm>
                  <a:off x="4930920" y="2052720"/>
                  <a:ext cx="19080" cy="218880"/>
                  <a:chOff x="4930920" y="2052720"/>
                  <a:chExt cx="19080" cy="218880"/>
                </a:xfrm>
              </p:grpSpPr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4930920" y="2052720"/>
                    <a:ext cx="19080" cy="218880"/>
                    <a:chOff x="4930920" y="2052720"/>
                    <a:chExt cx="19080" cy="21888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4930920" y="2052720"/>
                      <a:ext cx="1584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4930920" y="2052720"/>
                      <a:ext cx="1908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4930920" y="2063880"/>
                    <a:ext cx="15840" cy="158760"/>
                    <a:chOff x="4930920" y="2063880"/>
                    <a:chExt cx="15840" cy="15876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4930920" y="206388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09" name=""/>
                    <p:cNvGrpSpPr/>
                    <p:nvPr/>
                  </p:nvGrpSpPr>
                  <p:grpSpPr>
                    <a:xfrm>
                      <a:off x="4935600" y="2073240"/>
                      <a:ext cx="9360" cy="131760"/>
                      <a:chOff x="4935600" y="2073240"/>
                      <a:chExt cx="9360" cy="131760"/>
                    </a:xfrm>
                  </p:grpSpPr>
                  <p:sp>
                    <p:nvSpPr>
                      <p:cNvPr id="1210" name=""/>
                      <p:cNvSpPr/>
                      <p:nvPr/>
                    </p:nvSpPr>
                    <p:spPr>
                      <a:xfrm>
                        <a:off x="4935600" y="207972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935600" y="2073240"/>
                        <a:ext cx="93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12" name=""/>
              <p:cNvGrpSpPr/>
              <p:nvPr/>
            </p:nvGrpSpPr>
            <p:grpSpPr>
              <a:xfrm>
                <a:off x="4556160" y="2583000"/>
                <a:ext cx="331920" cy="12600"/>
                <a:chOff x="4556160" y="2583000"/>
                <a:chExt cx="331920" cy="12600"/>
              </a:xfrm>
            </p:grpSpPr>
            <p:grpSp>
              <p:nvGrpSpPr>
                <p:cNvPr id="1213" name=""/>
                <p:cNvGrpSpPr/>
                <p:nvPr/>
              </p:nvGrpSpPr>
              <p:grpSpPr>
                <a:xfrm>
                  <a:off x="4556160" y="2584440"/>
                  <a:ext cx="117360" cy="4680"/>
                  <a:chOff x="4556160" y="2584440"/>
                  <a:chExt cx="117360" cy="4680"/>
                </a:xfrm>
              </p:grpSpPr>
              <p:sp>
                <p:nvSpPr>
                  <p:cNvPr id="1214" name=""/>
                  <p:cNvSpPr/>
                  <p:nvPr/>
                </p:nvSpPr>
                <p:spPr>
                  <a:xfrm>
                    <a:off x="4583160" y="258444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4611600" y="258444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4638600" y="258444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4667400" y="258444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4556160" y="258444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9" name=""/>
                <p:cNvGrpSpPr/>
                <p:nvPr/>
              </p:nvGrpSpPr>
              <p:grpSpPr>
                <a:xfrm>
                  <a:off x="4772160" y="2585880"/>
                  <a:ext cx="115920" cy="5040"/>
                  <a:chOff x="4772160" y="2585880"/>
                  <a:chExt cx="115920" cy="504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>
                    <a:off x="4799160" y="258588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4826160" y="2585880"/>
                    <a:ext cx="612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4854600" y="2585880"/>
                    <a:ext cx="648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4883040" y="2585880"/>
                    <a:ext cx="504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4772160" y="258588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600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33301"/>
                        </a:lnTo>
                        <a:arcTo wR="2699" hR="2699" stAng="10800000" swAng="-5400000"/>
                        <a:lnTo>
                          <a:pt x="18901" y="3600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5" name=""/>
                <p:cNvGrpSpPr/>
                <p:nvPr/>
              </p:nvGrpSpPr>
              <p:grpSpPr>
                <a:xfrm>
                  <a:off x="4699080" y="2583000"/>
                  <a:ext cx="39600" cy="12600"/>
                  <a:chOff x="4699080" y="2583000"/>
                  <a:chExt cx="39600" cy="1260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4699080" y="2583000"/>
                    <a:ext cx="7920" cy="126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4718160" y="2583000"/>
                    <a:ext cx="7920" cy="126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4732200" y="2583000"/>
                    <a:ext cx="6480" cy="1260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29" name=""/>
            <p:cNvGrpSpPr/>
            <p:nvPr/>
          </p:nvGrpSpPr>
          <p:grpSpPr>
            <a:xfrm>
              <a:off x="4565520" y="1706400"/>
              <a:ext cx="11160" cy="279360"/>
              <a:chOff x="4565520" y="1706400"/>
              <a:chExt cx="11160" cy="279360"/>
            </a:xfrm>
          </p:grpSpPr>
          <p:sp>
            <p:nvSpPr>
              <p:cNvPr id="1230" name=""/>
              <p:cNvSpPr/>
              <p:nvPr/>
            </p:nvSpPr>
            <p:spPr>
              <a:xfrm flipV="1">
                <a:off x="4565520" y="1875600"/>
                <a:ext cx="7920" cy="10980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800"/>
                  <a:gd name="textAreaBottom" fmla="*/ 8568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567320" y="172728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5520" y="170640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"/>
          <p:cNvGrpSpPr/>
          <p:nvPr/>
        </p:nvGrpSpPr>
        <p:grpSpPr>
          <a:xfrm>
            <a:off x="1429560" y="1706400"/>
            <a:ext cx="477000" cy="973080"/>
            <a:chOff x="1429560" y="1706400"/>
            <a:chExt cx="477000" cy="973080"/>
          </a:xfrm>
        </p:grpSpPr>
        <p:grpSp>
          <p:nvGrpSpPr>
            <p:cNvPr id="1234" name=""/>
            <p:cNvGrpSpPr/>
            <p:nvPr/>
          </p:nvGrpSpPr>
          <p:grpSpPr>
            <a:xfrm>
              <a:off x="1429560" y="1989000"/>
              <a:ext cx="477000" cy="690480"/>
              <a:chOff x="1429560" y="1989000"/>
              <a:chExt cx="477000" cy="69048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1429560" y="1989000"/>
                <a:ext cx="477000" cy="690480"/>
                <a:chOff x="1429560" y="1989000"/>
                <a:chExt cx="477000" cy="6904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450800" y="2027160"/>
                  <a:ext cx="454320" cy="619200"/>
                </a:xfrm>
                <a:custGeom>
                  <a:avLst/>
                  <a:gdLst/>
                  <a:ahLst/>
                  <a:rect l="l" t="t" r="r" b="b"/>
                  <a:pathLst>
                    <a:path w="286" h="390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9"/>
                      </a:lnTo>
                      <a:lnTo>
                        <a:pt x="0" y="3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494000" y="2070000"/>
                  <a:ext cx="363240" cy="480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481040" y="2071800"/>
                  <a:ext cx="14400" cy="480960"/>
                </a:xfrm>
                <a:custGeom>
                  <a:avLst/>
                  <a:gdLst/>
                  <a:ahLst/>
                  <a:rect l="l" t="t" r="r" b="b"/>
                  <a:pathLst>
                    <a:path w="9" h="30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2"/>
                      </a:lnTo>
                      <a:lnTo>
                        <a:pt x="0" y="3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1857240" y="2068560"/>
                  <a:ext cx="15840" cy="484200"/>
                </a:xfrm>
                <a:custGeom>
                  <a:avLst/>
                  <a:gdLst/>
                  <a:ahLst/>
                  <a:rect l="l" t="t" r="r" b="b"/>
                  <a:pathLst>
                    <a:path w="10" h="305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4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457280" y="2611440"/>
                  <a:ext cx="438120" cy="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1" name=""/>
                <p:cNvGrpSpPr/>
                <p:nvPr/>
              </p:nvGrpSpPr>
              <p:grpSpPr>
                <a:xfrm>
                  <a:off x="1874880" y="2035080"/>
                  <a:ext cx="27000" cy="606600"/>
                  <a:chOff x="1874880" y="2035080"/>
                  <a:chExt cx="27000" cy="606600"/>
                </a:xfrm>
              </p:grpSpPr>
              <p:sp>
                <p:nvSpPr>
                  <p:cNvPr id="1242" name=""/>
                  <p:cNvSpPr/>
                  <p:nvPr/>
                </p:nvSpPr>
                <p:spPr>
                  <a:xfrm>
                    <a:off x="1874880" y="203976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81360" y="206532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81360" y="21351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81360" y="21686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881360" y="22035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1881360" y="223992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1881360" y="227808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1881360" y="231768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1881360" y="235116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1881360" y="23907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1881360" y="24321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881360" y="24685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881360" y="257508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1880" y="203508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6" name=""/>
                <p:cNvGrpSpPr/>
                <p:nvPr/>
              </p:nvGrpSpPr>
              <p:grpSpPr>
                <a:xfrm>
                  <a:off x="1429560" y="1989000"/>
                  <a:ext cx="473760" cy="48960"/>
                  <a:chOff x="1429560" y="1989000"/>
                  <a:chExt cx="473760" cy="4896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>
                    <a:off x="1447920" y="2006640"/>
                    <a:ext cx="4554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4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449360" y="1989000"/>
                    <a:ext cx="452520" cy="302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455840" y="2027160"/>
                    <a:ext cx="43956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429560" y="2001960"/>
                    <a:ext cx="465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7523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75231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457280" y="2001960"/>
                    <a:ext cx="418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3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3858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612800" y="199692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614600" y="1995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 flipV="1">
                    <a:off x="1901880" y="1996560"/>
                    <a:ext cx="0" cy="414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 flipV="1">
                    <a:off x="1449360" y="200304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1450800" y="2039760"/>
                  <a:ext cx="30240" cy="605160"/>
                  <a:chOff x="1450800" y="2039760"/>
                  <a:chExt cx="30240" cy="60516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1481040" y="2039760"/>
                    <a:ext cx="0" cy="6001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1457280" y="20606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1457280" y="21319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1457280" y="2166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1457280" y="21985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1457280" y="22384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1457280" y="22734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1457280" y="2313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1457280" y="23493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1457280" y="23893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1457280" y="24289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1457280" y="24652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1457280" y="25750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1450800" y="2039760"/>
                    <a:ext cx="0" cy="60516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1" name=""/>
                <p:cNvGrpSpPr/>
                <p:nvPr/>
              </p:nvGrpSpPr>
              <p:grpSpPr>
                <a:xfrm>
                  <a:off x="1449360" y="2636640"/>
                  <a:ext cx="457200" cy="42840"/>
                  <a:chOff x="1449360" y="2636640"/>
                  <a:chExt cx="457200" cy="4284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1449360" y="2649600"/>
                    <a:ext cx="45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1450800" y="265752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1455840" y="266544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1457280" y="265104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1457280" y="265104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flipV="1">
                    <a:off x="1901880" y="263664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8" name=""/>
                <p:cNvGrpSpPr/>
                <p:nvPr/>
              </p:nvGrpSpPr>
              <p:grpSpPr>
                <a:xfrm>
                  <a:off x="1455840" y="2054160"/>
                  <a:ext cx="17280" cy="216000"/>
                  <a:chOff x="1455840" y="2054160"/>
                  <a:chExt cx="17280" cy="216000"/>
                </a:xfrm>
              </p:grpSpPr>
              <p:grpSp>
                <p:nvGrpSpPr>
                  <p:cNvPr id="1289" name=""/>
                  <p:cNvGrpSpPr/>
                  <p:nvPr/>
                </p:nvGrpSpPr>
                <p:grpSpPr>
                  <a:xfrm>
                    <a:off x="1455840" y="2054160"/>
                    <a:ext cx="17280" cy="216000"/>
                    <a:chOff x="1455840" y="2054160"/>
                    <a:chExt cx="17280" cy="216000"/>
                  </a:xfrm>
                </p:grpSpPr>
                <p:sp>
                  <p:nvSpPr>
                    <p:cNvPr id="1290" name=""/>
                    <p:cNvSpPr/>
                    <p:nvPr/>
                  </p:nvSpPr>
                  <p:spPr>
                    <a:xfrm>
                      <a:off x="1455840" y="2054160"/>
                      <a:ext cx="14040" cy="21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1" name=""/>
                    <p:cNvSpPr/>
                    <p:nvPr/>
                  </p:nvSpPr>
                  <p:spPr>
                    <a:xfrm>
                      <a:off x="1455840" y="2054160"/>
                      <a:ext cx="172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5" y="135"/>
                          </a:lnTo>
                          <a:lnTo>
                            <a:pt x="8" y="134"/>
                          </a:lnTo>
                          <a:lnTo>
                            <a:pt x="10" y="130"/>
                          </a:lnTo>
                          <a:lnTo>
                            <a:pt x="10" y="125"/>
                          </a:lnTo>
                          <a:lnTo>
                            <a:pt x="10" y="7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1455840" y="2063880"/>
                    <a:ext cx="14040" cy="158760"/>
                    <a:chOff x="1455840" y="2063880"/>
                    <a:chExt cx="14040" cy="158760"/>
                  </a:xfrm>
                </p:grpSpPr>
                <p:sp>
                  <p:nvSpPr>
                    <p:cNvPr id="1293" name=""/>
                    <p:cNvSpPr/>
                    <p:nvPr/>
                  </p:nvSpPr>
                  <p:spPr>
                    <a:xfrm>
                      <a:off x="1455840" y="2063880"/>
                      <a:ext cx="140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94" name=""/>
                    <p:cNvGrpSpPr/>
                    <p:nvPr/>
                  </p:nvGrpSpPr>
                  <p:grpSpPr>
                    <a:xfrm>
                      <a:off x="1457280" y="2071800"/>
                      <a:ext cx="11160" cy="133200"/>
                      <a:chOff x="1457280" y="2071800"/>
                      <a:chExt cx="11160" cy="133200"/>
                    </a:xfrm>
                  </p:grpSpPr>
                  <p:sp>
                    <p:nvSpPr>
                      <p:cNvPr id="1295" name=""/>
                      <p:cNvSpPr/>
                      <p:nvPr/>
                    </p:nvSpPr>
                    <p:spPr>
                      <a:xfrm>
                        <a:off x="1457280" y="2077920"/>
                        <a:ext cx="7920" cy="117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6" name=""/>
                      <p:cNvSpPr/>
                      <p:nvPr/>
                    </p:nvSpPr>
                    <p:spPr>
                      <a:xfrm>
                        <a:off x="1457280" y="2071800"/>
                        <a:ext cx="1116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4">
                            <a:moveTo>
                              <a:pt x="0" y="6"/>
                            </a:moveTo>
                            <a:lnTo>
                              <a:pt x="1" y="79"/>
                            </a:lnTo>
                            <a:lnTo>
                              <a:pt x="1" y="82"/>
                            </a:lnTo>
                            <a:lnTo>
                              <a:pt x="3" y="83"/>
                            </a:lnTo>
                            <a:lnTo>
                              <a:pt x="5" y="82"/>
                            </a:lnTo>
                            <a:lnTo>
                              <a:pt x="5" y="79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1882800" y="2054160"/>
                  <a:ext cx="19080" cy="216000"/>
                  <a:chOff x="1882800" y="2054160"/>
                  <a:chExt cx="19080" cy="216000"/>
                </a:xfrm>
              </p:grpSpPr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1882800" y="2054160"/>
                    <a:ext cx="19080" cy="216000"/>
                    <a:chOff x="1882800" y="2054160"/>
                    <a:chExt cx="19080" cy="21600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1882800" y="2054160"/>
                      <a:ext cx="15840" cy="21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1882800" y="2054160"/>
                      <a:ext cx="190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6" y="135"/>
                          </a:lnTo>
                          <a:lnTo>
                            <a:pt x="9" y="134"/>
                          </a:lnTo>
                          <a:lnTo>
                            <a:pt x="11" y="130"/>
                          </a:lnTo>
                          <a:lnTo>
                            <a:pt x="11" y="125"/>
                          </a:lnTo>
                          <a:lnTo>
                            <a:pt x="11" y="7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1882800" y="2063880"/>
                    <a:ext cx="15840" cy="158760"/>
                    <a:chOff x="1882800" y="2063880"/>
                    <a:chExt cx="15840" cy="158760"/>
                  </a:xfrm>
                </p:grpSpPr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1882800" y="206388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03" name=""/>
                    <p:cNvGrpSpPr/>
                    <p:nvPr/>
                  </p:nvGrpSpPr>
                  <p:grpSpPr>
                    <a:xfrm>
                      <a:off x="1887480" y="2071800"/>
                      <a:ext cx="9720" cy="133200"/>
                      <a:chOff x="1887480" y="2071800"/>
                      <a:chExt cx="9720" cy="133200"/>
                    </a:xfrm>
                  </p:grpSpPr>
                  <p:sp>
                    <p:nvSpPr>
                      <p:cNvPr id="1304" name=""/>
                      <p:cNvSpPr/>
                      <p:nvPr/>
                    </p:nvSpPr>
                    <p:spPr>
                      <a:xfrm>
                        <a:off x="1887480" y="2077920"/>
                        <a:ext cx="7920" cy="117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5" name=""/>
                      <p:cNvSpPr/>
                      <p:nvPr/>
                    </p:nvSpPr>
                    <p:spPr>
                      <a:xfrm>
                        <a:off x="1887480" y="2071800"/>
                        <a:ext cx="972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4">
                            <a:moveTo>
                              <a:pt x="0" y="6"/>
                            </a:moveTo>
                            <a:lnTo>
                              <a:pt x="1" y="79"/>
                            </a:lnTo>
                            <a:lnTo>
                              <a:pt x="1" y="82"/>
                            </a:lnTo>
                            <a:lnTo>
                              <a:pt x="3" y="83"/>
                            </a:lnTo>
                            <a:lnTo>
                              <a:pt x="4" y="82"/>
                            </a:lnTo>
                            <a:lnTo>
                              <a:pt x="4" y="79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1508040" y="2583000"/>
                <a:ext cx="331920" cy="10800"/>
                <a:chOff x="1508040" y="2583000"/>
                <a:chExt cx="331920" cy="10800"/>
              </a:xfrm>
            </p:grpSpPr>
            <p:grpSp>
              <p:nvGrpSpPr>
                <p:cNvPr id="1307" name=""/>
                <p:cNvGrpSpPr/>
                <p:nvPr/>
              </p:nvGrpSpPr>
              <p:grpSpPr>
                <a:xfrm>
                  <a:off x="1508040" y="2585880"/>
                  <a:ext cx="117720" cy="1800"/>
                  <a:chOff x="1508040" y="2585880"/>
                  <a:chExt cx="117720" cy="1800"/>
                </a:xfrm>
              </p:grpSpPr>
              <p:sp>
                <p:nvSpPr>
                  <p:cNvPr id="1308" name=""/>
                  <p:cNvSpPr/>
                  <p:nvPr/>
                </p:nvSpPr>
                <p:spPr>
                  <a:xfrm>
                    <a:off x="1535040" y="258588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1563840" y="258588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1590840" y="258588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1619280" y="2585880"/>
                    <a:ext cx="64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1508040" y="258588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1724040" y="2587680"/>
                  <a:ext cx="115920" cy="1440"/>
                  <a:chOff x="1724040" y="2587680"/>
                  <a:chExt cx="115920" cy="144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1751040" y="258768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1778040" y="2587680"/>
                    <a:ext cx="64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1806480" y="2587680"/>
                    <a:ext cx="64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1835280" y="258768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1724040" y="2587680"/>
                    <a:ext cx="32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9" name=""/>
                <p:cNvGrpSpPr/>
                <p:nvPr/>
              </p:nvGrpSpPr>
              <p:grpSpPr>
                <a:xfrm>
                  <a:off x="1650960" y="2583000"/>
                  <a:ext cx="39600" cy="10800"/>
                  <a:chOff x="1650960" y="2583000"/>
                  <a:chExt cx="39600" cy="1080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1650960" y="2583000"/>
                    <a:ext cx="7920" cy="108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1670040" y="2583000"/>
                    <a:ext cx="7920" cy="10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1684440" y="2583000"/>
                    <a:ext cx="6120" cy="1080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23" name=""/>
            <p:cNvGrpSpPr/>
            <p:nvPr/>
          </p:nvGrpSpPr>
          <p:grpSpPr>
            <a:xfrm>
              <a:off x="1517760" y="1706400"/>
              <a:ext cx="11160" cy="280800"/>
              <a:chOff x="1517760" y="1706400"/>
              <a:chExt cx="11160" cy="280800"/>
            </a:xfrm>
          </p:grpSpPr>
          <p:sp>
            <p:nvSpPr>
              <p:cNvPr id="1324" name=""/>
              <p:cNvSpPr/>
              <p:nvPr/>
            </p:nvSpPr>
            <p:spPr>
              <a:xfrm flipV="1">
                <a:off x="1517760" y="1874160"/>
                <a:ext cx="7920" cy="11268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840 h 112680"/>
                  <a:gd name="textAreaBottom" fmla="*/ 878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519200" y="1727280"/>
                <a:ext cx="7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517760" y="170640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7" name=""/>
          <p:cNvSpPr/>
          <p:nvPr/>
        </p:nvSpPr>
        <p:spPr>
          <a:xfrm>
            <a:off x="3108240" y="3137040"/>
            <a:ext cx="847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3335400" y="2360520"/>
            <a:ext cx="426960" cy="74628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2063880" y="2444760"/>
            <a:ext cx="1054080" cy="34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2901960" y="3041640"/>
            <a:ext cx="291960" cy="65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3879720" y="2368440"/>
            <a:ext cx="470160" cy="412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92680" y="2978280"/>
            <a:ext cx="1130040" cy="48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2836800" y="1714680"/>
            <a:ext cx="873360" cy="228600"/>
            <a:chOff x="2836800" y="1714680"/>
            <a:chExt cx="873360" cy="228600"/>
          </a:xfrm>
        </p:grpSpPr>
        <p:sp>
          <p:nvSpPr>
            <p:cNvPr id="1334" name=""/>
            <p:cNvSpPr/>
            <p:nvPr/>
          </p:nvSpPr>
          <p:spPr>
            <a:xfrm>
              <a:off x="3522600" y="1714680"/>
              <a:ext cx="2880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922480" y="175572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282840" y="1793880"/>
              <a:ext cx="306360" cy="2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602160" y="175572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836800" y="178740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2963880" y="1793880"/>
              <a:ext cx="266760" cy="28440"/>
              <a:chOff x="2963880" y="1793880"/>
              <a:chExt cx="266760" cy="28440"/>
            </a:xfrm>
          </p:grpSpPr>
          <p:sp>
            <p:nvSpPr>
              <p:cNvPr id="1340" name=""/>
              <p:cNvSpPr/>
              <p:nvPr/>
            </p:nvSpPr>
            <p:spPr>
              <a:xfrm>
                <a:off x="2963880" y="179388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043080" y="17938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083040" y="17938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002040" y="17938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122640" y="17938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164040" y="179388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201840" y="179388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2963880" y="1835280"/>
              <a:ext cx="266760" cy="28440"/>
              <a:chOff x="2963880" y="1835280"/>
              <a:chExt cx="266760" cy="28440"/>
            </a:xfrm>
          </p:grpSpPr>
          <p:sp>
            <p:nvSpPr>
              <p:cNvPr id="1348" name=""/>
              <p:cNvSpPr/>
              <p:nvPr/>
            </p:nvSpPr>
            <p:spPr>
              <a:xfrm>
                <a:off x="2963880" y="183528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043080" y="18352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083040" y="18352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002040" y="18352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122640" y="18352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164040" y="183528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201840" y="183528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2963880" y="1876320"/>
              <a:ext cx="266760" cy="25560"/>
              <a:chOff x="2963880" y="1876320"/>
              <a:chExt cx="266760" cy="25560"/>
            </a:xfrm>
          </p:grpSpPr>
          <p:sp>
            <p:nvSpPr>
              <p:cNvPr id="1356" name=""/>
              <p:cNvSpPr/>
              <p:nvPr/>
            </p:nvSpPr>
            <p:spPr>
              <a:xfrm>
                <a:off x="2963880" y="1876320"/>
                <a:ext cx="2556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043080" y="18763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083040" y="18763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002040" y="18763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122640" y="18763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164040" y="187632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201840" y="187632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3301920" y="1876320"/>
              <a:ext cx="268200" cy="25560"/>
              <a:chOff x="3301920" y="1876320"/>
              <a:chExt cx="268200" cy="25560"/>
            </a:xfrm>
          </p:grpSpPr>
          <p:sp>
            <p:nvSpPr>
              <p:cNvPr id="1364" name=""/>
              <p:cNvSpPr/>
              <p:nvPr/>
            </p:nvSpPr>
            <p:spPr>
              <a:xfrm>
                <a:off x="3301920" y="187632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382920" y="18763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422520" y="187632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343320" y="18763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463920" y="1876320"/>
                <a:ext cx="2556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502080" y="18763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543480" y="1876320"/>
                <a:ext cx="266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"/>
            <p:cNvSpPr/>
            <p:nvPr/>
          </p:nvSpPr>
          <p:spPr>
            <a:xfrm>
              <a:off x="3529080" y="18414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49520" y="18414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370320" y="18414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89320" y="184140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049560" y="1720800"/>
              <a:ext cx="54000" cy="1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3522600" y="3695760"/>
            <a:ext cx="873360" cy="228600"/>
            <a:chOff x="3522600" y="3695760"/>
            <a:chExt cx="873360" cy="228600"/>
          </a:xfrm>
        </p:grpSpPr>
        <p:sp>
          <p:nvSpPr>
            <p:cNvPr id="1377" name=""/>
            <p:cNvSpPr/>
            <p:nvPr/>
          </p:nvSpPr>
          <p:spPr>
            <a:xfrm>
              <a:off x="4208400" y="3695760"/>
              <a:ext cx="2880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608280" y="373680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68640" y="3774960"/>
              <a:ext cx="306360" cy="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87960" y="373680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522600" y="376884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"/>
            <p:cNvGrpSpPr/>
            <p:nvPr/>
          </p:nvGrpSpPr>
          <p:grpSpPr>
            <a:xfrm>
              <a:off x="3649680" y="3774960"/>
              <a:ext cx="266760" cy="28800"/>
              <a:chOff x="3649680" y="3774960"/>
              <a:chExt cx="266760" cy="28800"/>
            </a:xfrm>
          </p:grpSpPr>
          <p:sp>
            <p:nvSpPr>
              <p:cNvPr id="1383" name=""/>
              <p:cNvSpPr/>
              <p:nvPr/>
            </p:nvSpPr>
            <p:spPr>
              <a:xfrm>
                <a:off x="3649680" y="3774960"/>
                <a:ext cx="2556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72888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76884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6878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8084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849840" y="3774960"/>
                <a:ext cx="252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87640" y="3774960"/>
                <a:ext cx="288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3649680" y="3816360"/>
              <a:ext cx="266760" cy="28440"/>
              <a:chOff x="3649680" y="3816360"/>
              <a:chExt cx="266760" cy="28440"/>
            </a:xfrm>
          </p:grpSpPr>
          <p:sp>
            <p:nvSpPr>
              <p:cNvPr id="1391" name=""/>
              <p:cNvSpPr/>
              <p:nvPr/>
            </p:nvSpPr>
            <p:spPr>
              <a:xfrm>
                <a:off x="3649680" y="381636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72888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76884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6878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8084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849840" y="381636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887640" y="381636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3649680" y="3857760"/>
              <a:ext cx="266760" cy="25200"/>
              <a:chOff x="3649680" y="3857760"/>
              <a:chExt cx="266760" cy="25200"/>
            </a:xfrm>
          </p:grpSpPr>
          <p:sp>
            <p:nvSpPr>
              <p:cNvPr id="1399" name=""/>
              <p:cNvSpPr/>
              <p:nvPr/>
            </p:nvSpPr>
            <p:spPr>
              <a:xfrm>
                <a:off x="364968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72888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76884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6878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8084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849840" y="3857760"/>
                <a:ext cx="252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88764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3987720" y="3857760"/>
              <a:ext cx="268200" cy="25200"/>
              <a:chOff x="3987720" y="3857760"/>
              <a:chExt cx="268200" cy="25200"/>
            </a:xfrm>
          </p:grpSpPr>
          <p:sp>
            <p:nvSpPr>
              <p:cNvPr id="1407" name=""/>
              <p:cNvSpPr/>
              <p:nvPr/>
            </p:nvSpPr>
            <p:spPr>
              <a:xfrm>
                <a:off x="39877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0687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1083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0291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14972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18788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229280" y="3857760"/>
                <a:ext cx="266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421488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1353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0561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75120" y="382284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735360" y="3701880"/>
              <a:ext cx="54000" cy="16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3130560" y="2139840"/>
            <a:ext cx="44460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968640" y="3359160"/>
            <a:ext cx="44460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664080" y="289548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04240" y="26798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914400" y="411480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d Infrastructu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device (access point) typically has power at all times (for fast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ort for up to 10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thernet access points with higher layer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to Upper Layer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48 bi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network join/un-join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5T14:56:45Z</dcterms:created>
  <dc:creator>Jon Rasmussen</dc:creator>
  <dc:description/>
  <dc:language>en-US</dc:language>
  <cp:lastModifiedBy>Ian C. Gifford</cp:lastModifiedBy>
  <cp:lastPrinted>1997-02-24T23:29:58Z</cp:lastPrinted>
  <dcterms:modified xsi:type="dcterms:W3CDTF">2000-09-06T10:50:26Z</dcterms:modified>
  <cp:revision>41</cp:revision>
  <dc:subject/>
  <dc:title>Microlink Marketing Presentation</dc:title>
</cp:coreProperties>
</file>