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59C23-3FD0-43D1-A8A7-5CB3EC7FC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25A85-E37E-424C-9E9C-AE8BBD00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6D711-57F1-4548-B025-3EDE396A5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E7D6A-722E-4CFB-9262-9668671AB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60AC5-FFE8-4E80-A4FC-0A02C828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F3F42-6E7B-418C-AE0D-3B1B4F656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B37C-91C1-45D9-9E06-9C1664DE5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D427-0646-40A4-887D-2A5CA9033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5F5E4-820F-41BF-8A1C-29BC187C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7A765-0358-4A9B-A254-A35ED7CB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6970-93DA-4D91-B004-A955F9423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0801-2D79-4791-88E9-E871EE987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Eastma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1FB4D2-84A7-4B3C-BC26-8184F3477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2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Rank Order Voting Process Descrip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1 Sept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3/L/RV 00898, Rochester, NY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ank Voting Process Descrip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an informative document intended to communicate a method of rank order vo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99F89C4-D5B0-4C6A-8D7B-84AB0FFBA7B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e Rank Voting</a:t>
            </a:r>
            <a:endParaRPr b="0" lang="en-US" sz="3600" spc="-1" strike="noStrike">
              <a:solidFill>
                <a:srgbClr val="000000"/>
              </a:solidFill>
              <a:latin typeface="Times New Roman"/>
            </a:endParaRPr>
          </a:p>
        </p:txBody>
      </p:sp>
      <p:graphicFrame>
        <p:nvGraphicFramePr>
          <p:cNvPr id="48" name=""/>
          <p:cNvGraphicFramePr/>
          <p:nvPr/>
        </p:nvGraphicFramePr>
        <p:xfrm>
          <a:off x="914400" y="2286000"/>
          <a:ext cx="2695680" cy="3448080"/>
        </p:xfrm>
        <a:graphic>
          <a:graphicData uri="http://schemas.openxmlformats.org/presentationml/2006/ole">
            <p:oleObj progId="Excel.Sheet.12" r:id="rId1" spid="">
              <p:embed/>
              <p:pic>
                <p:nvPicPr>
                  <p:cNvPr id="49" name="" descr=""/>
                  <p:cNvPicPr/>
                  <p:nvPr/>
                </p:nvPicPr>
                <p:blipFill>
                  <a:blip r:embed="rId2"/>
                  <a:stretch/>
                </p:blipFill>
                <p:spPr>
                  <a:xfrm>
                    <a:off x="914400" y="2286000"/>
                    <a:ext cx="2695680" cy="3448080"/>
                  </a:xfrm>
                  <a:prstGeom prst="rect">
                    <a:avLst/>
                  </a:prstGeom>
                  <a:ln w="0">
                    <a:noFill/>
                  </a:ln>
                </p:spPr>
              </p:pic>
            </p:oleObj>
          </a:graphicData>
        </a:graphic>
      </p:graphicFrame>
      <p:sp>
        <p:nvSpPr>
          <p:cNvPr id="50" name=""/>
          <p:cNvSpPr/>
          <p:nvPr/>
        </p:nvSpPr>
        <p:spPr>
          <a:xfrm>
            <a:off x="4038480" y="2133720"/>
            <a:ext cx="44960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k order vo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 </a:t>
            </a:r>
            <a:r>
              <a:rPr b="0" i="1" lang="en-US" sz="2400" spc="-1" strike="noStrike">
                <a:solidFill>
                  <a:srgbClr val="000000"/>
                </a:solidFill>
                <a:latin typeface="Times New Roman"/>
              </a:rPr>
              <a:t>n</a:t>
            </a:r>
            <a:r>
              <a:rPr b="0" lang="en-US" sz="2400" spc="-1" strike="noStrike">
                <a:solidFill>
                  <a:srgbClr val="000000"/>
                </a:solidFill>
                <a:latin typeface="Times New Roman"/>
              </a:rPr>
              <a:t> votes (point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8, 7, 6, 5, 4, 3, 2, 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number value only o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votes for each proposa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50% remai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proposal requires 75% affirmation (vote of confidenc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01F8AFC-F092-44AB-86BD-FAE5F82C41B8}"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6:52:04Z</dcterms:created>
  <dc:creator>Richard L. Alfvin</dc:creator>
  <dc:description>&lt;310&gt;</dc:description>
  <dc:language>en-US</dc:language>
  <cp:lastModifiedBy>Richard L. Alfvin</cp:lastModifiedBy>
  <cp:lastPrinted>1998-02-10T13:28:06Z</cp:lastPrinted>
  <dcterms:modified xsi:type="dcterms:W3CDTF">2000-09-22T15:16:05Z</dcterms:modified>
  <cp:revision>5</cp:revision>
  <dc:subject>IEEE 802.15 Voting decision</dc:subject>
  <dc:title>No Slide Title</dc:title>
</cp:coreProperties>
</file>