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5BF-B5F7-408C-9ADC-88EF518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1DB-A41C-46BF-A6B2-59AB363C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E84-3492-4FB9-9306-A3BF13A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81E-A8E6-475E-9331-9B6C302B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5E7-4662-48EF-91E7-4233DE0A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878-9F3A-469B-A68E-24646C49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221-3A48-4003-B303-ADE4CC0D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3CD-1DBB-48C2-9939-CCCF8A0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A7C-1D53-4F9D-B43E-20C6A867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DCD-C5D9-42E9-BE37-2CC4A3B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2A8-6947-4A09-92B8-F8F2E90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F35-9D5E-4DA2-B5DE-C3957E4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E3449D-F22A-40DE-A278-A8C41A837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7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Final Report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ttsdale,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541-CBFB-4A54-9864-A180258723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5A2-F71E-4253-8768-3524EC8DD9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2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04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ll for Submission on Coexistence Mechanism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009r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cture of the TG2 Coexistence Mode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93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view of ITU P.1238 Indoor Radio Propag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9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BC1-129A-4B14-B75D-EC083CAB33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600200"/>
            <a:ext cx="8153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on Recent FCC Ruling on WBF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97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Van Dyc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and Analysis of Physical Layer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11r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ie Ammer and Jim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T and 802.11 PHY Model (Stage 0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08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Cyph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 and Interoperability and Other Term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9/134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F5E-4273-4C91-AC89-A10E3E96AE1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for Submissions on 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onth we will be sending out the Call for Sub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on Coexistence Mechanisms are to be made at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629-917A-49F9-98B3-69D32BD4E5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Robert F.  Heile</cp:lastModifiedBy>
  <cp:lastPrinted>2000-09-25T16:07:25Z</cp:lastPrinted>
  <dcterms:modified xsi:type="dcterms:W3CDTF">2000-09-26T23:15:41Z</dcterms:modified>
  <cp:revision>255</cp:revision>
  <dc:subject>IEEE 802.15 &lt;subject&gt;</dc:subject>
  <dc:title>IEEE P802.15 Working Group for Wireless Personal Area Networks</dc:title>
</cp:coreProperties>
</file>