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110BED-9B6E-4942-BE87-524C2BC65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54160" y="701640"/>
            <a:ext cx="4626000" cy="3468600"/>
          </a:xfrm>
          <a:prstGeom prst="rect">
            <a:avLst/>
          </a:prstGeom>
          <a:ln w="0">
            <a:noFill/>
          </a:ln>
        </p:spPr>
      </p:sp>
      <p:sp>
        <p:nvSpPr>
          <p:cNvPr id="260"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www.ieee802.org/15/private1/Draft/Draft.htm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2E4E4-F86B-4F21-898A-6905E6AD0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32C3D-B177-40B3-81B5-53805E3DE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334A1-2C47-4E2A-9B5D-3A465A30A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DE89F-828F-45E8-A367-3F8DCAC55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60854-EED1-4C30-ABA3-AF9B3C07D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54046-FF1E-4E7D-A2FB-BD7B743B9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FFA2F-C9E5-4429-8648-4B287F6B9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199A3-6BDB-4AE5-AFB5-999E97928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C59BD-8058-4561-8F18-9741447C2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F30FB-1857-46C8-A355-D99EAEE20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C4D3A-D81F-4829-A54E-82E8C54EC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3D76-1B0C-4CAA-A5D0-4C9603E5A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3C2CD2-4300-4F4D-B1B9-77556FCE8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7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tandards.ieee.org/wireless/index.html" TargetMode="External"/><Relationship Id="rId2" Type="http://schemas.openxmlformats.org/officeDocument/2006/relationships/hyperlink" Target="http://standards.ieee.org/wireless/index.html" TargetMode="External"/><Relationship Id="rId3" Type="http://schemas.openxmlformats.org/officeDocument/2006/relationships/hyperlink" Target="http://standards.ieee.org/wireless/index.html" TargetMode="External"/><Relationship Id="rId4" Type="http://schemas.openxmlformats.org/officeDocument/2006/relationships/hyperlink" Target="mailto:m.plessel@ieee.org" TargetMode="External"/><Relationship Id="rId5" Type="http://schemas.openxmlformats.org/officeDocument/2006/relationships/hyperlink" Target="mailto:m.plessel@ieee.org" TargetMode="External"/><Relationship Id="rId6" Type="http://schemas.openxmlformats.org/officeDocument/2006/relationships/hyperlink" Target="mailto:m.plessel@ieee.org" TargetMode="External"/><Relationship Id="rId7" Type="http://schemas.openxmlformats.org/officeDocument/2006/relationships/hyperlink" Target="mailto:m.plessel@ieee.org" TargetMode="External"/><Relationship Id="rId8" Type="http://schemas.openxmlformats.org/officeDocument/2006/relationships/hyperlink" Target="mailto:m.plessel@ieee.org" TargetMode="External"/><Relationship Id="rId9"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38359D06-FE7F-47F7-B033-2A9131C90FE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arketing Committee Closing Report for Session #8/Scottsdale</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4Oct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270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MC Acting Chair Closing Report to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MC Acting Chair report to WG to update them on the various MARCOM initiative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Nov00 Plenary</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Nov00 (4-5 Days)</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imeslot #1 - 25 People (Sun or 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slot #2 - 50 People (Tue, 7Oct00 10:30pm-12:00p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trips, w/ 1 outlet per chai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 = School Ro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D = PC Screen Projector &amp; Scree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H=Overhead projector &amp; Scre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 = Flipchart with markers</a:t>
            </a:r>
            <a:endParaRPr b="0" lang="en-US" sz="2400" spc="-1" strike="noStrike">
              <a:solidFill>
                <a:srgbClr val="000000"/>
              </a:solidFill>
              <a:latin typeface="Arial"/>
            </a:endParaRPr>
          </a:p>
        </p:txBody>
      </p:sp>
      <p:pic>
        <p:nvPicPr>
          <p:cNvPr id="108" name="new" descr=""/>
          <p:cNvPicPr/>
          <p:nvPr/>
        </p:nvPicPr>
        <p:blipFill>
          <a:blip r:embed="rId1"/>
          <a:stretch/>
        </p:blipFill>
        <p:spPr>
          <a:xfrm>
            <a:off x="6858000" y="2438280"/>
            <a:ext cx="1069920" cy="412920"/>
          </a:xfrm>
          <a:prstGeom prst="rect">
            <a:avLst/>
          </a:prstGeom>
          <a:ln w="0">
            <a:noFill/>
          </a:ln>
        </p:spPr>
      </p:pic>
      <p:sp>
        <p:nvSpPr>
          <p:cNvPr id="109" name=""/>
          <p:cNvSpPr/>
          <p:nvPr/>
        </p:nvSpPr>
        <p:spPr>
          <a:xfrm>
            <a:off x="304920" y="5943600"/>
            <a:ext cx="8534160" cy="482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C needs a room on Sun night or Mon in Tampa for a 2</a:t>
            </a:r>
            <a:r>
              <a:rPr b="0" lang="en-US" sz="1600" spc="-1" strike="noStrike" baseline="30000">
                <a:solidFill>
                  <a:srgbClr val="000000"/>
                </a:solidFill>
                <a:latin typeface="Arial"/>
              </a:rPr>
              <a:t>nd</a:t>
            </a:r>
            <a:r>
              <a:rPr b="0" lang="en-US" sz="1600" spc="-1" strike="noStrike">
                <a:solidFill>
                  <a:srgbClr val="000000"/>
                </a:solidFill>
                <a:latin typeface="Arial"/>
              </a:rPr>
              <a:t> timeslot.  See next slid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7134A27-F9DF-465B-A2B9-37A128BF40F5}" type="slidenum">
              <a:t>10</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MC Draft Graphic</a:t>
            </a:r>
            <a:endParaRPr b="0" lang="en-US" sz="3600" spc="-1" strike="noStrike">
              <a:solidFill>
                <a:srgbClr val="000000"/>
              </a:solidFill>
              <a:latin typeface="Times New Roman"/>
            </a:endParaRPr>
          </a:p>
        </p:txBody>
      </p:sp>
      <p:pic>
        <p:nvPicPr>
          <p:cNvPr id="111" name="" descr=""/>
          <p:cNvPicPr/>
          <p:nvPr/>
        </p:nvPicPr>
        <p:blipFill>
          <a:blip r:embed="rId1"/>
          <a:stretch/>
        </p:blipFill>
        <p:spPr>
          <a:xfrm>
            <a:off x="266760" y="1676520"/>
            <a:ext cx="8610480" cy="4502160"/>
          </a:xfrm>
          <a:prstGeom prst="rect">
            <a:avLst/>
          </a:prstGeom>
          <a:ln w="0">
            <a:noFill/>
          </a:ln>
        </p:spPr>
      </p:pic>
      <p:sp>
        <p:nvSpPr>
          <p:cNvPr id="112" name=""/>
          <p:cNvSpPr/>
          <p:nvPr/>
        </p:nvSpPr>
        <p:spPr>
          <a:xfrm>
            <a:off x="838080" y="1143000"/>
            <a:ext cx="2133720" cy="5334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1904760" y="380880"/>
            <a:ext cx="190476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95000" y="152280"/>
            <a:ext cx="415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C wants a new Tampa timeslot for the 802.15 participant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8BECF03-A47C-43EE-AD9B-9C24F8000B0F}" type="slidenum">
              <a:t>11</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standing Action Items</a:t>
            </a:r>
            <a:endParaRPr b="0" lang="en-US" sz="3600" spc="-1" strike="noStrike">
              <a:solidFill>
                <a:srgbClr val="000000"/>
              </a:solidFill>
              <a:latin typeface="Times New Roman"/>
            </a:endParaRPr>
          </a:p>
        </p:txBody>
      </p:sp>
      <p:grpSp>
        <p:nvGrpSpPr>
          <p:cNvPr id="116" name=""/>
          <p:cNvGrpSpPr/>
          <p:nvPr/>
        </p:nvGrpSpPr>
        <p:grpSpPr>
          <a:xfrm>
            <a:off x="1254240" y="1879560"/>
            <a:ext cx="6637320" cy="4368600"/>
            <a:chOff x="1254240" y="1879560"/>
            <a:chExt cx="6637320" cy="4368600"/>
          </a:xfrm>
        </p:grpSpPr>
        <p:grpSp>
          <p:nvGrpSpPr>
            <p:cNvPr id="117" name=""/>
            <p:cNvGrpSpPr/>
            <p:nvPr/>
          </p:nvGrpSpPr>
          <p:grpSpPr>
            <a:xfrm>
              <a:off x="1258920" y="1884240"/>
              <a:ext cx="6627960" cy="4359240"/>
              <a:chOff x="1258920" y="1884240"/>
              <a:chExt cx="6627960" cy="4359240"/>
            </a:xfrm>
          </p:grpSpPr>
          <p:grpSp>
            <p:nvGrpSpPr>
              <p:cNvPr id="118" name=""/>
              <p:cNvGrpSpPr/>
              <p:nvPr/>
            </p:nvGrpSpPr>
            <p:grpSpPr>
              <a:xfrm>
                <a:off x="1258920" y="1884240"/>
                <a:ext cx="506520" cy="609480"/>
                <a:chOff x="1258920" y="1884240"/>
                <a:chExt cx="506520" cy="609480"/>
              </a:xfrm>
            </p:grpSpPr>
            <p:sp>
              <p:nvSpPr>
                <p:cNvPr id="119" name=""/>
                <p:cNvSpPr/>
                <p:nvPr/>
              </p:nvSpPr>
              <p:spPr>
                <a:xfrm>
                  <a:off x="1327320" y="1884240"/>
                  <a:ext cx="3697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 name=""/>
                <p:cNvSpPr/>
                <p:nvPr/>
              </p:nvSpPr>
              <p:spPr>
                <a:xfrm>
                  <a:off x="1258920" y="1884240"/>
                  <a:ext cx="50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1765440" y="1884240"/>
                <a:ext cx="4025880" cy="609480"/>
                <a:chOff x="1765440" y="1884240"/>
                <a:chExt cx="4025880" cy="609480"/>
              </a:xfrm>
            </p:grpSpPr>
            <p:sp>
              <p:nvSpPr>
                <p:cNvPr id="122" name=""/>
                <p:cNvSpPr/>
                <p:nvPr/>
              </p:nvSpPr>
              <p:spPr>
                <a:xfrm>
                  <a:off x="1833480" y="1884240"/>
                  <a:ext cx="38894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3" name=""/>
                <p:cNvSpPr/>
                <p:nvPr/>
              </p:nvSpPr>
              <p:spPr>
                <a:xfrm>
                  <a:off x="1765440" y="1884240"/>
                  <a:ext cx="4025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5791320" y="1884240"/>
                <a:ext cx="1136520" cy="609480"/>
                <a:chOff x="5791320" y="1884240"/>
                <a:chExt cx="1136520" cy="609480"/>
              </a:xfrm>
            </p:grpSpPr>
            <p:sp>
              <p:nvSpPr>
                <p:cNvPr id="125" name=""/>
                <p:cNvSpPr/>
                <p:nvPr/>
              </p:nvSpPr>
              <p:spPr>
                <a:xfrm>
                  <a:off x="5859360" y="1884240"/>
                  <a:ext cx="10004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5791320" y="1884240"/>
                  <a:ext cx="113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927840" y="1884240"/>
                <a:ext cx="959040" cy="609480"/>
                <a:chOff x="6927840" y="1884240"/>
                <a:chExt cx="959040" cy="609480"/>
              </a:xfrm>
            </p:grpSpPr>
            <p:sp>
              <p:nvSpPr>
                <p:cNvPr id="128" name=""/>
                <p:cNvSpPr/>
                <p:nvPr/>
              </p:nvSpPr>
              <p:spPr>
                <a:xfrm>
                  <a:off x="6996240" y="1884240"/>
                  <a:ext cx="822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6927840" y="1884240"/>
                  <a:ext cx="9590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1258920" y="2493720"/>
                <a:ext cx="506520" cy="701640"/>
                <a:chOff x="1258920" y="2493720"/>
                <a:chExt cx="506520" cy="701640"/>
              </a:xfrm>
            </p:grpSpPr>
            <p:sp>
              <p:nvSpPr>
                <p:cNvPr id="131" name=""/>
                <p:cNvSpPr/>
                <p:nvPr/>
              </p:nvSpPr>
              <p:spPr>
                <a:xfrm>
                  <a:off x="1327320" y="2493720"/>
                  <a:ext cx="36972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 name=""/>
                <p:cNvSpPr/>
                <p:nvPr/>
              </p:nvSpPr>
              <p:spPr>
                <a:xfrm>
                  <a:off x="1258920" y="2493720"/>
                  <a:ext cx="50652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1765440" y="2493720"/>
                <a:ext cx="4025880" cy="701640"/>
                <a:chOff x="1765440" y="2493720"/>
                <a:chExt cx="4025880" cy="701640"/>
              </a:xfrm>
            </p:grpSpPr>
            <p:sp>
              <p:nvSpPr>
                <p:cNvPr id="134" name=""/>
                <p:cNvSpPr/>
                <p:nvPr/>
              </p:nvSpPr>
              <p:spPr>
                <a:xfrm>
                  <a:off x="1833480" y="2493720"/>
                  <a:ext cx="388944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uetooth</a:t>
                  </a:r>
                  <a:r>
                    <a:rPr b="0" lang="en-US" sz="1000" spc="-1" strike="noStrike">
                      <a:solidFill>
                        <a:srgbClr val="000000"/>
                      </a:solidFill>
                      <a:latin typeface="Symbol"/>
                      <a:ea typeface="Symbol"/>
                    </a:rPr>
                    <a:t></a:t>
                  </a:r>
                  <a:r>
                    <a:rPr b="0" lang="en-US" sz="1000" spc="-1" strike="noStrike">
                      <a:solidFill>
                        <a:srgbClr val="000000"/>
                      </a:solidFill>
                      <a:latin typeface="Arial"/>
                      <a:ea typeface="Arial"/>
                    </a:rPr>
                    <a:t> SIGnal Newsletter:  The schedule for future IEEE column inserts is on hold.  </a:t>
                  </a:r>
                  <a:r>
                    <a:rPr b="1" lang="en-US" sz="1000" spc="-1" strike="noStrike">
                      <a:solidFill>
                        <a:srgbClr val="000000"/>
                      </a:solidFill>
                      <a:latin typeface="Arial"/>
                      <a:ea typeface="Arial"/>
                    </a:rPr>
                    <a:t>Action Item:  MC to advise on stat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 name=""/>
                <p:cNvSpPr/>
                <p:nvPr/>
              </p:nvSpPr>
              <p:spPr>
                <a:xfrm>
                  <a:off x="1765440" y="2493720"/>
                  <a:ext cx="402588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791320" y="2493720"/>
                <a:ext cx="1136520" cy="701640"/>
                <a:chOff x="5791320" y="2493720"/>
                <a:chExt cx="1136520" cy="701640"/>
              </a:xfrm>
            </p:grpSpPr>
            <p:sp>
              <p:nvSpPr>
                <p:cNvPr id="137" name=""/>
                <p:cNvSpPr/>
                <p:nvPr/>
              </p:nvSpPr>
              <p:spPr>
                <a:xfrm>
                  <a:off x="5859360" y="2493720"/>
                  <a:ext cx="100044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iffo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8" name=""/>
                <p:cNvSpPr/>
                <p:nvPr/>
              </p:nvSpPr>
              <p:spPr>
                <a:xfrm>
                  <a:off x="5791320" y="2493720"/>
                  <a:ext cx="113652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6927840" y="2493720"/>
                <a:ext cx="959040" cy="701640"/>
                <a:chOff x="6927840" y="2493720"/>
                <a:chExt cx="959040" cy="701640"/>
              </a:xfrm>
            </p:grpSpPr>
            <p:sp>
              <p:nvSpPr>
                <p:cNvPr id="140" name=""/>
                <p:cNvSpPr/>
                <p:nvPr/>
              </p:nvSpPr>
              <p:spPr>
                <a:xfrm>
                  <a:off x="6996240" y="2493720"/>
                  <a:ext cx="82224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go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1" name=""/>
                <p:cNvSpPr/>
                <p:nvPr/>
              </p:nvSpPr>
              <p:spPr>
                <a:xfrm>
                  <a:off x="6927840" y="2493720"/>
                  <a:ext cx="95904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1258920" y="3195360"/>
                <a:ext cx="506520" cy="914400"/>
                <a:chOff x="1258920" y="3195360"/>
                <a:chExt cx="506520" cy="914400"/>
              </a:xfrm>
            </p:grpSpPr>
            <p:sp>
              <p:nvSpPr>
                <p:cNvPr id="143" name=""/>
                <p:cNvSpPr/>
                <p:nvPr/>
              </p:nvSpPr>
              <p:spPr>
                <a:xfrm>
                  <a:off x="1327320" y="3195360"/>
                  <a:ext cx="3697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4" name=""/>
                <p:cNvSpPr/>
                <p:nvPr/>
              </p:nvSpPr>
              <p:spPr>
                <a:xfrm>
                  <a:off x="1258920" y="3195360"/>
                  <a:ext cx="50652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1765440" y="3195360"/>
                <a:ext cx="4025880" cy="914400"/>
                <a:chOff x="1765440" y="3195360"/>
                <a:chExt cx="4025880" cy="914400"/>
              </a:xfrm>
            </p:grpSpPr>
            <p:sp>
              <p:nvSpPr>
                <p:cNvPr id="146" name=""/>
                <p:cNvSpPr/>
                <p:nvPr/>
              </p:nvSpPr>
              <p:spPr>
                <a:xfrm>
                  <a:off x="1833480" y="3195360"/>
                  <a:ext cx="38894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2.15 website: displayed the new format (look and feel) for this site as well as next steps.  </a:t>
                  </a:r>
                  <a:r>
                    <a:rPr b="1" lang="en-US" sz="1000" spc="-1" strike="noStrike">
                      <a:solidFill>
                        <a:srgbClr val="000000"/>
                      </a:solidFill>
                      <a:latin typeface="Arial"/>
                      <a:ea typeface="Arial"/>
                    </a:rPr>
                    <a:t>Action Item:  MC to advise on stat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7" name=""/>
                <p:cNvSpPr/>
                <p:nvPr/>
              </p:nvSpPr>
              <p:spPr>
                <a:xfrm>
                  <a:off x="1765440" y="3195360"/>
                  <a:ext cx="402588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791320" y="3195360"/>
                <a:ext cx="1136520" cy="914400"/>
                <a:chOff x="5791320" y="3195360"/>
                <a:chExt cx="1136520" cy="914400"/>
              </a:xfrm>
            </p:grpSpPr>
            <p:sp>
              <p:nvSpPr>
                <p:cNvPr id="149" name=""/>
                <p:cNvSpPr/>
                <p:nvPr/>
              </p:nvSpPr>
              <p:spPr>
                <a:xfrm>
                  <a:off x="5859360" y="3195360"/>
                  <a:ext cx="10004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iffo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0" name=""/>
                <p:cNvSpPr/>
                <p:nvPr/>
              </p:nvSpPr>
              <p:spPr>
                <a:xfrm>
                  <a:off x="5791320" y="3195360"/>
                  <a:ext cx="113652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927840" y="3195360"/>
                <a:ext cx="959040" cy="914400"/>
                <a:chOff x="6927840" y="3195360"/>
                <a:chExt cx="959040" cy="914400"/>
              </a:xfrm>
            </p:grpSpPr>
            <p:sp>
              <p:nvSpPr>
                <p:cNvPr id="152" name=""/>
                <p:cNvSpPr/>
                <p:nvPr/>
              </p:nvSpPr>
              <p:spPr>
                <a:xfrm>
                  <a:off x="6996240" y="3195360"/>
                  <a:ext cx="8222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go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3" name=""/>
                <p:cNvSpPr/>
                <p:nvPr/>
              </p:nvSpPr>
              <p:spPr>
                <a:xfrm>
                  <a:off x="6927840" y="3195360"/>
                  <a:ext cx="95904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258920" y="4109760"/>
                <a:ext cx="506520" cy="762120"/>
                <a:chOff x="1258920" y="4109760"/>
                <a:chExt cx="506520" cy="762120"/>
              </a:xfrm>
            </p:grpSpPr>
            <p:sp>
              <p:nvSpPr>
                <p:cNvPr id="155" name=""/>
                <p:cNvSpPr/>
                <p:nvPr/>
              </p:nvSpPr>
              <p:spPr>
                <a:xfrm>
                  <a:off x="1327320" y="4109760"/>
                  <a:ext cx="3697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6" name=""/>
                <p:cNvSpPr/>
                <p:nvPr/>
              </p:nvSpPr>
              <p:spPr>
                <a:xfrm>
                  <a:off x="1258920" y="4109760"/>
                  <a:ext cx="5065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765440" y="4109760"/>
                <a:ext cx="4025880" cy="762120"/>
                <a:chOff x="1765440" y="4109760"/>
                <a:chExt cx="4025880" cy="762120"/>
              </a:xfrm>
            </p:grpSpPr>
            <p:sp>
              <p:nvSpPr>
                <p:cNvPr id="158" name=""/>
                <p:cNvSpPr/>
                <p:nvPr/>
              </p:nvSpPr>
              <p:spPr>
                <a:xfrm>
                  <a:off x="1833480" y="4109760"/>
                  <a:ext cx="38894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s kit:  </a:t>
                  </a:r>
                  <a:r>
                    <a:rPr b="1" lang="en-US" sz="1000" spc="-1" strike="noStrike">
                      <a:solidFill>
                        <a:srgbClr val="000000"/>
                      </a:solidFill>
                      <a:latin typeface="Arial"/>
                      <a:ea typeface="Arial"/>
                    </a:rPr>
                    <a:t>Action Item: MC to make sure that all marketing information is current and available as a press k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9" name=""/>
                <p:cNvSpPr/>
                <p:nvPr/>
              </p:nvSpPr>
              <p:spPr>
                <a:xfrm>
                  <a:off x="1765440" y="4109760"/>
                  <a:ext cx="40258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791320" y="4109760"/>
                <a:ext cx="1136520" cy="762120"/>
                <a:chOff x="5791320" y="4109760"/>
                <a:chExt cx="1136520" cy="762120"/>
              </a:xfrm>
            </p:grpSpPr>
            <p:sp>
              <p:nvSpPr>
                <p:cNvPr id="161" name=""/>
                <p:cNvSpPr/>
                <p:nvPr/>
              </p:nvSpPr>
              <p:spPr>
                <a:xfrm>
                  <a:off x="5859360" y="4109760"/>
                  <a:ext cx="10004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Arial"/>
                      <a:ea typeface="Arial"/>
                    </a:rPr>
                    <a:t>Gifford</a:t>
                  </a:r>
                  <a:endParaRPr b="0" lang="en-US" sz="1000" spc="-1" strike="noStrike">
                    <a:solidFill>
                      <a:srgbClr val="000000"/>
                    </a:solidFill>
                    <a:latin typeface="Times New Roman"/>
                  </a:endParaRPr>
                </a:p>
                <a:p>
                  <a:pPr>
                    <a:lnSpc>
                      <a:spcPct val="100000"/>
                    </a:lnSpc>
                    <a:tabLst>
                      <a:tab algn="l" pos="0"/>
                      <a:tab algn="r" pos="457200"/>
                      <a:tab algn="ctr" pos="2743200"/>
                      <a:tab algn="r"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5791320" y="4109760"/>
                  <a:ext cx="11365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927840" y="4109760"/>
                <a:ext cx="959040" cy="762120"/>
                <a:chOff x="6927840" y="4109760"/>
                <a:chExt cx="959040" cy="762120"/>
              </a:xfrm>
            </p:grpSpPr>
            <p:sp>
              <p:nvSpPr>
                <p:cNvPr id="164" name=""/>
                <p:cNvSpPr/>
                <p:nvPr/>
              </p:nvSpPr>
              <p:spPr>
                <a:xfrm>
                  <a:off x="6996240" y="4109760"/>
                  <a:ext cx="8222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go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 name=""/>
                <p:cNvSpPr/>
                <p:nvPr/>
              </p:nvSpPr>
              <p:spPr>
                <a:xfrm>
                  <a:off x="6927840" y="4109760"/>
                  <a:ext cx="9590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258920" y="4871880"/>
                <a:ext cx="506520" cy="1371600"/>
                <a:chOff x="1258920" y="4871880"/>
                <a:chExt cx="506520" cy="1371600"/>
              </a:xfrm>
            </p:grpSpPr>
            <p:sp>
              <p:nvSpPr>
                <p:cNvPr id="167" name=""/>
                <p:cNvSpPr/>
                <p:nvPr/>
              </p:nvSpPr>
              <p:spPr>
                <a:xfrm>
                  <a:off x="1327320" y="4871880"/>
                  <a:ext cx="3697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8" name=""/>
                <p:cNvSpPr/>
                <p:nvPr/>
              </p:nvSpPr>
              <p:spPr>
                <a:xfrm>
                  <a:off x="1258920" y="4871880"/>
                  <a:ext cx="50652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765440" y="4871880"/>
                <a:ext cx="4025880" cy="1371600"/>
                <a:chOff x="1765440" y="4871880"/>
                <a:chExt cx="4025880" cy="1371600"/>
              </a:xfrm>
            </p:grpSpPr>
            <p:sp>
              <p:nvSpPr>
                <p:cNvPr id="170" name=""/>
                <p:cNvSpPr/>
                <p:nvPr/>
              </p:nvSpPr>
              <p:spPr>
                <a:xfrm>
                  <a:off x="1833480" y="4871880"/>
                  <a:ext cx="38894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An IEEE Guide: How to Find What You Need in the Bluetooth Specification”:</a:t>
                  </a:r>
                  <a:r>
                    <a:rPr b="0" lang="en-US" sz="1000" spc="-1" strike="noStrike">
                      <a:solidFill>
                        <a:srgbClr val="000000"/>
                      </a:solidFill>
                      <a:latin typeface="Arial"/>
                      <a:ea typeface="Arial"/>
                    </a:rPr>
                    <a:t>  the first draft of the manuscript for the pocket guide (~150 pg.) was distributed 11Sep00 for peer review.  The contract between Bluetooth and IEEE is still in review i.e., one signature remaining.  </a:t>
                  </a:r>
                  <a:r>
                    <a:rPr b="1" lang="en-US" sz="1000" spc="-1" strike="noStrike">
                      <a:solidFill>
                        <a:srgbClr val="000000"/>
                      </a:solidFill>
                      <a:latin typeface="Arial"/>
                      <a:ea typeface="Arial"/>
                    </a:rPr>
                    <a:t>Action Item:  MC to advise on contract stat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 name=""/>
                <p:cNvSpPr/>
                <p:nvPr/>
              </p:nvSpPr>
              <p:spPr>
                <a:xfrm>
                  <a:off x="1765440" y="4871880"/>
                  <a:ext cx="402588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791320" y="4871880"/>
                <a:ext cx="1136520" cy="1371600"/>
                <a:chOff x="5791320" y="4871880"/>
                <a:chExt cx="1136520" cy="1371600"/>
              </a:xfrm>
            </p:grpSpPr>
            <p:sp>
              <p:nvSpPr>
                <p:cNvPr id="173" name=""/>
                <p:cNvSpPr/>
                <p:nvPr/>
              </p:nvSpPr>
              <p:spPr>
                <a:xfrm>
                  <a:off x="5859360" y="4871880"/>
                  <a:ext cx="10004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Arial"/>
                      <a:ea typeface="Arial"/>
                    </a:rPr>
                    <a:t>Gifford</a:t>
                  </a:r>
                  <a:endParaRPr b="0" lang="en-US" sz="1000" spc="-1" strike="noStrike">
                    <a:solidFill>
                      <a:srgbClr val="000000"/>
                    </a:solidFill>
                    <a:latin typeface="Times New Roman"/>
                  </a:endParaRPr>
                </a:p>
                <a:p>
                  <a:pPr>
                    <a:lnSpc>
                      <a:spcPct val="100000"/>
                    </a:lnSpc>
                    <a:tabLst>
                      <a:tab algn="l" pos="0"/>
                      <a:tab algn="r" pos="457200"/>
                      <a:tab algn="ctr" pos="2743200"/>
                      <a:tab algn="r"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4" name=""/>
                <p:cNvSpPr/>
                <p:nvPr/>
              </p:nvSpPr>
              <p:spPr>
                <a:xfrm>
                  <a:off x="5791320" y="4871880"/>
                  <a:ext cx="113652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6927840" y="4871880"/>
                <a:ext cx="959040" cy="1371600"/>
                <a:chOff x="6927840" y="4871880"/>
                <a:chExt cx="959040" cy="1371600"/>
              </a:xfrm>
            </p:grpSpPr>
            <p:sp>
              <p:nvSpPr>
                <p:cNvPr id="176" name=""/>
                <p:cNvSpPr/>
                <p:nvPr/>
              </p:nvSpPr>
              <p:spPr>
                <a:xfrm>
                  <a:off x="6996240" y="4871880"/>
                  <a:ext cx="8222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7" name=""/>
                <p:cNvSpPr/>
                <p:nvPr/>
              </p:nvSpPr>
              <p:spPr>
                <a:xfrm>
                  <a:off x="6927840" y="4871880"/>
                  <a:ext cx="95904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8" name=""/>
            <p:cNvSpPr/>
            <p:nvPr/>
          </p:nvSpPr>
          <p:spPr>
            <a:xfrm>
              <a:off x="1254240" y="1879560"/>
              <a:ext cx="6637320" cy="4368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A4F7050-91E7-460B-B9EC-220A4F3F6562}" type="slidenum">
              <a:t>12</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standing Action Items (cont.)</a:t>
            </a:r>
            <a:endParaRPr b="0" lang="en-US" sz="3600" spc="-1" strike="noStrike">
              <a:solidFill>
                <a:srgbClr val="000000"/>
              </a:solidFill>
              <a:latin typeface="Times New Roman"/>
            </a:endParaRPr>
          </a:p>
        </p:txBody>
      </p:sp>
      <p:grpSp>
        <p:nvGrpSpPr>
          <p:cNvPr id="180" name=""/>
          <p:cNvGrpSpPr/>
          <p:nvPr/>
        </p:nvGrpSpPr>
        <p:grpSpPr>
          <a:xfrm>
            <a:off x="1254240" y="2124000"/>
            <a:ext cx="6637320" cy="3514680"/>
            <a:chOff x="1254240" y="2124000"/>
            <a:chExt cx="6637320" cy="3514680"/>
          </a:xfrm>
        </p:grpSpPr>
        <p:grpSp>
          <p:nvGrpSpPr>
            <p:cNvPr id="181" name=""/>
            <p:cNvGrpSpPr/>
            <p:nvPr/>
          </p:nvGrpSpPr>
          <p:grpSpPr>
            <a:xfrm>
              <a:off x="1258920" y="2128680"/>
              <a:ext cx="6627960" cy="3505320"/>
              <a:chOff x="1258920" y="2128680"/>
              <a:chExt cx="6627960" cy="3505320"/>
            </a:xfrm>
          </p:grpSpPr>
          <p:grpSp>
            <p:nvGrpSpPr>
              <p:cNvPr id="182" name=""/>
              <p:cNvGrpSpPr/>
              <p:nvPr/>
            </p:nvGrpSpPr>
            <p:grpSpPr>
              <a:xfrm>
                <a:off x="1258920" y="2128680"/>
                <a:ext cx="506520" cy="914400"/>
                <a:chOff x="1258920" y="2128680"/>
                <a:chExt cx="506520" cy="914400"/>
              </a:xfrm>
            </p:grpSpPr>
            <p:sp>
              <p:nvSpPr>
                <p:cNvPr id="183" name=""/>
                <p:cNvSpPr/>
                <p:nvPr/>
              </p:nvSpPr>
              <p:spPr>
                <a:xfrm>
                  <a:off x="1327320" y="2128680"/>
                  <a:ext cx="3697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p>
                  <a:pPr>
                    <a:lnSpc>
                      <a:spcPct val="100000"/>
                    </a:lnSpc>
                    <a:tabLst>
                      <a:tab algn="l" pos="0"/>
                      <a:tab algn="r" pos="457200"/>
                      <a:tab algn="ctr" pos="2743200"/>
                      <a:tab algn="r"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1258920" y="2128680"/>
                  <a:ext cx="50652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1765440" y="2128680"/>
                <a:ext cx="4025880" cy="914400"/>
                <a:chOff x="1765440" y="2128680"/>
                <a:chExt cx="4025880" cy="914400"/>
              </a:xfrm>
            </p:grpSpPr>
            <p:sp>
              <p:nvSpPr>
                <p:cNvPr id="186" name=""/>
                <p:cNvSpPr/>
                <p:nvPr/>
              </p:nvSpPr>
              <p:spPr>
                <a:xfrm>
                  <a:off x="1833480" y="2128680"/>
                  <a:ext cx="38894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IEEE 802.15.1 Handbook, A Designer’s Companion”. This collateral is still in author/publisher review   </a:t>
                  </a:r>
                  <a:r>
                    <a:rPr b="1" lang="en-US" sz="1000" spc="-1" strike="noStrike">
                      <a:solidFill>
                        <a:srgbClr val="000000"/>
                      </a:solidFill>
                      <a:latin typeface="Arial"/>
                      <a:ea typeface="Arial"/>
                    </a:rPr>
                    <a:t>Action Item:  MC to advise on manuscript &amp; contract stat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1765440" y="2128680"/>
                  <a:ext cx="402588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5791320" y="2128680"/>
                <a:ext cx="1136520" cy="914400"/>
                <a:chOff x="5791320" y="2128680"/>
                <a:chExt cx="1136520" cy="914400"/>
              </a:xfrm>
            </p:grpSpPr>
            <p:sp>
              <p:nvSpPr>
                <p:cNvPr id="189" name=""/>
                <p:cNvSpPr/>
                <p:nvPr/>
              </p:nvSpPr>
              <p:spPr>
                <a:xfrm>
                  <a:off x="5859360" y="2128680"/>
                  <a:ext cx="10004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ifford/Sie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5791320" y="2128680"/>
                  <a:ext cx="113652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6927840" y="2128680"/>
                <a:ext cx="959040" cy="914400"/>
                <a:chOff x="6927840" y="2128680"/>
                <a:chExt cx="959040" cy="914400"/>
              </a:xfrm>
            </p:grpSpPr>
            <p:sp>
              <p:nvSpPr>
                <p:cNvPr id="192" name=""/>
                <p:cNvSpPr/>
                <p:nvPr/>
              </p:nvSpPr>
              <p:spPr>
                <a:xfrm>
                  <a:off x="6996240" y="2128680"/>
                  <a:ext cx="8222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6927840" y="2128680"/>
                  <a:ext cx="95904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1258920" y="3043080"/>
                <a:ext cx="506520" cy="1523880"/>
                <a:chOff x="1258920" y="3043080"/>
                <a:chExt cx="506520" cy="1523880"/>
              </a:xfrm>
            </p:grpSpPr>
            <p:sp>
              <p:nvSpPr>
                <p:cNvPr id="195" name=""/>
                <p:cNvSpPr/>
                <p:nvPr/>
              </p:nvSpPr>
              <p:spPr>
                <a:xfrm>
                  <a:off x="1327320" y="3043080"/>
                  <a:ext cx="3697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1258920" y="3043080"/>
                  <a:ext cx="506520" cy="152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1765440" y="3043080"/>
                <a:ext cx="4025880" cy="1523880"/>
                <a:chOff x="1765440" y="3043080"/>
                <a:chExt cx="4025880" cy="1523880"/>
              </a:xfrm>
            </p:grpSpPr>
            <p:sp>
              <p:nvSpPr>
                <p:cNvPr id="198" name=""/>
                <p:cNvSpPr/>
                <p:nvPr/>
              </p:nvSpPr>
              <p:spPr>
                <a:xfrm>
                  <a:off x="1833480" y="3043080"/>
                  <a:ext cx="388944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estion: IEEE testing to ensure compatibility? Reply: No, but Bluetooth is licensing third party companies to conduct these tests. Question: What about putting the IEEE logo on products? Reply: In the past the IEEE's logo hasn't been allowed on products.  Comment: Bluetooth testing also includes profiles which are above the MAC layer.  </a:t>
                  </a:r>
                  <a:r>
                    <a:rPr b="1" lang="en-US" sz="1000" spc="-1" strike="noStrike">
                      <a:solidFill>
                        <a:srgbClr val="000000"/>
                      </a:solidFill>
                      <a:latin typeface="Arial"/>
                      <a:ea typeface="Arial"/>
                    </a:rPr>
                    <a:t>Action Item: MC to investigate this furth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1765440" y="3043080"/>
                  <a:ext cx="4025880" cy="152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5791320" y="3043080"/>
                <a:ext cx="1136520" cy="1523880"/>
                <a:chOff x="5791320" y="3043080"/>
                <a:chExt cx="1136520" cy="1523880"/>
              </a:xfrm>
            </p:grpSpPr>
            <p:sp>
              <p:nvSpPr>
                <p:cNvPr id="201" name=""/>
                <p:cNvSpPr/>
                <p:nvPr/>
              </p:nvSpPr>
              <p:spPr>
                <a:xfrm>
                  <a:off x="5859360" y="3043080"/>
                  <a:ext cx="100044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iffo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5791320" y="3043080"/>
                  <a:ext cx="1136520" cy="152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6927840" y="3043080"/>
                <a:ext cx="959040" cy="1523880"/>
                <a:chOff x="6927840" y="3043080"/>
                <a:chExt cx="959040" cy="1523880"/>
              </a:xfrm>
            </p:grpSpPr>
            <p:sp>
              <p:nvSpPr>
                <p:cNvPr id="204" name=""/>
                <p:cNvSpPr/>
                <p:nvPr/>
              </p:nvSpPr>
              <p:spPr>
                <a:xfrm>
                  <a:off x="6996240" y="3043080"/>
                  <a:ext cx="82224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v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6927840" y="3043080"/>
                  <a:ext cx="959040" cy="152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1258920" y="4566960"/>
                <a:ext cx="506520" cy="1067040"/>
                <a:chOff x="1258920" y="4566960"/>
                <a:chExt cx="506520" cy="1067040"/>
              </a:xfrm>
            </p:grpSpPr>
            <p:sp>
              <p:nvSpPr>
                <p:cNvPr id="207" name=""/>
                <p:cNvSpPr/>
                <p:nvPr/>
              </p:nvSpPr>
              <p:spPr>
                <a:xfrm>
                  <a:off x="1327320" y="4566960"/>
                  <a:ext cx="36972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1258920" y="4566960"/>
                  <a:ext cx="506520" cy="106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765440" y="4566960"/>
                <a:ext cx="4025880" cy="1067040"/>
                <a:chOff x="1765440" y="4566960"/>
                <a:chExt cx="4025880" cy="1067040"/>
              </a:xfrm>
            </p:grpSpPr>
            <p:sp>
              <p:nvSpPr>
                <p:cNvPr id="210" name=""/>
                <p:cNvSpPr/>
                <p:nvPr/>
              </p:nvSpPr>
              <p:spPr>
                <a:xfrm>
                  <a:off x="1833480" y="4566960"/>
                  <a:ext cx="388944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C chair talked to the status on the WPAN trademark and URL effort IEEE has registered 802.15.  </a:t>
                  </a:r>
                  <a:r>
                    <a:rPr b="1" lang="en-US" sz="1000" spc="-1" strike="noStrike">
                      <a:solidFill>
                        <a:srgbClr val="000000"/>
                      </a:solidFill>
                      <a:latin typeface="Arial"/>
                      <a:ea typeface="Arial"/>
                    </a:rPr>
                    <a:t>Action Item: MC to submit protest to internic.com concerning the use of WPAN as a domain names by other concer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 name=""/>
                <p:cNvSpPr/>
                <p:nvPr/>
              </p:nvSpPr>
              <p:spPr>
                <a:xfrm>
                  <a:off x="1765440" y="4566960"/>
                  <a:ext cx="4025880" cy="106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5791320" y="4566960"/>
                <a:ext cx="1136520" cy="1067040"/>
                <a:chOff x="5791320" y="4566960"/>
                <a:chExt cx="1136520" cy="1067040"/>
              </a:xfrm>
            </p:grpSpPr>
            <p:sp>
              <p:nvSpPr>
                <p:cNvPr id="213" name=""/>
                <p:cNvSpPr/>
                <p:nvPr/>
              </p:nvSpPr>
              <p:spPr>
                <a:xfrm>
                  <a:off x="5859360" y="4566960"/>
                  <a:ext cx="100044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iffo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4" name=""/>
                <p:cNvSpPr/>
                <p:nvPr/>
              </p:nvSpPr>
              <p:spPr>
                <a:xfrm>
                  <a:off x="5791320" y="4566960"/>
                  <a:ext cx="1136520" cy="106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6927840" y="4566960"/>
                <a:ext cx="959040" cy="1067040"/>
                <a:chOff x="6927840" y="4566960"/>
                <a:chExt cx="959040" cy="1067040"/>
              </a:xfrm>
            </p:grpSpPr>
            <p:sp>
              <p:nvSpPr>
                <p:cNvPr id="216" name=""/>
                <p:cNvSpPr/>
                <p:nvPr/>
              </p:nvSpPr>
              <p:spPr>
                <a:xfrm>
                  <a:off x="6996240" y="4566960"/>
                  <a:ext cx="82224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v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6927840" y="4566960"/>
                  <a:ext cx="959040" cy="106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8" name=""/>
            <p:cNvSpPr/>
            <p:nvPr/>
          </p:nvSpPr>
          <p:spPr>
            <a:xfrm>
              <a:off x="1254240" y="2124000"/>
              <a:ext cx="6637320" cy="3514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BC6658B-2D8D-435C-A809-5E3638DD33CE}" type="slidenum">
              <a:t>13</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standing Action Items (cont.)</a:t>
            </a:r>
            <a:endParaRPr b="0" lang="en-US" sz="3600" spc="-1" strike="noStrike">
              <a:solidFill>
                <a:srgbClr val="000000"/>
              </a:solidFill>
              <a:latin typeface="Times New Roman"/>
            </a:endParaRPr>
          </a:p>
        </p:txBody>
      </p:sp>
      <p:grpSp>
        <p:nvGrpSpPr>
          <p:cNvPr id="220" name=""/>
          <p:cNvGrpSpPr/>
          <p:nvPr/>
        </p:nvGrpSpPr>
        <p:grpSpPr>
          <a:xfrm>
            <a:off x="1254240" y="2505240"/>
            <a:ext cx="6637320" cy="3209760"/>
            <a:chOff x="1254240" y="2505240"/>
            <a:chExt cx="6637320" cy="3209760"/>
          </a:xfrm>
        </p:grpSpPr>
        <p:grpSp>
          <p:nvGrpSpPr>
            <p:cNvPr id="221" name=""/>
            <p:cNvGrpSpPr/>
            <p:nvPr/>
          </p:nvGrpSpPr>
          <p:grpSpPr>
            <a:xfrm>
              <a:off x="1258920" y="2509920"/>
              <a:ext cx="6627960" cy="3200400"/>
              <a:chOff x="1258920" y="2509920"/>
              <a:chExt cx="6627960" cy="3200400"/>
            </a:xfrm>
          </p:grpSpPr>
          <p:grpSp>
            <p:nvGrpSpPr>
              <p:cNvPr id="222" name=""/>
              <p:cNvGrpSpPr/>
              <p:nvPr/>
            </p:nvGrpSpPr>
            <p:grpSpPr>
              <a:xfrm>
                <a:off x="1258920" y="2509920"/>
                <a:ext cx="506520" cy="762120"/>
                <a:chOff x="1258920" y="2509920"/>
                <a:chExt cx="506520" cy="762120"/>
              </a:xfrm>
            </p:grpSpPr>
            <p:sp>
              <p:nvSpPr>
                <p:cNvPr id="223" name=""/>
                <p:cNvSpPr/>
                <p:nvPr/>
              </p:nvSpPr>
              <p:spPr>
                <a:xfrm>
                  <a:off x="1327320" y="2509920"/>
                  <a:ext cx="3697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4" name=""/>
                <p:cNvSpPr/>
                <p:nvPr/>
              </p:nvSpPr>
              <p:spPr>
                <a:xfrm>
                  <a:off x="1258920" y="2509920"/>
                  <a:ext cx="5065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1765440" y="2509920"/>
                <a:ext cx="4025880" cy="762120"/>
                <a:chOff x="1765440" y="2509920"/>
                <a:chExt cx="4025880" cy="762120"/>
              </a:xfrm>
            </p:grpSpPr>
            <p:sp>
              <p:nvSpPr>
                <p:cNvPr id="226" name=""/>
                <p:cNvSpPr/>
                <p:nvPr/>
              </p:nvSpPr>
              <p:spPr>
                <a:xfrm>
                  <a:off x="1833480" y="2509920"/>
                  <a:ext cx="38894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ction Item: MC to update templates and webpage with notices on use of the trademark of the term WP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 name=""/>
                <p:cNvSpPr/>
                <p:nvPr/>
              </p:nvSpPr>
              <p:spPr>
                <a:xfrm>
                  <a:off x="1765440" y="2509920"/>
                  <a:ext cx="40258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5791320" y="2509920"/>
                <a:ext cx="1136520" cy="762120"/>
                <a:chOff x="5791320" y="2509920"/>
                <a:chExt cx="1136520" cy="762120"/>
              </a:xfrm>
            </p:grpSpPr>
            <p:sp>
              <p:nvSpPr>
                <p:cNvPr id="229" name=""/>
                <p:cNvSpPr/>
                <p:nvPr/>
              </p:nvSpPr>
              <p:spPr>
                <a:xfrm>
                  <a:off x="5859360" y="2509920"/>
                  <a:ext cx="10004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iffo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 name=""/>
                <p:cNvSpPr/>
                <p:nvPr/>
              </p:nvSpPr>
              <p:spPr>
                <a:xfrm>
                  <a:off x="5791320" y="2509920"/>
                  <a:ext cx="11365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6927840" y="2509920"/>
                <a:ext cx="959040" cy="762120"/>
                <a:chOff x="6927840" y="2509920"/>
                <a:chExt cx="959040" cy="762120"/>
              </a:xfrm>
            </p:grpSpPr>
            <p:sp>
              <p:nvSpPr>
                <p:cNvPr id="232" name=""/>
                <p:cNvSpPr/>
                <p:nvPr/>
              </p:nvSpPr>
              <p:spPr>
                <a:xfrm>
                  <a:off x="6996240" y="2509920"/>
                  <a:ext cx="8222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v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6927840" y="2509920"/>
                  <a:ext cx="9590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1258920" y="3272040"/>
                <a:ext cx="506520" cy="1371600"/>
                <a:chOff x="1258920" y="3272040"/>
                <a:chExt cx="506520" cy="1371600"/>
              </a:xfrm>
            </p:grpSpPr>
            <p:sp>
              <p:nvSpPr>
                <p:cNvPr id="235" name=""/>
                <p:cNvSpPr/>
                <p:nvPr/>
              </p:nvSpPr>
              <p:spPr>
                <a:xfrm>
                  <a:off x="1327320" y="3272040"/>
                  <a:ext cx="3697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1258920" y="3272040"/>
                  <a:ext cx="50652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765440" y="3272040"/>
                <a:ext cx="4025880" cy="1371600"/>
                <a:chOff x="1765440" y="3272040"/>
                <a:chExt cx="4025880" cy="1371600"/>
              </a:xfrm>
            </p:grpSpPr>
            <p:sp>
              <p:nvSpPr>
                <p:cNvPr id="238" name=""/>
                <p:cNvSpPr/>
                <p:nvPr/>
              </p:nvSpPr>
              <p:spPr>
                <a:xfrm>
                  <a:off x="1833480" y="3272040"/>
                  <a:ext cx="38894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new IEEE Wireless Standards Zone </a:t>
                  </a:r>
                  <a:r>
                    <a:rPr b="0" lang="en-US" sz="1000" spc="-1" strike="noStrike" u="sng">
                      <a:solidFill>
                        <a:srgbClr val="ccccff"/>
                      </a:solidFill>
                      <a:uFillTx/>
                      <a:latin typeface="Arial"/>
                      <a:ea typeface="Arial"/>
                      <a:hlinkClick r:id="rId1"/>
                    </a:rPr>
                    <a:t>http://standards.</a:t>
                  </a:r>
                  <a:r>
                    <a:rPr b="0" lang="en-US" sz="1000" spc="-1" strike="noStrike" u="sng">
                      <a:solidFill>
                        <a:srgbClr val="ccccff"/>
                      </a:solidFill>
                      <a:uFillTx/>
                      <a:latin typeface="Arial"/>
                      <a:ea typeface="Arial"/>
                      <a:hlinkClick r:id="rId2"/>
                    </a:rPr>
                    <a:t>ieee</a:t>
                  </a:r>
                  <a:r>
                    <a:rPr b="0" lang="en-US" sz="1000" spc="-1" strike="noStrike" u="sng">
                      <a:solidFill>
                        <a:srgbClr val="ccccff"/>
                      </a:solidFill>
                      <a:uFillTx/>
                      <a:latin typeface="Arial"/>
                      <a:ea typeface="Arial"/>
                      <a:hlinkClick r:id="rId3"/>
                    </a:rPr>
                    <a:t>.org/wireless/index.html</a:t>
                  </a:r>
                  <a:r>
                    <a:rPr b="0" lang="en-US" sz="1000" spc="-1" strike="noStrike">
                      <a:solidFill>
                        <a:srgbClr val="000000"/>
                      </a:solidFill>
                      <a:latin typeface="Arial"/>
                      <a:ea typeface="Arial"/>
                    </a:rPr>
                    <a:t>  was profiled.  The Doc Master is Markus Plessel, Standards Marketing Administrator, +1 732 562 3989, </a:t>
                  </a:r>
                  <a:r>
                    <a:rPr b="0" lang="en-US" sz="1000" spc="-1" strike="noStrike" u="sng">
                      <a:solidFill>
                        <a:srgbClr val="ccccff"/>
                      </a:solidFill>
                      <a:uFillTx/>
                      <a:latin typeface="Arial"/>
                      <a:ea typeface="Arial"/>
                      <a:hlinkClick r:id="rId4"/>
                    </a:rPr>
                    <a:t>m.</a:t>
                  </a:r>
                  <a:r>
                    <a:rPr b="0" lang="en-US" sz="1000" spc="-1" strike="noStrike" u="sng">
                      <a:solidFill>
                        <a:srgbClr val="ccccff"/>
                      </a:solidFill>
                      <a:uFillTx/>
                      <a:latin typeface="Arial"/>
                      <a:ea typeface="Arial"/>
                      <a:hlinkClick r:id="rId5"/>
                    </a:rPr>
                    <a:t>plessel</a:t>
                  </a:r>
                  <a:r>
                    <a:rPr b="0" lang="en-US" sz="1000" spc="-1" strike="noStrike" u="sng">
                      <a:solidFill>
                        <a:srgbClr val="ccccff"/>
                      </a:solidFill>
                      <a:uFillTx/>
                      <a:latin typeface="Arial"/>
                      <a:ea typeface="Arial"/>
                      <a:hlinkClick r:id="rId6"/>
                    </a:rPr>
                    <a:t>@</a:t>
                  </a:r>
                  <a:r>
                    <a:rPr b="0" lang="en-US" sz="1000" spc="-1" strike="noStrike" u="sng">
                      <a:solidFill>
                        <a:srgbClr val="ccccff"/>
                      </a:solidFill>
                      <a:uFillTx/>
                      <a:latin typeface="Arial"/>
                      <a:ea typeface="Arial"/>
                      <a:hlinkClick r:id="rId7"/>
                    </a:rPr>
                    <a:t>ieee</a:t>
                  </a:r>
                  <a:r>
                    <a:rPr b="0" lang="en-US" sz="1000" spc="-1" strike="noStrike" u="sng">
                      <a:solidFill>
                        <a:srgbClr val="ccccff"/>
                      </a:solidFill>
                      <a:uFillTx/>
                      <a:latin typeface="Arial"/>
                      <a:ea typeface="Arial"/>
                      <a:hlinkClick r:id="rId8"/>
                    </a:rPr>
                    <a:t>.org</a:t>
                  </a:r>
                  <a:r>
                    <a:rPr b="0" lang="en-US" sz="1000" spc="-1" strike="noStrike">
                      <a:solidFill>
                        <a:srgbClr val="000000"/>
                      </a:solidFill>
                      <a:latin typeface="Arial"/>
                      <a:ea typeface="Arial"/>
                    </a:rPr>
                    <a:t> </a:t>
                  </a:r>
                  <a:r>
                    <a:rPr b="1" lang="en-US" sz="1000" spc="-1" strike="noStrike">
                      <a:solidFill>
                        <a:srgbClr val="000000"/>
                      </a:solidFill>
                      <a:latin typeface="Arial"/>
                      <a:ea typeface="Arial"/>
                    </a:rPr>
                    <a:t>Action Item:  Identify how to manage i.e., meaning “push” from 802.11/802.15 to this new IEEE-SA Web MARCOM Resour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1765440" y="3272040"/>
                  <a:ext cx="402588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5791320" y="3272040"/>
                <a:ext cx="1136520" cy="1371600"/>
                <a:chOff x="5791320" y="3272040"/>
                <a:chExt cx="1136520" cy="1371600"/>
              </a:xfrm>
            </p:grpSpPr>
            <p:sp>
              <p:nvSpPr>
                <p:cNvPr id="241" name=""/>
                <p:cNvSpPr/>
                <p:nvPr/>
              </p:nvSpPr>
              <p:spPr>
                <a:xfrm>
                  <a:off x="5859360" y="3272040"/>
                  <a:ext cx="10004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iffo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5791320" y="3272040"/>
                  <a:ext cx="113652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927840" y="3272040"/>
                <a:ext cx="959040" cy="1371600"/>
                <a:chOff x="6927840" y="3272040"/>
                <a:chExt cx="959040" cy="1371600"/>
              </a:xfrm>
            </p:grpSpPr>
            <p:sp>
              <p:nvSpPr>
                <p:cNvPr id="244" name=""/>
                <p:cNvSpPr/>
                <p:nvPr/>
              </p:nvSpPr>
              <p:spPr>
                <a:xfrm>
                  <a:off x="6996240" y="3272040"/>
                  <a:ext cx="8222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ne 29Sep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 name=""/>
                <p:cNvSpPr/>
                <p:nvPr/>
              </p:nvSpPr>
              <p:spPr>
                <a:xfrm>
                  <a:off x="6927840" y="3272040"/>
                  <a:ext cx="95904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1258920" y="4643640"/>
                <a:ext cx="506520" cy="1066680"/>
                <a:chOff x="1258920" y="4643640"/>
                <a:chExt cx="506520" cy="1066680"/>
              </a:xfrm>
            </p:grpSpPr>
            <p:sp>
              <p:nvSpPr>
                <p:cNvPr id="247" name=""/>
                <p:cNvSpPr/>
                <p:nvPr/>
              </p:nvSpPr>
              <p:spPr>
                <a:xfrm>
                  <a:off x="1327320" y="4643640"/>
                  <a:ext cx="3697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1258920" y="4643640"/>
                  <a:ext cx="506520" cy="106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765440" y="4643640"/>
                <a:ext cx="4025880" cy="1066680"/>
                <a:chOff x="1765440" y="4643640"/>
                <a:chExt cx="4025880" cy="1066680"/>
              </a:xfrm>
            </p:grpSpPr>
            <p:sp>
              <p:nvSpPr>
                <p:cNvPr id="250" name=""/>
                <p:cNvSpPr/>
                <p:nvPr/>
              </p:nvSpPr>
              <p:spPr>
                <a:xfrm>
                  <a:off x="1833480" y="4643640"/>
                  <a:ext cx="388944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Acting Chair suggests that the single Joint MC Session be merged and that the 802.15 MC Chair consider adding a second timeslot on Monday for 802.15 preparatory work.  </a:t>
                  </a:r>
                  <a:r>
                    <a:rPr b="1" lang="en-US" sz="1000" spc="-1" strike="noStrike">
                      <a:solidFill>
                        <a:srgbClr val="000000"/>
                      </a:solidFill>
                      <a:latin typeface="Arial"/>
                      <a:ea typeface="Arial"/>
                    </a:rPr>
                    <a:t>Action Item: MC to investigate this furth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1765440" y="4643640"/>
                  <a:ext cx="4025880" cy="106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5791320" y="4643640"/>
                <a:ext cx="1136520" cy="1066680"/>
                <a:chOff x="5791320" y="4643640"/>
                <a:chExt cx="1136520" cy="1066680"/>
              </a:xfrm>
            </p:grpSpPr>
            <p:sp>
              <p:nvSpPr>
                <p:cNvPr id="253" name=""/>
                <p:cNvSpPr/>
                <p:nvPr/>
              </p:nvSpPr>
              <p:spPr>
                <a:xfrm>
                  <a:off x="5859360" y="4643640"/>
                  <a:ext cx="100044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raem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5791320" y="4643640"/>
                  <a:ext cx="1136520" cy="106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6927840" y="4643640"/>
                <a:ext cx="959040" cy="1066680"/>
                <a:chOff x="6927840" y="4643640"/>
                <a:chExt cx="959040" cy="1066680"/>
              </a:xfrm>
            </p:grpSpPr>
            <p:sp>
              <p:nvSpPr>
                <p:cNvPr id="256" name=""/>
                <p:cNvSpPr/>
                <p:nvPr/>
              </p:nvSpPr>
              <p:spPr>
                <a:xfrm>
                  <a:off x="6996240" y="4643640"/>
                  <a:ext cx="82224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v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6927840" y="4643640"/>
                  <a:ext cx="959040" cy="106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8" name=""/>
            <p:cNvSpPr/>
            <p:nvPr/>
          </p:nvSpPr>
          <p:spPr>
            <a:xfrm>
              <a:off x="1254240" y="2505240"/>
              <a:ext cx="6637320" cy="3209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26B421D-E6C5-48E5-B852-73EE059AC0E8}" type="slidenum">
              <a:t>14</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Clos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2000 Scottsdale, AZ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1059BA4-AA4B-4F28-946B-558A8F0A7AF2}"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Session #8/Scottsda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Planning Stat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tative Needs for Nov00 Plen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standing Action Item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A38BF44-ED9E-45B1-AA28-86190C4E8E75}"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ing Committee (MC)</a:t>
            </a:r>
            <a:r>
              <a:rPr b="0" lang="en-US" sz="1400" spc="-1" strike="noStrike">
                <a:solidFill>
                  <a:srgbClr val="000000"/>
                </a:solidFill>
                <a:latin typeface="Arial"/>
              </a:rPr>
              <a:t> The IEEE 802.15 Marketing Committee (MC) for WPANs™ is coordinating WG submissions to ensure that the WPAN marketplace, WPAN market overlap, and the WPAN market messages are complementary and clearly defined to our IEEE Sponsor.  The following bullets highlight Session #8:</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G1 Chair advised that the An IEEE Guide: How to Find What You Need in the Bluetooth Specification a.k.a. “Pocket Guide” manuscript was released to peer review on 11Sep00.  </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G2 Chair requested collateral placement support of the pending Call For Submission –00/009r4.  The MC place the CFP on the following IEEE Web Sites::</a:t>
            </a:r>
            <a:endParaRPr b="0" lang="en-US" sz="1200" spc="-1" strike="noStrike">
              <a:solidFill>
                <a:srgbClr val="000000"/>
              </a:solidFill>
              <a:latin typeface="Arial"/>
            </a:endParaRPr>
          </a:p>
          <a:p>
            <a:pPr lvl="2" marL="1085760" indent="-2286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 IEEE in Wireless http://www.ieee.org/whats-new/archive</a:t>
            </a:r>
            <a:endParaRPr b="0" lang="en-US" sz="1000" spc="-1" strike="noStrike">
              <a:solidFill>
                <a:srgbClr val="000000"/>
              </a:solidFill>
              <a:latin typeface="Arial"/>
            </a:endParaRPr>
          </a:p>
          <a:p>
            <a:pPr lvl="2" marL="1085760" indent="-2286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 Wireless Standards Zone http://standards.ieee.org/wireless/</a:t>
            </a:r>
            <a:endParaRPr b="0" lang="en-US" sz="1000" spc="-1" strike="noStrike">
              <a:solidFill>
                <a:srgbClr val="000000"/>
              </a:solidFill>
              <a:latin typeface="Arial"/>
            </a:endParaRPr>
          </a:p>
          <a:p>
            <a:pPr lvl="2" marL="1085760" indent="-2286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SA Home Page http://standards.ieee.org/</a:t>
            </a:r>
            <a:endParaRPr b="0" lang="en-US" sz="10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G2 Chair is still trying to submit an editorial into the Bluetooth™ SIGnal Newsletter – which is still on hold pending a new Editor/Publisher.</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2) Study Groups were too busy studying to worry about MARCOM.  The MC agreed to revisit the SGs in Nov00.</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t Session #8, the committee made forward progress in coordinating with their collocated 802.11 marketing peers.  The two (2) MC entities tentatively agreed to revise the Tuesday 10:30 to 12:00pm timeslot to be a </a:t>
            </a:r>
            <a:r>
              <a:rPr b="1" lang="en-US" sz="1200" spc="-1" strike="noStrike" u="sng">
                <a:solidFill>
                  <a:srgbClr val="000000"/>
                </a:solidFill>
                <a:uFillTx/>
                <a:latin typeface="Arial"/>
              </a:rPr>
              <a:t>single Joint Session</a:t>
            </a:r>
            <a:r>
              <a:rPr b="0" lang="en-US" sz="1200" spc="-1" strike="noStrike">
                <a:solidFill>
                  <a:srgbClr val="000000"/>
                </a:solidFill>
                <a:latin typeface="Arial"/>
              </a:rPr>
              <a:t> with a single set of minutes (using the newly minted Joint Document Numbering system).  Obviously action items will be tracked inside the WGs.</a:t>
            </a:r>
            <a:endParaRPr b="0" lang="en-US" sz="1200" spc="-1" strike="noStrike">
              <a:solidFill>
                <a:srgbClr val="000000"/>
              </a:solidFill>
              <a:latin typeface="Arial"/>
            </a:endParaRPr>
          </a:p>
        </p:txBody>
      </p:sp>
      <p:sp>
        <p:nvSpPr>
          <p:cNvPr id="66" name=""/>
          <p:cNvSpPr/>
          <p:nvPr/>
        </p:nvSpPr>
        <p:spPr>
          <a:xfrm>
            <a:off x="304920" y="5943600"/>
            <a:ext cx="8534160" cy="482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C would like to thank Motorola for Hosting the Interim Meeting!  See you in Tampa.</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D449587-4FFD-4EAD-9A61-9B8C85C69F99}"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8/Scottsdale - Objective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LOSE OUT LAJOLLA ACTION ITEMS/NEXT STEP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VIDE AN UPDATE ON MC JUL00 TO SEP00</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FACILITATE SUB WG UPDATE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DENTIFY MC PROACTIVE PLANN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DENTIFY NOV00 OBJECTIVES &amp; GRAPHIC/TIMESLO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T MARKETING COMMITTEE OBJECTIVES FOR THIS MEET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LOSE OUT LAJOLLA ACTION ITEMS/NEXT STEP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DENTIFY JOINT MC PROACTIVE PLANN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DENTIFY JOINT NOV00 OBJECTIVES &amp; GRAPHIC/TIMESLO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780DE14-39B3-41BC-95A1-68B010E19C05}"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8/Scottsdale - Submissions</a:t>
            </a:r>
            <a:endParaRPr b="0" lang="en-US" sz="3600" spc="-1" strike="noStrike">
              <a:solidFill>
                <a:srgbClr val="000000"/>
              </a:solidFill>
              <a:latin typeface="Times New Roman"/>
            </a:endParaRPr>
          </a:p>
        </p:txBody>
      </p:sp>
      <p:graphicFrame>
        <p:nvGraphicFramePr>
          <p:cNvPr id="70" name=""/>
          <p:cNvGraphicFramePr/>
          <p:nvPr/>
        </p:nvGraphicFramePr>
        <p:xfrm>
          <a:off x="76320" y="2857680"/>
          <a:ext cx="8994600" cy="1544400"/>
        </p:xfrm>
        <a:graphic>
          <a:graphicData uri="http://schemas.openxmlformats.org/presentationml/2006/ole">
            <p:oleObj progId="Excel.Sheet.12" r:id="rId1" spid="">
              <p:embed/>
              <p:pic>
                <p:nvPicPr>
                  <p:cNvPr id="71" name="" descr=""/>
                  <p:cNvPicPr/>
                  <p:nvPr/>
                </p:nvPicPr>
                <p:blipFill>
                  <a:blip r:embed="rId2"/>
                  <a:stretch/>
                </p:blipFill>
                <p:spPr>
                  <a:xfrm>
                    <a:off x="76320" y="2857680"/>
                    <a:ext cx="8994600" cy="1544400"/>
                  </a:xfrm>
                  <a:prstGeom prst="rect">
                    <a:avLst/>
                  </a:prstGeom>
                  <a:ln w="0">
                    <a:noFill/>
                  </a:ln>
                </p:spPr>
              </p:pic>
            </p:oleObj>
          </a:graphicData>
        </a:graphic>
      </p:graphicFrame>
      <p:sp>
        <p:nvSpPr>
          <p:cNvPr id="72" name=""/>
          <p:cNvSpPr/>
          <p:nvPr/>
        </p:nvSpPr>
        <p:spPr>
          <a:xfrm>
            <a:off x="838080" y="3657600"/>
            <a:ext cx="83844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1599840" y="4571640"/>
            <a:ext cx="121932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752920" y="5592600"/>
            <a:ext cx="415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tributions were delayed until Nov00 Plenary in Tampa.</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3C7F982-EDF0-4DDA-A233-2E634AD9A136}" type="slidenum">
              <a:t>6</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Plan</a:t>
            </a:r>
            <a:endParaRPr b="0" lang="en-US" sz="3600" spc="-1" strike="noStrike">
              <a:solidFill>
                <a:srgbClr val="000000"/>
              </a:solidFill>
              <a:latin typeface="Times New Roman"/>
            </a:endParaRPr>
          </a:p>
        </p:txBody>
      </p:sp>
      <p:graphicFrame>
        <p:nvGraphicFramePr>
          <p:cNvPr id="76" name=""/>
          <p:cNvGraphicFramePr/>
          <p:nvPr/>
        </p:nvGraphicFramePr>
        <p:xfrm>
          <a:off x="380880" y="990720"/>
          <a:ext cx="7805880" cy="5456160"/>
        </p:xfrm>
        <a:graphic>
          <a:graphicData uri="http://schemas.openxmlformats.org/presentationml/2006/ole">
            <p:oleObj progId="Excel.Sheet.12" r:id="rId1" spid="">
              <p:embed/>
              <p:pic>
                <p:nvPicPr>
                  <p:cNvPr id="77" name="" descr=""/>
                  <p:cNvPicPr/>
                  <p:nvPr/>
                </p:nvPicPr>
                <p:blipFill>
                  <a:blip r:embed="rId2"/>
                  <a:stretch/>
                </p:blipFill>
                <p:spPr>
                  <a:xfrm>
                    <a:off x="380880" y="990720"/>
                    <a:ext cx="7805880" cy="54561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46398AE-8AAE-4B62-828D-727C0EB782C1}" type="slidenum">
              <a:t>7</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Plan (cont.)</a:t>
            </a:r>
            <a:endParaRPr b="0" lang="en-US" sz="3600" spc="-1" strike="noStrike">
              <a:solidFill>
                <a:srgbClr val="000000"/>
              </a:solidFill>
              <a:latin typeface="Times New Roman"/>
            </a:endParaRPr>
          </a:p>
        </p:txBody>
      </p:sp>
      <p:graphicFrame>
        <p:nvGraphicFramePr>
          <p:cNvPr id="79" name=""/>
          <p:cNvGraphicFramePr/>
          <p:nvPr/>
        </p:nvGraphicFramePr>
        <p:xfrm>
          <a:off x="457200" y="1967040"/>
          <a:ext cx="7815240" cy="4101840"/>
        </p:xfrm>
        <a:graphic>
          <a:graphicData uri="http://schemas.openxmlformats.org/presentationml/2006/ole">
            <p:oleObj progId="Excel.Sheet.12" r:id="rId1" spid="">
              <p:embed/>
              <p:pic>
                <p:nvPicPr>
                  <p:cNvPr id="80" name="" descr=""/>
                  <p:cNvPicPr/>
                  <p:nvPr/>
                </p:nvPicPr>
                <p:blipFill>
                  <a:blip r:embed="rId2"/>
                  <a:stretch/>
                </p:blipFill>
                <p:spPr>
                  <a:xfrm>
                    <a:off x="457200" y="1967040"/>
                    <a:ext cx="7815240" cy="4101840"/>
                  </a:xfrm>
                  <a:prstGeom prst="rect">
                    <a:avLst/>
                  </a:prstGeom>
                  <a:ln w="0">
                    <a:noFill/>
                  </a:ln>
                </p:spPr>
              </p:pic>
            </p:oleObj>
          </a:graphicData>
        </a:graphic>
      </p:graphicFrame>
      <p:grpSp>
        <p:nvGrpSpPr>
          <p:cNvPr id="81" name=""/>
          <p:cNvGrpSpPr/>
          <p:nvPr/>
        </p:nvGrpSpPr>
        <p:grpSpPr>
          <a:xfrm>
            <a:off x="438120" y="1600200"/>
            <a:ext cx="7828200" cy="307080"/>
            <a:chOff x="438120" y="1600200"/>
            <a:chExt cx="7828200" cy="307080"/>
          </a:xfrm>
        </p:grpSpPr>
        <p:sp>
          <p:nvSpPr>
            <p:cNvPr id="82" name=""/>
            <p:cNvSpPr/>
            <p:nvPr/>
          </p:nvSpPr>
          <p:spPr>
            <a:xfrm>
              <a:off x="438120" y="1600200"/>
              <a:ext cx="78282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MENT    TITLE               AUTHOR(S) PUB DATE  WG  TG1  TG2  TG3   SIZE          LINK</a:t>
              </a:r>
              <a:endParaRPr b="0" lang="en-US" sz="1400" spc="-1" strike="noStrike">
                <a:solidFill>
                  <a:srgbClr val="000000"/>
                </a:solidFill>
                <a:latin typeface="Times New Roman"/>
              </a:endParaRPr>
            </a:p>
          </p:txBody>
        </p:sp>
        <p:sp>
          <p:nvSpPr>
            <p:cNvPr id="83" name=""/>
            <p:cNvSpPr/>
            <p:nvPr/>
          </p:nvSpPr>
          <p:spPr>
            <a:xfrm>
              <a:off x="171756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97180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09716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07060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45148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6728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2448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74064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40880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C594475-5441-48B6-BA67-19B7F5D636B1}" type="slidenum">
              <a:t>8</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Plan (cont.)</a:t>
            </a:r>
            <a:endParaRPr b="0" lang="en-US" sz="3600" spc="-1" strike="noStrike">
              <a:solidFill>
                <a:srgbClr val="000000"/>
              </a:solidFill>
              <a:latin typeface="Times New Roman"/>
            </a:endParaRPr>
          </a:p>
        </p:txBody>
      </p:sp>
      <p:graphicFrame>
        <p:nvGraphicFramePr>
          <p:cNvPr id="93" name=""/>
          <p:cNvGraphicFramePr/>
          <p:nvPr/>
        </p:nvGraphicFramePr>
        <p:xfrm>
          <a:off x="457200" y="2143080"/>
          <a:ext cx="8364600" cy="3903840"/>
        </p:xfrm>
        <a:graphic>
          <a:graphicData uri="http://schemas.openxmlformats.org/presentationml/2006/ole">
            <p:oleObj progId="Excel.Sheet.12" r:id="rId1" spid="">
              <p:embed/>
              <p:pic>
                <p:nvPicPr>
                  <p:cNvPr id="94" name="" descr=""/>
                  <p:cNvPicPr/>
                  <p:nvPr/>
                </p:nvPicPr>
                <p:blipFill>
                  <a:blip r:embed="rId2"/>
                  <a:stretch/>
                </p:blipFill>
                <p:spPr>
                  <a:xfrm>
                    <a:off x="457200" y="2143080"/>
                    <a:ext cx="8364600" cy="3903840"/>
                  </a:xfrm>
                  <a:prstGeom prst="rect">
                    <a:avLst/>
                  </a:prstGeom>
                  <a:ln w="0">
                    <a:noFill/>
                  </a:ln>
                </p:spPr>
              </p:pic>
            </p:oleObj>
          </a:graphicData>
        </a:graphic>
      </p:graphicFrame>
      <p:sp>
        <p:nvSpPr>
          <p:cNvPr id="95" name=""/>
          <p:cNvSpPr/>
          <p:nvPr/>
        </p:nvSpPr>
        <p:spPr>
          <a:xfrm>
            <a:off x="433440" y="1600200"/>
            <a:ext cx="8280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MENT         TITLE               AUTHOR(S)     PUB DATE  WG  TG1  TG2  TG3   SIZE          LINK</a:t>
            </a:r>
            <a:endParaRPr b="0" lang="en-US" sz="1400" spc="-1" strike="noStrike">
              <a:solidFill>
                <a:srgbClr val="000000"/>
              </a:solidFill>
              <a:latin typeface="Times New Roman"/>
            </a:endParaRPr>
          </a:p>
        </p:txBody>
      </p:sp>
      <p:sp>
        <p:nvSpPr>
          <p:cNvPr id="96" name=""/>
          <p:cNvSpPr/>
          <p:nvPr/>
        </p:nvSpPr>
        <p:spPr>
          <a:xfrm>
            <a:off x="200484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25908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1972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5486400" y="1600200"/>
            <a:ext cx="2437920" cy="304920"/>
            <a:chOff x="5486400" y="1600200"/>
            <a:chExt cx="2437920" cy="304920"/>
          </a:xfrm>
        </p:grpSpPr>
        <p:sp>
          <p:nvSpPr>
            <p:cNvPr id="100" name=""/>
            <p:cNvSpPr/>
            <p:nvPr/>
          </p:nvSpPr>
          <p:spPr>
            <a:xfrm>
              <a:off x="548640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88348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1692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79392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22772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2432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ED02EA3-3063-485B-8ED7-FB37EF35F2D6}" type="slidenum">
              <a:t>9</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Ian C. Gifford</cp:lastModifiedBy>
  <cp:lastPrinted>1998-02-10T13:28:06Z</cp:lastPrinted>
  <dcterms:modified xsi:type="dcterms:W3CDTF">2000-10-04T20:20:16Z</dcterms:modified>
  <cp:revision>235</cp:revision>
  <dc:subject>IEEE 802.15 MC Report</dc:subject>
  <dc:title>IEEE P802.15 Working Group for Wireless Personal Area Networks</dc:title>
</cp:coreProperties>
</file>