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19B87-541E-4D2F-9A89-081431E41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653D0-32A4-45F4-9815-9D4465C8F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F709A-ACF7-46E4-BF1C-FE72C10E7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46E8C-2001-41FD-97D1-F57D1AA9A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E709A-F96C-4232-A585-4F38CEFF0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6801E-2A19-42ED-B3B1-5F22C0173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1C528-59F7-49AE-85A6-256141A58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B6B51-E2A3-410E-A9B8-69AC58AA9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A44D8-ED6F-4325-9609-64412B9CC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4057F-218B-48F2-8B90-7CD341DF8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1A28C-92E9-41C0-AF54-084C96216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887A8-F82B-47EA-8277-62FE3A287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379800"/>
            <a:ext cx="29718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55272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521240" y="6552720"/>
            <a:ext cx="177840" cy="1828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8AF5-3C55-40B9-B37C-57A75ABCD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82880"/>
            <a:ext cx="3962520" cy="42660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197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6520" y="647712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990720"/>
            <a:ext cx="8077320" cy="5169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802.15 Working Group for Wireless Personal Area Networks (WPAN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LCW Proposal for High Rate WPAN Combined PHY and MAC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5 September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1" lang="en-US" sz="1400" spc="-1" strike="noStrike">
                <a:solidFill>
                  <a:srgbClr val="000000"/>
                </a:solidFill>
                <a:latin typeface="Times New Roman"/>
              </a:rPr>
              <a:t>	</a:t>
            </a:r>
            <a:r>
              <a:rPr b="0" lang="en-US" sz="1400" spc="-1" strike="noStrike">
                <a:solidFill>
                  <a:srgbClr val="000000"/>
                </a:solidFill>
                <a:latin typeface="Times New Roman"/>
              </a:rPr>
              <a:t>Name [Carlos Rios ] </a:t>
            </a:r>
            <a:r>
              <a:rPr b="0" lang="en-US" sz="1400" spc="-1" strike="noStrike">
                <a:solidFill>
                  <a:srgbClr val="000000"/>
                </a:solidFill>
                <a:latin typeface="Times New Roman"/>
              </a:rPr>
              <a:t>	</a:t>
            </a:r>
            <a:r>
              <a:rPr b="0" lang="en-US" sz="1400" spc="-1" strike="noStrike">
                <a:solidFill>
                  <a:srgbClr val="000000"/>
                </a:solidFill>
                <a:latin typeface="Times New Roman"/>
              </a:rPr>
              <a:t>Company [LinCom Wireless, Inc.]</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dress [5120 W Goldleaf Circle, Ste 400, Los Angeles, CA 90056]</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ce:[408 202 6294], FAX: [408 399 9704], E-Mail:[riosc@lincom.co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A joint PHY and MAC proposal by LinCom Wireless, Inc., for a 1 to 40 Mbps WPAN operating in the 2.4 GHz band, Revision 2]</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the High Rate WPAN CF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os Rios, LinCom Wireless, Inc</a:t>
            </a:r>
          </a:p>
        </p:txBody>
      </p:sp>
      <p:sp>
        <p:nvSpPr>
          <p:cNvPr id="3" name="PlaceHolder 2"/>
          <p:cNvSpPr>
            <a:spLocks noGrp="1"/>
          </p:cNvSpPr>
          <p:nvPr>
            <p:ph type="sldNum" idx="3"/>
          </p:nvPr>
        </p:nvSpPr>
        <p:spPr/>
        <p:txBody>
          <a:bodyPr/>
          <a:p>
            <a:fld id="{1AFFDCAD-D779-4EF2-ABDA-42EFC0D521E6}" type="slidenum">
              <a:t>1</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Medium Access</a:t>
            </a:r>
            <a:endParaRPr b="0" lang="en-US" sz="3600" spc="-1" strike="noStrike">
              <a:solidFill>
                <a:srgbClr val="000000"/>
              </a:solidFill>
              <a:latin typeface="Times New Roman"/>
            </a:endParaRPr>
          </a:p>
        </p:txBody>
      </p:sp>
      <p:sp>
        <p:nvSpPr>
          <p:cNvPr id="6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152280" y="1066680"/>
            <a:ext cx="876312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MAC protocol remains DCF, or CSMA/CA with “Enhanced ACK” (EACK) and retransmission using “Enhanced ARQ” (EARQ)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Q provides for retransmission of only those RS blocks received with uncorrectable erro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K indicates the specific RS blocks to be retransmitt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PCF protocol uses “Poll with EACK, EARQ” as a basis for an adaptive hybrid TDMA-CSMA/CA scheme that can support Q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Access- Master alternately transmits packets to distinct Slav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iconet (BSS) of one Master (AP) and multiple Slaves (clie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initially establishing a network becomes the Mast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ster may later switch roles with a designated Slave</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aster Assignment” frame promotes the Slave, transfers the Access Control List to avoid need for reregistration of the other Slave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 attributes can be used to select the “best” Master for a piconet</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 Line powered, Power Save packet buffering support</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ourcing, sinking capability</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powered, SDRAM rich Portal makes the best Mast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0DD2BFE5-82FC-45C3-ACC1-2FB96491A0B8}"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Master Operation</a:t>
            </a:r>
            <a:endParaRPr b="0" lang="en-US" sz="3600" spc="-1" strike="noStrike">
              <a:solidFill>
                <a:srgbClr val="000000"/>
              </a:solidFill>
              <a:latin typeface="Times New Roman"/>
            </a:endParaRPr>
          </a:p>
        </p:txBody>
      </p:sp>
      <p:sp>
        <p:nvSpPr>
          <p:cNvPr id="7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04920" y="1219320"/>
            <a:ext cx="8534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F and PCF modes use identical 802.11 timing relationships (SIFS, DIFS, PIF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ization is determined using Automatic Channel Sele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work initiator/Master Active Scans (issues Probe Requests) to find a clear channel and there starts transmitting Beac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laves Active Scan to find the initiator/Master as they come onli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 channel later degrade, the Master may decide to move</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aceful” degradation lets Master find new channel and notify slaves for a coordinated frequency shift</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brupt” link loss forces Master to move, slaves to then find hi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line or disabled Master will be replaced by one of his Slav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Beacons, unACKed transmissions determine Master lo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lave needing to transmit will issue Beacons and prepare to register and authenticate the other orphaned Slav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phaned Slaves proceed to associate with the new Mast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1400DDAE-69B2-46FC-AB88-FD7E39056727}"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Network Join, Unjoin</a:t>
            </a:r>
            <a:endParaRPr b="0" lang="en-US" sz="3600" spc="-1" strike="noStrike">
              <a:solidFill>
                <a:srgbClr val="000000"/>
              </a:solidFill>
              <a:latin typeface="Times New Roman"/>
            </a:endParaRPr>
          </a:p>
        </p:txBody>
      </p:sp>
      <p:sp>
        <p:nvSpPr>
          <p:cNvPr id="7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57200" y="1295280"/>
            <a:ext cx="8458200" cy="4800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like Association services provide for simple network Join, Unjoi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Active Scan upon activation (Probe Request, Respon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issue Enhanced Association Request (EAR) to desired Master</a:t>
            </a:r>
            <a:endParaRPr b="0" lang="en-US" sz="2000" spc="-1" strike="noStrike">
              <a:solidFill>
                <a:srgbClr val="000000"/>
              </a:solidFill>
              <a:latin typeface="Times New Roman"/>
            </a:endParaRPr>
          </a:p>
          <a:p>
            <a:pPr lvl="2" marL="108576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includes device attribute information so that the best Master can be identified for possible later Assign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grants piconet access with an Association Respons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to 32 Slaves at a time can be Associated with one Mast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can broadcast a packet to multiple Slaves (Point to Multipoi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Slaves can talk directly to each other, bypassing the Mast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ing Slave sends Reassociation frame to desired recipient Slav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ient verifies the common Master, sends Reassociation respon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to Peer link is active until either party requests Disassoci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CC5A7346-9265-4E1B-957F-DF4F710C9D77}"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Security</a:t>
            </a:r>
            <a:endParaRPr b="0" lang="en-US" sz="3600" spc="-1" strike="noStrike">
              <a:solidFill>
                <a:srgbClr val="000000"/>
              </a:solidFill>
              <a:latin typeface="Times New Roman"/>
            </a:endParaRPr>
          </a:p>
        </p:txBody>
      </p:sp>
      <p:sp>
        <p:nvSpPr>
          <p:cNvPr id="7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28600" y="1143000"/>
            <a:ext cx="8763120" cy="5257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MAC security protocols are designed to “undo all the security damage” of eliminating cables and embracing wireless connectivit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LCW-capable device features a unique, secret factory assigned signature in addition to its MAC addres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vice “Registers” with the Master upon first network access. Regis-tration can be unaided or require user intervention at one or both end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Registration the device is Authorized (added to the ACL) to access the network in the future, under the control of the Mast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subsequent network access the device undergoes Authentication to prove he is the authorized accessor, likely with a secure exchange (Diffie Helman) of MAC Address and secret signatu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may demand “Reverse” or Mutual Authentication from the Master, to ensure that he is indeed accessing the network of interes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ret shared session key is automatically generated at both en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to enter PIN numbers or manual keys, ever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communications privacy by strongly encrypting (128b RC4) exchanged messag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DD2C1DEA-97C2-42C8-AA65-0CB51714DDF8}"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QOS</a:t>
            </a:r>
            <a:endParaRPr b="0" lang="en-US" sz="3600" spc="-1" strike="noStrike">
              <a:solidFill>
                <a:srgbClr val="000000"/>
              </a:solidFill>
              <a:latin typeface="Times New Roman"/>
            </a:endParaRPr>
          </a:p>
        </p:txBody>
      </p:sp>
      <p:sp>
        <p:nvSpPr>
          <p:cNvPr id="8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80880" y="14479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support in-home distribution of voice, audio, video and interactive multimedi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ingle Portal” model for distribution of content likely originating beyond the piconet, either real time broadcast or stored/cach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F eliminates collisions, backoffs, retr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ization, bandwidth and latency guarantees support streaming applicat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aware Master balances Automatic Channel Selection and Data Rate Shifting to ensure connectivity and throughput when the channel degrad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T&amp;T, ShareWave and Lucent proposal for 802.11e QOS supports these services (and mor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QOS MAC will “streamline” this proposal as needed to focus solely on the home wireless interactive multimedia distribution proble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1C4C9AF2-D0FA-407B-8543-ABD347771412}"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General</a:t>
            </a:r>
            <a:endParaRPr b="0" lang="en-US" sz="3600" spc="-1" strike="noStrike">
              <a:solidFill>
                <a:srgbClr val="000000"/>
              </a:solidFill>
              <a:latin typeface="Times New Roman"/>
            </a:endParaRPr>
          </a:p>
        </p:txBody>
      </p:sp>
      <p:sp>
        <p:nvSpPr>
          <p:cNvPr id="8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28600" y="1219320"/>
            <a:ext cx="8763120" cy="358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Data Rate Shift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biased to operate at highest data rate possibl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channel degrades, automatically downshifts to lower rate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s to QOS prioritization, bandwidth, latency contracts under PCF</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negotiate low power “sleep” intervals with Master</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er number of Beacon Interval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power down, except for time-keeping functions to wake up</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buffers all incoming packets for sleeping Slaves until they awake and reestablish active link</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s message buffering capability depends on its Device Type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maintain a network connection while in Power Save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can sleep for seconds before waking to poll for stored dat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ming, fragmentation, RTS/CTS, 802.11 adhoc are not supporte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4D07163F-41CA-4845-9A61-C18A8BF9B815}"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57200" y="1600200"/>
            <a:ext cx="8305920" cy="4495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Unit Manufacturing Cost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intimately associated with specific MAC, PHY implement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BB/RF Conversion architecture minimizes BOM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ay silicon technology supports single chip integration of</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Zero IF transceivers at 2.4 GHz</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nQAM modems, adaptive equalizers, RS FEC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IP processors suitable for software 802.11-like MACs, including encryption, QO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peed SR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u CMOS process is available in low cost fabrication facilit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odule available Q401 for &lt;1.5x 802.15.1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210AF8B3-D3BC-4CE8-AE88-18F8D9A9A46F}"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9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990720" y="13716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 Interference and Susceptibilit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band, Non-Cochannel, Non-Adjacent Channel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 of Band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 Intermodulation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IP3 of representative RF front end= -3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level produced by 2 -35 dBm tones= -99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 level, LCW-40= -77 dBm (Sensitivity +3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LCW-40= 22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 Jamming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evices will j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87E6878D-8ABE-4BBF-9B8E-52C9EE5A78E2}"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9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09480" y="1295280"/>
            <a:ext cx="800100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Multiple Acc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cenarios work with LCW-30, 4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 Coexiste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gt; 80% with devices 1, 2</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100% with devices 3, 4, 5</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 Interope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802.15.1 PHY and MAC is embedded into LCW, achieving a dual mode radio switchable between 802.15.1 and 802.15.3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1 Manufactu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equipment of similar complexity available in 200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646BF614-2678-4B2B-9121-59DD14B11DBE}"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10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609480" y="1219320"/>
            <a:ext cx="807732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2 Time to Mark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will be available Q40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 Regulatory Compliant with existing FCC (15.249), ETSI 300-32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 Maturity of 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a reduction, extension of 802.11b PHY and 802.11 M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5 Scalabi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scalable in data rate, frequency band, and fun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 Location Awaren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I statistics distinguish device locations to resolution in me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3B27DF5-8586-4319-BE2C-56DF163E70B7}"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CW</a:t>
            </a:r>
            <a:br>
              <a:rPr sz="3600"/>
            </a:br>
            <a:r>
              <a:rPr b="1" lang="en-US" sz="3600" spc="-1" strike="noStrike">
                <a:solidFill>
                  <a:srgbClr val="000000"/>
                </a:solidFill>
                <a:latin typeface="Arial"/>
              </a:rPr>
              <a:t> A Proposal for a High Data Rate WPAN in the 2.4 GHz Band</a:t>
            </a:r>
            <a:endParaRPr b="0" lang="en-US" sz="3600" spc="-1" strike="noStrike">
              <a:solidFill>
                <a:srgbClr val="000000"/>
              </a:solidFill>
              <a:latin typeface="Times New Roman"/>
            </a:endParaRPr>
          </a:p>
        </p:txBody>
      </p:sp>
      <p:grpSp>
        <p:nvGrpSpPr>
          <p:cNvPr id="47" name=""/>
          <p:cNvGrpSpPr/>
          <p:nvPr/>
        </p:nvGrpSpPr>
        <p:grpSpPr>
          <a:xfrm>
            <a:off x="3733920" y="5410080"/>
            <a:ext cx="1752480" cy="685800"/>
            <a:chOff x="3733920" y="5410080"/>
            <a:chExt cx="1752480" cy="685800"/>
          </a:xfrm>
        </p:grpSpPr>
        <p:graphicFrame>
          <p:nvGraphicFramePr>
            <p:cNvPr id="48" name=""/>
            <p:cNvGraphicFramePr/>
            <p:nvPr/>
          </p:nvGraphicFramePr>
          <p:xfrm>
            <a:off x="3733920" y="5410080"/>
            <a:ext cx="1752480" cy="659520"/>
          </p:xfrm>
          <a:graphic>
            <a:graphicData uri="http://schemas.openxmlformats.org/presentationml/2006/ole">
              <p:oleObj r:id="rId1" spid="">
                <p:embed/>
                <p:pic>
                  <p:nvPicPr>
                    <p:cNvPr id="49" name="" descr=""/>
                    <p:cNvPicPr/>
                    <p:nvPr/>
                  </p:nvPicPr>
                  <p:blipFill>
                    <a:blip r:embed="rId2"/>
                    <a:stretch/>
                  </p:blipFill>
                  <p:spPr>
                    <a:xfrm>
                      <a:off x="3733920" y="5410080"/>
                      <a:ext cx="1752480" cy="659520"/>
                    </a:xfrm>
                    <a:prstGeom prst="rect">
                      <a:avLst/>
                    </a:prstGeom>
                    <a:ln w="0">
                      <a:noFill/>
                    </a:ln>
                  </p:spPr>
                </p:pic>
              </p:oleObj>
            </a:graphicData>
          </a:graphic>
        </p:graphicFrame>
        <p:graphicFrame>
          <p:nvGraphicFramePr>
            <p:cNvPr id="50" name=""/>
            <p:cNvGraphicFramePr/>
            <p:nvPr/>
          </p:nvGraphicFramePr>
          <p:xfrm>
            <a:off x="3733920" y="5865840"/>
            <a:ext cx="1752480" cy="230040"/>
          </p:xfrm>
          <a:graphic>
            <a:graphicData uri="http://schemas.openxmlformats.org/presentationml/2006/ole">
              <p:oleObj r:id="rId3" spid="">
                <p:embed/>
                <p:pic>
                  <p:nvPicPr>
                    <p:cNvPr id="51" name="" descr=""/>
                    <p:cNvPicPr/>
                    <p:nvPr/>
                  </p:nvPicPr>
                  <p:blipFill>
                    <a:blip r:embed="rId4"/>
                    <a:stretch/>
                  </p:blipFill>
                  <p:spPr>
                    <a:xfrm>
                      <a:off x="3733920" y="5865840"/>
                      <a:ext cx="1752480" cy="230040"/>
                    </a:xfrm>
                    <a:prstGeom prst="rect">
                      <a:avLst/>
                    </a:prstGeom>
                    <a:ln w="0">
                      <a:noFill/>
                    </a:ln>
                  </p:spPr>
                </p:pic>
              </p:oleObj>
            </a:graphicData>
          </a:graphic>
        </p:graphicFrame>
      </p:gr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999919A1-3838-480A-B62F-C1C107ECC19A}"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0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14400" y="1219320"/>
            <a:ext cx="769608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 Fully Transparent to Upper Protocol Lay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1 Unique 48 bit Addr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2 Simple Network Join/Unjo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style Association, Disassociation for non hopping PHY is much simpler than that of 802.15.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 Device Registr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ble from Automatic Admit-All, to Automatic by Device Type, to various levels of Restricted Ac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2 Minimum Delivered Data Throughpu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3 High End Delivered Data Throughpu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CF05A35F-FC80-45FE-AAA5-0E6B757E76DA}"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1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62120" y="1371600"/>
            <a:ext cx="807696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Data Transfer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F, asynchronous and isochronous on a per packet basi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1 Topologies supported: point/multipoint, point/point, peer/pe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2 Maximum number of Active Connections &gt; 1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3 Ad Hoc Networks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4 Access to a Portal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2 Master Redundancy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3 Loss of Connection Detection and Recovery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5856D93B-DE67-426B-A907-EDA0D4926712}"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1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14400" y="1143000"/>
            <a:ext cx="7391520" cy="4952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 Power Management as in 802.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in deep sleep maintain active piconet connec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 MAC Controller power consump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with 1.5W system power consump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1 Authent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poof-proof) mutual authent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2 Privac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Encryption (128b RC4)</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transparent encryption key generation, distribution, and mainten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0 QOS equivalent to 802.11e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F3B70F7D-D37F-4F7F-B952-3F9102C76438}"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PHY Criteria</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219320"/>
            <a:ext cx="7772400" cy="4572000"/>
          </a:xfrm>
          <a:prstGeom prst="rect">
            <a:avLst/>
          </a:prstGeom>
          <a:noFill/>
          <a:ln w="0">
            <a:noFill/>
          </a:ln>
        </p:spPr>
        <p:txBody>
          <a:bodyPr lIns="92160" rIns="92160" tIns="46080" bIns="4608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 Size and Form Factor</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than Compact Flash Type 1, Q401</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1</a:t>
            </a:r>
            <a:endParaRPr b="0" lang="en-US" sz="18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1 Minimum Delivered Data Throughput</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 Header, MAC header, Payload, SIFS, EACK, DIF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40, 1400 B payload = 21.56 Mbp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30, 2000 B payload = 20.61 Mbp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20, 8000 B payload = 18.55 Mbp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1 </a:t>
            </a:r>
            <a:endParaRPr b="0" lang="en-US" sz="18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2 High End Delivered Data Throughput</a:t>
            </a:r>
            <a:endParaRPr b="0" lang="en-US" sz="20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 Header, MAC header, Payload, SIFS, EACK, DIF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40, 8000B payload = 34.79 Mbp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0</a:t>
            </a:r>
            <a:endParaRPr b="0" lang="en-US" sz="18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Frequency Band of Operation 2.40-2.483 GHz, unlicensed</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0</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4987DD8-CFA1-42BD-8AE2-29E0EA19CB90}"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PHY Criteria</a:t>
            </a:r>
            <a:endParaRPr b="0" lang="en-US" sz="3600" spc="-1" strike="noStrike">
              <a:solidFill>
                <a:srgbClr val="000000"/>
              </a:solidFill>
              <a:latin typeface="Times New Roman"/>
            </a:endParaRPr>
          </a:p>
        </p:txBody>
      </p:sp>
      <p:sp>
        <p:nvSpPr>
          <p:cNvPr id="12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14400" y="1371600"/>
            <a:ext cx="716292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838080" y="1143000"/>
            <a:ext cx="7925040" cy="5430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Number of simultaneously operating full rate WPANs</a:t>
            </a:r>
            <a:endParaRPr b="0" lang="en-US" sz="2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LCW-40s can operate with slight frequency overlap</a:t>
            </a:r>
            <a:endParaRPr b="0" lang="en-US" sz="2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Signal Acquisition identical to 802.11</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 Range not less than 30 meters, indoors (hom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EC plus equalization provide necessary rang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 Sensitivity, 10E-5 BER</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0= -86 dBm</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30= -83 dBm</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80 dB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Multipath Tolerance</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equalizer mitigates &gt; 50ns delay spread</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 PHY Power Consumption consistent with 1.5 W system power</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096958B5-460F-4EBF-AB52-782D9AF69414}"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838080"/>
            <a:ext cx="87631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CW-20 Performance- AWGN, 50ns DS Multipath</a:t>
            </a:r>
            <a:endParaRPr b="0" lang="en-US" sz="3200" spc="-1" strike="noStrike">
              <a:solidFill>
                <a:srgbClr val="000000"/>
              </a:solidFill>
              <a:latin typeface="Times New Roman"/>
            </a:endParaRPr>
          </a:p>
        </p:txBody>
      </p:sp>
      <p:graphicFrame>
        <p:nvGraphicFramePr>
          <p:cNvPr id="126" name=""/>
          <p:cNvGraphicFramePr/>
          <p:nvPr/>
        </p:nvGraphicFramePr>
        <p:xfrm>
          <a:off x="838080" y="1371600"/>
          <a:ext cx="7477200" cy="5029200"/>
        </p:xfrm>
        <a:graphic>
          <a:graphicData uri="http://schemas.openxmlformats.org/presentationml/2006/ole">
            <p:oleObj r:id="rId1" spid="">
              <p:embed/>
              <p:pic>
                <p:nvPicPr>
                  <p:cNvPr id="127" name="" descr=""/>
                  <p:cNvPicPr/>
                  <p:nvPr/>
                </p:nvPicPr>
                <p:blipFill>
                  <a:blip r:embed="rId2"/>
                  <a:stretch/>
                </p:blipFill>
                <p:spPr>
                  <a:xfrm>
                    <a:off x="838080" y="1371600"/>
                    <a:ext cx="7477200" cy="502920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55FEFC15-11D8-4147-B419-BCFFA2525D25}" type="slidenum">
              <a:t>25</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44792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provides for robust 1, 2, 10, 20, 30 and 40 Mbps WPAN communications in the 2.4 GHz b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based upon mature 802.11 and 802.15.1 techn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manufacturable at near Bluetooth cost poi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nteroperates with 802.15.1 and 802.11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LCW MAC provides ease of use, scalability, high throughput, low latency, flexible network topology, and reliable, power efficient communic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also supports advanced security and Q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provides for small, cost effective, high performance and low power digital wireless commun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an ideal candidate for the 802.15.3 High Rate WPAN standar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531BB545-5FAA-4E58-B500-68ADDD175F9C}"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LinCom Wireless, Inc.</a:t>
            </a:r>
            <a:endParaRPr b="0" lang="en-US" sz="3600" spc="-1" strike="noStrike">
              <a:solidFill>
                <a:srgbClr val="000000"/>
              </a:solidFill>
              <a:latin typeface="Times New Roman"/>
            </a:endParaRPr>
          </a:p>
        </p:txBody>
      </p:sp>
      <p:sp>
        <p:nvSpPr>
          <p:cNvPr id="53"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ly the Commercial Business Units of LinCom Cor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un off as a separate corporation in April 2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ly owned subsidiary of Titan Corpo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year history of developing Satellite and Terrestrial Digital Wireless Communications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technical professionals dedicated to Systems Engineering, ASIC and embedded software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IP, ASICs, FW and board/module level products for Wireless LAN, PAN and Home Network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ystems Engineering services in commercial SatCom, PCS and short range wireless marke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C29C13C9-1907-45A8-8FFD-BE13488540E8}"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533520"/>
            <a:ext cx="89913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ireless Home Network Application</a:t>
            </a:r>
            <a:endParaRPr b="0" lang="en-US" sz="3600" spc="-1" strike="noStrike">
              <a:solidFill>
                <a:srgbClr val="000000"/>
              </a:solidFill>
              <a:latin typeface="Times New Roman"/>
            </a:endParaRPr>
          </a:p>
        </p:txBody>
      </p:sp>
      <p:sp>
        <p:nvSpPr>
          <p:cNvPr id="55" name="PlaceHolder 2"/>
          <p:cNvSpPr>
            <a:spLocks noGrp="1"/>
          </p:cNvSpPr>
          <p:nvPr>
            <p:ph/>
          </p:nvPr>
        </p:nvSpPr>
        <p:spPr>
          <a:xfrm>
            <a:off x="837720" y="1523880"/>
            <a:ext cx="7589880" cy="4648320"/>
          </a:xfrm>
          <a:prstGeom prst="rect">
            <a:avLst/>
          </a:prstGeom>
          <a:noFill/>
          <a:ln w="0">
            <a:noFill/>
          </a:ln>
        </p:spPr>
        <p:txBody>
          <a:bodyPr lIns="92160" rIns="92160" tIns="46080" bIns="460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e the wireless interconnection of electronic devices within the hom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m range, including thru-wall propag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nd high speed throughpu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and non-real time data</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imultaneous connections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ioritization and guaranteed bandwidth, latenc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coexistence, interoperability, coordination between all home wireless devic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 and perhaps interoperate with “visiting” or legacy devices designed to other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CB7B9310-C30E-4C3C-85DA-6CEA14965172}"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ystems”</a:t>
            </a:r>
            <a:r>
              <a:rPr b="0" lang="en-US" sz="3200" spc="-1" strike="noStrike">
                <a:solidFill>
                  <a:srgbClr val="000000"/>
                </a:solidFill>
                <a:latin typeface="Times New Roman"/>
              </a:rPr>
              <a:t> </a:t>
            </a:r>
            <a:r>
              <a:rPr b="0" lang="en-US" sz="3600" spc="-1" strike="noStrike">
                <a:solidFill>
                  <a:srgbClr val="000000"/>
                </a:solidFill>
                <a:latin typeface="Times New Roman"/>
              </a:rPr>
              <a:t>Implications</a:t>
            </a:r>
            <a:endParaRPr b="0" lang="en-US" sz="3600" spc="-1" strike="noStrike">
              <a:solidFill>
                <a:srgbClr val="000000"/>
              </a:solidFill>
              <a:latin typeface="Times New Roman"/>
            </a:endParaRPr>
          </a:p>
        </p:txBody>
      </p:sp>
      <p:sp>
        <p:nvSpPr>
          <p:cNvPr id="57" name="PlaceHolder 2"/>
          <p:cNvSpPr>
            <a:spLocks noGrp="1"/>
          </p:cNvSpPr>
          <p:nvPr>
            <p:ph/>
          </p:nvPr>
        </p:nvSpPr>
        <p:spPr>
          <a:xfrm>
            <a:off x="152280" y="1371600"/>
            <a:ext cx="8839440" cy="449568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ata rate, low latency fully networked digital radio communications in the indoor multipath propagation channel</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nexpensive, too</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taneous asynchronous data, voice, video and interactive multimedia links</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Mbps+ sustained, low latency throughput </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 spreads of 20-50 ns for a typical SFH, thru wall/floor</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ful equalization and FEC needed to minimize irreducible error floors characteristic of the propagation channel</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Q protocols essential to deal with inevitable lost packets</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grated LCW PHY and MAC proposed herein addresses all these demanding, conflicting require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A4A3B17-2A48-4868-A47F-38CE680BCEB1}"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533160"/>
            <a:ext cx="68659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Description</a:t>
            </a:r>
            <a:endParaRPr b="0" lang="en-US" sz="3600" spc="-1" strike="noStrike">
              <a:solidFill>
                <a:srgbClr val="000000"/>
              </a:solidFill>
              <a:latin typeface="Times New Roman"/>
            </a:endParaRPr>
          </a:p>
        </p:txBody>
      </p:sp>
      <p:sp>
        <p:nvSpPr>
          <p:cNvPr id="59" name="PlaceHolder 2"/>
          <p:cNvSpPr>
            <a:spLocks noGrp="1"/>
          </p:cNvSpPr>
          <p:nvPr>
            <p:ph/>
          </p:nvPr>
        </p:nvSpPr>
        <p:spPr>
          <a:xfrm>
            <a:off x="304920" y="1219320"/>
            <a:ext cx="8534160" cy="5029200"/>
          </a:xfrm>
          <a:prstGeom prst="rect">
            <a:avLst/>
          </a:prstGeom>
          <a:noFill/>
          <a:ln w="0">
            <a:noFill/>
          </a:ln>
        </p:spPr>
        <p:txBody>
          <a:bodyPr lIns="92160" rIns="92160" tIns="46080" bIns="4608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W PHY provides high throughput and low latency</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d nQAM signaling provides data rates of 1, 2, 10, 20, 30, 40 Mbps</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equalization, FEC improve range and high end throughput</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operation per FCC 15.249</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le with IEEE 802.11DS, coexists with on-channel 802.11b</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802.15.1 modem provides interoperability with Bluetooth</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luetooth class” device in size, cost, power consumption</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W MAC provides enhanced security and QOS, 802.15.1 support</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ns 802.11 CSMA/CA, DCF and PCF</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 Slave (client) to Master (AP) “morphing”, direct Slave to Slave links</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ecurity features device registration, authorization, mutual authentication, 128 bit encryption and user transparent key maintenance</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voice, audio, video and interactive multimedia support</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Bluetooth MAC included to support a dual mode 802.15.1/3 radio</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94A633C4-E677-49BE-9A89-9C8713FEF7D5}"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Modulation</a:t>
            </a:r>
            <a:endParaRPr b="0" lang="en-US" sz="3600" spc="-1" strike="noStrike">
              <a:solidFill>
                <a:srgbClr val="000000"/>
              </a:solidFill>
              <a:latin typeface="Times New Roman"/>
            </a:endParaRPr>
          </a:p>
        </p:txBody>
      </p:sp>
      <p:sp>
        <p:nvSpPr>
          <p:cNvPr id="61" name="PlaceHolder 2"/>
          <p:cNvSpPr>
            <a:spLocks noGrp="1"/>
          </p:cNvSpPr>
          <p:nvPr>
            <p:ph/>
          </p:nvPr>
        </p:nvSpPr>
        <p:spPr>
          <a:xfrm>
            <a:off x="914400" y="1371240"/>
            <a:ext cx="7772400" cy="48769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1 is 1 Mbps (11 chip) Barker encoded DBPS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 is 2 Mbps (11 chip) Barker encoded DQPS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10 is 10 Mbps RS(220,200) encoded  DBPS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0 is 20 Mbps RS(220,200) encoded  DQPS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30 is 30 Mbps RS(220,200) encoded  8QAM</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is 40 Mbps RS(220,200) encoded  16QAM</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roduce 11 MSps 802.11 DSSS-like 22 MHz spectrum</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use the 802.11 PLCP header, with appropriate service field extensions, and slightly different preambles</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1, 2, 10 and 20 use the identical 802.11b 96 us short preamble</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30 uses a 96 us preamble featuring DBPSK, DQPSK and 8QAM symbols to aid equalizer training</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40 uses a 96 us preamble featuring DBPSK, DQPSK and 16QAM symbols to aid equalizer training</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2C4E33F0-8EDD-4CD7-AD53-22E1958BFD57}"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Channelization</a:t>
            </a:r>
            <a:endParaRPr b="0" lang="en-US" sz="3600" spc="-1" strike="noStrike">
              <a:solidFill>
                <a:srgbClr val="000000"/>
              </a:solidFill>
              <a:latin typeface="Times New Roman"/>
            </a:endParaRPr>
          </a:p>
        </p:txBody>
      </p:sp>
      <p:sp>
        <p:nvSpPr>
          <p:cNvPr id="63" name="PlaceHolder 2"/>
          <p:cNvSpPr>
            <a:spLocks noGrp="1"/>
          </p:cNvSpPr>
          <p:nvPr>
            <p:ph/>
          </p:nvPr>
        </p:nvSpPr>
        <p:spPr>
          <a:xfrm>
            <a:off x="762120" y="1371600"/>
            <a:ext cx="7696080" cy="4495680"/>
          </a:xfrm>
          <a:prstGeom prst="rect">
            <a:avLst/>
          </a:prstGeom>
          <a:noFill/>
          <a:ln w="0">
            <a:noFill/>
          </a:ln>
        </p:spPr>
        <p:txBody>
          <a:bodyPr lIns="92160" rIns="92160" tIns="46080" bIns="46080"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ization</a:t>
            </a:r>
            <a:endParaRPr b="0" lang="en-US" sz="20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overlapping 20 MHz channels </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 2412, 2432, 2452, 2472 MHz</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Hz overlap on each side</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802.11b European Overlapped Channelization </a:t>
            </a:r>
            <a:endParaRPr b="0" lang="en-US" sz="1800" spc="-1" strike="noStrike">
              <a:solidFill>
                <a:srgbClr val="000000"/>
              </a:solidFill>
              <a:latin typeface="Arial"/>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tandard 25 MHz channels </a:t>
            </a:r>
            <a:endParaRPr b="0" lang="en-US" sz="20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 2412, 2437, 2462 MHz</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802.11 USA Non Overlapped Channelization</a:t>
            </a:r>
            <a:endParaRPr b="0" lang="en-US" sz="1800" spc="-1" strike="noStrike">
              <a:solidFill>
                <a:srgbClr val="000000"/>
              </a:solidFill>
              <a:latin typeface="Arial"/>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et Raised Cosine pulse shaping </a:t>
            </a:r>
            <a:endParaRPr b="0" lang="en-US" sz="20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sidebands by more than 50 dBc</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compliance with US FCC emissions limits above 2.835 MHz </a:t>
            </a:r>
            <a:endParaRPr b="0" lang="en-US" sz="18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A mechanism is identical to 802.11 </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5.5 and 11 Mbps CCK, PBCC are not supported</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802.15.1 PHY is included, is mode switchable with LCW</a:t>
            </a:r>
            <a:endParaRPr b="0" lang="en-US" sz="20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architecture supports both QAM and GFSK up/down conversion</a:t>
            </a:r>
            <a:endParaRPr b="0" lang="en-US" sz="18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band hardware includes both 802.15.3 and 802.15.1 modem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1B2E7595-2D38-4DEC-A0F4-2AA68E37E619}"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Equalization, FEC and ARQ</a:t>
            </a:r>
            <a:endParaRPr b="0" lang="en-US" sz="3600" spc="-1" strike="noStrike">
              <a:solidFill>
                <a:srgbClr val="000000"/>
              </a:solidFill>
              <a:latin typeface="Times New Roman"/>
            </a:endParaRPr>
          </a:p>
        </p:txBody>
      </p:sp>
      <p:sp>
        <p:nvSpPr>
          <p:cNvPr id="65" name="PlaceHolder 2"/>
          <p:cNvSpPr>
            <a:spLocks noGrp="1"/>
          </p:cNvSpPr>
          <p:nvPr>
            <p:ph/>
          </p:nvPr>
        </p:nvSpPr>
        <p:spPr>
          <a:xfrm>
            <a:off x="228240" y="1218960"/>
            <a:ext cx="8534520" cy="510516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ful equalizer minimizes and “whitens” the burst errors characteristic of the 20-50 ns Delay Spread “Naftali” channel</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ges as rapidly as possible to the precise channel estimate (less the multipath components) and tracks for the packet duration</a:t>
            </a:r>
            <a:endParaRPr b="0" lang="en-US" sz="2000" spc="-1" strike="noStrike">
              <a:solidFill>
                <a:srgbClr val="000000"/>
              </a:solidFill>
              <a:latin typeface="Arial"/>
            </a:endParaRPr>
          </a:p>
          <a:p>
            <a:pPr lvl="2" marL="106380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PHY preamble of adequate length (hundreds of symbols) to train equalizer and generate the appropriate tap coefficients</a:t>
            </a:r>
            <a:endParaRPr b="0" lang="en-US" sz="1800" spc="-1" strike="noStrike">
              <a:solidFill>
                <a:srgbClr val="000000"/>
              </a:solidFill>
              <a:latin typeface="Arial"/>
            </a:endParaRPr>
          </a:p>
          <a:p>
            <a:pPr lvl="2" marL="106380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ontinuously adapt, update coefficients, symbol by symbol, over the entire duration of the frame (up to 8000 Bytes)</a:t>
            </a:r>
            <a:endParaRPr b="0" lang="en-US" sz="18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Block Code “localizes” if not corrects whitened burst errors</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220,200) corrects 10 of 200B in a block , flags if uncorrectable</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220,200) is efficient (R=10/11), adds little overhead</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terleaving is necessary, so no innate latency is introduced</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olutional codes are less efficient (R=1/2, 3/4)</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bo Codes feature large interleavers, produce much latency</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theless, packets will be dropped (Equalization + FEC = 1% FER)</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on’t have to retransmit entire packet, just uncorrectable blocks</a:t>
            </a:r>
            <a:endParaRPr b="0" lang="en-US" sz="20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8C7B13CE-C022-44AD-84CC-73A6D5B555F2}"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5:17:09Z</dcterms:created>
  <dc:creator>Carlos Rios</dc:creator>
  <dc:description>073r0</dc:description>
  <dc:language>en-US</dc:language>
  <cp:lastModifiedBy>Carlos and Maria Rios</cp:lastModifiedBy>
  <cp:lastPrinted>2000-07-29T16:32:21Z</cp:lastPrinted>
  <dcterms:modified xsi:type="dcterms:W3CDTF">2000-09-06T00:17:33Z</dcterms:modified>
  <cp:revision>61</cp:revision>
  <dc:subject/>
  <dc:title>L3C Proposal for HR WPAN</dc:title>
</cp:coreProperties>
</file>