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ACC62B-7F33-431B-9081-7D1C47A495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E4171-05B6-406E-B798-84B60ADD8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693328-C9FC-4330-B482-E400BA90AD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2B0305-1677-40D4-8886-D810CBA081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7D191-5693-4F0A-A9F3-61E583386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15A59-E43E-4C42-AD7D-7F86DD83D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A5DFB-5D1E-4FE6-9588-40E4E59DC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4289C-E966-455B-A672-578C7209E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2DC05-2D63-4A5B-BC7D-D5099D3E3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3DA9E-A309-4DF2-9DB6-17E038E8D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FD991-DB9E-48B1-8227-6490E407C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9A9B8-23BD-460E-A7AB-8CDB859ECC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BCDF580-0603-4BF5-B90F-B01F670237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300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A63C3637-9EF5-4B14-8152-621A1E44761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09480" y="395640"/>
            <a:ext cx="82728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5754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a:t>
            </a:r>
            <a:r>
              <a:rPr b="0" lang="en-US" sz="2000" spc="-1" strike="noStrike">
                <a:solidFill>
                  <a:srgbClr val="ff0000"/>
                </a:solidFill>
                <a:latin typeface="Times New Roman"/>
              </a:rPr>
              <a:t>R2SG Monday Meeting</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18Sept00</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Tom Siep</a:t>
            </a:r>
            <a:r>
              <a:rPr b="0" lang="en-US" sz="1600" spc="-1" strike="noStrike">
                <a:solidFill>
                  <a:srgbClr val="000000"/>
                </a:solidFill>
                <a:latin typeface="Times New Roman"/>
              </a:rPr>
              <a:t>] Company [</a:t>
            </a:r>
            <a:r>
              <a:rPr b="0" lang="en-US" sz="1600" spc="-1" strike="noStrike">
                <a:solidFill>
                  <a:srgbClr val="ff0000"/>
                </a:solidFill>
                <a:latin typeface="Times New Roman"/>
              </a:rPr>
              <a:t>Texas Instrument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2500 TI Blvd, m/s 8723, Dallas, TX  75243, US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214.480.6786</a:t>
            </a:r>
            <a:r>
              <a:rPr b="0" lang="en-US" sz="1600" spc="-1" strike="noStrike">
                <a:solidFill>
                  <a:srgbClr val="000000"/>
                </a:solidFill>
                <a:latin typeface="Times New Roman"/>
              </a:rPr>
              <a:t>], FAX: [</a:t>
            </a:r>
            <a:r>
              <a:rPr b="0" lang="en-US" sz="1600" spc="-1" strike="noStrike">
                <a:solidFill>
                  <a:srgbClr val="ff0000"/>
                </a:solidFill>
                <a:latin typeface="Times New Roman"/>
              </a:rPr>
              <a:t>972.761.5581</a:t>
            </a:r>
            <a:r>
              <a:rPr b="0" lang="en-US" sz="1600" spc="-1" strike="noStrike">
                <a:solidFill>
                  <a:srgbClr val="000000"/>
                </a:solidFill>
                <a:latin typeface="Times New Roman"/>
              </a:rPr>
              <a:t>], E-Mail:[</a:t>
            </a:r>
            <a:r>
              <a:rPr b="0" lang="en-US" sz="1600" spc="-1" strike="noStrike">
                <a:solidFill>
                  <a:srgbClr val="ff0000"/>
                </a:solidFill>
                <a:latin typeface="Times New Roman"/>
              </a:rPr>
              <a:t>Siep@ti.com</a:t>
            </a: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Original Documen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Discussion documen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he purpose of this document is to provide a vehicle for discussion of the information interchange between 802.15 Radio2 Study Group (R2SG) and the Bluetooth Special Interest Group (BSIG).</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orking Group for Wireless Personal Area Networks</a:t>
            </a:r>
            <a:r>
              <a:rPr b="0" lang="en-US" sz="3600" spc="-1" strike="noStrike">
                <a:solidFill>
                  <a:srgbClr val="000000"/>
                </a:solidFill>
                <a:latin typeface="Times New Roman"/>
                <a:ea typeface="Times New Roman"/>
              </a:rPr>
              <a:t>™</a:t>
            </a:r>
            <a:endParaRPr b="0" lang="en-US" sz="3600" spc="-1" strike="noStrike">
              <a:solidFill>
                <a:srgbClr val="000000"/>
              </a:solidFill>
              <a:latin typeface="Times New Roman"/>
            </a:endParaRPr>
          </a:p>
        </p:txBody>
      </p:sp>
      <p:sp>
        <p:nvSpPr>
          <p:cNvPr id="50" name="PlaceHolder 2"/>
          <p:cNvSpPr>
            <a:spLocks noGrp="1"/>
          </p:cNvSpPr>
          <p:nvPr>
            <p:ph type="subTitle"/>
          </p:nvPr>
        </p:nvSpPr>
        <p:spPr>
          <a:xfrm>
            <a:off x="1371600" y="3809520"/>
            <a:ext cx="6400800" cy="175284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2SG Monday Meeting</a:t>
            </a:r>
            <a:endParaRPr b="0" lang="en-US" sz="3600" spc="-1" strike="noStrike">
              <a:solidFill>
                <a:srgbClr val="000000"/>
              </a:solidFill>
              <a:latin typeface="Times New Roman"/>
            </a:endParaRPr>
          </a:p>
        </p:txBody>
      </p:sp>
      <p:pic>
        <p:nvPicPr>
          <p:cNvPr id="51"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FCC3E501-DD95-4323-9C7A-8980C8577A0A}" type="slidenum">
              <a:t>2</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ope of Radio2 Study Group</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a formal vehicle within IEEE 802.15 to track the activities of the Bluetooth SIG Radio2 Working Group (and related activities) and recommend appropriate action to 802. </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 Specification/Radio2 could be an extension to the existing 802.15.1 PAR </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 Specification/Radio2 could be a supplement to 802.15.1 </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 Specification/Radio2 may become available to the IEEE in 2001 as another derivative work product or something else </a:t>
            </a:r>
            <a:endParaRPr b="0" lang="en-US" sz="2800" spc="-1" strike="noStrike">
              <a:solidFill>
                <a:srgbClr val="000000"/>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861B7058-2227-44E2-AA28-006882B0B923}" type="slidenum">
              <a:t>3</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liverable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formal reports to the WG, updating the membership on the 2.0 Specification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a liaison to Bluetooth SIG, providing updates to the Radio2 WG, updating their membership on the IEEE 802.15 R2SG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icit and receive contributions to assist the R2SG make their pending recommendation's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a plenary week tutorial to 802; target Nov00.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warranted, develop PAR and Five Criteria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B53F2218-0306-436E-829B-B9FC50FCB804}" type="slidenum">
              <a:t>4</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ected Inputs from BSIG</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c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tion available on public web si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tion presented at Bluetooth developer’s conferences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not expec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anced information about internal development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c evaluations of our (802.15) wor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83E5998F-F239-4B9D-8857-DC92AFF24C1E}" type="slidenum">
              <a:t>5</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ected Inputs to BSIG</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c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es of TG3 work to date</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not Expec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ptance of “foreign” IPR</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025196DD-5DE1-4529-B17F-B7C4A82CBB1E}" type="slidenum">
              <a:t>6</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8T22:37:13Z</dcterms:created>
  <dc:creator>Tom Siep</dc:creator>
  <dc:description>Mr. Ian Gifford 
Director of Standards 
M/A-COM, Inc. 
1011 Pawtucket Boulevard 
Lowell, MA 01853-3295, USA 
TEL +1 978 442 4650 
FAX +1 978 442 5442 
E-M giffordi@tycoelectronics.com</dc:description>
  <cp:keywords>July 2000</cp:keywords>
  <dc:language>en-US</dc:language>
  <cp:lastModifiedBy>Robert F.  Heile</cp:lastModifiedBy>
  <cp:lastPrinted>1998-02-10T13:28:06Z</cp:lastPrinted>
  <dcterms:modified xsi:type="dcterms:W3CDTF">2000-09-26T22:57:55Z</dcterms:modified>
  <cp:revision>6</cp:revision>
  <dc:subject>Radio2 SG</dc:subject>
  <dc:title>No Slide Title</dc:title>
</cp:coreProperties>
</file>