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27F126-C5F9-4B0B-92B6-A1EB76733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136B37-D346-445C-8DF3-B87B6157B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1F72DFE-290B-4068-B3AB-6C7E45A93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E82F78B-5AA4-4502-9D67-1362D9461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12B257-2441-4DC3-8A8C-0296A0619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520BE2-DEBE-43C9-9486-6A5144DD6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548F56-634B-4E79-A30C-BA50DF608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71174B-C460-4631-8058-9759D0B65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5AC444-5CB3-424B-B49D-2403F005B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29770F-D9AF-41A7-8E99-EEB806680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760B65-AA73-4248-9598-CE0FA2643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155169-1AF8-497F-B234-321F418ED0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257040" y="5857920"/>
            <a:ext cx="8674200" cy="749160"/>
          </a:xfrm>
          <a:prstGeom prst="rect">
            <a:avLst/>
          </a:prstGeom>
          <a:ln w="0">
            <a:noFill/>
          </a:ln>
        </p:spPr>
      </p:pic>
      <p:sp>
        <p:nvSpPr>
          <p:cNvPr id="5" name="PlaceHolder 3"/>
          <p:cNvSpPr>
            <a:spLocks noGrp="1"/>
          </p:cNvSpPr>
          <p:nvPr>
            <p:ph type="sldNum" idx="1"/>
          </p:nvPr>
        </p:nvSpPr>
        <p:spPr>
          <a:xfrm>
            <a:off x="4276440" y="662904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BBB2-63C8-4A9B-9F2D-F1D45F13F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1</a:t>
            </a:r>
            <a:endParaRPr b="0" lang="en-US" sz="1200" spc="-1" strike="noStrike">
              <a:solidFill>
                <a:srgbClr val="000000"/>
              </a:solidFill>
              <a:latin typeface="Times New Roman"/>
            </a:endParaRPr>
          </a:p>
        </p:txBody>
      </p:sp>
      <p:sp>
        <p:nvSpPr>
          <p:cNvPr id="8" name="PlaceHolder 5"/>
          <p:cNvSpPr>
            <a:spLocks noGrp="1"/>
          </p:cNvSpPr>
          <p:nvPr>
            <p:ph type="dt" idx="3"/>
          </p:nvPr>
        </p:nvSpPr>
        <p:spPr>
          <a:xfrm>
            <a:off x="139320" y="216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1520" y="266760"/>
            <a:ext cx="8991720" cy="609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400" spc="-1" strike="noStrike">
                <a:solidFill>
                  <a:srgbClr val="000000"/>
                </a:solidFill>
                <a:latin typeface="Times New Roman"/>
              </a:rPr>
              <a:t>Frequency Hopping Multi-Mode QAM Physical Layer Proposal for High Rate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7 July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Dr. Jeyhan Karaogu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ess:</a:t>
            </a:r>
            <a:r>
              <a:rPr b="0" lang="en-US" sz="1400" spc="-1" strike="noStrike">
                <a:solidFill>
                  <a:srgbClr val="000000"/>
                </a:solidFill>
                <a:latin typeface="Times New Roman"/>
              </a:rPr>
              <a:t> Broadcom Corporation, 16215 Alton Parkway, Irvine, CA 926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r>
              <a:rPr b="0" lang="en-US" sz="1400" spc="-1" strike="noStrike">
                <a:solidFill>
                  <a:srgbClr val="000000"/>
                </a:solidFill>
                <a:latin typeface="Times New Roman"/>
              </a:rPr>
              <a:t> 949 585 6168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 </a:t>
            </a:r>
            <a:r>
              <a:rPr b="0" lang="en-US" sz="1400" spc="-1" strike="noStrike">
                <a:solidFill>
                  <a:srgbClr val="000000"/>
                </a:solidFill>
                <a:latin typeface="Times New Roman"/>
              </a:rPr>
              <a:t>jeyhan@broadcom.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ibutors:</a:t>
            </a:r>
            <a:r>
              <a:rPr b="0" lang="en-US" sz="1400" spc="-1" strike="noStrike">
                <a:solidFill>
                  <a:srgbClr val="000000"/>
                </a:solidFill>
                <a:latin typeface="Times New Roman"/>
              </a:rPr>
              <a:t> Jeyhan Karaoguz, Christopher Hansen, Brima Ibrahim, Reza Rofougaran, Nambi Seshadri, Broadcom Corporatio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 Call for Proposals for IEEE P802.15.3 High Rate Task Group</a:t>
            </a:r>
            <a:r>
              <a:rPr b="1" lang="en-US" sz="1600" spc="-1" strike="noStrike">
                <a:solidFill>
                  <a:srgbClr val="000000"/>
                </a:solidFill>
                <a:latin typeface="Times New Roman"/>
              </a:rPr>
              <a:t> </a:t>
            </a:r>
            <a:r>
              <a:rPr b="0" lang="en-US" sz="1600" spc="-1" strike="noStrike">
                <a:solidFill>
                  <a:srgbClr val="000000"/>
                </a:solidFill>
                <a:latin typeface="Times New Roman"/>
              </a:rPr>
              <a:t> </a:t>
            </a:r>
            <a:r>
              <a:rPr b="0" lang="en-US" sz="1200" spc="-1" strike="noStrike">
                <a:solidFill>
                  <a:srgbClr val="037c03"/>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This proposal describes a 5 MHz frequency hopping physical layer operating in the unlicensed 2.4 and 5 GHz bands. The proposed system provides adaptive data rates of 8, 12, 16, and 20 Mbit/sec depending on the channel and noise condition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To be considered as a candidate PHY layer technology for IEEE P802.15.3 specif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5989302-64F5-40A8-8782-5AC083B6BA7B}" type="slidenum">
              <a:t>1</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mulations for Multipath Immunity </a:t>
            </a:r>
            <a:endParaRPr b="0" lang="en-US" sz="3600" spc="-1" strike="noStrike">
              <a:solidFill>
                <a:srgbClr val="000000"/>
              </a:solidFill>
              <a:latin typeface="Times New Roman"/>
            </a:endParaRPr>
          </a:p>
        </p:txBody>
      </p:sp>
      <p:sp>
        <p:nvSpPr>
          <p:cNvPr id="1224" name=""/>
          <p:cNvSpPr/>
          <p:nvPr/>
        </p:nvSpPr>
        <p:spPr>
          <a:xfrm>
            <a:off x="380880" y="1219320"/>
            <a:ext cx="8318520" cy="4775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ponential decaying Rayleigh fading channel</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ns RMS delay spread</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73 dBm received signal level </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 dB higher than minimum required sensitivity</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onte Carlo simulation used to evaluate MMSE-DFE performance</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random channels evaluated on two equalizer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 Feed-Forward and 4 Feed-Back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 Feed-Forward and 4 Feed-Back taps</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NR at slicer is sufficient for operation under worst case conditions</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99.9 percentile, SNRs of 14.7 dB (4 FF taps) and 17.0 dB (8 FF taps) is achiev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is corresponds to 12 Mbps and 16 Mb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 Mbps can be achieved at 98th percentile with 8 FF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233387B2-794B-4FD8-8ACD-B820317E62AC}" type="slidenum">
              <a:t>10</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path Immunity &amp; Equalizer Performance</a:t>
            </a:r>
            <a:endParaRPr b="0" lang="en-US" sz="3600" spc="-1" strike="noStrike">
              <a:solidFill>
                <a:srgbClr val="000000"/>
              </a:solidFill>
              <a:latin typeface="Times New Roman"/>
            </a:endParaRPr>
          </a:p>
        </p:txBody>
      </p:sp>
      <p:sp>
        <p:nvSpPr>
          <p:cNvPr id="1226" name=""/>
          <p:cNvSpPr/>
          <p:nvPr/>
        </p:nvSpPr>
        <p:spPr>
          <a:xfrm>
            <a:off x="1828800" y="1752480"/>
            <a:ext cx="5334120" cy="400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7" name="" descr=""/>
          <p:cNvPicPr/>
          <p:nvPr/>
        </p:nvPicPr>
        <p:blipFill>
          <a:blip r:embed="rId1"/>
          <a:stretch/>
        </p:blipFill>
        <p:spPr>
          <a:xfrm>
            <a:off x="1130400" y="1089000"/>
            <a:ext cx="6892920" cy="5172120"/>
          </a:xfrm>
          <a:prstGeom prst="rect">
            <a:avLst/>
          </a:prstGeom>
          <a:ln w="0">
            <a:noFill/>
          </a:ln>
        </p:spPr>
      </p:pic>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D52F769E-C10B-4400-ADC7-9A02CBEA4AC6}" type="slidenum">
              <a:t>11</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Mode QAM TCM Transmitter</a:t>
            </a:r>
            <a:endParaRPr b="0" lang="en-US" sz="3600" spc="-1" strike="noStrike">
              <a:solidFill>
                <a:srgbClr val="f0072e"/>
              </a:solidFill>
              <a:latin typeface="Arial"/>
            </a:endParaRPr>
          </a:p>
        </p:txBody>
      </p:sp>
      <p:grpSp>
        <p:nvGrpSpPr>
          <p:cNvPr id="1229" name=""/>
          <p:cNvGrpSpPr/>
          <p:nvPr/>
        </p:nvGrpSpPr>
        <p:grpSpPr>
          <a:xfrm>
            <a:off x="762120" y="2209680"/>
            <a:ext cx="63360" cy="3047760"/>
            <a:chOff x="762120" y="2209680"/>
            <a:chExt cx="63360" cy="3047760"/>
          </a:xfrm>
        </p:grpSpPr>
        <p:sp>
          <p:nvSpPr>
            <p:cNvPr id="1230"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2" name=""/>
          <p:cNvGrpSpPr/>
          <p:nvPr/>
        </p:nvGrpSpPr>
        <p:grpSpPr>
          <a:xfrm>
            <a:off x="1511280" y="3504600"/>
            <a:ext cx="1122840" cy="641520"/>
            <a:chOff x="1511280" y="3504600"/>
            <a:chExt cx="1122840" cy="641520"/>
          </a:xfrm>
        </p:grpSpPr>
        <p:sp>
          <p:nvSpPr>
            <p:cNvPr id="1233"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5" name=""/>
          <p:cNvGrpSpPr/>
          <p:nvPr/>
        </p:nvGrpSpPr>
        <p:grpSpPr>
          <a:xfrm>
            <a:off x="2806560" y="1905120"/>
            <a:ext cx="1066680" cy="609480"/>
            <a:chOff x="2806560" y="1905120"/>
            <a:chExt cx="1066680" cy="609480"/>
          </a:xfrm>
        </p:grpSpPr>
        <p:sp>
          <p:nvSpPr>
            <p:cNvPr id="1236"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8" name=""/>
          <p:cNvGrpSpPr/>
          <p:nvPr/>
        </p:nvGrpSpPr>
        <p:grpSpPr>
          <a:xfrm>
            <a:off x="3035880" y="3517920"/>
            <a:ext cx="792000" cy="609480"/>
            <a:chOff x="3035880" y="3517920"/>
            <a:chExt cx="792000" cy="609480"/>
          </a:xfrm>
        </p:grpSpPr>
        <p:sp>
          <p:nvSpPr>
            <p:cNvPr id="1239"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241" name=""/>
          <p:cNvGrpSpPr/>
          <p:nvPr/>
        </p:nvGrpSpPr>
        <p:grpSpPr>
          <a:xfrm>
            <a:off x="1511280" y="4800600"/>
            <a:ext cx="1410840" cy="457200"/>
            <a:chOff x="1511280" y="4800600"/>
            <a:chExt cx="1410840" cy="457200"/>
          </a:xfrm>
        </p:grpSpPr>
        <p:sp>
          <p:nvSpPr>
            <p:cNvPr id="1242"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244" name=""/>
          <p:cNvGrpSpPr/>
          <p:nvPr/>
        </p:nvGrpSpPr>
        <p:grpSpPr>
          <a:xfrm>
            <a:off x="5626080" y="4648320"/>
            <a:ext cx="1325880" cy="609480"/>
            <a:chOff x="5626080" y="4648320"/>
            <a:chExt cx="1325880" cy="609480"/>
          </a:xfrm>
        </p:grpSpPr>
        <p:sp>
          <p:nvSpPr>
            <p:cNvPr id="1245"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247" name=""/>
          <p:cNvGrpSpPr/>
          <p:nvPr/>
        </p:nvGrpSpPr>
        <p:grpSpPr>
          <a:xfrm>
            <a:off x="4729680" y="2666160"/>
            <a:ext cx="1120680" cy="475200"/>
            <a:chOff x="4729680" y="2666160"/>
            <a:chExt cx="1120680" cy="475200"/>
          </a:xfrm>
        </p:grpSpPr>
        <p:sp>
          <p:nvSpPr>
            <p:cNvPr id="1248"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250" name=""/>
            <p:cNvGrpSpPr/>
            <p:nvPr/>
          </p:nvGrpSpPr>
          <p:grpSpPr>
            <a:xfrm>
              <a:off x="5343480" y="2761200"/>
              <a:ext cx="506880" cy="276480"/>
              <a:chOff x="5343480" y="2761200"/>
              <a:chExt cx="506880" cy="276480"/>
            </a:xfrm>
          </p:grpSpPr>
          <p:sp>
            <p:nvSpPr>
              <p:cNvPr id="1251"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252"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3" name=""/>
          <p:cNvGrpSpPr/>
          <p:nvPr/>
        </p:nvGrpSpPr>
        <p:grpSpPr>
          <a:xfrm>
            <a:off x="6101640" y="2590200"/>
            <a:ext cx="1271160" cy="641520"/>
            <a:chOff x="6101640" y="2590200"/>
            <a:chExt cx="1271160" cy="641520"/>
          </a:xfrm>
        </p:grpSpPr>
        <p:sp>
          <p:nvSpPr>
            <p:cNvPr id="1254"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5" name=""/>
            <p:cNvGrpSpPr/>
            <p:nvPr/>
          </p:nvGrpSpPr>
          <p:grpSpPr>
            <a:xfrm>
              <a:off x="6101640" y="2590200"/>
              <a:ext cx="1271160" cy="641520"/>
              <a:chOff x="6101640" y="2590200"/>
              <a:chExt cx="1271160" cy="641520"/>
            </a:xfrm>
          </p:grpSpPr>
          <p:sp>
            <p:nvSpPr>
              <p:cNvPr id="1256"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257"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258"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0"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1"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2"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63" name=""/>
          <p:cNvGrpSpPr/>
          <p:nvPr/>
        </p:nvGrpSpPr>
        <p:grpSpPr>
          <a:xfrm>
            <a:off x="4483080" y="2852640"/>
            <a:ext cx="257040" cy="109440"/>
            <a:chOff x="4483080" y="2852640"/>
            <a:chExt cx="257040" cy="109440"/>
          </a:xfrm>
        </p:grpSpPr>
        <p:sp>
          <p:nvSpPr>
            <p:cNvPr id="1264"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5816520" y="2847960"/>
            <a:ext cx="495000" cy="109440"/>
            <a:chOff x="5816520" y="2847960"/>
            <a:chExt cx="495000" cy="109440"/>
          </a:xfrm>
        </p:grpSpPr>
        <p:sp>
          <p:nvSpPr>
            <p:cNvPr id="1267"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4"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5"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276"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277" name=""/>
          <p:cNvGrpSpPr/>
          <p:nvPr/>
        </p:nvGrpSpPr>
        <p:grpSpPr>
          <a:xfrm>
            <a:off x="5230800" y="2895480"/>
            <a:ext cx="2471760" cy="2052360"/>
            <a:chOff x="5230800" y="2895480"/>
            <a:chExt cx="2471760" cy="2052360"/>
          </a:xfrm>
        </p:grpSpPr>
        <p:sp>
          <p:nvSpPr>
            <p:cNvPr id="1278"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9"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0" name=""/>
          <p:cNvGrpSpPr/>
          <p:nvPr/>
        </p:nvGrpSpPr>
        <p:grpSpPr>
          <a:xfrm>
            <a:off x="5168880" y="2971800"/>
            <a:ext cx="2438280" cy="2057400"/>
            <a:chOff x="5168880" y="2971800"/>
            <a:chExt cx="2438280" cy="2057400"/>
          </a:xfrm>
        </p:grpSpPr>
        <p:sp>
          <p:nvSpPr>
            <p:cNvPr id="1281"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2"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857D4623-D69B-4394-B04A-C68C8BC6E605}" type="slidenum">
              <a:t>12</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286"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287" name=""/>
          <p:cNvGrpSpPr/>
          <p:nvPr/>
        </p:nvGrpSpPr>
        <p:grpSpPr>
          <a:xfrm>
            <a:off x="1133640" y="3669480"/>
            <a:ext cx="6635160" cy="2563920"/>
            <a:chOff x="1133640" y="3669480"/>
            <a:chExt cx="6635160" cy="2563920"/>
          </a:xfrm>
        </p:grpSpPr>
        <p:grpSp>
          <p:nvGrpSpPr>
            <p:cNvPr id="1288" name=""/>
            <p:cNvGrpSpPr/>
            <p:nvPr/>
          </p:nvGrpSpPr>
          <p:grpSpPr>
            <a:xfrm>
              <a:off x="2511360" y="4021560"/>
              <a:ext cx="1218600" cy="459000"/>
              <a:chOff x="2511360" y="4021560"/>
              <a:chExt cx="1218600" cy="459000"/>
            </a:xfrm>
          </p:grpSpPr>
          <p:sp>
            <p:nvSpPr>
              <p:cNvPr id="1289"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291" name=""/>
            <p:cNvGrpSpPr/>
            <p:nvPr/>
          </p:nvGrpSpPr>
          <p:grpSpPr>
            <a:xfrm>
              <a:off x="2484360" y="5012280"/>
              <a:ext cx="1291680" cy="459000"/>
              <a:chOff x="2484360" y="5012280"/>
              <a:chExt cx="1291680" cy="459000"/>
            </a:xfrm>
          </p:grpSpPr>
          <p:sp>
            <p:nvSpPr>
              <p:cNvPr id="1292"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294" name=""/>
            <p:cNvGrpSpPr/>
            <p:nvPr/>
          </p:nvGrpSpPr>
          <p:grpSpPr>
            <a:xfrm>
              <a:off x="4224240" y="5012280"/>
              <a:ext cx="1233360" cy="459000"/>
              <a:chOff x="4224240" y="5012280"/>
              <a:chExt cx="1233360" cy="459000"/>
            </a:xfrm>
          </p:grpSpPr>
          <p:sp>
            <p:nvSpPr>
              <p:cNvPr id="1295"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297" name=""/>
            <p:cNvGrpSpPr/>
            <p:nvPr/>
          </p:nvGrpSpPr>
          <p:grpSpPr>
            <a:xfrm>
              <a:off x="4219560" y="4021560"/>
              <a:ext cx="1226520" cy="459000"/>
              <a:chOff x="4219560" y="4021560"/>
              <a:chExt cx="1226520" cy="459000"/>
            </a:xfrm>
          </p:grpSpPr>
          <p:sp>
            <p:nvSpPr>
              <p:cNvPr id="1298"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300" name=""/>
            <p:cNvGrpSpPr/>
            <p:nvPr/>
          </p:nvGrpSpPr>
          <p:grpSpPr>
            <a:xfrm>
              <a:off x="5721120" y="4060440"/>
              <a:ext cx="1131120" cy="412920"/>
              <a:chOff x="5721120" y="4060440"/>
              <a:chExt cx="1131120" cy="412920"/>
            </a:xfrm>
          </p:grpSpPr>
          <p:sp>
            <p:nvSpPr>
              <p:cNvPr id="1301"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03"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04"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05"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6"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7"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08" name=""/>
            <p:cNvGrpSpPr/>
            <p:nvPr/>
          </p:nvGrpSpPr>
          <p:grpSpPr>
            <a:xfrm>
              <a:off x="7235640" y="4194000"/>
              <a:ext cx="533160" cy="990360"/>
              <a:chOff x="7235640" y="4194000"/>
              <a:chExt cx="533160" cy="990360"/>
            </a:xfrm>
          </p:grpSpPr>
          <p:sp>
            <p:nvSpPr>
              <p:cNvPr id="1309"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311"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12"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313" name=""/>
              <p:cNvGrpSpPr/>
              <p:nvPr/>
            </p:nvGrpSpPr>
            <p:grpSpPr>
              <a:xfrm>
                <a:off x="7264080" y="4936680"/>
                <a:ext cx="76320" cy="209520"/>
                <a:chOff x="7264080" y="4936680"/>
                <a:chExt cx="76320" cy="209520"/>
              </a:xfrm>
            </p:grpSpPr>
            <p:sp>
              <p:nvSpPr>
                <p:cNvPr id="1314"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5"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16" name=""/>
              <p:cNvGrpSpPr/>
              <p:nvPr/>
            </p:nvGrpSpPr>
            <p:grpSpPr>
              <a:xfrm>
                <a:off x="7264080" y="4574880"/>
                <a:ext cx="76320" cy="209520"/>
                <a:chOff x="7264080" y="4574880"/>
                <a:chExt cx="76320" cy="209520"/>
              </a:xfrm>
            </p:grpSpPr>
            <p:sp>
              <p:nvSpPr>
                <p:cNvPr id="1317"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8"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319" name=""/>
            <p:cNvGrpSpPr/>
            <p:nvPr/>
          </p:nvGrpSpPr>
          <p:grpSpPr>
            <a:xfrm>
              <a:off x="5721120" y="5051160"/>
              <a:ext cx="1131120" cy="412920"/>
              <a:chOff x="5721120" y="5051160"/>
              <a:chExt cx="1131120" cy="412920"/>
            </a:xfrm>
          </p:grpSpPr>
          <p:sp>
            <p:nvSpPr>
              <p:cNvPr id="1320"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322"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23"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24"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5"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6"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27" name=""/>
            <p:cNvGrpSpPr/>
            <p:nvPr/>
          </p:nvGrpSpPr>
          <p:grpSpPr>
            <a:xfrm>
              <a:off x="2054160" y="3717720"/>
              <a:ext cx="456480" cy="532800"/>
              <a:chOff x="2054160" y="3717720"/>
              <a:chExt cx="456480" cy="532800"/>
            </a:xfrm>
          </p:grpSpPr>
          <p:grpSp>
            <p:nvGrpSpPr>
              <p:cNvPr id="1328" name=""/>
              <p:cNvGrpSpPr/>
              <p:nvPr/>
            </p:nvGrpSpPr>
            <p:grpSpPr>
              <a:xfrm>
                <a:off x="2054160" y="3717720"/>
                <a:ext cx="151560" cy="152280"/>
                <a:chOff x="2054160" y="3717720"/>
                <a:chExt cx="151560" cy="152280"/>
              </a:xfrm>
            </p:grpSpPr>
            <p:sp>
              <p:nvSpPr>
                <p:cNvPr id="1329"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2"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3" name=""/>
            <p:cNvGrpSpPr/>
            <p:nvPr/>
          </p:nvGrpSpPr>
          <p:grpSpPr>
            <a:xfrm>
              <a:off x="2054160" y="4708080"/>
              <a:ext cx="456480" cy="533520"/>
              <a:chOff x="2054160" y="4708080"/>
              <a:chExt cx="456480" cy="533520"/>
            </a:xfrm>
          </p:grpSpPr>
          <p:grpSp>
            <p:nvGrpSpPr>
              <p:cNvPr id="1334" name=""/>
              <p:cNvGrpSpPr/>
              <p:nvPr/>
            </p:nvGrpSpPr>
            <p:grpSpPr>
              <a:xfrm>
                <a:off x="2054160" y="4708080"/>
                <a:ext cx="151560" cy="152640"/>
                <a:chOff x="2054160" y="4708080"/>
                <a:chExt cx="151560" cy="152640"/>
              </a:xfrm>
            </p:grpSpPr>
            <p:sp>
              <p:nvSpPr>
                <p:cNvPr id="1335"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8"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9"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0"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1"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6"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350"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351"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352" name=""/>
            <p:cNvGrpSpPr/>
            <p:nvPr/>
          </p:nvGrpSpPr>
          <p:grpSpPr>
            <a:xfrm>
              <a:off x="7081920" y="5774400"/>
              <a:ext cx="650160" cy="459000"/>
              <a:chOff x="7081920" y="5774400"/>
              <a:chExt cx="650160" cy="459000"/>
            </a:xfrm>
          </p:grpSpPr>
          <p:sp>
            <p:nvSpPr>
              <p:cNvPr id="1353"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355"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358"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5697EF7-C744-40FB-A7EC-680B62006C02}" type="slidenum">
              <a:t>13</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360"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 dBm transmit power would eliminate all inadequate SNR conditions for 20 Mbps transmission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D8F32AE-A285-4FB8-9812-EFB17D4AD137}" type="slidenum">
              <a:t>14</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362"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5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64-QAM TCM, 2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2 dBm for 16-QAM TCM, 12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0 dBc (total integrated over 5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84B7C456-E2AF-419F-A3AE-9EA878D56488}" type="slidenum">
              <a:t>15</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364"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6~8-bit DACs (10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0 mA for .35u, 3.3V technology, ~37 mA for .18u, 1.8V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E4C0468-A656-4055-9FAC-6FF670266AAB}" type="slidenum">
              <a:t>16</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366"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filter: 4 ta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6~8-bit A/D converter (10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25 mA for .35u, 3.3V technology, ~60 mA for .18u, 1.8V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344A126C-318F-4BD2-8F02-288323423318}" type="slidenum">
              <a:t>17</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68"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7000"/>
          </a:bodyPr>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Unit Manufacturing Cost</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Estimated cost of the proposed solution is less than 1.5 x equivalent Bluetooth 1 cost specified in the evaluation criteria</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ference and Susceptibility</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ased on the design of front-end and baseband filters reflected in the presented system cost and complexity, proposed system achieves the following interference blocking performance:</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Out-of-Band” blocking performance (interfering signal power level while the wanted signal is at -73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     MHz - 2000 MHz:  -10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MHz - 2399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98 MHz - 3000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00 MHz - 12.75 GHz: -10 dBm</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In-Band” blocking performance (excluding co-channel and adjacent channel and first channel)</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terference protection is greater than 35 dB</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modulation Performance</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a:t>
            </a:r>
            <a:endParaRPr b="0" lang="en-US" sz="1400" spc="-1" strike="noStrike">
              <a:solidFill>
                <a:srgbClr val="000000"/>
              </a:solidFill>
              <a:latin typeface="Arial"/>
            </a:endParaRPr>
          </a:p>
          <a:p>
            <a:pPr lvl="2" marL="997920" indent="0">
              <a:lnSpc>
                <a:spcPct val="125000"/>
              </a:lnSpc>
              <a:buNone/>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a:p>
            <a:pPr lvl="1" marL="59868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A8681D6-60B1-49B6-B11B-FC8DD7329A1B}" type="slidenum">
              <a:t>18</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70"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efined as the ability of the proposed system to maintain greater than 50% throughput in the presence of other uncoordinated in-band interferer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achieves much better than 50% throughput for the jamming scenarios given in the evaluation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wo factors are important to consider when evaluating microwave interference performance: (1) interference bandwidth is limited to 25 MHz, (2) interference has a duty cycle of 50% (being on for 8.3 msec out of a 1/(60 Hz) cycl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hops 1600 times/sec using 15 distinct channels each 5 MHz wide, therefore, in the worst case situation only 6 out of 15 hops get affected by the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microwave oven interference has a duty cycle of 50%, the proposed system achieves 100*(1 - 6/15*1/2) = </a:t>
            </a:r>
            <a:r>
              <a:rPr b="1" lang="en-US" sz="1400" spc="-1" strike="noStrike">
                <a:solidFill>
                  <a:srgbClr val="000000"/>
                </a:solidFill>
                <a:latin typeface="Arial"/>
              </a:rPr>
              <a:t>80% </a:t>
            </a:r>
            <a:r>
              <a:rPr b="0" lang="en-US" sz="1400" spc="-1" strike="noStrike">
                <a:solidFill>
                  <a:srgbClr val="000000"/>
                </a:solidFill>
                <a:latin typeface="Arial"/>
              </a:rPr>
              <a:t>throughput on average</a:t>
            </a:r>
            <a:r>
              <a:rPr b="1"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HV1 voice packet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oth the 802.15.1 piconet and the proposed system hop at the same rate (1600 hops/sec) in an uncoordinated fashion</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bability of that an 802.15.1 hop frequency coincides with the proposed system hop frequency is 15*(1/15*5/75), which results in a propose system throughput of </a:t>
            </a:r>
            <a:r>
              <a:rPr b="1" lang="en-US" sz="1400" spc="-1" strike="noStrike">
                <a:solidFill>
                  <a:srgbClr val="000000"/>
                </a:solidFill>
                <a:latin typeface="Arial"/>
              </a:rPr>
              <a:t>93%</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66C1473-C5A8-4A8A-AA04-0DE85844BBC0}" type="slidenum">
              <a:t>19</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47" name="PlaceHolder 2"/>
          <p:cNvSpPr>
            <a:spLocks noGrp="1"/>
          </p:cNvSpPr>
          <p:nvPr>
            <p:ph/>
          </p:nvPr>
        </p:nvSpPr>
        <p:spPr>
          <a:xfrm>
            <a:off x="380520" y="1130040"/>
            <a:ext cx="8318520" cy="5422680"/>
          </a:xfrm>
          <a:prstGeom prst="rect">
            <a:avLst/>
          </a:prstGeom>
          <a:noFill/>
          <a:ln w="0">
            <a:noFill/>
          </a:ln>
        </p:spPr>
        <p:txBody>
          <a:bodyPr lIns="82440" rIns="82440" tIns="41400" bIns="41400" anchor="t">
            <a:normAutofit fontScale="99000"/>
          </a:bodyPr>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FH) transmission system operating in the unlicensed radio spectrum (2.4 GHz and 5 GHz bands)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adaptive Quadrature Amplitude Modulation (8-PSK, 16/32/64 QAM) with Trellis Coding supporting 8-20 Mbit/sec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1, 10, 100 mW for range and robustness</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Will support existing 802.15 devices in dual mod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1 and 10 mW transmit levels)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2A3E130-BD35-4CD3-92B2-7CC6597E8C1C}" type="slidenum">
              <a:t>2</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72" name="PlaceHolder 2"/>
          <p:cNvSpPr>
            <a:spLocks noGrp="1"/>
          </p:cNvSpPr>
          <p:nvPr>
            <p:ph/>
          </p:nvPr>
        </p:nvSpPr>
        <p:spPr>
          <a:xfrm>
            <a:off x="380520" y="1218960"/>
            <a:ext cx="8318520" cy="518148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 (continue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DH5 voice packet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mode, an 802.15.1 piconet is effectively hopping 5 times slower (320 hops/sec) than the proposed system while using all of the 75 available channel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still approximately 1/15 resulting in a throughput of </a:t>
            </a:r>
            <a:r>
              <a:rPr b="1" lang="en-US" sz="1400" spc="-1" strike="noStrike">
                <a:solidFill>
                  <a:srgbClr val="000000"/>
                </a:solidFill>
                <a:latin typeface="Arial"/>
              </a:rPr>
              <a:t>~93%</a:t>
            </a:r>
            <a:r>
              <a:rPr b="0" lang="en-US" sz="1400" spc="-1" strike="noStrike">
                <a:solidFill>
                  <a:srgbClr val="000000"/>
                </a:solidFill>
                <a:latin typeface="Arial"/>
              </a:rPr>
              <a:t> for the proposed syste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3 data connection operating in an uncoordinated manner transferring a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probability that two uncoordinated proposed system hop frequencies coincide is 15*(1/15*1/15) resulting in a throughput of </a:t>
            </a:r>
            <a:r>
              <a:rPr b="1" lang="en-US" sz="1400" spc="-1" strike="noStrike">
                <a:solidFill>
                  <a:srgbClr val="000000"/>
                </a:solidFill>
                <a:latin typeface="Arial"/>
              </a:rPr>
              <a:t>93%</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piconet</a:t>
            </a:r>
            <a:r>
              <a:rPr b="1" lang="en-US" sz="1400" spc="-1" strike="noStrike">
                <a:solidFill>
                  <a:srgbClr val="000000"/>
                </a:solidFill>
                <a:latin typeface="Arial"/>
              </a:rPr>
              <a:t> </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achieves </a:t>
            </a:r>
            <a:r>
              <a:rPr b="1" lang="en-US" sz="1400" spc="-1" strike="noStrike">
                <a:solidFill>
                  <a:srgbClr val="000000"/>
                </a:solidFill>
                <a:latin typeface="Arial"/>
              </a:rPr>
              <a:t>100%</a:t>
            </a:r>
            <a:r>
              <a:rPr b="0" lang="en-US" sz="1400" spc="-1" strike="noStrike">
                <a:solidFill>
                  <a:srgbClr val="000000"/>
                </a:solidFill>
                <a:latin typeface="Arial"/>
              </a:rPr>
              <a:t> throughput since the frequency band of operation can be 2.5 GHz band</a:t>
            </a:r>
            <a:r>
              <a:rPr b="1" lang="en-US" sz="1400" spc="-1" strike="noStrike">
                <a:solidFill>
                  <a:srgbClr val="000000"/>
                </a:solidFill>
                <a:latin typeface="Arial"/>
              </a:rPr>
              <a:t> </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piconet transmitting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802.11b piconet occupies 5 of the proposed system hopping channels, the proposed system in the worst case achieves a throughput of 100*(1-5/15) = </a:t>
            </a:r>
            <a:r>
              <a:rPr b="1" lang="en-US" sz="1400" spc="-1" strike="noStrike">
                <a:solidFill>
                  <a:srgbClr val="000000"/>
                </a:solidFill>
                <a:latin typeface="Arial"/>
              </a:rPr>
              <a:t>67%</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C73C92F-6BAC-498E-BF71-4E3644D9E16B}" type="slidenum">
              <a:t>20</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74"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ultiple Access</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ultiple access is the ability of the coordinated systems to simultaneously share the medium</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can handle all three multiple access scenarios given in the evaluation criteria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ree systems (each containing 2 nodes) where all three systems transmitt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each system can simultaneously achieve the required 4.5 Mbps in a time-division multiplexed manner since the total system throughput is 20 Mbp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transferring a DVD video stream compressed with MPEG2 as the other two transferring asynchronous data with a payload of 512 byte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desired system would use 4.5 Mbps bandwidth while the remaining two systems transfer asynchronous data with the remaining 15.5 Mbps data rate all in a time-division-multiplexed manner</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and one other system transferring asynchronous data with a payload size of 512 bytes while the third system transferr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second scenario given above, two systems can utilize up to 15.5 Mbps data bandwidth whereas the DVD video transfer can take place at a 4.5 Mbps rate in a time-division-multiplexed mann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100BDEF-B9D7-408D-8543-27F309642DCA}" type="slidenum">
              <a:t>21</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76" name="PlaceHolder 2"/>
          <p:cNvSpPr>
            <a:spLocks noGrp="1"/>
          </p:cNvSpPr>
          <p:nvPr>
            <p:ph/>
          </p:nvPr>
        </p:nvSpPr>
        <p:spPr>
          <a:xfrm>
            <a:off x="380520" y="106668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existence is defined as the net throughput of an alternate system in the presence of the proposed system divided by the net throughput of the alternate system with no other interferers or systems pres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 evaluate the coexistence performance of the proposed system with alternate systems,  we rely on the results presented in the jamming performance section</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coexistence performance of the proposed system is  more than adequate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with one HV1 voice transmission activ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idering the worst case scenario of transmissions by the proposed system completely jamming the 802.15.1 HV1 transmissions when their hopping frequencies coincide, the throughput of the 802.15.1 system would still be 93%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1=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system transferring data with DH5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approximately 1/15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2=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953A07F1-C8CE-4E67-93DA-7681ED3BAA60}" type="slidenum">
              <a:t>22</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78"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 (continued)</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data with 500 byte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duration for an 802.11b device to transmit a 500 byte packet is in the same order as the hop-dwell time of the proposed system, approximately 33% of the 801.11b transmissions will fail in the worst case scenario, which results in a better than 60% throughput</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3=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data connection transferring a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Considering that the proposed system can operate in the 2.4 GHz band, the 802.11a system can achieve a throughput of 10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4=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an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802.11b scenario given above, the 802.11b network will still achieve a throughput better than 6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5=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equently, the total value for coexistence evaluation: 2*IC1 + 2*IC2 + IC3 + IC4 + IC5 = 7 </a:t>
            </a:r>
            <a:endParaRPr b="0" lang="en-US" sz="1400" spc="-1" strike="noStrike">
              <a:solidFill>
                <a:srgbClr val="000000"/>
              </a:solidFill>
              <a:latin typeface="Arial"/>
            </a:endParaRPr>
          </a:p>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operability</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1600 Hops/sec) will be interoperable with Bluetooth 1 solu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E012A36-F695-46C9-9EEA-4F293F04F70F}" type="slidenum">
              <a:t>23</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380"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nufactur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is based on proven frequency hopping and QAM technologies (similar ICs already exist)</a:t>
            </a:r>
            <a:r>
              <a:rPr b="1" lang="en-US" sz="1400" spc="-1" strike="noStrike">
                <a:solidFill>
                  <a:srgbClr val="000000"/>
                </a:solidFill>
                <a:latin typeface="Arial"/>
              </a:rPr>
              <a:t>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ime-to-Marke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ips for the proposed solution would be available well before 1Q2002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gulatory Impac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o dBm) is already compliant with the FCC 15.249 rul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turity of Solu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 prototype consisting of similar chips already exist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cal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provides scalability in all of the following areas: (1) power consumption (1, 10, 100 mW), (2) data rate (8,12,16,20 Mbps, or above), (3) frequency band of operation (can operate both in 2.4 or 5 GHz bands), (4) cost, and (5) function </a:t>
            </a:r>
            <a:endParaRPr b="0" lang="en-US" sz="1400" spc="-1" strike="noStrike">
              <a:solidFill>
                <a:srgbClr val="000000"/>
              </a:solidFill>
              <a:latin typeface="Arial"/>
            </a:endParaRPr>
          </a:p>
          <a:p>
            <a:pPr marL="257040" indent="0">
              <a:spcBef>
                <a:spcPts val="1749"/>
              </a:spcBef>
              <a:spcAft>
                <a:spcPts val="349"/>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7F84796-8D32-4658-A9E1-CB5D9829380D}" type="slidenum">
              <a:t>24</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382"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ze and Form Factor</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ie and package size for the solution is estimated to fit in a form factor smaller than a compact flash</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inimum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achieves 20 Mbps data rat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High End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may achieve greater than 20 Mbps data rate with higher order QAM (&gt;64-QAM) or wider signal bandwidth (for example, 7.5 MHz instead of 5 MHz)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equency Ban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operate both in 2.4 or 5 GHz band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umber of Simultaneously Operating Full-Throughput PANs</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the number of independent PANs increase, full throughput gracefully degrades due to frequency hopping spread spectru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the number of simultaneously operating full-throughput PANs is less than 4</a:t>
            </a:r>
            <a:endParaRPr b="0" lang="en-US" sz="14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D6DC5FB-BF65-4638-8B9D-200CAC9F9991}" type="slidenum">
              <a:t>25</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384"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gnal Acquisition Metho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eamble based</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ang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vers 10m radius with 0 dBm transmit power</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Larger coverage possible with &gt; 0 dBm transmit power</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ensitiv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Delay Spread Toleranc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easily handle 25 ns RMS delay spread</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ower Consump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transmit:  67 mW (.18u technology)</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receive: 110 mW (.18u technolog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5F88DE7-DCD8-413D-AFCB-CCD2A0F054AB}" type="slidenum">
              <a:t>26</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a:t>
            </a:r>
            <a:endParaRPr b="0" lang="en-US" sz="3600" spc="-1" strike="noStrike">
              <a:solidFill>
                <a:srgbClr val="000000"/>
              </a:solidFill>
              <a:latin typeface="Times New Roman"/>
            </a:endParaRPr>
          </a:p>
        </p:txBody>
      </p:sp>
      <p:graphicFrame>
        <p:nvGraphicFramePr>
          <p:cNvPr id="1386" name=""/>
          <p:cNvGraphicFramePr/>
          <p:nvPr/>
        </p:nvGraphicFramePr>
        <p:xfrm>
          <a:off x="1523880" y="1206360"/>
          <a:ext cx="6248520" cy="5105520"/>
        </p:xfrm>
        <a:graphic>
          <a:graphicData uri="http://schemas.openxmlformats.org/presentationml/2006/ole">
            <p:oleObj progId="Word.Document.12" r:id="rId1" spid="">
              <p:embed/>
              <p:pic>
                <p:nvPicPr>
                  <p:cNvPr id="1387" name="" descr=""/>
                  <p:cNvPicPr/>
                  <p:nvPr/>
                </p:nvPicPr>
                <p:blipFill>
                  <a:blip r:embed="rId2"/>
                  <a:stretch/>
                </p:blipFill>
                <p:spPr>
                  <a:xfrm>
                    <a:off x="1523880" y="1206360"/>
                    <a:ext cx="6248520" cy="5105520"/>
                  </a:xfrm>
                  <a:prstGeom prst="rect">
                    <a:avLst/>
                  </a:prstGeom>
                  <a:ln w="0">
                    <a:noFill/>
                  </a:ln>
                </p:spPr>
              </p:pic>
            </p:oleObj>
          </a:graphicData>
        </a:graphic>
      </p:graphicFrame>
      <p:sp>
        <p:nvSpPr>
          <p:cNvPr id="1388" name=""/>
          <p:cNvSpPr/>
          <p:nvPr/>
        </p:nvSpPr>
        <p:spPr>
          <a:xfrm>
            <a:off x="1436400" y="6184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BED6C9E5-52E9-4DA2-95E2-2A3AAF5D3031}" type="slidenum">
              <a:t>27</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Cont.)</a:t>
            </a:r>
            <a:endParaRPr b="0" lang="en-US" sz="3600" spc="-1" strike="noStrike">
              <a:solidFill>
                <a:srgbClr val="000000"/>
              </a:solidFill>
              <a:latin typeface="Times New Roman"/>
            </a:endParaRPr>
          </a:p>
        </p:txBody>
      </p:sp>
      <p:graphicFrame>
        <p:nvGraphicFramePr>
          <p:cNvPr id="1390" name=""/>
          <p:cNvGraphicFramePr/>
          <p:nvPr/>
        </p:nvGraphicFramePr>
        <p:xfrm>
          <a:off x="1447920" y="1905120"/>
          <a:ext cx="6475320" cy="3644640"/>
        </p:xfrm>
        <a:graphic>
          <a:graphicData uri="http://schemas.openxmlformats.org/presentationml/2006/ole">
            <p:oleObj progId="Word.Document.12" r:id="rId1" spid="">
              <p:embed/>
              <p:pic>
                <p:nvPicPr>
                  <p:cNvPr id="1391" name="" descr=""/>
                  <p:cNvPicPr/>
                  <p:nvPr/>
                </p:nvPicPr>
                <p:blipFill>
                  <a:blip r:embed="rId2"/>
                  <a:stretch/>
                </p:blipFill>
                <p:spPr>
                  <a:xfrm>
                    <a:off x="1447920" y="1905120"/>
                    <a:ext cx="6475320" cy="3644640"/>
                  </a:xfrm>
                  <a:prstGeom prst="rect">
                    <a:avLst/>
                  </a:prstGeom>
                  <a:ln w="0">
                    <a:noFill/>
                  </a:ln>
                </p:spPr>
              </p:pic>
            </p:oleObj>
          </a:graphicData>
        </a:graphic>
      </p:graphicFrame>
      <p:sp>
        <p:nvSpPr>
          <p:cNvPr id="1392" name=""/>
          <p:cNvSpPr/>
          <p:nvPr/>
        </p:nvSpPr>
        <p:spPr>
          <a:xfrm>
            <a:off x="1347480" y="5473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7B714BD9-2B0D-4FB3-B5BB-657344E70CA4}" type="slidenum">
              <a:t>28</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Solution Evaluation Matrix </a:t>
            </a:r>
            <a:endParaRPr b="0" lang="en-US" sz="3600" spc="-1" strike="noStrike">
              <a:solidFill>
                <a:srgbClr val="000000"/>
              </a:solidFill>
              <a:latin typeface="Times New Roman"/>
            </a:endParaRPr>
          </a:p>
        </p:txBody>
      </p:sp>
      <p:graphicFrame>
        <p:nvGraphicFramePr>
          <p:cNvPr id="1394" name=""/>
          <p:cNvGraphicFramePr/>
          <p:nvPr/>
        </p:nvGraphicFramePr>
        <p:xfrm>
          <a:off x="1447920" y="1625760"/>
          <a:ext cx="6473880" cy="4168440"/>
        </p:xfrm>
        <a:graphic>
          <a:graphicData uri="http://schemas.openxmlformats.org/presentationml/2006/ole">
            <p:oleObj progId="Word.Document.12" r:id="rId1" spid="">
              <p:embed/>
              <p:pic>
                <p:nvPicPr>
                  <p:cNvPr id="1395" name="" descr=""/>
                  <p:cNvPicPr/>
                  <p:nvPr/>
                </p:nvPicPr>
                <p:blipFill>
                  <a:blip r:embed="rId2"/>
                  <a:stretch/>
                </p:blipFill>
                <p:spPr>
                  <a:xfrm>
                    <a:off x="1447920" y="1625760"/>
                    <a:ext cx="6473880" cy="4168440"/>
                  </a:xfrm>
                  <a:prstGeom prst="rect">
                    <a:avLst/>
                  </a:prstGeom>
                  <a:ln w="0">
                    <a:noFill/>
                  </a:ln>
                </p:spPr>
              </p:pic>
            </p:oleObj>
          </a:graphicData>
        </a:graphic>
      </p:graphicFrame>
      <p:sp>
        <p:nvSpPr>
          <p:cNvPr id="1396" name=""/>
          <p:cNvSpPr/>
          <p:nvPr/>
        </p:nvSpPr>
        <p:spPr>
          <a:xfrm>
            <a:off x="1347480" y="567612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FDC76CA2-2893-4C14-9599-AD39A58FA577}" type="slidenum">
              <a:t>29</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odulation Characteristics</a:t>
            </a:r>
            <a:endParaRPr b="0" lang="en-US" sz="3600" spc="-1" strike="noStrike">
              <a:solidFill>
                <a:srgbClr val="f0072e"/>
              </a:solidFill>
              <a:latin typeface="Arial"/>
            </a:endParaRPr>
          </a:p>
        </p:txBody>
      </p:sp>
      <p:sp>
        <p:nvSpPr>
          <p:cNvPr id="4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1600 Hops/sec) for backward compatibility (w.r.t network synchronization) with the 802.15.1 specificatio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QAM PHY layer operates at a modulation rate of 4 MBaud with a 20 dB signal bandwidth of 5 MHz</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excess bandwidth to achieve low Peak-to-Average-Ratio (PAR)</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aptive data rates of 8, 12, 16, 20 Mbit/sec</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835CF467-1283-4400-8F8C-2ECE8040DDFB}" type="slidenum">
              <a:t>3</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5 MHz FH System</a:t>
            </a:r>
            <a:endParaRPr b="0" lang="en-US" sz="3600" spc="-1" strike="noStrike">
              <a:solidFill>
                <a:srgbClr val="f0072e"/>
              </a:solidFill>
              <a:latin typeface="Arial"/>
            </a:endParaRPr>
          </a:p>
        </p:txBody>
      </p:sp>
      <p:sp>
        <p:nvSpPr>
          <p:cNvPr id="51" name="PlaceHolder 2"/>
          <p:cNvSpPr>
            <a:spLocks noGrp="1"/>
          </p:cNvSpPr>
          <p:nvPr>
            <p:ph/>
          </p:nvPr>
        </p:nvSpPr>
        <p:spPr>
          <a:xfrm>
            <a:off x="380880" y="1219320"/>
            <a:ext cx="8305920" cy="4952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fter a 2-year debate and thorough technical analysis, FCC is likely to approve the use of 5 MHz FH systems for high data rate wireless communications in the unlicensed radio spectru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tensive field tests (3600 experiments) conducted by UCLA Electrical Engineering Department showed good performance within 17 m radius for uncoded 5 MHz multi-mode QAM systems supporting 20+ Mbps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systems require less power compared to wideband non-hopping system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SNR and front-end linearity required by multi-level QAM modulation can be offset by simple 8-State TCM, which achieves ~3.5 dB coding gai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is effective in dealing with narrowband interfere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06837C39-8B68-44DA-A587-D6A23F44F7B3}" type="slidenum">
              <a:t>4</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53" name=""/>
          <p:cNvGrpSpPr/>
          <p:nvPr/>
        </p:nvGrpSpPr>
        <p:grpSpPr>
          <a:xfrm>
            <a:off x="639720" y="1905120"/>
            <a:ext cx="5222880" cy="3666960"/>
            <a:chOff x="639720" y="1905120"/>
            <a:chExt cx="5222880" cy="3666960"/>
          </a:xfrm>
        </p:grpSpPr>
        <p:sp>
          <p:nvSpPr>
            <p:cNvPr id="54"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5"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2"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3"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4"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5"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6"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7"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8"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9"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1"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2"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6"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7"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8"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9"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0"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1"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3"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4"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5"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3306600" y="2651040"/>
              <a:ext cx="266400" cy="266400"/>
              <a:chOff x="3306600" y="2651040"/>
              <a:chExt cx="266400" cy="266400"/>
            </a:xfrm>
          </p:grpSpPr>
          <p:sp>
            <p:nvSpPr>
              <p:cNvPr id="120"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2520" y="2646360"/>
              <a:ext cx="266400" cy="266400"/>
              <a:chOff x="1352520" y="2646360"/>
              <a:chExt cx="266400" cy="266400"/>
            </a:xfrm>
          </p:grpSpPr>
          <p:sp>
            <p:nvSpPr>
              <p:cNvPr id="123"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300480" y="4614840"/>
              <a:ext cx="266400" cy="266400"/>
              <a:chOff x="3300480" y="4614840"/>
              <a:chExt cx="266400" cy="266400"/>
            </a:xfrm>
          </p:grpSpPr>
          <p:sp>
            <p:nvSpPr>
              <p:cNvPr id="127"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6040" y="4619520"/>
              <a:ext cx="266400" cy="266400"/>
              <a:chOff x="1346040" y="4619520"/>
              <a:chExt cx="266400" cy="266400"/>
            </a:xfrm>
          </p:grpSpPr>
          <p:sp>
            <p:nvSpPr>
              <p:cNvPr id="130"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136"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137"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138"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516360" y="2886120"/>
            <a:ext cx="1762200" cy="1771560"/>
            <a:chOff x="6516360" y="2886120"/>
            <a:chExt cx="1762200" cy="1771560"/>
          </a:xfrm>
        </p:grpSpPr>
        <p:sp>
          <p:nvSpPr>
            <p:cNvPr id="144"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5"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6"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7"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1"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CBDB8BAF-9AC5-4756-AEA5-6783CACA0109}" type="slidenum">
              <a:t>5</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Mode TCM Encoder</a:t>
            </a:r>
            <a:endParaRPr b="0" lang="en-US" sz="3600" spc="-1" strike="noStrike">
              <a:solidFill>
                <a:srgbClr val="f0072e"/>
              </a:solidFill>
              <a:latin typeface="Arial"/>
            </a:endParaRPr>
          </a:p>
        </p:txBody>
      </p:sp>
      <p:sp>
        <p:nvSpPr>
          <p:cNvPr id="156"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089080" y="4820760"/>
            <a:ext cx="3047760" cy="622800"/>
            <a:chOff x="2089080" y="4820760"/>
            <a:chExt cx="3047760" cy="622800"/>
          </a:xfrm>
        </p:grpSpPr>
        <p:grpSp>
          <p:nvGrpSpPr>
            <p:cNvPr id="161" name=""/>
            <p:cNvGrpSpPr/>
            <p:nvPr/>
          </p:nvGrpSpPr>
          <p:grpSpPr>
            <a:xfrm>
              <a:off x="2393640" y="4834080"/>
              <a:ext cx="381240" cy="315360"/>
              <a:chOff x="2393640" y="4834080"/>
              <a:chExt cx="381240" cy="315360"/>
            </a:xfrm>
          </p:grpSpPr>
          <p:sp>
            <p:nvSpPr>
              <p:cNvPr id="162"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64" name=""/>
            <p:cNvGrpSpPr/>
            <p:nvPr/>
          </p:nvGrpSpPr>
          <p:grpSpPr>
            <a:xfrm>
              <a:off x="2887560" y="4824000"/>
              <a:ext cx="299520" cy="337320"/>
              <a:chOff x="2887560" y="4824000"/>
              <a:chExt cx="299520" cy="337320"/>
            </a:xfrm>
          </p:grpSpPr>
          <p:sp>
            <p:nvSpPr>
              <p:cNvPr id="165"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167" name=""/>
            <p:cNvGrpSpPr/>
            <p:nvPr/>
          </p:nvGrpSpPr>
          <p:grpSpPr>
            <a:xfrm>
              <a:off x="3301920" y="4834080"/>
              <a:ext cx="380880" cy="315360"/>
              <a:chOff x="3301920" y="4834080"/>
              <a:chExt cx="380880" cy="315360"/>
            </a:xfrm>
          </p:grpSpPr>
          <p:sp>
            <p:nvSpPr>
              <p:cNvPr id="168"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0" name=""/>
            <p:cNvGrpSpPr/>
            <p:nvPr/>
          </p:nvGrpSpPr>
          <p:grpSpPr>
            <a:xfrm>
              <a:off x="4216320" y="4830840"/>
              <a:ext cx="380880" cy="315360"/>
              <a:chOff x="4216320" y="4830840"/>
              <a:chExt cx="380880" cy="315360"/>
            </a:xfrm>
          </p:grpSpPr>
          <p:sp>
            <p:nvSpPr>
              <p:cNvPr id="171"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3" name=""/>
            <p:cNvGrpSpPr/>
            <p:nvPr/>
          </p:nvGrpSpPr>
          <p:grpSpPr>
            <a:xfrm>
              <a:off x="3805200" y="4820760"/>
              <a:ext cx="299520" cy="337320"/>
              <a:chOff x="3805200" y="4820760"/>
              <a:chExt cx="299520" cy="337320"/>
            </a:xfrm>
          </p:grpSpPr>
          <p:sp>
            <p:nvSpPr>
              <p:cNvPr id="174"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76"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2"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94"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95"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96"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97"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200"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201" name=""/>
          <p:cNvGrpSpPr/>
          <p:nvPr/>
        </p:nvGrpSpPr>
        <p:grpSpPr>
          <a:xfrm>
            <a:off x="5130360" y="4665600"/>
            <a:ext cx="838440" cy="838440"/>
            <a:chOff x="5130360" y="4665600"/>
            <a:chExt cx="838440" cy="838440"/>
          </a:xfrm>
        </p:grpSpPr>
        <p:sp>
          <p:nvSpPr>
            <p:cNvPr id="202"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3"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4"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5"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6"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7"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8"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9"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0"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97000" y="1371600"/>
            <a:ext cx="1600200" cy="1519200"/>
            <a:chOff x="4797000" y="1371600"/>
            <a:chExt cx="1600200" cy="1519200"/>
          </a:xfrm>
        </p:grpSpPr>
        <p:sp>
          <p:nvSpPr>
            <p:cNvPr id="213"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4"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8"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9"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5"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9"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0"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1"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2"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7"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8"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9"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0"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1"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2"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3"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4"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5"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6"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7"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8"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9"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0"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1"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2"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3"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4"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5"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6"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7"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8"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9"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3"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4"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5"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6"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7"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963760" y="1677240"/>
              <a:ext cx="116280" cy="110160"/>
              <a:chOff x="5963760" y="1677240"/>
              <a:chExt cx="116280" cy="110160"/>
            </a:xfrm>
          </p:grpSpPr>
          <p:sp>
            <p:nvSpPr>
              <p:cNvPr id="279"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5109840" y="1675440"/>
              <a:ext cx="116280" cy="110520"/>
              <a:chOff x="5109840" y="1675440"/>
              <a:chExt cx="116280" cy="110520"/>
            </a:xfrm>
          </p:grpSpPr>
          <p:sp>
            <p:nvSpPr>
              <p:cNvPr id="282"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5960520" y="2493360"/>
              <a:ext cx="117720" cy="110160"/>
              <a:chOff x="5960520" y="2493360"/>
              <a:chExt cx="117720" cy="110160"/>
            </a:xfrm>
          </p:grpSpPr>
          <p:sp>
            <p:nvSpPr>
              <p:cNvPr id="286"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5106960" y="2494440"/>
              <a:ext cx="116280" cy="110520"/>
              <a:chOff x="5106960" y="2494440"/>
              <a:chExt cx="116280" cy="110520"/>
            </a:xfrm>
          </p:grpSpPr>
          <p:sp>
            <p:nvSpPr>
              <p:cNvPr id="289"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299"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300"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301"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302"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303"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304"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305"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B722C37-2398-4C98-A17A-0B4C8689EDE2}" type="slidenum">
              <a:t>6</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307" name=""/>
          <p:cNvGrpSpPr/>
          <p:nvPr/>
        </p:nvGrpSpPr>
        <p:grpSpPr>
          <a:xfrm>
            <a:off x="1835640" y="4052880"/>
            <a:ext cx="4870080" cy="2454840"/>
            <a:chOff x="1835640" y="4052880"/>
            <a:chExt cx="4870080" cy="2454840"/>
          </a:xfrm>
        </p:grpSpPr>
        <p:grpSp>
          <p:nvGrpSpPr>
            <p:cNvPr id="308" name=""/>
            <p:cNvGrpSpPr/>
            <p:nvPr/>
          </p:nvGrpSpPr>
          <p:grpSpPr>
            <a:xfrm>
              <a:off x="3963960" y="4229280"/>
              <a:ext cx="42840" cy="2176200"/>
              <a:chOff x="3963960" y="4229280"/>
              <a:chExt cx="42840" cy="2176200"/>
            </a:xfrm>
          </p:grpSpPr>
          <p:sp>
            <p:nvSpPr>
              <p:cNvPr id="309"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1"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2"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3"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4"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5"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6"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17" name=""/>
            <p:cNvGrpSpPr/>
            <p:nvPr/>
          </p:nvGrpSpPr>
          <p:grpSpPr>
            <a:xfrm>
              <a:off x="2604960" y="4224600"/>
              <a:ext cx="42840" cy="2176200"/>
              <a:chOff x="2604960" y="4224600"/>
              <a:chExt cx="42840" cy="2176200"/>
            </a:xfrm>
          </p:grpSpPr>
          <p:sp>
            <p:nvSpPr>
              <p:cNvPr id="318"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9"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0"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1"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2"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3"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4"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5"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26" name=""/>
            <p:cNvGrpSpPr/>
            <p:nvPr/>
          </p:nvGrpSpPr>
          <p:grpSpPr>
            <a:xfrm>
              <a:off x="5310360" y="4227480"/>
              <a:ext cx="42840" cy="2176200"/>
              <a:chOff x="5310360" y="4227480"/>
              <a:chExt cx="42840" cy="2176200"/>
            </a:xfrm>
          </p:grpSpPr>
          <p:sp>
            <p:nvSpPr>
              <p:cNvPr id="327"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8"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9"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0"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1"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2"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3"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4"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35"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662880" y="4221360"/>
              <a:ext cx="42840" cy="2176200"/>
              <a:chOff x="6662880" y="4221360"/>
              <a:chExt cx="42840" cy="2176200"/>
            </a:xfrm>
          </p:grpSpPr>
          <p:sp>
            <p:nvSpPr>
              <p:cNvPr id="338"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9"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0"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4"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5"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46"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2617920" y="5465880"/>
              <a:ext cx="1377720" cy="920880"/>
              <a:chOff x="2617920" y="5465880"/>
              <a:chExt cx="1377720" cy="920880"/>
            </a:xfrm>
          </p:grpSpPr>
          <p:sp>
            <p:nvSpPr>
              <p:cNvPr id="351"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2624040" y="4551480"/>
              <a:ext cx="1365120" cy="1828800"/>
              <a:chOff x="2624040" y="4551480"/>
              <a:chExt cx="1365120" cy="1828800"/>
            </a:xfrm>
          </p:grpSpPr>
          <p:sp>
            <p:nvSpPr>
              <p:cNvPr id="356"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617920" y="4253040"/>
              <a:ext cx="1365120" cy="1828800"/>
              <a:chOff x="2617920" y="4253040"/>
              <a:chExt cx="1365120" cy="1828800"/>
            </a:xfrm>
          </p:grpSpPr>
          <p:sp>
            <p:nvSpPr>
              <p:cNvPr id="361"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2617920" y="4246560"/>
              <a:ext cx="1371600" cy="914400"/>
              <a:chOff x="2617920" y="4246560"/>
              <a:chExt cx="1371600" cy="914400"/>
            </a:xfrm>
          </p:grpSpPr>
          <p:sp>
            <p:nvSpPr>
              <p:cNvPr id="366"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617920" y="5465880"/>
              <a:ext cx="1371600" cy="914400"/>
              <a:chOff x="2617920" y="5465880"/>
              <a:chExt cx="1371600" cy="914400"/>
            </a:xfrm>
          </p:grpSpPr>
          <p:sp>
            <p:nvSpPr>
              <p:cNvPr id="371"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624040" y="5160960"/>
              <a:ext cx="1365120" cy="1225800"/>
              <a:chOff x="2624040" y="5160960"/>
              <a:chExt cx="1365120" cy="1225800"/>
            </a:xfrm>
          </p:grpSpPr>
          <p:sp>
            <p:nvSpPr>
              <p:cNvPr id="376"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2624040" y="4240440"/>
              <a:ext cx="1365120" cy="1225440"/>
              <a:chOff x="2624040" y="4240440"/>
              <a:chExt cx="1365120" cy="1225440"/>
            </a:xfrm>
          </p:grpSpPr>
          <p:sp>
            <p:nvSpPr>
              <p:cNvPr id="381"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837440" y="4138920"/>
              <a:ext cx="731880" cy="235440"/>
              <a:chOff x="1837440" y="4138920"/>
              <a:chExt cx="731880" cy="235440"/>
            </a:xfrm>
          </p:grpSpPr>
          <p:sp>
            <p:nvSpPr>
              <p:cNvPr id="388"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389"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0"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391"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392" name=""/>
            <p:cNvGrpSpPr/>
            <p:nvPr/>
          </p:nvGrpSpPr>
          <p:grpSpPr>
            <a:xfrm>
              <a:off x="1835640" y="4443480"/>
              <a:ext cx="731880" cy="235440"/>
              <a:chOff x="1835640" y="4443480"/>
              <a:chExt cx="731880" cy="235440"/>
            </a:xfrm>
          </p:grpSpPr>
          <p:sp>
            <p:nvSpPr>
              <p:cNvPr id="393"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394"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395"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396"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397" name=""/>
            <p:cNvGrpSpPr/>
            <p:nvPr/>
          </p:nvGrpSpPr>
          <p:grpSpPr>
            <a:xfrm>
              <a:off x="1835640" y="4751640"/>
              <a:ext cx="731880" cy="235440"/>
              <a:chOff x="1835640" y="4751640"/>
              <a:chExt cx="731880" cy="235440"/>
            </a:xfrm>
          </p:grpSpPr>
          <p:sp>
            <p:nvSpPr>
              <p:cNvPr id="398"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9"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00"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01"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402" name=""/>
            <p:cNvGrpSpPr/>
            <p:nvPr/>
          </p:nvGrpSpPr>
          <p:grpSpPr>
            <a:xfrm>
              <a:off x="1835640" y="5059440"/>
              <a:ext cx="731880" cy="235440"/>
              <a:chOff x="1835640" y="5059440"/>
              <a:chExt cx="731880" cy="235440"/>
            </a:xfrm>
          </p:grpSpPr>
          <p:sp>
            <p:nvSpPr>
              <p:cNvPr id="403"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05"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06"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407" name=""/>
            <p:cNvGrpSpPr/>
            <p:nvPr/>
          </p:nvGrpSpPr>
          <p:grpSpPr>
            <a:xfrm>
              <a:off x="1835640" y="5357880"/>
              <a:ext cx="731880" cy="235440"/>
              <a:chOff x="1835640" y="5357880"/>
              <a:chExt cx="731880" cy="235440"/>
            </a:xfrm>
          </p:grpSpPr>
          <p:sp>
            <p:nvSpPr>
              <p:cNvPr id="408"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09"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0"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11"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412" name=""/>
            <p:cNvGrpSpPr/>
            <p:nvPr/>
          </p:nvGrpSpPr>
          <p:grpSpPr>
            <a:xfrm>
              <a:off x="1835640" y="5662800"/>
              <a:ext cx="731880" cy="235440"/>
              <a:chOff x="1835640" y="5662800"/>
              <a:chExt cx="731880" cy="235440"/>
            </a:xfrm>
          </p:grpSpPr>
          <p:sp>
            <p:nvSpPr>
              <p:cNvPr id="413"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14"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15"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16"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417" name=""/>
            <p:cNvGrpSpPr/>
            <p:nvPr/>
          </p:nvGrpSpPr>
          <p:grpSpPr>
            <a:xfrm>
              <a:off x="1835640" y="5958000"/>
              <a:ext cx="731880" cy="235440"/>
              <a:chOff x="1835640" y="5958000"/>
              <a:chExt cx="731880" cy="235440"/>
            </a:xfrm>
          </p:grpSpPr>
          <p:sp>
            <p:nvSpPr>
              <p:cNvPr id="418"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9"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20"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1"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422" name=""/>
            <p:cNvGrpSpPr/>
            <p:nvPr/>
          </p:nvGrpSpPr>
          <p:grpSpPr>
            <a:xfrm>
              <a:off x="1835640" y="6272280"/>
              <a:ext cx="731880" cy="235440"/>
              <a:chOff x="1835640" y="6272280"/>
              <a:chExt cx="731880" cy="235440"/>
            </a:xfrm>
          </p:grpSpPr>
          <p:sp>
            <p:nvSpPr>
              <p:cNvPr id="423"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24"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25"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26"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427"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28"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9"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30"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431" name=""/>
          <p:cNvGrpSpPr/>
          <p:nvPr/>
        </p:nvGrpSpPr>
        <p:grpSpPr>
          <a:xfrm>
            <a:off x="4419720" y="1400040"/>
            <a:ext cx="304560" cy="304560"/>
            <a:chOff x="4419720" y="1400040"/>
            <a:chExt cx="304560" cy="304560"/>
          </a:xfrm>
        </p:grpSpPr>
        <p:sp>
          <p:nvSpPr>
            <p:cNvPr id="432"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0"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73400" y="1920960"/>
            <a:ext cx="304560" cy="304200"/>
            <a:chOff x="2273400" y="1920960"/>
            <a:chExt cx="304560" cy="304200"/>
          </a:xfrm>
        </p:grpSpPr>
        <p:sp>
          <p:nvSpPr>
            <p:cNvPr id="449"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0"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1"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6"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7"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8"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9"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0"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4"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465" name=""/>
          <p:cNvGrpSpPr/>
          <p:nvPr/>
        </p:nvGrpSpPr>
        <p:grpSpPr>
          <a:xfrm>
            <a:off x="1206360" y="2454120"/>
            <a:ext cx="304560" cy="304920"/>
            <a:chOff x="1206360" y="2454120"/>
            <a:chExt cx="304560" cy="304920"/>
          </a:xfrm>
        </p:grpSpPr>
        <p:sp>
          <p:nvSpPr>
            <p:cNvPr id="466"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7"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8"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9"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0"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1"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2"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5"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6"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7"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8"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9"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0"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0240" y="2987640"/>
            <a:ext cx="304560" cy="304920"/>
            <a:chOff x="660240" y="2987640"/>
            <a:chExt cx="304560" cy="304920"/>
          </a:xfrm>
        </p:grpSpPr>
        <p:sp>
          <p:nvSpPr>
            <p:cNvPr id="483"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4"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5"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6"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7"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8"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0"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1"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2"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3"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4"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6"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7"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99" name=""/>
          <p:cNvGrpSpPr/>
          <p:nvPr/>
        </p:nvGrpSpPr>
        <p:grpSpPr>
          <a:xfrm>
            <a:off x="380880" y="3533760"/>
            <a:ext cx="304920" cy="304920"/>
            <a:chOff x="380880" y="3533760"/>
            <a:chExt cx="304920" cy="304920"/>
          </a:xfrm>
        </p:grpSpPr>
        <p:sp>
          <p:nvSpPr>
            <p:cNvPr id="500"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1"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3"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4"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5"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6"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7"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8"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0"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1"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2"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3"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4"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5"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16" name=""/>
          <p:cNvGrpSpPr/>
          <p:nvPr/>
        </p:nvGrpSpPr>
        <p:grpSpPr>
          <a:xfrm>
            <a:off x="6579000" y="1920960"/>
            <a:ext cx="304560" cy="304200"/>
            <a:chOff x="6579000" y="1920960"/>
            <a:chExt cx="304560" cy="304200"/>
          </a:xfrm>
        </p:grpSpPr>
        <p:sp>
          <p:nvSpPr>
            <p:cNvPr id="517"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8"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0"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1"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6"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7"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8"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9"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2"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33" name=""/>
          <p:cNvGrpSpPr/>
          <p:nvPr/>
        </p:nvGrpSpPr>
        <p:grpSpPr>
          <a:xfrm>
            <a:off x="3340080" y="2453760"/>
            <a:ext cx="304560" cy="304920"/>
            <a:chOff x="3340080" y="2453760"/>
            <a:chExt cx="304560" cy="304920"/>
          </a:xfrm>
        </p:grpSpPr>
        <p:sp>
          <p:nvSpPr>
            <p:cNvPr id="534"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5"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6"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7"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8"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9"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0"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1"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2"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3"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4"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6"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50" name=""/>
          <p:cNvGrpSpPr/>
          <p:nvPr/>
        </p:nvGrpSpPr>
        <p:grpSpPr>
          <a:xfrm>
            <a:off x="7620120" y="2454120"/>
            <a:ext cx="304560" cy="304920"/>
            <a:chOff x="7620120" y="2454120"/>
            <a:chExt cx="304560" cy="304920"/>
          </a:xfrm>
        </p:grpSpPr>
        <p:sp>
          <p:nvSpPr>
            <p:cNvPr id="551"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2"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3"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4"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5"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6"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7" name=""/>
          <p:cNvGrpSpPr/>
          <p:nvPr/>
        </p:nvGrpSpPr>
        <p:grpSpPr>
          <a:xfrm>
            <a:off x="5486400" y="2453760"/>
            <a:ext cx="304560" cy="304920"/>
            <a:chOff x="5486400" y="2453760"/>
            <a:chExt cx="304560" cy="304920"/>
          </a:xfrm>
        </p:grpSpPr>
        <p:sp>
          <p:nvSpPr>
            <p:cNvPr id="568"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9"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0"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1"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2"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3"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4"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5"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6"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7"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8"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9"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0"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84" name=""/>
          <p:cNvGrpSpPr/>
          <p:nvPr/>
        </p:nvGrpSpPr>
        <p:grpSpPr>
          <a:xfrm>
            <a:off x="5994360" y="2987280"/>
            <a:ext cx="304920" cy="304920"/>
            <a:chOff x="5994360" y="2987280"/>
            <a:chExt cx="304920" cy="304920"/>
          </a:xfrm>
        </p:grpSpPr>
        <p:sp>
          <p:nvSpPr>
            <p:cNvPr id="585" name=""/>
            <p:cNvSpPr/>
            <p:nvPr/>
          </p:nvSpPr>
          <p:spPr>
            <a:xfrm flipV="1">
              <a:off x="59943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flipV="1">
              <a:off x="60818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flipV="1">
              <a:off x="61689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flipV="1">
              <a:off x="62564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flipV="1">
              <a:off x="5994360" y="31615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flipV="1">
              <a:off x="60818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flipV="1">
              <a:off x="61689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flipV="1">
              <a:off x="62564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flipV="1">
              <a:off x="59943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flipV="1">
              <a:off x="60818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flipV="1">
              <a:off x="61689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6" name=""/>
            <p:cNvSpPr/>
            <p:nvPr/>
          </p:nvSpPr>
          <p:spPr>
            <a:xfrm flipV="1">
              <a:off x="62564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7" name=""/>
            <p:cNvSpPr/>
            <p:nvPr/>
          </p:nvSpPr>
          <p:spPr>
            <a:xfrm flipV="1">
              <a:off x="59943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flipV="1">
              <a:off x="60818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flipV="1">
              <a:off x="6168960" y="2986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flipV="1">
              <a:off x="62564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01" name=""/>
          <p:cNvGrpSpPr/>
          <p:nvPr/>
        </p:nvGrpSpPr>
        <p:grpSpPr>
          <a:xfrm>
            <a:off x="2781360" y="2987280"/>
            <a:ext cx="304560" cy="304920"/>
            <a:chOff x="2781360" y="2987280"/>
            <a:chExt cx="304560" cy="304920"/>
          </a:xfrm>
        </p:grpSpPr>
        <p:sp>
          <p:nvSpPr>
            <p:cNvPr id="602"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4"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8" name=""/>
          <p:cNvGrpSpPr/>
          <p:nvPr/>
        </p:nvGrpSpPr>
        <p:grpSpPr>
          <a:xfrm>
            <a:off x="4915080" y="2987640"/>
            <a:ext cx="304560" cy="304920"/>
            <a:chOff x="4915080" y="2987640"/>
            <a:chExt cx="304560" cy="304920"/>
          </a:xfrm>
        </p:grpSpPr>
        <p:sp>
          <p:nvSpPr>
            <p:cNvPr id="619" name=""/>
            <p:cNvSpPr/>
            <p:nvPr/>
          </p:nvSpPr>
          <p:spPr>
            <a:xfrm flipH="1">
              <a:off x="51764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flipH="1">
              <a:off x="508932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flipH="1">
              <a:off x="5001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flipH="1">
              <a:off x="491472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flipH="1">
              <a:off x="51764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flipH="1">
              <a:off x="508932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flipH="1">
              <a:off x="5001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flipH="1">
              <a:off x="491472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flipH="1">
              <a:off x="51764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flipH="1">
              <a:off x="508932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flipH="1">
              <a:off x="5001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0" name=""/>
            <p:cNvSpPr/>
            <p:nvPr/>
          </p:nvSpPr>
          <p:spPr>
            <a:xfrm flipH="1">
              <a:off x="491472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1" name=""/>
            <p:cNvSpPr/>
            <p:nvPr/>
          </p:nvSpPr>
          <p:spPr>
            <a:xfrm flipH="1">
              <a:off x="51764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2" name=""/>
            <p:cNvSpPr/>
            <p:nvPr/>
          </p:nvSpPr>
          <p:spPr>
            <a:xfrm flipH="1">
              <a:off x="508932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3" name=""/>
            <p:cNvSpPr/>
            <p:nvPr/>
          </p:nvSpPr>
          <p:spPr>
            <a:xfrm flipH="1">
              <a:off x="5001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4" name=""/>
            <p:cNvSpPr/>
            <p:nvPr/>
          </p:nvSpPr>
          <p:spPr>
            <a:xfrm flipH="1">
              <a:off x="491472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5" name=""/>
          <p:cNvGrpSpPr/>
          <p:nvPr/>
        </p:nvGrpSpPr>
        <p:grpSpPr>
          <a:xfrm>
            <a:off x="1727280" y="2987640"/>
            <a:ext cx="304560" cy="304920"/>
            <a:chOff x="1727280" y="2987640"/>
            <a:chExt cx="304560" cy="304920"/>
          </a:xfrm>
        </p:grpSpPr>
        <p:sp>
          <p:nvSpPr>
            <p:cNvPr id="636"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7"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8"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9"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5"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6"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7"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8"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52" name=""/>
          <p:cNvGrpSpPr/>
          <p:nvPr/>
        </p:nvGrpSpPr>
        <p:grpSpPr>
          <a:xfrm>
            <a:off x="3848040" y="2987280"/>
            <a:ext cx="304560" cy="304920"/>
            <a:chOff x="3848040" y="2987280"/>
            <a:chExt cx="304560" cy="304920"/>
          </a:xfrm>
        </p:grpSpPr>
        <p:sp>
          <p:nvSpPr>
            <p:cNvPr id="653"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5"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9" name=""/>
          <p:cNvGrpSpPr/>
          <p:nvPr/>
        </p:nvGrpSpPr>
        <p:grpSpPr>
          <a:xfrm>
            <a:off x="7061040" y="2987280"/>
            <a:ext cx="304560" cy="304920"/>
            <a:chOff x="7061040" y="2987280"/>
            <a:chExt cx="304560" cy="304920"/>
          </a:xfrm>
        </p:grpSpPr>
        <p:sp>
          <p:nvSpPr>
            <p:cNvPr id="670" name=""/>
            <p:cNvSpPr/>
            <p:nvPr/>
          </p:nvSpPr>
          <p:spPr>
            <a:xfrm flipV="1">
              <a:off x="70610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V="1">
              <a:off x="71481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V="1">
              <a:off x="7235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V="1">
              <a:off x="732276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V="1">
              <a:off x="70610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V="1">
              <a:off x="71481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V="1">
              <a:off x="7235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V="1">
              <a:off x="73227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V="1">
              <a:off x="70610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V="1">
              <a:off x="714816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V="1">
              <a:off x="72356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1" name=""/>
            <p:cNvSpPr/>
            <p:nvPr/>
          </p:nvSpPr>
          <p:spPr>
            <a:xfrm flipV="1">
              <a:off x="73227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2" name=""/>
            <p:cNvSpPr/>
            <p:nvPr/>
          </p:nvSpPr>
          <p:spPr>
            <a:xfrm flipV="1">
              <a:off x="70610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71481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7235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73227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6" name=""/>
          <p:cNvGrpSpPr/>
          <p:nvPr/>
        </p:nvGrpSpPr>
        <p:grpSpPr>
          <a:xfrm>
            <a:off x="8115480" y="2987280"/>
            <a:ext cx="304560" cy="304920"/>
            <a:chOff x="8115480" y="2987280"/>
            <a:chExt cx="304560" cy="304920"/>
          </a:xfrm>
        </p:grpSpPr>
        <p:sp>
          <p:nvSpPr>
            <p:cNvPr id="687" name=""/>
            <p:cNvSpPr/>
            <p:nvPr/>
          </p:nvSpPr>
          <p:spPr>
            <a:xfrm flipV="1">
              <a:off x="81154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82026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82900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8377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81154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8202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82900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8377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81154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8202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82900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8" name=""/>
            <p:cNvSpPr/>
            <p:nvPr/>
          </p:nvSpPr>
          <p:spPr>
            <a:xfrm flipV="1">
              <a:off x="83772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9" name=""/>
            <p:cNvSpPr/>
            <p:nvPr/>
          </p:nvSpPr>
          <p:spPr>
            <a:xfrm flipV="1">
              <a:off x="81154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8202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82900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8377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3" name=""/>
          <p:cNvGrpSpPr/>
          <p:nvPr/>
        </p:nvGrpSpPr>
        <p:grpSpPr>
          <a:xfrm>
            <a:off x="914400" y="3533760"/>
            <a:ext cx="304920" cy="304920"/>
            <a:chOff x="914400" y="3533760"/>
            <a:chExt cx="304920" cy="304920"/>
          </a:xfrm>
        </p:grpSpPr>
        <p:sp>
          <p:nvSpPr>
            <p:cNvPr id="704"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5"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6"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20" name=""/>
          <p:cNvGrpSpPr/>
          <p:nvPr/>
        </p:nvGrpSpPr>
        <p:grpSpPr>
          <a:xfrm>
            <a:off x="1447920" y="3533760"/>
            <a:ext cx="304560" cy="304920"/>
            <a:chOff x="1447920" y="3533760"/>
            <a:chExt cx="304560" cy="304920"/>
          </a:xfrm>
        </p:grpSpPr>
        <p:sp>
          <p:nvSpPr>
            <p:cNvPr id="721"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a:off x="1535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2" name=""/>
            <p:cNvSpPr/>
            <p:nvPr/>
          </p:nvSpPr>
          <p:spPr>
            <a:xfrm>
              <a:off x="170964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3"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7" name=""/>
          <p:cNvGrpSpPr/>
          <p:nvPr/>
        </p:nvGrpSpPr>
        <p:grpSpPr>
          <a:xfrm>
            <a:off x="1981080" y="3533760"/>
            <a:ext cx="304920" cy="304920"/>
            <a:chOff x="1981080" y="3533760"/>
            <a:chExt cx="304920" cy="304920"/>
          </a:xfrm>
        </p:grpSpPr>
        <p:sp>
          <p:nvSpPr>
            <p:cNvPr id="738"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a:off x="206856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9" name=""/>
            <p:cNvSpPr/>
            <p:nvPr/>
          </p:nvSpPr>
          <p:spPr>
            <a:xfrm>
              <a:off x="2243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4" name=""/>
          <p:cNvGrpSpPr/>
          <p:nvPr/>
        </p:nvGrpSpPr>
        <p:grpSpPr>
          <a:xfrm>
            <a:off x="2514600" y="3533760"/>
            <a:ext cx="304920" cy="304920"/>
            <a:chOff x="2514600" y="3533760"/>
            <a:chExt cx="304920" cy="304920"/>
          </a:xfrm>
        </p:grpSpPr>
        <p:sp>
          <p:nvSpPr>
            <p:cNvPr id="755"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6"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7"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1" name=""/>
          <p:cNvGrpSpPr/>
          <p:nvPr/>
        </p:nvGrpSpPr>
        <p:grpSpPr>
          <a:xfrm>
            <a:off x="3048120" y="3533760"/>
            <a:ext cx="304560" cy="304920"/>
            <a:chOff x="3048120" y="3533760"/>
            <a:chExt cx="304560" cy="304920"/>
          </a:xfrm>
        </p:grpSpPr>
        <p:sp>
          <p:nvSpPr>
            <p:cNvPr id="772"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3"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4"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8" name=""/>
          <p:cNvGrpSpPr/>
          <p:nvPr/>
        </p:nvGrpSpPr>
        <p:grpSpPr>
          <a:xfrm>
            <a:off x="3581280" y="3533760"/>
            <a:ext cx="304920" cy="304920"/>
            <a:chOff x="3581280" y="3533760"/>
            <a:chExt cx="304920" cy="304920"/>
          </a:xfrm>
        </p:grpSpPr>
        <p:sp>
          <p:nvSpPr>
            <p:cNvPr id="789"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a:off x="3581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0"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a:off x="375588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5" name=""/>
          <p:cNvGrpSpPr/>
          <p:nvPr/>
        </p:nvGrpSpPr>
        <p:grpSpPr>
          <a:xfrm>
            <a:off x="4114800" y="3533760"/>
            <a:ext cx="304920" cy="304920"/>
            <a:chOff x="4114800" y="3533760"/>
            <a:chExt cx="304920" cy="304920"/>
          </a:xfrm>
        </p:grpSpPr>
        <p:sp>
          <p:nvSpPr>
            <p:cNvPr id="806"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a:off x="411480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7"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8"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4289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2" name=""/>
          <p:cNvGrpSpPr/>
          <p:nvPr/>
        </p:nvGrpSpPr>
        <p:grpSpPr>
          <a:xfrm>
            <a:off x="4648320" y="3533760"/>
            <a:ext cx="304560" cy="304920"/>
            <a:chOff x="4648320" y="3533760"/>
            <a:chExt cx="304560" cy="304920"/>
          </a:xfrm>
        </p:grpSpPr>
        <p:sp>
          <p:nvSpPr>
            <p:cNvPr id="823"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4735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48229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4"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5"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9" name=""/>
          <p:cNvGrpSpPr/>
          <p:nvPr/>
        </p:nvGrpSpPr>
        <p:grpSpPr>
          <a:xfrm>
            <a:off x="5181480" y="3533760"/>
            <a:ext cx="304920" cy="304920"/>
            <a:chOff x="5181480" y="3533760"/>
            <a:chExt cx="304920" cy="304920"/>
          </a:xfrm>
        </p:grpSpPr>
        <p:sp>
          <p:nvSpPr>
            <p:cNvPr id="840" name=""/>
            <p:cNvSpPr/>
            <p:nvPr/>
          </p:nvSpPr>
          <p:spPr>
            <a:xfrm>
              <a:off x="5181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1"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2"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5443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56" name=""/>
          <p:cNvGrpSpPr/>
          <p:nvPr/>
        </p:nvGrpSpPr>
        <p:grpSpPr>
          <a:xfrm>
            <a:off x="5715000" y="3533760"/>
            <a:ext cx="304920" cy="304920"/>
            <a:chOff x="5715000" y="3533760"/>
            <a:chExt cx="304920" cy="304920"/>
          </a:xfrm>
        </p:grpSpPr>
        <p:sp>
          <p:nvSpPr>
            <p:cNvPr id="857"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57150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8"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9"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58896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73" name=""/>
          <p:cNvGrpSpPr/>
          <p:nvPr/>
        </p:nvGrpSpPr>
        <p:grpSpPr>
          <a:xfrm>
            <a:off x="6248520" y="3533760"/>
            <a:ext cx="304560" cy="304920"/>
            <a:chOff x="6248520" y="3533760"/>
            <a:chExt cx="304560" cy="304920"/>
          </a:xfrm>
        </p:grpSpPr>
        <p:sp>
          <p:nvSpPr>
            <p:cNvPr id="874"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642312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6510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5"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6"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90" name=""/>
          <p:cNvGrpSpPr/>
          <p:nvPr/>
        </p:nvGrpSpPr>
        <p:grpSpPr>
          <a:xfrm>
            <a:off x="6781680" y="3533760"/>
            <a:ext cx="304920" cy="304920"/>
            <a:chOff x="6781680" y="3533760"/>
            <a:chExt cx="304920" cy="304920"/>
          </a:xfrm>
        </p:grpSpPr>
        <p:sp>
          <p:nvSpPr>
            <p:cNvPr id="891" name=""/>
            <p:cNvSpPr/>
            <p:nvPr/>
          </p:nvSpPr>
          <p:spPr>
            <a:xfrm>
              <a:off x="6781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2"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3"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70437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07" name=""/>
          <p:cNvGrpSpPr/>
          <p:nvPr/>
        </p:nvGrpSpPr>
        <p:grpSpPr>
          <a:xfrm>
            <a:off x="7315200" y="3533760"/>
            <a:ext cx="304920" cy="304920"/>
            <a:chOff x="7315200" y="3533760"/>
            <a:chExt cx="304920" cy="304920"/>
          </a:xfrm>
        </p:grpSpPr>
        <p:sp>
          <p:nvSpPr>
            <p:cNvPr id="908"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74026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7489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9"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0"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24" name=""/>
          <p:cNvGrpSpPr/>
          <p:nvPr/>
        </p:nvGrpSpPr>
        <p:grpSpPr>
          <a:xfrm>
            <a:off x="7848720" y="3533760"/>
            <a:ext cx="304560" cy="304920"/>
            <a:chOff x="7848720" y="3533760"/>
            <a:chExt cx="304560" cy="304920"/>
          </a:xfrm>
        </p:grpSpPr>
        <p:sp>
          <p:nvSpPr>
            <p:cNvPr id="925"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7848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6"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7"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793584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41" name=""/>
          <p:cNvGrpSpPr/>
          <p:nvPr/>
        </p:nvGrpSpPr>
        <p:grpSpPr>
          <a:xfrm>
            <a:off x="8381880" y="3533760"/>
            <a:ext cx="304920" cy="304920"/>
            <a:chOff x="8381880" y="3533760"/>
            <a:chExt cx="304920" cy="304920"/>
          </a:xfrm>
        </p:grpSpPr>
        <p:sp>
          <p:nvSpPr>
            <p:cNvPr id="942"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8556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864396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3"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4"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5"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6"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7"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958"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959"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74"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975"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6"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977"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8"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979"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980"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81"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2"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83"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4"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85"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6"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7"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D0D8DCE-E698-400B-8105-BEA0E9421A05}" type="slidenum">
              <a:t>7</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989" name="" descr=""/>
          <p:cNvPicPr/>
          <p:nvPr/>
        </p:nvPicPr>
        <p:blipFill>
          <a:blip r:embed="rId1"/>
          <a:stretch/>
        </p:blipFill>
        <p:spPr>
          <a:xfrm>
            <a:off x="-12600" y="2679840"/>
            <a:ext cx="4419360" cy="3809880"/>
          </a:xfrm>
          <a:prstGeom prst="rect">
            <a:avLst/>
          </a:prstGeom>
          <a:ln w="0">
            <a:noFill/>
          </a:ln>
        </p:spPr>
      </p:pic>
      <p:graphicFrame>
        <p:nvGraphicFramePr>
          <p:cNvPr id="990" name=""/>
          <p:cNvGraphicFramePr/>
          <p:nvPr/>
        </p:nvGraphicFramePr>
        <p:xfrm>
          <a:off x="4280040" y="2984400"/>
          <a:ext cx="6794280" cy="3606840"/>
        </p:xfrm>
        <a:graphic>
          <a:graphicData uri="http://schemas.openxmlformats.org/presentationml/2006/ole">
            <p:oleObj progId="Word.Document.12" r:id="rId2" spid="">
              <p:embed/>
              <p:pic>
                <p:nvPicPr>
                  <p:cNvPr id="991"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992" name=""/>
          <p:cNvGraphicFramePr/>
          <p:nvPr/>
        </p:nvGraphicFramePr>
        <p:xfrm>
          <a:off x="444600" y="1219320"/>
          <a:ext cx="8204040" cy="1676160"/>
        </p:xfrm>
        <a:graphic>
          <a:graphicData uri="http://schemas.openxmlformats.org/presentationml/2006/ole">
            <p:oleObj progId="Word.Document.12" r:id="rId4" spid="">
              <p:embed/>
              <p:pic>
                <p:nvPicPr>
                  <p:cNvPr id="993"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12D9B2E8-3B59-40F0-9EB0-20856A4C4FCA}" type="slidenum">
              <a:t>8</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995" name=""/>
          <p:cNvSpPr/>
          <p:nvPr/>
        </p:nvSpPr>
        <p:spPr>
          <a:xfrm>
            <a:off x="68961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4389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247840" y="19954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409760" y="19954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407600" y="20462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000" name=""/>
          <p:cNvSpPr/>
          <p:nvPr/>
        </p:nvSpPr>
        <p:spPr>
          <a:xfrm>
            <a:off x="6430680" y="2052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001" name=""/>
          <p:cNvSpPr/>
          <p:nvPr/>
        </p:nvSpPr>
        <p:spPr>
          <a:xfrm>
            <a:off x="6902640" y="20527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002" name=""/>
          <p:cNvSpPr/>
          <p:nvPr/>
        </p:nvSpPr>
        <p:spPr>
          <a:xfrm>
            <a:off x="3708000" y="20588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003" name=""/>
          <p:cNvSpPr/>
          <p:nvPr/>
        </p:nvSpPr>
        <p:spPr>
          <a:xfrm>
            <a:off x="7353360" y="22417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4" name=""/>
          <p:cNvGrpSpPr/>
          <p:nvPr/>
        </p:nvGrpSpPr>
        <p:grpSpPr>
          <a:xfrm>
            <a:off x="4572000" y="4204800"/>
            <a:ext cx="450720" cy="20520"/>
            <a:chOff x="4572000" y="4204800"/>
            <a:chExt cx="450720" cy="20520"/>
          </a:xfrm>
        </p:grpSpPr>
        <p:sp>
          <p:nvSpPr>
            <p:cNvPr id="1005" name=""/>
            <p:cNvSpPr/>
            <p:nvPr/>
          </p:nvSpPr>
          <p:spPr>
            <a:xfrm flipH="1" rot="5400000">
              <a:off x="4997160" y="42001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6" name=""/>
            <p:cNvSpPr/>
            <p:nvPr/>
          </p:nvSpPr>
          <p:spPr>
            <a:xfrm flipH="1" rot="5400000">
              <a:off x="4786920" y="42004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07" name=""/>
            <p:cNvSpPr/>
            <p:nvPr/>
          </p:nvSpPr>
          <p:spPr>
            <a:xfrm flipH="1" rot="5400000">
              <a:off x="4576680" y="41997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008" name=""/>
          <p:cNvSpPr/>
          <p:nvPr/>
        </p:nvSpPr>
        <p:spPr>
          <a:xfrm flipH="1">
            <a:off x="5320800" y="23763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940440" y="24361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010" name=""/>
          <p:cNvSpPr/>
          <p:nvPr/>
        </p:nvSpPr>
        <p:spPr>
          <a:xfrm>
            <a:off x="1463040" y="25027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8 T</a:t>
            </a:r>
            <a:endParaRPr b="0" lang="en-US" sz="1000" spc="-1" strike="noStrike">
              <a:solidFill>
                <a:srgbClr val="000000"/>
              </a:solidFill>
              <a:latin typeface="Times New Roman"/>
            </a:endParaRPr>
          </a:p>
        </p:txBody>
      </p:sp>
      <p:sp>
        <p:nvSpPr>
          <p:cNvPr id="1011" name=""/>
          <p:cNvSpPr/>
          <p:nvPr/>
        </p:nvSpPr>
        <p:spPr>
          <a:xfrm>
            <a:off x="2247840" y="23842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409760" y="23763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02888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58196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018880" y="1385280"/>
            <a:ext cx="1185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pping Boundaries</a:t>
            </a:r>
            <a:endParaRPr b="0" lang="en-US" sz="800" spc="-1" strike="noStrike">
              <a:solidFill>
                <a:srgbClr val="000000"/>
              </a:solidFill>
              <a:latin typeface="Times New Roman"/>
            </a:endParaRPr>
          </a:p>
        </p:txBody>
      </p:sp>
      <p:sp>
        <p:nvSpPr>
          <p:cNvPr id="1016" name=""/>
          <p:cNvSpPr/>
          <p:nvPr/>
        </p:nvSpPr>
        <p:spPr>
          <a:xfrm flipH="1">
            <a:off x="1257120" y="153828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238560" y="1538280"/>
            <a:ext cx="4267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80880" y="5410080"/>
            <a:ext cx="8318520" cy="1067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amble: Low overhead preamble for fast packet-by-packet MMSE-DFE equaliza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ail: Beneficial for reaching a known TCM state at the end of a burst transmission</a:t>
            </a:r>
            <a:endParaRPr b="0" lang="en-US" sz="1400" spc="-1" strike="noStrike">
              <a:solidFill>
                <a:srgbClr val="000000"/>
              </a:solidFill>
              <a:latin typeface="Times New Roman"/>
            </a:endParaRPr>
          </a:p>
        </p:txBody>
      </p:sp>
      <p:grpSp>
        <p:nvGrpSpPr>
          <p:cNvPr id="1019" name=""/>
          <p:cNvGrpSpPr/>
          <p:nvPr/>
        </p:nvGrpSpPr>
        <p:grpSpPr>
          <a:xfrm>
            <a:off x="2235240" y="3460680"/>
            <a:ext cx="2054160" cy="1509840"/>
            <a:chOff x="2235240" y="3460680"/>
            <a:chExt cx="2054160" cy="1509840"/>
          </a:xfrm>
        </p:grpSpPr>
        <p:grpSp>
          <p:nvGrpSpPr>
            <p:cNvPr id="1020" name=""/>
            <p:cNvGrpSpPr/>
            <p:nvPr/>
          </p:nvGrpSpPr>
          <p:grpSpPr>
            <a:xfrm>
              <a:off x="2914560" y="3463920"/>
              <a:ext cx="20880" cy="1503360"/>
              <a:chOff x="2914560" y="3463920"/>
              <a:chExt cx="20880" cy="1503360"/>
            </a:xfrm>
          </p:grpSpPr>
          <p:sp>
            <p:nvSpPr>
              <p:cNvPr id="1021" name=""/>
              <p:cNvSpPr/>
              <p:nvPr/>
            </p:nvSpPr>
            <p:spPr>
              <a:xfrm>
                <a:off x="2914560" y="3463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2" name=""/>
              <p:cNvSpPr/>
              <p:nvPr/>
            </p:nvSpPr>
            <p:spPr>
              <a:xfrm>
                <a:off x="2914560" y="3674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3" name=""/>
              <p:cNvSpPr/>
              <p:nvPr/>
            </p:nvSpPr>
            <p:spPr>
              <a:xfrm>
                <a:off x="2914560" y="3884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4" name=""/>
              <p:cNvSpPr/>
              <p:nvPr/>
            </p:nvSpPr>
            <p:spPr>
              <a:xfrm>
                <a:off x="2914560" y="409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5" name=""/>
              <p:cNvSpPr/>
              <p:nvPr/>
            </p:nvSpPr>
            <p:spPr>
              <a:xfrm>
                <a:off x="2914560" y="4305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6" name=""/>
              <p:cNvSpPr/>
              <p:nvPr/>
            </p:nvSpPr>
            <p:spPr>
              <a:xfrm>
                <a:off x="2914560" y="4516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7" name=""/>
              <p:cNvSpPr/>
              <p:nvPr/>
            </p:nvSpPr>
            <p:spPr>
              <a:xfrm>
                <a:off x="2914560" y="4727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8" name=""/>
              <p:cNvSpPr/>
              <p:nvPr/>
            </p:nvSpPr>
            <p:spPr>
              <a:xfrm>
                <a:off x="291456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29" name=""/>
            <p:cNvGrpSpPr/>
            <p:nvPr/>
          </p:nvGrpSpPr>
          <p:grpSpPr>
            <a:xfrm>
              <a:off x="2235240" y="3460680"/>
              <a:ext cx="20520" cy="1503360"/>
              <a:chOff x="2235240" y="3460680"/>
              <a:chExt cx="20520" cy="1503360"/>
            </a:xfrm>
          </p:grpSpPr>
          <p:sp>
            <p:nvSpPr>
              <p:cNvPr id="1030" name=""/>
              <p:cNvSpPr/>
              <p:nvPr/>
            </p:nvSpPr>
            <p:spPr>
              <a:xfrm>
                <a:off x="2235240" y="346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1" name=""/>
              <p:cNvSpPr/>
              <p:nvPr/>
            </p:nvSpPr>
            <p:spPr>
              <a:xfrm>
                <a:off x="2235240" y="367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2" name=""/>
              <p:cNvSpPr/>
              <p:nvPr/>
            </p:nvSpPr>
            <p:spPr>
              <a:xfrm>
                <a:off x="2235240" y="3881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3" name=""/>
              <p:cNvSpPr/>
              <p:nvPr/>
            </p:nvSpPr>
            <p:spPr>
              <a:xfrm>
                <a:off x="2235240" y="4092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4" name=""/>
              <p:cNvSpPr/>
              <p:nvPr/>
            </p:nvSpPr>
            <p:spPr>
              <a:xfrm>
                <a:off x="2235240" y="430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5" name=""/>
              <p:cNvSpPr/>
              <p:nvPr/>
            </p:nvSpPr>
            <p:spPr>
              <a:xfrm>
                <a:off x="2235240" y="451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6" name=""/>
              <p:cNvSpPr/>
              <p:nvPr/>
            </p:nvSpPr>
            <p:spPr>
              <a:xfrm>
                <a:off x="2235240" y="472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7" name=""/>
              <p:cNvSpPr/>
              <p:nvPr/>
            </p:nvSpPr>
            <p:spPr>
              <a:xfrm>
                <a:off x="2235240" y="493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38" name=""/>
            <p:cNvGrpSpPr/>
            <p:nvPr/>
          </p:nvGrpSpPr>
          <p:grpSpPr>
            <a:xfrm>
              <a:off x="3586320" y="3463920"/>
              <a:ext cx="20520" cy="1501920"/>
              <a:chOff x="3586320" y="3463920"/>
              <a:chExt cx="20520" cy="1501920"/>
            </a:xfrm>
          </p:grpSpPr>
          <p:sp>
            <p:nvSpPr>
              <p:cNvPr id="1039" name=""/>
              <p:cNvSpPr/>
              <p:nvPr/>
            </p:nvSpPr>
            <p:spPr>
              <a:xfrm>
                <a:off x="3586320" y="346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0" name=""/>
              <p:cNvSpPr/>
              <p:nvPr/>
            </p:nvSpPr>
            <p:spPr>
              <a:xfrm>
                <a:off x="3586320" y="367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1" name=""/>
              <p:cNvSpPr/>
              <p:nvPr/>
            </p:nvSpPr>
            <p:spPr>
              <a:xfrm>
                <a:off x="3586320" y="3884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2" name=""/>
              <p:cNvSpPr/>
              <p:nvPr/>
            </p:nvSpPr>
            <p:spPr>
              <a:xfrm>
                <a:off x="3586320" y="4095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3" name=""/>
              <p:cNvSpPr/>
              <p:nvPr/>
            </p:nvSpPr>
            <p:spPr>
              <a:xfrm>
                <a:off x="3586320" y="4305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4" name=""/>
              <p:cNvSpPr/>
              <p:nvPr/>
            </p:nvSpPr>
            <p:spPr>
              <a:xfrm>
                <a:off x="3586320" y="4515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5" name=""/>
              <p:cNvSpPr/>
              <p:nvPr/>
            </p:nvSpPr>
            <p:spPr>
              <a:xfrm>
                <a:off x="3586320" y="4726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6" name=""/>
              <p:cNvSpPr/>
              <p:nvPr/>
            </p:nvSpPr>
            <p:spPr>
              <a:xfrm>
                <a:off x="358632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47" name=""/>
            <p:cNvGrpSpPr/>
            <p:nvPr/>
          </p:nvGrpSpPr>
          <p:grpSpPr>
            <a:xfrm>
              <a:off x="2244600" y="3476520"/>
              <a:ext cx="687240" cy="635040"/>
              <a:chOff x="2244600" y="3476520"/>
              <a:chExt cx="687240" cy="635040"/>
            </a:xfrm>
          </p:grpSpPr>
          <p:sp>
            <p:nvSpPr>
              <p:cNvPr id="1048" name=""/>
              <p:cNvSpPr/>
              <p:nvPr/>
            </p:nvSpPr>
            <p:spPr>
              <a:xfrm>
                <a:off x="225396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24460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4460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4460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2" name=""/>
            <p:cNvGrpSpPr/>
            <p:nvPr/>
          </p:nvGrpSpPr>
          <p:grpSpPr>
            <a:xfrm>
              <a:off x="3602160" y="4317480"/>
              <a:ext cx="687240" cy="636840"/>
              <a:chOff x="3602160" y="4317480"/>
              <a:chExt cx="687240" cy="636840"/>
            </a:xfrm>
          </p:grpSpPr>
          <p:sp>
            <p:nvSpPr>
              <p:cNvPr id="1053" name=""/>
              <p:cNvSpPr/>
              <p:nvPr/>
            </p:nvSpPr>
            <p:spPr>
              <a:xfrm>
                <a:off x="3611520" y="4954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3602160" y="47390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3602160" y="45327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3602160" y="43174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2925720" y="3686040"/>
              <a:ext cx="681120" cy="1262160"/>
              <a:chOff x="2925720" y="3686040"/>
              <a:chExt cx="681120" cy="1262160"/>
            </a:xfrm>
          </p:grpSpPr>
          <p:sp>
            <p:nvSpPr>
              <p:cNvPr id="1058" name=""/>
              <p:cNvSpPr/>
              <p:nvPr/>
            </p:nvSpPr>
            <p:spPr>
              <a:xfrm>
                <a:off x="2928600" y="36860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928600" y="36860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25720" y="36860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25720" y="36860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602160" y="3481200"/>
              <a:ext cx="680760" cy="1261800"/>
              <a:chOff x="3602160" y="3481200"/>
              <a:chExt cx="680760" cy="1261800"/>
            </a:xfrm>
          </p:grpSpPr>
          <p:sp>
            <p:nvSpPr>
              <p:cNvPr id="1063" name=""/>
              <p:cNvSpPr/>
              <p:nvPr/>
            </p:nvSpPr>
            <p:spPr>
              <a:xfrm flipV="1">
                <a:off x="3605040" y="41076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3605040" y="38977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602160" y="36871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3602160" y="34812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598920" y="4318200"/>
              <a:ext cx="684000" cy="632160"/>
              <a:chOff x="3598920" y="4318200"/>
              <a:chExt cx="684000" cy="632160"/>
            </a:xfrm>
          </p:grpSpPr>
          <p:sp>
            <p:nvSpPr>
              <p:cNvPr id="1068" name=""/>
              <p:cNvSpPr/>
              <p:nvPr/>
            </p:nvSpPr>
            <p:spPr>
              <a:xfrm>
                <a:off x="3601800" y="45288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601800" y="45291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598920" y="45284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605040" y="43182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2" name=""/>
            <p:cNvGrpSpPr/>
            <p:nvPr/>
          </p:nvGrpSpPr>
          <p:grpSpPr>
            <a:xfrm>
              <a:off x="2930400" y="4124160"/>
              <a:ext cx="681120" cy="846360"/>
              <a:chOff x="2930400" y="4124160"/>
              <a:chExt cx="681120" cy="846360"/>
            </a:xfrm>
          </p:grpSpPr>
          <p:sp>
            <p:nvSpPr>
              <p:cNvPr id="1073" name=""/>
              <p:cNvSpPr/>
              <p:nvPr/>
            </p:nvSpPr>
            <p:spPr>
              <a:xfrm>
                <a:off x="2930400" y="41241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930400" y="41241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930400" y="41241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930400" y="41241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2930400" y="3476520"/>
              <a:ext cx="684360" cy="631440"/>
              <a:chOff x="2930400" y="3476520"/>
              <a:chExt cx="684360" cy="631440"/>
            </a:xfrm>
          </p:grpSpPr>
          <p:sp>
            <p:nvSpPr>
              <p:cNvPr id="1078" name=""/>
              <p:cNvSpPr/>
              <p:nvPr/>
            </p:nvSpPr>
            <p:spPr>
              <a:xfrm flipV="1">
                <a:off x="2933280" y="34765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2933280" y="36867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930400" y="38977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936520" y="38977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2925720" y="3476520"/>
              <a:ext cx="687240" cy="635040"/>
              <a:chOff x="2925720" y="3476520"/>
              <a:chExt cx="687240" cy="635040"/>
            </a:xfrm>
          </p:grpSpPr>
          <p:sp>
            <p:nvSpPr>
              <p:cNvPr id="1083" name=""/>
              <p:cNvSpPr/>
              <p:nvPr/>
            </p:nvSpPr>
            <p:spPr>
              <a:xfrm>
                <a:off x="293508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9257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9257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9257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4262400" y="3467160"/>
              <a:ext cx="20520" cy="1501560"/>
              <a:chOff x="4262400" y="3467160"/>
              <a:chExt cx="20520" cy="1501560"/>
            </a:xfrm>
          </p:grpSpPr>
          <p:sp>
            <p:nvSpPr>
              <p:cNvPr id="1088" name=""/>
              <p:cNvSpPr/>
              <p:nvPr/>
            </p:nvSpPr>
            <p:spPr>
              <a:xfrm>
                <a:off x="4262400" y="3467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9" name=""/>
              <p:cNvSpPr/>
              <p:nvPr/>
            </p:nvSpPr>
            <p:spPr>
              <a:xfrm>
                <a:off x="4262400" y="3677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0" name=""/>
              <p:cNvSpPr/>
              <p:nvPr/>
            </p:nvSpPr>
            <p:spPr>
              <a:xfrm>
                <a:off x="4262400" y="3887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1" name=""/>
              <p:cNvSpPr/>
              <p:nvPr/>
            </p:nvSpPr>
            <p:spPr>
              <a:xfrm>
                <a:off x="4262400" y="4097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2" name=""/>
              <p:cNvSpPr/>
              <p:nvPr/>
            </p:nvSpPr>
            <p:spPr>
              <a:xfrm>
                <a:off x="4262400" y="4308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3" name=""/>
              <p:cNvSpPr/>
              <p:nvPr/>
            </p:nvSpPr>
            <p:spPr>
              <a:xfrm>
                <a:off x="4262400" y="4518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4" name=""/>
              <p:cNvSpPr/>
              <p:nvPr/>
            </p:nvSpPr>
            <p:spPr>
              <a:xfrm>
                <a:off x="4262400" y="4728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5" name=""/>
              <p:cNvSpPr/>
              <p:nvPr/>
            </p:nvSpPr>
            <p:spPr>
              <a:xfrm>
                <a:off x="426240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96" name=""/>
            <p:cNvGrpSpPr/>
            <p:nvPr/>
          </p:nvGrpSpPr>
          <p:grpSpPr>
            <a:xfrm>
              <a:off x="3606840" y="4119480"/>
              <a:ext cx="681120" cy="846360"/>
              <a:chOff x="3606840" y="4119480"/>
              <a:chExt cx="681120" cy="846360"/>
            </a:xfrm>
          </p:grpSpPr>
          <p:sp>
            <p:nvSpPr>
              <p:cNvPr id="1097" name=""/>
              <p:cNvSpPr/>
              <p:nvPr/>
            </p:nvSpPr>
            <p:spPr>
              <a:xfrm>
                <a:off x="3606840" y="4119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606840" y="4119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606840" y="4119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606840" y="4119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1" name=""/>
            <p:cNvGrpSpPr/>
            <p:nvPr/>
          </p:nvGrpSpPr>
          <p:grpSpPr>
            <a:xfrm>
              <a:off x="3598920" y="3478320"/>
              <a:ext cx="684000" cy="631440"/>
              <a:chOff x="3598920" y="3478320"/>
              <a:chExt cx="684000" cy="631440"/>
            </a:xfrm>
          </p:grpSpPr>
          <p:sp>
            <p:nvSpPr>
              <p:cNvPr id="1102" name=""/>
              <p:cNvSpPr/>
              <p:nvPr/>
            </p:nvSpPr>
            <p:spPr>
              <a:xfrm flipV="1">
                <a:off x="3601800" y="34783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3601800" y="36885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598920" y="38995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605040" y="3899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3595680" y="3475080"/>
              <a:ext cx="687240" cy="635040"/>
              <a:chOff x="3595680" y="3475080"/>
              <a:chExt cx="687240" cy="635040"/>
            </a:xfrm>
          </p:grpSpPr>
          <p:sp>
            <p:nvSpPr>
              <p:cNvPr id="1107" name=""/>
              <p:cNvSpPr/>
              <p:nvPr/>
            </p:nvSpPr>
            <p:spPr>
              <a:xfrm>
                <a:off x="3605040" y="34750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595680" y="34750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595680" y="3475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595680" y="34750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1" name=""/>
            <p:cNvGrpSpPr/>
            <p:nvPr/>
          </p:nvGrpSpPr>
          <p:grpSpPr>
            <a:xfrm>
              <a:off x="3586320" y="3666960"/>
              <a:ext cx="680760" cy="1262160"/>
              <a:chOff x="3586320" y="3666960"/>
              <a:chExt cx="680760" cy="1262160"/>
            </a:xfrm>
          </p:grpSpPr>
          <p:sp>
            <p:nvSpPr>
              <p:cNvPr id="1112" name=""/>
              <p:cNvSpPr/>
              <p:nvPr/>
            </p:nvSpPr>
            <p:spPr>
              <a:xfrm>
                <a:off x="3589200" y="36669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589200" y="36669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586320" y="36669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586320" y="36669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 name=""/>
            <p:cNvGrpSpPr/>
            <p:nvPr/>
          </p:nvGrpSpPr>
          <p:grpSpPr>
            <a:xfrm>
              <a:off x="3600360" y="3478320"/>
              <a:ext cx="681120" cy="846000"/>
              <a:chOff x="3600360" y="3478320"/>
              <a:chExt cx="681120" cy="846000"/>
            </a:xfrm>
          </p:grpSpPr>
          <p:sp>
            <p:nvSpPr>
              <p:cNvPr id="1117" name=""/>
              <p:cNvSpPr/>
              <p:nvPr/>
            </p:nvSpPr>
            <p:spPr>
              <a:xfrm flipV="1">
                <a:off x="3600360" y="34783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3600360" y="36932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3600360" y="3903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3600360" y="41140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1" name=""/>
          <p:cNvGrpSpPr/>
          <p:nvPr/>
        </p:nvGrpSpPr>
        <p:grpSpPr>
          <a:xfrm>
            <a:off x="5305320" y="3462480"/>
            <a:ext cx="2053800" cy="1509480"/>
            <a:chOff x="5305320" y="3462480"/>
            <a:chExt cx="2053800" cy="1509480"/>
          </a:xfrm>
        </p:grpSpPr>
        <p:grpSp>
          <p:nvGrpSpPr>
            <p:cNvPr id="1122" name=""/>
            <p:cNvGrpSpPr/>
            <p:nvPr/>
          </p:nvGrpSpPr>
          <p:grpSpPr>
            <a:xfrm>
              <a:off x="6659280" y="3465360"/>
              <a:ext cx="20520" cy="1503360"/>
              <a:chOff x="6659280" y="3465360"/>
              <a:chExt cx="20520" cy="1503360"/>
            </a:xfrm>
          </p:grpSpPr>
          <p:sp>
            <p:nvSpPr>
              <p:cNvPr id="1123" name=""/>
              <p:cNvSpPr/>
              <p:nvPr/>
            </p:nvSpPr>
            <p:spPr>
              <a:xfrm flipH="1">
                <a:off x="6658920" y="3465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4" name=""/>
              <p:cNvSpPr/>
              <p:nvPr/>
            </p:nvSpPr>
            <p:spPr>
              <a:xfrm flipH="1">
                <a:off x="6658920" y="3675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5" name=""/>
              <p:cNvSpPr/>
              <p:nvPr/>
            </p:nvSpPr>
            <p:spPr>
              <a:xfrm flipH="1">
                <a:off x="6658920" y="3886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6" name=""/>
              <p:cNvSpPr/>
              <p:nvPr/>
            </p:nvSpPr>
            <p:spPr>
              <a:xfrm flipH="1">
                <a:off x="6658920" y="4096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flipH="1">
                <a:off x="6658920" y="4307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flipH="1">
                <a:off x="6658920" y="451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flipH="1">
                <a:off x="6658920" y="472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flipH="1">
                <a:off x="665892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1" name=""/>
            <p:cNvGrpSpPr/>
            <p:nvPr/>
          </p:nvGrpSpPr>
          <p:grpSpPr>
            <a:xfrm>
              <a:off x="7338600" y="3462480"/>
              <a:ext cx="20520" cy="1503360"/>
              <a:chOff x="7338600" y="3462480"/>
              <a:chExt cx="20520" cy="1503360"/>
            </a:xfrm>
          </p:grpSpPr>
          <p:sp>
            <p:nvSpPr>
              <p:cNvPr id="1132" name=""/>
              <p:cNvSpPr/>
              <p:nvPr/>
            </p:nvSpPr>
            <p:spPr>
              <a:xfrm flipH="1">
                <a:off x="7338240" y="346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3" name=""/>
              <p:cNvSpPr/>
              <p:nvPr/>
            </p:nvSpPr>
            <p:spPr>
              <a:xfrm flipH="1">
                <a:off x="7338240" y="367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4" name=""/>
              <p:cNvSpPr/>
              <p:nvPr/>
            </p:nvSpPr>
            <p:spPr>
              <a:xfrm flipH="1">
                <a:off x="7338240" y="388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5" name=""/>
              <p:cNvSpPr/>
              <p:nvPr/>
            </p:nvSpPr>
            <p:spPr>
              <a:xfrm flipH="1">
                <a:off x="7338240" y="409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flipH="1">
                <a:off x="7338240" y="430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flipH="1">
                <a:off x="7338240" y="4515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flipH="1">
                <a:off x="7338240" y="4725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flipH="1">
                <a:off x="733824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0" name=""/>
            <p:cNvGrpSpPr/>
            <p:nvPr/>
          </p:nvGrpSpPr>
          <p:grpSpPr>
            <a:xfrm>
              <a:off x="5987880" y="3465360"/>
              <a:ext cx="20880" cy="1501920"/>
              <a:chOff x="5987880" y="3465360"/>
              <a:chExt cx="20880" cy="1501920"/>
            </a:xfrm>
          </p:grpSpPr>
          <p:sp>
            <p:nvSpPr>
              <p:cNvPr id="1141" name=""/>
              <p:cNvSpPr/>
              <p:nvPr/>
            </p:nvSpPr>
            <p:spPr>
              <a:xfrm flipH="1">
                <a:off x="5987880" y="346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2" name=""/>
              <p:cNvSpPr/>
              <p:nvPr/>
            </p:nvSpPr>
            <p:spPr>
              <a:xfrm flipH="1">
                <a:off x="5987880" y="3675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3" name=""/>
              <p:cNvSpPr/>
              <p:nvPr/>
            </p:nvSpPr>
            <p:spPr>
              <a:xfrm flipH="1">
                <a:off x="5987880" y="3885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4" name=""/>
              <p:cNvSpPr/>
              <p:nvPr/>
            </p:nvSpPr>
            <p:spPr>
              <a:xfrm flipH="1">
                <a:off x="5987880" y="40964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5" name=""/>
              <p:cNvSpPr/>
              <p:nvPr/>
            </p:nvSpPr>
            <p:spPr>
              <a:xfrm flipH="1">
                <a:off x="5987880" y="4306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6" name=""/>
              <p:cNvSpPr/>
              <p:nvPr/>
            </p:nvSpPr>
            <p:spPr>
              <a:xfrm flipH="1">
                <a:off x="5987880" y="4516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7" name=""/>
              <p:cNvSpPr/>
              <p:nvPr/>
            </p:nvSpPr>
            <p:spPr>
              <a:xfrm flipH="1">
                <a:off x="5987880" y="47275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8" name=""/>
              <p:cNvSpPr/>
              <p:nvPr/>
            </p:nvSpPr>
            <p:spPr>
              <a:xfrm flipH="1">
                <a:off x="598788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9" name=""/>
            <p:cNvGrpSpPr/>
            <p:nvPr/>
          </p:nvGrpSpPr>
          <p:grpSpPr>
            <a:xfrm>
              <a:off x="6662520" y="3478320"/>
              <a:ext cx="687240" cy="635040"/>
              <a:chOff x="6662520" y="3478320"/>
              <a:chExt cx="687240" cy="635040"/>
            </a:xfrm>
          </p:grpSpPr>
          <p:sp>
            <p:nvSpPr>
              <p:cNvPr id="1150" name=""/>
              <p:cNvSpPr/>
              <p:nvPr/>
            </p:nvSpPr>
            <p:spPr>
              <a:xfrm flipH="1">
                <a:off x="666252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66900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66900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a:off x="666900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4" name=""/>
            <p:cNvGrpSpPr/>
            <p:nvPr/>
          </p:nvGrpSpPr>
          <p:grpSpPr>
            <a:xfrm>
              <a:off x="5305320" y="4319640"/>
              <a:ext cx="687600" cy="636480"/>
              <a:chOff x="5305320" y="4319640"/>
              <a:chExt cx="687600" cy="636480"/>
            </a:xfrm>
          </p:grpSpPr>
          <p:sp>
            <p:nvSpPr>
              <p:cNvPr id="1155" name=""/>
              <p:cNvSpPr/>
              <p:nvPr/>
            </p:nvSpPr>
            <p:spPr>
              <a:xfrm flipH="1">
                <a:off x="5305320" y="49561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flipV="1">
                <a:off x="5311440" y="47412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flipV="1">
                <a:off x="5311440" y="45345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flipV="1">
                <a:off x="5311440" y="43196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9" name=""/>
            <p:cNvGrpSpPr/>
            <p:nvPr/>
          </p:nvGrpSpPr>
          <p:grpSpPr>
            <a:xfrm>
              <a:off x="5987880" y="3687840"/>
              <a:ext cx="681120" cy="1262160"/>
              <a:chOff x="5987880" y="3687840"/>
              <a:chExt cx="681120" cy="1262160"/>
            </a:xfrm>
          </p:grpSpPr>
          <p:sp>
            <p:nvSpPr>
              <p:cNvPr id="1160" name=""/>
              <p:cNvSpPr/>
              <p:nvPr/>
            </p:nvSpPr>
            <p:spPr>
              <a:xfrm flipH="1">
                <a:off x="5988240" y="3687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5988240" y="3687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5987880" y="3687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5987880" y="3687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5311800" y="3483000"/>
              <a:ext cx="681120" cy="1262160"/>
              <a:chOff x="5311800" y="3483000"/>
              <a:chExt cx="681120" cy="1262160"/>
            </a:xfrm>
          </p:grpSpPr>
          <p:sp>
            <p:nvSpPr>
              <p:cNvPr id="1165" name=""/>
              <p:cNvSpPr/>
              <p:nvPr/>
            </p:nvSpPr>
            <p:spPr>
              <a:xfrm flipH="1" flipV="1">
                <a:off x="5312160" y="41097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flipV="1">
                <a:off x="5312160" y="38995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flipV="1">
                <a:off x="5311800" y="36889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flipV="1">
                <a:off x="5311800" y="34830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5311440" y="4319640"/>
              <a:ext cx="684360" cy="631440"/>
              <a:chOff x="5311440" y="4319640"/>
              <a:chExt cx="684360" cy="631440"/>
            </a:xfrm>
          </p:grpSpPr>
          <p:sp>
            <p:nvSpPr>
              <p:cNvPr id="1170" name=""/>
              <p:cNvSpPr/>
              <p:nvPr/>
            </p:nvSpPr>
            <p:spPr>
              <a:xfrm flipH="1">
                <a:off x="5311800" y="45298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5311800" y="45302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311440" y="45298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flipV="1">
                <a:off x="5314680" y="43196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4" name=""/>
            <p:cNvGrpSpPr/>
            <p:nvPr/>
          </p:nvGrpSpPr>
          <p:grpSpPr>
            <a:xfrm>
              <a:off x="5983200" y="4125960"/>
              <a:ext cx="681120" cy="846000"/>
              <a:chOff x="5983200" y="4125960"/>
              <a:chExt cx="681120" cy="846000"/>
            </a:xfrm>
          </p:grpSpPr>
          <p:sp>
            <p:nvSpPr>
              <p:cNvPr id="1175" name=""/>
              <p:cNvSpPr/>
              <p:nvPr/>
            </p:nvSpPr>
            <p:spPr>
              <a:xfrm flipH="1">
                <a:off x="5983200" y="41259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5986080" y="4125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5983200" y="4125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5983200" y="4125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5979600" y="3478320"/>
              <a:ext cx="684360" cy="631440"/>
              <a:chOff x="5979600" y="3478320"/>
              <a:chExt cx="684360" cy="631440"/>
            </a:xfrm>
          </p:grpSpPr>
          <p:sp>
            <p:nvSpPr>
              <p:cNvPr id="1180" name=""/>
              <p:cNvSpPr/>
              <p:nvPr/>
            </p:nvSpPr>
            <p:spPr>
              <a:xfrm flipH="1" flipV="1">
                <a:off x="5979960" y="3478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flipV="1">
                <a:off x="5979960" y="3688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5979600" y="3899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5982840" y="3899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4" name=""/>
            <p:cNvGrpSpPr/>
            <p:nvPr/>
          </p:nvGrpSpPr>
          <p:grpSpPr>
            <a:xfrm>
              <a:off x="5981400" y="3478320"/>
              <a:ext cx="687240" cy="635040"/>
              <a:chOff x="5981400" y="3478320"/>
              <a:chExt cx="687240" cy="635040"/>
            </a:xfrm>
          </p:grpSpPr>
          <p:sp>
            <p:nvSpPr>
              <p:cNvPr id="1185" name=""/>
              <p:cNvSpPr/>
              <p:nvPr/>
            </p:nvSpPr>
            <p:spPr>
              <a:xfrm flipH="1">
                <a:off x="598140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598788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598788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598788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5311440" y="3468600"/>
              <a:ext cx="20520" cy="1501920"/>
              <a:chOff x="5311440" y="3468600"/>
              <a:chExt cx="20520" cy="1501920"/>
            </a:xfrm>
          </p:grpSpPr>
          <p:sp>
            <p:nvSpPr>
              <p:cNvPr id="1190" name=""/>
              <p:cNvSpPr/>
              <p:nvPr/>
            </p:nvSpPr>
            <p:spPr>
              <a:xfrm flipH="1">
                <a:off x="5311080" y="346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1" name=""/>
              <p:cNvSpPr/>
              <p:nvPr/>
            </p:nvSpPr>
            <p:spPr>
              <a:xfrm flipH="1">
                <a:off x="5311080" y="3678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2" name=""/>
              <p:cNvSpPr/>
              <p:nvPr/>
            </p:nvSpPr>
            <p:spPr>
              <a:xfrm flipH="1">
                <a:off x="5311080" y="3889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3" name=""/>
              <p:cNvSpPr/>
              <p:nvPr/>
            </p:nvSpPr>
            <p:spPr>
              <a:xfrm flipH="1">
                <a:off x="5311080" y="4099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4" name=""/>
              <p:cNvSpPr/>
              <p:nvPr/>
            </p:nvSpPr>
            <p:spPr>
              <a:xfrm flipH="1">
                <a:off x="5311080" y="4309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5" name=""/>
              <p:cNvSpPr/>
              <p:nvPr/>
            </p:nvSpPr>
            <p:spPr>
              <a:xfrm flipH="1">
                <a:off x="5311080" y="4520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6" name=""/>
              <p:cNvSpPr/>
              <p:nvPr/>
            </p:nvSpPr>
            <p:spPr>
              <a:xfrm flipH="1">
                <a:off x="5311080" y="4730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7" name=""/>
              <p:cNvSpPr/>
              <p:nvPr/>
            </p:nvSpPr>
            <p:spPr>
              <a:xfrm flipH="1">
                <a:off x="5311080" y="4941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98" name=""/>
            <p:cNvGrpSpPr/>
            <p:nvPr/>
          </p:nvGrpSpPr>
          <p:grpSpPr>
            <a:xfrm>
              <a:off x="5306760" y="4121280"/>
              <a:ext cx="680760" cy="846000"/>
              <a:chOff x="5306760" y="4121280"/>
              <a:chExt cx="680760" cy="846000"/>
            </a:xfrm>
          </p:grpSpPr>
          <p:sp>
            <p:nvSpPr>
              <p:cNvPr id="1199" name=""/>
              <p:cNvSpPr/>
              <p:nvPr/>
            </p:nvSpPr>
            <p:spPr>
              <a:xfrm flipH="1">
                <a:off x="5306760" y="41212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309640" y="41212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5306760" y="41212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5306760" y="41212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5311440" y="3479760"/>
              <a:ext cx="684360" cy="631440"/>
              <a:chOff x="5311440" y="3479760"/>
              <a:chExt cx="684360" cy="631440"/>
            </a:xfrm>
          </p:grpSpPr>
          <p:sp>
            <p:nvSpPr>
              <p:cNvPr id="1204" name=""/>
              <p:cNvSpPr/>
              <p:nvPr/>
            </p:nvSpPr>
            <p:spPr>
              <a:xfrm flipH="1" flipV="1">
                <a:off x="5311800" y="34797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flipV="1">
                <a:off x="5311800" y="36900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5311440" y="39009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5314680" y="3900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8" name=""/>
            <p:cNvGrpSpPr/>
            <p:nvPr/>
          </p:nvGrpSpPr>
          <p:grpSpPr>
            <a:xfrm>
              <a:off x="5311440" y="3476520"/>
              <a:ext cx="687240" cy="635040"/>
              <a:chOff x="5311440" y="3476520"/>
              <a:chExt cx="687240" cy="635040"/>
            </a:xfrm>
          </p:grpSpPr>
          <p:sp>
            <p:nvSpPr>
              <p:cNvPr id="1209" name=""/>
              <p:cNvSpPr/>
              <p:nvPr/>
            </p:nvSpPr>
            <p:spPr>
              <a:xfrm flipH="1">
                <a:off x="531144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3179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3179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3179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3" name=""/>
            <p:cNvGrpSpPr/>
            <p:nvPr/>
          </p:nvGrpSpPr>
          <p:grpSpPr>
            <a:xfrm>
              <a:off x="5333760" y="3668760"/>
              <a:ext cx="680760" cy="1262160"/>
              <a:chOff x="5333760" y="3668760"/>
              <a:chExt cx="680760" cy="1262160"/>
            </a:xfrm>
          </p:grpSpPr>
          <p:sp>
            <p:nvSpPr>
              <p:cNvPr id="1214" name=""/>
              <p:cNvSpPr/>
              <p:nvPr/>
            </p:nvSpPr>
            <p:spPr>
              <a:xfrm flipH="1">
                <a:off x="5334120" y="3668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5334120" y="3668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5333760" y="3668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333760" y="3668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8" name=""/>
            <p:cNvGrpSpPr/>
            <p:nvPr/>
          </p:nvGrpSpPr>
          <p:grpSpPr>
            <a:xfrm>
              <a:off x="5327640" y="3492000"/>
              <a:ext cx="681120" cy="846360"/>
              <a:chOff x="5327640" y="3492000"/>
              <a:chExt cx="681120" cy="846360"/>
            </a:xfrm>
          </p:grpSpPr>
          <p:sp>
            <p:nvSpPr>
              <p:cNvPr id="1219" name=""/>
              <p:cNvSpPr/>
              <p:nvPr/>
            </p:nvSpPr>
            <p:spPr>
              <a:xfrm flipH="1" flipV="1">
                <a:off x="5327640" y="34920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flipV="1">
                <a:off x="5330520" y="3707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5327640" y="39175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flipV="1">
                <a:off x="5327640" y="41281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059A1205-7396-4C0D-9665-3B27DD9D54CA}" type="slidenum">
              <a:t>9</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07-24T20:38:17Z</cp:lastPrinted>
  <dcterms:modified xsi:type="dcterms:W3CDTF">2000-07-25T02:32:49Z</dcterms:modified>
  <cp:revision>255</cp:revision>
  <dc:subject/>
  <dc:title>Sample Title, 36pt Helvetica Black  </dc:title>
</cp:coreProperties>
</file>