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458-F291-42DB-A578-C7AD8AF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F73-D3C8-4819-A686-2528726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C9B-7B99-4578-9390-0C1BE53B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0BF-200E-4D98-BF0B-189AE2A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CDD-98A1-4972-B6F7-94615FD2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F76-DE7A-4B39-81D7-282165CB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104-C2E2-4BAA-B82A-59AAAB4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5B2-68EA-48F9-9117-5D3482E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EC7-F6E2-4D87-BFFC-A5BD5C4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B54-D601-42BD-A90A-781FC25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B09-4360-4A2D-9BB1-6F17875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C21-2BF6-4D87-A485-1A016FE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D41EA6-67C6-459A-A131-CDB96FB1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802.11/.15 Joint Meeting Report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ttsdale,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179-41A0-458F-950C-179648618C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298-198E-4932-9DBC-4374AC306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2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04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 for Submission on Coexistence Mechanism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09r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cture of the TG2 Coexistence Mode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3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view of ITU P.1238 Indoor Propag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7D7-B758-441B-8955-E83CD96CF0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600200"/>
            <a:ext cx="8153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on Recent FCC Ruling on WBF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97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Van Dyc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and Analysis of Physical Layer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11r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ie Ammer and 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T and 802.11 PHY Model (Stage 0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08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Cyph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and Interoperability and Other Term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9/134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FB5-2679-4316-A460-7D239F509B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for Submissions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nth we will be sending out the Call for Sub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echanisms are to be made at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07A-5550-432D-9724-0F006C6F16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0-09-20T21:49:02Z</dcterms:modified>
  <cp:revision>250</cp:revision>
  <dc:subject>IEEE 802.15 &lt;subject&gt;</dc:subject>
  <dc:title>IEEE P802.15 Working Group for Wireless Personal Area Networks</dc:title>
</cp:coreProperties>
</file>