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247E-B458-4F46-A5A5-05083E8D5B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B1C80-7149-4E77-A861-277C454C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D734B-2EF0-4251-9608-2D36F2E5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849C-08CE-4A59-B844-7AA9C7BB6E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A8A1-8B15-4556-96BA-BC97410C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30DA-D9C0-406A-9743-ED7F7ED2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1F83-BA46-4BCE-88AD-45C55298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4A6B-D4BC-46EA-89E2-CC72A0FA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9CC0-69FC-422F-AEAA-A1D260D3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6EDB-5678-40A8-BB91-227FDCE0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1903-A78C-445E-B8E9-F7EF566D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B540-87BC-4924-8390-627B6C45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A4D53F-FFB2-4FCA-ADFA-8B43EE110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8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8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IEEE 802.11 and 802.15 Review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Presented at Spread-Spectrum Workshop August 14-15, 2000 Baltimore MD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S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ial Binary and Quadrature P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ing Gain: 11 chips per b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20 MHz channels in ISM B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 Mbps in 2.4 GHz (TG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to original DS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 5.5 and 11 Mbps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ward compatible with original DS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Complementary Code Keying  (CCK)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channels within 2.4 GHz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4 Mbps in 5 GH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es in the U-NII 5 GHz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Orthogonal Frequency Division Multiplexing (OFDM)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on multiple subcarr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ata rates depending on modulation on subcarriers and F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6 to 54 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ustry Supporting Or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 Ethernet Compatibility Alliance (WE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insure OEM products are compliant to IEEE 802.11 b 2.4 GHz 11 Mbp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-Fi cer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nsure interoperability between multi-vendor products compliant to IEEE 802.11b 2.4 GHz 11 Mbp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New Develop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 Layer Enhancements (T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Quality of Service to support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 Security beyond W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Access Protocol (TGf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 standard protocol between access points to support features like roaming hand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 Rate Study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2.4 GHz system to &gt; 20 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for Wireless Personal Area Networks (WPAN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-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networks (e.g. 8-16 no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of devices within a Personal Operating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.15.1 (Standar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 Standard of Bluetoo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™ Spec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.15.2 (Recommended Practi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l and Facilitate Coexistence of WPAN &amp; WLAN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.15.3 (Standar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igh-Rate (&gt; 20 Mbps) WP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o2 Study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k Bluetooth2 and recommend an a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Rate Study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w Data Rate = 2Kb/sec to 200Kb/se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92280" y="2057400"/>
          <a:ext cx="77594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057400"/>
                    <a:ext cx="77594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523880"/>
          <a:ext cx="7981920" cy="47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98192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 Process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162400" y="5381640"/>
            <a:ext cx="190512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2120" y="3747960"/>
            <a:ext cx="190512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924280"/>
            <a:ext cx="495288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4952880" cy="4190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4533840"/>
            <a:ext cx="4952880" cy="41904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 for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Spo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mit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v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e Task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draf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lot draf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ve draf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 approved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7238880" y="2975040"/>
            <a:ext cx="1905120" cy="91440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fig1" descr=""/>
          <p:cNvPicPr/>
          <p:nvPr/>
        </p:nvPicPr>
        <p:blipFill>
          <a:blip r:embed="rId1"/>
          <a:stretch/>
        </p:blipFill>
        <p:spPr>
          <a:xfrm>
            <a:off x="5295960" y="175248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1720" y="2873520"/>
            <a:ext cx="12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2 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w Rate 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0640" y="3683160"/>
            <a:ext cx="13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sk Grou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sk Grou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600" y="459756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k Grou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of IEEE 8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IEEE 802.11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Developments within IEEE 802.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s within IEEE 802.1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 and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 Draft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186600" y="1676520"/>
            <a:ext cx="190476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91280" y="2819520"/>
            <a:ext cx="190512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057400"/>
            <a:ext cx="5410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048120"/>
            <a:ext cx="541008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5029200"/>
            <a:ext cx="5410080" cy="53352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33240" y="22096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cope and purp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ine related standards and pub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ft out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l in out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se, revise, rev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ize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6189840" y="5048280"/>
            <a:ext cx="1904760" cy="91440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fig4" descr=""/>
          <p:cNvPicPr/>
          <p:nvPr/>
        </p:nvPicPr>
        <p:blipFill>
          <a:blip r:embed="rId1"/>
          <a:stretch/>
        </p:blipFill>
        <p:spPr>
          <a:xfrm>
            <a:off x="6418440" y="1771560"/>
            <a:ext cx="1523880" cy="4934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52240" y="2178000"/>
            <a:ext cx="14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dio2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Rate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9720" y="3276720"/>
            <a:ext cx="145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sk Grou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sk Grou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680" y="5135400"/>
            <a:ext cx="145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sk Grou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63120" y="1981080"/>
            <a:ext cx="0" cy="4496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 Task Group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EE 802.15 Task Group 1 is converting the Bluetooth Specification into an IEEE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 to IEE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System Description Language (SDL)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ter Ballots, Comments, and Comment Re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Task Group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52280" y="1828800"/>
            <a:ext cx="8989200" cy="4656240"/>
            <a:chOff x="152280" y="1828800"/>
            <a:chExt cx="8989200" cy="4656240"/>
          </a:xfrm>
        </p:grpSpPr>
        <p:sp>
          <p:nvSpPr>
            <p:cNvPr id="191" name=""/>
            <p:cNvSpPr/>
            <p:nvPr/>
          </p:nvSpPr>
          <p:spPr>
            <a:xfrm>
              <a:off x="152280" y="1828800"/>
              <a:ext cx="3808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-443160" y="269172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0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0920" y="2057400"/>
              <a:ext cx="38088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-715680" y="4135680"/>
              <a:ext cx="31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802 OVERVIEW &amp; 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68120" y="2057400"/>
              <a:ext cx="38088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311040" y="4232160"/>
              <a:ext cx="19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91840" y="2057400"/>
              <a:ext cx="6813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74480" y="2362320"/>
              <a:ext cx="27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2 LOGICAL LINK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91840" y="3048120"/>
              <a:ext cx="6813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7000" y="3352680"/>
              <a:ext cx="149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 BRID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0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528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386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244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10280" y="4114800"/>
              <a:ext cx="609480" cy="2057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38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954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12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77000" y="2057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77000" y="512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72320" y="6172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758080" y="20574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69280" y="3276720"/>
              <a:ext cx="7722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758080" y="51814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64600" y="5338800"/>
              <a:ext cx="7722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96080" y="411480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0400" y="6208560"/>
              <a:ext cx="236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: IEEE Std P802.15.1 D0.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cus on L2CAP and Be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75800" y="1770120"/>
            <a:ext cx="7844400" cy="4526280"/>
            <a:chOff x="775800" y="1770120"/>
            <a:chExt cx="7844400" cy="4526280"/>
          </a:xfrm>
        </p:grpSpPr>
        <p:sp>
          <p:nvSpPr>
            <p:cNvPr id="221" name=""/>
            <p:cNvSpPr/>
            <p:nvPr/>
          </p:nvSpPr>
          <p:spPr>
            <a:xfrm>
              <a:off x="3262320" y="5889600"/>
              <a:ext cx="4100400" cy="36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59360" y="4962600"/>
              <a:ext cx="2403360" cy="36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60800" y="1770120"/>
              <a:ext cx="10270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28960" y="1770120"/>
              <a:ext cx="10270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Card/v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90840" y="2319480"/>
              <a:ext cx="102744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21240" y="2362320"/>
              <a:ext cx="1028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CS 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2362320"/>
              <a:ext cx="10270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34400" y="441972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77200" y="4087800"/>
              <a:ext cx="102852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362720" y="556416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77240" y="2722680"/>
              <a:ext cx="0" cy="16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34240" y="2732040"/>
              <a:ext cx="0" cy="168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92680" y="2798640"/>
              <a:ext cx="0" cy="11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60800" y="2130480"/>
              <a:ext cx="10270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60800" y="2954160"/>
              <a:ext cx="1027080" cy="36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60800" y="2593800"/>
              <a:ext cx="512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73440" y="2593800"/>
              <a:ext cx="5144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40160" y="248436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63920" y="2475000"/>
              <a:ext cx="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28960" y="2130480"/>
              <a:ext cx="10270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9680" y="3305160"/>
              <a:ext cx="0" cy="11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78200" y="3932280"/>
              <a:ext cx="334008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F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5480" y="4762440"/>
              <a:ext cx="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62840" y="533556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19800" y="4892760"/>
              <a:ext cx="24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73400" y="3429000"/>
              <a:ext cx="102708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63640" y="4876920"/>
              <a:ext cx="685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62320" y="4395960"/>
              <a:ext cx="4100400" cy="361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2C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62320" y="5425920"/>
              <a:ext cx="4100400" cy="36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b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5800" y="6019920"/>
              <a:ext cx="236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: IEEE Std P802.15.1 D0.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Group 1 Deliver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 Related Deliver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ne 2001 - IEEE-SA distribution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 Std 802.15.1-2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ludes SDL Model Files for ab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PAR Related Deliver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ember 2000, via IEEE-P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uetoo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cket Guide, Volume 1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ne 2001 - IEEE-SA distribution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 802.15 Handbook: A Designer's Compan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 Task Group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Both IEEE 802.11 and Bluetooth operate in the same 2.4 GHz ISM B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Bluetooth enabled devices will likely be portable and will need to operate in an IEEE 802.11 WLAN environ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There will be some mutual inter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Group 2 Deliver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understand under what circumstance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velop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pporting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justify the recommended suggested practices and possible standards modifi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05640" y="2133720"/>
            <a:ext cx="8462520" cy="3964680"/>
            <a:chOff x="305640" y="2133720"/>
            <a:chExt cx="8462520" cy="3964680"/>
          </a:xfrm>
        </p:grpSpPr>
        <p:sp>
          <p:nvSpPr>
            <p:cNvPr id="261" name=""/>
            <p:cNvSpPr/>
            <p:nvPr/>
          </p:nvSpPr>
          <p:spPr>
            <a:xfrm rot="2613000">
              <a:off x="3428640" y="3047760"/>
              <a:ext cx="2133720" cy="2133360"/>
            </a:xfrm>
            <a:prstGeom prst="rect">
              <a:avLst/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1840" y="2133720"/>
              <a:ext cx="256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HY Layer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5640" y="3886200"/>
              <a:ext cx="26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C Layer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080" y="3836880"/>
              <a:ext cx="26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Traffic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71800" y="5638680"/>
              <a:ext cx="30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F Propagation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00040" y="3913200"/>
              <a:ext cx="26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existence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 Layer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s of the 802.11 and 802.15 PHY layers which will predict the impact of mutual interference when multiple devices are operating simultaneous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modeling PHY in MatL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Established in 1884 (AIEE &amp; I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December 1999 Membership was 360,000; 66% USA &amp; 33% Non-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produces 30 percent of the world's published literature in electrical engineering, computers and control 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olds annually more than 300 major conferences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as more than 800 active standards with 700 under develop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 Layer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the WLAN and WPAN MAC lay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modeling in Op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odel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802.15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Traffic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the data traffic flow based upon different application scenarios for both the WLAN and WPA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&amp;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 Propagatio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RF signal power levels at the different WPAN and WLAN nodes based on an RF propagation mod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different application scenarios and physical distribution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existence Mechanisms Facilitate Coexistence of WPAN &amp; WLAN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be doing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all for Submis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Coexistence Mechanisms in Septe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tions are planne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ember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uary 2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existence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form of communication between the WLAN and WP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is link to provide sharing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Collaborative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mmunication between WLAN and WP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mutual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.15 Task Grou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standard for a WPAN with a data rate of at least 20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coexist with 802.11 and Bluetoo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rable to be backward compatible with Bluetoo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d a call for submissions over last few mon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missions were made in May and Ju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Grou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ubmissions cov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of 14 sub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an Evaluation Criter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performing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Grou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ad Range of Sub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B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Band Q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Band QPSK and Q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G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er-P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tra Wide Band (UW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treme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5 Radio2 Study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formal reports to the WG, updating the membership on the BT 2.0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aison from 802.15 to Bluetooth SI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lenary week tutorial to IEEE 802. Target November 200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arranted, develop PAR and Five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w-Rate WPAN Study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together a Project Authorization Request (PAR) for a low-rate WP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s than 200 k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at least 16 nodes in a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meters r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ttery life of months to infin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cost relative to target de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Standards Assoc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1828800"/>
            <a:ext cx="8458200" cy="4495680"/>
            <a:chOff x="380880" y="1828800"/>
            <a:chExt cx="8458200" cy="4495680"/>
          </a:xfrm>
        </p:grpSpPr>
        <p:sp>
          <p:nvSpPr>
            <p:cNvPr id="96" name=""/>
            <p:cNvSpPr/>
            <p:nvPr/>
          </p:nvSpPr>
          <p:spPr>
            <a:xfrm>
              <a:off x="3000240" y="4572000"/>
              <a:ext cx="3733920" cy="17524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9040" y="4724280"/>
              <a:ext cx="19051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81440" y="5257800"/>
              <a:ext cx="217656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 (1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81400" y="5791320"/>
              <a:ext cx="3186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TING MEMBERSHIP (5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840" y="4129200"/>
              <a:ext cx="168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IEEE 8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3080" y="39258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N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4572000"/>
              <a:ext cx="99072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4320" y="5562720"/>
              <a:ext cx="167616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O/I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TC1/S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943600" y="4876560"/>
              <a:ext cx="1295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43600" y="5410080"/>
              <a:ext cx="9907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96080" y="525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74320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E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ESS RELE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9640" y="1982880"/>
              <a:ext cx="224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CIETY S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334120" y="3886200"/>
              <a:ext cx="22860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98920" y="281952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SCOM – P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VCOM – ST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49880" y="2438280"/>
              <a:ext cx="28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STDS B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7000" y="1828800"/>
              <a:ext cx="31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BD OF 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41920" y="2238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880" y="4495680"/>
              <a:ext cx="213372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BLIS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MSC BALLO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9720" y="3762360"/>
              <a:ext cx="177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 ST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81080" y="3962160"/>
              <a:ext cx="1447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514600" y="4876920"/>
              <a:ext cx="1447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514240" y="5181120"/>
              <a:ext cx="7621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2514600" y="5181120"/>
              <a:ext cx="1295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3962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w-Rate WPAN Study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ors &amp; Actu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Ba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 Peripher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 Auto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Meter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b O’Hara and Al Petrick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IEEE 802.11 Handbook: A Designers Companion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EEE Press, 199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ieee802.org/11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ieee802.org/15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802.11 &amp; 802.15 Me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t IEEE 802.11 &amp; 802.15 Interim Me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tember 18-22,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ttsdale Arizona, Radisson Resort &amp; Sp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 and Ans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66652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 of IEEE 80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e IEEE 802 to develop consensus standards that benefits the World Wide Networked Soci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the imperative principals of due process, consensus,openness, balance and rights of app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distribution of stand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60520" y="1797120"/>
          <a:ext cx="62578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7120"/>
                    <a:ext cx="62578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474240" y="274320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ve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391320" y="487836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Group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163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544840"/>
            <a:ext cx="304560" cy="30456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600" y="210168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6280" y="251460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Hibe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6120" y="2925720"/>
            <a:ext cx="304920" cy="3049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600" y="28954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Disb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306600"/>
            <a:ext cx="304560" cy="304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1520" y="3244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rent IEEE 802.11 Stand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 Local Area Networks (WL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um Access Control (MAC)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includes five Physical (PHY) Lay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Mbps in 2.4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4 Mbps in 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C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er Sense Multiple Access with Collision Avoidance (CSMA/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rastructure Network (Access Poi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-Hoc Network (No Access Poi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ic Repeat Request (ARQ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Sav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 Equivalent Privacy (WE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H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or 4 level Gaussian F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9 chan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pping Rate &gt; 2.5 hops/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2:19:01Z</dcterms:created>
  <dc:creator>Donald N. Heirman</dc:creator>
  <dc:description/>
  <dc:language>en-US</dc:language>
  <cp:lastModifiedBy>Steve Shellhammer</cp:lastModifiedBy>
  <cp:lastPrinted>2000-07-31T18:27:51Z</cp:lastPrinted>
  <dcterms:modified xsi:type="dcterms:W3CDTF">2000-08-11T13:38:32Z</dcterms:modified>
  <cp:revision>154</cp:revision>
  <dc:subject/>
  <dc:title>PowerPoint Presentation</dc:title>
</cp:coreProperties>
</file>