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EED-9749-45EC-8479-53BA6807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574-E141-4743-BA2A-7CC5F20A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632-D75F-4036-BF9F-42F2C4AF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CC6-6A6A-4A57-997C-AC25B5D1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C0E-954F-4747-8446-540733F3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39D-09E9-4DA8-8E03-93736210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49A-2646-4DF1-A105-0A4152E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894-F18F-46FC-8A75-51B3616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3C4-F4C6-49DF-96DA-B98DD89F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480-6BA6-4F2B-88A4-5DA38C2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934-E78C-4D74-AC44-78DC778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941-D815-45FD-92C6-C7E28E4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BC12A7-C0AF-465B-A212-7E0288F6C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19 September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04 ], FAX: [ +44 113 2332032 ], E-Mail:[ enrique@supergold.com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D9F-5B9C-472D-96F8-E798EA6050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pectralMask" descr=""/>
          <p:cNvPicPr/>
          <p:nvPr/>
        </p:nvPicPr>
        <p:blipFill>
          <a:blip r:embed="rId1"/>
          <a:stretch/>
        </p:blipFill>
        <p:spPr>
          <a:xfrm>
            <a:off x="1112760" y="1233360"/>
            <a:ext cx="6862680" cy="514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5680" y="950760"/>
            <a:ext cx="63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 of pulse shape digital raised-cosin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22F-9475-4984-A87D-C60650F9561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3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1. 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to 802.15.1 equivalent UMC at 2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 (30K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RF architecture for 802.15.1 and 802.15.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ip RF / BB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B9A-5B10-4BE2-ABA6-CAE49B3EA1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 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enuation &gt; 50 dBc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-band interference protection &gt; 4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-of-band attenuation &gt; 8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ies with BT1.0b out-of-band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E99-8A48-4589-9D86-0596BA677E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BD2-3607-4762-BACA-B8DAE8973B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5040" y="1814040"/>
            <a:ext cx="77724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ceiver can tolerate an intermodulating signal of up to -21dBm whilst retaining a BER=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th 3dB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NA parameter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input IP3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-10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gai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16.2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NA P1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 -5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produced by one -35dBm tone = -106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647-52E5-48A6-BCBC-8B622386B8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3200" y="1288800"/>
            <a:ext cx="8161200" cy="49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4. 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 oven inter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bandwidth = 25MHz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 least 1 free channe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would detect jammer an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-3. 802.15.1 pic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1 randomly hops over 78 1MHz-bands. It will jam 802.15.3 if it hops within 20MHz-jamming sensitive are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robability of jamming: 20 / 78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3 transmitting MPG2-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stream take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 of channel throughput. If 2 un-coordinated WPANs share the 1 channel with CCA-deferred access &gt;50% throughput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wise 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on a disjoint frequency band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 802.11b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F5B-B921-4BBD-BF43-3F2295A5FA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6680" y="1735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5. 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 Mbit/s bit r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put in [17.5, 20] Mbit/s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ed time-multiplexing used for multiple access to shared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straint when multiplexing an MPEG2 stream (4.5 Mbit/s) with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12-byte asynchronous packets (max. 234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1: three MPEG2 streams (at 4.5Mbit/s) share the total throughput (min.) 17.5Mbit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2 and 3: one MPEG2 stream takes 4.5 Mbit/s whilst the asynchronous services share the remaining throughput in a time-multiplexing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7E0-5545-454C-A0CA-681CB33D51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2320" y="1217160"/>
            <a:ext cx="845820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pico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47960" y="210672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210168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4880" y="210816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70680" y="210024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7960" y="2324160"/>
            <a:ext cx="112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70080" y="2568600"/>
            <a:ext cx="1154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3080" y="2857680"/>
            <a:ext cx="187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27840" y="282888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78160" y="2822400"/>
            <a:ext cx="8604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7240" y="226836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9800" y="228132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9960" y="2135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92400" y="21207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0524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792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93920" y="301608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13160" y="30081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8200" y="301608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58640" y="2322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1760" y="207648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2583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2560" y="3365640"/>
            <a:ext cx="78580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1 and A2 will not interfere with B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dBm; Pahtloss(A2-B2) ~62.4dB; A2 Rx Pwr at B2 ~ -62.4dBm over 12.5MHz (Nyquist frequency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~ -73.4dBm over 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0dBm; Pathloss(B1-B2) ~60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2 Rx Pwr ~ -60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(B2) ~ -60 - (-73.4) ~ 13.4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0680" y="4937040"/>
            <a:ext cx="829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on B1: Probability of 802.15.1 hopping on 802.15.3 interfering BW (&lt; 20MHz)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(interf.) &lt; 20 / 78 &lt; 26%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802.15.1 throughput &gt; 7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 in 802.15.2 would be applicable to 802.1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990-3E23-470D-91BD-46E4670B12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8240" y="1492200"/>
            <a:ext cx="77403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3 &amp; IC5 - 802.11b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 channels would be selected for each network via C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4 - 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3 and 802.11a use different frequency bands and would be able to co-exist without interfering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802.15.3 WPAN implements a dual mode radio with shared RF blocks for interoperability with 802.15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FC6-E5BC-4833-81CB-337F0E479D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30080" y="14889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4. 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1. 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802.11b and 802.15.1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ap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. 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earlier than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B77-2DB6-4D24-BA09-D77904070D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13219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C13-EC2F-49A5-951E-51C5F96C91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3. 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 FCC(25.249) and ETSI 300-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4. 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utilises existing 802.11b and 802.15.1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4A4-72CE-48AA-89B0-9FD9EC8712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1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can be changed with impact on either range or throughput (through change in coding r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2. 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level can be adjusted to fit power and channe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3. 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4.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or power would not significantly affect the uni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5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an be introduced into the scheme inorder to enhance resistance to time dispersive channels with large delay sp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FEB-B78D-4F5A-95E4-6929BD0E57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00200" y="172080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1. 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RF / BB parts integrated in one PHY c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external components: crystal oscillator, front-end filter and SAW IF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chip for dual mode 802.15.1 / 802.15.3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 smaller than a Compact Flash Type 1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3E6-24FC-494C-8835-338690F4CB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17600"/>
            <a:ext cx="7962840" cy="50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1. 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 = 2 x 12.5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(7/8) x (125/127) = 21.65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 overhead due to coding = 1 - (7/8 x 125/127) = 13.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MAC/PHY throughput is met for services that use a MAC overhead of less than or equal to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2. 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DE0-AFCD-44A6-AEF5-C73C1FE7D5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3. 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imed at the 2.4 GHz ISM band, but is also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b channelisation is adopted which provides for 14 overlapp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non-overlapping channels, up to 3 co-located networks can share the 2.4 GHz ISM band without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overlapping channels, up to 4 co-located networks can share the 2.4 GHz ISM band without significant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could share the 5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016-90BB-48C7-8166-E6248C0B74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06480" y="231948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248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360" y="1217520"/>
            <a:ext cx="84582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892160" y="1828800"/>
            <a:ext cx="1078200" cy="50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2160" y="2374920"/>
            <a:ext cx="4094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4520" y="233352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24280" y="178596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2214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88720" y="1622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02280" y="2214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9840" y="1758960"/>
            <a:ext cx="4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26360" y="234324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55320" y="1827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8120" y="16225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1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0560" y="22147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3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9240" y="3378240"/>
            <a:ext cx="7858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dBm; Pahtloss(A1-A2) ~60 dB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athloss(B1-A2) ~ 40 dB and Pathloss(B2-A2) ~ 4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r 20 MHz channel separation the adjacent channel interference (ACI) produced by the filtered signals at 1 m is 2*ACI(0m) - pathloss(1m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3 - 89 - 40 = -126 dB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s the receiver sensitivity is -85 dBm, then the C/I margin is 4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refore there is no significant impact on through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51840" y="22147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3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9360" y="5257800"/>
            <a:ext cx="76834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6.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79560" y="2425680"/>
            <a:ext cx="1077840" cy="50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1320" y="2878200"/>
            <a:ext cx="8604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9480" y="27147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0600" y="2698920"/>
            <a:ext cx="4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9240" y="271476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5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49B-6096-4BAA-BD44-2412B2FA23F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531-C918-4203-A871-3B3E2B3290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5CB-176C-4426-8371-CEB5E9030C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268-E4DB-4EDB-98A1-5B9879208C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5965920" cy="44481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55480" y="1166400"/>
            <a:ext cx="80805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6000" y="5975280"/>
            <a:ext cx="769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2B3-AC16-4F8E-87A4-718CCB1ADB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1700280"/>
            <a:ext cx="7937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 — QPSK / OQPSK chip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t amplitu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PA back-off,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ust in multipath fading up to 30 ns rms 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-error-correcting concatenated RS(127,125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S code matched to M-ary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simple Berlekamp-Massey hard-decision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rate (0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ctral efficiency: 22 Mbit/s data rate in 2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338-D96D-4B11-BCC3-8A82ECF6BD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9160" y="9536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8600" y="1903320"/>
            <a:ext cx="8051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t for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5 ns with 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lay spread of 30ns is tolerated for more than 90% of the channels  with FER &lt; 1% at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7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188-3863-4950-9241-A412019B99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dBm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PSK/OQPSK: near constant amplitude and small RFPA back-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baseband processor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 complexity fast transform correlation detection and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q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k BB processing gat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dicated ASIC using 0.18 u CMO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 peak power consumption is 250 m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luding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CC9-BE74-40B9-AD36-1F1B628BBA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00280" y="1778040"/>
            <a:ext cx="3733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 (33% efficienc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ooth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0120" y="1251000"/>
            <a:ext cx="71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 Budget in mW for 0.18 u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6480" y="1778040"/>
            <a:ext cx="3733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N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-alias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281-9685-4A82-9B09-EC55693C20FF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63480" y="1461960"/>
          <a:ext cx="7791480" cy="56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461960"/>
                    <a:ext cx="779148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A6C-E177-495A-B035-02C26AFB63C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22240" y="1270080"/>
          <a:ext cx="772164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70080"/>
                    <a:ext cx="77216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6F2-A12C-413B-B325-779AA644F78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828720" y="1346040"/>
          <a:ext cx="758664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346040"/>
                    <a:ext cx="7586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084-63E3-4312-8962-093DA839B61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93800" y="1662120"/>
          <a:ext cx="806616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616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E94-84D4-4000-BC2F-0D5EB7FE363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64268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802.15.1 / 802.15.3 using common R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 with 802.11 channe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b - 802.15.1 and 802.15.3 co-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operate in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CA as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7F8-22FC-4822-9D41-FB2CC0A418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22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= -85.6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7F2-22A6-409B-AC35-0A39F3E2DE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= 70.9 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*0 + 5 =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ng SNR is 10 dB for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Power: Noise Floor + SNR + Loss = -85.6 dBm + 10 dB + 75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479-D393-40BA-9D5D-E17A89B882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623960"/>
            <a:ext cx="7772400" cy="3932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67160" y="5041800"/>
            <a:ext cx="9396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36960" y="504180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56080" y="516240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25880" y="51624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01920" y="5600880"/>
            <a:ext cx="123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cy 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85000" y="3708360"/>
            <a:ext cx="584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27880" y="2133720"/>
            <a:ext cx="2095560" cy="3390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1280" y="3681360"/>
            <a:ext cx="8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11E-06ED-4B09-892F-86E68899E0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72760" y="965160"/>
            <a:ext cx="6134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or — M-ary Sequence coded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2160" y="391176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14720" y="389736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imu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kelyhoo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1520" y="403704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43680" y="42670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26400" y="2119320"/>
            <a:ext cx="107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of 128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18120" y="1854360"/>
            <a:ext cx="107964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2160" y="3632040"/>
            <a:ext cx="107964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4040" y="3632040"/>
            <a:ext cx="107964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645000"/>
            <a:ext cx="107964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680" y="2246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9200" y="1841400"/>
            <a:ext cx="107928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8160" y="248904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24890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97760" y="21970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97760" y="28195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451240" y="234936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70480" y="236232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527880" y="20574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533640" y="2685960"/>
            <a:ext cx="209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4360" y="46227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4360" y="39434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5040" y="3943440"/>
            <a:ext cx="109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610160"/>
            <a:ext cx="109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57960" y="4273560"/>
            <a:ext cx="8701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5028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3716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41600" y="37972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22520" y="44640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479600" y="3809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460520" y="44830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3920" y="2343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1812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09600" y="222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5800" y="22017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218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64720" y="1906560"/>
            <a:ext cx="310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0480" y="2503440"/>
            <a:ext cx="41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392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3920" y="25336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82440" y="2027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72720" y="26557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7080" y="36100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0" y="42958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9680" y="397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8360" y="36194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28640" y="43052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39625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5160" y="3790800"/>
            <a:ext cx="657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640" y="4476600"/>
            <a:ext cx="70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Q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3200" y="36464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31920" y="4332240"/>
            <a:ext cx="33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4960" y="395460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0440" y="403704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47960" y="3992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A0D-5144-4967-BF1A-EC717CD558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84280" y="1030320"/>
            <a:ext cx="82850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F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F blocks shared between 802.15.1 and 802.15.3 mode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blocks rep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= 0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PA efficiency of 33%, No RFPA ba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transform correlators - 12.5 Mchips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bit Rx AD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Tx DA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AGC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-tap digital raised-cosine pulse shap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K gates for BB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u CMOS process in a dedicated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ip implementation, 1 crystal, 2 filters (front-end, SAW 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DBC-9A11-4F0A-A5B1-A5FDC3FF93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18:19:05Z</dcterms:created>
  <dc:creator>Dr. Luis Enrique Aguado</dc:creator>
  <dc:description>&lt;doc#&gt;</dc:description>
  <dc:language>en-US</dc:language>
  <cp:lastModifiedBy>Tim O'Farrell</cp:lastModifiedBy>
  <cp:lastPrinted>2000-07-05T15:11:46Z</cp:lastPrinted>
  <dcterms:modified xsi:type="dcterms:W3CDTF">2000-09-20T15:27:28Z</dcterms:modified>
  <cp:revision>26</cp:revision>
  <dc:subject>IEEE 802.15 TG3</dc:subject>
  <dc:title>No Slide Title</dc:title>
</cp:coreProperties>
</file>