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D90D8-0C62-4E35-A492-93358CD00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9CEE-1DFE-4A3D-B133-3CB30EDFA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7CF31-3D95-4EF2-A3A5-A3CFA471E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07CD9-D485-4D43-BC49-CD6681FD2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E25B7-09C9-4ED3-A567-0008D1B32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35F3-CA3F-4172-AE3D-3E6BF98A6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20A77-62CF-4984-A434-8C768EC36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92F70-9966-4B18-A730-E4B3EF6BF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41D2B-0BA5-4B68-804C-96DA60F50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1870B-78DC-4920-A55B-B02A9614C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0B7E6-CF22-40B9-B999-B3A28899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86804-8323-4E15-AFE0-588E25BB4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CF1AF9-DB41-4058-962F-9541E22FA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6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5B6981D-ADCF-4EC1-AA51-DD3C604AB1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Opening Report 18Sep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7Sept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253R1P802-15_TG3-sept00-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from the last session on all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ptember Document Summary (1 of 2)</a:t>
            </a:r>
            <a:endParaRPr b="0" lang="en-US" sz="3600" spc="-1" strike="noStrike">
              <a:solidFill>
                <a:srgbClr val="000000"/>
              </a:solidFill>
              <a:latin typeface="Times New Roman"/>
            </a:endParaRPr>
          </a:p>
        </p:txBody>
      </p:sp>
      <p:graphicFrame>
        <p:nvGraphicFramePr>
          <p:cNvPr id="100" name=""/>
          <p:cNvGraphicFramePr/>
          <p:nvPr/>
        </p:nvGraphicFramePr>
        <p:xfrm>
          <a:off x="228600" y="1427040"/>
          <a:ext cx="8610480" cy="4805640"/>
        </p:xfrm>
        <a:graphic>
          <a:graphicData uri="http://schemas.openxmlformats.org/presentationml/2006/ole">
            <p:oleObj progId="Excel.Sheet.12" r:id="rId1" spid="">
              <p:embed/>
              <p:pic>
                <p:nvPicPr>
                  <p:cNvPr id="101" name="" descr=""/>
                  <p:cNvPicPr/>
                  <p:nvPr/>
                </p:nvPicPr>
                <p:blipFill>
                  <a:blip r:embed="rId2"/>
                  <a:stretch/>
                </p:blipFill>
                <p:spPr>
                  <a:xfrm>
                    <a:off x="228600" y="1427040"/>
                    <a:ext cx="8610480" cy="480564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49C2BA3D-3720-4BAF-A248-2550A9B5DFDA}" type="slidenum">
              <a:t>10</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ptember Document Summary (2 of 2)</a:t>
            </a:r>
            <a:endParaRPr b="0" lang="en-US" sz="3600" spc="-1" strike="noStrike">
              <a:solidFill>
                <a:srgbClr val="000000"/>
              </a:solidFill>
              <a:latin typeface="Times New Roman"/>
            </a:endParaRPr>
          </a:p>
        </p:txBody>
      </p:sp>
      <p:graphicFrame>
        <p:nvGraphicFramePr>
          <p:cNvPr id="103" name=""/>
          <p:cNvGraphicFramePr/>
          <p:nvPr/>
        </p:nvGraphicFramePr>
        <p:xfrm>
          <a:off x="304920" y="1874880"/>
          <a:ext cx="8534160" cy="4068720"/>
        </p:xfrm>
        <a:graphic>
          <a:graphicData uri="http://schemas.openxmlformats.org/presentationml/2006/ole">
            <p:oleObj progId="Excel.Sheet.12" r:id="rId1" spid="">
              <p:embed/>
              <p:pic>
                <p:nvPicPr>
                  <p:cNvPr id="104" name="" descr=""/>
                  <p:cNvPicPr/>
                  <p:nvPr/>
                </p:nvPicPr>
                <p:blipFill>
                  <a:blip r:embed="rId2"/>
                  <a:stretch/>
                </p:blipFill>
                <p:spPr>
                  <a:xfrm>
                    <a:off x="304920" y="1874880"/>
                    <a:ext cx="8534160" cy="406872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E4D7FEAD-7904-4C1A-9AC1-E3EF8B27F018}" type="slidenum">
              <a:t>11</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September Session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and Tuesday: Review of committee work and resolution of outstanding issu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at 5PM: Presentation of ballot for ranking vote on Wednesda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1:00 PM. (Joint TG1 and TG3 meeting.): Legal presentation on reuse of 802.15.1 MA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4:00-5:30 PM: Final call for floor comments and ranking vo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8:00 AM: Ranking vote resul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Develop process and work on further reduction of proposals down to final MAC/PHY pair for initial draft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2191185-3FA5-49C2-BCD4-3FF44A1C88A4}" type="slidenum">
              <a:t>1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work next week</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s will not resume until week of October 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0B9C138-84BD-4BA9-9C51-E7FA7F89B481}" type="slidenum">
              <a:t>1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Status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2000, Scottsdale, AZ</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8E447DD-492C-4C51-A9CC-4CE711DEB05B}"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September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3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and plans for TG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PHY/SYSTEM Committee Resul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ed Resul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Document 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C4B8CA3-39E3-4AB5-A47F-81CCD2E475BF}"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September Meeting</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conference call results and vote on acceptance of 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work letter ballots to d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 issues with MAC/PHY/System evaluation proc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possible options by at least 5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how to reach consensus selection of final MAC/P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NOV00 Objectiv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D249B67-2C46-454D-81C3-6255DA65AD01}"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PAR</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Medium Access Control (MAC) and Physical Layer (PHY) Specifications for High Rate Wireless Personal Area Networks (W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reless connectivity with fixed, portable and moving devices within or entering a Personal Operating Space (POS) (up to 10 meters in all directions enveloping a 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 or coexistence with other 802.15 T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existence with other wireless devices in conjunction with Coexistence Task Groups such as 802.15.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 complexity, low cost, low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20Mbps to satisfy a set of consumer multi-media industry needs for WPAN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FA62900-BEFA-45FC-8293-B859A9FF8FE2}"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ion of Initial Draft</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oal</a:t>
            </a:r>
            <a:r>
              <a:rPr b="0" lang="en-US" sz="2400" spc="-1" strike="noStrike">
                <a:solidFill>
                  <a:srgbClr val="000000"/>
                </a:solidFill>
                <a:latin typeface="Times New Roman"/>
              </a:rPr>
              <a:t>: everything you need to know to construct the lower layers of high rate WPA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oal</a:t>
            </a:r>
            <a:r>
              <a:rPr b="0" lang="en-US" sz="2400" spc="-1" strike="noStrike">
                <a:solidFill>
                  <a:srgbClr val="000000"/>
                </a:solidFill>
                <a:latin typeface="Times New Roman"/>
              </a:rPr>
              <a:t>: Produce a Standard by the end of 2001 or early 2002</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oal</a:t>
            </a:r>
            <a:r>
              <a:rPr b="0" lang="en-US" sz="2400" spc="-1" strike="noStrike">
                <a:solidFill>
                  <a:srgbClr val="000000"/>
                </a:solidFill>
                <a:latin typeface="Times New Roman"/>
              </a:rPr>
              <a:t>: Reduce number of candidate MAC/PHY, September, 2000. Select candidate MAC/PHY, November, 2000. Working Group draft, May, 2001. Sponsor ballot, November, 200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5A56DC0-0C49-4D3E-B5D3-03F85929AF75}"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Complete criteria document update, evaluate proposals, combine proposals into better solutions, prepare for first ranking cu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Every Thursd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Three special cal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5A1CD86-0739-4253-80BD-0B4BC24D7ADC}"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Process Updates</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ve comments on evaluation criteria will be noted in appendix to 110R13 (TG3 Criteria Definitions) authored by MAC, PHY, and Systems Committee chai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MAC and PHY separately, optimizing task group resour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 and PMD functionality will be defined for 802.15.3 as the basis for the initial dra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choice may be concluded prior to final PHY choi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DD6E4D4-3128-40A9-9AA0-937EF3497010}" type="slidenum">
              <a:t>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Proposals</a:t>
            </a:r>
            <a:endParaRPr b="0" lang="en-US" sz="3600" spc="-1" strike="noStrike">
              <a:solidFill>
                <a:srgbClr val="000000"/>
              </a:solidFill>
              <a:latin typeface="Times New Roman"/>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s/Skeller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ne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o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ellern/de Courvil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n/Carls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rre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ba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Corkle/Rofhea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aoguz</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os</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John Barr, Motorola</a:t>
            </a:r>
          </a:p>
        </p:txBody>
      </p:sp>
      <p:sp>
        <p:nvSpPr>
          <p:cNvPr id="6" name="PlaceHolder 5"/>
          <p:cNvSpPr>
            <a:spLocks noGrp="1"/>
          </p:cNvSpPr>
          <p:nvPr>
            <p:ph type="sldNum" idx="3"/>
          </p:nvPr>
        </p:nvSpPr>
        <p:spPr/>
        <p:txBody>
          <a:bodyPr/>
          <a:p>
            <a:fld id="{B9B89887-7597-413F-A135-FA4CE275ABCF}" type="slidenum">
              <a:t>9</a:t>
            </a:fld>
          </a:p>
        </p:txBody>
      </p:sp>
      <p:sp>
        <p:nvSpPr>
          <p:cNvPr id="7" name="PlaceHolder 6"/>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Robert F.  Heile</cp:lastModifiedBy>
  <cp:lastPrinted>1998-02-10T13:28:06Z</cp:lastPrinted>
  <dcterms:modified xsi:type="dcterms:W3CDTF">2000-09-26T22:59:32Z</dcterms:modified>
  <cp:revision>198</cp:revision>
  <dc:subject>TG3 Opening Report, 18Sep00</dc:subject>
  <dc:title>IEEE P802.15 Working Group for Wireless Personal Area Networks</dc:title>
</cp:coreProperties>
</file>