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A7DEA-2698-4EBA-8A7B-56A19E14E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17116-95C9-4641-8E87-A824C2A0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4C99F-1164-47F8-BD9E-3C19EACDD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1D2F4-79A8-4A0C-97ED-13B82259A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68E9-90E2-418A-9F08-B0821C54D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7F0E-75EE-4F9E-A4FE-4B96A71CB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1707-8584-4DA1-AF37-2D88D6C1C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75CE-9952-4295-8D37-3325EF0C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CC94F-F794-4F7D-9E3B-EAC4FAE0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4107-F367-4BF1-990B-D2CBDEC4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F827-FA70-432A-A33A-4E2AD4DD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C91F4-4B46-4135-9EF9-03B9DE233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 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84C99E-E9E5-45EA-9F67-AC5A4B9C7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9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PHY Subcommittee Scottsdale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9 Sept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proposal to reduce the number of PHY layers that will lead toward the development of a standard that satisfies the PA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document is intended to stimulate discussion for the voting proce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50F32D1-D641-4784-8A53-17881BE67B3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items</a:t>
            </a:r>
            <a:endParaRPr b="0" lang="en-US" sz="36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by Carlos Rios, P802.15-00/299r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 evaluation of </a:t>
            </a:r>
            <a:r>
              <a:rPr b="0" lang="en-US" sz="2000" spc="-1" strike="noStrike">
                <a:solidFill>
                  <a:srgbClr val="000000"/>
                </a:solidFill>
                <a:latin typeface="Times New Roman"/>
                <a:ea typeface="Times New Roman"/>
              </a:rPr>
              <a:t>criteria 2.1, 4.1, 4.9, 2.2.2, 2.2.3, 2.2.4 and 2.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any problems with finished evalua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overhead for minimum and high-end data ra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for 4.4 in light of response for 2.4.3 for de Courville/Skeller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responses for delay spread toleranc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to be added the PHY annex of P802.15-00/110r14 and comment section of P802.15-00/245r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evaluating changes to proposals (time permitt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os and Allen have requested consideration of updat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possible merged proposals (time permit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7A5D04-B465-4AFF-8E37-2ADB271EE5F3}"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Review Order</a:t>
            </a:r>
            <a:endParaRPr b="0" lang="en-US" sz="32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to table range evaluation for Kodak until after clarifications to criteria upd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potential problems with </a:t>
            </a:r>
            <a:r>
              <a:rPr b="0" lang="en-US" sz="2000" spc="-1" strike="noStrike">
                <a:solidFill>
                  <a:srgbClr val="000000"/>
                </a:solidFill>
                <a:latin typeface="Times New Roman"/>
                <a:ea typeface="Times New Roman"/>
              </a:rPr>
              <a:t>2.2.2, 2.2.3, 2.2.4 and 2.2.6</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posals for potentially missing data or misunderstanding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responses for delay spread tolerance (4.8.2 informationa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to be added the PHY annex of P802.15-00/110r14 and comment section of P802.15-00/245r9)</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MAC overhead to be used for minimum and high-end data rat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mine data rates for MAC subcommittee on Thursday, 21 September, 8:00 am</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meeting with MAC subcommittee to determine MAC overhead, Thursday, 21 September, 10:30 am</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conference call minutes, 1:00 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CFF87D-B9AD-466F-AB23-F1958A9D281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Review Order (2)</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issues to Chair for consideration, presentations available for review prior to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permit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issues with current evalu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for 4.4 in light of response for 2.4.3 for de Courville/Skeller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evaluating changes to proposals (time permit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os and Allen have requested consideration of updat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ossible merged proposals (time permitt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3DC63E-1535-4B29-A154-B1689D7FDC2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Review, 21 Sep. 2000</a:t>
            </a:r>
            <a:endParaRPr b="0" lang="en-US" sz="3600" spc="-1" strike="noStrike">
              <a:solidFill>
                <a:srgbClr val="000000"/>
              </a:solidFill>
              <a:latin typeface="Arial"/>
            </a:endParaRPr>
          </a:p>
        </p:txBody>
      </p:sp>
      <p:sp>
        <p:nvSpPr>
          <p:cNvPr id="53" name="PlaceHolder 2"/>
          <p:cNvSpPr>
            <a:spLocks noGrp="1"/>
          </p:cNvSpPr>
          <p:nvPr>
            <p:ph/>
          </p:nvPr>
        </p:nvSpPr>
        <p:spPr>
          <a:xfrm>
            <a:off x="609480" y="1371600"/>
            <a:ext cx="7772400" cy="464832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 </a:t>
            </a:r>
            <a:r>
              <a:rPr b="0" lang="en-US" sz="2400" spc="-1" strike="noStrike">
                <a:solidFill>
                  <a:srgbClr val="000000"/>
                </a:solidFill>
                <a:latin typeface="Times New Roman"/>
                <a:ea typeface="Times New Roman"/>
              </a:rPr>
              <a:t>2.2.6</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proposals for potentially missing data or misunderstandings</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responses for delay spread tolerance (4.8.2 informational)</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to be added the PHY annex of P802.15-00/110r14 and comment section of P802.15-00/245r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Subcommittee will supply MAC overhead</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subcommittee meeting Thursday, 21 September, 10:30 am</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 conference call minutes, document P802.15-00/247r, 1:00 pm</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business, time permitting</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xico style Mexican food field trip</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53CEBA8-2A09-4539-9B36-32EB1E1D14A0}"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mplishments</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evaluations sections 2.1, 4.9 Pugh matrix and 2.1 and 4.8.2 informative s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evaluation of all criteria for potential problems, some informative issues are outstanding, to be completed on conference ca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FB47CB-03CC-4298-95E7-52A2E986A96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resolved Issues with Proposal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n/Carlson, 4.6 range with change in power</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 – All proposals can be evaluated against current criteria</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rrell 2.1, informative</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036B9DC-45B6-4FA1-A7C6-1D90D6A58A8A}"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Information Pending</a:t>
            </a:r>
            <a:endParaRPr b="0" lang="en-US" sz="3600" spc="-1" strike="noStrike">
              <a:solidFill>
                <a:srgbClr val="000000"/>
              </a:solidFill>
              <a:latin typeface="Arial"/>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 – Clarification of in-band same rating, modifications due by October 8, 2000</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 – Additional information for annex, new information due by October 8, 2000</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 – Clarification of microwave oven model via a sub-subcommittee chaired by Anand Dabak, due October 8, 2000.  Use average throughput of DVD.  Responses due October 15, 2000.</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6 – The origin for is at A1 and the separation of A1 and A2 is 6 m.  Additional informational annex is to provide number using 100 mW 802.15.1 systems, Responses due October 15, 20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DCE7C31-A98D-4E8C-88DB-8DCC5F9521AA}"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Information Pending (cont.)</a:t>
            </a:r>
            <a:endParaRPr b="0" lang="en-US" sz="3600" spc="-1" strike="noStrike">
              <a:solidFill>
                <a:srgbClr val="000000"/>
              </a:solidFill>
              <a:latin typeface="Arial"/>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2 – Sub-subcommittee chaired by Stanley Ling to develop recommendation for additional criteria for delay spread before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ca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6 – Carlos Rios will lead a sub-subcommittee to report on an informational annex regarding "harmony"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conf ca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1, 4.2.2 – Requested exchange of information between MAC and PHY proposers before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conf ca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33F527-24D4-4DDE-AF01-19384B80C52C}"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user </cp:lastModifiedBy>
  <cp:lastPrinted>1998-02-10T13:28:06Z</cp:lastPrinted>
  <dcterms:modified xsi:type="dcterms:W3CDTF">2000-09-22T02:24:38Z</dcterms:modified>
  <cp:revision>17</cp:revision>
  <dc:subject>IEEE 802.15 &lt;subject&gt;</dc:subject>
  <dc:title>No Slide Title</dc:title>
</cp:coreProperties>
</file>