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48B59-F623-432F-9889-681881212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F247F-26EE-4A16-8D1E-D08127855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52B31-6292-402A-BC86-AAFAAB6E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F6DCF-8ADA-451F-B0F0-EE529F08B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3825-CC8E-41EE-ABEE-209ECE3CD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3476F-7151-4F33-AD7F-484C4DD4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2F17B-3025-4766-861F-7A796ED2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A8F2-88E2-40AA-B186-53A9C8AF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E1B9-15D3-4013-A619-CCC92E7A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87F5-1C91-44C7-AFE7-4C40476F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41447-F75E-4A23-B5FC-CE795C47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D809-3006-4B5B-BD15-FB9F10B10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123F-1077-4BAA-AE5F-6C004BFFA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197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5169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CW Proposal for High Rate WPAN Combined PHY and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5 Septem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joint PHY and MAC proposal by LinCom Wireless, Inc., for a 1 to 40 Mbps WPAN operating in the 2.4 GHz band, Revision 2]</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5B172AA9-8E30-45B5-B07E-59AB21235C82}"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Medium Access</a:t>
            </a:r>
            <a:endParaRPr b="0" lang="en-US" sz="3600" spc="-1" strike="noStrike">
              <a:solidFill>
                <a:srgbClr val="000000"/>
              </a:solidFill>
              <a:latin typeface="Times New Roman"/>
            </a:endParaRPr>
          </a:p>
        </p:txBody>
      </p:sp>
      <p:sp>
        <p:nvSpPr>
          <p:cNvPr id="6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52280" y="1066680"/>
            <a:ext cx="876312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MAC protocol remains DCF, or CSMA/CA with “Enhanced ACK” (EACK) and retransmission using “Enhanced ARQ” (EARQ)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Q provides for retransmission of only those RS blocks received with uncorrectable erro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K indicates the specific RS blocks to be retransmit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PCF protocol uses “Poll with EACK, EARQ” as a basis for an adaptive hybrid TDMA-CSMA/CA scheme that can support Q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Master alternately transmits packets to distinct Slav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iconet (BSS) of one Master (AP) and multiple Slaves (cli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initially establishing a network becomes the Mas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ster may later switch roles with a designated Slave</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ster Assignment” frame promotes the Slave, transfers the Access Control List to avoid need for reregistration of the other Slav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attributes can be used to select the “best” Master for a picone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Line powered, Power Save packet buffering suppor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ourcing, sinking capability</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powered, SDRAM rich Portal makes the best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C4B1012-AA7A-418A-955E-5B880DEBBE45}"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Master Operation</a:t>
            </a:r>
            <a:endParaRPr b="0" lang="en-US" sz="3600" spc="-1" strike="noStrike">
              <a:solidFill>
                <a:srgbClr val="000000"/>
              </a:solidFill>
              <a:latin typeface="Times New Roman"/>
            </a:endParaRPr>
          </a:p>
        </p:txBody>
      </p:sp>
      <p:sp>
        <p:nvSpPr>
          <p:cNvPr id="7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21932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F and PCF modes use identical 802.11 timing relationships (SIFS, DIFS, PIF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 is determined using Automatic Channel Sel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work initiator/Master Active Scans (issues Probe Requests) to find a clear channel and there starts transmitting Beac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aves Active Scan to find the initiator/Master as they come on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channel later degrade, the Master may decide to mov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aceful” degradation lets Master find new channel and notify slaves for a coordinated frequency shif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brupt” link loss forces Master to move, slaves to then find hi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line or disabled Master will be replaced by one of his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eacons, unACKed transmissions determine Master lo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lave needing to transmit will issue Beacons and prepare to register and authenticate the other orphaned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ed Slaves proceed to associate with the new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1C143EC-AF10-44AE-9132-96324BB8BBEC}"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Network Join, Unjoin</a:t>
            </a:r>
            <a:endParaRPr b="0" lang="en-US" sz="3600" spc="-1" strike="noStrike">
              <a:solidFill>
                <a:srgbClr val="000000"/>
              </a:solidFill>
              <a:latin typeface="Times New Roman"/>
            </a:endParaRPr>
          </a:p>
        </p:txBody>
      </p:sp>
      <p:sp>
        <p:nvSpPr>
          <p:cNvPr id="7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7200" y="1295280"/>
            <a:ext cx="845820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like Association services provide for simple network Join, Unjoi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Active Scan upon activation (Probe Request,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ssue Enhanced Association Request (EAR) to desired Master</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includes device attribute information so that the best Master can be identified for possible later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grants piconet access with an Association Respon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32 Slaves at a time can be Associated with one Mast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broadcast a packet to multiple Slaves (Point to Multipoi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laves can talk directly to each other, bypassing the Ma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ng Slave sends Reassociation frame to desired recipient Slav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 verifies the common Master, sends Reassociation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link is active until either party requests Disassoci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7AF4925-5904-4E03-B052-FD6583F9B471}"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Security</a:t>
            </a:r>
            <a:endParaRPr b="0" lang="en-US" sz="3600" spc="-1" strike="noStrike">
              <a:solidFill>
                <a:srgbClr val="000000"/>
              </a:solidFill>
              <a:latin typeface="Times New Roman"/>
            </a:endParaRPr>
          </a:p>
        </p:txBody>
      </p:sp>
      <p:sp>
        <p:nvSpPr>
          <p:cNvPr id="7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1143000"/>
            <a:ext cx="8763120" cy="5257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MAC security protocols are designed to “undo all the security damage” of eliminating cables and embracing wireless connectiv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CW-capable device features a unique, secret factory assigned signature in addition to its MAC addres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Regis-tration can be unaided or require user intervention at one or both en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added to the ACL) to access the network in the future, under the control of the Mas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 likely with a secure exchange (Diffie Helman) of MAC Address and secret signatu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demand “Reverse” or Mutual Authentication from the Master, to ensure that he is indeed accessing the network of intere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ret shared session key is automatically generated at both e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enter PIN numbers or manual keys, ev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mmunications privacy by strongly encrypting (128b RC4) exchanged messag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01AD320-AB9F-4ED8-928B-D55253B9682B}"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QOS</a:t>
            </a:r>
            <a:endParaRPr b="0" lang="en-US" sz="3600" spc="-1" strike="noStrike">
              <a:solidFill>
                <a:srgbClr val="000000"/>
              </a:solidFill>
              <a:latin typeface="Times New Roman"/>
            </a:endParaRPr>
          </a:p>
        </p:txBody>
      </p:sp>
      <p:sp>
        <p:nvSpPr>
          <p:cNvPr id="8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880" y="14479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piconet,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support streaming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balances Automatic Channel Selection and Data Rate Shifting to ensure connectivity and throughput when the channel degr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T&amp;T, ShareWave and Lucent proposal for 802.11e QOS supports these services (and mo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QOS MAC will “streamline” this proposal as needed to focus solely on the home wireless interactive multimedia distribution proble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0BDFE55-5212-4128-AA9D-CE72E7E0774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General</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28600" y="1219320"/>
            <a:ext cx="876312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biased to operate at highest data rate possib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hannel degrades, automatically downshifts to lower rat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s to QOS prioritization, bandwidth, latency contracts under PCF</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negotiate low power “sleep” intervals with Master</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er number of Beacon Interval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power down, except for time-keeping functions to wake up</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buffers all incoming packets for sleeping Slaves until they awake and reestablish active lin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 message buffering capability depends on its Device Typ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maintain a network connection while in Power Sav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can sleep for seconds before waking to poll for stored dat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945FF01-8800-478F-8DA4-3D34A1E4EFD7}"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1600200"/>
            <a:ext cx="8305920" cy="4495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401 for &lt;1.5x 802.15.1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BDB665B-7BB9-49A2-BECE-27D2EF8E621A}"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4F10B27-B64A-4C98-B337-1BC7EEF8BCDC}"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38452F8-BE46-4C2B-AF7C-B84E273161CD}"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0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09480" y="1219320"/>
            <a:ext cx="8077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will be available Q40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78027CA2-70E6-4C29-A2A0-A440719C6F56}"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a:t>
            </a:r>
            <a:br>
              <a:rPr sz="3600"/>
            </a:br>
            <a:r>
              <a:rPr b="1" lang="en-US" sz="3600" spc="-1" strike="noStrike">
                <a:solidFill>
                  <a:srgbClr val="000000"/>
                </a:solidFill>
                <a:latin typeface="Arial"/>
              </a:rPr>
              <a:t> A Proposal for a High Data Rate WPAN in the 2.4 GHz Band</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graphicFrame>
          <p:nvGraphicFramePr>
            <p:cNvPr id="48" name=""/>
            <p:cNvGraphicFramePr/>
            <p:nvPr/>
          </p:nvGraphicFramePr>
          <p:xfrm>
            <a:off x="3733920" y="5410080"/>
            <a:ext cx="1752480" cy="659520"/>
          </p:xfrm>
          <a:graphic>
            <a:graphicData uri="http://schemas.openxmlformats.org/presentationml/2006/ole">
              <p:oleObj r:id="rId1" spid="">
                <p:embed/>
                <p:pic>
                  <p:nvPicPr>
                    <p:cNvPr id="49" name="" descr=""/>
                    <p:cNvPicPr/>
                    <p:nvPr/>
                  </p:nvPicPr>
                  <p:blipFill>
                    <a:blip r:embed="rId2"/>
                    <a:stretch/>
                  </p:blipFill>
                  <p:spPr>
                    <a:xfrm>
                      <a:off x="3733920" y="5410080"/>
                      <a:ext cx="1752480" cy="659520"/>
                    </a:xfrm>
                    <a:prstGeom prst="rect">
                      <a:avLst/>
                    </a:prstGeom>
                    <a:ln w="0">
                      <a:noFill/>
                    </a:ln>
                  </p:spPr>
                </p:pic>
              </p:oleObj>
            </a:graphicData>
          </a:graphic>
        </p:graphicFrame>
        <p:graphicFrame>
          <p:nvGraphicFramePr>
            <p:cNvPr id="50" name=""/>
            <p:cNvGraphicFramePr/>
            <p:nvPr/>
          </p:nvGraphicFramePr>
          <p:xfrm>
            <a:off x="3733920" y="5865840"/>
            <a:ext cx="1752480" cy="230040"/>
          </p:xfrm>
          <a:graphic>
            <a:graphicData uri="http://schemas.openxmlformats.org/presentationml/2006/ole">
              <p:oleObj r:id="rId3" spid="">
                <p:embed/>
                <p:pic>
                  <p:nvPicPr>
                    <p:cNvPr id="51" name="" descr=""/>
                    <p:cNvPicPr/>
                    <p:nvPr/>
                  </p:nvPicPr>
                  <p:blipFill>
                    <a:blip r:embed="rId4"/>
                    <a:stretch/>
                  </p:blipFill>
                  <p:spPr>
                    <a:xfrm>
                      <a:off x="3733920" y="5865840"/>
                      <a:ext cx="1752480" cy="230040"/>
                    </a:xfrm>
                    <a:prstGeom prst="rect">
                      <a:avLst/>
                    </a:prstGeom>
                    <a:ln w="0">
                      <a:noFill/>
                    </a:ln>
                  </p:spPr>
                </p:pic>
              </p:oleObj>
            </a:graphicData>
          </a:graphic>
        </p:graphicFrame>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BD3927C1-C027-4842-BC37-CEE6F1A6EAFE}"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12193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 Simple Network Join/Un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style Association, Disassociation for non hopping PHY is much simpler than that of 802.15.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 Device 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F5830D3-8365-45C5-807C-D0930F1F3A04}"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1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371600"/>
            <a:ext cx="80769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ata Transfer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asynchronous and isochronous on a per packet bas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CD379AD-AA83-4F42-A752-99A9EB7E0DEF}"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14400" y="114300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in deep sleep maintain active piconet conne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1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 Priva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B79D0CA-0787-4F78-B741-1583EDB1C6D8}"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than Compact Flash Type 1, Q401</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a:t>
            </a:r>
            <a:endParaRPr b="0" lang="en-US" sz="1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1400 B payload = 21.56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2000 B payload = 20.61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20, 8000 B payload = 18.55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 </a:t>
            </a:r>
            <a:endParaRPr b="0" lang="en-US" sz="1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B payload = 34.79 Mbp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783B9A6-6219-4C9D-B08B-B39783391F4C}"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2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1143000"/>
            <a:ext cx="7925040" cy="543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CW-40s can operate with slight frequency overlap</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provide necessary rang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86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83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80 dB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er mitigates &gt; 50ns delay spread</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0.5 W system power</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C85BBDE-E8B1-4B44-AA82-DB562708A618}"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83808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W-20 Performance- AWGN, 50ns DS Multipath</a:t>
            </a:r>
            <a:endParaRPr b="0" lang="en-US" sz="3200" spc="-1" strike="noStrike">
              <a:solidFill>
                <a:srgbClr val="000000"/>
              </a:solidFill>
              <a:latin typeface="Times New Roman"/>
            </a:endParaRPr>
          </a:p>
        </p:txBody>
      </p:sp>
      <p:graphicFrame>
        <p:nvGraphicFramePr>
          <p:cNvPr id="126" name=""/>
          <p:cNvGraphicFramePr/>
          <p:nvPr/>
        </p:nvGraphicFramePr>
        <p:xfrm>
          <a:off x="838080" y="1371600"/>
          <a:ext cx="7477200" cy="5029200"/>
        </p:xfrm>
        <a:graphic>
          <a:graphicData uri="http://schemas.openxmlformats.org/presentationml/2006/ole">
            <p:oleObj r:id="rId1" spid="">
              <p:embed/>
              <p:pic>
                <p:nvPicPr>
                  <p:cNvPr id="127" name="" descr=""/>
                  <p:cNvPicPr/>
                  <p:nvPr/>
                </p:nvPicPr>
                <p:blipFill>
                  <a:blip r:embed="rId2"/>
                  <a:stretch/>
                </p:blipFill>
                <p:spPr>
                  <a:xfrm>
                    <a:off x="838080" y="1371600"/>
                    <a:ext cx="7477200" cy="502920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D790B4E2-BA4A-4203-9F10-C84A4DF6F2CD}" type="slidenum">
              <a:t>2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44792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rovides for robust 1, 2, 10, 20, 30 and 40 Mbps WPAN communications in the 2.4 GHz b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based upon mature 802.11 and 802.15.1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manufacturable at near Bluetooth cost po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nteroperates with 802.15.1 and 802.11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LCW MAC provides ease of use, scalability, high throughput, low latency, flexible network topology, and reliable, power efficient commun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also supports advanced security and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provides for small, cost effective, high performance and low power digital wireless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n ideal candidate for the 802.15.3 High Rate WPAN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F81C1B2-57CB-41D1-B99F-5C6FDAAA3BB1}"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o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28AA973-BD85-478A-B759-ACA53DB67AA2}"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533520"/>
            <a:ext cx="89913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5"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nd high speed throughpu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4572C57-3AD3-472C-B475-BEEFAD88425D}"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152280" y="1371600"/>
            <a:ext cx="8839440" cy="449568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ata rate, low latency fully networked digital radio communications in the indoor multipath propagation channel</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expensive, too</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taneous asynchronous data, voice, video and interactive multimedia links</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bps+ sustained, low latency throughput </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spreads of 20-50 ns for a typical SFH, thru wall/floor</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ation and FEC needed to minimize irreducible error floors characteristic of the propagation channel</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Q protocols essential to deal with inevitable lost packet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ed LCW PHY and MAC proposed herein addresses all these demanding, conflicting requir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C4BB89D-F5FF-4184-B910-47A86923199B}"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Descrip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19320"/>
            <a:ext cx="8534160" cy="5029200"/>
          </a:xfrm>
          <a:prstGeom prst="rect">
            <a:avLst/>
          </a:prstGeom>
          <a:noFill/>
          <a:ln w="0">
            <a:noFill/>
          </a:ln>
        </p:spPr>
        <p:txBody>
          <a:bodyPr lIns="92160" rIns="92160" tIns="46080" bIns="460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PHY provides high throughput and low latency</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 nQAM signaling provides data rates of 1, 2, 10, 20, 30, 40 Mbp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ation, FEC improve range and high end throughpu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1DS, coexists with on-channel 802.11b</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802.15.1 modem provides interoperability with Bluetooth</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MAC provides enhanced security and QOS, 802.15.1 suppor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s 802.11 CSMA/CA, DCF and PCF</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Slave (client) to Master (AP) “morphing”, direct Slave to Slave link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 device registration, authorization, mutual authentication, 128 bit encryption and user transparent key maintenance</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luetooth MAC included to support a dual mode 802.15.1/3 radio</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A61948D-2299-467B-8E28-385B019E26E2}"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Modulation</a:t>
            </a:r>
            <a:endParaRPr b="0" lang="en-US" sz="3600" spc="-1" strike="noStrike">
              <a:solidFill>
                <a:srgbClr val="000000"/>
              </a:solidFill>
              <a:latin typeface="Times New Roman"/>
            </a:endParaRPr>
          </a:p>
        </p:txBody>
      </p:sp>
      <p:sp>
        <p:nvSpPr>
          <p:cNvPr id="61" name="PlaceHolder 2"/>
          <p:cNvSpPr>
            <a:spLocks noGrp="1"/>
          </p:cNvSpPr>
          <p:nvPr>
            <p:ph/>
          </p:nvPr>
        </p:nvSpPr>
        <p:spPr>
          <a:xfrm>
            <a:off x="914400" y="1371240"/>
            <a:ext cx="7772400" cy="4876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 is 1 Mbps (11 chip) Barker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 is 2 Mbps (11 chip) Barker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0 is 10 Mbps RS(220,200) encoded  DB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is 20 Mbps RS(220,200) encoded  DQPS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is 30 Mbps RS(220,200) encoded  8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is 40 Mbps RS(220,200) encoded  16QA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lightly different preambl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1, 2, 10 and 20 use the identical 802.11b 96 us short preamble</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uses a 96 us preamble featuring DBPSK, DQPSK and 8QAM symbols to aid equalizer training</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uses a 96 us preamble featuring DBPSK, DQPSK and 16QAM symbols to aid equalizer training</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CE7AF4F-4C7E-4DAA-9A3D-158AB9875079}"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Channelization</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371600"/>
            <a:ext cx="7696080" cy="449568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verlapping 20 MHz channels </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2, 2452, 247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Hz overlap on each side</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b European Overlapped Channelization </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andard 25 MHz channels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7, 246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 USA Non Overlapped Channelization</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 Raised Cosine pulse shaping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sidebands by more than 50 dBc</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mpliance with US FCC emissions limits above 2.835 MHz </a:t>
            </a:r>
            <a:endParaRPr b="0" lang="en-US" sz="18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5.5 and 11 Mbps CCK, PBCC are not supported</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802.15.1 PHY is included, is mode switchable with LCW</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architecture supports both QAM and GFSK up/down conversion</a:t>
            </a:r>
            <a:endParaRPr b="0"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band hardware includes both 802.15.3 and 802.15.1 mod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2C8FF4C-A24B-46E7-9971-0C9148DF704E}"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Equalization, FEC and ARQ</a:t>
            </a:r>
            <a:endParaRPr b="0" lang="en-US" sz="3600" spc="-1" strike="noStrike">
              <a:solidFill>
                <a:srgbClr val="000000"/>
              </a:solidFill>
              <a:latin typeface="Times New Roman"/>
            </a:endParaRPr>
          </a:p>
        </p:txBody>
      </p:sp>
      <p:sp>
        <p:nvSpPr>
          <p:cNvPr id="65" name="PlaceHolder 2"/>
          <p:cNvSpPr>
            <a:spLocks noGrp="1"/>
          </p:cNvSpPr>
          <p:nvPr>
            <p:ph/>
          </p:nvPr>
        </p:nvSpPr>
        <p:spPr>
          <a:xfrm>
            <a:off x="228240" y="1218960"/>
            <a:ext cx="85345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er minimizes and “whitens” the burst errors characteristic of the 20-50 ns Delay Spread “Naftali” chan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s as rapidly as possible to the precise channel estimate (less the multipath components) and tracks for the packet duration</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PHY preamble of adequate length (hundreds of symbols) to train equalizer and generate the appropriate tap coefficient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ntinuously adapt, update coefficients, symbol by symbol, over the entire duration of the frame (up to 8000 Byt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Block Code “localizes” if not corrects whitened burst error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corrects 10 of 200B in a block , flags if uncorrec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is efficient (R=10/11), adds little overhea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terleaving is necessary, so no innate latency is introduc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ional codes are less efficient (R=1/2, 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o Codes feature large interleavers, produce much lat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packets will be dropped (Equalization + FEC = 1% F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have to retransmit entire packet, just uncorrectable block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6C76454-6773-4FCC-AFBE-BB5FC8363D59}"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09-20T03:37:10Z</dcterms:modified>
  <cp:revision>62</cp:revision>
  <dc:subject/>
  <dc:title>L3C Proposal for HR WPAN</dc:title>
</cp:coreProperties>
</file>