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F88-555D-4A3C-BA07-47B01533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B73B-5531-4B98-9C95-1C878081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AC6-9922-46E9-BBBA-52A2FD31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6D5-A2E1-4B48-8DC2-82A54B27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360-160D-4A9D-ADBE-D0C5FAD7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609-CCAB-48FE-AB87-EB924D1B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CDA-BFD0-474B-A2E4-CB5F85D4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720-C06F-42F8-A4AB-C04ECA16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4FD-DF86-4EAB-ABE3-BB1AF96E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4975-4B92-49DE-8083-34C47661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4FB-E5C5-49CE-8A7C-E3D27395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1E9-C713-477A-97FB-734EC6E5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065015C-428F-43BD-8D61-7EEDEB5AF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210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798480"/>
            <a:ext cx="883908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: IEEE P802.15 Working Group for Wireless Personal Area Networks (WP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 Tit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Supergold Encoding for High Rate WPAN Physical Layer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Submitte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16 September 2000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T O’Farrell &amp; L.E. Aguado] Company [Supergold Communication Ltd.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[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-3 Sandyford Village, Sandyford, Dublin 18, Ire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ce:[ +44 113 2332004 ], FAX: [ +44 113 2332032 ], E-Mail:[ enrique@supergold.com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Physical layer modulation proposal for the IEEE P802.15.3 High Rate Wireless Personal Area Networks Standar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 00210P802.1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trac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This contribution presents a coded modulation proposal for the physical layer part of the High Rate WPAN standard. This scheme is evaluated based on the Pugh criteria.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Proposal for PHY part of IEEE P802.15.3 standard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ocument has been prepared to assist the IEEE P802.15.  It is offered as a basis for discussion and is not binding on the contributing individu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) or organization(s). The material in this document is subject to change in form and content after further study. The contributor(s) reserve(s) the right to add, amend or withdraw material contained here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ntributor acknowledges and accepts that this contribution becomes the property of IEEE and may be made publicly available by P802.1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259-294E-4DB2-A961-81CC0DE363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spectralMask" descr=""/>
          <p:cNvPicPr/>
          <p:nvPr/>
        </p:nvPicPr>
        <p:blipFill>
          <a:blip r:embed="rId1"/>
          <a:stretch/>
        </p:blipFill>
        <p:spPr>
          <a:xfrm>
            <a:off x="1112760" y="1233360"/>
            <a:ext cx="6862680" cy="514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25680" y="950760"/>
            <a:ext cx="63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racteristic of pulse shape digital raised-cosin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501-3842-4A7E-B73A-1367706069B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3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1. Unit Manufactur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ilar to 802.15.1 equivalent UMC at 2H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ilar architecture to IEEE 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ch simpler baseband processing than 802.11b (~30K g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power PA (0 dBm Tx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ared RF architecture for 802.15.1 and 802.15.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hip RF / BB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74D-18B0-4169-B607-11982D4EAD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3200" y="698400"/>
            <a:ext cx="77724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2120" y="1298160"/>
            <a:ext cx="806796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 Signal Robus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2. Interference and Suscep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R criterion =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3dB loss of required sensitivity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/S (MAI) = -6 dB co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/S (CW) = -7 dB co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jacent+1 channel power atenuation &gt; 50 dBc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-band interference protection &gt; 40 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-of-band attenuation &gt; 80 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ies with BT1.0b out-of-band b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9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1C9-8447-4FB6-8624-112AD36D94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11440" y="1646280"/>
            <a:ext cx="6000480" cy="45054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52520"/>
            <a:ext cx="777240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2. Interference and Susceptibility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7360" y="6149880"/>
            <a:ext cx="78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 performance in the presence of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AF2-5DD9-4CB3-AB48-828D9938EB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35040" y="1814040"/>
            <a:ext cx="7772400" cy="33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3. Intermodulation Resi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ceiver can tolerate an intermodulating signal of up to -21dBm whilst retaining a BER=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th 3dB E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o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0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NA parameters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NA input IP3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 -10d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NA gai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 16.2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NA P1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 -5d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0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 produced by one -35dBm tone = -106d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681-241F-4CD2-ABA0-051FF4B52D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3200" y="1288800"/>
            <a:ext cx="8161200" cy="499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4. Jamming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crowave oven interfer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ference bandwidth = 25MHz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t least 1 free channel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CA would detect jammer and select clear cha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-3. 802.15.1 pic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02.15.1 randomly hops over 78 1MHz-bands. It will jam 802.15.3 if it hops within 20MHz-jamming sensitive area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robability of jamming: 20 / 78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2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02.15.3 transmitting MPG2-D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stream takes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26% of channel throughput. If 2 un-coordinated WPANs share the 1 channel with CCA-deferred access &gt;50% throughput exp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therwise CCA in subject WPAN would select clear cha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02.11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on a disjoint frequency band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o jam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 802.11b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CA in subject WPAN would select clear cha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C54-BA92-433C-A97A-D7BC3024A8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26680" y="173520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5. Multipl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2 Mbit/s bit rat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roughput in [17.5, 20] Mbit/s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ordinated time-multiplexing used for multiple access to shared chan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constraint when multiplexing an MPEG2 stream (4.5 Mbit/s) with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12-byte asynchronous packets (max. 234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E 1: three MPEG2 streams (at 4.5Mbit/s) share the total throughput (min.) 17.5Mbit/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E 2 and 3: one MPEG2 stream takes 4.5 Mbit/s whilst the asynchronous services share the remaining throughput in a time-multiplexing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7C2-67DF-4277-BDF1-6CD7E88E790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2320" y="1217160"/>
            <a:ext cx="8458200" cy="8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6. Coex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1 &amp; IC2 - 802.15.1 picon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47960" y="2106720"/>
            <a:ext cx="0" cy="9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67200" y="210168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4880" y="210816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70680" y="210024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47960" y="2324160"/>
            <a:ext cx="1125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70080" y="2568600"/>
            <a:ext cx="1154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13080" y="2857680"/>
            <a:ext cx="187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27840" y="2828880"/>
            <a:ext cx="85680" cy="87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78160" y="2822400"/>
            <a:ext cx="86040" cy="87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27240" y="2268360"/>
            <a:ext cx="85680" cy="87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9800" y="2281320"/>
            <a:ext cx="85680" cy="87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69960" y="2135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92400" y="21207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05240" y="26971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77920" y="26971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93920" y="3016080"/>
            <a:ext cx="4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13160" y="3008160"/>
            <a:ext cx="4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58200" y="301608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0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58640" y="232236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hysical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11760" y="207648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6440" y="2583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52560" y="3365640"/>
            <a:ext cx="785808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1 and A2 will not interfere with B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2 Tx Pwr = 0dBm; Pahtloss(A2-B2) ~62.4dB; A2 Rx Pwr at B2 ~ -62.4dBm over 12.5MHz (Nyquist frequency)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~ -73.4dBm over 1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B1 Tx Pwr = 0dBm; Pathloss(B1-B2) ~60dB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2 Rx Pwr ~ -60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/I(B2) ~ -60 - (-73.4) ~ 13.4dB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o jam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40680" y="4937040"/>
            <a:ext cx="8297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ference on B1: Probability of 802.15.1 hopping on 802.15.3 interfering BW (&lt; 20MHz)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(interf.) &lt; 20 / 78 &lt; 26%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802.15.1 throughput &gt; 7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 in 802.15.2 would be applicable to 802.1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356-BC60-4774-ACDE-C2E6EB26A5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8240" y="1492200"/>
            <a:ext cx="77403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6. Coex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3 &amp; IC5 - 802.11b net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fferent channels would be selected for each network via C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4 - 802.11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02.15.3 and 802.11a use different frequency bands and would be able to co-exist without interfering to each o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802.15.3 WPAN implements a dual mode radio with shared RF blocks for interoperability with 802.15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1789-5F2F-4461-B034-635ACC81F90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30080" y="14889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4. Technical 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1. Manufacture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 architecture utilises pre-existing 802.11b and 802.15.1 techn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ing functionality similar to existing applic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. Time to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-existence of technology will ensure short developmen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PHY part prop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earlier than 1Q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D0A-1204-49A3-B4BE-7C6A59E07AD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gold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00200" y="1321920"/>
            <a:ext cx="7772400" cy="49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gold Communication is a campus start up company that specialises in solutions for wireless commun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quence Coded Mo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quence/Cod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chro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efficiently exploiting the distance properties of sequences/codes, Supergold’s solutions balance the trade-off between bandwidth efficiency, BER performance and complex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gold’s solutions can be beneficially appli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reless Infr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llular 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5AC3-8B9C-4F19-91F1-C2F5B9E5D6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3200" y="1542600"/>
            <a:ext cx="777240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3. Regulatory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posed scheme is compliant with regulatory standards FCC(25.249) and ETSI 300-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4. Maturity of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ystem utilises existing 802.11b and 802.15.1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lying modulation is constant amplitude QP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ing less complicated than C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scheme tested in a general purpose hardware demon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E0F-61C0-4A38-857E-007B42B12C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0240" y="66168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0000"/>
            <a:ext cx="7772400" cy="49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1.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t power can be changed with impact on either range or throughput (through change in coding ra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2. Dat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ing level can be adjusted to fit power and channel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3. Frequency Band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odulation scheme can be applied at both 2.4 GHz and 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4.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ging the level of coding or power would not significantly affect the unit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5.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alisation can be introduced into the scheme inorder to enhance resistance to time dispersive channels with large delay spr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CA5-120B-4B41-B6E2-D697CC236CD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0200" y="1720800"/>
            <a:ext cx="7772400" cy="36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1. Size and Form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al mode RF / BB parts integrated in one PHY c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e external components: crystal oscillator, front-end filter and SAW IF fil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chip for dual mode 802.15.1 / 802.15.3 M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ze smaller than a Compact Flash Type 1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37C-46F2-477F-A0CE-19472CCE215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49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1. Minimum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ered data rate: 22 Mbit/s, 21.65 Mbit/s with coding PHY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2. High End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throughput level is off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7D1-A6D9-43FA-96DB-F4D4A98F41D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2504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453680"/>
            <a:ext cx="7772400" cy="47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3. Frequency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roposal is aimed at the 2.4 GHz ISM band, but is also be applicable to the 5GHz ISM b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4. Number of Simultaneously Operating Full Throughput P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EEE 802.11b channelisation is ado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 to 3 co-located networks could share the 2.4 GHz ISM band with no co-channel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 to 5 co-located networks could share the 5 GHz ISM band with no co-channel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6.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0 dBm Tx. Power, range &gt; 10 m (for link budget presen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DC5-D1E2-4C42-8074-815A3803910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06680" y="1560600"/>
            <a:ext cx="5676840" cy="46004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7.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7080" y="6126120"/>
            <a:ext cx="7697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 v. E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53D-9137-4532-8B8E-5983A19EB1B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55920" y="1568520"/>
            <a:ext cx="5676840" cy="46101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7.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7080" y="6126120"/>
            <a:ext cx="76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 v. SNR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A02-41AD-49FE-AEB0-C75E7E364BD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27200" y="1552680"/>
            <a:ext cx="5686560" cy="46670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7.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7080" y="6126120"/>
            <a:ext cx="76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 v. SNR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EBB7-3C4A-426C-B5C6-A8E21B5B4F0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92200" y="1484280"/>
            <a:ext cx="5965920" cy="44481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9160" y="62208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55480" y="1166400"/>
            <a:ext cx="80805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8.2. Delay Spread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46000" y="5975280"/>
            <a:ext cx="7697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 Performance in the multipath channel for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RM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= 25 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6B5-EC00-42D2-847C-7FD86374ECF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9160" y="95364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03320"/>
            <a:ext cx="805176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8.2. Delay Spread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BER criterion =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met for 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R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25 ns with no eq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elay spread of 30ns is tolerated for more than 90% of the channels  with FER &lt; 1% at E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7.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equalisation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ECD9-C2B0-4CC2-A173-CC6B2AF1E7F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Coded Modulation for High Rate WPAN 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6960" y="1700280"/>
            <a:ext cx="7937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-ary symbol modulation — QPSK / OQPSK chip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ant amplitu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PA back-off, low 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bust in multipath fading up to 30 ns rms delay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-error-correcting concatenated RS(127,125)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S code matched to M-ary mo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simple Berlekamp-Massey hard-decision 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rate (0.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3 dB coding gain over QPSK  @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spectral efficiency: 22 Mbit/s data rate in 22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C93-0A24-4FC2-8304-AE76EE1949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3200" y="15429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9.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dBm transmitte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ant amplitud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o RFPA back-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baseband processor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y low complexity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equali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mall BB processor gate 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wer consumption below 200 mW pe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ED5-5F7E-469D-B0B5-8DF2F52D1C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63480" y="1461960"/>
          <a:ext cx="7791480" cy="562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461960"/>
                    <a:ext cx="7791480" cy="56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368-0B00-46CC-AC1B-A87D10E7095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822240" y="1270080"/>
          <a:ext cx="7721640" cy="58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270080"/>
                    <a:ext cx="772164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42A-6E05-4931-BB15-341146B0192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824040" y="1341360"/>
          <a:ext cx="7602480" cy="548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040" y="1341360"/>
                    <a:ext cx="7602480" cy="54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B117-3C69-4152-9AF9-285E4E68613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93800" y="1662120"/>
          <a:ext cx="8066160" cy="563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662120"/>
                    <a:ext cx="806616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7CF-A5B1-4B1B-923B-7BF36C3D4903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erties of the sequence coded modula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642680"/>
            <a:ext cx="741204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pre-existing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asibl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rt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al mode 802.15.1 / 802.15.3 using common RF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 in the 2.4 GHz ISM band with 802.11 channe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 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s for 802.11b - 802.15.1 and 802.15.3 co-ex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operate in 5 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low baseband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CA as in 802.1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2B6-A45D-4496-8D8F-B2FE1517D4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Link Budget for Two-Ra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9080" y="3870000"/>
            <a:ext cx="7786440" cy="23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based on: IEEE 802.15-00/050r1, Rick Roberts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Figure: 15 dB (inexpensive implem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Bandwidth: 22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Floor: -174+10*log(22*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+15 = -85.6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ation Loss Margin: 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enna Gain: 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2160" y="1373040"/>
            <a:ext cx="4816440" cy="252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04F-3358-49DF-B13A-4B245A3DE7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Link Budget for Two-Ray Model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6880" y="1382400"/>
            <a:ext cx="7810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Second Ray Delay: 25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Second Ray Refflection Coefficient: -6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d Direct Ray Range: 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s Equation (dB): L = 32.5+20log(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met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+20log(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GH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2.4 GHz, assuming the direct ray is blocked, the loss of the reflected ray path (17.4 m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 = 32.5+24.8+7.6+6 = 70.9 dB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6 dB reflection coeffici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ing antenna gain and implementation lo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 Loss Budget: L + 2*0 + 5 = 75.9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rating SNR is 10 dB for 10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x Power: Noise Floor + SNR + Loss = -85.6 dBm + 10 dB + 75.9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x Power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0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B15-D1D6-44B8-A92B-164BFEC047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Y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623960"/>
            <a:ext cx="7772400" cy="393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BAF-854F-4517-AD6D-4A47EBC41ED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472760" y="965160"/>
            <a:ext cx="6134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or — M-ary Sequence coded 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92160" y="391176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s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nsfor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14720" y="3897360"/>
            <a:ext cx="11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ximu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kelyhood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21520" y="4037040"/>
            <a:ext cx="98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4267080"/>
            <a:ext cx="1028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26400" y="2119320"/>
            <a:ext cx="107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of 128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18120" y="1854360"/>
            <a:ext cx="107964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92160" y="3632040"/>
            <a:ext cx="107964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64040" y="3632040"/>
            <a:ext cx="107964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3645000"/>
            <a:ext cx="107964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2680" y="2246400"/>
            <a:ext cx="84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59200" y="1841400"/>
            <a:ext cx="107928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08160" y="2489040"/>
            <a:ext cx="85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248904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97760" y="219708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97760" y="281952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451240" y="234936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470480" y="236232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527880" y="205740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533640" y="2685960"/>
            <a:ext cx="20988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14360" y="462276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14360" y="394344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75040" y="3943440"/>
            <a:ext cx="1098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4610160"/>
            <a:ext cx="109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57960" y="4273560"/>
            <a:ext cx="87012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550280" y="41338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537160" y="41338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441600" y="37972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422520" y="446400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79600" y="38098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60520" y="44830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3920" y="23432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TA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1812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09600" y="2220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5800" y="220176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3280" y="218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64720" y="1906560"/>
            <a:ext cx="310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0480" y="2503440"/>
            <a:ext cx="416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3920" y="190512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3920" y="25336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82440" y="2027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72720" y="265572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7080" y="361008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18000" y="429588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9680" y="39798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38360" y="36194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28640" y="430524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05800" y="39625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5160" y="3790800"/>
            <a:ext cx="657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x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640" y="4476600"/>
            <a:ext cx="704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x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 Q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03200" y="3646440"/>
            <a:ext cx="28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31920" y="4332240"/>
            <a:ext cx="33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14960" y="395460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10440" y="4037040"/>
            <a:ext cx="60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47960" y="3992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976-A06B-4722-9395-B1CFF78B809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84280" y="1030320"/>
            <a:ext cx="828504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F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RF blocks shared between 802.15.1 and 802.15.3 modes. 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blocks rep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t power = 0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RFPA back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B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-bit Rx ADCs - 50 Msample/s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-bit Tx DACs - 50 Msample/s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-bit AGC 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-tap digital raised-cosine pulse shape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~30K gates for BB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18u CMO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chip implementation, 1 crystal, 2 filters (front-end, SAW 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926-8F1B-4005-9A8B-BBF92683EAA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18:19:05Z</dcterms:created>
  <dc:creator>Dr. Luis Enrique Aguado</dc:creator>
  <dc:description>&lt;doc#&gt;</dc:description>
  <dc:language>en-US</dc:language>
  <cp:lastModifiedBy>Tim O'Farrell</cp:lastModifiedBy>
  <cp:lastPrinted>2000-07-05T15:11:46Z</cp:lastPrinted>
  <dcterms:modified xsi:type="dcterms:W3CDTF">2000-09-16T23:41:21Z</dcterms:modified>
  <cp:revision>4</cp:revision>
  <dc:subject>IEEE 802.15 TG3</dc:subject>
  <dc:title>No Slide Title</dc:title>
</cp:coreProperties>
</file>