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3DEC4-A4F5-48E4-B3BA-A2F830B70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3936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85800" y="1447560"/>
            <a:ext cx="7772400" cy="2216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3875400"/>
            <a:ext cx="7772400" cy="2216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70CB8-758C-4BCB-B113-E178354FB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3936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85800" y="1447560"/>
            <a:ext cx="3792600" cy="2216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447560"/>
            <a:ext cx="3792600" cy="2216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3875400"/>
            <a:ext cx="3792600" cy="2216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3875400"/>
            <a:ext cx="3792600" cy="2216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A3B85-A291-4CEE-B15F-F37E29C3C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3936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85800" y="1447560"/>
            <a:ext cx="2502360" cy="2216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447560"/>
            <a:ext cx="2502360" cy="2216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447560"/>
            <a:ext cx="2502360" cy="2216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3875400"/>
            <a:ext cx="2502360" cy="2216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3875400"/>
            <a:ext cx="2502360" cy="2216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3875400"/>
            <a:ext cx="2502360" cy="2216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5DCC8-CE65-4534-AE31-38F6FD53E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3936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708B9-CB3B-4767-BD91-C1EFE9C25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3936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74BC7-B8BD-433D-991C-36CD9DE59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3936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85800" y="1447560"/>
            <a:ext cx="3792600" cy="4647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447560"/>
            <a:ext cx="3792600" cy="4647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0520E-8368-4414-9753-8F9DEEB2A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3936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CDC78-5661-42E2-B0EC-9558EFD29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9C1D7-EAD1-48F3-9148-EEEC0A300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3936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85800" y="1447560"/>
            <a:ext cx="3792600" cy="2216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447560"/>
            <a:ext cx="3792600" cy="4647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3875400"/>
            <a:ext cx="3792600" cy="2216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C43E6-8BE9-4EF8-83AA-A26B7759B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3936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85800" y="1447560"/>
            <a:ext cx="3792600" cy="4647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447560"/>
            <a:ext cx="3792600" cy="2216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3875400"/>
            <a:ext cx="3792600" cy="2216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3796B-A008-44A2-AB62-3CBF481EB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3936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85800" y="1447560"/>
            <a:ext cx="3792600" cy="2216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447560"/>
            <a:ext cx="3792600" cy="2216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3875400"/>
            <a:ext cx="7772400" cy="2216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26453-9FAE-40A6-961D-4C0138C63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61760" y="379800"/>
            <a:ext cx="29718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pt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55272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521240" y="6552720"/>
            <a:ext cx="177840" cy="18288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9B893-DF29-47F4-BDC6-18EBF05F4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182880"/>
            <a:ext cx="3962520" cy="42660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IEEE 802.15-00/0299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86520" y="6477120"/>
            <a:ext cx="89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990720"/>
            <a:ext cx="8077320" cy="4956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802.15 Working Group for Wireless Personal Area Networks (WPAN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Thoughts on Broken, Missing and Misplaced 802.15.3 Criteria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17 September 2000]</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1" lang="en-US" sz="1400" spc="-1" strike="noStrike">
                <a:solidFill>
                  <a:srgbClr val="000000"/>
                </a:solidFill>
                <a:latin typeface="Times New Roman"/>
              </a:rPr>
              <a:t>	</a:t>
            </a:r>
            <a:r>
              <a:rPr b="0" lang="en-US" sz="1400" spc="-1" strike="noStrike">
                <a:solidFill>
                  <a:srgbClr val="000000"/>
                </a:solidFill>
                <a:latin typeface="Times New Roman"/>
              </a:rPr>
              <a:t>Name [Carlos Rios ] </a:t>
            </a:r>
            <a:r>
              <a:rPr b="0" lang="en-US" sz="1400" spc="-1" strike="noStrike">
                <a:solidFill>
                  <a:srgbClr val="000000"/>
                </a:solidFill>
                <a:latin typeface="Times New Roman"/>
              </a:rPr>
              <a:t>	</a:t>
            </a:r>
            <a:r>
              <a:rPr b="0" lang="en-US" sz="1400" spc="-1" strike="noStrike">
                <a:solidFill>
                  <a:srgbClr val="000000"/>
                </a:solidFill>
                <a:latin typeface="Times New Roman"/>
              </a:rPr>
              <a:t>Company [LinCom Wireless, Inc.]</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ddress [5120 W Goldleaf Circle, Ste 400, Los Angeles, CA 90056]</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oice:[408 202 6294], FAX: [408 399 9704], E-Mail:[riosc@lincom.com]</a:t>
            </a:r>
            <a:endParaRPr b="0" lang="en-US" sz="1400" spc="-1" strike="noStrike">
              <a:solidFill>
                <a:srgbClr val="000000"/>
              </a:solidFill>
              <a:latin typeface="Times New Roman"/>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Documents 110r12 and 245r8 and successors ]</a:t>
            </a:r>
            <a:endParaRPr b="0" lang="en-US" sz="1400" spc="-1" strike="noStrike">
              <a:solidFill>
                <a:srgbClr val="000000"/>
              </a:solidFill>
              <a:latin typeface="Times New Roman"/>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Ideas on improving 802.15.3 selection criteria]</a:t>
            </a:r>
            <a:endParaRPr b="0" lang="en-US" sz="1400" spc="-1" strike="noStrike">
              <a:solidFill>
                <a:srgbClr val="000000"/>
              </a:solidFill>
              <a:latin typeface="Times New Roman"/>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Achieve 802.15.3 consensus sooner]</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Carlos Rios, LinCom Wireless, Inc</a:t>
            </a:r>
          </a:p>
        </p:txBody>
      </p:sp>
      <p:sp>
        <p:nvSpPr>
          <p:cNvPr id="3" name="PlaceHolder 2"/>
          <p:cNvSpPr>
            <a:spLocks noGrp="1"/>
          </p:cNvSpPr>
          <p:nvPr>
            <p:ph type="sldNum" idx="3"/>
          </p:nvPr>
        </p:nvSpPr>
        <p:spPr/>
        <p:txBody>
          <a:bodyPr/>
          <a:p>
            <a:fld id="{D7A0B2BB-C1C6-40F5-9F5E-A2DDFC785322}" type="slidenum">
              <a:t>1</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roken PHY Criteria </a:t>
            </a:r>
            <a:endParaRPr b="0" lang="en-US" sz="4000" spc="-1" strike="noStrike">
              <a:solidFill>
                <a:srgbClr val="000000"/>
              </a:solidFill>
              <a:latin typeface="Times New Roman"/>
            </a:endParaRPr>
          </a:p>
        </p:txBody>
      </p:sp>
      <p:sp>
        <p:nvSpPr>
          <p:cNvPr id="68" name="PlaceHolder 2"/>
          <p:cNvSpPr>
            <a:spLocks noGrp="1"/>
          </p:cNvSpPr>
          <p:nvPr>
            <p:ph/>
          </p:nvPr>
        </p:nvSpPr>
        <p:spPr>
          <a:xfrm>
            <a:off x="380520" y="1523520"/>
            <a:ext cx="8534520" cy="44960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ay Spread Mitig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delay spread tolerance is the value of T_RMS for which a maximum FER of 1% is met for 90% of the channels generated using the channel mode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bout the other 10% of the channel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think we goofed, or maybe are not answering the right ques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evaluate PHY performance  (modulation, equalization, coding) in 100% of the channels</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to compare with unequalized, uncoded PHY</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tto equalized, uncoded PHY</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coded, uncoded PHY in AWG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36A56CE1-0481-4B29-B6D6-ECA9ABD12670}" type="slidenum">
              <a:t>1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62120"/>
            <a:ext cx="8991360" cy="83808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rformance of 11 MSps QPSK (22 MHz BW)</a:t>
            </a:r>
            <a:br>
              <a:rPr sz="3600"/>
            </a:br>
            <a:r>
              <a:rPr b="0" lang="en-US" sz="3600" spc="-1" strike="noStrike">
                <a:solidFill>
                  <a:srgbClr val="000000"/>
                </a:solidFill>
                <a:latin typeface="Times New Roman"/>
              </a:rPr>
              <a:t>in AWGN and 50ns DS Multipath</a:t>
            </a:r>
            <a:endParaRPr b="0" lang="en-US" sz="3600" spc="-1" strike="noStrike">
              <a:solidFill>
                <a:srgbClr val="000000"/>
              </a:solidFill>
              <a:latin typeface="Times New Roman"/>
            </a:endParaRPr>
          </a:p>
        </p:txBody>
      </p:sp>
      <p:graphicFrame>
        <p:nvGraphicFramePr>
          <p:cNvPr id="70" name=""/>
          <p:cNvGraphicFramePr/>
          <p:nvPr/>
        </p:nvGraphicFramePr>
        <p:xfrm>
          <a:off x="838080" y="1600200"/>
          <a:ext cx="7477200" cy="5029200"/>
        </p:xfrm>
        <a:graphic>
          <a:graphicData uri="http://schemas.openxmlformats.org/presentationml/2006/ole">
            <p:oleObj r:id="rId1" spid="">
              <p:embed/>
              <p:pic>
                <p:nvPicPr>
                  <p:cNvPr id="71" name="" descr=""/>
                  <p:cNvPicPr/>
                  <p:nvPr/>
                </p:nvPicPr>
                <p:blipFill>
                  <a:blip r:embed="rId2"/>
                  <a:stretch/>
                </p:blipFill>
                <p:spPr>
                  <a:xfrm>
                    <a:off x="838080" y="1600200"/>
                    <a:ext cx="7477200" cy="5029200"/>
                  </a:xfrm>
                  <a:prstGeom prst="rect">
                    <a:avLst/>
                  </a:prstGeom>
                  <a:ln w="0">
                    <a:noFill/>
                  </a:ln>
                </p:spPr>
              </p:pic>
            </p:oleObj>
          </a:graphicData>
        </a:graphic>
      </p:graphicFrame>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8D9DE5DD-9F76-4991-BD65-3C92B6A74995}" type="slidenum">
              <a:t>11</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posed MAC Criteria Mods</a:t>
            </a:r>
            <a:endParaRPr b="0" lang="en-US" sz="4000" spc="-1" strike="noStrike">
              <a:solidFill>
                <a:srgbClr val="000000"/>
              </a:solidFill>
              <a:latin typeface="Times New Roman"/>
            </a:endParaRPr>
          </a:p>
        </p:txBody>
      </p:sp>
      <p:graphicFrame>
        <p:nvGraphicFramePr>
          <p:cNvPr id="73" name=""/>
          <p:cNvGraphicFramePr/>
          <p:nvPr/>
        </p:nvGraphicFramePr>
        <p:xfrm>
          <a:off x="1965240" y="1476360"/>
          <a:ext cx="5410440" cy="4848120"/>
        </p:xfrm>
        <a:graphic>
          <a:graphicData uri="http://schemas.openxmlformats.org/presentationml/2006/ole">
            <p:oleObj progId="Excel.Sheet.12" r:id="rId1" spid="">
              <p:embed/>
              <p:pic>
                <p:nvPicPr>
                  <p:cNvPr id="74" name="" descr=""/>
                  <p:cNvPicPr/>
                  <p:nvPr/>
                </p:nvPicPr>
                <p:blipFill>
                  <a:blip r:embed="rId2"/>
                  <a:stretch/>
                </p:blipFill>
                <p:spPr>
                  <a:xfrm>
                    <a:off x="1965240" y="1476360"/>
                    <a:ext cx="5410440" cy="4848120"/>
                  </a:xfrm>
                  <a:prstGeom prst="rect">
                    <a:avLst/>
                  </a:prstGeom>
                  <a:ln w="0">
                    <a:noFill/>
                  </a:ln>
                </p:spPr>
              </p:pic>
            </p:oleObj>
          </a:graphicData>
        </a:graphic>
      </p:graphicFrame>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F460DA24-F953-4AEB-92FF-D4FA1FAB7F9C}" type="slidenum">
              <a:t>12</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posed New MAC Criteria </a:t>
            </a:r>
            <a:endParaRPr b="0" lang="en-US" sz="4000" spc="-1" strike="noStrike">
              <a:solidFill>
                <a:srgbClr val="000000"/>
              </a:solidFill>
              <a:latin typeface="Times New Roman"/>
            </a:endParaRPr>
          </a:p>
        </p:txBody>
      </p:sp>
      <p:sp>
        <p:nvSpPr>
          <p:cNvPr id="76" name="PlaceHolder 2"/>
          <p:cNvSpPr>
            <a:spLocks noGrp="1"/>
          </p:cNvSpPr>
          <p:nvPr>
            <p:ph/>
          </p:nvPr>
        </p:nvSpPr>
        <p:spPr>
          <a:xfrm>
            <a:off x="380520" y="1295280"/>
            <a:ext cx="8534520" cy="472464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Access Typ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al submission to assist SYS Overhead and Latency calcula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ise if TDMA, FDMA, CDMA, CSMA/CA, Poll/ Response, ACK/NACK, Superframe, ARQ method, etc.</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 Overhea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al submission to assist SYS Overhead calcula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er “added bits” (Source, destination address, e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Q packets and corresponding ACKs/NACK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frame overhea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2 distinct scenarios</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ingle Access”, point to point link</a:t>
            </a:r>
            <a:endParaRPr b="0" lang="en-US" sz="18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ultiple Access”, single point to two points, two independent co channel link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62C190DD-A270-49A6-A0B6-1C2AD9410F84}" type="slidenum">
              <a:t>1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posed New MAC Criteria </a:t>
            </a:r>
            <a:endParaRPr b="0" lang="en-US" sz="4000" spc="-1" strike="noStrike">
              <a:solidFill>
                <a:srgbClr val="000000"/>
              </a:solidFill>
              <a:latin typeface="Times New Roman"/>
            </a:endParaRPr>
          </a:p>
        </p:txBody>
      </p:sp>
      <p:sp>
        <p:nvSpPr>
          <p:cNvPr id="78" name="PlaceHolder 2"/>
          <p:cNvSpPr>
            <a:spLocks noGrp="1"/>
          </p:cNvSpPr>
          <p:nvPr>
            <p:ph/>
          </p:nvPr>
        </p:nvSpPr>
        <p:spPr>
          <a:xfrm>
            <a:off x="380520" y="1295280"/>
            <a:ext cx="8534520" cy="510552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 Latency</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al submission to assist SYS Latency calculations</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contribution to time needed to transfer a data payload from transmitter to receiver and ensure no further retransmissions are needed</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C, ERC, FCS processing and ARQ request</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s associated with all retransmissions, ACKs/ NACKs and further ARQ requests</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2 distinct scenarios</a:t>
            </a:r>
            <a:endParaRPr b="0" lang="en-US" sz="2000" spc="-1" strike="noStrike">
              <a:solidFill>
                <a:srgbClr val="000000"/>
              </a:solidFill>
              <a:latin typeface="Arial"/>
            </a:endParaRPr>
          </a:p>
          <a:p>
            <a:pPr lvl="2" marL="106380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ingle Access”, point to point link</a:t>
            </a:r>
            <a:endParaRPr b="0" lang="en-US" sz="1800" spc="-1" strike="noStrike">
              <a:solidFill>
                <a:srgbClr val="000000"/>
              </a:solidFill>
              <a:latin typeface="Arial"/>
            </a:endParaRPr>
          </a:p>
          <a:p>
            <a:pPr lvl="2" marL="106380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ultiple Access”, single point to two points, two independent co channel links</a:t>
            </a:r>
            <a:endParaRPr b="0" lang="en-US" sz="18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entication, Privacy Key Management</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xtra Credit” criteria</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User transparent” authentication and privacy enabling</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need for PIN numbers, manual key entry, etc</a:t>
            </a:r>
            <a:endParaRPr b="0" lang="en-US" sz="2000" spc="-1" strike="noStrike">
              <a:solidFill>
                <a:srgbClr val="000000"/>
              </a:solidFill>
              <a:latin typeface="Arial"/>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D12A64B4-B4CE-4B82-9FB2-224D81055C4C}"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roken MAC Criteria </a:t>
            </a:r>
            <a:endParaRPr b="0" lang="en-US" sz="4000" spc="-1" strike="noStrike">
              <a:solidFill>
                <a:srgbClr val="000000"/>
              </a:solidFill>
              <a:latin typeface="Times New Roman"/>
            </a:endParaRPr>
          </a:p>
        </p:txBody>
      </p:sp>
      <p:sp>
        <p:nvSpPr>
          <p:cNvPr id="80" name="PlaceHolder 2"/>
          <p:cNvSpPr>
            <a:spLocks noGrp="1"/>
          </p:cNvSpPr>
          <p:nvPr>
            <p:ph/>
          </p:nvPr>
        </p:nvSpPr>
        <p:spPr>
          <a:xfrm>
            <a:off x="380520" y="1143000"/>
            <a:ext cx="8534520" cy="510552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Join/Unjoin</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is comparison with 802.15.1</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emely subjective to gauge whether a different implementation is better or worse</a:t>
            </a:r>
            <a:endParaRPr b="0" lang="en-US" sz="20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Registration</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is comparison with 802.15.1</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emely subjective to gauge whether a different implementation is better or worse</a:t>
            </a:r>
            <a:endParaRPr b="0" lang="en-US" sz="20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entication</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is comparison with 802.15.1</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emely subjective to gauge whether a different implementation is better or worse</a:t>
            </a:r>
            <a:endParaRPr b="0" lang="en-US" sz="20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cy</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is comparison with 802.15.1</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emely subjective to gauge whether a different implementation is better or wors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A3CB14EC-291C-46EF-A2DD-863BFD8D3C93}"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posed System Criteria Mods</a:t>
            </a:r>
            <a:endParaRPr b="0" lang="en-US" sz="4000" spc="-1" strike="noStrike">
              <a:solidFill>
                <a:srgbClr val="000000"/>
              </a:solidFill>
              <a:latin typeface="Times New Roman"/>
            </a:endParaRPr>
          </a:p>
        </p:txBody>
      </p:sp>
      <p:graphicFrame>
        <p:nvGraphicFramePr>
          <p:cNvPr id="82" name=""/>
          <p:cNvGraphicFramePr/>
          <p:nvPr/>
        </p:nvGraphicFramePr>
        <p:xfrm>
          <a:off x="1978200" y="1828800"/>
          <a:ext cx="5628960" cy="3276720"/>
        </p:xfrm>
        <a:graphic>
          <a:graphicData uri="http://schemas.openxmlformats.org/presentationml/2006/ole">
            <p:oleObj progId="Excel.Sheet.12" r:id="rId1" spid="">
              <p:embed/>
              <p:pic>
                <p:nvPicPr>
                  <p:cNvPr id="83" name="" descr=""/>
                  <p:cNvPicPr/>
                  <p:nvPr/>
                </p:nvPicPr>
                <p:blipFill>
                  <a:blip r:embed="rId2"/>
                  <a:stretch/>
                </p:blipFill>
                <p:spPr>
                  <a:xfrm>
                    <a:off x="1978200" y="1828800"/>
                    <a:ext cx="5628960" cy="3276720"/>
                  </a:xfrm>
                  <a:prstGeom prst="rect">
                    <a:avLst/>
                  </a:prstGeom>
                  <a:ln w="0">
                    <a:noFill/>
                  </a:ln>
                </p:spPr>
              </p:pic>
            </p:oleObj>
          </a:graphicData>
        </a:graphic>
      </p:graphicFrame>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A25A0290-DCD4-4C07-A65C-F6C4D7C94AD7}" type="slidenum">
              <a:t>16</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located and  Broken PHY Criteria</a:t>
            </a:r>
            <a:endParaRPr b="0" lang="en-US" sz="4000" spc="-1" strike="noStrike">
              <a:solidFill>
                <a:srgbClr val="000000"/>
              </a:solidFill>
              <a:latin typeface="Times New Roman"/>
            </a:endParaRPr>
          </a:p>
        </p:txBody>
      </p:sp>
      <p:sp>
        <p:nvSpPr>
          <p:cNvPr id="85" name="PlaceHolder 2"/>
          <p:cNvSpPr>
            <a:spLocks noGrp="1"/>
          </p:cNvSpPr>
          <p:nvPr>
            <p:ph/>
          </p:nvPr>
        </p:nvSpPr>
        <p:spPr>
          <a:xfrm>
            <a:off x="380520" y="1294920"/>
            <a:ext cx="8534520" cy="495324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and Form Factor</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ed separately in MAC and PHY subcommitte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utility in discussing them independently</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Consumptio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ed separately in MAC and PHY subcommitte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utility in discussing them independently</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 MAC/PHY Throughput</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gest combining new MAC, PHY overhead numbers to arrive at consistent Minimum Throughput calculation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End MAC/PHY Throughput</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gest combining new MAC, PHY overhead numbers to arrive at consistent High End Throughput calcul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A41989CF-39B4-4896-8984-CB49B93AC5FD}" type="slidenum">
              <a:t>1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ew PHY Criteria</a:t>
            </a:r>
            <a:endParaRPr b="0" lang="en-US" sz="4000" spc="-1" strike="noStrike">
              <a:solidFill>
                <a:srgbClr val="000000"/>
              </a:solidFill>
              <a:latin typeface="Times New Roman"/>
            </a:endParaRPr>
          </a:p>
        </p:txBody>
      </p:sp>
      <p:sp>
        <p:nvSpPr>
          <p:cNvPr id="87" name="PlaceHolder 2"/>
          <p:cNvSpPr>
            <a:spLocks noGrp="1"/>
          </p:cNvSpPr>
          <p:nvPr>
            <p:ph/>
          </p:nvPr>
        </p:nvSpPr>
        <p:spPr>
          <a:xfrm>
            <a:off x="75960" y="1294920"/>
            <a:ext cx="8915400" cy="49532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 PHY Latenc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ion of time delays inherent to a combined MAC/ PH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mon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ricter” level of coexistence with devices of other standa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 coexistence is a “survival” criterion</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ices can jam each other if only reduce throughput by 50%, max</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 a level of coexistence wh devices do not interoperate, but can identify and defer to each other’s transmissions</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5.3 and 802.11b defer to each other if at 2.4 GHz</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5.3 and 802.11a defer to each other if at 5 GHz</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5ED02EA0-0477-41C4-8FF1-3889464E3AE2}" type="slidenum">
              <a:t>1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posed Process Modification</a:t>
            </a:r>
            <a:endParaRPr b="0" lang="en-US" sz="4000" spc="-1" strike="noStrike">
              <a:solidFill>
                <a:srgbClr val="000000"/>
              </a:solidFill>
              <a:latin typeface="Times New Roman"/>
            </a:endParaRPr>
          </a:p>
        </p:txBody>
      </p:sp>
      <p:sp>
        <p:nvSpPr>
          <p:cNvPr id="89" name="PlaceHolder 2"/>
          <p:cNvSpPr>
            <a:spLocks noGrp="1"/>
          </p:cNvSpPr>
          <p:nvPr>
            <p:ph/>
          </p:nvPr>
        </p:nvSpPr>
        <p:spPr>
          <a:xfrm>
            <a:off x="304920" y="1218960"/>
            <a:ext cx="8686800" cy="5257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add and relocate criteria as necessary to achieve the “best and final” set this wee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ulate all modified, new criteria as informational on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for a last stage of proposal update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lect the best and final criteri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within maybe 2 weeks after this meeting end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r first stage selection process until Novemb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throw anyone off the island ye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the modified criteria to the updated proposals over the next 2 months and refine the evalu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e Novemb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 all the final proposals to the membershi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 the final subcommittee evaluation recommenda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the bakeoff to the single solution over a set of votes that week</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490168A1-9DB1-4274-A95D-119CD626722D}" type="slidenum">
              <a:t>1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oughts on </a:t>
            </a:r>
            <a:br>
              <a:rPr sz="4400"/>
            </a:br>
            <a:r>
              <a:rPr b="1" lang="en-US" sz="4400" spc="-1" strike="noStrike">
                <a:solidFill>
                  <a:srgbClr val="000000"/>
                </a:solidFill>
                <a:latin typeface="Arial"/>
              </a:rPr>
              <a:t>Broken, Missing and Misplaced 802.15.3 Selection Criteria</a:t>
            </a:r>
            <a:endParaRPr b="0" lang="en-US" sz="4400" spc="-1" strike="noStrike">
              <a:solidFill>
                <a:srgbClr val="000000"/>
              </a:solidFill>
              <a:latin typeface="Times New Roman"/>
            </a:endParaRPr>
          </a:p>
        </p:txBody>
      </p:sp>
      <p:grpSp>
        <p:nvGrpSpPr>
          <p:cNvPr id="47" name=""/>
          <p:cNvGrpSpPr/>
          <p:nvPr/>
        </p:nvGrpSpPr>
        <p:grpSpPr>
          <a:xfrm>
            <a:off x="3733920" y="5410080"/>
            <a:ext cx="1752480" cy="685800"/>
            <a:chOff x="3733920" y="5410080"/>
            <a:chExt cx="1752480" cy="685800"/>
          </a:xfrm>
        </p:grpSpPr>
        <p:graphicFrame>
          <p:nvGraphicFramePr>
            <p:cNvPr id="48" name=""/>
            <p:cNvGraphicFramePr/>
            <p:nvPr/>
          </p:nvGraphicFramePr>
          <p:xfrm>
            <a:off x="3733920" y="5410080"/>
            <a:ext cx="1752480" cy="659520"/>
          </p:xfrm>
          <a:graphic>
            <a:graphicData uri="http://schemas.openxmlformats.org/presentationml/2006/ole">
              <p:oleObj r:id="rId1" spid="">
                <p:embed/>
                <p:pic>
                  <p:nvPicPr>
                    <p:cNvPr id="49" name="" descr=""/>
                    <p:cNvPicPr/>
                    <p:nvPr/>
                  </p:nvPicPr>
                  <p:blipFill>
                    <a:blip r:embed="rId2"/>
                    <a:stretch/>
                  </p:blipFill>
                  <p:spPr>
                    <a:xfrm>
                      <a:off x="3733920" y="5410080"/>
                      <a:ext cx="1752480" cy="659520"/>
                    </a:xfrm>
                    <a:prstGeom prst="rect">
                      <a:avLst/>
                    </a:prstGeom>
                    <a:ln w="0">
                      <a:noFill/>
                    </a:ln>
                  </p:spPr>
                </p:pic>
              </p:oleObj>
            </a:graphicData>
          </a:graphic>
        </p:graphicFrame>
        <p:graphicFrame>
          <p:nvGraphicFramePr>
            <p:cNvPr id="50" name=""/>
            <p:cNvGraphicFramePr/>
            <p:nvPr/>
          </p:nvGraphicFramePr>
          <p:xfrm>
            <a:off x="3733920" y="5865840"/>
            <a:ext cx="1752480" cy="230040"/>
          </p:xfrm>
          <a:graphic>
            <a:graphicData uri="http://schemas.openxmlformats.org/presentationml/2006/ole">
              <p:oleObj r:id="rId3" spid="">
                <p:embed/>
                <p:pic>
                  <p:nvPicPr>
                    <p:cNvPr id="51" name="" descr=""/>
                    <p:cNvPicPr/>
                    <p:nvPr/>
                  </p:nvPicPr>
                  <p:blipFill>
                    <a:blip r:embed="rId4"/>
                    <a:stretch/>
                  </p:blipFill>
                  <p:spPr>
                    <a:xfrm>
                      <a:off x="3733920" y="5865840"/>
                      <a:ext cx="1752480" cy="230040"/>
                    </a:xfrm>
                    <a:prstGeom prst="rect">
                      <a:avLst/>
                    </a:prstGeom>
                    <a:ln w="0">
                      <a:noFill/>
                    </a:ln>
                  </p:spPr>
                </p:pic>
              </p:oleObj>
            </a:graphicData>
          </a:graphic>
        </p:graphicFrame>
      </p:grpSp>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4ACA650F-1040-4436-80DC-38E469B6AF20}" type="slidenum">
              <a:t>2</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18920"/>
            <a:ext cx="7772400" cy="500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ckground</a:t>
            </a:r>
            <a:endParaRPr b="0" lang="en-US" sz="4000" spc="-1" strike="noStrike">
              <a:solidFill>
                <a:srgbClr val="000000"/>
              </a:solidFill>
              <a:latin typeface="Times New Roman"/>
            </a:endParaRPr>
          </a:p>
        </p:txBody>
      </p:sp>
      <p:sp>
        <p:nvSpPr>
          <p:cNvPr id="53" name="PlaceHolder 2"/>
          <p:cNvSpPr>
            <a:spLocks noGrp="1"/>
          </p:cNvSpPr>
          <p:nvPr>
            <p:ph/>
          </p:nvPr>
        </p:nvSpPr>
        <p:spPr>
          <a:xfrm>
            <a:off x="380520" y="1447560"/>
            <a:ext cx="8610840" cy="46479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September quite a few dedicated, talented folks have been stealing considerable time from their real jobs to</a:t>
            </a:r>
            <a:r>
              <a:rPr b="0" lang="en-US" sz="3200" spc="-1" strike="noStrike">
                <a:solidFill>
                  <a:srgbClr val="000000"/>
                </a:solidFill>
                <a:latin typeface="Arial"/>
              </a:rPr>
              <a:t> </a:t>
            </a:r>
            <a:r>
              <a:rPr b="0" lang="en-US" sz="2800" spc="-1" strike="noStrike">
                <a:solidFill>
                  <a:srgbClr val="000000"/>
                </a:solidFill>
                <a:latin typeface="Arial"/>
              </a:rPr>
              <a:t>evaluate the 802.15.3 PHY and MAC proposa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sk was quite formidable, and we didn’t finis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fortunately, along the way we found some of our marching orders (i.e., the selection criteria of doc 110rxx) less  than perfec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o a greater or lesser degree we tried to compensate as we went along and patch thing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3EE95DFB-B358-4FA4-8666-250255571EFA}"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ut, I think we need major surgery</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evaluations could not be performed because of incomplete or “broken” criteri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MAC size and form facto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MAC power consump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MAC Minimum Throughpu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MAC High End Throughpu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itivity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 Spread Toleran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Join, Unjoi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ra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entica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c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D2A4AC88-F8EB-4626-A3CB-A113463D1D00}" type="slidenum">
              <a:t>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thinks we need to add stuff</a:t>
            </a:r>
            <a:endParaRPr b="0" lang="en-US" sz="4000" spc="-1" strike="noStrike">
              <a:solidFill>
                <a:srgbClr val="000000"/>
              </a:solidFill>
              <a:latin typeface="Times New Roman"/>
            </a:endParaRPr>
          </a:p>
        </p:txBody>
      </p:sp>
      <p:sp>
        <p:nvSpPr>
          <p:cNvPr id="57" name="PlaceHolder 2"/>
          <p:cNvSpPr>
            <a:spLocks noGrp="1"/>
          </p:cNvSpPr>
          <p:nvPr>
            <p:ph/>
          </p:nvPr>
        </p:nvSpPr>
        <p:spPr>
          <a:xfrm>
            <a:off x="609120" y="1523520"/>
            <a:ext cx="8077320" cy="49532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information from proposers so the committee can comprehensively evaluate and recommen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 are very distinct and complex, featuring advanced modulation, coding and equaliz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s are also very distinct and sophistica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 to understand exactly how they work, much less how they compare with each othe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riteri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 MAC time del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tricter” coexistenc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transparent securit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151E43CE-59EF-4836-AE62-65EF4145161A}" type="slidenum">
              <a:t>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d, on a procedural note</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ittee should issue strong, well reasoned selection recommendations to the membership</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hard for voters to decide on tech meri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want a popularity conte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want voters to spin the bottle or flip nicke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t no one wants to get voted off the islan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not prepared to issue such a recommendation at this ti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means we have a lot of work ahead of u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4D969D63-B949-4D45-B29E-4CA0D54801B7}" type="slidenum">
              <a:t>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posed PHY Criteria Mods</a:t>
            </a:r>
            <a:endParaRPr b="0" lang="en-US" sz="4000" spc="-1" strike="noStrike">
              <a:solidFill>
                <a:srgbClr val="000000"/>
              </a:solidFill>
              <a:latin typeface="Times New Roman"/>
            </a:endParaRPr>
          </a:p>
        </p:txBody>
      </p:sp>
      <p:graphicFrame>
        <p:nvGraphicFramePr>
          <p:cNvPr id="61" name=""/>
          <p:cNvGraphicFramePr/>
          <p:nvPr/>
        </p:nvGraphicFramePr>
        <p:xfrm>
          <a:off x="1978200" y="2063880"/>
          <a:ext cx="5628960" cy="2417760"/>
        </p:xfrm>
        <a:graphic>
          <a:graphicData uri="http://schemas.openxmlformats.org/presentationml/2006/ole">
            <p:oleObj progId="Excel.Sheet.12" r:id="rId1" spid="">
              <p:embed/>
              <p:pic>
                <p:nvPicPr>
                  <p:cNvPr id="62" name="" descr=""/>
                  <p:cNvPicPr/>
                  <p:nvPr/>
                </p:nvPicPr>
                <p:blipFill>
                  <a:blip r:embed="rId2"/>
                  <a:stretch/>
                </p:blipFill>
                <p:spPr>
                  <a:xfrm>
                    <a:off x="1978200" y="2063880"/>
                    <a:ext cx="5628960" cy="2417760"/>
                  </a:xfrm>
                  <a:prstGeom prst="rect">
                    <a:avLst/>
                  </a:prstGeom>
                  <a:ln w="0">
                    <a:noFill/>
                  </a:ln>
                </p:spPr>
              </p:pic>
            </p:oleObj>
          </a:graphicData>
        </a:graphic>
      </p:graphicFrame>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2E227E6D-26A0-432D-98A9-4574EB5E5E88}" type="slidenum">
              <a:t>7</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posed New PHY Criteria </a:t>
            </a:r>
            <a:endParaRPr b="0" lang="en-US" sz="4000" spc="-1" strike="noStrike">
              <a:solidFill>
                <a:srgbClr val="000000"/>
              </a:solidFill>
              <a:latin typeface="Times New Roman"/>
            </a:endParaRPr>
          </a:p>
        </p:txBody>
      </p:sp>
      <p:sp>
        <p:nvSpPr>
          <p:cNvPr id="64" name="PlaceHolder 2"/>
          <p:cNvSpPr>
            <a:spLocks noGrp="1"/>
          </p:cNvSpPr>
          <p:nvPr>
            <p:ph/>
          </p:nvPr>
        </p:nvSpPr>
        <p:spPr>
          <a:xfrm>
            <a:off x="152280" y="1295280"/>
            <a:ext cx="8763120" cy="472464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 Overhea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al submission to assist SYS Overhead calcula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dded bits” due to preamble, coding rate expansion, code blocking (pad/tail bits), recursive coding/interleaving, et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s interpacket spacing, AC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ress in terms of time uni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 Latenc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al submission to assist SYS Latency calcula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contribution to time needed to transfer a data payload from transmitter to receiver and ensure no retransmi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agation, coding/interleaving, decoding/deinterleav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expressed in time unit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488CDF41-110A-4CDD-AA97-85430338FAAB}"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posed Relocated PHY Criteria </a:t>
            </a:r>
            <a:endParaRPr b="0" lang="en-US" sz="4000" spc="-1" strike="noStrike">
              <a:solidFill>
                <a:srgbClr val="000000"/>
              </a:solidFill>
              <a:latin typeface="Times New Roman"/>
            </a:endParaRPr>
          </a:p>
        </p:txBody>
      </p:sp>
      <p:sp>
        <p:nvSpPr>
          <p:cNvPr id="66" name="PlaceHolder 2"/>
          <p:cNvSpPr>
            <a:spLocks noGrp="1"/>
          </p:cNvSpPr>
          <p:nvPr>
            <p:ph/>
          </p:nvPr>
        </p:nvSpPr>
        <p:spPr>
          <a:xfrm>
            <a:off x="380520" y="1523520"/>
            <a:ext cx="8534520" cy="449604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erence and Susceptibil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erence and susceptibility mechanisms are purely PHY issues, are best discussed in PHY foru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odifications proposed to criteria as i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modulation Resistan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modulation mechanism is a purely PHY issue, is best discussed in PHY foru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odifications proposed to criteria as 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383530BA-0D7D-43AC-9C75-10F4AF3DACA4}"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3T05:17:09Z</dcterms:created>
  <dc:creator>Carlos Rios</dc:creator>
  <dc:description>073r0</dc:description>
  <dc:language>en-US</dc:language>
  <cp:lastModifiedBy>Carlos Rios</cp:lastModifiedBy>
  <cp:lastPrinted>2000-07-29T16:32:21Z</cp:lastPrinted>
  <dcterms:modified xsi:type="dcterms:W3CDTF">2000-09-19T18:14:38Z</dcterms:modified>
  <cp:revision>69</cp:revision>
  <dc:subject/>
  <dc:title>L3C Proposal for HR WPAN</dc:title>
</cp:coreProperties>
</file>