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C48F68B-725E-4034-B5D9-78F4C9658F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54160" y="701640"/>
            <a:ext cx="4626000" cy="3468600"/>
          </a:xfrm>
          <a:prstGeom prst="rect">
            <a:avLst/>
          </a:prstGeom>
          <a:ln w="0">
            <a:noFill/>
          </a:ln>
        </p:spPr>
      </p:sp>
      <p:sp>
        <p:nvSpPr>
          <p:cNvPr id="85" name="PlaceHolder 2"/>
          <p:cNvSpPr>
            <a:spLocks noGrp="1"/>
          </p:cNvSpPr>
          <p:nvPr>
            <p:ph type="body"/>
          </p:nvPr>
        </p:nvSpPr>
        <p:spPr>
          <a:xfrm>
            <a:off x="923400" y="4408560"/>
            <a:ext cx="508644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http://www.ieee802.org/15/private1/Draft/Draft.htm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6D6886-4439-4017-B0BF-E8036C2636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A8953E-ABCC-4049-BDB2-6E82B86844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C763A8-6663-4DC3-B315-64E29361A3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C7A8D5-42AF-486E-9759-C275B2AB21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EF1DBE-0597-496F-91A1-5C6D69E428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A5F41-601B-431A-861D-073AAC73F4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9AD257-A96F-41C0-ACE4-95A0A367F7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3F43BC-7745-467B-A177-BB7E3118F5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F5B62-F498-4EF1-B66E-541AFA3AD0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477AF-0F85-4C3E-B840-A06CE27CB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0F42C-B211-418F-ACA5-63B3061E54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B03C5-1A1F-4FE1-90A9-71F391A362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69D73F6-C7E8-4A65-81F3-33E0152AD1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272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61979A70-CB16-4E0C-9A89-D753C99875F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57" name=""/>
          <p:cNvSpPr txBox="1"/>
          <p:nvPr/>
        </p:nvSpPr>
        <p:spPr>
          <a:xfrm>
            <a:off x="609480" y="395640"/>
            <a:ext cx="82728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8" name=""/>
          <p:cNvSpPr/>
          <p:nvPr/>
        </p:nvSpPr>
        <p:spPr>
          <a:xfrm>
            <a:off x="76320" y="76320"/>
            <a:ext cx="8991360" cy="545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WG R2SG Opening Report</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ff0000"/>
                </a:solidFill>
                <a:latin typeface="Times New Roman"/>
              </a:rPr>
              <a:t>18Sep00</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Tom Siep</a:t>
            </a:r>
            <a:r>
              <a:rPr b="0" lang="en-US" sz="1600" spc="-1" strike="noStrike">
                <a:solidFill>
                  <a:srgbClr val="000000"/>
                </a:solidFill>
                <a:latin typeface="Times New Roman"/>
              </a:rPr>
              <a:t>] Company [</a:t>
            </a:r>
            <a:r>
              <a:rPr b="0" lang="en-US" sz="1600" spc="-1" strike="noStrike">
                <a:solidFill>
                  <a:srgbClr val="ff0000"/>
                </a:solidFill>
                <a:latin typeface="Times New Roman"/>
              </a:rPr>
              <a:t>Texas Instrument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12500 TI Blvd, m/s 8723, Dallas, TX  75243, USA</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214.480.6786</a:t>
            </a:r>
            <a:r>
              <a:rPr b="0" lang="en-US" sz="1600" spc="-1" strike="noStrike">
                <a:solidFill>
                  <a:srgbClr val="000000"/>
                </a:solidFill>
                <a:latin typeface="Times New Roman"/>
              </a:rPr>
              <a:t>], FAX: [</a:t>
            </a:r>
            <a:r>
              <a:rPr b="0" lang="en-US" sz="1600" spc="-1" strike="noStrike">
                <a:solidFill>
                  <a:srgbClr val="ff0000"/>
                </a:solidFill>
                <a:latin typeface="Times New Roman"/>
              </a:rPr>
              <a:t>972.761.5581</a:t>
            </a:r>
            <a:r>
              <a:rPr b="0" lang="en-US" sz="1600" spc="-1" strike="noStrike">
                <a:solidFill>
                  <a:srgbClr val="000000"/>
                </a:solidFill>
                <a:latin typeface="Times New Roman"/>
              </a:rPr>
              <a:t>], E-Mail:[</a:t>
            </a:r>
            <a:r>
              <a:rPr b="0" lang="en-US" sz="1600" spc="-1" strike="noStrike">
                <a:solidFill>
                  <a:srgbClr val="ff0000"/>
                </a:solidFill>
                <a:latin typeface="Times New Roman"/>
              </a:rPr>
              <a:t>Siep@ti.com</a:t>
            </a: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ff0000"/>
                </a:solidFill>
                <a:latin typeface="Times New Roman"/>
              </a:rPr>
              <a:t>-00/188r2, -00/235r0, and -00/243r0</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R2SG Opening Report.</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The purpose of this Opening Report is to headline the R2SG formation during the Jul00 Plenary and the subsequent liaison activities up to 18Sep00.</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ope</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 a formal vehicle within IEEE 802.15 to track the activities of the Bluetooth SIG Radio2 Working Group and recommend appropriate action to 802. </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 Specification/Radio2 could be an extension to the existing 802.15.1 PAR </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 Specification/Radio2 could be a supplement to 802.15.1 </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 Specification/Radio2 may become available to the IEEE in 2001 as another derivative work product or something else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02C9809B-DE9F-41EE-AD8E-7459C774BF12}" type="slidenum">
              <a:t>10</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liverables </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 formal reports to the WG, updating the membership on the 2.0 Specification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e to Bluetooth SIG, providing updates to the Radio2 WG, updating their membership on the IEEE 802.15 R2SG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icit and receive contributions to assist the R2SG make their pending recommendation's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 a plenary week tutorial to 802; target Nov00.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warranted, develop PAR and Five Criteria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D1DF4E64-E8C2-402C-A566-D4BE46A88629}" type="slidenum">
              <a:t>11</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Working Group for Wireless Personal Area Networks</a:t>
            </a:r>
            <a:r>
              <a:rPr b="0" lang="en-US" sz="3600" spc="-1" strike="noStrike">
                <a:solidFill>
                  <a:srgbClr val="000000"/>
                </a:solidFill>
                <a:latin typeface="Times New Roman"/>
                <a:ea typeface="Times New Roman"/>
              </a:rPr>
              <a:t>™</a:t>
            </a:r>
            <a:endParaRPr b="0" lang="en-US" sz="3600" spc="-1" strike="noStrike">
              <a:solidFill>
                <a:srgbClr val="000000"/>
              </a:solidFill>
              <a:latin typeface="Times New Roman"/>
            </a:endParaRPr>
          </a:p>
        </p:txBody>
      </p:sp>
      <p:sp>
        <p:nvSpPr>
          <p:cNvPr id="60" name="PlaceHolder 2"/>
          <p:cNvSpPr>
            <a:spLocks noGrp="1"/>
          </p:cNvSpPr>
          <p:nvPr>
            <p:ph type="subTitle"/>
          </p:nvPr>
        </p:nvSpPr>
        <p:spPr>
          <a:xfrm>
            <a:off x="1371600" y="3580920"/>
            <a:ext cx="6400800" cy="175284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2SG Opening Repor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ptember 2000 Scottsdale, AZ USA</a:t>
            </a:r>
            <a:endParaRPr b="0" lang="en-US" sz="3200" spc="-1" strike="noStrike">
              <a:solidFill>
                <a:srgbClr val="000000"/>
              </a:solidFill>
              <a:latin typeface="Times New Roman"/>
            </a:endParaRPr>
          </a:p>
        </p:txBody>
      </p:sp>
      <p:pic>
        <p:nvPicPr>
          <p:cNvPr id="61" name="802" descr=""/>
          <p:cNvPicPr/>
          <p:nvPr/>
        </p:nvPicPr>
        <p:blipFill>
          <a:blip r:embed="rId1"/>
          <a:stretch/>
        </p:blipFill>
        <p:spPr>
          <a:xfrm>
            <a:off x="3753000" y="733320"/>
            <a:ext cx="1581120" cy="1629000"/>
          </a:xfrm>
          <a:prstGeom prst="rect">
            <a:avLst/>
          </a:prstGeom>
          <a:ln w="0">
            <a:noFill/>
          </a:ln>
        </p:spPr>
      </p:pic>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A8593755-2120-4E3C-90AA-6AB4697C928B}" type="slidenum">
              <a:t>2</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 Motion Results</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tion: "Move to form a Radio2 study group within 802.15 to track the activities of the Bluetooth Radio2 working group and recommend a course of action."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d: Heil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Nikolich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0/5 Approved at 9:14, 13Sep00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urce: [min07132000web.pdf]</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A29E8CEA-4AE4-4A9E-8697-8C4739EF61F1}" type="slidenum">
              <a:t>3</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Update</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uetooth SI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ject Management (PM) Board</a:t>
            </a:r>
            <a:endParaRPr b="0" lang="en-US" sz="28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Sep00 Francis Truntzer, Acting Chair, BT PM</a:t>
            </a:r>
            <a:endParaRPr b="0"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ussed R2SG Deliverables, etc.</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o2 Working Group </a:t>
            </a:r>
            <a:endParaRPr b="0" lang="en-US" sz="28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Aug00 Carl R. Stevenson, Chair, BT Radio2 WG</a:t>
            </a:r>
            <a:endParaRPr b="0"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ed Monte Carlo presentations and discussed R2SG Deliverables, etc.</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B7CDB591-B9B6-486B-B36D-20BD26DD45F7}" type="slidenum">
              <a:t>4</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ssion #8/Scottsdale - Objectives</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PROVIDE REPORTS TO WG &amp; MC, UPDATING THE MEMBERSHIP ON BT Radio2 WG</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PREPARE LIAISON TO BSIG, PROVIDING AN UPDATE TO THE BT Radio2 WG ON THE IEEE 802.15 WG.  INCLUDE MARKET POSITIONING CHARTS AND COLLATERAL FOR JOINT REVIEW TO DIFFERENTIATE THE ONGOING WORK IN IEEE AS WELL DIFFERENTIATE THE IEEE WORK TO THE BSIG.</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SOLICIT AND RECEIVE CONTRIBUTIONS TO ASSIST THE SG MAKE THEIR PENDING RECOMMENDATIONS</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 IDENTIFY SPEAKER(S), CONTENT, SCHEDULE/FORM, GOALS, etc. FOR THE IEEE 802 PLENARY CONFERENCE TUTORIAL; TARGET NOV00. </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 DISCUSS EXISTING PROJECTS AS WELL AS PAR AND FIVE CRITERIA SCENARIOS AS WELL AS END OF LIFE FOR SG IN NOV00</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 IDENTIFY NOV00 OBJECTIVES &amp; GRAPHIC/TIMESLOT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12D1021C-57D7-482B-A479-382D0C4604B1}" type="slidenum">
              <a:t>5</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ssion #8/Scottsdale - Submissions</a:t>
            </a:r>
            <a:endParaRPr b="0" lang="en-US" sz="4400" spc="-1" strike="noStrike">
              <a:solidFill>
                <a:srgbClr val="000000"/>
              </a:solidFill>
              <a:latin typeface="Times New Roman"/>
            </a:endParaRPr>
          </a:p>
        </p:txBody>
      </p:sp>
      <p:graphicFrame>
        <p:nvGraphicFramePr>
          <p:cNvPr id="69" name=""/>
          <p:cNvGraphicFramePr/>
          <p:nvPr/>
        </p:nvGraphicFramePr>
        <p:xfrm>
          <a:off x="76320" y="2590920"/>
          <a:ext cx="8967600" cy="885600"/>
        </p:xfrm>
        <a:graphic>
          <a:graphicData uri="http://schemas.openxmlformats.org/presentationml/2006/ole">
            <p:oleObj progId="Excel.Sheet.12" r:id="rId1" spid="">
              <p:embed/>
              <p:pic>
                <p:nvPicPr>
                  <p:cNvPr id="70" name="" descr=""/>
                  <p:cNvPicPr/>
                  <p:nvPr/>
                </p:nvPicPr>
                <p:blipFill>
                  <a:blip r:embed="rId2"/>
                  <a:stretch/>
                </p:blipFill>
                <p:spPr>
                  <a:xfrm>
                    <a:off x="76320" y="2590920"/>
                    <a:ext cx="8967600" cy="88560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D24A3271-27FE-4171-B929-31CECD09F22E}" type="slidenum">
              <a:t>6</a:t>
            </a:fld>
          </a:p>
        </p:txBody>
      </p:sp>
      <p:sp>
        <p:nvSpPr>
          <p:cNvPr id="5" name="PlaceHolder 4"/>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ssion #8/Scottsdale - Graphic</a:t>
            </a:r>
            <a:endParaRPr b="0" lang="en-US" sz="4400" spc="-1" strike="noStrike">
              <a:solidFill>
                <a:srgbClr val="000000"/>
              </a:solidFill>
              <a:latin typeface="Times New Roman"/>
            </a:endParaRPr>
          </a:p>
        </p:txBody>
      </p:sp>
      <p:pic>
        <p:nvPicPr>
          <p:cNvPr id="72" name="" descr=""/>
          <p:cNvPicPr/>
          <p:nvPr/>
        </p:nvPicPr>
        <p:blipFill>
          <a:blip r:embed="rId1"/>
          <a:stretch/>
        </p:blipFill>
        <p:spPr>
          <a:xfrm>
            <a:off x="76320" y="1535040"/>
            <a:ext cx="8948520" cy="4865760"/>
          </a:xfrm>
          <a:prstGeom prst="rect">
            <a:avLst/>
          </a:prstGeom>
          <a:ln w="0">
            <a:noFill/>
          </a:ln>
        </p:spPr>
      </p:pic>
      <p:sp>
        <p:nvSpPr>
          <p:cNvPr id="73" name=""/>
          <p:cNvSpPr/>
          <p:nvPr/>
        </p:nvSpPr>
        <p:spPr>
          <a:xfrm>
            <a:off x="1295280" y="5334120"/>
            <a:ext cx="1067040" cy="106668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952880" y="4495680"/>
            <a:ext cx="1067040" cy="106704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1DC7FE7D-27B1-4403-9BFF-B5A282398D54}" type="slidenum">
              <a:t>7</a:t>
            </a:fld>
          </a:p>
        </p:txBody>
      </p:sp>
      <p:sp>
        <p:nvSpPr>
          <p:cNvPr id="5" name="PlaceHolder 4"/>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udy Group Plan</a:t>
            </a:r>
            <a:endParaRPr b="0" lang="en-US" sz="4400" spc="-1" strike="noStrike">
              <a:solidFill>
                <a:srgbClr val="000000"/>
              </a:solidFill>
              <a:latin typeface="Times New Roman"/>
            </a:endParaRPr>
          </a:p>
        </p:txBody>
      </p:sp>
      <p:graphicFrame>
        <p:nvGraphicFramePr>
          <p:cNvPr id="76" name=""/>
          <p:cNvGraphicFramePr/>
          <p:nvPr/>
        </p:nvGraphicFramePr>
        <p:xfrm>
          <a:off x="507960" y="1911240"/>
          <a:ext cx="8116920" cy="4260960"/>
        </p:xfrm>
        <a:graphic>
          <a:graphicData uri="http://schemas.openxmlformats.org/presentationml/2006/ole">
            <p:oleObj progId="Excel.Sheet.12" r:id="rId1" spid="">
              <p:embed/>
              <p:pic>
                <p:nvPicPr>
                  <p:cNvPr id="77" name="" descr=""/>
                  <p:cNvPicPr/>
                  <p:nvPr/>
                </p:nvPicPr>
                <p:blipFill>
                  <a:blip r:embed="rId2"/>
                  <a:stretch/>
                </p:blipFill>
                <p:spPr>
                  <a:xfrm>
                    <a:off x="507960" y="1911240"/>
                    <a:ext cx="8116920" cy="426096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9DC231C0-0F4B-4004-B349-25BBEDD6453B}" type="slidenum">
              <a:t>8</a:t>
            </a:fld>
          </a:p>
        </p:txBody>
      </p:sp>
      <p:sp>
        <p:nvSpPr>
          <p:cNvPr id="5" name="PlaceHolder 4"/>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Working Group for Wireless Personal Area Networks</a:t>
            </a:r>
            <a:r>
              <a:rPr b="0" lang="en-US" sz="3600" spc="-1" strike="noStrike">
                <a:solidFill>
                  <a:srgbClr val="000000"/>
                </a:solidFill>
                <a:latin typeface="Times New Roman"/>
                <a:ea typeface="Times New Roman"/>
              </a:rPr>
              <a:t>™</a:t>
            </a:r>
            <a:endParaRPr b="0" lang="en-US" sz="3600" spc="-1" strike="noStrike">
              <a:solidFill>
                <a:srgbClr val="000000"/>
              </a:solidFill>
              <a:latin typeface="Times New Roman"/>
            </a:endParaRPr>
          </a:p>
        </p:txBody>
      </p:sp>
      <p:sp>
        <p:nvSpPr>
          <p:cNvPr id="7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up</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E9DDB8AC-CE9C-487D-A39B-420E03F8269E}" type="slidenum">
              <a:t>9</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Tom Siep</dc:creator>
  <dc:description>Mr. Ian Gifford 
Director of Standards 
M/A-COM, Inc. 
1011 Pawtucket Boulevard 
Lowell, MA 01853-3295, USA 
TEL +1 978 442 4650 
FAX +1 978 442 5442 
E-M giffordi@tycoelectronics.com</dc:description>
  <cp:keywords>July 2000</cp:keywords>
  <dc:language>en-US</dc:language>
  <cp:lastModifiedBy>Ian C. Gifford</cp:lastModifiedBy>
  <cp:lastPrinted>1998-02-10T13:28:06Z</cp:lastPrinted>
  <dcterms:modified xsi:type="dcterms:W3CDTF">2000-09-18T11:44:49Z</dcterms:modified>
  <cp:revision>295</cp:revision>
  <dc:subject>Radio2 SG</dc:subject>
  <dc:title>TG1 WPAN2 Call for Interest Agenda and “WPAN2 SG” Planning Report</dc:title>
</cp:coreProperties>
</file>