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7B5-5599-4419-9793-FE4A53FC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8EC-1593-4B00-A640-9130E85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5B1-13B8-4A69-B85A-97534E1C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82F-6223-4381-A32C-7E352A79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65B-FB44-40B2-8F8D-4C285EA8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531-A8C5-4A15-85D1-45045284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517-306A-4CA1-9F2A-9F617B30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192-EEA2-4D11-84F4-ED07D0D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877-0D0C-4F57-B6DE-920CAC27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F5C-D7D6-43EC-A21F-CB9C973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DA4-96B6-48EF-ABB9-D366129D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8A9-74E3-432C-9742-C7007CD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4565FE-14D5-446F-B20E-AFD800D4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9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 SEC Meeting-July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 Mo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endorses program for seed funding free standards “in principle” as describ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IEEE 802 encourages investigation of other fundin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provide IEEE-SA seed funding as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75/person seed for next three meetings starting in July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ey paid to escrow account and refunded (except for up to $12.5K startup co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program does not achieve funding go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funding reviewed based on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support the solicitation to 802 attend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ding email for soli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SEC support through calls and solic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zier/Niko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 Petrick, Vice Chair of 802.11, sits in for Stuart Kerry, who has taken ill. Al cannot vo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0/1 Approved at 8:20 p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630-9FDC-407D-A7E9-525E36F701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presubmit the PAR for further Higher data Rate extension in the 2.4 GHz band to NesCom pending the following a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the 802.11 WG performs an email ballot to affirm the forwarding of the PAR, (approves+disapproves amounting to at l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% of the WG voting memb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the SEC reviews the results of (a) and has an email ballot to forward the PAR to the standards board for appro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yes/Niko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0/0 Approved at 8: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 SEC Meeting-July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F8A-9AD6-4949-BA0E-4C0C408D72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23623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 SEC endorses response letter  to ISTO “in principle” and permits Jim Carlo to further edit the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/Heile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/0/1 Approved at 9: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 SEC Meeting-July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F19-A2C2-4A34-BCF8-D734D0CF8DB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2133720"/>
            <a:ext cx="7925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4-MI-Affirm 802.15 SG on Bluetooth Radio2- --He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to form a Radio2 study group within 802.15 to track the activities of the Bluetooth Radio2 working group and recomme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rse of 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le/Niko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/0/5 Approved at 9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5-MI-Affirm 802.15 SG on Low Rate WPAN- --He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to form an 802.15 SG on Low Rate WPAN with the mission of drafting a PAR for submission to ExCom at November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le/Niko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/0/1 Approved at 10: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 SEC Meeting-July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D28-A4ED-490B-BC0E-89B67F70551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133720"/>
            <a:ext cx="8534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opt the rules change to eliminate the Friday plenary as presented by Pau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kolich/Rigsb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0/0 Approved 10:45 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loud appla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 the following SCOPE statement to the IEEE 802 operating rules via the rules approval proce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scope of IEEE LMSC is to develop, maintain, enable and promote, on a global basis, accredited networking standard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ommended practi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kolich/Ha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0/0 Approved 10:50 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 SEC Meeting-July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CC0-8256-44BF-BF51-D252CABE8F6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2:24:10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0-09-18T14:51:45Z</dcterms:modified>
  <cp:revision>4</cp:revision>
  <dc:subject>IEEE 802.15 &lt;subject&gt;</dc:subject>
  <dc:title>No Slide Title</dc:title>
</cp:coreProperties>
</file>