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F8E4D-57CB-4872-8805-51D991DD9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B1D1F-1D52-474A-8B6D-C959C96A9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630A5-1A1D-49AE-A22F-068DEDB79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C24B1-48AE-4C03-A8FB-B49EB779E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10781-55B0-43D4-B750-D716D4E3B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F44AC-40BF-401B-AAAD-C9FB45467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18F72-CBF1-4F4E-B382-F488C2201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111E9-0602-4321-988F-890673873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AB755-254D-421D-BAD6-4F86A4B3A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9F812-C685-4137-A0A4-8CE63B1E1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C917A-9F20-4351-B43F-2A293515D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533B9-A7F5-4078-BAA3-B5BBD247D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379800"/>
            <a:ext cx="29718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55272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521240" y="6552720"/>
            <a:ext cx="177840" cy="1828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CA9C-104D-43BF-99A6-CA98D217D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29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86520" y="647712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990720"/>
            <a:ext cx="8077320" cy="5493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802.15 Working Group for Wireless Personal Area Networks (WPAN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TG3 MAC Criteria Pugh Matrix Evaluation Results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17 September, 2000]</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1" lang="en-US" sz="1400" spc="-1" strike="noStrike">
                <a:solidFill>
                  <a:srgbClr val="000000"/>
                </a:solidFill>
                <a:latin typeface="Times New Roman"/>
              </a:rPr>
              <a:t>	</a:t>
            </a:r>
            <a:r>
              <a:rPr b="0" lang="en-US" sz="1400" spc="-1" strike="noStrike">
                <a:solidFill>
                  <a:srgbClr val="000000"/>
                </a:solidFill>
                <a:latin typeface="Times New Roman"/>
              </a:rPr>
              <a:t>Name [Allen Heberling, Chairperson for TG3 MAC-subcommittee ]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any [Eastman Kodak Company]</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ddress [4545 E. River Road, Rochester, NY 14650-0898]</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ice:[716-781-9328], FAX: [716-781-9733], E-Mail:[allen.heberling@kodak.com]</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Review of TG3 MAC criteria evaluation process and the results of same. ]</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To report the results of the TG3 MAC subcommittee’s evaluation of the MAC criteria pugh matrix]</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Allen Heberling,Eastman Kodak Company</a:t>
            </a:r>
          </a:p>
        </p:txBody>
      </p:sp>
      <p:sp>
        <p:nvSpPr>
          <p:cNvPr id="3" name="PlaceHolder 2"/>
          <p:cNvSpPr>
            <a:spLocks noGrp="1"/>
          </p:cNvSpPr>
          <p:nvPr>
            <p:ph type="sldNum" idx="3"/>
          </p:nvPr>
        </p:nvSpPr>
        <p:spPr/>
        <p:txBody>
          <a:bodyPr/>
          <a:p>
            <a:fld id="{DE7D9876-D453-4470-BDB1-B62231233312}" type="slidenum">
              <a:t>1</a:t>
            </a:fld>
          </a:p>
        </p:txBody>
      </p:sp>
      <p:sp>
        <p:nvSpPr>
          <p:cNvPr id="4" name="PlaceHolder 3"/>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Process Continued</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subcommittee identified these criteria as Phy dependen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Acces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 Awarenes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um Delivered Data Throughp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um Delivered Data Throughput</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1AD9E824-F5AC-43C6-816A-2E5D9A1E3DD7}" type="slidenum">
              <a:t>10</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Process Continued</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subcommittee identified these criteria as partially defined:</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Network Join/Unjoin Procedure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 Registratio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Management type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6B461825-935A-4258-A739-1EDB763ACBD2}" type="slidenum">
              <a:t>11</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Process Continued</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MAC criteria partially defined continued:</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cy</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of Service</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0DF6E04E-FA3D-4846-823D-BC853D34D50F}" type="slidenum">
              <a:t>1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of the MAC Criteria Pugh Matrix Review Process</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de Courville withdrew his advocacy for a HiperPan MAC for 15.3.</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ies R. Gubbi &amp; G. Parks modified the W. Davis proposal for an adaptive TDMA access algorithm, to align with the “15.1 Reuse” concept </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Skellern modified his MAC proposal to align with the 15.1 Reuse Concept and the Davis adaptive TDMA access algorithm</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B33F1DC8-34FF-406F-92FD-35F05DC721B0}" type="slidenum">
              <a:t>1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of the MAC Criteria Pugh Matrix Review Process continued...</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MAC proposals reduced from 6 to 4.</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s/Skelle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ber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n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o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F702DD22-AFE2-42FD-916B-A56797D7B53F}" type="slidenum">
              <a:t>1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of the MAC Criteria Pugh Matrix Review Process continued...</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of the proposals(Davis/Skellern &amp; Heberling) advocate “Reuse of 15.1” and the addition of eithe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berling proposed adaptive TDMA access algorithm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 Gubbi proposed adaptive TDMA access algorithm per the Davis/Skellern MAC propos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B5A7D4F7-BC36-4754-9874-358E5C8A4EB9}" type="slidenum">
              <a:t>1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066680" y="1905120"/>
            <a:ext cx="647712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of the MAC Criteria Pugh Matrix Review Process continued...</a:t>
            </a:r>
            <a:endParaRPr b="0" lang="en-US" sz="3200" spc="-1" strike="noStrike">
              <a:solidFill>
                <a:srgbClr val="000000"/>
              </a:solidFill>
              <a:latin typeface="Times New Roman"/>
            </a:endParaRPr>
          </a:p>
        </p:txBody>
      </p:sp>
      <p:sp>
        <p:nvSpPr>
          <p:cNvPr id="76" name=""/>
          <p:cNvSpPr/>
          <p:nvPr/>
        </p:nvSpPr>
        <p:spPr>
          <a:xfrm>
            <a:off x="3429000" y="6019920"/>
            <a:ext cx="198108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1Reuse MAC Architecture</a:t>
            </a:r>
            <a:endParaRPr b="0" lang="en-US" sz="1200" spc="-1" strike="noStrike">
              <a:solidFill>
                <a:srgbClr val="000000"/>
              </a:solidFill>
              <a:latin typeface="Times New Roman"/>
            </a:endParaRPr>
          </a:p>
        </p:txBody>
      </p:sp>
      <p:sp>
        <p:nvSpPr>
          <p:cNvPr id="77" name=""/>
          <p:cNvSpPr/>
          <p:nvPr/>
        </p:nvSpPr>
        <p:spPr>
          <a:xfrm>
            <a:off x="5410080" y="2133720"/>
            <a:ext cx="533520" cy="1981080"/>
          </a:xfrm>
          <a:custGeom>
            <a:avLst/>
            <a:gdLst>
              <a:gd name="textAreaLeft" fmla="*/ 0 w 533520"/>
              <a:gd name="textAreaRight" fmla="*/ 192600 w 5335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5410080" y="4267080"/>
            <a:ext cx="609840" cy="990720"/>
          </a:xfrm>
          <a:custGeom>
            <a:avLst/>
            <a:gdLst>
              <a:gd name="textAreaLeft" fmla="*/ 0 w 609840"/>
              <a:gd name="textAreaRight" fmla="*/ 220320 w 6098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019920" y="2819520"/>
            <a:ext cx="13716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1 Reus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 Layer</a:t>
            </a:r>
            <a:endParaRPr b="0" lang="en-US" sz="1200" spc="-1" strike="noStrike">
              <a:solidFill>
                <a:srgbClr val="000000"/>
              </a:solidFill>
              <a:latin typeface="Times New Roman"/>
            </a:endParaRPr>
          </a:p>
        </p:txBody>
      </p:sp>
      <p:sp>
        <p:nvSpPr>
          <p:cNvPr id="80" name=""/>
          <p:cNvSpPr/>
          <p:nvPr/>
        </p:nvSpPr>
        <p:spPr>
          <a:xfrm>
            <a:off x="6095880" y="4648320"/>
            <a:ext cx="9907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 Layer</a:t>
            </a:r>
            <a:endParaRPr b="0" lang="en-US" sz="1200" spc="-1" strike="noStrike">
              <a:solidFill>
                <a:srgbClr val="000000"/>
              </a:solidFill>
              <a:latin typeface="Times New Roman"/>
            </a:endParaRPr>
          </a:p>
        </p:txBody>
      </p:sp>
      <p:sp>
        <p:nvSpPr>
          <p:cNvPr id="81" name=""/>
          <p:cNvSpPr/>
          <p:nvPr/>
        </p:nvSpPr>
        <p:spPr>
          <a:xfrm>
            <a:off x="2819520" y="2438280"/>
            <a:ext cx="990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u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CAP</a:t>
            </a:r>
            <a:endParaRPr b="0" lang="en-US" sz="1200" spc="-1" strike="noStrike">
              <a:solidFill>
                <a:srgbClr val="000000"/>
              </a:solidFill>
              <a:latin typeface="Times New Roman"/>
            </a:endParaRPr>
          </a:p>
        </p:txBody>
      </p:sp>
      <p:sp>
        <p:nvSpPr>
          <p:cNvPr id="82" name=""/>
          <p:cNvSpPr/>
          <p:nvPr/>
        </p:nvSpPr>
        <p:spPr>
          <a:xfrm>
            <a:off x="4267080" y="2438280"/>
            <a:ext cx="12193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use MLM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oS extensions</a:t>
            </a:r>
            <a:endParaRPr b="0" lang="en-US" sz="1200" spc="-1" strike="noStrike">
              <a:solidFill>
                <a:srgbClr val="000000"/>
              </a:solidFill>
              <a:latin typeface="Times New Roman"/>
            </a:endParaRPr>
          </a:p>
        </p:txBody>
      </p:sp>
      <p:sp>
        <p:nvSpPr>
          <p:cNvPr id="83" name=""/>
          <p:cNvSpPr/>
          <p:nvPr/>
        </p:nvSpPr>
        <p:spPr>
          <a:xfrm>
            <a:off x="3352680" y="3657600"/>
            <a:ext cx="198144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3505320" y="312408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952880" y="312408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429000" y="1904760"/>
            <a:ext cx="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4952880" y="1904760"/>
            <a:ext cx="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809880" y="2819520"/>
            <a:ext cx="457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733920" y="518148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4800600" y="518112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876920" y="5486400"/>
            <a:ext cx="1218960" cy="152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x_signal</a:t>
            </a:r>
            <a:endParaRPr b="0" lang="en-US" sz="1200" spc="-1" strike="noStrike">
              <a:solidFill>
                <a:srgbClr val="000000"/>
              </a:solidFill>
              <a:latin typeface="Times New Roman"/>
            </a:endParaRPr>
          </a:p>
        </p:txBody>
      </p:sp>
      <p:sp>
        <p:nvSpPr>
          <p:cNvPr id="92" name=""/>
          <p:cNvSpPr/>
          <p:nvPr/>
        </p:nvSpPr>
        <p:spPr>
          <a:xfrm>
            <a:off x="2438280" y="5410080"/>
            <a:ext cx="1219320" cy="152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x_signal</a:t>
            </a:r>
            <a:endParaRPr b="0" lang="en-US" sz="1200" spc="-1" strike="noStrike">
              <a:solidFill>
                <a:srgbClr val="000000"/>
              </a:solidFill>
              <a:latin typeface="Times New Roman"/>
            </a:endParaRPr>
          </a:p>
        </p:txBody>
      </p:sp>
      <p:sp>
        <p:nvSpPr>
          <p:cNvPr id="93" name=""/>
          <p:cNvSpPr/>
          <p:nvPr/>
        </p:nvSpPr>
        <p:spPr>
          <a:xfrm flipH="1">
            <a:off x="3352680" y="4267080"/>
            <a:ext cx="1981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3352680" y="4724280"/>
            <a:ext cx="1981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733920" y="3886200"/>
            <a:ext cx="1218960" cy="152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1 Reuse Base band*</a:t>
            </a:r>
            <a:endParaRPr b="0" lang="en-US" sz="1200" spc="-1" strike="noStrike">
              <a:solidFill>
                <a:srgbClr val="000000"/>
              </a:solidFill>
              <a:latin typeface="Times New Roman"/>
            </a:endParaRPr>
          </a:p>
        </p:txBody>
      </p:sp>
      <p:sp>
        <p:nvSpPr>
          <p:cNvPr id="96" name=""/>
          <p:cNvSpPr/>
          <p:nvPr/>
        </p:nvSpPr>
        <p:spPr>
          <a:xfrm>
            <a:off x="3733920" y="4419720"/>
            <a:ext cx="1218960" cy="152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97" name=""/>
          <p:cNvSpPr/>
          <p:nvPr/>
        </p:nvSpPr>
        <p:spPr>
          <a:xfrm>
            <a:off x="3733920" y="4876920"/>
            <a:ext cx="1218960" cy="152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Allen Heberling,Eastman Kodak Company</a:t>
            </a:r>
          </a:p>
        </p:txBody>
      </p:sp>
      <p:sp>
        <p:nvSpPr>
          <p:cNvPr id="4" name="PlaceHolder 3"/>
          <p:cNvSpPr>
            <a:spLocks noGrp="1"/>
          </p:cNvSpPr>
          <p:nvPr>
            <p:ph type="sldNum" idx="3"/>
          </p:nvPr>
        </p:nvSpPr>
        <p:spPr/>
        <p:txBody>
          <a:bodyPr/>
          <a:p>
            <a:fld id="{7AF36EA2-BA54-4FD3-86FB-9D85EB3FCBEB}" type="slidenum">
              <a:t>16</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of the MAC Criteria Pugh Matrix Review Process continued...</a:t>
            </a:r>
            <a:endParaRPr b="0" lang="en-US" sz="3200" spc="-1" strike="noStrike">
              <a:solidFill>
                <a:srgbClr val="000000"/>
              </a:solidFill>
              <a:latin typeface="Times New Roman"/>
            </a:endParaRPr>
          </a:p>
        </p:txBody>
      </p:sp>
      <p:sp>
        <p:nvSpPr>
          <p:cNvPr id="99" name=""/>
          <p:cNvSpPr/>
          <p:nvPr/>
        </p:nvSpPr>
        <p:spPr>
          <a:xfrm>
            <a:off x="1981080" y="2057400"/>
            <a:ext cx="5334120" cy="3962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181480" y="2514600"/>
            <a:ext cx="160020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nk Controller</a:t>
            </a:r>
            <a:endParaRPr b="0" lang="en-US" sz="1200" spc="-1" strike="noStrike">
              <a:solidFill>
                <a:srgbClr val="000000"/>
              </a:solidFill>
              <a:latin typeface="Times New Roman"/>
            </a:endParaRPr>
          </a:p>
        </p:txBody>
      </p:sp>
      <p:sp>
        <p:nvSpPr>
          <p:cNvPr id="101" name=""/>
          <p:cNvSpPr/>
          <p:nvPr/>
        </p:nvSpPr>
        <p:spPr>
          <a:xfrm>
            <a:off x="2666880" y="2514600"/>
            <a:ext cx="160020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L Process</a:t>
            </a:r>
            <a:endParaRPr b="0" lang="en-US" sz="1200" spc="-1" strike="noStrike">
              <a:solidFill>
                <a:srgbClr val="000000"/>
              </a:solidFill>
              <a:latin typeface="Times New Roman"/>
            </a:endParaRPr>
          </a:p>
        </p:txBody>
      </p:sp>
      <p:sp>
        <p:nvSpPr>
          <p:cNvPr id="102" name=""/>
          <p:cNvSpPr/>
          <p:nvPr/>
        </p:nvSpPr>
        <p:spPr>
          <a:xfrm>
            <a:off x="2133720" y="3581280"/>
            <a:ext cx="12952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1 TDM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gorithm</a:t>
            </a:r>
            <a:endParaRPr b="0" lang="en-US" sz="1200" spc="-1" strike="noStrike">
              <a:solidFill>
                <a:srgbClr val="000000"/>
              </a:solidFill>
              <a:latin typeface="Times New Roman"/>
            </a:endParaRPr>
          </a:p>
        </p:txBody>
      </p:sp>
      <p:sp>
        <p:nvSpPr>
          <p:cNvPr id="103" name=""/>
          <p:cNvSpPr/>
          <p:nvPr/>
        </p:nvSpPr>
        <p:spPr>
          <a:xfrm>
            <a:off x="3505320" y="3581280"/>
            <a:ext cx="160020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berl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vis/Skellern/Gubbi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aptive TDM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gorithm</a:t>
            </a:r>
            <a:endParaRPr b="0" lang="en-US" sz="1200" spc="-1" strike="noStrike">
              <a:solidFill>
                <a:srgbClr val="000000"/>
              </a:solidFill>
              <a:latin typeface="Times New Roman"/>
            </a:endParaRPr>
          </a:p>
        </p:txBody>
      </p:sp>
      <p:sp>
        <p:nvSpPr>
          <p:cNvPr id="104" name=""/>
          <p:cNvSpPr/>
          <p:nvPr/>
        </p:nvSpPr>
        <p:spPr>
          <a:xfrm>
            <a:off x="1981080" y="4876920"/>
            <a:ext cx="53341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981080" y="5486400"/>
            <a:ext cx="53341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657600" y="5638680"/>
            <a:ext cx="2057400" cy="228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sp>
        <p:nvSpPr>
          <p:cNvPr id="107" name=""/>
          <p:cNvSpPr/>
          <p:nvPr/>
        </p:nvSpPr>
        <p:spPr>
          <a:xfrm>
            <a:off x="3581280" y="5105520"/>
            <a:ext cx="2057400" cy="228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108" name=""/>
          <p:cNvSpPr/>
          <p:nvPr/>
        </p:nvSpPr>
        <p:spPr>
          <a:xfrm flipH="1">
            <a:off x="4267080" y="281952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895480" y="3124080"/>
            <a:ext cx="6098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05320" y="3124080"/>
            <a:ext cx="76176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43600" y="3124080"/>
            <a:ext cx="0" cy="1752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743200" y="4495680"/>
            <a:ext cx="68580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3428640" y="4495680"/>
            <a:ext cx="76212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429000" y="2057400"/>
            <a:ext cx="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6019920" y="2057400"/>
            <a:ext cx="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24080" y="6095880"/>
            <a:ext cx="373392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tential 802.15.1 BasebandReuse decomposition</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Allen Heberling,Eastman Kodak Company</a:t>
            </a:r>
          </a:p>
        </p:txBody>
      </p:sp>
      <p:sp>
        <p:nvSpPr>
          <p:cNvPr id="4" name="PlaceHolder 3"/>
          <p:cNvSpPr>
            <a:spLocks noGrp="1"/>
          </p:cNvSpPr>
          <p:nvPr>
            <p:ph type="sldNum" idx="3"/>
          </p:nvPr>
        </p:nvSpPr>
        <p:spPr/>
        <p:txBody>
          <a:bodyPr/>
          <a:p>
            <a:fld id="{A9B6FE82-736B-4CC4-882E-01934FE98926}" type="slidenum">
              <a:t>17</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of the MAC Criteria Pugh Matrix Review Process continued...</a:t>
            </a:r>
            <a:endParaRPr b="0" lang="en-US" sz="32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ther two proposals(Kinney &amp; Rios) advocate a dual MAC architecture in which 15.1 shares a MAC processor with eith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802.11 “Like” MAC(Kinne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802.11 MAC(Rios) w/  TGe  MAC enhancemen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8EC7B7CB-26B8-473C-9023-124D16B77FB8}" type="slidenum">
              <a:t>1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of the MAC Criteria Pugh Matrix Review Process continued...</a:t>
            </a:r>
            <a:endParaRPr b="0" lang="en-US" sz="3200" spc="-1" strike="noStrike">
              <a:solidFill>
                <a:srgbClr val="000000"/>
              </a:solidFill>
              <a:latin typeface="Times New Roman"/>
            </a:endParaRPr>
          </a:p>
        </p:txBody>
      </p:sp>
      <p:sp>
        <p:nvSpPr>
          <p:cNvPr id="120" name=""/>
          <p:cNvSpPr/>
          <p:nvPr/>
        </p:nvSpPr>
        <p:spPr>
          <a:xfrm>
            <a:off x="533520" y="1981080"/>
            <a:ext cx="7924680" cy="3962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71800" y="6095880"/>
            <a:ext cx="2590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inney Dual MAC Architecture</a:t>
            </a:r>
            <a:endParaRPr b="0" lang="en-US" sz="1200" spc="-1" strike="noStrike">
              <a:solidFill>
                <a:srgbClr val="000000"/>
              </a:solidFill>
              <a:latin typeface="Times New Roman"/>
            </a:endParaRPr>
          </a:p>
        </p:txBody>
      </p:sp>
      <p:grpSp>
        <p:nvGrpSpPr>
          <p:cNvPr id="122" name=""/>
          <p:cNvGrpSpPr/>
          <p:nvPr/>
        </p:nvGrpSpPr>
        <p:grpSpPr>
          <a:xfrm>
            <a:off x="685800" y="1981080"/>
            <a:ext cx="3047760" cy="3962520"/>
            <a:chOff x="685800" y="1981080"/>
            <a:chExt cx="3047760" cy="3962520"/>
          </a:xfrm>
        </p:grpSpPr>
        <p:grpSp>
          <p:nvGrpSpPr>
            <p:cNvPr id="123" name=""/>
            <p:cNvGrpSpPr/>
            <p:nvPr/>
          </p:nvGrpSpPr>
          <p:grpSpPr>
            <a:xfrm>
              <a:off x="1295280" y="1981080"/>
              <a:ext cx="990720" cy="1752840"/>
              <a:chOff x="1295280" y="1981080"/>
              <a:chExt cx="990720" cy="1752840"/>
            </a:xfrm>
          </p:grpSpPr>
          <p:sp>
            <p:nvSpPr>
              <p:cNvPr id="124" name=""/>
              <p:cNvSpPr/>
              <p:nvPr/>
            </p:nvSpPr>
            <p:spPr>
              <a:xfrm>
                <a:off x="1295280" y="2514600"/>
                <a:ext cx="9907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CAP</a:t>
                </a:r>
                <a:endParaRPr b="0" lang="en-US" sz="1200" spc="-1" strike="noStrike">
                  <a:solidFill>
                    <a:srgbClr val="000000"/>
                  </a:solidFill>
                  <a:latin typeface="Times New Roman"/>
                </a:endParaRPr>
              </a:p>
            </p:txBody>
          </p:sp>
          <p:sp>
            <p:nvSpPr>
              <p:cNvPr id="125" name=""/>
              <p:cNvSpPr/>
              <p:nvPr/>
            </p:nvSpPr>
            <p:spPr>
              <a:xfrm>
                <a:off x="1981080" y="32004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1904760" y="198108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2286000" y="1981080"/>
              <a:ext cx="1447560" cy="1752840"/>
              <a:chOff x="2286000" y="1981080"/>
              <a:chExt cx="1447560" cy="1752840"/>
            </a:xfrm>
          </p:grpSpPr>
          <p:sp>
            <p:nvSpPr>
              <p:cNvPr id="128" name=""/>
              <p:cNvSpPr/>
              <p:nvPr/>
            </p:nvSpPr>
            <p:spPr>
              <a:xfrm>
                <a:off x="2743200" y="2514600"/>
                <a:ext cx="990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802.15.1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ME</a:t>
                </a:r>
                <a:endParaRPr b="0" lang="en-US" sz="1200" spc="-1" strike="noStrike">
                  <a:solidFill>
                    <a:srgbClr val="000000"/>
                  </a:solidFill>
                  <a:latin typeface="Times New Roman"/>
                </a:endParaRPr>
              </a:p>
            </p:txBody>
          </p:sp>
          <p:sp>
            <p:nvSpPr>
              <p:cNvPr id="129" name=""/>
              <p:cNvSpPr/>
              <p:nvPr/>
            </p:nvSpPr>
            <p:spPr>
              <a:xfrm>
                <a:off x="3200400" y="32004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3200400" y="198108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286000" y="2895480"/>
                <a:ext cx="457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 name=""/>
            <p:cNvGrpSpPr/>
            <p:nvPr/>
          </p:nvGrpSpPr>
          <p:grpSpPr>
            <a:xfrm>
              <a:off x="685800" y="3733920"/>
              <a:ext cx="2895480" cy="2209680"/>
              <a:chOff x="685800" y="3733920"/>
              <a:chExt cx="2895480" cy="2209680"/>
            </a:xfrm>
          </p:grpSpPr>
          <p:sp>
            <p:nvSpPr>
              <p:cNvPr id="133" name=""/>
              <p:cNvSpPr/>
              <p:nvPr/>
            </p:nvSpPr>
            <p:spPr>
              <a:xfrm>
                <a:off x="1600200" y="3733920"/>
                <a:ext cx="198108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981080" y="52578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3352680" y="52574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33360" y="5562720"/>
                <a:ext cx="1219320" cy="152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x_signal</a:t>
                </a:r>
                <a:endParaRPr b="0" lang="en-US" sz="1200" spc="-1" strike="noStrike">
                  <a:solidFill>
                    <a:srgbClr val="000000"/>
                  </a:solidFill>
                  <a:latin typeface="Times New Roman"/>
                </a:endParaRPr>
              </a:p>
            </p:txBody>
          </p:sp>
          <p:sp>
            <p:nvSpPr>
              <p:cNvPr id="137" name=""/>
              <p:cNvSpPr/>
              <p:nvPr/>
            </p:nvSpPr>
            <p:spPr>
              <a:xfrm>
                <a:off x="685800" y="5486400"/>
                <a:ext cx="1218960" cy="152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x_signal</a:t>
                </a:r>
                <a:endParaRPr b="0" lang="en-US" sz="1200" spc="-1" strike="noStrike">
                  <a:solidFill>
                    <a:srgbClr val="000000"/>
                  </a:solidFill>
                  <a:latin typeface="Times New Roman"/>
                </a:endParaRPr>
              </a:p>
            </p:txBody>
          </p:sp>
          <p:sp>
            <p:nvSpPr>
              <p:cNvPr id="138" name=""/>
              <p:cNvSpPr/>
              <p:nvPr/>
            </p:nvSpPr>
            <p:spPr>
              <a:xfrm flipH="1">
                <a:off x="1599840" y="4343400"/>
                <a:ext cx="1981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599840" y="4800600"/>
                <a:ext cx="1981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981080" y="3962520"/>
                <a:ext cx="1219320" cy="152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1 BaseBand</a:t>
                </a:r>
                <a:endParaRPr b="0" lang="en-US" sz="1200" spc="-1" strike="noStrike">
                  <a:solidFill>
                    <a:srgbClr val="000000"/>
                  </a:solidFill>
                  <a:latin typeface="Times New Roman"/>
                </a:endParaRPr>
              </a:p>
            </p:txBody>
          </p:sp>
          <p:sp>
            <p:nvSpPr>
              <p:cNvPr id="141" name=""/>
              <p:cNvSpPr/>
              <p:nvPr/>
            </p:nvSpPr>
            <p:spPr>
              <a:xfrm>
                <a:off x="1981080" y="4495680"/>
                <a:ext cx="1219320" cy="1526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142" name=""/>
              <p:cNvSpPr/>
              <p:nvPr/>
            </p:nvSpPr>
            <p:spPr>
              <a:xfrm>
                <a:off x="1981080" y="4952880"/>
                <a:ext cx="1219320" cy="1526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grpSp>
      </p:grpSp>
      <p:grpSp>
        <p:nvGrpSpPr>
          <p:cNvPr id="143" name=""/>
          <p:cNvGrpSpPr/>
          <p:nvPr/>
        </p:nvGrpSpPr>
        <p:grpSpPr>
          <a:xfrm>
            <a:off x="4114800" y="1981080"/>
            <a:ext cx="4227480" cy="4038840"/>
            <a:chOff x="4114800" y="1981080"/>
            <a:chExt cx="4227480" cy="4038840"/>
          </a:xfrm>
        </p:grpSpPr>
        <p:grpSp>
          <p:nvGrpSpPr>
            <p:cNvPr id="144" name=""/>
            <p:cNvGrpSpPr/>
            <p:nvPr/>
          </p:nvGrpSpPr>
          <p:grpSpPr>
            <a:xfrm>
              <a:off x="4114800" y="1981080"/>
              <a:ext cx="4227480" cy="4038840"/>
              <a:chOff x="4114800" y="1981080"/>
              <a:chExt cx="4227480" cy="4038840"/>
            </a:xfrm>
          </p:grpSpPr>
          <p:sp>
            <p:nvSpPr>
              <p:cNvPr id="145" name=""/>
              <p:cNvSpPr/>
              <p:nvPr/>
            </p:nvSpPr>
            <p:spPr>
              <a:xfrm>
                <a:off x="4114800" y="2514600"/>
                <a:ext cx="10951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inney MLME</a:t>
                </a:r>
                <a:endParaRPr b="0" lang="en-US" sz="1200" spc="-1" strike="noStrike">
                  <a:solidFill>
                    <a:srgbClr val="000000"/>
                  </a:solidFill>
                  <a:latin typeface="Times New Roman"/>
                </a:endParaRPr>
              </a:p>
            </p:txBody>
          </p:sp>
          <p:sp>
            <p:nvSpPr>
              <p:cNvPr id="146" name=""/>
              <p:cNvSpPr/>
              <p:nvPr/>
            </p:nvSpPr>
            <p:spPr>
              <a:xfrm>
                <a:off x="4620960" y="32004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620960" y="198108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438520" y="2514600"/>
                <a:ext cx="13716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inney MA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Service</a:t>
                </a:r>
                <a:endParaRPr b="0" lang="en-US" sz="1200" spc="-1" strike="noStrike">
                  <a:solidFill>
                    <a:srgbClr val="000000"/>
                  </a:solidFill>
                  <a:latin typeface="Times New Roman"/>
                </a:endParaRPr>
              </a:p>
            </p:txBody>
          </p:sp>
          <p:sp>
            <p:nvSpPr>
              <p:cNvPr id="149" name=""/>
              <p:cNvSpPr/>
              <p:nvPr/>
            </p:nvSpPr>
            <p:spPr>
              <a:xfrm>
                <a:off x="6048360" y="32004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6048360" y="198108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340160" y="3733920"/>
                <a:ext cx="2241360" cy="1576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770360" y="5310360"/>
                <a:ext cx="0" cy="70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6323040" y="5310000"/>
                <a:ext cx="0" cy="70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505560" y="5638680"/>
                <a:ext cx="1379520" cy="15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x_signal</a:t>
                </a:r>
                <a:endParaRPr b="0" lang="en-US" sz="1200" spc="-1" strike="noStrike">
                  <a:solidFill>
                    <a:srgbClr val="000000"/>
                  </a:solidFill>
                  <a:latin typeface="Times New Roman"/>
                </a:endParaRPr>
              </a:p>
            </p:txBody>
          </p:sp>
          <p:sp>
            <p:nvSpPr>
              <p:cNvPr id="155" name=""/>
              <p:cNvSpPr/>
              <p:nvPr/>
            </p:nvSpPr>
            <p:spPr>
              <a:xfrm>
                <a:off x="4829040" y="5638680"/>
                <a:ext cx="1379520" cy="15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x_signal</a:t>
                </a:r>
                <a:endParaRPr b="0" lang="en-US" sz="1200" spc="-1" strike="noStrike">
                  <a:solidFill>
                    <a:srgbClr val="000000"/>
                  </a:solidFill>
                  <a:latin typeface="Times New Roman"/>
                </a:endParaRPr>
              </a:p>
            </p:txBody>
          </p:sp>
          <p:sp>
            <p:nvSpPr>
              <p:cNvPr id="156" name=""/>
              <p:cNvSpPr/>
              <p:nvPr/>
            </p:nvSpPr>
            <p:spPr>
              <a:xfrm flipH="1">
                <a:off x="4340160" y="4363920"/>
                <a:ext cx="2241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770360" y="3970440"/>
                <a:ext cx="1379520" cy="1569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 Like DCF w/ CSM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TS/CTS signals</a:t>
                </a:r>
                <a:endParaRPr b="0" lang="en-US" sz="1200" spc="-1" strike="noStrike">
                  <a:solidFill>
                    <a:srgbClr val="000000"/>
                  </a:solidFill>
                  <a:latin typeface="Times New Roman"/>
                </a:endParaRPr>
              </a:p>
            </p:txBody>
          </p:sp>
          <p:sp>
            <p:nvSpPr>
              <p:cNvPr id="158" name=""/>
              <p:cNvSpPr/>
              <p:nvPr/>
            </p:nvSpPr>
            <p:spPr>
              <a:xfrm>
                <a:off x="4770360" y="4522680"/>
                <a:ext cx="1379520" cy="1573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159" name=""/>
              <p:cNvSpPr/>
              <p:nvPr/>
            </p:nvSpPr>
            <p:spPr>
              <a:xfrm>
                <a:off x="4829040" y="4952880"/>
                <a:ext cx="1379520" cy="1587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sp>
            <p:nvSpPr>
              <p:cNvPr id="160" name=""/>
              <p:cNvSpPr/>
              <p:nvPr/>
            </p:nvSpPr>
            <p:spPr>
              <a:xfrm>
                <a:off x="6657840" y="2362320"/>
                <a:ext cx="609480" cy="2057400"/>
              </a:xfrm>
              <a:custGeom>
                <a:avLst/>
                <a:gdLst>
                  <a:gd name="textAreaLeft" fmla="*/ 0 w 609480"/>
                  <a:gd name="textAreaRight" fmla="*/ 219960 w 6094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191360" y="3048120"/>
                <a:ext cx="11509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inne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Lik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grpSp>
        <p:sp>
          <p:nvSpPr>
            <p:cNvPr id="162" name=""/>
            <p:cNvSpPr/>
            <p:nvPr/>
          </p:nvSpPr>
          <p:spPr>
            <a:xfrm>
              <a:off x="4371840" y="4876920"/>
              <a:ext cx="220968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llen Heberling,Eastman Kodak Company</a:t>
            </a:r>
          </a:p>
        </p:txBody>
      </p:sp>
      <p:sp>
        <p:nvSpPr>
          <p:cNvPr id="4" name="PlaceHolder 3"/>
          <p:cNvSpPr>
            <a:spLocks noGrp="1"/>
          </p:cNvSpPr>
          <p:nvPr>
            <p:ph type="sldNum" idx="3"/>
          </p:nvPr>
        </p:nvSpPr>
        <p:spPr/>
        <p:txBody>
          <a:bodyPr/>
          <a:p>
            <a:fld id="{81640B9B-933B-4BAC-A34C-52FA6F3FFC01}" type="slidenum">
              <a:t>19</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MAC Criteria Pugh Matrix Evaluation Results</a:t>
            </a:r>
            <a:endParaRPr b="0" lang="en-US" sz="32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5D229435-1206-48D6-9513-149287453DF2}"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of the MAC Criteria Pugh Matrix Review Process continued...</a:t>
            </a:r>
            <a:endParaRPr b="0" lang="en-US" sz="3200" spc="-1" strike="noStrike">
              <a:solidFill>
                <a:srgbClr val="000000"/>
              </a:solidFill>
              <a:latin typeface="Times New Roman"/>
            </a:endParaRPr>
          </a:p>
        </p:txBody>
      </p:sp>
      <p:sp>
        <p:nvSpPr>
          <p:cNvPr id="164" name=""/>
          <p:cNvSpPr/>
          <p:nvPr/>
        </p:nvSpPr>
        <p:spPr>
          <a:xfrm flipH="1">
            <a:off x="4540320" y="5065560"/>
            <a:ext cx="2241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200400" y="6172200"/>
            <a:ext cx="23623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os Dual MAC Architecture</a:t>
            </a:r>
            <a:endParaRPr b="0" lang="en-US" sz="1200" spc="-1" strike="noStrike">
              <a:solidFill>
                <a:srgbClr val="000000"/>
              </a:solidFill>
              <a:latin typeface="Times New Roman"/>
            </a:endParaRPr>
          </a:p>
        </p:txBody>
      </p:sp>
      <p:grpSp>
        <p:nvGrpSpPr>
          <p:cNvPr id="166" name=""/>
          <p:cNvGrpSpPr/>
          <p:nvPr/>
        </p:nvGrpSpPr>
        <p:grpSpPr>
          <a:xfrm>
            <a:off x="609480" y="1904760"/>
            <a:ext cx="8076240" cy="4190040"/>
            <a:chOff x="609480" y="1904760"/>
            <a:chExt cx="8076240" cy="4190040"/>
          </a:xfrm>
        </p:grpSpPr>
        <p:sp>
          <p:nvSpPr>
            <p:cNvPr id="167" name=""/>
            <p:cNvSpPr/>
            <p:nvPr/>
          </p:nvSpPr>
          <p:spPr>
            <a:xfrm>
              <a:off x="609480" y="1905120"/>
              <a:ext cx="8069040" cy="4111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764640" y="1904760"/>
              <a:ext cx="3102480" cy="4110840"/>
              <a:chOff x="764640" y="1904760"/>
              <a:chExt cx="3102480" cy="4110840"/>
            </a:xfrm>
          </p:grpSpPr>
          <p:grpSp>
            <p:nvGrpSpPr>
              <p:cNvPr id="169" name=""/>
              <p:cNvGrpSpPr/>
              <p:nvPr/>
            </p:nvGrpSpPr>
            <p:grpSpPr>
              <a:xfrm>
                <a:off x="1384920" y="1904760"/>
                <a:ext cx="1008360" cy="1818360"/>
                <a:chOff x="1384920" y="1904760"/>
                <a:chExt cx="1008360" cy="1818360"/>
              </a:xfrm>
            </p:grpSpPr>
            <p:sp>
              <p:nvSpPr>
                <p:cNvPr id="170" name=""/>
                <p:cNvSpPr/>
                <p:nvPr/>
              </p:nvSpPr>
              <p:spPr>
                <a:xfrm>
                  <a:off x="1384920" y="2458440"/>
                  <a:ext cx="1008360" cy="711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CAP</a:t>
                  </a:r>
                  <a:endParaRPr b="0" lang="en-US" sz="1200" spc="-1" strike="noStrike">
                    <a:solidFill>
                      <a:srgbClr val="000000"/>
                    </a:solidFill>
                    <a:latin typeface="Times New Roman"/>
                  </a:endParaRPr>
                </a:p>
              </p:txBody>
            </p:sp>
            <p:sp>
              <p:nvSpPr>
                <p:cNvPr id="171" name=""/>
                <p:cNvSpPr/>
                <p:nvPr/>
              </p:nvSpPr>
              <p:spPr>
                <a:xfrm>
                  <a:off x="2082960" y="3169800"/>
                  <a:ext cx="0" cy="553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2005200" y="1904760"/>
                  <a:ext cx="0" cy="553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3" name=""/>
              <p:cNvGrpSpPr/>
              <p:nvPr/>
            </p:nvGrpSpPr>
            <p:grpSpPr>
              <a:xfrm>
                <a:off x="2393640" y="1904760"/>
                <a:ext cx="1473480" cy="1818360"/>
                <a:chOff x="2393640" y="1904760"/>
                <a:chExt cx="1473480" cy="1818360"/>
              </a:xfrm>
            </p:grpSpPr>
            <p:sp>
              <p:nvSpPr>
                <p:cNvPr id="174" name=""/>
                <p:cNvSpPr/>
                <p:nvPr/>
              </p:nvSpPr>
              <p:spPr>
                <a:xfrm>
                  <a:off x="2859120" y="2458440"/>
                  <a:ext cx="1008000" cy="711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802.15.1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ME</a:t>
                  </a:r>
                  <a:endParaRPr b="0" lang="en-US" sz="1200" spc="-1" strike="noStrike">
                    <a:solidFill>
                      <a:srgbClr val="000000"/>
                    </a:solidFill>
                    <a:latin typeface="Times New Roman"/>
                  </a:endParaRPr>
                </a:p>
              </p:txBody>
            </p:sp>
            <p:sp>
              <p:nvSpPr>
                <p:cNvPr id="175" name=""/>
                <p:cNvSpPr/>
                <p:nvPr/>
              </p:nvSpPr>
              <p:spPr>
                <a:xfrm>
                  <a:off x="3324600" y="3169800"/>
                  <a:ext cx="0" cy="553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3324600" y="1904760"/>
                  <a:ext cx="0" cy="553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393640" y="2853360"/>
                  <a:ext cx="465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764640" y="3723480"/>
                <a:ext cx="2947680" cy="2292120"/>
                <a:chOff x="764640" y="3723480"/>
                <a:chExt cx="2947680" cy="2292120"/>
              </a:xfrm>
            </p:grpSpPr>
            <p:sp>
              <p:nvSpPr>
                <p:cNvPr id="179" name=""/>
                <p:cNvSpPr/>
                <p:nvPr/>
              </p:nvSpPr>
              <p:spPr>
                <a:xfrm>
                  <a:off x="1695600" y="3723480"/>
                  <a:ext cx="2016720" cy="1580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083320" y="5304240"/>
                  <a:ext cx="0" cy="71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3479760" y="5304240"/>
                  <a:ext cx="0" cy="71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38120" y="5620680"/>
                  <a:ext cx="1241280" cy="157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x_signal</a:t>
                  </a:r>
                  <a:endParaRPr b="0" lang="en-US" sz="1200" spc="-1" strike="noStrike">
                    <a:solidFill>
                      <a:srgbClr val="000000"/>
                    </a:solidFill>
                    <a:latin typeface="Times New Roman"/>
                  </a:endParaRPr>
                </a:p>
              </p:txBody>
            </p:sp>
            <p:sp>
              <p:nvSpPr>
                <p:cNvPr id="183" name=""/>
                <p:cNvSpPr/>
                <p:nvPr/>
              </p:nvSpPr>
              <p:spPr>
                <a:xfrm>
                  <a:off x="764640" y="5541480"/>
                  <a:ext cx="1240920" cy="157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x_signal</a:t>
                  </a:r>
                  <a:endParaRPr b="0" lang="en-US" sz="1200" spc="-1" strike="noStrike">
                    <a:solidFill>
                      <a:srgbClr val="000000"/>
                    </a:solidFill>
                    <a:latin typeface="Times New Roman"/>
                  </a:endParaRPr>
                </a:p>
              </p:txBody>
            </p:sp>
            <p:sp>
              <p:nvSpPr>
                <p:cNvPr id="184" name=""/>
                <p:cNvSpPr/>
                <p:nvPr/>
              </p:nvSpPr>
              <p:spPr>
                <a:xfrm flipH="1">
                  <a:off x="1695600" y="4355640"/>
                  <a:ext cx="2016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1695600" y="4830120"/>
                  <a:ext cx="2016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083320" y="3960360"/>
                  <a:ext cx="1241280" cy="157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1 BaseBand</a:t>
                  </a:r>
                  <a:endParaRPr b="0" lang="en-US" sz="1200" spc="-1" strike="noStrike">
                    <a:solidFill>
                      <a:srgbClr val="000000"/>
                    </a:solidFill>
                    <a:latin typeface="Times New Roman"/>
                  </a:endParaRPr>
                </a:p>
              </p:txBody>
            </p:sp>
            <p:sp>
              <p:nvSpPr>
                <p:cNvPr id="187" name=""/>
                <p:cNvSpPr/>
                <p:nvPr/>
              </p:nvSpPr>
              <p:spPr>
                <a:xfrm>
                  <a:off x="2083320" y="4513680"/>
                  <a:ext cx="1241280" cy="158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188" name=""/>
                <p:cNvSpPr/>
                <p:nvPr/>
              </p:nvSpPr>
              <p:spPr>
                <a:xfrm>
                  <a:off x="2083320" y="4987800"/>
                  <a:ext cx="1241280" cy="158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grpSp>
        </p:grpSp>
        <p:grpSp>
          <p:nvGrpSpPr>
            <p:cNvPr id="189" name=""/>
            <p:cNvGrpSpPr/>
            <p:nvPr/>
          </p:nvGrpSpPr>
          <p:grpSpPr>
            <a:xfrm>
              <a:off x="4382280" y="1904760"/>
              <a:ext cx="4303440" cy="4190040"/>
              <a:chOff x="4382280" y="1904760"/>
              <a:chExt cx="4303440" cy="4190040"/>
            </a:xfrm>
          </p:grpSpPr>
          <p:grpSp>
            <p:nvGrpSpPr>
              <p:cNvPr id="190" name=""/>
              <p:cNvGrpSpPr/>
              <p:nvPr/>
            </p:nvGrpSpPr>
            <p:grpSpPr>
              <a:xfrm>
                <a:off x="4382280" y="1904760"/>
                <a:ext cx="4303440" cy="4190040"/>
                <a:chOff x="4382280" y="1904760"/>
                <a:chExt cx="4303440" cy="4190040"/>
              </a:xfrm>
            </p:grpSpPr>
            <p:sp>
              <p:nvSpPr>
                <p:cNvPr id="191" name=""/>
                <p:cNvSpPr/>
                <p:nvPr/>
              </p:nvSpPr>
              <p:spPr>
                <a:xfrm>
                  <a:off x="4382280" y="2458440"/>
                  <a:ext cx="1114560" cy="711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 MLME</a:t>
                  </a:r>
                  <a:endParaRPr b="0" lang="en-US" sz="1200" spc="-1" strike="noStrike">
                    <a:solidFill>
                      <a:srgbClr val="000000"/>
                    </a:solidFill>
                    <a:latin typeface="Times New Roman"/>
                  </a:endParaRPr>
                </a:p>
              </p:txBody>
            </p:sp>
            <p:sp>
              <p:nvSpPr>
                <p:cNvPr id="192" name=""/>
                <p:cNvSpPr/>
                <p:nvPr/>
              </p:nvSpPr>
              <p:spPr>
                <a:xfrm>
                  <a:off x="4897440" y="3169800"/>
                  <a:ext cx="0" cy="553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4897440" y="1904760"/>
                  <a:ext cx="0" cy="553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729760" y="2458440"/>
                  <a:ext cx="1396080" cy="711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 MA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Service</a:t>
                  </a:r>
                  <a:endParaRPr b="0" lang="en-US" sz="1200" spc="-1" strike="noStrike">
                    <a:solidFill>
                      <a:srgbClr val="000000"/>
                    </a:solidFill>
                    <a:latin typeface="Times New Roman"/>
                  </a:endParaRPr>
                </a:p>
              </p:txBody>
            </p:sp>
            <p:sp>
              <p:nvSpPr>
                <p:cNvPr id="195" name=""/>
                <p:cNvSpPr/>
                <p:nvPr/>
              </p:nvSpPr>
              <p:spPr>
                <a:xfrm>
                  <a:off x="6350400" y="3169800"/>
                  <a:ext cx="0" cy="553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6350400" y="1904760"/>
                  <a:ext cx="0" cy="553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11600" y="3723480"/>
                  <a:ext cx="2281680" cy="1635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5049360" y="5358960"/>
                  <a:ext cx="0" cy="73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6630120" y="5358960"/>
                  <a:ext cx="0" cy="73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815880" y="5699520"/>
                  <a:ext cx="1404360" cy="163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x_signal</a:t>
                  </a:r>
                  <a:endParaRPr b="0" lang="en-US" sz="1200" spc="-1" strike="noStrike">
                    <a:solidFill>
                      <a:srgbClr val="000000"/>
                    </a:solidFill>
                    <a:latin typeface="Times New Roman"/>
                  </a:endParaRPr>
                </a:p>
              </p:txBody>
            </p:sp>
            <p:sp>
              <p:nvSpPr>
                <p:cNvPr id="201" name=""/>
                <p:cNvSpPr/>
                <p:nvPr/>
              </p:nvSpPr>
              <p:spPr>
                <a:xfrm>
                  <a:off x="5109120" y="5699520"/>
                  <a:ext cx="1404360" cy="163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x_signal</a:t>
                  </a:r>
                  <a:endParaRPr b="0" lang="en-US" sz="1200" spc="-1" strike="noStrike">
                    <a:solidFill>
                      <a:srgbClr val="000000"/>
                    </a:solidFill>
                    <a:latin typeface="Times New Roman"/>
                  </a:endParaRPr>
                </a:p>
              </p:txBody>
            </p:sp>
            <p:sp>
              <p:nvSpPr>
                <p:cNvPr id="202" name=""/>
                <p:cNvSpPr/>
                <p:nvPr/>
              </p:nvSpPr>
              <p:spPr>
                <a:xfrm flipH="1">
                  <a:off x="4611600" y="4376880"/>
                  <a:ext cx="22816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049360" y="3968640"/>
                  <a:ext cx="1404360" cy="1627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DCF/PCF w Tg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hancements</a:t>
                  </a:r>
                  <a:endParaRPr b="0" lang="en-US" sz="1200" spc="-1" strike="noStrike">
                    <a:solidFill>
                      <a:srgbClr val="000000"/>
                    </a:solidFill>
                    <a:latin typeface="Times New Roman"/>
                  </a:endParaRPr>
                </a:p>
              </p:txBody>
            </p:sp>
            <p:sp>
              <p:nvSpPr>
                <p:cNvPr id="204" name=""/>
                <p:cNvSpPr/>
                <p:nvPr/>
              </p:nvSpPr>
              <p:spPr>
                <a:xfrm>
                  <a:off x="5049360" y="4541760"/>
                  <a:ext cx="1404360" cy="1630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205" name=""/>
                <p:cNvSpPr/>
                <p:nvPr/>
              </p:nvSpPr>
              <p:spPr>
                <a:xfrm>
                  <a:off x="5109120" y="4988160"/>
                  <a:ext cx="1404360" cy="164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sp>
              <p:nvSpPr>
                <p:cNvPr id="206" name=""/>
                <p:cNvSpPr/>
                <p:nvPr/>
              </p:nvSpPr>
              <p:spPr>
                <a:xfrm>
                  <a:off x="6971040" y="2300400"/>
                  <a:ext cx="620280" cy="2134080"/>
                </a:xfrm>
                <a:custGeom>
                  <a:avLst/>
                  <a:gdLst>
                    <a:gd name="textAreaLeft" fmla="*/ 0 w 620280"/>
                    <a:gd name="textAreaRight" fmla="*/ 223920 w 620280"/>
                    <a:gd name="textAreaTop" fmla="*/ 55440 h 2134080"/>
                    <a:gd name="textAreaBottom" fmla="*/ 2078640 h 213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514280" y="3011760"/>
                  <a:ext cx="1171440" cy="63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 MAC</a:t>
                  </a:r>
                  <a:endParaRPr b="0" lang="en-US" sz="1200" spc="-1" strike="noStrike">
                    <a:solidFill>
                      <a:srgbClr val="000000"/>
                    </a:solidFill>
                    <a:latin typeface="Times New Roman"/>
                  </a:endParaRPr>
                </a:p>
              </p:txBody>
            </p:sp>
          </p:grpSp>
          <p:sp>
            <p:nvSpPr>
              <p:cNvPr id="208" name=""/>
              <p:cNvSpPr/>
              <p:nvPr/>
            </p:nvSpPr>
            <p:spPr>
              <a:xfrm>
                <a:off x="4643640" y="4909320"/>
                <a:ext cx="224964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Allen Heberling,Eastman Kodak Company</a:t>
            </a:r>
          </a:p>
        </p:txBody>
      </p:sp>
      <p:sp>
        <p:nvSpPr>
          <p:cNvPr id="4" name="PlaceHolder 3"/>
          <p:cNvSpPr>
            <a:spLocks noGrp="1"/>
          </p:cNvSpPr>
          <p:nvPr>
            <p:ph type="sldNum" idx="3"/>
          </p:nvPr>
        </p:nvSpPr>
        <p:spPr/>
        <p:txBody>
          <a:bodyPr/>
          <a:p>
            <a:fld id="{3E1832D2-1777-435F-9965-F60DAA28E3D1}" type="slidenum">
              <a:t>20</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762120"/>
            <a:ext cx="8534160" cy="5524560"/>
          </a:xfrm>
          <a:prstGeom prst="rect">
            <a:avLst/>
          </a:prstGeom>
          <a:ln w="0">
            <a:noFill/>
          </a:ln>
        </p:spPr>
      </p:pic>
      <p:sp>
        <p:nvSpPr>
          <p:cNvPr id="2" name="PlaceHolder 1"/>
          <p:cNvSpPr>
            <a:spLocks noGrp="1"/>
          </p:cNvSpPr>
          <p:nvPr>
            <p:ph type="ftr" idx="2"/>
          </p:nvPr>
        </p:nvSpPr>
        <p:spPr/>
        <p:txBody>
          <a:bodyPr/>
          <a:p>
            <a:r>
              <a:t>Allen Heberling,Eastman Kodak Company</a:t>
            </a:r>
          </a:p>
        </p:txBody>
      </p:sp>
      <p:sp>
        <p:nvSpPr>
          <p:cNvPr id="3" name="PlaceHolder 2"/>
          <p:cNvSpPr>
            <a:spLocks noGrp="1"/>
          </p:cNvSpPr>
          <p:nvPr>
            <p:ph type="sldNum" idx="3"/>
          </p:nvPr>
        </p:nvSpPr>
        <p:spPr/>
        <p:txBody>
          <a:bodyPr/>
          <a:p>
            <a:fld id="{9A6C899F-23AC-4BE5-9334-EC9CB5E5DF59}" type="slidenum">
              <a:t>21</a:t>
            </a:fld>
          </a:p>
        </p:txBody>
      </p:sp>
      <p:sp>
        <p:nvSpPr>
          <p:cNvPr id="4" name="PlaceHolder 3"/>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Results</a:t>
            </a:r>
            <a:endParaRPr b="0"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subcommittee still needs to clarify and evaluate these MAC crite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Network Join/Unjoin proced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registr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gh Matrix Summary indicates that all 4 proposals are close in their unweighted evalua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C5EEEFDD-25FB-4983-BB1F-3FAEA95E6213}" type="slidenum">
              <a:t>2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Results continued...</a:t>
            </a:r>
            <a:endParaRPr b="0" lang="en-US" sz="32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gh Matrix results indicate that distinctions among the 4 MAC proposals become apparent when the weighting factors are includ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berling proposal lost 6 points for having a Power Management Type which was the same as 802.15.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359C91B1-BD33-4281-8993-35E792F4252E}" type="slidenum">
              <a:t>2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Results continued...</a:t>
            </a:r>
            <a:endParaRPr b="0" lang="en-US" sz="32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ney proposal lost 5.5 weighted points for Data Transfer Types and 6.2 weighted points for not providing sufficient support for Q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os proposal lost 8 weighted points for Unit Manufacturing Cos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53A2A6F8-4E91-465E-B9EE-9E5A604C5E99}" type="slidenum">
              <a:t>2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gh Matrix process provided a framework within which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the submitted MAC propos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each MAC proposer’s self evaluation criteria rat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riteria needing clar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riteria which are dependent upon MAC/PHY pairing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A4B571F3-9353-4D77-B889-71562984BEEF}" type="slidenum">
              <a:t>2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C proposals have been reduced to two class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802.15.1 Reuse with the addition of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berling proposed adaptive TDMA access algorithm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 Gubbi proposed adaptive TDMA access algorithm per the Davis/Skellern MAC propos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31B37528-E823-4C74-96FD-D57635E30236}" type="slidenum">
              <a:t>2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al MAC architecture in which 802.15.1 MAC shares MAC processor resources with eithe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802.11 “Like” MAC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802.11 MAC w/ TGe multi-media enhancemen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6D5E6F4E-553E-45B0-8134-260EBC173864}" type="slidenum">
              <a:t>2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3 MAC Proposers and Proposal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 Use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Proces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Result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53D2F6DF-66EB-4A82-90CF-37A8581A96FC}"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Subcommittee Participants</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de Courvil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ter Davis/Rajugopal Gubb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en Heber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Kinney/ Joe Kubl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los Ri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Skeller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B15078A8-4550-4FC4-A433-BAC2982F4EF5}"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MAC Proposal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s: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oc: 208r1 and 209r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Courville</a:t>
            </a:r>
            <a:r>
              <a:rPr b="0" lang="en-US" sz="3200" spc="-1" strike="noStrike">
                <a:solidFill>
                  <a:srgbClr val="000000"/>
                </a:solidFill>
                <a:latin typeface="Arial"/>
              </a:rPr>
              <a:t>	</a:t>
            </a:r>
            <a:r>
              <a:rPr b="0" lang="en-US" sz="3200" spc="-1" strike="noStrike">
                <a:solidFill>
                  <a:srgbClr val="000000"/>
                </a:solidFill>
                <a:latin typeface="Arial"/>
              </a:rPr>
              <a:t>doc: 128r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berling: </a:t>
            </a:r>
            <a:r>
              <a:rPr b="0" lang="en-US" sz="3200" spc="-1" strike="noStrike">
                <a:solidFill>
                  <a:srgbClr val="000000"/>
                </a:solidFill>
                <a:latin typeface="Arial"/>
              </a:rPr>
              <a:t>	</a:t>
            </a:r>
            <a:r>
              <a:rPr b="0" lang="en-US" sz="3200" spc="-1" strike="noStrike">
                <a:solidFill>
                  <a:srgbClr val="000000"/>
                </a:solidFill>
                <a:latin typeface="Arial"/>
              </a:rPr>
              <a:t>doc: 212r0 and 213r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ne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oc:  208r0 &amp; 218r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o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oc: 197r1 &amp; 198r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ellern:</a:t>
            </a:r>
            <a:r>
              <a:rPr b="0" lang="en-US" sz="3200" spc="-1" strike="noStrike">
                <a:solidFill>
                  <a:srgbClr val="000000"/>
                </a:solidFill>
                <a:latin typeface="Arial"/>
              </a:rPr>
              <a:t>	</a:t>
            </a:r>
            <a:r>
              <a:rPr b="0" lang="en-US" sz="3200" spc="-1" strike="noStrike">
                <a:solidFill>
                  <a:srgbClr val="000000"/>
                </a:solidFill>
                <a:latin typeface="Arial"/>
              </a:rPr>
              <a:t>doc: 196r0 &amp; 196r1</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9FB2228F-26F7-495D-A9D3-8148868DF257}" type="slidenum">
              <a:t>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Document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 110r(11&amp;12) TG3-Criteria-Defin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 245r8  TG3-Proposal-Evaluat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2F40CC96-E47D-4493-8E8B-278CCE93706E}" type="slidenum">
              <a:t>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Process</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rs submitted MAC criteria Pugh Matrix Self Evaluation sheet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were entered into MAC subcommittee’s MAC criteria work sheet in doc: 245rx</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rs and other interested parties participated in weekly teleconference calls which started 8/2 and concluded 9/15.</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on averaged 17 802.15 members per cal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FB234342-E244-4A19-A640-1B69D0B3A661}" type="slidenum">
              <a:t>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Process Continued</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of MAC subcommittee conference-calls:</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peer review challenges to each proposer’s MAC criteria self evaluation ratings.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ach consensus by the subcommittee regarding which value should be assigned to each proposer’s MAC criterion evaluation.</a:t>
            </a:r>
            <a:endParaRPr b="0" lang="en-US" sz="2800" spc="-1" strike="noStrike">
              <a:solidFill>
                <a:srgbClr val="000000"/>
              </a:solidFill>
              <a:latin typeface="Arial"/>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0C3DBD9A-DCF5-4EFF-BC4E-92CD1EB7618B}" type="slidenum">
              <a:t>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Process Continued</a:t>
            </a:r>
            <a:endParaRPr b="0"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ide clarifications to the MAC criteria definitions defined in doc: 110r1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MAC subcommittee identified criteria that were:</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 dependent,</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R </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ly defined.</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Eastman Kodak Company</a:t>
            </a:r>
          </a:p>
        </p:txBody>
      </p:sp>
      <p:sp>
        <p:nvSpPr>
          <p:cNvPr id="5" name="PlaceHolder 4"/>
          <p:cNvSpPr>
            <a:spLocks noGrp="1"/>
          </p:cNvSpPr>
          <p:nvPr>
            <p:ph type="sldNum" idx="3"/>
          </p:nvPr>
        </p:nvSpPr>
        <p:spPr/>
        <p:txBody>
          <a:bodyPr/>
          <a:p>
            <a:fld id="{29720A7A-4043-4AD1-82F0-5970BA7B552D}" type="slidenum">
              <a:t>9</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05:17:09Z</dcterms:created>
  <dc:creator>Allen D. Heberling</dc:creator>
  <dc:description>00292r0</dc:description>
  <dc:language>en-US</dc:language>
  <cp:lastModifiedBy>Allen Heberling</cp:lastModifiedBy>
  <cp:lastPrinted>2000-07-29T16:32:21Z</cp:lastPrinted>
  <dcterms:modified xsi:type="dcterms:W3CDTF">2000-09-18T18:57:59Z</dcterms:modified>
  <cp:revision>77</cp:revision>
  <dc:subject/>
  <dc:title>TG3-MAC-Criteria-Pugh-Matrix-Evaluation-Results</dc:title>
</cp:coreProperties>
</file>