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4240" y="8852040"/>
            <a:ext cx="70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0080" y="8850240"/>
            <a:ext cx="539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5560" y="291960"/>
            <a:ext cx="55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3F8F6-88DA-434C-A499-7EF6AE8E75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A078C-B7F5-4C70-B1FD-30723C9D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5A558-EB2D-42FA-AF9D-70CDE86B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1866-6084-4683-BCE3-946D3044CE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69986-5582-44DB-BC46-CC7ACA62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1F9F8-A006-4E8B-B565-75C2DF05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C402-7B6F-4C06-82D9-D3B046A8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8D82B-185F-4BF6-9D07-F7FE549A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9670F-EFD2-4459-BC57-855A7954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3D669-0DA2-4A7D-B63F-5B5A8E63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39329-052F-4163-BE74-94732FDB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CEE2A-F27B-4393-92FB-A06A10E6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180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01640" y="609480"/>
            <a:ext cx="774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1640" y="6477120"/>
            <a:ext cx="78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3808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809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07BE-AA12-45B3-B44D-D1D8EAB5F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79320" y="386640"/>
            <a:ext cx="1613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95600" y="646920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79920" y="6469200"/>
            <a:ext cx="313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9400" y="984240"/>
            <a:ext cx="9001080" cy="50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: IEEE P802.15 Working Group for Wireless Personal Area Networks (WP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mission Titl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TG3 Evaluation Process Flow Chart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 Submitted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3 July 2000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James D. Allen] Company [Eastman Kodak Co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ress [66 Eastman Ave.  Rochester, NY  14650-201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ice:[(716) 227-6346], FAX: [(716) 722-9053], E-Mail:[james.d .allen@kodak.com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Call for Proposal Evaluation.ref 00110r10P802.15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[Proposal Eval Form.ref 00226r2P802.15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[Pugh Selection Process Clarification.ref 00230r0P802.1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Flow chart of how the criteria will be used to evaluate proposal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This document communicates the results of TG3 discussions on how to evaluate the proposal submissions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cument has been prepared to assist the IEEE P802.15.  It is offered as a basis for discussion and is not binding on the contributing individu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) or organization(s). The material in this document is subject to change in form and content after further study. The contributor(s) reserve(s) the right to add, amend or withdraw material contained here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ea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ontributor acknowledges and accepts that this contribution becomes the property of IEEE and may be made publicly available by P802.15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79320" y="386640"/>
            <a:ext cx="1613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95600" y="646920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79920" y="6469200"/>
            <a:ext cx="313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ss Flow Char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5.3  Proposal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79320" y="386640"/>
            <a:ext cx="1613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95600" y="646920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79920" y="6469200"/>
            <a:ext cx="313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cess was designed around several concerns expressed by TG participan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concepts to merge and optimiz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hear all presentations before vote even if materials are available in advance (Q/A ses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duce number of options quickly and fai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use TG3’s joint expertise effici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be able to consider new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have a streamlined process compatible with informed voters, short schedules and conferenc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prevent getting lost in the process rather than focused on the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16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95600" y="647532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6765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 evaluation submission for vo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in evaluation “scores” in 00226r2P802-15_TG3-Proposal-Eval-Form (in the Excel file).   Unknowns = “Sa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me the file according to the following conven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226r2P802-15_TG3-&lt;last name first initial&gt; (no spac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00226r2P802-15_TG3-evan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3640" y="816120"/>
            <a:ext cx="73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 - Process details - July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uly 21, midnight EDT, email the file as an attachment to the following address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es.d.allen@kodak.c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Nick.Evans@motorola.c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kinneypw@norand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will be posted to web and notification will be sent to List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38016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95600" y="647532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1832040"/>
            <a:ext cx="0" cy="43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83720" y="839880"/>
            <a:ext cx="550332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s Document Number if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ies Format and Copyright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s for meeting PAR- do not assign number if doc does not meet intent of  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s for Self Rating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slot in July  cale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Alfvin or Gifford for web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ward presentations to Gifford for po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 Submitter of presentation date/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request any missing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s Chair on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ll presentations and support document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on or  before July 7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80880" y="3962520"/>
            <a:ext cx="1525680" cy="839520"/>
            <a:chOff x="380880" y="3962520"/>
            <a:chExt cx="1525680" cy="839520"/>
          </a:xfrm>
        </p:grpSpPr>
        <p:sp>
          <p:nvSpPr>
            <p:cNvPr id="74" name=""/>
            <p:cNvSpPr/>
            <p:nvPr/>
          </p:nvSpPr>
          <p:spPr>
            <a:xfrm>
              <a:off x="380880" y="3962520"/>
              <a:ext cx="1525680" cy="83952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9520" y="401472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valuation workshe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re passed out @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uly Mee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03160" y="3813120"/>
            <a:ext cx="471384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One Pugh matrix per submission is passe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o each voter before each presentatio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aluation is for “first order” ranking of sub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ers may evaluate a presentation only if they are present for the se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session my hav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present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on sheets are handed in at end of each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note: Retext has chang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80880" y="914400"/>
            <a:ext cx="1524240" cy="914400"/>
            <a:chOff x="380880" y="914400"/>
            <a:chExt cx="1524240" cy="914400"/>
          </a:xfrm>
        </p:grpSpPr>
        <p:sp>
          <p:nvSpPr>
            <p:cNvPr id="78" name=""/>
            <p:cNvSpPr/>
            <p:nvPr/>
          </p:nvSpPr>
          <p:spPr>
            <a:xfrm>
              <a:off x="380880" y="914400"/>
              <a:ext cx="1524240" cy="914400"/>
            </a:xfrm>
            <a:custGeom>
              <a:avLst/>
              <a:gdLst/>
              <a:ahLst/>
              <a:rect l="l" t="t" r="r" b="b"/>
              <a:pathLst>
                <a:path w="960" h="576">
                  <a:moveTo>
                    <a:pt x="71" y="0"/>
                  </a:moveTo>
                  <a:lnTo>
                    <a:pt x="58" y="1"/>
                  </a:lnTo>
                  <a:lnTo>
                    <a:pt x="44" y="5"/>
                  </a:lnTo>
                  <a:lnTo>
                    <a:pt x="33" y="12"/>
                  </a:lnTo>
                  <a:lnTo>
                    <a:pt x="21" y="22"/>
                  </a:lnTo>
                  <a:lnTo>
                    <a:pt x="12" y="31"/>
                  </a:lnTo>
                  <a:lnTo>
                    <a:pt x="6" y="44"/>
                  </a:lnTo>
                  <a:lnTo>
                    <a:pt x="2" y="57"/>
                  </a:lnTo>
                  <a:lnTo>
                    <a:pt x="0" y="72"/>
                  </a:lnTo>
                  <a:lnTo>
                    <a:pt x="0" y="503"/>
                  </a:lnTo>
                  <a:lnTo>
                    <a:pt x="2" y="518"/>
                  </a:lnTo>
                  <a:lnTo>
                    <a:pt x="6" y="531"/>
                  </a:lnTo>
                  <a:lnTo>
                    <a:pt x="12" y="544"/>
                  </a:lnTo>
                  <a:lnTo>
                    <a:pt x="21" y="555"/>
                  </a:lnTo>
                  <a:lnTo>
                    <a:pt x="33" y="562"/>
                  </a:lnTo>
                  <a:lnTo>
                    <a:pt x="44" y="570"/>
                  </a:lnTo>
                  <a:lnTo>
                    <a:pt x="58" y="573"/>
                  </a:lnTo>
                  <a:lnTo>
                    <a:pt x="71" y="575"/>
                  </a:lnTo>
                  <a:lnTo>
                    <a:pt x="888" y="575"/>
                  </a:lnTo>
                  <a:lnTo>
                    <a:pt x="903" y="573"/>
                  </a:lnTo>
                  <a:lnTo>
                    <a:pt x="917" y="570"/>
                  </a:lnTo>
                  <a:lnTo>
                    <a:pt x="928" y="562"/>
                  </a:lnTo>
                  <a:lnTo>
                    <a:pt x="938" y="555"/>
                  </a:lnTo>
                  <a:lnTo>
                    <a:pt x="948" y="544"/>
                  </a:lnTo>
                  <a:lnTo>
                    <a:pt x="953" y="531"/>
                  </a:lnTo>
                  <a:lnTo>
                    <a:pt x="957" y="518"/>
                  </a:lnTo>
                  <a:lnTo>
                    <a:pt x="959" y="503"/>
                  </a:lnTo>
                  <a:lnTo>
                    <a:pt x="959" y="72"/>
                  </a:lnTo>
                  <a:lnTo>
                    <a:pt x="957" y="57"/>
                  </a:lnTo>
                  <a:lnTo>
                    <a:pt x="953" y="44"/>
                  </a:lnTo>
                  <a:lnTo>
                    <a:pt x="948" y="31"/>
                  </a:lnTo>
                  <a:lnTo>
                    <a:pt x="938" y="22"/>
                  </a:lnTo>
                  <a:lnTo>
                    <a:pt x="928" y="12"/>
                  </a:lnTo>
                  <a:lnTo>
                    <a:pt x="917" y="5"/>
                  </a:lnTo>
                  <a:lnTo>
                    <a:pt x="903" y="1"/>
                  </a:lnTo>
                  <a:lnTo>
                    <a:pt x="888" y="0"/>
                  </a:lnTo>
                  <a:lnTo>
                    <a:pt x="71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9760" y="996840"/>
              <a:ext cx="12664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ubmission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G3 Secretary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py to Cha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80880" y="5029200"/>
            <a:ext cx="1525680" cy="839880"/>
            <a:chOff x="380880" y="5029200"/>
            <a:chExt cx="1525680" cy="839880"/>
          </a:xfrm>
        </p:grpSpPr>
        <p:sp>
          <p:nvSpPr>
            <p:cNvPr id="81" name=""/>
            <p:cNvSpPr/>
            <p:nvPr/>
          </p:nvSpPr>
          <p:spPr>
            <a:xfrm>
              <a:off x="380880" y="5029200"/>
              <a:ext cx="1525680" cy="83988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9520" y="508176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mitter Pres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t July IEEE Mee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20760" y="3581280"/>
            <a:ext cx="1114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3080" y="3430440"/>
            <a:ext cx="1819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July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38016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95600" y="647532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853920"/>
            <a:ext cx="0" cy="553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80880" y="2743200"/>
            <a:ext cx="1525680" cy="763560"/>
            <a:chOff x="380880" y="2743200"/>
            <a:chExt cx="1525680" cy="763560"/>
          </a:xfrm>
        </p:grpSpPr>
        <p:sp>
          <p:nvSpPr>
            <p:cNvPr id="90" name=""/>
            <p:cNvSpPr/>
            <p:nvPr/>
          </p:nvSpPr>
          <p:spPr>
            <a:xfrm>
              <a:off x="380880" y="2743200"/>
              <a:ext cx="1525680" cy="763560"/>
            </a:xfrm>
            <a:custGeom>
              <a:avLst/>
              <a:gdLst/>
              <a:ahLst/>
              <a:rect l="l" t="t" r="r" b="b"/>
              <a:pathLst>
                <a:path w="961" h="481">
                  <a:moveTo>
                    <a:pt x="0" y="0"/>
                  </a:moveTo>
                  <a:lnTo>
                    <a:pt x="0" y="480"/>
                  </a:lnTo>
                  <a:lnTo>
                    <a:pt x="960" y="480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9520" y="2795760"/>
              <a:ext cx="132696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teria Chan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d Con Call Pla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603520" y="2668680"/>
            <a:ext cx="58705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any proposals to change 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e on changes Thursday - has to be during ope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reassessment of any new criteria proposed by any sub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 Con Call  discussion schedule (week following July mee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e to enable TG3 to make binding decisions at September interim meeting if quorum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4267080"/>
            <a:ext cx="1525680" cy="839880"/>
            <a:chOff x="380880" y="4267080"/>
            <a:chExt cx="1525680" cy="839880"/>
          </a:xfrm>
        </p:grpSpPr>
        <p:sp>
          <p:nvSpPr>
            <p:cNvPr id="94" name=""/>
            <p:cNvSpPr/>
            <p:nvPr/>
          </p:nvSpPr>
          <p:spPr>
            <a:xfrm>
              <a:off x="380880" y="4267080"/>
              <a:ext cx="1525680" cy="83988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9520" y="431964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ference C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alysis Cyc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592360" y="4116240"/>
            <a:ext cx="655020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Proposal eval files submitted by July 28, midnight E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Proposals are put in order of rating; results compiled and reported before Aug 1st conferenc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Order will determine evaluation order (time to hear, think, discuss is needed prior to a first sort vo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erence Call discussions of all propos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n filling in matrix, asking ques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on sequence is in order of ranking v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gh “+same-” evaluation will be 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Mac and PHY separate- each containing Systems sections and combinations or 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proposals to encourage best solution for final proposal - Activated Phy Mac Sys Committ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c or PHY exist alone.  PHY-only  or Mac-only submissions must be paired for final vote in S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Pugh to combine best MACs and PHY comb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990720"/>
            <a:ext cx="1525680" cy="839520"/>
            <a:chOff x="380880" y="990720"/>
            <a:chExt cx="1525680" cy="839520"/>
          </a:xfrm>
        </p:grpSpPr>
        <p:sp>
          <p:nvSpPr>
            <p:cNvPr id="98" name=""/>
            <p:cNvSpPr/>
            <p:nvPr/>
          </p:nvSpPr>
          <p:spPr>
            <a:xfrm>
              <a:off x="380880" y="990720"/>
              <a:ext cx="1525680" cy="83952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9520" y="104292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ank ord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l Present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612160" y="963720"/>
            <a:ext cx="571644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ers rate relative (+,same,-) for each criteria during prese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ers to convert self rating details to general Pugh ra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ing is applied in Pugh tool to help separate criteria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value for each criteria item used as reference (all proposals rated relative to th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se values are from P802.15-00/110r10 or abov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760" y="3962520"/>
            <a:ext cx="1114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0440" y="3848040"/>
            <a:ext cx="142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July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38016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95600" y="647532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777960"/>
            <a:ext cx="0" cy="4619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0880" y="1981080"/>
            <a:ext cx="1525680" cy="839880"/>
            <a:chOff x="380880" y="1981080"/>
            <a:chExt cx="1525680" cy="839880"/>
          </a:xfrm>
        </p:grpSpPr>
        <p:sp>
          <p:nvSpPr>
            <p:cNvPr id="108" name=""/>
            <p:cNvSpPr/>
            <p:nvPr/>
          </p:nvSpPr>
          <p:spPr>
            <a:xfrm>
              <a:off x="380880" y="1981080"/>
              <a:ext cx="1525680" cy="83988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9520" y="203364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xt level of S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0880" y="4343400"/>
            <a:ext cx="1525680" cy="839880"/>
            <a:chOff x="380880" y="4343400"/>
            <a:chExt cx="1525680" cy="839880"/>
          </a:xfrm>
        </p:grpSpPr>
        <p:sp>
          <p:nvSpPr>
            <p:cNvPr id="111" name=""/>
            <p:cNvSpPr/>
            <p:nvPr/>
          </p:nvSpPr>
          <p:spPr>
            <a:xfrm>
              <a:off x="380880" y="4343400"/>
              <a:ext cx="1525680" cy="83988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520" y="439596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duce to 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HY/M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80880" y="5410080"/>
            <a:ext cx="1525680" cy="839880"/>
            <a:chOff x="380880" y="5410080"/>
            <a:chExt cx="1525680" cy="839880"/>
          </a:xfrm>
        </p:grpSpPr>
        <p:sp>
          <p:nvSpPr>
            <p:cNvPr id="114" name=""/>
            <p:cNvSpPr/>
            <p:nvPr/>
          </p:nvSpPr>
          <p:spPr>
            <a:xfrm>
              <a:off x="380880" y="5410080"/>
              <a:ext cx="1525680" cy="83988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9520" y="546264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egin Dra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and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605320" y="1830240"/>
            <a:ext cx="665064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matrix and analysis results and vote on acceptance of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e on which proposals to purs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 Use master evaluation document which is the matrix from doc: 00110r12-P802.15 as the referen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Each voter rates all proposals in order of preference - each proposal is given a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rder (first choice is 1,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 Votes are tallied, results are presented and sanity check done inf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 Top half stays in, bottom half is exc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 Top half has the opportunity to discuss differences to clarif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 Vote is taken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8480" y="3767040"/>
            <a:ext cx="510408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method for reducing remaining proposals to final drafts for PHY/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 review criteria and weighting for fi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rate each remaining proposal based on final 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 determine proposal differences and evaluate against PAR,  and 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 vote to determine final proposal for PHY/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4520" y="5867280"/>
            <a:ext cx="3000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baseline PHY/MAC drafts from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760" y="1325520"/>
            <a:ext cx="1114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50800" y="1174680"/>
            <a:ext cx="1710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Sept.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4114800"/>
            <a:ext cx="1266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10760" y="4952880"/>
            <a:ext cx="1701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Nov.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411480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8480" y="5257800"/>
            <a:ext cx="447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MAC/PHY choices to one using method defined September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8:59:45Z</dcterms:created>
  <dc:creator>James D. Allen</dc:creator>
  <dc:description>&lt;doc#&gt;</dc:description>
  <dc:language>en-US</dc:language>
  <cp:lastModifiedBy>Digital and Applied Imaging</cp:lastModifiedBy>
  <cp:lastPrinted>1998-02-10T13:28:06Z</cp:lastPrinted>
  <dcterms:modified xsi:type="dcterms:W3CDTF">2000-09-18T22:29:19Z</dcterms:modified>
  <cp:revision>12</cp:revision>
  <dc:subject>IEEE 802.15 TG3</dc:subject>
  <dc:title>Selection Process Flow Chart</dc:title>
</cp:coreProperties>
</file>