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67AA1-97B1-4947-ACB8-7EBB548444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AF28A-D8A7-43C4-AD48-E97EEA91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75C0E-7680-48B0-B344-4213ACA4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E5065-660E-45F1-B165-1D8FE51B43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FDD98-0730-44DB-86DE-BBE5E6F3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27D07-C4D7-4882-A417-840C5139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3864C-6CFE-4A7A-884C-AE779E2C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5F067-0531-40BA-A041-D3E7E602B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45602-ED37-4950-ABE4-82509ED54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615C5-11C0-4FA5-9DB4-B0DA4460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D6A5A-7347-4D3E-A5E9-B7FA3AE1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21A5E-EA47-489E-B601-8381639B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ugust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D5CA88F-B58F-43FC-BE44-7DAC562BF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280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486400" y="6476760"/>
            <a:ext cx="297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3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ugust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280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6476760"/>
            <a:ext cx="297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828800"/>
            <a:ext cx="777240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99"/>
                </a:solidFill>
                <a:latin typeface="Tahoma"/>
              </a:rPr>
              <a:t>IEEE 802.11 and 802.15 Review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Presented at Spread-Spectrum Workshop August 14-15, 2000 Baltimore MD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SSS Physical Lay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4 GHz ISM B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and 2 Mb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ial Binary and Quadrature P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sing Gain: 11 chips per b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20 MHz channels in ISM Ba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Watt maximum (100 - 500 mw typic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1 Mbps in 2.4 GHz (TGb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 to original DS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ludes 5.5 and 11 Mbps m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kward compatible with original DS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Complementary Code Keying  (CCK) mod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channels within 2.4 GHz B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Existing MAC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54 Mbps in 5 GHz (TGa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es in the U-NII 5 GHz b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Orthogonal Frequency Division Multiplexing (OFDM) Mod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on multiple subcarri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data rates depending on modulation on subcarriers and FE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6 to 54 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Existing MAC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dustry Supporting Org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reless Ethernet Compatibility Alliance (WEC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insure OEM products are compliant to IEEE 802.11b 2.4 GHz 11 Mbp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-Fi cer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ensure interoperability between multi-vendor products compliant to IEEE 802.11b 2.4 GHz 11 Mbp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802.11 New Develop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C Layer Enhancements (TG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Quality of Service to support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 Security beyond WE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Access Protocol (TGf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 standard protocol between access points to support features like roaming hando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er Rate Study Gro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 2.4 GHz system to &gt; 20 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EE 802.1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for Wireless Personal Area Networks (WPAN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-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Pow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networks (e.g. 8-16 no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of devices within a Personal Operating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EE 802.1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.15.1 (Standar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EEE Standard of Bluetoot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™ Specif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.15.2 (Recommended Practi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del and Facilitate Coexistence of WPAN &amp; WLAN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.15.3 (Standar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High-Rate (&gt; 20 Mbps) WP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dio2 Study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ck Bluetooth2 and recommend an ac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Rate Study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w Data Rate = 2Kb/sec to 200Kb/se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EE 802.1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92280" y="2057400"/>
          <a:ext cx="775944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2057400"/>
                    <a:ext cx="77594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EE 802.1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85800" y="1523880"/>
          <a:ext cx="7981920" cy="472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981920" cy="47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EE 802.15 Process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5162400" y="5381640"/>
            <a:ext cx="1905120" cy="914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72120" y="3747960"/>
            <a:ext cx="1905120" cy="914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2924280"/>
            <a:ext cx="4952880" cy="419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3733920"/>
            <a:ext cx="4952880" cy="4190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4533840"/>
            <a:ext cx="4952880" cy="419040"/>
          </a:xfrm>
          <a:prstGeom prst="rect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1337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 for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Spo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mit P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ve P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nize Task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 draf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llot draf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ve draf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 approved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7238880" y="2975040"/>
            <a:ext cx="1905120" cy="914400"/>
          </a:xfrm>
          <a:prstGeom prst="ellipse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fig1" descr=""/>
          <p:cNvPicPr/>
          <p:nvPr/>
        </p:nvPicPr>
        <p:blipFill>
          <a:blip r:embed="rId1"/>
          <a:stretch/>
        </p:blipFill>
        <p:spPr>
          <a:xfrm>
            <a:off x="5295960" y="1752480"/>
            <a:ext cx="3801960" cy="4384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71720" y="2873520"/>
            <a:ext cx="12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adio2 S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w Rate S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0640" y="3683160"/>
            <a:ext cx="1305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ask Group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ask Grou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5600" y="4597560"/>
            <a:ext cx="130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ask Grou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 of IEEE 80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rrent IEEE 802.11 Stand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Developments within IEEE 802.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s within IEEE 802.1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xt Meet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stions and Answ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EE 802.15 Draft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186600" y="1676520"/>
            <a:ext cx="1904760" cy="914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91280" y="2819520"/>
            <a:ext cx="1905120" cy="914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2057400"/>
            <a:ext cx="54100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3048120"/>
            <a:ext cx="5410080" cy="1143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5029200"/>
            <a:ext cx="5410080" cy="533520"/>
          </a:xfrm>
          <a:prstGeom prst="rect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433240" y="22096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scope and purp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ine related standards and pub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ft out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l in out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vise, revise, rev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ize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6189840" y="5048280"/>
            <a:ext cx="1904760" cy="914400"/>
          </a:xfrm>
          <a:prstGeom prst="ellipse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fig4" descr=""/>
          <p:cNvPicPr/>
          <p:nvPr/>
        </p:nvPicPr>
        <p:blipFill>
          <a:blip r:embed="rId1"/>
          <a:stretch/>
        </p:blipFill>
        <p:spPr>
          <a:xfrm>
            <a:off x="6418440" y="1771560"/>
            <a:ext cx="1523880" cy="49341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52240" y="2178000"/>
            <a:ext cx="141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adio2 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w Rate 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9720" y="3276720"/>
            <a:ext cx="145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sk Group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sk Group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5680" y="5135400"/>
            <a:ext cx="145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ask Group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763120" y="1981080"/>
            <a:ext cx="0" cy="4496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EE 802.15 Task Group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EEE 802.15 Task Group 1 is converting the Bluetooth Specification into an IEEE Stand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t to IEE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ng Specification and Description Language (SDL)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tter Ballots, Comments, and Comment Resolu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EE Task Group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52280" y="1828800"/>
            <a:ext cx="8989200" cy="4656240"/>
            <a:chOff x="152280" y="1828800"/>
            <a:chExt cx="8989200" cy="4656240"/>
          </a:xfrm>
        </p:grpSpPr>
        <p:sp>
          <p:nvSpPr>
            <p:cNvPr id="191" name=""/>
            <p:cNvSpPr/>
            <p:nvPr/>
          </p:nvSpPr>
          <p:spPr>
            <a:xfrm>
              <a:off x="152280" y="1828800"/>
              <a:ext cx="380880" cy="205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6200000">
              <a:off x="-443160" y="2691720"/>
              <a:ext cx="158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10 SECU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0920" y="2057400"/>
              <a:ext cx="380880" cy="411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6200000">
              <a:off x="-715680" y="4135680"/>
              <a:ext cx="31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*802 OVERVIEW &amp; ARCHITEC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68120" y="2057400"/>
              <a:ext cx="380880" cy="411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6200000">
              <a:off x="311040" y="4232160"/>
              <a:ext cx="191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1 MANAG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91840" y="2057400"/>
              <a:ext cx="68137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74480" y="2362320"/>
              <a:ext cx="275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2 LOGICAL LINK 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91840" y="3048120"/>
              <a:ext cx="68137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07000" y="3352680"/>
              <a:ext cx="149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1 BRIDG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67080" y="4114800"/>
              <a:ext cx="609480" cy="205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952880" y="4114800"/>
              <a:ext cx="609480" cy="205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638680" y="4114800"/>
              <a:ext cx="609480" cy="205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24480" y="4114800"/>
              <a:ext cx="609480" cy="205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010280" y="4114800"/>
              <a:ext cx="609480" cy="2057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23880" y="4114800"/>
              <a:ext cx="609480" cy="205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09680" y="4114800"/>
              <a:ext cx="609480" cy="205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895480" y="4114800"/>
              <a:ext cx="609480" cy="205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81280" y="4114800"/>
              <a:ext cx="609480" cy="205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577000" y="20574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577000" y="512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572320" y="6172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758080" y="2057400"/>
              <a:ext cx="0" cy="31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69280" y="3276720"/>
              <a:ext cx="772200" cy="73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I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A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8758080" y="51814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364600" y="5338800"/>
              <a:ext cx="77220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A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96080" y="4114800"/>
              <a:ext cx="609480" cy="205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0400" y="6208560"/>
              <a:ext cx="236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urce: IEEE Std P802.15.1 D0.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cus on L2CAP and Belo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75800" y="1770120"/>
            <a:ext cx="7844400" cy="4526280"/>
            <a:chOff x="775800" y="1770120"/>
            <a:chExt cx="7844400" cy="4526280"/>
          </a:xfrm>
        </p:grpSpPr>
        <p:sp>
          <p:nvSpPr>
            <p:cNvPr id="221" name=""/>
            <p:cNvSpPr/>
            <p:nvPr/>
          </p:nvSpPr>
          <p:spPr>
            <a:xfrm>
              <a:off x="3262320" y="5889600"/>
              <a:ext cx="4100400" cy="360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hys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959360" y="4962600"/>
              <a:ext cx="2403360" cy="360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60800" y="1770120"/>
              <a:ext cx="10270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A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28960" y="1770120"/>
              <a:ext cx="10270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Card/v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90840" y="2319480"/>
              <a:ext cx="1027440" cy="46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ma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21240" y="2362320"/>
              <a:ext cx="1028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CS B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53080" y="2362320"/>
              <a:ext cx="10270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D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934400" y="4419720"/>
              <a:ext cx="0" cy="11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477200" y="4087800"/>
              <a:ext cx="1028520" cy="35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7362720" y="5564160"/>
              <a:ext cx="57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77240" y="2722680"/>
              <a:ext cx="0" cy="169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34240" y="2732040"/>
              <a:ext cx="0" cy="168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92680" y="2798640"/>
              <a:ext cx="0" cy="11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60800" y="2130480"/>
              <a:ext cx="10270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60800" y="2954160"/>
              <a:ext cx="1027080" cy="36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60800" y="2593800"/>
              <a:ext cx="5126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73440" y="2593800"/>
              <a:ext cx="5144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440160" y="2484360"/>
              <a:ext cx="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563920" y="2475000"/>
              <a:ext cx="0" cy="14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28960" y="2130480"/>
              <a:ext cx="10270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E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49680" y="3305160"/>
              <a:ext cx="0" cy="117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78200" y="3932280"/>
              <a:ext cx="3340080" cy="36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FCO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35480" y="4762440"/>
              <a:ext cx="0" cy="68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62840" y="5335560"/>
              <a:ext cx="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819800" y="4892760"/>
              <a:ext cx="248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 Controller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73400" y="3429000"/>
              <a:ext cx="1027080" cy="36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P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63640" y="4876920"/>
              <a:ext cx="685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62320" y="4395960"/>
              <a:ext cx="4100400" cy="3618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2C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262320" y="5425920"/>
              <a:ext cx="4100400" cy="360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seb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75800" y="6019920"/>
              <a:ext cx="236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urce: IEEE Std P802.15.1 D0.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sk Group 1 Deliverab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 Related Deliver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ne 2001 - IEEE-SA distribution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EEE Std 802.15.1-20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ludes SDL Model Files for abo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PAR Related Deliver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ember 2000, via IEEE-P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uetoot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™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ocket Guide, Volume 1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ne 2001 - IEEE-SA distribution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EEE 802.15 Handbook: A Designer's Compan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EE 802.15 Task Group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: Both IEEE 802.11 and Bluetooth operate in the same 2.4 GHz ISM Ba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: Bluetooth enabled devices will likely be portable and will need to operate in an IEEE 802.11 WLAN environ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: There will be some mutual interfer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sk Group 2 Deliverab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exist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 describing the mutual interference of WLAN and WPAN upon one anoth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existence 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s or techniques to facilitate coexistence of WLAN and WPAN devi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th to be documented in an IEEE Recommended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existence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urpose of this model i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understand under what circumstance there is a coexistence problem and under what circumstances there is not a probl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develop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pporting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justify the recommended suggested practices and possible standards modific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existence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05640" y="2133720"/>
            <a:ext cx="8462520" cy="3964680"/>
            <a:chOff x="305640" y="2133720"/>
            <a:chExt cx="8462520" cy="3964680"/>
          </a:xfrm>
        </p:grpSpPr>
        <p:sp>
          <p:nvSpPr>
            <p:cNvPr id="261" name=""/>
            <p:cNvSpPr/>
            <p:nvPr/>
          </p:nvSpPr>
          <p:spPr>
            <a:xfrm rot="2613000">
              <a:off x="3428640" y="3047760"/>
              <a:ext cx="2133720" cy="2133360"/>
            </a:xfrm>
            <a:prstGeom prst="rect">
              <a:avLst/>
            </a:prstGeom>
            <a:solidFill>
              <a:srgbClr val="ff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01840" y="2133720"/>
              <a:ext cx="256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HY Layer Mod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5640" y="3886200"/>
              <a:ext cx="265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C Layer Mod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4080" y="3836880"/>
              <a:ext cx="26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Traffic Mod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971800" y="5638680"/>
              <a:ext cx="309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F Propagation Mod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00040" y="3913200"/>
              <a:ext cx="262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existence Mod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existence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ysical Layer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s of the 802.11 and 802.15 PHY layers which will predict the impact of mutual interference when multiple devices are operating simultaneous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ly modeling PHY in MatLab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EE 80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23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Established in 1884 (AIEE &amp; I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December 1999 Membership was 360,000; 66% USA &amp; 33% Non-U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produces 30 percent of the world's published literature in electrical engineering, computers and control technology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holds annually more than 300 major conferences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has more than 800 active standards with 700 under develop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existence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C Layer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 the WLAN and WPAN MAC lay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ly modeling in Op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2.11 Model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 802.15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existence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Traffic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 the data traffic flow based upon different application scenarios for both the WLAN and WPA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 data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&amp;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existence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F Propagation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 RF signal power levels at the different WPAN and WLAN nodes based on an RF propagation mode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 different application scenarios and physical distribution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existence Mechanis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existence Mechanisms Facilitate Coexistence of WPAN &amp; WLAN de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be doing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all for Submiss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Coexistence Mechanisms in Septemb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ations are planne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vember 2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nuary 20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existence Mechanis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laborative 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form of communication between the WLAN and WP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is link to provide sharing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-Collaborative 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ommunication between WLAN and WP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mutual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EE 802.15 Task Group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standard for a WPAN with a data rate of at least 20 Mb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coexist with 802.11 and Bluetoo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rable to be backward compatible with Bluetoo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ld a call for submissions over last few mont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bmissions were made in May and Ju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sk Group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ubmissions cov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of 14 submi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ed an Evaluation Criter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rrently performing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sk Group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23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oad Range of Submi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4 GH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B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Band Q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Band QPSK and Q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 GH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yper-P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ltra Wide Band (UW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treme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802.15 Radio2 Study Gro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formal reports to the WG, updating the membership on the BT 2.0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aison from 802.15 to Bluetooth SI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lenary week tutorial to IEEE 802. Target November 2000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warranted, develop PAR and Five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w-Rate WPAN Study Gro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 together a Project Authorization Request (PAR) for a low-rate WP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s than 200 kb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at least 16 nodes in a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 meters r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ttery life of months to infin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w cost relative to target de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EE Standards Associ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80880" y="1828800"/>
            <a:ext cx="8458200" cy="4495680"/>
            <a:chOff x="380880" y="1828800"/>
            <a:chExt cx="8458200" cy="4495680"/>
          </a:xfrm>
        </p:grpSpPr>
        <p:sp>
          <p:nvSpPr>
            <p:cNvPr id="96" name=""/>
            <p:cNvSpPr/>
            <p:nvPr/>
          </p:nvSpPr>
          <p:spPr>
            <a:xfrm>
              <a:off x="3000240" y="4572000"/>
              <a:ext cx="3733920" cy="175248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29040" y="4724280"/>
              <a:ext cx="190512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hai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781440" y="5257800"/>
              <a:ext cx="217656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 (17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81400" y="5791320"/>
              <a:ext cx="318600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OTING MEMBERSHIP (50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95840" y="4129200"/>
              <a:ext cx="168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IEEE 8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73080" y="3925800"/>
              <a:ext cx="170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PONS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238880" y="4572000"/>
              <a:ext cx="990720" cy="68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S TA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34320" y="5562720"/>
              <a:ext cx="1676160" cy="68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SO/IE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TC1/SC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5943600" y="4876560"/>
              <a:ext cx="1295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43600" y="5410080"/>
              <a:ext cx="9907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96080" y="52578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00800" y="2743200"/>
              <a:ext cx="2438280" cy="1143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PPE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ESS RELEAS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U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79640" y="1982880"/>
              <a:ext cx="224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MPU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CIETY S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5334120" y="3886200"/>
              <a:ext cx="228600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98920" y="2819520"/>
              <a:ext cx="2438280" cy="1143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ESCOM – PA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VCOM – ST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AT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49880" y="2438280"/>
              <a:ext cx="281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EEE-SA STDS B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67000" y="1828800"/>
              <a:ext cx="31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EEE-SA BD OF GO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41920" y="22384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0880" y="4495680"/>
              <a:ext cx="2133720" cy="1371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BLISH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MSC BALLO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9720" y="3762360"/>
              <a:ext cx="1770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EEE ST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1981080" y="3962160"/>
              <a:ext cx="1447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514600" y="4876920"/>
              <a:ext cx="14479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2514240" y="5181120"/>
              <a:ext cx="7621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2514600" y="5181120"/>
              <a:ext cx="1295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76920" y="39625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w-Rate WPAN Study Gro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sors &amp; Actu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rt Ba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lth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r Peripher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t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me Auto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Meter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e Inform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82600" y="2057400"/>
            <a:ext cx="7772400" cy="407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b O’Hara and Al Petrick,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 IEEE 802.11 Handbook: A Designers Companion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EEE Press, 1999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ww.ieee802.org/11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ww.ieee802.org/15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802.11 &amp; 802.15 Mee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7772400" cy="399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t IEEE 802.11 &amp; 802.15 Interim Mee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tember 18-22, 2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ottsdale Arizona, Radisson Resort &amp; Sp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estions and Answ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82600" y="2666520"/>
            <a:ext cx="7772400" cy="34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Question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s of IEEE 80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e IEEE 802 to develop consensus standards that benefits the World Wide Networked Socie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the imperative principals of due process, consensus,openness, balance and rights of appe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ctronic distribution of standar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EE 802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460520" y="1797120"/>
          <a:ext cx="625788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797120"/>
                    <a:ext cx="625788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6474240" y="2743200"/>
            <a:ext cx="209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ive Offic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-391320" y="4878360"/>
            <a:ext cx="27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ing Group Offic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21636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2544840"/>
            <a:ext cx="304560" cy="30456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22600" y="2101680"/>
            <a:ext cx="106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A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6280" y="2514600"/>
            <a:ext cx="16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Hiber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6120" y="2925720"/>
            <a:ext cx="304920" cy="30492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9600" y="2895480"/>
            <a:ext cx="14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Disban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3306600"/>
            <a:ext cx="304560" cy="3049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21520" y="324468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urrent IEEE 802.11 Standa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reless Local Area Networks (WLA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dium Access Control (MAC)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rrently includes five Physical (PHY) Lay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 Mbps in 2.4 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4 Mbps in 5 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C Lay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rier Sense Multiple Access with Collision Avoidance (CSMA/C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rastructure Network (Access Poin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-Hoc Network (No Access Poin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ic Repeat Request (ARQ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 Saving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red Equivalent Privacy (WE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C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HSS Physical Lay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4 GHz ISM B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and 2 Mb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 or 4 level Gaussian F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9 chann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pping Rate &gt; 2.5 hops/se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Watt maximum (100 - 500 mw typic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0T02:19:01Z</dcterms:created>
  <dc:creator>Donald N. Heirman</dc:creator>
  <dc:description/>
  <dc:language>en-US</dc:language>
  <cp:lastModifiedBy>Steve Shellhammer</cp:lastModifiedBy>
  <cp:lastPrinted>2000-07-31T18:27:51Z</cp:lastPrinted>
  <dcterms:modified xsi:type="dcterms:W3CDTF">2000-08-16T17:45:47Z</dcterms:modified>
  <cp:revision>155</cp:revision>
  <dc:subject/>
  <dc:title>PowerPoint Presentation</dc:title>
</cp:coreProperties>
</file>