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EC7-3A54-44E3-923E-6538ACBB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C28-CEB5-41FD-83CC-3B4EB2B1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17B-C4D7-4805-8329-5690199F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255-5827-4559-947C-98FFB5C3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744-8E5C-4C29-9F75-FEDFB133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334-7C2B-4A8F-9686-BDA6D664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B9E-6114-40DE-AEE5-A44D36C9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AD6-4F8F-4F00-ACA9-6FEE87E7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C03-AB50-4748-BEC6-175DD9D3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653-4D34-42DA-88F5-BEA6749E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DBD-68D4-43E9-9F4B-E48F135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713-7356-41C0-A965-A30FF29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62720" y="6474960"/>
            <a:ext cx="2147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 Eckard, Verizon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885C28-D64E-46FA-908D-E649ED856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182880"/>
            <a:ext cx="2567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1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1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 Equipment to Support 802.11 and 802.15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k Eck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zon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A98-42B5-46D3-9625-38D341522F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AN Equipment for 802.11 and 802.15 Mee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equipment to provide permanent wireless network(s) to support 802.11 and 802.15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to be separable, if necessary, to support different meeting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from surplus from prior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access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file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wireless preamps and 4 micro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shipping 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radio cards (4 for access points, 20 to lend at meetin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BE5-8120-4051-9481-0A7C453696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A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2198520"/>
          <a:ext cx="7772400" cy="36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8520"/>
                    <a:ext cx="777240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591-0991-47EB-BC4C-FA375ED7E9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ed Expen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057400"/>
          <a:ext cx="800100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010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76F-86E6-4028-82CB-5A2A12522E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1T04:31:51Z</dcterms:created>
  <dc:creator>Dick Echard</dc:creator>
  <dc:description/>
  <dc:language>en-US</dc:language>
  <cp:lastModifiedBy>Dick Echard</cp:lastModifiedBy>
  <cp:lastPrinted>1998-02-10T13:28:06Z</cp:lastPrinted>
  <dcterms:modified xsi:type="dcterms:W3CDTF">2000-09-21T22:35:44Z</dcterms:modified>
  <cp:revision>7</cp:revision>
  <dc:subject/>
  <dc:title>Wireless LAN Equipment to Support 802.11 and 802.15 Meetings</dc:title>
</cp:coreProperties>
</file>