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73A78-8361-4279-AE43-6B2E68AD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51EC-3C6C-48AB-BD55-079D6898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59F62-736F-4C8F-86FE-A6B496066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DC6D6-B92E-444A-B1ED-A0BF9EC00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A327-5C00-472B-9653-8A6635E79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2A0C-5FBC-496C-ACA6-BA2343375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3FB20-362D-4C35-B3E1-B2DB8D50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A676-CB72-4284-A89F-FFFB94ABF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C215-44C1-4B2D-92A8-D299F4311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1507-E614-4A17-A81E-6143D0E2E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46D4-1B8E-48FC-B05C-9B2B1753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E9D2-E3D9-475F-BD88-AE99D4A41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BF4AEA-5374-47C9-AB2D-D7B36B99B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onterey TG3 MAC committee closing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8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328], FAX: [716-781-9733], E-Mail:[adheberling@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Monterey MAC committee clos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ummarize the accomplishments of the TG3 MAC committe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inform TG3 members of the TG3 MAC committee’s planned activit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mpany</a:t>
            </a:r>
          </a:p>
        </p:txBody>
      </p:sp>
      <p:sp>
        <p:nvSpPr>
          <p:cNvPr id="3" name="PlaceHolder 2"/>
          <p:cNvSpPr>
            <a:spLocks noGrp="1"/>
          </p:cNvSpPr>
          <p:nvPr>
            <p:ph type="sldNum" idx="3"/>
          </p:nvPr>
        </p:nvSpPr>
        <p:spPr/>
        <p:txBody>
          <a:bodyPr/>
          <a:p>
            <a:fld id="{8F482CB9-DFC1-42D8-9760-FCFF6D199306}"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terey MAC Committee Closing Repor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380C1B0E-17C6-460B-B4DC-F9FA98E7396A}"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plishments this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Planned for time leading into Hilton Head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37F2FA50-65BB-43E6-A213-D75C52C3AFD2}"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plishment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a:t>
            </a:r>
            <a:r>
              <a:rPr b="0" lang="en-US" sz="2400" spc="-1" strike="noStrike">
                <a:solidFill>
                  <a:srgbClr val="000000"/>
                </a:solidFill>
                <a:latin typeface="Arial"/>
              </a:rPr>
              <a:t>Title,Author(s)</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8r0P802-15_TG3-MAC-Architecture, Heberl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4r0P802-15_TG3-Presentation-for-TG3-Clause 5, Kinney/Kuble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59r0P802-15_TG3-Draft-Clause-Titles-and-Synopses, Heberling </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62r0P802-15_TG3-SDL-Overview, Heberl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34r0P802-15_TG3-Clause 7, Gubbi</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61r0P802-15_TG3-Clause 9, Schrad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9E23F98D-F45B-454B-AE9A-094CE48F52E6}"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mplishments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xxr0P802-15_TG3-MAC-Committee-Project-Plan, Park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Issues identified and collec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F90056CA-9679-41AC-89A8-88F2834CEB53}"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mplishment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he MAC Planning Session to:</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 agreement on time and location for an ad-hoc MAC committee meeting</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draft TG3 MAC project plan</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MAC committee tasks for the time leading up to Hilton Head (HH)</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MAC committee members tasks for the time leading up to H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FA3860CD-CE67-4541-BE2C-9524CBA05EA7}"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ned Activities leading into Hilton Head</a:t>
            </a:r>
            <a:endParaRPr b="0" lang="en-US" sz="3600" spc="-1" strike="noStrike">
              <a:solidFill>
                <a:srgbClr val="000000"/>
              </a:solidFill>
              <a:latin typeface="Times New Roman"/>
            </a:endParaRPr>
          </a:p>
        </p:txBody>
      </p:sp>
      <p:sp>
        <p:nvSpPr>
          <p:cNvPr id="5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TG3 MAC committee meeting</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a:t>
            </a:r>
            <a:r>
              <a:rPr b="0" lang="en-US" sz="2800" spc="-1" strike="noStrike">
                <a:solidFill>
                  <a:srgbClr val="000000"/>
                </a:solidFill>
                <a:latin typeface="Arial"/>
              </a:rPr>
              <a:t>	</a:t>
            </a:r>
            <a:r>
              <a:rPr b="0" lang="en-US" sz="2800" spc="-1" strike="noStrike">
                <a:solidFill>
                  <a:srgbClr val="000000"/>
                </a:solidFill>
                <a:latin typeface="Arial"/>
              </a:rPr>
              <a:t>  Pat Kinney of Intermec</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r>
              <a:rPr b="0" lang="en-US" sz="2800" spc="-1" strike="noStrike">
                <a:solidFill>
                  <a:srgbClr val="000000"/>
                </a:solidFill>
                <a:latin typeface="Arial"/>
              </a:rPr>
              <a:t>	</a:t>
            </a:r>
            <a:r>
              <a:rPr b="0" lang="en-US" sz="2800" spc="-1" strike="noStrike">
                <a:solidFill>
                  <a:srgbClr val="000000"/>
                </a:solidFill>
                <a:latin typeface="Arial"/>
              </a:rPr>
              <a:t>  February 8-9, 2001</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enver area</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begin</a:t>
            </a:r>
            <a:endParaRPr b="0" lang="en-US" sz="2800" spc="-1" strike="noStrike">
              <a:solidFill>
                <a:srgbClr val="000000"/>
              </a:solidFill>
              <a:latin typeface="Arial"/>
            </a:endParaRPr>
          </a:p>
          <a:p>
            <a:pPr lvl="2" marL="99864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comments and open issues into Issues DataBase</a:t>
            </a:r>
            <a:endParaRPr b="0" lang="en-US" sz="2000" spc="-1" strike="noStrike">
              <a:solidFill>
                <a:srgbClr val="000000"/>
              </a:solidFill>
              <a:latin typeface="Arial"/>
            </a:endParaRPr>
          </a:p>
          <a:p>
            <a:pPr lvl="2" marL="99864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ing Monterey identified MAC issues</a:t>
            </a:r>
            <a:endParaRPr b="0" lang="en-US" sz="2000" spc="-1" strike="noStrike">
              <a:solidFill>
                <a:srgbClr val="000000"/>
              </a:solidFill>
              <a:latin typeface="Arial"/>
            </a:endParaRPr>
          </a:p>
          <a:p>
            <a:pPr lvl="2" marL="99864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resolved issues into appropriate MAC clauses</a:t>
            </a:r>
            <a:endParaRPr b="0" lang="en-US" sz="2000" spc="-1" strike="noStrike">
              <a:solidFill>
                <a:srgbClr val="000000"/>
              </a:solidFill>
              <a:latin typeface="Arial"/>
            </a:endParaRPr>
          </a:p>
          <a:p>
            <a:pPr lvl="2" marL="99864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ng draft MAC clauses into a baseline document for review in Hilton Head.</a:t>
            </a:r>
            <a:endParaRPr b="0" lang="en-US" sz="2000" spc="-1" strike="noStrike">
              <a:solidFill>
                <a:srgbClr val="000000"/>
              </a:solidFill>
              <a:latin typeface="Arial"/>
            </a:endParaRPr>
          </a:p>
          <a:p>
            <a:pPr lvl="2" marL="998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84B9CE53-6EB3-47D2-A530-25E98DCB9DBE}"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rogress made this week in regard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draft clauses 5,6,7, 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issues identified and coll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meeting schedul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08017534-C12E-4CF0-BB6C-8010D2955D4F}"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18:44:35Z</dcterms:created>
  <dc:creator>Allen Heberling</dc:creator>
  <dc:description>IEEE 802.15-01/074r0</dc:description>
  <dc:language>en-US</dc:language>
  <cp:lastModifiedBy>aheberli</cp:lastModifiedBy>
  <cp:lastPrinted>1998-02-10T13:28:06Z</cp:lastPrinted>
  <dcterms:modified xsi:type="dcterms:W3CDTF">2001-01-18T22:57:31Z</dcterms:modified>
  <cp:revision>4</cp:revision>
  <dc:subject>IEEE 802.15 MAC Committee Closing Report</dc:subject>
  <dc:title>No Slide Title</dc:title>
</cp:coreProperties>
</file>