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D30C6-9969-43C8-B8CF-E47008FD44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18F4DA-252E-48E4-B1CE-BAEB4EB500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0C1616-D6F7-46CE-8521-F901000B8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B45759-4663-48CD-A16E-415ED35732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54F7-44C2-4574-AB48-DEF0F4D15C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B93AE-B5B9-42F3-A282-C830AD07EB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0ED67-BC87-4939-8ECB-B7C083906C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877AB5DB-0126-4BE4-A633-CDF5B0A406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89F0B7F-9AC5-4622-B59C-D5E67B220B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D931D-E1DF-440B-BBCF-F036EECCB5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BA581-06FD-4F0A-ADC7-075DE3B6D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9254D-2552-4809-BA7B-8FCB57A320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107FCA-664B-4240-ABE6-F93C021B2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22r6</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0200" y="380880"/>
            <a:ext cx="122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8" name=""/>
          <p:cNvSpPr/>
          <p:nvPr/>
        </p:nvSpPr>
        <p:spPr>
          <a:xfrm>
            <a:off x="5719320" y="642636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D. Alle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609480"/>
            <a:ext cx="8763120" cy="511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Organizational Propos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3Januar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shows the organizational proposal for the anticipated High Rate Task Grou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names of proposed leaders and open positions.  To facilitate the filling of positions prior to submitting the PAR.]</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ation</a:t>
            </a:r>
            <a:br>
              <a:rPr sz="3600"/>
            </a:br>
            <a:r>
              <a:rPr b="0" lang="en-US" sz="2800" spc="-1" strike="noStrike">
                <a:solidFill>
                  <a:srgbClr val="000000"/>
                </a:solidFill>
                <a:latin typeface="Times New Roman"/>
              </a:rPr>
              <a:t>High Rate - TG3</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7"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 - John Bar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ce Chair - Jim Alle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ary - Pat Kinne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Editor - James Gilb</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Committee</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 James Gilb - Committee Chai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 Allen Heberling- Committee Chai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 Richard Roberts - Mary DuVa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643CC-8469-44AF-9FC2-4C83CCA73B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62120" y="12193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ison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ity Committee -  Rick Alfv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existence .15 - Kevin Marqu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 TB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Radio 2 - Carl Stevens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RF - TB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C -  TB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SI/BRAN - TB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 - Allen Heberl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GHz Unification Committee - TB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Imaging Group - James All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Digital and Applied Imaging</cp:lastModifiedBy>
  <dcterms:modified xsi:type="dcterms:W3CDTF">2001-01-30T16:59:26Z</dcterms:modified>
  <cp:revision>20</cp:revision>
  <dc:subject>High Rate TG Organizational Proposal</dc:subject>
  <dc:title>Organization Proposal </dc:title>
</cp:coreProperties>
</file>