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11DF7-E212-44D0-A08E-47E854321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296EB-EB56-4230-871A-392C33ABD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64C1E-0CE7-473E-AFAA-701E9AFAF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1950F-E746-4F53-9343-A77B9484D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2A867-2D2F-4ADE-BD91-64ACF6D16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40C65-39B6-458E-AD05-51CD32A65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BA1C6-8D51-4155-930C-C959B8573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9BF01-DEC3-40F3-8EF1-F952C0BBA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9BA59-FCE0-4465-942A-2F302EB05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AC1A-BFC2-4DCC-86BF-E0CEDB354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2A62-1CE3-4323-A9E3-DDBCD78D8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B9208-1EA3-44FB-B256-3E91EFE48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 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1DDE5B-11CA-444C-868E-342045C21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2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a:t>
            </a:r>
            <a:r>
              <a:rPr b="0" lang="en-US" sz="1600" spc="-1" strike="noStrike">
                <a:solidFill>
                  <a:srgbClr val="000000"/>
                </a:solidFill>
                <a:latin typeface="Times New Roman"/>
              </a:rPr>
              <a:t>Coding-criteria</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1 Januar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e criteria for evaluating PHY coding methods for the P802.15.3 draft standar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escribe the evaluation criteria for the voting memb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51C2377-A948-4DF0-83A8-38104BCB50A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nge</a:t>
            </a:r>
            <a:endParaRPr b="0" lang="en-US" sz="36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 requires a system that has a 10 m range in an environment where the user has control of potential interfer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nge depends on the actual fading, both flat and frequency-selective, the TX power, the RX sensitivity and the presence of other interfering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tual range will be different at every location will change over tim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A44C4C6-3FB6-4CC9-AD9C-A3BDA43C0DA1}"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nge Criteria</a:t>
            </a:r>
            <a:endParaRPr b="0" lang="en-US" sz="3600" spc="-1" strike="noStrike">
              <a:solidFill>
                <a:srgbClr val="000000"/>
              </a:solidFill>
              <a:latin typeface="Arial"/>
            </a:endParaRPr>
          </a:p>
        </p:txBody>
      </p:sp>
      <p:sp>
        <p:nvSpPr>
          <p:cNvPr id="65" name=""/>
          <p:cNvSpPr/>
          <p:nvPr/>
        </p:nvSpPr>
        <p:spPr>
          <a:xfrm>
            <a:off x="838080" y="1600200"/>
            <a:ext cx="7696440" cy="41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ed on the 802.15.3 PAR, the proposed system shall be able to initiate a WPAN connection within a 10 meter radius 99.9% of the time.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of the higher-order modulations, report the receiver sensitivity assuming a receiver noise figure of 12 dB and ideal isotropic antenna (i.e. 0 dBi ga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fined, lower sensitivity is bett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FE87280-005B-4C81-93D2-976BAE71AA4B}"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 Consumption</a:t>
            </a:r>
            <a:endParaRPr b="0" lang="en-US" sz="36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PAN connectivity implies small, mobile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life will be an important aspect to the consum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battery life will depend on the use model, which has not been defined by TG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s for the coding to have a minimal impact on the peak DC power consump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1D8388B-990A-44D9-A293-78D1AF2EC053}"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 Consumption Criteria</a:t>
            </a:r>
            <a:endParaRPr b="0" lang="en-US" sz="3600" spc="-1" strike="noStrike">
              <a:solidFill>
                <a:srgbClr val="000000"/>
              </a:solidFill>
              <a:latin typeface="Arial"/>
            </a:endParaRPr>
          </a:p>
        </p:txBody>
      </p:sp>
      <p:sp>
        <p:nvSpPr>
          <p:cNvPr id="69" name=""/>
          <p:cNvSpPr/>
          <p:nvPr/>
        </p:nvSpPr>
        <p:spPr>
          <a:xfrm>
            <a:off x="838080" y="1600200"/>
            <a:ext cx="7696440" cy="44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otal amount of DC power required by the proposed system to operate the encoder or decoder for each of the higher order modulation schem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C power requirement for the encoder/decoder circuitry each of the higher-order modulations assuming 0.018 </a:t>
            </a:r>
            <a:r>
              <a:rPr b="0" lang="en-US" sz="2400" spc="-1" strike="noStrike">
                <a:solidFill>
                  <a:srgbClr val="000000"/>
                </a:solidFill>
                <a:latin typeface="NewCenturySchlbk"/>
              </a:rPr>
              <a:t>m</a:t>
            </a:r>
            <a:r>
              <a:rPr b="0" lang="en-US" sz="2400" spc="-1" strike="noStrike">
                <a:solidFill>
                  <a:srgbClr val="000000"/>
                </a:solidFill>
                <a:latin typeface="Times New Roman"/>
              </a:rPr>
              <a:t>W/(MHz*kgat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fined, lower is better.  Total peak power for complete radio must be less than 0.5 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D218E5F-ABD3-44FC-B3AD-C08AA8DFAB9C}"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ncy</a:t>
            </a:r>
            <a:endParaRPr b="0" lang="en-US" sz="3600" spc="-1" strike="noStrike">
              <a:solidFill>
                <a:srgbClr val="000000"/>
              </a:solidFill>
              <a:latin typeface="Arial"/>
            </a:endParaRPr>
          </a:p>
        </p:txBody>
      </p:sp>
      <p:sp>
        <p:nvSpPr>
          <p:cNvPr id="71" name="PlaceHolder 2"/>
          <p:cNvSpPr>
            <a:spLocks noGrp="1"/>
          </p:cNvSpPr>
          <p:nvPr>
            <p:ph/>
          </p:nvPr>
        </p:nvSpPr>
        <p:spPr>
          <a:xfrm>
            <a:off x="685440" y="1523520"/>
            <a:ext cx="8001000" cy="4953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cy was not specifically called out in the criteria document, but it was implied in the throughput requir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 latency in decoding or encoding a packet will affect the TX/RX turnaround time and hence degrade the efficiency of th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10 </a:t>
            </a:r>
            <a:r>
              <a:rPr b="0" lang="en-US" sz="2800" spc="-1" strike="noStrike">
                <a:solidFill>
                  <a:srgbClr val="000000"/>
                </a:solidFill>
                <a:latin typeface="Symbol"/>
                <a:ea typeface="Symbol"/>
              </a:rPr>
              <a:t></a:t>
            </a:r>
            <a:r>
              <a:rPr b="0" lang="en-US" sz="2800" spc="-1" strike="noStrike">
                <a:solidFill>
                  <a:srgbClr val="000000"/>
                </a:solidFill>
                <a:latin typeface="Times New Roman"/>
              </a:rPr>
              <a:t>s TX/RX turnaround time has been propo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decisions need to be done in hardware since software relies on interrupts which are relatively sl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4F4A30A-F61C-4D9B-A706-B593FC985EAE}"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ncy Criteria</a:t>
            </a:r>
            <a:endParaRPr b="0" lang="en-US" sz="3600" spc="-1" strike="noStrike">
              <a:solidFill>
                <a:srgbClr val="000000"/>
              </a:solidFill>
              <a:latin typeface="Arial"/>
            </a:endParaRPr>
          </a:p>
        </p:txBody>
      </p:sp>
      <p:sp>
        <p:nvSpPr>
          <p:cNvPr id="73"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X or encoding latency</a:t>
            </a:r>
            <a:r>
              <a:rPr b="0" lang="en-US" sz="2400" spc="-1" strike="noStrike">
                <a:solidFill>
                  <a:srgbClr val="000000"/>
                </a:solidFill>
                <a:latin typeface="Times New Roman"/>
              </a:rPr>
              <a:t> is the time from when the first bit to be encoded is presented to the encoder until the its representation is available at the output of the encod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X or decoding latency</a:t>
            </a:r>
            <a:r>
              <a:rPr b="0" lang="en-US" sz="2400" spc="-1" strike="noStrike">
                <a:solidFill>
                  <a:srgbClr val="000000"/>
                </a:solidFill>
                <a:latin typeface="Times New Roman"/>
              </a:rPr>
              <a:t> is the time from when the first demodulated symbol is present at the decoder until the first valid decoded bit is available at the output of the decod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and RX latency times in </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termined, less is bett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E271B32-3241-4AC6-918E-9724642DDD6F}"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 Issues</a:t>
            </a:r>
            <a:endParaRPr b="0" lang="en-US" sz="36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issues are not explicitly called out in the criteria document, but the IEEE has a very specific policy on it for standa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ference for a standard is for it to be unencumbered by essential IP clai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ed technology is allowed if i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n important technical benef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vailable in a non-discriminatory license for fair and reasonable term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354526A-B1DF-4868-BA7C-C2BF6DAA9E6A}"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 Issues Criteria</a:t>
            </a:r>
            <a:endParaRPr b="0" lang="en-US" sz="3600" spc="-1" strike="noStrike">
              <a:solidFill>
                <a:srgbClr val="000000"/>
              </a:solidFill>
              <a:latin typeface="Arial"/>
            </a:endParaRPr>
          </a:p>
        </p:txBody>
      </p:sp>
      <p:sp>
        <p:nvSpPr>
          <p:cNvPr id="77" name=""/>
          <p:cNvSpPr/>
          <p:nvPr/>
        </p:nvSpPr>
        <p:spPr>
          <a:xfrm>
            <a:off x="838080" y="1600200"/>
            <a:ext cx="7696440" cy="47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known or potential IP claims are there for the proposed coding metho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any potential IP or listing of the dates of published references to the metho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IP not available for fair and reasonable term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IP owner is licensing or is willing to licens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IP owner has accepted IEEE fair and reasonabl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Method described in the open literature &gt; 20 years ag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C39A559-008D-4B41-A5D6-1585FA11BD76}"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0" lang="en-US" sz="3600" spc="-1" strike="noStrike">
              <a:solidFill>
                <a:srgbClr val="000000"/>
              </a:solidFill>
              <a:latin typeface="Arial"/>
            </a:endParaRPr>
          </a:p>
        </p:txBody>
      </p:sp>
      <p:graphicFrame>
        <p:nvGraphicFramePr>
          <p:cNvPr id="79" name=""/>
          <p:cNvGraphicFramePr/>
          <p:nvPr/>
        </p:nvGraphicFramePr>
        <p:xfrm>
          <a:off x="685800" y="1600200"/>
          <a:ext cx="7772400" cy="4554360"/>
        </p:xfrm>
        <a:graphic>
          <a:graphicData uri="http://schemas.openxmlformats.org/drawingml/2006/table">
            <a:tbl>
              <a:tblPr/>
              <a:tblGrid>
                <a:gridCol w="2590920"/>
                <a:gridCol w="2590560"/>
                <a:gridCol w="2590920"/>
              </a:tblGrid>
              <a:tr h="532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eri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agou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rrel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0.0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0.03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ay Spre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25 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25 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 44, 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 30 (40,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ensitiv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 -74, -7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8, -79.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W</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mW</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10 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6 us (TX, RX)</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known IP</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available under IEEE polic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72E7561-3942-4A73-BBA9-EA1AF209C099}"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Selection Proces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11E5D04-D460-45CD-BFAB-9C8937CF2FC5}"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didate draft standard was approved in November with the coding method for the higher order modulations (16-QAM, 32-QAM and 64-QAM) left undefined</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coding schemes were part of the propsals in Tampa, one has dropped (Rio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G3 will vote to select one of three methods in Monterey</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thods will be evaluated against the relevant criteria from P802.15-00/110r14</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EDCBB4B-EAD3-4D2A-958E-678C49F7F81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ing Proposal Presentations</a:t>
            </a:r>
            <a:endParaRPr b="0" lang="en-US" sz="36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 3:51 PM – Karaoguz</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Doc. #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 8:02 AM – O’Farrell</a:t>
            </a:r>
            <a:br>
              <a:rPr sz="2400"/>
            </a:br>
            <a:br>
              <a:rPr sz="2400"/>
            </a:br>
            <a:r>
              <a:rPr b="0" lang="en-US" sz="2400" spc="-1" strike="noStrike">
                <a:solidFill>
                  <a:srgbClr val="000000"/>
                </a:solidFill>
                <a:latin typeface="Times New Roman"/>
              </a:rPr>
              <a:t>Doc. #</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3E4BC37-4B98-4A9F-ACB5-37EB927BFBD6}"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ing Voting Times</a:t>
            </a:r>
            <a:endParaRPr b="0" lang="en-US" sz="3600" spc="-1" strike="noStrike">
              <a:solidFill>
                <a:srgbClr val="000000"/>
              </a:solidFill>
              <a:latin typeface="Arial"/>
            </a:endParaRPr>
          </a:p>
        </p:txBody>
      </p:sp>
      <p:sp>
        <p:nvSpPr>
          <p:cNvPr id="84"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nesday – 9:00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el Discussion on Remaining 2 Metho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10 Each proposer has 2 minutes for position statement with 13 minute Q/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nesday – 9:30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2 to 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ing Confirmation Vote - 9:4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9:50 Confirmation Role Call Vo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1 Resolution of No Votes (if necessary for 7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E73C62E-C6CF-487A-BFD2-34C6DBD47036}"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15.3</a:t>
            </a:r>
            <a:br>
              <a:rPr sz="3600"/>
            </a:br>
            <a:r>
              <a:rPr b="0" lang="en-US" sz="3600" spc="-1" strike="noStrike">
                <a:solidFill>
                  <a:srgbClr val="000000"/>
                </a:solidFill>
                <a:latin typeface="Arial"/>
              </a:rPr>
              <a:t> Voting Process (pg.1 of 2)</a:t>
            </a:r>
            <a:endParaRPr b="0" lang="en-US" sz="36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for the voters, by ballot vote, to vote for one proposal or none of the above. (Voting record will be posted following the vo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 the proposal (or proposals in case of a "tie") receiving the least votes is eliminat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 the process continues with a vote as in "a" and "b" eliminating proposals one by o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ch time the number of proposals in the eliminating process has been reduced to four and two a panel discussion shall be held with the remaining proposers as panel members.  The length of discussion shall be limited to 15 minutes times the number of remaining proposals.  Discussion shall be limited to voting members and the presenters (or their designate).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9AFE008-872D-48B6-BC6C-A8278022B31D}"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15.3</a:t>
            </a:r>
            <a:br>
              <a:rPr sz="3600"/>
            </a:br>
            <a:r>
              <a:rPr b="0" lang="en-US" sz="3600" spc="-1" strike="noStrike">
                <a:solidFill>
                  <a:srgbClr val="000000"/>
                </a:solidFill>
                <a:latin typeface="Arial"/>
              </a:rPr>
              <a:t> Voting Process (pg. 2 of 2)</a:t>
            </a:r>
            <a:endParaRPr b="0" lang="en-US" sz="36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 when one proposal is left the voters shall vote (roll call) for the proposal or none of the above and the proposal shall be required to achieve a 75% majority in order to be submitted to the working group as a recommendation.  If the remaining proposal fails to achieve a 75% majority, the members who voted "no" shall be requested to state why they voted no and what would be required to change their vote to an affirmative vote.  The proposer shall have an opportunity to respond to the concerns of the no voters.  After which a roll call vote will be taken to approve the proposa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 if the last remaining proposal fails to receive 75% majority, the process shall begin again with the proposals remaining after 50% were eliminated.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D57947D-F5A8-491D-87D9-826C5192300E}" type="slidenum">
              <a:t>2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nel Process</a:t>
            </a:r>
            <a:endParaRPr b="0" lang="en-US" sz="36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time for panel is 15 minutes * number of remaining proposa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minute position statement from each member of the panel (option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 – Questions may only be asked by voting members.</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O queue of questions will be kept by Chair.</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one question per position in the queue.</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 must be stated in no more than one minute</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 must be stated in no more than two minute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motions will be considered during the pane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5FF3D67-CD95-431B-84A1-EB66D4641F3A}"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Outline</a:t>
            </a:r>
            <a:endParaRPr b="0" lang="en-US" sz="3600" spc="-1" strike="noStrike">
              <a:solidFill>
                <a:srgbClr val="000000"/>
              </a:solidFill>
              <a:latin typeface="Arial"/>
            </a:endParaRPr>
          </a:p>
        </p:txBody>
      </p:sp>
      <p:sp>
        <p:nvSpPr>
          <p:cNvPr id="49"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 Manufacturing Cost</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ay Spread Resistanc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Consumption</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cy</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issues</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E951E32-E292-48C3-8F63-D7548EAAFF43}"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Manufacturing Cost</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C (section 2.1) addresses the PAR's requirement for a low cost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ing lower cost implementations will increase the usefulness of the stand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digital implementations are on the favorable cost-curve of Moore's la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relatively expensive in bits now will be much cheaper in 4 yea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F1A4EE6-4EFD-40E3-848D-81D87D6374E0}"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Manufacturing Cost Criteria</a:t>
            </a:r>
            <a:endParaRPr b="0" lang="en-US" sz="3600" spc="-1" strike="noStrike">
              <a:solidFill>
                <a:srgbClr val="000000"/>
              </a:solidFill>
              <a:latin typeface="Arial"/>
            </a:endParaRPr>
          </a:p>
        </p:txBody>
      </p:sp>
      <p:sp>
        <p:nvSpPr>
          <p:cNvPr id="53" name=""/>
          <p:cNvSpPr/>
          <p:nvPr/>
        </p:nvSpPr>
        <p:spPr>
          <a:xfrm>
            <a:off x="838080" y="1600200"/>
            <a:ext cx="7696440" cy="42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cremental cost of all parts required to implement a complete TX/RX coding solution including all logic and memo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cremental cost in US $ of implementing the proposed coding scheme calculated assuming $0.20 USD/100 kgat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cost is less than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21CD2E3-A925-441C-B967-310A2A3544A7}"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ay Spread Resistance</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reless environment is hostile to high-speed and wide-band sign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ort-range, home environment, however, is more benign than office, factory or vehicular environ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ding schemes may improve delay spread resistance, others may not and rely instead on an equaliz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1AC8C0F-E2F9-4F16-B06C-01A509AFA81F}"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ay Spread Resistance Criteria</a:t>
            </a:r>
            <a:endParaRPr b="0" lang="en-US" sz="3600" spc="-1" strike="noStrike">
              <a:solidFill>
                <a:srgbClr val="000000"/>
              </a:solidFill>
              <a:latin typeface="Arial"/>
            </a:endParaRPr>
          </a:p>
        </p:txBody>
      </p:sp>
      <p:sp>
        <p:nvSpPr>
          <p:cNvPr id="57" name=""/>
          <p:cNvSpPr/>
          <p:nvPr/>
        </p:nvSpPr>
        <p:spPr>
          <a:xfrm>
            <a:off x="838080" y="1600200"/>
            <a:ext cx="7696440" cy="47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lay spread tolerance is the value of T_RMS for which a maximum FER of 1% is met for 95% of the channels generated using the channel model defined in 4.8.1.  The power level at the transmitter is set 14 dB above the level required for a 1% FER in an AWGN channel.  At least 1000 channels should be generated.  Note that the channel model in 4.8.1 will generate channels with fading parameters, so at the receiver the signal level will vary from one channel realization to the next channel realization.</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lue of T_RMS in n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T_RMS is greater than 25 n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3CDCEF6-E973-4331-97F4-E6A25C161C5F}"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ivered Data Throughput</a:t>
            </a:r>
            <a:endParaRPr b="0" lang="en-US" sz="36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ment for the standard is a system which can deliver 20 M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lso a desire to have an enhanced mode with greater than 40 M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ding methods will decrease the delivered data throughput while hopefully decreasing the P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703D858-0050-411D-8C2E-2A1D0C702423}"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ivered Data Throughput Criteria</a:t>
            </a:r>
            <a:endParaRPr b="0" lang="en-US" sz="3600" spc="-1" strike="noStrike">
              <a:solidFill>
                <a:srgbClr val="000000"/>
              </a:solidFill>
              <a:latin typeface="Arial"/>
            </a:endParaRPr>
          </a:p>
        </p:txBody>
      </p:sp>
      <p:sp>
        <p:nvSpPr>
          <p:cNvPr id="61" name=""/>
          <p:cNvSpPr/>
          <p:nvPr/>
        </p:nvSpPr>
        <p:spPr>
          <a:xfrm>
            <a:off x="838080" y="1600200"/>
            <a:ext cx="7696440" cy="479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ivered data throughput is the rate at which the user’s data is passed through the system.  The values presented here assume that a microwave oven or other channel impairment will not be in operation at the same time as the desired signals are transmitted.  If there is an operating microwave oven in the Personal Operating Space (POS) of this device, it is assumed that the user has enough control of the POS environment to turn it off when desiring to transmit.</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 in Mb/s and % overhead for each of the higher order modulations calculated using P802.15-00/354r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Criter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 defined, more is bett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4D8CD98-6175-456F-BC89-0167E4FD5DC8}"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JPKG</cp:lastModifiedBy>
  <cp:lastPrinted>1998-02-10T13:28:06Z</cp:lastPrinted>
  <dcterms:modified xsi:type="dcterms:W3CDTF">2001-01-17T17:40:51Z</dcterms:modified>
  <cp:revision>44</cp:revision>
  <dc:subject>IEEE 802.15 &lt;subject&gt;</dc:subject>
  <dc:title>No Slide Title</dc:title>
</cp:coreProperties>
</file>