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825-AF0A-4400-82BE-67A1F7C9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28C-7F31-4FDF-909E-620C2ABB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49-9A0E-491D-B414-8A51D935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398-A9CE-4E2E-B360-B0277D00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318-2313-49FE-B97C-073AA047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5F6-463A-42C1-8CAE-EE1381E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5B1-0E05-4F4D-A790-93A3E7B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96D-8161-44A0-A827-EF875145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B5C-3C00-423F-A758-1296FDE6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0FE-9BF0-46E0-8BE8-0BCA037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9BE-7111-4564-A5E6-241BF10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52D-6433-4E28-93BC-104A6C0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11EE40-CBDF-4236-A174-0B9266237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8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Wireless Coexistence Group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F35-AFCF-456F-A5C7-1771A6F7A7C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802.15 became a Working Group it was required to “Coexist” with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the formation 802.15 Task Group 2 on Coexistence of WLAN and WPAN devices in unlicensed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Coexiste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246-92E5-42CD-868A-9EA4ADB655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1 formed the 5 GHz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Harmonize all the 5 GHz WLANs (802.11a, HiperLAN2, MMAC) into a single worldwide 5GHz WLAN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ensure that the systems coex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D92-95B9-4B49-8B49-E4BEBBD0BC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6 formed the Wireless HuMAN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Broadband Acces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FB3-98CB-4804-B3D5-84842DBA46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 Wireless Coexistence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this point the IEEE has b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LANs and WPANs in the same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&amp; 802.11b in 2.4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a &amp; HiperLAN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EEE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ing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4C7-3D9F-4B25-8C26-A486F655E8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 Wireless Coexistence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believe that IEEE should be Proactive, that raises two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function of this new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organization of this new group? (New WG, Joint TG, T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C28-8AF6-4CC7-B9F7-05CC8E5A6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5 TG2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1 5GSG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85D-0904-4230-B721-9BE2F62694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(starting today) the two ope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function of this new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organization of this new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an ExCom Study Group (in March) to investigate these two questions in more de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09E-651C-484A-AA5C-53A1234E22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1-19T16:13:52Z</dcterms:modified>
  <cp:revision>295</cp:revision>
  <dc:subject>IEEE 802.15 &lt;subject&gt;</dc:subject>
  <dc:title>IEEE P802.15 Working Group for Wireless Personal Area Networks</dc:title>
</cp:coreProperties>
</file>