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8556A-4B9B-482D-9C4A-063C8DDE7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6241-BBAE-44D3-B05C-8498836EA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08AD2-618F-4A9B-9A9A-E8485C38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8365C-B866-47A8-B17B-432D82AE1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E9A9-0D3A-472E-8DF5-2E9DB312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9EC0-DE23-4A1A-BEAB-EEA6915F6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880BE-1C98-4263-A493-241001EC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B5605-7BC3-4F15-A1CD-490951580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830C-95E5-407C-B17C-1C73F4F33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F327-1714-4E05-95D4-59B4B530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6F34-AF37-45A5-96E9-F5846CABD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05F6-6F99-4370-9396-A96CD4FA1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A49823-5F9B-42EC-AF53-C882805BA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D588554-3AFA-4E91-9093-3D39723794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0r2,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IEE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Dec00 Sponsor Ballot Tool &amp; Comment processing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Jan01 Follow up on LAN/MAN 802.15 Invitation-to-ballot (Scozzafava)</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Jan01 802.15.1 Draft Std onto IEEE 802 Plus CD-RO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IEE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Dec00 Sponsor Ballot Tool &amp; Comment processing (Piencia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Jan01 LAN/MAN 802.15 Balloting Pool status report (Kahof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Handbook request and plan Manuscript due 1H01</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LAN/MAN 802.15 Invitation-to-ballot, Balloting Group form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Draft Std onto IEEE 802 Plus CD-RO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78AF55-203C-4E41-BA51-D269260E69F5}"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Draft Std. Copyright License &amp; v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 Specification v1.1 Adoption Stat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e on IEEE D0.8 Std Status and next errata  DB in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BSIG-IEEE Telecon and f2f Meeting Da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 TG1 Draft Std. Copyright License &amp; v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802.15 Interim Meeting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need to identify hosts and venue 12months out, or mor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benchmark our Admin tools i.e., Balloting Tools, Comment DB, etc. to other IEEE WGs and other SDOs.  As well as future proof our Membership D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A562BA-8586-47C2-B5DB-61D660729D0B}"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0 -00/340r2 [00340r2P802-15_WG-Liaison-Report-10.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8F7BA0A-CFF6-4E64-B5BE-507D1D93DD70}"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1</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15-19, 2001 Monterey, CA USA</a:t>
            </a: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D90BD20-4FD1-4E87-90B4-ACC17CE078CB}"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05A27A-67C9-4B9D-AB0A-77D55F529DA7}"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2280D4-EF57-4DBC-B20E-C1485DDAB9D3}"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Gifford/Kardach/Truntz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 Forum WATM (/Delaver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He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cK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WBWG (/Withingt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Parri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CA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sp>
        <p:nvSpPr>
          <p:cNvPr id="5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2E3FB6B6-447F-4AC2-A35E-66965161720F}" type="slidenum">
              <a:t>5</a:t>
            </a:fld>
          </a:p>
        </p:txBody>
      </p:sp>
      <p:sp>
        <p:nvSpPr>
          <p:cNvPr id="7" name="PlaceHolder 6"/>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5ADE08F-445D-45F4-B2DA-5575E0B7CCB5}"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Dec00 BSIG PM and IEEE 802.15.3</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Jan01 Follow up on Bluetooth open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Dec00 Follow up on IEEE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Dec00, 5Jan01 Follow up on v1.1</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BSIG PM during/post Session #10/Montere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v1.1 statu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nal Editor/Publisher and Issue No. 7, 8, 9, etc., follow up</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87EC15-7F99-41B6-9474-D46E3691672A}"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G1 and synch with BT v1.1</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ov00 - BSIG Position:</a:t>
            </a:r>
            <a:endParaRPr b="0" lang="en-US" sz="18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BT v1.1 target dates:</a:t>
            </a:r>
            <a:endParaRPr b="0" lang="en-US" sz="1600" spc="-1" strike="noStrike">
              <a:solidFill>
                <a:srgbClr val="000000"/>
              </a:solidFill>
              <a:latin typeface="Times New Roman"/>
            </a:endParaRPr>
          </a:p>
          <a:p>
            <a:pPr lvl="2" marL="987840" indent="-207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draft 11/24</a:t>
            </a:r>
            <a:endParaRPr b="0" lang="en-US" sz="1400" spc="-1" strike="noStrike">
              <a:solidFill>
                <a:srgbClr val="000000"/>
              </a:solidFill>
              <a:latin typeface="Times New Roman"/>
            </a:endParaRPr>
          </a:p>
          <a:p>
            <a:pPr lvl="2" marL="987840" indent="-207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ting draft issued 12/8</a:t>
            </a:r>
            <a:endParaRPr b="0" lang="en-US" sz="1400" spc="-1" strike="noStrike">
              <a:solidFill>
                <a:srgbClr val="000000"/>
              </a:solidFill>
              <a:latin typeface="Times New Roman"/>
            </a:endParaRPr>
          </a:p>
          <a:p>
            <a:pPr lvl="2" marL="987840" indent="-207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 adoption 12/29/00</a:t>
            </a:r>
            <a:endParaRPr b="0" lang="en-US" sz="14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Dec00 - First review draft posted 12-1-00 (for Associates as v1.2 adopters only)</a:t>
            </a:r>
            <a:endParaRPr b="0" lang="en-US" sz="18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 of review period: 12-18-00</a:t>
            </a:r>
            <a:endParaRPr b="0" lang="en-US" sz="16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No-Go decision for adoption 12/20/00</a:t>
            </a:r>
            <a:endParaRPr b="0" lang="en-US" sz="16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Go: </a:t>
            </a:r>
            <a:endParaRPr b="0" lang="en-US" sz="1600" spc="-1" strike="noStrike">
              <a:solidFill>
                <a:srgbClr val="000000"/>
              </a:solidFill>
              <a:latin typeface="Times New Roman"/>
            </a:endParaRPr>
          </a:p>
          <a:p>
            <a:pPr lvl="2" marL="987840" indent="-207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option will be 3 weeks later (circa 1/11/01)</a:t>
            </a:r>
            <a:endParaRPr b="0" lang="en-US" sz="14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o-Go</a:t>
            </a:r>
            <a:endParaRPr b="0" lang="en-US" sz="1600" spc="-1" strike="noStrike">
              <a:solidFill>
                <a:srgbClr val="000000"/>
              </a:solidFill>
              <a:latin typeface="Times New Roman"/>
            </a:endParaRPr>
          </a:p>
          <a:p>
            <a:pPr lvl="2" marL="987840" indent="-207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new spec revision for 2nd week of January and adoption 3 weeks afterwards (Circa 2/1/01)</a:t>
            </a:r>
            <a:endParaRPr b="0" lang="en-US" sz="14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Jan01</a:t>
            </a:r>
            <a:endParaRPr b="0" lang="en-US" sz="18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No-Go.  We wanted the various sections owners to review the drafts after the corrections were made. This bumped us into the holiday period. </a:t>
            </a:r>
            <a:endParaRPr b="0" lang="en-US" sz="1600" spc="-1" strike="noStrike">
              <a:solidFill>
                <a:srgbClr val="000000"/>
              </a:solidFill>
              <a:latin typeface="Times New Roman"/>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Go/No-Go decision date is now Jan 10 &amp;11 (BARB &amp; PM) .  Confidence for Go is high. This would put the adoption date at around Jan 31st.</a:t>
            </a:r>
            <a:endParaRPr b="0" lang="en-US" sz="1600" spc="-1" strike="noStrike">
              <a:solidFill>
                <a:srgbClr val="000000"/>
              </a:solidFill>
              <a:latin typeface="Times New Roman"/>
            </a:endParaRPr>
          </a:p>
        </p:txBody>
      </p:sp>
      <p:sp>
        <p:nvSpPr>
          <p:cNvPr id="66" name=""/>
          <p:cNvSpPr/>
          <p:nvPr/>
        </p:nvSpPr>
        <p:spPr>
          <a:xfrm>
            <a:off x="81720" y="106200"/>
            <a:ext cx="169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F7D9A22-DA1D-4EB5-9C84-00585BAC6A2B}"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1C6DF9-CACD-4E41-958E-B4C844DBCD20}"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January 2001</cp:keywords>
  <dc:language>en-US</dc:language>
  <cp:lastModifiedBy>Ian C. Gifford</cp:lastModifiedBy>
  <cp:lastPrinted>1998-02-10T13:28:06Z</cp:lastPrinted>
  <dcterms:modified xsi:type="dcterms:W3CDTF">2001-01-15T15:16:25Z</dcterms:modified>
  <cp:revision>280</cp:revision>
  <dc:subject>#11</dc:subject>
  <dc:title>Liaison Report</dc:title>
</cp:coreProperties>
</file>