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9BDF-0F60-44DC-876D-58E9E5F3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7589-9E23-4356-88E1-263CC260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4CCA-3DA7-47FA-8650-EA77D74A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A946-211A-4F3D-B374-D971C5DF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F83A-04E7-4242-A962-45511608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3120-9E3D-4018-AE1B-8DFCDA85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EBC4-D58D-4E19-B0C3-91E6E3E4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B600-26D8-4796-B5CC-618F2DCC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B16-D582-4236-A972-DE3278FD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9DA8-C969-4C84-9F28-82616D5D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10EF-B96F-4731-A7E3-B80C5600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206E-6B5B-4111-8B34-6812E447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D5F7-608B-4F83-A0F2-A1A04F658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6480"/>
            <a:ext cx="853416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62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62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62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62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62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62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62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62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62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99880"/>
            <a:ext cx="914400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299880"/>
            <a:ext cx="914400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99880"/>
            <a:ext cx="914400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299880"/>
            <a:ext cx="914400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62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223920"/>
            <a:ext cx="9144000" cy="64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01600"/>
            <a:ext cx="914400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201600"/>
            <a:ext cx="914400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685800" y="228600"/>
            <a:ext cx="10134720" cy="906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62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62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62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62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6T01:14:11Z</dcterms:created>
  <dc:creator>Ivan Reede</dc:creator>
  <dc:description/>
  <dc:language>en-US</dc:language>
  <cp:lastModifiedBy>Ivan Reede</cp:lastModifiedBy>
  <dcterms:modified xsi:type="dcterms:W3CDTF">2001-01-16T01:39:29Z</dcterms:modified>
  <cp:revision>1</cp:revision>
  <dc:subject/>
  <dc:title>No Slide Title</dc:title>
</cp:coreProperties>
</file>