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47D-5561-4B1E-B476-9D7F8D49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8EA-1817-4044-8377-576AFF0D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ED5-AEEF-41F1-83FD-31E99AA5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C4A-1260-4F61-A741-5EB4BE2B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253-ECAF-4887-9CFA-A2E9EEB0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CF07-B5B4-4CF4-B77D-84487C6E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79A-8A68-4B68-BB03-0539EDC8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8E0-7CDE-45B4-AA99-763AC8D0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F2A-8910-432F-8BB4-6C735C86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E26-2A11-40A0-9338-DAB028EF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086-1CF6-4F68-8673-9B0AB996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726-BECC-43B1-93B9-7D32DF48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95640"/>
            <a:ext cx="609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AABBAAC-4D3B-4D48-9034-C2136EEBA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14800" y="396000"/>
            <a:ext cx="434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006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520" y="2362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ower Control and Packet Scheduling for Bluetooth to Avoid 802.11 Direct Sequence Interfe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a Golmie and Nicolas Chevrol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Institute of Standards and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ithersburg, MD 20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8EF-5281-46D0-8C58-E5ECAA0A7F2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Packet Loss at Bluetooth Sl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55560" y="865080"/>
          <a:ext cx="830736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865080"/>
                    <a:ext cx="83073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23B6-7CAF-43C3-B6FB-D18F8B65377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Bluetooth Master Power Transmit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03440" y="507960"/>
          <a:ext cx="7877160" cy="604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507960"/>
                    <a:ext cx="7877160" cy="60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2BCA-724E-44C9-90C8-0F1280DC9F5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Mean Access Delay for Bluetooth Sla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008000" y="901800"/>
          <a:ext cx="7392960" cy="567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901800"/>
                    <a:ext cx="7392960" cy="56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0DF-5835-478F-B674-CE67C866587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73620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Normalized Mean Access Delay for </a:t>
            </a:r>
            <a:br>
              <a:rPr sz="3600"/>
            </a:b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Bluetooth Sl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541520" y="1397160"/>
          <a:ext cx="6835680" cy="524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1520" y="1397160"/>
                    <a:ext cx="6835680" cy="52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6345-0104-4558-AF96-9E5E9F0B235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03040" y="912960"/>
            <a:ext cx="8560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non-collaborative techniques can improve the performance of Bluetooth and IEEE 802.1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of Bluetooth transmitted power has limited advantage (decreases packet loss for interference distance &gt; 1 m) but at the cost of increasing the interference on the other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ing of Bluetooth LAN traffic to use non-interfering frequencies (available) eliminates packet loss and increases access delay by ~ 625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6094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9FF7-07B7-47A0-8C69-FFC83C0EA80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03040" y="912960"/>
            <a:ext cx="8560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same technique for other DM packet siz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se other techniques to deal with Bluetooth voice traffic, WLAN Frequency hopping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6094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ED1-10EF-4976-A1D3-F1D6F3E3896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7509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3680" y="1335240"/>
            <a:ext cx="8610840" cy="47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- Collaborative technique to improve Bluetooth data traffic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: Powe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I: Efficient frequency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Experimen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ology, parameters and traffic model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B5D-F436-48FC-A348-94CAE44F4E9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art I: Power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6612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the power of the transmitter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sed on the receiver Carrier to Interference Ratio (CI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      ,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transmitted power during update intervals t+1 and t respectively,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CIR measured during interval 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255840" y="2508120"/>
                <a:ext cx="3384720" cy="147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IR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t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I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435800" y="1154160"/>
                <a:ext cx="7351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673280" y="3962520"/>
                <a:ext cx="2547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IR</m:t>
                        </m:r>
                      </m:e>
                      <m:sup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746680" y="3876840"/>
                <a:ext cx="74160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792840" y="3922560"/>
                <a:ext cx="446040" cy="6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711760" y="4911840"/>
                <a:ext cx="9716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I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3D13-F5AA-467D-AEAB-E915FA3A2C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art II: Frequency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4280" y="4508640"/>
            <a:ext cx="5715000" cy="1473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8480" y="1195560"/>
            <a:ext cx="8885160" cy="303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a table of the available frequencies based on the BER measurement at the recei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checks both its available frequencies and the slave’s available frequencies before sending a packet to the sl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4280" y="4788000"/>
            <a:ext cx="782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84280" y="5003640"/>
            <a:ext cx="787392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4280" y="5257800"/>
            <a:ext cx="7861320" cy="2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87520" y="4521240"/>
            <a:ext cx="0" cy="139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2760" y="444492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equency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09480" y="5524200"/>
            <a:ext cx="78105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5156280"/>
            <a:ext cx="6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65160" y="4762440"/>
            <a:ext cx="66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9960" y="501660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575320"/>
            <a:ext cx="55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22840" y="4533840"/>
            <a:ext cx="0" cy="139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13080" y="4457880"/>
            <a:ext cx="18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ster 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31480" y="447048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ster Available Fr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59120" y="472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71720" y="553716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59120" y="495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1960" y="60958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ster Frequency Use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99280" y="4495680"/>
            <a:ext cx="2158920" cy="1498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34840" y="447048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ave Available Fr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34040" y="4749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72200" y="558792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34040" y="497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18720" y="6157800"/>
            <a:ext cx="511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Slave Sends to Master Updates on its Available Receiv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813880" y="4774680"/>
            <a:ext cx="12600" cy="15116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8496360" y="4775040"/>
            <a:ext cx="3556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99400" y="472284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^-2 &l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11640" y="4964040"/>
            <a:ext cx="88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^-2 &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25760" y="5560920"/>
            <a:ext cx="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 10^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1A0-D63E-4D47-878A-ABD304D678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800" y="591840"/>
            <a:ext cx="720576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imulation Para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4648320"/>
            <a:ext cx="8991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200" y="1228680"/>
            <a:ext cx="8259840" cy="503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7600" y="1743120"/>
            <a:ext cx="825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4640" y="2098800"/>
            <a:ext cx="825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7600" y="2403360"/>
            <a:ext cx="825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7600" y="2759040"/>
            <a:ext cx="825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0200" y="3114720"/>
            <a:ext cx="825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2040" y="3449520"/>
            <a:ext cx="825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61040" y="4108320"/>
            <a:ext cx="4295520" cy="4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67160" y="4511520"/>
            <a:ext cx="429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6880" y="4879800"/>
            <a:ext cx="428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61040" y="5591160"/>
            <a:ext cx="43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92720" y="5934240"/>
            <a:ext cx="4295520" cy="1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7600" y="6251400"/>
            <a:ext cx="825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200" y="3780000"/>
            <a:ext cx="825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81560" y="1254240"/>
            <a:ext cx="0" cy="501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4760" y="144792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ngth of Simulation 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4760" y="179064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luetooth Parameter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60760" y="146700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41680" y="180036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WLAN Parame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4760" y="211464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M1 Packet Interarrival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3840" y="247644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960" y="279072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mitted Pow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60880" y="210492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25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571920" y="21045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62200" y="2104920"/>
            <a:ext cx="0" cy="415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53320" y="2174760"/>
            <a:ext cx="0" cy="417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2600" y="2124000"/>
            <a:ext cx="32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Interarrival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79840" y="246708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14680" y="2114640"/>
            <a:ext cx="0" cy="415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00840" y="2165400"/>
            <a:ext cx="0" cy="418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7880" y="1800360"/>
            <a:ext cx="825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81960" y="21081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86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36840" y="244800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99520" y="248904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36840" y="281952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34440" y="276228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 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32320" y="280980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mitted Pow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5040" y="311472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ave Coordina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5920" y="313380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27480" y="342900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5680" y="341964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ster Coordina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60760" y="310500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 Coordinates (S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51400" y="342900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ordinates (Sour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88080" y="305100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0,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3000" y="34005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0,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79840" y="376236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Hea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5480" y="374004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24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70480" y="413388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o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51400" y="451476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F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22600" y="4896000"/>
            <a:ext cx="32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F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03880" y="522936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W_m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41680" y="558180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W_ma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32320" y="590544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07160" y="408312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 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32720" y="446724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 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48560" y="483552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 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42240" y="520380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4400" y="558792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89960" y="584820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06760" y="5232240"/>
            <a:ext cx="425448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040" y="1473120"/>
            <a:ext cx="824220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2920" y="118116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pdate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73720" y="114948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0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7360" y="381636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M1 Packet Interarrival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6440" y="417816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584520" y="3807000"/>
            <a:ext cx="0" cy="1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3840" y="4114800"/>
            <a:ext cx="398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6440" y="4508640"/>
            <a:ext cx="397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11640" y="380700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91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36840" y="414972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A228-163F-4C61-B2AA-38A01E91EB2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opolog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topology" descr=""/>
          <p:cNvPicPr/>
          <p:nvPr/>
        </p:nvPicPr>
        <p:blipFill>
          <a:blip r:embed="rId1"/>
          <a:stretch/>
        </p:blipFill>
        <p:spPr>
          <a:xfrm>
            <a:off x="2281320" y="1371600"/>
            <a:ext cx="4505400" cy="45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4436-3FA5-45CD-82CA-F8F3217D4E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raffic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traffic" descr=""/>
          <p:cNvPicPr/>
          <p:nvPr/>
        </p:nvPicPr>
        <p:blipFill>
          <a:blip r:embed="rId1"/>
          <a:stretch/>
        </p:blipFill>
        <p:spPr>
          <a:xfrm>
            <a:off x="1023840" y="1168560"/>
            <a:ext cx="7161480" cy="524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8B1-AD61-4E0E-BE21-87904D3F627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3880" y="68904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erformance Measu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63600" y="1347840"/>
            <a:ext cx="8246880" cy="35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s are performed at the Baseb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of packet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zed and mean access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transmitted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F0B-9F0D-4278-BF4B-1DAFBDF278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3520" y="688680"/>
            <a:ext cx="7807320" cy="78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Error Occurrences and </a:t>
            </a:r>
            <a:br>
              <a:rPr sz="3600"/>
            </a:b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acket Acceptance Deci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160" y="2087640"/>
            <a:ext cx="7328160" cy="166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27240" y="2070000"/>
            <a:ext cx="0" cy="168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65720" y="2130480"/>
            <a:ext cx="0" cy="162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160" y="2514600"/>
            <a:ext cx="729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2880" y="2930400"/>
            <a:ext cx="72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8960" y="3344760"/>
            <a:ext cx="72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6480" y="2133720"/>
            <a:ext cx="20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ror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59680" y="21463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tion Ta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17960" y="2131920"/>
            <a:ext cx="245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ro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46080" y="2541600"/>
            <a:ext cx="20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82720" y="2932200"/>
            <a:ext cx="20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3240" y="3321000"/>
            <a:ext cx="20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M1 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82960" y="24782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mming distance, d=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1240" y="2889360"/>
            <a:ext cx="20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 F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08400" y="3300480"/>
            <a:ext cx="20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 F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69200" y="2521080"/>
            <a:ext cx="14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83160" y="2909880"/>
            <a:ext cx="15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40320" y="3324240"/>
            <a:ext cx="15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format" descr=""/>
          <p:cNvPicPr/>
          <p:nvPr/>
        </p:nvPicPr>
        <p:blipFill>
          <a:blip r:embed="rId1"/>
          <a:stretch/>
        </p:blipFill>
        <p:spPr>
          <a:xfrm>
            <a:off x="181080" y="4444920"/>
            <a:ext cx="8729640" cy="100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68E5-B500-43A2-AFD0-1CD501C9B40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31T23:47:08Z</dcterms:created>
  <dc:creator>Nada Golmie</dc:creator>
  <dc:description>&lt;doc#&gt;</dc:description>
  <dc:language>en-US</dc:language>
  <cp:lastModifiedBy>golmie</cp:lastModifiedBy>
  <cp:lastPrinted>2000-05-05T16:29:21Z</cp:lastPrinted>
  <dcterms:modified xsi:type="dcterms:W3CDTF">2001-01-16T18:50:32Z</dcterms:modified>
  <cp:revision>100</cp:revision>
  <dc:subject>IEEE 802.15 &lt;subject&gt;</dc:subject>
  <dc:title>IEEE P802.15 Working Group for Wireless Personal Area Networks</dc:title>
</cp:coreProperties>
</file>