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7866-6A42-41C9-A2E9-C287DEB7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969-019C-4671-BCAB-32882ADF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374-6434-44B9-AEC5-FE490C47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BCB-F24E-4B8A-8D64-F4F12432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18A8-1B78-40D3-840C-A0D16F45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B99B-DDF8-4F1F-9230-BB65820B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129-0A4F-4465-83BC-62AD0FB3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FD3E-1107-4AA0-AE9E-5B6E1845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C2F-FADC-49A6-9C6D-4A157329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46B0-44CF-412C-BE9D-7A20A615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0DE-4ABA-4A63-9B62-3D50302B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93B-EE7F-4378-88CB-CD32A1BB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emake and Lowry,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1A60C02-AF86-48FE-B2CD-856DF9E7D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084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oemake@ti.com" TargetMode="External"/><Relationship Id="rId2" Type="http://schemas.openxmlformats.org/officeDocument/2006/relationships/hyperlink" Target="mailto:p-lowry@ti.com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1B COEXISTENCE TESTING DATA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thew B. Shoemake, Ph.D. and Paul Lowry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hoemake@ti.co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-lowry@ti.co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0661-03E0-4A55-8E54-85A43A6329E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49680" y="1143000"/>
            <a:ext cx="411480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Top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line Digianswer BT throughp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154160"/>
            <a:ext cx="4114800" cy="143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ianswer BT = 100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48240" y="16207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0840" y="163188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527800" y="1955520"/>
            <a:ext cx="2670480" cy="152280"/>
            <a:chOff x="5527800" y="1955520"/>
            <a:chExt cx="2670480" cy="152280"/>
          </a:xfrm>
        </p:grpSpPr>
        <p:sp>
          <p:nvSpPr>
            <p:cNvPr id="194" name=""/>
            <p:cNvSpPr/>
            <p:nvPr/>
          </p:nvSpPr>
          <p:spPr>
            <a:xfrm>
              <a:off x="5527800" y="2031480"/>
              <a:ext cx="267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27800" y="19555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8198280" y="19555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161040" y="2160720"/>
            <a:ext cx="16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(f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48480" y="1763640"/>
            <a:ext cx="233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14360" y="2633760"/>
          <a:ext cx="8259840" cy="28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633760"/>
                    <a:ext cx="8259840" cy="28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261-30E3-48D3-9FD7-F71D239CEC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605480" y="1120680"/>
            <a:ext cx="453852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To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answer BT throughput with 802.11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154160"/>
            <a:ext cx="4114800" cy="143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ianswer = 100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=30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48240" y="16207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935840" y="163188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527800" y="2241360"/>
            <a:ext cx="2670480" cy="152280"/>
            <a:chOff x="5527800" y="2241360"/>
            <a:chExt cx="2670480" cy="152280"/>
          </a:xfrm>
        </p:grpSpPr>
        <p:sp>
          <p:nvSpPr>
            <p:cNvPr id="207" name=""/>
            <p:cNvSpPr/>
            <p:nvPr/>
          </p:nvSpPr>
          <p:spPr>
            <a:xfrm>
              <a:off x="5527800" y="2317320"/>
              <a:ext cx="267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527800" y="224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8198280" y="224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375240" y="2060640"/>
            <a:ext cx="131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(f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48480" y="1763640"/>
            <a:ext cx="21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25520" y="2633760"/>
          <a:ext cx="8696160" cy="28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2633760"/>
                    <a:ext cx="8696160" cy="28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8074080" y="1305000"/>
            <a:ext cx="277920" cy="277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62920" y="1928880"/>
            <a:ext cx="311040" cy="2570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73880" y="162864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553600" y="14716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86720" y="1449360"/>
            <a:ext cx="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475840" y="1449360"/>
            <a:ext cx="21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86640" y="214164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619120" y="155880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14360" y="2600280"/>
          <a:ext cx="8685360" cy="28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360" y="2600280"/>
                    <a:ext cx="86853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ED5-FCAB-4B0B-B4B6-10779F51070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05480" y="1120680"/>
            <a:ext cx="453852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To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answer BT throughput with 802.11b 30 ft.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154160"/>
            <a:ext cx="4114800" cy="143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ianswer = 100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=30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48240" y="16207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261200" y="16081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527800" y="2241360"/>
            <a:ext cx="1894680" cy="152280"/>
            <a:chOff x="5527800" y="2241360"/>
            <a:chExt cx="1894680" cy="152280"/>
          </a:xfrm>
        </p:grpSpPr>
        <p:sp>
          <p:nvSpPr>
            <p:cNvPr id="230" name=""/>
            <p:cNvSpPr/>
            <p:nvPr/>
          </p:nvSpPr>
          <p:spPr>
            <a:xfrm>
              <a:off x="5527800" y="2317320"/>
              <a:ext cx="189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527800" y="224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422480" y="224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826240" y="2014560"/>
            <a:ext cx="124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ance (f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48480" y="1763640"/>
            <a:ext cx="14731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25520" y="2633760"/>
          <a:ext cx="8696160" cy="28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2633760"/>
                    <a:ext cx="8696160" cy="28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8175600" y="1305000"/>
            <a:ext cx="277920" cy="277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55080" y="1940040"/>
            <a:ext cx="311040" cy="2570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73880" y="162864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553600" y="14716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586720" y="1449360"/>
            <a:ext cx="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475840" y="1449360"/>
            <a:ext cx="21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486640" y="214164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96160" y="1558800"/>
            <a:ext cx="44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2600280"/>
          <a:ext cx="8685360" cy="28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360" y="2600280"/>
                    <a:ext cx="86853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7521480" y="1714680"/>
            <a:ext cx="73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229600" y="1600200"/>
            <a:ext cx="0" cy="2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7497360" y="1541160"/>
            <a:ext cx="1116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67920" y="14428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 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BDE-E3DF-4B2D-8362-60ABD0D6A00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57600" y="1131840"/>
            <a:ext cx="4114800" cy="151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To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91360" y="162396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line 802.11 Fragmentation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3360" y="1152360"/>
            <a:ext cx="3848040" cy="169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sco Aironet AP340 and Cli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con period = 100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xPower = 30 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72000" y="161784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541840" y="1955520"/>
            <a:ext cx="2670840" cy="152280"/>
            <a:chOff x="5541840" y="1955520"/>
            <a:chExt cx="2670840" cy="152280"/>
          </a:xfrm>
        </p:grpSpPr>
        <p:sp>
          <p:nvSpPr>
            <p:cNvPr id="257" name=""/>
            <p:cNvSpPr/>
            <p:nvPr/>
          </p:nvSpPr>
          <p:spPr>
            <a:xfrm>
              <a:off x="5541840" y="2031480"/>
              <a:ext cx="267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541840" y="19555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8212680" y="19555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146640" y="2131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ance (f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9440" y="2700360"/>
          <a:ext cx="8069040" cy="37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2700360"/>
                    <a:ext cx="806904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5708520" y="1739880"/>
            <a:ext cx="238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B6F-50AB-44EB-8A70-5672D4B88D4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92520" y="1143000"/>
            <a:ext cx="4551480" cy="151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Top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40760" y="162396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Fragmentation Difference vs. 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3360" y="1152360"/>
            <a:ext cx="3848040" cy="1366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sco Aironet AP340 and Cli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con period = 100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xPower = 30 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ianswer BT = 100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72000" y="161784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527800" y="2241360"/>
            <a:ext cx="2670480" cy="152280"/>
            <a:chOff x="5527800" y="2241360"/>
            <a:chExt cx="2670480" cy="152280"/>
          </a:xfrm>
        </p:grpSpPr>
        <p:sp>
          <p:nvSpPr>
            <p:cNvPr id="270" name=""/>
            <p:cNvSpPr/>
            <p:nvPr/>
          </p:nvSpPr>
          <p:spPr>
            <a:xfrm>
              <a:off x="5527800" y="2317320"/>
              <a:ext cx="267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527800" y="224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198280" y="224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275520" y="2031840"/>
            <a:ext cx="137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ance (f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49440" y="2700360"/>
          <a:ext cx="8069040" cy="37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2700360"/>
                    <a:ext cx="806904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8359920" y="1171440"/>
            <a:ext cx="266400" cy="3240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440" y="2097000"/>
            <a:ext cx="268200" cy="2574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671320" y="15955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515440" y="150804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26160" y="1760400"/>
            <a:ext cx="2468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44040" y="1382760"/>
            <a:ext cx="0" cy="82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8697960" y="1382760"/>
            <a:ext cx="149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686800" y="2193840"/>
            <a:ext cx="171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DCBF-9B93-4F85-89F1-CDAE30A6007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37080" y="1143000"/>
            <a:ext cx="4421160" cy="140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To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091360" y="162396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b vs. 2.4Ghz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3360" y="1152360"/>
            <a:ext cx="3848040" cy="1366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sco Aironet AP340 and Cli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g = 2312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con period = 100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xPower = 30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81640" y="162864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527800" y="2241360"/>
            <a:ext cx="2670480" cy="152280"/>
            <a:chOff x="5527800" y="2241360"/>
            <a:chExt cx="2670480" cy="152280"/>
          </a:xfrm>
        </p:grpSpPr>
        <p:sp>
          <p:nvSpPr>
            <p:cNvPr id="290" name=""/>
            <p:cNvSpPr/>
            <p:nvPr/>
          </p:nvSpPr>
          <p:spPr>
            <a:xfrm>
              <a:off x="5527800" y="2317320"/>
              <a:ext cx="267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527800" y="224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8198280" y="224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389640" y="1989000"/>
            <a:ext cx="10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 f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37240" y="17413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649440" y="2711520"/>
          <a:ext cx="8001000" cy="37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2711520"/>
                    <a:ext cx="8001000" cy="37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1422360" y="2790720"/>
          <a:ext cx="6095880" cy="35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2360" y="2790720"/>
                    <a:ext cx="60958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592200" y="2778120"/>
          <a:ext cx="7932600" cy="350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2200" y="2778120"/>
                    <a:ext cx="793260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1565280" y="3794040"/>
            <a:ext cx="101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s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8000" y="4525920"/>
            <a:ext cx="19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ones powered up with Hand set in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08480" y="3765600"/>
            <a:ext cx="148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 phone handset lifted from Base (dial to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78640" y="3208320"/>
            <a:ext cx="155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shiba handset lifted from Base (dial to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80200" y="1268280"/>
            <a:ext cx="263880" cy="274680"/>
          </a:xfrm>
          <a:prstGeom prst="triangle">
            <a:avLst>
              <a:gd name="adj" fmla="val 50000"/>
            </a:avLst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593800" y="3400200"/>
            <a:ext cx="289080" cy="11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1693800" y="3236400"/>
            <a:ext cx="480960" cy="57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768840" y="3499920"/>
            <a:ext cx="620640" cy="26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093000" y="3814920"/>
            <a:ext cx="529920" cy="334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8515440" y="1430280"/>
            <a:ext cx="144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423280" y="1440000"/>
            <a:ext cx="19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412120" y="1793880"/>
            <a:ext cx="182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620560" y="147636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8B0-C84A-4E35-80B5-2A5FD01A802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24040" y="1839960"/>
            <a:ext cx="525240" cy="399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54120" y="1674720"/>
            <a:ext cx="717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sco Aironet Access Point. Model 340.  Connected to a Hub from a 800Mhz Desktop PC.  TX Power = 1mW or 30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7320" y="2733840"/>
            <a:ext cx="536760" cy="423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84360" y="2627280"/>
            <a:ext cx="724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on or Client. Cisco Aironet  Series 340 Wireless LAN adapter. PCMIA Used in Dell Laptop.  TX Power = 30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9560" y="3344760"/>
            <a:ext cx="642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hariot by Ganymede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NETIQ). Shows direction of file transfer. Used standard long file send  scri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03240" y="4218120"/>
            <a:ext cx="457200" cy="4460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89040" y="41482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answer BlueTooth (PCMIA) Master configuration. Used in Dell Laptop.  TX Power = 100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82720" y="4987800"/>
            <a:ext cx="434880" cy="4572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9800" y="4946760"/>
            <a:ext cx="72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answer BlueTooth (PCMIA) Slave configuration. Used in Dell Laptop.  TX Power = 100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080" y="821880"/>
            <a:ext cx="8300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mbol Defin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3635280"/>
            <a:ext cx="696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7160" y="5794200"/>
            <a:ext cx="525600" cy="400320"/>
          </a:xfrm>
          <a:prstGeom prst="triangle">
            <a:avLst>
              <a:gd name="adj" fmla="val 50000"/>
            </a:avLst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57440" y="5443560"/>
            <a:ext cx="578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46280" y="5726160"/>
            <a:ext cx="749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4Ghz cordless phone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shiba Model# SG1700 and GE Model #27730GE2-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9EAA-217C-4FCD-A1A5-B295AD7BE4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48240" y="1144440"/>
            <a:ext cx="4114800" cy="151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To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91360" y="162396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line IEEE 802.11b Through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3360" y="1152360"/>
            <a:ext cx="3848040" cy="1366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sco Aironet AP340 and Cli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g = 2312B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con period = 100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X Power = 1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81640" y="162864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513400" y="1912680"/>
            <a:ext cx="2670840" cy="152280"/>
            <a:chOff x="5513400" y="1912680"/>
            <a:chExt cx="2670840" cy="152280"/>
          </a:xfrm>
        </p:grpSpPr>
        <p:sp>
          <p:nvSpPr>
            <p:cNvPr id="66" name=""/>
            <p:cNvSpPr/>
            <p:nvPr/>
          </p:nvSpPr>
          <p:spPr>
            <a:xfrm>
              <a:off x="5513400" y="1988640"/>
              <a:ext cx="267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513400" y="19126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8184240" y="19126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118200" y="2075040"/>
            <a:ext cx="12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ance (f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7240" y="17413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38280" y="2711520"/>
          <a:ext cx="8022960" cy="37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711520"/>
                    <a:ext cx="8022960" cy="37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3DF-FB0E-405A-8213-015930057E8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37080" y="1143000"/>
            <a:ext cx="4114800" cy="151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Top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91360" y="162396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line IEEE 802.11b Through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3360" y="1152360"/>
            <a:ext cx="3848040" cy="1366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sco Aironet AP340 and 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g = 2312B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con period = 100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xPower = 30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81640" y="162864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499000" y="1970280"/>
            <a:ext cx="2670840" cy="152280"/>
            <a:chOff x="5499000" y="1970280"/>
            <a:chExt cx="2670840" cy="152280"/>
          </a:xfrm>
        </p:grpSpPr>
        <p:sp>
          <p:nvSpPr>
            <p:cNvPr id="79" name=""/>
            <p:cNvSpPr/>
            <p:nvPr/>
          </p:nvSpPr>
          <p:spPr>
            <a:xfrm>
              <a:off x="5499000" y="2046240"/>
              <a:ext cx="267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499000" y="19702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169840" y="19702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6146640" y="2103480"/>
            <a:ext cx="13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ance (f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7240" y="17413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49440" y="2711520"/>
          <a:ext cx="8001000" cy="37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2711520"/>
                    <a:ext cx="8001000" cy="37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D72-6648-4CEA-85AC-48A73923311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14760" y="1154160"/>
            <a:ext cx="4114800" cy="151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To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91360" y="162396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b Throughput with BT @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3360" y="1152360"/>
            <a:ext cx="3848040" cy="162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sco Aironet AP340 and 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g =2312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con period = 100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xPower = 1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ianswer BT = 100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72000" y="161784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527800" y="2241360"/>
            <a:ext cx="2670480" cy="152280"/>
            <a:chOff x="5527800" y="2241360"/>
            <a:chExt cx="2670480" cy="152280"/>
          </a:xfrm>
        </p:grpSpPr>
        <p:sp>
          <p:nvSpPr>
            <p:cNvPr id="92" name=""/>
            <p:cNvSpPr/>
            <p:nvPr/>
          </p:nvSpPr>
          <p:spPr>
            <a:xfrm>
              <a:off x="5527800" y="2317320"/>
              <a:ext cx="267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527800" y="224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198280" y="224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303960" y="231768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ance (f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49920" y="1741320"/>
            <a:ext cx="2325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38280" y="2711520"/>
          <a:ext cx="7989840" cy="37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711520"/>
                    <a:ext cx="7989840" cy="37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0880" y="1193760"/>
            <a:ext cx="266760" cy="3240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51400" y="1971720"/>
            <a:ext cx="268200" cy="2570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52920" y="153828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0440" y="1327320"/>
            <a:ext cx="0" cy="78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051160" y="21081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49720" y="1327320"/>
            <a:ext cx="1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37520" y="15145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95C-73F9-434C-9FDF-2EC0CFC105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25920" y="1154160"/>
            <a:ext cx="4114800" cy="151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To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91360" y="162396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b Throughput with BT @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3360" y="1152360"/>
            <a:ext cx="3848040" cy="162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sco Aironet AP340 and 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g = 231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con period = 100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xPower = 30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ianswer BT = 100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72000" y="161784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527800" y="2241360"/>
            <a:ext cx="2670480" cy="152280"/>
            <a:chOff x="5527800" y="2241360"/>
            <a:chExt cx="2670480" cy="152280"/>
          </a:xfrm>
        </p:grpSpPr>
        <p:sp>
          <p:nvSpPr>
            <p:cNvPr id="112" name=""/>
            <p:cNvSpPr/>
            <p:nvPr/>
          </p:nvSpPr>
          <p:spPr>
            <a:xfrm>
              <a:off x="5527800" y="2317320"/>
              <a:ext cx="267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527800" y="224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98280" y="224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275520" y="2317680"/>
            <a:ext cx="13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ance (f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9920" y="1741320"/>
            <a:ext cx="2325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38280" y="2711520"/>
          <a:ext cx="7912080" cy="37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711520"/>
                    <a:ext cx="7912080" cy="37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330880" y="1193760"/>
            <a:ext cx="266760" cy="3240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51400" y="1971720"/>
            <a:ext cx="268200" cy="2570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52920" y="153828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95720" y="1371600"/>
            <a:ext cx="0" cy="80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3680" y="138276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62520" y="215280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93240" y="162576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597-FAA9-4C65-A404-4C7FF489571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b Throughput with BT @ 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3360" y="1152360"/>
            <a:ext cx="3848040" cy="162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sco Aironet AP340 and 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g = 2312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con period = 100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xPower = 1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ianswer BT = 100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49440" y="2700360"/>
          <a:ext cx="8069040" cy="37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2700360"/>
                    <a:ext cx="806904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516560" y="1166760"/>
            <a:ext cx="4449600" cy="151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Top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0000" y="1749600"/>
            <a:ext cx="261720" cy="239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81800" y="1725480"/>
            <a:ext cx="35568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18480" y="1382760"/>
            <a:ext cx="285840" cy="3222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83560" y="2000160"/>
            <a:ext cx="320760" cy="2858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78680" y="1714680"/>
            <a:ext cx="0" cy="28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22880" y="1863720"/>
            <a:ext cx="2138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78600" y="2422440"/>
            <a:ext cx="236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43680" y="2365200"/>
            <a:ext cx="0" cy="16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2332080"/>
            <a:ext cx="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40280" y="2409840"/>
            <a:ext cx="15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ance (f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4880" y="154296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86840" y="1531800"/>
            <a:ext cx="17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40760" y="2206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66040" y="1760400"/>
            <a:ext cx="6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8A1-AC77-4D2B-8EC9-201925A6941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16560" y="1166760"/>
            <a:ext cx="4449600" cy="151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To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6560" y="1635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b Throughput with BT @ 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3360" y="1152360"/>
            <a:ext cx="3848040" cy="162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sco Aironet AP340 and 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g = 2312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con period = 100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xPower = 30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ianswer BT = 100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72000" y="161784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527800" y="2241360"/>
            <a:ext cx="2670480" cy="152280"/>
            <a:chOff x="5527800" y="2241360"/>
            <a:chExt cx="2670480" cy="152280"/>
          </a:xfrm>
        </p:grpSpPr>
        <p:sp>
          <p:nvSpPr>
            <p:cNvPr id="151" name=""/>
            <p:cNvSpPr/>
            <p:nvPr/>
          </p:nvSpPr>
          <p:spPr>
            <a:xfrm>
              <a:off x="5527800" y="2317320"/>
              <a:ext cx="267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527800" y="224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8198280" y="224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546960" y="2317680"/>
            <a:ext cx="95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tance (f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49440" y="2700360"/>
          <a:ext cx="8196120" cy="37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2700360"/>
                    <a:ext cx="8196120" cy="37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7872480" y="1285920"/>
            <a:ext cx="266760" cy="323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16760" y="1938240"/>
            <a:ext cx="268560" cy="2574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72880" y="156996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51760" y="1606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96280" y="1382760"/>
            <a:ext cx="0" cy="79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29680" y="1371600"/>
            <a:ext cx="15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40840" y="2163600"/>
            <a:ext cx="16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61080" y="1736640"/>
            <a:ext cx="2000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7707-DD66-4913-8B9E-D95AA389051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30600" y="1133640"/>
            <a:ext cx="4427640" cy="151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To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05560" y="163656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b Throughput with BT 30 ft. from 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3360" y="1152360"/>
            <a:ext cx="3848040" cy="162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sco Aironet AP340 and Cli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g = 2312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con period = 100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xPower = 30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ianswer BT = 100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16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94520" y="227340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ance (f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49440" y="2746440"/>
          <a:ext cx="8069040" cy="37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2746440"/>
                    <a:ext cx="806904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8591400" y="1214280"/>
            <a:ext cx="266760" cy="3240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623440" y="2208240"/>
            <a:ext cx="268200" cy="2570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755200" y="1589040"/>
            <a:ext cx="0" cy="59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44080" y="1371600"/>
            <a:ext cx="17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23280" y="1360440"/>
            <a:ext cx="0" cy="10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34360" y="2352600"/>
            <a:ext cx="18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91600" y="171288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58080" y="1749600"/>
            <a:ext cx="1325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50080" y="1725480"/>
            <a:ext cx="63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79000" y="1622520"/>
            <a:ext cx="0" cy="21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48640" y="1622520"/>
            <a:ext cx="1440" cy="18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18480" y="1690560"/>
            <a:ext cx="58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32440" y="2263680"/>
            <a:ext cx="164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08680" y="216072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78720" y="21718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F73-BB44-47B3-BBED-E567AA558C9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22:29:52Z</dcterms:created>
  <dc:creator>Matthew B. Shoemake</dc:creator>
  <dc:description>&lt;doc#&gt;</dc:description>
  <dc:language>en-US</dc:language>
  <cp:lastModifiedBy>Matthew B. Shoemake</cp:lastModifiedBy>
  <cp:lastPrinted>1998-02-10T13:28:06Z</cp:lastPrinted>
  <dcterms:modified xsi:type="dcterms:W3CDTF">2001-01-19T03:17:54Z</dcterms:modified>
  <cp:revision>37</cp:revision>
  <dc:subject>IEEE 802.15 &lt;subject&gt;</dc:subject>
  <dc:title>PowerPoint Presentation</dc:title>
</cp:coreProperties>
</file>