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B35-787F-484F-95C0-BBE024CB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924-4E6B-44CA-B112-6121551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C4F-87AD-4FE2-91AC-53A5ECFE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1DF-F0F5-481B-8E35-17CD017B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00F-EF28-4D27-B293-3154035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B8A-F001-4E9C-BF62-232AF0E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250-8BE5-4AC5-88C5-AFA4CD7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4A7-7699-4268-BC92-3D3B3C5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D85-E518-476C-A909-9511497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0A2-4E29-4205-9714-1E44DC2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DDC-DDB9-4B25-98C9-9DD515A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94C-9EDB-46E0-AE87-E683C52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A7B5D8-B839-425C-88CE-4D186DBF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5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Low Rate Closing Report-Monter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d 8 Responses to the C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d Results into a Summary Matrix (doc # 01/0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Project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a gameplan for going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Call Time established to be weekly at 11am et on Wednes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248-A90E-40D3-83D2-8B4B0E8BEA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Low Rate Closing Report-Monter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adapt the TG3 Criteria doc 00/110 as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ith current Call For Intent.  No submissions accepted after Hilton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op level review of proposals at Hilton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raft of Final draft of Criteria doc. Create weightings and approve doc at Hilton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mal review of Proposals in Orlando and select baseline MAC and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8CE-3B07-44C5-9A98-01E64059D4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Low Rate Closing Report-Monter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2B9-E074-4CB1-8B04-D8977FAE37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Low Rate Closing Report-Monter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Hilton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 Criteria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Criteria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top level responses to the C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FD9-F8F9-44BC-B25A-AA21D47630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6:07:45Z</dcterms:created>
  <dc:creator>Robert F.  Heile</dc:creator>
  <dc:description>01/051r0</dc:description>
  <dc:language>en-US</dc:language>
  <cp:lastModifiedBy>Robert F.  Heile</cp:lastModifiedBy>
  <cp:lastPrinted>1998-02-10T13:28:06Z</cp:lastPrinted>
  <dcterms:modified xsi:type="dcterms:W3CDTF">2001-01-19T17:18:17Z</dcterms:modified>
  <cp:revision>8</cp:revision>
  <dc:subject>IEEE 802.15 &lt;subject&gt;</dc:subject>
  <dc:title>No Slide Title</dc:title>
</cp:coreProperties>
</file>