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B67-E41B-49E6-B943-D77853E3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CB1-F775-4EFB-A23C-C738C90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22C-5CF9-45B9-A05E-DF74A4AA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8E6-7295-41ED-8272-7C5BBEB0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556-3708-4459-8375-0E1B747A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6BB-7CEE-4921-9534-C346F8A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72C-AE85-40DA-8803-86CDE61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F00-B1D0-4A81-965B-E5AD80F5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C34-3BC1-4F27-A7A0-8AA2779E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997-F56F-4E34-943F-925E972D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91F-F4DC-4576-82AE-28A8461B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622-93D7-4194-8006-A94D8933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B9A4EE-96C7-4F97-A0DB-69BE7258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3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aison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D22-1FA8-4523-ABAF-04FC7C40BB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to have discussions on defining the details surrounding Adaptive Hopp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ised the FCC as to our thoughts on this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ed FCC support to continue to work towards consensus on this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welcome any thoughts and suggestions  on this issue from the IEEE 802.15.2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C23-61F5-40C6-BDD1-2E2AD8309F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Working Group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/Bluetooth SIG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ing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Hopp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2E9-4503-41DE-A447-7449940026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Working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400"/>
              </a:spcBef>
              <a:spcAft>
                <a:spcPts val="11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ithin the Bluetooth™ community as well as with cross industry groups (e.g. IEEE) to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quantify the detrimental eff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ich Bluetooth™ and other wireless products will have on the performance of both. This information will be imperative for members of the Bluetooth community to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dvise their custom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realistic performance one can expect in different environments as well a build products which span between Bluetooth™ and other wireless products.  In addition, it will be used to disseminate SIG sponsored information on issues of coexistence to regulatory bo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1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tho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Bluetooth™ operation that will be used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to improve coexist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tween systems in the shared radio band.  These will be issued a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st Practi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ite papers, improvements to the Bluetooth™ specifications, or formal profiles as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1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work closely with the Radio 2.0 Working Group to evaluate coexistence issues in new proposed radio desig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323-CF27-4D31-A6D7-B665C6AE16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TG2/ Bluetooth SIG Coexistence Working Group Coord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work with the IEEE on how best to work together and avoid duplication of effo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simu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live and simulation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and Tod Sizer are currently acting as liaisons between the two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3BB-80E7-48E5-AAB4-9692A1166C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to perform quantitative studies of Coexistence of Bluetooth with other interfer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is on quantitative packet error rate performance in specific interference scenari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v.s. Bluetoo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v.s. 802.11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v.s. 2.4 GHz DECT Cordless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4A4-7486-485D-BE06-9405DD44A6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some limitations in the equipment to this point several of the experiments could not be completed.  Hope to report the complete results at the next IEEE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interferers to test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2.4 GHz Cordless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as to interferers we should address beyond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9DF-4C95-4D5E-9C4C-4ABFE58CA9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izing Sim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Error Rate simulations have been perform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T 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wave Ovens 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were presented at the Tampa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ooking to compare these simulations with live testing and develop White Paper to aid deployment of Blueto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8F8-85E2-4FC7-B383-15F430B8A7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Hopping to Avoid Inter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 interference is detected, hop over the entire frequency b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terference is detected at a level which will cause packet errors to Bluetooth, actively avoid these frequency hop 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ique is currently legal for Type 3 Bluetooth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95280" y="1386360"/>
            <a:ext cx="7162920" cy="1171800"/>
            <a:chOff x="1295280" y="1386360"/>
            <a:chExt cx="7162920" cy="1171800"/>
          </a:xfrm>
        </p:grpSpPr>
        <p:sp>
          <p:nvSpPr>
            <p:cNvPr id="62" name=""/>
            <p:cNvSpPr/>
            <p:nvPr/>
          </p:nvSpPr>
          <p:spPr>
            <a:xfrm>
              <a:off x="1295280" y="195876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18064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81680" y="18064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4280" y="1806480"/>
              <a:ext cx="99072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280" y="2035080"/>
              <a:ext cx="5486400" cy="15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95280" y="2263680"/>
              <a:ext cx="3429000" cy="151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15000" y="2263680"/>
              <a:ext cx="1066680" cy="151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5280" y="138636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4 GHz ISM Band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81680" y="1725840"/>
              <a:ext cx="16765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ic Interf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uetooth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aptive Ho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C3B-5FE2-4AB4-A777-89E34936FE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Hopping to Avoid Inter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intelligence to avoid interference is legal at all powers, however, the required number of hop locations must be maintain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existence Working Group feels that adaptive hopping shows great promise in improving the performance of Bluetooth as a Coexistence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d Sizer, Lucent Technologies / Bell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A5A-EC92-4EEF-B590-E9F05DDE4B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4:02:26Z</dcterms:created>
  <dc:creator>Theodore Sizer</dc:creator>
  <dc:description>&lt;doc#&gt;</dc:description>
  <dc:language>en-US</dc:language>
  <cp:lastModifiedBy>Steve Shellhammer</cp:lastModifiedBy>
  <cp:lastPrinted>1998-02-10T13:28:06Z</cp:lastPrinted>
  <dcterms:modified xsi:type="dcterms:W3CDTF">2001-01-12T20:33:10Z</dcterms:modified>
  <cp:revision>17</cp:revision>
  <dc:subject>IEEE 802.15 &lt;subject&gt;</dc:subject>
  <dc:title>Bluetooth SIG Coexistence Working Group</dc:title>
</cp:coreProperties>
</file>