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74CD3-609C-43CC-BCB1-AF04F640D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641CB-1FCC-40C7-B9E2-CFC48D480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76530-7035-425D-9955-3A3D38212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000A7-C28F-403D-A1C4-140EF54A3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516E4-75A9-4D4A-A0A9-1550E0F60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4B4B0-6B96-4A2D-9ED6-EA8A42AF2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2663-F903-4D08-8027-6D9FDAEBD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0EAE-9C30-48F4-B507-CDB315CB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3B550-6773-4AFE-B680-DE0487082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AED5D-3A95-43FA-8AF2-AE21C374E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2EC8-863F-43CB-AB41-B1E8D7E3D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0871D-977D-4FB0-BE93-3C5848E44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 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BD268A-D08C-442E-8169-802E859EA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a:t>
            </a:r>
            <a:r>
              <a:rPr b="0" lang="en-US" sz="1600" spc="-1" strike="noStrike">
                <a:solidFill>
                  <a:srgbClr val="000000"/>
                </a:solidFill>
                <a:latin typeface="Times New Roman"/>
              </a:rPr>
              <a:t>Coding-criteri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1 Januar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e criteria for evaluating PHY coding methods for the P802.15.3 draft standar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escribe the evaluation criteria for the voting me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CB7A5B8-9209-4284-96BD-F3BEA3A113CA}"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nge</a:t>
            </a:r>
            <a:endParaRPr b="0" lang="en-US" sz="36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 requires a system that has a 10 m range in an environment where the user has control of potential interfer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nge depends on the actual fading, both flat and frequency-selective, the TX power, the RX sensitivity and the presence of other interfering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ual range will be different at every location will change over tim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1279C3D-6BD4-4AF3-BD2E-501183E79120}"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nge Criteria</a:t>
            </a:r>
            <a:endParaRPr b="0" lang="en-US" sz="3600" spc="-1" strike="noStrike">
              <a:solidFill>
                <a:srgbClr val="000000"/>
              </a:solidFill>
              <a:latin typeface="Arial"/>
            </a:endParaRPr>
          </a:p>
        </p:txBody>
      </p:sp>
      <p:sp>
        <p:nvSpPr>
          <p:cNvPr id="65" name=""/>
          <p:cNvSpPr/>
          <p:nvPr/>
        </p:nvSpPr>
        <p:spPr>
          <a:xfrm>
            <a:off x="838080" y="1600200"/>
            <a:ext cx="7696440" cy="41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the 802.15.3 PAR, the proposed system shall be able to initiate a WPAN connection within a 10 meter radius 99.9% of the time.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of the higher-order modulations, report the receiver sensitivity assuming a receiver noise figure of 12 dB and ideal isotropic antenna (i.e. 0 dBi ga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fined, lower sensitivity is bet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47DE607-BC27-428B-8319-B24EFBFF7709}"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 Consumption</a:t>
            </a:r>
            <a:endParaRPr b="0" lang="en-US" sz="36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PAN connectivity implies small, mobile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life will be an important aspect to the consum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battery life will depend on the use model, which has not been defined by TG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 for the coding to have a minimal impact on the peak DC power consump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E9CEE1C-3829-4400-A3AC-D1746549A50F}"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 Consumption Criteria</a:t>
            </a:r>
            <a:endParaRPr b="0" lang="en-US" sz="3600" spc="-1" strike="noStrike">
              <a:solidFill>
                <a:srgbClr val="000000"/>
              </a:solidFill>
              <a:latin typeface="Arial"/>
            </a:endParaRPr>
          </a:p>
        </p:txBody>
      </p:sp>
      <p:sp>
        <p:nvSpPr>
          <p:cNvPr id="69" name=""/>
          <p:cNvSpPr/>
          <p:nvPr/>
        </p:nvSpPr>
        <p:spPr>
          <a:xfrm>
            <a:off x="838080" y="1600200"/>
            <a:ext cx="7696440" cy="44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otal amount of DC power required by the proposed system to operate the encoder or decoder for each of the higher order modulation schem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C power requirement for the encoder/decoder circuitry each of the higher-order modulations assuming 0.018 </a:t>
            </a:r>
            <a:r>
              <a:rPr b="0" lang="en-US" sz="2400" spc="-1" strike="noStrike">
                <a:solidFill>
                  <a:srgbClr val="000000"/>
                </a:solidFill>
                <a:latin typeface="NewCenturySchlbk"/>
              </a:rPr>
              <a:t>m</a:t>
            </a:r>
            <a:r>
              <a:rPr b="0" lang="en-US" sz="2400" spc="-1" strike="noStrike">
                <a:solidFill>
                  <a:srgbClr val="000000"/>
                </a:solidFill>
                <a:latin typeface="Times New Roman"/>
              </a:rPr>
              <a:t>W/(MHz*kgat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fined, lower is better.  Total peak power for complete radio must be less than 0.5 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85E22CD-7B4C-4586-975E-6F08303507BE}"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ncy</a:t>
            </a:r>
            <a:endParaRPr b="0" lang="en-US" sz="3600" spc="-1" strike="noStrike">
              <a:solidFill>
                <a:srgbClr val="000000"/>
              </a:solidFill>
              <a:latin typeface="Arial"/>
            </a:endParaRPr>
          </a:p>
        </p:txBody>
      </p:sp>
      <p:sp>
        <p:nvSpPr>
          <p:cNvPr id="71" name="PlaceHolder 2"/>
          <p:cNvSpPr>
            <a:spLocks noGrp="1"/>
          </p:cNvSpPr>
          <p:nvPr>
            <p:ph/>
          </p:nvPr>
        </p:nvSpPr>
        <p:spPr>
          <a:xfrm>
            <a:off x="685440" y="1523520"/>
            <a:ext cx="8001000" cy="4953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 was not specifically called out in the criteria document, but it was implied in the throughput requi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 latency in decoding or encoding a packet will affect the TX/RX turnaround time and hence degrade the efficiency of th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10 </a:t>
            </a:r>
            <a:r>
              <a:rPr b="0" lang="en-US" sz="2800" spc="-1" strike="noStrike">
                <a:solidFill>
                  <a:srgbClr val="000000"/>
                </a:solidFill>
                <a:latin typeface="Symbol"/>
                <a:ea typeface="Symbol"/>
              </a:rPr>
              <a:t></a:t>
            </a:r>
            <a:r>
              <a:rPr b="0" lang="en-US" sz="2800" spc="-1" strike="noStrike">
                <a:solidFill>
                  <a:srgbClr val="000000"/>
                </a:solidFill>
                <a:latin typeface="Times New Roman"/>
              </a:rPr>
              <a:t>s TX/RX turnaround time has been propo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decisions need to be done in hardware since software relies on interrupts which are relatively sl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984C982-5197-45F4-A369-764F6EC40CDA}"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ncy Criteria</a:t>
            </a:r>
            <a:endParaRPr b="0" lang="en-US" sz="3600" spc="-1" strike="noStrike">
              <a:solidFill>
                <a:srgbClr val="000000"/>
              </a:solidFill>
              <a:latin typeface="Arial"/>
            </a:endParaRPr>
          </a:p>
        </p:txBody>
      </p:sp>
      <p:sp>
        <p:nvSpPr>
          <p:cNvPr id="73"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X or encoding latency</a:t>
            </a:r>
            <a:r>
              <a:rPr b="0" lang="en-US" sz="2400" spc="-1" strike="noStrike">
                <a:solidFill>
                  <a:srgbClr val="000000"/>
                </a:solidFill>
                <a:latin typeface="Times New Roman"/>
              </a:rPr>
              <a:t> is the time from when the first bit to be encoded is presented to the encoder until the its representation is available at the output of the enco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X or decoding latency</a:t>
            </a:r>
            <a:r>
              <a:rPr b="0" lang="en-US" sz="2400" spc="-1" strike="noStrike">
                <a:solidFill>
                  <a:srgbClr val="000000"/>
                </a:solidFill>
                <a:latin typeface="Times New Roman"/>
              </a:rPr>
              <a:t> is the time from when the first demodulated symbol is present at the decoder until the first valid decoded bit is available at the output of the deco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and RX latency times in </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termined, less is bett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A238B69-2D02-4DDA-A58D-6AA8BDDEA802}"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Issues</a:t>
            </a:r>
            <a:endParaRPr b="0" lang="en-US" sz="36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issues are not explicitly called out in the criteria document, but the IEEE has a very specific policy on it for stand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erence for a standard is for it to be unencumbered by essential IP clai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ed technology is allowed if i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n important technical benef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vailable in a non-discriminatory license for fair and reasonable ter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ABBDEA8-9B93-4080-80E1-38C1A8EF3461}"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Issues Criteria</a:t>
            </a:r>
            <a:endParaRPr b="0" lang="en-US" sz="3600" spc="-1" strike="noStrike">
              <a:solidFill>
                <a:srgbClr val="000000"/>
              </a:solidFill>
              <a:latin typeface="Arial"/>
            </a:endParaRPr>
          </a:p>
        </p:txBody>
      </p:sp>
      <p:sp>
        <p:nvSpPr>
          <p:cNvPr id="77" name=""/>
          <p:cNvSpPr/>
          <p:nvPr/>
        </p:nvSpPr>
        <p:spPr>
          <a:xfrm>
            <a:off x="838080" y="1600200"/>
            <a:ext cx="769644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known or potential IP claims are there for the proposed coding metho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any potential IP or listing of the dates of published references to the metho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IP not available for fair and reasonable term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IP owner is licensing or is willing to licen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IP owner has accepted IEEE fair and reasonabl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Method described in the open literature &gt; 20 years ag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1595A98-00C6-455E-AD19-0AB01A0A611B}"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didate draft standard was approved in November with the coding method for the higher order modulations (16-QAM, 32-QAM and 64-QAM) left undefined</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coding schemes were part of the propsals in Tampa, one has dropped (Rio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3 will vote to select one of three methods in Monterey</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thods will be evaluated against the relevant criteria from P802.15-00/110r14</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E7B0A05-8158-4EF6-8F11-51E987F99E03}"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Outline</a:t>
            </a:r>
            <a:endParaRPr b="0" lang="en-US" sz="3600" spc="-1" strike="noStrike">
              <a:solidFill>
                <a:srgbClr val="000000"/>
              </a:solidFill>
              <a:latin typeface="Arial"/>
            </a:endParaRPr>
          </a:p>
        </p:txBody>
      </p:sp>
      <p:sp>
        <p:nvSpPr>
          <p:cNvPr id="49"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Manufacturing Cost</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ay Spread Resistanc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Consumption</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issue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A81B4F0-3051-4D1B-B5F2-BA26B2DD0472}"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Manufacturing Cost</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C (section 2.1) addresses the PAR's requirement for a low cos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ing lower cost implementations will increase the usefulness of the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digital implementations are on the favorable cost-curve of Moore's la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relatively expensive in bits now will be much cheaper in 4 yea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8D47784-D8AF-404A-B5DF-A4E20276D6B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Manufacturing Cost Criteria</a:t>
            </a:r>
            <a:endParaRPr b="0" lang="en-US" sz="3600" spc="-1" strike="noStrike">
              <a:solidFill>
                <a:srgbClr val="000000"/>
              </a:solidFill>
              <a:latin typeface="Arial"/>
            </a:endParaRPr>
          </a:p>
        </p:txBody>
      </p:sp>
      <p:sp>
        <p:nvSpPr>
          <p:cNvPr id="53" name=""/>
          <p:cNvSpPr/>
          <p:nvPr/>
        </p:nvSpPr>
        <p:spPr>
          <a:xfrm>
            <a:off x="838080" y="1600200"/>
            <a:ext cx="7696440" cy="42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mental cost of all parts required to implement a complete TX/RX coding solution including all logic and memo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mental cost in US $ of implementing the proposed coding scheme calculated assuming $0.20 USD/100 kgat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cost is less tha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FF9B2BF-74C4-4B3E-883F-64F0CEA121D9}"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ay Spread Resistance</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reless environment is hostile to high-speed and wide-band sign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range, home environment, however, is more benign than office, factory or vehicular environ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ding schemes may improve delay spread resistance, others may not and rely instead on an equaliz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93C235E-7DD8-4CD9-B033-20B7D74D9A87}"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ay Spread Resistance Criteria</a:t>
            </a:r>
            <a:endParaRPr b="0" lang="en-US" sz="3600" spc="-1" strike="noStrike">
              <a:solidFill>
                <a:srgbClr val="000000"/>
              </a:solidFill>
              <a:latin typeface="Arial"/>
            </a:endParaRPr>
          </a:p>
        </p:txBody>
      </p:sp>
      <p:sp>
        <p:nvSpPr>
          <p:cNvPr id="57" name=""/>
          <p:cNvSpPr/>
          <p:nvPr/>
        </p:nvSpPr>
        <p:spPr>
          <a:xfrm>
            <a:off x="838080" y="1600200"/>
            <a:ext cx="7696440" cy="47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lay spread tolerance is the value of T_RMS for which a maximum FER of 1% is met for 95% of the channels generated using the channel model defined in 4.8.1.  The power level at the transmitter is set 14 dB above the level required for a 1% FER in an AWGN channel.  At least 1000 channels should be generated.  Note that the channel model in 4.8.1 will generate channels with fading parameters, so at the receiver the signal level will vary from one channel realization to the next channel realization.</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of T_RMS in n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_RMS is greater than 25 n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D96D940-A874-4BC1-A89D-58824796F468}"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ivered Data Throughput</a:t>
            </a:r>
            <a:endParaRPr b="0" lang="en-US" sz="36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ment for the standard is a system which can deliver 20 M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lso a desire to have an enhanced mode with greater than 40 M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ing methods will decrease the delivered data throughput while hopefully decreasing the P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31D7184-CE60-45BA-ABAB-5A4D3E306823}"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ivered Data Throughput Criteria</a:t>
            </a:r>
            <a:endParaRPr b="0" lang="en-US" sz="3600" spc="-1" strike="noStrike">
              <a:solidFill>
                <a:srgbClr val="000000"/>
              </a:solidFill>
              <a:latin typeface="Arial"/>
            </a:endParaRPr>
          </a:p>
        </p:txBody>
      </p:sp>
      <p:sp>
        <p:nvSpPr>
          <p:cNvPr id="61" name=""/>
          <p:cNvSpPr/>
          <p:nvPr/>
        </p:nvSpPr>
        <p:spPr>
          <a:xfrm>
            <a:off x="838080" y="1600200"/>
            <a:ext cx="7696440" cy="479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ivered data throughput is the rate at which the user’s data is passed through the system.  The values presented here assume that a microwave oven or other channel impairment will not be in operation at the same time as the desired signals are transmitted.  If there is an operating microwave oven in the Personal Operating Space (POS) of this device, it is assumed that the user has enough control of the POS environment to turn it off when desiring to transmit.</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in Mb/s and % overhead for each of the higher order modulations calculated using P802.15-00/354r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 defined, more is bet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0DC7166-1E2B-47CD-993C-C0C4EB0C0AD2}"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JPKG</cp:lastModifiedBy>
  <cp:lastPrinted>1998-02-10T13:28:06Z</cp:lastPrinted>
  <dcterms:modified xsi:type="dcterms:W3CDTF">2001-01-12T05:12:40Z</dcterms:modified>
  <cp:revision>40</cp:revision>
  <dc:subject>IEEE 802.15 &lt;subject&gt;</dc:subject>
  <dc:title>No Slide Title</dc:title>
</cp:coreProperties>
</file>