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68640" y="-360"/>
            <a:ext cx="303552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03480" y="696960"/>
            <a:ext cx="4597200" cy="344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33480" y="438120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763120"/>
            <a:ext cx="303516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968640" y="8763120"/>
            <a:ext cx="303552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C7C96F-5FFD-42F0-8200-1E720821ABE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203480" y="69696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33480" y="438120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rom: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bb, John P [SMTP:John.P.Webb@intel.com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ent: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riday, January 21, 2000 11:30 A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o: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Gifford, Ian C.; Bluetooth SIGnal (E-mail); 'Roger Peacock'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c: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ruce Kraemer (E-mail); Webb, John 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ubject: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: IEEE &amp; Bluetooth SIGnal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an,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Glad to hear you want to include an Article in The SIGnal. Roger is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ditor and can help with the below question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gards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----Original Message-----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rom: Gifford, Ian C. [mailto:giffordi@tycoelectronics.com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ent: Thursday, January 20, 2000 10:26 P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o: Bluetooth SIGnal (E-mail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c: Bruce Kraemer (E-mail); John Webb (E-mail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ubject: IEEE &amp; Bluetooth SIGnal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Hi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 appreciated the article on Wireless Personal Area Networks &amp; IEEE P802.15 in the Bluetooth SIGnal Issue no. 2, Sep99!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ow we are wondering how to write a SIGnal article as an update to this article and/or the standards-making work we are doing in the IEEE Projec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02.15 Working Group for WPANs.  Here are some questions to start the dialog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Q1 Who should we contact and/or work with if we have an idea for an article that the SIGnal Readers might like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Q2 What are the author rule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Q3 The Bluetooth SIGnal Issue no. 2 Article is 383 words.  Is the typical word count that is considered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Q4 It appears that the next placement is for the 28 January 2000 issue of the Bluetooth SIGnal or Issue no. 4.  When is/was the deadline for the Issue no. 4?  When is no. 5 scheduled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Q5 Do you have themes for each of the up and coming Issue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est Regards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-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an Giffor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giffordi@tycoelectronics.co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FE1C-59F3-471A-B9B7-06D1AAC64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8A02-7B7D-4A6E-A15D-78F53953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8289-9793-4B45-972A-14E66A1C1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6741-758C-4C47-8911-E0D80BF0A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506F-A31A-480C-84C9-19CF8928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EB7A-B69C-4397-87F8-3409FBB3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B3CB-EDFF-4BD5-A97C-E39EA363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B603-80BF-436A-9C34-8F019DA4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11D3-F630-4718-BCD8-0D1FB826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5452-C2AB-414A-92B8-9D3617E2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8919-F7BC-4FF5-A631-59BE959F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ED6E-3C84-40A2-8857-B5BF0E74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F47D335-8748-4AFB-AE6F-0C17606AC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1/018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EEE 802.15 &amp; .11 Working Group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ing Committe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ing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uary, 2001   Monterey, CA 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802" descr=""/>
          <p:cNvPicPr/>
          <p:nvPr/>
        </p:nvPicPr>
        <p:blipFill>
          <a:blip r:embed="rId1"/>
          <a:stretch/>
        </p:blipFill>
        <p:spPr>
          <a:xfrm>
            <a:off x="3753000" y="733320"/>
            <a:ext cx="1581120" cy="16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7AE3-093C-4ADC-A1A4-62F441C4E7E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eting Objectives      Joint 11/15 PC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es 10:30-12am        Big Sur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/Pending/Propo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endar of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Pub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ateral 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 releases/Press K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ca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Sur 3   Monday 3:30 …5: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E6F7-0E97-4906-AF89-3BF3B5CF0E3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05:30:14Z</dcterms:created>
  <dc:creator>Bruce Kraemer</dc:creator>
  <dc:description>Bruce Kraemer, Intersil</dc:description>
  <dc:language>en-US</dc:language>
  <cp:lastModifiedBy>Robert F.  Heile</cp:lastModifiedBy>
  <cp:lastPrinted>1998-02-10T13:28:06Z</cp:lastPrinted>
  <dcterms:modified xsi:type="dcterms:W3CDTF">2001-01-15T19:14:43Z</dcterms:modified>
  <cp:revision>107</cp:revision>
  <dc:subject>MC WG Report</dc:subject>
  <dc:title>IEEE P802.15 Working Group for Wireless Personal Area Networks</dc:title>
</cp:coreProperties>
</file>