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7B0FE-1C3A-471F-9557-883FBECCD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B9154-08EA-4AC5-B726-C2F84EA5A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106AA-7AAA-483C-BFE6-A1C9220EC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65A0E-403C-40FA-A9A5-C687AB5C7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B53FB-3D25-44CA-A5DC-0DA743FA2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96F37-8BEB-4C91-8310-4830E1BC1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E0955-A48E-4D8E-AB5B-ED4B249E2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1C82A-9979-4384-A908-7829FC6CD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52A2-77AD-4EF5-ACB5-85E52BFA2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7E91E-B6DA-4279-B136-F4E92D0E3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8B94F-9669-4177-96F7-72EF9EF01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EEA62-A393-4DB7-B0F6-913AAA29D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FA65B1-64A0-4541-8304-CA41E3BD2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15092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1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3AD3BBA2-342B-4F07-909E-A487BDD3CA5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Opening Report 15Jan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5Jan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005R3P802-15_TG3-Jan01-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from the last session on all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Summary</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results from PHY committee conference cal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a coding method for the higher order modul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 as many undetermined issues as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all remaining issues and determine a course of action to resolve th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99C48B7-84FF-4316-B6F5-ABDED53252AA}"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ding Proposal Presentations</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day – 3:51 PM – Karaoguz</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day – 4:21 PM – Daba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esday – 8:02 AM – O’Farre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6E042ACC-7C8D-4CBA-99D6-44E274CBA4E3}"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ding Voting Times</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dnesday – 9:00 – 3-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el Discussion on Remaining 2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0 Each proposer has 2 minutes for position statement with 13 minute Q/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dnesday – 9:40 – 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ing Confirmation Vo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dnesday 9:50 Confirmation Role Call Vo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31 Resolution of No Votes (if necessary for 75%)</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081FD00-0A43-44D9-B0FB-40CCA77399A4}" type="slidenum">
              <a:t>1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Voting Process (1 of 2)</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for the voters, by ballot vote, to vote for one proposal or none of the above. (Voting record will be posted following the vo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the proposal (or proposals in case of a "tie") receiving the least votes is elimina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 the process continues with a vote as in "a" and "b" eliminating proposals one by 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time the number of proposals in the eliminating process has been reduced to four and two a panel discussion shall be held with the remaining proposers as panel members.  The length of discussion shall be limited to 15 minutes times the number of remaining proposals.  Discussion shall be limited to voting members and the presenters (or their designat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95C48BB-EA5C-481C-8A40-F038223CEACA}" type="slidenum">
              <a:t>1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Voting Process (2 of 2)</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 when one proposal is left the voters shall vote (roll call) for the proposal or none of the above and the proposal shall be required to achieve a 75% majority in order to be submitted to the working group as a recommendation.  If the remaining proposal fails to achieve a 75% majority, the members who voted "no" shall be requested to state why they voted no and what would be required to change their vote to an affirmative vote.  The proposer shall have an opportunity to respond to the concerns of the no voters.  After which a roll call vote will be taken to approve the propos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 if the last remaining proposal fails to receive 75% majority, the process shall begin again with the proposals remaining after 50% were eliminated.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2204831-E92A-4D23-8F3F-0BF42E0E3D4E}" type="slidenum">
              <a:t>1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nel Proces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time for panel is 15 minutes * number of remaining proposal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inute position statement from each member of the panel (option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mp;A – Questions may only be asked by voting members.</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O queue of questions will be kept by Chair.</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one question per position in the queue.</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ions must be stated in no more than one minute</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swers must be stated in no more than two minute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tions will be considered during the pane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270E6AC-8F66-4902-8715-B7FA2E37C17A}" type="slidenum">
              <a:t>1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nuary Document Summary (1 of 2)</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247r17P802-15_TG3-running ConCall-minutes-PHY-sub-group.doc</a:t>
            </a:r>
            <a:r>
              <a:rPr b="0" lang="en-US" sz="2000" spc="-1" strike="noStrike">
                <a:solidFill>
                  <a:srgbClr val="000000"/>
                </a:solidFill>
                <a:latin typeface="Times New Roman"/>
              </a:rPr>
              <a:t>	</a:t>
            </a:r>
            <a:r>
              <a:rPr b="0" lang="en-US" sz="2000" spc="-1" strike="noStrike">
                <a:solidFill>
                  <a:srgbClr val="000000"/>
                </a:solidFill>
                <a:latin typeface="Times New Roman"/>
              </a:rPr>
              <a:t>K</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401r0P802-15_TG3-Merged-MAC-Proposal.doc</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402r1P802-15_TG3_PHY_Proposal_Executive_Summary.html</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406r4P802-15_TG3-running ConCall-minutes-MAC-sub-group.doc</a:t>
            </a:r>
            <a:r>
              <a:rPr b="0" lang="en-US" sz="2000" spc="-1" strike="noStrike">
                <a:solidFill>
                  <a:srgbClr val="000000"/>
                </a:solidFill>
                <a:latin typeface="Times New Roman"/>
              </a:rPr>
              <a:t>	</a:t>
            </a:r>
            <a:r>
              <a:rPr b="0" lang="en-US" sz="2000" spc="-1" strike="noStrike">
                <a:solidFill>
                  <a:srgbClr val="000000"/>
                </a:solidFill>
                <a:latin typeface="Times New Roman"/>
              </a:rPr>
              <a:t>K</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408r0P802-15_TG3-MAC-_Architecture.pdf</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005R4P802-15_TG3-High-Rate-Agenda-Jan01.xls</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011R0P802-15_TG3-Jan01-Minutes.doe</a:t>
            </a:r>
            <a:r>
              <a:rPr b="0" lang="en-US" sz="2000" spc="-1" strike="noStrike">
                <a:solidFill>
                  <a:srgbClr val="000000"/>
                </a:solidFill>
                <a:latin typeface="Times New Roman"/>
              </a:rPr>
              <a:t>	</a:t>
            </a:r>
            <a:r>
              <a:rPr b="0" lang="en-US" sz="2000" spc="-1" strike="noStrike">
                <a:solidFill>
                  <a:srgbClr val="000000"/>
                </a:solidFill>
                <a:latin typeface="Times New Roman"/>
              </a:rPr>
              <a:t>Kinney</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016r0P802-15_TG3-Opening-Report-15Jan01.ppt</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016r0P802-15_TG3-Opening-Report-15Jan01.ppt</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028r1P802-15_TG3-Coding-criteria.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047r1P802-15_TG3-Bluetooth-SAP-Discussion.ppt</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554A8EF-0E22-4DC5-B65A-20BA310B89A3}" type="slidenum">
              <a:t>1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nuary Document Summary (2 of 2)</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xxxrx Karagouz coding presentation</a:t>
            </a:r>
            <a:r>
              <a:rPr b="0" lang="en-US" sz="2000" spc="-1" strike="noStrike">
                <a:solidFill>
                  <a:srgbClr val="000000"/>
                </a:solidFill>
                <a:latin typeface="Times New Roman"/>
              </a:rPr>
              <a:t>	</a:t>
            </a:r>
            <a:r>
              <a:rPr b="0" lang="en-US" sz="2000" spc="-1" strike="noStrike">
                <a:solidFill>
                  <a:srgbClr val="000000"/>
                </a:solidFill>
                <a:latin typeface="Times New Roman"/>
              </a:rPr>
              <a:t>Karaoguz</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xxxrx Dabak coding presentation</a:t>
            </a:r>
            <a:r>
              <a:rPr b="0" lang="en-US" sz="2000" spc="-1" strike="noStrike">
                <a:solidFill>
                  <a:srgbClr val="000000"/>
                </a:solidFill>
                <a:latin typeface="Times New Roman"/>
              </a:rPr>
              <a:t>	</a:t>
            </a:r>
            <a:r>
              <a:rPr b="0" lang="en-US" sz="2000" spc="-1" strike="noStrike">
                <a:solidFill>
                  <a:srgbClr val="000000"/>
                </a:solidFill>
                <a:latin typeface="Times New Roman"/>
              </a:rPr>
              <a:t>Dabak</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xxxrx O'Farrell coding presentation</a:t>
            </a:r>
            <a:r>
              <a:rPr b="0" lang="en-US" sz="2000" spc="-1" strike="noStrike">
                <a:solidFill>
                  <a:srgbClr val="000000"/>
                </a:solidFill>
                <a:latin typeface="Times New Roman"/>
              </a:rPr>
              <a:t>	</a:t>
            </a:r>
            <a:r>
              <a:rPr b="0" lang="en-US" sz="2000" spc="-1" strike="noStrike">
                <a:solidFill>
                  <a:srgbClr val="000000"/>
                </a:solidFill>
                <a:latin typeface="Times New Roman"/>
              </a:rPr>
              <a:t>O’Farrel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xxxr0P802-15_TG3-PHY-Coding-results.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xxxr0P802-15_TG3-PHY-Committee-Monterery-Report.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xxxr0P802-15_TG3-Coding-criteria.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xxxr0P802-15_TG3-QPSK-spectral-re-growth.doc</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xxxr0P802-15_TG3-Draft-Standard-Monterey-report.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D4970BD-3A28-4822-873A-29612F60DD76}" type="slidenum">
              <a:t>1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January Session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day: Discussion of Bluetooth SAP for 15.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Review of committee work and resolution of outstanding issu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Summary coding presentations and start of MAC clause present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Final Coding Presentation, Coding discussion, MAC clause presentations, and  BOF on additional PHY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 Coding voting and issue capture and/or resolution, MAC issue resolution, MAC planning, and MAC/PHY issue resolu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Standard drafting, committee reports, ballot pool, January-March work plan, and WG repo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BBE475B7-FEB0-489C-8FE8-A9B69F15ABDC}" type="slidenum">
              <a:t>1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work next week</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s will not resume until week of January 29</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4A22A58E-10D1-4E8A-B45B-5F009A1D79DA}" type="slidenum">
              <a:t>1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Status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2001, Monterey, CA</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BA8B13AC-267A-4F5A-83A7-41B83836DC87}"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January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3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and plans for TG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ing Selection Process and Voting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ing Presentation and Voting Ti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Document 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9E282A3-5202-4038-9808-60649E12F0E5}"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January Meeting</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erence call status, including approval of any ad hoc busin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ution of MAC and PHY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nterfaces between MAC and P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 writing draft standard – Editorial re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operating plan for conference calls between January and Marc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ballot poo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739E003-1770-4A64-9660-FB604F7EDBFA}"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PAR</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Medium Access Control (MAC) and Physical Layer (PHY) Specifications for High Rate Wireless Personal Area Networks (W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reless connectivity with fixed, portable and moving devices within or entering a Personal Operating Space (POS) (up to 10 meters in all directions enveloping a 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 or coexistence with other 802.15 T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existence with other wireless devices in conjunction with Coexistence Task Groups such as 802.15.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 complexity, low cost, low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20Mbps to satisfy a set of consumer multi-media industry needs for WPAN commun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C1FD85B-F8FD-4FE4-B5F0-24D09977A082}"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of Initial Draft</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everything you need to know to construct the lower layers of high rate WPA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Produce a Standard by the end of 2001 or early 2002</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Finalize high-rate coding methods, January, 2001. Working Group draft, May, 2001. Sponsor ballot, November, 200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43A9C1E-91D3-433C-A7A5-B33BBF87AA3A}"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Document results of Tampa selection process, organize and write proposed standard clauses, determine how to select high-rate coding methods, define interfaces between MAC and P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General: Held every Tuesday between F2F meet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ommittee: Every Thursd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mmittee: Every Tuesday following general 802.15.3 ca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ommittee: No calls scheduled. Email 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0D6E3AF-9C03-4DA3-B506-7859525BD0BE}"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ummary</a:t>
            </a:r>
            <a:endParaRPr b="0" lang="en-US" sz="3600" spc="-1" strike="noStrike">
              <a:solidFill>
                <a:srgbClr val="000000"/>
              </a:solidFill>
              <a:latin typeface="Times New Roman"/>
            </a:endParaRPr>
          </a:p>
        </p:txBody>
      </p:sp>
      <p:sp>
        <p:nvSpPr>
          <p:cNvPr id="95" name="PlaceHolder 2"/>
          <p:cNvSpPr>
            <a:spLocks noGrp="1"/>
          </p:cNvSpPr>
          <p:nvPr>
            <p:ph/>
          </p:nvPr>
        </p:nvSpPr>
        <p:spPr>
          <a:xfrm>
            <a:off x="685440" y="1142640"/>
            <a:ext cx="7924680" cy="5257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Progress repo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s on proposed standard claus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 Clause 5 – Kinne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esday: Clause 7 (frame formats) Gubbi</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esday: MAC SDL Model – Heberl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esday: Clause 9 (SC-TDMA Access) Rober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Issue Resolu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ions for each editor’s clause wor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LME SAP interfa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802 MAC SAP interface (15.1 and dot_11)</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PHY Issue Resolu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SAP, PLME SAP, PLME MI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ct of long preamble and FEC coding schemes on effective data throughput rat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C7535C9-5F51-4442-8DFB-CE2D533FA547}"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stems Summary</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list of SAP primitives currently used in 802.11 and modify these as needed to support 802.15.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the strawman PLCP signal field format and modify as needed to support 802.15.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if PHY and MAC are far enough along to achieve closure on the SAP primitiv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4C5C7AC-66F1-43FA-B69E-EB63B8EA3723}"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John R. Barr</cp:lastModifiedBy>
  <cp:lastPrinted>1998-02-10T13:28:06Z</cp:lastPrinted>
  <dcterms:modified xsi:type="dcterms:W3CDTF">2001-01-15T14:43:54Z</dcterms:modified>
  <cp:revision>227</cp:revision>
  <dc:subject>TG3 Opening Report, 6Nov00</dc:subject>
  <dc:title>IEEE P802.15 Working Group for Wireless Personal Area Networks</dc:title>
</cp:coreProperties>
</file>