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0F841-8883-4D6A-8BA5-C822B78F08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F2614-3803-4747-9F0A-15CE0F2FB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191E9-60BE-4DC9-A405-FAC9CFBC6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2D72F-EE86-4030-8E36-D49E46A83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0A3D-2933-4CCA-A1E0-834F057E33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A4CA-62C4-4A4F-89AA-3EE4480B12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E21A5-80E5-4EFF-A8F8-2F061CC2D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D67F3937-6158-40BF-AEB5-8250AEE5C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A35271E-DBB4-43AE-B7B7-61FAE9894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8626C-64BF-4584-914B-379A84576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2DE5A-B60B-42BB-AC2E-4BB8EC448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8E68B-E50C-4023-82ED-D7458C01D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1EC76D-17FF-4744-BDFC-1FFF0D708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9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4680" y="6437160"/>
            <a:ext cx="15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E. Van Dyck, NIST</a:t>
            </a:r>
            <a:endParaRPr b="0" lang="en-US" sz="1200" spc="-1" strike="noStrike">
              <a:solidFill>
                <a:srgbClr val="000000"/>
              </a:solidFill>
              <a:latin typeface="Times New Roman"/>
            </a:endParaRPr>
          </a:p>
        </p:txBody>
      </p:sp>
      <p:sp>
        <p:nvSpPr>
          <p:cNvPr id="8" name=""/>
          <p:cNvSpPr/>
          <p:nvPr/>
        </p:nvSpPr>
        <p:spPr>
          <a:xfrm>
            <a:off x="748800" y="34128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85800"/>
            <a:ext cx="899172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 802.11b Deterministic Frequency Null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8 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E. Van Dyck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301 975-2923, FAX: 301 590-0932, E-Mail: vandyck@antd.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 In this presentation, we suggest using deterministic frequency nulling to mitigate the effect of Bluetooth interference on 802.11b.   Because of the relatively narrow band of the Bluetooth signal, it may be possible to put a null in the frequency spectrum of the 802.11b receiver.   However, since Bluetooth is hopping to a new frequency for each transmission, the 802.11b receiver needs to now the frequency hopping pattern.   Knowledge of the pattern is obtained by using a bluetooth receiver.   Thus, this is a non-collocated, collaborative metho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 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B5B4D93B-455E-45E0-98C6-2147D8965B5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828440"/>
            <a:ext cx="784872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b Deterministic Frequency </a:t>
            </a:r>
            <a:br>
              <a:rPr sz="4000"/>
            </a:br>
            <a:r>
              <a:rPr b="0" lang="en-US" sz="4000" spc="-1" strike="noStrike">
                <a:solidFill>
                  <a:srgbClr val="000000"/>
                </a:solidFill>
                <a:latin typeface="Times New Roman"/>
              </a:rPr>
              <a:t>Nulling to Mitigate Bluetooth</a:t>
            </a:r>
            <a:br>
              <a:rPr sz="4000"/>
            </a:br>
            <a:r>
              <a:rPr b="0" lang="en-US" sz="4000" spc="-1" strike="noStrike">
                <a:solidFill>
                  <a:srgbClr val="000000"/>
                </a:solidFill>
                <a:latin typeface="Times New Roman"/>
              </a:rPr>
              <a:t>Interference</a:t>
            </a:r>
            <a:br>
              <a:rPr sz="4000"/>
            </a:b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914400" y="3657240"/>
            <a:ext cx="7391520" cy="25909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E. Van Dy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thersburg, Mary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nuary 2001</a:t>
            </a:r>
            <a:endParaRPr b="0" lang="en-US" sz="3200" spc="-1" strike="noStrike">
              <a:solidFill>
                <a:srgbClr val="000000"/>
              </a:solidFill>
              <a:latin typeface="Arial"/>
            </a:endParaRPr>
          </a:p>
        </p:txBody>
      </p:sp>
      <p:pic>
        <p:nvPicPr>
          <p:cNvPr id="48" name="nistlogo2" descr=""/>
          <p:cNvPicPr/>
          <p:nvPr/>
        </p:nvPicPr>
        <p:blipFill>
          <a:blip r:embed="rId1"/>
          <a:stretch/>
        </p:blipFill>
        <p:spPr>
          <a:xfrm>
            <a:off x="304920" y="762120"/>
            <a:ext cx="2000160" cy="571320"/>
          </a:xfrm>
          <a:prstGeom prst="rect">
            <a:avLst/>
          </a:prstGeom>
          <a:ln w="0">
            <a:noFill/>
          </a:ln>
        </p:spPr>
      </p:pic>
      <p:sp>
        <p:nvSpPr>
          <p:cNvPr id="4" name="PlaceHolder 3"/>
          <p:cNvSpPr>
            <a:spLocks noGrp="1"/>
          </p:cNvSpPr>
          <p:nvPr>
            <p:ph type="sldNum" idx="1"/>
          </p:nvPr>
        </p:nvSpPr>
        <p:spPr/>
        <p:txBody>
          <a:bodyPr/>
          <a:p>
            <a:fld id="{BA7EE301-B0BC-40B6-8479-41B89BB02E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Definition</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81880" cy="3733920"/>
          </a:xfrm>
          <a:prstGeom prst="rect">
            <a:avLst/>
          </a:prstGeom>
          <a:noFill/>
          <a:ln w="0">
            <a:noFill/>
          </a:ln>
        </p:spPr>
        <p:txBody>
          <a:bodyPr lIns="92160" rIns="92160" tIns="46080" bIns="4608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T traffic have high time utiliza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SCO traffic with HV1 packet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ng file transfer using ACL </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narrowband interference to 802.11</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serious packet los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ansmissions may lead to extensive delay</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want to significantly reduce BT throughput</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9ED6E-8EA7-40C7-A406-167DA44942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rministic Frequency Nulling</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1752480"/>
            <a:ext cx="77724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null at the frequency of the BT signal in the 802.11 recei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nough time to adaptively 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obtain packet’s access cod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T frequency </a:t>
            </a:r>
            <a:r>
              <a:rPr b="0" i="1" lang="en-US" sz="3200" spc="-1" strike="noStrike">
                <a:solidFill>
                  <a:srgbClr val="000000"/>
                </a:solidFill>
                <a:latin typeface="Arial"/>
              </a:rPr>
              <a:t>a prior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luetooth recei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transversal fil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69E7D-40B3-4174-BE6E-D7F381D8C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bined Solu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ily a PHY level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ling can be used with other mechanis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Power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Frequency Hopp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DAB4-0343-469F-A666-8EBAC7E98F3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8:46:18Z</dcterms:created>
  <dc:creator>Robert E. Van Dyck</dc:creator>
  <dc:description>A non-collocated, collaborated
coexistence mechanism proposal</dc:description>
  <dc:language>en-US</dc:language>
  <cp:lastModifiedBy>Valued Sony Customer</cp:lastModifiedBy>
  <cp:lastPrinted>1998-02-10T13:28:06Z</cp:lastPrinted>
  <dcterms:modified xsi:type="dcterms:W3CDTF">2001-01-18T19:54:28Z</dcterms:modified>
  <cp:revision>134</cp:revision>
  <dc:subject>IEEE 802.15  TG 2  coexistence</dc:subject>
  <dc:title>802.11b Deterministic Frequency Nulling</dc:title>
</cp:coreProperties>
</file>