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3E60D-B81B-45B1-A912-A81382A16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A740-101B-4A7B-9E0D-11051D9E3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73500-A6A9-4867-BCC2-BF3298D41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925E7-E723-48E7-8002-8B8641A6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692B1-8B88-4232-AF89-37F1153CF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D4EB-96E7-4457-A561-5A7184B7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7B594-8724-40A4-BD20-C34364CA9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0A92-1039-4526-B762-812154AD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A2E47-0D95-4117-9119-BC8DADFEB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8283-7793-4DB7-AA0F-7D35AF8B1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8FA8-177E-4025-A170-EC24F4D1D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86EC-131A-413C-9B88-4B5E394F1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68F9E4-4282-4CC1-B704-084AD416E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5AA54BDC-355E-48BC-8708-77D0923BE4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802.15.3 SDL Overview]</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 Company [</a:t>
            </a:r>
            <a:r>
              <a:rPr b="0" lang="en-US" sz="1600" spc="-1" strike="noStrike">
                <a:solidFill>
                  <a:srgbClr val="ff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545 East River Road, Rochester, New York 14650-0898,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16-781-9328</a:t>
            </a:r>
            <a:r>
              <a:rPr b="0" lang="en-US" sz="1600" spc="-1" strike="noStrike">
                <a:solidFill>
                  <a:srgbClr val="000000"/>
                </a:solidFill>
                <a:latin typeface="Times New Roman"/>
              </a:rPr>
              <a:t>], FAX: [</a:t>
            </a:r>
            <a:r>
              <a:rPr b="0" lang="en-US" sz="1600" spc="-1" strike="noStrike">
                <a:solidFill>
                  <a:srgbClr val="ff0000"/>
                </a:solidFill>
                <a:latin typeface="Times New Roman"/>
              </a:rPr>
              <a:t>716-781-9733</a:t>
            </a:r>
            <a:r>
              <a:rPr b="0" lang="en-US" sz="1600" spc="-1" strike="noStrike">
                <a:solidFill>
                  <a:srgbClr val="000000"/>
                </a:solidFill>
                <a:latin typeface="Times New Roman"/>
              </a:rPr>
              <a:t>], E-Mail:[</a:t>
            </a:r>
            <a:r>
              <a:rPr b="0" lang="en-US" sz="1600" spc="-1" strike="noStrike">
                <a:solidFill>
                  <a:srgbClr val="ff0000"/>
                </a:solidFill>
                <a:latin typeface="Times New Roman"/>
              </a:rPr>
              <a:t>adheberling@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DL Overview for TG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 usefulness of formal SDL constructs for 802.15.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dure Reference Symbol</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procedure is defined and called in the process where this symbol appear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f declared "remote" the procedure may be imported for calling from other process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value-returning procedure, callable in assignment statements, is defined using the "returns" keyword in the formal parameter list.</a:t>
            </a:r>
            <a:endParaRPr b="0" lang="en-US" sz="2800" spc="-1" strike="noStrike">
              <a:solidFill>
                <a:srgbClr val="000000"/>
              </a:solidFill>
              <a:latin typeface="Arial"/>
            </a:endParaRPr>
          </a:p>
        </p:txBody>
      </p:sp>
      <p:grpSp>
        <p:nvGrpSpPr>
          <p:cNvPr id="89" name=""/>
          <p:cNvGrpSpPr/>
          <p:nvPr/>
        </p:nvGrpSpPr>
        <p:grpSpPr>
          <a:xfrm>
            <a:off x="3962520" y="1599840"/>
            <a:ext cx="1447560" cy="838440"/>
            <a:chOff x="3962520" y="1599840"/>
            <a:chExt cx="1447560" cy="838440"/>
          </a:xfrm>
        </p:grpSpPr>
        <p:sp>
          <p:nvSpPr>
            <p:cNvPr id="90"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3856320" y="1878120"/>
            <a:ext cx="163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Roman+2"/>
              </a:rPr>
              <a:t>Procedure_Nam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EF475FE3-7764-48D7-825E-F91073B0C41D}"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ymbols</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ssign a new value to a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a transition</a:t>
            </a:r>
            <a:endParaRPr b="0" lang="en-US" sz="3200" spc="-1" strike="noStrike">
              <a:solidFill>
                <a:srgbClr val="000000"/>
              </a:solidFill>
              <a:latin typeface="Arial"/>
            </a:endParaRPr>
          </a:p>
        </p:txBody>
      </p:sp>
      <p:sp>
        <p:nvSpPr>
          <p:cNvPr id="101" name=""/>
          <p:cNvSpPr/>
          <p:nvPr/>
        </p:nvSpPr>
        <p:spPr>
          <a:xfrm>
            <a:off x="3657600" y="1752480"/>
            <a:ext cx="15238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86200" y="1981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2.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7B0EED95-4FAA-4840-925B-D465D3744295}"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Paths</a:t>
            </a:r>
            <a:endParaRPr b="0" lang="en-US" sz="3200" spc="-1" strike="noStrike">
              <a:solidFill>
                <a:srgbClr val="000000"/>
              </a:solidFill>
              <a:latin typeface="Times New Roman"/>
            </a:endParaRPr>
          </a:p>
        </p:txBody>
      </p:sp>
      <p:pic>
        <p:nvPicPr>
          <p:cNvPr id="104" name="Signals" descr=""/>
          <p:cNvPicPr/>
          <p:nvPr/>
        </p:nvPicPr>
        <p:blipFill>
          <a:blip r:embed="rId1"/>
          <a:stretch/>
        </p:blipFill>
        <p:spPr>
          <a:xfrm>
            <a:off x="343080" y="1387440"/>
            <a:ext cx="7734240" cy="4503600"/>
          </a:xfrm>
          <a:prstGeom prst="rect">
            <a:avLst/>
          </a:prstGeom>
          <a:ln w="0">
            <a:noFill/>
          </a:ln>
        </p:spPr>
      </p:pic>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098475AA-B081-46EC-B13E-4B3AAC7D8276}"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yp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face left or righ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signal transition occurs upon receipt of named signal</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signal transition is zero time, but receipt is non-deterministic </a:t>
            </a:r>
            <a:endParaRPr b="0" lang="en-US" sz="2800" spc="-1" strike="noStrike">
              <a:solidFill>
                <a:srgbClr val="000000"/>
              </a:solidFill>
              <a:latin typeface="Arial"/>
            </a:endParaRPr>
          </a:p>
        </p:txBody>
      </p:sp>
      <p:sp>
        <p:nvSpPr>
          <p:cNvPr id="107" name=""/>
          <p:cNvSpPr/>
          <p:nvPr/>
        </p:nvSpPr>
        <p:spPr>
          <a:xfrm>
            <a:off x="2743200" y="175248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274284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743200" y="23623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43200" y="17524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0988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723920" y="175248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724280" y="205740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952880" y="23623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952880" y="175248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1992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5268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48640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8640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_Signal</a:t>
            </a:r>
            <a:endParaRPr b="0" lang="en-US" sz="1200" spc="-1" strike="noStrike">
              <a:solidFill>
                <a:srgbClr val="000000"/>
              </a:solidFill>
              <a:latin typeface="Times New Roman"/>
            </a:endParaRPr>
          </a:p>
        </p:txBody>
      </p:sp>
      <p:sp>
        <p:nvSpPr>
          <p:cNvPr id="122" name=""/>
          <p:cNvSpPr/>
          <p:nvPr/>
        </p:nvSpPr>
        <p:spPr>
          <a:xfrm>
            <a:off x="48769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n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A836623D-1F7C-44BF-B0C6-E551AF625FF3}"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2285640"/>
            <a:ext cx="7924680" cy="2971800"/>
          </a:xfrm>
          <a:prstGeom prst="rect">
            <a:avLst/>
          </a:prstGeom>
          <a:noFill/>
          <a:ln w="0">
            <a:noFill/>
          </a:ln>
        </p:spPr>
        <p:txBody>
          <a:bodyPr lIns="92160" rIns="92160" tIns="46080" bIns="4608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SDL diagrams </a:t>
            </a: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 Architecture Overview</a:t>
            </a: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 MAC Data Service Block,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Processes and State Machine</a:t>
            </a:r>
            <a:endParaRPr b="0" lang="en-US" sz="36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14E9E32B-C26A-42C8-8E8C-8BBC87B7F2B5}"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Summary</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DL to be the normative part of the specification will:</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esting and validating of the TG3 MAC Protocol component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common graphical language for the TG3 PHY and MAC member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TCN Test vectors to be generated from SD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DCFF3C75-29A8-4AEC-A4C7-89F5F71B1264}"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the future of 802.15.3</a:t>
            </a:r>
            <a:br>
              <a:rPr sz="1400"/>
            </a:b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 SDL makes an unambiguous Standard </a:t>
            </a:r>
            <a:endParaRPr b="0" lang="en-US" sz="2800" spc="-1" strike="noStrike">
              <a:solidFill>
                <a:srgbClr val="000000"/>
              </a:solidFill>
              <a:latin typeface="Arial"/>
            </a:endParaRPr>
          </a:p>
          <a:p>
            <a:pPr marL="343080" indent="-343080">
              <a:lnSpc>
                <a:spcPct val="80000"/>
              </a:lnSpc>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uture, a standard’s normative SDL model will minimize the risk of unintended specification conflicts or omissions when attempting to create an extension to or an enhancement of a Standard.</a:t>
            </a:r>
            <a:endParaRPr b="0" lang="en-US" sz="2800" spc="-1" strike="noStrike">
              <a:solidFill>
                <a:srgbClr val="000000"/>
              </a:solidFill>
              <a:latin typeface="Arial"/>
            </a:endParaRPr>
          </a:p>
          <a:p>
            <a:pPr marL="343080" indent="-343080">
              <a:lnSpc>
                <a:spcPct val="80000"/>
              </a:lnSpc>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enables an explicit relationship between a Standard and its Test Sui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1F6A6BED-1E03-49CC-89E3-10F7BCF326C9}"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sk Group 802.15.3</a:t>
            </a:r>
            <a:br>
              <a:rPr sz="3600"/>
            </a:br>
            <a:r>
              <a:rPr b="1" lang="en-US" sz="3600" spc="-1" strike="noStrike">
                <a:solidFill>
                  <a:srgbClr val="000000"/>
                </a:solidFill>
                <a:latin typeface="Times New Roman"/>
              </a:rPr>
              <a:t>SDL Overview</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n Heberling, Eastman Koda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9DF6272B-00F1-42CD-983E-76A9740EF335}"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s</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Overview</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3 MAC SDL Diagrams </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Overview</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nd State Machine Model</a:t>
            </a:r>
            <a:endParaRPr b="0" lang="en-US" sz="24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0C00155A-CB09-44B0-AB15-EEC7805BB8BE}"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DL Overview</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Specification Description Language (SDL)?</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DL was created</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the various SDL symbol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7144BDF4-6E04-44C2-8529-AF21A5E6AEDE}"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pecification and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escription </a:t>
            </a:r>
            <a:r>
              <a:rPr b="0" lang="en-US" sz="3600" spc="-1" strike="noStrike" u="sng">
                <a:solidFill>
                  <a:srgbClr val="000000"/>
                </a:solidFill>
                <a:uFillTx/>
                <a:latin typeface="Times New Roman"/>
              </a:rPr>
              <a:t>L</a:t>
            </a:r>
            <a:r>
              <a:rPr b="0" lang="en-US" sz="3600" spc="-1" strike="noStrike">
                <a:solidFill>
                  <a:srgbClr val="000000"/>
                </a:solidFill>
                <a:latin typeface="Times New Roman"/>
              </a:rPr>
              <a:t>anguag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mbiguous graphical language used to specify and describe complex system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CCITT (now ITU-T Z.100)</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concerned with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ation Independen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the correctness and completeness of specific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DD9734BB-3825-453A-BFC5-4F176EE905C0}"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DL was created</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fined 197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until 1984 when structure and data ad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w through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lecommunications medium of underst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correctness and completeness of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tability for the use of computer-based t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E210E456-0E59-4847-AD24-D5BEBA19FEB5}"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various SDL symbol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Pat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Types (Input, Out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4106DA89-B80C-47B9-A6B2-176167172745}"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Block Reference Symbol</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undamental unit of lexical scope and structural hierarchy. </a:t>
            </a:r>
            <a:endParaRPr b="0" lang="en-US" sz="28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Each block contain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Other block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ss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dur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ata declarations</a:t>
            </a:r>
            <a:endParaRPr b="0" lang="en-US" sz="24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mplicit or Explicit channels (signals) in the to/from the environment</a:t>
            </a:r>
            <a:endParaRPr b="0" lang="en-US" sz="2800" spc="-1" strike="noStrike">
              <a:solidFill>
                <a:srgbClr val="000000"/>
              </a:solidFill>
              <a:latin typeface="Arial"/>
            </a:endParaRPr>
          </a:p>
        </p:txBody>
      </p:sp>
      <p:sp>
        <p:nvSpPr>
          <p:cNvPr id="63" name=""/>
          <p:cNvSpPr/>
          <p:nvPr/>
        </p:nvSpPr>
        <p:spPr>
          <a:xfrm>
            <a:off x="3352680" y="1523880"/>
            <a:ext cx="152424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05320" y="17524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ock_Z</a:t>
            </a:r>
            <a:endParaRPr b="0" lang="en-US" sz="1400" spc="-1" strike="noStrike">
              <a:solidFill>
                <a:srgbClr val="000000"/>
              </a:solidFill>
              <a:latin typeface="Times New Roman"/>
            </a:endParaRPr>
          </a:p>
        </p:txBody>
      </p:sp>
      <p:sp>
        <p:nvSpPr>
          <p:cNvPr id="65" name=""/>
          <p:cNvSpPr/>
          <p:nvPr/>
        </p:nvSpPr>
        <p:spPr>
          <a:xfrm>
            <a:off x="1981080" y="19051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228564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86000" y="190512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5480" y="175248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2895480" y="19051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0" y="1447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A061DED3-9FCA-4A88-989A-357F00834AAB}"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ss Reference Symbol</a:t>
            </a:r>
            <a:endParaRPr b="0" lang="en-US" sz="3600" spc="-1" strike="noStrike">
              <a:solidFill>
                <a:srgbClr val="000000"/>
              </a:solidFill>
              <a:latin typeface="Times New Roman"/>
            </a:endParaRPr>
          </a:p>
        </p:txBody>
      </p:sp>
      <p:sp>
        <p:nvSpPr>
          <p:cNvPr id="72" name="PlaceHolder 2"/>
          <p:cNvSpPr>
            <a:spLocks noGrp="1"/>
          </p:cNvSpPr>
          <p:nvPr>
            <p:ph/>
          </p:nvPr>
        </p:nvSpPr>
        <p:spPr>
          <a:xfrm>
            <a:off x="609480" y="25146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specify dynamic behavior using extended finite state machin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operate concurrently, communicating by means of signals and remote variables.</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fter the process name is the number of process instances at startup and the maximum number of instanc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or processes created dynamically, the dashed arrow connects the parent process to the offspring.</a:t>
            </a:r>
            <a:endParaRPr b="0" lang="en-US" sz="2800" spc="-1" strike="noStrike">
              <a:solidFill>
                <a:srgbClr val="000000"/>
              </a:solidFill>
              <a:latin typeface="Arial"/>
            </a:endParaRPr>
          </a:p>
        </p:txBody>
      </p:sp>
      <p:grpSp>
        <p:nvGrpSpPr>
          <p:cNvPr id="73" name=""/>
          <p:cNvGrpSpPr/>
          <p:nvPr/>
        </p:nvGrpSpPr>
        <p:grpSpPr>
          <a:xfrm>
            <a:off x="3962520" y="1599840"/>
            <a:ext cx="1447560" cy="838440"/>
            <a:chOff x="3962520" y="1599840"/>
            <a:chExt cx="1447560" cy="838440"/>
          </a:xfrm>
        </p:grpSpPr>
        <p:sp>
          <p:nvSpPr>
            <p:cNvPr id="74"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411480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rocess_A (1,1)</a:t>
            </a:r>
            <a:endParaRPr b="0" lang="en-US" sz="1200" spc="-1" strike="noStrike">
              <a:solidFill>
                <a:srgbClr val="000000"/>
              </a:solidFill>
              <a:latin typeface="Times New Roman"/>
            </a:endParaRPr>
          </a:p>
        </p:txBody>
      </p:sp>
      <p:sp>
        <p:nvSpPr>
          <p:cNvPr id="83" name=""/>
          <p:cNvSpPr/>
          <p:nvPr/>
        </p:nvSpPr>
        <p:spPr>
          <a:xfrm>
            <a:off x="2666880" y="1981080"/>
            <a:ext cx="129564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410080" y="2057400"/>
            <a:ext cx="12956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15000" y="16765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a:t>
            </a:r>
            <a:endParaRPr b="0" lang="en-US" sz="1200" spc="-1" strike="noStrike">
              <a:solidFill>
                <a:srgbClr val="000000"/>
              </a:solidFill>
              <a:latin typeface="Times New Roman"/>
            </a:endParaRPr>
          </a:p>
        </p:txBody>
      </p:sp>
      <p:sp>
        <p:nvSpPr>
          <p:cNvPr id="86" name=""/>
          <p:cNvSpPr/>
          <p:nvPr/>
        </p:nvSpPr>
        <p:spPr>
          <a:xfrm>
            <a:off x="2743200" y="1600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920D0EFA-F0EB-4677-B220-E6C9798C8206}"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40:34Z</dcterms:created>
  <dc:creator>Allen Heberling</dc:creator>
  <dc:description>01xxxxr0</dc:description>
  <dc:language>en-US</dc:language>
  <cp:lastModifiedBy>aheberli</cp:lastModifiedBy>
  <cp:lastPrinted>1998-02-10T13:28:06Z</cp:lastPrinted>
  <dcterms:modified xsi:type="dcterms:W3CDTF">2001-01-16T16:52:29Z</dcterms:modified>
  <cp:revision>30</cp:revision>
  <dc:subject>IEEE 802.15 &lt;subject&gt;</dc:subject>
  <dc:title>No Slide Title</dc:title>
</cp:coreProperties>
</file>