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C9F-5553-416F-8FB1-A8FE6268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72D-A15C-486C-99AC-9D732D9E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9E8-4D32-4874-BE26-A2ACC27B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587-5371-4EFB-8C21-0A403FE4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BDB-B82C-492A-81FC-479334E6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D79-D20B-42B9-9486-DDC74179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380-F602-46E5-87A0-B00FB07C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43A-5AD9-493E-8F13-08B2602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9DF-CA6F-4647-ADAF-D26B678E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36C-8FBF-40AD-BA41-722F4F7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337-B0A0-405B-A68A-03AB085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4DB-FF06-4B4C-9061-FE9C629C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0321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73760" y="6474960"/>
            <a:ext cx="18367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F3097D-4B22-4BC8-8EFA-3A5B17E4B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osal for Non-collaborative 802.11 MAC Mechanisms for Enhancing Coexistence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ve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emake@ti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D46-CF1E-44F8-8469-4FD1826BE13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of Adaptive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301080" cy="4724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81680" y="1905120"/>
            <a:ext cx="14479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aptive algorithm find the optimal packet length to optimize throughput after approximately 15 PER estimates.  Compare packet length determination with plot on Slid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1F2-010A-4B35-B52B-5183B775E4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chanisms for IEEE 802.11b devices to perform adaptive fragmentation calculations is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timal fragmentation by the network is determined by the AP via this adaptive algorithm, and the optimal setting is set on the 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gorithm allows for maximization of throughput with by monitoring PER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gorithm is compatible with the joint rate shift/power control algorithm proposed in document number TB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36F-F8CC-4225-8696-A79F20A561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 limits the length of packets o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cket has a finite amount of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interference, fragmentation reduced the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interference, fragmentation may increased the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ads to the question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 what circumstances should fragmentation be enabled and what should the fragmentation level be set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549-E33A-4451-BB1D-2D559160AF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erence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IEEE 802.11b solutions estimate the SNR and SINR in the header of each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G be the set of (SNR, SINR) tuples such that for all (x,y) in G, the probability of having a packet error is small, e.g. p &lt;&lt;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PER on all packets with (x,y) in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cket error rate is significantly above p, then there must be an interferer in the area that is interfering with the MPDU of th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an then implement mitigation, e.g. fra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B91-9945-4FBC-94B2-B4CA4C0BBA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ptive Frag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adjust length of packet in time to optimize throughput on 802.11b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time taken to transmit a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overhead between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4952880"/>
            <a:ext cx="266724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52578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58672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5791320"/>
            <a:ext cx="60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5257800"/>
            <a:ext cx="60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231-F7BC-46BD-9463-A48A6B91D6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when a collision occurs, there is a packet error.  Throughput for a given rat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time for header of the packe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time for the data part of the packet, r is the rate of data transmission in the data part of the packe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robability of a packet error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3276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504960" y="35812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35812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2767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(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C60-1FC5-4FFC-ADB0-5C3DF0C2F4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owing values are constant in the B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fixed, e.g. at the minimum spacing between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fixed, e.g. long preamble or short preamble plus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error rate is a function of the length of the packet on the air, s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(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A3B-6DF5-4EC7-B918-359A44D829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630108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1981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given data rate and a fix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throughpu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well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1F0-65B0-4D28-B18B-6B5794AA11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Frag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optimal length of each packet analytically, the derivati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respect to tp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taken and set to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way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its inverse must be known, and the only way to know this value is to know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es and is not likely to be available in clos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mplies an adaptive algorithm should be us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A34-86DF-45BD-B5B9-90B6A3B4B6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ptive Packet Length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estimate of the probability of packet success.  This can be measure over some period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,k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,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q’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x 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,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/ 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,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978-A0BA-4869-9418-ACB0D07F5F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06:04:22Z</dcterms:created>
  <dc:creator>Matthew B. Shoemake</dc:creator>
  <dc:description/>
  <dc:language>en-US</dc:language>
  <cp:lastModifiedBy>Matthew B. Shoemake</cp:lastModifiedBy>
  <cp:lastPrinted>1998-02-10T13:28:06Z</cp:lastPrinted>
  <dcterms:modified xsi:type="dcterms:W3CDTF">2001-01-29T22:30:56Z</dcterms:modified>
  <cp:revision>18</cp:revision>
  <dc:subject/>
  <dc:title>PowerPoint Presentation</dc:title>
</cp:coreProperties>
</file>