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B35-337E-4291-BF0E-DAC24FE8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C71-A2F4-4ED2-B343-7ECFC831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523-5F36-43DB-9496-5FA6DC5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A9E-01FC-48EA-8BA5-6956E835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874-7F3B-40B7-97D1-6B84364F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2E9-3EB6-4B54-A98B-865B566A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2E4-EDF7-412F-BDB3-4EE116BD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F3E-F6D9-4302-92E7-1C9B618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42F-824C-4AAF-AD3A-66B9D022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B72-31A6-46FB-A942-E59D79B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A52-D993-457F-8E1C-1D32B62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BF5-D51A-4A40-8065-B8BC66B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81EBB4-81FC-4784-BF91-98F6FDB1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, Monterey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5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4F4-7857-42BA-87D6-5C7BA15F82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approved by 802 Executive Committee on Nov 9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approved by the SB on Dec 6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for Intent was Issued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CFAs received for the Montere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121-22A4-4273-AE38-905E0886CF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AE7-C0B1-4BD8-8293-A41D7476D4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GROUP 4 OBJECTIVES FOR THIS MEETING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UMMARIZE CONFERENCE CALL RESUL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REVIEW RESPONSES TO CF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RAFT FIRST PASS CRITERIA DOCU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UPDATE PROJECT 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FINALIZE CALL FOR PROPOS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ET OBJECTIVES FOR NEXT 2 MONTHS AND NEXT MEE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67B-83A4-4C1A-8798-C0A9658765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Philips-response-to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Texas-Instruments-Responses-to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Eaton-Low-Rate-WPAN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EXI-proposal-for-LR-WPAN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AMI-Low Power-Low-Rate-Communications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Motorola-Pervasive-Wireless-Device-Networks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Time-Domain-LR-PAN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-Amerisys-Response-to-LR-C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640" y="167652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As Received for Review on Monday and Tu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3E1-07C7-4836-B147-90FA32F62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1-15T13:30:57Z</dcterms:modified>
  <cp:revision>7</cp:revision>
  <dc:subject>IEEE 802.15 &lt;subject&gt;</dc:subject>
  <dc:title>Task Group 4 Low Rate WPANS Opening Report</dc:title>
</cp:coreProperties>
</file>