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4E26-D658-4530-8780-564E3109D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A302-9860-4BCF-B44C-F5FE22E4F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3908-9969-402A-B476-B59734D0D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87A2-6E80-412C-96D7-EF87ECB25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DFE1-D057-4E8D-BBFE-A2313F544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AED2-2FF7-4DC3-8C02-B659B7E2A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01CA-B3FC-4C46-9BD3-FCE3B8C6B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59EF-CB77-408E-B018-CFAA1FE04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87C7-B62E-44DA-8FE2-11D815CF4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3F42-600C-400B-A7F4-A472C8877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6F68-574D-4573-A5C8-CF4C3A541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4AE0-44B7-415B-A20D-F6A0C3FA3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4263EB55-14B4-4DE5-AE0F-4C525E3326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01/037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xas Instruments Responses to TG4 CF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room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 Data Rate Computer Periphera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8B99-AD4D-4DCC-A999-A8EA57E89513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room Net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much latency in the message transfer is accept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 to 3 seconds typical, 5 seconds ma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A308-637F-499A-A148-089EEC5320D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room Net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cribe the network top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ster/sl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er to peer not allowed (no cheating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D785-B512-4DFF-9942-07762E587C2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room Net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 master node? Where do data flows originate and terminate? Are the devices peer to peer or master/sla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3BB6-480F-4289-A473-62DD1F136F6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room Net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es this network have to interface to another network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so, how should these two networks be connect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rough the workstation LAN conn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1E66-2CFB-421E-A199-81A763AF887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room Net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wo low-rate networks are in range of one another, should they interac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lik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yes, h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&gt;64 students (e.g. a lecture hall) then may have to have several networks all connected to the main works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7758-0BDC-4821-9E9E-95FE572720D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room Net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 the devices support authentication and securit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hentication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urity les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4B70-0AB9-4359-AAF8-6F99B698600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room Net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the data traffic typ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ynchrono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6C59-4632-4AE1-BF28-45FEF37D017C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room Net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are the battery life requir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um: 1 we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ired: 1 seme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hargeable in place also desir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92DF-5217-4594-B338-5DF36BAD24A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room Net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the physical size of the low-rate transceiv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culator: ~ compact flash c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kstation: don’t c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649C-749E-4F47-AF46-F884C329D1A2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room Net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the range requirement of the applic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 M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ame r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rough human bod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ound metal desks, tables, chai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irable if does not go through wa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33AE-F6FD-41D5-9692-E317EB0D929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room Net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are the types of devices in that 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ng calcul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acher works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nter (may be attached to workst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8761-17C6-429D-B74A-60913F69464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room Net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the estimate market size (units) of the proposed applic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 of grades 6-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imated 3 year lifetime of de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3C08-C587-4A16-A8C9-8A32E2FFFA0C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room Net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ll this application benefit from location awarenes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81E2-8C24-45EC-941C-E7B9C3832496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w Data Rate Computer Peripher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many devices are in this low rate networ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 to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79AF-57B3-48EA-A65A-4F1A9B877DA5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w Data Rate Computer Peripher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are the types of devices in that applic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ybo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yst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akers (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 Resolution Printers (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B24D-BD47-4CB7-A05B-79AD97DFB0F4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w Data Rate Computer Peripher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cribe how the network is initia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wer-up of computer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C37D-C86C-4025-A6F1-EE5871BAF6D8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w Data Rate Computer Peripher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do devices attach and detach from the network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ce assigned, a peripheral is always attached to the same system on power-u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human intervention requi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 “introduction” on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563A-CE1F-4600-9A3B-89D478499975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w Data Rate Computer Peripher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cribe the traffic flow of th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ystrokes: 800 bps typical maximum, 10 bit payload per pack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use movement 500 bps, 50 bit paylo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ystick 1000 bps upstream, 50 bit paylo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ystick 200 bps downstream, 20 bit paylo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B2B7-709B-4C74-B3E9-2B2261EF49C3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w Data Rate Computer Peripher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often are messages s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ant during computer us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B372-2441-4746-B6B9-B5B2ADFEBA52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w Data Rate Computer Peripher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much latency in the message transfer is accept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uman threshold: 5 ms typical, but must be consist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CADC-D6AE-4E58-BEC5-F9935DAE5F57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w Data Rate Computer Peripher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cribe the network top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ster (computer chassis) / Slave (periphera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694A-7AEB-4DBD-B140-BF2697BD345A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room Net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many devices are in this low rate networ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ge 10 to 6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ically 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B683-F4B9-45E2-B9FE-300D253DFD5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w Data Rate Computer Peripher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es this network have to interface to another network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3582-D0D8-451F-BE75-A8AE621BC364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w Data Rate Computer Peripher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wo low-rate networks are in range of one another, should they interac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9AFC-071E-4692-84E1-D80182192FC5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w Data Rate Computer Peripher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 the devices support authentication and securit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th are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7557-2F3F-421B-B4B4-92EA9CB7A2B4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w Data Rate Computer Peripher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the data traffic typ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ynchronous for lowest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chronous may be needed if speakers can be suppor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7988-F929-46A5-A339-693619162E6F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w Data Rate Computer Peripher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are the battery life requir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 Mon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AAD0-0644-43A1-B240-C4B9E5180154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w Data Rate Computer Peripher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the physical size of the low-rate transceiv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ct Flash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1BF1-5241-4D2C-975C-CF0ADC5FD0F4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w Data Rate Computer Peripher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the range requirement of the applic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 m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13D0-DFE3-47D2-833F-6562C423C20A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w Data Rate Computer Peripher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the estimate market size (units) of the proposed applic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nual production of personal compu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C29D-D6A0-420B-B5EB-DAD8C6CD835B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w Data Rate Computer Peripher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ll this application benefit from location awarenes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E454-0539-4F40-A2D8-D94C8A24FB1A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room Net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cribe how the network is initi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udents arrive at classro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acher initiates communications with “known” un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udents turn on calculators are are automatically registered with the correct teacher’s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FB24-9391-4C3A-AD11-953F1528AB2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room Net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do devices attach and detach from the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o-attach, based on config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ginning of semester units identified with student/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acher can alter configuration at works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ach is power-dow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human intervention requir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 set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wer-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6650-FFCE-4F67-A731-29F00617007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room Net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cribe the traffic flow of th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rsty inte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 down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ution up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n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 times data channel is id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67DA-57EE-4298-A156-A2272B7003D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room Net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cribe the type of data that flows in each branch of the net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irly uniform data types for all students and teac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cast useful from workstation, but subsequent verification of complete downloads necess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8670-FD89-4A7E-9712-46F1104C1D1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room Net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much data is typically in each messag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ical payload of 100 to 500 b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ility to handle a bitmap of 2K is a pl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requ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other activity on net at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D772-2A86-41AA-94DC-4E7B821A064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room Net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often are messages s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times per hour per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82BB-C490-4D65-A896-10D46F97A5E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10T03:31:26Z</dcterms:created>
  <dc:creator>Tom Siep</dc:creator>
  <dc:description>&lt;doc#&gt;</dc:description>
  <dc:language>en-US</dc:language>
  <cp:lastModifiedBy>Robert F.  Heile</cp:lastModifiedBy>
  <cp:lastPrinted>1998-02-10T13:28:06Z</cp:lastPrinted>
  <dcterms:modified xsi:type="dcterms:W3CDTF">2001-01-15T22:04:22Z</dcterms:modified>
  <cp:revision>5</cp:revision>
  <dc:subject>IEEE 802.15 &lt;subject&gt;</dc:subject>
  <dc:title>PowerPoint Presentation</dc:title>
</cp:coreProperties>
</file>