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EDA-BCBF-42B2-8E9C-1A15BDB9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62E-7B39-46A9-9B84-0936BE28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0D8-8991-452F-B3CF-2A0E50F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754-566A-4C26-8676-4E1C208C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4AC-0A93-4A93-8F65-6AFC071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DA6-80F2-45B9-B657-632898A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B21-6023-4C51-93FE-C40ED01A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C94-494E-43C2-92A0-18DD7C03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E70-C9C4-4599-966C-574401D7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A4B-A9B3-4B83-B6CE-E34CD0D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539-B986-4DF3-92A6-7F54B7E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F5F-E95B-4B0B-A1FB-23B67C6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78C579-CE18-4A10-9242-A05766B3A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1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  Open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erey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784-961A-4491-A9E9-A5278E2D6F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Tampa (November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 Two Coexistence Mechanism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and MAC presentations on Bluetooth SCO link with 802.11b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Approved Coexistence Mechanism Selec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0/353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CA5-9B36-4559-B281-E7C22D487E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is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with Bluetooth SIG Coexistenc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Coexistence Mechanism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existence Modeling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formation of an 802 Wireless Coexist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9A0-1452-4D9B-B7A8-DA47ECE9C3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1-15T05:45:52Z</dcterms:modified>
  <cp:revision>269</cp:revision>
  <dc:subject>IEEE 802.15 &lt;subject&gt;</dc:subject>
  <dc:title>IEEE P802.15 Working Group for Wireless Personal Area Networks</dc:title>
</cp:coreProperties>
</file>