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46E5C-127A-46F2-AA05-AD3877A0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B99A1-80AE-4527-8A5F-72A5A3DAE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9B122-F0BE-4241-9C2E-7DC9C0154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AD9DF-EC66-45AA-8913-D90C72E88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5683-8757-4462-BED1-2380EA27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972AB-5DE7-4D6F-83AF-CDA92EF9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C4BE-1EFC-457B-B604-E1200253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310B0-BFED-4AF4-A213-E309E82B4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38F7-934C-4AC3-BF16-DA9B8EC5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45EB-E609-48B5-A082-6C254626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6DA2-9C97-414D-AE8A-85B699F4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223B-A703-48A5-BECE-8D5ABFAAF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743878-BE01-410A-92FD-4159DAD43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51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5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328], FAX: [716-781-9733], E-Mail:[adheberling@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MAC Committee Report to TG3 and MAC Committee’s Plan overview for the Monterey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inform the TG3 community of the </a:t>
            </a:r>
            <a:endParaRPr b="0" lang="en-US" sz="1600" spc="-1" strike="noStrike">
              <a:solidFill>
                <a:srgbClr val="000000"/>
              </a:solidFill>
              <a:latin typeface="Times New Roman"/>
            </a:endParaRPr>
          </a:p>
          <a:p>
            <a:pPr lvl="1" marL="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work the TG3 MAC committee has completed or started since the Tampa meeting. </a:t>
            </a:r>
            <a:endParaRPr b="0" lang="en-US" sz="1600" spc="-1" strike="noStrike">
              <a:solidFill>
                <a:srgbClr val="000000"/>
              </a:solidFill>
              <a:latin typeface="Times New Roman"/>
            </a:endParaRPr>
          </a:p>
          <a:p>
            <a:pPr lvl="1" marL="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work the TG3 MAC committee has planned for the coming wee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mpany</a:t>
            </a:r>
          </a:p>
        </p:txBody>
      </p:sp>
      <p:sp>
        <p:nvSpPr>
          <p:cNvPr id="3" name="PlaceHolder 2"/>
          <p:cNvSpPr>
            <a:spLocks noGrp="1"/>
          </p:cNvSpPr>
          <p:nvPr>
            <p:ph type="sldNum" idx="3"/>
          </p:nvPr>
        </p:nvSpPr>
        <p:spPr/>
        <p:txBody>
          <a:bodyPr/>
          <a:p>
            <a:fld id="{6C9C7B01-9F59-497B-B54D-DB22BC67A720}" type="slidenum">
              <a:t>1</a:t>
            </a:fld>
          </a:p>
        </p:txBody>
      </p:sp>
      <p:sp>
        <p:nvSpPr>
          <p:cNvPr id="4" name="PlaceHolder 3"/>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be a full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mmittee members have worked hard on their respective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vail yourselves of the presentations and discussion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your participation and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65624F57-5CBA-4CF8-ABD1-D9E3F154714A}"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ommittee Monterey Report and Pla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Allen Heberling, Eastman Kodak Company</a:t>
            </a:r>
          </a:p>
        </p:txBody>
      </p:sp>
      <p:sp>
        <p:nvSpPr>
          <p:cNvPr id="4" name="PlaceHolder 3"/>
          <p:cNvSpPr>
            <a:spLocks noGrp="1"/>
          </p:cNvSpPr>
          <p:nvPr>
            <p:ph type="sldNum" idx="3"/>
          </p:nvPr>
        </p:nvSpPr>
        <p:spPr/>
        <p:txBody>
          <a:bodyPr/>
          <a:p>
            <a:fld id="{2AFDC709-7A32-4E96-AC2B-1F896C315D9B}" type="slidenum">
              <a:t>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plishments since Tam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Activities for this wee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Resolu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3B12D8C9-5B80-4DBE-A8F5-6F14370B57D6}"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plishments</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on Calls since Tampa</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utes captured in 00406r4P802-15_TG3-MAC-Sub-Group-Conference-Call-Minutes</a:t>
            </a:r>
            <a:endParaRPr b="0" lang="en-US" sz="24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ocuments initiated(</a:t>
            </a:r>
            <a:r>
              <a:rPr b="0" lang="en-US" sz="2400" spc="-1" strike="noStrike">
                <a:solidFill>
                  <a:srgbClr val="000000"/>
                </a:solidFill>
                <a:latin typeface="Arial"/>
              </a:rPr>
              <a:t>Title,Author(s)</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r0P802-15_TG3-Merged-MAC-Proposal, Gubbi/Heberling/Kinne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5r0P802-15_TG3-Some-MAC-Sublayer-Considerations, Ho</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8r0P802-15_TG3-MAC-Architecture, Heberling</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47FBB734-E633-4633-95F6-7815DE69562F}"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mplishments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Initiated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58r0P802-15_TG3-MAC-Committee-Project-Plan, Pa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59r0P802-15_TG3-Draft-Clause-Titles-and-Synopses, Heberl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5r0P802-15_TG3-Clause 5, Kinney/Kub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60r0P802-15_TG3-Clause 6, Ho/Heber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34r0P802-15_TG3-Clause 7, Gubb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61r0P802-15_TG3-Clause 9, Schr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DA9B95D1-76A3-4E2A-9EFF-1C8A182736ED}"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ommittee Planned Activities for Monterey</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G3 members with these presentations:</a:t>
            </a:r>
            <a:endParaRPr b="0" lang="en-US" sz="2800" spc="-1" strike="noStrike">
              <a:solidFill>
                <a:srgbClr val="000000"/>
              </a:solidFill>
              <a:latin typeface="Arial"/>
            </a:endParaRPr>
          </a:p>
          <a:p>
            <a:pPr marL="339480" indent="-339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clause 5: General Description</a:t>
            </a:r>
            <a:endParaRPr b="0" lang="en-US" sz="2800" spc="-1" strike="noStrike">
              <a:solidFill>
                <a:srgbClr val="000000"/>
              </a:solidFill>
              <a:latin typeface="Arial"/>
            </a:endParaRPr>
          </a:p>
          <a:p>
            <a:pPr marL="339480" indent="-339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clause 7: MAC frame formats</a:t>
            </a:r>
            <a:endParaRPr b="0" lang="en-US" sz="2800" spc="-1" strike="noStrike">
              <a:solidFill>
                <a:srgbClr val="000000"/>
              </a:solidFill>
              <a:latin typeface="Arial"/>
            </a:endParaRPr>
          </a:p>
          <a:p>
            <a:pPr marL="339480" indent="-339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DL and the current state of the TG3 MAC SDL model </a:t>
            </a:r>
            <a:endParaRPr b="0" lang="en-US" sz="2800" spc="-1" strike="noStrike">
              <a:solidFill>
                <a:srgbClr val="000000"/>
              </a:solidFill>
              <a:latin typeface="Arial"/>
            </a:endParaRPr>
          </a:p>
          <a:p>
            <a:pPr marL="339480" indent="-339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clause 9: sub clause regarding SC-TDMA</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CDE47CFB-4A81-475C-A715-498DC3945437}"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ommittee Planned Activities for Monterey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ssue Resolutions sessions to begin addressing questions:</a:t>
            </a:r>
            <a:endParaRPr b="0" lang="en-US" sz="28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ing out of each editor's clause editing</a:t>
            </a:r>
            <a:endParaRPr b="0" lang="en-US" sz="28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ing the 802 MAC SAP interface</a:t>
            </a:r>
            <a:endParaRPr b="0" lang="en-US" sz="28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ing a non-802 based MAC SAP interf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6A342193-5105-41E2-829D-1D6CAEC4BB98}"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ommittee Planned Activities for Monterey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MAC/PHY issue resolution session to address these question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SAP</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ME SAP</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ME MIB?</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long preamble and/or FEC coding schemes on effective data throughput r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12ACE2DC-0CDB-404C-BB2E-00B98DE957A2}"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Committee Planned Activities for Monterey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MAC Planning Session to:</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MAC committee tasks for the time leading up to Hilton Head (HH)</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MAC committee members tasks for the time leading up to HH</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 agreement on time and location for an ad-hoc MAC committee me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06AE4F63-7A2A-4DAC-BDBE-5F10360C4173}"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05:02:51Z</dcterms:created>
  <dc:creator>Allen Heberling</dc:creator>
  <dc:description>01/xxxr0</dc:description>
  <dc:language>en-US</dc:language>
  <cp:lastModifiedBy>Allen Heberling</cp:lastModifiedBy>
  <cp:lastPrinted>1998-02-10T13:28:06Z</cp:lastPrinted>
  <dcterms:modified xsi:type="dcterms:W3CDTF">2001-01-15T23:27:54Z</dcterms:modified>
  <cp:revision>6</cp:revision>
  <dc:subject>IEEE 802.15 &lt;subject&gt;</dc:subject>
  <dc:title>No Slide Title</dc:title>
</cp:coreProperties>
</file>