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AF822C-00AD-42D1-92E0-526E0F480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4160" y="701640"/>
            <a:ext cx="4626000" cy="3468600"/>
          </a:xfrm>
          <a:prstGeom prst="rect">
            <a:avLst/>
          </a:prstGeom>
          <a:ln w="0">
            <a:noFill/>
          </a:ln>
        </p:spPr>
      </p:sp>
      <p:sp>
        <p:nvSpPr>
          <p:cNvPr id="31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ancis Truntzer of the Intel Corporation and current chair of the Bluetooth Special Interest Group,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bjective of UnplugFests is to provide Bluetooth developers with an opportunity to conduct interoperability testing between their implementation and other companies´ implementations. The market wants interoperability, and Bluetooth UnplugFests are a big step toward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etsi.org/press/bluetooth.htm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032B49-D68F-4E5F-9D73-1F3363D35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8" name="PlaceHolder 1"/>
          <p:cNvSpPr>
            <a:spLocks noGrp="1"/>
          </p:cNvSpPr>
          <p:nvPr>
            <p:ph type="sldImg"/>
          </p:nvPr>
        </p:nvSpPr>
        <p:spPr>
          <a:xfrm>
            <a:off x="1146240" y="695160"/>
            <a:ext cx="4641840" cy="3481560"/>
          </a:xfrm>
          <a:prstGeom prst="rect">
            <a:avLst/>
          </a:prstGeom>
          <a:ln w="0">
            <a:noFill/>
          </a:ln>
        </p:spPr>
      </p:sp>
      <p:sp>
        <p:nvSpPr>
          <p:cNvPr id="31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34E918-ACB9-4D0B-8075-FC066F517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1"/>
          <p:cNvSpPr>
            <a:spLocks noGrp="1"/>
          </p:cNvSpPr>
          <p:nvPr>
            <p:ph type="sldImg"/>
          </p:nvPr>
        </p:nvSpPr>
        <p:spPr>
          <a:xfrm>
            <a:off x="1146240" y="695160"/>
            <a:ext cx="4641840" cy="3481560"/>
          </a:xfrm>
          <a:prstGeom prst="rect">
            <a:avLst/>
          </a:prstGeom>
          <a:ln w="0">
            <a:noFill/>
          </a:ln>
        </p:spPr>
      </p:sp>
      <p:sp>
        <p:nvSpPr>
          <p:cNvPr id="32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28"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sldImg"/>
          </p:nvPr>
        </p:nvSpPr>
        <p:spPr>
          <a:xfrm>
            <a:off x="1157400" y="703440"/>
            <a:ext cx="4622760" cy="3466800"/>
          </a:xfrm>
          <a:prstGeom prst="rect">
            <a:avLst/>
          </a:prstGeom>
          <a:ln w="0">
            <a:noFill/>
          </a:ln>
        </p:spPr>
      </p:sp>
      <p:sp>
        <p:nvSpPr>
          <p:cNvPr id="331"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46B99-7F2D-4158-BEFE-AA7C74E3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81C5-F731-4C6F-9C3C-D71B9122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39353-D6B1-4CE8-9E80-E103911AB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C4E9F-8B48-4CCD-A88F-B8DCC9CEE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9C461-1546-4A70-8020-2BE4137C6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7BDC-0C4B-4BB4-80E9-F3942FC2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1DDB6-1173-4B85-B9C8-77AAFDDAA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6932-7495-4EFA-8761-0F55899A8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BC68-7862-49FF-9323-A09067C6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4EA4-7F7C-4C68-AC08-B6879720B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1CAD-140A-436F-A811-9AA24504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AF02-CE0A-4EBE-B6ED-75DECACB8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3F322F-DFA7-468A-B6C4-519C7ED9B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1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43E34F9-C54F-4F84-96E4-7F1306F581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10/Monterey</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41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Dec00 12pm EST; LB6 Star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pprove the application of the -00/159r16 LB3 comment resolutions to 802.15.1 Std D0.7.3.</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Dec00 11pm EST; LB6 Sto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B6 Summa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74 Voting members. 59 submitted their vo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turn ratio is 59/74 = 80 %. So the ballot is valid (50 % is requ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passed with 51/4/4 or 93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1FB4AA-6727-4DD2-90E6-D5B49363EEEE}"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802.15.1 Std D0.7.2/resolution approval; Date Closed: 15Dec00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5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4</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4</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59</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15</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51 + 4 + 4) / 74 = 80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51 / (51 + 4) = 93 %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4 / 59 = 7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8CB515D-9CD8-4A92-81E6-B5959283BB17}"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91" name=""/>
          <p:cNvGraphicFramePr/>
          <p:nvPr/>
        </p:nvGraphicFramePr>
        <p:xfrm>
          <a:off x="1219320" y="1600200"/>
          <a:ext cx="6664320" cy="4605480"/>
        </p:xfrm>
        <a:graphic>
          <a:graphicData uri="http://schemas.openxmlformats.org/presentationml/2006/ole">
            <p:oleObj progId="Excel.Sheet.12" r:id="rId1" spid="">
              <p:embed/>
              <p:pic>
                <p:nvPicPr>
                  <p:cNvPr id="92" name="" descr=""/>
                  <p:cNvPicPr/>
                  <p:nvPr/>
                </p:nvPicPr>
                <p:blipFill>
                  <a:blip r:embed="rId2"/>
                  <a:stretch/>
                </p:blipFill>
                <p:spPr>
                  <a:xfrm>
                    <a:off x="1219320" y="1600200"/>
                    <a:ext cx="6664320" cy="4605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B0C8101-F1E8-4C4F-99B8-07EED649C8A7}"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94" name=""/>
          <p:cNvGraphicFramePr/>
          <p:nvPr/>
        </p:nvGraphicFramePr>
        <p:xfrm>
          <a:off x="1231920" y="1862280"/>
          <a:ext cx="6664320" cy="4386240"/>
        </p:xfrm>
        <a:graphic>
          <a:graphicData uri="http://schemas.openxmlformats.org/presentationml/2006/ole">
            <p:oleObj progId="Excel.Sheet.12" r:id="rId1" spid="">
              <p:embed/>
              <p:pic>
                <p:nvPicPr>
                  <p:cNvPr id="95" name="" descr=""/>
                  <p:cNvPicPr/>
                  <p:nvPr/>
                </p:nvPicPr>
                <p:blipFill>
                  <a:blip r:embed="rId2"/>
                  <a:stretch/>
                </p:blipFill>
                <p:spPr>
                  <a:xfrm>
                    <a:off x="1231920" y="1862280"/>
                    <a:ext cx="6664320" cy="43862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3045BD1-D7FB-4FF1-A6E2-CEA78A8511EE}" type="slidenum">
              <a:t>1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97" name=""/>
          <p:cNvGraphicFramePr/>
          <p:nvPr/>
        </p:nvGraphicFramePr>
        <p:xfrm>
          <a:off x="1231920" y="1862280"/>
          <a:ext cx="6664320" cy="4386240"/>
        </p:xfrm>
        <a:graphic>
          <a:graphicData uri="http://schemas.openxmlformats.org/presentationml/2006/ole">
            <p:oleObj progId="Excel.Sheet.12" r:id="rId1" spid="">
              <p:embed/>
              <p:pic>
                <p:nvPicPr>
                  <p:cNvPr id="98" name="" descr=""/>
                  <p:cNvPicPr/>
                  <p:nvPr/>
                </p:nvPicPr>
                <p:blipFill>
                  <a:blip r:embed="rId2"/>
                  <a:stretch/>
                </p:blipFill>
                <p:spPr>
                  <a:xfrm>
                    <a:off x="1231920" y="1862280"/>
                    <a:ext cx="6664320" cy="43862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4EE7F72-6418-4425-B2A5-0F3FF589A708}" type="slidenum">
              <a:t>1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100" name=""/>
          <p:cNvGraphicFramePr/>
          <p:nvPr/>
        </p:nvGraphicFramePr>
        <p:xfrm>
          <a:off x="1233360" y="1905120"/>
          <a:ext cx="6654960" cy="3289320"/>
        </p:xfrm>
        <a:graphic>
          <a:graphicData uri="http://schemas.openxmlformats.org/presentationml/2006/ole">
            <p:oleObj progId="Excel.Sheet.12" r:id="rId1" spid="">
              <p:embed/>
              <p:pic>
                <p:nvPicPr>
                  <p:cNvPr id="101" name="" descr=""/>
                  <p:cNvPicPr/>
                  <p:nvPr/>
                </p:nvPicPr>
                <p:blipFill>
                  <a:blip r:embed="rId2"/>
                  <a:stretch/>
                </p:blipFill>
                <p:spPr>
                  <a:xfrm>
                    <a:off x="1233360" y="1905120"/>
                    <a:ext cx="6654960" cy="3289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E5A67D0-2C1F-4388-94DD-7B11F6934C94}" type="slidenum">
              <a:t>1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Tools and Comment DB Research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0DD3DDA-E028-466D-A7F0-6BF70DC663BE}"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Tools and Comment DB</a:t>
            </a:r>
            <a:br>
              <a:rPr sz="3600"/>
            </a:b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The 802.15.1 Comment Resolution Phases seem to take to long and they appear to be cumbers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Reviewed various IEEE WG and Sponsor Balloting Tools and Comment DB approa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802.15.1 SHALL use a new Balloting Tool(s) and Comment DB for the next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A3BA60-31BC-47B1-9162-E24EDDB60569}"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the files researched are here:</a:t>
            </a:r>
            <a:br>
              <a:rPr sz="3600"/>
            </a:br>
            <a:r>
              <a:rPr b="0" lang="en-US" sz="2800" spc="-1" strike="noStrike">
                <a:solidFill>
                  <a:srgbClr val="000000"/>
                </a:solidFill>
                <a:latin typeface="Times New Roman"/>
              </a:rPr>
              <a:t>http://ieee802.org/15/private/Ballot-Tools/Research/</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ae (GeoffT)</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GigBallot.ZIP [10GigBallot-a Solution.EXE, plus 20 DLLs]</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GigBallot.tx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z (HowardF, etc.)</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5.0.mdb</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tx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802.15 (VicH; this is what we use)</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16P802-15_TG1-Results_of_LB3.xls</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04r1P802-15_WG-Letter-Ballot-6.doc</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112r6P802-15_Ballot-Instructions.PDF</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ber_Database_802_15.mdb</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6 (Roger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00_22.doc</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MAC_Comments.mdb</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PHY_Comments.mdb</a:t>
            </a:r>
            <a:endParaRPr b="0" lang="en-US" sz="1400" spc="-1" strike="noStrike">
              <a:solidFill>
                <a:srgbClr val="000000"/>
              </a:solidFill>
              <a:latin typeface="Arial"/>
            </a:endParaRPr>
          </a:p>
        </p:txBody>
      </p:sp>
      <p:sp>
        <p:nvSpPr>
          <p:cNvPr id="108"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lso received a clone Attendance DB from 802.3 [802-3AttDB-Clone.fp5] for t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nd fathered 802.15 Member DB was written in 1997 MS Access but is no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DC0EC0-3FB9-48F0-8A9D-88ECA935BDB1}"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5C3EE78-4A66-4BBF-9DC5-066223A77DD5}" type="slidenum">
              <a:t>1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01 Monterey, C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0A11119-70AA-4D2B-93EE-4104808C7680}"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findings - 802.3ae </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3ae uses a 10GigBallot-a Solution.EX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alloting tool is a DB created via FileMaker Pro and the Developer run-time version of my own tool royalty free if I generated it with Filemaker Pro Developer Version.Great Balloting Tool but in addition to requiring a DB it requires 17 DL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GigBallot.t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leMaker Developer 5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leMaker Pro 5.0 v3</a:t>
            </a:r>
            <a:endParaRPr b="0" lang="en-US" sz="2800" spc="-1" strike="noStrike">
              <a:solidFill>
                <a:srgbClr val="000000"/>
              </a:solidFill>
              <a:latin typeface="Arial"/>
            </a:endParaRPr>
          </a:p>
        </p:txBody>
      </p:sp>
      <p:sp>
        <p:nvSpPr>
          <p:cNvPr id="112"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lso received a clone Attendance DB from 802.3 [802-3AttDB-Clone.fp5] for t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nd fathered 802.15 Member DB was written in 1997 MS Access but is no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CF78F5-9543-4421-828C-E2FC824679EA}" type="slidenum">
              <a:t>2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was a wonderful tool but had what I considered to be a major drawback.  It accepted comments from a web page (preferred) or a file submitted as text or an e-mail body. The text mode depended on rigid adherence to an ASCII template for the comments to get vacuumed into the master database.  The web page method was a pain if you had lots of comments. It only worked on-line. The ASCII method worked well off-line but was problematical in pulling things into the master database.” Geoff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3ADC4E-8C64-464C-841A-DF9EF8660AA1}" type="slidenum">
              <a:t>2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117"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119"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121"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676CDFE-6166-458A-97D5-B676E4A9D5CE}" type="slidenum">
              <a:t>2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appears that the critical path dates for Bluetooth are the UnPlugFest’s</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7-11 2000 Sophia Antipolis, France</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4</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5-9, 2001 Bellevue, Washington, USA</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4.5</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11-15 2001 Frankfurt, Germany</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5 </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2-6, 2001 Tokyo Japan</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459E72-FDA2-43E0-B46B-B7E6A9C1AF3E}"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125"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0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173r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C1-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Anne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a:t>
            </a:r>
            <a:endParaRPr b="0" lang="en-US" sz="1800" spc="-1" strike="noStrike">
              <a:solidFill>
                <a:srgbClr val="000000"/>
              </a:solidFill>
              <a:latin typeface="Times New Roman"/>
            </a:endParaRPr>
          </a:p>
        </p:txBody>
      </p:sp>
      <p:sp>
        <p:nvSpPr>
          <p:cNvPr id="126" name=""/>
          <p:cNvSpPr/>
          <p:nvPr/>
        </p:nvSpPr>
        <p:spPr>
          <a:xfrm>
            <a:off x="5410080" y="3124080"/>
            <a:ext cx="1433520" cy="16765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 SA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SDL</a:t>
            </a:r>
            <a:endParaRPr b="0" lang="en-US" sz="2000" spc="-1" strike="noStrike">
              <a:solidFill>
                <a:srgbClr val="000000"/>
              </a:solidFill>
              <a:latin typeface="Times New Roman"/>
            </a:endParaRPr>
          </a:p>
        </p:txBody>
      </p:sp>
      <p:sp>
        <p:nvSpPr>
          <p:cNvPr id="127"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4956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130"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Day LB</a:t>
            </a:r>
            <a:endParaRPr b="0" lang="en-US" sz="2400" spc="-1" strike="noStrike">
              <a:solidFill>
                <a:srgbClr val="000000"/>
              </a:solidFill>
              <a:latin typeface="Times New Roman"/>
            </a:endParaRPr>
          </a:p>
        </p:txBody>
      </p:sp>
      <p:sp>
        <p:nvSpPr>
          <p:cNvPr id="132"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Jan0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ed</a:t>
            </a:r>
            <a:endParaRPr b="0" lang="en-US" sz="1800" spc="-1" strike="noStrike">
              <a:solidFill>
                <a:srgbClr val="000000"/>
              </a:solidFill>
              <a:latin typeface="Times New Roman"/>
            </a:endParaRPr>
          </a:p>
        </p:txBody>
      </p:sp>
      <p:sp>
        <p:nvSpPr>
          <p:cNvPr id="133"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9812000">
            <a:off x="6915240" y="1689120"/>
            <a:ext cx="125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Feb01</a:t>
            </a:r>
            <a:endParaRPr b="0" lang="en-US" sz="2400" spc="-1" strike="noStrike">
              <a:solidFill>
                <a:srgbClr val="000000"/>
              </a:solidFill>
              <a:latin typeface="Times New Roman"/>
            </a:endParaRPr>
          </a:p>
        </p:txBody>
      </p:sp>
      <p:sp>
        <p:nvSpPr>
          <p:cNvPr id="135"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8724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40"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0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Smooth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01440" y="190512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Jan01</a:t>
            </a:r>
            <a:endParaRPr b="0" lang="en-US" sz="2400" spc="-1" strike="noStrike">
              <a:solidFill>
                <a:srgbClr val="000000"/>
              </a:solidFill>
              <a:latin typeface="Times New Roman"/>
            </a:endParaRPr>
          </a:p>
        </p:txBody>
      </p:sp>
      <p:sp>
        <p:nvSpPr>
          <p:cNvPr id="143" name=""/>
          <p:cNvSpPr/>
          <p:nvPr/>
        </p:nvSpPr>
        <p:spPr>
          <a:xfrm>
            <a:off x="619200" y="5867280"/>
            <a:ext cx="5214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for internal production; editor only ver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 to W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44"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4p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59r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C1-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Annex A-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 B/SD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
          <p:cNvSpPr/>
          <p:nvPr/>
        </p:nvSpPr>
        <p:spPr>
          <a:xfrm>
            <a:off x="6154560" y="135720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Jan01</a:t>
            </a:r>
            <a:endParaRPr b="0" lang="en-US" sz="2400" spc="-1" strike="noStrike">
              <a:solidFill>
                <a:srgbClr val="000000"/>
              </a:solidFill>
              <a:latin typeface="Times New Roman"/>
            </a:endParaRPr>
          </a:p>
        </p:txBody>
      </p:sp>
      <p:sp>
        <p:nvSpPr>
          <p:cNvPr id="146"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47"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9556400">
            <a:off x="7825680" y="1672920"/>
            <a:ext cx="141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Feb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9985550-ECC0-4F7A-BE35-B2DAF2DB56C1}" type="slidenum">
              <a:t>2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04920" y="1905120"/>
            <a:ext cx="49528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5024880" y="1368720"/>
            <a:ext cx="698760" cy="3965400"/>
            <a:chOff x="5024880" y="1368720"/>
            <a:chExt cx="698760" cy="3965400"/>
          </a:xfrm>
        </p:grpSpPr>
        <p:sp>
          <p:nvSpPr>
            <p:cNvPr id="152" name=""/>
            <p:cNvSpPr/>
            <p:nvPr/>
          </p:nvSpPr>
          <p:spPr>
            <a:xfrm>
              <a:off x="523548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19504800">
              <a:off x="505512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55"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D1.1 = BT v1.1</a:t>
            </a:r>
            <a:endParaRPr b="0" lang="en-US" sz="1600" spc="-1" strike="noStrike">
              <a:solidFill>
                <a:srgbClr val="000000"/>
              </a:solidFill>
              <a:latin typeface="Times New Roman"/>
            </a:endParaRPr>
          </a:p>
        </p:txBody>
      </p:sp>
      <p:sp>
        <p:nvSpPr>
          <p:cNvPr id="156"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9"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60"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61"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62"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63"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64"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65"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66"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68"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71"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72"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sp>
        <p:nvSpPr>
          <p:cNvPr id="174"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75"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76"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77"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78" name=""/>
          <p:cNvSpPr/>
          <p:nvPr/>
        </p:nvSpPr>
        <p:spPr>
          <a:xfrm>
            <a:off x="392436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79" name=""/>
          <p:cNvSpPr/>
          <p:nvPr/>
        </p:nvSpPr>
        <p:spPr>
          <a:xfrm>
            <a:off x="5346720" y="2666880"/>
            <a:ext cx="4446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80"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81" name=""/>
          <p:cNvSpPr/>
          <p:nvPr/>
        </p:nvSpPr>
        <p:spPr>
          <a:xfrm>
            <a:off x="586728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82" name=""/>
          <p:cNvSpPr/>
          <p:nvPr/>
        </p:nvSpPr>
        <p:spPr>
          <a:xfrm>
            <a:off x="6350040" y="4191120"/>
            <a:ext cx="3747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sp>
        <p:nvSpPr>
          <p:cNvPr id="183" name=""/>
          <p:cNvSpPr/>
          <p:nvPr/>
        </p:nvSpPr>
        <p:spPr>
          <a:xfrm>
            <a:off x="6781680" y="4191120"/>
            <a:ext cx="3747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sp>
        <p:nvSpPr>
          <p:cNvPr id="184"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85"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86" name=""/>
          <p:cNvSpPr/>
          <p:nvPr/>
        </p:nvSpPr>
        <p:spPr>
          <a:xfrm>
            <a:off x="5486400" y="3124080"/>
            <a:ext cx="3049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87" name=""/>
          <p:cNvSpPr/>
          <p:nvPr/>
        </p:nvSpPr>
        <p:spPr>
          <a:xfrm>
            <a:off x="79977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F23A750-72F2-4F2D-B91E-7001D463DDAF}" type="slidenum">
              <a:t>2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92"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93"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94"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6"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7"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8"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9"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0"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1"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12"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14"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5"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6"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7"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8"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9"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221"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6"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30"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31"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32"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3"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34"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37"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38"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43"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44"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45"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46"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48"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50"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51" name=""/>
          <p:cNvSpPr/>
          <p:nvPr/>
        </p:nvSpPr>
        <p:spPr>
          <a:xfrm>
            <a:off x="4579920" y="1614600"/>
            <a:ext cx="150192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1Jan01</a:t>
            </a:r>
            <a:endParaRPr b="0" lang="en-US" sz="1200" spc="-1" strike="noStrike">
              <a:solidFill>
                <a:srgbClr val="000000"/>
              </a:solidFill>
              <a:latin typeface="Times New Roman"/>
            </a:endParaRPr>
          </a:p>
        </p:txBody>
      </p:sp>
      <p:sp>
        <p:nvSpPr>
          <p:cNvPr id="252" name=""/>
          <p:cNvSpPr/>
          <p:nvPr/>
        </p:nvSpPr>
        <p:spPr>
          <a:xfrm>
            <a:off x="510552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54"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56"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724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617220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1814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2Jun</a:t>
            </a:r>
            <a:endParaRPr b="0" lang="en-US" sz="1200" spc="-1" strike="noStrike">
              <a:solidFill>
                <a:srgbClr val="000000"/>
              </a:solidFill>
              <a:latin typeface="Times New Roman"/>
            </a:endParaRPr>
          </a:p>
        </p:txBody>
      </p:sp>
      <p:sp>
        <p:nvSpPr>
          <p:cNvPr id="260" name=""/>
          <p:cNvSpPr/>
          <p:nvPr/>
        </p:nvSpPr>
        <p:spPr>
          <a:xfrm flipV="1">
            <a:off x="647712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7640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62"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59600" y="1614600"/>
            <a:ext cx="128556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001</a:t>
            </a:r>
            <a:endParaRPr b="0" lang="en-US" sz="1200" spc="-1" strike="noStrike">
              <a:solidFill>
                <a:srgbClr val="000000"/>
              </a:solidFill>
              <a:latin typeface="Times New Roman"/>
            </a:endParaRPr>
          </a:p>
        </p:txBody>
      </p:sp>
      <p:sp>
        <p:nvSpPr>
          <p:cNvPr id="264" name=""/>
          <p:cNvSpPr/>
          <p:nvPr/>
        </p:nvSpPr>
        <p:spPr>
          <a:xfrm>
            <a:off x="678168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66"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P-bluetm001" descr=""/>
          <p:cNvPicPr/>
          <p:nvPr/>
        </p:nvPicPr>
        <p:blipFill>
          <a:blip r:embed="rId1"/>
          <a:stretch/>
        </p:blipFill>
        <p:spPr>
          <a:xfrm>
            <a:off x="1600200" y="1542960"/>
            <a:ext cx="1143000" cy="762120"/>
          </a:xfrm>
          <a:prstGeom prst="rect">
            <a:avLst/>
          </a:prstGeom>
          <a:ln w="0">
            <a:noFill/>
          </a:ln>
        </p:spPr>
      </p:pic>
      <p:pic>
        <p:nvPicPr>
          <p:cNvPr id="269" name="802" descr=""/>
          <p:cNvPicPr/>
          <p:nvPr/>
        </p:nvPicPr>
        <p:blipFill>
          <a:blip r:embed="rId2"/>
          <a:stretch/>
        </p:blipFill>
        <p:spPr>
          <a:xfrm>
            <a:off x="1447920" y="4133880"/>
            <a:ext cx="1014120" cy="1047600"/>
          </a:xfrm>
          <a:prstGeom prst="rect">
            <a:avLst/>
          </a:prstGeom>
          <a:ln w="0">
            <a:noFill/>
          </a:ln>
        </p:spPr>
      </p:pic>
      <p:sp>
        <p:nvSpPr>
          <p:cNvPr id="270"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75"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76"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77" name=""/>
          <p:cNvSpPr/>
          <p:nvPr/>
        </p:nvSpPr>
        <p:spPr>
          <a:xfrm>
            <a:off x="1905120" y="838080"/>
            <a:ext cx="297180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6868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D0.8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7Feb01 – 23Feb</a:t>
            </a:r>
            <a:endParaRPr b="0" lang="en-US" sz="1200" spc="-1" strike="noStrike">
              <a:solidFill>
                <a:srgbClr val="000000"/>
              </a:solidFill>
              <a:latin typeface="Times New Roman"/>
            </a:endParaRPr>
          </a:p>
        </p:txBody>
      </p:sp>
      <p:sp>
        <p:nvSpPr>
          <p:cNvPr id="279" name=""/>
          <p:cNvSpPr/>
          <p:nvPr/>
        </p:nvSpPr>
        <p:spPr>
          <a:xfrm flipV="1">
            <a:off x="499428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19720" y="3581280"/>
            <a:ext cx="121896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0Mar01 – 9May</a:t>
            </a:r>
            <a:endParaRPr b="0" lang="en-US" sz="1200" spc="-1" strike="noStrike">
              <a:solidFill>
                <a:srgbClr val="000000"/>
              </a:solidFill>
              <a:latin typeface="Times New Roman"/>
            </a:endParaRPr>
          </a:p>
        </p:txBody>
      </p:sp>
      <p:sp>
        <p:nvSpPr>
          <p:cNvPr id="281" name=""/>
          <p:cNvSpPr/>
          <p:nvPr/>
        </p:nvSpPr>
        <p:spPr>
          <a:xfrm>
            <a:off x="685908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2" name=""/>
          <p:cNvSpPr/>
          <p:nvPr/>
        </p:nvSpPr>
        <p:spPr>
          <a:xfrm>
            <a:off x="6900840" y="210024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4" name=""/>
          <p:cNvSpPr/>
          <p:nvPr/>
        </p:nvSpPr>
        <p:spPr>
          <a:xfrm>
            <a:off x="495288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8May – 28May</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FA98C4F-23E9-4F2A-88C3-B53D012E39F3}" type="slidenum">
              <a:t>2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Mar01 Plenary</a:t>
            </a:r>
            <a:endParaRPr b="0" lang="en-US" sz="36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5Mar01 (4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 =2nd Screen (we will provide LC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8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Mar01 graphic on Thursday, 18Jan01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5EEFE1A-5B09-47FD-8B27-0EE01FBBB9FB}" type="slidenum">
              <a:t>2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4 - IEEE 802.15 Task Group 1 Technical Editors</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9221975-8DF1-4ADA-A502-4307BAD54F62}" type="slidenum">
              <a:t>2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9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ebruary 27-28, 2001 Ad Hoc?</a:t>
            </a:r>
            <a:endParaRPr b="0" lang="en-US" sz="1600" spc="-1" strike="noStrike">
              <a:solidFill>
                <a:srgbClr val="000000"/>
              </a:solidFill>
              <a:latin typeface="Arial"/>
            </a:endParaRPr>
          </a:p>
          <a:p>
            <a:pPr lvl="1" marL="698400" indent="-26856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Tentative</a:t>
            </a:r>
            <a:r>
              <a:rPr b="0" lang="en-US" sz="1400" spc="-1" strike="noStrike">
                <a:solidFill>
                  <a:srgbClr val="ff0000"/>
                </a:solidFill>
                <a:latin typeface="Arial"/>
              </a:rPr>
              <a:t> DFW Airport, ?Hotel, Dallas, TX USA 802.15.1 Ad Hoc Meeting</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2-15, 2001 </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lton Head, SC USA, Hilton Head </a:t>
            </a:r>
            <a:r>
              <a:rPr b="1" lang="en-US" sz="1400" spc="-1" strike="noStrike" u="sng">
                <a:solidFill>
                  <a:srgbClr val="000000"/>
                </a:solidFill>
                <a:uFillTx/>
                <a:latin typeface="Arial"/>
              </a:rPr>
              <a:t>Marriott</a:t>
            </a:r>
            <a:r>
              <a:rPr b="0" lang="en-US" sz="1400" spc="-1" strike="noStrike">
                <a:solidFill>
                  <a:srgbClr val="000000"/>
                </a:solidFill>
                <a:latin typeface="Arial"/>
              </a:rPr>
              <a:t> Beach &amp; Golf Resort, 802 Plenary Meeting. </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4-18,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lando, FL, USA, Radisson Hotel Orlando, 802.15 Interim Meeting.</a:t>
            </a:r>
            <a:endParaRPr b="0" lang="en-US" sz="1400" spc="-1" strike="noStrike">
              <a:solidFill>
                <a:srgbClr val="000000"/>
              </a:solidFill>
              <a:latin typeface="Arial"/>
            </a:endParaRPr>
          </a:p>
          <a:p>
            <a:pPr marL="322200" indent="-32220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ne 5-6, 2001 Ad Hoc?</a:t>
            </a:r>
            <a:endParaRPr b="0" lang="en-US" sz="16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12,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and, OR USA, Portland Marriott, 802 Plenary Meeting.</a:t>
            </a:r>
            <a:endParaRPr b="0" lang="en-US" sz="1400" spc="-1" strike="noStrike">
              <a:solidFill>
                <a:srgbClr val="000000"/>
              </a:solidFill>
              <a:latin typeface="Arial"/>
            </a:endParaRPr>
          </a:p>
          <a:p>
            <a:pPr marL="322200" indent="-32220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y 24-25, 2001 Ad Hoc?</a:t>
            </a:r>
            <a:endParaRPr b="0" lang="en-US" sz="16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7-21,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dney Australia ?</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2-15,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in, TX USA, Hyatt Regency Town Lake, 802 Plenary Meeting.</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15/pub/Meeting_Plan.html</a:t>
            </a:r>
            <a:endParaRPr b="0" lang="en-US" sz="14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B96987C-47F0-4AE8-9261-6D72D8850C48}" type="slidenum">
              <a:t>2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10/Montere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 (High &amp; Low)</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6 Repor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Needs fo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for</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24A5B9D-699A-4E8B-801E-3E3D6EED2DBF}"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EEAEAD-FA47-4A15-A509-B2FE8C494357}" type="slidenum">
              <a:t>3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559C05-1153-4207-A399-9ADB14AB0629}" type="slidenum">
              <a:t>3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9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A52A1A-9AEF-4E48-915C-1716E42193A0}" type="slidenum">
              <a:t>32</a:t>
            </a:fld>
          </a:p>
        </p:txBody>
      </p:sp>
      <p:sp>
        <p:nvSpPr>
          <p:cNvPr id="6" name="PlaceHolder 5"/>
          <p:cNvSpPr>
            <a:spLocks noGrp="1"/>
          </p:cNvSpPr>
          <p:nvPr>
            <p:ph type="dt" idx="1"/>
          </p:nvPr>
        </p:nvSpPr>
        <p:spPr/>
        <p:txBody>
          <a:bodyPr/>
          <a:p>
            <a:r>
              <a:rPr lang="en-US"/>
              <a:t>January 200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1EE5E4C-40DB-4F77-8A43-8028443957B4}" type="slidenum">
              <a:t>3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FB090C-618E-4C93-B6D0-1B6DB1C76D14}" type="slidenum">
              <a:t>3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71FB050-85ED-46A6-8E44-7BABE787EB24}" type="slidenum">
              <a:t>3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9EC43ED-2092-4F7E-876B-7DD70F135107}" type="slidenum">
              <a:t>3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8610215-6413-4BE4-AC6C-C8C183C41403}" type="slidenum">
              <a:t>3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7B788D9-2501-48F1-BB3E-0F4DA283C6BC}" type="slidenum">
              <a:t>3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30F7A5-358F-4DB3-9466-70285F6E15D4}" type="slidenum">
              <a:t>3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Group 1 (TG1)</a:t>
            </a:r>
            <a:r>
              <a:rPr b="0" lang="en-US" sz="1400" spc="-1" strike="noStrike">
                <a:solidFill>
                  <a:srgbClr val="000000"/>
                </a:solidFill>
                <a:latin typeface="Times New Roman"/>
              </a:rPr>
              <a:t> is deriving a draft standard from the Bluetooth</a:t>
            </a:r>
            <a:r>
              <a:rPr b="0" lang="en-US" sz="1400" spc="-1" strike="noStrike">
                <a:solidFill>
                  <a:srgbClr val="000000"/>
                </a:solidFill>
                <a:latin typeface="Times New Roman"/>
                <a:ea typeface="Arial"/>
              </a:rPr>
              <a:t>™ </a:t>
            </a:r>
            <a:r>
              <a:rPr b="0" lang="en-US" sz="1400" spc="-1" strike="noStrike">
                <a:solidFill>
                  <a:srgbClr val="000000"/>
                </a:solidFill>
                <a:latin typeface="Times New Roman"/>
              </a:rPr>
              <a:t>specification under IEEE PAR 802.15.1  After Session #9, the group made significant progress in progressing their draft standard: more info is available via their reflector &amp; weekly teleconference minutes.</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PAR indicates that the draft will be sent to RevCom in Nov00.  Therefore, the TG published, on 20Nov00, their revised Project Plan –00/375r0 [00375r0P802-15_TG1-Project-Planning.pdf]; based on this revision they prepared for WG LB6.  TG1’s LB3 Comment Resolution Team met via the weekly telecons and further edited –00/159 such that they deemed it completed and therefore ready for the WG; they posted -00/159r16 on 29Nov00.  Based on this posting the WG Chair started LB3 on 1Dec00 and on 15Dec00 it was closed - Motion passed with 51/4/4 or 93 %.  </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1Dec00 The OpenGroup/BSIG Editing Team provided the TG1 Editor-in-Chief the BT v1.1 FM source and he began the parallel production of Std 802.15.1-[2001] Draft 0.8.  On 10Dec00 the BSIG informed the IEEE that BT v1.1 spec adoption could be as soon as 11Jan01 or as late as 1Feb01. On 5Jan01 the BSIG informed the IEEE that unfortunately the BT v1.1 spec schedule is delayed - they wanted the various sections owners to review the drafts after the corrections were made. That bumped them into the holiday period.  Adoption is scheduled for ~31Jan01; rumor: NLT 7Feb01 – probably due to the looming UnPlugFest-4.5 February 11-15 2001 Frankfurt, Germany.</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14Dec00 the WPAN™ Invitation-to-Ballot form was mailed to the 802.15.1 Balloting Pool it will close on 24Jan01; the 802.15.1/D1.0 Sponsor Ballot planned to start in late Mar01 or early Apr01.</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a:t>
            </a:r>
            <a:r>
              <a:rPr b="0" i="1" lang="en-US" sz="1400" spc="-1" strike="noStrike">
                <a:solidFill>
                  <a:srgbClr val="000000"/>
                </a:solidFill>
                <a:latin typeface="Times New Roman"/>
              </a:rPr>
              <a:t>between-session-period</a:t>
            </a:r>
            <a:r>
              <a:rPr b="0" lang="en-US" sz="1400" spc="-1" strike="noStrike">
                <a:solidFill>
                  <a:srgbClr val="000000"/>
                </a:solidFill>
                <a:latin typeface="Times New Roman"/>
              </a:rPr>
              <a:t> the various TG1 Editors have provided numerous D0.7.4 submissions; including a 547 page SDL Model!  Entering Session #10 the primary objective is to produce 802.15.1 Draft 0.8 – it will be technically correct but will need some post session smoothing prior to LB(7).</a:t>
            </a:r>
            <a:endParaRPr b="0" lang="en-US" sz="1400" spc="-1" strike="noStrike">
              <a:solidFill>
                <a:srgbClr val="000000"/>
              </a:solidFill>
              <a:latin typeface="Arial"/>
            </a:endParaRPr>
          </a:p>
        </p:txBody>
      </p:sp>
      <p:sp>
        <p:nvSpPr>
          <p:cNvPr id="66" name=""/>
          <p:cNvSpPr/>
          <p:nvPr/>
        </p:nvSpPr>
        <p:spPr>
          <a:xfrm>
            <a:off x="380880" y="6172200"/>
            <a:ext cx="8382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 would like to thank the 802.15 WG for their vote of confidence in LB6; we look forward to LB7!</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3FB631D-BA6B-4B1A-8BA1-2E192917C4EF}"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ession #9/Tampa</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G LB6 STARTED 1DEC00, ENDED 15DEC00: WG APPROVED LB3 RESOLUTIONS -00/159r16</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EGIN PRODUCTION AND/OR REVIEW IEEE Std 802.15.1-[2001] Draft 0.8 </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G LB(7) FOR DRAFT WILL BE RE-CIRCULATION FOR ~30 DAYS</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G LB(7) STARTS ~01FEB01, ENDS ~05MAR01: INITIATE WG LETTER BALLOT PROCESS FOR DRAFT</a:t>
            </a:r>
            <a:endParaRPr b="0" lang="en-US" sz="1600" spc="-1" strike="noStrike">
              <a:solidFill>
                <a:srgbClr val="000000"/>
              </a:solidFill>
              <a:latin typeface="Arial"/>
            </a:endParaRPr>
          </a:p>
          <a:p>
            <a:pPr lvl="2" marL="1020600" indent="-21456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iaison request was sent 10Jan01 to start IEEE WB LB before adoption; this would be a 2wk pull in.</a:t>
            </a:r>
            <a:endParaRPr b="0" lang="en-US" sz="14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INITIATED SPONSOR INVITATION-TO-BALLOT PROCESS ON 14DEC00, ENDS 24JAN01 (43d)</a:t>
            </a:r>
            <a:endParaRPr b="0" lang="en-US" sz="16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10/Monterey</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PROVIDE PROJECT PLANNING UPDATE -00/375r1</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COMPLETE PRODUCTION AND/OR REVIEW IEEE Std 802.15.1-[2001] Draft 0.8 </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PROVIDE SESSION #11/HILTON HEAD OBJECTIVES</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UPDATE THE 802.15.1 BALLOTING TOOL/COMMENT DB</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C307DD-69B9-4B46-9191-257C3E0A2722}"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Submissions</a:t>
            </a:r>
            <a:endParaRPr b="0" lang="en-US" sz="3600" spc="-1" strike="noStrike">
              <a:solidFill>
                <a:srgbClr val="000000"/>
              </a:solidFill>
              <a:latin typeface="Times New Roman"/>
            </a:endParaRPr>
          </a:p>
        </p:txBody>
      </p:sp>
      <p:graphicFrame>
        <p:nvGraphicFramePr>
          <p:cNvPr id="70" name=""/>
          <p:cNvGraphicFramePr/>
          <p:nvPr/>
        </p:nvGraphicFramePr>
        <p:xfrm>
          <a:off x="284040" y="2049480"/>
          <a:ext cx="8326440" cy="3405240"/>
        </p:xfrm>
        <a:graphic>
          <a:graphicData uri="http://schemas.openxmlformats.org/presentationml/2006/ole">
            <p:oleObj progId="Excel.Sheet.12" r:id="rId1" spid="">
              <p:embed/>
              <p:pic>
                <p:nvPicPr>
                  <p:cNvPr id="71" name="" descr=""/>
                  <p:cNvPicPr/>
                  <p:nvPr/>
                </p:nvPicPr>
                <p:blipFill>
                  <a:blip r:embed="rId2"/>
                  <a:stretch/>
                </p:blipFill>
                <p:spPr>
                  <a:xfrm>
                    <a:off x="284040" y="2049480"/>
                    <a:ext cx="8326440" cy="34052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B460091-5697-4341-903E-B8B992E73B3D}"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High Level</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00160" y="1962000"/>
            <a:ext cx="8756640" cy="43624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FE1F188-05B1-4965-B24F-566591381AC9}"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Low Level </a:t>
            </a:r>
            <a:br>
              <a:rPr sz="3600"/>
            </a:br>
            <a:r>
              <a:rPr b="0" lang="en-US" sz="3600" spc="-1" strike="noStrike">
                <a:solidFill>
                  <a:srgbClr val="000000"/>
                </a:solidFill>
                <a:latin typeface="Times New Roman"/>
              </a:rPr>
              <a:t>Room assigned: Windjammer 1</a:t>
            </a:r>
            <a:endParaRPr b="0" lang="en-US" sz="3600" spc="-1" strike="noStrike">
              <a:solidFill>
                <a:srgbClr val="000000"/>
              </a:solidFill>
              <a:latin typeface="Times New Roman"/>
            </a:endParaRPr>
          </a:p>
        </p:txBody>
      </p:sp>
      <p:graphicFrame>
        <p:nvGraphicFramePr>
          <p:cNvPr id="75" name=""/>
          <p:cNvGraphicFramePr/>
          <p:nvPr/>
        </p:nvGraphicFramePr>
        <p:xfrm>
          <a:off x="685800" y="1981080"/>
          <a:ext cx="7772400" cy="4019760"/>
        </p:xfrm>
        <a:graphic>
          <a:graphicData uri="http://schemas.openxmlformats.org/drawingml/2006/table">
            <a:tbl>
              <a:tblPr/>
              <a:tblGrid>
                <a:gridCol w="1554120"/>
                <a:gridCol w="1554120"/>
                <a:gridCol w="1555920"/>
                <a:gridCol w="1554120"/>
                <a:gridCol w="1554120"/>
              </a:tblGrid>
              <a:tr h="60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DA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d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dnesd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rsda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is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n/AI</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use 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lau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Plan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lau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n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use 6</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tor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t DB</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B7 Pre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use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lau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ison Plann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Plann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 Repor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
          <p:cNvGrpSpPr/>
          <p:nvPr/>
        </p:nvGrpSpPr>
        <p:grpSpPr>
          <a:xfrm>
            <a:off x="1905120" y="4038480"/>
            <a:ext cx="3581280" cy="1676520"/>
            <a:chOff x="1905120" y="4038480"/>
            <a:chExt cx="3581280" cy="1676520"/>
          </a:xfrm>
        </p:grpSpPr>
        <p:sp>
          <p:nvSpPr>
            <p:cNvPr id="77" name=""/>
            <p:cNvSpPr/>
            <p:nvPr/>
          </p:nvSpPr>
          <p:spPr>
            <a:xfrm>
              <a:off x="3581280" y="4038480"/>
              <a:ext cx="19051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05120" y="5029200"/>
              <a:ext cx="1904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1905120" y="3200400"/>
            <a:ext cx="6476760" cy="914400"/>
            <a:chOff x="1905120" y="3200400"/>
            <a:chExt cx="6476760" cy="914400"/>
          </a:xfrm>
        </p:grpSpPr>
        <p:sp>
          <p:nvSpPr>
            <p:cNvPr id="80" name=""/>
            <p:cNvSpPr/>
            <p:nvPr/>
          </p:nvSpPr>
          <p:spPr>
            <a:xfrm>
              <a:off x="6477120" y="3200400"/>
              <a:ext cx="1904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05120" y="3429000"/>
              <a:ext cx="1904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457200" y="6095880"/>
            <a:ext cx="3049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99200" y="6143760"/>
            <a:ext cx="22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an’s quick pick for Session #1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6FAFDB1-65FA-47BF-BD51-D9415A9215A4}"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6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0F66E4-C8A7-4403-9462-F6B6F46FF564}"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1-01-15T15:17:39Z</dcterms:modified>
  <cp:revision>316</cp:revision>
  <dc:subject>IEEE 802.15 TG1 Report</dc:subject>
  <dc:title>IEEE P802.15 Working Group for Wireless Personal Area Networks</dc:title>
</cp:coreProperties>
</file>