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85C-8C0B-43C5-9936-C60FFDC6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E8A-5C8D-4AC2-AA7A-39779797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37A-F478-4665-A05C-F08EF82F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A21-9E07-46B3-8B47-D52300E2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FA4-33B4-4228-B2F5-908765AD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9CF-F082-4AB9-95A5-0E6C189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943-9DF1-41F7-8C7E-6846AE17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1BF-79CF-4E99-B8AF-4C93D865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91D-1D1B-421C-9B83-AFCB52AC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481-8B7C-4DE4-9E65-D6A9D1F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157-5AC8-4F06-A642-7F1B96F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831-7C8B-42DD-B964-A25ECEE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0771DA-9AB1-48FF-9869-0A0B35B9B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4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  Clos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erey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68A-7616-4D10-8844-00E18EBEA8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. Elie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Collaborative Mechanisms for Enhance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xxx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Shoemak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Fragment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83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Liang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osal Non-Collaborative Mechanism for enhancing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2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BC6-032A-435A-A1E2-BF21FBF594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Liang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osal for Collaborative Bluetooth and 802.11b MAC Mechanism for Enhanced Coexist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/080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DAA-8221-4B56-9992-501178EF36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Submission Matrix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A10-B3B7-464D-9B53-D67490AE64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out a letter to all the submi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for consoli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for more technical detail on a number of th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for more detail on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for more detail on Complexity of implementing the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BCB-40FE-4C13-8F8C-C0EA8A2A6D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for Hilton Head (Mar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Coexistence Liais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onsolidated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updated proposals incl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ech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valua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Comments on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8DC-7041-416E-9DD8-A54E495EDE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Tampa (November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 Two Coexistence Mechanism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and MAC presentations on Bluetooth SCO link with 802.11b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Approved Coexistence Mechanism Selec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0/353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447-44D0-42BE-94DA-B1426F2D2C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is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 with Bluetooth SIG Coexistence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Coexistence Mechanism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existence Modeling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formation of an 802 Wireless Coexiste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D62-3D83-4191-8C1C-E07E54AF48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31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. C. Che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lective Hit Avoida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57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 Control and Packet Scheduling for Bluetooth to Avoid 802.11 Direct Sequence Interfer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63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FEA-23AB-41A1-AA4C-714AB227E8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llocated Collaborative Coexistence Mechanism: TDMA of 802.11 and Bluetoot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25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cellaneous Coexistence Idea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33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 Shoemak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 Testing Result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xxx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369-6D3C-4795-A3C3-26344F2FAE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 Shoemak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 Control for Enhanced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81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Batra, J. M. Ho, K. Anim-Appia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osal for Intelligent Bluetooth Frequency Hopping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82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. Elie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 of TG3 and Bluetoot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xxx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. Elie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 Performance Evalu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xxx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D91-C3FF-4A8B-A429-2C4494CC3A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Howitt and V. Mitt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alytical Tool for Evaluation Coexistence in Unlicensed Band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32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F83-B9D8-453C-9022-A7F63995B1D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Wireless Coexistence Group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 PM today all interested parties will be discussing the topic of formation of an 802 Wireless Coexiste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press 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02 Wireless Coexistence Group Discuss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8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DDA-8C50-4922-A595-88E3FA7EB1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Van Dyc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rther results of 802.11b and Bluetooth Interfer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72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Van Dyc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02.11b Deterministic Frequency Nulling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79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02.11b with Bluetooth Interfer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77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Zehavi and J.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Coexistence Issues in 802.11g Proposal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6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A8F-E9B8-4AC6-9D9D-953202B4E2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1-19T16:40:18Z</dcterms:modified>
  <cp:revision>306</cp:revision>
  <dc:subject>IEEE 802.15 &lt;subject&gt;</dc:subject>
  <dc:title>IEEE P802.15 Working Group for Wireless Personal Area Networks</dc:title>
</cp:coreProperties>
</file>