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DB5E1-670C-4B70-9393-85F2D6061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68A7F-DE6A-4528-852A-C3D85D00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8CD35-C536-4650-9931-106C23B0D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43904-200D-46C3-B583-550D92910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10C9-9805-4244-B995-1D7CD55E8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158E-349E-46A3-AC29-692A5CEB5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B65F-E671-4140-9CED-189B0396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2BAB-3020-455B-968E-EB68706B2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D64E-2080-4107-AFD4-88D0A03D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1B97-4979-424B-B1CD-8FC74CA8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40D4-2E15-4429-9AB1-299517093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AF4A-4B39-4134-9B34-653301E90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F8F172-B856-4E66-A77B-F26A5EF4B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6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B882DDA-4934-489B-92D1-D3C79F26DA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Multiple PHY BO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6Jan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005R3P802-15_TG3-Jan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Multiple PHY BOF Slid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Multiple PHY BOF Session Overview and No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ionale</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y demand  for a simple QoS solution for broadband multi-medi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a and HyperLAN/2 will need to change to satisfy the consumer electronics indu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not use the 802.15.3 MA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E77191E-A14D-4782-B2FE-0E146BDE95F1}"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Interest?</a:t>
            </a:r>
            <a:endParaRPr b="0" lang="en-US" sz="3600" spc="-1" strike="noStrike">
              <a:solidFill>
                <a:srgbClr val="000000"/>
              </a:solidFill>
              <a:latin typeface="Times New Roman"/>
            </a:endParaRPr>
          </a:p>
        </p:txBody>
      </p:sp>
      <p:sp>
        <p:nvSpPr>
          <p:cNvPr id="14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is one precedence for multiple phy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will want compatible solution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work on MAC, don’t preclude other PHY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independent MAC interface, may not need to do PH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 solution simplifies radio decision, don’t cloud the market</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our agenda in the 5GHSG</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ep spectral options ope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a PHY not necessarily a good op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BE98182-50B5-4D2F-8EE8-58232859B428}"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PHY BOF</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2001, Monterey, CA</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F09DE70-8293-47A9-9DB7-CF3D72BA383D}"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MAC and 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for additional PH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59D5FFA-9BC6-4FE6-874B-58C719BB8B2B}"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a:t>
            </a:r>
            <a:r>
              <a:rPr b="0" lang="en-US" sz="2400" spc="-1" strike="noStrike" u="sng">
                <a:solidFill>
                  <a:srgbClr val="000000"/>
                </a:solidFill>
                <a:uFillTx/>
                <a:latin typeface="Times New Roman"/>
              </a:rPr>
              <a:t>s</a:t>
            </a:r>
            <a:r>
              <a:rPr b="0" lang="en-US" sz="2400" spc="-1" strike="noStrike">
                <a:solidFill>
                  <a:srgbClr val="000000"/>
                </a:solidFill>
                <a:latin typeface="Times New Roman"/>
              </a:rPr>
              <a:t>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0FA45DA-E6CB-463C-91DF-E002B15D6A86}"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Characteristic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en support for mobile wireless personal area networks (WPAN)</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s WPANs to interact with wired infrastructure access point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s a WPAN to temporarily separate into two subnets and then recombine via an efficient re-authentication and re-association procedure</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proven protocol support for efficient power management polici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ndant master coordinator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er service</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data streams (asynchronous/isochronou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otiating QoS parameters in a WPAN environment</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channel selection and/or migration</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ive FEC and selective retransmission ARQ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fficient Slot Cycle TDMA algorithm for accessing the RF medium</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nded latenci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negotiating channel bandwidth allo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6537D28-4AB5-4E11-B87F-D1D2FD80AC32}"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Protocol Superframe</a:t>
            </a:r>
            <a:endParaRPr b="0" lang="en-US" sz="2000" spc="-1" strike="noStrike">
              <a:solidFill>
                <a:srgbClr val="000000"/>
              </a:solidFill>
              <a:latin typeface="Times New Roman"/>
            </a:endParaRPr>
          </a:p>
        </p:txBody>
      </p:sp>
      <p:sp>
        <p:nvSpPr>
          <p:cNvPr id="91" name=""/>
          <p:cNvSpPr/>
          <p:nvPr/>
        </p:nvSpPr>
        <p:spPr>
          <a:xfrm>
            <a:off x="685800" y="28195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064160" y="3809880"/>
            <a:ext cx="4907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station synchroniz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 sleep cycl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H coordination (if necessar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cycle assignmen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cycle assignments</a:t>
            </a:r>
            <a:endParaRPr b="0" lang="en-US" sz="2000" spc="-1" strike="noStrike">
              <a:solidFill>
                <a:srgbClr val="000000"/>
              </a:solidFill>
              <a:latin typeface="Times New Roman"/>
            </a:endParaRPr>
          </a:p>
        </p:txBody>
      </p:sp>
      <p:grpSp>
        <p:nvGrpSpPr>
          <p:cNvPr id="93" name=""/>
          <p:cNvGrpSpPr/>
          <p:nvPr/>
        </p:nvGrpSpPr>
        <p:grpSpPr>
          <a:xfrm>
            <a:off x="685800" y="1753200"/>
            <a:ext cx="8001000" cy="1922400"/>
            <a:chOff x="685800" y="1753200"/>
            <a:chExt cx="8001000" cy="1922400"/>
          </a:xfrm>
        </p:grpSpPr>
        <p:sp>
          <p:nvSpPr>
            <p:cNvPr id="94"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19320" y="3124080"/>
              <a:ext cx="761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98"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99"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03"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06"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DAC692AA-B000-4252-AAAD-76998B0261C3}"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Protocol Superframe:</a:t>
            </a:r>
            <a:br>
              <a:rPr sz="2000"/>
            </a:br>
            <a:r>
              <a:rPr b="0" lang="en-US" sz="2000" spc="-1" strike="noStrike">
                <a:solidFill>
                  <a:srgbClr val="000000"/>
                </a:solidFill>
                <a:latin typeface="Times New Roman"/>
              </a:rPr>
              <a:t>Contention Access Period</a:t>
            </a:r>
            <a:endParaRPr b="0" lang="en-US" sz="2000" spc="-1" strike="noStrike">
              <a:solidFill>
                <a:srgbClr val="000000"/>
              </a:solidFill>
              <a:latin typeface="Times New Roman"/>
            </a:endParaRPr>
          </a:p>
        </p:txBody>
      </p:sp>
      <p:sp>
        <p:nvSpPr>
          <p:cNvPr id="114" name=""/>
          <p:cNvSpPr/>
          <p:nvPr/>
        </p:nvSpPr>
        <p:spPr>
          <a:xfrm>
            <a:off x="121932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19320" y="4038480"/>
            <a:ext cx="428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ntrol messages such a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reques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respons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ycle reque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short data frames could be sent in this period</a:t>
            </a:r>
            <a:endParaRPr b="0" lang="en-US" sz="2000" spc="-1" strike="noStrike">
              <a:solidFill>
                <a:srgbClr val="000000"/>
              </a:solidFill>
              <a:latin typeface="Times New Roman"/>
            </a:endParaRPr>
          </a:p>
        </p:txBody>
      </p:sp>
      <p:sp>
        <p:nvSpPr>
          <p:cNvPr id="116" name=""/>
          <p:cNvSpPr/>
          <p:nvPr/>
        </p:nvSpPr>
        <p:spPr>
          <a:xfrm>
            <a:off x="228600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733920"/>
            <a:ext cx="190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21"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22"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26"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29"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7C242490-582C-405C-AB6C-C065092A4E6C}"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PHY Selectio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GHz using 802.11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mode of 22Mbps unco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order codes could allow 33,44,55 Mb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3440403-54A5-4AD9-8845-20164CF76B50}"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PAR Allows for Multiple PHY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s submitted 802.15.3 inclu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GHz direct F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GHz OFD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W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ity of 802.15.3 participants favored 2.4 GHz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t minority supported non-2.4 GHz</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F06AB17-E1A7-4224-9132-0B0DAB9AA2FC}"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John R. Barr</cp:lastModifiedBy>
  <cp:lastPrinted>1998-02-10T13:28:06Z</cp:lastPrinted>
  <dcterms:modified xsi:type="dcterms:W3CDTF">2001-01-17T03:27:34Z</dcterms:modified>
  <cp:revision>231</cp:revision>
  <dc:subject>TG3 Multiple PHY BOF Notes</dc:subject>
  <dc:title>IEEE P802.15 Working Group for Wireless Personal Area Networks</dc:title>
</cp:coreProperties>
</file>