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6D93F501-A3EF-4D20-A534-F4CC2BE1E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1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1152360" y="692280"/>
            <a:ext cx="455472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ldImg"/>
          </p:nvPr>
        </p:nvSpPr>
        <p:spPr>
          <a:xfrm>
            <a:off x="1152360" y="692280"/>
            <a:ext cx="4554720" cy="3416040"/>
          </a:xfrm>
          <a:prstGeom prst="rect">
            <a:avLst/>
          </a:prstGeom>
          <a:ln w="0">
            <a:noFill/>
          </a:ln>
        </p:spPr>
      </p:sp>
      <p:sp>
        <p:nvSpPr>
          <p:cNvPr id="222"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1"/>
          <p:cNvSpPr>
            <a:spLocks noGrp="1"/>
          </p:cNvSpPr>
          <p:nvPr>
            <p:ph type="sldImg"/>
          </p:nvPr>
        </p:nvSpPr>
        <p:spPr>
          <a:xfrm>
            <a:off x="1152360" y="692280"/>
            <a:ext cx="4554720" cy="3416040"/>
          </a:xfrm>
          <a:prstGeom prst="rect">
            <a:avLst/>
          </a:prstGeom>
          <a:ln w="0">
            <a:noFill/>
          </a:ln>
        </p:spPr>
      </p:sp>
      <p:sp>
        <p:nvSpPr>
          <p:cNvPr id="22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8815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81520" y="8648640"/>
            <a:ext cx="2952720" cy="459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31" name=""/>
          <p:cNvSpPr/>
          <p:nvPr/>
        </p:nvSpPr>
        <p:spPr>
          <a:xfrm>
            <a:off x="22320" y="8648640"/>
            <a:ext cx="295272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23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sldImg"/>
          </p:nvPr>
        </p:nvSpPr>
        <p:spPr>
          <a:xfrm>
            <a:off x="1152360" y="692280"/>
            <a:ext cx="4554720" cy="3416040"/>
          </a:xfrm>
          <a:prstGeom prst="rect">
            <a:avLst/>
          </a:prstGeom>
          <a:ln w="0">
            <a:noFill/>
          </a:ln>
        </p:spPr>
      </p:sp>
      <p:sp>
        <p:nvSpPr>
          <p:cNvPr id="234" name="PlaceHolder 2"/>
          <p:cNvSpPr>
            <a:spLocks noGrp="1"/>
          </p:cNvSpPr>
          <p:nvPr>
            <p:ph type="body"/>
          </p:nvPr>
        </p:nvSpPr>
        <p:spPr>
          <a:xfrm>
            <a:off x="932040" y="4346640"/>
            <a:ext cx="4992480" cy="40780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C7D29-4563-4014-8C7A-9375246B2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3CF48-1004-45EE-9A21-DF1CD60BD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1A778-3C33-452D-8321-4E671CF1F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B2786-AFA9-4A2A-8084-3A6D9941E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1858A-0940-459E-8D2D-E454189AB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4ED12-D2C3-4524-8040-49FB5C780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61C32-C159-44C1-B2C3-8FA3B298D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3A826-7CDD-4F67-BBC5-E2B7F4A3D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2D7CF-C686-4230-82D2-52BCDC0CE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6DB6-3281-4A9B-9529-F86CEBB2C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6DC58-742C-4F34-A7A5-7A85CD9B4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4946B-A890-4BBD-AE11-5B3A75B8E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E1DD36-F1AE-4510-97CF-1616B8ECE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0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th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191120"/>
            <a:ext cx="6400800" cy="175248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15-19, 2001</a:t>
            </a:r>
            <a:endParaRPr b="0" lang="en-US" sz="32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yatt Regency, Monterey, CA, </a:t>
            </a:r>
            <a:r>
              <a:rPr b="1" lang="en-US" sz="3200" spc="-1" strike="noStrike">
                <a:solidFill>
                  <a:srgbClr val="000000"/>
                </a:solidFill>
                <a:latin typeface="Times New Roman"/>
              </a:rPr>
              <a:t>	</a:t>
            </a:r>
            <a:endParaRPr b="0" lang="en-US" sz="32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75CD8C54-A43A-426F-9AF9-37BB2F48AD62}" type="slidenum">
              <a:t>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10"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11"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0FF255DB-9359-44DE-A269-42CAAD1785C7}" type="slidenum">
              <a:t>1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BC0A5684-179D-451B-8A8C-FFF933F9416E}"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FE6D225B-257A-4A3B-BD51-7774E3E78783}" type="slidenum">
              <a:t>1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3EDA3955-6B92-4754-87CE-46822B0AD499}" type="slidenum">
              <a:t>1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9"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controlled by Mike McInn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B532FD61-AACE-4F8F-AB7F-9F3D0855793C}" type="slidenum">
              <a:t>14</a:t>
            </a:fld>
          </a:p>
        </p:txBody>
      </p:sp>
      <p:sp>
        <p:nvSpPr>
          <p:cNvPr id="6" name="PlaceHolder 5"/>
          <p:cNvSpPr>
            <a:spLocks noGrp="1"/>
          </p:cNvSpPr>
          <p:nvPr>
            <p:ph type="dt" idx="1"/>
          </p:nvPr>
        </p:nvSpPr>
        <p:spPr/>
        <p:txBody>
          <a:bodyPr/>
          <a:p>
            <a:r>
              <a:rPr lang="en-US"/>
              <a:t>January 2001</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 </a:t>
            </a:r>
            <a:r>
              <a:rPr b="0" lang="en-US" sz="3200" spc="-1" strike="noStrike">
                <a:solidFill>
                  <a:srgbClr val="000000"/>
                </a:solidFill>
                <a:latin typeface="Times New Roman"/>
              </a:rPr>
              <a:t>January 15-19, 2001</a:t>
            </a:r>
            <a:endParaRPr b="0" lang="en-US" sz="3200" spc="-1" strike="noStrike">
              <a:solidFill>
                <a:srgbClr val="000000"/>
              </a:solidFill>
              <a:latin typeface="Times New Roman"/>
            </a:endParaRPr>
          </a:p>
        </p:txBody>
      </p:sp>
      <p:graphicFrame>
        <p:nvGraphicFramePr>
          <p:cNvPr id="121" name=""/>
          <p:cNvGraphicFramePr/>
          <p:nvPr/>
        </p:nvGraphicFramePr>
        <p:xfrm>
          <a:off x="1600200" y="1523880"/>
          <a:ext cx="5867280" cy="2387880"/>
        </p:xfrm>
        <a:graphic>
          <a:graphicData uri="http://schemas.openxmlformats.org/presentationml/2006/ole">
            <p:oleObj progId="Word.Document.12" r:id="rId1" spid="">
              <p:embed/>
              <p:pic>
                <p:nvPicPr>
                  <p:cNvPr id="122" name="" descr=""/>
                  <p:cNvPicPr/>
                  <p:nvPr/>
                </p:nvPicPr>
                <p:blipFill>
                  <a:blip r:embed="rId2"/>
                  <a:stretch/>
                </p:blipFill>
                <p:spPr>
                  <a:xfrm>
                    <a:off x="1600200" y="1523880"/>
                    <a:ext cx="5867280" cy="2387880"/>
                  </a:xfrm>
                  <a:prstGeom prst="rect">
                    <a:avLst/>
                  </a:prstGeom>
                  <a:ln w="0">
                    <a:noFill/>
                  </a:ln>
                </p:spPr>
              </p:pic>
            </p:oleObj>
          </a:graphicData>
        </a:graphic>
      </p:graphicFrame>
      <p:sp>
        <p:nvSpPr>
          <p:cNvPr id="123"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fontScale="86000"/>
          </a:bodyPr>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are signing; i.e. AM or PM or Eve(ning) part of the session)</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with your initials (no cross etc).  Do not underline. Only sign in the box designated with the applicable day and part of the day, AM/PM/Eve</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at a minimum of 7 meetings is  required for the Session to count for voting rights.  If Scheduled, a Monday or Tuesday Evening session may be substitu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6B544E8E-B793-44D2-A6BD-749D6FD45A68}" type="slidenum">
              <a:t>15</a:t>
            </a:fld>
          </a:p>
        </p:txBody>
      </p:sp>
      <p:sp>
        <p:nvSpPr>
          <p:cNvPr id="6" name="PlaceHolder 5"/>
          <p:cNvSpPr>
            <a:spLocks noGrp="1"/>
          </p:cNvSpPr>
          <p:nvPr>
            <p:ph type="dt" idx="1"/>
          </p:nvPr>
        </p:nvSpPr>
        <p:spPr/>
        <p:txBody>
          <a:bodyPr/>
          <a:p>
            <a:r>
              <a:rPr lang="en-US"/>
              <a:t>January 2001</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F62E146D-C8E0-4629-A96D-8D4176E0D3A1}" type="slidenum">
              <a:t>16</a:t>
            </a:fld>
          </a:p>
        </p:txBody>
      </p:sp>
      <p:sp>
        <p:nvSpPr>
          <p:cNvPr id="6" name="PlaceHolder 5"/>
          <p:cNvSpPr>
            <a:spLocks noGrp="1"/>
          </p:cNvSpPr>
          <p:nvPr>
            <p:ph type="dt" idx="1"/>
          </p:nvPr>
        </p:nvSpPr>
        <p:spPr/>
        <p:txBody>
          <a:bodyPr/>
          <a:p>
            <a:r>
              <a:rPr lang="en-US"/>
              <a:t>January 2001</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and Submissions must confirm to the Templates posted on the Web site and be accepted by the WG Chair or his designe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names should conform to the following convention:  00[xxx]r[y]P802-15_[WG,TG[z],MC]-Title-no-spac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numbers may be obtained from the WG Chai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must be available to meeting attendees prior to present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000" spc="-1" strike="noStrike">
              <a:solidFill>
                <a:srgbClr val="000000"/>
              </a:solidFill>
              <a:latin typeface="Arial"/>
            </a:endParaRPr>
          </a:p>
        </p:txBody>
      </p:sp>
      <p:sp>
        <p:nvSpPr>
          <p:cNvPr id="127"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01EFEBD4-9C37-40FA-A69D-5A4DB6433074}" type="slidenum">
              <a:t>1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Board Bylaws (Jan1999)</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Board Operations Manual (Jan 2000)</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87D9D76F-D645-408D-B659-3535A62CE977}" type="slidenum">
              <a:t>18</a:t>
            </a:fld>
          </a:p>
        </p:txBody>
      </p:sp>
      <p:sp>
        <p:nvSpPr>
          <p:cNvPr id="6" name="PlaceHolder 5"/>
          <p:cNvSpPr>
            <a:spLocks noGrp="1"/>
          </p:cNvSpPr>
          <p:nvPr>
            <p:ph type="dt" idx="1"/>
          </p:nvPr>
        </p:nvSpPr>
        <p:spPr/>
        <p:txBody>
          <a:bodyPr/>
          <a:p>
            <a:r>
              <a:rPr lang="en-US"/>
              <a:t>January 2001</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Operations Manual (Jan 2000)</a:t>
            </a:r>
            <a:endParaRPr b="0" lang="en-US" sz="36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3F6AF5FE-E1DA-44B8-A2B5-2362A13559E7}" type="slidenum">
              <a:t>1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558720" y="2089080"/>
          <a:ext cx="8023320" cy="3978360"/>
        </p:xfrm>
        <a:graphic>
          <a:graphicData uri="http://schemas.openxmlformats.org/presentationml/2006/ole">
            <p:oleObj r:id="rId1" spid="">
              <p:embed/>
              <p:pic>
                <p:nvPicPr>
                  <p:cNvPr id="92" name="" descr=""/>
                  <p:cNvPicPr/>
                  <p:nvPr/>
                </p:nvPicPr>
                <p:blipFill>
                  <a:blip r:embed="rId2"/>
                  <a:stretch/>
                </p:blipFill>
                <p:spPr>
                  <a:xfrm>
                    <a:off x="558720" y="2089080"/>
                    <a:ext cx="8023320" cy="3978360"/>
                  </a:xfrm>
                  <a:prstGeom prst="rect">
                    <a:avLst/>
                  </a:prstGeom>
                  <a:ln w="0">
                    <a:noFill/>
                  </a:ln>
                </p:spPr>
              </p:pic>
            </p:oleObj>
          </a:graphicData>
        </a:graphic>
      </p:graphicFrame>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4E5DB03A-F49E-47EE-BEE0-9CCDE63E293F}" type="slidenum">
              <a:t>2</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42A28EA0-E6F0-4410-B834-DB82C977178E}" type="slidenum">
              <a:t>20</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out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nch-vegetari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phones on vib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Buses-shop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C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Meeting Spa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AC5BB75C-A5D3-48B8-A524-27ECF4478F09}" type="slidenum">
              <a:t>2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5E865694-89F0-4267-BA71-1E4B2DC984F4}" type="slidenum">
              <a:t>2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1DAA16C1-6BF4-44FE-85D5-B8856126DD46}" type="slidenum">
              <a:t>2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1893960" y="2749680"/>
            <a:ext cx="1406520" cy="749160"/>
            <a:chOff x="1893960" y="2749680"/>
            <a:chExt cx="1406520" cy="749160"/>
          </a:xfrm>
        </p:grpSpPr>
        <p:sp>
          <p:nvSpPr>
            <p:cNvPr id="140"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42"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44" name=""/>
          <p:cNvGrpSpPr/>
          <p:nvPr/>
        </p:nvGrpSpPr>
        <p:grpSpPr>
          <a:xfrm>
            <a:off x="425520" y="3581280"/>
            <a:ext cx="1282680" cy="749520"/>
            <a:chOff x="425520" y="3581280"/>
            <a:chExt cx="1282680" cy="749520"/>
          </a:xfrm>
        </p:grpSpPr>
        <p:sp>
          <p:nvSpPr>
            <p:cNvPr id="145"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7"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9" name=""/>
          <p:cNvGrpSpPr/>
          <p:nvPr/>
        </p:nvGrpSpPr>
        <p:grpSpPr>
          <a:xfrm>
            <a:off x="4813200" y="5583240"/>
            <a:ext cx="1270080" cy="841320"/>
            <a:chOff x="4813200" y="5583240"/>
            <a:chExt cx="1270080" cy="841320"/>
          </a:xfrm>
        </p:grpSpPr>
        <p:sp>
          <p:nvSpPr>
            <p:cNvPr id="150"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2" name=""/>
          <p:cNvGrpSpPr/>
          <p:nvPr/>
        </p:nvGrpSpPr>
        <p:grpSpPr>
          <a:xfrm>
            <a:off x="1873080" y="3581280"/>
            <a:ext cx="1283040" cy="749520"/>
            <a:chOff x="1873080" y="3581280"/>
            <a:chExt cx="1283040" cy="749520"/>
          </a:xfrm>
        </p:grpSpPr>
        <p:sp>
          <p:nvSpPr>
            <p:cNvPr id="153"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5" name=""/>
          <p:cNvGrpSpPr/>
          <p:nvPr/>
        </p:nvGrpSpPr>
        <p:grpSpPr>
          <a:xfrm>
            <a:off x="6248520" y="4572000"/>
            <a:ext cx="1358640" cy="762120"/>
            <a:chOff x="6248520" y="4572000"/>
            <a:chExt cx="1358640" cy="762120"/>
          </a:xfrm>
        </p:grpSpPr>
        <p:sp>
          <p:nvSpPr>
            <p:cNvPr id="156"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8" name=""/>
          <p:cNvGrpSpPr/>
          <p:nvPr/>
        </p:nvGrpSpPr>
        <p:grpSpPr>
          <a:xfrm>
            <a:off x="3301920" y="3584520"/>
            <a:ext cx="1282680" cy="749520"/>
            <a:chOff x="3301920" y="3584520"/>
            <a:chExt cx="1282680" cy="749520"/>
          </a:xfrm>
        </p:grpSpPr>
        <p:sp>
          <p:nvSpPr>
            <p:cNvPr id="159"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61" name=""/>
          <p:cNvGrpSpPr/>
          <p:nvPr/>
        </p:nvGrpSpPr>
        <p:grpSpPr>
          <a:xfrm>
            <a:off x="446040" y="4540320"/>
            <a:ext cx="1282680" cy="749160"/>
            <a:chOff x="446040" y="4540320"/>
            <a:chExt cx="1282680" cy="749160"/>
          </a:xfrm>
        </p:grpSpPr>
        <p:sp>
          <p:nvSpPr>
            <p:cNvPr id="162"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64"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6" name=""/>
          <p:cNvGrpSpPr/>
          <p:nvPr/>
        </p:nvGrpSpPr>
        <p:grpSpPr>
          <a:xfrm>
            <a:off x="1849320" y="4540320"/>
            <a:ext cx="1300320" cy="749160"/>
            <a:chOff x="1849320" y="4540320"/>
            <a:chExt cx="1300320" cy="749160"/>
          </a:xfrm>
        </p:grpSpPr>
        <p:sp>
          <p:nvSpPr>
            <p:cNvPr id="167"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9" name=""/>
          <p:cNvGrpSpPr/>
          <p:nvPr/>
        </p:nvGrpSpPr>
        <p:grpSpPr>
          <a:xfrm>
            <a:off x="421920" y="2749680"/>
            <a:ext cx="1424880" cy="749160"/>
            <a:chOff x="421920" y="2749680"/>
            <a:chExt cx="1424880" cy="749160"/>
          </a:xfrm>
        </p:grpSpPr>
        <p:sp>
          <p:nvSpPr>
            <p:cNvPr id="170"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72"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74"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5" name=""/>
          <p:cNvGrpSpPr/>
          <p:nvPr/>
        </p:nvGrpSpPr>
        <p:grpSpPr>
          <a:xfrm>
            <a:off x="5854680" y="2762280"/>
            <a:ext cx="1346400" cy="749160"/>
            <a:chOff x="5854680" y="2762280"/>
            <a:chExt cx="1346400" cy="749160"/>
          </a:xfrm>
        </p:grpSpPr>
        <p:sp>
          <p:nvSpPr>
            <p:cNvPr id="176"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8" name=""/>
          <p:cNvGrpSpPr/>
          <p:nvPr/>
        </p:nvGrpSpPr>
        <p:grpSpPr>
          <a:xfrm>
            <a:off x="7301520" y="2743200"/>
            <a:ext cx="1469160" cy="749160"/>
            <a:chOff x="7301520" y="2743200"/>
            <a:chExt cx="1469160" cy="749160"/>
          </a:xfrm>
        </p:grpSpPr>
        <p:sp>
          <p:nvSpPr>
            <p:cNvPr id="179"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81" name=""/>
          <p:cNvGrpSpPr/>
          <p:nvPr/>
        </p:nvGrpSpPr>
        <p:grpSpPr>
          <a:xfrm>
            <a:off x="7324560" y="3584520"/>
            <a:ext cx="1346400" cy="749520"/>
            <a:chOff x="7324560" y="3584520"/>
            <a:chExt cx="1346400" cy="749520"/>
          </a:xfrm>
        </p:grpSpPr>
        <p:sp>
          <p:nvSpPr>
            <p:cNvPr id="182"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84" name=""/>
          <p:cNvGrpSpPr/>
          <p:nvPr/>
        </p:nvGrpSpPr>
        <p:grpSpPr>
          <a:xfrm>
            <a:off x="5851440" y="3581280"/>
            <a:ext cx="1406880" cy="749520"/>
            <a:chOff x="5851440" y="3581280"/>
            <a:chExt cx="1406880" cy="749520"/>
          </a:xfrm>
        </p:grpSpPr>
        <p:sp>
          <p:nvSpPr>
            <p:cNvPr id="185"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7"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8" name=""/>
          <p:cNvGrpSpPr/>
          <p:nvPr/>
        </p:nvGrpSpPr>
        <p:grpSpPr>
          <a:xfrm>
            <a:off x="3898800" y="2070000"/>
            <a:ext cx="1346400" cy="825480"/>
            <a:chOff x="3898800" y="2070000"/>
            <a:chExt cx="1346400" cy="825480"/>
          </a:xfrm>
        </p:grpSpPr>
        <p:sp>
          <p:nvSpPr>
            <p:cNvPr id="189"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91"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92"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93"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94"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5" name=""/>
          <p:cNvGrpSpPr/>
          <p:nvPr/>
        </p:nvGrpSpPr>
        <p:grpSpPr>
          <a:xfrm>
            <a:off x="3273480" y="4533840"/>
            <a:ext cx="1282680" cy="749160"/>
            <a:chOff x="3273480" y="4533840"/>
            <a:chExt cx="1282680" cy="749160"/>
          </a:xfrm>
        </p:grpSpPr>
        <p:sp>
          <p:nvSpPr>
            <p:cNvPr id="196"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8" name=""/>
          <p:cNvGrpSpPr/>
          <p:nvPr/>
        </p:nvGrpSpPr>
        <p:grpSpPr>
          <a:xfrm>
            <a:off x="4673520" y="4546440"/>
            <a:ext cx="1282680" cy="749160"/>
            <a:chOff x="4673520" y="4546440"/>
            <a:chExt cx="1282680" cy="749160"/>
          </a:xfrm>
        </p:grpSpPr>
        <p:sp>
          <p:nvSpPr>
            <p:cNvPr id="199"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0F06C2FB-1AD0-4A74-9052-486FEDFB71B3}" type="slidenum">
              <a:t>24</a:t>
            </a:fld>
          </a:p>
        </p:txBody>
      </p:sp>
      <p:sp>
        <p:nvSpPr>
          <p:cNvPr id="5" name="PlaceHolder 4"/>
          <p:cNvSpPr>
            <a:spLocks noGrp="1"/>
          </p:cNvSpPr>
          <p:nvPr>
            <p:ph type="dt" idx="1"/>
          </p:nvPr>
        </p:nvSpPr>
        <p:spPr/>
        <p:txBody>
          <a:bodyPr/>
          <a:p>
            <a:r>
              <a:rPr lang="en-US"/>
              <a:t>January 2001</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1128600" y="1517760"/>
          <a:ext cx="7391520" cy="4425840"/>
        </p:xfrm>
        <a:graphic>
          <a:graphicData uri="http://schemas.openxmlformats.org/presentationml/2006/ole">
            <p:oleObj progId="Word.Document.12" r:id="rId1" spid="">
              <p:embed/>
              <p:pic>
                <p:nvPicPr>
                  <p:cNvPr id="203"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4"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B287EE68-3F5A-4F7E-9CB0-FD5B8CE86789}" type="slidenum">
              <a:t>25</a:t>
            </a:fld>
          </a:p>
        </p:txBody>
      </p:sp>
      <p:sp>
        <p:nvSpPr>
          <p:cNvPr id="5" name="PlaceHolder 4"/>
          <p:cNvSpPr>
            <a:spLocks noGrp="1"/>
          </p:cNvSpPr>
          <p:nvPr>
            <p:ph type="dt" idx="1"/>
          </p:nvPr>
        </p:nvSpPr>
        <p:spPr/>
        <p:txBody>
          <a:bodyPr/>
          <a:p>
            <a:r>
              <a:rPr lang="en-US"/>
              <a:t>January 2001</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C09E85A7-1B99-408E-B302-AE4FF0C5B32D}" type="slidenum">
              <a:t>2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9"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10"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D03F7A2C-A679-4C2F-B7AD-DDC602955EF0}" type="slidenum">
              <a:t>27</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4"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ieee802.org/15/</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a:p>
            <a:pPr marL="219240" indent="-2192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t>
            </a:r>
            <a:r>
              <a:rPr b="0" lang="en-US" sz="2400" spc="-1" strike="noStrike">
                <a:solidFill>
                  <a:srgbClr val="000000"/>
                </a:solidFill>
                <a:latin typeface="Arial"/>
              </a:rPr>
              <a:t>michael.d.mcinnis@boeing.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4DA580B4-E384-47E0-A640-7A23E13C274B}" type="slidenum">
              <a:t>3</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Tampa Meeting </a:t>
            </a:r>
            <a:br>
              <a:rPr sz="3200"/>
            </a:br>
            <a:r>
              <a:rPr b="0" lang="en-US" sz="3200" spc="-1" strike="noStrike">
                <a:solidFill>
                  <a:srgbClr val="000000"/>
                </a:solidFill>
                <a:latin typeface="Times New Roman"/>
              </a:rPr>
              <a:t> January 15-19, 2001</a:t>
            </a:r>
            <a:endParaRPr b="0"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ASK GROUP 1 OBJECTIVES FOR THIS MEETING:</a:t>
            </a:r>
            <a:r>
              <a:rPr b="1" lang="en-US" sz="2000" spc="-1" strike="noStrike" u="sng">
                <a:solidFill>
                  <a:srgbClr val="000000"/>
                </a:solidFill>
                <a:uFillTx/>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PROVIDE PROJECT PLANNING UPDATE -00/375r1</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COMPLETE PRODUCTION AND/OR REVIEW IEEE Std 802.15.1-[2001] Draft 0.8 </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PROVIDE SESSION #11/HILTON HEAD OBJECTIVE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593CEE0B-5474-4E8B-98C6-24015DA2425C}"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Tampa Meeting </a:t>
            </a:r>
            <a:br>
              <a:rPr sz="3200"/>
            </a:br>
            <a:r>
              <a:rPr b="0" lang="en-US" sz="3200" spc="-1" strike="noStrike">
                <a:solidFill>
                  <a:srgbClr val="000000"/>
                </a:solidFill>
                <a:latin typeface="Times New Roman"/>
              </a:rPr>
              <a:t> January 15-19, 2001</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ASK GROUP 2 OBJECTIVES FOR THE MEETING</a:t>
            </a:r>
            <a:r>
              <a:rPr b="1" lang="en-US" sz="2000" spc="-1" strike="noStrike" u="sng">
                <a:solidFill>
                  <a:srgbClr val="000000"/>
                </a:solidFill>
                <a:uFillTx/>
                <a:latin typeface="Times New Roman"/>
              </a:rPr>
              <a:t>	</a:t>
            </a:r>
            <a:endParaRPr b="0" lang="en-US" sz="2000" spc="-1" strike="noStrike">
              <a:solidFill>
                <a:srgbClr val="000000"/>
              </a:solidFill>
              <a:latin typeface="Arial"/>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DISCUSS AND DECIDE ON THE FORMATION OF AN 802 WIRELESS COXISTENCE GROUP</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EETING TIME FOR THIS DISCUSSION IS NOT SET YET)</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LIAISON REPORT FROM THE BLUETOOTH SIG COEXISTENCE WORKING GROUP</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THE REMAINING COEXISTENCE MECHANISM PRESENTATION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COEXISTENCE MODEL PRESENTATION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TG2 REQUEST TO TG3 ON COEXISTENCE ANALYSIS OF PROPOSED HIGH-RATE WPAN STANDARD</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0299B100-90DC-4A2D-910A-53547DC79460}"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Tampa Meeting </a:t>
            </a:r>
            <a:br>
              <a:rPr sz="3200"/>
            </a:br>
            <a:r>
              <a:rPr b="0" lang="en-US" sz="3200" spc="-1" strike="noStrike">
                <a:solidFill>
                  <a:srgbClr val="000000"/>
                </a:solidFill>
                <a:latin typeface="Times New Roman"/>
              </a:rPr>
              <a:t> January 15-19, 2001</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ASK GROUP 3 OBJECTIVES FOR THIS MEETING:  </a:t>
            </a:r>
            <a:r>
              <a:rPr b="1" lang="en-US" sz="2000" spc="-1" strike="noStrike" u="sng">
                <a:solidFill>
                  <a:srgbClr val="000000"/>
                </a:solidFill>
                <a:uFillTx/>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ONFERENCE CALL STATUS,  INCLUDING APPROVAL OF ANY AD HOC BUSINES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RESOLUTION OF MAC AND PHY ISSUE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REVIEW INTERFACES BETWEEN MAC AND PHY</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BEGIN WRITING DRAFT STANDARD - EDITORIAL REVIEW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ESTABLISH OPERATING PLANS FOR CONFERENCE CALLS BETWEEN JANUARY AND MARCH.</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BUILD BALLOT POOL</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D839398B-DFE5-4A1F-87C9-03FFD1706D5C}"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Tampa Meeting </a:t>
            </a:r>
            <a:br>
              <a:rPr sz="3200"/>
            </a:br>
            <a:r>
              <a:rPr b="0" lang="en-US" sz="3200" spc="-1" strike="noStrike">
                <a:solidFill>
                  <a:srgbClr val="000000"/>
                </a:solidFill>
                <a:latin typeface="Times New Roman"/>
              </a:rPr>
              <a:t> January 15-19, 2001</a:t>
            </a:r>
            <a:endParaRPr b="0" lang="en-US" sz="3200" spc="-1" strike="noStrike">
              <a:solidFill>
                <a:srgbClr val="000000"/>
              </a:solidFill>
              <a:latin typeface="Times New Roman"/>
            </a:endParaRPr>
          </a:p>
        </p:txBody>
      </p:sp>
      <p:sp>
        <p:nvSpPr>
          <p:cNvPr id="104"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ASK GROUP 4 OBJECTIVES FOR THIS MEETING:</a:t>
            </a:r>
            <a:r>
              <a:rPr b="1" lang="en-US" sz="2000" spc="-1" strike="noStrike" u="sng">
                <a:solidFill>
                  <a:srgbClr val="000000"/>
                </a:solidFill>
                <a:uFillTx/>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UMMARIZE CONFERENCE CALL RESULTS </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REVIEW RESPONSES TO CFA</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DRAFT FIRST PASS CRITERIA DOCUMENT</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UPDATE PROJECT TIME</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FINALIZE CALL FOR PROPOSAL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SET OBJECTIVES FOR NEXT 2 MONTHS AND NEXT MEETING</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492178DE-2A93-4996-B79C-69435B1EA6A0}"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Tampa Meeting </a:t>
            </a:r>
            <a:br>
              <a:rPr sz="3200"/>
            </a:br>
            <a:r>
              <a:rPr b="0" lang="en-US" sz="3200" spc="-1" strike="noStrike">
                <a:solidFill>
                  <a:srgbClr val="000000"/>
                </a:solidFill>
                <a:latin typeface="Times New Roman"/>
              </a:rPr>
              <a:t> January 15-19, 2001</a:t>
            </a:r>
            <a:endParaRPr b="0" lang="en-US" sz="3200" spc="-1" strike="noStrike">
              <a:solidFill>
                <a:srgbClr val="000000"/>
              </a:solidFill>
              <a:latin typeface="Times New Roman"/>
            </a:endParaRPr>
          </a:p>
        </p:txBody>
      </p:sp>
      <p:sp>
        <p:nvSpPr>
          <p:cNvPr id="106"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802.15 PC/802.11PC OBJECTIVES FOR THIS MEETING:</a:t>
            </a:r>
            <a:r>
              <a:rPr b="1" lang="en-US" sz="2000" spc="-1" strike="noStrike" u="sng">
                <a:solidFill>
                  <a:srgbClr val="000000"/>
                </a:solidFill>
                <a:uFillTx/>
                <a:latin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Complete work on General Publicity Presentation for WG Web Si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Finalize WLAN Forecast Documenta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pdate Conference Calenda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tinue to Work on Joint 802.11 / 802.15 Publicity Activiti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WECA updat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FDM Forum updat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08D886E2-8AE3-468D-89C3-88B95F7B286F}"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EDBA9FDD-F44B-4EE3-920C-A0308BBA0C04}"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00/338r0</dc:description>
  <dc:language>en-US</dc:language>
  <cp:lastModifiedBy>Robert F.  Heile</cp:lastModifiedBy>
  <cp:lastPrinted>2000-07-07T01:25:49Z</cp:lastPrinted>
  <dcterms:modified xsi:type="dcterms:W3CDTF">2001-01-15T01:36:23Z</dcterms:modified>
  <cp:revision>108</cp:revision>
  <dc:subject>IEEE 802.15 &lt;subject&gt;</dc:subject>
  <dc:title>WG- Nov00-meeting into and basic policies</dc:title>
</cp:coreProperties>
</file>