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C34F5-1315-4F33-8DBD-A0EE7E18F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99D8B-FEA0-4645-BF84-DA3DBB5EA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73D77-3B38-4E86-A54E-3233A6A28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B7966-D975-40F4-82C9-E83D6D2E3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E5872-E8A1-49C8-9AD6-A5AFF3AE0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42DE2-AC2B-436F-82DF-FE72BB8CE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E4C46-FD88-4A45-8FC0-56D8FEB41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CA70A-F919-4419-85E9-4237DC3BC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0EC09-DD95-40F3-A83D-15AA54018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75D83-4EA7-4AA4-8D57-30A47004A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DBDA3-B74B-46DC-80FC-A7A264BCB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6C2F8-322C-4145-8DFF-898363A87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 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F3D514-B891-4DEA-B945-97CA5FC02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2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71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PHY-</a:t>
            </a:r>
            <a:r>
              <a:rPr b="0" lang="en-US" sz="1600" spc="-1" strike="noStrike">
                <a:solidFill>
                  <a:srgbClr val="000000"/>
                </a:solidFill>
                <a:latin typeface="Times New Roman"/>
              </a:rPr>
              <a:t>Committee-Monterey-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5 Januar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438</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 summary of the work accomplished by the PHY committee in conference calls and via email since the last meeting in Tamp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ocument the work accomplished by the PHY committ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6955EEB6-10B4-4DEE-AEC2-DFE50BE14F9B}"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sions Reached</a:t>
            </a:r>
            <a:endParaRPr b="0" lang="en-US" sz="3600" spc="-1" strike="noStrike">
              <a:solidFill>
                <a:srgbClr val="000000"/>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cy accuracy +/-25 pp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size for RX sensitivity: 1024 byt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X sensitivity measured at 10</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B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power ramp up/down – same as 802.11b</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rier suppression – same as 802.11b</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filter, 0.3 &lt; </a:t>
            </a:r>
            <a:r>
              <a:rPr b="0" lang="en-US" sz="2800" spc="-1" strike="noStrike">
                <a:solidFill>
                  <a:srgbClr val="000000"/>
                </a:solidFill>
                <a:latin typeface="Symbol"/>
                <a:ea typeface="Symbol"/>
              </a:rPr>
              <a:t></a:t>
            </a:r>
            <a:r>
              <a:rPr b="0" lang="en-US" sz="2800" spc="-1" strike="noStrike">
                <a:solidFill>
                  <a:srgbClr val="000000"/>
                </a:solidFill>
                <a:latin typeface="Times New Roman"/>
              </a:rPr>
              <a:t> &lt; 0.8, exact value to be settled on lat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power measured radiated, no power control specifi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2199A68-CBDF-4871-B4D2-041FFDBD5D1B}"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ming Test</a:t>
            </a:r>
            <a:endParaRPr b="0" lang="en-US" sz="3600" spc="-1" strike="noStrike">
              <a:solidFill>
                <a:srgbClr val="000000"/>
              </a:solidFill>
              <a:latin typeface="Arial"/>
            </a:endParaRPr>
          </a:p>
        </p:txBody>
      </p:sp>
      <p:sp>
        <p:nvSpPr>
          <p:cNvPr id="49" name="PlaceHolder 2"/>
          <p:cNvSpPr>
            <a:spLocks noGrp="1"/>
          </p:cNvSpPr>
          <p:nvPr>
            <p:ph/>
          </p:nvPr>
        </p:nvSpPr>
        <p:spPr>
          <a:xfrm>
            <a:off x="685800" y="1523880"/>
            <a:ext cx="7772400" cy="1524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802.15.3 interferer, base modu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 signal 10 dB high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still TB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
          <p:cNvGrpSpPr/>
          <p:nvPr/>
        </p:nvGrpSpPr>
        <p:grpSpPr>
          <a:xfrm>
            <a:off x="609480" y="3048120"/>
            <a:ext cx="7924680" cy="3209760"/>
            <a:chOff x="609480" y="3048120"/>
            <a:chExt cx="7924680" cy="3209760"/>
          </a:xfrm>
        </p:grpSpPr>
        <p:grpSp>
          <p:nvGrpSpPr>
            <p:cNvPr id="51" name=""/>
            <p:cNvGrpSpPr/>
            <p:nvPr/>
          </p:nvGrpSpPr>
          <p:grpSpPr>
            <a:xfrm>
              <a:off x="616320" y="3052800"/>
              <a:ext cx="7908840" cy="3200400"/>
              <a:chOff x="616320" y="3052800"/>
              <a:chExt cx="7908840" cy="3200400"/>
            </a:xfrm>
          </p:grpSpPr>
          <p:grpSp>
            <p:nvGrpSpPr>
              <p:cNvPr id="52" name=""/>
              <p:cNvGrpSpPr/>
              <p:nvPr/>
            </p:nvGrpSpPr>
            <p:grpSpPr>
              <a:xfrm>
                <a:off x="616320" y="3052800"/>
                <a:ext cx="1651680" cy="762120"/>
                <a:chOff x="616320" y="3052800"/>
                <a:chExt cx="1651680" cy="762120"/>
              </a:xfrm>
            </p:grpSpPr>
            <p:sp>
              <p:nvSpPr>
                <p:cNvPr id="53" name=""/>
                <p:cNvSpPr/>
                <p:nvPr/>
              </p:nvSpPr>
              <p:spPr>
                <a:xfrm>
                  <a:off x="718920" y="3052800"/>
                  <a:ext cx="144612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a Rate (Mbi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616320" y="3052800"/>
                  <a:ext cx="1651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 name=""/>
              <p:cNvGrpSpPr/>
              <p:nvPr/>
            </p:nvGrpSpPr>
            <p:grpSpPr>
              <a:xfrm>
                <a:off x="2268360" y="3052800"/>
                <a:ext cx="1794240" cy="762120"/>
                <a:chOff x="2268360" y="3052800"/>
                <a:chExt cx="1794240" cy="762120"/>
              </a:xfrm>
            </p:grpSpPr>
            <p:sp>
              <p:nvSpPr>
                <p:cNvPr id="56" name=""/>
                <p:cNvSpPr/>
                <p:nvPr/>
              </p:nvSpPr>
              <p:spPr>
                <a:xfrm>
                  <a:off x="2370960" y="3052800"/>
                  <a:ext cx="1589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nimum sensitivi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 name=""/>
                <p:cNvSpPr/>
                <p:nvPr/>
              </p:nvSpPr>
              <p:spPr>
                <a:xfrm>
                  <a:off x="2268360" y="3052800"/>
                  <a:ext cx="17942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4062960" y="3052800"/>
                <a:ext cx="2231280" cy="762120"/>
                <a:chOff x="4062960" y="3052800"/>
                <a:chExt cx="2231280" cy="762120"/>
              </a:xfrm>
            </p:grpSpPr>
            <p:sp>
              <p:nvSpPr>
                <p:cNvPr id="59" name=""/>
                <p:cNvSpPr/>
                <p:nvPr/>
              </p:nvSpPr>
              <p:spPr>
                <a:xfrm>
                  <a:off x="4165560" y="3052800"/>
                  <a:ext cx="202572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djacent channel rejection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
                <p:cNvSpPr/>
                <p:nvPr/>
              </p:nvSpPr>
              <p:spPr>
                <a:xfrm>
                  <a:off x="4062960" y="3052800"/>
                  <a:ext cx="22312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6294600" y="3052800"/>
                <a:ext cx="2230560" cy="762120"/>
                <a:chOff x="6294600" y="3052800"/>
                <a:chExt cx="2230560" cy="762120"/>
              </a:xfrm>
            </p:grpSpPr>
            <p:sp>
              <p:nvSpPr>
                <p:cNvPr id="62" name=""/>
                <p:cNvSpPr/>
                <p:nvPr/>
              </p:nvSpPr>
              <p:spPr>
                <a:xfrm>
                  <a:off x="6397200" y="3052800"/>
                  <a:ext cx="202572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ext adjacent channel rejection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
                <p:cNvSpPr/>
                <p:nvPr/>
              </p:nvSpPr>
              <p:spPr>
                <a:xfrm>
                  <a:off x="6294600" y="3052800"/>
                  <a:ext cx="22305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616320" y="3814920"/>
                <a:ext cx="1651680" cy="609480"/>
                <a:chOff x="616320" y="3814920"/>
                <a:chExt cx="1651680" cy="609480"/>
              </a:xfrm>
            </p:grpSpPr>
            <p:sp>
              <p:nvSpPr>
                <p:cNvPr id="65" name=""/>
                <p:cNvSpPr/>
                <p:nvPr/>
              </p:nvSpPr>
              <p:spPr>
                <a:xfrm>
                  <a:off x="718920" y="3814920"/>
                  <a:ext cx="14461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
                <p:cNvSpPr/>
                <p:nvPr/>
              </p:nvSpPr>
              <p:spPr>
                <a:xfrm>
                  <a:off x="616320" y="3814920"/>
                  <a:ext cx="16516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2268360" y="3814920"/>
                <a:ext cx="1794240" cy="609480"/>
                <a:chOff x="2268360" y="3814920"/>
                <a:chExt cx="1794240" cy="609480"/>
              </a:xfrm>
            </p:grpSpPr>
            <p:sp>
              <p:nvSpPr>
                <p:cNvPr id="68" name=""/>
                <p:cNvSpPr/>
                <p:nvPr/>
              </p:nvSpPr>
              <p:spPr>
                <a:xfrm>
                  <a:off x="2370960" y="3814920"/>
                  <a:ext cx="15894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 name=""/>
                <p:cNvSpPr/>
                <p:nvPr/>
              </p:nvSpPr>
              <p:spPr>
                <a:xfrm>
                  <a:off x="2268360" y="3814920"/>
                  <a:ext cx="17942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4062960" y="3814920"/>
                <a:ext cx="2231280" cy="609480"/>
                <a:chOff x="4062960" y="3814920"/>
                <a:chExt cx="2231280" cy="609480"/>
              </a:xfrm>
            </p:grpSpPr>
            <p:sp>
              <p:nvSpPr>
                <p:cNvPr id="71" name=""/>
                <p:cNvSpPr/>
                <p:nvPr/>
              </p:nvSpPr>
              <p:spPr>
                <a:xfrm>
                  <a:off x="4165560" y="381492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10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 name=""/>
                <p:cNvSpPr/>
                <p:nvPr/>
              </p:nvSpPr>
              <p:spPr>
                <a:xfrm>
                  <a:off x="4062960" y="3814920"/>
                  <a:ext cx="2231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6294600" y="3814920"/>
                <a:ext cx="2230560" cy="609480"/>
                <a:chOff x="6294600" y="3814920"/>
                <a:chExt cx="2230560" cy="609480"/>
              </a:xfrm>
            </p:grpSpPr>
            <p:sp>
              <p:nvSpPr>
                <p:cNvPr id="74" name=""/>
                <p:cNvSpPr/>
                <p:nvPr/>
              </p:nvSpPr>
              <p:spPr>
                <a:xfrm>
                  <a:off x="6397200" y="381492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30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
                <p:cNvSpPr/>
                <p:nvPr/>
              </p:nvSpPr>
              <p:spPr>
                <a:xfrm>
                  <a:off x="6294600" y="3814920"/>
                  <a:ext cx="22305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616320" y="4424400"/>
                <a:ext cx="1651680" cy="609480"/>
                <a:chOff x="616320" y="4424400"/>
                <a:chExt cx="1651680" cy="609480"/>
              </a:xfrm>
            </p:grpSpPr>
            <p:sp>
              <p:nvSpPr>
                <p:cNvPr id="77" name=""/>
                <p:cNvSpPr/>
                <p:nvPr/>
              </p:nvSpPr>
              <p:spPr>
                <a:xfrm>
                  <a:off x="718920" y="4424400"/>
                  <a:ext cx="14461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 – 4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 name=""/>
                <p:cNvSpPr/>
                <p:nvPr/>
              </p:nvSpPr>
              <p:spPr>
                <a:xfrm>
                  <a:off x="616320" y="4424400"/>
                  <a:ext cx="16516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2268360" y="4424400"/>
                <a:ext cx="1794240" cy="609480"/>
                <a:chOff x="2268360" y="4424400"/>
                <a:chExt cx="1794240" cy="609480"/>
              </a:xfrm>
            </p:grpSpPr>
            <p:sp>
              <p:nvSpPr>
                <p:cNvPr id="80" name=""/>
                <p:cNvSpPr/>
                <p:nvPr/>
              </p:nvSpPr>
              <p:spPr>
                <a:xfrm>
                  <a:off x="2370960" y="4424400"/>
                  <a:ext cx="15894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2268360" y="4424400"/>
                  <a:ext cx="17942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4062960" y="4424400"/>
                <a:ext cx="2231280" cy="609480"/>
                <a:chOff x="4062960" y="4424400"/>
                <a:chExt cx="2231280" cy="609480"/>
              </a:xfrm>
            </p:grpSpPr>
            <p:sp>
              <p:nvSpPr>
                <p:cNvPr id="83" name=""/>
                <p:cNvSpPr/>
                <p:nvPr/>
              </p:nvSpPr>
              <p:spPr>
                <a:xfrm>
                  <a:off x="4165560" y="442440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6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 name=""/>
                <p:cNvSpPr/>
                <p:nvPr/>
              </p:nvSpPr>
              <p:spPr>
                <a:xfrm>
                  <a:off x="4062960" y="4424400"/>
                  <a:ext cx="2231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6294600" y="4424400"/>
                <a:ext cx="2230560" cy="609480"/>
                <a:chOff x="6294600" y="4424400"/>
                <a:chExt cx="2230560" cy="609480"/>
              </a:xfrm>
            </p:grpSpPr>
            <p:sp>
              <p:nvSpPr>
                <p:cNvPr id="86" name=""/>
                <p:cNvSpPr/>
                <p:nvPr/>
              </p:nvSpPr>
              <p:spPr>
                <a:xfrm>
                  <a:off x="6397200" y="442440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26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6294600" y="4424400"/>
                  <a:ext cx="22305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616320" y="5033880"/>
                <a:ext cx="1651680" cy="609840"/>
                <a:chOff x="616320" y="5033880"/>
                <a:chExt cx="1651680" cy="609840"/>
              </a:xfrm>
            </p:grpSpPr>
            <p:sp>
              <p:nvSpPr>
                <p:cNvPr id="89" name=""/>
                <p:cNvSpPr/>
                <p:nvPr/>
              </p:nvSpPr>
              <p:spPr>
                <a:xfrm>
                  <a:off x="718920" y="5033880"/>
                  <a:ext cx="144612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 – 5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 name=""/>
                <p:cNvSpPr/>
                <p:nvPr/>
              </p:nvSpPr>
              <p:spPr>
                <a:xfrm>
                  <a:off x="616320" y="5033880"/>
                  <a:ext cx="16516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2268360" y="5033880"/>
                <a:ext cx="1794240" cy="609840"/>
                <a:chOff x="2268360" y="5033880"/>
                <a:chExt cx="1794240" cy="609840"/>
              </a:xfrm>
            </p:grpSpPr>
            <p:sp>
              <p:nvSpPr>
                <p:cNvPr id="92" name=""/>
                <p:cNvSpPr/>
                <p:nvPr/>
              </p:nvSpPr>
              <p:spPr>
                <a:xfrm>
                  <a:off x="2370960" y="5033880"/>
                  <a:ext cx="15894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
                <p:cNvSpPr/>
                <p:nvPr/>
              </p:nvSpPr>
              <p:spPr>
                <a:xfrm>
                  <a:off x="2268360" y="5033880"/>
                  <a:ext cx="179424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062960" y="5033880"/>
                <a:ext cx="2231280" cy="609840"/>
                <a:chOff x="4062960" y="5033880"/>
                <a:chExt cx="2231280" cy="609840"/>
              </a:xfrm>
            </p:grpSpPr>
            <p:sp>
              <p:nvSpPr>
                <p:cNvPr id="95" name=""/>
                <p:cNvSpPr/>
                <p:nvPr/>
              </p:nvSpPr>
              <p:spPr>
                <a:xfrm>
                  <a:off x="4165560" y="5033880"/>
                  <a:ext cx="202572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3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
                <p:cNvSpPr/>
                <p:nvPr/>
              </p:nvSpPr>
              <p:spPr>
                <a:xfrm>
                  <a:off x="4062960" y="5033880"/>
                  <a:ext cx="22312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6294600" y="5033880"/>
                <a:ext cx="2230560" cy="609840"/>
                <a:chOff x="6294600" y="5033880"/>
                <a:chExt cx="2230560" cy="609840"/>
              </a:xfrm>
            </p:grpSpPr>
            <p:sp>
              <p:nvSpPr>
                <p:cNvPr id="98" name=""/>
                <p:cNvSpPr/>
                <p:nvPr/>
              </p:nvSpPr>
              <p:spPr>
                <a:xfrm>
                  <a:off x="6397200" y="5033880"/>
                  <a:ext cx="202572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23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 name=""/>
                <p:cNvSpPr/>
                <p:nvPr/>
              </p:nvSpPr>
              <p:spPr>
                <a:xfrm>
                  <a:off x="6294600" y="5033880"/>
                  <a:ext cx="223056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616320" y="5643720"/>
                <a:ext cx="1651680" cy="609480"/>
                <a:chOff x="616320" y="5643720"/>
                <a:chExt cx="1651680" cy="609480"/>
              </a:xfrm>
            </p:grpSpPr>
            <p:sp>
              <p:nvSpPr>
                <p:cNvPr id="101" name=""/>
                <p:cNvSpPr/>
                <p:nvPr/>
              </p:nvSpPr>
              <p:spPr>
                <a:xfrm>
                  <a:off x="718920" y="5643720"/>
                  <a:ext cx="14461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4 - 6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616320" y="5643720"/>
                  <a:ext cx="16516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2268360" y="5643720"/>
                <a:ext cx="1794240" cy="609480"/>
                <a:chOff x="2268360" y="5643720"/>
                <a:chExt cx="1794240" cy="609480"/>
              </a:xfrm>
            </p:grpSpPr>
            <p:sp>
              <p:nvSpPr>
                <p:cNvPr id="104" name=""/>
                <p:cNvSpPr/>
                <p:nvPr/>
              </p:nvSpPr>
              <p:spPr>
                <a:xfrm>
                  <a:off x="2370960" y="5643720"/>
                  <a:ext cx="15894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
                <p:cNvSpPr/>
                <p:nvPr/>
              </p:nvSpPr>
              <p:spPr>
                <a:xfrm>
                  <a:off x="2268360" y="5643720"/>
                  <a:ext cx="17942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4062960" y="5643720"/>
                <a:ext cx="2231280" cy="609480"/>
                <a:chOff x="4062960" y="5643720"/>
                <a:chExt cx="2231280" cy="609480"/>
              </a:xfrm>
            </p:grpSpPr>
            <p:sp>
              <p:nvSpPr>
                <p:cNvPr id="107" name=""/>
                <p:cNvSpPr/>
                <p:nvPr/>
              </p:nvSpPr>
              <p:spPr>
                <a:xfrm>
                  <a:off x="4165560" y="564372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0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4062960" y="5643720"/>
                  <a:ext cx="2231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6294600" y="5643720"/>
                <a:ext cx="2230560" cy="609480"/>
                <a:chOff x="6294600" y="5643720"/>
                <a:chExt cx="2230560" cy="609480"/>
              </a:xfrm>
            </p:grpSpPr>
            <p:sp>
              <p:nvSpPr>
                <p:cNvPr id="110" name=""/>
                <p:cNvSpPr/>
                <p:nvPr/>
              </p:nvSpPr>
              <p:spPr>
                <a:xfrm>
                  <a:off x="6397200" y="564372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20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 name=""/>
                <p:cNvSpPr/>
                <p:nvPr/>
              </p:nvSpPr>
              <p:spPr>
                <a:xfrm>
                  <a:off x="6294600" y="5643720"/>
                  <a:ext cx="22305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609480" y="3048120"/>
              <a:ext cx="7924680" cy="3209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C9DD754-576F-4411-BC80-43D84DEA00C0}"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CP Preamble</a:t>
            </a:r>
            <a:endParaRPr b="0" lang="en-US" sz="3600" spc="-1" strike="noStrike">
              <a:solidFill>
                <a:srgbClr val="000000"/>
              </a:solidFill>
              <a:latin typeface="Arial"/>
            </a:endParaRPr>
          </a:p>
        </p:txBody>
      </p:sp>
      <p:sp>
        <p:nvSpPr>
          <p:cNvPr id="11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ymbol Constant Amplitude Zero Auto-Correlation (CAZAC) seque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6 and 12 repetitions (8.7-17.45 </a:t>
            </a:r>
            <a:r>
              <a:rPr b="0" lang="en-US" sz="2800" spc="-1" strike="noStrike">
                <a:solidFill>
                  <a:srgbClr val="000000"/>
                </a:solidFill>
                <a:latin typeface="Symbol"/>
                <a:ea typeface="Symbol"/>
              </a:rPr>
              <a:t></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repetitions seems popular for some equalizers (~15 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 sequence is shifted by 8 bits to act as the end of preamble delimiter or Start Frame Delimiter (SF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ragouz will present preamble definition lat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34F8CC2-AB72-4DDC-865C-B98DDE3CDE30}"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Outstanding issues</a:t>
            </a:r>
            <a:endParaRPr b="0" lang="en-US" sz="36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ation accuracy te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s for j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odulation te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itivity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power and Power Spectral Density (PS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ing meth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5528763-F59D-4FD5-943F-DCDBFCFF0DB1}"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Digital and Applied Imaging</cp:lastModifiedBy>
  <cp:lastPrinted>1998-02-10T13:28:06Z</cp:lastPrinted>
  <dcterms:modified xsi:type="dcterms:W3CDTF">2001-01-15T05:31:48Z</dcterms:modified>
  <cp:revision>45</cp:revision>
  <dc:subject>IEEE 802.15 &lt;subject&gt;</dc:subject>
  <dc:title>No Slide Title</dc:title>
</cp:coreProperties>
</file>