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6839B-8968-419A-AC17-3A9FA2A8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1" name="PlaceHolder 2"/>
          <p:cNvSpPr>
            <a:spLocks noGrp="1"/>
          </p:cNvSpPr>
          <p:nvPr>
            <p:ph/>
          </p:nvPr>
        </p:nvSpPr>
        <p:spPr>
          <a:xfrm>
            <a:off x="685800" y="175212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154A-A57D-481A-BDEF-D44AAF48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4"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C0DBB-8AA6-4B66-B0B6-0C201D9A5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9" name="PlaceHolder 2"/>
          <p:cNvSpPr>
            <a:spLocks noGrp="1"/>
          </p:cNvSpPr>
          <p:nvPr>
            <p:ph/>
          </p:nvPr>
        </p:nvSpPr>
        <p:spPr>
          <a:xfrm>
            <a:off x="685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A53F3-2C89-4A8F-BE00-FBDED14E6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0"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82B0-A048-4BEC-A912-A710F485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A1BA3-75B1-44B3-85CA-0EEF45C7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4C30-2D8B-4D6A-9BEE-6D4C1AA4D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9149-78F2-4983-BC0A-4236CB5F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CC328-4BE7-46A7-9FF2-E16CE6D2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9"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425B-F18C-4DD1-84C3-B718094B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3"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FCD5-5216-49AC-900D-C120C5CD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7"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E572-43C9-4D38-828C-BB6F57949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January 15,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257440" y="6474960"/>
            <a:ext cx="33526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新細明體"/>
              </a:rPr>
              <a:t>Integrated Programmable Communications,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lide </a:t>
            </a:r>
            <a:fld id="{66D83A4F-2FD8-4F4C-9749-97FD3F6FB09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doc.: IEEE 802.15-01/05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2120"/>
            <a:ext cx="899136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新細明體"/>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ubmission Title:</a:t>
            </a:r>
            <a:r>
              <a:rPr b="0" lang="en-US" sz="1600" spc="-1" strike="noStrike">
                <a:solidFill>
                  <a:srgbClr val="000000"/>
                </a:solidFill>
                <a:latin typeface="Times New Roman"/>
                <a:ea typeface="新細明體"/>
              </a:rPr>
              <a:t> Selective Hopping for Hit Avoid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Date Submitted: </a:t>
            </a:r>
            <a:r>
              <a:rPr b="0" lang="en-US" sz="1600" spc="-1" strike="noStrike">
                <a:solidFill>
                  <a:srgbClr val="000000"/>
                </a:solidFill>
                <a:latin typeface="Times New Roman"/>
                <a:ea typeface="新細明體"/>
              </a:rPr>
              <a:t>January 15,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ource:</a:t>
            </a:r>
            <a:r>
              <a:rPr b="0" lang="en-US" sz="1600" spc="-1" strike="noStrike">
                <a:solidFill>
                  <a:srgbClr val="000000"/>
                </a:solidFill>
                <a:latin typeface="Times New Roman"/>
                <a:ea typeface="新細明體"/>
              </a:rPr>
              <a:t> KC Chen, HK Chen, CC Cha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mpany: Integrated Programmable Communications,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aiwan Laboratories Address: P.O. Box 4-2, Chupei, Hsinchu, Taiwan 3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EL: +886 3 553 9128, FAX: +886 3 553 9153, E-Mail: {kc,hkchen,ccc}@inprocomm.com</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a:t>
            </a:r>
            <a:r>
              <a:rPr b="0" lang="en-US" sz="1600" spc="-1" strike="noStrike">
                <a:solidFill>
                  <a:srgbClr val="000000"/>
                </a:solidFill>
                <a:latin typeface="Times New Roman"/>
                <a:ea typeface="新細明體"/>
              </a:rPr>
              <a:t> original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bstract:</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ubmission to Task Group 2 for consideration as the coexistence mechanism for 802.15.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Purpo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Descrip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Noti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lea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1C8C39A-5132-4276-9E61-A08A9BC9D5B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Change Procedure</a:t>
            </a:r>
            <a:endParaRPr b="0" lang="en-US" sz="3600" spc="-1" strike="noStrike">
              <a:solidFill>
                <a:srgbClr val="3333cc"/>
              </a:solidFill>
              <a:latin typeface="Times New Roman"/>
            </a:endParaRPr>
          </a:p>
        </p:txBody>
      </p:sp>
      <p:sp>
        <p:nvSpPr>
          <p:cNvPr id="12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After the device decides to apply a new partition sequence, it starts to communicate with all its peers.</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egotiate with peers to change to new hopping sequence</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no support of co-existence in peers, original sequence is still us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96266D2-5F2B-4F1B-9072-A62BED74DEB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Original/Mapped Sequence Selection</a:t>
            </a:r>
            <a:endParaRPr b="0" lang="en-US" sz="3600" spc="-1" strike="noStrike">
              <a:solidFill>
                <a:srgbClr val="3333cc"/>
              </a:solidFill>
              <a:latin typeface="Times New Roman"/>
            </a:endParaRPr>
          </a:p>
        </p:txBody>
      </p:sp>
      <p:sp>
        <p:nvSpPr>
          <p:cNvPr id="12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esigned for backward compatibility</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lowing original sequence and mapped sequence co-existing in a pico-net.</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aster selects an appropriate sequence based on the targeting receiver(s).</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simple directory records </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eers</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802.15.2 compliance or not</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quence u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E2A7CB3-325C-4A3B-A0D5-45E36D5E505B}"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Generation</a:t>
            </a:r>
            <a:endParaRPr b="0" lang="en-US" sz="3600" spc="-1" strike="noStrike">
              <a:solidFill>
                <a:srgbClr val="3333cc"/>
              </a:solidFill>
              <a:latin typeface="Times New Roman"/>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ne table contains all possible types of sequences.</a:t>
            </a:r>
            <a:endParaRPr b="0" lang="en-US" sz="28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o reduce implementation complexity, a small set of partition sequences, containing enough sequences to optimize hit probability for any combination of interference and traffic situations, is desired.</a:t>
            </a:r>
            <a:endParaRPr b="0" lang="en-US" sz="2800" spc="-1" strike="noStrike">
              <a:solidFill>
                <a:srgbClr val="000000"/>
              </a:solidFill>
              <a:latin typeface="Arial"/>
            </a:endParaRPr>
          </a:p>
          <a:p>
            <a:pPr lvl="1" marL="720720" indent="-27720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802.15, </a:t>
            </a:r>
            <a:r>
              <a:rPr b="0" lang="en-US" sz="2400" spc="-1" strike="noStrike">
                <a:solidFill>
                  <a:srgbClr val="3333cc"/>
                </a:solidFill>
                <a:latin typeface="Arial"/>
                <a:ea typeface="新細明體"/>
              </a:rPr>
              <a:t>SCO traffic</a:t>
            </a:r>
            <a:r>
              <a:rPr b="0" lang="en-US" sz="2400" spc="-1" strike="noStrike">
                <a:solidFill>
                  <a:srgbClr val="000000"/>
                </a:solidFill>
                <a:latin typeface="Arial"/>
                <a:ea typeface="新細明體"/>
              </a:rPr>
              <a:t> has the highest priority need using partition sequences.</a:t>
            </a:r>
            <a:endParaRPr b="0" lang="en-US" sz="24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can be generalized to all co-existing environ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DD67F4A-A58A-44E5-9690-81B291E8F30A}"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raffic Requirement</a:t>
            </a:r>
            <a:endParaRPr b="0" lang="en-US" sz="3600" spc="-1" strike="noStrike">
              <a:solidFill>
                <a:srgbClr val="3333cc"/>
              </a:solidFill>
              <a:latin typeface="Times New Roman"/>
            </a:endParaRPr>
          </a:p>
        </p:txBody>
      </p:sp>
      <p:grpSp>
        <p:nvGrpSpPr>
          <p:cNvPr id="133" name=""/>
          <p:cNvGrpSpPr/>
          <p:nvPr/>
        </p:nvGrpSpPr>
        <p:grpSpPr>
          <a:xfrm>
            <a:off x="1447920" y="1676520"/>
            <a:ext cx="6324120" cy="4724280"/>
            <a:chOff x="1447920" y="1676520"/>
            <a:chExt cx="6324120" cy="4724280"/>
          </a:xfrm>
        </p:grpSpPr>
        <p:grpSp>
          <p:nvGrpSpPr>
            <p:cNvPr id="134" name=""/>
            <p:cNvGrpSpPr/>
            <p:nvPr/>
          </p:nvGrpSpPr>
          <p:grpSpPr>
            <a:xfrm>
              <a:off x="1451520" y="1678680"/>
              <a:ext cx="6315840" cy="4718880"/>
              <a:chOff x="1451520" y="1678680"/>
              <a:chExt cx="6315840" cy="4718880"/>
            </a:xfrm>
          </p:grpSpPr>
          <p:grpSp>
            <p:nvGrpSpPr>
              <p:cNvPr id="135" name=""/>
              <p:cNvGrpSpPr/>
              <p:nvPr/>
            </p:nvGrpSpPr>
            <p:grpSpPr>
              <a:xfrm>
                <a:off x="1451520" y="1678680"/>
                <a:ext cx="1216440" cy="524160"/>
                <a:chOff x="1451520" y="1678680"/>
                <a:chExt cx="1216440" cy="524160"/>
              </a:xfrm>
            </p:grpSpPr>
            <p:sp>
              <p:nvSpPr>
                <p:cNvPr id="136" name=""/>
                <p:cNvSpPr/>
                <p:nvPr/>
              </p:nvSpPr>
              <p:spPr>
                <a:xfrm>
                  <a:off x="1472040" y="167868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combin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1451520" y="167868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668320" y="1678680"/>
                <a:ext cx="2992680" cy="524160"/>
                <a:chOff x="2668320" y="1678680"/>
                <a:chExt cx="2992680" cy="524160"/>
              </a:xfrm>
            </p:grpSpPr>
            <p:sp>
              <p:nvSpPr>
                <p:cNvPr id="139" name=""/>
                <p:cNvSpPr/>
                <p:nvPr/>
              </p:nvSpPr>
              <p:spPr>
                <a:xfrm>
                  <a:off x="2688840" y="167868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luetooth traffic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2668320" y="167868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661720" y="1678680"/>
                <a:ext cx="2105640" cy="524160"/>
                <a:chOff x="5661720" y="1678680"/>
                <a:chExt cx="2105640" cy="524160"/>
              </a:xfrm>
            </p:grpSpPr>
            <p:sp>
              <p:nvSpPr>
                <p:cNvPr id="142" name=""/>
                <p:cNvSpPr/>
                <p:nvPr/>
              </p:nvSpPr>
              <p:spPr>
                <a:xfrm>
                  <a:off x="5682240" y="167868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Corresponding traffic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5661720" y="167868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451520" y="2202840"/>
                <a:ext cx="1216440" cy="524160"/>
                <a:chOff x="1451520" y="2202840"/>
                <a:chExt cx="1216440" cy="524160"/>
              </a:xfrm>
            </p:grpSpPr>
            <p:sp>
              <p:nvSpPr>
                <p:cNvPr id="145" name=""/>
                <p:cNvSpPr/>
                <p:nvPr/>
              </p:nvSpPr>
              <p:spPr>
                <a:xfrm>
                  <a:off x="1472040" y="220284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1451520" y="220284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668320" y="2202840"/>
                <a:ext cx="2992680" cy="524160"/>
                <a:chOff x="2668320" y="2202840"/>
                <a:chExt cx="2992680" cy="524160"/>
              </a:xfrm>
            </p:grpSpPr>
            <p:sp>
              <p:nvSpPr>
                <p:cNvPr id="148" name=""/>
                <p:cNvSpPr/>
                <p:nvPr/>
              </p:nvSpPr>
              <p:spPr>
                <a:xfrm>
                  <a:off x="2688840" y="220284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ne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4, Dsco=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2668320" y="220284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661720" y="2202840"/>
                <a:ext cx="2105640" cy="524160"/>
                <a:chOff x="5661720" y="2202840"/>
                <a:chExt cx="2105640" cy="524160"/>
              </a:xfrm>
            </p:grpSpPr>
            <p:sp>
              <p:nvSpPr>
                <p:cNvPr id="151" name=""/>
                <p:cNvSpPr/>
                <p:nvPr/>
              </p:nvSpPr>
              <p:spPr>
                <a:xfrm>
                  <a:off x="5682240" y="220284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2, offse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5661720" y="220284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1451520" y="2727360"/>
                <a:ext cx="1216440" cy="524160"/>
                <a:chOff x="1451520" y="2727360"/>
                <a:chExt cx="1216440" cy="524160"/>
              </a:xfrm>
            </p:grpSpPr>
            <p:sp>
              <p:nvSpPr>
                <p:cNvPr id="154" name=""/>
                <p:cNvSpPr/>
                <p:nvPr/>
              </p:nvSpPr>
              <p:spPr>
                <a:xfrm>
                  <a:off x="1472040" y="272736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1451520" y="272736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668320" y="2727360"/>
                <a:ext cx="2992680" cy="524160"/>
                <a:chOff x="2668320" y="2727360"/>
                <a:chExt cx="2992680" cy="524160"/>
              </a:xfrm>
            </p:grpSpPr>
            <p:sp>
              <p:nvSpPr>
                <p:cNvPr id="157" name=""/>
                <p:cNvSpPr/>
                <p:nvPr/>
              </p:nvSpPr>
              <p:spPr>
                <a:xfrm>
                  <a:off x="2688840" y="272736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ne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4, Dsco=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2668320" y="272736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661720" y="2727360"/>
                <a:ext cx="2105640" cy="524160"/>
                <a:chOff x="5661720" y="2727360"/>
                <a:chExt cx="2105640" cy="524160"/>
              </a:xfrm>
            </p:grpSpPr>
            <p:sp>
              <p:nvSpPr>
                <p:cNvPr id="160" name=""/>
                <p:cNvSpPr/>
                <p:nvPr/>
              </p:nvSpPr>
              <p:spPr>
                <a:xfrm>
                  <a:off x="5682240" y="272736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2, offse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5661720" y="272736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451520" y="3251520"/>
                <a:ext cx="1216440" cy="524160"/>
                <a:chOff x="1451520" y="3251520"/>
                <a:chExt cx="1216440" cy="524160"/>
              </a:xfrm>
            </p:grpSpPr>
            <p:sp>
              <p:nvSpPr>
                <p:cNvPr id="163" name=""/>
                <p:cNvSpPr/>
                <p:nvPr/>
              </p:nvSpPr>
              <p:spPr>
                <a:xfrm>
                  <a:off x="1472040" y="325152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1451520" y="325152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668320" y="3251520"/>
                <a:ext cx="2992680" cy="524160"/>
                <a:chOff x="2668320" y="3251520"/>
                <a:chExt cx="2992680" cy="524160"/>
              </a:xfrm>
            </p:grpSpPr>
            <p:sp>
              <p:nvSpPr>
                <p:cNvPr id="166" name=""/>
                <p:cNvSpPr/>
                <p:nvPr/>
              </p:nvSpPr>
              <p:spPr>
                <a:xfrm>
                  <a:off x="2688840" y="325152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ne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2668320" y="325152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5661720" y="3251520"/>
                <a:ext cx="2105640" cy="524160"/>
                <a:chOff x="5661720" y="3251520"/>
                <a:chExt cx="2105640" cy="524160"/>
              </a:xfrm>
            </p:grpSpPr>
            <p:sp>
              <p:nvSpPr>
                <p:cNvPr id="169" name=""/>
                <p:cNvSpPr/>
                <p:nvPr/>
              </p:nvSpPr>
              <p:spPr>
                <a:xfrm>
                  <a:off x="5682240" y="325152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5661720" y="325152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451520" y="3776040"/>
                <a:ext cx="1216440" cy="524160"/>
                <a:chOff x="1451520" y="3776040"/>
                <a:chExt cx="1216440" cy="524160"/>
              </a:xfrm>
            </p:grpSpPr>
            <p:sp>
              <p:nvSpPr>
                <p:cNvPr id="172" name=""/>
                <p:cNvSpPr/>
                <p:nvPr/>
              </p:nvSpPr>
              <p:spPr>
                <a:xfrm>
                  <a:off x="1472040" y="377604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451520" y="377604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668320" y="3776040"/>
                <a:ext cx="2992680" cy="524160"/>
                <a:chOff x="2668320" y="3776040"/>
                <a:chExt cx="2992680" cy="524160"/>
              </a:xfrm>
            </p:grpSpPr>
            <p:sp>
              <p:nvSpPr>
                <p:cNvPr id="175" name=""/>
                <p:cNvSpPr/>
                <p:nvPr/>
              </p:nvSpPr>
              <p:spPr>
                <a:xfrm>
                  <a:off x="2688840" y="377604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ne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668320" y="377604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661720" y="3776040"/>
                <a:ext cx="2105640" cy="524160"/>
                <a:chOff x="5661720" y="3776040"/>
                <a:chExt cx="2105640" cy="524160"/>
              </a:xfrm>
            </p:grpSpPr>
            <p:sp>
              <p:nvSpPr>
                <p:cNvPr id="178" name=""/>
                <p:cNvSpPr/>
                <p:nvPr/>
              </p:nvSpPr>
              <p:spPr>
                <a:xfrm>
                  <a:off x="5682240" y="377604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5661720" y="377604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451520" y="4300200"/>
                <a:ext cx="1216440" cy="524520"/>
                <a:chOff x="1451520" y="4300200"/>
                <a:chExt cx="1216440" cy="524520"/>
              </a:xfrm>
            </p:grpSpPr>
            <p:sp>
              <p:nvSpPr>
                <p:cNvPr id="181" name=""/>
                <p:cNvSpPr/>
                <p:nvPr/>
              </p:nvSpPr>
              <p:spPr>
                <a:xfrm>
                  <a:off x="1472040" y="4300200"/>
                  <a:ext cx="1175760" cy="52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1451520" y="4300200"/>
                  <a:ext cx="1216440" cy="52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668320" y="4300200"/>
                <a:ext cx="2992680" cy="524520"/>
                <a:chOff x="2668320" y="4300200"/>
                <a:chExt cx="2992680" cy="524520"/>
              </a:xfrm>
            </p:grpSpPr>
            <p:sp>
              <p:nvSpPr>
                <p:cNvPr id="184" name=""/>
                <p:cNvSpPr/>
                <p:nvPr/>
              </p:nvSpPr>
              <p:spPr>
                <a:xfrm>
                  <a:off x="2688840" y="4300200"/>
                  <a:ext cx="2952000" cy="52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ne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2668320" y="4300200"/>
                  <a:ext cx="2992680" cy="52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661720" y="4300200"/>
                <a:ext cx="2105640" cy="524520"/>
                <a:chOff x="5661720" y="4300200"/>
                <a:chExt cx="2105640" cy="524520"/>
              </a:xfrm>
            </p:grpSpPr>
            <p:sp>
              <p:nvSpPr>
                <p:cNvPr id="187" name=""/>
                <p:cNvSpPr/>
                <p:nvPr/>
              </p:nvSpPr>
              <p:spPr>
                <a:xfrm>
                  <a:off x="5682240" y="4300200"/>
                  <a:ext cx="2064960" cy="52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5661720" y="4300200"/>
                  <a:ext cx="2105640" cy="52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451520" y="4824720"/>
                <a:ext cx="1216440" cy="524160"/>
                <a:chOff x="1451520" y="4824720"/>
                <a:chExt cx="1216440" cy="524160"/>
              </a:xfrm>
            </p:grpSpPr>
            <p:sp>
              <p:nvSpPr>
                <p:cNvPr id="190" name=""/>
                <p:cNvSpPr/>
                <p:nvPr/>
              </p:nvSpPr>
              <p:spPr>
                <a:xfrm>
                  <a:off x="1472040" y="482472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1451520" y="482472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668320" y="4824720"/>
                <a:ext cx="2992680" cy="524160"/>
                <a:chOff x="2668320" y="4824720"/>
                <a:chExt cx="2992680" cy="524160"/>
              </a:xfrm>
            </p:grpSpPr>
            <p:sp>
              <p:nvSpPr>
                <p:cNvPr id="193" name=""/>
                <p:cNvSpPr/>
                <p:nvPr/>
              </p:nvSpPr>
              <p:spPr>
                <a:xfrm>
                  <a:off x="2688840" y="482472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wo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0,1,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2668320" y="482472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661720" y="4824720"/>
                <a:ext cx="2105640" cy="524160"/>
                <a:chOff x="5661720" y="4824720"/>
                <a:chExt cx="2105640" cy="524160"/>
              </a:xfrm>
            </p:grpSpPr>
            <p:sp>
              <p:nvSpPr>
                <p:cNvPr id="196" name=""/>
                <p:cNvSpPr/>
                <p:nvPr/>
              </p:nvSpPr>
              <p:spPr>
                <a:xfrm>
                  <a:off x="5682240" y="482472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5661720" y="482472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451520" y="5349240"/>
                <a:ext cx="1216440" cy="524160"/>
                <a:chOff x="1451520" y="5349240"/>
                <a:chExt cx="1216440" cy="524160"/>
              </a:xfrm>
            </p:grpSpPr>
            <p:sp>
              <p:nvSpPr>
                <p:cNvPr id="199" name=""/>
                <p:cNvSpPr/>
                <p:nvPr/>
              </p:nvSpPr>
              <p:spPr>
                <a:xfrm>
                  <a:off x="1472040" y="534924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1451520" y="534924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668320" y="5349240"/>
                <a:ext cx="2992680" cy="524160"/>
                <a:chOff x="2668320" y="5349240"/>
                <a:chExt cx="2992680" cy="524160"/>
              </a:xfrm>
            </p:grpSpPr>
            <p:sp>
              <p:nvSpPr>
                <p:cNvPr id="202" name=""/>
                <p:cNvSpPr/>
                <p:nvPr/>
              </p:nvSpPr>
              <p:spPr>
                <a:xfrm>
                  <a:off x="2688840" y="534924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wo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0,1,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668320" y="534924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661720" y="5349240"/>
                <a:ext cx="2105640" cy="524160"/>
                <a:chOff x="5661720" y="5349240"/>
                <a:chExt cx="2105640" cy="524160"/>
              </a:xfrm>
            </p:grpSpPr>
            <p:sp>
              <p:nvSpPr>
                <p:cNvPr id="205" name=""/>
                <p:cNvSpPr/>
                <p:nvPr/>
              </p:nvSpPr>
              <p:spPr>
                <a:xfrm>
                  <a:off x="5682240" y="534924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5661720" y="534924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451520" y="5873400"/>
                <a:ext cx="1216440" cy="524160"/>
                <a:chOff x="1451520" y="5873400"/>
                <a:chExt cx="1216440" cy="524160"/>
              </a:xfrm>
            </p:grpSpPr>
            <p:sp>
              <p:nvSpPr>
                <p:cNvPr id="208" name=""/>
                <p:cNvSpPr/>
                <p:nvPr/>
              </p:nvSpPr>
              <p:spPr>
                <a:xfrm>
                  <a:off x="1472040" y="5873400"/>
                  <a:ext cx="11757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1451520" y="5873400"/>
                  <a:ext cx="12164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2668320" y="5873400"/>
                <a:ext cx="2992680" cy="524160"/>
                <a:chOff x="2668320" y="5873400"/>
                <a:chExt cx="2992680" cy="524160"/>
              </a:xfrm>
            </p:grpSpPr>
            <p:sp>
              <p:nvSpPr>
                <p:cNvPr id="211" name=""/>
                <p:cNvSpPr/>
                <p:nvPr/>
              </p:nvSpPr>
              <p:spPr>
                <a:xfrm>
                  <a:off x="2688840" y="5873400"/>
                  <a:ext cx="29520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wo full-duplex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co=6, Dsco=2,3,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2668320" y="5873400"/>
                  <a:ext cx="299268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661720" y="5873400"/>
                <a:ext cx="2105640" cy="524160"/>
                <a:chOff x="5661720" y="5873400"/>
                <a:chExt cx="2105640" cy="524160"/>
              </a:xfrm>
            </p:grpSpPr>
            <p:sp>
              <p:nvSpPr>
                <p:cNvPr id="214" name=""/>
                <p:cNvSpPr/>
                <p:nvPr/>
              </p:nvSpPr>
              <p:spPr>
                <a:xfrm>
                  <a:off x="5682240" y="5873400"/>
                  <a:ext cx="206496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step=3, offse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5661720" y="5873400"/>
                  <a:ext cx="2105640" cy="52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 name=""/>
            <p:cNvSpPr/>
            <p:nvPr/>
          </p:nvSpPr>
          <p:spPr>
            <a:xfrm>
              <a:off x="1447920" y="1676520"/>
              <a:ext cx="6324120" cy="47242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04A03A6-0B78-4DA9-8E85-9D279F6D40BD}"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Partition Usage Vector</a:t>
            </a:r>
            <a:endParaRPr b="0" lang="en-US" sz="3600" spc="-1" strike="noStrike">
              <a:solidFill>
                <a:srgbClr val="3333cc"/>
              </a:solidFill>
              <a:latin typeface="Times New Roman"/>
            </a:endParaRPr>
          </a:p>
        </p:txBody>
      </p:sp>
      <mc:AlternateContent>
        <mc:Choice xmlns:a14="http://schemas.microsoft.com/office/drawing/2010/main" Requires="a14">
          <p:sp>
            <p:nvSpPr>
              <p:cNvPr id="218" name=""/>
              <p:cNvSpPr txBox="1"/>
              <p:nvPr/>
            </p:nvSpPr>
            <p:spPr>
              <a:xfrm>
                <a:off x="5029200" y="2371680"/>
                <a:ext cx="152280" cy="21924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219" name=""/>
              <p:cNvSpPr txBox="1"/>
              <p:nvPr/>
            </p:nvSpPr>
            <p:spPr>
              <a:xfrm>
                <a:off x="6067440" y="2362320"/>
                <a:ext cx="181080" cy="21888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220" name=""/>
              <p:cNvSpPr txBox="1"/>
              <p:nvPr/>
            </p:nvSpPr>
            <p:spPr>
              <a:xfrm>
                <a:off x="7086600" y="2362320"/>
                <a:ext cx="162000" cy="22860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p:grpSp>
        <p:nvGrpSpPr>
          <p:cNvPr id="221" name=""/>
          <p:cNvGrpSpPr/>
          <p:nvPr/>
        </p:nvGrpSpPr>
        <p:grpSpPr>
          <a:xfrm>
            <a:off x="1600200" y="2057400"/>
            <a:ext cx="6095160" cy="4343400"/>
            <a:chOff x="1600200" y="2057400"/>
            <a:chExt cx="6095160" cy="4343400"/>
          </a:xfrm>
        </p:grpSpPr>
        <p:grpSp>
          <p:nvGrpSpPr>
            <p:cNvPr id="222" name=""/>
            <p:cNvGrpSpPr/>
            <p:nvPr/>
          </p:nvGrpSpPr>
          <p:grpSpPr>
            <a:xfrm>
              <a:off x="1607040" y="2059200"/>
              <a:ext cx="6080040" cy="4339080"/>
              <a:chOff x="1607040" y="2059200"/>
              <a:chExt cx="6080040" cy="4339080"/>
            </a:xfrm>
          </p:grpSpPr>
          <p:grpSp>
            <p:nvGrpSpPr>
              <p:cNvPr id="223" name=""/>
              <p:cNvGrpSpPr/>
              <p:nvPr/>
            </p:nvGrpSpPr>
            <p:grpSpPr>
              <a:xfrm>
                <a:off x="1607040" y="2059200"/>
                <a:ext cx="1024200" cy="890640"/>
                <a:chOff x="1607040" y="2059200"/>
                <a:chExt cx="1024200" cy="890640"/>
              </a:xfrm>
            </p:grpSpPr>
            <p:sp>
              <p:nvSpPr>
                <p:cNvPr id="224" name=""/>
                <p:cNvSpPr/>
                <p:nvPr/>
              </p:nvSpPr>
              <p:spPr>
                <a:xfrm>
                  <a:off x="1644480" y="2059200"/>
                  <a:ext cx="950040" cy="89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ffic combin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5" name=""/>
                <p:cNvSpPr/>
                <p:nvPr/>
              </p:nvSpPr>
              <p:spPr>
                <a:xfrm>
                  <a:off x="1607040" y="2059200"/>
                  <a:ext cx="1024200" cy="89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631960" y="2059200"/>
                <a:ext cx="1958400" cy="890640"/>
                <a:chOff x="2631960" y="2059200"/>
                <a:chExt cx="1958400" cy="890640"/>
              </a:xfrm>
            </p:grpSpPr>
            <p:sp>
              <p:nvSpPr>
                <p:cNvPr id="227" name=""/>
                <p:cNvSpPr/>
                <p:nvPr/>
              </p:nvSpPr>
              <p:spPr>
                <a:xfrm>
                  <a:off x="2669400" y="2059200"/>
                  <a:ext cx="1884240" cy="89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rresponding traffic paramet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
                <p:cNvSpPr/>
                <p:nvPr/>
              </p:nvSpPr>
              <p:spPr>
                <a:xfrm>
                  <a:off x="2631960" y="2059200"/>
                  <a:ext cx="1958400" cy="89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591440" y="2059200"/>
                <a:ext cx="1031400" cy="890640"/>
                <a:chOff x="4591440" y="2059200"/>
                <a:chExt cx="1031400" cy="890640"/>
              </a:xfrm>
            </p:grpSpPr>
            <p:sp>
              <p:nvSpPr>
                <p:cNvPr id="230" name=""/>
                <p:cNvSpPr/>
                <p:nvPr/>
              </p:nvSpPr>
              <p:spPr>
                <a:xfrm>
                  <a:off x="4628880" y="2059200"/>
                  <a:ext cx="957240" cy="890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1" name=""/>
                <p:cNvSpPr/>
                <p:nvPr/>
              </p:nvSpPr>
              <p:spPr>
                <a:xfrm>
                  <a:off x="4591440" y="2059200"/>
                  <a:ext cx="1031400" cy="89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623560" y="2059200"/>
                <a:ext cx="1031400" cy="890640"/>
                <a:chOff x="5623560" y="2059200"/>
                <a:chExt cx="1031400" cy="890640"/>
              </a:xfrm>
            </p:grpSpPr>
            <p:sp>
              <p:nvSpPr>
                <p:cNvPr id="233" name=""/>
                <p:cNvSpPr/>
                <p:nvPr/>
              </p:nvSpPr>
              <p:spPr>
                <a:xfrm>
                  <a:off x="5661000" y="2059200"/>
                  <a:ext cx="957240" cy="890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5623560" y="2059200"/>
                  <a:ext cx="1031400" cy="89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655680" y="2059200"/>
                <a:ext cx="1031400" cy="890640"/>
                <a:chOff x="6655680" y="2059200"/>
                <a:chExt cx="1031400" cy="890640"/>
              </a:xfrm>
            </p:grpSpPr>
            <p:sp>
              <p:nvSpPr>
                <p:cNvPr id="236" name=""/>
                <p:cNvSpPr/>
                <p:nvPr/>
              </p:nvSpPr>
              <p:spPr>
                <a:xfrm>
                  <a:off x="6693120" y="2059200"/>
                  <a:ext cx="957240" cy="890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7" name=""/>
                <p:cNvSpPr/>
                <p:nvPr/>
              </p:nvSpPr>
              <p:spPr>
                <a:xfrm>
                  <a:off x="6655680" y="2059200"/>
                  <a:ext cx="1031400" cy="89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1607040" y="2949840"/>
                <a:ext cx="1024200" cy="415800"/>
                <a:chOff x="1607040" y="2949840"/>
                <a:chExt cx="1024200" cy="415800"/>
              </a:xfrm>
            </p:grpSpPr>
            <p:sp>
              <p:nvSpPr>
                <p:cNvPr id="239" name=""/>
                <p:cNvSpPr/>
                <p:nvPr/>
              </p:nvSpPr>
              <p:spPr>
                <a:xfrm>
                  <a:off x="1644480" y="2949840"/>
                  <a:ext cx="9500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
                <p:cNvSpPr/>
                <p:nvPr/>
              </p:nvSpPr>
              <p:spPr>
                <a:xfrm>
                  <a:off x="1607040" y="2949840"/>
                  <a:ext cx="10242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31960" y="2949840"/>
                <a:ext cx="1958400" cy="415800"/>
                <a:chOff x="2631960" y="2949840"/>
                <a:chExt cx="1958400" cy="415800"/>
              </a:xfrm>
            </p:grpSpPr>
            <p:sp>
              <p:nvSpPr>
                <p:cNvPr id="242" name=""/>
                <p:cNvSpPr/>
                <p:nvPr/>
              </p:nvSpPr>
              <p:spPr>
                <a:xfrm>
                  <a:off x="2669400" y="2949840"/>
                  <a:ext cx="188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2, offse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
                <p:cNvSpPr/>
                <p:nvPr/>
              </p:nvSpPr>
              <p:spPr>
                <a:xfrm>
                  <a:off x="2631960" y="2949840"/>
                  <a:ext cx="1958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4591440" y="2949840"/>
                <a:ext cx="1031400" cy="415800"/>
                <a:chOff x="4591440" y="2949840"/>
                <a:chExt cx="1031400" cy="415800"/>
              </a:xfrm>
            </p:grpSpPr>
            <p:sp>
              <p:nvSpPr>
                <p:cNvPr id="245" name=""/>
                <p:cNvSpPr/>
                <p:nvPr/>
              </p:nvSpPr>
              <p:spPr>
                <a:xfrm>
                  <a:off x="4628880" y="294984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6" name=""/>
                <p:cNvSpPr/>
                <p:nvPr/>
              </p:nvSpPr>
              <p:spPr>
                <a:xfrm>
                  <a:off x="4591440" y="294984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623560" y="2949840"/>
                <a:ext cx="1031400" cy="415800"/>
                <a:chOff x="5623560" y="2949840"/>
                <a:chExt cx="1031400" cy="415800"/>
              </a:xfrm>
            </p:grpSpPr>
            <p:sp>
              <p:nvSpPr>
                <p:cNvPr id="248" name=""/>
                <p:cNvSpPr/>
                <p:nvPr/>
              </p:nvSpPr>
              <p:spPr>
                <a:xfrm>
                  <a:off x="5661000" y="294984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9" name=""/>
                <p:cNvSpPr/>
                <p:nvPr/>
              </p:nvSpPr>
              <p:spPr>
                <a:xfrm>
                  <a:off x="5623560" y="294984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6655680" y="2949840"/>
                <a:ext cx="1031400" cy="415800"/>
                <a:chOff x="6655680" y="2949840"/>
                <a:chExt cx="1031400" cy="415800"/>
              </a:xfrm>
            </p:grpSpPr>
            <p:sp>
              <p:nvSpPr>
                <p:cNvPr id="251" name=""/>
                <p:cNvSpPr/>
                <p:nvPr/>
              </p:nvSpPr>
              <p:spPr>
                <a:xfrm>
                  <a:off x="6693120" y="294984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2" name=""/>
                <p:cNvSpPr/>
                <p:nvPr/>
              </p:nvSpPr>
              <p:spPr>
                <a:xfrm>
                  <a:off x="6655680" y="294984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1607040" y="3366000"/>
                <a:ext cx="1024200" cy="415800"/>
                <a:chOff x="1607040" y="3366000"/>
                <a:chExt cx="1024200" cy="415800"/>
              </a:xfrm>
            </p:grpSpPr>
            <p:sp>
              <p:nvSpPr>
                <p:cNvPr id="254" name=""/>
                <p:cNvSpPr/>
                <p:nvPr/>
              </p:nvSpPr>
              <p:spPr>
                <a:xfrm>
                  <a:off x="1644480" y="3366000"/>
                  <a:ext cx="9500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5" name=""/>
                <p:cNvSpPr/>
                <p:nvPr/>
              </p:nvSpPr>
              <p:spPr>
                <a:xfrm>
                  <a:off x="1607040" y="3366000"/>
                  <a:ext cx="10242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631960" y="3366000"/>
                <a:ext cx="1958400" cy="415800"/>
                <a:chOff x="2631960" y="3366000"/>
                <a:chExt cx="1958400" cy="415800"/>
              </a:xfrm>
            </p:grpSpPr>
            <p:sp>
              <p:nvSpPr>
                <p:cNvPr id="257" name=""/>
                <p:cNvSpPr/>
                <p:nvPr/>
              </p:nvSpPr>
              <p:spPr>
                <a:xfrm>
                  <a:off x="2669400" y="3366000"/>
                  <a:ext cx="188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2, offse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
                <p:cNvSpPr/>
                <p:nvPr/>
              </p:nvSpPr>
              <p:spPr>
                <a:xfrm>
                  <a:off x="2631960" y="3366000"/>
                  <a:ext cx="1958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591440" y="3366000"/>
                <a:ext cx="1031400" cy="415800"/>
                <a:chOff x="4591440" y="3366000"/>
                <a:chExt cx="1031400" cy="415800"/>
              </a:xfrm>
            </p:grpSpPr>
            <p:sp>
              <p:nvSpPr>
                <p:cNvPr id="260" name=""/>
                <p:cNvSpPr/>
                <p:nvPr/>
              </p:nvSpPr>
              <p:spPr>
                <a:xfrm>
                  <a:off x="4628880" y="33660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
                <p:cNvSpPr/>
                <p:nvPr/>
              </p:nvSpPr>
              <p:spPr>
                <a:xfrm>
                  <a:off x="4591440" y="33660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5623560" y="3366000"/>
                <a:ext cx="1031400" cy="415800"/>
                <a:chOff x="5623560" y="3366000"/>
                <a:chExt cx="1031400" cy="415800"/>
              </a:xfrm>
            </p:grpSpPr>
            <p:sp>
              <p:nvSpPr>
                <p:cNvPr id="263" name=""/>
                <p:cNvSpPr/>
                <p:nvPr/>
              </p:nvSpPr>
              <p:spPr>
                <a:xfrm>
                  <a:off x="5661000" y="33660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4" name=""/>
                <p:cNvSpPr/>
                <p:nvPr/>
              </p:nvSpPr>
              <p:spPr>
                <a:xfrm>
                  <a:off x="5623560" y="33660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655680" y="3366000"/>
                <a:ext cx="1031400" cy="415800"/>
                <a:chOff x="6655680" y="3366000"/>
                <a:chExt cx="1031400" cy="415800"/>
              </a:xfrm>
            </p:grpSpPr>
            <p:sp>
              <p:nvSpPr>
                <p:cNvPr id="266" name=""/>
                <p:cNvSpPr/>
                <p:nvPr/>
              </p:nvSpPr>
              <p:spPr>
                <a:xfrm>
                  <a:off x="6693120" y="33660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
                <p:cNvSpPr/>
                <p:nvPr/>
              </p:nvSpPr>
              <p:spPr>
                <a:xfrm>
                  <a:off x="6655680" y="33660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1607040" y="3781800"/>
                <a:ext cx="1024200" cy="415800"/>
                <a:chOff x="1607040" y="3781800"/>
                <a:chExt cx="1024200" cy="415800"/>
              </a:xfrm>
            </p:grpSpPr>
            <p:sp>
              <p:nvSpPr>
                <p:cNvPr id="269" name=""/>
                <p:cNvSpPr/>
                <p:nvPr/>
              </p:nvSpPr>
              <p:spPr>
                <a:xfrm>
                  <a:off x="1644480" y="3781800"/>
                  <a:ext cx="9500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0" name=""/>
                <p:cNvSpPr/>
                <p:nvPr/>
              </p:nvSpPr>
              <p:spPr>
                <a:xfrm>
                  <a:off x="1607040" y="3781800"/>
                  <a:ext cx="10242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2631960" y="3781800"/>
                <a:ext cx="1958400" cy="415800"/>
                <a:chOff x="2631960" y="3781800"/>
                <a:chExt cx="1958400" cy="415800"/>
              </a:xfrm>
            </p:grpSpPr>
            <p:sp>
              <p:nvSpPr>
                <p:cNvPr id="272" name=""/>
                <p:cNvSpPr/>
                <p:nvPr/>
              </p:nvSpPr>
              <p:spPr>
                <a:xfrm>
                  <a:off x="2669400" y="3781800"/>
                  <a:ext cx="188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3" name=""/>
                <p:cNvSpPr/>
                <p:nvPr/>
              </p:nvSpPr>
              <p:spPr>
                <a:xfrm>
                  <a:off x="2631960" y="3781800"/>
                  <a:ext cx="1958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4591440" y="3781800"/>
                <a:ext cx="1031400" cy="415800"/>
                <a:chOff x="4591440" y="3781800"/>
                <a:chExt cx="1031400" cy="415800"/>
              </a:xfrm>
            </p:grpSpPr>
            <p:sp>
              <p:nvSpPr>
                <p:cNvPr id="275" name=""/>
                <p:cNvSpPr/>
                <p:nvPr/>
              </p:nvSpPr>
              <p:spPr>
                <a:xfrm>
                  <a:off x="4628880" y="37818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4591440" y="37818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5623560" y="3781800"/>
                <a:ext cx="1031400" cy="415800"/>
                <a:chOff x="5623560" y="3781800"/>
                <a:chExt cx="1031400" cy="415800"/>
              </a:xfrm>
            </p:grpSpPr>
            <p:sp>
              <p:nvSpPr>
                <p:cNvPr id="278" name=""/>
                <p:cNvSpPr/>
                <p:nvPr/>
              </p:nvSpPr>
              <p:spPr>
                <a:xfrm>
                  <a:off x="5661000" y="37818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9" name=""/>
                <p:cNvSpPr/>
                <p:nvPr/>
              </p:nvSpPr>
              <p:spPr>
                <a:xfrm>
                  <a:off x="5623560" y="37818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655680" y="3781800"/>
                <a:ext cx="1031400" cy="415800"/>
                <a:chOff x="6655680" y="3781800"/>
                <a:chExt cx="1031400" cy="415800"/>
              </a:xfrm>
            </p:grpSpPr>
            <p:sp>
              <p:nvSpPr>
                <p:cNvPr id="281" name=""/>
                <p:cNvSpPr/>
                <p:nvPr/>
              </p:nvSpPr>
              <p:spPr>
                <a:xfrm>
                  <a:off x="6693120" y="37818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2" name=""/>
                <p:cNvSpPr/>
                <p:nvPr/>
              </p:nvSpPr>
              <p:spPr>
                <a:xfrm>
                  <a:off x="6655680" y="37818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1607040" y="4197600"/>
                <a:ext cx="1024200" cy="415800"/>
                <a:chOff x="1607040" y="4197600"/>
                <a:chExt cx="1024200" cy="415800"/>
              </a:xfrm>
            </p:grpSpPr>
            <p:sp>
              <p:nvSpPr>
                <p:cNvPr id="284" name=""/>
                <p:cNvSpPr/>
                <p:nvPr/>
              </p:nvSpPr>
              <p:spPr>
                <a:xfrm>
                  <a:off x="1644480" y="4197600"/>
                  <a:ext cx="9500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5" name=""/>
                <p:cNvSpPr/>
                <p:nvPr/>
              </p:nvSpPr>
              <p:spPr>
                <a:xfrm>
                  <a:off x="1607040" y="4197600"/>
                  <a:ext cx="10242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631960" y="4197600"/>
                <a:ext cx="1958400" cy="415800"/>
                <a:chOff x="2631960" y="4197600"/>
                <a:chExt cx="1958400" cy="415800"/>
              </a:xfrm>
            </p:grpSpPr>
            <p:sp>
              <p:nvSpPr>
                <p:cNvPr id="287" name=""/>
                <p:cNvSpPr/>
                <p:nvPr/>
              </p:nvSpPr>
              <p:spPr>
                <a:xfrm>
                  <a:off x="2669400" y="4197600"/>
                  <a:ext cx="188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8" name=""/>
                <p:cNvSpPr/>
                <p:nvPr/>
              </p:nvSpPr>
              <p:spPr>
                <a:xfrm>
                  <a:off x="2631960" y="4197600"/>
                  <a:ext cx="1958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591440" y="4197600"/>
                <a:ext cx="1031400" cy="415800"/>
                <a:chOff x="4591440" y="4197600"/>
                <a:chExt cx="1031400" cy="415800"/>
              </a:xfrm>
            </p:grpSpPr>
            <p:sp>
              <p:nvSpPr>
                <p:cNvPr id="290" name=""/>
                <p:cNvSpPr/>
                <p:nvPr/>
              </p:nvSpPr>
              <p:spPr>
                <a:xfrm>
                  <a:off x="4628880" y="41976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591440" y="41976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5623560" y="4197600"/>
                <a:ext cx="1031400" cy="415800"/>
                <a:chOff x="5623560" y="4197600"/>
                <a:chExt cx="1031400" cy="415800"/>
              </a:xfrm>
            </p:grpSpPr>
            <p:sp>
              <p:nvSpPr>
                <p:cNvPr id="293" name=""/>
                <p:cNvSpPr/>
                <p:nvPr/>
              </p:nvSpPr>
              <p:spPr>
                <a:xfrm>
                  <a:off x="5661000" y="41976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4" name=""/>
                <p:cNvSpPr/>
                <p:nvPr/>
              </p:nvSpPr>
              <p:spPr>
                <a:xfrm>
                  <a:off x="5623560" y="41976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6655680" y="4197600"/>
                <a:ext cx="1031400" cy="415800"/>
                <a:chOff x="6655680" y="4197600"/>
                <a:chExt cx="1031400" cy="415800"/>
              </a:xfrm>
            </p:grpSpPr>
            <p:sp>
              <p:nvSpPr>
                <p:cNvPr id="296" name=""/>
                <p:cNvSpPr/>
                <p:nvPr/>
              </p:nvSpPr>
              <p:spPr>
                <a:xfrm>
                  <a:off x="6693120" y="419760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6655680" y="419760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1607040" y="4613760"/>
                <a:ext cx="1024200" cy="415800"/>
                <a:chOff x="1607040" y="4613760"/>
                <a:chExt cx="1024200" cy="415800"/>
              </a:xfrm>
            </p:grpSpPr>
            <p:sp>
              <p:nvSpPr>
                <p:cNvPr id="299" name=""/>
                <p:cNvSpPr/>
                <p:nvPr/>
              </p:nvSpPr>
              <p:spPr>
                <a:xfrm>
                  <a:off x="1644480" y="4613760"/>
                  <a:ext cx="9500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1607040" y="4613760"/>
                  <a:ext cx="10242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631960" y="4613760"/>
                <a:ext cx="1958400" cy="415800"/>
                <a:chOff x="2631960" y="4613760"/>
                <a:chExt cx="1958400" cy="415800"/>
              </a:xfrm>
            </p:grpSpPr>
            <p:sp>
              <p:nvSpPr>
                <p:cNvPr id="302" name=""/>
                <p:cNvSpPr/>
                <p:nvPr/>
              </p:nvSpPr>
              <p:spPr>
                <a:xfrm>
                  <a:off x="2669400" y="4613760"/>
                  <a:ext cx="188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3" name=""/>
                <p:cNvSpPr/>
                <p:nvPr/>
              </p:nvSpPr>
              <p:spPr>
                <a:xfrm>
                  <a:off x="2631960" y="4613760"/>
                  <a:ext cx="1958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4591440" y="4613760"/>
                <a:ext cx="1031400" cy="415800"/>
                <a:chOff x="4591440" y="4613760"/>
                <a:chExt cx="1031400" cy="415800"/>
              </a:xfrm>
            </p:grpSpPr>
            <p:sp>
              <p:nvSpPr>
                <p:cNvPr id="305" name=""/>
                <p:cNvSpPr/>
                <p:nvPr/>
              </p:nvSpPr>
              <p:spPr>
                <a:xfrm>
                  <a:off x="4628880" y="461376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a:off x="4591440" y="461376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623560" y="4613760"/>
                <a:ext cx="1031400" cy="415800"/>
                <a:chOff x="5623560" y="4613760"/>
                <a:chExt cx="1031400" cy="415800"/>
              </a:xfrm>
            </p:grpSpPr>
            <p:sp>
              <p:nvSpPr>
                <p:cNvPr id="308" name=""/>
                <p:cNvSpPr/>
                <p:nvPr/>
              </p:nvSpPr>
              <p:spPr>
                <a:xfrm>
                  <a:off x="5661000" y="461376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5623560" y="461376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6655680" y="4613760"/>
                <a:ext cx="1031400" cy="415800"/>
                <a:chOff x="6655680" y="4613760"/>
                <a:chExt cx="1031400" cy="415800"/>
              </a:xfrm>
            </p:grpSpPr>
            <p:sp>
              <p:nvSpPr>
                <p:cNvPr id="311" name=""/>
                <p:cNvSpPr/>
                <p:nvPr/>
              </p:nvSpPr>
              <p:spPr>
                <a:xfrm>
                  <a:off x="6693120" y="4613760"/>
                  <a:ext cx="957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
                <p:cNvSpPr/>
                <p:nvPr/>
              </p:nvSpPr>
              <p:spPr>
                <a:xfrm>
                  <a:off x="6655680" y="4613760"/>
                  <a:ext cx="1031400" cy="41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1607040" y="5029560"/>
                <a:ext cx="1024200" cy="456120"/>
                <a:chOff x="1607040" y="5029560"/>
                <a:chExt cx="1024200" cy="456120"/>
              </a:xfrm>
            </p:grpSpPr>
            <p:sp>
              <p:nvSpPr>
                <p:cNvPr id="314" name=""/>
                <p:cNvSpPr/>
                <p:nvPr/>
              </p:nvSpPr>
              <p:spPr>
                <a:xfrm>
                  <a:off x="1644480" y="5029560"/>
                  <a:ext cx="9500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5" name=""/>
                <p:cNvSpPr/>
                <p:nvPr/>
              </p:nvSpPr>
              <p:spPr>
                <a:xfrm>
                  <a:off x="1607040" y="5029560"/>
                  <a:ext cx="10242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631960" y="5029560"/>
                <a:ext cx="1958400" cy="456120"/>
                <a:chOff x="2631960" y="5029560"/>
                <a:chExt cx="1958400" cy="456120"/>
              </a:xfrm>
            </p:grpSpPr>
            <p:sp>
              <p:nvSpPr>
                <p:cNvPr id="317" name=""/>
                <p:cNvSpPr/>
                <p:nvPr/>
              </p:nvSpPr>
              <p:spPr>
                <a:xfrm>
                  <a:off x="2669400" y="5029560"/>
                  <a:ext cx="18842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8" name=""/>
                <p:cNvSpPr/>
                <p:nvPr/>
              </p:nvSpPr>
              <p:spPr>
                <a:xfrm>
                  <a:off x="2631960" y="5029560"/>
                  <a:ext cx="1958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4591440" y="5029560"/>
                <a:ext cx="1031400" cy="456120"/>
                <a:chOff x="4591440" y="5029560"/>
                <a:chExt cx="1031400" cy="456120"/>
              </a:xfrm>
            </p:grpSpPr>
            <p:sp>
              <p:nvSpPr>
                <p:cNvPr id="320" name=""/>
                <p:cNvSpPr/>
                <p:nvPr/>
              </p:nvSpPr>
              <p:spPr>
                <a:xfrm>
                  <a:off x="4628880" y="50295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4591440" y="50295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5623560" y="5029560"/>
                <a:ext cx="1031400" cy="456120"/>
                <a:chOff x="5623560" y="5029560"/>
                <a:chExt cx="1031400" cy="456120"/>
              </a:xfrm>
            </p:grpSpPr>
            <p:sp>
              <p:nvSpPr>
                <p:cNvPr id="323" name=""/>
                <p:cNvSpPr/>
                <p:nvPr/>
              </p:nvSpPr>
              <p:spPr>
                <a:xfrm>
                  <a:off x="5661000" y="50295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4" name=""/>
                <p:cNvSpPr/>
                <p:nvPr/>
              </p:nvSpPr>
              <p:spPr>
                <a:xfrm>
                  <a:off x="5623560" y="50295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6655680" y="5029560"/>
                <a:ext cx="1031400" cy="456120"/>
                <a:chOff x="6655680" y="5029560"/>
                <a:chExt cx="1031400" cy="456120"/>
              </a:xfrm>
            </p:grpSpPr>
            <p:sp>
              <p:nvSpPr>
                <p:cNvPr id="326" name=""/>
                <p:cNvSpPr/>
                <p:nvPr/>
              </p:nvSpPr>
              <p:spPr>
                <a:xfrm>
                  <a:off x="6693120" y="50295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7" name=""/>
                <p:cNvSpPr/>
                <p:nvPr/>
              </p:nvSpPr>
              <p:spPr>
                <a:xfrm>
                  <a:off x="6655680" y="50295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1607040" y="5485680"/>
                <a:ext cx="1024200" cy="456120"/>
                <a:chOff x="1607040" y="5485680"/>
                <a:chExt cx="1024200" cy="456120"/>
              </a:xfrm>
            </p:grpSpPr>
            <p:sp>
              <p:nvSpPr>
                <p:cNvPr id="329" name=""/>
                <p:cNvSpPr/>
                <p:nvPr/>
              </p:nvSpPr>
              <p:spPr>
                <a:xfrm>
                  <a:off x="1644480" y="5485680"/>
                  <a:ext cx="9500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1607040" y="5485680"/>
                  <a:ext cx="10242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631960" y="5485680"/>
                <a:ext cx="1958400" cy="456120"/>
                <a:chOff x="2631960" y="5485680"/>
                <a:chExt cx="1958400" cy="456120"/>
              </a:xfrm>
            </p:grpSpPr>
            <p:sp>
              <p:nvSpPr>
                <p:cNvPr id="332" name=""/>
                <p:cNvSpPr/>
                <p:nvPr/>
              </p:nvSpPr>
              <p:spPr>
                <a:xfrm>
                  <a:off x="2669400" y="5485680"/>
                  <a:ext cx="18842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631960" y="5485680"/>
                  <a:ext cx="1958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4591440" y="5485680"/>
                <a:ext cx="1031400" cy="456120"/>
                <a:chOff x="4591440" y="5485680"/>
                <a:chExt cx="1031400" cy="456120"/>
              </a:xfrm>
            </p:grpSpPr>
            <p:sp>
              <p:nvSpPr>
                <p:cNvPr id="335" name=""/>
                <p:cNvSpPr/>
                <p:nvPr/>
              </p:nvSpPr>
              <p:spPr>
                <a:xfrm>
                  <a:off x="4628880" y="548568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4591440" y="548568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5623560" y="5485680"/>
                <a:ext cx="1031400" cy="456120"/>
                <a:chOff x="5623560" y="5485680"/>
                <a:chExt cx="1031400" cy="456120"/>
              </a:xfrm>
            </p:grpSpPr>
            <p:sp>
              <p:nvSpPr>
                <p:cNvPr id="338" name=""/>
                <p:cNvSpPr/>
                <p:nvPr/>
              </p:nvSpPr>
              <p:spPr>
                <a:xfrm>
                  <a:off x="5661000" y="548568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5623560" y="548568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655680" y="5485680"/>
                <a:ext cx="1031400" cy="456120"/>
                <a:chOff x="6655680" y="5485680"/>
                <a:chExt cx="1031400" cy="456120"/>
              </a:xfrm>
            </p:grpSpPr>
            <p:sp>
              <p:nvSpPr>
                <p:cNvPr id="341" name=""/>
                <p:cNvSpPr/>
                <p:nvPr/>
              </p:nvSpPr>
              <p:spPr>
                <a:xfrm>
                  <a:off x="6693120" y="548568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6655680" y="548568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1607040" y="5942160"/>
                <a:ext cx="1024200" cy="456120"/>
                <a:chOff x="1607040" y="5942160"/>
                <a:chExt cx="1024200" cy="456120"/>
              </a:xfrm>
            </p:grpSpPr>
            <p:sp>
              <p:nvSpPr>
                <p:cNvPr id="344" name=""/>
                <p:cNvSpPr/>
                <p:nvPr/>
              </p:nvSpPr>
              <p:spPr>
                <a:xfrm>
                  <a:off x="1644480" y="5942160"/>
                  <a:ext cx="9500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1607040" y="5942160"/>
                  <a:ext cx="10242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631960" y="5942160"/>
                <a:ext cx="1958400" cy="456120"/>
                <a:chOff x="2631960" y="5942160"/>
                <a:chExt cx="1958400" cy="456120"/>
              </a:xfrm>
            </p:grpSpPr>
            <p:sp>
              <p:nvSpPr>
                <p:cNvPr id="347" name=""/>
                <p:cNvSpPr/>
                <p:nvPr/>
              </p:nvSpPr>
              <p:spPr>
                <a:xfrm>
                  <a:off x="2669400" y="5942160"/>
                  <a:ext cx="1884240" cy="45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step=3, offset=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2631960" y="5942160"/>
                  <a:ext cx="1958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591440" y="5942160"/>
                <a:ext cx="1031400" cy="456120"/>
                <a:chOff x="4591440" y="5942160"/>
                <a:chExt cx="1031400" cy="456120"/>
              </a:xfrm>
            </p:grpSpPr>
            <p:sp>
              <p:nvSpPr>
                <p:cNvPr id="350" name=""/>
                <p:cNvSpPr/>
                <p:nvPr/>
              </p:nvSpPr>
              <p:spPr>
                <a:xfrm>
                  <a:off x="4628880" y="59421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4591440" y="59421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23560" y="5942160"/>
                <a:ext cx="1031400" cy="456120"/>
                <a:chOff x="5623560" y="5942160"/>
                <a:chExt cx="1031400" cy="456120"/>
              </a:xfrm>
            </p:grpSpPr>
            <p:sp>
              <p:nvSpPr>
                <p:cNvPr id="353" name=""/>
                <p:cNvSpPr/>
                <p:nvPr/>
              </p:nvSpPr>
              <p:spPr>
                <a:xfrm>
                  <a:off x="5661000" y="59421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5623560" y="59421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655680" y="5942160"/>
                <a:ext cx="1031400" cy="456120"/>
                <a:chOff x="6655680" y="5942160"/>
                <a:chExt cx="1031400" cy="456120"/>
              </a:xfrm>
            </p:grpSpPr>
            <p:sp>
              <p:nvSpPr>
                <p:cNvPr id="356" name=""/>
                <p:cNvSpPr/>
                <p:nvPr/>
              </p:nvSpPr>
              <p:spPr>
                <a:xfrm>
                  <a:off x="6693120" y="5942160"/>
                  <a:ext cx="957240" cy="45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655680" y="5942160"/>
                  <a:ext cx="1031400" cy="45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1600200" y="2057400"/>
              <a:ext cx="6095160" cy="43434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768775-3AA9-42BE-972C-AC9BFB5AB899}"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Mapping</a:t>
            </a:r>
            <a:endParaRPr b="0" lang="en-US" sz="3600" spc="-1" strike="noStrike">
              <a:solidFill>
                <a:srgbClr val="3333cc"/>
              </a:solidFill>
              <a:latin typeface="Times New Roman"/>
            </a:endParaRPr>
          </a:p>
        </p:txBody>
      </p:sp>
      <p:sp>
        <p:nvSpPr>
          <p:cNvPr id="360" name=""/>
          <p:cNvSpPr/>
          <p:nvPr/>
        </p:nvSpPr>
        <p:spPr>
          <a:xfrm>
            <a:off x="2895480" y="3289320"/>
            <a:ext cx="9144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od 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1" name=""/>
          <p:cNvSpPr/>
          <p:nvPr/>
        </p:nvSpPr>
        <p:spPr>
          <a:xfrm>
            <a:off x="4324320" y="2765520"/>
            <a:ext cx="628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2" name=""/>
          <p:cNvSpPr/>
          <p:nvPr/>
        </p:nvSpPr>
        <p:spPr>
          <a:xfrm>
            <a:off x="4552920" y="2595600"/>
            <a:ext cx="70488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3" name=""/>
          <p:cNvSpPr/>
          <p:nvPr/>
        </p:nvSpPr>
        <p:spPr>
          <a:xfrm>
            <a:off x="4713120" y="2433600"/>
            <a:ext cx="925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pping table of 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4" name=""/>
          <p:cNvSpPr/>
          <p:nvPr/>
        </p:nvSpPr>
        <p:spPr>
          <a:xfrm flipV="1">
            <a:off x="3952800" y="480528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409920" y="4795920"/>
            <a:ext cx="11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4581360" y="455616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3419640" y="435600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514600" y="4005360"/>
            <a:ext cx="16002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438360" y="367992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666880" y="4029120"/>
            <a:ext cx="12859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Channels in P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1" name=""/>
          <p:cNvSpPr/>
          <p:nvPr/>
        </p:nvSpPr>
        <p:spPr>
          <a:xfrm>
            <a:off x="4579920" y="452448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2" name=""/>
          <p:cNvSpPr/>
          <p:nvPr/>
        </p:nvSpPr>
        <p:spPr>
          <a:xfrm>
            <a:off x="4943520" y="434340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
          <p:cNvSpPr/>
          <p:nvPr/>
        </p:nvSpPr>
        <p:spPr>
          <a:xfrm>
            <a:off x="5248440" y="4160880"/>
            <a:ext cx="3902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4" name=""/>
          <p:cNvSpPr/>
          <p:nvPr/>
        </p:nvSpPr>
        <p:spPr>
          <a:xfrm>
            <a:off x="2998800" y="370512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2438280" y="34416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600880" y="34495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09880" y="345924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47840" y="292572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a:off x="6019920" y="3200400"/>
            <a:ext cx="155412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 one table among the thre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838080" y="3048120"/>
            <a:ext cx="1592280" cy="74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ed channel number of original hopping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3273480" y="5038560"/>
            <a:ext cx="155412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rtition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2" name=""/>
          <p:cNvSpPr/>
          <p:nvPr/>
        </p:nvSpPr>
        <p:spPr>
          <a:xfrm>
            <a:off x="0" y="762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0" y="3616200"/>
            <a:ext cx="9144000" cy="257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Times New Roman"/>
                <a:ea typeface="新細明體"/>
              </a:rPr>
              <a:t>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7375C25-BCCD-46F9-A299-9EA9A77C8600}"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arrangement as an Alternative of Sequence Generation</a:t>
            </a:r>
            <a:endParaRPr b="0" lang="en-US" sz="3600" spc="-1" strike="noStrike">
              <a:solidFill>
                <a:srgbClr val="3333cc"/>
              </a:solidFill>
              <a:latin typeface="Times New Roman"/>
            </a:endParaRPr>
          </a:p>
        </p:txBody>
      </p:sp>
      <p:sp>
        <p:nvSpPr>
          <p:cNvPr id="385"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4000"/>
          </a:bodyPr>
          <a:p>
            <a:pPr marL="572760" indent="-5727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emporary re-arrangement of pre-determined N channels of hopping sequence</a:t>
            </a:r>
            <a:endParaRPr b="0" lang="en-US" sz="28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aking advantage of interference duty cycle</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n also be used for smaller ISM bandwidth at certain countries.</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gorithm:</a:t>
            </a:r>
            <a:endParaRPr b="0" lang="en-US" sz="24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etermine coming hopping channel suffering interference of a 802.11 DS transmission.</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reate the segment of upcoming N elements in the hopping sequence. Initial suggestion: N=4-8.</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ove those in the interference band to the end of the segment. The rest of sequence is kept the same.</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rm/negotiate peer(s) as our earlier procedur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A88889B-8129-4FC1-AD7B-B8737106E9C4}"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eatures of Selective Hopping Avoidance</a:t>
            </a:r>
            <a:endParaRPr b="0" lang="en-US" sz="3600" spc="-1" strike="noStrike">
              <a:solidFill>
                <a:srgbClr val="3333cc"/>
              </a:solidFill>
              <a:latin typeface="Times New Roman"/>
            </a:endParaRPr>
          </a:p>
        </p:txBody>
      </p:sp>
      <p:sp>
        <p:nvSpPr>
          <p:cNvPr id="38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ackward compatible (in function)</a:t>
            </a:r>
            <a:endParaRPr b="0" lang="en-US" sz="28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eeting FCC regulations</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lobal consideration</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raffic based</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imarily SCO in 802.15</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arrangement as an alternative</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Just being extra module in implementation, that is, backward compatible in implementation</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ple and no other new functions from 802.15/11</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nsidering (802.11/802.15) integrated de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BECE03C-4663-416A-90D1-FE54C66403EE}"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for Hit Avoidance</a:t>
            </a:r>
            <a:endParaRPr b="0" lang="en-US" sz="3600" spc="-1" strike="noStrike">
              <a:solidFill>
                <a:srgbClr val="3333cc"/>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K Chen, KC Chen, CC Cha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tegrated Programmable Communications, In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C31BD69-1AB1-4A61-99B8-45335598970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cenarios</a:t>
            </a:r>
            <a:endParaRPr b="0" lang="en-US" sz="3600" spc="-1" strike="noStrike">
              <a:solidFill>
                <a:srgbClr val="3333cc"/>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existence of 802.15 and 802.11 DS</a:t>
            </a: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requency hopping still follows FCC’s regulations</a:t>
            </a: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ther co-existence scenarios are not considered in this document</a:t>
            </a:r>
            <a:endParaRPr b="0" lang="en-US" sz="28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FH at 2.4G Hz band</a:t>
            </a:r>
            <a:endParaRPr b="0" lang="en-US" sz="24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DS at 2.4G Hz ISM band</a:t>
            </a:r>
            <a:endParaRPr b="0" lang="en-US" sz="24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hall be considered later</a:t>
            </a:r>
            <a:endParaRPr b="0" lang="en-US" sz="24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inciple is applied.</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dures need more defini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2A67DDF-D5C5-4E9C-B27A-0FBB49EA7DD5}"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Arrangement of IEEE 802.11b and 802.15</a:t>
            </a:r>
            <a:endParaRPr b="0" lang="en-US" sz="3600" spc="-1" strike="noStrike">
              <a:solidFill>
                <a:srgbClr val="3333cc"/>
              </a:solidFill>
              <a:latin typeface="Times New Roman"/>
            </a:endParaRPr>
          </a:p>
        </p:txBody>
      </p:sp>
      <p:graphicFrame>
        <p:nvGraphicFramePr>
          <p:cNvPr id="51" name=""/>
          <p:cNvGraphicFramePr/>
          <p:nvPr/>
        </p:nvGraphicFramePr>
        <p:xfrm>
          <a:off x="685800" y="1752480"/>
          <a:ext cx="7772400" cy="4373640"/>
        </p:xfrm>
        <a:graphic>
          <a:graphicData uri="http://schemas.openxmlformats.org/drawingml/2006/table">
            <a:tbl>
              <a:tblPr/>
              <a:tblGrid>
                <a:gridCol w="1943280"/>
                <a:gridCol w="1942920"/>
                <a:gridCol w="1943280"/>
                <a:gridCol w="1942920"/>
              </a:tblGrid>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02.11</a:t>
                      </a:r>
                      <a:r>
                        <a:rPr b="0" lang="en-US" sz="2400" spc="-1" strike="noStrike">
                          <a:solidFill>
                            <a:srgbClr val="000000"/>
                          </a:solidFill>
                          <a:latin typeface="Arial"/>
                          <a:ea typeface="新細明體"/>
                        </a:rPr>
                        <a:t>b</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annel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entr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equenc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ange (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Bluetooth Channel Numb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1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00-24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0-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25-24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3-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50-24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48-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4645099-CB3D-49A0-9E9A-7E8DEFB6340F}"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Partition</a:t>
            </a:r>
            <a:endParaRPr b="0" lang="en-US" sz="3600" spc="-1" strike="noStrike">
              <a:solidFill>
                <a:srgbClr val="3333cc"/>
              </a:solidFill>
              <a:latin typeface="Times New Roman"/>
            </a:endParaRPr>
          </a:p>
        </p:txBody>
      </p:sp>
      <p:graphicFrame>
        <p:nvGraphicFramePr>
          <p:cNvPr id="53" name=""/>
          <p:cNvGraphicFramePr/>
          <p:nvPr/>
        </p:nvGraphicFramePr>
        <p:xfrm>
          <a:off x="685800" y="1752480"/>
          <a:ext cx="7772400" cy="4496040"/>
        </p:xfrm>
        <a:graphic>
          <a:graphicData uri="http://schemas.openxmlformats.org/drawingml/2006/table">
            <a:tbl>
              <a:tblPr/>
              <a:tblGrid>
                <a:gridCol w="1943280"/>
                <a:gridCol w="1942920"/>
                <a:gridCol w="1943280"/>
                <a:gridCol w="1942920"/>
              </a:tblGrid>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artition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Bluetooth Channel Numb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otal Channel in the Parti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802.11 Channel Numb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1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0-22,75-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3-47,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48-72,73-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237B83-897C-465D-99FA-4225F70D36A0}"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Layer Hopping Sequences</a:t>
            </a:r>
            <a:endParaRPr b="0" lang="en-US" sz="3600" spc="-1" strike="noStrike">
              <a:solidFill>
                <a:srgbClr val="3333cc"/>
              </a:solidFill>
              <a:latin typeface="Times New Roman"/>
            </a:endParaRPr>
          </a:p>
        </p:txBody>
      </p:sp>
      <p:sp>
        <p:nvSpPr>
          <p:cNvPr id="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 case 802.15 hopping channel is within the frequency range of a 802.11 DS transmission</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elect a set of partition sequences from 3 possible sets</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riginal sequence is mapped into a new sequence according to the selected set of partition sequen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9F8A86-86D9-4981-B95C-C2E3482770DB}"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Avoidance System Architecture</a:t>
            </a:r>
            <a:endParaRPr b="0" lang="en-US" sz="3600" spc="-1" strike="noStrike">
              <a:solidFill>
                <a:srgbClr val="3333cc"/>
              </a:solidFill>
              <a:latin typeface="Times New Roman"/>
            </a:endParaRPr>
          </a:p>
        </p:txBody>
      </p:sp>
      <p:sp>
        <p:nvSpPr>
          <p:cNvPr id="57" name=""/>
          <p:cNvSpPr/>
          <p:nvPr/>
        </p:nvSpPr>
        <p:spPr>
          <a:xfrm>
            <a:off x="2838600" y="2695680"/>
            <a:ext cx="209520" cy="21096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352600" y="3200400"/>
            <a:ext cx="120024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equency Synthesiz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2209680" y="28018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943360" y="2906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438280" y="3790800"/>
            <a:ext cx="99072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ltiplex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2743200" y="4313160"/>
            <a:ext cx="94140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mapping re-mapp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2295360" y="5235480"/>
            <a:ext cx="14860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flipV="1">
            <a:off x="2695680" y="4059360"/>
            <a:ext cx="0" cy="11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5680" y="5126040"/>
            <a:ext cx="5983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305160" y="49050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305160" y="40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952720" y="359244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67120" y="3639960"/>
            <a:ext cx="1057320" cy="62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Mapped sequence sel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3979800" y="4307040"/>
            <a:ext cx="961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5181480" y="3600360"/>
            <a:ext cx="152424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selection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3676680" y="1752480"/>
            <a:ext cx="135252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SSI (&amp; 802.11b locking det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3581280" y="2268360"/>
            <a:ext cx="112392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Demodulation with interference sup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
          <p:cNvSpPr/>
          <p:nvPr/>
        </p:nvSpPr>
        <p:spPr>
          <a:xfrm>
            <a:off x="5000760" y="2338560"/>
            <a:ext cx="63792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rr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h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905440" y="2352600"/>
            <a:ext cx="110484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ident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3048120" y="2809800"/>
            <a:ext cx="533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 name=""/>
          <p:cNvSpPr/>
          <p:nvPr/>
        </p:nvSpPr>
        <p:spPr>
          <a:xfrm flipV="1">
            <a:off x="3257640" y="1953720"/>
            <a:ext cx="0" cy="8557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57640" y="195408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029200" y="19810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705200" y="2657520"/>
            <a:ext cx="2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43640" y="264960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3428640" y="3925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05400" y="2944800"/>
            <a:ext cx="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5895720" y="322884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896080" y="32400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95760" y="459252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257800"/>
            <a:ext cx="15238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raffic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
          <p:cNvSpPr/>
          <p:nvPr/>
        </p:nvSpPr>
        <p:spPr>
          <a:xfrm flipH="1" flipV="1">
            <a:off x="7147080" y="3962160"/>
            <a:ext cx="1440" cy="13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7313760" y="3875040"/>
            <a:ext cx="1440" cy="17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6723000" y="3962520"/>
            <a:ext cx="40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 name=""/>
          <p:cNvSpPr/>
          <p:nvPr/>
        </p:nvSpPr>
        <p:spPr>
          <a:xfrm flipH="1">
            <a:off x="6708600" y="3887640"/>
            <a:ext cx="58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457880" y="4887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3009960" y="565956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009960" y="5934240"/>
            <a:ext cx="10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4066920" y="5240160"/>
            <a:ext cx="390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 name=""/>
          <p:cNvSpPr/>
          <p:nvPr/>
        </p:nvSpPr>
        <p:spPr>
          <a:xfrm flipV="1">
            <a:off x="4057560" y="5240160"/>
            <a:ext cx="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38280" y="6172200"/>
            <a:ext cx="114300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c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1600200" y="258120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F input sig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5408640" y="4448160"/>
            <a:ext cx="129708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change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4343400" y="3405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95560" y="316872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cket tar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5924520" y="418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53040" y="390672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162400" y="47941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4924080" y="3906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943520" y="45831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105520" y="3220920"/>
            <a:ext cx="0" cy="1924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2361960" y="5154480"/>
            <a:ext cx="273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362320" y="3685680"/>
            <a:ext cx="0" cy="146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62320" y="3686040"/>
            <a:ext cx="128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657600" y="3220920"/>
            <a:ext cx="0" cy="46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657600" y="3211560"/>
            <a:ext cx="1447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19920" y="5638680"/>
            <a:ext cx="24382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Uniform channel usage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0" y="1690560"/>
            <a:ext cx="9144000" cy="410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0" y="16905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6477120" y="1981080"/>
            <a:ext cx="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009920" y="2666880"/>
            <a:ext cx="22860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224840" y="228600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ptional indic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f 802.11 DS fr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the 802.11-802.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integrated device</a:t>
            </a:r>
            <a:endParaRPr b="0" lang="en-US" sz="1200" spc="-1" strike="noStrike">
              <a:solidFill>
                <a:srgbClr val="000000"/>
              </a:solidFill>
              <a:latin typeface="Times New Roman"/>
            </a:endParaRPr>
          </a:p>
        </p:txBody>
      </p:sp>
      <p:sp>
        <p:nvSpPr>
          <p:cNvPr id="119" name=""/>
          <p:cNvSpPr/>
          <p:nvPr/>
        </p:nvSpPr>
        <p:spPr>
          <a:xfrm flipH="1">
            <a:off x="3809520" y="5486400"/>
            <a:ext cx="403884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7848720" y="3124080"/>
            <a:ext cx="0" cy="2362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648320" y="4876560"/>
            <a:ext cx="0" cy="60948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95ECC40-09C6-44F7-B5C5-33BD807916BD}"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Interference Identification</a:t>
            </a:r>
            <a:endParaRPr b="0" lang="en-US" sz="3600" spc="-1" strike="noStrike">
              <a:solidFill>
                <a:srgbClr val="3333cc"/>
              </a:solidFill>
              <a:latin typeface="Times New Roman"/>
            </a:endParaRPr>
          </a:p>
        </p:txBody>
      </p:sp>
      <p:sp>
        <p:nvSpPr>
          <p:cNvPr id="12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t consists of </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stantaneous interference detection: interference-free or not</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ecks of received packet and power level</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tilization of channel silent duration between channel active time</a:t>
            </a:r>
            <a:endParaRPr b="0" lang="en-US" sz="24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it ratio measurement</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unting the interference ratio for each part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EE6292D-E802-496D-8DAE-396239629510}"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partitions with interference hit ratios below threshold, corresponding hit ratios are set to be zero.</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om the time slots reserved by the traffic requirements, calculate the partition usage vector for partition sequences.</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the average hit probability H(p) for each type p of partition sequence</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the partition sequences with minimal H(p)</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more than one in step 4, select the most evenly used one</a:t>
            </a:r>
            <a:endParaRPr b="0" lang="en-US" sz="2400" spc="-1" strike="noStrike">
              <a:solidFill>
                <a:srgbClr val="000000"/>
              </a:solidFill>
              <a:latin typeface="Arial"/>
            </a:endParaRPr>
          </a:p>
        </p:txBody>
      </p:sp>
      <p:sp>
        <p:nvSpPr>
          <p:cNvPr id="125" name="PlaceHolder 2"/>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Selection Under Uniform Channel Utilization</a:t>
            </a:r>
            <a:endParaRPr b="0" lang="en-US" sz="3600" spc="-1" strike="noStrike">
              <a:solidFill>
                <a:srgbClr val="3333cc"/>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BF31CD6-08CB-4D10-8289-9E624C242C61}"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13:32:08Z</dcterms:created>
  <dc:creator>KC Chen</dc:creator>
  <dc:description>&lt;doc#&gt;</dc:description>
  <dc:language>en-US</dc:language>
  <cp:lastModifiedBy>Chi-chao Chao</cp:lastModifiedBy>
  <cp:lastPrinted>1998-02-10T13:28:06Z</cp:lastPrinted>
  <dcterms:modified xsi:type="dcterms:W3CDTF">2001-01-15T18:14:57Z</dcterms:modified>
  <cp:revision>36</cp:revision>
  <dc:subject>IEEE 802.15 &lt;subject&gt;</dc:subject>
  <dc:title>PowerPoint 簡報</dc:title>
</cp:coreProperties>
</file>