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3471-8694-43B2-B9B1-63E5B64D0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E219-87D2-4609-924E-BD98B4A1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A12D-CD38-41A3-B940-98A2014F0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5245-D3FD-4D75-A35A-893383211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46AE-43D7-4C6E-8C6C-B4A05D5B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918A-A0A1-4F56-9BC6-47AC75C7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04FD-1F93-4E95-87F5-F85DA3D0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0329-F480-4C79-B1F6-93515D9F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59B7-726C-4131-872E-D547ADE9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7DC6-101D-4D64-AF65-C2CD737D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9AB6-AC83-47F7-A05F-6E0A81EE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9207-4648-49C2-BF15-92DEBC4A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D677B0F-F201-410C-A122-6DDD0DBD0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086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5    TG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Evaluation of Coexistence Performance </a:t>
            </a:r>
            <a:br>
              <a:rPr sz="3600"/>
            </a:br>
            <a:br>
              <a:rPr sz="36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nterey    January 16,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en Eliez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as Instruments 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enE@t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en Eliezer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666880"/>
            <a:ext cx="82710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The Two Aspects of Coexistence Performanc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Factors Determining the Coexistence Perform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posed Guidelines for Evaluation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en Eliezer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erformance Aspec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oth aspects of interference are of interest and should be examin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nterference Susceptibility of ou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interfering signals are likely to be pres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re their probabilities (statistical distribution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properties and/or mechanisms of our system make it less susceptible to these interferers?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otential Interference Caused by our Syste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ystems are likely to suffer interference from our system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is the likelihood of each type of system being presen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re their susceptibilities to such interfere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properties and/or mechanisms of the system allow it to minimize the interference it causes?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en Eliezer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827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ctors Determining th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erformance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08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existence performance is a function of the structure and parameters of 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all laye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the communications protocol (up to application layer) and not just P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applic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actually the 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most domina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actor in determining both aspects of coexistence perform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od radio performance is necessary (dynamic range, selectivity…) but cannot compensate for a MAC’s vulnerability to interfer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ystem may employ both 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pass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act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means for enhancement of its coexistence perform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en Eliezer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osed Guidelines for Eval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3008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fic 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realisti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sage scenarios should be exam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Different environmen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z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y different typical coexistence scenarios (home, office, outdoo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probabili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importan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each of the usage scenarios should be considered (prioritized and weighted accordingly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User-perceived performance degrad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most important, so the coexistence performance measure should reflect that  (e.g. latencies, throughputs, distortion measures for image/sou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en Eliezer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osed Guidelines for Evalu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.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listic 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application-based paramete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must be assumed both for the system under examination and for the interfering or interfered system/s surrounding it.    Among these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mission power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ve distances  (typical ranges and system layou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ystem loads  (duty cyc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mission durations (packets and entire mess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r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antaneous spectral occupancy (bandwidth and shap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ypes of data sent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ynchrono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ochrono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ulnerability of application to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en Eliezer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3T10:02:52Z</dcterms:created>
  <dc:creator>Oren Eliezer</dc:creator>
  <dc:description/>
  <dc:language>en-US</dc:language>
  <cp:lastModifiedBy>Robert F.  Heile</cp:lastModifiedBy>
  <cp:lastPrinted>2000-01-13T10:22:14Z</cp:lastPrinted>
  <dcterms:modified xsi:type="dcterms:W3CDTF">2001-01-19T16:28:22Z</dcterms:modified>
  <cp:revision>69</cp:revision>
  <dc:subject/>
  <dc:title>IEEE 802.15    TG2  Coexistence  Tel-Aviv    January 13, 2000</dc:title>
</cp:coreProperties>
</file>