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A76-90A0-47C9-BD7C-1C3B54DC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823-7358-4DE7-A98C-14CE55D1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365-4DF4-4130-A5A6-A2D4AE5E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579-9883-4473-8801-144E8169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0EE-D849-4D6C-B1E6-6721C38B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813-B4B9-4847-B750-CB2A352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BA1-3618-45CC-8211-C53D61E8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3C1-0EAD-4B7B-B85F-82708F2C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D64-2272-4818-922C-21EE9E3D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320-0A92-4CE6-80D1-F3A8B0B6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A97-24F2-4DFA-AB71-48531CE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B97-7505-436B-8ABA-BD32466C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0D74AF-5286-4E78-A1AE-3FC9CDD9C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3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Instruments Responses to TG4 C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ata Rate Computer Peripher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0A3-1992-40BB-BF9D-CC6D129E81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latency in the message transfer is accep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to 3 seconds typical, 5 seconds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3EF-D22E-4311-AC7B-EAF857BC59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ter/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to peer not allowed (no cheat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0A0-B67B-4296-895F-96CFDEC1EB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master node? Where do data flows originate and terminate? Are the devices peer to peer or master/sl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FF8-5CDC-4DF3-B699-B353F852F3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network have to interface to another network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, how should these two networks be conn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the workstation LAN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E3D-29EF-47FD-A956-C40A1C9496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low-rate networks are in range of one another, should they intera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es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gt;64 students (e.g. a lecture hall) then may have to have several networks all connected to the main work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95F-7B0C-4EFF-804A-0A2B6B6722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devices support authentication and 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les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DA3-B436-4DF1-9D47-3FCBD17DA0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ata traffic ty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830-8035-4615-8955-94FCC0645C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battery life requi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: 1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d: 1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hargeable in place also desi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9F0-33F0-4D93-911B-F09EF91132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hysical size of the low-rate transce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: ~ compact flash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tation: don’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2A0-3853-49B9-9BC9-FD5CBDFC6E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ange requirement of the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am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human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metal desks, tables,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able if does not go through 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9CA-BFD8-465A-B276-AB5CE0FE49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types of devices in that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ng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work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er (may be attached to works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D29-7DAC-4A68-A9D9-EBBBD46467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estimate market size (units) of the proposed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of grades 6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3 year lifetime of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1F4-4EFC-42A7-B65D-DDD2D73495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is application benefit from location awarenes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A86-F3D2-4C41-8850-FA786D309F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evices are in this low rate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CC8-8B4A-4C7E-B90B-B8F2397D35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types of devices in that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y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ers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Resolution Printers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B82-8EBF-452E-AA7E-1C4C7A7BDB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how the network is init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-up of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844-6418-441A-B1DF-44CEB0FE41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devices attach and detach from the net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ssigned, a peripheral is always attached to the same system on power-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human intervention requ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“introduction”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D36-D643-4324-BE62-4F88BF3D34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traffic flow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trokes: 800 bps typical maximum, 10 bit payload per pa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 movement 500 bps, 50 bit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ystick 1000 bps upstream, 50 bit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ystick 200 bps downstream, 20 bit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94D-F64D-4318-80DF-33250D4797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often are messages 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during computer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F42-AFF8-4358-8A2B-0691E52316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latency in the message transfer is accep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threshold: 100 ms typical, but must be consis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5CF-115F-4E37-AF0A-B4BDA361F02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ter (computer chassis) / Slave (peripher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A80-0197-4C69-B190-271497A17F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evices are in this low rate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10 to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12B-DEF5-4FAC-85D9-E9EC2E09E0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network have to interface to another network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3D2-6784-46DC-929B-BCFF1D1C18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low-rate networks are in range of one another, should they intera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0DC-700F-4E62-ACDB-183DC92D2B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devices support authentication and 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26B-F919-416B-9535-AAAA63B208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ata traffic ty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for low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may be needed if speakers can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66E-66C2-4B89-8D63-E6E865EF4C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battery life requi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3C3-8F6C-4195-96DF-15A5DF5A1C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hysical size of the low-rate transce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Fla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3AB-AE13-40EF-9B1D-E196D4C91F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ange requirement of the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to 2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08F-9E48-49F0-8499-67CB908697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estimate market size (units) of the proposed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production of personal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4AB-30A4-4CFF-9829-FEE4470B90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ata Rate Computer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is application benefit from location awarenes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DCD-0D23-421B-997C-494F0B3AF2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how the network is ini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rive at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initiates communications with “known”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turn on calculators are are automatically registered with the correct teacher’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638-D30B-4D6C-B611-ACB13DDB95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devices attach and detach from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-attach, based 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ning of semester units identified with student/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can alter configuration at work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ch is power-dow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uman intervention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89E-3735-4B98-B5FD-6E20EE16FC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traffic flow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sty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up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times data channel is i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83D-9A70-4AE0-A091-5F795BDFE8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type of data that flows in each branch of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uniform data types for all students and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cast useful from workstation, but subsequent verification of complete download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29C-7BE2-4BF1-B2E0-81E405D747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ata is typically in each me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payload of 100 to 500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handle a bitmap of 2K is a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e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ther activity on net 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2EE-CA18-49B5-AAF7-4FDDD8D0C5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roo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often are messages 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times per hour per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7BA-33AB-47ED-A190-83F8BDD2CC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03:31:26Z</dcterms:created>
  <dc:creator>Tom Siep</dc:creator>
  <dc:description>&lt;doc#&gt;</dc:description>
  <dc:language>en-US</dc:language>
  <cp:lastModifiedBy>Robert F.  Heile</cp:lastModifiedBy>
  <cp:lastPrinted>1998-02-10T13:28:06Z</cp:lastPrinted>
  <dcterms:modified xsi:type="dcterms:W3CDTF">2001-01-13T17:09:26Z</dcterms:modified>
  <cp:revision>4</cp:revision>
  <dc:subject>IEEE 802.15 &lt;subject&gt;</dc:subject>
  <dc:title>PowerPoint Presentation</dc:title>
</cp:coreProperties>
</file>