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B8B74-A89B-404A-9D80-D96FD23FC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102BA-5690-4152-B554-B563009C8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C7196-12BD-4A3F-AD24-03A218C12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2F787-7371-431F-AD22-4D7E6BBE9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7C79B-4477-46D9-B69A-63916C55B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B3662-3180-4B2F-A5EE-5AE76D286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1D69A-22B8-4C39-B4D2-774FDA3A3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76873-04A1-4079-92C4-495EEA3DC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B16E7-7750-4A3A-AB48-AF43A097F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F1DEA-D961-4859-B5D5-463FAC40D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B67A1-5A9A-4CC0-BA32-C551FCB45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34050-217C-46BA-B0C9-D9FE4A620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B0E71C-EA55-4649-8013-0F3FE1A7E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657600" y="396000"/>
            <a:ext cx="48006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5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0440" y="700200"/>
            <a:ext cx="8763120" cy="5397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Comment Resolution for D0.92 of 802.15.1 Draft Standard]</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 [10 July 2001]</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a:t>
            </a:r>
            <a:r>
              <a:rPr b="0" lang="en-US" sz="1500" spc="-1" strike="noStrike">
                <a:solidFill>
                  <a:srgbClr val="000000"/>
                </a:solidFill>
                <a:latin typeface="Times New Roman"/>
              </a:rPr>
              <a:t>  [Tom Siep]    Company: []</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972) 496-0766], FAX: [], E-Mail:[tom.siep@ieee.org]</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WPAN-802.15.1 LB11 Comment Resolution Results]</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presentation represents the results of the deliberations of the Ballot Resolution Committee for comments received in Letter Ballot 11]</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Inform the WG]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Tom Siep</a:t>
            </a:r>
          </a:p>
        </p:txBody>
      </p:sp>
      <p:sp>
        <p:nvSpPr>
          <p:cNvPr id="3" name="PlaceHolder 2"/>
          <p:cNvSpPr>
            <a:spLocks noGrp="1"/>
          </p:cNvSpPr>
          <p:nvPr>
            <p:ph type="sldNum" idx="3"/>
          </p:nvPr>
        </p:nvSpPr>
        <p:spPr/>
        <p:txBody>
          <a:bodyPr/>
          <a:p>
            <a:fld id="{84E790F3-92C7-494E-88B0-8BDFEA9145CA}" type="slidenum">
              <a:t>1</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B11 Comment Resolution</a:t>
            </a:r>
            <a:endParaRPr b="0" lang="en-US" sz="40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B11 was a Recirculation Ballo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irculation Ballot Review process conside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made to the Draft D0.9.2 since the last ballot.</a:t>
            </a:r>
            <a:endParaRPr b="0" lang="en-US" sz="20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st” to “shall” modification </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 editorial chang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resolved negative comments from the previous ballot</a:t>
            </a:r>
            <a:endParaRPr b="0" lang="en-US" sz="20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comments were resolved in LB10.  Resolutions were either:</a:t>
            </a:r>
            <a:endParaRPr b="0" lang="en-US" sz="1800" spc="-1" strike="noStrike">
              <a:solidFill>
                <a:srgbClr val="000000"/>
              </a:solidFill>
              <a:latin typeface="Arial"/>
            </a:endParaRPr>
          </a:p>
          <a:p>
            <a:pPr lvl="3" marL="142884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pted</a:t>
            </a:r>
            <a:endParaRPr b="0" lang="en-US" sz="1600" spc="-1" strike="noStrike">
              <a:solidFill>
                <a:srgbClr val="000000"/>
              </a:solidFill>
              <a:latin typeface="Arial"/>
            </a:endParaRPr>
          </a:p>
          <a:p>
            <a:pPr lvl="3" marL="142884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ined</a:t>
            </a:r>
            <a:endParaRPr b="0" lang="en-US" sz="16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voter was unsatisfied with the disposition of his comments, but a decline letter was sent and that resolved the outstanding comment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om Siep</a:t>
            </a:r>
          </a:p>
        </p:txBody>
      </p:sp>
      <p:sp>
        <p:nvSpPr>
          <p:cNvPr id="5" name="PlaceHolder 4"/>
          <p:cNvSpPr>
            <a:spLocks noGrp="1"/>
          </p:cNvSpPr>
          <p:nvPr>
            <p:ph type="sldNum" idx="3"/>
          </p:nvPr>
        </p:nvSpPr>
        <p:spPr/>
        <p:txBody>
          <a:bodyPr/>
          <a:p>
            <a:fld id="{3FC0A0B8-43CD-47D7-9D8F-5C6767415323}" type="slidenum">
              <a:t>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4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4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47">
                                            <p:txEl>
                                              <p:pRg st="6" end="6"/>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47">
                                            <p:txEl>
                                              <p:pRg st="7" end="7"/>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47">
                                            <p:txEl>
                                              <p:pRg st="8" end="8"/>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B 11 Comment Analysis</a:t>
            </a:r>
            <a:endParaRPr b="0" lang="en-US" sz="40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r>
              <a:rPr b="0" lang="en-US" sz="2400" spc="-1" strike="noStrike">
                <a:solidFill>
                  <a:srgbClr val="000000"/>
                </a:solidFill>
                <a:latin typeface="Arial"/>
              </a:rPr>
              <a:t>	</a:t>
            </a:r>
            <a:r>
              <a:rPr b="0" lang="en-US" sz="2400" spc="-1" strike="noStrike">
                <a:solidFill>
                  <a:srgbClr val="000000"/>
                </a:solidFill>
                <a:latin typeface="Arial"/>
              </a:rPr>
              <a:t>New comm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Carried forward from LB1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a:t>
            </a:r>
            <a:r>
              <a:rPr b="0" lang="en-US" sz="2400" spc="-1" strike="noStrike">
                <a:solidFill>
                  <a:srgbClr val="000000"/>
                </a:solidFill>
                <a:latin typeface="Arial"/>
              </a:rPr>
              <a:t>	</a:t>
            </a:r>
            <a:r>
              <a:rPr b="0" lang="en-US" sz="2400" spc="-1" strike="noStrike">
                <a:solidFill>
                  <a:srgbClr val="000000"/>
                </a:solidFill>
                <a:latin typeface="Arial"/>
              </a:rPr>
              <a:t>Carried forward from LB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mments on changes made from LB10 to LB11 were mad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a:t>
            </a:r>
          </a:p>
        </p:txBody>
      </p:sp>
      <p:sp>
        <p:nvSpPr>
          <p:cNvPr id="5" name="PlaceHolder 4"/>
          <p:cNvSpPr>
            <a:spLocks noGrp="1"/>
          </p:cNvSpPr>
          <p:nvPr>
            <p:ph type="sldNum" idx="3"/>
          </p:nvPr>
        </p:nvSpPr>
        <p:spPr/>
        <p:txBody>
          <a:bodyPr/>
          <a:p>
            <a:fld id="{35561A25-C85E-43CB-A889-7BE3C773A8EC}" type="slidenum">
              <a:t>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ideration of LB11 Comments</a:t>
            </a:r>
            <a:endParaRPr b="0" lang="en-US" sz="36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C considered all comments lodged against the draf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 were editorial and would not prevent the proper implementation of interoperable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were technical but have been considered and declined befo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eclines were re-considered and previous decisions were confirm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no new never-before-seen technical commen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a:t>
            </a:r>
          </a:p>
        </p:txBody>
      </p:sp>
      <p:sp>
        <p:nvSpPr>
          <p:cNvPr id="5" name="PlaceHolder 4"/>
          <p:cNvSpPr>
            <a:spLocks noGrp="1"/>
          </p:cNvSpPr>
          <p:nvPr>
            <p:ph type="sldNum" idx="3"/>
          </p:nvPr>
        </p:nvSpPr>
        <p:spPr/>
        <p:txBody>
          <a:bodyPr/>
          <a:p>
            <a:fld id="{6A04654F-A8F3-40D4-9ED1-5477926CD788}" type="slidenum">
              <a:t>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51">
                                            <p:txEl>
                                              <p:pRg st="0" end="0"/>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51">
                                            <p:txEl>
                                              <p:pRg st="1" end="1"/>
                                            </p:txEl>
                                          </p:spTgt>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51">
                                            <p:txEl>
                                              <p:pRg st="2" end="2"/>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51">
                                            <p:txEl>
                                              <p:pRg st="3" end="3"/>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ing Forward</a:t>
            </a:r>
            <a:endParaRPr b="0" lang="en-US" sz="4000" spc="-1" strike="noStrike">
              <a:solidFill>
                <a:srgbClr val="000000"/>
              </a:solidFill>
              <a:latin typeface="Arial"/>
            </a:endParaRPr>
          </a:p>
        </p:txBody>
      </p:sp>
      <p:sp>
        <p:nvSpPr>
          <p:cNvPr id="5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ON:  The Working Group instructs the Chair of 802.15 to submit Draft D0.9.2 to the SEC for review to forward the Draft to Sponsor Ballo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d: Tom Sie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Michael Cam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t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gains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bstai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All comments from LB10 that were declined and not withdrawn will be forwarded with the draft in document </a:t>
            </a:r>
            <a:br>
              <a:rPr sz="1600"/>
            </a:br>
            <a:r>
              <a:rPr b="0" lang="en-US" sz="2000" spc="-1" strike="noStrike">
                <a:solidFill>
                  <a:srgbClr val="000000"/>
                </a:solidFill>
                <a:latin typeface="Arial"/>
              </a:rPr>
              <a:t>01310r4aP802-15_WG-LB11-Comment-Form.pdf</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a:t>
            </a:r>
          </a:p>
        </p:txBody>
      </p:sp>
      <p:sp>
        <p:nvSpPr>
          <p:cNvPr id="5" name="PlaceHolder 4"/>
          <p:cNvSpPr>
            <a:spLocks noGrp="1"/>
          </p:cNvSpPr>
          <p:nvPr>
            <p:ph type="sldNum" idx="3"/>
          </p:nvPr>
        </p:nvSpPr>
        <p:spPr/>
        <p:txBody>
          <a:bodyPr/>
          <a:p>
            <a:fld id="{701CA78A-5E11-4B50-BD0D-6FAFB02B9234}" type="slidenum">
              <a:t>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6T19:55:17Z</dcterms:created>
  <dc:creator>Tom Siep</dc:creator>
  <dc:description/>
  <dc:language>en-US</dc:language>
  <cp:lastModifiedBy>Tom Siep</cp:lastModifiedBy>
  <dcterms:modified xsi:type="dcterms:W3CDTF">2001-07-11T17:38:17Z</dcterms:modified>
  <cp:revision>137</cp:revision>
  <dc:subject/>
  <dc:title>TG1 LB11 Comment Resolution Summary</dc:title>
</cp:coreProperties>
</file>