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92E9D-C75C-4F4B-9387-4C382BDFA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296A3-06CA-41A3-A5B9-AD01DCD3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30CAB-63B9-4379-A304-2326D41F7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91C50-1767-4B46-A923-188B3EF45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DD6A3-9B7D-4FE6-BE3D-9161ED749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7AEA6-76E6-4AEC-9B71-50E34EBDC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3898-2132-4C40-92B1-0DDCB06CA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7F4C4-F8FB-4ADC-A4F5-35A7A6AC1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4021-123D-4225-9787-E0CD6D564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8764F-201E-40D1-A0F0-F263776C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E07D8-F42D-4F53-9B1E-2EB07341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B6C3-9486-456F-BEC0-9FA93237D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72EB0F-AC30-4C3F-8C06-60A2CD650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5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14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A proposal for improvements to the 802.15.3 MAC to allow static GTS slots and unassigned GTS slo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 Jul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William Shvodia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749-0230 X7129, FAX: +1.703.749.0249, E-Mail: bshvodian@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posal presents some proposed improvements to the 802.15.3 MAC which </a:t>
            </a:r>
            <a:r>
              <a:rPr b="0" lang="en-US" sz="1200" spc="-1" strike="noStrike">
                <a:solidFill>
                  <a:srgbClr val="000000"/>
                </a:solidFill>
                <a:latin typeface="Times New Roman"/>
              </a:rPr>
              <a:t>allow static GTS slots and unassigned GTS slots</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2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5B4EB4AE-7597-406B-AAC6-A1174294E92B}" type="slidenum">
              <a:t>1</a:t>
            </a:fld>
          </a:p>
        </p:txBody>
      </p:sp>
      <p:sp>
        <p:nvSpPr>
          <p:cNvPr id="4" name="PlaceHolder 3"/>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for GTS slot collision</a:t>
            </a:r>
            <a:endParaRPr b="0" lang="en-US" sz="3600" spc="-1" strike="noStrike">
              <a:solidFill>
                <a:srgbClr val="000000"/>
              </a:solidFill>
              <a:latin typeface="Times New Roman"/>
            </a:endParaRPr>
          </a:p>
        </p:txBody>
      </p:sp>
      <p:sp>
        <p:nvSpPr>
          <p:cNvPr id="103" name=""/>
          <p:cNvSpPr/>
          <p:nvPr/>
        </p:nvSpPr>
        <p:spPr>
          <a:xfrm>
            <a:off x="457200" y="36212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880" y="36212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14400" y="36212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06" name=""/>
          <p:cNvSpPr/>
          <p:nvPr/>
        </p:nvSpPr>
        <p:spPr>
          <a:xfrm>
            <a:off x="1981080" y="36212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81080" y="36212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rot="16200000">
            <a:off x="182160" y="38966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09" name=""/>
          <p:cNvSpPr/>
          <p:nvPr/>
        </p:nvSpPr>
        <p:spPr>
          <a:xfrm>
            <a:off x="1981080" y="362124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10" name=""/>
          <p:cNvSpPr/>
          <p:nvPr/>
        </p:nvSpPr>
        <p:spPr>
          <a:xfrm>
            <a:off x="228600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97180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32448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8108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14" name=""/>
          <p:cNvSpPr/>
          <p:nvPr/>
        </p:nvSpPr>
        <p:spPr>
          <a:xfrm>
            <a:off x="243828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15" name=""/>
          <p:cNvSpPr/>
          <p:nvPr/>
        </p:nvSpPr>
        <p:spPr>
          <a:xfrm>
            <a:off x="525780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16" name=""/>
          <p:cNvSpPr/>
          <p:nvPr/>
        </p:nvSpPr>
        <p:spPr>
          <a:xfrm>
            <a:off x="723888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17" name=""/>
          <p:cNvSpPr/>
          <p:nvPr/>
        </p:nvSpPr>
        <p:spPr>
          <a:xfrm>
            <a:off x="3733920" y="40021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18" name=""/>
          <p:cNvSpPr/>
          <p:nvPr/>
        </p:nvSpPr>
        <p:spPr>
          <a:xfrm>
            <a:off x="472428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71800" y="3849840"/>
            <a:ext cx="5335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57880" y="3849840"/>
            <a:ext cx="53316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058080" y="3849840"/>
            <a:ext cx="53316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7200" y="52214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0880" y="52214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914400" y="52214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25" name=""/>
          <p:cNvSpPr/>
          <p:nvPr/>
        </p:nvSpPr>
        <p:spPr>
          <a:xfrm>
            <a:off x="1981080" y="52214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981080" y="52214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rot="16200000">
            <a:off x="182160" y="54968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28" name=""/>
          <p:cNvSpPr/>
          <p:nvPr/>
        </p:nvSpPr>
        <p:spPr>
          <a:xfrm>
            <a:off x="1981080" y="5221440"/>
            <a:ext cx="64008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29" name=""/>
          <p:cNvSpPr/>
          <p:nvPr/>
        </p:nvSpPr>
        <p:spPr>
          <a:xfrm>
            <a:off x="228600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7180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2920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33" name=""/>
          <p:cNvSpPr/>
          <p:nvPr/>
        </p:nvSpPr>
        <p:spPr>
          <a:xfrm>
            <a:off x="243828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34" name=""/>
          <p:cNvSpPr/>
          <p:nvPr/>
        </p:nvSpPr>
        <p:spPr>
          <a:xfrm>
            <a:off x="434340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35" name=""/>
          <p:cNvSpPr/>
          <p:nvPr/>
        </p:nvSpPr>
        <p:spPr>
          <a:xfrm>
            <a:off x="575316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36" name=""/>
          <p:cNvSpPr/>
          <p:nvPr/>
        </p:nvSpPr>
        <p:spPr>
          <a:xfrm>
            <a:off x="312408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37" name=""/>
          <p:cNvSpPr/>
          <p:nvPr/>
        </p:nvSpPr>
        <p:spPr>
          <a:xfrm>
            <a:off x="396252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781680" y="5450040"/>
            <a:ext cx="160020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8168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429000" y="3240000"/>
            <a:ext cx="23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S for Superframe n</a:t>
            </a:r>
            <a:endParaRPr b="0" lang="en-US" sz="1600" spc="-1" strike="noStrike">
              <a:solidFill>
                <a:srgbClr val="000000"/>
              </a:solidFill>
              <a:latin typeface="Times New Roman"/>
            </a:endParaRPr>
          </a:p>
        </p:txBody>
      </p:sp>
      <p:sp>
        <p:nvSpPr>
          <p:cNvPr id="141" name=""/>
          <p:cNvSpPr/>
          <p:nvPr/>
        </p:nvSpPr>
        <p:spPr>
          <a:xfrm>
            <a:off x="3429000" y="4808520"/>
            <a:ext cx="23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S for Superframe n+1</a:t>
            </a:r>
            <a:endParaRPr b="0" lang="en-US" sz="1600" spc="-1" strike="noStrike">
              <a:solidFill>
                <a:srgbClr val="000000"/>
              </a:solidFill>
              <a:latin typeface="Times New Roman"/>
            </a:endParaRPr>
          </a:p>
        </p:txBody>
      </p:sp>
      <p:sp>
        <p:nvSpPr>
          <p:cNvPr id="14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ation 3 did not get the change message, station 3 and station 4 will collide. Likewise, station 4 could collide with station 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63C687A3-37B3-4EF3-A5F2-895C731B6EAF}" type="slidenum">
              <a:t>10</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for Receiver Missing a Frame</a:t>
            </a:r>
            <a:endParaRPr b="0" lang="en-US" sz="3600" spc="-1" strike="noStrike">
              <a:solidFill>
                <a:srgbClr val="000000"/>
              </a:solidFill>
              <a:latin typeface="Times New Roman"/>
            </a:endParaRPr>
          </a:p>
        </p:txBody>
      </p:sp>
      <p:sp>
        <p:nvSpPr>
          <p:cNvPr id="144" name=""/>
          <p:cNvSpPr/>
          <p:nvPr/>
        </p:nvSpPr>
        <p:spPr>
          <a:xfrm>
            <a:off x="457200" y="36212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36212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14400" y="36212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47" name=""/>
          <p:cNvSpPr/>
          <p:nvPr/>
        </p:nvSpPr>
        <p:spPr>
          <a:xfrm>
            <a:off x="1981080" y="36212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981080" y="36212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rot="16200000">
            <a:off x="182160" y="38966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50" name=""/>
          <p:cNvSpPr/>
          <p:nvPr/>
        </p:nvSpPr>
        <p:spPr>
          <a:xfrm>
            <a:off x="1981080" y="362124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51" name=""/>
          <p:cNvSpPr/>
          <p:nvPr/>
        </p:nvSpPr>
        <p:spPr>
          <a:xfrm>
            <a:off x="228600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7180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2448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98108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55" name=""/>
          <p:cNvSpPr/>
          <p:nvPr/>
        </p:nvSpPr>
        <p:spPr>
          <a:xfrm>
            <a:off x="243828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56" name=""/>
          <p:cNvSpPr/>
          <p:nvPr/>
        </p:nvSpPr>
        <p:spPr>
          <a:xfrm>
            <a:off x="525780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57" name=""/>
          <p:cNvSpPr/>
          <p:nvPr/>
        </p:nvSpPr>
        <p:spPr>
          <a:xfrm>
            <a:off x="7238880" y="40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58" name=""/>
          <p:cNvSpPr/>
          <p:nvPr/>
        </p:nvSpPr>
        <p:spPr>
          <a:xfrm>
            <a:off x="3733920" y="40021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59" name=""/>
          <p:cNvSpPr/>
          <p:nvPr/>
        </p:nvSpPr>
        <p:spPr>
          <a:xfrm>
            <a:off x="4724280" y="3849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71800" y="3849840"/>
            <a:ext cx="5335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57880" y="3849840"/>
            <a:ext cx="53316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58080" y="3849840"/>
            <a:ext cx="53316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 y="52214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0880" y="52214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914400" y="52214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66" name=""/>
          <p:cNvSpPr/>
          <p:nvPr/>
        </p:nvSpPr>
        <p:spPr>
          <a:xfrm>
            <a:off x="1981080" y="52214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981080" y="52214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rot="16200000">
            <a:off x="182160" y="54968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69" name=""/>
          <p:cNvSpPr/>
          <p:nvPr/>
        </p:nvSpPr>
        <p:spPr>
          <a:xfrm>
            <a:off x="1981080" y="5221440"/>
            <a:ext cx="64008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70" name=""/>
          <p:cNvSpPr/>
          <p:nvPr/>
        </p:nvSpPr>
        <p:spPr>
          <a:xfrm>
            <a:off x="228600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97180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2920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8108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74" name=""/>
          <p:cNvSpPr/>
          <p:nvPr/>
        </p:nvSpPr>
        <p:spPr>
          <a:xfrm>
            <a:off x="243828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75" name=""/>
          <p:cNvSpPr/>
          <p:nvPr/>
        </p:nvSpPr>
        <p:spPr>
          <a:xfrm>
            <a:off x="434340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76" name=""/>
          <p:cNvSpPr/>
          <p:nvPr/>
        </p:nvSpPr>
        <p:spPr>
          <a:xfrm>
            <a:off x="575316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77" name=""/>
          <p:cNvSpPr/>
          <p:nvPr/>
        </p:nvSpPr>
        <p:spPr>
          <a:xfrm>
            <a:off x="3124080" y="5602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78" name=""/>
          <p:cNvSpPr/>
          <p:nvPr/>
        </p:nvSpPr>
        <p:spPr>
          <a:xfrm>
            <a:off x="396252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781680" y="5450040"/>
            <a:ext cx="160020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781680" y="5450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429000" y="3240000"/>
            <a:ext cx="23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S for Superframe n</a:t>
            </a:r>
            <a:endParaRPr b="0" lang="en-US" sz="1600" spc="-1" strike="noStrike">
              <a:solidFill>
                <a:srgbClr val="000000"/>
              </a:solidFill>
              <a:latin typeface="Times New Roman"/>
            </a:endParaRPr>
          </a:p>
        </p:txBody>
      </p:sp>
      <p:sp>
        <p:nvSpPr>
          <p:cNvPr id="182" name=""/>
          <p:cNvSpPr/>
          <p:nvPr/>
        </p:nvSpPr>
        <p:spPr>
          <a:xfrm>
            <a:off x="3429000" y="4808520"/>
            <a:ext cx="23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S for Superframe n+1</a:t>
            </a:r>
            <a:endParaRPr b="0" lang="en-US" sz="1600" spc="-1" strike="noStrike">
              <a:solidFill>
                <a:srgbClr val="000000"/>
              </a:solidFill>
              <a:latin typeface="Times New Roman"/>
            </a:endParaRPr>
          </a:p>
        </p:txBody>
      </p:sp>
      <p:sp>
        <p:nvSpPr>
          <p:cNvPr id="18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ceiver of slot 4 got the change message, but the transmitter of slot did not, station 4 will listen to a different slot than station 4 is transmitting 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14DE47D7-B88F-468E-890A-C9341579162B}" type="slidenum">
              <a:t>11</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3080" y="685440"/>
            <a:ext cx="8918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Elegant method for slot assignment changes</a:t>
            </a:r>
            <a:endParaRPr b="0" lang="en-US" sz="3200" spc="-1" strike="noStrike">
              <a:solidFill>
                <a:srgbClr val="000000"/>
              </a:solidFill>
              <a:latin typeface="Times New Roman"/>
            </a:endParaRPr>
          </a:p>
        </p:txBody>
      </p:sp>
      <p:grpSp>
        <p:nvGrpSpPr>
          <p:cNvPr id="185" name=""/>
          <p:cNvGrpSpPr/>
          <p:nvPr/>
        </p:nvGrpSpPr>
        <p:grpSpPr>
          <a:xfrm>
            <a:off x="380880" y="2133720"/>
            <a:ext cx="3962160" cy="717480"/>
            <a:chOff x="380880" y="2133720"/>
            <a:chExt cx="3962160" cy="717480"/>
          </a:xfrm>
        </p:grpSpPr>
        <p:sp>
          <p:nvSpPr>
            <p:cNvPr id="186" name=""/>
            <p:cNvSpPr/>
            <p:nvPr/>
          </p:nvSpPr>
          <p:spPr>
            <a:xfrm>
              <a:off x="417960" y="2133720"/>
              <a:ext cx="3924720" cy="71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2133720"/>
              <a:ext cx="264240" cy="71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45120" y="2133720"/>
              <a:ext cx="528120" cy="717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173600" y="2133720"/>
              <a:ext cx="150480" cy="71748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173600" y="2133720"/>
              <a:ext cx="3169440" cy="717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173600" y="2133720"/>
              <a:ext cx="3169440" cy="1792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92" name=""/>
            <p:cNvSpPr/>
            <p:nvPr/>
          </p:nvSpPr>
          <p:spPr>
            <a:xfrm>
              <a:off x="1324080" y="2313000"/>
              <a:ext cx="0" cy="53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664280" y="2313000"/>
              <a:ext cx="0" cy="53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323880" y="2313000"/>
              <a:ext cx="0" cy="53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154880" y="243252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96" name=""/>
            <p:cNvSpPr/>
            <p:nvPr/>
          </p:nvSpPr>
          <p:spPr>
            <a:xfrm>
              <a:off x="1381680" y="243252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97" name=""/>
            <p:cNvSpPr/>
            <p:nvPr/>
          </p:nvSpPr>
          <p:spPr>
            <a:xfrm>
              <a:off x="2778480" y="2432520"/>
              <a:ext cx="18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98" name=""/>
            <p:cNvSpPr/>
            <p:nvPr/>
          </p:nvSpPr>
          <p:spPr>
            <a:xfrm>
              <a:off x="3760920" y="2432520"/>
              <a:ext cx="18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99" name=""/>
            <p:cNvSpPr/>
            <p:nvPr/>
          </p:nvSpPr>
          <p:spPr>
            <a:xfrm>
              <a:off x="2025720" y="2432520"/>
              <a:ext cx="18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00" name=""/>
            <p:cNvSpPr/>
            <p:nvPr/>
          </p:nvSpPr>
          <p:spPr>
            <a:xfrm>
              <a:off x="2531160" y="2313000"/>
              <a:ext cx="0" cy="53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64280" y="2313000"/>
              <a:ext cx="264240" cy="537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99040" y="2313000"/>
              <a:ext cx="263880" cy="537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91400" y="2313000"/>
              <a:ext cx="264240" cy="537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685800" y="158436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gnment for Receiver of GTS slot 3</a:t>
            </a:r>
            <a:endParaRPr b="0" lang="en-US" sz="1600" spc="-1" strike="noStrike">
              <a:solidFill>
                <a:srgbClr val="000000"/>
              </a:solidFill>
              <a:latin typeface="Times New Roman"/>
            </a:endParaRPr>
          </a:p>
        </p:txBody>
      </p:sp>
      <p:sp>
        <p:nvSpPr>
          <p:cNvPr id="205" name=""/>
          <p:cNvSpPr/>
          <p:nvPr/>
        </p:nvSpPr>
        <p:spPr>
          <a:xfrm>
            <a:off x="417600" y="3244680"/>
            <a:ext cx="3925800" cy="71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0880" y="3244680"/>
            <a:ext cx="263520" cy="717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44400" y="3244680"/>
            <a:ext cx="528840" cy="717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173240" y="3244680"/>
            <a:ext cx="150840" cy="7178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173240" y="3244680"/>
            <a:ext cx="3170160" cy="717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173240" y="3244680"/>
            <a:ext cx="3170160" cy="179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11" name=""/>
          <p:cNvSpPr/>
          <p:nvPr/>
        </p:nvSpPr>
        <p:spPr>
          <a:xfrm>
            <a:off x="132408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6536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32424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155600" y="354348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15" name=""/>
          <p:cNvSpPr/>
          <p:nvPr/>
        </p:nvSpPr>
        <p:spPr>
          <a:xfrm>
            <a:off x="1382760" y="354348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16" name=""/>
          <p:cNvSpPr/>
          <p:nvPr/>
        </p:nvSpPr>
        <p:spPr>
          <a:xfrm>
            <a:off x="2779560" y="3543480"/>
            <a:ext cx="18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17" name=""/>
          <p:cNvSpPr/>
          <p:nvPr/>
        </p:nvSpPr>
        <p:spPr>
          <a:xfrm>
            <a:off x="3760920" y="354348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18" name=""/>
          <p:cNvSpPr/>
          <p:nvPr/>
        </p:nvSpPr>
        <p:spPr>
          <a:xfrm>
            <a:off x="2025720" y="354348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19" name=""/>
          <p:cNvSpPr/>
          <p:nvPr/>
        </p:nvSpPr>
        <p:spPr>
          <a:xfrm>
            <a:off x="253224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398680" y="3424320"/>
            <a:ext cx="2653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92480" y="342432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25720" y="24321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23" name=""/>
          <p:cNvSpPr/>
          <p:nvPr/>
        </p:nvSpPr>
        <p:spPr>
          <a:xfrm>
            <a:off x="1873080" y="3543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24" name=""/>
          <p:cNvSpPr/>
          <p:nvPr/>
        </p:nvSpPr>
        <p:spPr>
          <a:xfrm>
            <a:off x="4836960" y="2133720"/>
            <a:ext cx="3926160" cy="71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00600" y="2133720"/>
            <a:ext cx="263520" cy="71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064120" y="2133720"/>
            <a:ext cx="528480" cy="717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592600" y="2133720"/>
            <a:ext cx="150840" cy="71748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592600" y="2133720"/>
            <a:ext cx="3170520" cy="717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5592600" y="2133720"/>
            <a:ext cx="3170520" cy="179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30" name=""/>
          <p:cNvSpPr/>
          <p:nvPr/>
        </p:nvSpPr>
        <p:spPr>
          <a:xfrm>
            <a:off x="5743440" y="231300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84720" y="231300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743960" y="231300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199280" y="2432160"/>
            <a:ext cx="18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34" name=""/>
          <p:cNvSpPr/>
          <p:nvPr/>
        </p:nvSpPr>
        <p:spPr>
          <a:xfrm>
            <a:off x="8180280" y="243216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35" name=""/>
          <p:cNvSpPr/>
          <p:nvPr/>
        </p:nvSpPr>
        <p:spPr>
          <a:xfrm>
            <a:off x="6445080" y="243216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36" name=""/>
          <p:cNvSpPr/>
          <p:nvPr/>
        </p:nvSpPr>
        <p:spPr>
          <a:xfrm>
            <a:off x="6951600" y="231300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84720" y="231300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18400" y="2313000"/>
            <a:ext cx="26496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12200" y="231300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45080" y="25020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41" name=""/>
          <p:cNvSpPr/>
          <p:nvPr/>
        </p:nvSpPr>
        <p:spPr>
          <a:xfrm>
            <a:off x="4805280" y="3244680"/>
            <a:ext cx="3925800" cy="71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68920" y="3244680"/>
            <a:ext cx="263520" cy="717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032440" y="3244680"/>
            <a:ext cx="528480" cy="717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5560920" y="3244680"/>
            <a:ext cx="150840" cy="7178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5560920" y="3244680"/>
            <a:ext cx="3170160" cy="717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5560920" y="3244680"/>
            <a:ext cx="3170160" cy="179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47" name=""/>
          <p:cNvSpPr/>
          <p:nvPr/>
        </p:nvSpPr>
        <p:spPr>
          <a:xfrm>
            <a:off x="571176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05304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71192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70440" y="354348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51" name=""/>
          <p:cNvSpPr/>
          <p:nvPr/>
        </p:nvSpPr>
        <p:spPr>
          <a:xfrm>
            <a:off x="7167600" y="3543480"/>
            <a:ext cx="18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52" name=""/>
          <p:cNvSpPr/>
          <p:nvPr/>
        </p:nvSpPr>
        <p:spPr>
          <a:xfrm>
            <a:off x="8148600" y="3543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53" name=""/>
          <p:cNvSpPr/>
          <p:nvPr/>
        </p:nvSpPr>
        <p:spPr>
          <a:xfrm>
            <a:off x="6413400" y="3543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54" name=""/>
          <p:cNvSpPr/>
          <p:nvPr/>
        </p:nvSpPr>
        <p:spPr>
          <a:xfrm>
            <a:off x="6919920" y="3424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53040" y="342432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6720" y="3424320"/>
            <a:ext cx="26496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580160" y="342432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413400" y="3543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59" name=""/>
          <p:cNvSpPr/>
          <p:nvPr/>
        </p:nvSpPr>
        <p:spPr>
          <a:xfrm>
            <a:off x="4965840" y="1584360"/>
            <a:ext cx="380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gnment for Transmitter of GTS slot 3</a:t>
            </a:r>
            <a:endParaRPr b="0" lang="en-US" sz="1600" spc="-1" strike="noStrike">
              <a:solidFill>
                <a:srgbClr val="000000"/>
              </a:solidFill>
              <a:latin typeface="Times New Roman"/>
            </a:endParaRPr>
          </a:p>
        </p:txBody>
      </p:sp>
      <p:sp>
        <p:nvSpPr>
          <p:cNvPr id="260" name=""/>
          <p:cNvSpPr/>
          <p:nvPr/>
        </p:nvSpPr>
        <p:spPr>
          <a:xfrm>
            <a:off x="417600" y="5518080"/>
            <a:ext cx="3925800" cy="71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5518080"/>
            <a:ext cx="263520" cy="71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44400" y="5518080"/>
            <a:ext cx="528840" cy="717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173240" y="5518080"/>
            <a:ext cx="150840" cy="71748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173240" y="5518080"/>
            <a:ext cx="3170160" cy="717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173240" y="5518080"/>
            <a:ext cx="3170160" cy="179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66" name=""/>
          <p:cNvSpPr/>
          <p:nvPr/>
        </p:nvSpPr>
        <p:spPr>
          <a:xfrm>
            <a:off x="132408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6536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32424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55600" y="581652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70" name=""/>
          <p:cNvSpPr/>
          <p:nvPr/>
        </p:nvSpPr>
        <p:spPr>
          <a:xfrm>
            <a:off x="1382760" y="581652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71" name=""/>
          <p:cNvSpPr/>
          <p:nvPr/>
        </p:nvSpPr>
        <p:spPr>
          <a:xfrm>
            <a:off x="2779560" y="5816520"/>
            <a:ext cx="18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72" name=""/>
          <p:cNvSpPr/>
          <p:nvPr/>
        </p:nvSpPr>
        <p:spPr>
          <a:xfrm>
            <a:off x="3760920" y="581652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73" name=""/>
          <p:cNvSpPr/>
          <p:nvPr/>
        </p:nvSpPr>
        <p:spPr>
          <a:xfrm>
            <a:off x="2025720" y="581652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74" name=""/>
          <p:cNvSpPr/>
          <p:nvPr/>
        </p:nvSpPr>
        <p:spPr>
          <a:xfrm>
            <a:off x="253224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178000" y="5697360"/>
            <a:ext cx="48600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192480" y="569736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752480" y="58165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78" name=""/>
          <p:cNvSpPr/>
          <p:nvPr/>
        </p:nvSpPr>
        <p:spPr>
          <a:xfrm>
            <a:off x="4829040" y="5518080"/>
            <a:ext cx="3926160" cy="71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792680" y="5518080"/>
            <a:ext cx="263520" cy="71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5056200" y="5518080"/>
            <a:ext cx="528480" cy="717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584680" y="5518080"/>
            <a:ext cx="150840" cy="71748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5584680" y="5518080"/>
            <a:ext cx="3170520" cy="717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5584680" y="5518080"/>
            <a:ext cx="3170520" cy="1792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84" name=""/>
          <p:cNvSpPr/>
          <p:nvPr/>
        </p:nvSpPr>
        <p:spPr>
          <a:xfrm>
            <a:off x="573552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07680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73604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67400" y="581652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8" name=""/>
          <p:cNvSpPr/>
          <p:nvPr/>
        </p:nvSpPr>
        <p:spPr>
          <a:xfrm>
            <a:off x="5794200" y="581652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89" name=""/>
          <p:cNvSpPr/>
          <p:nvPr/>
        </p:nvSpPr>
        <p:spPr>
          <a:xfrm>
            <a:off x="7191360" y="5816520"/>
            <a:ext cx="18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90" name=""/>
          <p:cNvSpPr/>
          <p:nvPr/>
        </p:nvSpPr>
        <p:spPr>
          <a:xfrm>
            <a:off x="8172360" y="581652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91" name=""/>
          <p:cNvSpPr/>
          <p:nvPr/>
        </p:nvSpPr>
        <p:spPr>
          <a:xfrm>
            <a:off x="6437160" y="581652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92" name=""/>
          <p:cNvSpPr/>
          <p:nvPr/>
        </p:nvSpPr>
        <p:spPr>
          <a:xfrm>
            <a:off x="6943680" y="5697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589800" y="5697360"/>
            <a:ext cx="48564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04280" y="569736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164280" y="58165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96" name=""/>
          <p:cNvSpPr/>
          <p:nvPr/>
        </p:nvSpPr>
        <p:spPr>
          <a:xfrm>
            <a:off x="4411800" y="2333520"/>
            <a:ext cx="393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97" name=""/>
          <p:cNvSpPr/>
          <p:nvPr/>
        </p:nvSpPr>
        <p:spPr>
          <a:xfrm>
            <a:off x="4281480" y="3424320"/>
            <a:ext cx="51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298" name=""/>
          <p:cNvSpPr/>
          <p:nvPr/>
        </p:nvSpPr>
        <p:spPr>
          <a:xfrm>
            <a:off x="4281480" y="5759280"/>
            <a:ext cx="51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299" name=""/>
          <p:cNvSpPr/>
          <p:nvPr/>
        </p:nvSpPr>
        <p:spPr>
          <a:xfrm>
            <a:off x="4829040" y="4387680"/>
            <a:ext cx="3926160" cy="71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92680" y="4387680"/>
            <a:ext cx="263520" cy="717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056200" y="4387680"/>
            <a:ext cx="528480" cy="717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5584680" y="4387680"/>
            <a:ext cx="150840" cy="7178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584680" y="4387680"/>
            <a:ext cx="3170520" cy="717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5584680" y="4387680"/>
            <a:ext cx="3170520" cy="179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05" name=""/>
          <p:cNvSpPr/>
          <p:nvPr/>
        </p:nvSpPr>
        <p:spPr>
          <a:xfrm>
            <a:off x="573552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7680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3604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567400" y="468648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09" name=""/>
          <p:cNvSpPr/>
          <p:nvPr/>
        </p:nvSpPr>
        <p:spPr>
          <a:xfrm>
            <a:off x="5794200" y="468648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310" name=""/>
          <p:cNvSpPr/>
          <p:nvPr/>
        </p:nvSpPr>
        <p:spPr>
          <a:xfrm>
            <a:off x="7191360" y="4686480"/>
            <a:ext cx="18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311" name=""/>
          <p:cNvSpPr/>
          <p:nvPr/>
        </p:nvSpPr>
        <p:spPr>
          <a:xfrm>
            <a:off x="8172360" y="4686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312" name=""/>
          <p:cNvSpPr/>
          <p:nvPr/>
        </p:nvSpPr>
        <p:spPr>
          <a:xfrm>
            <a:off x="6437160" y="4686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313" name=""/>
          <p:cNvSpPr/>
          <p:nvPr/>
        </p:nvSpPr>
        <p:spPr>
          <a:xfrm>
            <a:off x="694368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589800" y="4567320"/>
            <a:ext cx="48564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04280" y="456732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64280" y="4686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317" name=""/>
          <p:cNvSpPr/>
          <p:nvPr/>
        </p:nvSpPr>
        <p:spPr>
          <a:xfrm>
            <a:off x="417600" y="4387680"/>
            <a:ext cx="3925800" cy="71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880" y="4387680"/>
            <a:ext cx="263520" cy="717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44400" y="4387680"/>
            <a:ext cx="528840" cy="717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173240" y="4387680"/>
            <a:ext cx="150840" cy="7178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173240" y="4387680"/>
            <a:ext cx="3170160" cy="717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173240" y="4387680"/>
            <a:ext cx="3170160" cy="1796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23" name=""/>
          <p:cNvSpPr/>
          <p:nvPr/>
        </p:nvSpPr>
        <p:spPr>
          <a:xfrm>
            <a:off x="132408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66536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32424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55600" y="468648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1382760" y="4686480"/>
            <a:ext cx="18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328" name=""/>
          <p:cNvSpPr/>
          <p:nvPr/>
        </p:nvSpPr>
        <p:spPr>
          <a:xfrm>
            <a:off x="2779560" y="4686480"/>
            <a:ext cx="18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329" name=""/>
          <p:cNvSpPr/>
          <p:nvPr/>
        </p:nvSpPr>
        <p:spPr>
          <a:xfrm>
            <a:off x="3760920" y="468648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330" name=""/>
          <p:cNvSpPr/>
          <p:nvPr/>
        </p:nvSpPr>
        <p:spPr>
          <a:xfrm>
            <a:off x="2025720" y="468648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331" name=""/>
          <p:cNvSpPr/>
          <p:nvPr/>
        </p:nvSpPr>
        <p:spPr>
          <a:xfrm>
            <a:off x="2532240" y="45673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398680" y="4567320"/>
            <a:ext cx="2653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92480" y="4567320"/>
            <a:ext cx="263520" cy="538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873080" y="4686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335" name=""/>
          <p:cNvSpPr/>
          <p:nvPr/>
        </p:nvSpPr>
        <p:spPr>
          <a:xfrm>
            <a:off x="4343400" y="4648320"/>
            <a:ext cx="51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D878AAB2-B891-4812-AD29-AD004AA171E3}" type="slidenum">
              <a:t>12</a:t>
            </a:fld>
          </a:p>
        </p:txBody>
      </p:sp>
      <p:sp>
        <p:nvSpPr>
          <p:cNvPr id="5" name="PlaceHolder 4"/>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seudo-Static GTS Slot Summary</a:t>
            </a:r>
            <a:endParaRPr b="0" lang="en-US" sz="36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Static GTS slot changes are made with acknowledged directed Channel Time Grant frames from the PNC to the transmitter and receiver of the GTS slo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r slot moved and expanded before the transmitter slot change in order to avoi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lot moved at a time in order to eliminate the possibility of collis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to need for a duration field to support low power devices that miss a beac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0D874A6A-89A4-4AEA-9847-E30DD82E6C4A}" type="slidenum">
              <a:t>13</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to the baseline to support Static GTS Slots</a:t>
            </a:r>
            <a:endParaRPr b="0" lang="en-US" sz="32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Time Requests:  Stations must have a way to distinguish between requests for completely static GTS slots, pseudo-static GTS slots or dynamic GTS slot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42F36BA0-189C-41E3-9C9B-23FEB2FDEDF6}" type="slidenum">
              <a:t>14</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ssigned GTS Slots</a:t>
            </a:r>
            <a:endParaRPr b="0" lang="en-US" sz="36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ssigned GTS slots can be useful for allocating channel time for use by an adjacent piconet using the same channel or by a “daughter pico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ssigned GTS slots require static GTS slot assignments in order to be used by another pico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168B32C1-86A9-4868-8C4A-4B11D1C6602E}" type="slidenum">
              <a:t>15</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s an “unassigned” GTS slot requested?</a:t>
            </a:r>
            <a:endParaRPr b="0" lang="en-US" sz="32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tion wishing to request an unassigned GTS slot can send a channel time request with its own assigned address as both the source and destination for the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wner of the slot would be then be free to establish an adjacent piconet or a daughter pidonet using its slo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DCAC9059-47B4-4E87-81AD-02FC7C60F300}" type="slidenum">
              <a:t>16</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ssigned GTS slots would beneficial.  This presentation shows how static and pseudo-static GTS slots can be added to the 802.15.3 MAC in a simple, robust and flexible mann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ssigned GTS slots can be useful for a number of reasons, including sharing a channel with adjacent piconets and/or daughter piconets as presented by Akahane-san from Sony.  This document will show how unassigned GTS slots can be requested and “assigned” with no change to the current baselin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8BEDA16D-09A6-46B7-B20D-19F64FB58E94}" type="slidenum">
              <a:t>2</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GTS Slot Assignment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GTS slot assignments are announced in every beac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C is free to change the GTS slot assignments in any Beac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need to listen to every beacons to determine which slots they will transmit in and which slots they must be listening t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PNC can change the GTS slot assignments in any beacon.  Because of this, if a station receives a Beacon in error, it cannot transmit in that beacon in order to avoid collision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D4904FFD-31AA-4DC4-8CD3-81C0471A5859}" type="slidenum">
              <a:t>3</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Static GTS Slot assignment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GTS slot assignments allow low power devices to participate in a WPAN without processing the CTAs in every beac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GTS slots allow stations to transmit in a superframe where they received the Beacon in err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the sharing a channel with an adjacent piconet or daughter picone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C could use directed frames to make static GTS slot assignment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21A790D2-549E-4EED-8230-2933C72302CD}" type="slidenum">
              <a:t>4</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th: Static GTS slots are Hard to Manage</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originally looked at using static GTS slot assignments but decided against them because they were too difficult to manage.  The concern is that if you move a static (or pseudo-static) GTS slot, a collision will occur if both transmitting stations don’t receive the change sequence correct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ality Static GTS slots can be managed with a simple and robust sche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F41709A2-2504-4424-A9F4-20243D7E15A1}" type="slidenum">
              <a:t>5</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Definition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GTS Slot: A GTS Slot that is never moved by the P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static GTS Slot: A GTS slot that is only moved by the PNC sending directed Channel Time Grant frames to both the sender and re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pplications may require static GTS slots.  Others may be able to use pseudo-static GTS slot assign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A416B755-D16D-4450-817B-18243752DEDE}" type="slidenum">
              <a:t>6</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move a pseudo-Static GTS slo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mpletely static assignments are made, then eventually the channel may become fragmented like a hard drive.  There may be ample unassigned channel time in the superframe for additional assignments, but assignments cannot be made because the available slots are too small to be assign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NC will need to re-locate GTS slots to “de-fragment” the superfra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389EDF92-3321-4E65-BFD5-47F983469453}" type="slidenum">
              <a:t>7</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685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rn about moving “pseudo-static” GTS slots</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GTS slot is being taken away from one station and given to another, both stations must receive the change message without error in order to avoid a coll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the transmitter and receiver of a moved GTS slot must be receive the change message without error to ensure that frames are not los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BBE5FBB2-71BA-4DDA-B89C-33BF0A1256F9}" type="slidenum">
              <a:t>8</a:t>
            </a:fld>
          </a:p>
        </p:txBody>
      </p:sp>
      <p:sp>
        <p:nvSpPr>
          <p:cNvPr id="6" name="PlaceHolder 5"/>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S slot “defragmentation”</a:t>
            </a:r>
            <a:endParaRPr b="0" lang="en-US" sz="3600" spc="-1" strike="noStrike">
              <a:solidFill>
                <a:srgbClr val="000000"/>
              </a:solidFill>
              <a:latin typeface="Times New Roman"/>
            </a:endParaRPr>
          </a:p>
        </p:txBody>
      </p:sp>
      <p:sp>
        <p:nvSpPr>
          <p:cNvPr id="61" name=""/>
          <p:cNvSpPr/>
          <p:nvPr/>
        </p:nvSpPr>
        <p:spPr>
          <a:xfrm>
            <a:off x="457200" y="243828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0880" y="243828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914400" y="243828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64" name=""/>
          <p:cNvSpPr/>
          <p:nvPr/>
        </p:nvSpPr>
        <p:spPr>
          <a:xfrm>
            <a:off x="1981080" y="243828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981080" y="243828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rot="16200000">
            <a:off x="182160" y="2714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67" name=""/>
          <p:cNvSpPr/>
          <p:nvPr/>
        </p:nvSpPr>
        <p:spPr>
          <a:xfrm>
            <a:off x="1981080" y="243828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68" name=""/>
          <p:cNvSpPr/>
          <p:nvPr/>
        </p:nvSpPr>
        <p:spPr>
          <a:xfrm>
            <a:off x="228600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7180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2448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81080" y="28195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72" name=""/>
          <p:cNvSpPr/>
          <p:nvPr/>
        </p:nvSpPr>
        <p:spPr>
          <a:xfrm>
            <a:off x="2438280" y="28195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73" name=""/>
          <p:cNvSpPr/>
          <p:nvPr/>
        </p:nvSpPr>
        <p:spPr>
          <a:xfrm>
            <a:off x="5257800" y="28195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74" name=""/>
          <p:cNvSpPr/>
          <p:nvPr/>
        </p:nvSpPr>
        <p:spPr>
          <a:xfrm>
            <a:off x="7238880" y="28195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75" name=""/>
          <p:cNvSpPr/>
          <p:nvPr/>
        </p:nvSpPr>
        <p:spPr>
          <a:xfrm>
            <a:off x="3733920" y="28195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76" name=""/>
          <p:cNvSpPr/>
          <p:nvPr/>
        </p:nvSpPr>
        <p:spPr>
          <a:xfrm>
            <a:off x="472428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971800" y="2666880"/>
            <a:ext cx="5335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57880" y="2666880"/>
            <a:ext cx="53316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058080" y="2666880"/>
            <a:ext cx="53316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7200" y="403848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0880" y="403848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14400" y="403848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83" name=""/>
          <p:cNvSpPr/>
          <p:nvPr/>
        </p:nvSpPr>
        <p:spPr>
          <a:xfrm>
            <a:off x="1981080" y="403848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981080" y="403848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rot="16200000">
            <a:off x="182160" y="43146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86" name=""/>
          <p:cNvSpPr/>
          <p:nvPr/>
        </p:nvSpPr>
        <p:spPr>
          <a:xfrm>
            <a:off x="1981080" y="4038480"/>
            <a:ext cx="64008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87" name=""/>
          <p:cNvSpPr/>
          <p:nvPr/>
        </p:nvSpPr>
        <p:spPr>
          <a:xfrm>
            <a:off x="228600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97180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02920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81080" y="44197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91" name=""/>
          <p:cNvSpPr/>
          <p:nvPr/>
        </p:nvSpPr>
        <p:spPr>
          <a:xfrm>
            <a:off x="2438280" y="44197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92" name=""/>
          <p:cNvSpPr/>
          <p:nvPr/>
        </p:nvSpPr>
        <p:spPr>
          <a:xfrm>
            <a:off x="4343400" y="44197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93" name=""/>
          <p:cNvSpPr/>
          <p:nvPr/>
        </p:nvSpPr>
        <p:spPr>
          <a:xfrm>
            <a:off x="5753160" y="44197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94" name=""/>
          <p:cNvSpPr/>
          <p:nvPr/>
        </p:nvSpPr>
        <p:spPr>
          <a:xfrm>
            <a:off x="3124080" y="44197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95" name=""/>
          <p:cNvSpPr/>
          <p:nvPr/>
        </p:nvSpPr>
        <p:spPr>
          <a:xfrm>
            <a:off x="396252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781680" y="4267080"/>
            <a:ext cx="160020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429000" y="2057400"/>
            <a:ext cx="23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S for Superframe n</a:t>
            </a:r>
            <a:endParaRPr b="0" lang="en-US" sz="1600" spc="-1" strike="noStrike">
              <a:solidFill>
                <a:srgbClr val="000000"/>
              </a:solidFill>
              <a:latin typeface="Times New Roman"/>
            </a:endParaRPr>
          </a:p>
        </p:txBody>
      </p:sp>
      <p:sp>
        <p:nvSpPr>
          <p:cNvPr id="99" name=""/>
          <p:cNvSpPr/>
          <p:nvPr/>
        </p:nvSpPr>
        <p:spPr>
          <a:xfrm>
            <a:off x="3429000" y="3625920"/>
            <a:ext cx="23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S for Superframe n+1</a:t>
            </a:r>
            <a:endParaRPr b="0" lang="en-US" sz="1600" spc="-1" strike="noStrike">
              <a:solidFill>
                <a:srgbClr val="000000"/>
              </a:solidFill>
              <a:latin typeface="Times New Roman"/>
            </a:endParaRPr>
          </a:p>
        </p:txBody>
      </p:sp>
      <p:sp>
        <p:nvSpPr>
          <p:cNvPr id="100" name=""/>
          <p:cNvSpPr/>
          <p:nvPr/>
        </p:nvSpPr>
        <p:spPr>
          <a:xfrm>
            <a:off x="5219640" y="5257800"/>
            <a:ext cx="5335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05440" y="5415120"/>
            <a:ext cx="23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assigned GTS tim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6902F341-C40E-4B66-A1CA-FE620F28843E}" type="slidenum">
              <a:t>9</a:t>
            </a:fld>
          </a:p>
        </p:txBody>
      </p:sp>
      <p:sp>
        <p:nvSpPr>
          <p:cNvPr id="5" name="PlaceHolder 4"/>
          <p:cNvSpPr>
            <a:spLocks noGrp="1"/>
          </p:cNvSpPr>
          <p:nvPr>
            <p:ph type="dt" idx="1"/>
          </p:nvPr>
        </p:nvSpPr>
        <p:spPr/>
        <p:txBody>
          <a:bodyPr/>
          <a:p>
            <a:r>
              <a:rPr lang="en-US"/>
              <a:t>&lt;July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William M. Shvodian</dc:creator>
  <dc:description>&lt;01/350&gt;</dc:description>
  <dc:language>en-US</dc:language>
  <cp:lastModifiedBy>Bill Shvodian</cp:lastModifiedBy>
  <cp:lastPrinted>1998-02-10T13:28:06Z</cp:lastPrinted>
  <dcterms:modified xsi:type="dcterms:W3CDTF">2001-07-11T02:39:58Z</dcterms:modified>
  <cp:revision>212</cp:revision>
  <dc:subject>IEEE 802.15 &lt;Static&amp; Uassigned GTS Slotst&gt;</dc:subject>
  <dc:title>No Slide Title</dc:title>
</cp:coreProperties>
</file>