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505-1133-48EC-B879-773A03A7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223-94B3-411A-9CDB-42DAB3C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08D-183F-46E5-A002-CE8666DA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F04-02DE-40B1-BFC5-2531B33A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6EF-D905-487E-8335-178F6FE7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2BE-C1F4-47BC-B4DB-B4BA8C9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DFA-AD37-4D57-B70E-70BBDF65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CA5-793B-4BA7-9B43-FC1AE61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5DF-747C-4A83-8E52-E090FC91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B32-EFA0-4E69-B990-03AEF5C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73-5616-4BCC-93E1-DDD1836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669-15B1-4663-941B-17C6CAC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5430AF-7623-40E0-A367-F1A99175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ott Down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3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485-4CF6-4F19-B5AD-AD03E1C8FA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GROUP 4 OBJECTIVES FOR SEPT MEETING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Reach consensus on a first pass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OBJECTIVES FOR NOV MEE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C0F-0500-46CB-833A-0E964A115A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C proposal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AC--Moto, Philips, Invensys,A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kia joined unified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on was unani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MAC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6B5-4078-4726-9C35-EBC976105F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PHY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eek with 7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roposal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, Philips,Invensys me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403-866E-4270-B4FB-A7054C0839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PHY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ime of selection vote, STS withd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waves eliminated in firs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re and Nokia eliminated in tie on second 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was unani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54F-C759-4AD9-99C0-80555BD574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WG Confirmation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at the 802.15 Working Group confirm the Baseline MAC &amp; PHY selection of Task Group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:  Carl Steve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: Jose Gutier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33-0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A03-8E98-4BFE-B93F-438E623542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Alternate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4 voted to pursue an alternate PHY in the 868-928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ossibl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Moto, Philips, 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Honeywell, A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cided to select at this meeting rather than defer until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 on the alternate PHY set for 1pm on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Moto, Philips, STS proposal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BA3-A752-4DE7-9DAF-C044AF69AB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Alternate PHY WG Confi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at the Working Group Confirm the selection of the TG4 Baseline Alternate PHY contained in Doc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360r0P802-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F04-1490-4CCF-8143-C28387174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Technical Editing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Technical Editor: Jose Gutier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Technical Editor: Moni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rge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 Technical Editor: Said Mor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00C-44F4-4F80-9EF9-EE93BDC2D0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CCA-EC1E-49BC-B1C4-449492C21C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7-13T14:35:43Z</dcterms:modified>
  <cp:revision>34</cp:revision>
  <dc:subject>IEEE 802.15 &lt;subject&gt;</dc:subject>
  <dc:title>Task Group 4 Low Rate WPANS Opening Report</dc:title>
</cp:coreProperties>
</file>