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8C1-4616-4123-AEF7-DBF20D4E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770-2C2A-4892-9F40-03B7FD8E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C28-BF1A-4AC2-8DE4-BBB4F22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450-0DCC-4BF7-9330-3A7F5C04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039-7639-4D13-B02C-D098480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E4A-8891-4068-B2CA-0CC2C0F3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B18-4B88-4C70-91CC-9DA08F7F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37E-B408-4F41-88C6-8D6091A0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716-3050-40C4-88E5-F86EF0A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EC6-42E4-4578-BA2B-F0654F8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4C0-8885-4BB5-9D2E-BA7D1E8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628-59D5-4387-A536-DDB4EE1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15C13A-5A62-4DF5-9A21-731ECE07A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3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504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LAN/WPAN Coexistence Task Group             Clos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lan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DA1-AABE-4608-B493-DA0F505FD0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Weeks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ubmitted Clauses of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on submitted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approved a letter to Bluetooth SIG regarding Adaptive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39F-B622-47AD-AF64-074849A7E3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nd the letter from IEEE 802.15 to the Bluetooth SIG, IEEE 802.15-01/349r1, with editorial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r: Steve Shell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: Tim Bla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: Passed unani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918-F9D5-4197-A02F-8BD18FEF06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inder to TG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rch TG2 requested PHY/MAC models of TG3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173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offered to run interference simulations of TG3 and other wireles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5CE-51F1-4683-A914-DB8CBC4758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for Models from TG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4 now has a baseline PHY and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requests TG4 PHY/MA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offers to run interference simulations of TG4 and other wireles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EEE 802.15-01/173r0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CC3-5F10-4BE9-9453-F38FF204D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7-13T16:09:57Z</dcterms:modified>
  <cp:revision>363</cp:revision>
  <dc:subject>IEEE 802.15 &lt;subject&gt;</dc:subject>
  <dc:title>IEEE P802.15 Working Group for Wireless Personal Area Networks</dc:title>
</cp:coreProperties>
</file>