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32A47-5818-4EF0-996F-67FB7FF40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6C755-9225-4304-ADD8-E5CF90BF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A86F-4C5D-47D0-BABF-D3AABB143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9BC72-4F32-4132-A809-82CACE0FD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294E-72FC-426A-968C-D68179795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5E26-6E2F-4A28-869D-DE95E4D5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602C-B950-48AC-8403-06C9CDC9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DFF21-1C23-4B2F-B45C-9612CE3A7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7010-BFAE-449A-9527-76E16AA6A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506F-54E3-4552-8F6C-1C1A3767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B370-41BD-40F9-9E2B-D48FA00C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90E7-773F-4164-8948-A30202033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86916D-47D0-4D1B-8C2D-99FF20E7B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changes to the TG3 MAC amendments listed in 221r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4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concerns regarding the MAC amendments in 01221r0.  And proposes changes to the amendments listed in 221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Broadcom, Cor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848B5E04-7040-4465-86ED-A23C6E19EC83}"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r service by member DEVs is more complicated than it seems as it has a number of corner cases that need complicated support from the MAC protoco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of PNC being able to see all the DEVs in the piconet at all times is a valid one. How does the requesting DEV know that the provider is able to see its dest-DEV currently. This calls for specification for a DEV to either conduct a trail and error request/rejectORaccept sequence or somehow obtain a list of DEVs that are currently in the range of a potential repeater. In practice implementations would simply choose to request PNC as it is a sure h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08FE658-AAAC-440D-83F5-7CEABB5E5B1D}"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88000"/>
          </a:bodyPr>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rrent repeater does not see the dest-DEV anymore the requestor has to go through another trial to re-establish the link and hence potentially interrupting the flow of the stream</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complicates the channel time allocation</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eating-DEV must be able to request channel time for repeated traffic which is not currently supported. At PNC this is very simple as this is a local process. But with non-PNC repeater, the PNC must be aware that the allocation is for a stream that does not originate at the repeater and hence complicates the CTA req/grant and any traffic monitor process at PNC</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that repeater service be provided only by PNC and not by member ser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B517BDA-6368-48F2-BDC3-68293F3820E3}"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ed field in ASSOC frame</a:t>
            </a:r>
            <a:endParaRPr b="0" lang="en-US" sz="3600" spc="-1" strike="noStrike">
              <a:solidFill>
                <a:srgbClr val="000000"/>
              </a:solidFill>
              <a:latin typeface="Times New Roman"/>
            </a:endParaRPr>
          </a:p>
        </p:txBody>
      </p:sp>
      <p:sp>
        <p:nvSpPr>
          <p:cNvPr id="6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erved” field is present for word alignmen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rame format, information elements etc are carefully adjusted for word alignment for ease of implemen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trongly recommend retaining the word alignment in these formats as the cost of byte aligned implementations are far exceeding an additional byte in a frame</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lls for two more amendments: (a) possibility of padding a byte in non-word aligned data frames and the indication of the same in MAC header (b) making sure all the SEC related fields and challenge text etc. are also word alig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582920F-122C-464D-B50C-60CE8905D01F}"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Beacon interval there may be one or more devices in the piconet that receive the beacon in err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ice did not receive the CTA information, it can not access the channel during CFP</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A-Grant command gives the flexibility to the PNC to announce the CTA information during the super frame in addition to the broadcast in Beacon and hence increasing the robustness in communicating that information. This also provides flexibility to PNC to help preserve Qos at a DEV that is experiencing more than usual channel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91470BD-A7EE-4857-9D96-0B9FE3951CD4}"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imes in CTA are relative to Beacon tx-start ti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 receives Beacon in error but receives a directed CTA-Grant command from PNC, the DEV has no way of using the CTA unless CTA contains both the start-time and duration of the time slot alloc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DURATION field in the MAC hea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A759F81-C8FE-43F5-86B0-73AE03197159}"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useful modification to ha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this one may be better of as an information element than as a field in capabil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case the PNC has to probe the DEV and obtain supported rate, sec, power save parameters, etc. the same probe can be made to provide the Max-GTS el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eeded during the channel time allocation and not necessarily during the associ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68709BF-60E0-46DA-8E83-A5F1573732EE}"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other information element has two advantages. Provides the Max GTS field as many bits as it needs and leaves enough bits in capability field for future extens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Max-GTS to be an information element rather than a field within Capability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B555A2E-427E-422B-A4F1-7BB6AB91E1F5}"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ye on the time</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is we do not have enough time to fill the known holes in the draft and make it to LB in the next plenary meeti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ot of work to make the changes, make sure they don’t break anything else or become inefficient and reverse them when they d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for clarification by email or in teleconference or through Al’s list of issu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suggest we work on the known holes in the draft and inconsistencies, provide clarification to the existing mechanisms to get the draft to L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D86CA34-BDAB-47FF-950D-971F235E4A16}"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laimer</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is submitted as author’s individual contribution and NOT submitted as sub-editor’s contrib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1AFB7AA3-ACF9-4F97-9E32-5B8521D3D5E8}"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rame types and forma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Duration field in MAC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Repeater service by member DEV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Reserved field in Association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ax-dur of time slot in CTA e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Max G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7069112-C1F0-40EE-A0BA-7B92AFA709DC}"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s</a:t>
            </a:r>
            <a:endParaRPr b="0" lang="en-US" sz="3600" spc="-1" strike="noStrike">
              <a:solidFill>
                <a:srgbClr val="000000"/>
              </a:solidFill>
              <a:latin typeface="Times New Roman"/>
            </a:endParaRPr>
          </a:p>
        </p:txBody>
      </p:sp>
      <p:sp>
        <p:nvSpPr>
          <p:cNvPr id="51" name="PlaceHolder 2"/>
          <p:cNvSpPr>
            <a:spLocks noGrp="1"/>
          </p:cNvSpPr>
          <p:nvPr>
            <p:ph/>
          </p:nvPr>
        </p:nvSpPr>
        <p:spPr>
          <a:xfrm>
            <a:off x="456840" y="1600200"/>
            <a:ext cx="8001000" cy="464832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dding clarification that was lacking, a totally new frame format is employ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commands was accepted in both Tampa and H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coherent policy” cited in doc#250 is not a good enough reason to simply change the formats. We should have added the clarifying tex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behind the command frame was to allow devices to transact multiple command information with overhead of one frame on the chann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174A9705-97D9-48C1-946E-A6B2B8AFEC6F}"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a:t>
            </a:r>
            <a:endParaRPr b="0" lang="en-US" sz="3600" spc="-1" strike="noStrike">
              <a:solidFill>
                <a:srgbClr val="000000"/>
              </a:solidFill>
              <a:latin typeface="Times New Roman"/>
            </a:endParaRPr>
          </a:p>
        </p:txBody>
      </p:sp>
      <p:sp>
        <p:nvSpPr>
          <p:cNvPr id="53" name="PlaceHolder 2"/>
          <p:cNvSpPr>
            <a:spLocks noGrp="1"/>
          </p:cNvSpPr>
          <p:nvPr>
            <p:ph/>
          </p:nvPr>
        </p:nvSpPr>
        <p:spPr>
          <a:xfrm>
            <a:off x="456840" y="1523880"/>
            <a:ext cx="8001000" cy="45720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and frame based format, all the information that HAS to be sent as stand-alone takes the form of a unique frame while the rest of the “control” information can be bunched into one command frame, and hence resulting in low overhead.</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DEV sending two Repeater requests and a stream management request and two retx requests to the coordinator. Instead of combining all these into one frame and sending in one shot, under the new frame formats, the device is incurring the overhead of four SIFS+preamble+PLCP_Header+MAC_Header+HEC+FCS overhead which is very expensive to be incurring on just the non-data (control)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C282156-3924-435C-B4A4-89867A1B660C}"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trol information increase, the command format results in nearly flat, low overhead while the new frame format results in linearly increasing overhead.</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mplementations, all the command frame must be processed by a command analyzer entity (CAE) which is same as information-element processor.  CAE must feed all the “management” commands required by SME to SME and the rest to be processed within MAC.</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needs two more bits in FC field. The bits in FC field are precious and hence we must use them diligently. The old format uses only 4 bits in FC field but provides plenty of room for future exten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8663BF8-BF04-4268-BCFB-964A9DF9733E}"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frame types and forma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AE in architectural description in clause-5</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processing of management v/s control commands at different entities and easy sorting while keeping the advantage of command frame format, the commands can be grouped into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7 of command type can be used to distinguish between the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helps implementation, it must be mandated that DEVs place all control commands first in a command frame followed by the management frames, although I am not sure whether this restriction is requir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B8E5195-9CDE-4F8E-BB78-D2FD9BA02A2D}"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ggyback ACK Policy</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useful modification to have. But there must be a way for the owner of the time-slot to know exactly how much channel time the responding device is going to tak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is the implementations are not going to support as the responding station could choose the lowest rate and longest frame to transmit and hence taking the all of the or most of the remaining time slo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lem gets worse when the responding has not received the Beacon correctly and hence do not know the limit of current time 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5CB9B6B-E160-4A67-83D5-59A4E6F8B19D}"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MAC header helps in DEVs to know the end of time slot when they did not receive the Beacon correctly or when they wakeup from deep sleep.</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Vs know the end of current Time slot, they can go snooze till the end, if the first frame in that time slot is not for them and wake up to rx again at the beginning of the next time slo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helps minimize the adverse effect on power saving when a DEV did not rx the Beacon correctly. Removal of Duration field forces the DEVs to be awake for the entir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986CAD3-87E9-47D5-BDC3-219F216A65E6}"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270r0&gt;</dc:description>
  <dc:language>en-US</dc:language>
  <cp:lastModifiedBy>rgubbi</cp:lastModifiedBy>
  <cp:lastPrinted>1998-02-10T13:28:06Z</cp:lastPrinted>
  <dcterms:modified xsi:type="dcterms:W3CDTF">2001-06-04T16:45:16Z</dcterms:modified>
  <cp:revision>197</cp:revision>
  <dc:subject>IEEE 802.15.3 &lt;TG3 MAC&gt;</dc:subject>
  <dc:title>Proposed changes to the TG3 MAC amendments listed in 221r0</dc:title>
</cp:coreProperties>
</file>