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BB307-8E40-47DC-B6B2-C98F46A13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7305-B990-4FB8-B915-8D8AF7F3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D5F6A-8191-43B0-80CB-392A77192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02EFB-8B40-49CA-8981-DF60F3EA7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CABF9-31D5-47AE-AB28-EB33CA69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F41C9-7D34-4BD0-AC2E-B03B8866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23D2-2EF5-4A53-928B-78736415F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873B-5210-4065-93C2-F9DF8BF05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10642-BD12-4EFA-BF5D-73D51002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3372-8CF3-49EA-9D20-538C61E46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EFBD-3714-4648-B294-519CCF1B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505A-9031-4EA8-8F04-CF9E6C393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4234C5-CD4F-41EA-8E0C-C7B1D576A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Plan Leading Into Bellevue Interi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ul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TG3 MAC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a:t>
            </a:r>
            <a:r>
              <a:rPr b="0" lang="en-US" sz="1600" spc="-1" strike="noStrike">
                <a:solidFill>
                  <a:srgbClr val="000000"/>
                </a:solidFill>
                <a:latin typeface="Times New Roman"/>
              </a:rPr>
              <a:t>	</a:t>
            </a:r>
            <a:r>
              <a:rPr b="0" lang="en-US" sz="1600" spc="-1" strike="noStrike">
                <a:solidFill>
                  <a:srgbClr val="000000"/>
                </a:solidFill>
                <a:latin typeface="Times New Roman"/>
              </a:rPr>
              <a:t>1) To inform the IEEE 802.15.3 regarding the activities the TG3 MAC committee is planning for the time interval leading up to the Bellevue Interim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7349275B-A91F-479D-B741-BAACB33020FF}"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Control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R.Roberts;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Privac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G. Ra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CE9053C-DB80-4610-A1E5-DF4843488709}"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SCs and a high level 15.3 SDL Model for the Bellevue Plen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A. Heber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y MAC Committe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D5630D8-6192-41C7-851D-A846771B7A18}"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Plan for the Time Interval Leading up to Bellevue</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864560A3-4D3A-4B2D-9C6C-1B0A9978A471}"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to many open issues in D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Bellevue Interim me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613DDC22-0252-49DE-93D2-452892D0045C}"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Holes in D05</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Time.req/ind/rsp/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oordHndOvr.req/ind/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StreamConnect.req/ind/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StreamDisconnect.req/ind/confirm</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50D943A2-3D46-42C8-886D-B99DA9FDEE35}"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Holes in D05 continued…</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x A  15.3 MAC SDL Mode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C7113FF-DE71-41BD-AF15-66543CC52F6E}"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Conference Calls Schedu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7/24, 7/31, 8/7, 8/14, 8/21,9/4, 9/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report progress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resolving open issu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Amendments for inclusion into D0.7,  one week prior to Bellevue Interim</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DA3B176-01E3-4BFD-9528-FE1D014B86D2}"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an Ad hoc MAC meeting for August 28,29 at the Motorola Facility in Schaumburg, Ill.</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resolved open issue amendments</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open issue amendments to draft standards</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Power Management and Transmit Power Control clauses into draft standard</a:t>
            </a:r>
            <a:endParaRPr b="0" lang="en-US" sz="24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6ECFAB81-A336-4002-8ED3-B0495CCB8D1E}"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7D5D0B8-A5F4-4071-BA02-9E5C3BEF5C39}"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Clau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 ;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3F009177-E919-4D46-9122-5824275C9AB1}"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96r0</dc:description>
  <dc:language>en-US</dc:language>
  <cp:lastModifiedBy>Allen Heberling</cp:lastModifiedBy>
  <cp:lastPrinted>1998-02-10T13:28:06Z</cp:lastPrinted>
  <dcterms:modified xsi:type="dcterms:W3CDTF">2001-07-12T18:42:46Z</dcterms:modified>
  <cp:revision>163</cp:revision>
  <dc:subject>IEEE 802.15.3 TG3 MAC Committee Plan Leading into Bellevue</dc:subject>
  <dc:title>TG3 MAC Committee Plan Leading into Bellevue</dc:title>
</cp:coreProperties>
</file>