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089A-C180-4097-B884-104119330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7AED-4C02-4123-BCB1-588935B2D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3727-678C-4CF0-8608-B125BBAB6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3B74C-EF55-4A48-AB5B-EFF6A5E0E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B1F7-36E4-4CC6-B484-48F26E77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896D-61C9-4D11-B3F4-FDB3C92A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D279-AE9B-458A-A9A7-D833642B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01C4-839D-485D-AA33-955DE241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530A9-60E1-49BD-AF09-6900B08D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647B-2683-426E-ABD1-FB9F80E4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5C07A-AD83-44DA-B8D1-38205290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0ACA-004A-4903-8480-1EB12570F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C3B553-F4EC-4A6A-A073-67E475AAA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Comment Resolution for D0.92 of 802.15.1 Draft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Tom Siep]    Company: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72) 496-0766], FAX: [], E-Mail:[tom.siep@ieee.org]</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1 LB11 Comment Resolution Result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the results of the deliberations of the Ballot Resolution Committee for comments received in Letter Ballot 1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Inform the WG]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Tom Siep</a:t>
            </a:r>
          </a:p>
        </p:txBody>
      </p:sp>
      <p:sp>
        <p:nvSpPr>
          <p:cNvPr id="3" name="PlaceHolder 2"/>
          <p:cNvSpPr>
            <a:spLocks noGrp="1"/>
          </p:cNvSpPr>
          <p:nvPr>
            <p:ph type="sldNum" idx="3"/>
          </p:nvPr>
        </p:nvSpPr>
        <p:spPr/>
        <p:txBody>
          <a:bodyPr/>
          <a:p>
            <a:fld id="{A8403FBB-8F1F-4A22-8F75-6EF071B47D4B}"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B11 Comment Resolution</a:t>
            </a:r>
            <a:endParaRPr b="0" lang="en-US" sz="40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11 was a Recirculation Ball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rculation Ballot Review process consid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made to the Draft D0.9.2 since the last ballot.</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t” to “shall” modification </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editorial chang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solved negative comments from the previous ballot</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mments were addressed in LB10.  The comments were either:</a:t>
            </a:r>
            <a:endParaRPr b="0" lang="en-US" sz="1800" spc="-1" strike="noStrike">
              <a:solidFill>
                <a:srgbClr val="000000"/>
              </a:solidFill>
              <a:latin typeface="Arial"/>
            </a:endParaRPr>
          </a:p>
          <a:p>
            <a:pPr lvl="3" marL="142884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d</a:t>
            </a:r>
            <a:endParaRPr b="0" lang="en-US" sz="1600" spc="-1" strike="noStrike">
              <a:solidFill>
                <a:srgbClr val="000000"/>
              </a:solidFill>
              <a:latin typeface="Arial"/>
            </a:endParaRPr>
          </a:p>
          <a:p>
            <a:pPr lvl="3" marL="142884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d</a:t>
            </a:r>
            <a:endParaRPr b="0" lang="en-US" sz="16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voter was unsatisfied with the disposition of his comments, but a decline letter was sent and that completed addressing the outstanding commen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BE6BE951-0605-4CB9-9504-BA41BABBCBD9}"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7">
                                            <p:txEl>
                                              <p:pRg st="6" end="6"/>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7">
                                            <p:txEl>
                                              <p:pRg st="7" end="7"/>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B 11 Comment Analysi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a:solidFill>
                  <a:srgbClr val="000000"/>
                </a:solidFill>
                <a:latin typeface="Arial"/>
              </a:rPr>
              <a:t>	</a:t>
            </a:r>
            <a:r>
              <a:rPr b="0" lang="en-US" sz="2400" spc="-1" strike="noStrike">
                <a:solidFill>
                  <a:srgbClr val="000000"/>
                </a:solidFill>
                <a:latin typeface="Arial"/>
              </a:rPr>
              <a:t>New com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Carried forward from LB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r>
              <a:rPr b="0" lang="en-US" sz="2400" spc="-1" strike="noStrike">
                <a:solidFill>
                  <a:srgbClr val="000000"/>
                </a:solidFill>
                <a:latin typeface="Arial"/>
              </a:rPr>
              <a:t>	</a:t>
            </a:r>
            <a:r>
              <a:rPr b="0" lang="en-US" sz="2400" spc="-1" strike="noStrike">
                <a:solidFill>
                  <a:srgbClr val="000000"/>
                </a:solidFill>
                <a:latin typeface="Arial"/>
              </a:rPr>
              <a:t>Carried forward from LB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ments on changes made from LB10 to LB11 were mad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E707527A-0796-4EA7-B448-36DF3F3B8D91}"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ion of LB11 Comment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C considered all comments lodged against the draf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were editorial and would not prevent the proper implementation of interoperabl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were technical but have been considered and declined befo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lines were re-considered and previous decisions were confi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no new never-before-seen technical comm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1FEA1C7C-C6C2-4A57-9264-9F73B94E29E7}"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1">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51">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51">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ward</a:t>
            </a:r>
            <a:endParaRPr b="0" lang="en-US" sz="4000" spc="-1" strike="noStrike">
              <a:solidFill>
                <a:srgbClr val="000000"/>
              </a:solidFill>
              <a:latin typeface="Arial"/>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The Working Group instructs the Chair of 802.15 to submit Draft D0.9.2 to the SEC for review to forward the Draft to Sponsor Ball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Tom Si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Michael Cam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2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ainst: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bstain: 7</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ll comments from LB10 that were declined and not withdrawn will be forwarded with the draft in document </a:t>
            </a:r>
            <a:br>
              <a:rPr sz="1600"/>
            </a:br>
            <a:r>
              <a:rPr b="0" lang="en-US" sz="2000" spc="-1" strike="noStrike">
                <a:solidFill>
                  <a:srgbClr val="000000"/>
                </a:solidFill>
                <a:latin typeface="Arial"/>
              </a:rPr>
              <a:t>01310r4aP802-15_WG-LB11-Comment-Form.pdf</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a:t>
            </a:r>
          </a:p>
        </p:txBody>
      </p:sp>
      <p:sp>
        <p:nvSpPr>
          <p:cNvPr id="5" name="PlaceHolder 4"/>
          <p:cNvSpPr>
            <a:spLocks noGrp="1"/>
          </p:cNvSpPr>
          <p:nvPr>
            <p:ph type="sldNum" idx="3"/>
          </p:nvPr>
        </p:nvSpPr>
        <p:spPr/>
        <p:txBody>
          <a:bodyPr/>
          <a:p>
            <a:fld id="{31408779-72EE-4FE0-A5E0-B80E9448D040}"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Tom Siep</dc:creator>
  <dc:description/>
  <dc:language>en-US</dc:language>
  <cp:lastModifiedBy>Tom Siep</cp:lastModifiedBy>
  <dcterms:modified xsi:type="dcterms:W3CDTF">2001-07-11T23:04:52Z</dcterms:modified>
  <cp:revision>140</cp:revision>
  <dc:subject/>
  <dc:title>TG1 LB11 Comment Resolution Summary</dc:title>
</cp:coreProperties>
</file>