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740665-B1F4-4479-9AC8-8766FCECB1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D448D5-12AB-452A-91C5-C6AABDC538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9A666D-BF45-4C24-A6A9-A1A1203B01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9EFEC5-C505-4E79-BFDA-E4F86D8C34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B6B809-0603-4CFA-BDAB-21C177EC20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692AFD-6DD9-4A7E-A42B-FF4801D6DA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33273E-2363-49D7-895F-F1EFEC6C37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28FDA3-5E45-4070-B829-C0BC5D45CB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809AAA-9F23-49B5-A03C-24C14311D4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7487C3-C2AC-48F0-B030-8151D90B68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047DA0-EA7C-4859-A1AD-9532145C0B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2F0D4A-3432-49ED-AEBC-0C69EF473A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5562360" y="6248520"/>
            <a:ext cx="28954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r>
              <a:rPr b="0" lang="en-GB" sz="1400" spc="-1" strike="noStrike">
                <a:solidFill>
                  <a:srgbClr val="000000"/>
                </a:solidFill>
                <a:latin typeface="Times New Roman"/>
              </a:rPr>
              <a:t>David Archer, STS- Adcon RF technology</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3123720" y="6248520"/>
            <a:ext cx="1676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lide </a:t>
            </a:r>
            <a:fld id="{ECFE2877-0058-4E60-A0C6-3435973FAC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685800" y="62485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Submission</a:t>
            </a:r>
            <a:endParaRPr b="0" lang="en-US" sz="1400" spc="-1" strike="noStrike">
              <a:solidFill>
                <a:srgbClr val="000000"/>
              </a:solidFill>
              <a:latin typeface="Times New Roman"/>
            </a:endParaRPr>
          </a:p>
        </p:txBody>
      </p:sp>
      <p:sp>
        <p:nvSpPr>
          <p:cNvPr id="6" name=""/>
          <p:cNvSpPr/>
          <p:nvPr/>
        </p:nvSpPr>
        <p:spPr>
          <a:xfrm>
            <a:off x="685800" y="4572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09480" y="152280"/>
            <a:ext cx="2210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12, 2001</a:t>
            </a:r>
            <a:endParaRPr b="0" lang="en-US" sz="1400" spc="-1" strike="noStrike">
              <a:solidFill>
                <a:srgbClr val="000000"/>
              </a:solidFill>
              <a:latin typeface="Times New Roman"/>
            </a:endParaRPr>
          </a:p>
        </p:txBody>
      </p:sp>
      <p:sp>
        <p:nvSpPr>
          <p:cNvPr id="8" name=""/>
          <p:cNvSpPr/>
          <p:nvPr/>
        </p:nvSpPr>
        <p:spPr>
          <a:xfrm>
            <a:off x="6248520" y="152280"/>
            <a:ext cx="3429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360r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804960"/>
            <a:ext cx="7772400" cy="459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P802.15 Working Group for Wireless Personal Area Networks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PHY proposal for the 802.15.4 Low Rate WPAN Standar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 [July 2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Hans van Leeuwen, David Archer]    Company: [STS/Adcon RF Technologi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Zekeringstraat 40, 1014 BT Amsterdam, Netherland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31 20 420 4200], FAX: [+31 20 420 9652], E-Mail:[HvL@STS.nl]</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PHY adoption for 868MHz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This contribution explains the PHY specifications for 868 -928 MHz band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A unified PHY proposal for the 868-928 MHz bands Motorola, Philips, STS/Adcon]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801D75E6-6301-4BD8-ADF3-532708BA34B1}"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point</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proposal had 1 or 2 radio channels in the 868MHz band, using 31 chips, and a data rate of 10 kbp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have looked at ways to increase the number of channels, and the data rat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7B11317-9F05-44B3-9503-B8F3051967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More Channel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2 scaleable solutions: </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5 or 10 radio channels</a:t>
            </a:r>
            <a:endParaRPr b="0" lang="en-US" sz="32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 or 4 in 1% Duty cycle band</a:t>
            </a:r>
            <a:endParaRPr b="0" lang="en-US" sz="2000" spc="-1" strike="noStrike">
              <a:solidFill>
                <a:srgbClr val="000000"/>
              </a:solidFill>
              <a:latin typeface="Times New Roman"/>
            </a:endParaRPr>
          </a:p>
          <a:p>
            <a:pPr lvl="1" marL="743040" indent="-285840">
              <a:lnSpc>
                <a:spcPct val="6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 or 4 in 0,1% DC</a:t>
            </a:r>
            <a:endParaRPr b="0" lang="en-US" sz="2000" spc="-1" strike="noStrike">
              <a:solidFill>
                <a:srgbClr val="000000"/>
              </a:solidFill>
              <a:latin typeface="Times New Roman"/>
            </a:endParaRPr>
          </a:p>
          <a:p>
            <a:pPr lvl="1" marL="743040" indent="-285840">
              <a:lnSpc>
                <a:spcPct val="6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or 2 in 100% DC</a:t>
            </a:r>
            <a:endParaRPr b="0" lang="en-US" sz="20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ata rate higher with complex modulation</a:t>
            </a:r>
            <a:endParaRPr b="0" lang="en-US" sz="32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PSK 2bits/S</a:t>
            </a:r>
            <a:endParaRPr b="0" lang="en-US" sz="2000" spc="-1" strike="noStrike">
              <a:solidFill>
                <a:srgbClr val="000000"/>
              </a:solidFill>
              <a:latin typeface="Times New Roman"/>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0C43DEE-746E-4314-AC49-1E829A6B78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609480"/>
            <a:ext cx="8839080" cy="5831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r adjacent channel rejection requirements are contain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TSI 220 section 9.1.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tipulat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0 dB for the adjacent channel in the band selected ( specified by the manufactur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219320" y="76212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blems we encounter</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A9ABCAAA-CF59-4852-8BE0-97D39A4D67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nels</a:t>
            </a:r>
            <a:endParaRPr b="0" lang="en-US" sz="4400" spc="-1" strike="noStrike">
              <a:solidFill>
                <a:srgbClr val="000000"/>
              </a:solidFill>
              <a:latin typeface="Times New Roman"/>
            </a:endParaRPr>
          </a:p>
        </p:txBody>
      </p:sp>
      <p:sp>
        <p:nvSpPr>
          <p:cNvPr id="53" name=""/>
          <p:cNvSpPr/>
          <p:nvPr/>
        </p:nvSpPr>
        <p:spPr>
          <a:xfrm>
            <a:off x="838080" y="2514600"/>
            <a:ext cx="7543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ing multiple channels in the 868MHz ba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going to prove very, very expensive.:</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D16C781-5974-4AED-80B6-0EBF52DBB2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066680" y="1219320"/>
            <a:ext cx="6629400" cy="477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CLUSION:  Channel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SS  gives the possibility of 15 dB spreading plus the 10 dB less stringent selectivity require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so, implementing filter circuitry would be s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ly that we decided to stay with the 2 channe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B would have to provide 25 dB more filter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51691550-5A93-4802-BCA1-33B663A04C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ate </a:t>
            </a:r>
            <a:endParaRPr b="0" lang="en-US" sz="4400" spc="-1" strike="noStrike">
              <a:solidFill>
                <a:srgbClr val="000000"/>
              </a:solidFill>
              <a:latin typeface="Times New Roman"/>
            </a:endParaRPr>
          </a:p>
        </p:txBody>
      </p:sp>
      <p:sp>
        <p:nvSpPr>
          <p:cNvPr id="56" name=""/>
          <p:cNvSpPr/>
          <p:nvPr/>
        </p:nvSpPr>
        <p:spPr>
          <a:xfrm>
            <a:off x="838080" y="2286000"/>
            <a:ext cx="769644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propose 32 chip DSSS with dual data ra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 bit/symbol</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10 kbp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8 bit/symbol</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80 kbp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ltimately other data rates are possible. These are achievable with the current implementatio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5B89C0D-B2D1-4FC1-AC05-3DB3BC98C385}"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11:21:22Z</dcterms:created>
  <dc:creator>Administrator</dc:creator>
  <dc:description/>
  <dc:language>en-US</dc:language>
  <cp:lastModifiedBy>Administrator</cp:lastModifiedBy>
  <cp:lastPrinted>2001-07-03T11:37:34Z</cp:lastPrinted>
  <dcterms:modified xsi:type="dcterms:W3CDTF">2001-07-12T15:59:29Z</dcterms:modified>
  <cp:revision>31</cp:revision>
  <dc:subject/>
  <dc:title>No Slide Title</dc:title>
</cp:coreProperties>
</file>