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1A1-BE19-46CA-929A-F26C4FD9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38C-F185-4998-9322-483C72AF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73E-BB04-46A4-BACF-C5FD7470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6FE-1FD8-4891-A1FB-1E59424F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0CA-8258-4F6F-A945-E353A7CA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24D-D878-46CA-9A1A-3D038585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CE6-05F5-491F-B795-44C6D212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DA7-43DD-4297-864C-D3F35B41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9B2C-9860-4166-8FCA-0EA14E5F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292-3A54-49DB-AE6D-39D82262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830-90C5-45E8-AADA-BBFF4193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EDC-B713-4D36-A820-198AC58A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418D738-0B68-4691-8059-66ACC6C5B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366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Closing Meeting of the 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ly 13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riott Downtown, Portland,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CF8-3638-40D0-A40C-C90A5819AA3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iday ExCom Meeting-Port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land meeting attendance=1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d to fund networking expenses at plenaries up to $10K per me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 projected to level off at around 900 for the next for plenary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 Coex presentation made with proposal for new kind of SEC group other than a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 to extend SG passed unanim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06D-1467-487D-BD7D-81A6762722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iday ExCom Meeting-Port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for EFM (802.3ah, Ethernet in the First Mile) approved for forwarding to NesCom, Roger objected that 802.16 was not included in the list of related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b-COR1 approved for forwarding to Rev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.1 forwarded to Sponsor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6 amendment PAR (802.16.2a) given conditional approval for forwarding to Nes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F0A-926D-4B30-ACB2-D4442C1FBD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iday ExCom Meeting-Port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C letter (IEEE8020.11-01/391r7) ,as amended by 802.15, deferred for a quick poll from the Working Groups prior t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C 03 document approved for submission to the FCC as an 802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d motion to purchase more projectors depending on Austi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d motion to consider 802 rules change to support Standing Committees for 802. Candidate Committes include Radio Regulatory and Coexstenc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C84-2416-41B8-955F-A7BE4C9B22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Robert F. Heile/Stuar J. Kerry</dc:creator>
  <dc:description/>
  <dc:language>en-US</dc:language>
  <cp:lastModifiedBy>Robert F.  Heile</cp:lastModifiedBy>
  <cp:lastPrinted>2000-07-07T01:25:49Z</cp:lastPrinted>
  <dcterms:modified xsi:type="dcterms:W3CDTF">2001-07-14T16:07:26Z</dcterms:modified>
  <cp:revision>118</cp:revision>
  <dc:subject>IEEE 802.1x &lt;subject&gt;</dc:subject>
  <dc:title>Report on Closing SEC Meeting7-13-01</dc:title>
</cp:coreProperties>
</file>