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B89-5EB1-453D-85A9-99D3887C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C80-8D93-41E5-9DF3-2242299F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001-BD39-4B24-BD25-4E5EDE6C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92F-CA07-43B6-97DA-029ADEC3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173-B479-4C6D-800B-E2F17C1F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D08-62F1-48CC-8B6E-3F281BC6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5A3-07BC-411E-8BAF-7088805D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590-3540-4F91-BA07-06EEFAC2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2A8-9E6D-49A7-8B61-E5DD2785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F8B-A63B-4234-A457-7159CD18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01D-0615-4724-925B-551E2849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556-CD3B-46E0-87D7-1C951A64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72DF23-8A48-4DB3-8D6C-98D5D00CF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35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EEE 802 Wireless Coexistence Study Group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esday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2720" y="3429000"/>
            <a:ext cx="4976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Lans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, IEEE 802 Coexistence Stud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.Lansford@mobilia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05) 377-61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 Bla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ary/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b@mobilia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30) 478-56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142-F868-4CEF-96A5-B9E04007CCA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g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engagement – who asks for an opin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 Chair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11/15/16 cha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eng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PAR review by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raft sub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9E8-C440-472F-813A-1B6FC565C2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fication of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vote of TAG,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11/15/16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58C-4DC7-4D0B-B854-5F57885C53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 is this really a TA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076960" cy="3616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360" y="583092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G is “almost” a working group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BF7-68DD-4358-BB52-9270BF9A8B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is is not a TAG, then we likely need a rul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s from this meeting will be rolled into a summary presentation Thursday evening before submission to ExCom on 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8BD-11E8-43B8-9CC1-027CC7CF05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 for Tuesday AM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“Statement of Purpo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activities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for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/vot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or something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B0F-2BAA-4CB6-8CBD-73F8F503E6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5 has TG2 coexistenc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b and Bluetooth(TG1) co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GSG formed to investigate single global 5GHz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xistence issues between HL2 and 11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WA in unlicensed bands uses same spectrum as W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B27-7D13-4930-B051-099FA541FA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ment of Purp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of the Stud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he functional charter of this new group to best address the wireless coexistence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 an organization to best accomplish (New WG, Joint TG, TAG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have a group that can review and make coexistence recommendations to ExComm on current or proposed IEEE standards in unlicensed 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in concept to FCC OET, which makes recommendations to the commissi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BC8-8296-418E-8F96-D6D97613A2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802.15 TG2 unchanged so they can continue working on their specific tasks at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802.11 5GSG unchanged so they can continue working on their specific tasks at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802.16 un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G is only addressing new standards or existing standards not covered by a current WG/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AG would not try to develop a recommended practic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commended practice document would require a separat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648-C38F-4064-A2E5-F5D4EC9F1A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of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onference calls h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proposal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 and voting rules un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 question is whether the role of this group as defined by the attendees is consistent with a TAG or some other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mission statement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3E1-10A9-487D-B6B4-0135F59F6C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s for this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ve outstand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/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fication of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SG propose a TAG or something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if rules change will b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o ExComm on 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s scheduled for this w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 8-10AM (Columb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 6:30-9:30PM (Salon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of SG will be needed to resolve outstand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: Close on a proposal and ask for TAG formation at Nov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276-3262-4997-B849-CBD33973A1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pos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xistence Technical Advisory Group studies the coexistence issues between wireless standards in the unlicensed frequency bands and makes recommendations to the IEEE 802 Executive Committ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1400" y="5638680"/>
            <a:ext cx="86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: This a vanilla statement…comments/sugg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0D4-895B-47C6-8FC6-87B94719DF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mbership/vo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pos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11/15/16 voter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here to existing WG rule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ointed delegates from 11/15/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8080" y="3200400"/>
          <a:ext cx="6988320" cy="31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200400"/>
                    <a:ext cx="69883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441-8804-4058-A883-F7B52BCA16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Jim Lansford</dc:creator>
  <dc:description/>
  <dc:language>en-US</dc:language>
  <cp:lastModifiedBy>Tim Blaney</cp:lastModifiedBy>
  <cp:lastPrinted>2000-09-20T20:30:42Z</cp:lastPrinted>
  <dcterms:modified xsi:type="dcterms:W3CDTF">2001-07-11T18:08:35Z</dcterms:modified>
  <cp:revision>327</cp:revision>
  <dc:subject>Coexistence SG Kickoff</dc:subject>
  <dc:title>IEEE 802 Coexistence SG</dc:title>
</cp:coreProperties>
</file>