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73D-D896-4980-8ECC-4BAE33CA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3A8-3F38-4ABB-9FC4-A25891B6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4E8-1DBA-4636-9EE0-87A3CD21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9CB-F92F-487B-B8A7-0C777FB4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5A4-AA10-470F-BC47-6A565C1E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E64-A6B2-40D2-87CD-6A1B5CED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0D8-08E5-40C0-9284-703F7F08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1CF-1D1E-4B08-81B2-57233E96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CDE-F612-4C41-B943-E9B77D77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E97-5002-45DB-A688-B8637239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F80-4861-446B-9E6E-A0C57ACD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8A1-D594-413B-BC00-A497E563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AC9AAD-4569-40D6-9292-FADF93F47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4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on Monday Executive Committee Meeting, July 9,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2B6-CC40-4F37-84ED-B05BA79D988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surplus from C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lando interim meeting ran a $48K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using surplus to fund plenary network costs for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ing SEC meeting will now be Friday afternoon (3-7 this mee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EEE 802” program is up and running. 130,000 downloads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3D0-50C9-4E2D-9764-A7E63BB932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mechanisms and missions for 802 level Coexistence and Regulator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of Roberts Rules version listing raised for furthe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Chair election process reviewed-election to take place in Nov 20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7AC-170B-4C2D-98D9-99D4A3F86C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ARs going to NesCom is decreasing overall (but not 8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Com is instituting continuous proc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 promoting getting wireless representation on NesCom and Rev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3 EFM PAR and 5 Criteria tutorial Mon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6.2a PAR up for review-deals with extensions to the licensed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C29-B846-478C-9E58-B87480C0E3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GSG PAR on the table for review-will possibly be postponed and SG extended dependent on 802.11 re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is looking at revising and strengthening the process for the use of its marks on products and pack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 looking for approval on draft position paper to FC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7EF-DEBC-4A5E-91B1-4736009CD9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B44-5111-4DFC-8F47-94651DC52B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CA5-E1E6-41F8-B83F-970AA97B27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0:05:47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7-09T17:19:58Z</dcterms:modified>
  <cp:revision>30</cp:revision>
  <dc:subject>IEEE 802.15 &lt;subject&gt;</dc:subject>
  <dc:title>No Slide Title</dc:title>
</cp:coreProperties>
</file>