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766-315E-4B58-BE1F-DA0460BA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F72-4B93-40FE-8F9E-D9E7C64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948-CCA8-4517-B055-01454630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C9F-4D9C-4938-9A03-5DEF43A2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C3D-B2B6-4D61-8220-D4AB20E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E3E-A85F-4D74-BEEC-2AC47F5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844-89BE-4E34-93B8-53570CFD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9A2-9C9F-4761-8AD1-FC29669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C7F-6F24-40CD-A327-655D531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069-230B-46B5-8CF2-A5CE8EF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F4C-D5D2-45F9-9F4D-619B683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87C-2DAA-4765-A9E9-441BF67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F44B15-E5A4-4B24-97EB-895EBE23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ott Down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A3B-31C6-471B-B0DC-71F998E682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for Intent was Issued for Proposals-9 response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FAs reviewed at Monterey Meeting, Criteria Matrix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FPs reviewed at May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work to reach a merger of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Doc revised at May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drafted and submitted in response to CFP from IEEE Networking Magaz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FA4-9F57-4470-AE06-7140EE47CF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 GROUP 4 OBJECTIVES FOR THIS MEETING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RESENT REMAINING CF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ELECT BASELINE MAC AND P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on MAC is Tuesday at 8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on PHY is Wednesday at 8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REVIEW PROGRESS ON LOW RATE ARTIC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ROUND OUT EDITING TE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DISCUSS ACTIONS FOR FOLLOW-ON PHY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ZIGBEE RELATION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599-5CE2-426B-A08B-212AEB6166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GERE PHY Proposal -Steven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MI/STS PHY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Leeuw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INVENSYS PHY Proposal -Kin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MOTOROLA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NOKIA MAC &amp; PHY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ok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PHILIPS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son/Mori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RFWAVES PHY Proposal-Vol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Unified MAC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s for Review on Monday and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308-50F5-4590-8894-FED3CE4D02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21E-007C-47E1-8F0D-1E93FB5DFB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01/289r0</dc:description>
  <dc:language>en-US</dc:language>
  <cp:lastModifiedBy>Robert F.  Heile</cp:lastModifiedBy>
  <cp:lastPrinted>1998-02-10T13:28:06Z</cp:lastPrinted>
  <dcterms:modified xsi:type="dcterms:W3CDTF">2001-07-09T15:57:07Z</dcterms:modified>
  <cp:revision>24</cp:revision>
  <dc:subject>IEEE 802.15 &lt;subject&gt;</dc:subject>
  <dc:title>Task Group 4 Low Rate WPANS Opening Report</dc:title>
</cp:coreProperties>
</file>