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4C5-F2A8-4F77-BDE8-4EDE8633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1E3-AB07-42E8-9EF4-D7CB1865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8DF-51AE-4641-8250-F9DFC7DB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A61-CE4E-4CD2-B415-9A8377A5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8B5-10E5-41DA-B3A0-0042C816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A3C-48DE-4565-ADBA-54EA9B79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75B-CE93-436C-AEFB-E757E13A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D01-9648-4833-A612-A051484B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AAB-A6BC-43EE-A019-952FE092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5DC-8CE9-4685-9161-798CD121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165-90C2-4065-9F21-0B8C0175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6A5-D2F9-4DBC-824F-B4EFA191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0BCE9DD-8D9E-4FB0-8587-FFEA2AEF7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33920" y="380160"/>
            <a:ext cx="47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398-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ing Report of Radio Regulations to Plenary Working Group meet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2001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802.11 ad-hoc Chairm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Vic Ha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ieee802.org/Regulation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0C8-8DED-4D7D-A94F-C520FC29397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for NPRM fi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ower the Regulatory Ombudsman to make document 11-01/391 r6 complete and internally consistent for filing at the FCC with this WG as one of the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: Ha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CB1-143F-4A4B-8727-83EEC8098C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GHz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statement to ETSI Project B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11-01/268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of mobile applications for 5150-5250 MHz and 5460-5725 MHz, in concert with the WRC 2003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otion of FWA in addition to the mobile/nomadic use in the 5725-5850 M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D5B-BFF0-4F31-B16C-DEBC080BAA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o submit doc 11-01/468r2 to 802.11, 802.15 and 802.16 with the request to empower the regulatory  ombudsman to finalize the document and send it to the address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over: Van Waes, second: Chaunc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ally: Approv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Do not approve 0, Abstaining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2.15 tally: Approve 1, Do not approve 0, Abstaining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2.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ally: Approv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Do not approve 0, Abstaining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asses unani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BDA-2A35-4805-B479-38422BE42E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G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ower the Regulatory Ombudsman to make document 11-01/468 r2 complete and internally consistent for sending to EP B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: Ha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EE9-567F-4E3B-B554-D7264E5D5C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output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ssion to the IWG5 and US JRG 8A-9B, indicating US industry desire to support the mobile allocation in the bands of agenda item 1.5 (resolves 1 of resolution 736 WRC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480-3C67-4822-BCB7-7D97240F0D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for WRC-03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Item 1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o submit doc 11-01/469r0 to 802.11, 802.15 and 802.16 with the request to empower the regulatory  ombudsman to finalize the document and send it to the address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over: Murray, second: Kuwah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ally: Approv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Do not approve 0, Abstaining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2.15 tally: Approve 1, Do not approve 0, Abstaining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2.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ally: Approv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Do not approve 0, Abstain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asses unani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6D2-B899-4ECE-8326-A81E154787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for AI 1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ower the Regulatory Ombudsman to make document 11-01/469 r0 complete and internally consistent for sending to IWG2 and US JTG 4-7-8-9 and US JRG 8A/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: Ha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FD8-12ED-4E60-8B82-74992E5910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prepared for review of the following external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 to FCC on NPRM 99-2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to 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ssion to US groups on WRC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288-444D-4792-99BD-22C9DAA9F4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nex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Regulatory Group as Permanent Group with a Cha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PAR rules 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and submit other position statements if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pectrum requirement 5 GHz b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C09-0669-40F0-835E-354A146A76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Portland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Regulatory Group as Permanent Group with a Cha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PAR rules 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Comment on FNPRM 99-2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and submit other position statements if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pectrum requirement 5 GHz b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AC3-63E9-448E-82B3-79BF70FB48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802 level Regulatory work (11-01/4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set of rules available for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SEC Standing Committe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are Working Group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s on actions by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authority for Tele-conferences, e-mail ballots and quick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age, charter to be established at establishmen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C40-C124-4CC1-A01A-1C3D61A847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on rules for SEC S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o submit 11-01/416 r0 to the radio Working Groups for consideration for appr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urray/Kuwa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02.11 tally: Approve 3, Do not approve 0, Abstaining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02.15 tally: Approve 1, Do not approve 0, Abstaining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02.16 tally: Approve 5, Do not approve 0, Abstaining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asses unanim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80B-997E-4402-8716-35CB1C8316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ng proposed rules change to SEC at Friday meeting (action Vic Hayes, SEC memb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for distribution and lette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or approval at November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F69-03EA-419D-907F-9B16074FED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ime to make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9D7-DD50-4898-9E25-2BCD3F6694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Comments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sharing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Adaptive 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rage 30 s re-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 wa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modulation in 2.4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missing power spectrum density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ain from propo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 rules in 915 and 2450 MHz bands with U-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 5.7 GHz band with 25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d 802.16.4 proposal supporting erroneous rule in 5.7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DCC-2714-4481-9BDB-7DA88AAAD2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Comment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tion: To submit doc 11-01/391r4 to 802.11, 802.15 and 802.16 with the request to empower the regulatory  ombudsman to finalize the document and send it to the address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ver: Goldhammer, Second: Chaunc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sue about 5.7 GHz power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In the interest of time and the importance to submit Response to FCC considering their co-operation with Indust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tion to amend the document to remove 2.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ver: Kuwahara, Second: Lyckl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02.11 tally: Approve 3, Do not approve 0, Abstaining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02.15 tally: Approve 0, Do not approve 0, Abstainin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02.16 tally: Approve 2, Do not approve 2, Abstainin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hair interprets this motion as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659-EDD8-4FF4-BF2A-E50E00B533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Comment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tion with amended document: To submit doc 11-01/391r4 to 802.11, 802.15 and 802.16 with the request to empower the regulatory  ombudsman to finalize the document and send it to the address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2.11 tally: Approve 3, Do not approve 0, Abstaining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2.15 tally: Approve 1, Do not approve 0, Abstaining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2.16 tally: Approve 2, Do not approve 2, Abstaining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ended document will be sent to the 3 Work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549-8E5D-4828-A679-8E568D83D0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0:41:31Z</dcterms:created>
  <dc:creator>Vic Hayes</dc:creator>
  <dc:description/>
  <dc:language>en-US</dc:language>
  <cp:lastModifiedBy>Vic Hayes</cp:lastModifiedBy>
  <cp:lastPrinted>1998-02-10T13:28:06Z</cp:lastPrinted>
  <dcterms:modified xsi:type="dcterms:W3CDTF">2001-07-13T07:32:46Z</dcterms:modified>
  <cp:revision>19</cp:revision>
  <dc:subject/>
  <dc:title>Opening report March 2001 meeting</dc:title>
</cp:coreProperties>
</file>