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C32D0-617D-46FE-9783-63CEBC01D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BE224-D081-4F5D-AA02-1FD71C94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D68D9-249B-4F50-9559-FE68C37DF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DA5B7-7D4E-484F-9735-C814314FA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5573C-A84B-496C-B368-4EE2CC4B9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7641C-03E4-4EF1-B1AB-0E9F3D57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BD89B-2A19-4453-ABC9-A73DA22DA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14167-25B8-49C0-A6D4-F3A872183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243C1-4B9D-4DF3-A509-10909058C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2021-6780-40D0-AC3C-A2374277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43D19-DDB7-478F-9930-592B19C8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8A68B-3CBA-4A30-9497-09F05EBEA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5C690E-EF7E-44DE-A75C-949BA297E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9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54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Closing Report and Plan for Port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Portland TG3 MAC report and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1) </a:t>
            </a:r>
            <a:r>
              <a:rPr b="0" lang="en-US" sz="1600" spc="-1" strike="noStrike">
                <a:solidFill>
                  <a:srgbClr val="000000"/>
                </a:solidFill>
                <a:latin typeface="Times New Roman"/>
              </a:rPr>
              <a:t>To report to the IEEE 802.15.3 regarding the activities of the IEEE 802.15.3 MAC committee accomplished during the Portland Plenary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To inform the IEEE 802.15.3 regarding the activities the TG3 MAC committee is planning for the time interval leading up to the Bellevue Interim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B3B181D9-47F8-42EB-9CBB-9188BFD0E880}"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Control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J.Bain/R.Roberts; R.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Privacy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G. Ra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C22BC1C-7F1B-4958-B847-7CA817AF4F89}"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SCs and a high level 15.3 SDL Model for the Bellevue Plen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A. Heberl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by MAC Committe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E2C2840-7E86-43ED-A044-AEFE2744F083}"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Closing Report and Plan at Portland, July 2001</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5028378-E5EA-431D-BB08-569F7631414B}"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TG3 MAC committee activities during the Portland Interim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MAC Activities planned for the time interval leading up to the Bellevue Interim me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2917636-826E-4269-8D47-993FCC3D637B}"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Portland Plenary</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ed 164 MAC Open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68 MAC Open Issues addressed in D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ted for approval doc:01/298r0 describing 42 amendments which shall be incorporated into D0.5 to create D0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DE7274C6-B0BC-4178-9083-689CD6223A74}"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Portland Plenary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a MAC committee Plan (doc: 01/296r0…) for the interval between the Portland Plenary meeting and the Bellevue Interim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93A6D3B-77B0-478C-B649-5853632D532A}"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Conference Calls Schedu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7/24, 7/31, 8/7, 8/14, 8/21,9/4, 9/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report progress on applying amendments to draft d05</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ing new or the existing 42 open/tabled issues and creating amendments for sa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5F95B6C-59DD-484C-914C-478819798397}"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d an Ad hoc drafting meeting for August 28,29 at the Motorola Facility in Schaumburg, Il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resolved open issue amendments</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open issue amendments to draft standards</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Power Management, Security and Transmit Power Control clauses into draft standard</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DC52A2E-4299-4A82-9C4D-70361775C0C8}"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or Complete these cl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hannel-Time.req/ind/rsp/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oordHndOvr.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Connect.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Disconnect.req/ind/confi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4E334D2-51F3-4F81-A815-78674DF1E395}"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Bellevue Interim:</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to author w/ inputs from staff.</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Clau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J.Bain ; R.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election by MAC Committe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BEB8F25-54ED-4EE4-AC7E-70A42B49200E}"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97r1</dc:description>
  <dc:language>en-US</dc:language>
  <cp:lastModifiedBy>om</cp:lastModifiedBy>
  <cp:lastPrinted>1998-02-10T13:28:06Z</cp:lastPrinted>
  <dcterms:modified xsi:type="dcterms:W3CDTF">2001-07-12T22:48:22Z</dcterms:modified>
  <cp:revision>165</cp:revision>
  <dc:subject>IEEE 802.15.3 TG3 MAC Committee Closing Report and Plan</dc:subject>
  <dc:title>TG3 MAC Committee Closing Report and Plan </dc:title>
</cp:coreProperties>
</file>