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995-B41F-4DBA-87CD-2739FFC0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B73-7DB7-4204-B345-7D414F8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7ED-0DA5-4976-BF65-48EA6C23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6E1-5AA8-4787-9E9C-488771EA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38B-EA1E-4A22-8DD6-C000116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27C-2466-4B13-A81C-C5B89EF9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B7A-C869-4E86-8487-FD202AEA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29C-F06C-4EDC-9AB3-DA4D1778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3D5-2438-46B4-A15F-0B837B95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4FF-2CFF-4886-932A-C92BE8A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C47-F2CA-4AB7-8ADE-074BAE1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5DC-B676-4EBB-A4BB-46E7739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7CB18B-DE42-491E-8E88-58BCA136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3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Wireless Coexistence Study Group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day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3429000"/>
            <a:ext cx="497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Bl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y/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b@mobili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30) 478-56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085-1BB8-4603-9850-DEFA148A77D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e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Membership/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Ratificati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oes the SG propose a TAG or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Rule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Determine if rules change will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Present to ExCom on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Meetings scheduled for this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Tuesday 8-10AM (Colum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Thursday 6:30-9:30PM (Sal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SG will be needed to resolve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: Close on a proposal and ask for COEX formation at Nov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894-68D4-49ED-8D76-DCE265C3A2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of CO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ittee that can review and make coexistence recommendations to ExCom on current or proposed PARs within the established wireless WGs of the IEEE802 standards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concept to the FCC OET, which makes recommendations to the commissioners abou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al charter of this new group is to address the wireless coexistence issues across all wireless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0B3-A0D5-4C81-B81D-967B140D6B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Charter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roup is responsible for reviewing all unlicensed band proposed P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generates a “guidance” report to ExCom relative to coexistence with published wireless standards and those in the development process (not a Recommended Pract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“guidance” report shall be used by ExCom as a technical expert opinion for evaluating the proposed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roup is responsible for generating a final review report of the Draft Standard prior to Sponso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port will be presented to the sponsoring WG and ExCom and a copy will be sent to the Chair of all other wireless WGs within IEEE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5240" y="579132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oes not affect existing coexistence T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FB5-C30B-4C2B-B53C-1DB3CD69AF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 COEX Proposed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&amp;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ance at the 802 COEX meetings is open to registered member of 802.11, 802.15 or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ing at the 802 COEX meetings is limited to voting members of 802.11, 802.15 or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ance at 802 COEX meetings will count towards attendance at the individual’s primary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fication of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ideline requires a 75% approval vote by the members of the 802 COEX as outline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uideline is then presented to ExCom and the appropriate wireless WG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13C-B226-40F6-A2DE-BCCFB1AA5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&amp; Coexistence Complementary Cha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ze the IEEE 802 activities with the worldwide regulatory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ze the IEEE 802 activities with the internal wireless WGs relative to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9AC-D289-44A7-A8D2-183E10505F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change for organization and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Vic Hayes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activity with the Regulatory to create a consistent message within Ex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gulatory TAG is an outwardly focused activity targeted at influencing decisions of the worldwide regulatory agencies relative to IEEE 802 desired di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existence TAG is an inwardly focused activity targeted at coordinating coexistence issues within and between the various wireless WGs in IEEE 8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to extend to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CE5-3895-4D9E-B26B-56A97C82B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extend the Coexistence Study Group until the November 2001 Plenary with the original goals as previously ado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Tim Blaney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EE6-5C36-4A44-AD9D-A0805423A3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Jim Lansford</dc:creator>
  <dc:description/>
  <dc:language>en-US</dc:language>
  <cp:lastModifiedBy>Robert F.  Heile</cp:lastModifiedBy>
  <cp:lastPrinted>2000-09-20T20:30:42Z</cp:lastPrinted>
  <dcterms:modified xsi:type="dcterms:W3CDTF">2001-07-14T18:38:35Z</dcterms:modified>
  <cp:revision>330</cp:revision>
  <dc:subject>Coexistence SG Kickoff</dc:subject>
  <dc:title>IEEE 802 Coexistence SG</dc:title>
</cp:coreProperties>
</file>