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78DA3-D0D0-40EB-99BF-BC3C85777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70B2D-0865-4E3B-9799-47474B408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70D15-0F45-468A-A40D-293976B6A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AD0DB-03F1-4096-AF8B-928E7F7B3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75248-500E-4D5E-B3F4-B3EC3BD67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FA0AF-DA6E-46E8-9115-CC9FC7A9A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EAE84-A40E-4DBE-8734-B4495CB1B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DAE0A-732B-4775-B591-B38BCCFFA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8F9F1-421F-412E-912B-BF4F2C3FC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9C139-B423-4810-B72E-D42FC5287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EF2D1-4290-4070-9363-F9DF93E75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A78DB-E37E-4424-90D6-EDC056CE6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39A2CD-DE32-4500-ADC8-12C189397D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70r3</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749160"/>
            <a:ext cx="8763120" cy="490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oject: IEEE P802.15 Working Group for Wireless Personal Area Networks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802.15.3: Proposed changes to the TG3 MAC amendments listed in 221r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4th June,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Dr. Rajugopal Gubbi </a:t>
            </a:r>
            <a:r>
              <a:rPr b="0" lang="en-US" sz="1600" spc="-1" strike="noStrike">
                <a:solidFill>
                  <a:srgbClr val="000000"/>
                </a:solidFill>
                <a:latin typeface="Times New Roman"/>
              </a:rPr>
              <a:t>	</a:t>
            </a:r>
            <a:r>
              <a:rPr b="1" lang="en-US" sz="1600" spc="-1" strike="noStrike">
                <a:solidFill>
                  <a:srgbClr val="000000"/>
                </a:solidFill>
                <a:latin typeface="Times New Roman"/>
              </a:rPr>
              <a:t>Company: </a:t>
            </a:r>
            <a:r>
              <a:rPr b="0" lang="en-US" sz="1600" spc="-1" strike="noStrike">
                <a:solidFill>
                  <a:srgbClr val="000000"/>
                </a:solidFill>
                <a:latin typeface="Times New Roman"/>
              </a:rPr>
              <a:t>Broadcom, cor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400, E-Caribbean Drive, Sunnyvale, CA 9508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1.408-543-3470, FAX: +1.408-543-3470, E-Mail: rgubbi@Broadcom.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This presents concerns regarding the MAC amendments in 01221r0.  And proposes changes to the amendments listed in 221r0</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To provide an improvement to the current version of the 802.15.3 MA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ese viewgraphs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Dr. Rajugopal Gubbi, Broadcom, Corp.</a:t>
            </a:r>
          </a:p>
        </p:txBody>
      </p:sp>
      <p:sp>
        <p:nvSpPr>
          <p:cNvPr id="3" name="PlaceHolder 2"/>
          <p:cNvSpPr>
            <a:spLocks noGrp="1"/>
          </p:cNvSpPr>
          <p:nvPr>
            <p:ph type="sldNum" idx="3"/>
          </p:nvPr>
        </p:nvSpPr>
        <p:spPr/>
        <p:txBody>
          <a:bodyPr/>
          <a:p>
            <a:fld id="{F0A69E06-38A8-4DEC-A0AE-C78F253C8385}" type="slidenum">
              <a:t>1</a:t>
            </a:fld>
          </a:p>
        </p:txBody>
      </p:sp>
      <p:sp>
        <p:nvSpPr>
          <p:cNvPr id="4" name="PlaceHolder 3"/>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ied-ACK Policy (3)</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I would like to note that responding to an implied ack is kind of iffy as it needs dynamic queue management at the lowest level of MAC (as dest is fixe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ight force most implementations to simply respond with an imm-ack for all implied-ack request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might make the mechanism largely useless but nevertheless another extra mechanism to be checked during interoperability testing with schemes to test all the corner cas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50674FB4-5239-4CC2-B1DA-650BED022800}" type="slidenum">
              <a:t>10</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moval of Duration field (1)</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tion field in MAC header helps in DEVs to know the end of time slot when they did not receive the Beacon correctly or when they wakeup from deep sleep.</a:t>
            </a: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Vs know the end of current Time slot, they can snooze till the end of that time slot, if the first frame in that time slot is not for them and wake up to rx again at the beginning of the next time slot.</a:t>
            </a: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ove helps minimize the adverse effect on power saving when a DEV did not rx the Beacon correctly. Removal of Duration field forces the DEVs to be awake for the entire Beacon interva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4096097F-2A04-416A-9FDB-4D8A7995A30F}" type="slidenum">
              <a:t>11</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moval of Duration field (2)</a:t>
            </a:r>
            <a:endParaRPr b="0" lang="en-US" sz="3600" spc="-1" strike="noStrike">
              <a:solidFill>
                <a:srgbClr val="000000"/>
              </a:solidFill>
              <a:latin typeface="Times New Roman"/>
            </a:endParaRPr>
          </a:p>
        </p:txBody>
      </p:sp>
      <p:sp>
        <p:nvSpPr>
          <p:cNvPr id="67" name="PlaceHolder 2"/>
          <p:cNvSpPr>
            <a:spLocks noGrp="1"/>
          </p:cNvSpPr>
          <p:nvPr>
            <p:ph/>
          </p:nvPr>
        </p:nvSpPr>
        <p:spPr>
          <a:xfrm>
            <a:off x="685440" y="1599840"/>
            <a:ext cx="8077320" cy="48006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tion field in header helps in implied-ack mechanism</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DEV can strictly limit the duration of response frame transmission to the duration indicated in the frame that solicits implied-ack.</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chieved by specifying that the DUR field indicates the limit on response frame tx-time rather than the remaining time in the time-sl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22C2A485-ABBE-41FC-8210-95497F37531C}" type="slidenum">
              <a:t>12</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moval of Duration field (3)</a:t>
            </a:r>
            <a:endParaRPr b="0" lang="en-US" sz="3600" spc="-1" strike="noStrike">
              <a:solidFill>
                <a:srgbClr val="000000"/>
              </a:solidFill>
              <a:latin typeface="Times New Roman"/>
            </a:endParaRPr>
          </a:p>
        </p:txBody>
      </p:sp>
      <p:sp>
        <p:nvSpPr>
          <p:cNvPr id="69" name="PlaceHolder 2"/>
          <p:cNvSpPr>
            <a:spLocks noGrp="1"/>
          </p:cNvSpPr>
          <p:nvPr>
            <p:ph/>
          </p:nvPr>
        </p:nvSpPr>
        <p:spPr>
          <a:xfrm>
            <a:off x="685440" y="1599840"/>
            <a:ext cx="8077320" cy="48006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UR field avoids two adverse effects of implied-ack (a) The source-DEV not having any clue as how long the response transmission is going to be and hence not being able to correctly estimate the  channel-time required for its stream transmission. This affects the quality of service on those streams (b) responding-DEV not knowing the end of time slot and hence the possibility of exceeding the time-slot bounda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0FA32E45-342A-453E-A58F-9D785182ABCD}" type="slidenum">
              <a:t>13</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moval of Duration field (4)</a:t>
            </a:r>
            <a:endParaRPr b="0" lang="en-US" sz="3600" spc="-1" strike="noStrike">
              <a:solidFill>
                <a:srgbClr val="000000"/>
              </a:solidFill>
              <a:latin typeface="Times New Roman"/>
            </a:endParaRPr>
          </a:p>
        </p:txBody>
      </p:sp>
      <p:sp>
        <p:nvSpPr>
          <p:cNvPr id="71" name="PlaceHolder 2"/>
          <p:cNvSpPr>
            <a:spLocks noGrp="1"/>
          </p:cNvSpPr>
          <p:nvPr>
            <p:ph/>
          </p:nvPr>
        </p:nvSpPr>
        <p:spPr>
          <a:xfrm>
            <a:off x="685440" y="1599840"/>
            <a:ext cx="8077320" cy="4800600"/>
          </a:xfrm>
          <a:prstGeom prst="rect">
            <a:avLst/>
          </a:prstGeom>
          <a:noFill/>
          <a:ln w="0">
            <a:noFill/>
          </a:ln>
        </p:spPr>
        <p:txBody>
          <a:bodyPr lIns="92160" rIns="92160" tIns="46080" bIns="46080"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head calculation for a MAC frame requiring imm-ack  (QPSK/OQPSK coding: 2bit/symbol):</a:t>
            </a:r>
            <a:endParaRPr b="0" lang="en-US" sz="24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amble (10 periods of 16 symbols)                160 symbols</a:t>
            </a:r>
            <a:endParaRPr b="0" lang="en-US" sz="20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CP header (assuming 32 bits @BPSK)           32 symbols</a:t>
            </a:r>
            <a:endParaRPr b="0" lang="en-US" sz="20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header (w/o duration field: 10 bytes)           80 symbols</a:t>
            </a:r>
            <a:endParaRPr b="0" lang="en-US" sz="20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C (2 bytes)                                                       16 symbols</a:t>
            </a:r>
            <a:endParaRPr b="0" lang="en-US" sz="20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S (4 bytes)                                                        16 symbols</a:t>
            </a:r>
            <a:endParaRPr b="0" lang="en-US" sz="20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total (in symbols)                                           304 symbols</a:t>
            </a:r>
            <a:endParaRPr b="0" lang="en-US" sz="20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total(@ 11Msymbols/sec)                      27.63 usec (floor)</a:t>
            </a:r>
            <a:endParaRPr b="0" lang="en-US" sz="20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FS before the transmission (assumption)25.00 usec</a:t>
            </a:r>
            <a:endParaRPr b="0" lang="en-US" sz="20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total: overhead per tx-frame                   52.63 usec</a:t>
            </a:r>
            <a:endParaRPr b="0" lang="en-US" sz="20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K frame (no frame body)                         52.63 usec</a:t>
            </a:r>
            <a:endParaRPr b="0" lang="en-US" sz="20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overhead per MAC frame (w/o dur field)  105.26 usec</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D19546F3-927D-4BE0-8CF5-AD430DB9E054}" type="slidenum">
              <a:t>14</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moval of Duration field (5)</a:t>
            </a:r>
            <a:endParaRPr b="0" lang="en-US" sz="3600" spc="-1" strike="noStrike">
              <a:solidFill>
                <a:srgbClr val="000000"/>
              </a:solidFill>
              <a:latin typeface="Times New Roman"/>
            </a:endParaRPr>
          </a:p>
        </p:txBody>
      </p:sp>
      <p:sp>
        <p:nvSpPr>
          <p:cNvPr id="73" name="PlaceHolder 2"/>
          <p:cNvSpPr>
            <a:spLocks noGrp="1"/>
          </p:cNvSpPr>
          <p:nvPr>
            <p:ph/>
          </p:nvPr>
        </p:nvSpPr>
        <p:spPr>
          <a:xfrm>
            <a:off x="685440" y="1599840"/>
            <a:ext cx="8077320" cy="48006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head calculation (contd..)</a:t>
            </a:r>
            <a:endParaRPr b="0" lang="en-US" sz="24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overhead per MAC frame                    105.26 usec</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mental overhead of dur-field (2bytes*2)        32 symbols</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mental overhead of dur-field                    2.91usec (ceiling)</a:t>
            </a:r>
            <a:endParaRPr b="0" lang="en-US" sz="20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 overhead is (2.91/105.26)=2.76%</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 overhead increase in a typical 500B frame is 1%</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 overhead might change depending on the decisions by PHY subcommittee, but the incremental overhead of dur-field is too small relative to the total overhead and hence does not change significan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26C0B97B-E4FF-49AF-92BE-B98AC0A82E41}" type="slidenum">
              <a:t>15</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moval of Duration field (6)</a:t>
            </a:r>
            <a:endParaRPr b="0" lang="en-US" sz="3600" spc="-1" strike="noStrike">
              <a:solidFill>
                <a:srgbClr val="000000"/>
              </a:solidFill>
              <a:latin typeface="Times New Roman"/>
            </a:endParaRPr>
          </a:p>
        </p:txBody>
      </p:sp>
      <p:sp>
        <p:nvSpPr>
          <p:cNvPr id="75" name="PlaceHolder 2"/>
          <p:cNvSpPr>
            <a:spLocks noGrp="1"/>
          </p:cNvSpPr>
          <p:nvPr>
            <p:ph/>
          </p:nvPr>
        </p:nvSpPr>
        <p:spPr>
          <a:xfrm>
            <a:off x="685440" y="1599840"/>
            <a:ext cx="8077320" cy="48006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I recommend RETAINING the duration fiel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minimum conduct a PS study to understand the power save v/s the overhead costs, before deciding to remove it from the MAC head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2E661778-7609-4E55-A664-480567399DF9}" type="slidenum">
              <a:t>16</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eater service by member DEVs (1)</a:t>
            </a:r>
            <a:endParaRPr b="0" lang="en-US" sz="3600" spc="-1" strike="noStrike">
              <a:solidFill>
                <a:srgbClr val="000000"/>
              </a:solidFill>
              <a:latin typeface="Times New Roman"/>
            </a:endParaRPr>
          </a:p>
        </p:txBody>
      </p:sp>
      <p:sp>
        <p:nvSpPr>
          <p:cNvPr id="77"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er service by member DEVs is more complicated than it seems as it has a number of corner cases that need complicated support from the MAC protocol</a:t>
            </a: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ption of PNC being able to see all the DEVs in the piconet at all times is a valid one. How does the requesting DEV know that the provider is able to see its dest-DEV currently. This calls for specification for a DEV to either conduct a trail and error request/rejectORaccept sequence or somehow obtain a list of DEVs that are currently in the range of a potential repeater. In practice implementations would simply choose to request PNC as it is a sure h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54610CE5-19F1-4581-8C85-3318CAF88D52}" type="slidenum">
              <a:t>17</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eater service by member DEVs (2)</a:t>
            </a:r>
            <a:endParaRPr b="0" lang="en-US" sz="3600" spc="-1" strike="noStrike">
              <a:solidFill>
                <a:srgbClr val="000000"/>
              </a:solidFill>
              <a:latin typeface="Times New Roman"/>
            </a:endParaRPr>
          </a:p>
        </p:txBody>
      </p:sp>
      <p:sp>
        <p:nvSpPr>
          <p:cNvPr id="79"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current repeater does not see the dest-DEV anymore the requestor has to go through another trial to re-establish the link and hence potentially interrupting the flow of the stream</a:t>
            </a:r>
            <a:endParaRPr b="0" lang="en-US" sz="2400" spc="-1" strike="noStrike">
              <a:solidFill>
                <a:srgbClr val="000000"/>
              </a:solidFill>
              <a:latin typeface="Arial"/>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so complicates the channel time allocation</a:t>
            </a:r>
            <a:endParaRPr b="0" lang="en-US" sz="2400" spc="-1" strike="noStrike">
              <a:solidFill>
                <a:srgbClr val="000000"/>
              </a:solidFill>
              <a:latin typeface="Arial"/>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eating-DEV must be able to request channel time for repeated traffic which is not currently supported. At PNC this is very simple as this is a local process. But with non-PNC repeater, the PNC must be aware that the allocation is for a stream that does not originate at the repeater and hence complicates the CTA req/grant and any traffic monitor process at PN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8EBF683F-7CE9-4D32-8FE1-E1C9F9C6566D}" type="slidenum">
              <a:t>18</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eater service by member DEVs (3)</a:t>
            </a:r>
            <a:endParaRPr b="0" lang="en-US" sz="3600" spc="-1" strike="noStrike">
              <a:solidFill>
                <a:srgbClr val="000000"/>
              </a:solidFill>
              <a:latin typeface="Times New Roman"/>
            </a:endParaRPr>
          </a:p>
        </p:txBody>
      </p:sp>
      <p:sp>
        <p:nvSpPr>
          <p:cNvPr id="81"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I recommend that repeater service be provided only by PNC and not by member service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suggest the proposer of this amendment to (a) address the concerns listed and (b) make a detailed presentation on how to realize this amendment, required (new) frames/commands, formats and behavioral text using which proper text can be generated for the draf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9678B79D-3A56-4C1D-B115-3E8F07C9E358}" type="slidenum">
              <a:t>19</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claimer</a:t>
            </a:r>
            <a:endParaRPr b="0" lang="en-US" sz="3600" spc="-1" strike="noStrike">
              <a:solidFill>
                <a:srgbClr val="000000"/>
              </a:solidFill>
              <a:latin typeface="Times New Roman"/>
            </a:endParaRPr>
          </a:p>
        </p:txBody>
      </p:sp>
      <p:sp>
        <p:nvSpPr>
          <p:cNvPr id="47" name="PlaceHolder 2"/>
          <p:cNvSpPr>
            <a:spLocks noGrp="1"/>
          </p:cNvSpPr>
          <p:nvPr>
            <p:ph/>
          </p:nvPr>
        </p:nvSpPr>
        <p:spPr>
          <a:xfrm>
            <a:off x="762120" y="1828800"/>
            <a:ext cx="7772400" cy="4114800"/>
          </a:xfrm>
          <a:prstGeom prst="rect">
            <a:avLst/>
          </a:prstGeom>
          <a:noFill/>
          <a:ln w="0">
            <a:noFill/>
          </a:ln>
        </p:spPr>
        <p:txBody>
          <a:bodyPr lIns="92160" rIns="92160" tIns="46080" bIns="4608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document is submitted as author’s individual contribution and NOT submitted as sub-editor’s contribu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FCCFA4D4-0CDF-4977-96DC-40D760BA4F3C}" type="slidenum">
              <a:t>2</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erved field in ASSOC frame</a:t>
            </a:r>
            <a:endParaRPr b="0" lang="en-US" sz="3600" spc="-1" strike="noStrike">
              <a:solidFill>
                <a:srgbClr val="000000"/>
              </a:solidFill>
              <a:latin typeface="Times New Roman"/>
            </a:endParaRPr>
          </a:p>
        </p:txBody>
      </p:sp>
      <p:sp>
        <p:nvSpPr>
          <p:cNvPr id="83"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eserved” field is present for word alignment</a:t>
            </a: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frame format, information elements etc are carefully adjusted for word alignment for ease of implementation</a:t>
            </a: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strongly recommend retaining the word alignment in these formats as the cost of byte aligned implementations are far exceeding an additional byte in a frame</a:t>
            </a: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lls for two more amendments: (a) possibility of padding a byte in non-word aligned data frames and the indication of the same in MAC header (b) making sure all the SEC related fields and challenge text etc. are also word align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CA53C75D-34E0-4E51-A32D-5900F2224380}" type="slidenum">
              <a:t>20</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iminating Slot-Dur from CTA (1)</a:t>
            </a:r>
            <a:endParaRPr b="0" lang="en-US" sz="3600" spc="-1" strike="noStrike">
              <a:solidFill>
                <a:srgbClr val="000000"/>
              </a:solidFill>
              <a:latin typeface="Times New Roman"/>
            </a:endParaRPr>
          </a:p>
        </p:txBody>
      </p:sp>
      <p:sp>
        <p:nvSpPr>
          <p:cNvPr id="85"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y Beacon interval there may be one or more devices in the piconet that receive the beacon in error</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device did not receive the CTA information, it can not access the channel during CFP</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TA-Grant command gives the flexibility to the PNC to announce the CTA information during the super frame in addition to the broadcast in Beacon and hence increasing the robustness in communicating that information. This also provides flexibility to PNC to help preserve Qos at a DEV that is experiencing more than usual channel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A16946CB-DCB4-4C0D-AAC7-D9CC27881282}" type="slidenum">
              <a:t>21</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iminating Slot-Dur from CTA (2)</a:t>
            </a:r>
            <a:endParaRPr b="0" lang="en-US" sz="3600" spc="-1" strike="noStrike">
              <a:solidFill>
                <a:srgbClr val="000000"/>
              </a:solidFill>
              <a:latin typeface="Times New Roman"/>
            </a:endParaRPr>
          </a:p>
        </p:txBody>
      </p:sp>
      <p:sp>
        <p:nvSpPr>
          <p:cNvPr id="87"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imes in CTA are relative to Beacon tx-start tim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DEV receives Beacon in error but receives a directed CTA-Grant command from PNC, the DEV has no way of using the CTA unless CTA contains both the start-time and duration of the time slot allocate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I recommend retaining the slot-duration field along with the slot-start-time field in CTA ele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D3AF289D-1D29-45E3-974B-6914EEFD348F}" type="slidenum">
              <a:t>22</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x GTS field (1)</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other useful modification to hav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uggestion is that, this one may be better of as an information element than as a field in capability fiel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y case the PNC has to probe the DEV and obtain supported rate, sec, power save parameters, etc. the same probe can be made to provide the Max-GTS elemen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eeded during the channel time allocation and not necessarily during the associ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56C7079F-1E01-496C-9761-96E172A6B168}" type="slidenum">
              <a:t>23</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x GTS field (2)</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another information element has two advantages. Provides the Max GTS field as many bits as it needs and leaves enough bits in capability field for future extension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I recommend Max-GTS to be an information element rather than a field within Capability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118ED88D-F1AC-4ECC-9FF9-C82C27D21563}" type="slidenum">
              <a:t>24</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ic slot assignment (1)</a:t>
            </a:r>
            <a:endParaRPr b="0" lang="en-US" sz="3600" spc="-1" strike="noStrike">
              <a:solidFill>
                <a:srgbClr val="000000"/>
              </a:solidFill>
              <a:latin typeface="Times New Roman"/>
            </a:endParaRPr>
          </a:p>
        </p:txBody>
      </p:sp>
      <p:sp>
        <p:nvSpPr>
          <p:cNvPr id="93"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the amendment calls for static slot assignment, it does not specify the required mechanism for such an assignmen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slot assignment needs two additional changes to the current draft (a) a means for requesting static assignment and (b) some means of reliably communicating the change in static assignments. Otherwise the DEVs currently having static slots assigned may miss one or more change-announcement and continue to use their slot. This causes collision with the tx from DEVs which are using new assignmen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A85F7515-DE87-42DB-9E94-DAE1D7E138B8}" type="slidenum">
              <a:t>25</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ic slot assignment (2)</a:t>
            </a:r>
            <a:endParaRPr b="0" lang="en-US" sz="3600" spc="-1" strike="noStrike">
              <a:solidFill>
                <a:srgbClr val="000000"/>
              </a:solidFill>
              <a:latin typeface="Times New Roman"/>
            </a:endParaRPr>
          </a:p>
        </p:txBody>
      </p:sp>
      <p:sp>
        <p:nvSpPr>
          <p:cNvPr id="95"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s for requesting static assignment can be added as a bit-field in channel time request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reliably communicating the static slot changes is almost impossible and burdensome on the PNC and picone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ng the changes in static assignment calls for adding some thing similar to “Change effective time” to the CTA (in beacon) as broadcasting once would not be enough.</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change-effective-time means latency in slot usag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6D151733-C90D-4CD9-8B0A-E66D8AB08003}" type="slidenum">
              <a:t>26</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ic slot assignment (3)</a:t>
            </a:r>
            <a:endParaRPr b="0" lang="en-US" sz="3600" spc="-1" strike="noStrike">
              <a:solidFill>
                <a:srgbClr val="000000"/>
              </a:solidFill>
              <a:latin typeface="Times New Roman"/>
            </a:endParaRPr>
          </a:p>
        </p:txBody>
      </p:sp>
      <p:sp>
        <p:nvSpPr>
          <p:cNvPr id="97"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broadcasts still does not guarantee that all DEVs have received the change-broadcast and hence calls for directed frames from PNC informing the change. This is extra bandwidth needed for such communication and extra latency added to the stream transmission.</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this adds complexity to MAC but still does not solve the problem complete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937B95EA-ED44-4B00-A7C2-811E9EA1C3B1}" type="slidenum">
              <a:t>27</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nge of proposal to static slot assignment</a:t>
            </a:r>
            <a:endParaRPr b="0" lang="en-US" sz="3600" spc="-1" strike="noStrike">
              <a:solidFill>
                <a:srgbClr val="000000"/>
              </a:solidFill>
              <a:latin typeface="Times New Roman"/>
            </a:endParaRPr>
          </a:p>
        </p:txBody>
      </p:sp>
      <p:sp>
        <p:nvSpPr>
          <p:cNvPr id="99"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fontScale="91000"/>
          </a:bodyPr>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time request must have a bit to indicate the periodicity of the stream. This goes well with the idea from people in making the priority field 4 bits (3 bits of 802.1D format and 1 bit for isoch/periodicity indication: More later in 01271r0)</a:t>
            </a:r>
            <a:endParaRPr b="0" lang="en-US" sz="2400" spc="-1" strike="noStrike">
              <a:solidFill>
                <a:srgbClr val="000000"/>
              </a:solidFill>
              <a:latin typeface="Arial"/>
            </a:endParaRPr>
          </a:p>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beacon is not rxd, DEV shall not assume a time slot. Instead it waits for  CTA-info from PNC or next beacon</a:t>
            </a:r>
            <a:endParaRPr b="0" lang="en-US" sz="2400" spc="-1" strike="noStrike">
              <a:solidFill>
                <a:srgbClr val="000000"/>
              </a:solidFill>
              <a:latin typeface="Arial"/>
            </a:endParaRPr>
          </a:p>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NC must be responsible in making sure that the allocations are quasi-static in all beacons. Further, PNC must send directed frames of CTA if the channel status indicates that channel is severe at a DEV with periodic stream. This mechanism is already present and needs text to be added describing the above ru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D22D34DC-B549-464A-9DB9-519D0D0B99BE}" type="slidenum">
              <a:t>28</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49" name="PlaceHolder 2"/>
          <p:cNvSpPr>
            <a:spLocks noGrp="1"/>
          </p:cNvSpPr>
          <p:nvPr>
            <p:ph/>
          </p:nvPr>
        </p:nvSpPr>
        <p:spPr>
          <a:xfrm>
            <a:off x="762120" y="182880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to Frame types and forma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 of Piggybacked AC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al of Duration field in MAC hea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 of Repeater service by member DEV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al of Reserved field in Association fra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al of max-dur of time slot in CTA el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 of Max G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slot assign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9BB539B6-209C-4174-944B-4350E93D969D}" type="slidenum">
              <a:t>3</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ame formats (1)</a:t>
            </a:r>
            <a:endParaRPr b="0" lang="en-US" sz="3600" spc="-1" strike="noStrike">
              <a:solidFill>
                <a:srgbClr val="000000"/>
              </a:solidFill>
              <a:latin typeface="Times New Roman"/>
            </a:endParaRPr>
          </a:p>
        </p:txBody>
      </p:sp>
      <p:sp>
        <p:nvSpPr>
          <p:cNvPr id="51" name="PlaceHolder 2"/>
          <p:cNvSpPr>
            <a:spLocks noGrp="1"/>
          </p:cNvSpPr>
          <p:nvPr>
            <p:ph/>
          </p:nvPr>
        </p:nvSpPr>
        <p:spPr>
          <a:xfrm>
            <a:off x="456840" y="1600200"/>
            <a:ext cx="8001000" cy="464832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of adding clarification that was lacking, a totally new frame format is employe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pt of commands was accepted in both Tampa and HH</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o coherent policy” cited in doc#250 is not a good enough reason to simply change the formats. We should have added the clarifying tex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dea behind the command frame was to allow devices to transact multiple command information with overhead of one frame on the channe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918CD905-FC26-4E09-9E6B-8551E2A3D243}" type="slidenum">
              <a:t>4</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ame format (2)</a:t>
            </a:r>
            <a:endParaRPr b="0" lang="en-US" sz="3600" spc="-1" strike="noStrike">
              <a:solidFill>
                <a:srgbClr val="000000"/>
              </a:solidFill>
              <a:latin typeface="Times New Roman"/>
            </a:endParaRPr>
          </a:p>
        </p:txBody>
      </p:sp>
      <p:sp>
        <p:nvSpPr>
          <p:cNvPr id="53" name="PlaceHolder 2"/>
          <p:cNvSpPr>
            <a:spLocks noGrp="1"/>
          </p:cNvSpPr>
          <p:nvPr>
            <p:ph/>
          </p:nvPr>
        </p:nvSpPr>
        <p:spPr>
          <a:xfrm>
            <a:off x="456840" y="1523880"/>
            <a:ext cx="8001000" cy="4572000"/>
          </a:xfrm>
          <a:prstGeom prst="rect">
            <a:avLst/>
          </a:prstGeom>
          <a:noFill/>
          <a:ln w="0">
            <a:noFill/>
          </a:ln>
        </p:spPr>
        <p:txBody>
          <a:bodyPr lIns="92160" rIns="92160" tIns="46080" bIns="46080" anchor="t">
            <a:normAutofit fontScale="92000"/>
          </a:bodyPr>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command frame based format, all the information that HAS to be sent as stand-alone takes the form of a unique frame while the rest of the “control” information can be bunched into one command frame, and hence resulting in low overhead.</a:t>
            </a:r>
            <a:endParaRPr b="0" lang="en-US" sz="2400" spc="-1" strike="noStrike">
              <a:solidFill>
                <a:srgbClr val="000000"/>
              </a:solidFill>
              <a:latin typeface="Arial"/>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 DEV sending two Repeater requests and a stream management request and two retx requests to the coordinator. Instead of combining all these into one frame and sending in one shot, under the new frame formats, the device is incurring the overhead of four SIFS+preamble+PLCP_Header+MAC_Header+HEC+FCS overhead which is very expensive to be incurring on just the non-data (control)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50A69026-A728-4D65-82C4-AAC1B0C06E87}" type="slidenum">
              <a:t>5</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ame format (3)</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control information increase, the command format results in nearly flat, low overhead while the new frame format results in linearly increasing overhead.</a:t>
            </a:r>
            <a:endParaRPr b="0" lang="en-US" sz="2400" spc="-1" strike="noStrike">
              <a:solidFill>
                <a:srgbClr val="000000"/>
              </a:solidFill>
              <a:latin typeface="Arial"/>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implementations, all the command frame must be processed by a command analyzer entity (CAE) which is same as information-element processor.  CAE must feed all the “management” commands required by SME to SME and the rest to be processed within MAC.</a:t>
            </a:r>
            <a:endParaRPr b="0" lang="en-US" sz="2400" spc="-1" strike="noStrike">
              <a:solidFill>
                <a:srgbClr val="000000"/>
              </a:solidFill>
              <a:latin typeface="Arial"/>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needs two more bits in FC field. The bits in FC field are precious and hence we must use them diligently. The old format uses only 4 bits in FC field but provides plenty of room for future extens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DC23D5EA-012F-4FF9-9DC4-9D2322EF3BDB}" type="slidenum">
              <a:t>6</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frame types and formats</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 CAE in architectural description in clause-5</a:t>
            </a:r>
            <a:endParaRPr b="0" lang="en-US" sz="2400" spc="-1" strike="noStrike">
              <a:solidFill>
                <a:srgbClr val="000000"/>
              </a:solidFill>
              <a:latin typeface="Arial"/>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nable processing of management v/s control commands at different entities and easy sorting while keeping the advantage of command frame format, the commands can be grouped into management and control commands.</a:t>
            </a:r>
            <a:endParaRPr b="0" lang="en-US" sz="2400" spc="-1" strike="noStrike">
              <a:solidFill>
                <a:srgbClr val="000000"/>
              </a:solidFill>
              <a:latin typeface="Arial"/>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t-7 of command type can be used to distinguish between the management and control commands</a:t>
            </a:r>
            <a:endParaRPr b="0" lang="en-US" sz="2400" spc="-1" strike="noStrike">
              <a:solidFill>
                <a:srgbClr val="000000"/>
              </a:solidFill>
              <a:latin typeface="Arial"/>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helps implementation, it must be mandated that DEVs place all control commands first in a command frame followed by the management frames, although I am not sure whether this restriction is requir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2C560BE4-D8D4-4F46-938E-1DD7114E726D}" type="slidenum">
              <a:t>7</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ied-ACK Policy (1)</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useful modification to have. But there must be a way for the owner of the time-slot to know exactly how much channel time the responding device is going to tak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this the implementations are not going to support as the responding station could choose the lowest rate and longest frame to transmit and hence taking the all of the or most of the remaining time slo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blem gets worse when the responding has not received the Beacon correctly and hence do not know the limit of current time sl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206A7E54-8D60-40C4-9184-AC552F0A5FB4}" type="slidenum">
              <a:t>8</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ied-ACK Policy (2)</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improvements are needed:</a:t>
            </a:r>
            <a:endParaRPr b="0" lang="en-US" sz="2400" spc="-1" strike="noStrike">
              <a:solidFill>
                <a:srgbClr val="000000"/>
              </a:solidFill>
              <a:latin typeface="Arial"/>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ck-policy=piggyback-ACK, use the Duration field to indicate to the responding DEV how long it can transmit over the channel starting immediately after SIFS after the end of current frame. The duration must include SIFS, preamble and PPDU and the ACK tx, if expected.</a:t>
            </a:r>
            <a:endParaRPr b="0" lang="en-US" sz="2400" spc="-1" strike="noStrike">
              <a:solidFill>
                <a:srgbClr val="000000"/>
              </a:solidFill>
              <a:latin typeface="Arial"/>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ponding DEV must be allowed to send either a data frame addressed to the owner of the time slot or an imm-ack frame. In either case, the previous frame transmitted by the owner of the time slot is considered positively acknowledg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BB3E7820-7C58-4D81-8515-64D3E77E97A4}" type="slidenum">
              <a:t>9</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23:29:32Z</dcterms:created>
  <dc:creator>Dr. Rajugopal Gubbi</dc:creator>
  <dc:description>&lt;doc#270&gt;</dc:description>
  <dc:language>en-US</dc:language>
  <cp:lastModifiedBy>rgubbi</cp:lastModifiedBy>
  <cp:lastPrinted>1998-02-10T13:28:06Z</cp:lastPrinted>
  <dcterms:modified xsi:type="dcterms:W3CDTF">2001-07-12T16:17:49Z</dcterms:modified>
  <cp:revision>220</cp:revision>
  <dc:subject>IEEE 802.15.3 &lt;TG3 MAC&gt;</dc:subject>
  <dc:title>Proposed changes to the TG3 MAC amendments listed in 221r0</dc:title>
</cp:coreProperties>
</file>