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F49A4-18F9-43D0-B7A5-40DA66578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0731-BE73-4C81-B68C-AA90F9574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1E0C8-4E33-452C-9312-50EFE5E6A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4C801-D772-4D14-B914-D52EE975C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309D-D7DE-424A-9AB9-2C6F0E285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DA280-012E-43F1-BC5D-278AE504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0ECF6-300D-454D-AC6D-E2CAAB02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6529-B226-4433-B61E-05284BF5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C672-9BB5-41F0-86AA-4C157132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BEDB-90B3-4606-B29D-D24D63FD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3326-F4A5-4F5E-9B23-6E758940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C66E7-19BD-45E2-BFA8-810572596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8A37C2-B411-474F-AF2E-E84E6EB98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9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Closing Report and Plan for Port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Portland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accomplished during the Portland Plenary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is planning for the time interval leading up to the Bellevue Interim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F1747293-D6F2-49DF-8C6C-789B50E2EE4F}"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Control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J.Bain/R.Roberts;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Privacy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G. Ra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4B26355-F8D8-4CEE-8E4E-25BAAEF2B641}"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SCs and a high level 15.3 SDL Model for the Bellevue Plen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A. Heber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y MAC Committe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39A7CA8-9D3C-4D58-8032-E298E49D09D4}"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Closing Report and Plan at Portland, July 2001</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1559E3A4-CD0C-46CE-BCB2-E448E6B88D3F}"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during the Portland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Activities planned for the time interval leading up to the Bellevue Interim me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D843986-133F-49DD-8150-2AD642F6031B}"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Portland Plenary</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ed 164 MAC Open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68 MAC Open Issues addressed in D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ted for approval doc:01/298r0 describing 42 amendments which shall be incorporated into D0.5 to create D0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D34FD4D6-44CB-44EA-B4A3-2EE14516255D}"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Portland Plenary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a MAC committee Plan (doc: 01/296r0…) for the interval between the Portland Plenary meeting and the Bellevue Interim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954C854-4028-4AF0-90FC-7B2240DE2D91}"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Conference Calls Schedu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7/24, 7/31, 8/7, 8/14, 8/21,9/4, 9/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report progress on applying amendments to draft d05</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ing new or the existing 42 open/tabled issues and creating amendments for sa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09F77BA-A513-4A49-9225-2ECC8DADD40A}"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d an Ad hoc MAC meeting for August 28,29 at the Motorola Facility in Schaumburg, Ill.</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resolved open issue amendments</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open issue amendments to draft standards</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Power Management and Transmit Power Control clauses into draft standard</a:t>
            </a:r>
            <a:endParaRPr b="0" lang="en-US" sz="24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913D7BA-9A96-4C0B-B061-92977E550043}"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or Complete these cl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hannel-Time.req/ind/rsp/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oordHndOvr.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Connect.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Disconnect.req/ind/confi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6E51ABE-EE8D-4555-B4BD-7E986268562C}"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to author w/ inputs from staff.</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Clau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J.Bain ;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D0A18DF5-347C-43E2-8D2D-35A91F6FA342}"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97r0</dc:description>
  <dc:language>en-US</dc:language>
  <cp:lastModifiedBy>Allen Heberling</cp:lastModifiedBy>
  <cp:lastPrinted>1998-02-10T13:28:06Z</cp:lastPrinted>
  <dcterms:modified xsi:type="dcterms:W3CDTF">2001-07-12T18:35:32Z</dcterms:modified>
  <cp:revision>163</cp:revision>
  <dc:subject>IEEE 802.15.3 TG3 MAC Committee Closing Report and Plan</dc:subject>
  <dc:title>TG3 MAC Committee Closing Report and Plan </dc:title>
</cp:coreProperties>
</file>