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7EB52-1E1A-4E28-88EC-D9526AD53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9BD07-13AD-4F2E-99F5-A7B96A69E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B8CED-F633-4A83-88EC-63569D981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465FC-8DF2-4020-A1AE-EA6964B7E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2AC69-AB71-4ABE-AAC7-A035B0956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681DD-F0D0-4984-AB3F-796377462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762D5-2FC9-4388-95A9-480B57A8A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D610E-44EC-449D-9A19-E2DCC2C4F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F69D7-4763-4DDD-8DD3-DE4D61C35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3124C-EC3B-4B64-8AEC-EC1AF50BF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82496-59C1-4E24-9905-1C2BE6D14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AE45E-66A8-4CFC-A6F9-5865DA5F7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 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01B8DC-2A89-41B0-92B9-D54B8DFB6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3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9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PHY-</a:t>
            </a:r>
            <a:r>
              <a:rPr b="0" lang="en-US" sz="1600" spc="-1" strike="noStrike">
                <a:solidFill>
                  <a:srgbClr val="000000"/>
                </a:solidFill>
                <a:latin typeface="Times New Roman"/>
              </a:rPr>
              <a:t>and-Draft-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9 Jul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217-2201</a:t>
            </a:r>
            <a:r>
              <a:rPr b="0" lang="en-US" sz="1600" spc="-1" strike="noStrike">
                <a:solidFill>
                  <a:srgbClr val="000000"/>
                </a:solidFill>
                <a:latin typeface="Times New Roman"/>
              </a:rPr>
              <a:t>], FAX: [</a:t>
            </a:r>
            <a:r>
              <a:rPr b="0" lang="en-US" sz="1600" spc="-1" strike="noStrike">
                <a:solidFill>
                  <a:srgbClr val="000000"/>
                </a:solidFill>
                <a:latin typeface="Times New Roman"/>
              </a:rPr>
              <a:t>1-858-217-2301</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opening and closing reports for the PHY committee and draft standard for the July meeting in Portland</a:t>
            </a:r>
            <a:r>
              <a:rPr b="0" lang="en-US" sz="1600" spc="-1" strike="noStrike">
                <a:solidFill>
                  <a:srgbClr val="000000"/>
                </a:solidFill>
                <a:latin typeface="Times New Roman"/>
              </a:rPr>
              <a:t>.  This summarizes the work accomplished on the conference calls and interim meeting from Orlando through the end of the Portland meet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the work accomplished by the PHY committee and for the Draft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E7A641BF-249B-4D1E-A2E8-211B1FD74F9B}"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progress</a:t>
            </a:r>
            <a:endParaRPr b="0" lang="en-US" sz="36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and PHY amendments implemen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pefully MAC amendments will go smooth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iest for D06 is 1 August, 200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8D1539E-6FB8-4B58-BA5F-FF708BFD207F}"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a:t>
            </a:r>
            <a:endParaRPr b="0" lang="en-US" sz="3600" spc="-1" strike="noStrike">
              <a:solidFill>
                <a:srgbClr val="000000"/>
              </a:solidFill>
              <a:latin typeface="Arial"/>
            </a:endParaRPr>
          </a:p>
        </p:txBody>
      </p:sp>
      <p:sp>
        <p:nvSpPr>
          <p:cNvPr id="47"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A defin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 &gt; -70 dBm for 16 symbols)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 wording for SIFS and slo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S = aRXTXTurnAround, slot = aCCADetectTi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RSSI and LQ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SI: 8 steps  of nominally 8 dB from max. sig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QI: SNR measured at demodulato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er co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ne, reduce overhead, shorter length improves PER</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C7BE576-433B-40C0-B8C2-367C4AC2796F}"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 (cont.)</a:t>
            </a:r>
            <a:endParaRPr b="0" lang="en-US" sz="3600" spc="-1" strike="noStrike">
              <a:solidFill>
                <a:srgbClr val="000000"/>
              </a:solidFill>
              <a:latin typeface="Arial"/>
            </a:endParaRPr>
          </a:p>
        </p:txBody>
      </p:sp>
      <p:sp>
        <p:nvSpPr>
          <p:cNvPr id="49"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PSK vs. OQPS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eserve CAZAC, suggest QPS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 clock synchroniz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and timing derived from the same cryst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ed jamming margin numb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B above, correct for QPSK numb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whitener added, seed in PHY head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D0.5, 4 rotating seeds, x^15+x^14+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reference, calculated to verify maximal lengt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9FE4E21-3604-49DC-8A53-3847EAF5F57D}"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 (cont. 2)</a:t>
            </a:r>
            <a:endParaRPr b="0" lang="en-US" sz="3600" spc="-1" strike="noStrike">
              <a:solidFill>
                <a:srgbClr val="000000"/>
              </a:solidFill>
              <a:latin typeface="Arial"/>
            </a:endParaRPr>
          </a:p>
        </p:txBody>
      </p:sp>
      <p:sp>
        <p:nvSpPr>
          <p:cNvPr id="51"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M measurement clarifi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reference receiver with carrier lock, timing recovery and amplitude adjustm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PLME/PIB, suggestions for modifica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PHY CCA for start, end, request and confir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RXNAP to be RXE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LQI, RSSI, TX power step/max power to PIB</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WRMGT request and confir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service field defined (called PHY head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ytes, 2 bit scrambler seed, 3 bit frame rate, 11 bit frame lengt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09E99D9-EAE2-4517-BC92-959EDF5446E8}"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 (cont. 3)</a:t>
            </a:r>
            <a:endParaRPr b="0" lang="en-US" sz="3600" spc="-1" strike="noStrike">
              <a:solidFill>
                <a:srgbClr val="000000"/>
              </a:solidFill>
              <a:latin typeface="Arial"/>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data rate mo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11 Mb/s BPSK for paylo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er range for some cas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amble and header are still QPSK</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 change to new 15.247 rul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better channel spac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ier out of band requirem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drawback is that is not yet at R&amp;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PC – as 4 dB steps to less than +4 dB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rate clarified – 22 Mb/s un-coded QPS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080B64C-251D-43AF-9B2B-767E36FC2A7D}"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 (cont. 4)</a:t>
            </a:r>
            <a:endParaRPr b="0" lang="en-US" sz="3600" spc="-1" strike="noStrike">
              <a:solidFill>
                <a:srgbClr val="000000"/>
              </a:solidFill>
              <a:latin typeface="Arial"/>
            </a:endParaRPr>
          </a:p>
        </p:txBody>
      </p:sp>
      <p:sp>
        <p:nvSpPr>
          <p:cNvPr id="5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l encoding of QPS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non-coherent receiv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define for BPSK mo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pplied to TCM QAM mod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um RX input level: -10 dB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9295A79-8D4D-490A-8A7F-542907D0C8DA}"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Progress</a:t>
            </a:r>
            <a:endParaRPr b="0" lang="en-US" sz="3600" spc="-1" strike="noStrike">
              <a:solidFill>
                <a:srgbClr val="000000"/>
              </a:solidFill>
              <a:latin typeface="Arial"/>
            </a:endParaRPr>
          </a:p>
        </p:txBody>
      </p:sp>
      <p:sp>
        <p:nvSpPr>
          <p:cNvPr id="5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0.5 released 6 July, 2001</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4 pa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partially review, not ready for vo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ng pie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 polic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nd privac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B defini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view</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99A16A2-9594-4F30-B52E-B250F89CFECD}"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and Draft Closing Report</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8738E00-9600-433A-A771-179CA17913B5}"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accomplishments</a:t>
            </a:r>
            <a:endParaRPr b="0" lang="en-US" sz="36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al of changes proposed in inter-interim mee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document 01/323r1, 01/343r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ed/corrected new PHY defin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document 01/343r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ed all changes in source in D06</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2B651F0-2D4A-4326-AF73-ADF3C77ABE95}"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027r1</dc:description>
  <dc:language>en-US</dc:language>
  <cp:lastModifiedBy>James P. K. Gilb</cp:lastModifiedBy>
  <cp:lastPrinted>1998-02-10T13:28:06Z</cp:lastPrinted>
  <dcterms:modified xsi:type="dcterms:W3CDTF">2001-07-12T22:37:40Z</dcterms:modified>
  <cp:revision>128</cp:revision>
  <dc:subject>IEEE 802.15 PHY Committee Monterey Report</dc:subject>
  <dc:title>No Slide Title</dc:title>
</cp:coreProperties>
</file>