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C2946-980E-4608-93C4-2A73878DD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F3A9B-28CF-4865-866A-B5234C4E2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C8D03-FAA1-4D45-9FE0-A2AC421D5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CB47A-934A-4701-8879-9422CE7EE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7C73-DC19-492F-B690-A9BC4344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F45D-6F46-4EFA-A635-9B189EAD7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11BE3-BDAA-4C90-9F61-9B19F86B7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7D18-EA79-4600-BB66-B2FD35DC3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7E8A6-DC00-4120-B5AB-7991503CD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7323-8CE1-4159-A59A-994670CF5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D19D-8D5A-4A27-A717-6B81DFDC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DFE7-05BD-468C-AEBD-BF6E4C66A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166680"/>
            <a:ext cx="16002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D06A64-6CDE-4700-A553-F0B7BB229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9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802-15_TG3-Draft-Standard-d05-MAC-Amendment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 Jul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  Company 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Vienna, V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703-269-3022, FAX: [], E-Mail: adheberling@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000000"/>
                </a:solidFill>
                <a:latin typeface="Times New Roman"/>
              </a:rPr>
              <a:t>00000d05P802-15-3_Draft-Standard.pdf</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mendments to the MAC clauses of 00000d05P802.15.3__Draft-Standard.pdf</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record MAC layer amendments identified as being required modifications for draft standard d0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D. Heberling, XtremeSpectrum, Inc.</a:t>
            </a:r>
          </a:p>
        </p:txBody>
      </p:sp>
      <p:sp>
        <p:nvSpPr>
          <p:cNvPr id="3" name="PlaceHolder 2"/>
          <p:cNvSpPr>
            <a:spLocks noGrp="1"/>
          </p:cNvSpPr>
          <p:nvPr>
            <p:ph type="sldNum" idx="3"/>
          </p:nvPr>
        </p:nvSpPr>
        <p:spPr/>
        <p:txBody>
          <a:bodyPr/>
          <a:p>
            <a:fld id="{0EFD28BD-D149-4330-8C26-9AD5931B7FFB}"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Resolution Recommendations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n Frag/Defrag text in D05/Clause 8.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discovery added to d05/Clause 8.7. Supporting reasons listed in 271r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d multi-rate usage table from 7.3.1 in d04 to clause 8.8 in d05. (per 271r1)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E4F232CA-8FE2-4FEE-A10B-8F5FC649A47F}" type="slidenum">
              <a:t>1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Resolution Recommendations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ed ACK expedite request added to d05 with additional supplemental text  provided in 271r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 Pad byte indication bit in Frame Control. Supporting text in 271r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B4B543DB-6081-43B3-B917-D6C1EDC7ACEB}"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orities 114r6 items 170, 215</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ddressed by text in 271r1 and 802.1D.  Consequently, the MAC Data Service and Priority Management clauses need to be updated with text from the aforementioned sour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B8F3CF1E-24A9-4D76-A60A-A9F98A42EBE8}"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NID 114r6 item 48</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is text </a:t>
            </a:r>
            <a:r>
              <a:rPr b="0" lang="en-US" sz="3200" spc="-1" strike="noStrike">
                <a:solidFill>
                  <a:srgbClr val="000000"/>
                </a:solidFill>
                <a:latin typeface="Arial"/>
                <a:ea typeface="Arial"/>
              </a:rPr>
              <a:t>to 8.1.2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The seed for generating a randomized PNID shall be the 48 bit PNC device I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FC6F4146-FA39-45AA-B1D8-9006B22FB2CE}"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ed Ack 114r6 item 194</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4r6 Implied Ack item 194 is addressed by d05 with additional text below.  </a:t>
            </a:r>
            <a:endParaRPr b="0" lang="en-US" sz="32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sponding DEV shall send only one frame for a received frame soliciting implied-ack.”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sponding DEV can take any length of time within the current GTS without exceeding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sponding DEV can send imm-ack as response to an implied-ack  solicit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C8D30724-B441-479D-8D4E-0255C54E7B66}" type="slidenum">
              <a:t>1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ed Ack 114r6 item 194 </a:t>
            </a: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sponding DEV shall send imm-ack if it does not know the end of current GTS.”</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sponding DEV shall make sure there is enough room in the current GTS for the im-ack, if required, for the frame sent as response to implied-ack solicit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C7EB9A74-EFBD-43F5-B688-F61A7E624156}" type="slidenum">
              <a:t>1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oc/Disassoc 114r6 items (211,212). </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Broadcasting DevInfo concepts to d05 as captured in 271r1 and 259r2.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Figure 33, Clause 7.5.10.1/d05 remove Requester Dev. ID fiel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76869CD2-8FD0-4694-AE9C-1F711DDFEF9F}" type="slidenum">
              <a:t>1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reamMgt 114r6 item 216</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is tex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Reduce the stream index to 8 bits with the remaining 3 bits reserved. This results in simpler implementation based on global stream index that is allocated by PNC. An implementation based stream index that is unique for SA/DA pair results in more complex implement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 a Stream-index to ChnlTimeReq by replacing the reserved field in Fig.22, Clause 7.5.1.1; Add Stream-index to ChnlTimeAllocationBlock along with one reserved byte in figure 20 clause 7.4.9;</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14BE5FE1-FDDF-4C3D-8FB6-307B47A378F0}" type="slidenum">
              <a:t>1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reamMgt 114r6 item 216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move time slot duration from CTA block in Fig. 20, clause 7.4.9;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d ChnlTimeReq Block to Stream QoS parms in Stream Mgt . Cmnd in figure 42 Clause 7.5.12;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tain StreamID in Stream QoS parms.; Add descriptions for each of the "new" fiel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536DEF8A-39C7-442A-A9A7-E8ABB8A11802}" type="slidenum">
              <a:t>1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rdHandOvr (114r6 item 128)</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se variables: minHandOvrTO(.25sec) and maxHandOvrTO(1.sec). Also change the CoordHandOvr timer resolution to 1K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51B2E5B8-BF4C-4106-BD4F-6755889823D7}" type="slidenum">
              <a:t>1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P802-15_TG3-Draft-Standard-d05-MAC-Amendments Recommendations</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34A13C42-1EF5-4C70-9FB4-E540A2A45010}"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GTS Info Element (114r6 item 213)</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 259r2 item #6 suggests replacing the reserved byte of the Max GTS info element with MaxProcessedCTAs. Also add indicated PIB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6" name=""/>
          <p:cNvGrpSpPr/>
          <p:nvPr/>
        </p:nvGrpSpPr>
        <p:grpSpPr>
          <a:xfrm>
            <a:off x="1066680" y="4114800"/>
            <a:ext cx="6527520" cy="2108160"/>
            <a:chOff x="1066680" y="4114800"/>
            <a:chExt cx="6527520" cy="2108160"/>
          </a:xfrm>
        </p:grpSpPr>
        <p:grpSp>
          <p:nvGrpSpPr>
            <p:cNvPr id="87" name=""/>
            <p:cNvGrpSpPr/>
            <p:nvPr/>
          </p:nvGrpSpPr>
          <p:grpSpPr>
            <a:xfrm>
              <a:off x="1069920" y="4118040"/>
              <a:ext cx="6520320" cy="2102040"/>
              <a:chOff x="1069920" y="4118040"/>
              <a:chExt cx="6520320" cy="2102040"/>
            </a:xfrm>
          </p:grpSpPr>
          <p:grpSp>
            <p:nvGrpSpPr>
              <p:cNvPr id="88" name=""/>
              <p:cNvGrpSpPr/>
              <p:nvPr/>
            </p:nvGrpSpPr>
            <p:grpSpPr>
              <a:xfrm>
                <a:off x="1069920" y="4118040"/>
                <a:ext cx="2300760" cy="822240"/>
                <a:chOff x="1069920" y="4118040"/>
                <a:chExt cx="2300760" cy="822240"/>
              </a:xfrm>
            </p:grpSpPr>
            <p:sp>
              <p:nvSpPr>
                <p:cNvPr id="89" name=""/>
                <p:cNvSpPr/>
                <p:nvPr/>
              </p:nvSpPr>
              <p:spPr>
                <a:xfrm>
                  <a:off x="1141560" y="4118040"/>
                  <a:ext cx="215784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aged Obj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
                <p:cNvSpPr/>
                <p:nvPr/>
              </p:nvSpPr>
              <p:spPr>
                <a:xfrm>
                  <a:off x="1069920" y="4118040"/>
                  <a:ext cx="2300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3371040" y="4118040"/>
                <a:ext cx="4219200" cy="822240"/>
                <a:chOff x="3371040" y="4118040"/>
                <a:chExt cx="4219200" cy="822240"/>
              </a:xfrm>
            </p:grpSpPr>
            <p:sp>
              <p:nvSpPr>
                <p:cNvPr id="92" name=""/>
                <p:cNvSpPr/>
                <p:nvPr/>
              </p:nvSpPr>
              <p:spPr>
                <a:xfrm>
                  <a:off x="3442680" y="4118040"/>
                  <a:ext cx="407628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a Typ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
                <p:cNvSpPr/>
                <p:nvPr/>
              </p:nvSpPr>
              <p:spPr>
                <a:xfrm>
                  <a:off x="3371040" y="4118040"/>
                  <a:ext cx="42192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1069920" y="4940280"/>
                <a:ext cx="2300760" cy="640080"/>
                <a:chOff x="1069920" y="4940280"/>
                <a:chExt cx="2300760" cy="640080"/>
              </a:xfrm>
            </p:grpSpPr>
            <p:sp>
              <p:nvSpPr>
                <p:cNvPr id="95" name=""/>
                <p:cNvSpPr/>
                <p:nvPr/>
              </p:nvSpPr>
              <p:spPr>
                <a:xfrm>
                  <a:off x="1141560" y="4940280"/>
                  <a:ext cx="2157840" cy="64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CPIBMaxAssignedCTAs</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1069920" y="4940280"/>
                  <a:ext cx="230076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3371040" y="4940280"/>
                <a:ext cx="4219200" cy="640080"/>
                <a:chOff x="3371040" y="4940280"/>
                <a:chExt cx="4219200" cy="640080"/>
              </a:xfrm>
            </p:grpSpPr>
            <p:sp>
              <p:nvSpPr>
                <p:cNvPr id="98" name=""/>
                <p:cNvSpPr/>
                <p:nvPr/>
              </p:nvSpPr>
              <p:spPr>
                <a:xfrm>
                  <a:off x="3442680" y="4940280"/>
                  <a:ext cx="4076280" cy="64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g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3371040" y="4940280"/>
                  <a:ext cx="421920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1069920" y="5580360"/>
                <a:ext cx="2300760" cy="639720"/>
                <a:chOff x="1069920" y="5580360"/>
                <a:chExt cx="2300760" cy="639720"/>
              </a:xfrm>
            </p:grpSpPr>
            <p:sp>
              <p:nvSpPr>
                <p:cNvPr id="101" name=""/>
                <p:cNvSpPr/>
                <p:nvPr/>
              </p:nvSpPr>
              <p:spPr>
                <a:xfrm>
                  <a:off x="1141560" y="5580360"/>
                  <a:ext cx="21578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CPIBMaxProcessedC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1069920" y="5580360"/>
                  <a:ext cx="23007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3371040" y="5580360"/>
                <a:ext cx="4219200" cy="639720"/>
                <a:chOff x="3371040" y="5580360"/>
                <a:chExt cx="4219200" cy="639720"/>
              </a:xfrm>
            </p:grpSpPr>
            <p:sp>
              <p:nvSpPr>
                <p:cNvPr id="104" name=""/>
                <p:cNvSpPr/>
                <p:nvPr/>
              </p:nvSpPr>
              <p:spPr>
                <a:xfrm>
                  <a:off x="3442680" y="5580360"/>
                  <a:ext cx="407628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g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371040" y="5580360"/>
                  <a:ext cx="4219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 name=""/>
            <p:cNvSpPr/>
            <p:nvPr/>
          </p:nvSpPr>
          <p:spPr>
            <a:xfrm>
              <a:off x="1066680" y="4114800"/>
              <a:ext cx="6527520" cy="210816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16242483-5E04-4352-AA0A-3D6F811F46C8}" type="slidenum">
              <a:t>2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nel Time Request good until changed.(</a:t>
            </a:r>
            <a:r>
              <a:rPr b="0" lang="en-US" sz="2800" spc="-1" strike="noStrike">
                <a:solidFill>
                  <a:srgbClr val="000000"/>
                </a:solidFill>
                <a:latin typeface="Times New Roman"/>
              </a:rPr>
              <a:t>221r2 Item 117 and 114r6 Item 217</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text below to clause 8.2.4/d04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Channel time requests that are ACKed are valid until the next channel time request is mad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dd text to d05/8.2.3.2 to address What happens if the PNC allocates less channel time than was requested?  Does it allocate more if it becomes available? Y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committee consensus recommend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24823C24-E7E2-434E-82D5-21375AA4FB8B}" type="slidenum">
              <a:t>2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SF Elimination and Duration increment change </a:t>
            </a:r>
            <a:r>
              <a:rPr b="0" lang="en-US" sz="2800" spc="-1" strike="noStrike">
                <a:solidFill>
                  <a:srgbClr val="000000"/>
                </a:solidFill>
                <a:latin typeface="Times New Roman"/>
                <a:ea typeface="Times New Roman"/>
              </a:rPr>
              <a:t>(114r6 items: 166, 208, 209, 210)</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or delete text to the d04 clauses referenced in doc 259r2</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5F53FCAC-46D7-41F4-8846-007F288A6757}" type="slidenum">
              <a:t>2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AP Back-Off Resolution </a:t>
            </a:r>
            <a:br>
              <a:rPr sz="3600"/>
            </a:br>
            <a:r>
              <a:rPr b="0" lang="en-US" sz="2800" spc="-1" strike="noStrike">
                <a:solidFill>
                  <a:srgbClr val="000000"/>
                </a:solidFill>
                <a:latin typeface="Times New Roman"/>
                <a:ea typeface="Times New Roman"/>
              </a:rPr>
              <a:t>(114r6 Items 146, 219)</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d the following sentence to section d04/8.2.3.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The resolution of the backoff value shall be aBackoffSlot μs, where aBackOffSlot is a PHY dependant parameter. “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committee consensus recommend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D3C40557-9987-4528-AFCD-3A3FDE33090B}" type="slidenum">
              <a:t>2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aMaxFrameSize parameter to d04/clauses 7.1.12 and 11.2.7. Indicate this parm is a Phy dependant parameter.</a:t>
            </a:r>
            <a:endParaRPr b="0" lang="en-US" sz="3200" spc="-1" strike="noStrike">
              <a:solidFill>
                <a:srgbClr val="000000"/>
              </a:solidFill>
              <a:latin typeface="Arial"/>
            </a:endParaRPr>
          </a:p>
        </p:txBody>
      </p:sp>
      <p:sp>
        <p:nvSpPr>
          <p:cNvPr id="115" name=""/>
          <p:cNvSpPr/>
          <p:nvPr/>
        </p:nvSpPr>
        <p:spPr>
          <a:xfrm>
            <a:off x="1599480" y="99072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Body 114r6 item 228: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A5A8DDCD-A79B-4E83-B7D8-6CD0C010DA33}" type="slidenum">
              <a:t>2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114r6 item 224</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clarifying text to the Repeater Service MAC Functional Description Subclause describing the ACK policy required to support the repeater servi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19086D49-A5FE-4DE9-8A5C-6B0CF1B71EDD}" type="slidenum">
              <a:t>2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ice Registration 114r6 item 225</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is text to the Device Registration MAC Functional Description  subclau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NID should always have the PNID value that appears in the Beac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pen registration should be accomplished through a new open registration command (if needed) and not via a null PNID.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E9F50F4D-CDCD-4BAA-A6DE-5A6BC4B3E20D}" type="slidenum">
              <a:t>2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Resolution Recommendations</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Gubbi Frame type and Command Types vs B. Shvodian Frame type table organization ( 221r2 items:. 42,43,63,187,188,189 ,190 ,191,193) and (114r6 item: 186)</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Gubbi &amp; B. Shvodian agreed to  this recommendation: Move these currently defined frame types into the command frame type structure:</a:t>
            </a:r>
            <a:endParaRPr b="0" lang="en-US" sz="2400" spc="-1" strike="noStrike">
              <a:solidFill>
                <a:srgbClr val="000000"/>
              </a:solidFill>
              <a:latin typeface="Arial"/>
            </a:endParaRPr>
          </a:p>
          <a:p>
            <a:pPr lvl="2" marL="103140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NC Selection Frame</a:t>
            </a:r>
            <a:endParaRPr b="0" lang="en-US" sz="2000" spc="-1" strike="noStrike">
              <a:solidFill>
                <a:srgbClr val="000000"/>
              </a:solidFill>
              <a:latin typeface="Arial"/>
            </a:endParaRPr>
          </a:p>
          <a:p>
            <a:pPr lvl="3" marL="13572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PNC Announcement Command</a:t>
            </a:r>
            <a:endParaRPr b="0" lang="en-US" sz="1800" spc="-1" strike="noStrike">
              <a:solidFill>
                <a:srgbClr val="000000"/>
              </a:solidFill>
              <a:latin typeface="Arial"/>
            </a:endParaRPr>
          </a:p>
          <a:p>
            <a:pPr lvl="3" marL="13572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PNC Pullout Command</a:t>
            </a:r>
            <a:endParaRPr b="0" lang="en-US" sz="1800" spc="-1" strike="noStrike">
              <a:solidFill>
                <a:srgbClr val="000000"/>
              </a:solidFill>
              <a:latin typeface="Arial"/>
            </a:endParaRPr>
          </a:p>
          <a:p>
            <a:pPr lvl="3" marL="13572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NC Announcement Command</a:t>
            </a: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229714C3-A0F9-43DF-A078-B1A57BD12BEB}"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types becoming Command Types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on Request Frame Becomes Association Request Command</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on Response Frame Becomes Association Response Command</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sociation Request Frame becomes Disassociation Request Comman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type bits used in Frame Control Field will now be 3 instead of 4.</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50F2E838-F40A-4D09-8867-6A0A5AF03B13}"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 types becoming Command Type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 Types remain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c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ACK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 fr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ram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2C0E2CCC-6017-4E8D-8E18-E3E9629ACB29}"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and Types 114r6 item 192:</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lit Probe Information command into Probe Request and Probe Response Comman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lit Device Information command into Device Information Request and Respo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CB0E644F-B52B-4EB8-89DB-F2C22A11EE79}"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ordinator Challenge Frame (114r6 items 68,205, 206, 230)</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Gubbi &amp; B. Shvodian agreed to  this recommendation: Add the following text to </a:t>
            </a:r>
            <a:r>
              <a:rPr b="1" lang="en-US" sz="2800" spc="-1" strike="noStrike">
                <a:solidFill>
                  <a:srgbClr val="000000"/>
                </a:solidFill>
                <a:latin typeface="Arial"/>
                <a:ea typeface="Times New Roman"/>
              </a:rPr>
              <a:t>d05 Clause 8.1.8,</a:t>
            </a:r>
            <a:r>
              <a:rPr b="1" i="1" lang="en-US" sz="2800" spc="-1" strike="noStrike" u="sng">
                <a:solidFill>
                  <a:srgbClr val="000000"/>
                </a:solidFill>
                <a:uFillTx/>
                <a:latin typeface="Arial"/>
                <a:ea typeface="Times New Roman"/>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When a station joins a piconet, the coordinator shall compare the capabilities field of the new station to its own. If the PNC-Des-Mode bit is set in the new station and not in the current PNC, the old PNC shall perform coordinator handover if allowed by the TBD security policy.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304F1656-20C5-4E63-AAFB-76661478538B}"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ordinator Challenge Frame (114r6 items 68,205, 206, 230,231)</a:t>
            </a:r>
            <a:r>
              <a:rPr b="0" lang="en-US" sz="2800" spc="-1" strike="noStrike">
                <a:solidFill>
                  <a:srgbClr val="000000"/>
                </a:solidFill>
                <a:latin typeface="Times New Roman"/>
                <a:ea typeface="Times New Roman"/>
              </a:rPr>
              <a:t>continued…</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If the new station is more qualified to be the coordinator, the coordinator may perform coordinator handover if allowed by the TBD security policy.  Handover shall happen within a TBD parameter dura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d MACPIBPNCDesMode to the MAC PIB.</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 Inc.</a:t>
            </a:r>
          </a:p>
        </p:txBody>
      </p:sp>
      <p:sp>
        <p:nvSpPr>
          <p:cNvPr id="5" name="PlaceHolder 4"/>
          <p:cNvSpPr>
            <a:spLocks noGrp="1"/>
          </p:cNvSpPr>
          <p:nvPr>
            <p:ph type="sldNum" idx="3"/>
          </p:nvPr>
        </p:nvSpPr>
        <p:spPr/>
        <p:txBody>
          <a:bodyPr/>
          <a:p>
            <a:fld id="{54E7DFCB-3A48-4231-81C3-DAFB11BF2194}"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ordinator Selection (114r6 Item 68)</a:t>
            </a:r>
            <a:endParaRPr b="0" lang="en-US" sz="3600" spc="-1" strike="noStrike">
              <a:solidFill>
                <a:srgbClr val="000000"/>
              </a:solidFill>
              <a:latin typeface="Times New Roman"/>
            </a:endParaRPr>
          </a:p>
        </p:txBody>
      </p:sp>
      <p:graphicFrame>
        <p:nvGraphicFramePr>
          <p:cNvPr id="62" name=""/>
          <p:cNvGraphicFramePr/>
          <p:nvPr/>
        </p:nvGraphicFramePr>
        <p:xfrm>
          <a:off x="1442880" y="1981080"/>
          <a:ext cx="6248520" cy="4348440"/>
        </p:xfrm>
        <a:graphic>
          <a:graphicData uri="http://schemas.openxmlformats.org/presentationml/2006/ole">
            <p:oleObj progId="Word.Document.12" r:id="rId1" spid="">
              <p:embed/>
              <p:pic>
                <p:nvPicPr>
                  <p:cNvPr id="63" name="" descr=""/>
                  <p:cNvPicPr/>
                  <p:nvPr/>
                </p:nvPicPr>
                <p:blipFill>
                  <a:blip r:embed="rId2"/>
                  <a:stretch/>
                </p:blipFill>
                <p:spPr>
                  <a:xfrm>
                    <a:off x="1442880" y="1981080"/>
                    <a:ext cx="6248520" cy="4348440"/>
                  </a:xfrm>
                  <a:prstGeom prst="rect">
                    <a:avLst/>
                  </a:prstGeom>
                  <a:ln w="0">
                    <a:noFill/>
                  </a:ln>
                </p:spPr>
              </p:pic>
            </p:oleObj>
          </a:graphicData>
        </a:graphic>
      </p:graphicFrame>
      <p:sp>
        <p:nvSpPr>
          <p:cNvPr id="3" name="PlaceHolder 2"/>
          <p:cNvSpPr>
            <a:spLocks noGrp="1"/>
          </p:cNvSpPr>
          <p:nvPr>
            <p:ph type="ftr" idx="2"/>
          </p:nvPr>
        </p:nvSpPr>
        <p:spPr/>
        <p:txBody>
          <a:bodyPr/>
          <a:p>
            <a:r>
              <a:t>Allen D. Heberling, XtremeSpectrum, Inc.</a:t>
            </a:r>
          </a:p>
        </p:txBody>
      </p:sp>
      <p:sp>
        <p:nvSpPr>
          <p:cNvPr id="4" name="PlaceHolder 3"/>
          <p:cNvSpPr>
            <a:spLocks noGrp="1"/>
          </p:cNvSpPr>
          <p:nvPr>
            <p:ph type="sldNum" idx="3"/>
          </p:nvPr>
        </p:nvSpPr>
        <p:spPr/>
        <p:txBody>
          <a:bodyPr/>
          <a:p>
            <a:fld id="{75589694-B37E-4B44-89FB-CDEDEB5E3925}" type="slidenum">
              <a:t>9</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Allen D. Heberling</dc:creator>
  <dc:description>doc: IEEE 802.15-01/298r0</dc:description>
  <dc:language>en-US</dc:language>
  <cp:lastModifiedBy>Allen Heberling</cp:lastModifiedBy>
  <cp:lastPrinted>1998-02-10T13:28:06Z</cp:lastPrinted>
  <dcterms:modified xsi:type="dcterms:W3CDTF">2001-07-12T15:54:43Z</dcterms:modified>
  <cp:revision>18</cp:revision>
  <dc:subject>IEEE 802.15 TG3 Draft Standard d05 MAC Amendments</dc:subject>
  <dc:title>TG3 MAC Committee P802-15_TG3 Draft Standard d05 Amendments</dc:title>
</cp:coreProperties>
</file>