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0FC-C776-4B27-949A-853D325A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7C6-CEAB-4362-890B-34C7DE8D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7E2-4977-4729-9EF8-A20F7967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B54-77EE-4462-AF27-005C1E8D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587-F654-4204-8482-EF5AE455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3B0-DA80-45ED-BEC3-BDBD826A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B4C8-83D6-4031-93AE-8B2EF894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5969-0F19-497C-A75F-7B31F6FC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1A6-1673-4E7E-B421-59B5E935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72FD-6A96-442E-B2C3-44485AAD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82D-C2E4-47F5-BCC3-17073A23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06B5-5605-4970-A85F-0F48CAE3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9389C59-E66C-4A9B-AD3C-0251CD669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33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350496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LAN/WPAN Coexistence Task Group             Closing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rtland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FEDD-B029-453E-A281-4EA8D28CEDA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Weeks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SIG Coexistence Working Group Liais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submitted Clauses of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 on submitted Cl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approved a letter to Bluetooth SIG regarding Adaptive Frequency Hop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5D0-3FA5-4908-8244-4C7F7E853E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nd the letter from IEEE 802.15 to the Bluetooth SIG, IEEE 802.15-01/349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3CA-9790-4256-8C40-318E459CB4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minder to TG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rch TG2 requested PHY/MAC models of TG3 draft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5-01/173r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offered to run interference simulations of TG3 and other wireless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5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BC3-5A5A-47AC-98D3-50803A330B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quest for Models from TG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4 now has a baseline PHY and MA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requests TG4 PHY/MA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offers to run interference simulations of TG4 and other wireless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5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IEEE 802.15-01/173r0 for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42F-4C0D-4C59-A5A9-4C7C48C013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phen J. Shellhammer</cp:lastModifiedBy>
  <cp:lastPrinted>2000-09-20T20:30:42Z</cp:lastPrinted>
  <dcterms:modified xsi:type="dcterms:W3CDTF">2001-07-13T04:17:19Z</dcterms:modified>
  <cp:revision>360</cp:revision>
  <dc:subject>IEEE 802.15 &lt;subject&gt;</dc:subject>
  <dc:title>IEEE P802.15 Working Group for Wireless Personal Area Networks</dc:title>
</cp:coreProperties>
</file>