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F0692-61B9-47F4-9528-9E0A79D7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1011-CB86-4EB8-B9E4-FBE52CE2C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3EDDE-EC82-4141-A47D-6994BA0A5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CF19B-6235-4DFA-AEDE-BA433744B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15F9B-E20B-4167-89DD-A51A62B22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74E0-24EF-4F26-8B9A-8D940DFFB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3B73-CEC3-40E2-941A-EE706291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E636-19D8-4954-BB2D-09D94C91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4C78C-5C9A-4048-8291-B7609BE70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738E-8053-4EAD-937F-645A509C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DC38-25F8-4690-9B12-BB6BD728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3A22-C1C7-45AE-9107-F7D03F0E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dra Vaidyanathan, Aryya 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974DC3-E651-4EC7-9E79-16D700294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47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Channel-Placem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Chandra Vaidyanathan</a:t>
            </a:r>
            <a:r>
              <a:rPr b="0" lang="en-US" sz="1600" spc="-1" strike="noStrike">
                <a:solidFill>
                  <a:srgbClr val="000000"/>
                </a:solidFill>
                <a:latin typeface="Times New Roman"/>
              </a:rPr>
              <a:t>] Company [</a:t>
            </a:r>
            <a:r>
              <a:rPr b="0" lang="en-US" sz="1600" spc="-1" strike="noStrike">
                <a:solidFill>
                  <a:srgbClr val="000000"/>
                </a:solidFill>
                <a:latin typeface="Times New Roman"/>
              </a:rPr>
              <a:t>Aryya Communic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444 N Frederick Av., Suite 309 Gaithersburg, MD 2087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240-683-8802</a:t>
            </a:r>
            <a:r>
              <a:rPr b="0" lang="en-US" sz="1600" spc="-1" strike="noStrike">
                <a:solidFill>
                  <a:srgbClr val="000000"/>
                </a:solidFill>
                <a:latin typeface="Times New Roman"/>
              </a:rPr>
              <a:t>], FAX: [</a:t>
            </a:r>
            <a:r>
              <a:rPr b="0" lang="en-US" sz="1600" spc="-1" strike="noStrike">
                <a:solidFill>
                  <a:srgbClr val="000000"/>
                </a:solidFill>
                <a:latin typeface="Times New Roman"/>
              </a:rPr>
              <a:t>301-947-8964</a:t>
            </a:r>
            <a:r>
              <a:rPr b="0" lang="en-US" sz="1600" spc="-1" strike="noStrike">
                <a:solidFill>
                  <a:srgbClr val="000000"/>
                </a:solidFill>
                <a:latin typeface="Times New Roman"/>
              </a:rPr>
              <a:t>], E-Mail:[</a:t>
            </a:r>
            <a:r>
              <a:rPr b="0" lang="en-US" sz="1600" spc="-1" strike="noStrike">
                <a:solidFill>
                  <a:srgbClr val="000000"/>
                </a:solidFill>
                <a:latin typeface="Times New Roman"/>
              </a:rPr>
              <a:t>chandrav@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ea typeface="Times New Roman"/>
              </a:rPr>
              <a:t>This contribution proposes a channel plan for 802.15.3 WPAN</a:t>
            </a: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ea typeface="Times New Roman"/>
              </a:rPr>
              <a:t>To propose a channel plan for 802.15.3 high-rate PH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9FCA83F-7368-4F10-AAB0-A620BAAEEE2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cement</a:t>
            </a:r>
            <a:endParaRPr b="0" lang="en-US" sz="3600" spc="-1" strike="noStrike">
              <a:solidFill>
                <a:srgbClr val="000000"/>
              </a:solidFill>
              <a:latin typeface="Arial"/>
            </a:endParaRPr>
          </a:p>
        </p:txBody>
      </p:sp>
      <p:sp>
        <p:nvSpPr>
          <p:cNvPr id="152" name="PlaceHolder 2"/>
          <p:cNvSpPr>
            <a:spLocks noGrp="1"/>
          </p:cNvSpPr>
          <p:nvPr>
            <p:ph/>
          </p:nvPr>
        </p:nvSpPr>
        <p:spPr>
          <a:xfrm>
            <a:off x="685800" y="4419720"/>
            <a:ext cx="7772400" cy="1828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center frequency: 2.412 GHz (2.39 + 2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center frequency: 2.461 GHz (2.4835 – 22)</a:t>
            </a:r>
            <a:endParaRPr b="0" lang="en-US" sz="2800" spc="-1" strike="noStrike">
              <a:solidFill>
                <a:srgbClr val="000000"/>
              </a:solidFill>
              <a:latin typeface="Times New Roman"/>
            </a:endParaRPr>
          </a:p>
        </p:txBody>
      </p:sp>
      <p:pic>
        <p:nvPicPr>
          <p:cNvPr id="153" name="tx_mask" descr=""/>
          <p:cNvPicPr/>
          <p:nvPr/>
        </p:nvPicPr>
        <p:blipFill>
          <a:blip r:embed="rId1"/>
          <a:stretch/>
        </p:blipFill>
        <p:spPr>
          <a:xfrm>
            <a:off x="1676520" y="1905120"/>
            <a:ext cx="5781600" cy="2400120"/>
          </a:xfrm>
          <a:prstGeom prst="rect">
            <a:avLst/>
          </a:prstGeom>
          <a:ln w="0">
            <a:noFill/>
          </a:ln>
        </p:spPr>
      </p:pic>
      <p:sp>
        <p:nvSpPr>
          <p:cNvPr id="154" name=""/>
          <p:cNvSpPr/>
          <p:nvPr/>
        </p:nvSpPr>
        <p:spPr>
          <a:xfrm>
            <a:off x="605880" y="1981080"/>
            <a:ext cx="2626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and Eur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dBr = 8.75 dBm/MHz</a:t>
            </a:r>
            <a:endParaRPr b="0" lang="en-US" sz="2000" spc="-1" strike="noStrike">
              <a:solidFill>
                <a:srgbClr val="000000"/>
              </a:solidFill>
              <a:latin typeface="Times New Roman"/>
            </a:endParaRPr>
          </a:p>
        </p:txBody>
      </p:sp>
      <p:sp>
        <p:nvSpPr>
          <p:cNvPr id="155" name=""/>
          <p:cNvSpPr/>
          <p:nvPr/>
        </p:nvSpPr>
        <p:spPr>
          <a:xfrm>
            <a:off x="5834520" y="1981080"/>
            <a:ext cx="2712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dBr = -1.25 dBm/MHz</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55C335-D335-4639-B013-CEC352BF81A4}"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n: High-user Density</a:t>
            </a:r>
            <a:endParaRPr b="0" lang="en-US" sz="3600" spc="-1" strike="noStrike">
              <a:solidFill>
                <a:srgbClr val="000000"/>
              </a:solidFill>
              <a:latin typeface="Arial"/>
            </a:endParaRPr>
          </a:p>
        </p:txBody>
      </p:sp>
      <p:grpSp>
        <p:nvGrpSpPr>
          <p:cNvPr id="157" name=""/>
          <p:cNvGrpSpPr/>
          <p:nvPr/>
        </p:nvGrpSpPr>
        <p:grpSpPr>
          <a:xfrm>
            <a:off x="228600" y="2286000"/>
            <a:ext cx="3429000" cy="3276720"/>
            <a:chOff x="228600" y="2286000"/>
            <a:chExt cx="3429000" cy="3276720"/>
          </a:xfrm>
        </p:grpSpPr>
        <p:grpSp>
          <p:nvGrpSpPr>
            <p:cNvPr id="158" name=""/>
            <p:cNvGrpSpPr/>
            <p:nvPr/>
          </p:nvGrpSpPr>
          <p:grpSpPr>
            <a:xfrm>
              <a:off x="232560" y="2289960"/>
              <a:ext cx="3421080" cy="3267720"/>
              <a:chOff x="232560" y="2289960"/>
              <a:chExt cx="3421080" cy="3267720"/>
            </a:xfrm>
          </p:grpSpPr>
          <p:grpSp>
            <p:nvGrpSpPr>
              <p:cNvPr id="159" name=""/>
              <p:cNvGrpSpPr/>
              <p:nvPr/>
            </p:nvGrpSpPr>
            <p:grpSpPr>
              <a:xfrm>
                <a:off x="232560" y="2289960"/>
                <a:ext cx="1710720" cy="731160"/>
                <a:chOff x="232560" y="2289960"/>
                <a:chExt cx="1710720" cy="731160"/>
              </a:xfrm>
            </p:grpSpPr>
            <p:sp>
              <p:nvSpPr>
                <p:cNvPr id="160" name=""/>
                <p:cNvSpPr/>
                <p:nvPr/>
              </p:nvSpPr>
              <p:spPr>
                <a:xfrm>
                  <a:off x="294120" y="2322000"/>
                  <a:ext cx="158688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hannel I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232560" y="2289960"/>
                  <a:ext cx="1710720" cy="73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943280" y="2289960"/>
                <a:ext cx="1710360" cy="731160"/>
                <a:chOff x="1943280" y="2289960"/>
                <a:chExt cx="1710360" cy="731160"/>
              </a:xfrm>
            </p:grpSpPr>
            <p:sp>
              <p:nvSpPr>
                <p:cNvPr id="163" name=""/>
                <p:cNvSpPr/>
                <p:nvPr/>
              </p:nvSpPr>
              <p:spPr>
                <a:xfrm>
                  <a:off x="2004480" y="2322000"/>
                  <a:ext cx="158688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enter 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1943280" y="2289960"/>
                  <a:ext cx="1710360" cy="73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32560" y="3086280"/>
                <a:ext cx="1710720" cy="568800"/>
                <a:chOff x="232560" y="3086280"/>
                <a:chExt cx="1710720" cy="568800"/>
              </a:xfrm>
            </p:grpSpPr>
            <p:sp>
              <p:nvSpPr>
                <p:cNvPr id="166" name=""/>
                <p:cNvSpPr/>
                <p:nvPr/>
              </p:nvSpPr>
              <p:spPr>
                <a:xfrm>
                  <a:off x="294120" y="3118680"/>
                  <a:ext cx="1586880" cy="50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232560" y="3086280"/>
                  <a:ext cx="171072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943280" y="3086280"/>
                <a:ext cx="1710360" cy="568800"/>
                <a:chOff x="1943280" y="3086280"/>
                <a:chExt cx="1710360" cy="568800"/>
              </a:xfrm>
            </p:grpSpPr>
            <p:sp>
              <p:nvSpPr>
                <p:cNvPr id="169" name=""/>
                <p:cNvSpPr/>
                <p:nvPr/>
              </p:nvSpPr>
              <p:spPr>
                <a:xfrm>
                  <a:off x="2004480" y="3118680"/>
                  <a:ext cx="1586880" cy="50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1943280" y="3086280"/>
                  <a:ext cx="171036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32560" y="3720600"/>
                <a:ext cx="1710720" cy="568800"/>
                <a:chOff x="232560" y="3720600"/>
                <a:chExt cx="1710720" cy="568800"/>
              </a:xfrm>
            </p:grpSpPr>
            <p:sp>
              <p:nvSpPr>
                <p:cNvPr id="172" name=""/>
                <p:cNvSpPr/>
                <p:nvPr/>
              </p:nvSpPr>
              <p:spPr>
                <a:xfrm>
                  <a:off x="294120" y="375264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32560" y="3720600"/>
                  <a:ext cx="171072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943280" y="3720600"/>
                <a:ext cx="1710360" cy="568800"/>
                <a:chOff x="1943280" y="3720600"/>
                <a:chExt cx="1710360" cy="568800"/>
              </a:xfrm>
            </p:grpSpPr>
            <p:sp>
              <p:nvSpPr>
                <p:cNvPr id="175" name=""/>
                <p:cNvSpPr/>
                <p:nvPr/>
              </p:nvSpPr>
              <p:spPr>
                <a:xfrm>
                  <a:off x="2004480" y="375264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943280" y="3720600"/>
                  <a:ext cx="171036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32560" y="4354560"/>
                <a:ext cx="1710720" cy="568800"/>
                <a:chOff x="232560" y="4354560"/>
                <a:chExt cx="1710720" cy="568800"/>
              </a:xfrm>
            </p:grpSpPr>
            <p:sp>
              <p:nvSpPr>
                <p:cNvPr id="178" name=""/>
                <p:cNvSpPr/>
                <p:nvPr/>
              </p:nvSpPr>
              <p:spPr>
                <a:xfrm>
                  <a:off x="294120" y="438660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232560" y="4354560"/>
                  <a:ext cx="171072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943280" y="4354560"/>
                <a:ext cx="1710360" cy="568800"/>
                <a:chOff x="1943280" y="4354560"/>
                <a:chExt cx="1710360" cy="568800"/>
              </a:xfrm>
            </p:grpSpPr>
            <p:sp>
              <p:nvSpPr>
                <p:cNvPr id="181" name=""/>
                <p:cNvSpPr/>
                <p:nvPr/>
              </p:nvSpPr>
              <p:spPr>
                <a:xfrm>
                  <a:off x="2004480" y="438660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943280" y="4354560"/>
                  <a:ext cx="171036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32560" y="4988880"/>
                <a:ext cx="1710720" cy="568800"/>
                <a:chOff x="232560" y="4988880"/>
                <a:chExt cx="1710720" cy="568800"/>
              </a:xfrm>
            </p:grpSpPr>
            <p:sp>
              <p:nvSpPr>
                <p:cNvPr id="184" name=""/>
                <p:cNvSpPr/>
                <p:nvPr/>
              </p:nvSpPr>
              <p:spPr>
                <a:xfrm>
                  <a:off x="294120" y="502092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32560" y="4988880"/>
                  <a:ext cx="171072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943280" y="4988880"/>
                <a:ext cx="1710360" cy="568800"/>
                <a:chOff x="1943280" y="4988880"/>
                <a:chExt cx="1710360" cy="568800"/>
              </a:xfrm>
            </p:grpSpPr>
            <p:sp>
              <p:nvSpPr>
                <p:cNvPr id="187" name=""/>
                <p:cNvSpPr/>
                <p:nvPr/>
              </p:nvSpPr>
              <p:spPr>
                <a:xfrm>
                  <a:off x="2004480" y="5020920"/>
                  <a:ext cx="1586880" cy="50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1943280" y="4988880"/>
                  <a:ext cx="171036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228600" y="2286000"/>
              <a:ext cx="3429000" cy="3276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0" y="4889520"/>
            <a:ext cx="91440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91" name="" descr=""/>
          <p:cNvPicPr/>
          <p:nvPr/>
        </p:nvPicPr>
        <p:blipFill>
          <a:blip r:embed="rId1"/>
          <a:stretch/>
        </p:blipFill>
        <p:spPr>
          <a:xfrm>
            <a:off x="3962520" y="2209680"/>
            <a:ext cx="4905360" cy="366732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EA43603-228B-4F26-80B6-539A69C44B26}"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n: 802.11b Co-existence</a:t>
            </a:r>
            <a:endParaRPr b="0" lang="en-US" sz="3600" spc="-1" strike="noStrike">
              <a:solidFill>
                <a:srgbClr val="000000"/>
              </a:solidFill>
              <a:latin typeface="Arial"/>
            </a:endParaRPr>
          </a:p>
        </p:txBody>
      </p:sp>
      <p:grpSp>
        <p:nvGrpSpPr>
          <p:cNvPr id="193" name=""/>
          <p:cNvGrpSpPr/>
          <p:nvPr/>
        </p:nvGrpSpPr>
        <p:grpSpPr>
          <a:xfrm>
            <a:off x="304920" y="2666880"/>
            <a:ext cx="3200400" cy="2590920"/>
            <a:chOff x="304920" y="2666880"/>
            <a:chExt cx="3200400" cy="2590920"/>
          </a:xfrm>
        </p:grpSpPr>
        <p:grpSp>
          <p:nvGrpSpPr>
            <p:cNvPr id="194" name=""/>
            <p:cNvGrpSpPr/>
            <p:nvPr/>
          </p:nvGrpSpPr>
          <p:grpSpPr>
            <a:xfrm>
              <a:off x="307440" y="2670840"/>
              <a:ext cx="3195000" cy="2582280"/>
              <a:chOff x="307440" y="2670840"/>
              <a:chExt cx="3195000" cy="2582280"/>
            </a:xfrm>
          </p:grpSpPr>
          <p:grpSp>
            <p:nvGrpSpPr>
              <p:cNvPr id="195" name=""/>
              <p:cNvGrpSpPr/>
              <p:nvPr/>
            </p:nvGrpSpPr>
            <p:grpSpPr>
              <a:xfrm>
                <a:off x="307440" y="2670840"/>
                <a:ext cx="1177560" cy="717120"/>
                <a:chOff x="307440" y="2670840"/>
                <a:chExt cx="1177560" cy="717120"/>
              </a:xfrm>
            </p:grpSpPr>
            <p:sp>
              <p:nvSpPr>
                <p:cNvPr id="196" name=""/>
                <p:cNvSpPr/>
                <p:nvPr/>
              </p:nvSpPr>
              <p:spPr>
                <a:xfrm>
                  <a:off x="349920" y="2702520"/>
                  <a:ext cx="109224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hannel</a:t>
                  </a:r>
                  <a:r>
                    <a:rPr b="1" lang="en-US" sz="1200" spc="-1" strike="noStrike">
                      <a:solidFill>
                        <a:srgbClr val="000000"/>
                      </a:solidFill>
                      <a:latin typeface="Times New Roman"/>
                      <a:ea typeface="Arial"/>
                    </a:rPr>
                    <a:t> I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307440" y="2670840"/>
                  <a:ext cx="117756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485000" y="2670840"/>
                <a:ext cx="1032840" cy="717120"/>
                <a:chOff x="1485000" y="2670840"/>
                <a:chExt cx="1032840" cy="717120"/>
              </a:xfrm>
            </p:grpSpPr>
            <p:sp>
              <p:nvSpPr>
                <p:cNvPr id="199" name=""/>
                <p:cNvSpPr/>
                <p:nvPr/>
              </p:nvSpPr>
              <p:spPr>
                <a:xfrm>
                  <a:off x="1527120" y="2702520"/>
                  <a:ext cx="94788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enter Frequenc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1485000" y="2670840"/>
                  <a:ext cx="103284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518200" y="2670840"/>
                <a:ext cx="984240" cy="717120"/>
                <a:chOff x="2518200" y="2670840"/>
                <a:chExt cx="984240" cy="717120"/>
              </a:xfrm>
            </p:grpSpPr>
            <p:sp>
              <p:nvSpPr>
                <p:cNvPr id="202" name=""/>
                <p:cNvSpPr/>
                <p:nvPr/>
              </p:nvSpPr>
              <p:spPr>
                <a:xfrm>
                  <a:off x="2560680" y="2702520"/>
                  <a:ext cx="89892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802.11b Center Frequency (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518200" y="2670840"/>
                  <a:ext cx="98424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07440" y="3451680"/>
                <a:ext cx="1177560" cy="558000"/>
                <a:chOff x="307440" y="3451680"/>
                <a:chExt cx="1177560" cy="558000"/>
              </a:xfrm>
            </p:grpSpPr>
            <p:sp>
              <p:nvSpPr>
                <p:cNvPr id="205" name=""/>
                <p:cNvSpPr/>
                <p:nvPr/>
              </p:nvSpPr>
              <p:spPr>
                <a:xfrm>
                  <a:off x="349920" y="3483360"/>
                  <a:ext cx="109224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7440" y="3451680"/>
                  <a:ext cx="117756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485000" y="3451680"/>
                <a:ext cx="1032840" cy="558000"/>
                <a:chOff x="1485000" y="3451680"/>
                <a:chExt cx="1032840" cy="558000"/>
              </a:xfrm>
            </p:grpSpPr>
            <p:sp>
              <p:nvSpPr>
                <p:cNvPr id="208" name=""/>
                <p:cNvSpPr/>
                <p:nvPr/>
              </p:nvSpPr>
              <p:spPr>
                <a:xfrm>
                  <a:off x="1527120" y="3483360"/>
                  <a:ext cx="94788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485000" y="3451680"/>
                  <a:ext cx="10328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2518200" y="3451680"/>
                <a:ext cx="984240" cy="558000"/>
                <a:chOff x="2518200" y="3451680"/>
                <a:chExt cx="984240" cy="558000"/>
              </a:xfrm>
            </p:grpSpPr>
            <p:sp>
              <p:nvSpPr>
                <p:cNvPr id="211" name=""/>
                <p:cNvSpPr/>
                <p:nvPr/>
              </p:nvSpPr>
              <p:spPr>
                <a:xfrm>
                  <a:off x="2560680" y="3483360"/>
                  <a:ext cx="898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2518200" y="3451680"/>
                  <a:ext cx="9842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07440" y="4073400"/>
                <a:ext cx="1177560" cy="558000"/>
                <a:chOff x="307440" y="4073400"/>
                <a:chExt cx="1177560" cy="558000"/>
              </a:xfrm>
            </p:grpSpPr>
            <p:sp>
              <p:nvSpPr>
                <p:cNvPr id="214" name=""/>
                <p:cNvSpPr/>
                <p:nvPr/>
              </p:nvSpPr>
              <p:spPr>
                <a:xfrm>
                  <a:off x="349920" y="4105080"/>
                  <a:ext cx="109224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307440" y="4073400"/>
                  <a:ext cx="117756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485000" y="4073400"/>
                <a:ext cx="1032840" cy="558000"/>
                <a:chOff x="1485000" y="4073400"/>
                <a:chExt cx="1032840" cy="558000"/>
              </a:xfrm>
            </p:grpSpPr>
            <p:sp>
              <p:nvSpPr>
                <p:cNvPr id="217" name=""/>
                <p:cNvSpPr/>
                <p:nvPr/>
              </p:nvSpPr>
              <p:spPr>
                <a:xfrm>
                  <a:off x="1527120" y="4105080"/>
                  <a:ext cx="94788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1485000" y="4073400"/>
                  <a:ext cx="10328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518200" y="4073400"/>
                <a:ext cx="984240" cy="558000"/>
                <a:chOff x="2518200" y="4073400"/>
                <a:chExt cx="984240" cy="558000"/>
              </a:xfrm>
            </p:grpSpPr>
            <p:sp>
              <p:nvSpPr>
                <p:cNvPr id="220" name=""/>
                <p:cNvSpPr/>
                <p:nvPr/>
              </p:nvSpPr>
              <p:spPr>
                <a:xfrm>
                  <a:off x="2560680" y="4105080"/>
                  <a:ext cx="898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2518200" y="4073400"/>
                  <a:ext cx="9842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07440" y="4695120"/>
                <a:ext cx="1177560" cy="558000"/>
                <a:chOff x="307440" y="4695120"/>
                <a:chExt cx="1177560" cy="558000"/>
              </a:xfrm>
            </p:grpSpPr>
            <p:sp>
              <p:nvSpPr>
                <p:cNvPr id="223" name=""/>
                <p:cNvSpPr/>
                <p:nvPr/>
              </p:nvSpPr>
              <p:spPr>
                <a:xfrm>
                  <a:off x="349920" y="4726800"/>
                  <a:ext cx="109224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307440" y="4695120"/>
                  <a:ext cx="117756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1485000" y="4695120"/>
                <a:ext cx="1032840" cy="558000"/>
                <a:chOff x="1485000" y="4695120"/>
                <a:chExt cx="1032840" cy="558000"/>
              </a:xfrm>
            </p:grpSpPr>
            <p:sp>
              <p:nvSpPr>
                <p:cNvPr id="226" name=""/>
                <p:cNvSpPr/>
                <p:nvPr/>
              </p:nvSpPr>
              <p:spPr>
                <a:xfrm>
                  <a:off x="1527120" y="4726800"/>
                  <a:ext cx="94788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485000" y="4695120"/>
                  <a:ext cx="10328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518200" y="4695120"/>
                <a:ext cx="984240" cy="558000"/>
                <a:chOff x="2518200" y="4695120"/>
                <a:chExt cx="984240" cy="558000"/>
              </a:xfrm>
            </p:grpSpPr>
            <p:sp>
              <p:nvSpPr>
                <p:cNvPr id="229" name=""/>
                <p:cNvSpPr/>
                <p:nvPr/>
              </p:nvSpPr>
              <p:spPr>
                <a:xfrm>
                  <a:off x="2560680" y="4726800"/>
                  <a:ext cx="898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2518200" y="4695120"/>
                  <a:ext cx="98424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 name=""/>
            <p:cNvSpPr/>
            <p:nvPr/>
          </p:nvSpPr>
          <p:spPr>
            <a:xfrm>
              <a:off x="304920" y="2666880"/>
              <a:ext cx="3200400" cy="259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2" name="" descr=""/>
          <p:cNvPicPr/>
          <p:nvPr/>
        </p:nvPicPr>
        <p:blipFill>
          <a:blip r:embed="rId1"/>
          <a:stretch/>
        </p:blipFill>
        <p:spPr>
          <a:xfrm>
            <a:off x="3705120" y="1905120"/>
            <a:ext cx="5362560" cy="40194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F5A37DB-02CB-4BA7-9E0F-7E44C5DF8B2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hannel plans presen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channel spacing is 16-17 MHz which prevents adjacent channels from overlapp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lans have a high-user density and 802.11b co-existence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second plan based on FCC 15.247 permits higher transmit powers in the US it is recommended that this plan be adopted in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7F6AF8-E300-4DE4-8CA0-B45A71CFC6D7}"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up</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CE06E0B-F518-4FCD-A2ED-E7E6EC5668DC}"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Regulatory Requirements</a:t>
            </a:r>
            <a:endParaRPr b="0" lang="en-US" sz="3600" spc="-1" strike="noStrike">
              <a:solidFill>
                <a:srgbClr val="000000"/>
              </a:solidFill>
              <a:latin typeface="Arial"/>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S 300 328</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diated power &lt;= 20 dBm, and peak power density &lt;= 10 dBm/MHz</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t-of-band emissions &lt; –20 dBm/MHz and –30 dB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IB STD-T66</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diated power (non spread spectrum systems) &lt;= 10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issions should be less than</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16 dBm (~ –27.3 dBm/MHz) in frequency bands [2.387 - 2.4 GHz] &amp; [2.483 – 2.4965 GHz]</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26 dBm for frequencies &lt; 2.387 GHz and frequencies &gt; 2.4965 GHz</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A3384A8-BD14-4C3C-891E-182C271BB129}"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Regulatory Requirements</a:t>
            </a:r>
            <a:endParaRPr b="0" lang="en-US" sz="3600" spc="-1" strike="noStrike">
              <a:solidFill>
                <a:srgbClr val="000000"/>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CC 15.24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aximum transmit power is limited to –1.25 dBm/MHz</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issions </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s than –41.25 dBm/MHz in freq bands [2.310-2.390 GHz] and [2.4835-2.500 GHz] (FCC 15.205)</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eq &lt; 2.31 GHz and freq &gt; 2.5 GHz should be either</a:t>
            </a:r>
            <a:endParaRPr b="0" lang="en-US" sz="2000" spc="-1" strike="noStrike">
              <a:solidFill>
                <a:srgbClr val="000000"/>
              </a:solidFill>
              <a:latin typeface="Times New Roman"/>
            </a:endParaRPr>
          </a:p>
          <a:p>
            <a:pPr lvl="3" marL="142884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s than –41.25 dBm/MHz (FCC 15.209), or </a:t>
            </a:r>
            <a:endParaRPr b="0" lang="en-US" sz="1800" spc="-1" strike="noStrike">
              <a:solidFill>
                <a:srgbClr val="000000"/>
              </a:solidFill>
              <a:latin typeface="Times New Roman"/>
            </a:endParaRPr>
          </a:p>
          <a:p>
            <a:pPr lvl="3" marL="142884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ss than 50 dBc (FCC 15.249)</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D4555E8-970F-4446-A072-583A450A16AB}"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Regulatory Requirements</a:t>
            </a:r>
            <a:endParaRPr b="0" lang="en-US" sz="36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Arial"/>
              </a:rPr>
              <a:t>FCC 15.247 and FCC 15.205</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transmit power can be up to either 0.125 watt or 8 dBm in a 3 kHz bandwidth, whichever is low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issions in frequency bands 2.310-2.390 GHz and 2.4835-2.500 GHz must be less than –41.25 dBm/MHz (FCC 15.20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issions in frequency bands outside the 2.4 – 2.4835 GHz band, with the exception of the bands listed in item 1, should be 20 dB below the transmit power in the desired channel (FCC 15.247)</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4657528-C710-4303-B9E1-8FABA2B32CC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annel placement plans presented based on regulatory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15.249, ETS 300 328 and ARIB STD-T6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15.247 (new), ETS 300 328 and ARIB STD-T6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plan inclu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density user pl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co-existence pla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611E989-8BFC-4D99-9C58-A38A17DE1CA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cement Plan - 1</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draft based on regulatory emission require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CC 15.249 (US), ETS 300 328 (Europe) and ARIB STD T66 (Jap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nnel placement strateg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the minimum and maximum center frequencies that meet the emission requirements based on the transmit spectral mas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iddle channels are selected by maximizing inter-channel spacing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51F9356-4E61-42DE-B351-3C1ADDCE5202}"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Regulatory Body Requirements</a:t>
            </a:r>
            <a:endParaRPr b="0" lang="en-US" sz="3600" spc="-1" strike="noStrike">
              <a:solidFill>
                <a:srgbClr val="000000"/>
              </a:solidFill>
              <a:latin typeface="Arial"/>
            </a:endParaRPr>
          </a:p>
        </p:txBody>
      </p:sp>
      <p:sp>
        <p:nvSpPr>
          <p:cNvPr id="51" name="PlaceHolder 2"/>
          <p:cNvSpPr>
            <a:spLocks noGrp="1"/>
          </p:cNvSpPr>
          <p:nvPr>
            <p:ph/>
          </p:nvPr>
        </p:nvSpPr>
        <p:spPr>
          <a:xfrm>
            <a:off x="5562720" y="1981080"/>
            <a:ext cx="35812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power in US and Japan: -1.25 dBm/MHz</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ower levels permitted in Europ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s: FCC requirements most restrictive at –41.25 dBm/MHz</a:t>
            </a:r>
            <a:endParaRPr b="0" lang="en-US" sz="2400" spc="-1" strike="noStrike">
              <a:solidFill>
                <a:srgbClr val="000000"/>
              </a:solidFill>
              <a:latin typeface="Times New Roman"/>
            </a:endParaRPr>
          </a:p>
        </p:txBody>
      </p:sp>
      <p:sp>
        <p:nvSpPr>
          <p:cNvPr id="52" name=""/>
          <p:cNvSpPr/>
          <p:nvPr/>
        </p:nvSpPr>
        <p:spPr>
          <a:xfrm>
            <a:off x="1857960" y="1812960"/>
            <a:ext cx="180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a:t>
            </a:r>
            <a:endParaRPr b="0" lang="en-US" sz="2000" spc="-1" strike="noStrike">
              <a:solidFill>
                <a:srgbClr val="000000"/>
              </a:solidFill>
              <a:latin typeface="Times New Roman"/>
            </a:endParaRPr>
          </a:p>
        </p:txBody>
      </p:sp>
      <p:sp>
        <p:nvSpPr>
          <p:cNvPr id="53" name=""/>
          <p:cNvSpPr/>
          <p:nvPr/>
        </p:nvSpPr>
        <p:spPr>
          <a:xfrm>
            <a:off x="2045880" y="3697200"/>
            <a:ext cx="252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requirements</a:t>
            </a:r>
            <a:endParaRPr b="0" lang="en-US" sz="2000" spc="-1" strike="noStrike">
              <a:solidFill>
                <a:srgbClr val="000000"/>
              </a:solidFill>
              <a:latin typeface="Times New Roman"/>
            </a:endParaRPr>
          </a:p>
        </p:txBody>
      </p:sp>
      <p:graphicFrame>
        <p:nvGraphicFramePr>
          <p:cNvPr id="54" name=""/>
          <p:cNvGraphicFramePr/>
          <p:nvPr/>
        </p:nvGraphicFramePr>
        <p:xfrm>
          <a:off x="152280" y="4267080"/>
          <a:ext cx="5334120" cy="1432080"/>
        </p:xfrm>
        <a:graphic>
          <a:graphicData uri="http://schemas.openxmlformats.org/presentationml/2006/ole">
            <p:oleObj progId="Excel.Sheet.12" r:id="rId1" spid="">
              <p:embed/>
              <p:pic>
                <p:nvPicPr>
                  <p:cNvPr id="55" name="" descr=""/>
                  <p:cNvPicPr/>
                  <p:nvPr/>
                </p:nvPicPr>
                <p:blipFill>
                  <a:blip r:embed="rId2"/>
                  <a:stretch/>
                </p:blipFill>
                <p:spPr>
                  <a:xfrm>
                    <a:off x="152280" y="4267080"/>
                    <a:ext cx="5334120" cy="1432080"/>
                  </a:xfrm>
                  <a:prstGeom prst="rect">
                    <a:avLst/>
                  </a:prstGeom>
                  <a:ln w="0">
                    <a:noFill/>
                  </a:ln>
                </p:spPr>
              </p:pic>
            </p:oleObj>
          </a:graphicData>
        </a:graphic>
      </p:graphicFrame>
      <p:graphicFrame>
        <p:nvGraphicFramePr>
          <p:cNvPr id="56" name=""/>
          <p:cNvGraphicFramePr/>
          <p:nvPr/>
        </p:nvGraphicFramePr>
        <p:xfrm>
          <a:off x="228600" y="2286000"/>
          <a:ext cx="5181480" cy="981000"/>
        </p:xfrm>
        <a:graphic>
          <a:graphicData uri="http://schemas.openxmlformats.org/presentationml/2006/ole">
            <p:oleObj progId="Excel.Sheet.12" r:id="rId3" spid="">
              <p:embed/>
              <p:pic>
                <p:nvPicPr>
                  <p:cNvPr id="57" name="" descr=""/>
                  <p:cNvPicPr/>
                  <p:nvPr/>
                </p:nvPicPr>
                <p:blipFill>
                  <a:blip r:embed="rId4"/>
                  <a:stretch/>
                </p:blipFill>
                <p:spPr>
                  <a:xfrm>
                    <a:off x="228600" y="2286000"/>
                    <a:ext cx="5181480" cy="9810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6148A6-131A-45A9-A1C5-19747F753ED6}"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ng Center Frequencies</a:t>
            </a:r>
            <a:endParaRPr b="0" lang="en-US" sz="3600" spc="-1" strike="noStrike">
              <a:solidFill>
                <a:srgbClr val="000000"/>
              </a:solidFill>
              <a:latin typeface="Arial"/>
            </a:endParaRPr>
          </a:p>
        </p:txBody>
      </p:sp>
      <p:sp>
        <p:nvSpPr>
          <p:cNvPr id="59" name="PlaceHolder 2"/>
          <p:cNvSpPr>
            <a:spLocks noGrp="1"/>
          </p:cNvSpPr>
          <p:nvPr>
            <p:ph/>
          </p:nvPr>
        </p:nvSpPr>
        <p:spPr>
          <a:xfrm>
            <a:off x="762120" y="4343400"/>
            <a:ext cx="7772400" cy="19051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center freq: 2.415 GHz (2.4 + 0.01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center freq: 2.468 GHz (2.4835-0.015)</a:t>
            </a:r>
            <a:endParaRPr b="0" lang="en-US" sz="2800" spc="-1" strike="noStrike">
              <a:solidFill>
                <a:srgbClr val="000000"/>
              </a:solidFill>
              <a:latin typeface="Times New Roman"/>
            </a:endParaRPr>
          </a:p>
        </p:txBody>
      </p:sp>
      <p:sp>
        <p:nvSpPr>
          <p:cNvPr id="60" name=""/>
          <p:cNvSpPr/>
          <p:nvPr/>
        </p:nvSpPr>
        <p:spPr>
          <a:xfrm>
            <a:off x="16812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tx_mask" descr=""/>
          <p:cNvPicPr/>
          <p:nvPr/>
        </p:nvPicPr>
        <p:blipFill>
          <a:blip r:embed="rId1"/>
          <a:stretch/>
        </p:blipFill>
        <p:spPr>
          <a:xfrm>
            <a:off x="1600200" y="1676520"/>
            <a:ext cx="5781600" cy="2400120"/>
          </a:xfrm>
          <a:prstGeom prst="rect">
            <a:avLst/>
          </a:prstGeom>
          <a:ln w="0">
            <a:noFill/>
          </a:ln>
        </p:spPr>
      </p:pic>
      <p:sp>
        <p:nvSpPr>
          <p:cNvPr id="62" name=""/>
          <p:cNvSpPr/>
          <p:nvPr/>
        </p:nvSpPr>
        <p:spPr>
          <a:xfrm>
            <a:off x="5862960" y="1882800"/>
            <a:ext cx="27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dBr = -1.25 dBm/MHz</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A01439-27B2-4AE2-9DC7-0F550E30B52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n: High-user Density</a:t>
            </a:r>
            <a:endParaRPr b="0" lang="en-US" sz="3600" spc="-1" strike="noStrike">
              <a:solidFill>
                <a:srgbClr val="000000"/>
              </a:solidFill>
              <a:latin typeface="Arial"/>
            </a:endParaRPr>
          </a:p>
        </p:txBody>
      </p:sp>
      <p:grpSp>
        <p:nvGrpSpPr>
          <p:cNvPr id="64" name=""/>
          <p:cNvGrpSpPr/>
          <p:nvPr/>
        </p:nvGrpSpPr>
        <p:grpSpPr>
          <a:xfrm>
            <a:off x="685800" y="2743200"/>
            <a:ext cx="2971800" cy="2590920"/>
            <a:chOff x="685800" y="2743200"/>
            <a:chExt cx="2971800" cy="2590920"/>
          </a:xfrm>
        </p:grpSpPr>
        <p:grpSp>
          <p:nvGrpSpPr>
            <p:cNvPr id="65" name=""/>
            <p:cNvGrpSpPr/>
            <p:nvPr/>
          </p:nvGrpSpPr>
          <p:grpSpPr>
            <a:xfrm>
              <a:off x="689040" y="2746440"/>
              <a:ext cx="2964600" cy="2584440"/>
              <a:chOff x="689040" y="2746440"/>
              <a:chExt cx="2964600" cy="2584440"/>
            </a:xfrm>
          </p:grpSpPr>
          <p:grpSp>
            <p:nvGrpSpPr>
              <p:cNvPr id="66" name=""/>
              <p:cNvGrpSpPr/>
              <p:nvPr/>
            </p:nvGrpSpPr>
            <p:grpSpPr>
              <a:xfrm>
                <a:off x="689040" y="2746440"/>
                <a:ext cx="1482480" cy="578160"/>
                <a:chOff x="689040" y="2746440"/>
                <a:chExt cx="1482480" cy="578160"/>
              </a:xfrm>
            </p:grpSpPr>
            <p:sp>
              <p:nvSpPr>
                <p:cNvPr id="67" name=""/>
                <p:cNvSpPr/>
                <p:nvPr/>
              </p:nvSpPr>
              <p:spPr>
                <a:xfrm>
                  <a:off x="742320" y="2772000"/>
                  <a:ext cx="1375200" cy="52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hannel I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a:off x="689040" y="2746440"/>
                  <a:ext cx="1482480" cy="57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2171520" y="2746440"/>
                <a:ext cx="1482120" cy="578160"/>
                <a:chOff x="2171520" y="2746440"/>
                <a:chExt cx="1482120" cy="578160"/>
              </a:xfrm>
            </p:grpSpPr>
            <p:sp>
              <p:nvSpPr>
                <p:cNvPr id="70" name=""/>
                <p:cNvSpPr/>
                <p:nvPr/>
              </p:nvSpPr>
              <p:spPr>
                <a:xfrm>
                  <a:off x="2224800" y="2772000"/>
                  <a:ext cx="1375200" cy="52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enter 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2171520" y="2746440"/>
                  <a:ext cx="1482120" cy="57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689040" y="3376080"/>
                <a:ext cx="1482480" cy="450000"/>
                <a:chOff x="689040" y="3376080"/>
                <a:chExt cx="1482480" cy="450000"/>
              </a:xfrm>
            </p:grpSpPr>
            <p:sp>
              <p:nvSpPr>
                <p:cNvPr id="73" name=""/>
                <p:cNvSpPr/>
                <p:nvPr/>
              </p:nvSpPr>
              <p:spPr>
                <a:xfrm>
                  <a:off x="742320" y="3401640"/>
                  <a:ext cx="1375200" cy="39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
                <p:cNvSpPr/>
                <p:nvPr/>
              </p:nvSpPr>
              <p:spPr>
                <a:xfrm>
                  <a:off x="689040" y="3376080"/>
                  <a:ext cx="148248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2171520" y="3376080"/>
                <a:ext cx="1482120" cy="450000"/>
                <a:chOff x="2171520" y="3376080"/>
                <a:chExt cx="1482120" cy="450000"/>
              </a:xfrm>
            </p:grpSpPr>
            <p:sp>
              <p:nvSpPr>
                <p:cNvPr id="76" name=""/>
                <p:cNvSpPr/>
                <p:nvPr/>
              </p:nvSpPr>
              <p:spPr>
                <a:xfrm>
                  <a:off x="2224800" y="3401640"/>
                  <a:ext cx="1375200" cy="39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2171520" y="3376080"/>
                  <a:ext cx="148212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9040" y="3877560"/>
                <a:ext cx="1482480" cy="450000"/>
                <a:chOff x="689040" y="3877560"/>
                <a:chExt cx="1482480" cy="450000"/>
              </a:xfrm>
            </p:grpSpPr>
            <p:sp>
              <p:nvSpPr>
                <p:cNvPr id="79" name=""/>
                <p:cNvSpPr/>
                <p:nvPr/>
              </p:nvSpPr>
              <p:spPr>
                <a:xfrm>
                  <a:off x="742320" y="390312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
                <p:cNvSpPr/>
                <p:nvPr/>
              </p:nvSpPr>
              <p:spPr>
                <a:xfrm>
                  <a:off x="689040" y="3877560"/>
                  <a:ext cx="148248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171520" y="3877560"/>
                <a:ext cx="1482120" cy="450000"/>
                <a:chOff x="2171520" y="3877560"/>
                <a:chExt cx="1482120" cy="450000"/>
              </a:xfrm>
            </p:grpSpPr>
            <p:sp>
              <p:nvSpPr>
                <p:cNvPr id="82" name=""/>
                <p:cNvSpPr/>
                <p:nvPr/>
              </p:nvSpPr>
              <p:spPr>
                <a:xfrm>
                  <a:off x="2224800" y="390312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2171520" y="3877560"/>
                  <a:ext cx="148212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689040" y="4379040"/>
                <a:ext cx="1482480" cy="450000"/>
                <a:chOff x="689040" y="4379040"/>
                <a:chExt cx="1482480" cy="450000"/>
              </a:xfrm>
            </p:grpSpPr>
            <p:sp>
              <p:nvSpPr>
                <p:cNvPr id="85" name=""/>
                <p:cNvSpPr/>
                <p:nvPr/>
              </p:nvSpPr>
              <p:spPr>
                <a:xfrm>
                  <a:off x="742320" y="440460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
                <p:cNvSpPr/>
                <p:nvPr/>
              </p:nvSpPr>
              <p:spPr>
                <a:xfrm>
                  <a:off x="689040" y="4379040"/>
                  <a:ext cx="148248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2171520" y="4379040"/>
                <a:ext cx="1482120" cy="450000"/>
                <a:chOff x="2171520" y="4379040"/>
                <a:chExt cx="1482120" cy="450000"/>
              </a:xfrm>
            </p:grpSpPr>
            <p:sp>
              <p:nvSpPr>
                <p:cNvPr id="88" name=""/>
                <p:cNvSpPr/>
                <p:nvPr/>
              </p:nvSpPr>
              <p:spPr>
                <a:xfrm>
                  <a:off x="2224800" y="440460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
                <p:cNvSpPr/>
                <p:nvPr/>
              </p:nvSpPr>
              <p:spPr>
                <a:xfrm>
                  <a:off x="2171520" y="4379040"/>
                  <a:ext cx="148212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89040" y="4880880"/>
                <a:ext cx="1482480" cy="450000"/>
                <a:chOff x="689040" y="4880880"/>
                <a:chExt cx="1482480" cy="450000"/>
              </a:xfrm>
            </p:grpSpPr>
            <p:sp>
              <p:nvSpPr>
                <p:cNvPr id="91" name=""/>
                <p:cNvSpPr/>
                <p:nvPr/>
              </p:nvSpPr>
              <p:spPr>
                <a:xfrm>
                  <a:off x="742320" y="490644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
                <p:cNvSpPr/>
                <p:nvPr/>
              </p:nvSpPr>
              <p:spPr>
                <a:xfrm>
                  <a:off x="689040" y="4880880"/>
                  <a:ext cx="148248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2171520" y="4880880"/>
                <a:ext cx="1482120" cy="450000"/>
                <a:chOff x="2171520" y="4880880"/>
                <a:chExt cx="1482120" cy="450000"/>
              </a:xfrm>
            </p:grpSpPr>
            <p:sp>
              <p:nvSpPr>
                <p:cNvPr id="94" name=""/>
                <p:cNvSpPr/>
                <p:nvPr/>
              </p:nvSpPr>
              <p:spPr>
                <a:xfrm>
                  <a:off x="2224800" y="4906440"/>
                  <a:ext cx="1375200" cy="39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
                <p:cNvSpPr/>
                <p:nvPr/>
              </p:nvSpPr>
              <p:spPr>
                <a:xfrm>
                  <a:off x="2171520" y="4880880"/>
                  <a:ext cx="1482120" cy="45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 name=""/>
            <p:cNvSpPr/>
            <p:nvPr/>
          </p:nvSpPr>
          <p:spPr>
            <a:xfrm>
              <a:off x="685800" y="2743200"/>
              <a:ext cx="2971800" cy="259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0" y="48592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8" name="" descr=""/>
          <p:cNvPicPr/>
          <p:nvPr/>
        </p:nvPicPr>
        <p:blipFill>
          <a:blip r:embed="rId1"/>
          <a:stretch/>
        </p:blipFill>
        <p:spPr>
          <a:xfrm>
            <a:off x="3962520" y="2286000"/>
            <a:ext cx="4733640" cy="35434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295DAB9-11E9-480A-AB7F-C296AC0609F8}"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n: 802.11b Co-existence</a:t>
            </a:r>
            <a:endParaRPr b="0" lang="en-US" sz="3600" spc="-1" strike="noStrike">
              <a:solidFill>
                <a:srgbClr val="000000"/>
              </a:solidFill>
              <a:latin typeface="Arial"/>
            </a:endParaRPr>
          </a:p>
        </p:txBody>
      </p:sp>
      <p:grpSp>
        <p:nvGrpSpPr>
          <p:cNvPr id="100" name=""/>
          <p:cNvGrpSpPr/>
          <p:nvPr/>
        </p:nvGrpSpPr>
        <p:grpSpPr>
          <a:xfrm>
            <a:off x="304920" y="2666880"/>
            <a:ext cx="3504960" cy="2438640"/>
            <a:chOff x="304920" y="2666880"/>
            <a:chExt cx="3504960" cy="2438640"/>
          </a:xfrm>
        </p:grpSpPr>
        <p:grpSp>
          <p:nvGrpSpPr>
            <p:cNvPr id="101" name=""/>
            <p:cNvGrpSpPr/>
            <p:nvPr/>
          </p:nvGrpSpPr>
          <p:grpSpPr>
            <a:xfrm>
              <a:off x="307800" y="2670480"/>
              <a:ext cx="3498840" cy="2430360"/>
              <a:chOff x="307800" y="2670480"/>
              <a:chExt cx="3498840" cy="2430360"/>
            </a:xfrm>
          </p:grpSpPr>
          <p:grpSp>
            <p:nvGrpSpPr>
              <p:cNvPr id="102" name=""/>
              <p:cNvGrpSpPr/>
              <p:nvPr/>
            </p:nvGrpSpPr>
            <p:grpSpPr>
              <a:xfrm>
                <a:off x="307800" y="2670480"/>
                <a:ext cx="1289520" cy="675000"/>
                <a:chOff x="307800" y="2670480"/>
                <a:chExt cx="1289520" cy="675000"/>
              </a:xfrm>
            </p:grpSpPr>
            <p:sp>
              <p:nvSpPr>
                <p:cNvPr id="103" name=""/>
                <p:cNvSpPr/>
                <p:nvPr/>
              </p:nvSpPr>
              <p:spPr>
                <a:xfrm>
                  <a:off x="354240" y="2700000"/>
                  <a:ext cx="1196280" cy="61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hannel I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 name=""/>
                <p:cNvSpPr/>
                <p:nvPr/>
              </p:nvSpPr>
              <p:spPr>
                <a:xfrm>
                  <a:off x="307800" y="2670480"/>
                  <a:ext cx="12895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597320" y="2670480"/>
                <a:ext cx="1131120" cy="675000"/>
                <a:chOff x="1597320" y="2670480"/>
                <a:chExt cx="1131120" cy="675000"/>
              </a:xfrm>
            </p:grpSpPr>
            <p:sp>
              <p:nvSpPr>
                <p:cNvPr id="106" name=""/>
                <p:cNvSpPr/>
                <p:nvPr/>
              </p:nvSpPr>
              <p:spPr>
                <a:xfrm>
                  <a:off x="1643400" y="2700000"/>
                  <a:ext cx="1037880" cy="61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enter Frequenc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 name=""/>
                <p:cNvSpPr/>
                <p:nvPr/>
              </p:nvSpPr>
              <p:spPr>
                <a:xfrm>
                  <a:off x="1597320" y="2670480"/>
                  <a:ext cx="11311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2728800" y="2670480"/>
                <a:ext cx="1077840" cy="675000"/>
                <a:chOff x="2728800" y="2670480"/>
                <a:chExt cx="1077840" cy="675000"/>
              </a:xfrm>
            </p:grpSpPr>
            <p:sp>
              <p:nvSpPr>
                <p:cNvPr id="109" name=""/>
                <p:cNvSpPr/>
                <p:nvPr/>
              </p:nvSpPr>
              <p:spPr>
                <a:xfrm>
                  <a:off x="2775240" y="2700000"/>
                  <a:ext cx="984600" cy="61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802.11b Center Frequency (MHz)</a:t>
                  </a:r>
                  <a:endParaRPr b="0" lang="en-US" sz="1000" spc="-1" strike="noStrike">
                    <a:solidFill>
                      <a:srgbClr val="000000"/>
                    </a:solidFill>
                    <a:latin typeface="Times New Roman"/>
                  </a:endParaRPr>
                </a:p>
              </p:txBody>
            </p:sp>
            <p:sp>
              <p:nvSpPr>
                <p:cNvPr id="110" name=""/>
                <p:cNvSpPr/>
                <p:nvPr/>
              </p:nvSpPr>
              <p:spPr>
                <a:xfrm>
                  <a:off x="2728800" y="2670480"/>
                  <a:ext cx="107784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07800" y="3405240"/>
                <a:ext cx="1289520" cy="524880"/>
                <a:chOff x="307800" y="3405240"/>
                <a:chExt cx="1289520" cy="524880"/>
              </a:xfrm>
            </p:grpSpPr>
            <p:sp>
              <p:nvSpPr>
                <p:cNvPr id="112" name=""/>
                <p:cNvSpPr/>
                <p:nvPr/>
              </p:nvSpPr>
              <p:spPr>
                <a:xfrm>
                  <a:off x="354240" y="3435120"/>
                  <a:ext cx="1196280" cy="46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307800" y="3405240"/>
                  <a:ext cx="12895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1597320" y="3405240"/>
                <a:ext cx="1131120" cy="524880"/>
                <a:chOff x="1597320" y="3405240"/>
                <a:chExt cx="1131120" cy="524880"/>
              </a:xfrm>
            </p:grpSpPr>
            <p:sp>
              <p:nvSpPr>
                <p:cNvPr id="115" name=""/>
                <p:cNvSpPr/>
                <p:nvPr/>
              </p:nvSpPr>
              <p:spPr>
                <a:xfrm>
                  <a:off x="1643400" y="3435120"/>
                  <a:ext cx="1037880" cy="46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597320" y="3405240"/>
                  <a:ext cx="11311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2728800" y="3405240"/>
                <a:ext cx="1077840" cy="524880"/>
                <a:chOff x="2728800" y="3405240"/>
                <a:chExt cx="1077840" cy="524880"/>
              </a:xfrm>
            </p:grpSpPr>
            <p:sp>
              <p:nvSpPr>
                <p:cNvPr id="118" name=""/>
                <p:cNvSpPr/>
                <p:nvPr/>
              </p:nvSpPr>
              <p:spPr>
                <a:xfrm>
                  <a:off x="2775240" y="3435120"/>
                  <a:ext cx="984600" cy="46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2728800" y="3405240"/>
                  <a:ext cx="107784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07800" y="3990600"/>
                <a:ext cx="1289520" cy="524880"/>
                <a:chOff x="307800" y="3990600"/>
                <a:chExt cx="1289520" cy="524880"/>
              </a:xfrm>
            </p:grpSpPr>
            <p:sp>
              <p:nvSpPr>
                <p:cNvPr id="121" name=""/>
                <p:cNvSpPr/>
                <p:nvPr/>
              </p:nvSpPr>
              <p:spPr>
                <a:xfrm>
                  <a:off x="354240" y="4020120"/>
                  <a:ext cx="119628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307800" y="3990600"/>
                  <a:ext cx="12895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1597320" y="3990600"/>
                <a:ext cx="1131120" cy="524880"/>
                <a:chOff x="1597320" y="3990600"/>
                <a:chExt cx="1131120" cy="524880"/>
              </a:xfrm>
            </p:grpSpPr>
            <p:sp>
              <p:nvSpPr>
                <p:cNvPr id="124" name=""/>
                <p:cNvSpPr/>
                <p:nvPr/>
              </p:nvSpPr>
              <p:spPr>
                <a:xfrm>
                  <a:off x="1643400" y="4020120"/>
                  <a:ext cx="103788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97320" y="3990600"/>
                  <a:ext cx="11311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728800" y="3990600"/>
                <a:ext cx="1077840" cy="524880"/>
                <a:chOff x="2728800" y="3990600"/>
                <a:chExt cx="1077840" cy="524880"/>
              </a:xfrm>
            </p:grpSpPr>
            <p:sp>
              <p:nvSpPr>
                <p:cNvPr id="127" name=""/>
                <p:cNvSpPr/>
                <p:nvPr/>
              </p:nvSpPr>
              <p:spPr>
                <a:xfrm>
                  <a:off x="2775240" y="4020120"/>
                  <a:ext cx="9846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2728800" y="3990600"/>
                  <a:ext cx="107784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07800" y="4575960"/>
                <a:ext cx="1289520" cy="524880"/>
                <a:chOff x="307800" y="4575960"/>
                <a:chExt cx="1289520" cy="524880"/>
              </a:xfrm>
            </p:grpSpPr>
            <p:sp>
              <p:nvSpPr>
                <p:cNvPr id="130" name=""/>
                <p:cNvSpPr/>
                <p:nvPr/>
              </p:nvSpPr>
              <p:spPr>
                <a:xfrm>
                  <a:off x="354240" y="4605480"/>
                  <a:ext cx="119628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307800" y="4575960"/>
                  <a:ext cx="12895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97320" y="4575960"/>
                <a:ext cx="1131120" cy="524880"/>
                <a:chOff x="1597320" y="4575960"/>
                <a:chExt cx="1131120" cy="524880"/>
              </a:xfrm>
            </p:grpSpPr>
            <p:sp>
              <p:nvSpPr>
                <p:cNvPr id="133" name=""/>
                <p:cNvSpPr/>
                <p:nvPr/>
              </p:nvSpPr>
              <p:spPr>
                <a:xfrm>
                  <a:off x="1643400" y="4605480"/>
                  <a:ext cx="103788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1597320" y="4575960"/>
                  <a:ext cx="113112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728800" y="4575960"/>
                <a:ext cx="1077840" cy="524880"/>
                <a:chOff x="2728800" y="4575960"/>
                <a:chExt cx="1077840" cy="524880"/>
              </a:xfrm>
            </p:grpSpPr>
            <p:sp>
              <p:nvSpPr>
                <p:cNvPr id="136" name=""/>
                <p:cNvSpPr/>
                <p:nvPr/>
              </p:nvSpPr>
              <p:spPr>
                <a:xfrm>
                  <a:off x="2775240" y="4605480"/>
                  <a:ext cx="9846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2728800" y="4575960"/>
                  <a:ext cx="1077840" cy="52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2666880"/>
              <a:ext cx="3504960" cy="2438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0" y="450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0" name="" descr=""/>
          <p:cNvPicPr/>
          <p:nvPr/>
        </p:nvPicPr>
        <p:blipFill>
          <a:blip r:embed="rId1"/>
          <a:stretch/>
        </p:blipFill>
        <p:spPr>
          <a:xfrm>
            <a:off x="4038480" y="2209680"/>
            <a:ext cx="4915080" cy="36864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2F9A245-A698-4238-B8B9-738358D6BA0D}"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nel Placement Plan - 2</a:t>
            </a:r>
            <a:endParaRPr b="0" lang="en-US" sz="36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 the NPRM issued on May 11, 2001 digital modulation schemes can use FCC 15.2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ame strategy as befor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max and min center frequenci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inter-channel spacing</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1425FC-3805-4759-9076-D72A6A79E271}"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Regulatory Requirements</a:t>
            </a:r>
            <a:endParaRPr b="0" lang="en-US" sz="3600" spc="-1" strike="noStrike">
              <a:solidFill>
                <a:srgbClr val="000000"/>
              </a:solidFill>
              <a:latin typeface="Arial"/>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transmit powers possible in the 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597680" y="1812960"/>
            <a:ext cx="180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a:t>
            </a:r>
            <a:endParaRPr b="0" lang="en-US" sz="2000" spc="-1" strike="noStrike">
              <a:solidFill>
                <a:srgbClr val="000000"/>
              </a:solidFill>
              <a:latin typeface="Times New Roman"/>
            </a:endParaRPr>
          </a:p>
        </p:txBody>
      </p:sp>
      <p:sp>
        <p:nvSpPr>
          <p:cNvPr id="146" name=""/>
          <p:cNvSpPr/>
          <p:nvPr/>
        </p:nvSpPr>
        <p:spPr>
          <a:xfrm>
            <a:off x="1823760" y="3697200"/>
            <a:ext cx="252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requirements</a:t>
            </a:r>
            <a:endParaRPr b="0" lang="en-US" sz="2000" spc="-1" strike="noStrike">
              <a:solidFill>
                <a:srgbClr val="000000"/>
              </a:solidFill>
              <a:latin typeface="Times New Roman"/>
            </a:endParaRPr>
          </a:p>
        </p:txBody>
      </p:sp>
      <p:graphicFrame>
        <p:nvGraphicFramePr>
          <p:cNvPr id="147" name=""/>
          <p:cNvGraphicFramePr/>
          <p:nvPr/>
        </p:nvGraphicFramePr>
        <p:xfrm>
          <a:off x="304920" y="4191120"/>
          <a:ext cx="4800600" cy="1709640"/>
        </p:xfrm>
        <a:graphic>
          <a:graphicData uri="http://schemas.openxmlformats.org/presentationml/2006/ole">
            <p:oleObj progId="Excel.Sheet.12" r:id="rId1" spid="">
              <p:embed/>
              <p:pic>
                <p:nvPicPr>
                  <p:cNvPr id="148" name="" descr=""/>
                  <p:cNvPicPr/>
                  <p:nvPr/>
                </p:nvPicPr>
                <p:blipFill>
                  <a:blip r:embed="rId2"/>
                  <a:stretch/>
                </p:blipFill>
                <p:spPr>
                  <a:xfrm>
                    <a:off x="304920" y="4191120"/>
                    <a:ext cx="4800600" cy="1709640"/>
                  </a:xfrm>
                  <a:prstGeom prst="rect">
                    <a:avLst/>
                  </a:prstGeom>
                  <a:ln w="0">
                    <a:noFill/>
                  </a:ln>
                </p:spPr>
              </p:pic>
            </p:oleObj>
          </a:graphicData>
        </a:graphic>
      </p:graphicFrame>
      <p:graphicFrame>
        <p:nvGraphicFramePr>
          <p:cNvPr id="149" name=""/>
          <p:cNvGraphicFramePr/>
          <p:nvPr/>
        </p:nvGraphicFramePr>
        <p:xfrm>
          <a:off x="838080" y="2286000"/>
          <a:ext cx="3429000" cy="1158840"/>
        </p:xfrm>
        <a:graphic>
          <a:graphicData uri="http://schemas.openxmlformats.org/presentationml/2006/ole">
            <p:oleObj progId="Excel.Sheet.12" r:id="rId3" spid="">
              <p:embed/>
              <p:pic>
                <p:nvPicPr>
                  <p:cNvPr id="150" name="" descr=""/>
                  <p:cNvPicPr/>
                  <p:nvPr/>
                </p:nvPicPr>
                <p:blipFill>
                  <a:blip r:embed="rId4"/>
                  <a:stretch/>
                </p:blipFill>
                <p:spPr>
                  <a:xfrm>
                    <a:off x="838080" y="2286000"/>
                    <a:ext cx="3429000" cy="115884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15ACCB-59AE-497E-9B9B-9851AA677A29}"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Chandra Vaidyanathan</dc:creator>
  <dc:description>IEEE 802.15-01/339r1</dc:description>
  <dc:language>en-US</dc:language>
  <cp:lastModifiedBy>chandrav</cp:lastModifiedBy>
  <cp:lastPrinted>1998-02-10T13:28:06Z</cp:lastPrinted>
  <dcterms:modified xsi:type="dcterms:W3CDTF">2001-07-09T23:24:01Z</dcterms:modified>
  <cp:revision>139</cp:revision>
  <dc:subject>IEEE 802.15 PHY Committee Monterey Report</dc:subject>
  <dc:title>No Slide Title</dc:title>
</cp:coreProperties>
</file>