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456-3C71-4F6C-B0D6-18B905D9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8B1-085D-4652-B17F-399B6F35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1AF-EED2-46B0-A994-9E21731C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473-6521-4AA1-AE25-5924C2A4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7979-A152-46ED-9E1F-95707215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7665-B745-442C-9564-6E479218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FB05-BB8B-47B5-BA6C-C8BE8EE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C503-D665-458B-9F25-1AB6DAF5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D8E0-0155-4A2B-A88A-55A5F42B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14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C95A-242B-455A-AAD7-8CD1A955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7815-0DEB-47FD-9C98-6B708AD5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68E-1546-4AE4-AAA4-2B531EF6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2831-0E5B-4592-AFF7-9B88B735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1BE1-9BFE-48F6-9FC5-7309A98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B172-300D-43D5-A167-C22ED64E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4380-559F-44DB-9A3A-037410F1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4A9B-6F65-4968-B40F-0C31E17C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F6A-B33E-4329-91CC-652DF7AB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029-98EA-44A2-A24B-56858A0A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9B8-5AE2-480C-BE5A-554E4289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14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00E-2011-4352-A1F4-F5BDEDDC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E78-8543-4437-B424-6F46A050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59A-18C7-456C-BCD6-405AF3C8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711-4D53-4D74-849A-3C2A4FE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57120"/>
            <a:ext cx="8231040" cy="6164280"/>
            <a:chOff x="457200" y="357120"/>
            <a:chExt cx="8231040" cy="6164280"/>
          </a:xfrm>
        </p:grpSpPr>
        <p:sp>
          <p:nvSpPr>
            <p:cNvPr id="1" name=""/>
            <p:cNvSpPr/>
            <p:nvPr/>
          </p:nvSpPr>
          <p:spPr>
            <a:xfrm>
              <a:off x="457200" y="366840"/>
              <a:ext cx="8224920" cy="6148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366840"/>
              <a:ext cx="139680" cy="6149880"/>
            </a:xfrm>
            <a:custGeom>
              <a:avLst/>
              <a:gdLst/>
              <a:ahLst/>
              <a:rect l="l" t="t" r="r" b="b"/>
              <a:pathLst>
                <a:path w="88" h="3874">
                  <a:moveTo>
                    <a:pt x="0" y="0"/>
                  </a:moveTo>
                  <a:lnTo>
                    <a:pt x="87" y="89"/>
                  </a:lnTo>
                  <a:lnTo>
                    <a:pt x="87" y="3805"/>
                  </a:lnTo>
                  <a:lnTo>
                    <a:pt x="0" y="3873"/>
                  </a:lnTo>
                  <a:lnTo>
                    <a:pt x="0" y="0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548560" y="357120"/>
              <a:ext cx="139680" cy="6159600"/>
            </a:xfrm>
            <a:custGeom>
              <a:avLst/>
              <a:gdLst/>
              <a:ahLst/>
              <a:rect l="l" t="t" r="r" b="b"/>
              <a:pathLst>
                <a:path w="88" h="3880">
                  <a:moveTo>
                    <a:pt x="87" y="0"/>
                  </a:moveTo>
                  <a:lnTo>
                    <a:pt x="0" y="98"/>
                  </a:lnTo>
                  <a:lnTo>
                    <a:pt x="0" y="3797"/>
                  </a:lnTo>
                  <a:lnTo>
                    <a:pt x="87" y="3879"/>
                  </a:lnTo>
                  <a:lnTo>
                    <a:pt x="87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361800"/>
              <a:ext cx="8231040" cy="163800"/>
            </a:xfrm>
            <a:custGeom>
              <a:avLst/>
              <a:gdLst/>
              <a:ahLst/>
              <a:rect l="l" t="t" r="r" b="b"/>
              <a:pathLst>
                <a:path w="5185" h="103">
                  <a:moveTo>
                    <a:pt x="0" y="0"/>
                  </a:moveTo>
                  <a:lnTo>
                    <a:pt x="5184" y="3"/>
                  </a:lnTo>
                  <a:lnTo>
                    <a:pt x="5093" y="102"/>
                  </a:lnTo>
                  <a:lnTo>
                    <a:pt x="88" y="102"/>
                  </a:lnTo>
                  <a:lnTo>
                    <a:pt x="0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6381720"/>
              <a:ext cx="8231040" cy="139680"/>
            </a:xfrm>
            <a:custGeom>
              <a:avLst/>
              <a:gdLst/>
              <a:ahLst/>
              <a:rect l="l" t="t" r="r" b="b"/>
              <a:pathLst>
                <a:path w="5185" h="88">
                  <a:moveTo>
                    <a:pt x="0" y="87"/>
                  </a:moveTo>
                  <a:lnTo>
                    <a:pt x="5184" y="87"/>
                  </a:lnTo>
                  <a:lnTo>
                    <a:pt x="5100" y="3"/>
                  </a:lnTo>
                  <a:lnTo>
                    <a:pt x="89" y="0"/>
                  </a:lnTo>
                  <a:lnTo>
                    <a:pt x="0" y="87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7496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496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7496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8336-3D9C-481B-B612-8F5FF9D21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1295280"/>
            <a:ext cx="8231040" cy="4268880"/>
            <a:chOff x="457200" y="1295280"/>
            <a:chExt cx="8231040" cy="4268880"/>
          </a:xfrm>
        </p:grpSpPr>
        <p:sp>
          <p:nvSpPr>
            <p:cNvPr id="48" name=""/>
            <p:cNvSpPr/>
            <p:nvPr/>
          </p:nvSpPr>
          <p:spPr>
            <a:xfrm>
              <a:off x="457200" y="1300320"/>
              <a:ext cx="8224920" cy="4252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303200"/>
              <a:ext cx="154080" cy="4257720"/>
            </a:xfrm>
            <a:custGeom>
              <a:avLst/>
              <a:gdLst/>
              <a:ahLst/>
              <a:rect l="l" t="t" r="r" b="b"/>
              <a:pathLst>
                <a:path w="97" h="2682">
                  <a:moveTo>
                    <a:pt x="0" y="0"/>
                  </a:moveTo>
                  <a:lnTo>
                    <a:pt x="87" y="61"/>
                  </a:lnTo>
                  <a:lnTo>
                    <a:pt x="96" y="2631"/>
                  </a:lnTo>
                  <a:lnTo>
                    <a:pt x="0" y="2681"/>
                  </a:lnTo>
                  <a:lnTo>
                    <a:pt x="0" y="0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548560" y="1295280"/>
              <a:ext cx="139680" cy="4265640"/>
            </a:xfrm>
            <a:custGeom>
              <a:avLst/>
              <a:gdLst/>
              <a:ahLst/>
              <a:rect l="l" t="t" r="r" b="b"/>
              <a:pathLst>
                <a:path w="88" h="2687">
                  <a:moveTo>
                    <a:pt x="87" y="0"/>
                  </a:moveTo>
                  <a:lnTo>
                    <a:pt x="0" y="67"/>
                  </a:lnTo>
                  <a:lnTo>
                    <a:pt x="0" y="2629"/>
                  </a:lnTo>
                  <a:lnTo>
                    <a:pt x="87" y="2686"/>
                  </a:lnTo>
                  <a:lnTo>
                    <a:pt x="87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1298520"/>
              <a:ext cx="8231040" cy="114480"/>
            </a:xfrm>
            <a:custGeom>
              <a:avLst/>
              <a:gdLst/>
              <a:ahLst/>
              <a:rect l="l" t="t" r="r" b="b"/>
              <a:pathLst>
                <a:path w="5185" h="72">
                  <a:moveTo>
                    <a:pt x="0" y="0"/>
                  </a:moveTo>
                  <a:lnTo>
                    <a:pt x="5184" y="2"/>
                  </a:lnTo>
                  <a:lnTo>
                    <a:pt x="5093" y="71"/>
                  </a:lnTo>
                  <a:lnTo>
                    <a:pt x="88" y="71"/>
                  </a:lnTo>
                  <a:lnTo>
                    <a:pt x="0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5467320"/>
              <a:ext cx="8231040" cy="96840"/>
            </a:xfrm>
            <a:custGeom>
              <a:avLst/>
              <a:gdLst/>
              <a:ahLst/>
              <a:rect l="l" t="t" r="r" b="b"/>
              <a:pathLst>
                <a:path w="5185" h="61">
                  <a:moveTo>
                    <a:pt x="0" y="60"/>
                  </a:moveTo>
                  <a:lnTo>
                    <a:pt x="5184" y="60"/>
                  </a:lnTo>
                  <a:lnTo>
                    <a:pt x="5100" y="2"/>
                  </a:lnTo>
                  <a:lnTo>
                    <a:pt x="89" y="0"/>
                  </a:lnTo>
                  <a:lnTo>
                    <a:pt x="0" y="60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9D78-5E8A-4C50-AD2F-49A26ADE2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C Regulations for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read Spectrum Devi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ation to IEEE 802.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ch 13,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ulius P. Knap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ief, Policy &amp; Rules Di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fice of Engineering and Technolo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ederal Communications Com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views expressed in this presentation are those of the author and may not necessarily represent the views of  the FCC or the Commission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nt Rule Changes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400-2483.5 MHz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 RF Proceeding: Report and Order in ET Docket 99-231 adopted August 22,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Bandwidths up to 5 MH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um Hopping Channels: 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 Reduction for Bandwidths Ab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MHz:  125 m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Balanced A Variety of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Not Address Processing Gain Msm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onsideration Requ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ition for Clarification or Reconsideration Filed on October 25, 2000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ests That Frequency Hopping Systems With 1 MHz of Less BW Use 15 Ho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sitions Filed by Proxim &amp; Mobil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-LAN 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-LAN, Inc. Filed for Certification of a Device Using Wide-Band Orthogonal Frequency Division Multiplexing (WOFDM) under SS Ru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CC Staff Denied Application:  Fails to Meet Spread Spectrum Defini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-LAN Has Appealed to Commissioners:  Argues Its System Meets All FCC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sessing the Sit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utstanding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 Sequence processing gain measur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me RF Reconsid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-LAN Application for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Technology Issues Anticip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EEE 802.11 Standard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ules May Restrict Technologi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necessa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quent Rule Makings Are Undesi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Possible Way Ahe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te a Notice of Proposed Rule Making In the Near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s for Consideration - Whether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n Processing Gain Requir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Number of Ho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eralize Spread Spectrum 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aft Rules Similar to U-NII Ru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onsider 915 MHz &amp; 5.8 GHz band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Received Informal Sugg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onduct Forum After NPRM Rele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derstanding th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ule Making Proces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ministrative Procedures 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 Making Proces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ice of Proposed Rule Ma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portunity for Comments &amp; Repl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-Parte 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&amp; Order - Adopts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onsid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The Electronic Comment Filing System (ECF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e of FCC Staff:  Analysis &amp;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-Makers:  Chairman and Commiss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fccorg2001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772400" cy="487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C Organization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Word About Industry 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dustry Has Developed Standards Unde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t 15: IEEE 802.11; Bluetooth; Home R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CC Has Sought to Provide A Flexible Framework for Standards to Devel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stency of Standards &amp; FCC Ru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s must comply with the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CC will consider rule changes to accommodat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vances in technologies &amp; stand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l determination will be based on the rec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Everyone will have the opportunity to com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 Developments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quipment Certific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 Certification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ification Can be Perform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communications Certification Body (TC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ual Recognition Agreements (MRA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A implemented with European Un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A with APEC agreed &amp; progr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A with CITEL moving less quick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523880" y="1397160"/>
          <a:ext cx="6097680" cy="40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7160"/>
                    <a:ext cx="60976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77800" y="409680"/>
          <a:ext cx="7988400" cy="6038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409680"/>
                    <a:ext cx="7988400" cy="60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ics of Part 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 Spectrum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nt Develop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ossible Way 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Items of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 Developments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F Exposu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Bs Are Currently Not Permitted to Certify Devices Subject to RF Exposur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son:  No Measurement 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EEE is Developing Measurement 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CC Considering Update to OET Bulletin 65 Supplement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ular Devi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CC Public Notice: June 26, 2000:  Part 15 Unlicensed Modular Transmitter Approv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ded to Reduce the Burden of Filing for Certification of Every Devic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:  How to Deal With RF Expo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 Developments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neral Issu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nt Enforcement Bureau Letter: Interference to Amateurs in 2.4 GHz B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ical Advisor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ining unlicensed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“Tragedy of the Common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ise study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licensed PC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910-1930 MHz, 2390-2400 MH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forum pe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 Starcomm Pe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For This Opportunity To Address IEEE 802.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nticipate An FCC Rule M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elcome Any Ideas You May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Further Inform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fcc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knapp@fcc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15: Unlicensed Devi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for Low Power Transmi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part C: Intentional Radi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part D: Unlicensed Personal Communications Service Devices (U-P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part E: Unlicensed National Information Infrastructure (U-N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15 Operating Cond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Vested Rights to Continued Oper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Not Cause Harmful Interferenc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Accept Any Interference Receiv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 Must Cease if Notified by FCC that Device is Causing Harmful Inter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read Spectrum Rules Roadm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tion 2.1 - Spread Spectrum Defin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part J - Equipment Authorization 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part I - Marketing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part K - Importation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1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tion 15.31 - Measurement Requir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tion 15.201 - Equipment Author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tion 15.203 - Antenna Requi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tion 15.207 - Conducted Emis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tion 15.209 - Restricted B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tion 15.247 -Technical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read Spectrum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5560" y="1676520"/>
            <a:ext cx="790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tion 2.1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read Spectrum Syste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A sp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trum  system is an information bea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s system in which:  (1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conveyed by modulation of a carrier by so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tional means, (2) the bandwidth is deliberate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ned by means of a spreading function over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would be needed to transmit the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e.  (In some spread spectrum systems, a por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information being conveyed by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 contained in the spreading function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cal Ru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15.2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B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2-928 MH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0-2483.5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725-5850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resentation will focus on 2400-2483.5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 Provisions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cy hopp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sequence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equency Hopping Systems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2400 -2483.5 MHz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 Output Power: 1 Wa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Use At Least 75 Hopping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. 20 dB Bandwidth: 1 MH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g. Occupancy Time on Any Frequency no Greater Than 0.4 secs. in 30 sec.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 Reduction Required for Antenna Gains Above 6 dB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F Exposure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rect Sequence Systems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400-2483.5 MHz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 Output: 1 Wa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um 6 dB Bandwidth: 500 kH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k Power Spectral Density: No Greater Than 8 dBm in any 3 kHz B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ing Gain of At Least 10 d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 Reduction Required for Antenna Gains Above 6 dB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F Exposure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0T00:25:43Z</dcterms:created>
  <dc:creator>Julius &amp; Deborah Knapp</dc:creator>
  <dc:description/>
  <dc:language>en-US</dc:language>
  <cp:lastModifiedBy>Vic Hayes</cp:lastModifiedBy>
  <cp:lastPrinted>2001-03-13T14:39:36Z</cp:lastPrinted>
  <dcterms:modified xsi:type="dcterms:W3CDTF">2001-03-13T14:44:24Z</dcterms:modified>
  <cp:revision>13</cp:revision>
  <dc:subject/>
  <dc:title>FCC Regulations for  Spread Spectrum Devices</dc:title>
</cp:coreProperties>
</file>