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BB2F-72E3-432C-B565-737B1414D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8EDB-92CB-4297-AEF6-8B9465BD5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A7AD-FC06-4E0F-AA51-6A425D044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C4D6-DB09-4221-B0A0-7EE69BA45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B9EF-6494-44BD-B608-427E74C89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EF72-DD5D-4776-8791-95E37E431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B51B-ADAB-4EBD-A366-A850A87B7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D2B4-8421-4AC6-A2C6-4E11BC0D4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707E-7C02-43F0-9E7A-1ABDCE52C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4D08-76F2-431E-9907-AE06B3E8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35E1-C1B5-418B-8E62-0A33305C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8F1E-76B3-4091-92DE-65929419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123E4C5-2480-4A2C-ABD3-44205A9AA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33920" y="380160"/>
            <a:ext cx="472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1/397-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dweek Report of Radio Regulations to Plenary Working Group meeting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ly 2001 me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ulatory 802.11 ad-hoc Chairma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Vic Hay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ieee802.org/Regulations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Agere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887D-96AF-44BE-BA64-B38A94D0476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 for Portland me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 Regulatory Group as Permanent Group with a Char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on PAR rules amend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 Comment on FNPRM 99-23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epare and submit other position statements if nee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Spectrum requirement 5 GHz b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Agere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F2D1-AF7C-4652-8B84-56C049D020A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ems not discussed y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itional requirements for Wireless P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s for 802 level Regulatory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Agere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1FD5-3235-49EE-9481-0DF0B6923FC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PRM Com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sharing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 delayed due to Tele-com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ll waiting for input when available before 5 PM Wednes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omment about smaller aperture antennas, processing gain (subject to text availability today at 5 P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ernative text for FWA withdra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Agere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B0E8-2CBD-4CB4-8F54-E10D91B82D8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PRM com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ew digital transmission technolo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45 GHz power levels: identify problem, no proposal; for 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7 GHz,  agree wi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5 hops as lowest li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ing the power levels equa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ree with 25 MHz additional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Agere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8C64-2B3C-45F8-9EB0-F63B539B30D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 GHz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ed BRAN Liaison statement to 802.11 Ch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generated sta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 of mobile applications for 5150-5250 MHz and 5460-5725 MHz, in concert with the WRC 2003 age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motion of FWA in addition to the mobile/nomadic use in the 5725-5850 MHz b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Agere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220B-277F-4631-98F1-751CB8214D7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output docu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mission to the IWG5 and US JRG 8A-9B, indicating US industry desire to support the mobile allocation in the bands of agenda item 1.5 (resolves 1 of resolution 736 WRC 20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Agere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D454-7B39-4582-A423-8833C7782B5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prepared for review of the following external doc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nt to FCC on NPRM 99-23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aison to BR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mission to US groups on WRC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Agere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AFDF-E01A-4C3E-AB62-2FB7459E7B1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eting schedule this we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ursday 8 AM - 10 AM (MCC) 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ursday 1 - 3 PM closing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Agere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5D38-14AA-4235-B790-1A943FE3061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2T00:41:31Z</dcterms:created>
  <dc:creator>Vic Hayes</dc:creator>
  <dc:description/>
  <dc:language>en-US</dc:language>
  <cp:lastModifiedBy>Vic Hayes</cp:lastModifiedBy>
  <cp:lastPrinted>1998-02-10T13:28:06Z</cp:lastPrinted>
  <dcterms:modified xsi:type="dcterms:W3CDTF">2001-07-11T14:29:55Z</dcterms:modified>
  <cp:revision>15</cp:revision>
  <dc:subject/>
  <dc:title>Opening report March 2001 meeting</dc:title>
</cp:coreProperties>
</file>