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5F82-E498-4607-834D-2432A4658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F721-2679-4E7A-AA20-B0F020FBB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9BB6-DC2F-4074-90AB-478CF6F0E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0BC9-6C11-457B-B4AB-73D9FF43C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F9DD-E832-43A8-8BA8-9A60C5571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DD65-4D14-42A7-9538-793887955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8A8F-CF5B-4A4F-AC23-F4E47EDFF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2951-0E9C-43B1-8750-8B4BCDC99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C317-6201-4721-B620-09EA44D1B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5330-8BF8-4B19-BA69-1BBCDC59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5C86-6668-42F9-B776-A2049B65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4775-963D-442E-BE10-9F1BFFD4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06D9025-F535-4AC5-A0C5-E9FB42D3A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1/345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2856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port on Meeting with the Bluetooth SI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uetooth Congress-Monte Carl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une 8, 2001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E5AE-0E8B-489B-90F2-5D91A3B288B4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.1 issue of correct use of must, should and sh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 will consider adopting IEEE editorial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 will review proposed usage in 15.1 dr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get SDLs into the qualifica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rns over already qualified pro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 Siep will drive the issue inside the S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AFH approach for coexis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need to establish ‘clean room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sort through any potential IPR iss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o 2 and 802.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project enters the daylight, 802.15 plans to form a project called 802.15.1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F7B8-A546-4C5F-A490-8759F0C514E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nday Exec Meeting-Portl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74B6-5AC3-43CC-A8AF-2507508CB79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2T10:05:47Z</dcterms:created>
  <dc:creator>Robert F.  Heile</dc:creator>
  <dc:description>&lt;doc#&gt;</dc:description>
  <dc:language>en-US</dc:language>
  <cp:lastModifiedBy>Robert F.  Heile</cp:lastModifiedBy>
  <cp:lastPrinted>1998-02-10T13:28:06Z</cp:lastPrinted>
  <dcterms:modified xsi:type="dcterms:W3CDTF">2001-07-09T18:35:13Z</dcterms:modified>
  <cp:revision>32</cp:revision>
  <dc:subject>IEEE 802.15 &lt;subject&gt;</dc:subject>
  <dc:title>No Slide Title</dc:title>
</cp:coreProperties>
</file>