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3F2-D666-479F-8E47-BE73B36A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87B-6773-4138-8D8C-4CA700E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7F6-2F58-4A37-98C6-2B55BB62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37B-5AB6-46C3-8280-03066B28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23F-D061-4C42-86C9-49AABD7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876-2B0D-4089-89B6-0174959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AB0-F17B-491B-AA65-BD477A7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8FF-B0CD-4190-9438-4F59D75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73A-4FDC-4779-A7B3-DB286B9D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D03-0ADE-48E0-9DB1-26D5D41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9AA-F460-44E4-A2C8-A6A7E9B1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B4B-FDAA-4D83-8FF7-DB31833E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CAD81A-B8ED-4B86-BC2D-147E651B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Wireless Coexistence Study Group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day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3429000"/>
            <a:ext cx="497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Bl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y/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b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30) 478-56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E9C-1768-405C-80DE-C4F8E86018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 COEX TAG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&amp;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ance at the 802 COEX Tag meetings is open to registered member of 802.11, 802.15 or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ing at the 802 COEX Tag meetings is limited to voting members of 802.11, 802.15 or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ance at 802 COEX TAG meetings will count towards attendance at the individual’s primary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fication of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ideline requires a 75% approval vote by the members of the 802 COEX TAG as outline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uideline is then presented to ExCom and the appropriate wireless WG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C45-8415-47E2-9991-CD5BA2E388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&amp; Coexistence Complementary Cha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ze the IEEE 802 activities with the worldwide regulatory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ze the IEEE 802 activities with the internal wireless WGs relative to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C8C-71F2-44D8-B6E8-45370238D8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termine if a rule change is required for establishing 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G would like attendance at its meeting to count towards attendance in the individual’s primary 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activity with the Regulatory TAG to create a consistent message with Ex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gulatory TAG is an outwardly focused activity targeted at influencing decisions of the worldwide regulatory agencies relative to IEEE 802 desired di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existence TAG is an inwardly focused activity targeted at coordinating coexistence issues within and between the various wireless WGs in IEEE 8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50A-63E5-4B9A-8556-B56ED04C05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is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/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ficati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G propose a TAG or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rules change will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o ExCom on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scheduled for this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uesday 8-10AM (Colum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 6:30-9:30PM (Sal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SG will be needed to 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: Close on a proposal and ask for TAG formation at Nov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B4A-E106-4AFB-B22D-AF85B79CAA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 for Thursday PM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to Exist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 &amp;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with Ex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AD5-E0B9-4975-981C-238C2C5289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TA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585-5E4F-4B8B-8155-4AB3DF7DE6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have a group that can review and make coexistence recommendations to ExCom on current or proposed PARs within the established wireless WGs of the IEEE802 standards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concept to the FCC OET, which makes recommendations to the commissioners abou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al charter of this new group is to address the wireless coexistence issues across all wireless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638-D1FD-4BEE-94B1-1AB060025C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Charter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up is responsible for reviewing all unlicensed band proposed P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generates a “guidance” report to ExCom relative to coexistence with published wireless standards and those in the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“guidance” report shall be used by ExCom as a technical expert opinion for evaluating the proposed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up is responsible for generating a final review report of the Draft Standard prior to Sponso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ort will be presented to the sponsoring WG and ExCom and a copy will be sent to the Chair of all other wireless WGs within IEEE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75-643C-45DE-BDF7-82492D3C8A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 to Existing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vities of 802.15.2  remain unchanged. They can continue working on their specific tasks a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802.11 5GSG remains unchanged. They can continue working on their specific tasks a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802.16.2 Coexistence activity for Licensed bands remains un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8BD-8191-4921-B154-58A9C423F6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of the TAG is a written set of guidelines that should be adopted by the appropriate WG for inclusion in its relevant TG handling the coexistenc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case of coexistence issues between 802.11 and 802.15, the guidelines could be a recommendation for 802.15.2 to write a recommended practice based on the TAGs f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case of coexistence issues within 802.16, the guidelines would be similar to 802.15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ll other cases, where there is no active TG to undertake the writing of the recommended practice, the guidelines would recommend to ExCom that the appropriate WG create a TG to address the work as outlined in the TAG’s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EF0-03D1-4555-9E45-E4946E3A24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 COEX TAG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2286000"/>
          <a:ext cx="698832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69883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7DA-2C90-41DC-91E7-FCA6E8EFF4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Jim Lansford</dc:creator>
  <dc:description/>
  <dc:language>en-US</dc:language>
  <cp:lastModifiedBy>Tim Blaney</cp:lastModifiedBy>
  <cp:lastPrinted>2000-09-20T20:30:42Z</cp:lastPrinted>
  <dcterms:modified xsi:type="dcterms:W3CDTF">2001-07-12T23:58:04Z</dcterms:modified>
  <cp:revision>344</cp:revision>
  <dc:subject>Coexistence SG Kickoff</dc:subject>
  <dc:title>IEEE 802 Coexistence SG</dc:title>
</cp:coreProperties>
</file>