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C3E-E83A-4957-BC25-AEEDB842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3D6-AB1C-49CC-9186-B890D6B9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50B-C4A3-4922-9A2D-A90BB77C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EE6-37AA-4541-B0A3-8FD7E8AF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C63-8659-4E9E-973B-5969A6D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743-12F5-4C22-902B-109F10F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FBA-7B8D-45F8-9032-55EFACE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04C-B059-4B2B-9B34-9A7B809A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D4B-3D8A-4C37-9765-DAB4662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407-2C16-4BA2-827E-D86AF6E0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588-A280-40A3-9847-39DEB74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0D8-D7BF-436D-BB01-DADDE34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8BA1E0-9147-4A74-9D9C-5FD8A7488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6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C proposals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AC--Moto, Philips, Invensys,A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kia joined unified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vote on was unani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MAC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578-06FF-4B18-9B28-C80D4A9291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PHY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eek with 7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roposals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, Philips,Invensys me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1B4-800D-47FA-89FA-C05C592766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PHY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ime of vote, STS withd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waves eliminated in firs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re and Nokia eliminated in tie on second 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Vote was unani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20B-572B-4949-BF2C-D8B2B6F05E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Vote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at the 802.15 Working Group confirm the Baseline MAC &amp; PHY selection of Task Group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 ca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j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33-0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163-92B8-48E3-9002-34FDE39492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4 Alternate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4 voted to pursue an alternate PHY in the 868-928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ossibl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 vote on the alternate PHY it will be at 1pm on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BDD-A2D6-4778-A48D-8621DCE476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338r0</dc:description>
  <dc:language>en-US</dc:language>
  <cp:lastModifiedBy>Robert F.  Heile</cp:lastModifiedBy>
  <cp:lastPrinted>2000-07-07T01:25:49Z</cp:lastPrinted>
  <dcterms:modified xsi:type="dcterms:W3CDTF">2001-07-11T23:24:19Z</dcterms:modified>
  <cp:revision>115</cp:revision>
  <dc:subject>IEEE 802.15 &lt;subject&gt;</dc:subject>
  <dc:title>WG- Nov00-meeting into and basic policies</dc:title>
</cp:coreProperties>
</file>