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093FE-B94E-4774-B8BE-54149D123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84B10-12BA-46D4-A4CD-948E11A40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AC9E1-D9EA-4623-ABB2-21BBEAE08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5AFA8-DA44-45E3-9E4F-32205483B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CE16B-6DEA-4784-ACE5-D591E4DE7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C8B58-0887-47BF-8258-DB3E42ADE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33E0D-5DB2-44AE-B55B-025BCDA99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77FA8-2738-44D3-93D3-59D8CCA92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43604-F81A-496B-9D35-26BF92CC6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32B0B-36A1-4FCB-94BF-63A82C6BE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9D9A4-2E35-4635-9B0D-36A3F2FB1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06F1F-8524-488A-9867-FF1517C92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A46151-9EA0-413A-B27D-BCAA9CB25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7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465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Proposed amendments to the TG3-MAC.</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8th June,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Rajugopal Gubbi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Broadcom, cor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0, E-Caribbean Drive, Sunnyvale, CA 9508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408-543-3470, FAX: +1.408-543-3470, E-Mail: rgubbi@Broadco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esents proposed amendments to the TG3-MA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an improvement to the current version of the 802.15.3 M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Dr. Rajugopal Gubbi, Broadcom, Corp.</a:t>
            </a:r>
          </a:p>
        </p:txBody>
      </p:sp>
      <p:sp>
        <p:nvSpPr>
          <p:cNvPr id="3" name="PlaceHolder 2"/>
          <p:cNvSpPr>
            <a:spLocks noGrp="1"/>
          </p:cNvSpPr>
          <p:nvPr>
            <p:ph type="sldNum" idx="3"/>
          </p:nvPr>
        </p:nvSpPr>
        <p:spPr/>
        <p:txBody>
          <a:bodyPr/>
          <a:p>
            <a:fld id="{C0515A68-9481-4515-A0F1-CF2B67C1BFF2}" type="slidenum">
              <a:t>1</a:t>
            </a:fld>
          </a:p>
        </p:txBody>
      </p:sp>
      <p:sp>
        <p:nvSpPr>
          <p:cNvPr id="4" name="PlaceHolder 3"/>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priority management (1)</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8 priorities as in 802.1D. Use priority=0 for all non-data frames and priority=1 being reserv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add a bit to indicate stream type (Isoch or async) as part of Stream identificatio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the above 4-bit field in the MAC header for traffic monitoring purpose at PNC: The stream index must be reduced to 12 bits and the remaining 4 bits must be used to indicate the 4-bit priority fiel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C shall allocate channel time for all Isoch first and highest to lowest priority streams in that ord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0C3F7E52-6A25-4E37-96F9-FCE5D33F825C}" type="slidenum">
              <a:t>10</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priority management (2)</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C shall indicate the Isoch allocation in CTA</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s shall transmit Isoch streams at their allocated times only. Non-Isoch streams shall be transmitted in the order of their priorit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BD2861E6-4CC0-4CE2-9EEC-35EDF95077FD}" type="slidenum">
              <a:t>11</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vantage of the Proposed priority management</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use of existing 802.1D work on priority management. No re-invention need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mapping of priorities at TG3-MAC becomes simp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AEE0C19E-491F-4D2E-B9E5-690A8C28BE2A}" type="slidenum">
              <a:t>1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cation to Implied-ack</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DEV shall send only one frame for a received frame soliciting implied-ac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DEV can take any length of time within the current GTS without exceeding i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DEV can send imm-ack as response to an implied-ack  solicitation</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DEV shall send imm-ack if it does not know the end of current GTS</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DEV shall make sure there is enough room in the current GTS for the im-ack, if required, for the frame sent as response to implied-ack solicit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305C9016-02D9-493C-81C3-76D6AB607D27}" type="slidenum">
              <a:t>1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er discovery</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discovery is implied in all the previous versions of the draft, but never explicitly stat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use is added regarding thi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s use the already defined “Probe information” command to request/provide/obtain the DEV specific information that is required for the stream transa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01F9F89F-8291-41AD-9C3A-A552FD784B93}" type="slidenum">
              <a:t>1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exchange rule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01/301r0 by Bill</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important rules are as follow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CS/AUTH/ASSOC frame exchanges must be in CAP onl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ream-DATA type frames in CFP onl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 frames can be in CAP if the DEV does not have a non-isoch time slot allocated to it in the current superfram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list is provided in clause 8.13</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23DFAF47-3C10-4122-ADAD-AE88B2A2C769}" type="slidenum">
              <a:t>1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ed-ack expedite request</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elayed-ack is used, the source DEV must be able to request the dest-DEV to expedite sending the accumulated delayed-ack</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t-11 in stream-ID field is used for this purpose in the stream transmission by the source-DEV</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frame with this request could be lost in the channel, the bit is interpreted as “Send delayed-ack at your earliest convenience”</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request is correctly rxd, the dest-DEV attempts sending the delayed-ack before the end of NEXT super fram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FCC50AF7-32A6-4512-98FF-B1B80E82AAA7}" type="slidenum">
              <a:t>1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s to FC</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g-start and Frag-End bits added</a:t>
            </a:r>
            <a:endParaRPr b="0" lang="en-US" sz="2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ck-request bit in FC</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need retry bit? I don’t see the need for it. could save a bit in FC for future use (like the one below)</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 byte indication for stream-data type frames to allow always word aligned transmissions. Rest of the frames formats are designed to be word aligne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urce-DEV sets this bit to ‘1’ if the current data body is of odd byte length and pads a byte at the end of the frame body before FCS field. Otherwise this bit is set to ‘0’.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423BEE2D-ECCF-4A16-BFFB-0B2B3A7F0052}" type="slidenum">
              <a:t>1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s to channel time request command</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al of request for all the four priorities. This reduces overhead in most of the simple PAN devices with at most one stream to a destination.</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of stream identification in the place of destination address. Dest-address inclusion is already approved. But the stream identification provides stream-type(Isoch/Async), priority and stream index. Using stream index the PNC can find the dest-DEV.</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 keeps the change to stream management command consistent where stream-ID is required along with the channel-time-request blo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353FD0C6-5AA6-4F3E-8D82-D98D3EBFC0D7}" type="slidenum">
              <a:t>1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s to stream management command</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time request in stream mgmt command. This allows the PNC to not allow the stream if the requested time can not be provide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ACK-policy in stream mgmt command. This was always intended but left out in previous drafts. Without this the parameters like retx-window does not make any sen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E101E366-16D5-4D77-8CFA-BD1B49DEA623}" type="slidenum">
              <a:t>19</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7" name="PlaceHolder 2"/>
          <p:cNvSpPr>
            <a:spLocks noGrp="1"/>
          </p:cNvSpPr>
          <p:nvPr>
            <p:ph/>
          </p:nvPr>
        </p:nvSpPr>
        <p:spPr>
          <a:xfrm>
            <a:off x="762120" y="1523520"/>
            <a:ext cx="7772400" cy="4419720"/>
          </a:xfrm>
          <a:prstGeom prst="rect">
            <a:avLst/>
          </a:prstGeom>
          <a:noFill/>
          <a:ln w="0">
            <a:noFill/>
          </a:ln>
        </p:spPr>
        <p:txBody>
          <a:bodyPr lIns="92160" rIns="92160" tIns="46080" bIns="46080"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 power control (TPC)</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save operation</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gmentation and de-fragmentation</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 management</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 to Implied-ack</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discovery</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 exchange rule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ed-ack expedite request</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to FC</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to chan-time request command</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to stream mgmt command</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ing tx-rate limitations from clause-7 to clause 8</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cast Device-Info table periodicall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069A835B-EEC4-4CFC-9CE6-9F939B68D051}" type="slidenum">
              <a:t>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ing multi-rate usage table from 7.3.1</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56 in 7.3.1 in d4 belongs in clause 8.8 (293r1) where multi-rate support is discus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54644C36-1BDA-4116-AC71-260BC749A18D}" type="slidenum">
              <a:t>20</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aodcasting DEV-Info by PNC</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C must be specified to broadcast the device-information (table) periodically (aBroadcastDevInfoDuratio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elps in reducing the delay in PNC-handover by letting all the PNC-capable DEVs to keep their local tables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F4225615-4A65-4CA4-A4B7-4091729F2996}" type="slidenum">
              <a:t>21</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being presented?</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chemes to the remaining open items (except auth/sec) in the draf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st of changes to fix the holes in the current schemes and enhance performanc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schemes proposed here are modified versions of the proposals by others either through a formal doc or through discussions on the reflect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949F1858-C8FA-46EC-9CEC-84FD1603EAC2}" type="slidenum">
              <a:t>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mit power control (1)</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lines of work in TGh</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able of transmit power levels must be specified</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V must be able to request the current tx-power level of its peer (only in the frames destined to the requestor)</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V must be able to request one out of the specified tx-power levels for the frames destined to the requestor</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must be flexible to allow each DEV to use different tx-power levels for different dest-DEVs</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mple TPC scheme (FMTP) and a sophisticated scheme (AMTP) are propo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6F07838F-5EF8-4309-B8B6-714F6C0F538A}" type="slidenum">
              <a:t>4</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mit power control (2)</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2000"/>
          </a:bodyPr>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C broadcasts the maximum tx power level in the beacon. PNC uses channel status from each DEV to decide this.</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V that has simple TPC implemented (FMTP: Fixed maximum transmit power level) simply sets all its transmissions to the level broadcasted by PNC</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V that has sophisticated TPC implemented (AMTP: Adjustable maximum transmit power level) chooses the minimum of the requested power level and the limit indicated by the PNC in its beacon.</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 with AMTP may maintain a separate tx power level for each of its dest-peer</a:t>
            </a:r>
            <a:endParaRPr b="0" lang="en-US" sz="2400" spc="-1" strike="noStrike">
              <a:solidFill>
                <a:srgbClr val="000000"/>
              </a:solidFill>
              <a:latin typeface="Arial"/>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DC9FFF1A-DFE5-46B5-8677-216DA573C5C6}" type="slidenum">
              <a:t>5</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Save (1)</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states of power management, (a) Active state (b) Snooze state and (c ) Sleep state</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tive state the DEV is awake all the time</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nooze state the DEV will be in the low power mode. The snooze state is used during any time slot when there is no tx or rx allocated for the DEV. Hence snooze state can be used within any super frame</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tion of using Sleep state must be indicated in capability field during association. The sleep state may last for more than one superfram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40F28340-65AF-4DF9-80F7-EAD542EF41DE}" type="slidenum">
              <a:t>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Save (2)</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447560"/>
            <a:ext cx="8229600" cy="464796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 to go to sleep must be obtained by the DEV from PNC just before going to sleep stat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NC rejects the request, the DEV must remain awake and request again later</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NC permits, the DEV can sleep for the time indicated in the sleep-permission command from PNC</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DEV wakes up from sleep, the DEV must wait for reception of at least one beacon before INITIATING any frame sequence (but it can respond to a frame directed to it).</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NC-DEV communication did not happen for longer than the timeout indicated in ASSOC frame, the DEV is considered disconnec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8D44F37C-ABDC-4CBA-84F8-70A3BE312BA1}" type="slidenum">
              <a:t>7</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gmentation and Defragmentation (1)</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447560"/>
            <a:ext cx="82296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Tx, the start and end of MSDU/MCDU is indicated in separate bits in FC of MAC hea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ce number is incremented for all fragments in MSDU/MCD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rag-number. (lesser the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retx request becomes simpler and econom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actical purposes, a limit f 8Kbytes of max size on MSDU/MCDU is specifi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A2366B98-DF69-49A4-AD21-210E197E6368}" type="slidenum">
              <a:t>8</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gmentation and Defragmentation (2)</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447560"/>
            <a:ext cx="82296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rx, whenever Frag-Start is seen, a new MSDU/MCDU buffer is assumed to have star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Frag-end is seen, the current MSDU/MCDU is assumed to have en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ne or more frames i missing (after all retx efforts) in an MSDU/MCDU the entire MSDU/MCDU may be dropp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 Rajugopal Gubbi, Broadcom, Corp.</a:t>
            </a:r>
          </a:p>
        </p:txBody>
      </p:sp>
      <p:sp>
        <p:nvSpPr>
          <p:cNvPr id="5" name="PlaceHolder 4"/>
          <p:cNvSpPr>
            <a:spLocks noGrp="1"/>
          </p:cNvSpPr>
          <p:nvPr>
            <p:ph type="sldNum" idx="3"/>
          </p:nvPr>
        </p:nvSpPr>
        <p:spPr/>
        <p:txBody>
          <a:bodyPr/>
          <a:p>
            <a:fld id="{3554479D-0E8B-4990-B1E8-A30FA475F409}" type="slidenum">
              <a:t>9</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Dr. Rajugopal Gubbi</dc:creator>
  <dc:description>&lt;doc#&gt;</dc:description>
  <dc:language>en-US</dc:language>
  <cp:lastModifiedBy>Broadcom</cp:lastModifiedBy>
  <cp:lastPrinted>1998-02-10T13:28:06Z</cp:lastPrinted>
  <dcterms:modified xsi:type="dcterms:W3CDTF">2001-07-11T05:05:03Z</dcterms:modified>
  <cp:revision>246</cp:revision>
  <dc:subject>IEEE 802.15.3 &lt;TG3 MAC&gt;</dc:subject>
  <dc:title>Amendments to TG3-MAC draft in D04</dc:title>
</cp:coreProperties>
</file>