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0A73-620F-4CF6-836B-55D05273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5474-84E4-4773-AD66-6BF9F1AC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D06D-E52B-47BB-B14E-3CD7BBBD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096A-7063-484E-B960-F4C828B46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BF7F-8DBD-4FB0-8C01-9704E204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3901-E48A-492F-910F-42C238EA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8CFD-F6F1-44C9-B620-908E376E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7FA3-C2C5-423F-8863-E2BB6310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CDA0-6690-4C44-B860-AA658867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D5FF-E32D-413A-BCDC-4F4D672F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A4E2-0089-4803-9F2B-30A78737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6F91-3498-490A-BA59-5721A0FC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EF17670-8039-4661-872F-D6999A7D1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253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EEE 802 Wireless Coexistence Group Discu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0280" y="3581280"/>
            <a:ext cx="592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m Lans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r, IEEE 802 Coexistence Study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m.Lansford@mobilian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05) 377-61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Mobilian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5B3E-2E85-4BB3-A8DF-34452C15FDB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edbac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role of this S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organizations going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Group (j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Group (j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 *** won straw poll 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ed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of SG (summary and repo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works on the repo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/when do we meet/conf c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---is July realist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CFA0-F1C4-4103-9E10-21E436F900E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eting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retary/editor and liaisons cho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w poll indicated strong support for a Coexistence T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xSG will have initial conference call in two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ail distribution to attend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begin work on bylaws/operating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624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ir to research prior 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624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need to determine how TAG gets call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espondence will be sent to 11/15/17 lia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e reflect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 will be to have draft of operating rules by Port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fied by attend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ized and published there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CBEA-6EB3-45BA-B237-0D7FA91D168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xistence is becoming increasingly important in IEEE 802 wireless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tudy will recommend to ExCom the policies and procedures for future wireless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s to be coordinated with ExCom regul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CE4A-0790-420A-AB38-993D36A0DF4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Selection of secretary/edit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Presentation on proposed tasks for study group (Jim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- Organization (liaisons from 11, 15, 16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- Task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- Feedback (organization/membership of SG?, Creation of reflector?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Action plan to have SG complete work by Portland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Birds of a Feather" Sess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May, 6:30-??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view Afternoon session, including feedbac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Solicit feedback on organizational detail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Review ac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20040" y="586728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val of agenda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9194-2400-4A5D-A93B-2A6CFF05F30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ganizational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ary selection – Tim Bla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ce chair – tabled for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ai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1 – Stuart Ker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5 – Bob He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6 - David Chaunc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EF4A-E32C-4D04-9B9A-F8EECBBB36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of purpose (Recommend to ExCom how IEEE 802 should address coexistence in existing and future spe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current standards where coexistence is an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already underway (e.g., 802.15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ways ExCom can go 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Group (j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Group (j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ed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of SG (summary and repo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A938-93FD-4220-8BFB-85EF5FE505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ement of Purp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 of the Study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functional charter of this new group to best address the wireless coexistence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 an organization to best accomplish (New WG, Joint TG, TAG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6356-8691-4F2B-B671-8ABD0A911F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802.15 became a Working Group it was required to “Coexist” with 802.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ad to the formation 802.15 Task Group 2 on Coexistence of WLAN and WPAN devices in unlicensed b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a Coexistenc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Coexistence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7250-5CAF-456E-BC43-099F3FA3DF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ntly 802.11 formed the 5 GHz Study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mpt to Harmonize all the 5 GHz WLANs (802.11a, HiperLAN2, MMAC) into a single worldwide 5GHz WLAN stand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minimum, ensure that the systems coex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A561-346E-42B4-933F-D78EC85418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ntly 802.16 formed the Wireless HuMAN Task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less Broadband Access in Unlicensed B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34D0-2864-4E25-9392-33DABD56BD9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rent Pl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802.15 TG2 unchanged so they can continue working on their specific tasks at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802.11 5GSG unchanged so they can continue working on their specific tasks at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802.16 unchang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89E1-BDB8-4372-8C67-46C203FE5B8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6:01:39Z</dcterms:created>
  <dc:creator>Jim Lansford</dc:creator>
  <dc:description/>
  <dc:language>en-US</dc:language>
  <cp:lastModifiedBy>Jim Lansford</cp:lastModifiedBy>
  <cp:lastPrinted>2000-09-20T20:30:42Z</cp:lastPrinted>
  <dcterms:modified xsi:type="dcterms:W3CDTF">2001-05-16T17:34:27Z</dcterms:modified>
  <cp:revision>312</cp:revision>
  <dc:subject>Coexistence SG Kickoff</dc:subject>
  <dc:title>IEEE 802 Coexistence SG</dc:title>
</cp:coreProperties>
</file>