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1459A-12E0-41F3-A1DE-124E39D36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8B37-126F-4B85-860C-047505D4F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BD53-D356-49A3-8833-827C42E09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C93C9-A94A-4930-A584-2B5B81CE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364D9-3AC2-4A5D-AAFE-4BEDB3B46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59F3-9269-49E0-84BD-F0FEA3C7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9D41-1F7C-448A-8A2F-E4979192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990CE-7A1E-4757-9235-EF1B3A4BD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9ACB-7474-45DA-8FE6-A3A418D30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6D46-E080-44E0-953C-CAF7AE8E8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726A-A7F0-436C-AD6B-47A69798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330C-015A-4D04-81DC-044DB3A14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0EF3A9-0C4A-4300-A250-E259C8023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86200" y="396000"/>
            <a:ext cx="45720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2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3808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It is based on proven, low risk technology, which can be implemented at low cost and can provide scaleable data rates with robust performance and low power consumption for low data rate, battery-powered devices intended to communicate within the 10m “bubble” which defines the PAN operating space. NOTE: Total area and power estimates are based on Agere’s previous MAC proposal and will be substantially less when this PHY is combined with the “unitfied MAC” proposal.)]</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8789C635-9744-4E8E-9CB1-8216A89AEE0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 (filtered)</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3880" y="1600200"/>
            <a:ext cx="6324840" cy="48182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14CA999-4FEC-42DC-B3F4-1BABA1DBE0AA}"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447920" y="1600200"/>
            <a:ext cx="6248160" cy="48243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BF0D616-28BD-4B0A-AA95-E84F38133F97}"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to demonstrate image rejection - lower Fo used to reduce simulation time)</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1523880" y="1676520"/>
            <a:ext cx="6248520" cy="4741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8A92CFF-DCC8-43F6-B782-8087628E4571}"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less resolution than low IF simulation due to FFT size at higher Fo)</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1676520" y="1676520"/>
            <a:ext cx="6248160" cy="47862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40E8949-4916-45B8-9D97-4B5559CBDB64}"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73" name=""/>
          <p:cNvGraphicFramePr/>
          <p:nvPr/>
        </p:nvGraphicFramePr>
        <p:xfrm>
          <a:off x="914400" y="1600200"/>
          <a:ext cx="7086600" cy="4745160"/>
        </p:xfrm>
        <a:graphic>
          <a:graphicData uri="http://schemas.openxmlformats.org/presentationml/2006/ole">
            <p:oleObj r:id="rId1" spid="">
              <p:embed/>
              <p:pic>
                <p:nvPicPr>
                  <p:cNvPr id="74"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5E77F2BC-AB63-4D9E-91C3-C7F69F8F698A}"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sured Receiver Performance of a Similar System Using Agere’s All-Digital FSK Demodulator</a:t>
            </a:r>
            <a:endParaRPr b="0" lang="en-US" sz="2000" spc="-1" strike="noStrike">
              <a:solidFill>
                <a:srgbClr val="000000"/>
              </a:solidFill>
              <a:latin typeface="Times New Roman"/>
            </a:endParaRPr>
          </a:p>
        </p:txBody>
      </p:sp>
      <p:graphicFrame>
        <p:nvGraphicFramePr>
          <p:cNvPr id="76" name=""/>
          <p:cNvGraphicFramePr/>
          <p:nvPr/>
        </p:nvGraphicFramePr>
        <p:xfrm>
          <a:off x="762120" y="1371600"/>
          <a:ext cx="7692840" cy="5261040"/>
        </p:xfrm>
        <a:graphic>
          <a:graphicData uri="http://schemas.openxmlformats.org/presentationml/2006/ole">
            <p:oleObj progId="Excel.Sheet.12" r:id="rId1" spid="">
              <p:embed/>
              <p:pic>
                <p:nvPicPr>
                  <p:cNvPr id="77" name="" descr=""/>
                  <p:cNvPicPr/>
                  <p:nvPr/>
                </p:nvPicPr>
                <p:blipFill>
                  <a:blip r:embed="rId2"/>
                  <a:stretch/>
                </p:blipFill>
                <p:spPr>
                  <a:xfrm>
                    <a:off x="762120" y="1371600"/>
                    <a:ext cx="7692840" cy="52610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E2A32B4-7D0D-4A4D-B016-B3F37E745B6C}"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th Order Complex Filter:</a:t>
            </a:r>
            <a:br>
              <a:rPr sz="2400"/>
            </a:br>
            <a:r>
              <a:rPr b="1" lang="en-US" sz="2400" spc="-1" strike="noStrike">
                <a:solidFill>
                  <a:srgbClr val="000000"/>
                </a:solidFill>
                <a:latin typeface="Verdana"/>
              </a:rPr>
              <a:t>Block Diagram and Pole Location</a:t>
            </a:r>
            <a:endParaRPr b="0" lang="en-US" sz="2400" spc="-1" strike="noStrike">
              <a:solidFill>
                <a:srgbClr val="000000"/>
              </a:solidFill>
              <a:latin typeface="Times New Roman"/>
            </a:endParaRPr>
          </a:p>
        </p:txBody>
      </p:sp>
      <p:grpSp>
        <p:nvGrpSpPr>
          <p:cNvPr id="79" name=""/>
          <p:cNvGrpSpPr/>
          <p:nvPr/>
        </p:nvGrpSpPr>
        <p:grpSpPr>
          <a:xfrm>
            <a:off x="990720" y="3427560"/>
            <a:ext cx="6247800" cy="2058480"/>
            <a:chOff x="990720" y="3427560"/>
            <a:chExt cx="6247800" cy="2058480"/>
          </a:xfrm>
        </p:grpSpPr>
        <p:sp>
          <p:nvSpPr>
            <p:cNvPr id="80" name=""/>
            <p:cNvSpPr/>
            <p:nvPr/>
          </p:nvSpPr>
          <p:spPr>
            <a:xfrm>
              <a:off x="1218960" y="4800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8960" y="3581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599840" y="3581640"/>
              <a:ext cx="876960" cy="1218600"/>
              <a:chOff x="1599840" y="3581640"/>
              <a:chExt cx="876960" cy="1218600"/>
            </a:xfrm>
          </p:grpSpPr>
          <p:sp>
            <p:nvSpPr>
              <p:cNvPr id="83" name=""/>
              <p:cNvSpPr/>
              <p:nvPr/>
            </p:nvSpPr>
            <p:spPr>
              <a:xfrm flipV="1">
                <a:off x="1599840" y="4343400"/>
                <a:ext cx="151920" cy="75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84" name=""/>
              <p:cNvSpPr/>
              <p:nvPr/>
            </p:nvSpPr>
            <p:spPr>
              <a:xfrm flipV="1">
                <a:off x="1675800" y="4190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5800" y="419076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52120" y="380808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1</a:t>
                </a:r>
                <a:endParaRPr b="0" lang="en-US" sz="1400" spc="-1" strike="noStrike">
                  <a:solidFill>
                    <a:srgbClr val="000000"/>
                  </a:solidFill>
                  <a:latin typeface="Times New Roman"/>
                </a:endParaRPr>
              </a:p>
            </p:txBody>
          </p:sp>
          <p:sp>
            <p:nvSpPr>
              <p:cNvPr id="87" name=""/>
              <p:cNvSpPr/>
              <p:nvPr/>
            </p:nvSpPr>
            <p:spPr>
              <a:xfrm>
                <a:off x="1828080" y="3809880"/>
                <a:ext cx="6091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000" y="45720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33000" y="35816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514240" y="3427560"/>
              <a:ext cx="1676160" cy="1905840"/>
              <a:chOff x="2514240" y="3427560"/>
              <a:chExt cx="1676160" cy="1905840"/>
            </a:xfrm>
          </p:grpSpPr>
          <p:grpSp>
            <p:nvGrpSpPr>
              <p:cNvPr id="91" name=""/>
              <p:cNvGrpSpPr/>
              <p:nvPr/>
            </p:nvGrpSpPr>
            <p:grpSpPr>
              <a:xfrm>
                <a:off x="2757600" y="3427560"/>
                <a:ext cx="518040" cy="610560"/>
                <a:chOff x="2757600" y="3427560"/>
                <a:chExt cx="518040" cy="610560"/>
              </a:xfrm>
            </p:grpSpPr>
            <p:sp>
              <p:nvSpPr>
                <p:cNvPr id="92" name=""/>
                <p:cNvSpPr/>
                <p:nvPr/>
              </p:nvSpPr>
              <p:spPr>
                <a:xfrm rot="16200000">
                  <a:off x="2742480" y="350496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757600" y="342756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94" name=""/>
              <p:cNvGrpSpPr/>
              <p:nvPr/>
            </p:nvGrpSpPr>
            <p:grpSpPr>
              <a:xfrm>
                <a:off x="2590200" y="3885840"/>
                <a:ext cx="228600" cy="228600"/>
                <a:chOff x="2590200" y="3885840"/>
                <a:chExt cx="228600" cy="228600"/>
              </a:xfrm>
            </p:grpSpPr>
            <p:sp>
              <p:nvSpPr>
                <p:cNvPr id="95" name=""/>
                <p:cNvSpPr/>
                <p:nvPr/>
              </p:nvSpPr>
              <p:spPr>
                <a:xfrm flipV="1">
                  <a:off x="2590200" y="40381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96" name=""/>
                <p:cNvSpPr/>
                <p:nvPr/>
              </p:nvSpPr>
              <p:spPr>
                <a:xfrm flipV="1">
                  <a:off x="2666520" y="38858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66520" y="3885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757600" y="4646880"/>
                <a:ext cx="518040" cy="610920"/>
                <a:chOff x="2757600" y="4646880"/>
                <a:chExt cx="518040" cy="610920"/>
              </a:xfrm>
            </p:grpSpPr>
            <p:sp>
              <p:nvSpPr>
                <p:cNvPr id="99" name=""/>
                <p:cNvSpPr/>
                <p:nvPr/>
              </p:nvSpPr>
              <p:spPr>
                <a:xfrm rot="16200000">
                  <a:off x="2742120" y="472428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2757600" y="464688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01" name=""/>
              <p:cNvGrpSpPr/>
              <p:nvPr/>
            </p:nvGrpSpPr>
            <p:grpSpPr>
              <a:xfrm>
                <a:off x="2590200" y="5104800"/>
                <a:ext cx="228600" cy="228600"/>
                <a:chOff x="2590200" y="5104800"/>
                <a:chExt cx="228600" cy="228600"/>
              </a:xfrm>
            </p:grpSpPr>
            <p:sp>
              <p:nvSpPr>
                <p:cNvPr id="102" name=""/>
                <p:cNvSpPr/>
                <p:nvPr/>
              </p:nvSpPr>
              <p:spPr>
                <a:xfrm flipV="1">
                  <a:off x="2590200" y="525708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3" name=""/>
                <p:cNvSpPr/>
                <p:nvPr/>
              </p:nvSpPr>
              <p:spPr>
                <a:xfrm flipV="1">
                  <a:off x="2666520" y="510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520" y="510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flipH="1">
                <a:off x="2514240" y="48006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51424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000" y="4952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276000" y="373356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200040" y="3733560"/>
                <a:ext cx="876960" cy="1219320"/>
                <a:chOff x="3200040" y="3733560"/>
                <a:chExt cx="876960" cy="1219320"/>
              </a:xfrm>
            </p:grpSpPr>
            <p:sp>
              <p:nvSpPr>
                <p:cNvPr id="110" name=""/>
                <p:cNvSpPr/>
                <p:nvPr/>
              </p:nvSpPr>
              <p:spPr>
                <a:xfrm flipV="1">
                  <a:off x="3200040" y="449496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11" name=""/>
                <p:cNvSpPr/>
                <p:nvPr/>
              </p:nvSpPr>
              <p:spPr>
                <a:xfrm flipV="1">
                  <a:off x="3276000" y="43430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000" y="43430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320" y="396072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2</a:t>
                  </a:r>
                  <a:endParaRPr b="0" lang="en-US" sz="1400" spc="-1" strike="noStrike">
                    <a:solidFill>
                      <a:srgbClr val="000000"/>
                    </a:solidFill>
                    <a:latin typeface="Times New Roman"/>
                  </a:endParaRPr>
                </a:p>
              </p:txBody>
            </p:sp>
            <p:sp>
              <p:nvSpPr>
                <p:cNvPr id="114" name=""/>
                <p:cNvSpPr/>
                <p:nvPr/>
              </p:nvSpPr>
              <p:spPr>
                <a:xfrm>
                  <a:off x="3428280" y="396216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200" y="4724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33200" y="3733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5562360" y="3580200"/>
              <a:ext cx="1676160" cy="1905840"/>
              <a:chOff x="5562360" y="3580200"/>
              <a:chExt cx="1676160" cy="1905840"/>
            </a:xfrm>
          </p:grpSpPr>
          <p:grpSp>
            <p:nvGrpSpPr>
              <p:cNvPr id="118" name=""/>
              <p:cNvGrpSpPr/>
              <p:nvPr/>
            </p:nvGrpSpPr>
            <p:grpSpPr>
              <a:xfrm>
                <a:off x="5805720" y="3580200"/>
                <a:ext cx="518040" cy="610560"/>
                <a:chOff x="5805720" y="3580200"/>
                <a:chExt cx="518040" cy="610560"/>
              </a:xfrm>
            </p:grpSpPr>
            <p:sp>
              <p:nvSpPr>
                <p:cNvPr id="119" name=""/>
                <p:cNvSpPr/>
                <p:nvPr/>
              </p:nvSpPr>
              <p:spPr>
                <a:xfrm rot="16200000">
                  <a:off x="5790600" y="365760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805720" y="358020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1" name=""/>
              <p:cNvGrpSpPr/>
              <p:nvPr/>
            </p:nvGrpSpPr>
            <p:grpSpPr>
              <a:xfrm>
                <a:off x="5638320" y="4038480"/>
                <a:ext cx="228600" cy="228600"/>
                <a:chOff x="5638320" y="4038480"/>
                <a:chExt cx="228600" cy="228600"/>
              </a:xfrm>
            </p:grpSpPr>
            <p:sp>
              <p:nvSpPr>
                <p:cNvPr id="122" name=""/>
                <p:cNvSpPr/>
                <p:nvPr/>
              </p:nvSpPr>
              <p:spPr>
                <a:xfrm flipV="1">
                  <a:off x="5638320" y="419076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3" name=""/>
                <p:cNvSpPr/>
                <p:nvPr/>
              </p:nvSpPr>
              <p:spPr>
                <a:xfrm flipV="1">
                  <a:off x="5714640" y="4038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4640" y="403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805720" y="4799520"/>
                <a:ext cx="518040" cy="610920"/>
                <a:chOff x="5805720" y="4799520"/>
                <a:chExt cx="518040" cy="610920"/>
              </a:xfrm>
            </p:grpSpPr>
            <p:sp>
              <p:nvSpPr>
                <p:cNvPr id="126" name=""/>
                <p:cNvSpPr/>
                <p:nvPr/>
              </p:nvSpPr>
              <p:spPr>
                <a:xfrm rot="16200000">
                  <a:off x="5790240" y="487692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805720" y="479952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8" name=""/>
              <p:cNvGrpSpPr/>
              <p:nvPr/>
            </p:nvGrpSpPr>
            <p:grpSpPr>
              <a:xfrm>
                <a:off x="5638320" y="5257440"/>
                <a:ext cx="228600" cy="228600"/>
                <a:chOff x="5638320" y="5257440"/>
                <a:chExt cx="228600" cy="228600"/>
              </a:xfrm>
            </p:grpSpPr>
            <p:sp>
              <p:nvSpPr>
                <p:cNvPr id="129" name=""/>
                <p:cNvSpPr/>
                <p:nvPr/>
              </p:nvSpPr>
              <p:spPr>
                <a:xfrm flipV="1">
                  <a:off x="5638320" y="54097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30" name=""/>
                <p:cNvSpPr/>
                <p:nvPr/>
              </p:nvSpPr>
              <p:spPr>
                <a:xfrm flipV="1">
                  <a:off x="5714640" y="5257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4640" y="52574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562360" y="49532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56236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120" y="5105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324120" y="3886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6248160" y="3886200"/>
                <a:ext cx="876960" cy="1219320"/>
                <a:chOff x="6248160" y="3886200"/>
                <a:chExt cx="876960" cy="1219320"/>
              </a:xfrm>
            </p:grpSpPr>
            <p:sp>
              <p:nvSpPr>
                <p:cNvPr id="137" name=""/>
                <p:cNvSpPr/>
                <p:nvPr/>
              </p:nvSpPr>
              <p:spPr>
                <a:xfrm flipV="1">
                  <a:off x="6248160" y="464760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38" name=""/>
                <p:cNvSpPr/>
                <p:nvPr/>
              </p:nvSpPr>
              <p:spPr>
                <a:xfrm flipV="1">
                  <a:off x="6324120" y="4495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24120" y="44956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440" y="411336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5</a:t>
                  </a:r>
                  <a:endParaRPr b="0" lang="en-US" sz="1400" spc="-1" strike="noStrike">
                    <a:solidFill>
                      <a:srgbClr val="000000"/>
                    </a:solidFill>
                    <a:latin typeface="Times New Roman"/>
                  </a:endParaRPr>
                </a:p>
              </p:txBody>
            </p:sp>
            <p:sp>
              <p:nvSpPr>
                <p:cNvPr id="141" name=""/>
                <p:cNvSpPr/>
                <p:nvPr/>
              </p:nvSpPr>
              <p:spPr>
                <a:xfrm>
                  <a:off x="6476400" y="411480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8132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3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 name=""/>
            <p:cNvSpPr/>
            <p:nvPr/>
          </p:nvSpPr>
          <p:spPr>
            <a:xfrm>
              <a:off x="4343040" y="495324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040" y="373392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80060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95280" y="358164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505320"/>
              <a:ext cx="151920" cy="1371600"/>
            </a:xfrm>
            <a:custGeom>
              <a:avLst/>
              <a:gdLst>
                <a:gd name="textAreaLeft" fmla="*/ 97200 w 151920"/>
                <a:gd name="textAreaRight" fmla="*/ 152280 w 151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rot="16200000">
            <a:off x="37800" y="3767040"/>
            <a:ext cx="12643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rrent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rectly fr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ixers)</a:t>
            </a:r>
            <a:endParaRPr b="0" lang="en-US" sz="1400" spc="-1" strike="noStrike">
              <a:solidFill>
                <a:srgbClr val="000000"/>
              </a:solidFill>
              <a:latin typeface="Times New Roman"/>
            </a:endParaRPr>
          </a:p>
        </p:txBody>
      </p:sp>
      <p:grpSp>
        <p:nvGrpSpPr>
          <p:cNvPr id="150" name=""/>
          <p:cNvGrpSpPr/>
          <p:nvPr/>
        </p:nvGrpSpPr>
        <p:grpSpPr>
          <a:xfrm>
            <a:off x="7238880" y="1828800"/>
            <a:ext cx="1413720" cy="2819520"/>
            <a:chOff x="7238880" y="1828800"/>
            <a:chExt cx="1413720" cy="2819520"/>
          </a:xfrm>
        </p:grpSpPr>
        <p:sp>
          <p:nvSpPr>
            <p:cNvPr id="151" name=""/>
            <p:cNvSpPr/>
            <p:nvPr/>
          </p:nvSpPr>
          <p:spPr>
            <a:xfrm>
              <a:off x="7924680" y="1828800"/>
              <a:ext cx="0" cy="281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392960" y="1980720"/>
              <a:ext cx="887400" cy="915840"/>
              <a:chOff x="7392960" y="1980720"/>
              <a:chExt cx="887400" cy="915840"/>
            </a:xfrm>
          </p:grpSpPr>
          <p:sp>
            <p:nvSpPr>
              <p:cNvPr id="153" name=""/>
              <p:cNvSpPr/>
              <p:nvPr/>
            </p:nvSpPr>
            <p:spPr>
              <a:xfrm flipV="1" rot="5400000">
                <a:off x="7518600" y="2057400"/>
                <a:ext cx="761760" cy="761760"/>
              </a:xfrm>
              <a:custGeom>
                <a:avLst/>
                <a:gdLst/>
                <a:ahLst/>
                <a:rect l="l" t="t" r="r" b="b"/>
                <a:pathLst>
                  <a:path stroke="0" w="21600" h="21600">
                    <a:moveTo>
                      <a:pt x="1" y="10974"/>
                    </a:moveTo>
                    <a:arcTo wR="10800" hR="10800" stAng="10744490" swAng="10855510"/>
                    <a:lnTo>
                      <a:pt x="10800" y="10800"/>
                    </a:lnTo>
                    <a:close/>
                  </a:path>
                  <a:path fill="none" w="21600" h="21600">
                    <a:moveTo>
                      <a:pt x="1" y="10974"/>
                    </a:moveTo>
                    <a:arcTo wR="10800" hR="10800" stAng="10744490" swAng="1085551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6240" y="19807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5" name=""/>
              <p:cNvSpPr/>
              <p:nvPr/>
            </p:nvSpPr>
            <p:spPr>
              <a:xfrm>
                <a:off x="7621560" y="26809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6" name=""/>
              <p:cNvSpPr/>
              <p:nvPr/>
            </p:nvSpPr>
            <p:spPr>
              <a:xfrm>
                <a:off x="7459560" y="25426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7" name=""/>
              <p:cNvSpPr/>
              <p:nvPr/>
            </p:nvSpPr>
            <p:spPr>
              <a:xfrm>
                <a:off x="7464240" y="21189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8" name=""/>
              <p:cNvSpPr/>
              <p:nvPr/>
            </p:nvSpPr>
            <p:spPr>
              <a:xfrm>
                <a:off x="7392960" y="2337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9" name=""/>
              <p:cNvSpPr/>
              <p:nvPr/>
            </p:nvSpPr>
            <p:spPr>
              <a:xfrm>
                <a:off x="7924680" y="243864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87920" y="3477600"/>
              <a:ext cx="487800" cy="944640"/>
              <a:chOff x="7387920" y="3477600"/>
              <a:chExt cx="487800" cy="944640"/>
            </a:xfrm>
          </p:grpSpPr>
          <p:sp>
            <p:nvSpPr>
              <p:cNvPr id="161" name=""/>
              <p:cNvSpPr/>
              <p:nvPr/>
            </p:nvSpPr>
            <p:spPr>
              <a:xfrm>
                <a:off x="7626240" y="35046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2" name=""/>
              <p:cNvSpPr/>
              <p:nvPr/>
            </p:nvSpPr>
            <p:spPr>
              <a:xfrm>
                <a:off x="7621560" y="42048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3" name=""/>
              <p:cNvSpPr/>
              <p:nvPr/>
            </p:nvSpPr>
            <p:spPr>
              <a:xfrm>
                <a:off x="7459560" y="40665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4" name=""/>
              <p:cNvSpPr/>
              <p:nvPr/>
            </p:nvSpPr>
            <p:spPr>
              <a:xfrm>
                <a:off x="7464240" y="3642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5" name=""/>
              <p:cNvSpPr/>
              <p:nvPr/>
            </p:nvSpPr>
            <p:spPr>
              <a:xfrm>
                <a:off x="7392960" y="38620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6" name=""/>
              <p:cNvSpPr/>
              <p:nvPr/>
            </p:nvSpPr>
            <p:spPr>
              <a:xfrm>
                <a:off x="7623000" y="3477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7" name=""/>
              <p:cNvSpPr/>
              <p:nvPr/>
            </p:nvSpPr>
            <p:spPr>
              <a:xfrm>
                <a:off x="7616520" y="4176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8" name=""/>
              <p:cNvSpPr/>
              <p:nvPr/>
            </p:nvSpPr>
            <p:spPr>
              <a:xfrm>
                <a:off x="7457760" y="3617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9" name=""/>
              <p:cNvSpPr/>
              <p:nvPr/>
            </p:nvSpPr>
            <p:spPr>
              <a:xfrm>
                <a:off x="7387920" y="3833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70" name=""/>
              <p:cNvSpPr/>
              <p:nvPr/>
            </p:nvSpPr>
            <p:spPr>
              <a:xfrm>
                <a:off x="7459560" y="4033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grpSp>
        <p:sp>
          <p:nvSpPr>
            <p:cNvPr id="171" name=""/>
            <p:cNvSpPr/>
            <p:nvPr/>
          </p:nvSpPr>
          <p:spPr>
            <a:xfrm flipH="1">
              <a:off x="7238880" y="3200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77320" y="2438640"/>
              <a:ext cx="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87760" y="2575800"/>
              <a:ext cx="564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z</a:t>
              </a:r>
              <a:endParaRPr b="0" lang="en-US" sz="1200" spc="-1" strike="noStrike">
                <a:solidFill>
                  <a:srgbClr val="000000"/>
                </a:solidFill>
                <a:latin typeface="Times New Roman"/>
              </a:endParaRPr>
            </a:p>
          </p:txBody>
        </p:sp>
        <p:sp>
          <p:nvSpPr>
            <p:cNvPr id="174" name=""/>
            <p:cNvSpPr/>
            <p:nvPr/>
          </p:nvSpPr>
          <p:spPr>
            <a:xfrm>
              <a:off x="7264080" y="2323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Times New Roman"/>
              </a:endParaRPr>
            </a:p>
          </p:txBody>
        </p:sp>
        <p:sp>
          <p:nvSpPr>
            <p:cNvPr id="175" name=""/>
            <p:cNvSpPr/>
            <p:nvPr/>
          </p:nvSpPr>
          <p:spPr>
            <a:xfrm>
              <a:off x="7354800" y="2528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Times New Roman"/>
              </a:endParaRPr>
            </a:p>
          </p:txBody>
        </p:sp>
        <p:sp>
          <p:nvSpPr>
            <p:cNvPr id="176" name=""/>
            <p:cNvSpPr/>
            <p:nvPr/>
          </p:nvSpPr>
          <p:spPr>
            <a:xfrm>
              <a:off x="7350120" y="209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Times New Roman"/>
              </a:endParaRPr>
            </a:p>
          </p:txBody>
        </p:sp>
        <p:sp>
          <p:nvSpPr>
            <p:cNvPr id="177" name=""/>
            <p:cNvSpPr/>
            <p:nvPr/>
          </p:nvSpPr>
          <p:spPr>
            <a:xfrm>
              <a:off x="7507080" y="26805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Times New Roman"/>
              </a:endParaRPr>
            </a:p>
          </p:txBody>
        </p:sp>
        <p:sp>
          <p:nvSpPr>
            <p:cNvPr id="178" name=""/>
            <p:cNvSpPr/>
            <p:nvPr/>
          </p:nvSpPr>
          <p:spPr>
            <a:xfrm>
              <a:off x="7516800" y="1928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Times New Roman"/>
              </a:endParaRPr>
            </a:p>
          </p:txBody>
        </p:sp>
      </p:grpSp>
      <p:sp>
        <p:nvSpPr>
          <p:cNvPr id="179" name=""/>
          <p:cNvSpPr/>
          <p:nvPr/>
        </p:nvSpPr>
        <p:spPr>
          <a:xfrm>
            <a:off x="918360" y="2133720"/>
            <a:ext cx="555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lex filters can also provide channel selectivity i.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press adjacent channels (similar to a regular BP filter) </a:t>
            </a:r>
            <a:endParaRPr b="0" lang="en-US" sz="1600" spc="-1" strike="noStrike">
              <a:solidFill>
                <a:srgbClr val="000000"/>
              </a:solidFill>
              <a:latin typeface="Times New Roman"/>
            </a:endParaRPr>
          </a:p>
        </p:txBody>
      </p:sp>
      <p:sp>
        <p:nvSpPr>
          <p:cNvPr id="180" name=""/>
          <p:cNvSpPr/>
          <p:nvPr/>
        </p:nvSpPr>
        <p:spPr>
          <a:xfrm>
            <a:off x="763200" y="5562360"/>
            <a:ext cx="408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ctual design is fully-differential</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CFE0C0E-2AE4-4DDE-A176-BB7FBAAA11FB}"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sured Image Rejection in Actual Implementation Exceeds 40dB</a:t>
            </a:r>
            <a:endParaRPr b="0" lang="en-US" sz="2400" spc="-1" strike="noStrike">
              <a:solidFill>
                <a:srgbClr val="000000"/>
              </a:solidFill>
              <a:latin typeface="Times New Roman"/>
            </a:endParaRPr>
          </a:p>
        </p:txBody>
      </p:sp>
      <p:grpSp>
        <p:nvGrpSpPr>
          <p:cNvPr id="182" name=""/>
          <p:cNvGrpSpPr/>
          <p:nvPr/>
        </p:nvGrpSpPr>
        <p:grpSpPr>
          <a:xfrm>
            <a:off x="914400" y="1752480"/>
            <a:ext cx="7807680" cy="4226040"/>
            <a:chOff x="914400" y="1752480"/>
            <a:chExt cx="7807680" cy="4226040"/>
          </a:xfrm>
        </p:grpSpPr>
        <p:pic>
          <p:nvPicPr>
            <p:cNvPr id="183" name="IMAGE" descr=""/>
            <p:cNvPicPr/>
            <p:nvPr/>
          </p:nvPicPr>
          <p:blipFill>
            <a:blip r:embed="rId1"/>
            <a:stretch/>
          </p:blipFill>
          <p:spPr>
            <a:xfrm>
              <a:off x="914400" y="1752480"/>
              <a:ext cx="4800600" cy="4226040"/>
            </a:xfrm>
            <a:prstGeom prst="rect">
              <a:avLst/>
            </a:prstGeom>
            <a:ln w="0">
              <a:noFill/>
            </a:ln>
          </p:spPr>
        </p:pic>
        <p:sp>
          <p:nvSpPr>
            <p:cNvPr id="184" name=""/>
            <p:cNvSpPr/>
            <p:nvPr/>
          </p:nvSpPr>
          <p:spPr>
            <a:xfrm>
              <a:off x="2971800" y="2437920"/>
              <a:ext cx="712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85" name=""/>
            <p:cNvSpPr/>
            <p:nvPr/>
          </p:nvSpPr>
          <p:spPr>
            <a:xfrm flipH="1" flipV="1">
              <a:off x="2742840" y="236196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5160" y="3504960"/>
              <a:ext cx="734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a:t>
              </a:r>
              <a:endParaRPr b="0" lang="en-US" sz="1600" spc="-1" strike="noStrike">
                <a:solidFill>
                  <a:srgbClr val="000000"/>
                </a:solidFill>
                <a:latin typeface="Times New Roman"/>
              </a:endParaRPr>
            </a:p>
          </p:txBody>
        </p:sp>
        <p:sp>
          <p:nvSpPr>
            <p:cNvPr id="187" name=""/>
            <p:cNvSpPr/>
            <p:nvPr/>
          </p:nvSpPr>
          <p:spPr>
            <a:xfrm flipH="1">
              <a:off x="2971440" y="373392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73240" y="3276360"/>
              <a:ext cx="3048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tones at the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lter have the s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5DD9D60-6CE6-432B-B3F5-4A214CE2D1E8}"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85800" y="2057400"/>
            <a:ext cx="7686720" cy="2579760"/>
          </a:xfrm>
          <a:prstGeom prst="rect">
            <a:avLst/>
          </a:prstGeom>
          <a:ln w="0">
            <a:noFill/>
          </a:ln>
        </p:spPr>
      </p:pic>
      <p:sp>
        <p:nvSpPr>
          <p:cNvPr id="191" name=""/>
          <p:cNvSpPr/>
          <p:nvPr/>
        </p:nvSpPr>
        <p:spPr>
          <a:xfrm>
            <a:off x="762120" y="4952880"/>
            <a:ext cx="7467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Area estimates for MAC and total die size are based on the previous Agere Systems MAC proposal and will be reduced substantially when the Agere Systems PHY is combinted with the “unified MAC” propos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FBAD392-4FFD-4D89-9C0E-D4A23B488B3D}"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838080" y="1828800"/>
            <a:ext cx="7696440" cy="3719520"/>
          </a:xfrm>
          <a:prstGeom prst="rect">
            <a:avLst/>
          </a:prstGeom>
          <a:ln w="0">
            <a:noFill/>
          </a:ln>
        </p:spPr>
      </p:pic>
      <p:sp>
        <p:nvSpPr>
          <p:cNvPr id="194" name=""/>
          <p:cNvSpPr/>
          <p:nvPr/>
        </p:nvSpPr>
        <p:spPr>
          <a:xfrm>
            <a:off x="914400" y="5562720"/>
            <a:ext cx="746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otal Power estimates are based on the previous Agere Systems MAC proposal and will be reduced according to MAC behavior if the Agere Systems PHY is combinted with the “unified MAC” proposal.  The PHY proposed can make use of a number of power manaaagement modes, depended on support from the MAC and application layer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78026281-DB72-42F8-9E3D-CFD2B8C2D1CD}"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51480" cy="1573200"/>
          </a:xfrm>
          <a:prstGeom prst="rect">
            <a:avLst/>
          </a:prstGeom>
          <a:ln w="0">
            <a:noFill/>
          </a:ln>
        </p:spPr>
      </p:pic>
      <p:sp>
        <p:nvSpPr>
          <p:cNvPr id="47" name=""/>
          <p:cNvSpPr/>
          <p:nvPr/>
        </p:nvSpPr>
        <p:spPr>
          <a:xfrm>
            <a:off x="685800" y="3886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00E89684-008A-4481-92B1-CDABB688256A}"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IFE</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609480" y="2133720"/>
            <a:ext cx="8153640" cy="37908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5640F9EB-EE5C-4B80-9AF4-375D42EB21AD}"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DFE</a:t>
            </a:r>
            <a:endParaRPr b="0" lang="en-US" sz="2400" spc="-1" strike="noStrike">
              <a:solidFill>
                <a:srgbClr val="000000"/>
              </a:solidFill>
              <a:latin typeface="Times New Roman"/>
            </a:endParaRPr>
          </a:p>
        </p:txBody>
      </p:sp>
      <p:pic>
        <p:nvPicPr>
          <p:cNvPr id="198" name="" descr=""/>
          <p:cNvPicPr/>
          <p:nvPr/>
        </p:nvPicPr>
        <p:blipFill>
          <a:blip r:embed="rId1"/>
          <a:stretch/>
        </p:blipFill>
        <p:spPr>
          <a:xfrm>
            <a:off x="533520" y="2209680"/>
            <a:ext cx="8124840" cy="37245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060948E-5193-4137-8ACB-B5BB4C8F9E95}"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HP DFE</a:t>
            </a:r>
            <a:endParaRPr b="0" lang="en-US" sz="2400" spc="-1" strike="noStrike">
              <a:solidFill>
                <a:srgbClr val="000000"/>
              </a:solidFill>
              <a:latin typeface="Times New Roman"/>
            </a:endParaRPr>
          </a:p>
        </p:txBody>
      </p:sp>
      <p:pic>
        <p:nvPicPr>
          <p:cNvPr id="200" name="" descr=""/>
          <p:cNvPicPr/>
          <p:nvPr/>
        </p:nvPicPr>
        <p:blipFill>
          <a:blip r:embed="rId1"/>
          <a:stretch/>
        </p:blipFill>
        <p:spPr>
          <a:xfrm>
            <a:off x="533520" y="2209680"/>
            <a:ext cx="8124840" cy="3695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E29373E-709E-42D6-B21C-9059CD3030D2}"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a:t>
            </a:r>
            <a:endParaRPr b="0" lang="en-US" sz="2000" spc="-1" strike="noStrike">
              <a:solidFill>
                <a:srgbClr val="000000"/>
              </a:solidFill>
              <a:latin typeface="Times New Roman"/>
            </a:endParaRPr>
          </a:p>
        </p:txBody>
      </p:sp>
      <p:sp>
        <p:nvSpPr>
          <p:cNvPr id="202"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3" name=""/>
          <p:cNvGrpSpPr/>
          <p:nvPr/>
        </p:nvGrpSpPr>
        <p:grpSpPr>
          <a:xfrm>
            <a:off x="1447920" y="1371600"/>
            <a:ext cx="6203880" cy="5029200"/>
            <a:chOff x="1447920" y="1371600"/>
            <a:chExt cx="6203880" cy="5029200"/>
          </a:xfrm>
        </p:grpSpPr>
        <p:grpSp>
          <p:nvGrpSpPr>
            <p:cNvPr id="204" name=""/>
            <p:cNvGrpSpPr/>
            <p:nvPr/>
          </p:nvGrpSpPr>
          <p:grpSpPr>
            <a:xfrm>
              <a:off x="1452600" y="1374840"/>
              <a:ext cx="6194520" cy="5022000"/>
              <a:chOff x="1452600" y="1374840"/>
              <a:chExt cx="6194520" cy="5022000"/>
            </a:xfrm>
          </p:grpSpPr>
          <p:grpSp>
            <p:nvGrpSpPr>
              <p:cNvPr id="205" name=""/>
              <p:cNvGrpSpPr/>
              <p:nvPr/>
            </p:nvGrpSpPr>
            <p:grpSpPr>
              <a:xfrm>
                <a:off x="1452600" y="1374840"/>
                <a:ext cx="1519200" cy="456480"/>
                <a:chOff x="1452600" y="1374840"/>
                <a:chExt cx="1519200" cy="456480"/>
              </a:xfrm>
            </p:grpSpPr>
            <p:sp>
              <p:nvSpPr>
                <p:cNvPr id="206" name=""/>
                <p:cNvSpPr/>
                <p:nvPr/>
              </p:nvSpPr>
              <p:spPr>
                <a:xfrm>
                  <a:off x="1452600" y="1374840"/>
                  <a:ext cx="15192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1452600" y="1374840"/>
                  <a:ext cx="1519200" cy="456480"/>
                  <a:chOff x="1452600" y="1374840"/>
                  <a:chExt cx="1519200" cy="456480"/>
                </a:xfrm>
              </p:grpSpPr>
              <p:sp>
                <p:nvSpPr>
                  <p:cNvPr id="208" name=""/>
                  <p:cNvSpPr/>
                  <p:nvPr/>
                </p:nvSpPr>
                <p:spPr>
                  <a:xfrm>
                    <a:off x="1521000" y="1374840"/>
                    <a:ext cx="13824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452600" y="1374840"/>
                    <a:ext cx="151920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2971800" y="1374840"/>
                <a:ext cx="708120" cy="456480"/>
                <a:chOff x="2971800" y="1374840"/>
                <a:chExt cx="708120" cy="456480"/>
              </a:xfrm>
            </p:grpSpPr>
            <p:sp>
              <p:nvSpPr>
                <p:cNvPr id="211" name=""/>
                <p:cNvSpPr/>
                <p:nvPr/>
              </p:nvSpPr>
              <p:spPr>
                <a:xfrm>
                  <a:off x="2971800" y="1374840"/>
                  <a:ext cx="7081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71800" y="1374840"/>
                  <a:ext cx="708120" cy="456480"/>
                  <a:chOff x="2971800" y="1374840"/>
                  <a:chExt cx="708120" cy="456480"/>
                </a:xfrm>
              </p:grpSpPr>
              <p:sp>
                <p:nvSpPr>
                  <p:cNvPr id="213" name=""/>
                  <p:cNvSpPr/>
                  <p:nvPr/>
                </p:nvSpPr>
                <p:spPr>
                  <a:xfrm>
                    <a:off x="3040200" y="1374840"/>
                    <a:ext cx="571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2971800" y="1374840"/>
                    <a:ext cx="7081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5" name=""/>
              <p:cNvGrpSpPr/>
              <p:nvPr/>
            </p:nvGrpSpPr>
            <p:grpSpPr>
              <a:xfrm>
                <a:off x="3679920" y="1374840"/>
                <a:ext cx="3316320" cy="456480"/>
                <a:chOff x="3679920" y="1374840"/>
                <a:chExt cx="3316320" cy="456480"/>
              </a:xfrm>
            </p:grpSpPr>
            <p:sp>
              <p:nvSpPr>
                <p:cNvPr id="216" name=""/>
                <p:cNvSpPr/>
                <p:nvPr/>
              </p:nvSpPr>
              <p:spPr>
                <a:xfrm>
                  <a:off x="3679920" y="1374840"/>
                  <a:ext cx="3316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679920" y="1374840"/>
                  <a:ext cx="3316320" cy="456480"/>
                  <a:chOff x="3679920" y="1374840"/>
                  <a:chExt cx="3316320" cy="456480"/>
                </a:xfrm>
              </p:grpSpPr>
              <p:sp>
                <p:nvSpPr>
                  <p:cNvPr id="218" name=""/>
                  <p:cNvSpPr/>
                  <p:nvPr/>
                </p:nvSpPr>
                <p:spPr>
                  <a:xfrm>
                    <a:off x="3747960" y="1374840"/>
                    <a:ext cx="3179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679920" y="1374840"/>
                    <a:ext cx="33163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0" name=""/>
              <p:cNvGrpSpPr/>
              <p:nvPr/>
            </p:nvGrpSpPr>
            <p:grpSpPr>
              <a:xfrm>
                <a:off x="6996240" y="1374840"/>
                <a:ext cx="650880" cy="456480"/>
                <a:chOff x="6996240" y="1374840"/>
                <a:chExt cx="650880" cy="456480"/>
              </a:xfrm>
            </p:grpSpPr>
            <p:sp>
              <p:nvSpPr>
                <p:cNvPr id="221" name=""/>
                <p:cNvSpPr/>
                <p:nvPr/>
              </p:nvSpPr>
              <p:spPr>
                <a:xfrm>
                  <a:off x="6996240" y="1374840"/>
                  <a:ext cx="650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6996240" y="1374840"/>
                  <a:ext cx="650880" cy="456480"/>
                  <a:chOff x="6996240" y="1374840"/>
                  <a:chExt cx="650880" cy="456480"/>
                </a:xfrm>
              </p:grpSpPr>
              <p:sp>
                <p:nvSpPr>
                  <p:cNvPr id="223" name=""/>
                  <p:cNvSpPr/>
                  <p:nvPr/>
                </p:nvSpPr>
                <p:spPr>
                  <a:xfrm>
                    <a:off x="7064280" y="1374840"/>
                    <a:ext cx="51444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996240" y="1374840"/>
                    <a:ext cx="65088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 name=""/>
              <p:cNvGrpSpPr/>
              <p:nvPr/>
            </p:nvGrpSpPr>
            <p:grpSpPr>
              <a:xfrm>
                <a:off x="1452600" y="1831320"/>
                <a:ext cx="1519200" cy="717480"/>
                <a:chOff x="1452600" y="1831320"/>
                <a:chExt cx="1519200" cy="717480"/>
              </a:xfrm>
            </p:grpSpPr>
            <p:sp>
              <p:nvSpPr>
                <p:cNvPr id="226" name=""/>
                <p:cNvSpPr/>
                <p:nvPr/>
              </p:nvSpPr>
              <p:spPr>
                <a:xfrm>
                  <a:off x="1521000" y="1831320"/>
                  <a:ext cx="138240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452600" y="1831320"/>
                  <a:ext cx="15192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971800" y="1831320"/>
                <a:ext cx="708120" cy="717480"/>
                <a:chOff x="2971800" y="1831320"/>
                <a:chExt cx="708120" cy="717480"/>
              </a:xfrm>
            </p:grpSpPr>
            <p:sp>
              <p:nvSpPr>
                <p:cNvPr id="229" name=""/>
                <p:cNvSpPr/>
                <p:nvPr/>
              </p:nvSpPr>
              <p:spPr>
                <a:xfrm>
                  <a:off x="3040200" y="1831320"/>
                  <a:ext cx="57132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2971800" y="1831320"/>
                  <a:ext cx="7081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679920" y="1831320"/>
                <a:ext cx="3316320" cy="717480"/>
                <a:chOff x="3679920" y="1831320"/>
                <a:chExt cx="3316320" cy="717480"/>
              </a:xfrm>
            </p:grpSpPr>
            <p:sp>
              <p:nvSpPr>
                <p:cNvPr id="232" name=""/>
                <p:cNvSpPr/>
                <p:nvPr/>
              </p:nvSpPr>
              <p:spPr>
                <a:xfrm>
                  <a:off x="3747960" y="1831320"/>
                  <a:ext cx="31798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area estimates + SOC mplementation, total system cost, including PHY, MAC, LLC &amp; simple application est. to be ~ $1.00-$1.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3679920" y="1831320"/>
                  <a:ext cx="33163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996240" y="1831320"/>
                <a:ext cx="650880" cy="717480"/>
                <a:chOff x="6996240" y="1831320"/>
                <a:chExt cx="650880" cy="717480"/>
              </a:xfrm>
            </p:grpSpPr>
            <p:sp>
              <p:nvSpPr>
                <p:cNvPr id="235" name=""/>
                <p:cNvSpPr/>
                <p:nvPr/>
              </p:nvSpPr>
              <p:spPr>
                <a:xfrm>
                  <a:off x="7064280" y="1831320"/>
                  <a:ext cx="51444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6996240" y="1831320"/>
                  <a:ext cx="6508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52600" y="2549160"/>
                <a:ext cx="1519200" cy="586800"/>
                <a:chOff x="1452600" y="2549160"/>
                <a:chExt cx="1519200" cy="586800"/>
              </a:xfrm>
            </p:grpSpPr>
            <p:sp>
              <p:nvSpPr>
                <p:cNvPr id="238" name=""/>
                <p:cNvSpPr/>
                <p:nvPr/>
              </p:nvSpPr>
              <p:spPr>
                <a:xfrm>
                  <a:off x="1521000" y="2549160"/>
                  <a:ext cx="138240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a:off x="1452600" y="2549160"/>
                  <a:ext cx="151920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971800" y="2549160"/>
                <a:ext cx="708120" cy="586800"/>
                <a:chOff x="2971800" y="2549160"/>
                <a:chExt cx="708120" cy="586800"/>
              </a:xfrm>
            </p:grpSpPr>
            <p:sp>
              <p:nvSpPr>
                <p:cNvPr id="241" name=""/>
                <p:cNvSpPr/>
                <p:nvPr/>
              </p:nvSpPr>
              <p:spPr>
                <a:xfrm>
                  <a:off x="3040200" y="2549160"/>
                  <a:ext cx="57132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2971800" y="2549160"/>
                  <a:ext cx="7081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679920" y="2549160"/>
                <a:ext cx="3316320" cy="586800"/>
                <a:chOff x="3679920" y="2549160"/>
                <a:chExt cx="3316320" cy="586800"/>
              </a:xfrm>
            </p:grpSpPr>
            <p:sp>
              <p:nvSpPr>
                <p:cNvPr id="244" name=""/>
                <p:cNvSpPr/>
                <p:nvPr/>
              </p:nvSpPr>
              <p:spPr>
                <a:xfrm>
                  <a:off x="3747960" y="2549160"/>
                  <a:ext cx="317988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3679920" y="2549160"/>
                  <a:ext cx="33163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6996240" y="2549160"/>
                <a:ext cx="650880" cy="586800"/>
                <a:chOff x="6996240" y="2549160"/>
                <a:chExt cx="650880" cy="586800"/>
              </a:xfrm>
            </p:grpSpPr>
            <p:sp>
              <p:nvSpPr>
                <p:cNvPr id="247" name=""/>
                <p:cNvSpPr/>
                <p:nvPr/>
              </p:nvSpPr>
              <p:spPr>
                <a:xfrm>
                  <a:off x="7064280" y="2549160"/>
                  <a:ext cx="51444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6996240" y="2549160"/>
                  <a:ext cx="65088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452600" y="3135960"/>
                <a:ext cx="1519200" cy="717120"/>
                <a:chOff x="1452600" y="3135960"/>
                <a:chExt cx="1519200" cy="717120"/>
              </a:xfrm>
            </p:grpSpPr>
            <p:sp>
              <p:nvSpPr>
                <p:cNvPr id="250" name=""/>
                <p:cNvSpPr/>
                <p:nvPr/>
              </p:nvSpPr>
              <p:spPr>
                <a:xfrm>
                  <a:off x="1521000" y="313596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1452600" y="313596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971800" y="3135960"/>
                <a:ext cx="708120" cy="717120"/>
                <a:chOff x="2971800" y="3135960"/>
                <a:chExt cx="708120" cy="717120"/>
              </a:xfrm>
            </p:grpSpPr>
            <p:sp>
              <p:nvSpPr>
                <p:cNvPr id="253" name=""/>
                <p:cNvSpPr/>
                <p:nvPr/>
              </p:nvSpPr>
              <p:spPr>
                <a:xfrm>
                  <a:off x="3040200" y="313596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971800" y="313596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679920" y="3135960"/>
                <a:ext cx="3316320" cy="717120"/>
                <a:chOff x="3679920" y="3135960"/>
                <a:chExt cx="3316320" cy="717120"/>
              </a:xfrm>
            </p:grpSpPr>
            <p:sp>
              <p:nvSpPr>
                <p:cNvPr id="256" name=""/>
                <p:cNvSpPr/>
                <p:nvPr/>
              </p:nvSpPr>
              <p:spPr>
                <a:xfrm>
                  <a:off x="3747960" y="313596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3679920" y="313596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6996240" y="3135960"/>
                <a:ext cx="650880" cy="717120"/>
                <a:chOff x="6996240" y="3135960"/>
                <a:chExt cx="650880" cy="717120"/>
              </a:xfrm>
            </p:grpSpPr>
            <p:sp>
              <p:nvSpPr>
                <p:cNvPr id="259" name=""/>
                <p:cNvSpPr/>
                <p:nvPr/>
              </p:nvSpPr>
              <p:spPr>
                <a:xfrm>
                  <a:off x="7064280" y="313596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6996240" y="313596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452600" y="3853440"/>
                <a:ext cx="1519200" cy="847800"/>
                <a:chOff x="1452600" y="3853440"/>
                <a:chExt cx="1519200" cy="847800"/>
              </a:xfrm>
            </p:grpSpPr>
            <p:sp>
              <p:nvSpPr>
                <p:cNvPr id="262" name=""/>
                <p:cNvSpPr/>
                <p:nvPr/>
              </p:nvSpPr>
              <p:spPr>
                <a:xfrm>
                  <a:off x="1521000" y="3853440"/>
                  <a:ext cx="13824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1452600" y="3853440"/>
                  <a:ext cx="151920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971800" y="3853440"/>
                <a:ext cx="708120" cy="847800"/>
                <a:chOff x="2971800" y="3853440"/>
                <a:chExt cx="708120" cy="847800"/>
              </a:xfrm>
            </p:grpSpPr>
            <p:sp>
              <p:nvSpPr>
                <p:cNvPr id="265" name=""/>
                <p:cNvSpPr/>
                <p:nvPr/>
              </p:nvSpPr>
              <p:spPr>
                <a:xfrm>
                  <a:off x="3040200" y="3853440"/>
                  <a:ext cx="5713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2971800" y="3853440"/>
                  <a:ext cx="7081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679920" y="3853440"/>
                <a:ext cx="3316320" cy="847800"/>
                <a:chOff x="3679920" y="3853440"/>
                <a:chExt cx="3316320" cy="847800"/>
              </a:xfrm>
            </p:grpSpPr>
            <p:sp>
              <p:nvSpPr>
                <p:cNvPr id="268" name=""/>
                <p:cNvSpPr/>
                <p:nvPr/>
              </p:nvSpPr>
              <p:spPr>
                <a:xfrm>
                  <a:off x="3747960" y="3853440"/>
                  <a:ext cx="317988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 -30 dBm (DCS avoids microw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 -30 dBm (future BT AH assum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30 dBm (DCS avoids 802.11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 -30 dBm (DCS avoids 802.1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3679920" y="3853440"/>
                  <a:ext cx="33163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996240" y="3853440"/>
                <a:ext cx="650880" cy="847800"/>
                <a:chOff x="6996240" y="3853440"/>
                <a:chExt cx="650880" cy="847800"/>
              </a:xfrm>
            </p:grpSpPr>
            <p:sp>
              <p:nvSpPr>
                <p:cNvPr id="271" name=""/>
                <p:cNvSpPr/>
                <p:nvPr/>
              </p:nvSpPr>
              <p:spPr>
                <a:xfrm>
                  <a:off x="7064280" y="3853440"/>
                  <a:ext cx="5144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996240" y="3853440"/>
                  <a:ext cx="65088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452600" y="4701600"/>
                <a:ext cx="1519200" cy="717120"/>
                <a:chOff x="1452600" y="4701600"/>
                <a:chExt cx="1519200" cy="717120"/>
              </a:xfrm>
            </p:grpSpPr>
            <p:sp>
              <p:nvSpPr>
                <p:cNvPr id="274" name=""/>
                <p:cNvSpPr/>
                <p:nvPr/>
              </p:nvSpPr>
              <p:spPr>
                <a:xfrm>
                  <a:off x="1521000" y="470160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452600" y="470160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971800" y="4701600"/>
                <a:ext cx="708120" cy="717120"/>
                <a:chOff x="2971800" y="4701600"/>
                <a:chExt cx="708120" cy="717120"/>
              </a:xfrm>
            </p:grpSpPr>
            <p:sp>
              <p:nvSpPr>
                <p:cNvPr id="277" name=""/>
                <p:cNvSpPr/>
                <p:nvPr/>
              </p:nvSpPr>
              <p:spPr>
                <a:xfrm>
                  <a:off x="3040200" y="470160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971800" y="470160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679920" y="4701600"/>
                <a:ext cx="3316320" cy="717120"/>
                <a:chOff x="3679920" y="4701600"/>
                <a:chExt cx="3316320" cy="717120"/>
              </a:xfrm>
            </p:grpSpPr>
            <p:sp>
              <p:nvSpPr>
                <p:cNvPr id="280" name=""/>
                <p:cNvSpPr/>
                <p:nvPr/>
              </p:nvSpPr>
              <p:spPr>
                <a:xfrm>
                  <a:off x="3747960" y="470160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 – does not interoperate with other systems over the air, but can connect to other systems via a gateway provided by a n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679920" y="470160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996240" y="4701600"/>
                <a:ext cx="650880" cy="717120"/>
                <a:chOff x="6996240" y="4701600"/>
                <a:chExt cx="650880" cy="717120"/>
              </a:xfrm>
            </p:grpSpPr>
            <p:sp>
              <p:nvSpPr>
                <p:cNvPr id="283" name=""/>
                <p:cNvSpPr/>
                <p:nvPr/>
              </p:nvSpPr>
              <p:spPr>
                <a:xfrm>
                  <a:off x="7064280" y="470160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996240" y="470160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452600" y="5418720"/>
                <a:ext cx="1519200" cy="978120"/>
                <a:chOff x="1452600" y="5418720"/>
                <a:chExt cx="1519200" cy="978120"/>
              </a:xfrm>
            </p:grpSpPr>
            <p:sp>
              <p:nvSpPr>
                <p:cNvPr id="286" name=""/>
                <p:cNvSpPr/>
                <p:nvPr/>
              </p:nvSpPr>
              <p:spPr>
                <a:xfrm>
                  <a:off x="1521000" y="5418720"/>
                  <a:ext cx="138240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1452600" y="5418720"/>
                  <a:ext cx="151920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971800" y="5418720"/>
                <a:ext cx="708120" cy="978120"/>
                <a:chOff x="2971800" y="5418720"/>
                <a:chExt cx="708120" cy="978120"/>
              </a:xfrm>
            </p:grpSpPr>
            <p:sp>
              <p:nvSpPr>
                <p:cNvPr id="289" name=""/>
                <p:cNvSpPr/>
                <p:nvPr/>
              </p:nvSpPr>
              <p:spPr>
                <a:xfrm>
                  <a:off x="3040200" y="5418720"/>
                  <a:ext cx="57132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2971800" y="5418720"/>
                  <a:ext cx="7081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79920" y="5418720"/>
                <a:ext cx="3316320" cy="978120"/>
                <a:chOff x="3679920" y="5418720"/>
                <a:chExt cx="3316320" cy="978120"/>
              </a:xfrm>
            </p:grpSpPr>
            <p:sp>
              <p:nvSpPr>
                <p:cNvPr id="292" name=""/>
                <p:cNvSpPr/>
                <p:nvPr/>
              </p:nvSpPr>
              <p:spPr>
                <a:xfrm>
                  <a:off x="3747960" y="5418720"/>
                  <a:ext cx="317988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pends on finalization of the 802.15.4 sp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Y solution proposed is based on proven technology which has been used in existing products which have been shipping for 2-3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3679920" y="5418720"/>
                  <a:ext cx="33163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996240" y="5418720"/>
                <a:ext cx="650880" cy="978120"/>
                <a:chOff x="6996240" y="5418720"/>
                <a:chExt cx="650880" cy="978120"/>
              </a:xfrm>
            </p:grpSpPr>
            <p:sp>
              <p:nvSpPr>
                <p:cNvPr id="295" name=""/>
                <p:cNvSpPr/>
                <p:nvPr/>
              </p:nvSpPr>
              <p:spPr>
                <a:xfrm>
                  <a:off x="7064280" y="5418720"/>
                  <a:ext cx="51444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6996240" y="5418720"/>
                  <a:ext cx="65088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7" name=""/>
            <p:cNvSpPr/>
            <p:nvPr/>
          </p:nvSpPr>
          <p:spPr>
            <a:xfrm>
              <a:off x="1447920" y="1371600"/>
              <a:ext cx="62038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3733920" y="259092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band (see Jamming Resista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band ~ -30 dBm (P1dB - 10 db - FE filter)</a:t>
            </a:r>
            <a:endParaRPr b="0" lang="en-US" sz="1200" spc="-1" strike="noStrike">
              <a:solidFill>
                <a:srgbClr val="000000"/>
              </a:solidFill>
              <a:latin typeface="Times New Roman"/>
            </a:endParaRPr>
          </a:p>
        </p:txBody>
      </p:sp>
      <p:sp>
        <p:nvSpPr>
          <p:cNvPr id="299"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P3 ~ -10 dBm (higher level posible with some increase in current consumpt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7819214D-4653-4048-9DE6-1AC36FA890B4}"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 (cont.)</a:t>
            </a:r>
            <a:endParaRPr b="0" lang="en-US" sz="2000" spc="-1" strike="noStrike">
              <a:solidFill>
                <a:srgbClr val="000000"/>
              </a:solidFill>
              <a:latin typeface="Times New Roman"/>
            </a:endParaRPr>
          </a:p>
        </p:txBody>
      </p:sp>
      <p:sp>
        <p:nvSpPr>
          <p:cNvPr id="301"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2" name=""/>
          <p:cNvGrpSpPr/>
          <p:nvPr/>
        </p:nvGrpSpPr>
        <p:grpSpPr>
          <a:xfrm>
            <a:off x="1447920" y="1447920"/>
            <a:ext cx="6203880" cy="4800600"/>
            <a:chOff x="1447920" y="1447920"/>
            <a:chExt cx="6203880" cy="4800600"/>
          </a:xfrm>
        </p:grpSpPr>
        <p:grpSp>
          <p:nvGrpSpPr>
            <p:cNvPr id="303" name=""/>
            <p:cNvGrpSpPr/>
            <p:nvPr/>
          </p:nvGrpSpPr>
          <p:grpSpPr>
            <a:xfrm>
              <a:off x="1452600" y="1451520"/>
              <a:ext cx="6194520" cy="4792320"/>
              <a:chOff x="1452600" y="1451520"/>
              <a:chExt cx="6194520" cy="4792320"/>
            </a:xfrm>
          </p:grpSpPr>
          <p:grpSp>
            <p:nvGrpSpPr>
              <p:cNvPr id="304" name=""/>
              <p:cNvGrpSpPr/>
              <p:nvPr/>
            </p:nvGrpSpPr>
            <p:grpSpPr>
              <a:xfrm>
                <a:off x="1452600" y="1451520"/>
                <a:ext cx="1519200" cy="502560"/>
                <a:chOff x="1452600" y="1451520"/>
                <a:chExt cx="1519200" cy="502560"/>
              </a:xfrm>
            </p:grpSpPr>
            <p:sp>
              <p:nvSpPr>
                <p:cNvPr id="305" name=""/>
                <p:cNvSpPr/>
                <p:nvPr/>
              </p:nvSpPr>
              <p:spPr>
                <a:xfrm>
                  <a:off x="1452600" y="1451520"/>
                  <a:ext cx="15192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452600" y="1451520"/>
                  <a:ext cx="1519200" cy="502560"/>
                  <a:chOff x="1452600" y="1451520"/>
                  <a:chExt cx="1519200" cy="502560"/>
                </a:xfrm>
              </p:grpSpPr>
              <p:sp>
                <p:nvSpPr>
                  <p:cNvPr id="307" name=""/>
                  <p:cNvSpPr/>
                  <p:nvPr/>
                </p:nvSpPr>
                <p:spPr>
                  <a:xfrm>
                    <a:off x="1521000" y="1451520"/>
                    <a:ext cx="13824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1452600" y="145152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2971800" y="1451520"/>
                <a:ext cx="708120" cy="502560"/>
                <a:chOff x="2971800" y="1451520"/>
                <a:chExt cx="708120" cy="502560"/>
              </a:xfrm>
            </p:grpSpPr>
            <p:sp>
              <p:nvSpPr>
                <p:cNvPr id="310" name=""/>
                <p:cNvSpPr/>
                <p:nvPr/>
              </p:nvSpPr>
              <p:spPr>
                <a:xfrm>
                  <a:off x="2971800" y="1451520"/>
                  <a:ext cx="7081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2971800" y="1451520"/>
                  <a:ext cx="708120" cy="502560"/>
                  <a:chOff x="2971800" y="1451520"/>
                  <a:chExt cx="708120" cy="502560"/>
                </a:xfrm>
              </p:grpSpPr>
              <p:sp>
                <p:nvSpPr>
                  <p:cNvPr id="312" name=""/>
                  <p:cNvSpPr/>
                  <p:nvPr/>
                </p:nvSpPr>
                <p:spPr>
                  <a:xfrm>
                    <a:off x="3040200" y="1451520"/>
                    <a:ext cx="571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
                  <p:cNvSpPr/>
                  <p:nvPr/>
                </p:nvSpPr>
                <p:spPr>
                  <a:xfrm>
                    <a:off x="2971800" y="145152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3679920" y="1451520"/>
                <a:ext cx="3316320" cy="502560"/>
                <a:chOff x="3679920" y="1451520"/>
                <a:chExt cx="3316320" cy="502560"/>
              </a:xfrm>
            </p:grpSpPr>
            <p:sp>
              <p:nvSpPr>
                <p:cNvPr id="315" name=""/>
                <p:cNvSpPr/>
                <p:nvPr/>
              </p:nvSpPr>
              <p:spPr>
                <a:xfrm>
                  <a:off x="3679920" y="1451520"/>
                  <a:ext cx="3316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3679920" y="1451520"/>
                  <a:ext cx="3316320" cy="502560"/>
                  <a:chOff x="3679920" y="1451520"/>
                  <a:chExt cx="3316320" cy="502560"/>
                </a:xfrm>
              </p:grpSpPr>
              <p:sp>
                <p:nvSpPr>
                  <p:cNvPr id="317" name=""/>
                  <p:cNvSpPr/>
                  <p:nvPr/>
                </p:nvSpPr>
                <p:spPr>
                  <a:xfrm>
                    <a:off x="3747960" y="1451520"/>
                    <a:ext cx="3179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3679920" y="145152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6996240" y="1451520"/>
                <a:ext cx="650880" cy="502560"/>
                <a:chOff x="6996240" y="1451520"/>
                <a:chExt cx="650880" cy="502560"/>
              </a:xfrm>
            </p:grpSpPr>
            <p:sp>
              <p:nvSpPr>
                <p:cNvPr id="320" name=""/>
                <p:cNvSpPr/>
                <p:nvPr/>
              </p:nvSpPr>
              <p:spPr>
                <a:xfrm>
                  <a:off x="6996240" y="1451520"/>
                  <a:ext cx="650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6996240" y="1451520"/>
                  <a:ext cx="650880" cy="502560"/>
                  <a:chOff x="6996240" y="1451520"/>
                  <a:chExt cx="650880" cy="502560"/>
                </a:xfrm>
              </p:grpSpPr>
              <p:sp>
                <p:nvSpPr>
                  <p:cNvPr id="322" name=""/>
                  <p:cNvSpPr/>
                  <p:nvPr/>
                </p:nvSpPr>
                <p:spPr>
                  <a:xfrm>
                    <a:off x="7064280" y="1451520"/>
                    <a:ext cx="51444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6996240" y="145152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1452600" y="1954080"/>
                <a:ext cx="1519200" cy="646200"/>
                <a:chOff x="1452600" y="1954080"/>
                <a:chExt cx="1519200" cy="646200"/>
              </a:xfrm>
            </p:grpSpPr>
            <p:sp>
              <p:nvSpPr>
                <p:cNvPr id="325" name=""/>
                <p:cNvSpPr/>
                <p:nvPr/>
              </p:nvSpPr>
              <p:spPr>
                <a:xfrm>
                  <a:off x="1521000" y="1954080"/>
                  <a:ext cx="138240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452600" y="1954080"/>
                  <a:ext cx="151920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2971800" y="1954080"/>
                <a:ext cx="708120" cy="646200"/>
                <a:chOff x="2971800" y="1954080"/>
                <a:chExt cx="708120" cy="646200"/>
              </a:xfrm>
            </p:grpSpPr>
            <p:sp>
              <p:nvSpPr>
                <p:cNvPr id="328" name=""/>
                <p:cNvSpPr/>
                <p:nvPr/>
              </p:nvSpPr>
              <p:spPr>
                <a:xfrm>
                  <a:off x="3040200" y="1954080"/>
                  <a:ext cx="57132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71800" y="1954080"/>
                  <a:ext cx="7081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679920" y="1954080"/>
                <a:ext cx="3316320" cy="646200"/>
                <a:chOff x="3679920" y="1954080"/>
                <a:chExt cx="3316320" cy="646200"/>
              </a:xfrm>
            </p:grpSpPr>
            <p:sp>
              <p:nvSpPr>
                <p:cNvPr id="331" name=""/>
                <p:cNvSpPr/>
                <p:nvPr/>
              </p:nvSpPr>
              <p:spPr>
                <a:xfrm>
                  <a:off x="3747960" y="1954080"/>
                  <a:ext cx="317988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79920" y="1954080"/>
                  <a:ext cx="33163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6996240" y="1954080"/>
                <a:ext cx="650880" cy="646200"/>
                <a:chOff x="6996240" y="1954080"/>
                <a:chExt cx="650880" cy="646200"/>
              </a:xfrm>
            </p:grpSpPr>
            <p:sp>
              <p:nvSpPr>
                <p:cNvPr id="334" name=""/>
                <p:cNvSpPr/>
                <p:nvPr/>
              </p:nvSpPr>
              <p:spPr>
                <a:xfrm>
                  <a:off x="7064280" y="1954080"/>
                  <a:ext cx="51444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6996240" y="1954080"/>
                  <a:ext cx="65088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1452600" y="2600280"/>
                <a:ext cx="1519200" cy="645840"/>
                <a:chOff x="1452600" y="2600280"/>
                <a:chExt cx="1519200" cy="645840"/>
              </a:xfrm>
            </p:grpSpPr>
            <p:sp>
              <p:nvSpPr>
                <p:cNvPr id="337" name=""/>
                <p:cNvSpPr/>
                <p:nvPr/>
              </p:nvSpPr>
              <p:spPr>
                <a:xfrm>
                  <a:off x="1521000" y="260028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52600" y="260028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971800" y="2600280"/>
                <a:ext cx="708120" cy="645840"/>
                <a:chOff x="2971800" y="2600280"/>
                <a:chExt cx="708120" cy="645840"/>
              </a:xfrm>
            </p:grpSpPr>
            <p:sp>
              <p:nvSpPr>
                <p:cNvPr id="340" name=""/>
                <p:cNvSpPr/>
                <p:nvPr/>
              </p:nvSpPr>
              <p:spPr>
                <a:xfrm>
                  <a:off x="3040200" y="260028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71800" y="260028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3679920" y="2600280"/>
                <a:ext cx="3316320" cy="645840"/>
                <a:chOff x="3679920" y="2600280"/>
                <a:chExt cx="3316320" cy="645840"/>
              </a:xfrm>
            </p:grpSpPr>
            <p:sp>
              <p:nvSpPr>
                <p:cNvPr id="343" name=""/>
                <p:cNvSpPr/>
                <p:nvPr/>
              </p:nvSpPr>
              <p:spPr>
                <a:xfrm>
                  <a:off x="3747960" y="260028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3679920" y="260028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996240" y="2600280"/>
                <a:ext cx="650880" cy="645840"/>
                <a:chOff x="6996240" y="2600280"/>
                <a:chExt cx="650880" cy="645840"/>
              </a:xfrm>
            </p:grpSpPr>
            <p:sp>
              <p:nvSpPr>
                <p:cNvPr id="346" name=""/>
                <p:cNvSpPr/>
                <p:nvPr/>
              </p:nvSpPr>
              <p:spPr>
                <a:xfrm>
                  <a:off x="7064280" y="260028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6996240" y="260028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1452600" y="3246480"/>
                <a:ext cx="1519200" cy="502560"/>
                <a:chOff x="1452600" y="3246480"/>
                <a:chExt cx="1519200" cy="502560"/>
              </a:xfrm>
            </p:grpSpPr>
            <p:sp>
              <p:nvSpPr>
                <p:cNvPr id="349" name=""/>
                <p:cNvSpPr/>
                <p:nvPr/>
              </p:nvSpPr>
              <p:spPr>
                <a:xfrm>
                  <a:off x="1521000" y="3246480"/>
                  <a:ext cx="138240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452600" y="324648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971800" y="3246480"/>
                <a:ext cx="708120" cy="502560"/>
                <a:chOff x="2971800" y="3246480"/>
                <a:chExt cx="708120" cy="502560"/>
              </a:xfrm>
            </p:grpSpPr>
            <p:sp>
              <p:nvSpPr>
                <p:cNvPr id="352" name=""/>
                <p:cNvSpPr/>
                <p:nvPr/>
              </p:nvSpPr>
              <p:spPr>
                <a:xfrm>
                  <a:off x="3040200" y="3246480"/>
                  <a:ext cx="57132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71800" y="324648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3679920" y="3246480"/>
                <a:ext cx="3316320" cy="502560"/>
                <a:chOff x="3679920" y="3246480"/>
                <a:chExt cx="3316320" cy="502560"/>
              </a:xfrm>
            </p:grpSpPr>
            <p:sp>
              <p:nvSpPr>
                <p:cNvPr id="355" name=""/>
                <p:cNvSpPr/>
                <p:nvPr/>
              </p:nvSpPr>
              <p:spPr>
                <a:xfrm>
                  <a:off x="3747960" y="3246480"/>
                  <a:ext cx="317988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3679920" y="324648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6996240" y="3246480"/>
                <a:ext cx="650880" cy="502560"/>
                <a:chOff x="6996240" y="3246480"/>
                <a:chExt cx="650880" cy="502560"/>
              </a:xfrm>
            </p:grpSpPr>
            <p:sp>
              <p:nvSpPr>
                <p:cNvPr id="358" name=""/>
                <p:cNvSpPr/>
                <p:nvPr/>
              </p:nvSpPr>
              <p:spPr>
                <a:xfrm>
                  <a:off x="7064280" y="3246480"/>
                  <a:ext cx="51444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6996240" y="324648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1452600" y="3749400"/>
                <a:ext cx="1519200" cy="645840"/>
                <a:chOff x="1452600" y="3749400"/>
                <a:chExt cx="1519200" cy="645840"/>
              </a:xfrm>
            </p:grpSpPr>
            <p:sp>
              <p:nvSpPr>
                <p:cNvPr id="361" name=""/>
                <p:cNvSpPr/>
                <p:nvPr/>
              </p:nvSpPr>
              <p:spPr>
                <a:xfrm>
                  <a:off x="1521000" y="37494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452600" y="37494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2971800" y="3749400"/>
                <a:ext cx="708120" cy="645840"/>
                <a:chOff x="2971800" y="3749400"/>
                <a:chExt cx="708120" cy="645840"/>
              </a:xfrm>
            </p:grpSpPr>
            <p:sp>
              <p:nvSpPr>
                <p:cNvPr id="364" name=""/>
                <p:cNvSpPr/>
                <p:nvPr/>
              </p:nvSpPr>
              <p:spPr>
                <a:xfrm>
                  <a:off x="3040200" y="37494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71800" y="37494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679920" y="3749400"/>
                <a:ext cx="3316320" cy="645840"/>
                <a:chOff x="3679920" y="3749400"/>
                <a:chExt cx="3316320" cy="645840"/>
              </a:xfrm>
            </p:grpSpPr>
            <p:sp>
              <p:nvSpPr>
                <p:cNvPr id="367" name=""/>
                <p:cNvSpPr/>
                <p:nvPr/>
              </p:nvSpPr>
              <p:spPr>
                <a:xfrm>
                  <a:off x="3747960" y="37494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79920" y="37494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996240" y="3749400"/>
                <a:ext cx="650880" cy="645840"/>
                <a:chOff x="6996240" y="3749400"/>
                <a:chExt cx="650880" cy="645840"/>
              </a:xfrm>
            </p:grpSpPr>
            <p:sp>
              <p:nvSpPr>
                <p:cNvPr id="370" name=""/>
                <p:cNvSpPr/>
                <p:nvPr/>
              </p:nvSpPr>
              <p:spPr>
                <a:xfrm>
                  <a:off x="7064280" y="37494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6996240" y="37494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452600" y="4395240"/>
                <a:ext cx="1519200" cy="645840"/>
                <a:chOff x="1452600" y="4395240"/>
                <a:chExt cx="1519200" cy="645840"/>
              </a:xfrm>
            </p:grpSpPr>
            <p:sp>
              <p:nvSpPr>
                <p:cNvPr id="373" name=""/>
                <p:cNvSpPr/>
                <p:nvPr/>
              </p:nvSpPr>
              <p:spPr>
                <a:xfrm>
                  <a:off x="1521000" y="439524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452600" y="439524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2971800" y="4395240"/>
                <a:ext cx="708120" cy="645840"/>
                <a:chOff x="2971800" y="4395240"/>
                <a:chExt cx="708120" cy="645840"/>
              </a:xfrm>
            </p:grpSpPr>
            <p:sp>
              <p:nvSpPr>
                <p:cNvPr id="376" name=""/>
                <p:cNvSpPr/>
                <p:nvPr/>
              </p:nvSpPr>
              <p:spPr>
                <a:xfrm>
                  <a:off x="3040200" y="439524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1800" y="439524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679920" y="4395240"/>
                <a:ext cx="3316320" cy="645840"/>
                <a:chOff x="3679920" y="4395240"/>
                <a:chExt cx="3316320" cy="645840"/>
              </a:xfrm>
            </p:grpSpPr>
            <p:sp>
              <p:nvSpPr>
                <p:cNvPr id="379" name=""/>
                <p:cNvSpPr/>
                <p:nvPr/>
              </p:nvSpPr>
              <p:spPr>
                <a:xfrm>
                  <a:off x="3747960" y="439524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3679920" y="439524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996240" y="4395240"/>
                <a:ext cx="650880" cy="645840"/>
                <a:chOff x="6996240" y="4395240"/>
                <a:chExt cx="650880" cy="645840"/>
              </a:xfrm>
            </p:grpSpPr>
            <p:sp>
              <p:nvSpPr>
                <p:cNvPr id="382" name=""/>
                <p:cNvSpPr/>
                <p:nvPr/>
              </p:nvSpPr>
              <p:spPr>
                <a:xfrm>
                  <a:off x="7064280" y="439524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6996240" y="439524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452600" y="5041440"/>
                <a:ext cx="1519200" cy="556200"/>
                <a:chOff x="1452600" y="5041440"/>
                <a:chExt cx="1519200" cy="556200"/>
              </a:xfrm>
            </p:grpSpPr>
            <p:sp>
              <p:nvSpPr>
                <p:cNvPr id="385" name=""/>
                <p:cNvSpPr/>
                <p:nvPr/>
              </p:nvSpPr>
              <p:spPr>
                <a:xfrm>
                  <a:off x="1521000" y="5041440"/>
                  <a:ext cx="138240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452600" y="5041440"/>
                  <a:ext cx="15192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2971800" y="5041440"/>
                <a:ext cx="708120" cy="556200"/>
                <a:chOff x="2971800" y="5041440"/>
                <a:chExt cx="708120" cy="556200"/>
              </a:xfrm>
            </p:grpSpPr>
            <p:sp>
              <p:nvSpPr>
                <p:cNvPr id="388" name=""/>
                <p:cNvSpPr/>
                <p:nvPr/>
              </p:nvSpPr>
              <p:spPr>
                <a:xfrm>
                  <a:off x="3040200" y="5041440"/>
                  <a:ext cx="57132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971800" y="5041440"/>
                  <a:ext cx="7081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3679920" y="5041440"/>
                <a:ext cx="3316320" cy="556200"/>
                <a:chOff x="3679920" y="5041440"/>
                <a:chExt cx="3316320" cy="556200"/>
              </a:xfrm>
            </p:grpSpPr>
            <p:sp>
              <p:nvSpPr>
                <p:cNvPr id="391" name=""/>
                <p:cNvSpPr/>
                <p:nvPr/>
              </p:nvSpPr>
              <p:spPr>
                <a:xfrm>
                  <a:off x="3747960" y="5041440"/>
                  <a:ext cx="31798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3679920" y="5041440"/>
                  <a:ext cx="33163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996240" y="5041440"/>
                <a:ext cx="650880" cy="556200"/>
                <a:chOff x="6996240" y="5041440"/>
                <a:chExt cx="650880" cy="556200"/>
              </a:xfrm>
            </p:grpSpPr>
            <p:sp>
              <p:nvSpPr>
                <p:cNvPr id="394" name=""/>
                <p:cNvSpPr/>
                <p:nvPr/>
              </p:nvSpPr>
              <p:spPr>
                <a:xfrm>
                  <a:off x="7064280" y="5041440"/>
                  <a:ext cx="5144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6996240" y="5041440"/>
                  <a:ext cx="6508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452600" y="5598000"/>
                <a:ext cx="1519200" cy="645840"/>
                <a:chOff x="1452600" y="5598000"/>
                <a:chExt cx="1519200" cy="645840"/>
              </a:xfrm>
            </p:grpSpPr>
            <p:sp>
              <p:nvSpPr>
                <p:cNvPr id="397" name=""/>
                <p:cNvSpPr/>
                <p:nvPr/>
              </p:nvSpPr>
              <p:spPr>
                <a:xfrm>
                  <a:off x="1521000" y="55980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52600" y="55980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2971800" y="5598000"/>
                <a:ext cx="708120" cy="645840"/>
                <a:chOff x="2971800" y="5598000"/>
                <a:chExt cx="708120" cy="645840"/>
              </a:xfrm>
            </p:grpSpPr>
            <p:sp>
              <p:nvSpPr>
                <p:cNvPr id="400" name=""/>
                <p:cNvSpPr/>
                <p:nvPr/>
              </p:nvSpPr>
              <p:spPr>
                <a:xfrm>
                  <a:off x="3040200" y="55980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71800" y="55980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679920" y="5598000"/>
                <a:ext cx="3316320" cy="645840"/>
                <a:chOff x="3679920" y="5598000"/>
                <a:chExt cx="3316320" cy="645840"/>
              </a:xfrm>
            </p:grpSpPr>
            <p:sp>
              <p:nvSpPr>
                <p:cNvPr id="403" name=""/>
                <p:cNvSpPr/>
                <p:nvPr/>
              </p:nvSpPr>
              <p:spPr>
                <a:xfrm>
                  <a:off x="3747960" y="55980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9920" y="55980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996240" y="5598000"/>
                <a:ext cx="650880" cy="645840"/>
                <a:chOff x="6996240" y="5598000"/>
                <a:chExt cx="650880" cy="645840"/>
              </a:xfrm>
            </p:grpSpPr>
            <p:sp>
              <p:nvSpPr>
                <p:cNvPr id="406" name=""/>
                <p:cNvSpPr/>
                <p:nvPr/>
              </p:nvSpPr>
              <p:spPr>
                <a:xfrm>
                  <a:off x="7064280" y="55980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
                <p:cNvSpPr/>
                <p:nvPr/>
              </p:nvSpPr>
              <p:spPr>
                <a:xfrm>
                  <a:off x="6996240" y="55980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8" name=""/>
            <p:cNvSpPr/>
            <p:nvPr/>
          </p:nvSpPr>
          <p:spPr>
            <a:xfrm>
              <a:off x="1447920" y="1447920"/>
              <a:ext cx="620388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47920" y="19810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Impact</a:t>
            </a:r>
            <a:endParaRPr b="0" lang="en-US" sz="1200" spc="-1" strike="noStrike">
              <a:solidFill>
                <a:srgbClr val="000000"/>
              </a:solidFill>
              <a:latin typeface="Times New Roman"/>
            </a:endParaRPr>
          </a:p>
        </p:txBody>
      </p:sp>
      <p:sp>
        <p:nvSpPr>
          <p:cNvPr id="413" name=""/>
          <p:cNvSpPr/>
          <p:nvPr/>
        </p:nvSpPr>
        <p:spPr>
          <a:xfrm>
            <a:off x="2971800" y="1981080"/>
            <a:ext cx="685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3</a:t>
            </a:r>
            <a:endParaRPr b="0" lang="en-US" sz="1200" spc="-1" strike="noStrike">
              <a:solidFill>
                <a:srgbClr val="000000"/>
              </a:solidFill>
              <a:latin typeface="Times New Roman"/>
            </a:endParaRPr>
          </a:p>
        </p:txBody>
      </p:sp>
      <p:sp>
        <p:nvSpPr>
          <p:cNvPr id="414" name=""/>
          <p:cNvSpPr/>
          <p:nvPr/>
        </p:nvSpPr>
        <p:spPr>
          <a:xfrm>
            <a:off x="3733920" y="1981080"/>
            <a:ext cx="32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 proposed PHY solution complies with existing rules for low power unlicensed devices</a:t>
            </a:r>
            <a:endParaRPr b="0" lang="en-US" sz="1200" spc="-1" strike="noStrike">
              <a:solidFill>
                <a:srgbClr val="000000"/>
              </a:solidFill>
              <a:latin typeface="Times New Roman"/>
            </a:endParaRPr>
          </a:p>
        </p:txBody>
      </p:sp>
      <p:sp>
        <p:nvSpPr>
          <p:cNvPr id="415" name=""/>
          <p:cNvSpPr/>
          <p:nvPr/>
        </p:nvSpPr>
        <p:spPr>
          <a:xfrm>
            <a:off x="1447920" y="2666880"/>
            <a:ext cx="152388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2971800" y="26668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30481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p:txBody>
      </p:sp>
      <p:sp>
        <p:nvSpPr>
          <p:cNvPr id="418" name=""/>
          <p:cNvSpPr/>
          <p:nvPr/>
        </p:nvSpPr>
        <p:spPr>
          <a:xfrm>
            <a:off x="3733920" y="259092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419" name=""/>
          <p:cNvSpPr/>
          <p:nvPr/>
        </p:nvSpPr>
        <p:spPr>
          <a:xfrm>
            <a:off x="1523880" y="33526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p:txBody>
      </p:sp>
      <p:sp>
        <p:nvSpPr>
          <p:cNvPr id="420" name=""/>
          <p:cNvSpPr/>
          <p:nvPr/>
        </p:nvSpPr>
        <p:spPr>
          <a:xfrm>
            <a:off x="3048120" y="3276720"/>
            <a:ext cx="609480" cy="5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oncept can be scaled to other data rates, frequency bands, number of channels, etc.</a:t>
            </a:r>
            <a:endParaRPr b="0" lang="en-US" sz="1200" spc="-1" strike="noStrike">
              <a:solidFill>
                <a:srgbClr val="000000"/>
              </a:solidFill>
              <a:latin typeface="Times New Roman"/>
            </a:endParaRPr>
          </a:p>
        </p:txBody>
      </p:sp>
      <p:sp>
        <p:nvSpPr>
          <p:cNvPr id="422" name=""/>
          <p:cNvSpPr/>
          <p:nvPr/>
        </p:nvSpPr>
        <p:spPr>
          <a:xfrm>
            <a:off x="1447920" y="3809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447920" y="380988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p:txBody>
      </p:sp>
      <p:sp>
        <p:nvSpPr>
          <p:cNvPr id="424" name=""/>
          <p:cNvSpPr/>
          <p:nvPr/>
        </p:nvSpPr>
        <p:spPr>
          <a:xfrm>
            <a:off x="2971800" y="38098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425" name=""/>
          <p:cNvSpPr/>
          <p:nvPr/>
        </p:nvSpPr>
        <p:spPr>
          <a:xfrm>
            <a:off x="3733920" y="3809880"/>
            <a:ext cx="320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supported in terms of measuring relative locations in cm … RSSI and time of arrival techniques can only provide limited information</a:t>
            </a:r>
            <a:endParaRPr b="0" lang="en-US" sz="1200" spc="-1" strike="noStrike">
              <a:solidFill>
                <a:srgbClr val="000000"/>
              </a:solidFill>
              <a:latin typeface="Times New Roman"/>
            </a:endParaRPr>
          </a:p>
        </p:txBody>
      </p:sp>
      <p:sp>
        <p:nvSpPr>
          <p:cNvPr id="426" name=""/>
          <p:cNvSpPr/>
          <p:nvPr/>
        </p:nvSpPr>
        <p:spPr>
          <a:xfrm>
            <a:off x="1447920" y="441972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Dependent Power Consumption</a:t>
            </a:r>
            <a:endParaRPr b="0" lang="en-US" sz="1200" spc="-1" strike="noStrike">
              <a:solidFill>
                <a:srgbClr val="000000"/>
              </a:solidFill>
              <a:latin typeface="Times New Roman"/>
            </a:endParaRPr>
          </a:p>
        </p:txBody>
      </p:sp>
      <p:sp>
        <p:nvSpPr>
          <p:cNvPr id="427" name=""/>
          <p:cNvSpPr/>
          <p:nvPr/>
        </p:nvSpPr>
        <p:spPr>
          <a:xfrm>
            <a:off x="2971800" y="44956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428" name=""/>
          <p:cNvSpPr/>
          <p:nvPr/>
        </p:nvSpPr>
        <p:spPr>
          <a:xfrm>
            <a:off x="3733920" y="44956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Behavior Dependent – see preceeding tables on power consumption vs. duty cyc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8486927-A7DB-4DE8-BB0E-8FED4F5E8DA8}"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HY Protocol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430" name=""/>
          <p:cNvGrpSpPr/>
          <p:nvPr/>
        </p:nvGrpSpPr>
        <p:grpSpPr>
          <a:xfrm>
            <a:off x="1468440" y="1447920"/>
            <a:ext cx="6207120" cy="4952880"/>
            <a:chOff x="1468440" y="1447920"/>
            <a:chExt cx="6207120" cy="4952880"/>
          </a:xfrm>
        </p:grpSpPr>
        <p:grpSp>
          <p:nvGrpSpPr>
            <p:cNvPr id="431" name=""/>
            <p:cNvGrpSpPr/>
            <p:nvPr/>
          </p:nvGrpSpPr>
          <p:grpSpPr>
            <a:xfrm>
              <a:off x="1473120" y="1450800"/>
              <a:ext cx="6197760" cy="4946760"/>
              <a:chOff x="1473120" y="1450800"/>
              <a:chExt cx="6197760" cy="4946760"/>
            </a:xfrm>
          </p:grpSpPr>
          <p:grpSp>
            <p:nvGrpSpPr>
              <p:cNvPr id="432" name=""/>
              <p:cNvGrpSpPr/>
              <p:nvPr/>
            </p:nvGrpSpPr>
            <p:grpSpPr>
              <a:xfrm>
                <a:off x="1473120" y="1450800"/>
                <a:ext cx="1517760" cy="397800"/>
                <a:chOff x="1473120" y="1450800"/>
                <a:chExt cx="1517760" cy="397800"/>
              </a:xfrm>
            </p:grpSpPr>
            <p:sp>
              <p:nvSpPr>
                <p:cNvPr id="433" name=""/>
                <p:cNvSpPr/>
                <p:nvPr/>
              </p:nvSpPr>
              <p:spPr>
                <a:xfrm>
                  <a:off x="1473120" y="1450800"/>
                  <a:ext cx="15177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473120" y="1450800"/>
                  <a:ext cx="1517760" cy="397800"/>
                  <a:chOff x="1473120" y="1450800"/>
                  <a:chExt cx="1517760" cy="397800"/>
                </a:xfrm>
              </p:grpSpPr>
              <p:sp>
                <p:nvSpPr>
                  <p:cNvPr id="435" name=""/>
                  <p:cNvSpPr/>
                  <p:nvPr/>
                </p:nvSpPr>
                <p:spPr>
                  <a:xfrm>
                    <a:off x="1541520" y="1450800"/>
                    <a:ext cx="13809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1473120" y="1450800"/>
                    <a:ext cx="151776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2990880" y="1450800"/>
                <a:ext cx="711000" cy="397800"/>
                <a:chOff x="2990880" y="1450800"/>
                <a:chExt cx="711000" cy="397800"/>
              </a:xfrm>
            </p:grpSpPr>
            <p:sp>
              <p:nvSpPr>
                <p:cNvPr id="438" name=""/>
                <p:cNvSpPr/>
                <p:nvPr/>
              </p:nvSpPr>
              <p:spPr>
                <a:xfrm>
                  <a:off x="2990880" y="1450800"/>
                  <a:ext cx="71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990880" y="1450800"/>
                  <a:ext cx="711000" cy="397800"/>
                  <a:chOff x="2990880" y="1450800"/>
                  <a:chExt cx="711000" cy="397800"/>
                </a:xfrm>
              </p:grpSpPr>
              <p:sp>
                <p:nvSpPr>
                  <p:cNvPr id="440" name=""/>
                  <p:cNvSpPr/>
                  <p:nvPr/>
                </p:nvSpPr>
                <p:spPr>
                  <a:xfrm>
                    <a:off x="3058920" y="1450800"/>
                    <a:ext cx="57492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2990880" y="1450800"/>
                    <a:ext cx="71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3701880" y="1450800"/>
                <a:ext cx="3321000" cy="397800"/>
                <a:chOff x="3701880" y="1450800"/>
                <a:chExt cx="3321000" cy="397800"/>
              </a:xfrm>
            </p:grpSpPr>
            <p:sp>
              <p:nvSpPr>
                <p:cNvPr id="443" name=""/>
                <p:cNvSpPr/>
                <p:nvPr/>
              </p:nvSpPr>
              <p:spPr>
                <a:xfrm>
                  <a:off x="3701880" y="1450800"/>
                  <a:ext cx="332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3701880" y="1450800"/>
                  <a:ext cx="3321000" cy="397800"/>
                  <a:chOff x="3701880" y="1450800"/>
                  <a:chExt cx="3321000" cy="397800"/>
                </a:xfrm>
              </p:grpSpPr>
              <p:sp>
                <p:nvSpPr>
                  <p:cNvPr id="445" name=""/>
                  <p:cNvSpPr/>
                  <p:nvPr/>
                </p:nvSpPr>
                <p:spPr>
                  <a:xfrm>
                    <a:off x="3770280" y="1450800"/>
                    <a:ext cx="31845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3701880" y="1450800"/>
                    <a:ext cx="332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7022880" y="1450800"/>
                <a:ext cx="648000" cy="397800"/>
                <a:chOff x="7022880" y="1450800"/>
                <a:chExt cx="648000" cy="397800"/>
              </a:xfrm>
            </p:grpSpPr>
            <p:sp>
              <p:nvSpPr>
                <p:cNvPr id="448" name=""/>
                <p:cNvSpPr/>
                <p:nvPr/>
              </p:nvSpPr>
              <p:spPr>
                <a:xfrm>
                  <a:off x="7022880" y="1450800"/>
                  <a:ext cx="648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7022880" y="1450800"/>
                  <a:ext cx="648000" cy="397800"/>
                  <a:chOff x="7022880" y="1450800"/>
                  <a:chExt cx="648000" cy="397800"/>
                </a:xfrm>
              </p:grpSpPr>
              <p:sp>
                <p:nvSpPr>
                  <p:cNvPr id="450" name=""/>
                  <p:cNvSpPr/>
                  <p:nvPr/>
                </p:nvSpPr>
                <p:spPr>
                  <a:xfrm>
                    <a:off x="7091280" y="1450800"/>
                    <a:ext cx="5112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7022880" y="1450800"/>
                    <a:ext cx="648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1473120" y="1848600"/>
                <a:ext cx="1517760" cy="511560"/>
                <a:chOff x="1473120" y="1848600"/>
                <a:chExt cx="1517760" cy="511560"/>
              </a:xfrm>
            </p:grpSpPr>
            <p:sp>
              <p:nvSpPr>
                <p:cNvPr id="453" name=""/>
                <p:cNvSpPr/>
                <p:nvPr/>
              </p:nvSpPr>
              <p:spPr>
                <a:xfrm>
                  <a:off x="1541520" y="184860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ze and Form F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1473120" y="184860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990880" y="1848600"/>
                <a:ext cx="711000" cy="511560"/>
                <a:chOff x="2990880" y="1848600"/>
                <a:chExt cx="711000" cy="511560"/>
              </a:xfrm>
            </p:grpSpPr>
            <p:sp>
              <p:nvSpPr>
                <p:cNvPr id="456" name=""/>
                <p:cNvSpPr/>
                <p:nvPr/>
              </p:nvSpPr>
              <p:spPr>
                <a:xfrm>
                  <a:off x="3058920" y="184860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2990880" y="184860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01880" y="1848600"/>
                <a:ext cx="3321000" cy="511560"/>
                <a:chOff x="3701880" y="1848600"/>
                <a:chExt cx="3321000" cy="511560"/>
              </a:xfrm>
            </p:grpSpPr>
            <p:sp>
              <p:nvSpPr>
                <p:cNvPr id="459" name=""/>
                <p:cNvSpPr/>
                <p:nvPr/>
              </p:nvSpPr>
              <p:spPr>
                <a:xfrm>
                  <a:off x="3770280" y="184860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3701880" y="184860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22880" y="1848600"/>
                <a:ext cx="648000" cy="511560"/>
                <a:chOff x="7022880" y="1848600"/>
                <a:chExt cx="648000" cy="511560"/>
              </a:xfrm>
            </p:grpSpPr>
            <p:sp>
              <p:nvSpPr>
                <p:cNvPr id="462" name=""/>
                <p:cNvSpPr/>
                <p:nvPr/>
              </p:nvSpPr>
              <p:spPr>
                <a:xfrm>
                  <a:off x="7091280" y="184860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22880" y="184860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1473120" y="2360520"/>
                <a:ext cx="1517760" cy="511920"/>
                <a:chOff x="1473120" y="2360520"/>
                <a:chExt cx="1517760" cy="511920"/>
              </a:xfrm>
            </p:grpSpPr>
            <p:sp>
              <p:nvSpPr>
                <p:cNvPr id="465" name=""/>
                <p:cNvSpPr/>
                <p:nvPr/>
              </p:nvSpPr>
              <p:spPr>
                <a:xfrm>
                  <a:off x="1541520" y="2360520"/>
                  <a:ext cx="13809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
                <p:cNvSpPr/>
                <p:nvPr/>
              </p:nvSpPr>
              <p:spPr>
                <a:xfrm>
                  <a:off x="1473120" y="2360520"/>
                  <a:ext cx="151776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990880" y="2360520"/>
                <a:ext cx="711000" cy="511920"/>
                <a:chOff x="2990880" y="2360520"/>
                <a:chExt cx="711000" cy="511920"/>
              </a:xfrm>
            </p:grpSpPr>
            <p:sp>
              <p:nvSpPr>
                <p:cNvPr id="468" name=""/>
                <p:cNvSpPr/>
                <p:nvPr/>
              </p:nvSpPr>
              <p:spPr>
                <a:xfrm>
                  <a:off x="3058920" y="2360520"/>
                  <a:ext cx="57492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
                <p:cNvSpPr/>
                <p:nvPr/>
              </p:nvSpPr>
              <p:spPr>
                <a:xfrm>
                  <a:off x="2990880" y="2360520"/>
                  <a:ext cx="71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701880" y="2360520"/>
                <a:ext cx="3321000" cy="511920"/>
                <a:chOff x="3701880" y="2360520"/>
                <a:chExt cx="3321000" cy="511920"/>
              </a:xfrm>
            </p:grpSpPr>
            <p:sp>
              <p:nvSpPr>
                <p:cNvPr id="471" name=""/>
                <p:cNvSpPr/>
                <p:nvPr/>
              </p:nvSpPr>
              <p:spPr>
                <a:xfrm>
                  <a:off x="3770280" y="2360520"/>
                  <a:ext cx="31845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
                <p:cNvSpPr/>
                <p:nvPr/>
              </p:nvSpPr>
              <p:spPr>
                <a:xfrm>
                  <a:off x="3701880" y="2360520"/>
                  <a:ext cx="332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022880" y="2360520"/>
                <a:ext cx="648000" cy="511920"/>
                <a:chOff x="7022880" y="2360520"/>
                <a:chExt cx="648000" cy="511920"/>
              </a:xfrm>
            </p:grpSpPr>
            <p:sp>
              <p:nvSpPr>
                <p:cNvPr id="474" name=""/>
                <p:cNvSpPr/>
                <p:nvPr/>
              </p:nvSpPr>
              <p:spPr>
                <a:xfrm>
                  <a:off x="7091280" y="2360520"/>
                  <a:ext cx="51120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7022880" y="2360520"/>
                  <a:ext cx="648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473120" y="2872440"/>
                <a:ext cx="1517760" cy="738720"/>
                <a:chOff x="1473120" y="2872440"/>
                <a:chExt cx="1517760" cy="738720"/>
              </a:xfrm>
            </p:grpSpPr>
            <p:sp>
              <p:nvSpPr>
                <p:cNvPr id="477" name=""/>
                <p:cNvSpPr/>
                <p:nvPr/>
              </p:nvSpPr>
              <p:spPr>
                <a:xfrm>
                  <a:off x="1541520" y="2872440"/>
                  <a:ext cx="13809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Simultaneously Operating Full-Throughput P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1473120" y="2872440"/>
                  <a:ext cx="151776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990880" y="2872440"/>
                <a:ext cx="711000" cy="738720"/>
                <a:chOff x="2990880" y="2872440"/>
                <a:chExt cx="711000" cy="738720"/>
              </a:xfrm>
            </p:grpSpPr>
            <p:sp>
              <p:nvSpPr>
                <p:cNvPr id="480" name=""/>
                <p:cNvSpPr/>
                <p:nvPr/>
              </p:nvSpPr>
              <p:spPr>
                <a:xfrm>
                  <a:off x="3058920" y="2872440"/>
                  <a:ext cx="57492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2990880" y="2872440"/>
                  <a:ext cx="71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701880" y="2872440"/>
                <a:ext cx="3321000" cy="738720"/>
                <a:chOff x="3701880" y="2872440"/>
                <a:chExt cx="3321000" cy="738720"/>
              </a:xfrm>
            </p:grpSpPr>
            <p:sp>
              <p:nvSpPr>
                <p:cNvPr id="483" name=""/>
                <p:cNvSpPr/>
                <p:nvPr/>
              </p:nvSpPr>
              <p:spPr>
                <a:xfrm>
                  <a:off x="3770280" y="2872440"/>
                  <a:ext cx="31845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
                <p:cNvSpPr/>
                <p:nvPr/>
              </p:nvSpPr>
              <p:spPr>
                <a:xfrm>
                  <a:off x="3701880" y="2872440"/>
                  <a:ext cx="332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022880" y="2872440"/>
                <a:ext cx="648000" cy="738720"/>
                <a:chOff x="7022880" y="2872440"/>
                <a:chExt cx="648000" cy="738720"/>
              </a:xfrm>
            </p:grpSpPr>
            <p:sp>
              <p:nvSpPr>
                <p:cNvPr id="486" name=""/>
                <p:cNvSpPr/>
                <p:nvPr/>
              </p:nvSpPr>
              <p:spPr>
                <a:xfrm>
                  <a:off x="7091280" y="2872440"/>
                  <a:ext cx="51120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7022880" y="2872440"/>
                  <a:ext cx="648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473120" y="3611520"/>
                <a:ext cx="1517760" cy="625320"/>
                <a:chOff x="1473120" y="3611520"/>
                <a:chExt cx="1517760" cy="625320"/>
              </a:xfrm>
            </p:grpSpPr>
            <p:sp>
              <p:nvSpPr>
                <p:cNvPr id="489" name=""/>
                <p:cNvSpPr/>
                <p:nvPr/>
              </p:nvSpPr>
              <p:spPr>
                <a:xfrm>
                  <a:off x="1541520" y="361152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gnal Acquisition Meth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1473120" y="361152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990880" y="3611520"/>
                <a:ext cx="711000" cy="625320"/>
                <a:chOff x="2990880" y="3611520"/>
                <a:chExt cx="711000" cy="625320"/>
              </a:xfrm>
            </p:grpSpPr>
            <p:sp>
              <p:nvSpPr>
                <p:cNvPr id="492" name=""/>
                <p:cNvSpPr/>
                <p:nvPr/>
              </p:nvSpPr>
              <p:spPr>
                <a:xfrm>
                  <a:off x="3058920" y="361152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990880" y="361152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3701880" y="3611520"/>
                <a:ext cx="3321000" cy="625320"/>
                <a:chOff x="3701880" y="3611520"/>
                <a:chExt cx="3321000" cy="625320"/>
              </a:xfrm>
            </p:grpSpPr>
            <p:sp>
              <p:nvSpPr>
                <p:cNvPr id="495" name=""/>
                <p:cNvSpPr/>
                <p:nvPr/>
              </p:nvSpPr>
              <p:spPr>
                <a:xfrm>
                  <a:off x="3770280" y="361152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3701880" y="361152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7022880" y="3611520"/>
                <a:ext cx="648000" cy="625320"/>
                <a:chOff x="7022880" y="3611520"/>
                <a:chExt cx="648000" cy="625320"/>
              </a:xfrm>
            </p:grpSpPr>
            <p:sp>
              <p:nvSpPr>
                <p:cNvPr id="498" name=""/>
                <p:cNvSpPr/>
                <p:nvPr/>
              </p:nvSpPr>
              <p:spPr>
                <a:xfrm>
                  <a:off x="7091280" y="361152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7022880" y="361152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1473120" y="4236840"/>
                <a:ext cx="1517760" cy="398160"/>
                <a:chOff x="1473120" y="4236840"/>
                <a:chExt cx="1517760" cy="398160"/>
              </a:xfrm>
            </p:grpSpPr>
            <p:sp>
              <p:nvSpPr>
                <p:cNvPr id="501" name=""/>
                <p:cNvSpPr/>
                <p:nvPr/>
              </p:nvSpPr>
              <p:spPr>
                <a:xfrm>
                  <a:off x="1541520" y="4236840"/>
                  <a:ext cx="13809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1473120" y="4236840"/>
                  <a:ext cx="151776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2990880" y="4236840"/>
                <a:ext cx="711000" cy="398160"/>
                <a:chOff x="2990880" y="4236840"/>
                <a:chExt cx="711000" cy="398160"/>
              </a:xfrm>
            </p:grpSpPr>
            <p:sp>
              <p:nvSpPr>
                <p:cNvPr id="504" name=""/>
                <p:cNvSpPr/>
                <p:nvPr/>
              </p:nvSpPr>
              <p:spPr>
                <a:xfrm>
                  <a:off x="3058920" y="4236840"/>
                  <a:ext cx="57492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2990880" y="4236840"/>
                  <a:ext cx="71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3701880" y="4236840"/>
                <a:ext cx="3321000" cy="398160"/>
                <a:chOff x="3701880" y="4236840"/>
                <a:chExt cx="3321000" cy="398160"/>
              </a:xfrm>
            </p:grpSpPr>
            <p:sp>
              <p:nvSpPr>
                <p:cNvPr id="507" name=""/>
                <p:cNvSpPr/>
                <p:nvPr/>
              </p:nvSpPr>
              <p:spPr>
                <a:xfrm>
                  <a:off x="3770280" y="4236840"/>
                  <a:ext cx="31845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3701880" y="4236840"/>
                  <a:ext cx="332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022880" y="4236840"/>
                <a:ext cx="648000" cy="398160"/>
                <a:chOff x="7022880" y="4236840"/>
                <a:chExt cx="648000" cy="398160"/>
              </a:xfrm>
            </p:grpSpPr>
            <p:sp>
              <p:nvSpPr>
                <p:cNvPr id="510" name=""/>
                <p:cNvSpPr/>
                <p:nvPr/>
              </p:nvSpPr>
              <p:spPr>
                <a:xfrm>
                  <a:off x="7091280" y="4236840"/>
                  <a:ext cx="51120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7022880" y="4236840"/>
                  <a:ext cx="648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1473120" y="4635000"/>
                <a:ext cx="1517760" cy="625320"/>
                <a:chOff x="1473120" y="4635000"/>
                <a:chExt cx="1517760" cy="625320"/>
              </a:xfrm>
            </p:grpSpPr>
            <p:sp>
              <p:nvSpPr>
                <p:cNvPr id="513" name=""/>
                <p:cNvSpPr/>
                <p:nvPr/>
              </p:nvSpPr>
              <p:spPr>
                <a:xfrm>
                  <a:off x="1541520" y="463500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1473120" y="463500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990880" y="4635000"/>
                <a:ext cx="711000" cy="625320"/>
                <a:chOff x="2990880" y="4635000"/>
                <a:chExt cx="711000" cy="625320"/>
              </a:xfrm>
            </p:grpSpPr>
            <p:sp>
              <p:nvSpPr>
                <p:cNvPr id="516" name=""/>
                <p:cNvSpPr/>
                <p:nvPr/>
              </p:nvSpPr>
              <p:spPr>
                <a:xfrm>
                  <a:off x="3058920" y="463500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2990880" y="463500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3701880" y="4635000"/>
                <a:ext cx="3321000" cy="625320"/>
                <a:chOff x="3701880" y="4635000"/>
                <a:chExt cx="3321000" cy="625320"/>
              </a:xfrm>
            </p:grpSpPr>
            <p:sp>
              <p:nvSpPr>
                <p:cNvPr id="519" name=""/>
                <p:cNvSpPr/>
                <p:nvPr/>
              </p:nvSpPr>
              <p:spPr>
                <a:xfrm>
                  <a:off x="3770280" y="463500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level: -96 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 dependent on packet 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 10e-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3701880" y="463500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022880" y="4635000"/>
                <a:ext cx="648000" cy="625320"/>
                <a:chOff x="7022880" y="4635000"/>
                <a:chExt cx="648000" cy="625320"/>
              </a:xfrm>
            </p:grpSpPr>
            <p:sp>
              <p:nvSpPr>
                <p:cNvPr id="522" name=""/>
                <p:cNvSpPr/>
                <p:nvPr/>
              </p:nvSpPr>
              <p:spPr>
                <a:xfrm>
                  <a:off x="7091280" y="463500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022880" y="463500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1473120" y="5260320"/>
                <a:ext cx="1517760" cy="511560"/>
                <a:chOff x="1473120" y="5260320"/>
                <a:chExt cx="1517760" cy="511560"/>
              </a:xfrm>
            </p:grpSpPr>
            <p:sp>
              <p:nvSpPr>
                <p:cNvPr id="525" name=""/>
                <p:cNvSpPr/>
                <p:nvPr/>
              </p:nvSpPr>
              <p:spPr>
                <a:xfrm>
                  <a:off x="1541520" y="526032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Spread Toler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1473120" y="526032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990880" y="5260320"/>
                <a:ext cx="711000" cy="511560"/>
                <a:chOff x="2990880" y="5260320"/>
                <a:chExt cx="711000" cy="511560"/>
              </a:xfrm>
            </p:grpSpPr>
            <p:sp>
              <p:nvSpPr>
                <p:cNvPr id="528" name=""/>
                <p:cNvSpPr/>
                <p:nvPr/>
              </p:nvSpPr>
              <p:spPr>
                <a:xfrm>
                  <a:off x="3058920" y="526032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990880" y="526032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3701880" y="5260320"/>
                <a:ext cx="3321000" cy="511560"/>
                <a:chOff x="3701880" y="5260320"/>
                <a:chExt cx="3321000" cy="511560"/>
              </a:xfrm>
            </p:grpSpPr>
            <p:sp>
              <p:nvSpPr>
                <p:cNvPr id="531" name=""/>
                <p:cNvSpPr/>
                <p:nvPr/>
              </p:nvSpPr>
              <p:spPr>
                <a:xfrm>
                  <a:off x="3770280" y="526032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3701880" y="526032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7022880" y="5260320"/>
                <a:ext cx="648000" cy="511560"/>
                <a:chOff x="7022880" y="5260320"/>
                <a:chExt cx="648000" cy="511560"/>
              </a:xfrm>
            </p:grpSpPr>
            <p:sp>
              <p:nvSpPr>
                <p:cNvPr id="534" name=""/>
                <p:cNvSpPr/>
                <p:nvPr/>
              </p:nvSpPr>
              <p:spPr>
                <a:xfrm>
                  <a:off x="7091280" y="526032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7022880" y="526032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1473120" y="5772240"/>
                <a:ext cx="1517760" cy="625320"/>
                <a:chOff x="1473120" y="5772240"/>
                <a:chExt cx="1517760" cy="625320"/>
              </a:xfrm>
            </p:grpSpPr>
            <p:sp>
              <p:nvSpPr>
                <p:cNvPr id="537" name=""/>
                <p:cNvSpPr/>
                <p:nvPr/>
              </p:nvSpPr>
              <p:spPr>
                <a:xfrm>
                  <a:off x="1541520" y="577224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1473120" y="577224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2990880" y="5772240"/>
                <a:ext cx="711000" cy="625320"/>
                <a:chOff x="2990880" y="5772240"/>
                <a:chExt cx="711000" cy="625320"/>
              </a:xfrm>
            </p:grpSpPr>
            <p:sp>
              <p:nvSpPr>
                <p:cNvPr id="540" name=""/>
                <p:cNvSpPr/>
                <p:nvPr/>
              </p:nvSpPr>
              <p:spPr>
                <a:xfrm>
                  <a:off x="3058920" y="577224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2990880" y="577224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3701880" y="5772240"/>
                <a:ext cx="3321000" cy="625320"/>
                <a:chOff x="3701880" y="5772240"/>
                <a:chExt cx="3321000" cy="625320"/>
              </a:xfrm>
            </p:grpSpPr>
            <p:sp>
              <p:nvSpPr>
                <p:cNvPr id="543" name=""/>
                <p:cNvSpPr/>
                <p:nvPr/>
              </p:nvSpPr>
              <p:spPr>
                <a:xfrm>
                  <a:off x="3770280" y="577224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3701880" y="577224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022880" y="5772240"/>
                <a:ext cx="648000" cy="625320"/>
                <a:chOff x="7022880" y="5772240"/>
                <a:chExt cx="648000" cy="625320"/>
              </a:xfrm>
            </p:grpSpPr>
            <p:sp>
              <p:nvSpPr>
                <p:cNvPr id="546" name=""/>
                <p:cNvSpPr/>
                <p:nvPr/>
              </p:nvSpPr>
              <p:spPr>
                <a:xfrm>
                  <a:off x="7091280" y="577224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7022880" y="577224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1468440" y="1447920"/>
              <a:ext cx="62071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733920" y="19051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SOC flip-chip approx. &lt;&lt;9mm^2, plus a few passives (bypass caps, etc.) &lt;&lt; compact flash </a:t>
            </a:r>
            <a:endParaRPr b="0" lang="en-US" sz="1200" spc="-1" strike="noStrike">
              <a:solidFill>
                <a:srgbClr val="000000"/>
              </a:solidFill>
              <a:latin typeface="Times New Roman"/>
            </a:endParaRPr>
          </a:p>
        </p:txBody>
      </p:sp>
      <p:sp>
        <p:nvSpPr>
          <p:cNvPr id="550" name=""/>
          <p:cNvSpPr/>
          <p:nvPr/>
        </p:nvSpPr>
        <p:spPr>
          <a:xfrm>
            <a:off x="3733920" y="24382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GHz ISM band for global availability, variants could be designed for other bands (e.g. 900 MHz)</a:t>
            </a:r>
            <a:endParaRPr b="0" lang="en-US" sz="1200" spc="-1" strike="noStrike">
              <a:solidFill>
                <a:srgbClr val="000000"/>
              </a:solidFill>
              <a:latin typeface="Times New Roman"/>
            </a:endParaRPr>
          </a:p>
        </p:txBody>
      </p:sp>
      <p:sp>
        <p:nvSpPr>
          <p:cNvPr id="551" name=""/>
          <p:cNvSpPr/>
          <p:nvPr/>
        </p:nvSpPr>
        <p:spPr>
          <a:xfrm>
            <a:off x="3733920" y="297180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15, assuming 16 channel spacing and no interference from other systems – perhaps more, depending on RX dynamic range/power tradeoffs</a:t>
            </a:r>
            <a:endParaRPr b="0" lang="en-US" sz="1200" spc="-1" strike="noStrike">
              <a:solidFill>
                <a:srgbClr val="000000"/>
              </a:solidFill>
              <a:latin typeface="Times New Roman"/>
            </a:endParaRPr>
          </a:p>
        </p:txBody>
      </p:sp>
      <p:sp>
        <p:nvSpPr>
          <p:cNvPr id="552" name=""/>
          <p:cNvSpPr/>
          <p:nvPr/>
        </p:nvSpPr>
        <p:spPr>
          <a:xfrm>
            <a:off x="3733920" y="365760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track to frequency of coordinator’s beacon, adjusting their local references to achieve and maintain  frequency and timing sync</a:t>
            </a:r>
            <a:endParaRPr b="0" lang="en-US" sz="1200" spc="-1" strike="noStrike">
              <a:solidFill>
                <a:srgbClr val="000000"/>
              </a:solidFill>
              <a:latin typeface="Times New Roman"/>
            </a:endParaRPr>
          </a:p>
        </p:txBody>
      </p:sp>
      <p:sp>
        <p:nvSpPr>
          <p:cNvPr id="553" name=""/>
          <p:cNvSpPr/>
          <p:nvPr/>
        </p:nvSpPr>
        <p:spPr>
          <a:xfrm>
            <a:off x="3733920" y="43434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10m with &gt;= 28 dB fade margin to 10e-4 BER</a:t>
            </a:r>
            <a:endParaRPr b="0" lang="en-US" sz="1200" spc="-1" strike="noStrike">
              <a:solidFill>
                <a:srgbClr val="000000"/>
              </a:solidFill>
              <a:latin typeface="Times New Roman"/>
            </a:endParaRPr>
          </a:p>
        </p:txBody>
      </p:sp>
      <p:sp>
        <p:nvSpPr>
          <p:cNvPr id="554" name=""/>
          <p:cNvSpPr/>
          <p:nvPr/>
        </p:nvSpPr>
        <p:spPr>
          <a:xfrm>
            <a:off x="3733920" y="586728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amp; RX Peak: ~ 68.75 mW (100% duty cyc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power duty cycle dependent – see tab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5DD42B62-6A71-48BB-98D4-4DA81BBFE053}"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696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742840"/>
            <a:ext cx="7772400" cy="34290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Arial"/>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C5ED2C9B-D099-44F6-84B7-5D0D4A56A12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thogonal BFSK modulation (modulation index = 1)</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operation with low complexity (good Eb/No performance possible)</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high performance all-digital modem possible </a:t>
            </a:r>
            <a:r>
              <a:rPr b="0" lang="en-US" sz="1600" spc="-1" strike="noStrike">
                <a:solidFill>
                  <a:srgbClr val="000000"/>
                </a:solidFill>
                <a:latin typeface="Verdana"/>
              </a:rPr>
              <a:t>(though conventional modulators/demodulators could be used)</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frequenci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00-2483.5 MHz (unlicensed operation)</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4 channels, 320 kHz spacing @ 160 kbp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IF architecture with upper/lower sideband select keeps LO and image in-band - fewer out of band spurious issue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Other bands possible with minor changes</a:t>
            </a:r>
            <a:r>
              <a:rPr b="0" lang="en-US" sz="1600" spc="-1" strike="noStrike">
                <a:solidFill>
                  <a:srgbClr val="000000"/>
                </a:solidFill>
                <a:latin typeface="Verdana"/>
              </a:rPr>
              <a:t> (where is the ?)</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es under FCC Part 15.249 rul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S - uses DCS “Dynamic Channel Selection”</a:t>
            </a:r>
            <a:endParaRPr b="0" lang="en-US" sz="18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ordinator node “sniffs” band and selects channel(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  nodes find coordinator by scanning for beacon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moves to a clear channel in case of interferenc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64B14F9D-AC22-4CA1-844A-FEA50F7047C4}"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age-reject up/down conversion between low IF and RF</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1/f noise problems in CMO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DC offset and linearity problems of direct conversion (RX IF can be AC-coupled and hard limited)</a:t>
            </a:r>
            <a:endParaRPr b="0" lang="en-US" sz="16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izes amount of high frequency circuitry, allowing majority of signal processing to take place at very low frequencies in simple digital circuitry</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power consumption</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frequency digital CMOS is power efficien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chip area</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all geometry digital CMOS is compa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solution size</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of filters, etc. allows single chip solution with only minimal external passives (bypass caps, etc.)</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portions of system synthesizable from VH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8F5E0EA6-9A19-4C4C-9C80-9BA0F49F4C1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ystem timing and frequency generation are based on a single master oscillator in each n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ves track frequency of coordinator</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use of low cost, low precision crystal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s adjust their master oscillator (or synthesizer reference frequency) such that received signal is centered in their receive IF and recovered symbol timing is corre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ignment takes place as “slaves” join 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itial acquisition is complete, tracking is based on fine corrections in recovered symbol cloc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 tracking in a real, commercially-produced system is equal to or better than 1 ppm with 50 ppm crystals</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equates to about 2.5 kHz worst-case offset at Fo of 2.5 GHz, which results in negligible performance los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margin stated in this proposal are based on   -2 dBm nominal TX power output (with duty cycle averaging allowance ~ + 18 dBm is possi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19D7626E-F9E3-4928-A784-252B0E8DD9D8}"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58" name=""/>
          <p:cNvGraphicFramePr/>
          <p:nvPr/>
        </p:nvGraphicFramePr>
        <p:xfrm>
          <a:off x="914400" y="1600200"/>
          <a:ext cx="7086600" cy="4745160"/>
        </p:xfrm>
        <a:graphic>
          <a:graphicData uri="http://schemas.openxmlformats.org/presentationml/2006/ole">
            <p:oleObj r:id="rId1" spid="">
              <p:embed/>
              <p:pic>
                <p:nvPicPr>
                  <p:cNvPr id="59"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0947645-FA2F-4E34-9F1F-C2BDF221FFAC}"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All-digital Modulated TX Signal at 1.360 MHz Low IF (unfiltered)</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1676520" y="1600200"/>
            <a:ext cx="6172200" cy="48164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DF62EDBC-EEEE-48F4-A790-4EE16D086F06}"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e of 5 pole Butterworth Filter with 280 kHz BW at 1.360 MH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676520" y="1600200"/>
            <a:ext cx="6172200" cy="4849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1BBA9F5-AEA6-4D5E-B740-620B5B095197}"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227TG4r0</dc:description>
  <dc:language>en-US</dc:language>
  <cp:lastModifiedBy>Ian C. Gifford</cp:lastModifiedBy>
  <cp:lastPrinted>2001-03-11T04:44:01Z</cp:lastPrinted>
  <dcterms:modified xsi:type="dcterms:W3CDTF">2001-07-04T03:02:55Z</dcterms:modified>
  <cp:revision>39</cp:revision>
  <dc:subject>IEEE 802.15 &lt;subject&gt;</dc:subject>
  <dc:title>No Slide Title</dc:title>
</cp:coreProperties>
</file>