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05E1-C9DB-4297-8B23-C77B561B5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BF5C-9EA9-458B-9A4B-5D8FAFED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668E-1DFB-4B8B-8278-810540AE8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A016-CDDD-4ED9-BDD9-CE4E5DFD6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123F-4FCC-40D7-9E0C-AD9BC1E4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EF02-28E8-4FC7-9B8D-77B9349F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DF2A-6E69-4083-BFDD-DF7BBACA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A073-50C9-4181-8D96-C891F4AF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030B-1CEA-4E31-893A-85C8AF10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1AF1-3118-4744-BD82-36B14844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82E2-1138-4884-8B38-28F6DC02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D682-DB14-4769-A89C-19AB3C58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A044FCC-7F3F-4007-BBCC-7C2AE6E38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1/348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 Wireless Coexistence Study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10280" y="3581280"/>
            <a:ext cx="592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m Lansf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r, IEEE 802 Coexistence Study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m.Lansford@mobilian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05) 377-61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ary/Editor: Tim Bla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Mobilian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3839-F3BC-428B-85B6-7C5D3F5842AE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pdate of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onference calls h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 proposal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ship and voting rules uncer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l mission statement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for the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lve outstand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if rules change will be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 to ExCom on Fri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ings scheduled for this wee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4280" indent="-198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esday 8-10AM (Columb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44280" indent="-198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rsday 6:30-9:30PM (Salon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 of SG will be needed to resolve outstand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: Close on a proposal and ask for TAG formation at Nov ple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A376-41A7-4FB1-85B5-90020516311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cussion Po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 mission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is really a TAG or something else? (Rule change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oup produces only position statements and recommendations, not recommended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de on membership (review propos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11/15/16 voter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here to existing WG rules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ointed delegates from 11/15/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de on eng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2 Chair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11/15/16 chai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fication of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vote of TAG, AND/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11/15/16 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79A5-CF3E-4300-8EB1-2299EEAF289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0T06:28:43Z</dcterms:created>
  <dc:creator>Jim Lansford</dc:creator>
  <dc:description>&lt;347&gt;</dc:description>
  <dc:language>en-US</dc:language>
  <cp:lastModifiedBy>Tim Blaney</cp:lastModifiedBy>
  <cp:lastPrinted>1998-02-10T13:28:06Z</cp:lastPrinted>
  <dcterms:modified xsi:type="dcterms:W3CDTF">2001-07-10T15:50:56Z</dcterms:modified>
  <cp:revision>7</cp:revision>
  <dc:subject>IEEE 802.15 CTAG</dc:subject>
  <dc:title>IEEE Coexistence  Study Group</dc:title>
</cp:coreProperties>
</file>