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34C-BFAD-4FD5-8331-0EEA6D21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334-F3C7-4257-8798-84CA6D63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120-2ABE-4E74-AAF8-6159AEE0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573-9AA1-498E-8294-BFF4F0B9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BB6-F37E-434D-8BF4-A15F99C3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946-28B5-41AC-8EDB-FA3FDF18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92F-5456-4622-9FBF-0EA3D7CE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706-9AA0-429F-8A11-C8798994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CA4-4D09-413E-9F1D-F53E2FD2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2BA-5CBF-4323-8E40-B6027875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201-91C4-49F4-AE42-A6CFD496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6C1-41F7-4E0C-90D5-E036CE23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A7D1D2-E163-4363-B391-82E0FC529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28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35049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LAN/WPAN Coexistence Task Group             Opening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rtland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0E1-3276-46D4-A5B9-4FB4B27E06D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 of May TG2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ation vote on David Cypher as the new IEEE 802.15.2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Outline of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FCC NPRM 01-1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ummary in 802.15.2 Orlando Closing Report 01/2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Report from AFH Ad Hoc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709-C792-446C-BE4C-AFE02C0DC4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 of May TG2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ted on consensus AFH proposal (Passed unanimous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and commented on Vic Hayes’ proposal for a Sixth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.11-01/095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d to drop work on  802.11b TPC since 802.11h is working on TP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B68-9001-429C-9F45-ED8A5B3D44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 of May TG2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er (Matthew Shoemake) of 802.11b Data Rate Scaling proposal is too busy to work on that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d to suspend work at this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d on a Representative Set of Interference Scenarios (Nada Golmie to summar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Project Plan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007-B0D7-4DA9-809F-75CE5D5EF0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 for this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ubmitted Clauses of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 on submitted 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letter to Bluetooth SIG regarding Adaptive Frequency H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B87-09B8-4292-BC7B-6C96E04757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2000-09-20T20:30:42Z</cp:lastPrinted>
  <dcterms:modified xsi:type="dcterms:W3CDTF">2001-07-09T17:56:06Z</dcterms:modified>
  <cp:revision>353</cp:revision>
  <dc:subject>IEEE 802.15 &lt;subject&gt;</dc:subject>
  <dc:title>IEEE P802.15 Working Group for Wireless Personal Area Networks</dc:title>
</cp:coreProperties>
</file>