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png" ContentType="image/png"/>
  <Override PartName="/ppt/media/image4.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11205B-616E-436C-806B-E89865244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6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sldImg"/>
          </p:nvPr>
        </p:nvSpPr>
        <p:spPr>
          <a:xfrm>
            <a:off x="1157400" y="703440"/>
            <a:ext cx="4622760" cy="3466800"/>
          </a:xfrm>
          <a:prstGeom prst="rect">
            <a:avLst/>
          </a:prstGeom>
          <a:ln w="0">
            <a:noFill/>
          </a:ln>
        </p:spPr>
      </p:sp>
      <p:sp>
        <p:nvSpPr>
          <p:cNvPr id="16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4160" y="701640"/>
            <a:ext cx="4626000" cy="3468600"/>
          </a:xfrm>
          <a:prstGeom prst="rect">
            <a:avLst/>
          </a:prstGeom>
          <a:ln w="0">
            <a:noFill/>
          </a:ln>
        </p:spPr>
      </p:sp>
      <p:sp>
        <p:nvSpPr>
          <p:cNvPr id="158"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58B4D-9DD3-4228-ACF7-AA3628696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F7F0E-EEDF-4F35-ADC7-A45840B5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F1994-8812-460D-BFAC-D292893D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EEE95-CECF-4BF7-A730-DA7939F1E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1532-E264-4D89-8028-719C8FE82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DFF44-D65C-4306-827F-DA958FE4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53D4-16EB-4A2F-AE4C-43570082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05480-62FF-4AA3-8177-70ED3C3ED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103E-4113-48AC-B77B-8D5A6479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95F2-A59C-46A8-A77C-D64692C5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5403-EE75-473A-91E2-054ECD6B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C2472-D3B4-457E-B541-0A8743E81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C5270D-3652-43C1-BAD9-932CA5D39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8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4DE951A-C097-4F70-9ACC-72161AEF30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Opening Report for Session #13/Portland</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Jul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Consulta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23 Kelshill Road, MA USA 0186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251 3451</a:t>
            </a:r>
            <a:r>
              <a:rPr b="0" lang="en-US" sz="1600" spc="-1" strike="noStrike">
                <a:solidFill>
                  <a:srgbClr val="000000"/>
                </a:solidFill>
                <a:latin typeface="Times New Roman"/>
              </a:rPr>
              <a:t>], FAX: [</a:t>
            </a:r>
            <a:r>
              <a:rPr b="0" lang="en-US" sz="1600" spc="-1" strike="noStrike">
                <a:solidFill>
                  <a:srgbClr val="ff0000"/>
                </a:solidFill>
                <a:latin typeface="Times New Roman"/>
              </a:rPr>
              <a:t>+1 978 251 1437</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210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11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A1E6D6B-052D-4F2B-A028-C4B28F7972A8}"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Jul01 9am EDT; LB11 Open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submit the contents of document IEEE P802.15.1/D0.9.2 to Sponsor Ballot [recirculation ballo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Jul01 11pm EDT; LB11 Clo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11 Summa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74 Voting members. 59 submitted their vote (LB8/10/1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59/74 =  82% (50% is required) and the abstention rate was less than 30% of those voting.  The ballot is vali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assed with 57/1/1 or  98%.  15 failed to vo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pproving Comments –01/310r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9B2E1E0B-B69B-4462-A857-DDF5906C56FB}"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 (cont.)</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D0.9.2 recirculation approval; Date Closed: 6Jul01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5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6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1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59 + 1 + 1) / 74 = 82%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59 / (59 + 1) = 9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1 / 74 = .0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F3C50E8-36F3-4098-8448-74CF39CBE7A2}"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 (cont.)</a:t>
            </a:r>
            <a:endParaRPr b="0" lang="en-US" sz="3600" spc="-1" strike="noStrike">
              <a:solidFill>
                <a:srgbClr val="000000"/>
              </a:solidFill>
              <a:latin typeface="Times New Roman"/>
            </a:endParaRPr>
          </a:p>
        </p:txBody>
      </p:sp>
      <p:sp>
        <p:nvSpPr>
          <p:cNvPr id="85"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graphicFrame>
        <p:nvGraphicFramePr>
          <p:cNvPr id="86" name=""/>
          <p:cNvGraphicFramePr/>
          <p:nvPr/>
        </p:nvGraphicFramePr>
        <p:xfrm>
          <a:off x="1724040" y="1828800"/>
          <a:ext cx="5695920" cy="4219560"/>
        </p:xfrm>
        <a:graphic>
          <a:graphicData uri="http://schemas.openxmlformats.org/presentationml/2006/ole">
            <p:oleObj progId="Excel.Sheet.12" r:id="rId1" spid="">
              <p:embed/>
              <p:pic>
                <p:nvPicPr>
                  <p:cNvPr id="87" name="" descr=""/>
                  <p:cNvPicPr/>
                  <p:nvPr/>
                </p:nvPicPr>
                <p:blipFill>
                  <a:blip r:embed="rId2"/>
                  <a:stretch/>
                </p:blipFill>
                <p:spPr>
                  <a:xfrm>
                    <a:off x="1724040" y="1828800"/>
                    <a:ext cx="5695920" cy="4219560"/>
                  </a:xfrm>
                  <a:prstGeom prst="rect">
                    <a:avLst/>
                  </a:prstGeom>
                  <a:ln w="0">
                    <a:noFill/>
                  </a:ln>
                </p:spPr>
              </p:pic>
            </p:oleObj>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C975C8B3-0CB0-44CA-93CE-373A5AC8BCE8}" type="slidenum">
              <a:t>13</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 (cont.)</a:t>
            </a:r>
            <a:endParaRPr b="0" lang="en-US" sz="3600" spc="-1" strike="noStrike">
              <a:solidFill>
                <a:srgbClr val="000000"/>
              </a:solidFill>
              <a:latin typeface="Times New Roman"/>
            </a:endParaRPr>
          </a:p>
        </p:txBody>
      </p:sp>
      <p:sp>
        <p:nvSpPr>
          <p:cNvPr id="89"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graphicFrame>
        <p:nvGraphicFramePr>
          <p:cNvPr id="90" name=""/>
          <p:cNvGraphicFramePr/>
          <p:nvPr/>
        </p:nvGraphicFramePr>
        <p:xfrm>
          <a:off x="1724040" y="1809720"/>
          <a:ext cx="5695920" cy="4057560"/>
        </p:xfrm>
        <a:graphic>
          <a:graphicData uri="http://schemas.openxmlformats.org/presentationml/2006/ole">
            <p:oleObj progId="Excel.Sheet.12" r:id="rId1" spid="">
              <p:embed/>
              <p:pic>
                <p:nvPicPr>
                  <p:cNvPr id="91" name="" descr=""/>
                  <p:cNvPicPr/>
                  <p:nvPr/>
                </p:nvPicPr>
                <p:blipFill>
                  <a:blip r:embed="rId2"/>
                  <a:stretch/>
                </p:blipFill>
                <p:spPr>
                  <a:xfrm>
                    <a:off x="1724040" y="1809720"/>
                    <a:ext cx="5695920" cy="4057560"/>
                  </a:xfrm>
                  <a:prstGeom prst="rect">
                    <a:avLst/>
                  </a:prstGeom>
                  <a:ln w="0">
                    <a:noFill/>
                  </a:ln>
                </p:spPr>
              </p:pic>
            </p:oleObj>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091D533B-731F-4468-93E9-2975679780CB}" type="slidenum">
              <a:t>14</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 (cont.)</a:t>
            </a:r>
            <a:endParaRPr b="0" lang="en-US" sz="3600" spc="-1" strike="noStrike">
              <a:solidFill>
                <a:srgbClr val="000000"/>
              </a:solidFill>
              <a:latin typeface="Times New Roman"/>
            </a:endParaRPr>
          </a:p>
        </p:txBody>
      </p:sp>
      <p:sp>
        <p:nvSpPr>
          <p:cNvPr id="93"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graphicFrame>
        <p:nvGraphicFramePr>
          <p:cNvPr id="94" name=""/>
          <p:cNvGraphicFramePr/>
          <p:nvPr/>
        </p:nvGraphicFramePr>
        <p:xfrm>
          <a:off x="1724040" y="1809720"/>
          <a:ext cx="5695920" cy="4057560"/>
        </p:xfrm>
        <a:graphic>
          <a:graphicData uri="http://schemas.openxmlformats.org/presentationml/2006/ole">
            <p:oleObj progId="Excel.Sheet.12" r:id="rId1" spid="">
              <p:embed/>
              <p:pic>
                <p:nvPicPr>
                  <p:cNvPr id="95" name="" descr=""/>
                  <p:cNvPicPr/>
                  <p:nvPr/>
                </p:nvPicPr>
                <p:blipFill>
                  <a:blip r:embed="rId2"/>
                  <a:stretch/>
                </p:blipFill>
                <p:spPr>
                  <a:xfrm>
                    <a:off x="1724040" y="1809720"/>
                    <a:ext cx="5695920" cy="4057560"/>
                  </a:xfrm>
                  <a:prstGeom prst="rect">
                    <a:avLst/>
                  </a:prstGeom>
                  <a:ln w="0">
                    <a:noFill/>
                  </a:ln>
                </p:spPr>
              </p:pic>
            </p:oleObj>
          </a:graphicData>
        </a:graphic>
      </p:graphicFrame>
      <p:graphicFrame>
        <p:nvGraphicFramePr>
          <p:cNvPr id="96" name=""/>
          <p:cNvGraphicFramePr/>
          <p:nvPr/>
        </p:nvGraphicFramePr>
        <p:xfrm>
          <a:off x="4038480" y="6048360"/>
          <a:ext cx="4848480" cy="657360"/>
        </p:xfrm>
        <a:graphic>
          <a:graphicData uri="http://schemas.openxmlformats.org/presentationml/2006/ole">
            <p:oleObj progId="Excel.Sheet.12" r:id="rId3" spid="">
              <p:embed/>
              <p:pic>
                <p:nvPicPr>
                  <p:cNvPr id="97" name="" descr=""/>
                  <p:cNvPicPr/>
                  <p:nvPr/>
                </p:nvPicPr>
                <p:blipFill>
                  <a:blip r:embed="rId4"/>
                  <a:stretch/>
                </p:blipFill>
                <p:spPr>
                  <a:xfrm>
                    <a:off x="4038480" y="6048360"/>
                    <a:ext cx="4848480" cy="657360"/>
                  </a:xfrm>
                  <a:prstGeom prst="rect">
                    <a:avLst/>
                  </a:prstGeom>
                  <a:ln w="0">
                    <a:noFill/>
                  </a:ln>
                </p:spPr>
              </p:pic>
            </p:oleObj>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51FD0CB5-72E3-4255-A743-00A8C283D2B0}" type="slidenum">
              <a:t>15</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1 Summary Report (cont.)</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E/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0 E/Y</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2 T/Y</a:t>
            </a:r>
            <a:endParaRPr b="0" lang="en-US" sz="2800" spc="-1" strike="noStrike">
              <a:solidFill>
                <a:srgbClr val="000000"/>
              </a:solidFill>
              <a:latin typeface="Arial"/>
            </a:endParaRPr>
          </a:p>
        </p:txBody>
      </p:sp>
      <p:graphicFrame>
        <p:nvGraphicFramePr>
          <p:cNvPr id="100" name=""/>
          <p:cNvGraphicFramePr/>
          <p:nvPr/>
        </p:nvGraphicFramePr>
        <p:xfrm>
          <a:off x="685800" y="2741760"/>
          <a:ext cx="7772400" cy="458640"/>
        </p:xfrm>
        <a:graphic>
          <a:graphicData uri="http://schemas.openxmlformats.org/presentationml/2006/ole">
            <p:oleObj progId="Excel.Sheet.12" r:id="rId1" spid="">
              <p:embed/>
              <p:pic>
                <p:nvPicPr>
                  <p:cNvPr id="101" name="" descr=""/>
                  <p:cNvPicPr/>
                  <p:nvPr/>
                </p:nvPicPr>
                <p:blipFill>
                  <a:blip r:embed="rId2"/>
                  <a:stretch/>
                </p:blipFill>
                <p:spPr>
                  <a:xfrm>
                    <a:off x="685800" y="2741760"/>
                    <a:ext cx="7772400" cy="458640"/>
                  </a:xfrm>
                  <a:prstGeom prst="rect">
                    <a:avLst/>
                  </a:prstGeom>
                  <a:ln w="0">
                    <a:noFill/>
                  </a:ln>
                </p:spPr>
              </p:pic>
            </p:oleObj>
          </a:graphicData>
        </a:graphic>
      </p:graphicFrame>
      <p:sp>
        <p:nvSpPr>
          <p:cNvPr id="102" name=""/>
          <p:cNvSpPr/>
          <p:nvPr/>
        </p:nvSpPr>
        <p:spPr>
          <a:xfrm>
            <a:off x="2133720" y="4933800"/>
            <a:ext cx="4039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42 required</a:t>
            </a:r>
            <a:endParaRPr b="0" lang="en-US" sz="6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BA1EAE2-86D1-45CF-B03B-6E67DDD22420}" type="slidenum">
              <a:t>1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Type of Comment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minor editorial – Editorial problem that does not impact technical correctness of the document (e.g. poor grammar).</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 = major editorial – Editorial problem that may cause a reader to misinterpret the document (e.g. failure to identify and anteced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inor technical –  Item that is technically incorrect, but does not impact technical correctness of the proposed Standard itself (e.g. citation of incorrect reference or minor inaccuracy that is not germane to the function of the Standard)</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 = major technical – A problem with the document that causes the functionality of the Standard to be impaired.  Also included in this category are proposals for alternative methodolog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285AA6C-727B-4129-B6EB-A961395CD7D1}"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Resolution Required</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ion that this comment is one of the reasons for voting “Do not Approve” on the ballot form.  </a:t>
            </a:r>
            <a:r>
              <a:rPr b="0" lang="en-US" sz="2000" spc="-1" strike="noStrike">
                <a:solidFill>
                  <a:srgbClr val="ff0000"/>
                </a:solidFill>
                <a:latin typeface="Arial"/>
              </a:rPr>
              <a:t>A “Y” indicates that the comment is required to be resolved to the voter’s satisfaction (either by acceptance by the WG of the voter’s proposed resolution or discussions with the author) in order for the voter to change to “Approve”.</a:t>
            </a:r>
            <a:r>
              <a:rPr b="0" lang="en-US" sz="2000" spc="-1" strike="noStrike">
                <a:solidFill>
                  <a:srgbClr val="000000"/>
                </a:solidFill>
                <a:latin typeface="Arial"/>
              </a:rPr>
              <a:t>  An “N” indicates that a resolution is desired, but not required.  </a:t>
            </a:r>
            <a:endParaRPr b="0" lang="en-US" sz="2000" spc="-1" strike="noStrike">
              <a:solidFill>
                <a:srgbClr val="000000"/>
              </a:solidFill>
              <a:latin typeface="Arial"/>
            </a:endParaRPr>
          </a:p>
          <a:p>
            <a:pPr lvl="1" marL="735480" indent="-28296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1: IEEE requires that this vote shall be accompanied by specific reasons in sufficient detail so that the specific wording of the changes that will cause the voter to change his or her vote to "Approve" for this comment can readily be determined.</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2: In the case where the voter has voted “Approve” this entry must always be “N”.</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3: If all “Y” entries for a given voter are satisfied, a vote of “Do Not Approve” is automatically changed to “Appro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F2F6163-B2D9-463A-83CE-C6D79BCFF4CD}" type="slidenum">
              <a:t>1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EEE Standards Companion</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re are several rules that help to define what final level of consensus you reach. All ballot comments have to be responded to, and in considering a response you may make a change in the draft that may turn a no vote into a yes vote. The issue is what you do to balance your obligations to the majority versus that of the minority. Once you have achieved consensus, an obligation to the majority exists to approve and publish the standard quickly. However, you are obligated to respond to the negative comments of the minority.</a:t>
            </a:r>
            <a:endParaRPr b="0" lang="en-US" sz="1800" spc="-1" strike="noStrike">
              <a:solidFill>
                <a:srgbClr val="000000"/>
              </a:solidFill>
              <a:latin typeface="Arial"/>
            </a:endParaRPr>
          </a:p>
          <a:p>
            <a:pPr marL="339480" indent="-3394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You should attempt to resolve those negative comments, but if there is no indication that further resolution can be achieved based on that, you should move your document forward for approval, still having met the terms of consensus.</a:t>
            </a:r>
            <a:endParaRPr b="0" lang="en-US" sz="1800" spc="-1" strike="noStrike">
              <a:solidFill>
                <a:srgbClr val="000000"/>
              </a:solidFill>
              <a:latin typeface="Arial"/>
            </a:endParaRPr>
          </a:p>
          <a:p>
            <a:pPr marL="339480" indent="-3394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o consideration and circulation of the unresolved negative is required, but satisfaction of the commentors is not. However, keep in mind that the right of appeal exists for everyone, and the best way to avoid an appeal is to listen to everyone’s concer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E2A98298-A3F4-4EBE-905A-11C2F1F46287}" type="slidenum">
              <a:t>1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G1 Opening Report</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ly 2001 Portland, OR USA</a:t>
            </a:r>
            <a:endParaRPr b="0" lang="en-US" sz="36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FBBA35B-DF1F-4128-90FB-DEAAE5680D98}"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Comment Status Coding</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Arial"/>
            </a:endParaRPr>
          </a:p>
        </p:txBody>
      </p:sp>
      <p:graphicFrame>
        <p:nvGraphicFramePr>
          <p:cNvPr id="111" name=""/>
          <p:cNvGraphicFramePr/>
          <p:nvPr/>
        </p:nvGraphicFramePr>
        <p:xfrm>
          <a:off x="4800600" y="1981080"/>
          <a:ext cx="3981600" cy="4324320"/>
        </p:xfrm>
        <a:graphic>
          <a:graphicData uri="http://schemas.openxmlformats.org/presentationml/2006/ole">
            <p:oleObj r:id="rId1" spid="">
              <p:embed/>
              <p:pic>
                <p:nvPicPr>
                  <p:cNvPr id="112"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113"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id Cypher &amp; Ian Gifford</a:t>
            </a:r>
          </a:p>
        </p:txBody>
      </p:sp>
      <p:sp>
        <p:nvSpPr>
          <p:cNvPr id="5" name="PlaceHolder 4"/>
          <p:cNvSpPr>
            <a:spLocks noGrp="1"/>
          </p:cNvSpPr>
          <p:nvPr>
            <p:ph type="sldNum" idx="3"/>
          </p:nvPr>
        </p:nvSpPr>
        <p:spPr/>
        <p:txBody>
          <a:bodyPr/>
          <a:p>
            <a:fld id="{0E4B6B38-BA9C-4C51-9F43-3682F370BAEF}" type="slidenum">
              <a:t>2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 (con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Comments are from the perspective of the Letter Ballot Comment Resolution Team.</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n the Comment Status column indicates that the comment was received by the person coordinating the letter ballot.</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 in the Comment Status column indicates that the comment was Dispatched to the letter ballot comment resolution team.  At this point all comments are considered to be OPEN by the letter ballot resolution team.</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 in the Response Status column indicates that the comment is OPEN (i.e. not addressed) by the letter ballot comment resolution tea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vid Cypher &amp; Ian Gifford</a:t>
            </a:r>
          </a:p>
        </p:txBody>
      </p:sp>
      <p:sp>
        <p:nvSpPr>
          <p:cNvPr id="5" name="PlaceHolder 4"/>
          <p:cNvSpPr>
            <a:spLocks noGrp="1"/>
          </p:cNvSpPr>
          <p:nvPr>
            <p:ph type="sldNum" idx="3"/>
          </p:nvPr>
        </p:nvSpPr>
        <p:spPr/>
        <p:txBody>
          <a:bodyPr/>
          <a:p>
            <a:fld id="{5BF02C27-A16F-42DF-83CC-7817F24E778B}" type="slidenum">
              <a:t>2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 (cont.)</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 in the Response Status column indicates that the comment is WRITTEN (i.e. been addressed) by the letter ballot comment resolution team.  Usually no “W” appears because it is considered either an “A” or “R”after it has been addressed by the te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 in the Comment Status column indicates that the comment was ACCEPTED with possible changes by the letter ballot comment resolution team.  That is the team agreed that the comment is acceptable and a change is necessa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 in the Comment Status column indicates that the comment was REJECTED by the letter ballot comment resolution team.  That is the team agreed that the comment is not acceptable and that no change is necess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vid Cypher &amp; Ian Gifford</a:t>
            </a:r>
          </a:p>
        </p:txBody>
      </p:sp>
      <p:sp>
        <p:nvSpPr>
          <p:cNvPr id="5" name="PlaceHolder 4"/>
          <p:cNvSpPr>
            <a:spLocks noGrp="1"/>
          </p:cNvSpPr>
          <p:nvPr>
            <p:ph type="sldNum" idx="3"/>
          </p:nvPr>
        </p:nvSpPr>
        <p:spPr/>
        <p:txBody>
          <a:bodyPr/>
          <a:p>
            <a:fld id="{3C2FA35C-B448-4E7C-82D7-7FB1BE735C21}" type="slidenum">
              <a:t>2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 (cont.)</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 in the Response Status column indicates that the comment (whether Accepted or Rejected) is considered CLOSED by the letter ballot comment resolution team.  In the case of an AC, this means that the comment was accept, changes applied, and the comment is now closed.  In the case of an RC, this means that the comment was not accepted, no change applied, decline letter sent, and the comment is now closed.</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 in the Response Status column indicates that the comment is UNSATISFIED by the letter ballot comment resolution team.  The team has not been able to reach final closure on this comment due to a needed response from the Bluetooth Special Interest Group.  This is not to be confused with the opinion (i.e. unsatisfied) of the original comment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Z” in the Response Status column indicates that the comment was WITHDRAWN by the original commenter and thus no further consideration by the letter ballot comment resolution tea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vid Cypher &amp; Ian Gifford</a:t>
            </a:r>
          </a:p>
        </p:txBody>
      </p:sp>
      <p:sp>
        <p:nvSpPr>
          <p:cNvPr id="5" name="PlaceHolder 4"/>
          <p:cNvSpPr>
            <a:spLocks noGrp="1"/>
          </p:cNvSpPr>
          <p:nvPr>
            <p:ph type="sldNum" idx="3"/>
          </p:nvPr>
        </p:nvSpPr>
        <p:spPr/>
        <p:txBody>
          <a:bodyPr/>
          <a:p>
            <a:fld id="{CE85DD86-7717-4A90-AE15-D45C68D15F42}" type="slidenum">
              <a:t>2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22" name=""/>
          <p:cNvSpPr/>
          <p:nvPr/>
        </p:nvSpPr>
        <p:spPr>
          <a:xfrm>
            <a:off x="304920" y="5570640"/>
            <a:ext cx="6095880" cy="614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06200" y="4267080"/>
            <a:ext cx="2305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 &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Oct01</a:t>
            </a:r>
            <a:endParaRPr b="0" lang="en-US" sz="1600" spc="-1" strike="noStrike">
              <a:solidFill>
                <a:srgbClr val="000000"/>
              </a:solidFill>
              <a:latin typeface="Times New Roman"/>
            </a:endParaRPr>
          </a:p>
        </p:txBody>
      </p:sp>
      <p:sp>
        <p:nvSpPr>
          <p:cNvPr id="124"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13BC21B-14F7-4912-8F3F-F0F8EEC9DCE6}" type="slidenum">
              <a:t>2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Sep01 Plenary</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21Sep01 (5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People</a:t>
            </a:r>
            <a:endParaRPr b="0" lang="en-US" sz="2800" spc="-1" strike="noStrike">
              <a:solidFill>
                <a:srgbClr val="000000"/>
              </a:solidFill>
              <a:latin typeface="Arial"/>
            </a:endParaRPr>
          </a:p>
        </p:txBody>
      </p:sp>
      <p:sp>
        <p:nvSpPr>
          <p:cNvPr id="12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leadership is not planning to attend the Sep01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96840137-0144-47A7-A2D3-238EDA6C9628}" type="slidenum">
              <a:t>2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0 - Tom Siep 100%</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1 - Tom Siep 100%</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2 - Tom Siep 100%</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3 - Tom Siep 100%</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3 Page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4 - Tom Siep 100%</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5 - BT-IEEE Editorial Working Group</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1 Page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hief Editor/6 Technical Editor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Bluetooth Promoter Company Reviewers w/ internal help</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 Comment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6 - BT-IEEE Editorial Working Group</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8 Page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3 Comment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7 – Tom Siep 100%</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7 Page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7.1 - IEEE 802.15 Task Group 1 Technical Editors</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3 Page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hief Editor/11 Technical Editor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7.2 - IEEE 802.15 Task Group 1 Technical Editors</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3 Page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hief Editor/11 Technical Editor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2 Comments</a:t>
            </a:r>
            <a:endParaRPr b="0" lang="en-US" sz="8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7.3 – Jennifer Longman, IEEE-SA Project Editor 100%</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7.4 - IEEE 802.15 Task Group 1 Technical Editors</a:t>
            </a:r>
            <a:endParaRPr b="0" lang="en-US" sz="900" spc="-1" strike="noStrike">
              <a:solidFill>
                <a:srgbClr val="000000"/>
              </a:solidFill>
              <a:latin typeface="Arial"/>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aft 0.8.0 - IEEE 802.15 Task Group 1 Technical Editors</a:t>
            </a:r>
            <a:endParaRPr b="0" lang="en-US" sz="9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0 Page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hief Editor/7 Technical Editors</a:t>
            </a:r>
            <a:endParaRPr b="0" lang="en-US" sz="800" spc="-1" strike="noStrike">
              <a:solidFill>
                <a:srgbClr val="000000"/>
              </a:solidFill>
              <a:latin typeface="Arial"/>
            </a:endParaRPr>
          </a:p>
          <a:p>
            <a:pPr lvl="1" marL="727920" indent="-280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6 comments</a:t>
            </a:r>
            <a:endParaRPr b="0" lang="en-US" sz="800" spc="-1" strike="noStrike">
              <a:solidFill>
                <a:srgbClr val="000000"/>
              </a:solidFill>
              <a:latin typeface="Arial"/>
            </a:endParaRPr>
          </a:p>
        </p:txBody>
      </p:sp>
      <p:sp>
        <p:nvSpPr>
          <p:cNvPr id="13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9.1 - IEEE 802.15 Task Group 1 Technical Editor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9 Pages</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7 Technical Editors</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 comments</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9.2 - IEEE 802.15 Task Group 1 Technical Editor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9 Pages</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3 Technical Editors</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 comments</a:t>
            </a: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2"/>
          </p:nvPr>
        </p:nvSpPr>
        <p:spPr/>
        <p:txBody>
          <a:bodyPr/>
          <a:p>
            <a:r>
              <a:t>Ian Gifford, Consultant</a:t>
            </a:r>
          </a:p>
        </p:txBody>
      </p:sp>
      <p:sp>
        <p:nvSpPr>
          <p:cNvPr id="6" name="PlaceHolder 5"/>
          <p:cNvSpPr>
            <a:spLocks noGrp="1"/>
          </p:cNvSpPr>
          <p:nvPr>
            <p:ph type="sldNum" idx="3"/>
          </p:nvPr>
        </p:nvSpPr>
        <p:spPr/>
        <p:txBody>
          <a:bodyPr/>
          <a:p>
            <a:fld id="{4A7316F8-8305-4D53-BA82-02B011FD0B4E}" type="slidenum">
              <a:t>26</a:t>
            </a:fld>
          </a:p>
        </p:txBody>
      </p:sp>
      <p:sp>
        <p:nvSpPr>
          <p:cNvPr id="7" name="PlaceHolder 6"/>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9-12, 2001</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and, OR USA, Portland Marriott, 802 Plenary Meeting.</a:t>
            </a:r>
            <a:endParaRPr b="0" lang="en-US" sz="16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ly/August 2001 Ad Hoc In Discu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21, 2001</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evue, WA USA, Hyatt Regency</a:t>
            </a:r>
            <a:endParaRPr b="0" lang="en-US" sz="16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tober 2001 Ad Hoc In Discu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2-15, 2001</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tin, TX USA, Hyatt Regency Town Lake, 802 Plenary Meetin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ieee802.org/15/pub/Meeting_Plan.htm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ieee802.org/meeting/</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A2501CB-26D8-4BA0-8A80-F06B06EAB268}" type="slidenum">
              <a:t>2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C6905BC-E090-4131-8210-C92699FA7B14}" type="slidenum">
              <a:t>2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1224C5F-62E1-47BB-8ABA-D0A444CA97B3}" type="slidenum">
              <a:t>2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lanning</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Session #13/Portland</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ssion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Graphic</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 #11 Report</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lanning Statu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Meeting</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ative Needs for Bellevue</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for Bellevue</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History</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Stuff</a:t>
            </a:r>
            <a:endParaRPr b="0" lang="en-US" sz="2000" spc="-1" strike="noStrike">
              <a:solidFill>
                <a:srgbClr val="000000"/>
              </a:solidFill>
              <a:latin typeface="Arial"/>
            </a:endParaRPr>
          </a:p>
        </p:txBody>
      </p:sp>
      <p:pic>
        <p:nvPicPr>
          <p:cNvPr id="64"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03C1548-531E-4D80-8852-FF42EDA0DA7C}"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DE5AFF64-78B0-4801-B9B9-84B16B3163BD}" type="slidenum">
              <a:t>3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F4E75F1-4FFB-4E9D-9B3F-AD6FCA6C598A}" type="slidenum">
              <a:t>3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DF7D16E2-9044-4B99-9742-1DC88424771E}" type="slidenum">
              <a:t>32</a:t>
            </a:fld>
          </a:p>
        </p:txBody>
      </p:sp>
      <p:sp>
        <p:nvSpPr>
          <p:cNvPr id="6" name="PlaceHolder 5"/>
          <p:cNvSpPr>
            <a:spLocks noGrp="1"/>
          </p:cNvSpPr>
          <p:nvPr>
            <p:ph type="dt" idx="1"/>
          </p:nvPr>
        </p:nvSpPr>
        <p:spPr/>
        <p:txBody>
          <a:bodyPr/>
          <a:p>
            <a:r>
              <a:rPr lang="en-US"/>
              <a:t>May 200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76DEA36-D562-485F-BE78-3F73DD85250B}" type="slidenum">
              <a:t>3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E70791A-A7B4-4C6E-891F-5B8CC86E162E}" type="slidenum">
              <a:t>3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E92B0913-A442-432B-A9B6-56697D13FD5E}" type="slidenum">
              <a:t>3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008447A-75A0-43B0-825A-C35E587C35A8}" type="slidenum">
              <a:t>3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B13EBCA9-314C-4DC8-BEDB-773F4AD3B859}" type="slidenum">
              <a:t>3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B5218C8-91FA-4057-9AF3-86627176C8FF}" type="slidenum">
              <a:t>3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C1F04F6-085B-46D9-95C3-31A52E7DEB7A}" type="slidenum">
              <a:t>3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Group 1 (TG1)</a:t>
            </a:r>
            <a:r>
              <a:rPr b="0" lang="en-US" sz="1800" spc="-1" strike="noStrike">
                <a:solidFill>
                  <a:srgbClr val="000000"/>
                </a:solidFill>
                <a:latin typeface="Times New Roman"/>
              </a:rPr>
              <a:t> is deriving a draft standard from the Bluetooth</a:t>
            </a:r>
            <a:r>
              <a:rPr b="0" lang="en-US" sz="1800" spc="-1" strike="noStrike">
                <a:solidFill>
                  <a:srgbClr val="000000"/>
                </a:solidFill>
                <a:latin typeface="Times New Roman"/>
                <a:ea typeface="Arial"/>
              </a:rPr>
              <a:t>™ </a:t>
            </a:r>
            <a:r>
              <a:rPr b="0" lang="en-US" sz="1800" spc="-1" strike="noStrike">
                <a:solidFill>
                  <a:srgbClr val="000000"/>
                </a:solidFill>
                <a:latin typeface="Times New Roman"/>
              </a:rPr>
              <a:t>specification under IEEE PAR 802.15.1 At Session #13, resolve LB11 comments, address May01 SEC comments, achieve majority approval from the SEC and enter Sponsor LB phase.</a:t>
            </a:r>
            <a:endParaRPr b="0" lang="en-US" sz="1800" spc="-1" strike="noStrike">
              <a:solidFill>
                <a:srgbClr val="000000"/>
              </a:solidFill>
              <a:latin typeface="Arial"/>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May/Jul01 </a:t>
            </a:r>
            <a:r>
              <a:rPr b="0" i="1" lang="en-US" sz="1800" spc="-1" strike="noStrike">
                <a:solidFill>
                  <a:srgbClr val="000000"/>
                </a:solidFill>
                <a:latin typeface="Times New Roman"/>
              </a:rPr>
              <a:t>between-session-period</a:t>
            </a:r>
            <a:r>
              <a:rPr b="0" lang="en-US" sz="1800" spc="-1" strike="noStrike">
                <a:solidFill>
                  <a:srgbClr val="000000"/>
                </a:solidFill>
                <a:latin typeface="Times New Roman"/>
              </a:rPr>
              <a:t> - busy</a:t>
            </a:r>
            <a:endParaRPr b="0" lang="en-US" sz="18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May01 SEC ballot withdrawn, “…</a:t>
            </a:r>
            <a:r>
              <a:rPr b="0" i="1" lang="en-US" sz="1600" spc="-1" strike="noStrike">
                <a:solidFill>
                  <a:srgbClr val="000000"/>
                </a:solidFill>
                <a:latin typeface="Times New Roman"/>
              </a:rPr>
              <a:t>better clarify the use of "must" and "shalls”.</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May01 “IEEE 802.15.1 - BSIG Word Usage and IEEE Style Manual” request</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Jun01 “BARB review of must2shalls” reply</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25Jun01 we applied the 190 must to shall edits, etc. to 802.15.1/D0.9.2</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Jun-6Jul01 conducted LB11 IEEE P802.15.1/D0.9.2 – </a:t>
            </a:r>
            <a:r>
              <a:rPr b="1" lang="en-US" sz="1600" spc="-1" strike="noStrike">
                <a:solidFill>
                  <a:srgbClr val="000000"/>
                </a:solidFill>
                <a:latin typeface="Times New Roman"/>
              </a:rPr>
              <a:t>Passed 57/1/1 98%</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Jul01 the Ballot Review Committee was reformed to address LB11</a:t>
            </a:r>
            <a:endParaRPr b="0" lang="en-US" sz="1600" spc="-1" strike="noStrike">
              <a:solidFill>
                <a:srgbClr val="000000"/>
              </a:solidFill>
              <a:latin typeface="Arial"/>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B11 has one remaining Disapproving Voter; we received 60 Comments which we will resolve.</a:t>
            </a:r>
            <a:endParaRPr b="0" lang="en-US" sz="1800" spc="-1" strike="noStrike">
              <a:solidFill>
                <a:srgbClr val="000000"/>
              </a:solidFill>
              <a:latin typeface="Arial"/>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will update their Project Plan –00/375r1 [00375r1P802-15_TG1-Project-Planning.pdf]; once SEC approval is achieved. ETA 14Jul01.</a:t>
            </a:r>
            <a:endParaRPr b="0" lang="en-US" sz="1800" spc="-1" strike="noStrike">
              <a:solidFill>
                <a:srgbClr val="000000"/>
              </a:solidFill>
              <a:latin typeface="Arial"/>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802.15 Sponsor Balloting Group for 802.15.1/D1.0.1 has been formed and there are thirty-two (32) Voting Members in the group.</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E400F848-0DBF-4704-A75A-052C2D3DC907}"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3/Portland Motion Overview</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 – SE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14823309-4F0A-4741-B3C3-7ADD7CC5C93E}"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3/Portland Motion to the 802 SEC</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 that the ExCom forward IEEE Draft 802.15.1/D0.9.2 to Sponsor ballo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Technical 50% (Procedur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N/A: //</a:t>
            </a:r>
            <a:endParaRPr b="0" lang="en-US" sz="2000" spc="-1" strike="noStrike">
              <a:solidFill>
                <a:srgbClr val="000000"/>
              </a:solidFill>
              <a:latin typeface="Arial"/>
            </a:endParaRPr>
          </a:p>
        </p:txBody>
      </p:sp>
      <p:sp>
        <p:nvSpPr>
          <p:cNvPr id="71" name=""/>
          <p:cNvSpPr/>
          <p:nvPr/>
        </p:nvSpPr>
        <p:spPr>
          <a:xfrm>
            <a:off x="588960" y="6202440"/>
            <a:ext cx="650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G1 &amp; WG Members need to discuss w/ Sponsor what is minimum requirement for SEC mo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D35863C7-39BB-4647-BAF4-6B3B73902FAA}"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 13/Portland - Objectiv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12/Orlando</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ALIZE PRODUCTION OF IEEE Std 802.15.1/D0.9.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B11 STARTED 27JUN01, ENDS 6JUL01, RE-CIRCULATION "MUST TO SHAL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B11 BRC BEGINS COMMENT RESOLU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BALLOTING GROUP FORMED, NEED TO REVIEW 2D SCRIPTING FOR SPONSOR BALLOTING COMMENT CAP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NITIATE IEEE Std 802.15.1/D0.9.3 or D1.0.1, NEXT WG PROOF COPY OR SPONSOR BALLO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3/Portlan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LB11 BRC COMPLETES COMMENT RESOLU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ROVIDE PROJECT PLANNING UPDATE -00/375r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ROVIDE SESSION #14/BELLEVUE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B95580F2-3A3B-4E04-87AD-F1974D213522}"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3/Portland – Submission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05 TG1 May01 Minutes doc Gif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75 TG1-Jul01 Meeting Objectives and Agenda xls Gif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81 TG1 Jul01 Minutes doc Gif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86 WG-TG1 Opening Report Jul01 ppt Gif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91 WG-Liaison Report May01 ppt Gif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331 WG-TG1 Closing Report Jul01 ppt Siep/McInni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71C1390-78FD-4E94-8DCD-3E86F12859AA}"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3/Portland – Graphic</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431640" y="1494000"/>
            <a:ext cx="8272800" cy="4944960"/>
          </a:xfrm>
          <a:prstGeom prst="rect">
            <a:avLst/>
          </a:prstGeom>
          <a:ln w="0">
            <a:noFill/>
          </a:ln>
        </p:spPr>
      </p:pic>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35A0E58A-4404-4393-8880-D1A8D6B7B354}" type="slidenum">
              <a:t>9</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Consultant
23 Kelshill Road
Chelmsford, MA 01863, USA 
TEL +1 978 251 3451
FAX +1 978 251 1437
MOB +1 978 815 8182
E-M giffordi@ieee.org</dc:description>
  <dc:language>en-US</dc:language>
  <cp:lastModifiedBy>Ian C. Gifford</cp:lastModifiedBy>
  <cp:lastPrinted>1998-02-10T13:28:06Z</cp:lastPrinted>
  <dcterms:modified xsi:type="dcterms:W3CDTF">2001-07-09T10:35:41Z</dcterms:modified>
  <cp:revision>420</cp:revision>
  <dc:subject>IEEE 802.15 TG1 Report</dc:subject>
  <dc:title>IEEE P802.15 Working Group for Wireless Personal Area Networks</dc:title>
</cp:coreProperties>
</file>