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04CDA-28B0-4920-BFF6-146A6DB8E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3659-E4F0-4E29-8F7D-4D85B9BED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5016A-93A5-4A18-A660-E4BDCBBEF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B59EC-C9C8-4BA0-BCE6-F632CA14D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B9396-062E-479A-9AB4-0BF01191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954A6-B03B-4772-B41D-0F89693E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4188-3A2F-457B-875D-599C44DE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94DB4-EE56-4EFB-8E53-8585A4BD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FD0D2-2D02-45A3-A974-F8FF70D9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CD32-9DD4-41C4-BE17-C088DD2F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60D2-EDE0-406B-8096-088748FA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B400-BF5C-4E2A-BC53-CF8D52F46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075DB6-FAFE-451D-B482-EA47737E2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Changes-from-Orlando</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9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lists the proposed changes to the 2.4 GHz  PHY for the draft standard.  The changes are the consensus of the PHY subcommittee</a:t>
            </a: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the changes to the PHY agreed to by the PHY subcommittee for approval by TG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0C74429-A67A-448C-A412-03D2DD2E898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ming Margin</a:t>
            </a:r>
            <a:endParaRPr b="0" lang="en-US" sz="3600" spc="-1" strike="noStrike">
              <a:solidFill>
                <a:srgbClr val="000000"/>
              </a:solidFill>
              <a:latin typeface="Arial"/>
            </a:endParaRPr>
          </a:p>
        </p:txBody>
      </p:sp>
      <p:sp>
        <p:nvSpPr>
          <p:cNvPr id="65" name="PlaceHolder 2"/>
          <p:cNvSpPr>
            <a:spLocks noGrp="1"/>
          </p:cNvSpPr>
          <p:nvPr>
            <p:ph/>
          </p:nvPr>
        </p:nvSpPr>
        <p:spPr>
          <a:xfrm>
            <a:off x="685800" y="1523520"/>
            <a:ext cx="7772400" cy="7621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 signal to 5 dB above reference sensitivity</a:t>
            </a:r>
            <a:endParaRPr b="0" lang="en-US" sz="2400" spc="-1" strike="noStrike">
              <a:solidFill>
                <a:srgbClr val="000000"/>
              </a:solidFill>
              <a:latin typeface="Times New Roman"/>
            </a:endParaRPr>
          </a:p>
        </p:txBody>
      </p:sp>
      <p:grpSp>
        <p:nvGrpSpPr>
          <p:cNvPr id="66" name=""/>
          <p:cNvGrpSpPr/>
          <p:nvPr/>
        </p:nvGrpSpPr>
        <p:grpSpPr>
          <a:xfrm>
            <a:off x="609480" y="2133720"/>
            <a:ext cx="7908480" cy="3809880"/>
            <a:chOff x="609480" y="2133720"/>
            <a:chExt cx="7908480" cy="3809880"/>
          </a:xfrm>
        </p:grpSpPr>
        <p:grpSp>
          <p:nvGrpSpPr>
            <p:cNvPr id="67" name=""/>
            <p:cNvGrpSpPr/>
            <p:nvPr/>
          </p:nvGrpSpPr>
          <p:grpSpPr>
            <a:xfrm>
              <a:off x="609480" y="2133720"/>
              <a:ext cx="1652400" cy="761760"/>
              <a:chOff x="609480" y="2133720"/>
              <a:chExt cx="1652400" cy="761760"/>
            </a:xfrm>
          </p:grpSpPr>
          <p:sp>
            <p:nvSpPr>
              <p:cNvPr id="68" name=""/>
              <p:cNvSpPr/>
              <p:nvPr/>
            </p:nvSpPr>
            <p:spPr>
              <a:xfrm>
                <a:off x="712080" y="2133720"/>
                <a:ext cx="144684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 Rate (Mbi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
              <p:cNvSpPr/>
              <p:nvPr/>
            </p:nvSpPr>
            <p:spPr>
              <a:xfrm>
                <a:off x="609480" y="2133720"/>
                <a:ext cx="1652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262240" y="2133720"/>
              <a:ext cx="1793520" cy="761760"/>
              <a:chOff x="2262240" y="2133720"/>
              <a:chExt cx="1793520" cy="761760"/>
            </a:xfrm>
          </p:grpSpPr>
          <p:sp>
            <p:nvSpPr>
              <p:cNvPr id="71" name=""/>
              <p:cNvSpPr/>
              <p:nvPr/>
            </p:nvSpPr>
            <p:spPr>
              <a:xfrm>
                <a:off x="2364840" y="2133720"/>
                <a:ext cx="15886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nimum sensitivity</a:t>
                </a:r>
                <a:endParaRPr b="0" lang="en-US" sz="1600" spc="-1" strike="noStrike">
                  <a:solidFill>
                    <a:srgbClr val="000000"/>
                  </a:solidFill>
                  <a:latin typeface="Times New Roman"/>
                </a:endParaRPr>
              </a:p>
            </p:txBody>
          </p:sp>
          <p:sp>
            <p:nvSpPr>
              <p:cNvPr id="72" name=""/>
              <p:cNvSpPr/>
              <p:nvPr/>
            </p:nvSpPr>
            <p:spPr>
              <a:xfrm>
                <a:off x="2262240" y="2133720"/>
                <a:ext cx="17935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4056120" y="2133720"/>
              <a:ext cx="2231640" cy="761760"/>
              <a:chOff x="4056120" y="2133720"/>
              <a:chExt cx="2231640" cy="761760"/>
            </a:xfrm>
          </p:grpSpPr>
          <p:sp>
            <p:nvSpPr>
              <p:cNvPr id="74" name=""/>
              <p:cNvSpPr/>
              <p:nvPr/>
            </p:nvSpPr>
            <p:spPr>
              <a:xfrm>
                <a:off x="4158720" y="2133720"/>
                <a:ext cx="20260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
              <p:cNvSpPr/>
              <p:nvPr/>
            </p:nvSpPr>
            <p:spPr>
              <a:xfrm>
                <a:off x="4056120" y="2133720"/>
                <a:ext cx="223164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288120" y="2133720"/>
              <a:ext cx="2229840" cy="761760"/>
              <a:chOff x="6288120" y="2133720"/>
              <a:chExt cx="2229840" cy="761760"/>
            </a:xfrm>
          </p:grpSpPr>
          <p:sp>
            <p:nvSpPr>
              <p:cNvPr id="77" name=""/>
              <p:cNvSpPr/>
              <p:nvPr/>
            </p:nvSpPr>
            <p:spPr>
              <a:xfrm>
                <a:off x="6390720" y="2133720"/>
                <a:ext cx="20250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ternate channel rejection (dB)</a:t>
                </a:r>
                <a:endParaRPr b="0" lang="en-US" sz="1600" spc="-1" strike="noStrike">
                  <a:solidFill>
                    <a:srgbClr val="000000"/>
                  </a:solidFill>
                  <a:latin typeface="Times New Roman"/>
                </a:endParaRPr>
              </a:p>
            </p:txBody>
          </p:sp>
          <p:sp>
            <p:nvSpPr>
              <p:cNvPr id="78" name=""/>
              <p:cNvSpPr/>
              <p:nvPr/>
            </p:nvSpPr>
            <p:spPr>
              <a:xfrm>
                <a:off x="6288120" y="2133720"/>
                <a:ext cx="222984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609480" y="3505320"/>
              <a:ext cx="1652400" cy="609480"/>
              <a:chOff x="609480" y="3505320"/>
              <a:chExt cx="1652400" cy="609480"/>
            </a:xfrm>
          </p:grpSpPr>
          <p:sp>
            <p:nvSpPr>
              <p:cNvPr id="80" name=""/>
              <p:cNvSpPr/>
              <p:nvPr/>
            </p:nvSpPr>
            <p:spPr>
              <a:xfrm>
                <a:off x="712080" y="3505320"/>
                <a:ext cx="144684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609480" y="3505320"/>
                <a:ext cx="1652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262240" y="3505320"/>
              <a:ext cx="1793520" cy="609480"/>
              <a:chOff x="2262240" y="3505320"/>
              <a:chExt cx="1793520" cy="609480"/>
            </a:xfrm>
          </p:grpSpPr>
          <p:sp>
            <p:nvSpPr>
              <p:cNvPr id="83" name=""/>
              <p:cNvSpPr/>
              <p:nvPr/>
            </p:nvSpPr>
            <p:spPr>
              <a:xfrm>
                <a:off x="2364840" y="3505320"/>
                <a:ext cx="15886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 dBm</a:t>
                </a:r>
                <a:endParaRPr b="0" lang="en-US" sz="1600" spc="-1" strike="noStrike">
                  <a:solidFill>
                    <a:srgbClr val="000000"/>
                  </a:solidFill>
                  <a:latin typeface="Times New Roman"/>
                </a:endParaRPr>
              </a:p>
            </p:txBody>
          </p:sp>
          <p:sp>
            <p:nvSpPr>
              <p:cNvPr id="84" name=""/>
              <p:cNvSpPr/>
              <p:nvPr/>
            </p:nvSpPr>
            <p:spPr>
              <a:xfrm>
                <a:off x="2262240" y="3505320"/>
                <a:ext cx="1793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056120" y="3505320"/>
              <a:ext cx="2231640" cy="609480"/>
              <a:chOff x="4056120" y="3505320"/>
              <a:chExt cx="2231640" cy="609480"/>
            </a:xfrm>
          </p:grpSpPr>
          <p:sp>
            <p:nvSpPr>
              <p:cNvPr id="86" name=""/>
              <p:cNvSpPr/>
              <p:nvPr/>
            </p:nvSpPr>
            <p:spPr>
              <a:xfrm>
                <a:off x="4158720" y="3505320"/>
                <a:ext cx="20260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7 dB</a:t>
                </a:r>
                <a:endParaRPr b="0" lang="en-US" sz="1600" spc="-1" strike="noStrike">
                  <a:solidFill>
                    <a:srgbClr val="000000"/>
                  </a:solidFill>
                  <a:latin typeface="Times New Roman"/>
                </a:endParaRPr>
              </a:p>
            </p:txBody>
          </p:sp>
          <p:sp>
            <p:nvSpPr>
              <p:cNvPr id="87" name=""/>
              <p:cNvSpPr/>
              <p:nvPr/>
            </p:nvSpPr>
            <p:spPr>
              <a:xfrm>
                <a:off x="4056120" y="3505320"/>
                <a:ext cx="2231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6288120" y="3505320"/>
              <a:ext cx="2229840" cy="609480"/>
              <a:chOff x="6288120" y="3505320"/>
              <a:chExt cx="2229840" cy="609480"/>
            </a:xfrm>
          </p:grpSpPr>
          <p:sp>
            <p:nvSpPr>
              <p:cNvPr id="89" name=""/>
              <p:cNvSpPr/>
              <p:nvPr/>
            </p:nvSpPr>
            <p:spPr>
              <a:xfrm>
                <a:off x="6390720" y="3505320"/>
                <a:ext cx="2025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23  dB</a:t>
                </a:r>
                <a:endParaRPr b="0" lang="en-US" sz="1600" spc="-1" strike="noStrike">
                  <a:solidFill>
                    <a:srgbClr val="000000"/>
                  </a:solidFill>
                  <a:latin typeface="Times New Roman"/>
                </a:endParaRPr>
              </a:p>
            </p:txBody>
          </p:sp>
          <p:sp>
            <p:nvSpPr>
              <p:cNvPr id="90" name=""/>
              <p:cNvSpPr/>
              <p:nvPr/>
            </p:nvSpPr>
            <p:spPr>
              <a:xfrm>
                <a:off x="6288120" y="3505320"/>
                <a:ext cx="22298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09480" y="4114800"/>
              <a:ext cx="1652400" cy="609480"/>
              <a:chOff x="609480" y="4114800"/>
              <a:chExt cx="1652400" cy="609480"/>
            </a:xfrm>
          </p:grpSpPr>
          <p:sp>
            <p:nvSpPr>
              <p:cNvPr id="92" name=""/>
              <p:cNvSpPr/>
              <p:nvPr/>
            </p:nvSpPr>
            <p:spPr>
              <a:xfrm>
                <a:off x="712080" y="4114800"/>
                <a:ext cx="144684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09480" y="4114800"/>
                <a:ext cx="1652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262240" y="4114800"/>
              <a:ext cx="1793520" cy="609480"/>
              <a:chOff x="2262240" y="4114800"/>
              <a:chExt cx="1793520" cy="609480"/>
            </a:xfrm>
          </p:grpSpPr>
          <p:sp>
            <p:nvSpPr>
              <p:cNvPr id="95" name=""/>
              <p:cNvSpPr/>
              <p:nvPr/>
            </p:nvSpPr>
            <p:spPr>
              <a:xfrm>
                <a:off x="2364840" y="4114800"/>
                <a:ext cx="15886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 dBm</a:t>
                </a:r>
                <a:endParaRPr b="0" lang="en-US" sz="1600" spc="-1" strike="noStrike">
                  <a:solidFill>
                    <a:srgbClr val="000000"/>
                  </a:solidFill>
                  <a:latin typeface="Times New Roman"/>
                </a:endParaRPr>
              </a:p>
            </p:txBody>
          </p:sp>
          <p:sp>
            <p:nvSpPr>
              <p:cNvPr id="96" name=""/>
              <p:cNvSpPr/>
              <p:nvPr/>
            </p:nvSpPr>
            <p:spPr>
              <a:xfrm>
                <a:off x="2262240" y="4114800"/>
                <a:ext cx="1793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056120" y="4114800"/>
              <a:ext cx="2231640" cy="609480"/>
              <a:chOff x="4056120" y="4114800"/>
              <a:chExt cx="2231640" cy="609480"/>
            </a:xfrm>
          </p:grpSpPr>
          <p:sp>
            <p:nvSpPr>
              <p:cNvPr id="98" name=""/>
              <p:cNvSpPr/>
              <p:nvPr/>
            </p:nvSpPr>
            <p:spPr>
              <a:xfrm>
                <a:off x="4158720" y="4114800"/>
                <a:ext cx="20260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dB</a:t>
                </a:r>
                <a:endParaRPr b="0" lang="en-US" sz="1600" spc="-1" strike="noStrike">
                  <a:solidFill>
                    <a:srgbClr val="000000"/>
                  </a:solidFill>
                  <a:latin typeface="Times New Roman"/>
                </a:endParaRPr>
              </a:p>
            </p:txBody>
          </p:sp>
          <p:sp>
            <p:nvSpPr>
              <p:cNvPr id="99" name=""/>
              <p:cNvSpPr/>
              <p:nvPr/>
            </p:nvSpPr>
            <p:spPr>
              <a:xfrm>
                <a:off x="4056120" y="4114800"/>
                <a:ext cx="2231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288120" y="4114800"/>
              <a:ext cx="2229840" cy="609480"/>
              <a:chOff x="6288120" y="4114800"/>
              <a:chExt cx="2229840" cy="609480"/>
            </a:xfrm>
          </p:grpSpPr>
          <p:sp>
            <p:nvSpPr>
              <p:cNvPr id="101" name=""/>
              <p:cNvSpPr/>
              <p:nvPr/>
            </p:nvSpPr>
            <p:spPr>
              <a:xfrm>
                <a:off x="6390720" y="4114800"/>
                <a:ext cx="2025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dB</a:t>
                </a:r>
                <a:endParaRPr b="0" lang="en-US" sz="1600" spc="-1" strike="noStrike">
                  <a:solidFill>
                    <a:srgbClr val="000000"/>
                  </a:solidFill>
                  <a:latin typeface="Times New Roman"/>
                </a:endParaRPr>
              </a:p>
            </p:txBody>
          </p:sp>
          <p:sp>
            <p:nvSpPr>
              <p:cNvPr id="102" name=""/>
              <p:cNvSpPr/>
              <p:nvPr/>
            </p:nvSpPr>
            <p:spPr>
              <a:xfrm>
                <a:off x="6288120" y="4114800"/>
                <a:ext cx="22298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09480" y="4724280"/>
              <a:ext cx="1652400" cy="609840"/>
              <a:chOff x="609480" y="4724280"/>
              <a:chExt cx="1652400" cy="609840"/>
            </a:xfrm>
          </p:grpSpPr>
          <p:sp>
            <p:nvSpPr>
              <p:cNvPr id="104" name=""/>
              <p:cNvSpPr/>
              <p:nvPr/>
            </p:nvSpPr>
            <p:spPr>
              <a:xfrm>
                <a:off x="712080" y="4724280"/>
                <a:ext cx="144684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609480" y="4724280"/>
                <a:ext cx="1652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262240" y="4724280"/>
              <a:ext cx="1793520" cy="609840"/>
              <a:chOff x="2262240" y="4724280"/>
              <a:chExt cx="1793520" cy="609840"/>
            </a:xfrm>
          </p:grpSpPr>
          <p:sp>
            <p:nvSpPr>
              <p:cNvPr id="107" name=""/>
              <p:cNvSpPr/>
              <p:nvPr/>
            </p:nvSpPr>
            <p:spPr>
              <a:xfrm>
                <a:off x="2364840" y="4724280"/>
                <a:ext cx="15886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 dBm</a:t>
                </a:r>
                <a:endParaRPr b="0" lang="en-US" sz="1600" spc="-1" strike="noStrike">
                  <a:solidFill>
                    <a:srgbClr val="000000"/>
                  </a:solidFill>
                  <a:latin typeface="Times New Roman"/>
                </a:endParaRPr>
              </a:p>
            </p:txBody>
          </p:sp>
          <p:sp>
            <p:nvSpPr>
              <p:cNvPr id="108" name=""/>
              <p:cNvSpPr/>
              <p:nvPr/>
            </p:nvSpPr>
            <p:spPr>
              <a:xfrm>
                <a:off x="2262240" y="4724280"/>
                <a:ext cx="179352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4056120" y="4724280"/>
              <a:ext cx="2231640" cy="609840"/>
              <a:chOff x="4056120" y="4724280"/>
              <a:chExt cx="2231640" cy="609840"/>
            </a:xfrm>
          </p:grpSpPr>
          <p:sp>
            <p:nvSpPr>
              <p:cNvPr id="110" name=""/>
              <p:cNvSpPr/>
              <p:nvPr/>
            </p:nvSpPr>
            <p:spPr>
              <a:xfrm>
                <a:off x="4158720" y="4724280"/>
                <a:ext cx="20260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dB</a:t>
                </a:r>
                <a:endParaRPr b="0" lang="en-US" sz="1600" spc="-1" strike="noStrike">
                  <a:solidFill>
                    <a:srgbClr val="000000"/>
                  </a:solidFill>
                  <a:latin typeface="Times New Roman"/>
                </a:endParaRPr>
              </a:p>
            </p:txBody>
          </p:sp>
          <p:sp>
            <p:nvSpPr>
              <p:cNvPr id="111" name=""/>
              <p:cNvSpPr/>
              <p:nvPr/>
            </p:nvSpPr>
            <p:spPr>
              <a:xfrm>
                <a:off x="4056120" y="4724280"/>
                <a:ext cx="22316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288120" y="4724280"/>
              <a:ext cx="2229840" cy="609840"/>
              <a:chOff x="6288120" y="4724280"/>
              <a:chExt cx="2229840" cy="609840"/>
            </a:xfrm>
          </p:grpSpPr>
          <p:sp>
            <p:nvSpPr>
              <p:cNvPr id="113" name=""/>
              <p:cNvSpPr/>
              <p:nvPr/>
            </p:nvSpPr>
            <p:spPr>
              <a:xfrm>
                <a:off x="6390720" y="4724280"/>
                <a:ext cx="2025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 dB</a:t>
                </a:r>
                <a:endParaRPr b="0" lang="en-US" sz="1600" spc="-1" strike="noStrike">
                  <a:solidFill>
                    <a:srgbClr val="000000"/>
                  </a:solidFill>
                  <a:latin typeface="Times New Roman"/>
                </a:endParaRPr>
              </a:p>
            </p:txBody>
          </p:sp>
          <p:sp>
            <p:nvSpPr>
              <p:cNvPr id="114" name=""/>
              <p:cNvSpPr/>
              <p:nvPr/>
            </p:nvSpPr>
            <p:spPr>
              <a:xfrm>
                <a:off x="6288120" y="4724280"/>
                <a:ext cx="22298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609480" y="5334120"/>
              <a:ext cx="1652400" cy="609480"/>
              <a:chOff x="609480" y="5334120"/>
              <a:chExt cx="1652400" cy="609480"/>
            </a:xfrm>
          </p:grpSpPr>
          <p:sp>
            <p:nvSpPr>
              <p:cNvPr id="116" name=""/>
              <p:cNvSpPr/>
              <p:nvPr/>
            </p:nvSpPr>
            <p:spPr>
              <a:xfrm>
                <a:off x="712080" y="5334120"/>
                <a:ext cx="144684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609480" y="5334120"/>
                <a:ext cx="1652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262240" y="5334120"/>
              <a:ext cx="1793520" cy="609480"/>
              <a:chOff x="2262240" y="5334120"/>
              <a:chExt cx="1793520" cy="609480"/>
            </a:xfrm>
          </p:grpSpPr>
          <p:sp>
            <p:nvSpPr>
              <p:cNvPr id="119" name=""/>
              <p:cNvSpPr/>
              <p:nvPr/>
            </p:nvSpPr>
            <p:spPr>
              <a:xfrm>
                <a:off x="2364840" y="5334120"/>
                <a:ext cx="15886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8 dBm</a:t>
                </a:r>
                <a:endParaRPr b="0" lang="en-US" sz="1600" spc="-1" strike="noStrike">
                  <a:solidFill>
                    <a:srgbClr val="000000"/>
                  </a:solidFill>
                  <a:latin typeface="Times New Roman"/>
                </a:endParaRPr>
              </a:p>
            </p:txBody>
          </p:sp>
          <p:sp>
            <p:nvSpPr>
              <p:cNvPr id="120" name=""/>
              <p:cNvSpPr/>
              <p:nvPr/>
            </p:nvSpPr>
            <p:spPr>
              <a:xfrm>
                <a:off x="2262240" y="5334120"/>
                <a:ext cx="1793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056120" y="5334120"/>
              <a:ext cx="2231640" cy="609480"/>
              <a:chOff x="4056120" y="5334120"/>
              <a:chExt cx="2231640" cy="609480"/>
            </a:xfrm>
          </p:grpSpPr>
          <p:sp>
            <p:nvSpPr>
              <p:cNvPr id="122" name=""/>
              <p:cNvSpPr/>
              <p:nvPr/>
            </p:nvSpPr>
            <p:spPr>
              <a:xfrm>
                <a:off x="4158720" y="5334120"/>
                <a:ext cx="20260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 dB</a:t>
                </a:r>
                <a:endParaRPr b="0" lang="en-US" sz="1600" spc="-1" strike="noStrike">
                  <a:solidFill>
                    <a:srgbClr val="000000"/>
                  </a:solidFill>
                  <a:latin typeface="Times New Roman"/>
                </a:endParaRPr>
              </a:p>
            </p:txBody>
          </p:sp>
          <p:sp>
            <p:nvSpPr>
              <p:cNvPr id="123" name=""/>
              <p:cNvSpPr/>
              <p:nvPr/>
            </p:nvSpPr>
            <p:spPr>
              <a:xfrm>
                <a:off x="4056120" y="5334120"/>
                <a:ext cx="2231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288120" y="5334120"/>
              <a:ext cx="2229840" cy="609480"/>
              <a:chOff x="6288120" y="5334120"/>
              <a:chExt cx="2229840" cy="609480"/>
            </a:xfrm>
          </p:grpSpPr>
          <p:sp>
            <p:nvSpPr>
              <p:cNvPr id="125" name=""/>
              <p:cNvSpPr/>
              <p:nvPr/>
            </p:nvSpPr>
            <p:spPr>
              <a:xfrm>
                <a:off x="6390720" y="5334120"/>
                <a:ext cx="2025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 dB</a:t>
                </a:r>
                <a:endParaRPr b="0" lang="en-US" sz="1600" spc="-1" strike="noStrike">
                  <a:solidFill>
                    <a:srgbClr val="000000"/>
                  </a:solidFill>
                  <a:latin typeface="Times New Roman"/>
                </a:endParaRPr>
              </a:p>
            </p:txBody>
          </p:sp>
          <p:sp>
            <p:nvSpPr>
              <p:cNvPr id="126" name=""/>
              <p:cNvSpPr/>
              <p:nvPr/>
            </p:nvSpPr>
            <p:spPr>
              <a:xfrm>
                <a:off x="6288120" y="5334120"/>
                <a:ext cx="22298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09480" y="2895480"/>
              <a:ext cx="1652400" cy="609480"/>
              <a:chOff x="609480" y="2895480"/>
              <a:chExt cx="1652400" cy="609480"/>
            </a:xfrm>
          </p:grpSpPr>
          <p:sp>
            <p:nvSpPr>
              <p:cNvPr id="128" name=""/>
              <p:cNvSpPr/>
              <p:nvPr/>
            </p:nvSpPr>
            <p:spPr>
              <a:xfrm>
                <a:off x="712080" y="2895480"/>
                <a:ext cx="144684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609480" y="2895480"/>
                <a:ext cx="1652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262240" y="2895480"/>
              <a:ext cx="1793520" cy="609480"/>
              <a:chOff x="2262240" y="2895480"/>
              <a:chExt cx="1793520" cy="609480"/>
            </a:xfrm>
          </p:grpSpPr>
          <p:sp>
            <p:nvSpPr>
              <p:cNvPr id="131" name=""/>
              <p:cNvSpPr/>
              <p:nvPr/>
            </p:nvSpPr>
            <p:spPr>
              <a:xfrm>
                <a:off x="2364840" y="2895480"/>
                <a:ext cx="15886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78 dBm</a:t>
                </a:r>
                <a:endParaRPr b="0" lang="en-US" sz="1600" spc="-1" strike="noStrike">
                  <a:solidFill>
                    <a:srgbClr val="000000"/>
                  </a:solidFill>
                  <a:latin typeface="Times New Roman"/>
                </a:endParaRPr>
              </a:p>
            </p:txBody>
          </p:sp>
          <p:sp>
            <p:nvSpPr>
              <p:cNvPr id="132" name=""/>
              <p:cNvSpPr/>
              <p:nvPr/>
            </p:nvSpPr>
            <p:spPr>
              <a:xfrm>
                <a:off x="2262240" y="2895480"/>
                <a:ext cx="1793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056120" y="2895480"/>
              <a:ext cx="2231640" cy="609480"/>
              <a:chOff x="4056120" y="2895480"/>
              <a:chExt cx="2231640" cy="609480"/>
            </a:xfrm>
          </p:grpSpPr>
          <p:sp>
            <p:nvSpPr>
              <p:cNvPr id="134" name=""/>
              <p:cNvSpPr/>
              <p:nvPr/>
            </p:nvSpPr>
            <p:spPr>
              <a:xfrm>
                <a:off x="4158720" y="2895480"/>
                <a:ext cx="20260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10 dB</a:t>
                </a:r>
                <a:endParaRPr b="0" lang="en-US" sz="1600" spc="-1" strike="noStrike">
                  <a:solidFill>
                    <a:srgbClr val="000000"/>
                  </a:solidFill>
                  <a:latin typeface="Times New Roman"/>
                </a:endParaRPr>
              </a:p>
            </p:txBody>
          </p:sp>
          <p:sp>
            <p:nvSpPr>
              <p:cNvPr id="135" name=""/>
              <p:cNvSpPr/>
              <p:nvPr/>
            </p:nvSpPr>
            <p:spPr>
              <a:xfrm>
                <a:off x="4056120" y="2895480"/>
                <a:ext cx="2231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6288120" y="2895480"/>
              <a:ext cx="2229840" cy="609480"/>
              <a:chOff x="6288120" y="2895480"/>
              <a:chExt cx="2229840" cy="609480"/>
            </a:xfrm>
          </p:grpSpPr>
          <p:sp>
            <p:nvSpPr>
              <p:cNvPr id="137" name=""/>
              <p:cNvSpPr/>
              <p:nvPr/>
            </p:nvSpPr>
            <p:spPr>
              <a:xfrm>
                <a:off x="6390720" y="2895480"/>
                <a:ext cx="2025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26  dB</a:t>
                </a:r>
                <a:endParaRPr b="0" lang="en-US" sz="1600" spc="-1" strike="noStrike">
                  <a:solidFill>
                    <a:srgbClr val="000000"/>
                  </a:solidFill>
                  <a:latin typeface="Times New Roman"/>
                </a:endParaRPr>
              </a:p>
            </p:txBody>
          </p:sp>
          <p:sp>
            <p:nvSpPr>
              <p:cNvPr id="138" name=""/>
              <p:cNvSpPr/>
              <p:nvPr/>
            </p:nvSpPr>
            <p:spPr>
              <a:xfrm>
                <a:off x="6288120" y="2895480"/>
                <a:ext cx="22298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64280" y="6043680"/>
            <a:ext cx="2531880" cy="3668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hanged or new nu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15B74EA-3D1C-4631-A5B4-303DAFDE449D}"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Whitener Seed Initialization</a:t>
            </a:r>
            <a:endParaRPr b="0" lang="en-US" sz="3600" spc="-1" strike="noStrike">
              <a:solidFill>
                <a:srgbClr val="000000"/>
              </a:solidFill>
              <a:latin typeface="Arial"/>
            </a:endParaRPr>
          </a:p>
        </p:txBody>
      </p:sp>
      <p:sp>
        <p:nvSpPr>
          <p:cNvPr id="141"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itialization vector is determined from the seed identifier contained in the PHY header of the received pack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15 bit seed value chosen shall correspond to the seed identifier,11.4.4,as shown in Table 105.  The seed identifier value is set to when the PHY is initialized and is incremented in a 2-bit rollover counter for each packet that is sent by the PHY.  The value of the seed identifier that is used for the packet is sent in the PHY header, 11.4.4.</a:t>
            </a:r>
            <a:endParaRPr b="0" lang="en-US" sz="2000" spc="-1" strike="noStrike">
              <a:solidFill>
                <a:srgbClr val="000000"/>
              </a:solidFill>
              <a:latin typeface="Times New Roman"/>
            </a:endParaRPr>
          </a:p>
        </p:txBody>
      </p:sp>
      <p:graphicFrame>
        <p:nvGraphicFramePr>
          <p:cNvPr id="142" name=""/>
          <p:cNvGraphicFramePr/>
          <p:nvPr/>
        </p:nvGraphicFramePr>
        <p:xfrm>
          <a:off x="2057400" y="4572000"/>
          <a:ext cx="4846680" cy="1790640"/>
        </p:xfrm>
        <a:graphic>
          <a:graphicData uri="http://schemas.openxmlformats.org/drawingml/2006/table">
            <a:tbl>
              <a:tblPr/>
              <a:tblGrid>
                <a:gridCol w="2154240"/>
                <a:gridCol w="2692440"/>
              </a:tblGrid>
              <a:tr h="38088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d identifi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d val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2364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1 1111 1111 1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30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1 1111 1111 1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1 1111 1111 1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1 1111 1111 1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22B521-F32E-478E-8F8D-561F055A6E29}"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M modifications</a:t>
            </a:r>
            <a:endParaRPr b="0" lang="en-US" sz="3600" spc="-1" strike="noStrike">
              <a:solidFill>
                <a:srgbClr val="000000"/>
              </a:solidFill>
              <a:latin typeface="Arial"/>
            </a:endParaRPr>
          </a:p>
        </p:txBody>
      </p:sp>
      <p:sp>
        <p:nvSpPr>
          <p:cNvPr id="144"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xed 64-QAM to 2.6% EVM for cost considerations</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2 EVM Calculated Values</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mpliant transmitter shall have EVM values of less than those given in Table 11 for all of the modulation levels supported by the PHY when measured for 1000 symbols.  </a:t>
            </a:r>
            <a:r>
              <a:rPr b="0" lang="en-US" sz="2400" spc="-1" strike="noStrike">
                <a:solidFill>
                  <a:srgbClr val="3333cc"/>
                </a:solidFill>
                <a:latin typeface="Times New Roman"/>
              </a:rPr>
              <a:t>The error vector measurement shall be made on baseband I and Q data after recovery through a reference receiver system.  The reference receiver shall perform carrier lock,symbol timing recovery and amplitude adjustment while making the measurements.</a:t>
            </a:r>
            <a:endParaRPr b="0" lang="en-US" sz="2400" spc="-1" strike="noStrike">
              <a:solidFill>
                <a:srgbClr val="000000"/>
              </a:solidFill>
              <a:latin typeface="Times New Roman"/>
            </a:endParaRPr>
          </a:p>
        </p:txBody>
      </p:sp>
      <p:sp>
        <p:nvSpPr>
          <p:cNvPr id="145" name=""/>
          <p:cNvSpPr/>
          <p:nvPr/>
        </p:nvSpPr>
        <p:spPr>
          <a:xfrm>
            <a:off x="1145520" y="6019920"/>
            <a:ext cx="1401120" cy="3668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hanged tex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C16AFF-D400-4509-A406-222302B8F6D3}"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ME/PHY PIB</a:t>
            </a:r>
            <a:endParaRPr b="0" lang="en-US" sz="36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s, need to work with System committ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PHY PIB for RSSI and LQI defin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X max power and TX power step size from T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HY-CC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CCA.start, PHY-CCA.end., P.request and .confirm comma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HY-RXNA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RXEND.request and PHY-RXEND.confir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HY-PWRMGT.request, PHY-PWRMGT.confir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yte parameter to 1 of available leve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236853F-CBC8-47CD-801B-8DD4088C47AF}"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Header/Service Field</a:t>
            </a:r>
            <a:endParaRPr b="0" lang="en-US" sz="3600" spc="-1" strike="noStrike">
              <a:solidFill>
                <a:srgbClr val="000000"/>
              </a:solidFill>
              <a:latin typeface="Arial"/>
            </a:endParaRPr>
          </a:p>
        </p:txBody>
      </p:sp>
      <p:sp>
        <p:nvSpPr>
          <p:cNvPr id="149" name="PlaceHolder 2"/>
          <p:cNvSpPr>
            <a:spLocks noGrp="1"/>
          </p:cNvSpPr>
          <p:nvPr>
            <p:ph/>
          </p:nvPr>
        </p:nvSpPr>
        <p:spPr>
          <a:xfrm>
            <a:off x="685800" y="1676160"/>
            <a:ext cx="7772400" cy="23619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header is 2 bytes with three field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 seed indicator, b0-b1 (see scrambler for mappin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bit rate indicator, b2-b4 (mapping below)</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bit frame length in bytes</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5 is MSB, b15 is LSB</a:t>
            </a:r>
            <a:endParaRPr b="0" lang="en-US" sz="20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4 byte FCS only frame is 0x0000 0000 100</a:t>
            </a:r>
            <a:endParaRPr b="0" lang="en-US" sz="2000" spc="-1" strike="noStrike">
              <a:solidFill>
                <a:srgbClr val="000000"/>
              </a:solidFill>
              <a:latin typeface="Times New Roman"/>
            </a:endParaRPr>
          </a:p>
        </p:txBody>
      </p:sp>
      <p:graphicFrame>
        <p:nvGraphicFramePr>
          <p:cNvPr id="150" name=""/>
          <p:cNvGraphicFramePr/>
          <p:nvPr/>
        </p:nvGraphicFramePr>
        <p:xfrm>
          <a:off x="1752480" y="4191120"/>
          <a:ext cx="5867280" cy="2171520"/>
        </p:xfrm>
        <a:graphic>
          <a:graphicData uri="http://schemas.openxmlformats.org/drawingml/2006/table">
            <a:tbl>
              <a:tblPr/>
              <a:tblGrid>
                <a:gridCol w="2286000"/>
                <a:gridCol w="2209680"/>
                <a:gridCol w="1371600"/>
              </a:tblGrid>
              <a:tr h="38052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2-b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2400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P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P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QAM, TC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QAM, TC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QAM, TC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0708F33-401F-47E4-ABAC-F1B90E9ECB88}"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sible lower rate mode</a:t>
            </a:r>
            <a:endParaRPr b="0" lang="en-US" sz="36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baud uncoded BPSK for 11 Mb/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preamble, PHY header and MAC header stay the sa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r ran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back mode for better link qual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9866862-1BB1-48F5-831A-C4C91AD4252C}"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247+NPRM vs. 15.249</a:t>
            </a:r>
            <a:endParaRPr b="0" lang="en-US" sz="3600" spc="-1" strike="noStrike">
              <a:solidFill>
                <a:srgbClr val="000000"/>
              </a:solidFill>
              <a:latin typeface="Arial"/>
            </a:endParaRPr>
          </a:p>
        </p:txBody>
      </p:sp>
      <p:graphicFrame>
        <p:nvGraphicFramePr>
          <p:cNvPr id="154" name=""/>
          <p:cNvGraphicFramePr/>
          <p:nvPr/>
        </p:nvGraphicFramePr>
        <p:xfrm>
          <a:off x="533520" y="1676520"/>
          <a:ext cx="8229600" cy="4179600"/>
        </p:xfrm>
        <a:graphic>
          <a:graphicData uri="http://schemas.openxmlformats.org/drawingml/2006/table">
            <a:tbl>
              <a:tblPr/>
              <a:tblGrid>
                <a:gridCol w="3047760"/>
                <a:gridCol w="3810240"/>
                <a:gridCol w="1371600"/>
              </a:tblGrid>
              <a:tr h="3808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1368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47+NPRM</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1368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49</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13680">
                      <a:solidFill>
                        <a:srgbClr val="000000"/>
                      </a:solidFill>
                    </a:lnB>
                    <a:noFill/>
                  </a:tcPr>
                </a:tc>
              </a:tr>
              <a:tr h="3664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 Soon Now</a:t>
                      </a:r>
                      <a:r>
                        <a:rPr b="0" lang="en-US" sz="1800" spc="-1" strike="noStrike" baseline="30000">
                          <a:solidFill>
                            <a:srgbClr val="000000"/>
                          </a:solidFill>
                          <a:latin typeface="Times New Roman"/>
                        </a:rPr>
                        <a:t>TM</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um channel separation (with 15 MHz BW)</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Hz</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Hz</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 power</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 mW (+21 dBm, ~ 2 W DC power)</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8 dBm</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ld wide TX power limit</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dBm</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8 dBm</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ease/cost</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ier TX filter, 8 MHz 30 dB point, 16 MHz 40 dBm, less gates, cheaper</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acent channel interference</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depending on PSD</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2720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if NPRM not approved</a:t>
                      </a:r>
                      <a:endParaRPr b="0" lang="en-US" sz="1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to change channel programming only</a:t>
                      </a:r>
                      <a:endParaRPr b="0" lang="en-US" sz="18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a:t>
                      </a:r>
                      <a:endParaRPr b="0" lang="en-US" sz="18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2671920" y="5943600"/>
            <a:ext cx="436680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15.247 with NPR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D792D82-AD75-4C74-A4DA-36BEDB1EEA14}"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mit power control</a:t>
            </a:r>
            <a:endParaRPr b="0" lang="en-US" sz="3600" spc="-1" strike="noStrike">
              <a:solidFill>
                <a:srgbClr val="000000"/>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9 Transmit pow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mpliant transmitter that is capable of transmitting more than 4 dBm shall be capable of reducing its power to less than 4 dBm in monotonic steps no smaller than 3 dB and no larger than 5 dB.  The steps shall form a monotonically decreasing sequence of transmit power levels.  A compliant device shall have its maximum transmit power level and nominal power level step size indicated in its PHY PI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EBB9FC9-7D6B-4B9A-97A7-4480E25FAE9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 rate and differential encoding</a:t>
            </a:r>
            <a:endParaRPr b="0" lang="en-US" sz="36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rate</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1 Base rat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se rate of the 802.15.3 2.4 GHz PHY shall be the 22 Mb/s,uncoded QPSK mod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encod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d0.4 had differential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marginal advantage for non-coherent recei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mall SNR impact on coherent desig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mend keeping differential for QPSK, add for BPSK but not for TCM QAM mod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3AB76AB-4310-4269-9597-48E2D0283A97}"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ximum Receiver Input Level</a:t>
            </a:r>
            <a:endParaRPr b="0" lang="en-US" sz="3600" spc="-1" strike="noStrike">
              <a:solidFill>
                <a:srgbClr val="000000"/>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3 Receiver maximum input lev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eceiver maximum input level is the maximum power level of the incoming signal,in dBm,present at the input of the receiver for which the error rate criterion in 11.6.1 is met.  A compliant receiver shall have a receiver maximum input level of at least -10 dBm for un-coded QPSK modulation.  The receiver maximum input level is not defined for the other modulation forma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54767A-1223-4316-9603-E8A15E08756B}"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CA Definition</a:t>
            </a:r>
            <a:endParaRPr b="0" lang="en-US" sz="3600" spc="-1" strike="noStrike">
              <a:solidFill>
                <a:srgbClr val="000000"/>
              </a:solidFill>
              <a:latin typeface="Arial"/>
            </a:endParaRPr>
          </a:p>
        </p:txBody>
      </p:sp>
      <p:sp>
        <p:nvSpPr>
          <p:cNvPr id="47" name="PlaceHolder 2"/>
          <p:cNvSpPr>
            <a:spLocks noGrp="1"/>
          </p:cNvSpPr>
          <p:nvPr>
            <p:ph/>
          </p:nvPr>
        </p:nvSpPr>
        <p:spPr>
          <a:xfrm>
            <a:off x="457200" y="1676160"/>
            <a:ext cx="8305920" cy="47242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5 Receiver CCA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mpliant receiver provides CCA capability by performing energy detection in the received signal bandwidth.  The receiver CCA shall report a busy medium upon detecting energy above the energy detect (ED) threshold in a 16 symbol window in the current receive channel, 11.2.3.  The 16 symbol interval corresponds to the length of a single CAZAC sequence, 11.4.6, and is approximately 1.45 us based on the 11 Msymbol/s symbol rate.  The ED threshold shall be equal to -7 dBm integrated over a 16 symbol interv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18499B4-204A-499B-B210-09BED32256D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FS and Slot</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6.1 Interframe spac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Times New Roman"/>
              </a:rPr>
              <a:t>A conformant implementation shall support the interframe spacing parameters given in Table 101.</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101 —Interframe spacing parameters</a:t>
            </a:r>
            <a:endParaRPr b="0" lang="en-US" sz="2000" spc="-1" strike="noStrike">
              <a:solidFill>
                <a:srgbClr val="000000"/>
              </a:solidFill>
              <a:latin typeface="Times New Roman"/>
            </a:endParaRPr>
          </a:p>
        </p:txBody>
      </p:sp>
      <p:graphicFrame>
        <p:nvGraphicFramePr>
          <p:cNvPr id="50" name=""/>
          <p:cNvGraphicFramePr/>
          <p:nvPr/>
        </p:nvGraphicFramePr>
        <p:xfrm>
          <a:off x="1143000" y="4191120"/>
          <a:ext cx="7010280" cy="1828800"/>
        </p:xfrm>
        <a:graphic>
          <a:graphicData uri="http://schemas.openxmlformats.org/drawingml/2006/table">
            <a:tbl>
              <a:tblPr/>
              <a:tblGrid>
                <a:gridCol w="3186360"/>
                <a:gridCol w="3823920"/>
              </a:tblGrid>
              <a:tr h="61488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3 MAC parameter</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sponding PHY parameter</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990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S</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XTXTurnaround</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1488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ADetectTime</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72A7822-0396-46B3-B79A-765B0FB60552}"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SSI</a:t>
            </a:r>
            <a:endParaRPr b="0" lang="en-US" sz="3600" spc="-1" strike="noStrike">
              <a:solidFill>
                <a:srgbClr val="000000"/>
              </a:solidFill>
              <a:latin typeface="Arial"/>
            </a:endParaRPr>
          </a:p>
        </p:txBody>
      </p:sp>
      <p:sp>
        <p:nvSpPr>
          <p:cNvPr id="5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6 Receiver RSS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SSI is defined as the power relative to the maximum receiver input power level, 11.6.3, in 8 steps of 8 dB with +/-4 dB accuracy for each step.  The range covered shall be a minimum of 40 dB.  The steps shall be monotonic.  This number shall be reported to the SME and MLME via the PHY-RXSTART.indication, 6.8.4.1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D5DAF3-97BF-4539-B7B7-6C8E9100782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QI – Link Quality Indication</a:t>
            </a:r>
            <a:endParaRPr b="0" lang="en-US" sz="3600" spc="-1" strike="noStrike">
              <a:solidFill>
                <a:srgbClr val="000000"/>
              </a:solidFill>
              <a:latin typeface="Arial"/>
            </a:endParaRPr>
          </a:p>
        </p:txBody>
      </p:sp>
      <p:sp>
        <p:nvSpPr>
          <p:cNvPr id="54"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7 Link quality indic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ink quality indication (LQI)shall be reported for the TCM coded QAM modes using an SNR estimation.  The SNR shall be measured at the decision point in the receiver.  The receiver shall report the SNR as a 5 bit number that covers a range of 12 dB to 27.5 dB of SNR.  The value x00000 shall correspond to less than or equal to 12 dB SNR and 0x11111 shall correspond to more than or equal to 27.5 dB SNR with equal steps in between.  This number shall be reported to the SME and MLME via the PHY-RXSTART.indication, 6.8.4.1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862695-0B47-4B03-AD80-25373F00056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der Coding</a:t>
            </a:r>
            <a:endParaRPr b="0" lang="en-US" sz="3600" spc="-1" strike="noStrike">
              <a:solidFill>
                <a:srgbClr val="000000"/>
              </a:solidFill>
              <a:latin typeface="Arial"/>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al is to have probability of header error &lt;&lt; probability of frame err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2 Header modul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HY service field, MAC header and HCS shall be modulated using QPSK modulation.  Since the header is usually much shorter than the frame body, it is more probable to correctly receive the header than the frame body, even without FEC for the header.  This is true as well for a BPSK frame body that is longer than ?? by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E6BFA42-4FEC-43F0-993E-23961841D9D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PSK vs. OQPSK</a:t>
            </a:r>
            <a:endParaRPr b="0" lang="en-US" sz="3600" spc="-1" strike="noStrike">
              <a:solidFill>
                <a:srgbClr val="000000"/>
              </a:solidFill>
              <a:latin typeface="Arial"/>
            </a:endParaRPr>
          </a:p>
        </p:txBody>
      </p:sp>
      <p:graphicFrame>
        <p:nvGraphicFramePr>
          <p:cNvPr id="58" name=""/>
          <p:cNvGraphicFramePr/>
          <p:nvPr/>
        </p:nvGraphicFramePr>
        <p:xfrm>
          <a:off x="685800" y="1828800"/>
          <a:ext cx="7848720" cy="2851200"/>
        </p:xfrm>
        <a:graphic>
          <a:graphicData uri="http://schemas.openxmlformats.org/drawingml/2006/table">
            <a:tbl>
              <a:tblPr/>
              <a:tblGrid>
                <a:gridCol w="2154240"/>
                <a:gridCol w="2692440"/>
                <a:gridCol w="3002040"/>
              </a:tblGrid>
              <a:tr h="51264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PS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QPS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264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Backof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0.5 d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228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linear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string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string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 limiting in receiv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olera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olera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ession to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difficult, requires additional ga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E77A4F4-3001-4FDD-B579-850304B7973B}"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PSK vs. OQPSK (cont.)</a:t>
            </a:r>
            <a:endParaRPr b="0" lang="en-US" sz="3600" spc="-1" strike="noStrike">
              <a:solidFill>
                <a:srgbClr val="000000"/>
              </a:solidFill>
              <a:latin typeface="Arial"/>
            </a:endParaRPr>
          </a:p>
        </p:txBody>
      </p:sp>
      <p:graphicFrame>
        <p:nvGraphicFramePr>
          <p:cNvPr id="60" name=""/>
          <p:cNvGraphicFramePr/>
          <p:nvPr/>
        </p:nvGraphicFramePr>
        <p:xfrm>
          <a:off x="685800" y="1676520"/>
          <a:ext cx="7848720" cy="3695760"/>
        </p:xfrm>
        <a:graphic>
          <a:graphicData uri="http://schemas.openxmlformats.org/drawingml/2006/table">
            <a:tbl>
              <a:tblPr/>
              <a:tblGrid>
                <a:gridCol w="2154240"/>
                <a:gridCol w="2692440"/>
                <a:gridCol w="3002040"/>
              </a:tblGrid>
              <a:tr h="50508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PS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QPS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700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CAZA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quire different synchroniz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684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iz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set of I and Q makes it very different from QAM and therefore more comple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6840">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implement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for digital implement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for digital implementation, has some advantage in non-coherent implement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
          <p:cNvSpPr/>
          <p:nvPr/>
        </p:nvSpPr>
        <p:spPr>
          <a:xfrm>
            <a:off x="1518480" y="5638680"/>
            <a:ext cx="6159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committee recommends changing to QPS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1E00884-62ED-4453-A49C-5C308D0873A8}"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mbol Clock Synchronization</a:t>
            </a:r>
            <a:endParaRPr b="0" lang="en-US" sz="3600" spc="-1" strike="noStrike">
              <a:solidFill>
                <a:srgbClr val="000000"/>
              </a:solidFill>
              <a:latin typeface="Arial"/>
            </a:endParaRPr>
          </a:p>
        </p:txBody>
      </p:sp>
      <p:sp>
        <p:nvSpPr>
          <p:cNvPr id="63"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6 Clock synchroniz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ransmit center frequency and the symbol rate shall be derived from the same reference oscillat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4858185-CBAC-4DB9-BD26-431FA777F39E}"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ames P. K. Gilb</cp:lastModifiedBy>
  <cp:lastPrinted>1998-02-10T13:28:06Z</cp:lastPrinted>
  <dcterms:modified xsi:type="dcterms:W3CDTF">2001-07-10T04:26:26Z</dcterms:modified>
  <cp:revision>181</cp:revision>
  <dc:subject>IEEE 802.15 PHY Committee Monterey Report</dc:subject>
  <dc:title>No Slide Title</dc:title>
</cp:coreProperties>
</file>