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D8BD1-1473-4995-89A2-272260FB1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59D3B-7317-4300-9760-378AB8039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67C30-DB96-4F95-B21C-93FBF950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4541D-FAF0-41EE-9AD4-6A57ACA9B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9CD3-98E8-4E0D-84CB-8CF47F91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D7BA-EACC-4675-8CBF-0C141595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8545-6B95-4A81-A871-6EFE6AA1E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591BD-E0F9-40F7-9478-4FF3D049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08A72-CE55-4F4A-9A29-FF004551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FAB2-6E4C-492E-B3EE-44905A29D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2270-34EB-44A1-90D2-82ADCD82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80D4-2030-46AB-A612-180434DCF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395FE6-513D-42A7-9F1D-F0CDE67AD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6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PAN Sponsor Ballot Request Presenta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Bluetooth SIG,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m/s 365, 1802 Pleasant Valley Drive, Suite 100, Garland, TX 7504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2 496 0766</a:t>
            </a:r>
            <a:r>
              <a:rPr b="0" lang="en-US" sz="1600" spc="-1" strike="noStrike">
                <a:solidFill>
                  <a:srgbClr val="000000"/>
                </a:solidFill>
                <a:latin typeface="Times New Roman"/>
              </a:rPr>
              <a:t>], FAX: [], E-Mail:[</a:t>
            </a:r>
            <a:r>
              <a:rPr b="0" lang="en-US" sz="1600" spc="-1" strike="noStrike">
                <a:solidFill>
                  <a:srgbClr val="ff0000"/>
                </a:solidFill>
                <a:latin typeface="Times New Roman"/>
              </a:rPr>
              <a:t>tom.siep@home.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of Ballot Results for Letter Ballot Draft to SE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EC requested to approve forwarding 802.15.1 D0.9.2 to Sponsor Ballo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m Siep, Bluetooth SIG, Inc.</a:t>
            </a:r>
          </a:p>
        </p:txBody>
      </p:sp>
      <p:sp>
        <p:nvSpPr>
          <p:cNvPr id="3" name="PlaceHolder 2"/>
          <p:cNvSpPr>
            <a:spLocks noGrp="1"/>
          </p:cNvSpPr>
          <p:nvPr>
            <p:ph type="sldNum" idx="3"/>
          </p:nvPr>
        </p:nvSpPr>
        <p:spPr/>
        <p:txBody>
          <a:bodyPr/>
          <a:p>
            <a:fld id="{D8151CC4-695A-43CA-80D0-C08C7D4E6497}"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15.1</a:t>
            </a:r>
            <a:br>
              <a:rPr sz="3200"/>
            </a:br>
            <a:r>
              <a:rPr b="1" lang="en-US" sz="3200" spc="-1" strike="noStrike">
                <a:solidFill>
                  <a:srgbClr val="000000"/>
                </a:solidFill>
                <a:latin typeface="Times New Roman"/>
              </a:rPr>
              <a:t>Wireless Personal Area Networks: </a:t>
            </a:r>
            <a:br>
              <a:rPr sz="3200"/>
            </a:br>
            <a:r>
              <a:rPr b="1" lang="en-US" sz="3200" spc="-1" strike="noStrike" u="sng">
                <a:solidFill>
                  <a:srgbClr val="000000"/>
                </a:solidFill>
                <a:uFillTx/>
                <a:latin typeface="Times New Roman"/>
              </a:rPr>
              <a:t>Sponsor Ballot Request</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371600" y="44197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SIG, In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Bluetooth SIG, Inc.</a:t>
            </a:r>
          </a:p>
        </p:txBody>
      </p:sp>
      <p:sp>
        <p:nvSpPr>
          <p:cNvPr id="5" name="PlaceHolder 4"/>
          <p:cNvSpPr>
            <a:spLocks noGrp="1"/>
          </p:cNvSpPr>
          <p:nvPr>
            <p:ph type="sldNum" idx="3"/>
          </p:nvPr>
        </p:nvSpPr>
        <p:spPr/>
        <p:txBody>
          <a:bodyPr/>
          <a:p>
            <a:fld id="{CBFAD928-EC66-4AE2-8880-E661ABEFD1A9}"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15.1 Status</a:t>
            </a:r>
            <a:br>
              <a:rPr sz="3200"/>
            </a:br>
            <a:r>
              <a:rPr b="1" lang="en-US" sz="2800" spc="-1" strike="noStrike">
                <a:solidFill>
                  <a:srgbClr val="000000"/>
                </a:solidFill>
                <a:latin typeface="Times New Roman"/>
              </a:rPr>
              <a:t>(Wireless Personal Area Networks)</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from LB10 was put forward to the SEC for Sponsor Ballot, but was withdrawn due to issues raised by Bob O’Ha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for LB11was created by taking into account comments from Bob O’Hara, WG, and Bluetooth SI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11 recirculated with previous “no vote” information (and WG response) for approval by the W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Resul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5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pprove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 1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Bluetooth SIG, Inc.</a:t>
            </a:r>
          </a:p>
        </p:txBody>
      </p:sp>
      <p:sp>
        <p:nvSpPr>
          <p:cNvPr id="5" name="PlaceHolder 4"/>
          <p:cNvSpPr>
            <a:spLocks noGrp="1"/>
          </p:cNvSpPr>
          <p:nvPr>
            <p:ph type="sldNum" idx="3"/>
          </p:nvPr>
        </p:nvSpPr>
        <p:spPr/>
        <p:txBody>
          <a:bodyPr/>
          <a:p>
            <a:fld id="{261A7EB5-D64E-4430-AC90-C59574969A55}"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ation of LB11 Comments</a:t>
            </a:r>
            <a:br>
              <a:rPr sz="3200"/>
            </a:br>
            <a:r>
              <a:rPr b="0" lang="en-US" sz="2800" spc="-1" strike="noStrike">
                <a:solidFill>
                  <a:srgbClr val="000000"/>
                </a:solidFill>
                <a:latin typeface="Times New Roman"/>
              </a:rPr>
              <a:t>(single dissenting voter)</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llot Resolution Committee considered all comments lodged against the dra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were editorial and would not prevent the proper implementation of interoperable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were technical but have been considered and declined bef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lines were re-considered and previous decisions were confirm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no new never-before-seen technical comme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nges made to Draft from LB11 based on this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Bluetooth SIG, Inc.</a:t>
            </a:r>
          </a:p>
        </p:txBody>
      </p:sp>
      <p:sp>
        <p:nvSpPr>
          <p:cNvPr id="5" name="PlaceHolder 4"/>
          <p:cNvSpPr>
            <a:spLocks noGrp="1"/>
          </p:cNvSpPr>
          <p:nvPr>
            <p:ph type="sldNum" idx="3"/>
          </p:nvPr>
        </p:nvSpPr>
        <p:spPr/>
        <p:txBody>
          <a:bodyPr/>
          <a:p>
            <a:fld id="{BF51C597-B78D-4FAB-88C0-A99A4408397E}"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761760"/>
            <a:ext cx="7772400" cy="56386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MOTION:  The Working Group instructs the Chair of 802.15 to submit Draft D0.9.2 to the SEC for review to forward the Draft to Sponsor Ball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Tom Si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Michael Cam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2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ainst: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bstain: 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ll comments from LB10 that were declined and not withdrawn will be forwarded with the draft in document </a:t>
            </a:r>
            <a:br>
              <a:rPr sz="1600"/>
            </a:br>
            <a:r>
              <a:rPr b="0" lang="en-US" sz="2000" spc="-1" strike="noStrike">
                <a:solidFill>
                  <a:srgbClr val="000000"/>
                </a:solidFill>
                <a:latin typeface="Arial"/>
              </a:rPr>
              <a:t>01310r4aP802-15_WG-LB11-Comment-Form.pd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 Motion: Forward Draft 802.15.1 D0.9.2 to sponsor ball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gain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bstai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Tom Siep, Bluetooth SIG, Inc.</a:t>
            </a:r>
          </a:p>
        </p:txBody>
      </p:sp>
      <p:sp>
        <p:nvSpPr>
          <p:cNvPr id="4" name="PlaceHolder 3"/>
          <p:cNvSpPr>
            <a:spLocks noGrp="1"/>
          </p:cNvSpPr>
          <p:nvPr>
            <p:ph type="sldNum" idx="3"/>
          </p:nvPr>
        </p:nvSpPr>
        <p:spPr/>
        <p:txBody>
          <a:bodyPr/>
          <a:p>
            <a:fld id="{E7265494-4557-4D70-8D5A-622A3EE271E2}" type="slidenum">
              <a:t>5</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act on the Bluetooth Specifica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SIG is very pleased with the work 802.15.1 has perform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a:t>
            </a:r>
            <a:r>
              <a:rPr b="0" lang="en-US" sz="3200" spc="-1" strike="noStrike" u="sng">
                <a:solidFill>
                  <a:srgbClr val="000000"/>
                </a:solidFill>
                <a:uFillTx/>
                <a:latin typeface="Arial"/>
              </a:rPr>
              <a:t>300 individual changes</a:t>
            </a:r>
            <a:r>
              <a:rPr b="0" lang="en-US" sz="3200" spc="-1" strike="noStrike">
                <a:solidFill>
                  <a:srgbClr val="000000"/>
                </a:solidFill>
                <a:latin typeface="Arial"/>
              </a:rPr>
              <a:t> were made to the original Bluetooth Specification as a result of 802.15.1 inpu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review process has initiated changes in the way the Bluetooth SIG creates its new specific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Bluetooth SIG, Inc.</a:t>
            </a:r>
          </a:p>
        </p:txBody>
      </p:sp>
      <p:sp>
        <p:nvSpPr>
          <p:cNvPr id="5" name="PlaceHolder 4"/>
          <p:cNvSpPr>
            <a:spLocks noGrp="1"/>
          </p:cNvSpPr>
          <p:nvPr>
            <p:ph type="sldNum" idx="3"/>
          </p:nvPr>
        </p:nvSpPr>
        <p:spPr/>
        <p:txBody>
          <a:bodyPr/>
          <a:p>
            <a:fld id="{AE20925B-A98E-4764-A396-A788A0337C7D}" type="slidenum">
              <a:t>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17:58:19Z</dcterms:created>
  <dc:creator>Tom Siep</dc:creator>
  <dc:description>365r1</dc:description>
  <dc:language>en-US</dc:language>
  <cp:lastModifiedBy>Tom Siep</cp:lastModifiedBy>
  <cp:lastPrinted>2001-07-12T18:43:45Z</cp:lastPrinted>
  <dcterms:modified xsi:type="dcterms:W3CDTF">2001-07-13T22:20:11Z</dcterms:modified>
  <cp:revision>6</cp:revision>
  <dc:subject>IEEE 802.15.1</dc:subject>
  <dc:title>Sponsor Ballot Request</dc:title>
</cp:coreProperties>
</file>