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3D0A-EE89-43EB-A003-54F02C96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4A06-CFA4-4C4A-9C7F-02CD369D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458F-AD2F-4FCD-9438-0ABF9D8E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B93-5B32-4F1D-AF3F-C22CFF58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2D65-EEEF-46B6-9845-4B0BA788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7882-D960-4EEF-B952-EEB2C4C4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E9A9-F667-47DA-A46A-20B90720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4761-6E6F-4E9D-B1BE-542282B9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7173-512A-4D91-B016-4695005B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5FA-FF65-432A-90CB-BEB7F41F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8EE7-1B65-4FC4-96DA-661D6CC5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77F7-3B04-4A7D-B5FC-39832E1C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ne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532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 F. Heile, Consul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18FBF7B-3970-46EF-8FBF-E4A2B1B6C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26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7720" y="350496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5.2 Coexistence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ation to the Bluetooth S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gram Ma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3FAA-80CB-4321-8133-0D4AB266A07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al from IEEE 802.15.2 to the Bluetooth SI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.15.2 is developing an Adaptive Frequency Hopping technique to allow Bluetooth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p a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equency-static systems, like IEEE 802.11b W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uetooth SIG is interested in Adaptive Frequency Hopp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063C-A81A-49AE-9BB4-6BDD7E455F6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al from IEEE 802.15.2 to the Bluetooth SI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EEE would like to avoid having two incompatible Adaptive Frequency Hopping techniques, one defined by the IEEE and one defined by the Bluetooth S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IEEE would like to work with the Bluetooth SIG to agree on a common Adaptive Frequency Hopping techni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2FC3-4883-4B60-8AAC-DD8E8F9EE6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al from IEEE 802.15.2 to the Bluetooth SI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the common technique is agreed upon it woul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ed in IEEE 802.1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included in a future revision of the Bluetooth spec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ould also look into working together on other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ve Coexistence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xistence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ABE3-F02D-4068-B4AD-589EB75D8AC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5.2 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fy the effect of the mutual interference of WLAN (e.g. 802.11) and WPAN (e.g. Bluetooth) upon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existenc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s or techniques to facilitate coexistence of WLAN and WPAN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o be documented in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EEE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0E9-A3C0-46C2-9A6E-95CF2DB9DEF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is Coexistence Mod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quantify the effect of the mutual interference under various scen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 in Laptop and Bluetooth in nearby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 and Bluetooth in the same Lap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monstrate the effectiveness of the adopted Coexistence Mech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F0D9-F1DA-4872-9951-A0518CB262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existence 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st of four sec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 Layer Mod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802.11 and Bluetooth Ra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 Layer Mod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oth 802.11 and Blue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F Channel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Radio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Traffic Mod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traffic over both 802.11 and Bluetooth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DE2B-04D5-44EC-8870-F62F73067C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ssions were given 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2000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2001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d on Selection of Coexistenc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1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2001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9758-2F16-4EB7-9EEC-4AB999E931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form of communication exists between the WLAN and W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is link to provide fair sharing of medium (i.e. air wav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llaborativ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mmunication between WLAN and WPAN exi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s to minimize the effects of the mutual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8418-1CE5-4DB8-A228-19CF8C47CF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Mechanism (Only 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a joint proposal from Mobilian, Symbol Technologies, and N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ily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ordinated Scheduling Mech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used when IEEE 802.11b and Bluetooth are to be co-located in the same unit (e.g. laptop compu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C60C-2CCF-4561-BF73-F234112E4C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llaborative (Multi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luetooth Packet Selection and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luetooth Adaptive Frequency H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EEE 802.11b Data Rate Sc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223-BB7F-413A-9B8D-CAA7CAF2B44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Relationship between IEEE and Bluetooth SI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.15.1 is converting the Bluetooth specification into an IEEE stand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, Chair of IEEE 802.15.2, is a member of the Bluetooth SIG Coexistence Working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 Sizer, Chair of the Bluetooth SIG Coexistence Working Group, gives a liaison report at IEEE 802.15.2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ADD2-9DB9-4C2F-BDB7-41825786A5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Steve Shellhammer</cp:lastModifiedBy>
  <cp:lastPrinted>2000-09-20T20:30:42Z</cp:lastPrinted>
  <dcterms:modified xsi:type="dcterms:W3CDTF">2001-05-31T14:58:02Z</dcterms:modified>
  <cp:revision>355</cp:revision>
  <dc:subject>IEEE 802.15 &lt;subject&gt;</dc:subject>
  <dc:title>IEEE P802.15 Working Group for Wireless Personal Area Networks</dc:title>
</cp:coreProperties>
</file>