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1C9F0-1421-456C-BDED-35CF435D8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C5221-FC1F-40CE-ADA2-BA0EAFA4A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84D8C-1E14-4ED0-AF4F-C787BA7F4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05301-758E-444E-9FA2-AC734EC8C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E61EC-6AAB-42E1-8B6D-2B9E7B920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A0F30-1EE6-46F0-BCD7-BF35E06D6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A91FD-329B-4C47-8388-493AF628A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34060-53F7-4A5C-BCED-DD23BCC09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A29F0-A889-49B1-85CE-B60430546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CD9BE-B98D-4BC2-BC63-F4298E1F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F969E-628B-404F-822F-C8EE8FD00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575E-8BDA-4E11-8FF8-8B37A2FBB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3E22C1-E172-4F89-87DB-8634430CF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9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54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MAC Committee Opening Report and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269-3022, FAX: +1.703.749.0249, E-Mail: aheberling@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  </a:t>
            </a:r>
            <a:r>
              <a:rPr b="0" lang="en-US" sz="1600" spc="-1" strike="noStrike">
                <a:solidFill>
                  <a:srgbClr val="000000"/>
                </a:solidFill>
                <a:latin typeface="Times New Roman"/>
              </a:rPr>
              <a:t>Portland TG3 MAC report and plan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 1) </a:t>
            </a:r>
            <a:r>
              <a:rPr b="0" lang="en-US" sz="1600" spc="-1" strike="noStrike">
                <a:solidFill>
                  <a:srgbClr val="000000"/>
                </a:solidFill>
                <a:latin typeface="Times New Roman"/>
              </a:rPr>
              <a:t>To report to the IEEE 802.15.3 regarding the activities of the IEEE 802.15.3 MAC committee since the Orlando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To inform the IEEE 802.15.3 regarding the activities the TG3 MAC committee has planned for this meeting (Portl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D. Heberling, XtremeSpectrum</a:t>
            </a:r>
          </a:p>
        </p:txBody>
      </p:sp>
      <p:sp>
        <p:nvSpPr>
          <p:cNvPr id="3" name="PlaceHolder 2"/>
          <p:cNvSpPr>
            <a:spLocks noGrp="1"/>
          </p:cNvSpPr>
          <p:nvPr>
            <p:ph type="sldNum" idx="3"/>
          </p:nvPr>
        </p:nvSpPr>
        <p:spPr/>
        <p:txBody>
          <a:bodyPr/>
          <a:p>
            <a:fld id="{BA5C1F86-45A5-4331-ACA3-9FB37F304CD5}"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Draft 0.5 Clauses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Manage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J. Bain is currently developing the Power Management sub-cla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Details of which still need to be review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 Power Contro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J.Bain/R.Roberts are developing text for the Transmit Power Control sub cla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Details of which still need to be review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ame Xch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omplet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FCB9CA6D-EBF1-4E15-AB71-293F38D6BD93}" type="slidenum">
              <a:t>1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Draft 0.5 Clauses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cy and secur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Gregg Rasor is currently developing the Security and Privacy cla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Details of which need to be review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B7A30079-A15C-498A-A021-A178560E5F88}"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Portland</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 evening se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MAC recommendations from ad hoc MAC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Quality of Service (QoS) issues res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9CD97773-BE3B-404E-B6E1-381A96DE2905}" type="slidenum">
              <a:t>1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Portland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esday sess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New Clauses in Draft 0.5</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Clause, G. Ras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 Clause, J.Bain</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Issues Presentation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 01/270rx, 01/271rx, R.Gubb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 01/259r1, B.Shvodia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 01/304, M.Akahan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and Privacy Review &amp; Issues Resolu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4681125E-9E56-4C41-B6E1-4FD8EF8B48F0}"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Portland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sessions:</a:t>
            </a:r>
            <a:endParaRPr b="0" lang="en-US" sz="28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Issues resolution session</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ion of resolved issues into MAC amendments document 01/298r0</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MAC committee Plan for the interval between the Portland Plenary meeting and the interim Bellevue meeting </a:t>
            </a:r>
            <a:endParaRPr b="0" lang="en-US" sz="2400" spc="-1" strike="noStrike">
              <a:solidFill>
                <a:srgbClr val="000000"/>
              </a:solidFill>
              <a:latin typeface="Arial"/>
            </a:endParaRPr>
          </a:p>
          <a:p>
            <a:pPr lvl="1" marL="683280" indent="-2628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 date and location for an ad hoc MAC committee meeting prior to the Bellevue meeting.</a:t>
            </a:r>
            <a:endParaRPr b="0" lang="en-US" sz="2000" spc="-1" strike="noStrike">
              <a:solidFill>
                <a:srgbClr val="000000"/>
              </a:solidFill>
              <a:latin typeface="Arial"/>
            </a:endParaRPr>
          </a:p>
          <a:p>
            <a:pPr lvl="1" marL="683280" indent="-2628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MAC committee tasks for the time leading up to Bellevue meeting</a:t>
            </a:r>
            <a:endParaRPr b="0" lang="en-US" sz="2000" spc="-1" strike="noStrike">
              <a:solidFill>
                <a:srgbClr val="000000"/>
              </a:solidFill>
              <a:latin typeface="Arial"/>
            </a:endParaRPr>
          </a:p>
          <a:p>
            <a:pPr marL="315360" indent="-3153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PHY issues resolu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A55E2121-9EAF-47B1-BC96-C21AAB9A3860}" type="slidenum">
              <a:t>1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Portland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rsday Mo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and Vote on MAC amendmen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rsday Afterno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Portland accomplishments per the MAC committe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MAC committee Activities Plan leading  into the Bellevue, Wa. Interi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0591238D-A1A5-4BFD-B2C0-992AC9E2B8B3}" type="slidenum">
              <a:t>1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going to be a full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committee members have worked hard on their respective cla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avail yourselves of the presentations and discussion se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ward to your participation and com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8A4C2684-52F8-4DAC-AC2C-C5AABDB81787}" type="slidenum">
              <a:t>1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Opening Report and Plan at Portland, July 2001</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E4B4AE4A-CB4D-4756-A183-384123F9EDFE}"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he TG3 MAC committee activities since the Orlando Interim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the various MAC clauses in draft 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planned by the TG3 MAC committee for this we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4A727EFA-9448-4E2E-862D-FDC4DDD19D4A}"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a:t>
            </a:r>
            <a:br>
              <a:rPr sz="3600"/>
            </a:br>
            <a:r>
              <a:rPr b="0" lang="en-US" sz="3600" spc="-1" strike="noStrike">
                <a:solidFill>
                  <a:srgbClr val="000000"/>
                </a:solidFill>
                <a:latin typeface="Times New Roman"/>
              </a:rPr>
              <a:t>Committee Activities Report</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Conference Calls: </a:t>
            </a:r>
            <a:r>
              <a:rPr b="0" lang="en-US" sz="2400" spc="-1" strike="noStrike">
                <a:solidFill>
                  <a:srgbClr val="000000"/>
                </a:solidFill>
                <a:latin typeface="Arial"/>
              </a:rPr>
              <a:t>5/29,6/5,6/12,6/26,7/3  </a:t>
            </a:r>
            <a:r>
              <a:rPr b="0" lang="en-US" sz="3200" spc="-1" strike="noStrike">
                <a:solidFill>
                  <a:srgbClr val="000000"/>
                </a:solidFill>
                <a:latin typeface="Arial"/>
              </a:rPr>
              <a:t>(</a:t>
            </a:r>
            <a:r>
              <a:rPr b="0" lang="en-US" sz="2400" spc="-1" strike="noStrike">
                <a:solidFill>
                  <a:srgbClr val="000000"/>
                </a:solidFill>
                <a:latin typeface="Arial"/>
              </a:rPr>
              <a:t>see doc:01266r1P802.15_TG3-MAC-Committee-running-ConCall-minutes-Orlando-to-Portland.doc</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Progress Reports regarding MAC clause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of issues (</a:t>
            </a:r>
            <a:r>
              <a:rPr b="0" lang="en-US" sz="2000" spc="-1" strike="noStrike">
                <a:solidFill>
                  <a:srgbClr val="000000"/>
                </a:solidFill>
                <a:latin typeface="Arial"/>
              </a:rPr>
              <a:t>see doc:01114r5P802.15_TG3-MAC-Open-Issues-List.xl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for Portland meet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5DBC041C-4793-4ED3-B18D-0545C37CA3A1}"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a:t>
            </a:r>
            <a:br>
              <a:rPr sz="3600"/>
            </a:br>
            <a:r>
              <a:rPr b="0" lang="en-US" sz="3600" spc="-1" strike="noStrike">
                <a:solidFill>
                  <a:srgbClr val="000000"/>
                </a:solidFill>
                <a:latin typeface="Times New Roman"/>
              </a:rPr>
              <a:t>Committee Activities Report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MAC committee meeting held in Tysons Corner, Va. 19-20 June 200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ees: J.Apisdorf, J.Bain, J.Barr, D.Diem, A.Heberling, K.Miller, R.Roberts, M.Schrader, B.Shvodi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addressed ( see doc: 01/114r5)</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85209EEC-4E92-41A7-9FAE-AF5CDAD5C429}"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Draft 0.5  Clause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and general descrip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Still in Flu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This clause is dependent upon completion of the other clauses in the specif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5DBCE52A-C9D1-4657-8690-D8949CFC539A}"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Draft 0.5  Claus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Layer SA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Most Orlando amendments incorporat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doc: 01114r5</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details regarding Stream management commands</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x.y MLME-Channel-Time.req/ind/rsp/confirm</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x.y MLME-CoordHndOvr.req/ind/confirm</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x.y MLME-Repeater.req/ind/confirm</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x.y MLME-ChannelStatus.req/ind/confirm</a:t>
            </a:r>
            <a:endParaRPr b="0" lang="en-US" sz="20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74EEC96F-6B8F-4277-90FF-2DF679E2B4DA}"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Draft 0.5 Clauses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 Forma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Orlando Amendments have been incorporated into D0.5 (see doc: 01/221r2)</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ion of some of the resolved open issues into D0.5 has begu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See doc: 01/114r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35D4F27-FEE1-4A6F-BDDB-9EB4F94FEB2F}"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Draft 0.5 Clauses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functional descrip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of the Orlando Amendments have been incorporated into D0.5 (see doc: 01/221r2)</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ion of some of the resolved open issues into D0.5 has begu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See doc: 01114r5 for detail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 and De-Frag (SAR) Cla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omple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Needs Revie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B89F4BA3-560D-4962-B5C0-7B3756114686}" type="slidenum">
              <a:t>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Allen Heberling</dc:creator>
  <dc:description>IEEE 802.15.3-01/295r0</dc:description>
  <dc:language>en-US</dc:language>
  <cp:lastModifiedBy>Allen Heberling</cp:lastModifiedBy>
  <cp:lastPrinted>1998-02-10T13:28:06Z</cp:lastPrinted>
  <dcterms:modified xsi:type="dcterms:W3CDTF">2001-07-09T16:26:50Z</dcterms:modified>
  <cp:revision>158</cp:revision>
  <dc:subject>IEEE 802.15.3 TG3 MAC Committee Opening Report and Plan</dc:subject>
  <dc:title>TG3 MAC Committee Opening Report and Plan </dc:title>
</cp:coreProperties>
</file>