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C9A-AB06-4807-A29B-08B1E11A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67E-735E-48D9-A538-B312AC8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B03-8110-42FD-BE5A-272CDC3E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7D3-E18C-4589-B1FF-E34E981B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F47-7FEE-403E-A100-B33D664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764-B6B8-441B-81DF-6AD70E8C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1FF-EDCD-4486-B673-ACF3501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2A5-9978-4FA7-BB61-0E6FA83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167-ABC1-465E-BA96-A8E1A1D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810-ACF5-43F9-8AFB-FDCE750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08E-7DDE-4031-BE96-CEE1CC5A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D97-A2AD-493C-B4C2-ED717B9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A80BEC-9AB5-40DE-942D-C74C813E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 S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, Coexistence Working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Labora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7ED-FE45-4F6D-AD41-63B3E03447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Working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so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nd Testing Fin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 Improv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493-A535-47C2-AB43-7AFC2EDDCE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vey and Testing Fin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has been performing a survey of Bluetooth Interfe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Band Frequency Ho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wave Ov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Ph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quantitative testing has been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tools have been written and employed for studying several of the interferers in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the simulations and testing are being documented pres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7E7-6728-4E0D-9D1F-F16E8A9D20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 Interfe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closer study on the effect of Multiple Interferers on Bluetoo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will have a dramatic effect on the magnitude/validity of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on likely scenarios of operations we should consider would be welco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F64-EF5B-4559-B60F-F4F90A66C1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Hopping to Avoid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o interference is detected, hop over the entire frequency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terference is detected at a level which will cause packet errors to Bluetooth, actively avoid these frequency hop lo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currently legal for Class 3 Bluetooth uni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intelligence to avoid interference is legal at all powers, however, the required number of hop locations must be mainta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057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905120"/>
            <a:ext cx="9907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133720"/>
            <a:ext cx="54864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362320"/>
            <a:ext cx="342900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362320"/>
            <a:ext cx="10666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484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4 GHz ISM B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82484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ive Ho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B51-321F-431F-9FD9-6793122E3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Frequency 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 has issued an NPRM which would allow Adaptive Frequency Hopping (among other changes in th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AFH shows the greatest promise in improving coexistence issues with frequency-static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ompany’s support with the FCC on this issue would b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0F9-264A-4018-A2F4-774EA7EABF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ation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working group task will be to move to specification improvements to improv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frequency hopping algorithms an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control algorithms and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 (tbd improv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78C-49BE-4C3D-B82D-12D8A83BA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of 802.15.2 and Chair of Bluetooth Coexistence Working Group are members of each others’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concerns which have been raised from each of th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ward to continued cooperation, particularly in the areas of Adaptive Frequency Hopping and MAC layer sim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DA3-A225-440C-BC45-8B7D18F992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4:02:26Z</dcterms:created>
  <dc:creator>Theodore Sizer</dc:creator>
  <dc:description>&lt;doc#&gt;</dc:description>
  <dc:language>en-US</dc:language>
  <cp:lastModifiedBy>Stephen J. Shellhammer</cp:lastModifiedBy>
  <cp:lastPrinted>1998-02-10T13:28:06Z</cp:lastPrinted>
  <dcterms:modified xsi:type="dcterms:W3CDTF">2001-07-09T18:49:29Z</dcterms:modified>
  <cp:revision>13</cp:revision>
  <dc:subject>IEEE 802.15 &lt;subject&gt;</dc:subject>
  <dc:title>Bluetooth SIG Coexistence Working Group</dc:title>
</cp:coreProperties>
</file>