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C6181C-D7A6-4E89-A564-E05996D5B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995827-8282-423F-8368-0C6ADB102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71584D-AE17-4D5A-91F2-FF61D77F6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532491-4349-4552-B59A-C4FFA7387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CF5819-1C1D-47E0-BBE8-C31DB738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EBB8C9-7265-49B8-A40E-F329B2DA4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06AF89-77DE-4441-B3A5-D65B56EB0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2C2-8A93-4E25-8A9E-2B0F8D82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6EF-A1FD-452D-8D4A-7156519B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E21-8C5A-4772-95F2-7CCC2398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F0E-172E-4A29-B353-D203BF6C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6B8-C295-4FE2-9052-7E39795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365-63F5-4BF1-B182-A1DC559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1C7-5595-4C70-9867-79F2B2AA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8A1-4533-4A9A-AF9A-DEE2BB99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99C-66B3-46A9-AC01-7579D97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21B-2018-4D78-BFC5-287B730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001-8B9C-4492-9699-B207D9AA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89B-57FE-4F3B-A1B7-D2315CB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04CDE5-82A6-4B1E-9794-7E9B45773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EE 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s to create a Coexistence Technical Advisory Group (C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of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638-3337-4CFD-9D48-7325A4AD3B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TAG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54160" y="1895400"/>
          <a:ext cx="6987960" cy="31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895400"/>
                    <a:ext cx="698796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889920" y="6031080"/>
            <a:ext cx="71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AG voting members are from 11/15/16; WG voting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B23-121A-48C7-984F-843FF3679C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TAG Vo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vot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resentative, one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rs from .11, .15, 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ing members + editor + chair determine maj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ity opinion gets to write the leading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ity opinion writes dissenting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voted on by ExCo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xisting WG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 selected by attendees at TAG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inations from chair or from the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meetings completely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w polls encour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es and other documents to be posted on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71D-0DBD-433C-A61D-B4F5DF38C6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Rules of Engagement (RO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can be asked for an opinio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, IEEE 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of 802.11, 15, 16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 can be initi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eginning of standards process (P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a letter or sponsor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E09-8093-45A7-B4AA-E9BEB8114B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G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do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recommend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rules permit it, CTAG will not write recommended practi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do not writ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summary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s issues in coexistenc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pinion and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852-8433-4448-A44C-FF81012C61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representation from 802.11/15/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s course of action to ExCo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PAR evaluation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letter/sponso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802 a venue to discuss/clarify/resolve coexistence issues with wireless standards in un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0EF-8485-45FA-BBA3-6FB5359865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6:28:43Z</dcterms:created>
  <dc:creator>Jim Lansford</dc:creator>
  <dc:description>&lt;347&gt;</dc:description>
  <dc:language>en-US</dc:language>
  <cp:lastModifiedBy>Tim Blaney</cp:lastModifiedBy>
  <cp:lastPrinted>1998-02-10T13:28:06Z</cp:lastPrinted>
  <dcterms:modified xsi:type="dcterms:W3CDTF">2001-07-10T15:50:12Z</dcterms:modified>
  <cp:revision>5</cp:revision>
  <dc:subject>IEEE 802.15 CTAG</dc:subject>
  <dc:title>IEEE Coexistence  Study Group</dc:title>
</cp:coreProperties>
</file>