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DD03E-78B2-4A69-A3EF-027F28C5D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0D56-03E2-4C8A-9607-A9076995B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AF224-6EC6-4469-B483-EA48AA5F7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A668E-8006-4439-AC8F-120F65349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004E2-5747-4F2F-A086-31E2B1F3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A831-705F-4C99-9443-3ED7B7DF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712C1-3535-43C2-9C1C-A3E56A91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DE38-4308-4E5E-81C0-85DFDFCBE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5A18-FD6F-4586-89FF-D2D12DE8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EA55-06D5-4431-89E3-A1D2936C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CAF1-D374-4B35-B1D1-085A42D32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8079-CDBB-4019-AE62-ECBA5CC62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1E2E41-3A5B-4307-9650-47DDC570D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9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PHY-</a:t>
            </a:r>
            <a:r>
              <a:rPr b="0" lang="en-US" sz="1600" spc="-1" strike="noStrike">
                <a:solidFill>
                  <a:srgbClr val="000000"/>
                </a:solidFill>
                <a:latin typeface="Times New Roman"/>
              </a:rPr>
              <a:t>and-Draft-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9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opening and closing reports for the PHY committee and draft standard for the July meeting in Portland</a:t>
            </a:r>
            <a:r>
              <a:rPr b="0" lang="en-US" sz="1600" spc="-1" strike="noStrike">
                <a:solidFill>
                  <a:srgbClr val="000000"/>
                </a:solidFill>
                <a:latin typeface="Times New Roman"/>
              </a:rPr>
              <a:t>.  This summarizes the work accomplished on the conference calls and interim meeting from Orlando through the end of the Portland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PHY committee and for the Draft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A69B631-23F6-4F9A-9602-C942C574B89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a:t>
            </a:r>
            <a:endParaRPr b="0" lang="en-US" sz="3600" spc="-1" strike="noStrike">
              <a:solidFill>
                <a:srgbClr val="000000"/>
              </a:solidFill>
              <a:latin typeface="Arial"/>
            </a:endParaRPr>
          </a:p>
        </p:txBody>
      </p:sp>
      <p:sp>
        <p:nvSpPr>
          <p:cNvPr id="47"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A defin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gt; -70 dBm for 16 symbol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 wording for SIFS and slo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S = aRXTXTurnAround, slot = aCCADetectT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SSI and LQ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SI: 8 steps  of nominally 8 dB from max.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QI: SNR measured at demodulato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 co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e, reduce overhead, shorter length improves P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44B5BFE-C7EC-49D1-9671-6868072294E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a:t>
            </a:r>
            <a:endParaRPr b="0" lang="en-US" sz="3600" spc="-1" strike="noStrike">
              <a:solidFill>
                <a:srgbClr val="000000"/>
              </a:solidFill>
              <a:latin typeface="Arial"/>
            </a:endParaRPr>
          </a:p>
        </p:txBody>
      </p:sp>
      <p:sp>
        <p:nvSpPr>
          <p:cNvPr id="49"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PSK vs. OQPS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eserve CAZAC, suggest QP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clock synchroniz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and timing derived from the same cryst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ed jamming margin numb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B above, correct for QPSK numb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whitener added, seed in PHY head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0.5, 4 rotating seeds, x^15+x^14+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reference, calculated to verify maximal leng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1927F72-7FDA-4D00-9731-F4C0967F70AD}"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 2)</a:t>
            </a:r>
            <a:endParaRPr b="0" lang="en-US" sz="3600" spc="-1" strike="noStrike">
              <a:solidFill>
                <a:srgbClr val="000000"/>
              </a:solidFill>
              <a:latin typeface="Arial"/>
            </a:endParaRPr>
          </a:p>
        </p:txBody>
      </p:sp>
      <p:sp>
        <p:nvSpPr>
          <p:cNvPr id="51"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M measurement clarifi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reference receiver with carrier lock, timing recovery and amplitude adjust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LME/PIB, suggestions for modific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PHY CCA for start, end, request and confir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RXNAP to be RXE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QI, RSSI, TX power step/max power to PIB</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WRMGT request and confir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service field defined (called PHY hea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ytes, 2 bit scrambler seed, 3 bit frame rate, 11 bit frame leng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DD29871-4200-4AE3-9FFE-8F88DCAE1D5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 3)</a:t>
            </a:r>
            <a:endParaRPr b="0" lang="en-US" sz="3600" spc="-1" strike="noStrike">
              <a:solidFill>
                <a:srgbClr val="000000"/>
              </a:solidFill>
              <a:latin typeface="Arial"/>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data rate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11 Mb/s BPSK for paylo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r range for some ca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mble and header are still QPSK</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 change to new 15.247 ru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better channel spac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r out of band require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drawback is that is not yet at R&amp;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PC – as 4 dB steps to less than +4 dB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rate clarified – 22 Mb/s un-coded QPS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86EBD13-9821-4DA7-9440-0D7F394A3D53}"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 4)</a:t>
            </a:r>
            <a:endParaRPr b="0" lang="en-US" sz="3600" spc="-1" strike="noStrike">
              <a:solidFill>
                <a:srgbClr val="000000"/>
              </a:solidFill>
              <a:latin typeface="Arial"/>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encoding of QPS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non-coherent receiv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define for BPSK mo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ed to TCM QAM mod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RX input level: -10 dB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BE8457F-1A27-47A7-B42B-8583BB6C9582}"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Progress</a:t>
            </a:r>
            <a:endParaRPr b="0" lang="en-US" sz="3600" spc="-1" strike="noStrike">
              <a:solidFill>
                <a:srgbClr val="000000"/>
              </a:solidFill>
              <a:latin typeface="Arial"/>
            </a:endParaRPr>
          </a:p>
        </p:txBody>
      </p:sp>
      <p:sp>
        <p:nvSpPr>
          <p:cNvPr id="5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5 released 6 July, 200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p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partially review, not ready for vo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pie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polic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nd privac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B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69F8C8D-44CA-4D2D-BCC2-31B4885E9F96}"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ames P. K. Gilb</cp:lastModifiedBy>
  <cp:lastPrinted>1998-02-10T13:28:06Z</cp:lastPrinted>
  <dcterms:modified xsi:type="dcterms:W3CDTF">2001-07-09T17:01:20Z</dcterms:modified>
  <cp:revision>121</cp:revision>
  <dc:subject>IEEE 802.15 PHY Committee Monterey Report</dc:subject>
  <dc:title>No Slide Title</dc:title>
</cp:coreProperties>
</file>