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856-E8EE-40D6-9948-B2349688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C8E-CEB3-4B51-853D-509BF602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B7B-1CD8-4DBB-8DD9-4F45E218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003-E287-4428-99B0-B04D6FDE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34F-AE9D-4ABA-A18C-7912D7E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494-5E29-4A85-BEA9-C565D3F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0A4-AC55-4544-A633-3DC6A510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246-60B8-4E33-9E59-EFD56A9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15D-BD5C-45E7-BDB7-35DEF47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EAC-1FB3-4CBA-8D77-3190D9F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7BD-CA89-4863-9549-328B2AD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4DC-901B-44B4-AB60-A13A270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A30E91-E063-41F4-8CF9-549F15AA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7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GSG Liaison Report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land, Oreg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 July 13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4F9-FF42-47A8-9CD6-EDC555FE17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end something previously ado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motion that can be used if it is desired to change only a part of the text or to substitute a different 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two-thirds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9080" y="575640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.), Section 35, pg 293 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784-2EF4-4D26-954A-DE3E6E7337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ci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tion by which a previous action or order can be canceled or counter m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rescind is to strike out an entire main motion that has been adopted at some previou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two-thirds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9080" y="575640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.), Section 35, pg 293 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F05-DFB1-4014-9E86-75EB12A0F4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ider – enables a majority in an assembly to bring back for further consideration a motion which has already been vot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of reconsidering a vote is to permit correction of hasty, ill-advised or erroneous action, or to take into account added information or a changed situation that has developed since the taking of the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only be made by a member on the prevailing side during the session at which the original motion was appr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two-thirds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4640" y="575640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.), Section 37, pg 304 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327-C7B5-45BD-BA9F-7B6A01B40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828800"/>
            <a:ext cx="85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Proposed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coexistence and inter-working among the 802.11a, ETSI HiperLAN/2, MMAC CSMA and HiSWANa standards. Extension of each of the MAC and PHY layers of these standards will be defined collaboratively to achieve coexistence and inter-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of Proposed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stablish coexistence and inter-working among the 802.11a, ETSI HiperLAN/2, MMAC CSMA and HiSWANa standards. A subsequent project under a separate PAR is to create a single converged standard in the 5GHz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 of Global 5GHz WLAN Standard (TGj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878-FE83-4B41-AD84-25C2BC96D73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143000"/>
            <a:ext cx="0" cy="478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41680" y="1143000"/>
            <a:ext cx="0" cy="478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219320"/>
            <a:ext cx="0" cy="47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828800" y="228600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16200" y="281952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GHz Standardization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371600"/>
            <a:ext cx="1636920" cy="79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89200" y="1371600"/>
            <a:ext cx="3506760" cy="79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e/f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QoS, Security, DFS/TPC, 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172040"/>
            <a:ext cx="2186280" cy="1314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-H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ATM, 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38560" y="4172040"/>
            <a:ext cx="1787400" cy="13143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me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89200" y="5638680"/>
            <a:ext cx="85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2240" y="5638680"/>
            <a:ext cx="85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27200" y="2424240"/>
            <a:ext cx="1587600" cy="146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t 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-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2657520"/>
            <a:ext cx="1371600" cy="107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oba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25960" y="4172040"/>
            <a:ext cx="1444680" cy="13143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 ph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MTS - inter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666880"/>
            <a:ext cx="1447920" cy="96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-working Standards Rev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152568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GWI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629160"/>
            <a:ext cx="228600" cy="533160"/>
          </a:xfrm>
          <a:prstGeom prst="upDownArrow">
            <a:avLst>
              <a:gd name="adj1" fmla="val 50000"/>
              <a:gd name="adj2" fmla="val 464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43360" y="2171880"/>
            <a:ext cx="228600" cy="495000"/>
          </a:xfrm>
          <a:prstGeom prst="upDownArrow">
            <a:avLst>
              <a:gd name="adj1" fmla="val 50000"/>
              <a:gd name="adj2" fmla="val 4310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2880" y="2171880"/>
            <a:ext cx="228600" cy="266400"/>
          </a:xfrm>
          <a:prstGeom prst="upDownArrow">
            <a:avLst>
              <a:gd name="adj1" fmla="val 50000"/>
              <a:gd name="adj2" fmla="val 2319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21040" y="3905280"/>
            <a:ext cx="228600" cy="26676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440" y="60958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MAC also particip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38480" y="1066320"/>
            <a:ext cx="0" cy="480060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590920"/>
            <a:ext cx="137160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nership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RAN/IEEE/MMA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2971800"/>
            <a:ext cx="2286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895480"/>
            <a:ext cx="2286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819520"/>
            <a:ext cx="2286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1143000" cy="9604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295280"/>
            <a:ext cx="1143000" cy="960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447920"/>
            <a:ext cx="2286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495680"/>
            <a:ext cx="2286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5560" y="60958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11040" y="6019920"/>
            <a:ext cx="609480" cy="304560"/>
          </a:xfrm>
          <a:custGeom>
            <a:avLst/>
            <a:gdLst>
              <a:gd name="textAreaLeft" fmla="*/ 202680 w 609480"/>
              <a:gd name="textAreaRight" fmla="*/ 521640 w 609480"/>
              <a:gd name="textAreaTop" fmla="*/ 219240 h 304560"/>
              <a:gd name="textAreaBottom" fmla="*/ 261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8631"/>
                </a:moveTo>
                <a:lnTo>
                  <a:pt x="15531" y="18631"/>
                </a:lnTo>
                <a:lnTo>
                  <a:pt x="15531" y="7200"/>
                </a:lnTo>
                <a:lnTo>
                  <a:pt x="12431" y="7200"/>
                </a:lnTo>
                <a:lnTo>
                  <a:pt x="170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C69-96B3-4495-9C15-3F96EADAC5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 of 5GSG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aisons on PHY during creation of 802.11a and HL2 (’98-’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tantial harmo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by 5GWLIAG (May 2000) – to address problems of multiple standards at 5Ghz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exchanged on request to recognize 802.11a as a member of HL2 (Ju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d to ETSI joining the Sept 2000 IEE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on of Joint 5GSG (Sept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ive meeting 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Ghz Global Standardization and Convergence discussion - IEEE September meeting, Scottsd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y consensus towards global standardization at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an 802.11 Study group (with coordination with ETSI BRAN and MMAC) to address these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SC Nov 9, 2000 approved formation of 5GSG (with contingencies of forming similar groups at ETSI BRAN and MMAC were fulfill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6F6-F913-44CC-8001-B80847631A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5360" y="609480"/>
            <a:ext cx="818928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GHz Study 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Harmonization - Single Global Standard for 5GHz W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, ETSI, 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m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working mechanism (TG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working Proposal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backward compatibility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so far based upon superframes using either DCF or P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F now being investig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to have no impact on Client, AP implement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GHz Partnership Project now called 5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928-2120-4E45-8ECB-A295A86313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G recommends a motion to the 802.11 WG to reconsider the approval and forwarding to Exec Com of the PAR and 5 criteria for TGj (Doc 01-172, 01-17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n SG 13-0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to extend the 5GSG until the November plenary with the original goals as previously adopted, allowing a joint discussion with the other standards bodies (ETSI BRAN, MMAC) in the September 2001 meeting of the Joint SG to refine the aforementioned go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n SG 21-2-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 to split the activity of the 5GSG into two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j and 5WING, where 5WING would look at futu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5F4-9479-4424-941D-7C6D97155B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to amend something previously ado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nd the motion to substitute “rescind” for “reconsider” resulting in the following motion to be presented in the Closing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G recommends a motion to the 802.11 WG to rescind the approval and forwarding to Exec Com of the PAR and 5 criteria for TGj (Doc 01-172, 01-17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653-C1A5-446A-A1F0-3AEDBB4D48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ion Remains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 Joint Study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EEE, ETSI/BRAN, M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ng ETSI and IEEE meeting 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located meetings in Septem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ore) Formal representation from M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C01-D9C2-4237-9CF3-56B08ABC2D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N #24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N#24    26 June to 29 Jun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phia-Antipolis,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ecutive Summary  - BRAN24d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      Defer decision to continue/discontinue the Inter-working project until after the IEEE meeting in Portland. It was noted that both BRAN and IEEE will be meeting during the same week in September in Seattle and a joint meeting at that time would be desirable and presumably easy to ar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544-DC89-4B9B-B370-9233AEA7B1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incho"/>
              </a:rPr>
              <a:t>MMAC Notice of Reorganization and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 letter to ETSI BRAN and IEEE (BRAN24d14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uncing re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Convergence Ad-hoc Study Group of MMAC-PC (a.k.a CASG) met on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May, 2001 to discuss how to proceed towards convergence of MMAC wireless systems, HiperLAN2 and IEEE802.11a using 5 GHz b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MA WG work is done and will be closed so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SMA members shall directly participate in 5GSG/IEEE802.11 meetings representing each company for the globalization discussion, if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MMAC-PC will continue to work together with ETSI-BRAN and IEEE802.11 members within joint 5GSG framework for short term harmon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ASG participants agreed to create a new group to work toward a single standard of the next generation wireless LAN including wireless Homelink applications using 5GHz band.  This new group will be a joint group comprising HiSWANa members and Wireless Homelink members of MMAC-P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354-BD63-41C8-AF88-2E9938FF1C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shi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ce Kraemer – current chair in 5GSG as authorized by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shid Khun-Jush is vice ch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te TK Tan as chair in 5G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te Bruce Kraemer as co-vic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ther nominations from the flo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ommendation from 5GSG subject to approval by Stuart in 802 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Unanimous consent (37 attende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7F1-34D7-44A7-8844-C06D944F98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al and Background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Mobil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5A3-07EC-4BE0-B11C-83CCED0DED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4:37Z</dcterms:created>
  <dc:creator>Tim Blaney</dc:creator>
  <dc:description/>
  <dc:language>en-US</dc:language>
  <cp:lastModifiedBy>Tim Blaney</cp:lastModifiedBy>
  <cp:lastPrinted>2001-01-10T12:39:37Z</cp:lastPrinted>
  <dcterms:modified xsi:type="dcterms:W3CDTF">2001-07-13T04:23:05Z</dcterms:modified>
  <cp:revision>356</cp:revision>
  <dc:subject>IEEE Portland July 2001</dc:subject>
  <dc:title>5GSG Report</dc:title>
</cp:coreProperties>
</file>