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D8173-4737-4B89-815F-EC9715350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FECFB-2E71-444A-8998-C767EFB07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7CE6F-8175-4EEA-AFE3-7A3D6B5B1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A175E-9FD6-4C9A-AF5D-CBFF74CC6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F4A6B-9BBA-4F8C-A0A3-127EA22D8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B80B4-46D9-4A30-A922-D16D6EF93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A5A0D-4427-48BD-B0EB-FCB28F88F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2B2AC-73FE-4758-BE89-4BAD23903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890C8-3879-479F-841D-BAD0E9CFB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612B8-4A48-477A-BBE7-63798FAF1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AA67-3AFC-48B3-B4E6-75AB3F99A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81DB2-E978-49F1-994F-A06441B4B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D56E6B-8A35-4807-8DF0-7D39DF023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1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1D14715-7DC5-4545-81A6-E3F4D606C2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618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G Liaison Report, No.1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2Mar0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1/020r1,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Liaison Report is a running Liaison report that is offered to the WG for their consideration.  It is only as good as what is provided to the Author…there are many WG Liaisons that are not captured as they are not provided to the Author or Liaison Officer.</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Our Sponsor requested that an official Liaison Officer be added to the WG.  This report is for the Sponsor and/or the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SI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BSIG-IEEE Telecon and f2f Meeting D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802.15 Interim Meeting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identify hosts and venue 12months out, or mor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benchmark our Admin tools i.e., Balloting Tools, Comment DB, etc. to other IEEE WGs and other SDOs.  As well as future proof our Membership DB.</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70F9AE8-0C24-4B15-BC6D-ABAD86227637}"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Liaison Reports On Web, Server &amp; Flash Card(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 -99/005r0 [99005r0P802-15_Liaison-Report.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2 -99/029r0 [99029r0P802-15_Liaison-Report-2.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3 -99/063r1 [99063r1P802-15_Liaison-Report-3.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4 -99/124r0 [99124r0P802-15_Liaison-Report-4.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5 -99/174r0 [99174r0P802-15_WG-Liaison-Report-5.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6 -00/037r1 [00037r1P802-15_WG-Liaison-Report-6.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7 -00/118r0 [00118r1P802-15_WG-Liaison-Report-7.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8 -00/182r0 [00182r0P802-15_WG-Liaison-Report-8.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9 -00/266r0 [00266r0P802-15_WG-Liaison-Report-9.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0 -00/340r2 [00340r2P802-15_WG-Liaison-Report-10.pp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1 –01/020r1 [01020r1P802-15_WG-Liaison-Report-11.pp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258479F-7536-43F5-8990-43BCD1F5C12F}" type="slidenum">
              <a:t>1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aison Report #12</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ch 2001 Hilton Head (HH) Island, SC USA</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180D3C3-62A4-42AA-8A18-A6BA2E051DC6}"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Negoti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CDE4062-EFFA-42DA-B996-0F542E5D89CD}"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40C4F07-B6DA-4D93-BDC0-071B3413D1E8}"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676520"/>
            <a:ext cx="380988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Liaison List</a:t>
            </a:r>
            <a:endParaRPr b="0" lang="en-US" sz="18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1 - Bluetooth™ Special Interest Group (Gifford/Truntzer)</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2, TG3, TG4 - BSIG – (Chairs/?)</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 (Kraemer/Kerry)</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6 (/RogerM )</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t>
            </a:r>
            <a:endParaRPr b="0" lang="en-US" sz="1600" spc="-1" strike="noStrike">
              <a:solidFill>
                <a:srgbClr val="000000"/>
              </a:solidFill>
              <a:latin typeface="Times New Roman"/>
            </a:endParaRPr>
          </a:p>
          <a:p>
            <a:pPr lvl="2" marL="998640" indent="-210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s Activities, Standards Publishing Programs (Gifford/Tatiner)</a:t>
            </a:r>
            <a:endParaRPr b="0" lang="en-US" sz="1400" spc="-1" strike="noStrike">
              <a:solidFill>
                <a:srgbClr val="000000"/>
              </a:solidFill>
              <a:latin typeface="Times New Roman"/>
            </a:endParaRPr>
          </a:p>
          <a:p>
            <a:pPr lvl="2" marL="998640" indent="-210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tandards Dept., Balloting Center (Gifford/Kahofer)</a:t>
            </a:r>
            <a:endParaRPr b="0" lang="en-US" sz="14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Imaging Group (Allen/)</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LANA (/DiCillo)</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SRC (/Kurihara)</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 BRAN (?/Khun-Jush)</a:t>
            </a:r>
            <a:endParaRPr b="0" lang="en-US" sz="1600" spc="-1" strike="noStrike">
              <a:solidFill>
                <a:srgbClr val="000000"/>
              </a:solidFill>
              <a:latin typeface="Times New Roman"/>
            </a:endParaRPr>
          </a:p>
          <a:p>
            <a:pPr lvl="1" marL="683280" indent="-262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BOF on Bluetooth over IP (Siep/Atwal, Akers)</a:t>
            </a:r>
            <a:endParaRPr b="0" lang="en-US" sz="1800" spc="-1" strike="noStrike">
              <a:solidFill>
                <a:srgbClr val="000000"/>
              </a:solidFill>
              <a:latin typeface="Times New Roman"/>
            </a:endParaRPr>
          </a:p>
        </p:txBody>
      </p:sp>
      <p:sp>
        <p:nvSpPr>
          <p:cNvPr id="58" name="PlaceHolder 3"/>
          <p:cNvSpPr>
            <a:spLocks noGrp="1"/>
          </p:cNvSpPr>
          <p:nvPr>
            <p:ph/>
          </p:nvPr>
        </p:nvSpPr>
        <p:spPr>
          <a:xfrm>
            <a:off x="4647960" y="167652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active Liaison Lis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 (/Lindinsky)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2 (/Carls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M Forum WATM (/Delavers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 Working Group (/Mann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DA (/McKa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WBWG (/Withingt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P Forum (/Parrish)</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CA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Liaisons?</a:t>
            </a:r>
            <a:endParaRPr b="0" lang="en-US" sz="2400" spc="-1" strike="noStrike">
              <a:solidFill>
                <a:srgbClr val="000000"/>
              </a:solidFill>
              <a:latin typeface="Times New Roman"/>
            </a:endParaRPr>
          </a:p>
        </p:txBody>
      </p:sp>
      <p:sp>
        <p:nvSpPr>
          <p:cNvPr id="59" name=""/>
          <p:cNvSpPr/>
          <p:nvPr/>
        </p:nvSpPr>
        <p:spPr>
          <a:xfrm>
            <a:off x="7013520" y="5867280"/>
            <a:ext cx="1590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1: 802.15/Liais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2: ? Unknown</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E40DBBE5-58D8-4BC1-B0CB-CD0C044909F2}" type="slidenum">
              <a:t>5</a:t>
            </a:fld>
          </a:p>
        </p:txBody>
      </p:sp>
      <p:sp>
        <p:nvSpPr>
          <p:cNvPr id="7" name="PlaceHolder 6"/>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A8C9481-4277-408A-B3CF-21BD84E6FFFB}"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 &amp; Meeting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to 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from 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Jan01 FM Source for v1.1 16Feb01 Draf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Mar01 FM Source for v1.1 22Feb01 Final Draf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 BSIG PM during/post Session #11/HH</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nal Editor/Publisher and Issue No. 7, 8, 9, etc., follow u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43FDA9E-FEEA-4349-8AAE-7C388D463355}"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8E6CBC8-112A-47F6-9E12-CF6FE52FEF1B}" type="slidenum">
              <a:t>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 &amp; Meetings</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IEEE</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IEE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Feb01 LAN/MAN 802.15 Balloting Group approved (Carl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Mar01 Project Editor request to review 802.15.3/D0.2 (Longma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 up on 802.15.1 Handbook request and plan Manuscript due 1H01</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 up on 802.15.1 Draft Std onto IEEE 802 Plus CD-ROM</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A283A6F-A898-4217-B53C-54FB172678C8}"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C. Gifford</dc:creator>
  <dc:description>Ian Gifford, M/A-COM, Inc.</dc:description>
  <cp:keywords>January 2001</cp:keywords>
  <dc:language>en-US</dc:language>
  <cp:lastModifiedBy>MA013831</cp:lastModifiedBy>
  <cp:lastPrinted>1998-02-10T13:28:06Z</cp:lastPrinted>
  <dcterms:modified xsi:type="dcterms:W3CDTF">2001-03-11T19:35:59Z</dcterms:modified>
  <cp:revision>285</cp:revision>
  <dc:subject>#11</dc:subject>
  <dc:title>Liaison Report</dc:title>
</cp:coreProperties>
</file>