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5B68C-D978-442C-976B-275ED3BAF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4EE12-4E35-412A-A248-5083D1868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D76F2-19DE-4572-AD5A-E0708DCDC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AC07A-E059-47DE-BC9F-F607D076B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63F43-4E2B-4388-BDE5-10C342F80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5EC27-2ED6-41BA-BF34-BCB2543B8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F08BA-7617-4373-8F9F-8F4326F28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C46C7-5DEF-4FD7-A627-5D5A31A4F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C118D-C599-47FD-A693-956E2E6BE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38B5F-A6A6-488F-8535-A878912AD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17E60-EFB0-40E6-9F8A-F159A2942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28F4-7659-44C1-A03C-BA4683B42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412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64460A-CD1F-4D34-BE8A-EAB82CD06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191120" y="396000"/>
            <a:ext cx="426708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P802.15-01/12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85800"/>
            <a:ext cx="7772400" cy="565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Media Access Control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March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Carl R. Stevenson]    Company: [Agere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555 Union Boulevard, Room 22W214EQ, Allentown, PA 181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610) 712-8514], FAX: [(610) 712-4508], E-Mail:[carlstevenson@agere.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MAC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flexible MAC proposal for a Low Rate WPAN intended to be compliant with the P802.115.4 PAR.  It is intended to support both master-slave and peer-to-peer communications. It can also optionally support node-to-node relay capabilities to provide robust communications in a variety of propagation environments to meet the needs of a wide range of low data rate applications.  In its basic form, it can support up to 255 nodes per PAN, but through address extension can be expanded to support a much larger number of nodes.]</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A5B77CCB-A8C7-455B-9514-F1DF3E92DA6E}"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 Implementation Concept</a:t>
            </a:r>
            <a:br>
              <a:rPr sz="2400"/>
            </a:br>
            <a:r>
              <a:rPr b="1" lang="en-US" sz="1800" spc="-1" strike="noStrike">
                <a:solidFill>
                  <a:srgbClr val="000000"/>
                </a:solidFill>
                <a:latin typeface="Verdana"/>
              </a:rPr>
              <a:t>(actually a MAC + LLC + at this point)</a:t>
            </a:r>
            <a:endParaRPr b="0" lang="en-US" sz="1800" spc="-1" strike="noStrike">
              <a:solidFill>
                <a:srgbClr val="000000"/>
              </a:solidFill>
              <a:latin typeface="Times New Roman"/>
            </a:endParaRPr>
          </a:p>
        </p:txBody>
      </p:sp>
      <p:sp>
        <p:nvSpPr>
          <p:cNvPr id="70" name="PlaceHolder 2"/>
          <p:cNvSpPr>
            <a:spLocks noGrp="1"/>
          </p:cNvSpPr>
          <p:nvPr>
            <p:ph/>
          </p:nvPr>
        </p:nvSpPr>
        <p:spPr>
          <a:xfrm>
            <a:off x="685800" y="1828800"/>
            <a:ext cx="7772400" cy="45720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tantially “Soft” MAC/LLC Implementation</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posal estimates based on synthesizable ARM7 co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ame buffers included in PHY size/power estimat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k Bytes RAM estimated for data</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8k bytes ROM estimated for MAC/LLC/Application cod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M and ROM sizes can be optimized as requirements become more clea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ipherals include 16 bits of GPIO &amp; RTC (other option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ock circuitry for scaleable clock rates including very low power ring oscillator for use during deep sleep mod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ng oscillator calibrated to master crystal oscillator to minimize clock drift during sleep mod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imal additional support logi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ication code space and CPU cycles available</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9B8F4EDC-7AAA-4A61-8CC3-72C424AA70A0}"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wer Mangement and Battery Life</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sters should generally be line-powered or have &lt;&lt; battery capacity than slaves</a:t>
            </a:r>
            <a:endParaRPr b="0" lang="en-US" sz="2400" spc="-1" strike="noStrike">
              <a:solidFill>
                <a:srgbClr val="000000"/>
              </a:solidFill>
              <a:latin typeface="Arial"/>
            </a:endParaRPr>
          </a:p>
          <a:p>
            <a:pPr lvl="1" marL="743040" indent="-28584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cilitates efficient, reliable network control</a:t>
            </a:r>
            <a:endParaRPr b="0" lang="en-US" sz="1800" spc="-1" strike="noStrike">
              <a:solidFill>
                <a:srgbClr val="000000"/>
              </a:solidFill>
              <a:latin typeface="Arial"/>
            </a:endParaRPr>
          </a:p>
          <a:p>
            <a:pPr lvl="1" marL="743040" indent="-28584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res beacons are available regularly for slaves</a:t>
            </a:r>
            <a:endParaRPr b="0" lang="en-US" sz="1800" spc="-1" strike="noStrike">
              <a:solidFill>
                <a:srgbClr val="000000"/>
              </a:solidFill>
              <a:latin typeface="Arial"/>
            </a:endParaRPr>
          </a:p>
          <a:p>
            <a:pPr lvl="1" marL="743040" indent="-28584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drain due to processing load becomes insignificant</a:t>
            </a:r>
            <a:endParaRPr b="0" lang="en-US" sz="18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laves can have extended operating life on modest batterie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lave devices make use of low power mod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ster can command slaves into deep sleep mode for multiple superframe intervals to conserve battery power in slave devices which can tolerate latenc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SSI &amp; link quality based TX power management possibl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ery requirements/battery life depend on traffic load, TX power, and latency tolerance of a devi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D7CDC941-B125-4117-9430-D19E173CAABF}"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e Size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685800" y="2057400"/>
            <a:ext cx="7686720" cy="25797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7FA4E89B-9D65-4F11-A103-01C92993509B}"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wer Consumption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914400" y="2057400"/>
            <a:ext cx="7620120" cy="37101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B0D48D05-E01E-454B-81D0-367A44BF86E0}"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lf-ranking in Comparison to Criteria</a:t>
            </a:r>
            <a:endParaRPr b="0" lang="en-US" sz="2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iting completion of Criteria Docu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complete self-ranking matrix in a timely manner when Criteria Document and matrix worksheet become avail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510F613B-791E-4391-B830-806DBDB3F548}"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ank you for your attention.</a:t>
            </a:r>
            <a:endParaRPr b="0" lang="en-US" sz="2800" spc="-1" strike="noStrike">
              <a:solidFill>
                <a:srgbClr val="000000"/>
              </a:solidFill>
              <a:latin typeface="Times New Roman"/>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y ques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B28CB4E9-28F3-4EE0-A3A0-F059938F1372}"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286000" y="1600200"/>
            <a:ext cx="4549680" cy="1573200"/>
          </a:xfrm>
          <a:prstGeom prst="rect">
            <a:avLst/>
          </a:prstGeom>
          <a:ln w="0">
            <a:noFill/>
          </a:ln>
        </p:spPr>
      </p:pic>
      <p:sp>
        <p:nvSpPr>
          <p:cNvPr id="47" name=""/>
          <p:cNvSpPr/>
          <p:nvPr/>
        </p:nvSpPr>
        <p:spPr>
          <a:xfrm>
            <a:off x="685800" y="38862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 Layer Proposal Submission to the IEEE P802.15.4 Low Rate WPAN Task Group</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659853BC-5415-46CD-8200-67C713343DC1}" type="slidenum">
              <a:t>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990720"/>
            <a:ext cx="769608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ho is                          ?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9" name=""/>
          <p:cNvSpPr/>
          <p:nvPr/>
        </p:nvSpPr>
        <p:spPr>
          <a:xfrm>
            <a:off x="685800" y="2743200"/>
            <a:ext cx="7772400" cy="3429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erly Lucent Technologies Microelectronics Group</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process of spinning off as an independent semiconductor company</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sive experience in communications IC design, DSPs, and wireless systems design</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962520" y="1066680"/>
            <a:ext cx="3124080" cy="1079640"/>
          </a:xfrm>
          <a:prstGeom prst="rect">
            <a:avLst/>
          </a:prstGeom>
          <a:ln w="0">
            <a:noFill/>
          </a:ln>
        </p:spPr>
      </p:pic>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26397A99-4EEB-44EB-93FE-5D055E9A5B94}" type="slidenum">
              <a:t>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MAC Layer Proposal</a:t>
            </a:r>
            <a:br>
              <a:rPr sz="2400"/>
            </a:br>
            <a:r>
              <a:rPr b="1" lang="en-US" sz="2400" spc="-1" strike="noStrike">
                <a:solidFill>
                  <a:srgbClr val="000000"/>
                </a:solidFill>
                <a:latin typeface="Verdana"/>
              </a:rPr>
              <a:t> </a:t>
            </a:r>
            <a:r>
              <a:rPr b="1" lang="en-US" sz="1800" spc="-1" strike="noStrike">
                <a:solidFill>
                  <a:srgbClr val="000000"/>
                </a:solidFill>
                <a:latin typeface="Verdana"/>
              </a:rPr>
              <a:t>(actually a MAC + LLC + at this point)</a:t>
            </a:r>
            <a:endParaRPr b="0" lang="en-US" sz="1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lf-duplex TDMA/CSMA-CA DAMA/Contention Based Protocol</a:t>
            </a:r>
            <a:endParaRPr b="0" lang="en-US" sz="20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s) controlled by master unit(s)</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 from master defines TDMA frame structure</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persistent slotted aloha CSMA-CA reservation request slots</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ynamic bandwidth allocations for time-sensitive traffic</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persistent slotted aloha CSMA-CA contention access slots</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s time-sensitive and asynchronous traffic through mix of assigned bandwidth and contention access</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s master-slave and peer-peer communications</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sible for slaves to participate in &lt; 1 network</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sible to have gateways/portals to other dissimilar networks</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motes power efficiency through sleep mode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4E0B00D2-30B5-48DB-90A3-92C23563D2BE}"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DLC-like Packet Structure Supports Protocols</a:t>
            </a:r>
            <a:endParaRPr b="0" lang="en-US" sz="2400" spc="-1" strike="noStrike">
              <a:solidFill>
                <a:srgbClr val="000000"/>
              </a:solidFill>
              <a:latin typeface="Times New Roman"/>
            </a:endParaRPr>
          </a:p>
        </p:txBody>
      </p:sp>
      <p:sp>
        <p:nvSpPr>
          <p:cNvPr id="54" name="PlaceHolder 2"/>
          <p:cNvSpPr>
            <a:spLocks noGrp="1"/>
          </p:cNvSpPr>
          <p:nvPr>
            <p:ph/>
          </p:nvPr>
        </p:nvSpPr>
        <p:spPr>
          <a:xfrm>
            <a:off x="762120" y="1676160"/>
            <a:ext cx="7772400" cy="46479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existing ISO/IEEE/other standar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SDL exists for similar protocols, which may be reusable with little modifi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arent to data content</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s encapsulation of higher layer protocols between link layer DSAP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not impose data type dependenci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transport encrypted payloads, if desirable</a:t>
            </a:r>
            <a:endParaRPr b="0" lang="en-US" sz="18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mall code size and CPU load possib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mateur Packet Radio implementations with nearly comparable complexity use 8-bit CPUs &amp; 32k bytes of cod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itional complexity for TDMA and other features should not be excessiv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FA0618D1-D7D4-4E87-B7B4-0E9412ADA5D1}"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ariable Length Packets</a:t>
            </a:r>
            <a:endParaRPr b="0" lang="en-US" sz="2400" spc="-1" strike="noStrike">
              <a:solidFill>
                <a:srgbClr val="000000"/>
              </a:solidFill>
              <a:latin typeface="Times New Roman"/>
            </a:endParaRPr>
          </a:p>
        </p:txBody>
      </p:sp>
      <p:graphicFrame>
        <p:nvGraphicFramePr>
          <p:cNvPr id="56" name=""/>
          <p:cNvGraphicFramePr/>
          <p:nvPr/>
        </p:nvGraphicFramePr>
        <p:xfrm>
          <a:off x="1295280" y="1447920"/>
          <a:ext cx="6782040" cy="4800600"/>
        </p:xfrm>
        <a:graphic>
          <a:graphicData uri="http://schemas.openxmlformats.org/presentationml/2006/ole">
            <p:oleObj r:id="rId1" spid="">
              <p:embed/>
              <p:pic>
                <p:nvPicPr>
                  <p:cNvPr id="57" name="" descr=""/>
                  <p:cNvPicPr/>
                  <p:nvPr/>
                </p:nvPicPr>
                <p:blipFill>
                  <a:blip r:embed="rId2"/>
                  <a:stretch/>
                </p:blipFill>
                <p:spPr>
                  <a:xfrm>
                    <a:off x="1295280" y="1447920"/>
                    <a:ext cx="6782040" cy="480060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D1FB6F99-9A60-4890-B914-A81D90C78BFB}"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ynamically-assigned Frame Structure</a:t>
            </a:r>
            <a:endParaRPr b="0" lang="en-US" sz="2400" spc="-1" strike="noStrike">
              <a:solidFill>
                <a:srgbClr val="000000"/>
              </a:solidFill>
              <a:latin typeface="Times New Roman"/>
            </a:endParaRPr>
          </a:p>
        </p:txBody>
      </p:sp>
      <p:graphicFrame>
        <p:nvGraphicFramePr>
          <p:cNvPr id="59" name=""/>
          <p:cNvGraphicFramePr/>
          <p:nvPr/>
        </p:nvGraphicFramePr>
        <p:xfrm>
          <a:off x="838080" y="1523880"/>
          <a:ext cx="7425000" cy="4888080"/>
        </p:xfrm>
        <a:graphic>
          <a:graphicData uri="http://schemas.openxmlformats.org/presentationml/2006/ole">
            <p:oleObj r:id="rId1" spid="">
              <p:embed/>
              <p:pic>
                <p:nvPicPr>
                  <p:cNvPr id="60" name="" descr=""/>
                  <p:cNvPicPr/>
                  <p:nvPr/>
                </p:nvPicPr>
                <p:blipFill>
                  <a:blip r:embed="rId2"/>
                  <a:stretch/>
                </p:blipFill>
                <p:spPr>
                  <a:xfrm>
                    <a:off x="838080" y="1523880"/>
                    <a:ext cx="7425000" cy="488808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CB658E40-BD01-454F-B431-6860394689AB}"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ame Structure Can Vary Frame to Frame to Efficiently Handle a Mix of Traffic Types</a:t>
            </a:r>
            <a:endParaRPr b="0" lang="en-US" sz="2400" spc="-1" strike="noStrike">
              <a:solidFill>
                <a:srgbClr val="000000"/>
              </a:solidFill>
              <a:latin typeface="Times New Roman"/>
            </a:endParaRPr>
          </a:p>
        </p:txBody>
      </p:sp>
      <p:graphicFrame>
        <p:nvGraphicFramePr>
          <p:cNvPr id="62" name=""/>
          <p:cNvGraphicFramePr/>
          <p:nvPr/>
        </p:nvGraphicFramePr>
        <p:xfrm>
          <a:off x="457200" y="1828800"/>
          <a:ext cx="8229600" cy="1951200"/>
        </p:xfrm>
        <a:graphic>
          <a:graphicData uri="http://schemas.openxmlformats.org/presentationml/2006/ole">
            <p:oleObj r:id="rId1" spid="">
              <p:embed/>
              <p:pic>
                <p:nvPicPr>
                  <p:cNvPr id="63" name="" descr=""/>
                  <p:cNvPicPr/>
                  <p:nvPr/>
                </p:nvPicPr>
                <p:blipFill>
                  <a:blip r:embed="rId2"/>
                  <a:stretch/>
                </p:blipFill>
                <p:spPr>
                  <a:xfrm>
                    <a:off x="457200" y="1828800"/>
                    <a:ext cx="8229600" cy="1951200"/>
                  </a:xfrm>
                  <a:prstGeom prst="rect">
                    <a:avLst/>
                  </a:prstGeom>
                  <a:ln w="0">
                    <a:noFill/>
                  </a:ln>
                </p:spPr>
              </p:pic>
            </p:oleObj>
          </a:graphicData>
        </a:graphic>
      </p:graphicFrame>
      <p:sp>
        <p:nvSpPr>
          <p:cNvPr id="64" name=""/>
          <p:cNvSpPr/>
          <p:nvPr/>
        </p:nvSpPr>
        <p:spPr>
          <a:xfrm>
            <a:off x="533520" y="4191120"/>
            <a:ext cx="81532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997FDEFC-6B2D-4FA5-ACB7-3BA3FD521025}"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laves Can Be Moved to Other Channels Temporarily if Traffic Makes it Desirable</a:t>
            </a:r>
            <a:endParaRPr b="0" lang="en-US" sz="2400" spc="-1" strike="noStrike">
              <a:solidFill>
                <a:srgbClr val="000000"/>
              </a:solidFill>
              <a:latin typeface="Times New Roman"/>
            </a:endParaRPr>
          </a:p>
        </p:txBody>
      </p:sp>
      <p:sp>
        <p:nvSpPr>
          <p:cNvPr id="66" name=""/>
          <p:cNvSpPr/>
          <p:nvPr/>
        </p:nvSpPr>
        <p:spPr>
          <a:xfrm>
            <a:off x="533520" y="4191120"/>
            <a:ext cx="81532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 name=""/>
          <p:cNvGraphicFramePr/>
          <p:nvPr/>
        </p:nvGraphicFramePr>
        <p:xfrm>
          <a:off x="380880" y="1676520"/>
          <a:ext cx="8382240" cy="4600440"/>
        </p:xfrm>
        <a:graphic>
          <a:graphicData uri="http://schemas.openxmlformats.org/presentationml/2006/ole">
            <p:oleObj r:id="rId1" spid="">
              <p:embed/>
              <p:pic>
                <p:nvPicPr>
                  <p:cNvPr id="68" name="" descr=""/>
                  <p:cNvPicPr/>
                  <p:nvPr/>
                </p:nvPicPr>
                <p:blipFill>
                  <a:blip r:embed="rId2"/>
                  <a:stretch/>
                </p:blipFill>
                <p:spPr>
                  <a:xfrm>
                    <a:off x="380880" y="1676520"/>
                    <a:ext cx="8382240" cy="460044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6EC60B67-C9B2-4CB6-99C7-1FFEB046312C}"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0:41:03Z</dcterms:created>
  <dc:creator>Carl R. Stevenson</dc:creator>
  <dc:description>01/1126r0</dc:description>
  <dc:language>en-US</dc:language>
  <cp:lastModifiedBy>micropc</cp:lastModifiedBy>
  <cp:lastPrinted>1998-02-10T13:28:06Z</cp:lastPrinted>
  <dcterms:modified xsi:type="dcterms:W3CDTF">2001-03-12T16:08:43Z</dcterms:modified>
  <cp:revision>18</cp:revision>
  <dc:subject>IEEE 802.15 &lt;subject&gt;</dc:subject>
  <dc:title>No Slide Title</dc:title>
</cp:coreProperties>
</file>