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FC82-A18E-47EA-829E-FEE61FE5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AC45-BD0F-45A2-ADE0-0C90C416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266-424F-4389-95B4-72B3B32D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3DC-AFB4-485E-BDCB-FE95FD61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74F-9E5A-47B9-9785-118D3DE2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8BB-FB13-4BFA-8AC2-2D563A18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E419-CA19-4BF9-B873-F3D620D4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4AA0-CD79-46F1-84A1-14238B27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181A-7BCB-41CC-AE16-0682234F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3C53-9A1F-4C8A-ADBB-F771FD08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577-AC5B-463F-9996-4C4387F9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5F71-CCF4-432A-A03B-B8C41B09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h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e Liang, 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8487A22-8CDD-4501-B749-4542ACB28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02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63520" y="3200400"/>
            <a:ext cx="342540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e Li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as Instruments Incorpo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500 TI Blv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las, Texas 752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h) 214-480-4105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mail) liang@t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al for Non-Collaborative BT and 802.11b MAC Mechanisms for Enhanced Coexis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0B77-5627-461F-9D95-9F67BFB4984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Voice Link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CO packet type – EV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0 bits pay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EV3 packet for every 6 slots (delay&lt;3.75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will only transmit when addressed by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master needs to do the 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 sure only one pair of slots are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C: could be another option, which accommodate applications that want data integrity on voic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in traffic scheduling to avoid collisions (no fixed interv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21B2-9D0C-40FB-BE7B-855BFAAE5A0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Voice Link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267080"/>
            <a:ext cx="6476760" cy="2133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hanced Voice Link Setu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w EV3 packet type,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yload size: 240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poll: &lt;6 slo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daptive selection of transmitting slots based on channe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lay &lt; 3.75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5120" y="380988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3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4760" y="26668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V3 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066680" y="2057400"/>
            <a:ext cx="7543800" cy="596880"/>
            <a:chOff x="1066680" y="2057400"/>
            <a:chExt cx="7543800" cy="596880"/>
          </a:xfrm>
        </p:grpSpPr>
        <p:sp>
          <p:nvSpPr>
            <p:cNvPr id="139" name=""/>
            <p:cNvSpPr/>
            <p:nvPr/>
          </p:nvSpPr>
          <p:spPr>
            <a:xfrm>
              <a:off x="1066680" y="2057400"/>
              <a:ext cx="685800" cy="2286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52480" y="2057400"/>
              <a:ext cx="6858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38280" y="2057400"/>
              <a:ext cx="2743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53080" y="2057400"/>
              <a:ext cx="20574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38280" y="2057400"/>
              <a:ext cx="685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24080" y="2057400"/>
              <a:ext cx="685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9880" y="2057400"/>
              <a:ext cx="685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53080" y="2057400"/>
              <a:ext cx="685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8880" y="2057400"/>
              <a:ext cx="685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81480" y="2057400"/>
              <a:ext cx="685800" cy="2286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67280" y="2057400"/>
              <a:ext cx="6858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7080" y="2286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81080" y="22860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1520" y="2286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7320" y="2286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68320" y="2286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54120" y="2286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64320" y="2286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8320" y="22860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066680" y="32767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32767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38280" y="3276720"/>
            <a:ext cx="2743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3276720"/>
            <a:ext cx="2057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3276720"/>
            <a:ext cx="6858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3276720"/>
            <a:ext cx="6858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32767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32767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38880" y="32767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276720"/>
            <a:ext cx="6858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3276720"/>
            <a:ext cx="6858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708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3505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11520" y="3505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7320" y="3505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8320" y="3505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4120" y="3505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432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35053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1DAC-FEF4-4D7F-9FEA-3D2204CEED7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orithm for Selecting TX Slo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(n) = 0, if hop(2*n) and hop(2*n+1) are both bad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if hop(2*n) is bad and hop(2*n+1) is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 if hop(2*n) is good and hop(2*n+1) is 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 if both are good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Slot=0; MaxScore=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(n=0;n&lt;3;n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Score(n)&gt;MaxSc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Slot=2*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Score = Score(n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2438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2438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2438280"/>
            <a:ext cx="2743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9880" y="2438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438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2438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8680" y="2666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2666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9920" y="2666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5720" y="2666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920" y="2666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2666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68320" y="1981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39920" y="1981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5720" y="1981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560" y="1981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19810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50080" y="19810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2680" y="28954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8320" y="2895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9920" y="2895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560" y="2895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76920" y="5105520"/>
            <a:ext cx="2819160" cy="761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lecting a pair of slo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 the maxim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6177-BB63-4500-AE8A-6DC8E35EE3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ulation Resul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NET models for 802.11b and BT base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nsidered collisions in radio li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band packets that overlap in time result in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ision meant packet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assumption for the considered scenario (&lt;3 feet separation) and voice payload’s tolerance for random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802.11b stations and two BT stations in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B8C1-2366-4851-BD7B-42A41B2D087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NET Scenari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scenario" descr=""/>
          <p:cNvPicPr/>
          <p:nvPr/>
        </p:nvPicPr>
        <p:blipFill>
          <a:blip r:embed="rId1"/>
          <a:stretch/>
        </p:blipFill>
        <p:spPr>
          <a:xfrm>
            <a:off x="952560" y="1447920"/>
            <a:ext cx="7200720" cy="497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11A2-5A71-4935-8A2C-0C856C1486F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ulation Results – Key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changes from first 15 sec (BT silence) to the second 15 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e enhanced voice link always outperforms HV3 and HV1 links for both BT throughput and 802.11b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HV3 is better than HV1 for coex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e changes in behavior when loads on 802.11b networks change (from 5Mbps -&gt;2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200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42A-69A9-4B4A-9975-4027655AAF7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V1 Packe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12440" y="5715000"/>
            <a:ext cx="1312920" cy="580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LAN Loa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5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bt_HV1_wlan_2000_0.001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117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67A7-7954-4A53-B033-FADBEB05F78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V3 Pack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12440" y="5715000"/>
            <a:ext cx="1312920" cy="580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LAN Loa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5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bt_HV3_wlan_2000_0.001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811760" cy="501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3F22-E796-4288-B5C6-176F25DD35D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Voice Li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12440" y="5715000"/>
            <a:ext cx="1312920" cy="580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LAN Loa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5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bt_Proposed_Method_wlan_2000_0.001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811760" cy="501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3260-79A9-44F0-8785-1A7F03BA07F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T Master-Slave Throughpu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bt_master_throughput1_wlan_2000_0.001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811760" cy="4971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012440" y="5715000"/>
            <a:ext cx="1312920" cy="580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LAN Loa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5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33D7-BE7A-4562-9705-238A0B4CE0B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our ACL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updated proposal to improve the BT voice link quality while improving 802.11b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s for improving BT voice li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ng HV3 packet as default packet type for SCO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voice link: allow Master flexibility to search for best TX slots given delay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results that confirm significant improvement in throughput for both BT and 802.1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802C-24AC-46B8-99C7-E70455E7FA1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1b Throughpu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wlan_throughput1_wlan_2000_0.001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811760" cy="49719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012440" y="5715000"/>
            <a:ext cx="1312920" cy="580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LAN Loa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5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8959-4F77-40A0-B9D0-67043706499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T Master-Slave Throughpu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12440" y="5715000"/>
            <a:ext cx="1312920" cy="580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LAN Loa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bt_master_throughput1_wlan_500_0.002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811760" cy="497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D216-EDE5-4223-A0C1-225BA5D6D14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1b Throughpu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12440" y="5715000"/>
            <a:ext cx="1312920" cy="580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LAN Loa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wlan_throughput1_wlan_500_0.002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811760" cy="497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8216-E0FA-47BD-8CAA-252BBA117C1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T Master-Slave Throughpu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12440" y="5715000"/>
            <a:ext cx="1312920" cy="580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LAN Loa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00k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bt_master_throughput1_wlan_500_0.02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811760" cy="497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E43-DCE8-4A75-BB28-AB09F6A4408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1b Throughpu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12440" y="5715000"/>
            <a:ext cx="1312920" cy="580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LAN Loa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00k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wlan_throughput1_wlan_500_0.02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811760" cy="497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D92B-F178-4FCE-828F-570F2A17625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s for enhancing voice links for B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V3 packet as default SCO packe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voice link using new EV3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simulation data demonstrates that the proposed methods significantly improve coexisten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ges to the current BT specs, just new u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implementation through software upg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A243-8863-4D76-9542-C5830A4E4B7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(2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Questionnai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ollabo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n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CO packe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y Imp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upgrade for most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ility with Non-coexistence De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 back to HV3 packet for non-coexistenc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4372-F5AA-426F-8532-966CE0904F6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(3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valuation Questionnai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es of Oper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PCF and DCF for 802.1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ce payload for 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and Data Supp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n higher lay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ly 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n Power Manag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3DF-BC41-49F3-92FC-D599A4E769F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ACL Propos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2286000"/>
            <a:ext cx="7925040" cy="34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packet type selection considering slot tim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C, CRC based on channel condition and Q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M1, DM3, DM5, DH1, DH3, DH5,AUX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packet payload length selection: fra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link configuration: flow control, rat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3E4A-EBCC-4EF9-AE5F-3D205B23A01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 Link Coexistence 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t_HV1_wlan_2000_0.001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117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8880-B6FF-41AA-AE84-8AEF7E5C5B6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 Link Coexistence Problem and Scen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ous problem that needs urgent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applications are among the most important applications for 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acket losses for BT SCO links under 802.11b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hroughput drop for 802.11b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d &gt; 10 feet:  minor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when &lt;10 feet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dependent on 802.11b duty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AF37-0FB5-4403-8B11-F63E717D0A1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ey Id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05740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V3 packet type is the most coexistence friendly compared with HV1 and HV2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the master to search for the best TX slots given a delay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8155-EB52-4CB1-8043-736BD829821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ice Payload and SCO Pack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oS requirement of voice paylo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M coding:    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random errors) good quality is ret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start to notice artifacts, but still acce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SD coding:  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good quality is ret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start to notice artifacts, but still acce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ptible errors mostly come from collisions (really high BER or fail to decode the BT packet hea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V1 vs. HV2 vs. H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 payload length: 80, 160, 240 bits (1.25ms, 2.5ms, 3.75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co = 2, 4,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C 1/3, 2/3, 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248-F8E2-4B5C-BE2F-E702A45F7E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1b Channel Access Ti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2895480"/>
            <a:ext cx="69278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33680" y="2602080"/>
            <a:ext cx="1579320" cy="296640"/>
          </a:xfrm>
          <a:prstGeom prst="parallelogram">
            <a:avLst>
              <a:gd name="adj" fmla="val 133101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y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22720" y="2195640"/>
            <a:ext cx="0" cy="68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78800" y="230040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22720" y="2563920"/>
            <a:ext cx="426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27360" y="2589120"/>
            <a:ext cx="1590840" cy="297000"/>
          </a:xfrm>
          <a:prstGeom prst="parallelogram">
            <a:avLst>
              <a:gd name="adj" fmla="val 13390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-off Win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7680" y="228600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um I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24320" y="2911320"/>
            <a:ext cx="1138320" cy="297000"/>
          </a:xfrm>
          <a:prstGeom prst="parallelogram">
            <a:avLst>
              <a:gd name="adj" fmla="val 9581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27560" y="1741320"/>
            <a:ext cx="0" cy="152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78480" y="2654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2590920"/>
            <a:ext cx="699840" cy="296640"/>
          </a:xfrm>
          <a:prstGeom prst="parallelogram">
            <a:avLst>
              <a:gd name="adj" fmla="val 58981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44840" y="211788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Exchange 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00120" y="17953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233680" y="1927080"/>
            <a:ext cx="747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91520" y="1752480"/>
            <a:ext cx="0" cy="152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2666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24382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2743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00800" y="19051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5560" y="17524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b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657240" y="1905120"/>
            <a:ext cx="747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800600" y="190512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1676520"/>
            <a:ext cx="0" cy="12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59960" y="3200400"/>
            <a:ext cx="726588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F=   10us            DIF = 50us      aSlot_time = 20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bf =  N x aS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f=PLCP Preamble + Header =  192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um Time Needed (no back-off and payload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= DIFS+Tf+SIFS+Tf=50+192+10+192=444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0bytes Payload (add back-off and Payload at 11Mbps):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=16xaSlot+Tm+400=1164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needs about 2 BT Slot time for transmitting one average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11Mbps 802.11b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block of time is needed by 802.11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D18B-F90A-4FF3-97CD-5D17559C4A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aptive SCO Link Configu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: Use HV3 packet as default (more co-existence friend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5160" y="4419720"/>
            <a:ext cx="5764320" cy="19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 more time for 802.11 trans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FEC in HV3 is not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tolerance of random 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C does not help during 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less often – good for saving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66680" y="2438280"/>
            <a:ext cx="685800" cy="304560"/>
            <a:chOff x="1066680" y="2438280"/>
            <a:chExt cx="685800" cy="304560"/>
          </a:xfrm>
        </p:grpSpPr>
        <p:sp>
          <p:nvSpPr>
            <p:cNvPr id="88" name=""/>
            <p:cNvSpPr/>
            <p:nvPr/>
          </p:nvSpPr>
          <p:spPr>
            <a:xfrm>
              <a:off x="1066680" y="2438280"/>
              <a:ext cx="304920" cy="3045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1600" y="2438280"/>
              <a:ext cx="3808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752480" y="2438280"/>
            <a:ext cx="685800" cy="304560"/>
            <a:chOff x="1752480" y="2438280"/>
            <a:chExt cx="685800" cy="304560"/>
          </a:xfrm>
        </p:grpSpPr>
        <p:sp>
          <p:nvSpPr>
            <p:cNvPr id="91" name=""/>
            <p:cNvSpPr/>
            <p:nvPr/>
          </p:nvSpPr>
          <p:spPr>
            <a:xfrm>
              <a:off x="1752480" y="2438280"/>
              <a:ext cx="304920" cy="3045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7400" y="2438280"/>
              <a:ext cx="3808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438280" y="2438280"/>
            <a:ext cx="685800" cy="304560"/>
            <a:chOff x="2438280" y="2438280"/>
            <a:chExt cx="685800" cy="304560"/>
          </a:xfrm>
        </p:grpSpPr>
        <p:sp>
          <p:nvSpPr>
            <p:cNvPr id="94" name=""/>
            <p:cNvSpPr/>
            <p:nvPr/>
          </p:nvSpPr>
          <p:spPr>
            <a:xfrm>
              <a:off x="2438280" y="2438280"/>
              <a:ext cx="304920" cy="3045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43200" y="2438280"/>
              <a:ext cx="3808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124080" y="2438280"/>
            <a:ext cx="685800" cy="304560"/>
            <a:chOff x="3124080" y="2438280"/>
            <a:chExt cx="685800" cy="304560"/>
          </a:xfrm>
        </p:grpSpPr>
        <p:sp>
          <p:nvSpPr>
            <p:cNvPr id="97" name=""/>
            <p:cNvSpPr/>
            <p:nvPr/>
          </p:nvSpPr>
          <p:spPr>
            <a:xfrm>
              <a:off x="3124080" y="2438280"/>
              <a:ext cx="304920" cy="3045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9000" y="2438280"/>
              <a:ext cx="3808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809880" y="2438280"/>
            <a:ext cx="685800" cy="304560"/>
            <a:chOff x="3809880" y="2438280"/>
            <a:chExt cx="685800" cy="304560"/>
          </a:xfrm>
        </p:grpSpPr>
        <p:sp>
          <p:nvSpPr>
            <p:cNvPr id="100" name=""/>
            <p:cNvSpPr/>
            <p:nvPr/>
          </p:nvSpPr>
          <p:spPr>
            <a:xfrm>
              <a:off x="3809880" y="2438280"/>
              <a:ext cx="304920" cy="3045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4800" y="2438280"/>
              <a:ext cx="3808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495680" y="2438280"/>
            <a:ext cx="685800" cy="304560"/>
            <a:chOff x="4495680" y="2438280"/>
            <a:chExt cx="685800" cy="304560"/>
          </a:xfrm>
        </p:grpSpPr>
        <p:sp>
          <p:nvSpPr>
            <p:cNvPr id="103" name=""/>
            <p:cNvSpPr/>
            <p:nvPr/>
          </p:nvSpPr>
          <p:spPr>
            <a:xfrm>
              <a:off x="4495680" y="2438280"/>
              <a:ext cx="304920" cy="3045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00600" y="2438280"/>
              <a:ext cx="3808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181480" y="2438280"/>
            <a:ext cx="685800" cy="304560"/>
            <a:chOff x="5181480" y="2438280"/>
            <a:chExt cx="685800" cy="304560"/>
          </a:xfrm>
        </p:grpSpPr>
        <p:sp>
          <p:nvSpPr>
            <p:cNvPr id="106" name=""/>
            <p:cNvSpPr/>
            <p:nvPr/>
          </p:nvSpPr>
          <p:spPr>
            <a:xfrm>
              <a:off x="5181480" y="2438280"/>
              <a:ext cx="304920" cy="3045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86400" y="2438280"/>
              <a:ext cx="3808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867280" y="2438280"/>
            <a:ext cx="685800" cy="304560"/>
            <a:chOff x="5867280" y="2438280"/>
            <a:chExt cx="685800" cy="304560"/>
          </a:xfrm>
        </p:grpSpPr>
        <p:sp>
          <p:nvSpPr>
            <p:cNvPr id="109" name=""/>
            <p:cNvSpPr/>
            <p:nvPr/>
          </p:nvSpPr>
          <p:spPr>
            <a:xfrm>
              <a:off x="5867280" y="2438280"/>
              <a:ext cx="304920" cy="3045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72200" y="2438280"/>
              <a:ext cx="3808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066680" y="3429000"/>
            <a:ext cx="30492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342900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3429000"/>
            <a:ext cx="30492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342900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3429000"/>
            <a:ext cx="2743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3429000"/>
            <a:ext cx="2057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553080" y="2438280"/>
            <a:ext cx="685800" cy="304560"/>
            <a:chOff x="6553080" y="2438280"/>
            <a:chExt cx="685800" cy="304560"/>
          </a:xfrm>
        </p:grpSpPr>
        <p:sp>
          <p:nvSpPr>
            <p:cNvPr id="118" name=""/>
            <p:cNvSpPr/>
            <p:nvPr/>
          </p:nvSpPr>
          <p:spPr>
            <a:xfrm>
              <a:off x="6553080" y="2438280"/>
              <a:ext cx="304920" cy="3045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58000" y="2438280"/>
              <a:ext cx="3808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238880" y="2438280"/>
            <a:ext cx="685800" cy="304560"/>
            <a:chOff x="7238880" y="2438280"/>
            <a:chExt cx="685800" cy="304560"/>
          </a:xfrm>
        </p:grpSpPr>
        <p:sp>
          <p:nvSpPr>
            <p:cNvPr id="121" name=""/>
            <p:cNvSpPr/>
            <p:nvPr/>
          </p:nvSpPr>
          <p:spPr>
            <a:xfrm>
              <a:off x="7238880" y="2438280"/>
              <a:ext cx="304920" cy="3045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43800" y="2438280"/>
              <a:ext cx="3808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924680" y="2438280"/>
            <a:ext cx="685800" cy="304560"/>
            <a:chOff x="7924680" y="2438280"/>
            <a:chExt cx="685800" cy="304560"/>
          </a:xfrm>
        </p:grpSpPr>
        <p:sp>
          <p:nvSpPr>
            <p:cNvPr id="124" name=""/>
            <p:cNvSpPr/>
            <p:nvPr/>
          </p:nvSpPr>
          <p:spPr>
            <a:xfrm>
              <a:off x="7924680" y="2438280"/>
              <a:ext cx="304920" cy="3045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229600" y="2438280"/>
              <a:ext cx="38088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732840" y="2819520"/>
            <a:ext cx="14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V1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440" y="38098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V3 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3429000"/>
            <a:ext cx="30492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42900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429000"/>
            <a:ext cx="30492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342900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63C1-DC1B-444B-9FDE-7BB529C3C1B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/>
  <dc:description>&lt;doc#&gt;</dc:description>
  <dc:language>en-US</dc:language>
  <cp:lastModifiedBy>Jie Liang</cp:lastModifiedBy>
  <cp:lastPrinted>1998-02-10T13:28:06Z</cp:lastPrinted>
  <dcterms:modified xsi:type="dcterms:W3CDTF">2001-03-13T14:32:18Z</dcterms:modified>
  <cp:revision>38</cp:revision>
  <dc:subject>IEEE 802.15 &lt;subject&gt;</dc:subject>
  <dc:title>&lt;title&gt;</dc:title>
</cp:coreProperties>
</file>