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30.wmf" ContentType="image/x-wmf"/>
  <Override PartName="/ppt/media/image13.jpeg" ContentType="image/jpeg"/>
  <Override PartName="/ppt/media/image32.wmf" ContentType="image/x-wmf"/>
  <Override PartName="/ppt/media/image7.wmf" ContentType="image/x-wmf"/>
  <Override PartName="/ppt/media/image33.wmf" ContentType="image/x-wmf"/>
  <Override PartName="/ppt/media/image8.wmf" ContentType="image/x-wmf"/>
  <Override PartName="/ppt/media/image12.wmf" ContentType="image/x-wmf"/>
  <Override PartName="/ppt/media/image39.png" ContentType="image/png"/>
  <Override PartName="/ppt/media/image37.png" ContentType="image/png"/>
  <Override PartName="/ppt/media/image40.wmf" ContentType="image/x-wmf"/>
  <Override PartName="/ppt/media/image38.png" ContentType="image/png"/>
  <Override PartName="/ppt/media/image41.png" ContentType="image/png"/>
  <Override PartName="/ppt/media/image9.wmf" ContentType="image/x-wmf"/>
  <Override PartName="/ppt/media/image42.png" ContentType="image/png"/>
  <Override PartName="/ppt/media/image25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F092-5633-4FEF-8B93-5DB4F9BD9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182C-AEA6-4D49-906F-CC63D1601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975F-7655-4A9A-BEDD-E1F008E5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32E-08B4-4E46-BC5C-C394CC88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CE3-3C7C-4F80-A55D-9C21DFF5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E97-5FD5-4E0C-8124-DFDA1487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F85-A2B2-4080-B9E8-6B8C7203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ABF-0FB8-4D94-888C-DDA12367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24D-8287-414A-8A5C-24E6FA79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9C4-1324-46F5-B115-8C6D5E25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02E-3348-4EA2-9C2D-7FA7DED6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49A-D8D1-4CE2-A6C3-E907C58D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F13-70F7-438B-A130-DB19CCD5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D8B-33F6-4B9C-921E-5AB86D1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53B-39ED-4163-8B01-3D7D32CC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455623-B201-48FC-A139-17468ADC8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18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4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6.wmf"/><Relationship Id="rId4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1 WPAN™ “Standardization” of Bluetooth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57560" y="429912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m Sie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 Group Technical Sta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61279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tooth is a trademark Telefonaktiebolaget L M Ericsson, Sw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62360" y="5897520"/>
            <a:ext cx="33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 is a trademark of the IE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23A-5E92-4918-BC34-F65ACA4FADF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ing the D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4760" y="695160"/>
            <a:ext cx="70693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447920"/>
            <a:ext cx="7772400" cy="4800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3657600"/>
            <a:ext cx="1400040" cy="838080"/>
          </a:xfrm>
          <a:prstGeom prst="rect">
            <a:avLst/>
          </a:prstGeom>
          <a:solidFill>
            <a:srgbClr val="fc3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495680"/>
            <a:ext cx="1476360" cy="914400"/>
          </a:xfrm>
          <a:prstGeom prst="rect">
            <a:avLst/>
          </a:prstGeom>
          <a:solidFill>
            <a:srgbClr val="fc3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0880" y="1143000"/>
          <a:ext cx="21798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2179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4920" y="1968480"/>
          <a:ext cx="137160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68480"/>
                    <a:ext cx="13716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57200" y="2514600"/>
          <a:ext cx="13716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514600"/>
                    <a:ext cx="13716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57200" y="3124080"/>
          <a:ext cx="137160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13716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57200" y="3809880"/>
          <a:ext cx="14479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809880"/>
                    <a:ext cx="14479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9480" y="4495680"/>
          <a:ext cx="137160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480" y="4495680"/>
                    <a:ext cx="1371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120" y="5410080"/>
            <a:ext cx="1400040" cy="838440"/>
          </a:xfrm>
          <a:prstGeom prst="rect">
            <a:avLst/>
          </a:prstGeom>
          <a:solidFill>
            <a:srgbClr val="fc3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5410080"/>
          <a:ext cx="1371600" cy="78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5410080"/>
                    <a:ext cx="13716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514600" y="1447920"/>
          <a:ext cx="2286000" cy="14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1447920"/>
                    <a:ext cx="22860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590920" y="2971800"/>
          <a:ext cx="2239920" cy="320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90920" y="2971800"/>
                    <a:ext cx="22399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952880" y="1752480"/>
            <a:ext cx="1400400" cy="838440"/>
          </a:xfrm>
          <a:prstGeom prst="rect">
            <a:avLst/>
          </a:prstGeom>
          <a:solidFill>
            <a:srgbClr val="fc3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029200" y="1752480"/>
          <a:ext cx="1219320" cy="844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29200" y="1752480"/>
                    <a:ext cx="12193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05520" y="2744640"/>
          <a:ext cx="1218960" cy="82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05520" y="2744640"/>
                    <a:ext cx="12189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181480" y="3657600"/>
          <a:ext cx="1182960" cy="819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81480" y="3657600"/>
                    <a:ext cx="11829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257800" y="5334120"/>
          <a:ext cx="1219320" cy="771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57800" y="5334120"/>
                    <a:ext cx="1219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124080" y="1981080"/>
          <a:ext cx="1258920" cy="849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124080" y="1981080"/>
                    <a:ext cx="125892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66880" y="3429000"/>
          <a:ext cx="1258920" cy="612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66880" y="3429000"/>
                    <a:ext cx="1258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819520" y="4191120"/>
          <a:ext cx="1218960" cy="787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819520" y="4191120"/>
                    <a:ext cx="12189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200400" y="4952880"/>
          <a:ext cx="1106640" cy="614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200400" y="4952880"/>
                    <a:ext cx="11066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581280" y="5562720"/>
          <a:ext cx="1030320" cy="5094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81280" y="5562720"/>
                    <a:ext cx="1030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781680" y="1676520"/>
          <a:ext cx="1219320" cy="8157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781680" y="1676520"/>
                    <a:ext cx="12193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858000" y="2590920"/>
          <a:ext cx="1190520" cy="796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858000" y="2590920"/>
                    <a:ext cx="119052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858000" y="3505320"/>
          <a:ext cx="1190520" cy="7966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858000" y="3505320"/>
                    <a:ext cx="119052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858000" y="4419720"/>
          <a:ext cx="1190520" cy="796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858000" y="4419720"/>
                    <a:ext cx="119052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58000" y="5334120"/>
          <a:ext cx="1190520" cy="7966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858000" y="5334120"/>
                    <a:ext cx="119052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DAB-F784-428B-B05A-270F5E0FF6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PAN Architec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2480" y="1432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"/>
                <a:ea typeface="Times New Roman"/>
              </a:rPr>
              <a:t>Wireless personal area networks are different than WLANs in several functional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lbertu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Medium"/>
                <a:ea typeface="Times New Roman"/>
              </a:rPr>
              <a:t>Control of th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lbertu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Medium"/>
                <a:ea typeface="Times New Roman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lbertu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Medium"/>
                <a:ea typeface="Times New Roman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lbertu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Medium"/>
                <a:ea typeface="Times New Roman"/>
              </a:rPr>
              <a:t>Number of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lbertu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Medium"/>
                <a:ea typeface="Times New Roman"/>
              </a:rPr>
              <a:t>Ownership of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lbertu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Medium"/>
                <a:ea typeface="Times New Roman"/>
              </a:rPr>
              <a:t>Nature of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lbertu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Medium"/>
                <a:ea typeface="Times New Roman"/>
              </a:rPr>
              <a:t>Lifetime of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lbertus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Medium"/>
                <a:ea typeface="Times New Roman"/>
              </a:rPr>
              <a:t>Relativ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"/>
                <a:ea typeface="Times New Roman"/>
              </a:rPr>
              <a:t>These differences are a result of the topological differences between the two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DF9-7F41-4E5E-9753-BBD057CFBC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ologies: Stars, Rings,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55800" y="1403280"/>
          <a:ext cx="5680080" cy="48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403280"/>
                    <a:ext cx="568008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841400" y="600876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74880" y="3378240"/>
            <a:ext cx="18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26400" y="3413160"/>
            <a:ext cx="18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33F-FFB7-4990-9C25-B322CD4B5A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0160" y="635040"/>
            <a:ext cx="7772400" cy="13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 verses W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</a:t>
            </a:r>
            <a:br>
              <a:rPr sz="3600"/>
            </a:b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(</a:t>
            </a:r>
            <a:r>
              <a:rPr b="1" lang="en-US" sz="2000" spc="-1" strike="noStrike" u="sng">
                <a:solidFill>
                  <a:srgbClr val="ff5050"/>
                </a:solidFill>
                <a:uFillTx/>
                <a:latin typeface="Times New Roman"/>
              </a:rPr>
              <a:t>WARNING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:gross simplifications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AN is outwardly lo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s with wired infrastructure (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imeframe hours to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expens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AN is inwardly lo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s with person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imeframe seconds to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mobil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get in the w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04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905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626-E778-47D5-8FDB-C018179B5D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PAN fr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30480" y="1814400"/>
          <a:ext cx="66211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814400"/>
                    <a:ext cx="66211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FC3-0165-43AC-A6C0-96589FF03E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LAN Fr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411200" y="1959120"/>
          <a:ext cx="65707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59120"/>
                    <a:ext cx="65707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0DE-E425-4BA9-94E8-AF9F12DDF6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1 SAPs (1 of 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-UNITDATA request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_addres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ation_addres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g_inform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_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64A-FCEF-4263-8BCD-20EC66614C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1 SAPs (2 of 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-UNITDATA indication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_addres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ation_addres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g_inform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ption_stat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_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E15-0FF9-495D-8ECD-1300E9E40E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1 SAPs (3 of 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-UNITDATA-STATUS indication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_addres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ation_addres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_stat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_priorit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_service_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D63-98C1-4E77-880C-EA954A9310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1 SAPs (4 of 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327400" y="1585800"/>
          <a:ext cx="503856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1585800"/>
                    <a:ext cx="50385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A56-1CD9-48EF-9995-B924F60E4C9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1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the Draf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 of WP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ANs vs. W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.1 LLC S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EEE/Bluetooth collabo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954-C218-43A9-9AE9-46F6D5C793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1 S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76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d a picture of what the structure of the BT spec is in IEEE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ed to uncover holes in existing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bench testing and validating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common language between the SIG and the IE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of TTCN from SDL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6A3-B5C1-4175-B99E-F698E333599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8280" y="595440"/>
            <a:ext cx="748332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Bluetooth/IEEE Collab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89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 continues to work with the Bluetooth Special Inter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of E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” updates of the Spec from the SIG – current version of Draft includes v1.1 Bluetooth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 for future revisio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1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now is an overlap of “ownership” of the two doc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0FC-48BE-40AE-B40F-B5D3A1858A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up Sl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kely not sh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496-3DBB-4D8B-97A3-F833E1E4A6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:  An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1400" y="1604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ts val="3498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ed in 1884 (AIEE &amp; I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ts val="3498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ship was 360,00 Dec99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% USA &amp; 33% Non-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ts val="3498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s 30 percent of the world's published literature in electrical engineering, computers and control technology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ts val="3498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lds annually more than 300 major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ts val="3498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more than 800 active standards with 700 under develop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F12-E263-4CAA-A5FA-4CAD2C1B7E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2800" y="612360"/>
            <a:ext cx="8020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 LAN/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8400" y="1376280"/>
            <a:ext cx="79200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EE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ject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80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cal an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tropolitan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twork Standards Committ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edited by ANSI, Sponsored by IEEE Computer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, Token Ring, Wireless, Cable Modem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ing, VLAN, Secur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three times per year </a:t>
            </a:r>
            <a:br>
              <a:rPr sz="24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400 individuals, 15% non-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equivalent IEC/ISO JTC 1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TC 1 series of equivalent standards are ISO 8802-n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U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ttp://www.ieee802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5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ttp://www.ieee802.org/1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971-FAFA-432A-80FC-D7C7557C61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Standards Princip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95080" y="1349280"/>
            <a:ext cx="793908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Due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established rul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sens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ghly desired, near unanimity is generally th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Open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all individuals, world-wide, have access to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Bal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tained by having balloting group include both developers and us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Right to App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h procedural and technical issues at any time during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896-8958-4FD8-ACC6-3D4AAF66B7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at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20800" y="1644480"/>
          <a:ext cx="7261200" cy="47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644480"/>
                    <a:ext cx="726120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911-59E5-44EB-8794-0C3913D167B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dden Nod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95640" y="1344600"/>
          <a:ext cx="2955960" cy="50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5640" y="1344600"/>
                    <a:ext cx="295596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446-78F6-465B-8E95-287A5D20D28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802.15.1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8040" y="1437840"/>
            <a:ext cx="7772400" cy="45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sented to Working Group and then IEEE 802 Executive Committee September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layed for Bluetooth V1.1 public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firmation Letter Ballot started 9Feb01, ended 11Mar01: PASSED, 46/4/1 or 92% affi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ment Resolution at March01 IEEE meeting in Hilton Head, SC.: all comments proce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xt step: editing; 10 day confirmation ballot ~2April0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N/MAN 802.15 Sponsor Ballot(s) during the Summer or F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Com will submit Final Draft Std for approval upon successful completion of the Sponsor Ballo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434-3163-42B3-A63E-957733F6DD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361800"/>
            <a:ext cx="833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cess of Creating an IEEE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5640" y="1631880"/>
          <a:ext cx="784836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631880"/>
                    <a:ext cx="78483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817640" y="5649840"/>
            <a:ext cx="2362320" cy="914400"/>
          </a:xfrm>
          <a:prstGeom prst="upArrowCallout">
            <a:avLst>
              <a:gd name="adj1" fmla="val 64592"/>
              <a:gd name="adj2" fmla="val 64587"/>
              <a:gd name="adj3" fmla="val 16667"/>
              <a:gd name="adj4" fmla="val 6666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You ar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BD2-35D5-4183-B200-71EEFF98F6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6202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Specification (SIG ver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325600" y="1763640"/>
            <a:ext cx="4471560" cy="4571640"/>
            <a:chOff x="2325600" y="1763640"/>
            <a:chExt cx="4471560" cy="4571640"/>
          </a:xfrm>
        </p:grpSpPr>
        <p:sp>
          <p:nvSpPr>
            <p:cNvPr id="66" name=""/>
            <p:cNvSpPr/>
            <p:nvPr/>
          </p:nvSpPr>
          <p:spPr>
            <a:xfrm>
              <a:off x="2498760" y="5880960"/>
              <a:ext cx="3290760" cy="4543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98760" y="5323320"/>
              <a:ext cx="3290760" cy="4878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98760" y="4275360"/>
              <a:ext cx="805320" cy="9777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71040" y="4799520"/>
              <a:ext cx="2418840" cy="45360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71040" y="4275360"/>
              <a:ext cx="1544400" cy="4543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98760" y="2906640"/>
              <a:ext cx="3088800" cy="13057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44080" y="32994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92200" y="2321640"/>
              <a:ext cx="834480" cy="489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13440" y="2321640"/>
              <a:ext cx="535320" cy="489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35160" y="2321640"/>
              <a:ext cx="1022040" cy="489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07600" y="2334960"/>
              <a:ext cx="619920" cy="489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17400" y="2321640"/>
              <a:ext cx="1679760" cy="241992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25600" y="1763640"/>
              <a:ext cx="4471560" cy="454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7809800">
              <a:off x="5310360" y="3358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48E-4E16-4245-9987-FE4D448911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Specification (IEEE ver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luetooth_block_r5_base" descr=""/>
          <p:cNvPicPr/>
          <p:nvPr/>
        </p:nvPicPr>
        <p:blipFill>
          <a:blip r:embed="rId1"/>
          <a:stretch/>
        </p:blipFill>
        <p:spPr>
          <a:xfrm>
            <a:off x="1890720" y="1538280"/>
            <a:ext cx="5181480" cy="49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71C-F5C2-45EE-8032-AD111F4BA6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roject 802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Bluetooth_block_r4_ISO_only" descr=""/>
          <p:cNvPicPr/>
          <p:nvPr/>
        </p:nvPicPr>
        <p:blipFill>
          <a:blip r:embed="rId1"/>
          <a:stretch/>
        </p:blipFill>
        <p:spPr>
          <a:xfrm>
            <a:off x="1947960" y="1380960"/>
            <a:ext cx="3448080" cy="4981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342120" y="460224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774600" y="2887560"/>
            <a:ext cx="4142160" cy="368280"/>
            <a:chOff x="3774600" y="2887560"/>
            <a:chExt cx="4142160" cy="368280"/>
          </a:xfrm>
        </p:grpSpPr>
        <p:sp>
          <p:nvSpPr>
            <p:cNvPr id="86" name=""/>
            <p:cNvSpPr/>
            <p:nvPr/>
          </p:nvSpPr>
          <p:spPr>
            <a:xfrm>
              <a:off x="4206600" y="2887560"/>
              <a:ext cx="371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net Protocol (I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774600" y="309708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759120" y="1581120"/>
            <a:ext cx="2851200" cy="368280"/>
            <a:chOff x="3759120" y="1581120"/>
            <a:chExt cx="2851200" cy="368280"/>
          </a:xfrm>
        </p:grpSpPr>
        <p:sp>
          <p:nvSpPr>
            <p:cNvPr id="89" name=""/>
            <p:cNvSpPr/>
            <p:nvPr/>
          </p:nvSpPr>
          <p:spPr>
            <a:xfrm>
              <a:off x="4246560" y="158112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.400 and X.500 E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759120" y="178740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779640" y="2435400"/>
            <a:ext cx="4097520" cy="368280"/>
            <a:chOff x="3779640" y="2435400"/>
            <a:chExt cx="4097520" cy="368280"/>
          </a:xfrm>
        </p:grpSpPr>
        <p:sp>
          <p:nvSpPr>
            <p:cNvPr id="92" name=""/>
            <p:cNvSpPr/>
            <p:nvPr/>
          </p:nvSpPr>
          <p:spPr>
            <a:xfrm>
              <a:off x="4167000" y="2435400"/>
              <a:ext cx="371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port Control Protocol (T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779640" y="265752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62640" y="43196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35600" y="4649760"/>
            <a:ext cx="235080" cy="884160"/>
          </a:xfrm>
          <a:prstGeom prst="upArrow">
            <a:avLst>
              <a:gd name="adj1" fmla="val 50000"/>
              <a:gd name="adj2" fmla="val 940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7160" y="3795840"/>
            <a:ext cx="235080" cy="884160"/>
          </a:xfrm>
          <a:prstGeom prst="upArrow">
            <a:avLst>
              <a:gd name="adj1" fmla="val 50000"/>
              <a:gd name="adj2" fmla="val 9402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AA8-6587-4670-8CC4-2EFA70E602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7094520" y="2925720"/>
          <a:ext cx="156852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4520" y="2925720"/>
                    <a:ext cx="156852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08040" y="347760"/>
            <a:ext cx="6842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Detail of IEEE P802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16040" y="1581120"/>
          <a:ext cx="2163960" cy="390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6040" y="1581120"/>
                    <a:ext cx="216396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76360" y="1579680"/>
          <a:ext cx="24177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360" y="1579680"/>
                    <a:ext cx="2417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46040" y="2882880"/>
          <a:ext cx="267192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6040" y="2882880"/>
                    <a:ext cx="26719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824040" y="4241880"/>
          <a:ext cx="22129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040" y="4241880"/>
                    <a:ext cx="2212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272120" y="2913120"/>
          <a:ext cx="2741400" cy="257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72120" y="2913120"/>
                    <a:ext cx="2741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440320" y="2166840"/>
          <a:ext cx="1908360" cy="116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40320" y="2166840"/>
                    <a:ext cx="190836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401920" y="5110200"/>
          <a:ext cx="3035160" cy="819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01920" y="5110200"/>
                    <a:ext cx="30351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254400" y="1455840"/>
          <a:ext cx="5154480" cy="4649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54400" y="1455840"/>
                    <a:ext cx="5154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FAE-BFCA-470D-89A2-02B7391EBB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5080" y="626760"/>
            <a:ext cx="696132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That Relate to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Bluetooth_block_r5_ISO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462880" cy="4689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29080" y="6257880"/>
            <a:ext cx="381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62F-97FD-4E63-83C0-AC31F7F00C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19:44:03Z</dcterms:created>
  <dc:creator>Inge Infante</dc:creator>
  <dc:description/>
  <dc:language>en-US</dc:language>
  <cp:lastModifiedBy>Ian Gifford &lt;giffordi@ieee.org&gt;</cp:lastModifiedBy>
  <cp:lastPrinted>1999-10-22T19:25:58Z</cp:lastPrinted>
  <dcterms:modified xsi:type="dcterms:W3CDTF">2001-03-20T23:47:07Z</dcterms:modified>
  <cp:revision>63</cp:revision>
  <dc:subject/>
  <dc:title>No Slide Title</dc:title>
</cp:coreProperties>
</file>