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4F2E5-A98A-4A91-A7E3-954BF6D60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15310-4C1A-4A99-87A9-A75152154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CEE6A-04B1-44AA-BA97-873D51910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7B27B-2DEB-414E-9E5C-F805C5519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7017D-1557-432B-8697-9BA383C1C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51ECA-CB8C-447C-A566-E58B7BFDC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816D1-39A5-4E87-8CC2-E48933433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E0438-24E6-487D-89A5-055B5F2FA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17CAB-A9BD-42BF-81C5-F4F458B7C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90D28-A227-404F-B997-83F7638AD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C2862-C64D-44C4-9D98-F18EA687A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EC46A-36C0-4CB5-8032-F209142C6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4FC754-456E-4C5F-AAB9-3078C4F90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6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554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MAC Committee Opening Report and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2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Heberling</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XtremeSpectr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8133 Leesburg Pike, Suite 700, Vienna, Virginia 22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703.749-0230 X, FAX: +1.703.749.0249, E-Mail: aheberling@xtremespectru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  </a:t>
            </a:r>
            <a:r>
              <a:rPr b="0" lang="en-US" sz="1600" spc="-1" strike="noStrike">
                <a:solidFill>
                  <a:srgbClr val="000000"/>
                </a:solidFill>
                <a:latin typeface="Times New Roman"/>
              </a:rPr>
              <a:t>Hilton Head TG3 MAC report and plan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 1) </a:t>
            </a:r>
            <a:r>
              <a:rPr b="0" lang="en-US" sz="1600" spc="-1" strike="noStrike">
                <a:solidFill>
                  <a:srgbClr val="000000"/>
                </a:solidFill>
                <a:latin typeface="Times New Roman"/>
              </a:rPr>
              <a:t>To report to the IEEE 802.15.3 regarding the activities of the IEEE 802.15.3 MAC committee since the Monterey meet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 To inform the IEEE 802.15.3 regarding the activities the TG3 MAC committee has planned for this meeting (Hilton Hea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llen D. Heberling, XtremeSpectrum</a:t>
            </a:r>
          </a:p>
        </p:txBody>
      </p:sp>
      <p:sp>
        <p:nvSpPr>
          <p:cNvPr id="3" name="PlaceHolder 2"/>
          <p:cNvSpPr>
            <a:spLocks noGrp="1"/>
          </p:cNvSpPr>
          <p:nvPr>
            <p:ph type="sldNum" idx="3"/>
          </p:nvPr>
        </p:nvSpPr>
        <p:spPr/>
        <p:txBody>
          <a:bodyPr/>
          <a:p>
            <a:fld id="{CCA6C375-2990-4A93-B187-614AB3841367}" type="slidenum">
              <a:t>1</a:t>
            </a:fld>
          </a:p>
        </p:txBody>
      </p:sp>
      <p:sp>
        <p:nvSpPr>
          <p:cNvPr id="4" name="PlaceHolder 3"/>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Clauses in Current TG3 MAC Baseline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day Evening MAC related present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1e Security presentation by J. Walk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167B6787-7233-4C81-9916-0B4529DA667F}" type="slidenum">
              <a:t>10</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Hilton Head </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 morning session these presentations will be giv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d walk through of MAC Functional Description Clause by R. Gubb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ed MAC Access presented by B. Shvodi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Detail regarding SC-TDMA presented by M. Schrad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C9B845AF-E343-48BB-B63B-3DF5624936EE}" type="slidenum">
              <a:t>11</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Hilton Head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nd prioritize new issues regarding MAC baseline cla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 amendments to the MAC clauses in the baseline docu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6F9F42EA-C180-4997-BB03-E2832D3636BE}" type="slidenum">
              <a:t>12</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Hilton Head </a:t>
            </a:r>
            <a:r>
              <a:rPr b="0" lang="en-US" sz="2800" spc="-1" strike="noStrike">
                <a:solidFill>
                  <a:srgbClr val="000000"/>
                </a:solidFill>
                <a:latin typeface="Times New Roman"/>
              </a:rPr>
              <a:t>continue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nesday morning:</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quest TG3 vote on accepting the baseline MAC clauses and amendment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nesday Afternoon:</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MAC committee Plan for the interval between the March Plenary and the May Interim meeting.</a:t>
            </a:r>
            <a:endParaRPr b="0" lang="en-US" sz="2800" spc="-1" strike="noStrike">
              <a:solidFill>
                <a:srgbClr val="000000"/>
              </a:solidFill>
              <a:latin typeface="Arial"/>
            </a:endParaRPr>
          </a:p>
          <a:p>
            <a:pPr lvl="1" marL="705600" indent="-2714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MAC committee tasks for the time leading up to Orlando</a:t>
            </a:r>
            <a:endParaRPr b="0" lang="en-US" sz="2000" spc="-1" strike="noStrike">
              <a:solidFill>
                <a:srgbClr val="000000"/>
              </a:solidFill>
              <a:latin typeface="Arial"/>
            </a:endParaRPr>
          </a:p>
          <a:p>
            <a:pPr lvl="1" marL="705600" indent="-2714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agreement on time and location for an ad-hoc MAC committee meeting before the next Interi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C63EE2D4-FA08-4271-A20E-534E07AC2990}" type="slidenum">
              <a:t>13</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Hilton Head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rsday Afterno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Hilton Head accomplishments per the MAC committ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MAC committee Activities Plan leading  into the Orlando interi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1BB89230-1190-4573-8BB3-1D10FA192FC4}" type="slidenum">
              <a:t>14</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going to be a full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committee members have worked hard on their respective cla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avail yourselves of the presentations and discussion ses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orward to your participation and commen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EA4447E8-4930-43BB-813B-EFEE09B9528A}" type="slidenum">
              <a:t>15</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Opening Report and Plan at Hilton Head</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FF8FA582-0288-4490-ABD8-7E4549839344}" type="slidenum">
              <a:t>2</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he TG3 MAC committee activities since the Monterey Interim me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of the various MAC clauses in the current bas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ies planned by the TG3 MAC committee for this we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D43446CA-DE68-42C8-B42E-CCA93EA295A2}" type="slidenum">
              <a:t>3</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a:t>
            </a:r>
            <a:br>
              <a:rPr sz="3600"/>
            </a:br>
            <a:r>
              <a:rPr b="0" lang="en-US" sz="3600" spc="-1" strike="noStrike">
                <a:solidFill>
                  <a:srgbClr val="000000"/>
                </a:solidFill>
                <a:latin typeface="Times New Roman"/>
              </a:rPr>
              <a:t>Committee Activities Report</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erence Calls Prior to Boulder meeting.</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identification and classification (see doc:01075r2P802.15_TG3-running-ConCall-minutes-MAC-subgroup.doc)</a:t>
            </a:r>
            <a:endParaRPr b="0" lang="en-US" sz="24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 hoc MAC committee meeting held in Boulder, CO. 8-9 February 2001</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ees: R. Gubbi, A. Heberling, P. Kinney, J. Kubler, B. Shvodian, M. Schrader, C. Rypinski, </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addressed ( see doc: 01075r2P802… )</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omise adopted- will be covered Tues. morn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2E98EEEA-8840-493A-8219-05A13AEF340A}" type="slidenum">
              <a:t>4</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a:t>
            </a:r>
            <a:br>
              <a:rPr sz="3600"/>
            </a:br>
            <a:r>
              <a:rPr b="0" lang="en-US" sz="3600" spc="-1" strike="noStrike">
                <a:solidFill>
                  <a:srgbClr val="000000"/>
                </a:solidFill>
                <a:latin typeface="Times New Roman"/>
              </a:rPr>
              <a:t>Committee Activities Report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erence Calls Post Boulder Meeting (</a:t>
            </a:r>
            <a:r>
              <a:rPr b="0" lang="en-US" sz="2400" spc="-1" strike="noStrike">
                <a:solidFill>
                  <a:srgbClr val="000000"/>
                </a:solidFill>
                <a:latin typeface="Arial"/>
              </a:rPr>
              <a:t>see doc:01075r2P802.15_TG3-running-ConCall-minutes-MAC-subgroup.doc</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Progress Reports regarding MAC clause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of issues (</a:t>
            </a:r>
            <a:r>
              <a:rPr b="0" lang="en-US" sz="2000" spc="-1" strike="noStrike">
                <a:solidFill>
                  <a:srgbClr val="000000"/>
                </a:solidFill>
                <a:latin typeface="Arial"/>
              </a:rPr>
              <a:t>see doc:01114r0P802.15_TG3-MAC-Open-Issues-List.xls)</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for Hilton Head meeti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7A2F490D-1295-4F38-99C9-49C385262523}" type="slidenum">
              <a:t>5</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Clauses in Current TG3 MAC Baseline Clause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and general description</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incomplet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a:t>
            </a:r>
            <a:endParaRPr b="0" lang="en-US" sz="24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s more detail</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s to be made consistent with MAC Functional Description</a:t>
            </a:r>
            <a:endParaRPr b="0" lang="en-US" sz="20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Layer Sap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extensive detail captured/written by R. Roberts</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a:t>
            </a:r>
            <a:endParaRPr b="0" lang="en-US" sz="24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s to include Stream control command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FEDDE2EE-15EC-4B39-8368-FC747F05D67C}" type="slidenum">
              <a:t>6</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Clauses in Current TG3 MAC Baseline Clauses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SAP</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a:t>
            </a:r>
            <a:endParaRPr b="0" lang="en-US" sz="24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ve detail captured/written by A. Heberling, and J. Ho. </a:t>
            </a:r>
            <a:endParaRPr b="0" lang="en-US" sz="20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not included in draft baseline.</a:t>
            </a:r>
            <a:endParaRPr b="0" lang="en-US" sz="20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Some parameters still need more definition.</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 Formats</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Extensive detail captured/written by R. Gubbi.</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Needs to have a consistency check of its frame types  with those described in the MLME cla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A9A2B01F-4BB6-47FD-9C9D-61CA7A67D286}" type="slidenum">
              <a:t>7</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Clauses in Current TG3 MAC Baseline Clauses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functional descrip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r>
              <a:rPr b="0" lang="en-US" sz="2400" spc="-1" strike="noStrike">
                <a:solidFill>
                  <a:srgbClr val="000000"/>
                </a:solidFill>
                <a:latin typeface="Arial"/>
              </a:rPr>
              <a:t>	</a:t>
            </a:r>
            <a:r>
              <a:rPr b="0" lang="en-US" sz="2400" spc="-1" strike="noStrike">
                <a:solidFill>
                  <a:srgbClr val="000000"/>
                </a:solidFill>
                <a:latin typeface="Arial"/>
              </a:rPr>
              <a:t>Extensive detail captured/written by R. Gubbi, P. Kinney/J. Kubler, and M. Schra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 architecture</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P access algorithm (GST and VST)  vs (GST or VST)</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fined sub-clauses ( Frag-De-frag, Transmit Power Control, Frame Exchange Sequence, et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A9B4D27D-CBBB-4B3E-BDEB-99A94EBE62FB}" type="slidenum">
              <a:t>8</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Clauses in Current TG3 MAC Baseline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of service (QoS) polic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Not star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N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cy and secur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Not star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MAC committee is considering leveraging research conducted by 802.11e Security task grou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D9970A4E-8609-4873-BE71-40A28692E527}" type="slidenum">
              <a:t>9</a:t>
            </a:fld>
          </a:p>
        </p:txBody>
      </p:sp>
      <p:sp>
        <p:nvSpPr>
          <p:cNvPr id="6" name="PlaceHolder 5"/>
          <p:cNvSpPr>
            <a:spLocks noGrp="1"/>
          </p:cNvSpPr>
          <p:nvPr>
            <p:ph type="dt" idx="1"/>
          </p:nvPr>
        </p:nvSpPr>
        <p:spPr/>
        <p:txBody>
          <a:bodyPr/>
          <a:p>
            <a:r>
              <a:rPr lang="en-US"/>
              <a:t>&lt;March 2001&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Allen Heberling</dc:creator>
  <dc:description>IEEE 802.15.3-01/xxxr0</dc:description>
  <dc:language>en-US</dc:language>
  <cp:lastModifiedBy>aheberl</cp:lastModifiedBy>
  <cp:lastPrinted>1998-02-10T13:28:06Z</cp:lastPrinted>
  <dcterms:modified xsi:type="dcterms:W3CDTF">2001-03-12T20:08:35Z</dcterms:modified>
  <cp:revision>145</cp:revision>
  <dc:subject>IEEE 802.15.3 TG3 MAC Committee Opening Report and Plan</dc:subject>
  <dc:title>TG3 MAC Committee Opening Report and Plan </dc:title>
</cp:coreProperties>
</file>