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CEB-C63D-491C-84A0-6B9B56EB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EBD-C004-406B-B316-D8B44C90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ABE-0860-486C-ADF9-20863BCA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D51-FD53-4AB2-98D7-C2B12340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723-F588-4D26-AD69-0BD0F8B9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2D0-F38D-4626-8482-97DF930C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1D8-0BC1-42F7-836A-85360873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A74-C12F-4D93-A1D3-3BB1A6F4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217-E8A5-4969-91B5-85857AD6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330-1E51-4A38-8574-B21EFBAF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EA3-6B1A-48B5-8856-93F6C200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41D-E46C-45CA-A7BC-6DF204E9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F02303-405F-4715-B606-024901908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8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Wireless Coexistence Group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Steve Shellhammer, Symbol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D07-C873-4A1B-93F9-E76B63B5721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802.15 became a Working Group it was required to “Coexist” with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the formation 802.15 Task Group 2 on Coexistence of WLAN and WPAN devices in unlicensed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Coexisten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oexistenc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Steve Shellhammer, Symbol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D8B-49B3-4DBB-B13A-F19E02122B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802.11 formed the 5 GHz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Harmonize all the 5 GHz WLANs (802.11a, HiperLAN2, MMAC) into a single worldwide 5GHz WLAN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inimum, ensure that the systems coex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Steve Shellhammer, Symbol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D9C-B39E-4673-9AE9-9351FE5D73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802.16 formed the Wireless HuMAN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Broadband Access in Unlicensed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Steve Shellhammer, Symbol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4D1-FB11-46CD-9AAA-D05BE9CF00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802.15 TG2 unchanged so they can continue working on their specific task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802.11 5GSG unchanged so they can continue working on their specific task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802.16 un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Steve Shellhammer, Symbol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9D4-8327-4A12-85CE-D6942CC17F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ing that the issues of wireless coexistence transcend any one of the wireless working groups and that there is a need to be proactive, form an ExCom Study Group (in M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of the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functional charter of this new group to best address the wireless coexistenc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n organization to best accomplish (New WG, Joint TG, TAG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440" y="7272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Steve Shellhammer, Symbol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F8F-F675-4999-9BC6-1034A258B6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form an Executive Committee level Study Group on Wireless Coexistence to develop a recommendation on how best to deal with the issues wireless coexistence within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d:  Bob H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: Stuart J. K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0/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Chair for the SG:  Jim Lansford, Mobi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/Steve Shellhammer, Symbol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373-43DD-4D8D-9E23-BCEED0FA51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Robert F.  Heile</cp:lastModifiedBy>
  <cp:lastPrinted>2000-09-20T20:30:42Z</cp:lastPrinted>
  <dcterms:modified xsi:type="dcterms:W3CDTF">2001-03-16T01:52:58Z</dcterms:modified>
  <cp:revision>302</cp:revision>
  <dc:subject>IEEE 802.15 &lt;subject&gt;</dc:subject>
  <dc:title>IEEE P802.15 Working Group for Wireless Personal Area Networks</dc:title>
</cp:coreProperties>
</file>