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5968-FFBC-43AA-9C7B-3DA7B384D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B7AC-D840-49BE-95FF-9CF9BB08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49F7A-A7A8-486C-904D-E8B8A3E7F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F25A8-0FCA-4582-9C46-D53A8F61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5D969-2569-48D1-AB3E-8A807D356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4873-3DEB-4F0D-B50B-409A0A9D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CF463-7CDB-4386-A294-B91821E5A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0FB9-03AD-403C-AE66-8ADA0C18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2F0E-D482-4B02-ABDE-10C1CF23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0EE3-4A81-48B5-B2F2-49B4752C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AA559-638E-4493-8449-BB63F49B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7ED6-0666-471C-8691-E828EB334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Derby, Time Domain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9D5E3B-3E29-446A-847E-6C476AAC0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7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1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Upcoming IEEE Conference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9 Mar,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Michael Derby</a:t>
            </a:r>
            <a:r>
              <a:rPr b="0" lang="en-US" sz="1600" spc="-1" strike="noStrike">
                <a:solidFill>
                  <a:srgbClr val="000000"/>
                </a:solidFill>
                <a:latin typeface="Times New Roman"/>
              </a:rPr>
              <a:t>] Company [</a:t>
            </a:r>
            <a:r>
              <a:rPr b="0" lang="en-US" sz="1600" spc="-1" strike="noStrike">
                <a:solidFill>
                  <a:srgbClr val="ff0000"/>
                </a:solidFill>
                <a:latin typeface="Times New Roman"/>
              </a:rPr>
              <a:t>Time Domai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7057 Old Madison Pik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56 759 0404</a:t>
            </a:r>
            <a:r>
              <a:rPr b="0" lang="en-US" sz="1600" spc="-1" strike="noStrike">
                <a:solidFill>
                  <a:srgbClr val="000000"/>
                </a:solidFill>
                <a:latin typeface="Times New Roman"/>
              </a:rPr>
              <a:t>], E-Mail:[</a:t>
            </a:r>
            <a:r>
              <a:rPr b="0" lang="en-US" sz="1600" spc="-1" strike="noStrike">
                <a:solidFill>
                  <a:srgbClr val="ff0000"/>
                </a:solidFill>
                <a:latin typeface="Times New Roman"/>
              </a:rPr>
              <a:t>mike.derby@tds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cussion of upcoming IEEE conferenc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ish to disseminate information and gain momentum for conferenc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0FCA3D1-91B1-465E-BACC-80A7D5E1706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28800" y="1752480"/>
            <a:ext cx="5486400" cy="39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 Semiannu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hicular Technolog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erenc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TC2001 Spr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6-9, 200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os Palace Hotel, Rhodes, Gree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ngress.co.il/ieee_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5894B39-4C4B-42AE-9539-29F4184FCC41}"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KAI%20IEEE" descr=""/>
          <p:cNvPicPr/>
          <p:nvPr/>
        </p:nvPicPr>
        <p:blipFill>
          <a:blip r:embed="rId1"/>
          <a:stretch/>
        </p:blipFill>
        <p:spPr>
          <a:xfrm>
            <a:off x="1104840" y="1925640"/>
            <a:ext cx="6934320" cy="4210200"/>
          </a:xfrm>
          <a:prstGeom prst="rect">
            <a:avLst/>
          </a:prstGeom>
          <a:ln w="0">
            <a:noFill/>
          </a:ln>
        </p:spPr>
      </p:pic>
      <p:sp>
        <p:nvSpPr>
          <p:cNvPr id="48" name=""/>
          <p:cNvSpPr/>
          <p:nvPr/>
        </p:nvSpPr>
        <p:spPr>
          <a:xfrm>
            <a:off x="365040" y="880920"/>
            <a:ext cx="839808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EEE Semiannual Vehicular Technology Conferen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ngress.co.il/ieee_new/</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172C1BD-DE1D-4111-B5BF-06771CC9350D}"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72200" y="6505560"/>
            <a:ext cx="2514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p:nvPr>
        </p:nvSpPr>
        <p:spPr>
          <a:xfrm>
            <a:off x="6171840" y="6505560"/>
            <a:ext cx="2716200" cy="249120"/>
          </a:xfrm>
          <a:prstGeom prst="rect">
            <a:avLst/>
          </a:prstGeom>
          <a:noFill/>
          <a:ln w="0">
            <a:noFill/>
          </a:ln>
        </p:spPr>
        <p:txBody>
          <a:bodyPr lIns="92160" rIns="92160" tIns="46080" bIns="46080" anchor="t">
            <a:normAutofit fontScale="95000"/>
          </a:bodyPr>
          <a:p>
            <a:pPr marL="32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Derby, Time Domain Corporation</a:t>
            </a:r>
            <a:endParaRPr b="0" lang="en-US" sz="1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 IEEE Radio and Wireless Conference</a:t>
            </a:r>
            <a:br>
              <a:rPr sz="2000"/>
            </a:br>
            <a:r>
              <a:rPr b="0" lang="en-US" sz="2400" spc="-1" strike="noStrike">
                <a:solidFill>
                  <a:srgbClr val="000000"/>
                </a:solidFill>
                <a:latin typeface="Arial"/>
              </a:rPr>
              <a:t>August 19-22, 2001 - Westin Waltham-Boston, Waltham, Massachusetts, USA</a:t>
            </a:r>
            <a:endParaRPr b="0" lang="en-US" sz="2400" spc="-1" strike="noStrike">
              <a:solidFill>
                <a:srgbClr val="000000"/>
              </a:solidFill>
              <a:latin typeface="Times New Roman"/>
            </a:endParaRPr>
          </a:p>
        </p:txBody>
      </p:sp>
      <p:sp>
        <p:nvSpPr>
          <p:cNvPr id="52" name=""/>
          <p:cNvSpPr/>
          <p:nvPr/>
        </p:nvSpPr>
        <p:spPr>
          <a:xfrm>
            <a:off x="685800" y="2244600"/>
            <a:ext cx="777240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CON 2001 will highlight advances in components and system level technology in some of the following 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Wireless 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roadband fixed wirel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luetooth/HomeRF/Personal Area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Ultra-wideband (UWB) communic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ttp://rawcon.org</a:t>
            </a:r>
            <a:endParaRPr b="0" lang="en-US" sz="2400" spc="-1" strike="noStrike">
              <a:solidFill>
                <a:srgbClr val="000000"/>
              </a:solidFill>
              <a:latin typeface="Times New Roman"/>
            </a:endParaRPr>
          </a:p>
        </p:txBody>
      </p:sp>
      <p:sp>
        <p:nvSpPr>
          <p:cNvPr id="53" name=""/>
          <p:cNvSpPr/>
          <p:nvPr/>
        </p:nvSpPr>
        <p:spPr>
          <a:xfrm>
            <a:off x="2550960" y="2001960"/>
            <a:ext cx="4214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18F2BFD-A430-467F-958F-C3428699198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3-14T11:09:53Z</dcterms:modified>
  <cp:revision>7</cp:revision>
  <dc:subject>IEEE 802.15 &lt;subject&gt;</dc:subject>
  <dc:title>No Slide Title</dc:title>
</cp:coreProperties>
</file>