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A5134-0FD5-4CA4-9A29-D5E5DCE427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DE54E-4E3E-466D-B036-991E59CB1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A8D82-2683-4EAF-A04F-DD05BDEBEE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7EB69-76F2-420C-B79A-71A90A0D24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E4B3-160C-4CFA-B588-BC6539DAAF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200C-1F93-48E4-8D0E-78E239A464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E0030-1BF0-4D5A-A06F-A92AF38DFF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14BE4EFC-6609-4498-8909-08EA8FC51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F0C05B-5A46-45FC-B0CF-65F85B7480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21541-191C-464F-AB3D-8C7D4EEB4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A7B02-2AB0-42C0-AD7A-2E0BE468E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8BD78-034E-4846-951E-BE97F75B26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5D7C18-A75A-465C-B9C6-B87F8D800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47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2720" y="304920"/>
            <a:ext cx="109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8" name=""/>
          <p:cNvSpPr/>
          <p:nvPr/>
        </p:nvSpPr>
        <p:spPr>
          <a:xfrm>
            <a:off x="5715000" y="6426360"/>
            <a:ext cx="2743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K. Ling, Intel Corpor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487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ransmit clock synchroniz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5 March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anley K. Ling]    Company: [Intel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9750 Goethe Road, M/S LOC3/8, Sacramento, CA 9582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916) 855-5000 Ext.2398], FAX: [(916) 854-2809], E-Mail:[stan.k.ling@intel.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proposes that synchronization of the transmit carrier frequency and symbol clock frequency is mandatory in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opose transmitter specifications for the 802.15.3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4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that the transmit center frequency be synchronized to the transmit symbol clock frequency. Synchronization is defined as being derived from the same reference sourc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 clock frequency tolerance would not change from what has currently been discussed: 25 pp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hieve reduction in complexity, this condition must be mandatory and not an option, as in IEEE 802.11b.</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88F3E-7230-4945-82B9-5B61D37E4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a:t>
            </a:r>
            <a:endParaRPr b="0" lang="en-US" sz="3600" spc="-1" strike="noStrike">
              <a:solidFill>
                <a:srgbClr val="000000"/>
              </a:solidFill>
              <a:latin typeface="Times New Roman"/>
            </a:endParaRPr>
          </a:p>
        </p:txBody>
      </p:sp>
      <p:sp>
        <p:nvSpPr>
          <p:cNvPr id="49"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preamble, several parameters need to be estimated and adjusted to demodulate the signal (AGC, carrier timing, symbol timing, channel impulse response/equalizer coefficients, etc.)</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equiring that the carrier and symbol clocks are synchronized, only one of the two parameters need to be estimated, thereby reducing complexity and acquisition time.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only a single crystal (and oscillator) reducing component costs and board spac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85DED-A23C-4F18-8F05-6FD370C0F2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edence</a:t>
            </a:r>
            <a:endParaRPr b="0" lang="en-US" sz="3600" spc="-1" strike="noStrike">
              <a:solidFill>
                <a:srgbClr val="000000"/>
              </a:solidFill>
              <a:latin typeface="Times New Roman"/>
            </a:endParaRPr>
          </a:p>
        </p:txBody>
      </p:sp>
      <p:sp>
        <p:nvSpPr>
          <p:cNvPr id="51"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a</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that the transmit center frequency and the symbol clock frequency be derived from the same reference oscillator (i.e. synchroniz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b</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commends, but does not require, that the chip clock and the transmit frequency be locked (i.e. synchronized) for “optimum demodulation performance”. If the clocks are locked, it is recommended that bit 2 of the SERVICE field be set to ‘1’.</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468B4-E41D-4C01-8194-1D6351602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Issues</a:t>
            </a:r>
            <a:endParaRPr b="0" lang="en-US" sz="3600" spc="-1" strike="noStrike">
              <a:solidFill>
                <a:srgbClr val="000000"/>
              </a:solidFill>
              <a:latin typeface="Times New Roman"/>
            </a:endParaRPr>
          </a:p>
        </p:txBody>
      </p:sp>
      <p:sp>
        <p:nvSpPr>
          <p:cNvPr id="53" name="PlaceHolder 2"/>
          <p:cNvSpPr>
            <a:spLocks noGrp="1"/>
          </p:cNvSpPr>
          <p:nvPr>
            <p:ph/>
          </p:nvPr>
        </p:nvSpPr>
        <p:spPr>
          <a:xfrm>
            <a:off x="609480" y="4343400"/>
            <a:ext cx="7772400" cy="182880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integrated silicon solution, synchronizing the two clocks is easily implement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only a single crystal (and oscillator) reducing component costs and board spac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typical" descr=""/>
          <p:cNvPicPr/>
          <p:nvPr/>
        </p:nvPicPr>
        <p:blipFill>
          <a:blip r:embed="rId1"/>
          <a:stretch/>
        </p:blipFill>
        <p:spPr>
          <a:xfrm>
            <a:off x="2895480" y="1828800"/>
            <a:ext cx="3117960" cy="2590920"/>
          </a:xfrm>
          <a:prstGeom prst="rect">
            <a:avLst/>
          </a:prstGeom>
          <a:ln w="0">
            <a:noFill/>
          </a:ln>
        </p:spPr>
      </p:pic>
      <p:sp>
        <p:nvSpPr>
          <p:cNvPr id="55"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implement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B17B53C-8E3D-4A2B-BE99-EAD554477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Text</a:t>
            </a:r>
            <a:endParaRPr b="0" lang="en-US" sz="3600" spc="-1" strike="noStrike">
              <a:solidFill>
                <a:srgbClr val="000000"/>
              </a:solidFill>
              <a:latin typeface="Times New Roman"/>
            </a:endParaRPr>
          </a:p>
        </p:txBody>
      </p:sp>
      <p:sp>
        <p:nvSpPr>
          <p:cNvPr id="5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235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mit center frequency tolerance</a:t>
            </a:r>
            <a:endParaRPr b="0" lang="en-US" sz="20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 center frequency tolerance shall be </a:t>
            </a:r>
            <a:r>
              <a:rPr b="0" lang="en-US" sz="1800" spc="-1" strike="noStrike">
                <a:solidFill>
                  <a:srgbClr val="000000"/>
                </a:solidFill>
                <a:latin typeface="Symbol"/>
                <a:ea typeface="Symbol"/>
              </a:rPr>
              <a:t></a:t>
            </a:r>
            <a:r>
              <a:rPr b="0" lang="en-US" sz="1800" spc="-1" strike="noStrike">
                <a:solidFill>
                  <a:srgbClr val="000000"/>
                </a:solidFill>
                <a:latin typeface="Arial"/>
              </a:rPr>
              <a:t>25 ppm maximum. The transmit center frequency and the symbol clock frequency shall be synchronized.</a:t>
            </a:r>
            <a:endParaRPr b="0" lang="en-US" sz="18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5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mit symbol clock frequency tolerance</a:t>
            </a:r>
            <a:endParaRPr b="0" lang="en-US" sz="20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 symbol clock frequency tolerance shall be </a:t>
            </a:r>
            <a:r>
              <a:rPr b="0" lang="en-US" sz="1800" spc="-1" strike="noStrike">
                <a:solidFill>
                  <a:srgbClr val="000000"/>
                </a:solidFill>
                <a:latin typeface="Symbol"/>
                <a:ea typeface="Symbol"/>
              </a:rPr>
              <a:t></a:t>
            </a:r>
            <a:r>
              <a:rPr b="0" lang="en-US" sz="1800" spc="-1" strike="noStrike">
                <a:solidFill>
                  <a:srgbClr val="000000"/>
                </a:solidFill>
                <a:latin typeface="Arial"/>
              </a:rPr>
              <a:t>25 ppm maximum. The transmit center frequency and the symbol clock frequency shall be synchronized.</a:t>
            </a:r>
            <a:endParaRPr b="0" lang="en-US" sz="1800" spc="-1" strike="noStrike">
              <a:solidFill>
                <a:srgbClr val="000000"/>
              </a:solidFill>
              <a:latin typeface="Arial"/>
            </a:endParaRPr>
          </a:p>
          <a:p>
            <a:pPr marL="235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77C07-37F7-4AD9-9A09-43E4488F170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Stanley K. Ling</dc:creator>
  <dc:description>&lt;01/147r0&gt;</dc:description>
  <dc:language>en-US</dc:language>
  <cp:lastModifiedBy>Stan Ling</cp:lastModifiedBy>
  <dcterms:modified xsi:type="dcterms:W3CDTF">2001-03-07T00:01:02Z</dcterms:modified>
  <cp:revision>46</cp:revision>
  <dc:subject>802.15.3 PHY</dc:subject>
  <dc:title>Transmit clock synchronization</dc:title>
</cp:coreProperties>
</file>