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844AB-3DBA-4D49-8AA4-F940B254C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7DDEE-A710-4627-9104-F71E2C2DC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70CED-76C2-4F20-9474-1F1A1F6C0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7E6B4-0583-47A8-9FFB-522162ED1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50D5C-6A50-4EB5-9A4C-A07420A27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8464D-C03C-4F78-BF20-4D799500F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DEA48-31BA-4DCB-87E9-E72049DB7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EA7B1-F6C3-488A-8B93-A8FB847B3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5A3AE-7430-411D-AA9C-2C3CDF14F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A916D-8143-4834-B0C2-E90DD06ED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DC95F-FF07-46BD-B8D0-F72D923EC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15551-DCF9-4C15-B3CB-95CBEEB89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379800"/>
            <a:ext cx="160020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rch 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ve Shellhammer, Symbol Technolog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03C2244F-646E-4D92-A6B9-CD9B3D5973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5-01/175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EEE P802.15 Working Group for Wireless Personal Area Network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T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existence Task Group             Closing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ilton Head Island, S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5BB01-AC3C-45EE-B000-34C42DCE36EA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esentation 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Batra, A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lligent Frequency Hopping Scheme for Improved Bluetooth Throughput in an Interference-Limited Environment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01/082r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Task Group updated th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oexistence Mechanism Summary Matrix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01/078r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223C0-3BFB-4035-B73E-D153F2EDC5F6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ote - Collaborativ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sk Group 2 selected the Mobilian/Symbol/NIST Collaborative Coexistence Propos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Vo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es: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: 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stain: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roval Rate 67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D8849-579F-4732-83A7-07797E490E5B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ote - Collaborativ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Vo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es: 2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: 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stain: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roval Rate 78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s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AA576-0166-43DF-B980-8BFEF320CC4A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iscussion with FC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G2 met with Julius Knapp of the F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were two present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. Golmie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iscussion with FCC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01/144r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. Eliezer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and Usage Evaluation and a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Derived Proposed Regulatory Approach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Unlicensed Bands 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01/170r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G2 will be submitting a question to the FCC regarding interpretation of the current ru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309F6-E643-44FF-AEA6-63C5B07C64A8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eeting with IEEE EMC Socie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G2 held an introductory meeting with members of the IEEE EMC Standards Committee.  There was a presentation giving an overview of the EMC Standards Committ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. Berger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EEE EMC Society Standards Development Committee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01/168r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DAA4C-4B79-4C67-95B1-4EA483BD0177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ote - Non-Collaborativ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even Non-Collaborative Coexistence Mechanisms have been merged into three submis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aptive Frequency Hopping (AF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mit Power Control (TPC) and Rate Sca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edu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1D0E4-0B30-477C-B08F-BD90A289AFD1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voted on each submission giving a score of 1 to 10 on eac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verage scores w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H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.4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PC/R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.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eduling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.8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ote - Non-Collaborativ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15028-25E1-4147-8F90-0DCC0D2ABFA9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firmation vote on three Non-Collaborative Coexistence Mechan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eduling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/0/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s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PC/R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/0/1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s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H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 Mo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ote - Non-Collaborativ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42C80-0865-4FBF-95DE-797C461D6141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tion to Delay AFH Vote till Ma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sta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s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73E39-9D64-49F1-BC4A-B8C5D7EBAB2E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d-Hoc Committe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ed an Ad-Hoc Committee on Adaptive Frequency Hopp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ld regular conference calls.  To be announced on TG2 email reflect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 to combine the four AFH propos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 at the next meeting in Orlan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da Golmie to act as Facilitat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AA327-7C90-4E25-A8FE-A2BB001FD7E3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ry of Monterey (January) Meet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84872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ard the remaining Coexistence Mechanism Submissions (Some were presented in November 200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ral presentations on the Coexistenc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ld a joint meeting with 802.11 5GHz Study Group to discuss formation of an 802 Coexistence Study Grou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3B936-0C75-4EA2-BBDC-911D220E15E9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bmiss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. Shellhammer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CORT - An Alternative to the Bluetooth SCO Link for operation in an Interference Environment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01/145r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. Mitter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mpirical Study for IEEE 802.11b WLAN and Bluetooth Coexistence in UL Band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01/148r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. Oleynik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n approach to the problem of optimizing channel parameters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EEE 802.11-01/152r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927F3-58E7-42F5-B32B-67BF33CBF2D6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quest for Model from TG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. Shellhammer, Request for TG3 PHY and MAC Models for Incorporation into TG2 Coexistence Model, 01/173r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G3 to supply PHY and MAC model of TG3 proposed standard to TG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G2 will incorporate the TG3 models into the Coexistence Model and run simulations to investigate interference effec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B464D-0BBF-43B8-91B1-FBAAA8FE8D56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bjectives for Orlando (Ma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80010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ar submission on combined Adaptive Frequency Hopping submiss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te on AFH submiss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dates of Coexistence Mode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iew Outline of Draft Standa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iew and Edit Clauses of the Draft Standa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date TG2 Project P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ABD2C-018D-4821-BB8A-F8CF4E66113E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existence Mechanism 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llocated Collaborative submis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iginally three, however two combin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Non-Collocated Collaborative submi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 Non-Collaborative submis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iginally eight but one dropp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01794-F8A9-4559-9A5E-444F35B4B62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existence Mechanism 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ter Monterey meeting the TG2 Chair send a letter to all submitters requesting additional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EEE 802.15-01/093r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ummary document on the Coexistence Mechanisms was produced and will be updated this we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EEE 802.15-01/078r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8B933-EF9A-4577-A822-C5049523F07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lans for This Wee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aison with Bluetooth SIG Coexistence Working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on Coexistence Mechanism Submis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aluation of Coexistence Mech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ote on Coexistence Mech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eting with FCC Representa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eting with IEEE EMC Socie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existence Modeling Presen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ORT - A proposal for a more robust voice link in Bluetoo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09CEA-EF28-4F82-BABF-00FF715848C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eparation for FCC Meet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preparation for FCC meeting on Wednesday some of us will be meeting tonight (Monday) to prepare a presentation to give the FCC background on TG2 and to prepare ques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om 80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me 6: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D1F4C-C130-48CA-BDE0-2AE3BC64586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esentation 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. Sizer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luetooth SIG Coexistence Working Group Liaison Report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01/158r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. Lansford and S. Shellhammer, Collaborativ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oexistence Mechanism Submission: Mobilian’s META and Symbol’s TDMA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01/164r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. Liang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roposal for a Collaborative BT and 802.11b MAC Mechanism for Enhanced Coexistence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01/080r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C68B8-E206-4CD6-8475-3EE3723D40C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esentation 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. Van Dyck and A. Soltanian, 802.11b Deterministic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requency Nulling to Mitigate Bluetooth Interference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01/079r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. Gan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daptive Frequency Hopping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00/367r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. Liang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roposal for a Non-Collaborative BT and 802.11b MAC Mechanism for Enhanced Coexistence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01/026r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5248C-588A-4642-B687-13C53C905614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esentation 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. C. Chen and H. K. Chen and C. C. Chao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“Selective Hopping for Hit Avoidance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01/057r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. Golmie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ference Aware Bluetooth Scheduling Techniques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01/143r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. Eliezer and D. Michael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daptive Frequency Hopping for FHSS Systems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01/169r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A6729-EBA9-4890-98E2-9D5FC08CE96C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5T16:01:39Z</dcterms:created>
  <dc:creator>Steve Shellhammer</dc:creator>
  <dc:description>&lt;doc#&gt;</dc:description>
  <dc:language>en-US</dc:language>
  <cp:lastModifiedBy>Steve Shellhammer</cp:lastModifiedBy>
  <cp:lastPrinted>2000-09-20T20:30:42Z</cp:lastPrinted>
  <dcterms:modified xsi:type="dcterms:W3CDTF">2001-03-20T21:22:02Z</dcterms:modified>
  <cp:revision>356</cp:revision>
  <dc:subject>IEEE 802.15 &lt;subject&gt;</dc:subject>
  <dc:title>IEEE P802.15 Working Group for Wireless Personal Area Networks</dc:title>
</cp:coreProperties>
</file>