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832C-D5FB-48D1-BEB6-CCEFD16D5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92F3-D56F-4573-A29E-4913B780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BB15-4685-413D-B324-F4D2AB537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D246-14EA-4B1C-BDB5-9DD48A2F5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58FC-5E95-4809-A390-8BBDD4CE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8554-421A-4389-9E83-72FB5848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3BC5-EE56-4A54-A6ED-0CC50E26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F901-F5F1-4E26-A691-D6327E20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7873-BB7A-4F50-A429-E479A66B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A3A9-25E3-4ECE-A63F-485C9FBA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98F3-B0A6-4533-9A19-6C4F65B1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5CE4-C05F-4415-BAC8-996F3897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858317A-A01A-471C-89CD-896AB9B43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1/17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E81D-1549-412E-9AF4-98BC1B0737B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G4 Closing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s for Orl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Propos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Baseline 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Baseline 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C47B-98B3-4CDC-99C9-4C4B67329C6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G4 Closing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ed Proposal Over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ized Criteria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ized Vot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 Calls moved to Monday at 11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190E-AF33-481E-B91F-5245890F0EE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12:58:15Z</dcterms:created>
  <dc:creator>Robert F.  Heile</dc:creator>
  <dc:description>&lt;doc#&gt;</dc:description>
  <dc:language>en-US</dc:language>
  <cp:lastModifiedBy>Robert F.  Heile</cp:lastModifiedBy>
  <cp:lastPrinted>1998-02-10T13:28:06Z</cp:lastPrinted>
  <dcterms:modified xsi:type="dcterms:W3CDTF">2001-03-15T18:16:58Z</dcterms:modified>
  <cp:revision>3</cp:revision>
  <dc:subject>IEEE 802.15 &lt;subject&gt;</dc:subject>
  <dc:title>No Slide Title</dc:title>
</cp:coreProperties>
</file>