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73BA-920D-4059-B695-6E0046788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10A1-8C82-4808-84D0-55CB272A6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6CB8-AED7-4FC5-90B8-BAA288FE0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48A0-376D-4ED1-B17F-CECC8D240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8DE5-12B2-49CC-A3CA-1681F3988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1C28-26C6-4470-97D9-7424B6444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BEFC-D124-4DB7-A88D-29EE02203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0C80-AED9-4421-8A28-F55544E37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60F7-B9E1-4682-B226-28C0A1BBB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D170-05A7-49C6-B515-10EF65B94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6156-3DC7-476E-BFA2-62207AAAF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50FB-C102-4F23-AC95-8E7006B80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rch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ve Shellhammer, Symbol Techn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8F9CF2D-4A12-4B23-9E98-E677AEC074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1/108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Working Group for Wireless Personal Area Network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existence Task Group             Opening Meeting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ilton Head Island, S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1F50-8CC7-4629-8144-DA320BF584C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 of Monterey (January) Mee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rd the remaining Coexistence Mechanism Submissions (Some were presented in November 200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ral presentations on the Coexistenc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d a joint meeting with 802.11 5GHz Study Group to discuss formation of an 802 Coexistence Study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F179-4EFF-430A-A22D-6FC1447AA0B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Mechanism 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llocated Collaborative submi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ly three, however two comb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Non-Collocated Collaborative sub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 Non-Collaborative submis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ly eight but one dropp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A682-451C-4483-BF09-43C16356E7E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Mechanism 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Monterey meeting the TG2 Chair send a letter to all submitters requesting additional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EE 802.15-01/093r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ummary document on the Coexistence Mechanisms was produced and will be updated this w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EE 802.15-01/078r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CA86-3F1C-4298-B6F5-0515276E439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lans for This Wee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aison with Bluetooth SIG Coexistence Working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on Coexistence Mechanism Sub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ion of Coexistence Mech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ote on Coexistence Mech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eting with FCC Represent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eting with IEEE EMC Soci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existence Modeling Pres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ORT - A proposal for a more robust voice link in Bluetoo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EF38-7FD7-4E71-AF7F-2D69A37823A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paration for FCC Mee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reparation for FCC meeting on Wednesday some of us will be meeting tonight to prepare a presentation to give the FCC background on TG2 and to prepare ques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om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149D-8833-4B66-B68F-59B44499516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6:01:39Z</dcterms:created>
  <dc:creator>Steve Shellhammer</dc:creator>
  <dc:description>&lt;doc#&gt;</dc:description>
  <dc:language>en-US</dc:language>
  <cp:lastModifiedBy>Stephen J. Shellhammer</cp:lastModifiedBy>
  <cp:lastPrinted>2000-09-20T20:30:42Z</cp:lastPrinted>
  <dcterms:modified xsi:type="dcterms:W3CDTF">2001-03-12T16:53:17Z</dcterms:modified>
  <cp:revision>303</cp:revision>
  <dc:subject>IEEE 802.15 &lt;subject&gt;</dc:subject>
  <dc:title>IEEE P802.15 Working Group for Wireless Personal Area Networks</dc:title>
</cp:coreProperties>
</file>