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3C6E-EFF9-46BD-B083-F2AE8649C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4EDEF-9763-4A12-91D2-B4A6AB53D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54AC1-0E7C-411D-B08F-BB920B33B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A3171-E018-4845-9B42-F82DCB835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27B6-8E40-4FFD-9AF9-6F53F4BF8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3FE4-68D7-4B9A-AA1B-DBB9D7EB9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96EF7-1E74-4B3D-AFB9-9896D237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56BF-CF15-41DF-BEF7-D9B14159C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1F6A-4A23-4EF2-AFCA-9F5CC2A6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FB7A-BAB8-4B9A-AC2B-1CD089876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733F3-2C40-4541-A9EC-C854D9A1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6194-B092-493C-8D93-3CC338418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hen Berger, TEM Consult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0EAFFA-5D3F-4E13-86DB-B1A90E8FC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6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 P802.15 TG2 / EMC Society Standards Development Committee Joint Meetin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3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phen Berger Company TEM Consulting, L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40 River Rd., Georgetown, Tx. 7862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512) 864-3365, FAX: (512) 869-8709, E-Mail: stephen.berger@ieee.or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Presentation prepared for joint meeting, 14 March, 2001</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presents the scope and charter of the IEEE EMC Society SDCom and discusses areas of mutual interest with IEEE 802.15 TG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itiation of liaison with IEEE EMC SDCom for areas of mutual inter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066062E-5BEC-497C-9AE2-B9EBFB51276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TG 2</a:t>
            </a:r>
            <a:br>
              <a:rPr sz="3600"/>
            </a:br>
            <a:r>
              <a:rPr b="0" lang="en-US" sz="3600" spc="-1" strike="noStrike">
                <a:solidFill>
                  <a:srgbClr val="000000"/>
                </a:solidFill>
                <a:latin typeface="Times New Roman"/>
              </a:rPr>
              <a:t>&amp;</a:t>
            </a:r>
            <a:br>
              <a:rPr sz="3600"/>
            </a:br>
            <a:r>
              <a:rPr b="0" lang="en-US" sz="3600" spc="-1" strike="noStrike">
                <a:solidFill>
                  <a:srgbClr val="000000"/>
                </a:solidFill>
                <a:latin typeface="Times New Roman"/>
              </a:rPr>
              <a:t>IEEE EMC Society</a:t>
            </a:r>
            <a:br>
              <a:rPr sz="3600"/>
            </a:br>
            <a:r>
              <a:rPr b="0" lang="en-US" sz="3600" spc="-1" strike="noStrike">
                <a:solidFill>
                  <a:srgbClr val="000000"/>
                </a:solidFill>
                <a:latin typeface="Times New Roman"/>
              </a:rPr>
              <a:t>Standards Development Committee</a:t>
            </a:r>
            <a:br>
              <a:rPr sz="3600"/>
            </a:br>
            <a:r>
              <a:rPr b="0" lang="en-US" sz="3600" spc="-1" strike="noStrike">
                <a:solidFill>
                  <a:srgbClr val="000000"/>
                </a:solidFill>
                <a:latin typeface="Times New Roman"/>
              </a:rPr>
              <a:t>(IEEE EMCS SDCom)</a:t>
            </a:r>
            <a:br>
              <a:rPr sz="3600"/>
            </a:br>
            <a:br>
              <a:rPr sz="3600"/>
            </a:br>
            <a:r>
              <a:rPr b="0" lang="en-US" sz="3600" spc="-1" strike="noStrike">
                <a:solidFill>
                  <a:srgbClr val="000000"/>
                </a:solidFill>
                <a:latin typeface="Times New Roman"/>
              </a:rPr>
              <a:t>Joint Meeting</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1DF19AC-C37F-485B-BFC8-ED88C3D6C4E5}"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EMCS SDCom Organization</a:t>
            </a:r>
            <a:endParaRPr b="0" lang="en-US" sz="3200" spc="-1" strike="noStrike">
              <a:solidFill>
                <a:srgbClr val="000000"/>
              </a:solidFill>
              <a:latin typeface="Times New Roman"/>
            </a:endParaRPr>
          </a:p>
        </p:txBody>
      </p:sp>
      <p:pic>
        <p:nvPicPr>
          <p:cNvPr id="48" name="org_chart_-_vp_stds" descr=""/>
          <p:cNvPicPr/>
          <p:nvPr/>
        </p:nvPicPr>
        <p:blipFill>
          <a:blip r:embed="rId1"/>
          <a:stretch/>
        </p:blipFill>
        <p:spPr>
          <a:xfrm>
            <a:off x="1143000" y="1676520"/>
            <a:ext cx="6869160" cy="417168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1BF14C4-4801-419B-9333-ADB667C482F1}"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org_chart_-_sdcom" descr=""/>
          <p:cNvPicPr/>
          <p:nvPr/>
        </p:nvPicPr>
        <p:blipFill>
          <a:blip r:embed="rId1"/>
          <a:stretch/>
        </p:blipFill>
        <p:spPr>
          <a:xfrm>
            <a:off x="1371600" y="685800"/>
            <a:ext cx="6357960" cy="5743440"/>
          </a:xfrm>
          <a:prstGeom prst="rect">
            <a:avLst/>
          </a:prstGeom>
          <a:ln w="0">
            <a:noFill/>
          </a:ln>
        </p:spPr>
      </p:pic>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A31066A-71FF-4E47-9F43-4A0F4A63F427}"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EMCS SDCom Scope &amp; Purpos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EEE EMC Society Standards Development Committee is responsible to guide the development of IEEE EMC Standa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EEE EMC Society is the primary international developer of fundamental test and measurement standards for EM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EBE15F-1FB1-4868-A763-5717922A0A2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EMCS SDCom Standards</a:t>
            </a:r>
            <a:endParaRPr b="0" lang="en-US" sz="3200" spc="-1" strike="noStrike">
              <a:solidFill>
                <a:srgbClr val="000000"/>
              </a:solidFill>
              <a:latin typeface="Times New Roman"/>
            </a:endParaRPr>
          </a:p>
        </p:txBody>
      </p:sp>
      <p:graphicFrame>
        <p:nvGraphicFramePr>
          <p:cNvPr id="53" name=""/>
          <p:cNvGraphicFramePr/>
          <p:nvPr/>
        </p:nvGraphicFramePr>
        <p:xfrm>
          <a:off x="457200" y="1397160"/>
          <a:ext cx="8381880" cy="4825800"/>
        </p:xfrm>
        <a:graphic>
          <a:graphicData uri="http://schemas.openxmlformats.org/drawingml/2006/table">
            <a:tbl>
              <a:tblPr/>
              <a:tblGrid>
                <a:gridCol w="1371600"/>
                <a:gridCol w="7010280"/>
              </a:tblGrid>
              <a:tr h="406080">
                <a:tc>
                  <a:txBody>
                    <a:bodyPr lIns="45720" rIns="4572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D / DATE</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TLE</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7336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39 -1988</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Recommended Practice for the Measurement of Radio Frequency Emission from Industrial, Scientific, and  Medical (ISM) Equipment Installed on the Users Premises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40-1990</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Recommended Practice for the Minimization of Interference from Radio Frequency Heating 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87-1990</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on Radio Receivers: Open Field Method of Measurement of Spurious Radiation from FM and Television Broadcast Receivers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213-1987</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Procedure for Measuring Conducted Emissions in the Range of 300kHz to 25MHz from Television and  FM Broadcast receivers to Power Lines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299-1991</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Method of Measuring the Effectiveness of Electromagnetic Shielding Enclosures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376-1975</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for the Measurement of Impulse Bandwidth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9024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377-1980</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Recommended Practice for Communication Transmitters</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473-1985</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ractice for an Electromagnetic Site Survey (10kHz to 10 GHz)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475-1983</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Measurement Procedure for Field Disturbance Sensor (RF Intrusion Alarm)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C052D43-407B-4318-92BF-53A71F8D92AE}"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EMCS SDCom Standards</a:t>
            </a:r>
            <a:endParaRPr b="0" lang="en-US" sz="3200" spc="-1" strike="noStrike">
              <a:solidFill>
                <a:srgbClr val="000000"/>
              </a:solidFill>
              <a:latin typeface="Times New Roman"/>
            </a:endParaRPr>
          </a:p>
        </p:txBody>
      </p:sp>
      <p:graphicFrame>
        <p:nvGraphicFramePr>
          <p:cNvPr id="55" name=""/>
          <p:cNvGraphicFramePr/>
          <p:nvPr/>
        </p:nvGraphicFramePr>
        <p:xfrm>
          <a:off x="457200" y="1397160"/>
          <a:ext cx="8381880" cy="3377880"/>
        </p:xfrm>
        <a:graphic>
          <a:graphicData uri="http://schemas.openxmlformats.org/drawingml/2006/table">
            <a:tbl>
              <a:tblPr/>
              <a:tblGrid>
                <a:gridCol w="1447920"/>
                <a:gridCol w="6933960"/>
              </a:tblGrid>
              <a:tr h="406080">
                <a:tc>
                  <a:txBody>
                    <a:bodyPr lIns="45720" rIns="4572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D / DATE</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TLE</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8924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128</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Recommended Practice for RF Absorber Evaluation in the Range of 30MHz to 5GHz</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140-1994</a:t>
                      </a:r>
                      <a:br>
                        <a:rPr sz="1600"/>
                      </a:br>
                      <a:r>
                        <a:rPr b="0" lang="en-US" sz="1600" spc="-1" strike="noStrike">
                          <a:solidFill>
                            <a:srgbClr val="000000"/>
                          </a:solidFill>
                          <a:latin typeface="Times New Roman"/>
                        </a:rPr>
                        <a:t>(Reaff 1999)</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Procedures for the Measurement of Electric and magnetic Fields from Video Display Terminals (VDT’S) from 5Hz to 400kHz</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302 </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e for the Electromagnetic Characterization of Conductive Gaskets in the Frequency Range of DC to 18GHz</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 1309-1996</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tandard Method for the Calibration of Electromagnetic Field Sensors and Field Probes, Excluding Antennas, from 9 kHz to 40GHz </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 1530</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mmended Practice for the Design and Construction of Calibration Artifacts for Cable and Connector Shielding Test Fixtures for Frequencies from 1 Hz to 10 GHz</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A015A19-C5A0-4264-86DA-369BEAFB0E72}"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s of Common Interest</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Interference &amp; Immun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te Measurement of EM Emi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of EM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of 802.11, 802.15 with other equipment typ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7A775D7-1836-4A8A-A93A-AB36CEBA57DD}"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Parameters of Mutual Interest</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transmission amplitud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amp; average transmission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domain transmission envel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 and characteristics of developing EM environment from the 2.4 GHz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ness of immunity tests, ad hoc and oth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036C713-83A0-45C4-8BB0-14B884846603}"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18:15:34Z</dcterms:created>
  <dc:creator>Stephen Berger</dc:creator>
  <dc:description>&lt;01/168&gt;</dc:description>
  <dc:language>en-US</dc:language>
  <cp:lastModifiedBy>Stephen Berger</cp:lastModifiedBy>
  <cp:lastPrinted>1998-02-10T13:28:06Z</cp:lastPrinted>
  <dcterms:modified xsi:type="dcterms:W3CDTF">2001-03-13T20:09:06Z</dcterms:modified>
  <cp:revision>5</cp:revision>
  <dc:subject>IEEE 802.15 Joint Meeting with EMC Society SDCom</dc:subject>
  <dc:title>IEEE SDCom / 802.15 TG 2 Joint Meeting</dc:title>
</cp:coreProperties>
</file>