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A28CC4D-77CD-401D-AD12-984F9F8B4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BCE952-28A0-4244-B2B5-F2EE94F13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22320" y="4408560"/>
            <a:ext cx="508968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656CBB-E7D3-421C-8D36-B9F0D7052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99BB-DCB3-4D41-A952-2EDC3E2D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FC4-B619-4F93-B2DC-5EE3F5C9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1B99-0E31-4814-BE87-B6B6DD42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9FB8-7AA2-4AB9-ABBD-90E0F12A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C6B6-6298-4835-A865-BB43C109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C7C4-E4E4-4C13-905B-2315A22B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2AB-53D0-4262-AAFA-827CAA11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2D34-705C-42E2-912E-B31DFA4B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C6D-283A-4BD1-ABCF-937DD3D8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4AC-7033-4E86-BE3D-A787E338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F97-5217-4FBD-9E8E-A64DFEDD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943-2541-4D1D-9501-46C6D02E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FD46393-6E07-44DD-96AF-20ADDF736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1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802.11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sse Walker, Intel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03) 712-18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sse.walker@inte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370-83AA-463A-B422-E6A6727193A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2743200"/>
            <a:ext cx="6629400" cy="1600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P Authent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809520" y="2898720"/>
            <a:ext cx="2667240" cy="307080"/>
            <a:chOff x="3809520" y="2898720"/>
            <a:chExt cx="2667240" cy="307080"/>
          </a:xfrm>
        </p:grpSpPr>
        <p:sp>
          <p:nvSpPr>
            <p:cNvPr id="106" name=""/>
            <p:cNvSpPr/>
            <p:nvPr/>
          </p:nvSpPr>
          <p:spPr>
            <a:xfrm flipH="1">
              <a:off x="3809520" y="3127320"/>
              <a:ext cx="2667240" cy="126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8987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Challenge (Nonc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371600" y="3368520"/>
            <a:ext cx="3962520" cy="520200"/>
            <a:chOff x="1371600" y="3368520"/>
            <a:chExt cx="3962520" cy="520200"/>
          </a:xfrm>
        </p:grpSpPr>
        <p:sp>
          <p:nvSpPr>
            <p:cNvPr id="109" name=""/>
            <p:cNvSpPr/>
            <p:nvPr/>
          </p:nvSpPr>
          <p:spPr>
            <a:xfrm>
              <a:off x="1523880" y="367344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71600" y="3368520"/>
              <a:ext cx="3962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Response (Nonce RC4 encrypted under shared ke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47920" y="171288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934320" y="1530360"/>
            <a:ext cx="609480" cy="923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666880" y="1768320"/>
            <a:ext cx="3733920" cy="22860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6923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1660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362320" y="2301840"/>
            <a:ext cx="4114800" cy="380880"/>
            <a:chOff x="2362320" y="2301840"/>
            <a:chExt cx="4114800" cy="380880"/>
          </a:xfrm>
        </p:grpSpPr>
        <p:sp>
          <p:nvSpPr>
            <p:cNvPr id="117" name=""/>
            <p:cNvSpPr/>
            <p:nvPr/>
          </p:nvSpPr>
          <p:spPr>
            <a:xfrm>
              <a:off x="2743200" y="2301840"/>
              <a:ext cx="342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Shared secret distributed out of 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67280" y="230184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62320" y="2301840"/>
              <a:ext cx="609480" cy="380880"/>
            </a:xfrm>
            <a:prstGeom prst="leftArrow">
              <a:avLst>
                <a:gd name="adj1" fmla="val 50000"/>
                <a:gd name="adj2" fmla="val 4000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114800" y="382572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ecrypted nonce OK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648320"/>
            <a:ext cx="79250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 Authentication Summa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 key distributed out-of-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Point generates a “randomly generated” 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on encrypts challenge using pre-shared secr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06B7-C53B-4998-B5F1-BB43A0D1A71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2743200"/>
            <a:ext cx="533376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and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 Security To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at’s Wrong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Authentication, Authorization, and Ke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63C-9D24-44D5-9BBE-91E4F79984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 What’s Wrong Tod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of Vernam Ci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read WEP Encrypted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authentication without the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 mod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for a networked data encapsulation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7CB8-BABE-4FD2-8BEA-72868EC7409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erties of Vernam Cipher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167652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P encryption algorithm RC4 is a Vernam Cip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429000" y="2438280"/>
            <a:ext cx="2209680" cy="1229400"/>
            <a:chOff x="3429000" y="2438280"/>
            <a:chExt cx="2209680" cy="1229400"/>
          </a:xfrm>
        </p:grpSpPr>
        <p:sp>
          <p:nvSpPr>
            <p:cNvPr id="130" name=""/>
            <p:cNvSpPr/>
            <p:nvPr/>
          </p:nvSpPr>
          <p:spPr>
            <a:xfrm>
              <a:off x="3429000" y="2438280"/>
              <a:ext cx="2209680" cy="11430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43120" y="2658960"/>
              <a:ext cx="1981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seudo-random number gene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04920" y="2803680"/>
            <a:ext cx="3047760" cy="398880"/>
            <a:chOff x="304920" y="2803680"/>
            <a:chExt cx="3047760" cy="398880"/>
          </a:xfrm>
        </p:grpSpPr>
        <p:sp>
          <p:nvSpPr>
            <p:cNvPr id="133" name=""/>
            <p:cNvSpPr/>
            <p:nvPr/>
          </p:nvSpPr>
          <p:spPr>
            <a:xfrm>
              <a:off x="2362320" y="2819520"/>
              <a:ext cx="990360" cy="380880"/>
            </a:xfrm>
            <a:prstGeom prst="rightArrow">
              <a:avLst>
                <a:gd name="adj1" fmla="val 50000"/>
                <a:gd name="adj2" fmla="val 65005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920" y="280368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cryption Key </a:t>
              </a:r>
              <a:r>
                <a:rPr b="1" i="1" lang="en-US" sz="2000" spc="-1" strike="noStrike">
                  <a:solidFill>
                    <a:srgbClr val="cc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57200" y="4267080"/>
            <a:ext cx="3809880" cy="703800"/>
            <a:chOff x="457200" y="4267080"/>
            <a:chExt cx="3809880" cy="703800"/>
          </a:xfrm>
        </p:grpSpPr>
        <p:sp>
          <p:nvSpPr>
            <p:cNvPr id="136" name=""/>
            <p:cNvSpPr/>
            <p:nvPr/>
          </p:nvSpPr>
          <p:spPr>
            <a:xfrm>
              <a:off x="457200" y="4267080"/>
              <a:ext cx="213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laintext data byte 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6880" y="4419720"/>
              <a:ext cx="1600200" cy="380880"/>
            </a:xfrm>
            <a:prstGeom prst="rightArrow">
              <a:avLst>
                <a:gd name="adj1" fmla="val 50000"/>
                <a:gd name="adj2" fmla="val 105033"/>
              </a:avLst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362320" y="3733920"/>
            <a:ext cx="2438280" cy="1084680"/>
            <a:chOff x="2362320" y="3733920"/>
            <a:chExt cx="2438280" cy="1084680"/>
          </a:xfrm>
        </p:grpSpPr>
        <p:grpSp>
          <p:nvGrpSpPr>
            <p:cNvPr id="139" name=""/>
            <p:cNvGrpSpPr/>
            <p:nvPr/>
          </p:nvGrpSpPr>
          <p:grpSpPr>
            <a:xfrm>
              <a:off x="2362320" y="3733920"/>
              <a:ext cx="2361960" cy="609480"/>
              <a:chOff x="2362320" y="3733920"/>
              <a:chExt cx="2361960" cy="609480"/>
            </a:xfrm>
          </p:grpSpPr>
          <p:sp>
            <p:nvSpPr>
              <p:cNvPr id="140" name=""/>
              <p:cNvSpPr/>
              <p:nvPr/>
            </p:nvSpPr>
            <p:spPr>
              <a:xfrm>
                <a:off x="4267080" y="3733920"/>
                <a:ext cx="457200" cy="609480"/>
              </a:xfrm>
              <a:prstGeom prst="downArrow">
                <a:avLst>
                  <a:gd name="adj1" fmla="val 50000"/>
                  <a:gd name="adj2" fmla="val 33327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62320" y="3794040"/>
                <a:ext cx="198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andom byte </a:t>
                </a:r>
                <a:r>
                  <a:rPr b="1" i="1" lang="en-US" sz="2000" spc="-1" strike="noStrike">
                    <a:solidFill>
                      <a:srgbClr val="cc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267080" y="44197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800600" y="4267080"/>
            <a:ext cx="3886200" cy="703800"/>
            <a:chOff x="4800600" y="4267080"/>
            <a:chExt cx="3886200" cy="703800"/>
          </a:xfrm>
        </p:grpSpPr>
        <p:sp>
          <p:nvSpPr>
            <p:cNvPr id="144" name=""/>
            <p:cNvSpPr/>
            <p:nvPr/>
          </p:nvSpPr>
          <p:spPr>
            <a:xfrm>
              <a:off x="4800600" y="4419720"/>
              <a:ext cx="1600200" cy="380880"/>
            </a:xfrm>
            <a:prstGeom prst="rightArrow">
              <a:avLst>
                <a:gd name="adj1" fmla="val 50000"/>
                <a:gd name="adj2" fmla="val 105033"/>
              </a:avLst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0800" y="426708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iphertext data byte </a:t>
              </a:r>
              <a:r>
                <a:rPr b="1" i="1" lang="en-US" sz="2000" spc="-1" strike="noStrike">
                  <a:solidFill>
                    <a:srgbClr val="80008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90720" y="541008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yption works the same way: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462-CB0B-42F2-8DC1-BA07E4E1659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erties of Vernam Cipher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676520"/>
            <a:ext cx="69339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ought experiment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what happens when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encrypted under the same “random” byte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143000" y="2498760"/>
            <a:ext cx="6781680" cy="440640"/>
            <a:chOff x="1143000" y="2498760"/>
            <a:chExt cx="6781680" cy="440640"/>
          </a:xfrm>
        </p:grpSpPr>
        <p:sp>
          <p:nvSpPr>
            <p:cNvPr id="150" name=""/>
            <p:cNvSpPr/>
            <p:nvPr/>
          </p:nvSpPr>
          <p:spPr>
            <a:xfrm>
              <a:off x="1143000" y="249876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80008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80008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= 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10080" y="249876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80008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80008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= 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990720" y="30322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43434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t is a very bad idea to encrypt any two bytes of data using the same byte output by a Vernam Cipher PR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3581280"/>
            <a:ext cx="632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5181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DA8B-BA72-444D-8D56-16B20F5CF41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to Read WEP Encrypted Traffic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3657600"/>
            <a:ext cx="792468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the Birthday Paradox, probabil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wo packets will share same IV after n packets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/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fter two frames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1)(1–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n &gt;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% chance of a collision exists already after only 4823 packet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tern recognition can disentangle the XOR’d recovered plain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vered ICV can tell you when you’ve disentangled plaintext correc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only a few hours of observation, you can recover all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ey strea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47920" y="1905120"/>
            <a:ext cx="6400800" cy="533160"/>
            <a:chOff x="1447920" y="1905120"/>
            <a:chExt cx="6400800" cy="533160"/>
          </a:xfrm>
        </p:grpSpPr>
        <p:grpSp>
          <p:nvGrpSpPr>
            <p:cNvPr id="159" name=""/>
            <p:cNvGrpSpPr/>
            <p:nvPr/>
          </p:nvGrpSpPr>
          <p:grpSpPr>
            <a:xfrm>
              <a:off x="1447920" y="1905120"/>
              <a:ext cx="1295280" cy="533160"/>
              <a:chOff x="1447920" y="1905120"/>
              <a:chExt cx="1295280" cy="533160"/>
            </a:xfrm>
          </p:grpSpPr>
          <p:sp>
            <p:nvSpPr>
              <p:cNvPr id="160" name=""/>
              <p:cNvSpPr/>
              <p:nvPr/>
            </p:nvSpPr>
            <p:spPr>
              <a:xfrm>
                <a:off x="1447920" y="1905120"/>
                <a:ext cx="1295280" cy="5331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562040" y="201924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802.11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3581280" y="1905120"/>
              <a:ext cx="3429000" cy="533160"/>
              <a:chOff x="3581280" y="1905120"/>
              <a:chExt cx="3429000" cy="533160"/>
            </a:xfrm>
          </p:grpSpPr>
          <p:sp>
            <p:nvSpPr>
              <p:cNvPr id="163" name=""/>
              <p:cNvSpPr/>
              <p:nvPr/>
            </p:nvSpPr>
            <p:spPr>
              <a:xfrm>
                <a:off x="3581280" y="1905120"/>
                <a:ext cx="3429000" cy="5331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62440" y="201924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777777"/>
                    </a:solidFill>
                    <a:latin typeface="Times New Roman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743200" y="1905120"/>
              <a:ext cx="838080" cy="533160"/>
              <a:chOff x="2743200" y="1905120"/>
              <a:chExt cx="838080" cy="533160"/>
            </a:xfrm>
          </p:grpSpPr>
          <p:sp>
            <p:nvSpPr>
              <p:cNvPr id="166" name=""/>
              <p:cNvSpPr/>
              <p:nvPr/>
            </p:nvSpPr>
            <p:spPr>
              <a:xfrm>
                <a:off x="2743200" y="1905120"/>
                <a:ext cx="838080" cy="5331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817720" y="2019240"/>
                <a:ext cx="689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010280" y="1905120"/>
              <a:ext cx="838440" cy="533160"/>
              <a:chOff x="7010280" y="1905120"/>
              <a:chExt cx="838440" cy="533160"/>
            </a:xfrm>
          </p:grpSpPr>
          <p:sp>
            <p:nvSpPr>
              <p:cNvPr id="169" name=""/>
              <p:cNvSpPr/>
              <p:nvPr/>
            </p:nvSpPr>
            <p:spPr>
              <a:xfrm>
                <a:off x="7010280" y="1905120"/>
                <a:ext cx="838440" cy="53316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084080" y="2019240"/>
                <a:ext cx="69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777777"/>
                    </a:solidFill>
                    <a:latin typeface="Times New Roman"/>
                  </a:rPr>
                  <a:t>IC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1523880" y="2590560"/>
            <a:ext cx="2057400" cy="475200"/>
            <a:chOff x="1523880" y="2590560"/>
            <a:chExt cx="2057400" cy="475200"/>
          </a:xfrm>
        </p:grpSpPr>
        <p:sp>
          <p:nvSpPr>
            <p:cNvPr id="172" name=""/>
            <p:cNvSpPr/>
            <p:nvPr/>
          </p:nvSpPr>
          <p:spPr>
            <a:xfrm rot="16200000">
              <a:off x="3124080" y="2209320"/>
              <a:ext cx="75960" cy="8380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23880" y="266688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4 luxurious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505320" y="2511720"/>
            <a:ext cx="4343400" cy="935280"/>
            <a:chOff x="3505320" y="2511720"/>
            <a:chExt cx="4343400" cy="935280"/>
          </a:xfrm>
        </p:grpSpPr>
        <p:sp>
          <p:nvSpPr>
            <p:cNvPr id="175" name=""/>
            <p:cNvSpPr/>
            <p:nvPr/>
          </p:nvSpPr>
          <p:spPr>
            <a:xfrm flipV="1" rot="16206600">
              <a:off x="5580720" y="551520"/>
              <a:ext cx="227160" cy="4152960"/>
            </a:xfrm>
            <a:custGeom>
              <a:avLst/>
              <a:gdLst>
                <a:gd name="textAreaLeft" fmla="*/ 145080 w 227160"/>
                <a:gd name="textAreaRight" fmla="*/ 227520 w 227160"/>
                <a:gd name="textAreaTop" fmla="*/ 108000 h 4152960"/>
                <a:gd name="textAreaBottom" fmla="*/ 4044960 h 415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05320" y="2743200"/>
              <a:ext cx="434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crypted under Key +IV using a Vernam Cip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F0C-0132-4CA4-BC60-C2D266E0B3B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to Read WEP Encrypted Traffic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ys to accelerate the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spam into the network: no pattern recognition requir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victim to send e-mail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 creates the plaintext for yo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ypt packets from one Station to another via an Access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know the plaintext on one leg of the journey, you can recover the key stream immediately on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, etc.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F14-7217-4C53-8FD2-6CF3F9BAFBD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219320" y="2743200"/>
            <a:ext cx="6629400" cy="1600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to Authenticate without the 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809520" y="2898720"/>
            <a:ext cx="2667240" cy="307080"/>
            <a:chOff x="3809520" y="2898720"/>
            <a:chExt cx="2667240" cy="307080"/>
          </a:xfrm>
        </p:grpSpPr>
        <p:sp>
          <p:nvSpPr>
            <p:cNvPr id="182" name=""/>
            <p:cNvSpPr/>
            <p:nvPr/>
          </p:nvSpPr>
          <p:spPr>
            <a:xfrm flipH="1">
              <a:off x="3809520" y="3127320"/>
              <a:ext cx="2667240" cy="126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95680" y="28987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Challenge (Nonc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371600" y="3368520"/>
            <a:ext cx="3962520" cy="520200"/>
            <a:chOff x="1371600" y="3368520"/>
            <a:chExt cx="3962520" cy="520200"/>
          </a:xfrm>
        </p:grpSpPr>
        <p:sp>
          <p:nvSpPr>
            <p:cNvPr id="185" name=""/>
            <p:cNvSpPr/>
            <p:nvPr/>
          </p:nvSpPr>
          <p:spPr>
            <a:xfrm>
              <a:off x="1523880" y="367344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71600" y="3368520"/>
              <a:ext cx="3962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Response (Nonce RC4 encrypted under shared ke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47920" y="171288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934320" y="1530360"/>
            <a:ext cx="609480" cy="923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666880" y="1768320"/>
            <a:ext cx="3733920" cy="22860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16923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72400" y="1660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382572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ecrypted nonce OK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4648320"/>
            <a:ext cx="79250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our background, an easy attack is obvio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 one challenge/response with a sni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challenge to decrypt the response and recover the key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recovered key stream to encrypt any subsequent 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8C5-D136-4E9B-B78D-3FF5D55A88F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ffic Modificatio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167652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ernam cipher thought experiment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how hard is it to change a genuine packet’s data, so ICV won’t detect the chan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2743200"/>
            <a:ext cx="70102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 an n-bit plaintext as an n-th degree polynom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000" spc="-1" strike="noStrike" baseline="30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Times New Roman"/>
              </a:rPr>
              <a:t>n–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000" spc="-1" strike="noStrike" baseline="30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2000" spc="-1" strike="noStrike" baseline="30000">
                <a:solidFill>
                  <a:srgbClr val="0000ff"/>
                </a:solidFill>
                <a:latin typeface="Times New Roman"/>
              </a:rPr>
              <a:t>–1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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(each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= 0 or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2346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asy as p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3733920"/>
            <a:ext cx="70102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the plaintext with ICV can be represented a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ff"/>
                </a:solidFill>
                <a:latin typeface="Times New Roman"/>
              </a:rPr>
              <a:t>32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 ICV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000" spc="-1" strike="noStrike" baseline="30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2000" spc="-1" strike="noStrike" baseline="30000">
                <a:solidFill>
                  <a:srgbClr val="0000ff"/>
                </a:solidFill>
                <a:latin typeface="Times New Roman"/>
              </a:rPr>
              <a:t>+3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Times New Roman"/>
              </a:rPr>
              <a:t>n–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000" spc="-1" strike="noStrike" baseline="30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2000" spc="-1" strike="noStrike" baseline="30000">
                <a:solidFill>
                  <a:srgbClr val="0000ff"/>
                </a:solidFill>
                <a:latin typeface="Times New Roman"/>
              </a:rPr>
              <a:t>–31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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ff"/>
                </a:solidFill>
                <a:latin typeface="Times New Roman"/>
              </a:rPr>
              <a:t>32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 ICV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4800600"/>
            <a:ext cx="7010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32 bit RC4 key stream used to encrypt the body is represented by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3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gree polynomial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n the encrypted message body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ff"/>
                </a:solidFill>
                <a:latin typeface="Times New Roman"/>
              </a:rPr>
              <a:t>32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 ICV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) +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4AB-8774-44DD-ABCE-60322AB3D9F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ffic Modificatio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1981080"/>
            <a:ext cx="7010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the ICV is linear, meaning for any polynomial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80008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VC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+</a:t>
            </a: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q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CV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 + ICV(</a:t>
            </a: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q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510552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nyone can alter an WEP encapsulated packet in arbitrary ways without detection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3048120"/>
            <a:ext cx="7010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eans that if q is an arbitrary nth degree polynomial, i.e., an arbitrary change in the underlying message da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+</a:t>
            </a: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q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ff"/>
                </a:solidFill>
                <a:latin typeface="Times New Roman"/>
              </a:rPr>
              <a:t>32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 ICV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+</a:t>
            </a: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q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ff"/>
                </a:solidFill>
                <a:latin typeface="Times New Roman"/>
              </a:rPr>
              <a:t>32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q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ff"/>
                </a:solidFill>
                <a:latin typeface="Times New Roman"/>
              </a:rPr>
              <a:t>32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 ICV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CV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q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43434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= (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ff"/>
                </a:solidFill>
                <a:latin typeface="Times New Roman"/>
              </a:rPr>
              <a:t>32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 ICV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)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q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ff"/>
                </a:solidFill>
                <a:latin typeface="Times New Roman"/>
              </a:rPr>
              <a:t>32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CV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q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04EC-22CB-43B5-9BA0-309DE204C49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nard Abo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e Hala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kita Bori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ncan Kitch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7984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am grateful to these individuals for allowing me to freely plagiarize their presentations and documents to prepare this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BCB4-5490-4417-AB39-8E9F6B6C93D1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ncryption by itself offers no protection from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’s access control, stupi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re is no meaningful privacy if the data authenticity problem is not 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rofoundly easy to mis-use a ci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n’t try this at h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ny cryptographic scheme reviewed by profess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41FE-97FE-420F-9E81-01991831BD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quirements for a networked data encapsulation sche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raff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must be authentication, not jus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must have sequence numbers to prevent re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ual authentic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-packet keys have to be tied to the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6DC-7215-4D48-B698-7FA623AE864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4920" y="3352680"/>
            <a:ext cx="5562360" cy="6098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and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 Security To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Wrong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Authentication, Authorization, and Ke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4C89-D0A3-4B66-8F4C-2106CDE6A8B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apsulation Propo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TGe plan of rec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ES-128 as the new cryptographic prim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ES in Offset Codebook Mode OCB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 Rogaway submission to AES mode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provides both privacy and data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session sequence number to avoid re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base key to session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CB mode tag to compute session key, to minimize number of cryptographic primitives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ED80-3066-4F96-BC51-538D1B5CEAF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ES F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ST standard for iterated block cip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 cipher: encrypts or decrypts 128-bit blocks of data, not individual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128-, 192-, or 256-bit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y paralleli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ical path instr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S-box, XOR6, XOR5, XOR2, MU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MHz Pentium Pro: 284 cycles/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3396-79F9-46C0-A8D6-DE6D5F4D184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erated Block Cip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29000" y="2606760"/>
            <a:ext cx="1905120" cy="304560"/>
          </a:xfrm>
          <a:custGeom>
            <a:avLst/>
            <a:gdLst>
              <a:gd name="textAreaLeft" fmla="*/ 418680 w 1905120"/>
              <a:gd name="textAreaRight" fmla="*/ 1486440 w 1905120"/>
              <a:gd name="textAreaTop" fmla="*/ 66960 h 304560"/>
              <a:gd name="textAreaBottom" fmla="*/ 237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72080" y="25909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plex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05320" y="3505320"/>
            <a:ext cx="1828800" cy="4572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9880" y="35654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4648320"/>
            <a:ext cx="182880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95760" y="4815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binational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16002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29718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43400" y="40384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43400" y="5638680"/>
            <a:ext cx="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594360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095880" y="1980720"/>
            <a:ext cx="0" cy="3962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419720" y="19810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020-8F32-4CB4-8680-DDC054DF986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CB Mode (Full last block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0880" y="2666880"/>
            <a:ext cx="648000" cy="2898360"/>
            <a:chOff x="380880" y="2666880"/>
            <a:chExt cx="648000" cy="2898360"/>
          </a:xfrm>
        </p:grpSpPr>
        <p:sp>
          <p:nvSpPr>
            <p:cNvPr id="232" name=""/>
            <p:cNvSpPr/>
            <p:nvPr/>
          </p:nvSpPr>
          <p:spPr>
            <a:xfrm>
              <a:off x="685800" y="4495680"/>
              <a:ext cx="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80880" y="3809880"/>
              <a:ext cx="609480" cy="609840"/>
              <a:chOff x="380880" y="3809880"/>
              <a:chExt cx="609480" cy="609840"/>
            </a:xfrm>
          </p:grpSpPr>
          <p:sp>
            <p:nvSpPr>
              <p:cNvPr id="234" name=""/>
              <p:cNvSpPr/>
              <p:nvPr/>
            </p:nvSpPr>
            <p:spPr>
              <a:xfrm>
                <a:off x="380880" y="3809880"/>
                <a:ext cx="609480" cy="60984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19040" y="388620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723960" y="3124080"/>
              <a:ext cx="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9040" y="26668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9040" y="5105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066680" y="160020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447920" y="1905120"/>
            <a:ext cx="5143320" cy="4548600"/>
            <a:chOff x="1447920" y="1905120"/>
            <a:chExt cx="5143320" cy="4548600"/>
          </a:xfrm>
        </p:grpSpPr>
        <p:grpSp>
          <p:nvGrpSpPr>
            <p:cNvPr id="241" name=""/>
            <p:cNvGrpSpPr/>
            <p:nvPr/>
          </p:nvGrpSpPr>
          <p:grpSpPr>
            <a:xfrm>
              <a:off x="1447920" y="1905120"/>
              <a:ext cx="1714320" cy="4548600"/>
              <a:chOff x="1447920" y="1905120"/>
              <a:chExt cx="1714320" cy="4548600"/>
            </a:xfrm>
          </p:grpSpPr>
          <p:sp>
            <p:nvSpPr>
              <p:cNvPr id="242" name=""/>
              <p:cNvSpPr/>
              <p:nvPr/>
            </p:nvSpPr>
            <p:spPr>
              <a:xfrm>
                <a:off x="1562040" y="495288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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+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562040" y="27432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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+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447920" y="3809880"/>
                <a:ext cx="609480" cy="609840"/>
                <a:chOff x="1447920" y="3809880"/>
                <a:chExt cx="609480" cy="60984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447920" y="3809880"/>
                  <a:ext cx="609480" cy="60984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486080" y="388620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1790640" y="3124080"/>
                <a:ext cx="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486080" y="19051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90640" y="5410080"/>
                <a:ext cx="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486080" y="594360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790640" y="4495680"/>
                <a:ext cx="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790640" y="2286000"/>
                <a:ext cx="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3048120" y="1905120"/>
              <a:ext cx="1714320" cy="4548600"/>
              <a:chOff x="3048120" y="1905120"/>
              <a:chExt cx="1714320" cy="4548600"/>
            </a:xfrm>
          </p:grpSpPr>
          <p:sp>
            <p:nvSpPr>
              <p:cNvPr id="254" name=""/>
              <p:cNvSpPr/>
              <p:nvPr/>
            </p:nvSpPr>
            <p:spPr>
              <a:xfrm>
                <a:off x="3162240" y="19051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162240" y="594360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62240" y="495288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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+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162240" y="27432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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+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048120" y="3809880"/>
                <a:ext cx="609480" cy="609840"/>
                <a:chOff x="3048120" y="3809880"/>
                <a:chExt cx="609480" cy="6098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048120" y="3809880"/>
                  <a:ext cx="609480" cy="60984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086280" y="388620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3390840" y="3124080"/>
                <a:ext cx="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390840" y="5410080"/>
                <a:ext cx="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390840" y="4495680"/>
                <a:ext cx="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390840" y="2286000"/>
                <a:ext cx="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3886200" y="3809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4648320" y="2057400"/>
              <a:ext cx="1942920" cy="4396320"/>
              <a:chOff x="4648320" y="2057400"/>
              <a:chExt cx="1942920" cy="439632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4648320" y="3733920"/>
                <a:ext cx="609480" cy="609480"/>
                <a:chOff x="4648320" y="3733920"/>
                <a:chExt cx="609480" cy="6094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648320" y="3733920"/>
                  <a:ext cx="609480" cy="60948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686480" y="380988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4991040" y="2971800"/>
                <a:ext cx="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81760" y="205740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991040" y="449568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686480" y="594360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915080" y="27432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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L+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762440" y="472428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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nL+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991040" y="57913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762440" y="5410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991040" y="518148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5143680" y="5638680"/>
                <a:ext cx="1218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362640" y="2514600"/>
                <a:ext cx="0" cy="312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6553080" y="1600200"/>
            <a:ext cx="2743200" cy="4803120"/>
            <a:chOff x="6553080" y="1600200"/>
            <a:chExt cx="2743200" cy="4803120"/>
          </a:xfrm>
        </p:grpSpPr>
        <p:sp>
          <p:nvSpPr>
            <p:cNvPr id="282" name=""/>
            <p:cNvSpPr/>
            <p:nvPr/>
          </p:nvSpPr>
          <p:spPr>
            <a:xfrm>
              <a:off x="6553080" y="1600200"/>
              <a:ext cx="2209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…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594360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48440" y="2743200"/>
              <a:ext cx="224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(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1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+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6933960" y="3809880"/>
              <a:ext cx="609480" cy="609840"/>
              <a:chOff x="6933960" y="3809880"/>
              <a:chExt cx="609480" cy="609840"/>
            </a:xfrm>
          </p:grpSpPr>
          <p:sp>
            <p:nvSpPr>
              <p:cNvPr id="286" name=""/>
              <p:cNvSpPr/>
              <p:nvPr/>
            </p:nvSpPr>
            <p:spPr>
              <a:xfrm>
                <a:off x="6933960" y="3809880"/>
                <a:ext cx="609480" cy="60984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972120" y="388620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7277040" y="3124080"/>
              <a:ext cx="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15200" y="4572000"/>
              <a:ext cx="0" cy="152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77040" y="228600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2A8-FBF7-41EE-8A1F-22F4A2699CC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CB Mode (Partial last block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80880" y="2666880"/>
            <a:ext cx="648000" cy="2898360"/>
            <a:chOff x="380880" y="2666880"/>
            <a:chExt cx="648000" cy="2898360"/>
          </a:xfrm>
        </p:grpSpPr>
        <p:sp>
          <p:nvSpPr>
            <p:cNvPr id="293" name=""/>
            <p:cNvSpPr/>
            <p:nvPr/>
          </p:nvSpPr>
          <p:spPr>
            <a:xfrm>
              <a:off x="685800" y="4495680"/>
              <a:ext cx="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380880" y="3809880"/>
              <a:ext cx="609480" cy="609840"/>
              <a:chOff x="380880" y="3809880"/>
              <a:chExt cx="609480" cy="609840"/>
            </a:xfrm>
          </p:grpSpPr>
          <p:sp>
            <p:nvSpPr>
              <p:cNvPr id="295" name=""/>
              <p:cNvSpPr/>
              <p:nvPr/>
            </p:nvSpPr>
            <p:spPr>
              <a:xfrm>
                <a:off x="380880" y="3809880"/>
                <a:ext cx="609480" cy="60984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19040" y="388620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723960" y="3124080"/>
              <a:ext cx="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9040" y="26668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040" y="5105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1066680" y="160020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447920" y="1905120"/>
            <a:ext cx="5143320" cy="4548600"/>
            <a:chOff x="1447920" y="1905120"/>
            <a:chExt cx="5143320" cy="4548600"/>
          </a:xfrm>
        </p:grpSpPr>
        <p:grpSp>
          <p:nvGrpSpPr>
            <p:cNvPr id="302" name=""/>
            <p:cNvGrpSpPr/>
            <p:nvPr/>
          </p:nvGrpSpPr>
          <p:grpSpPr>
            <a:xfrm>
              <a:off x="1447920" y="1905120"/>
              <a:ext cx="1714320" cy="4548600"/>
              <a:chOff x="1447920" y="1905120"/>
              <a:chExt cx="1714320" cy="4548600"/>
            </a:xfrm>
          </p:grpSpPr>
          <p:sp>
            <p:nvSpPr>
              <p:cNvPr id="303" name=""/>
              <p:cNvSpPr/>
              <p:nvPr/>
            </p:nvSpPr>
            <p:spPr>
              <a:xfrm>
                <a:off x="1562040" y="495288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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+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562040" y="27432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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+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1447920" y="3809880"/>
                <a:ext cx="609480" cy="609840"/>
                <a:chOff x="1447920" y="3809880"/>
                <a:chExt cx="609480" cy="6098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447920" y="3809880"/>
                  <a:ext cx="609480" cy="60984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486080" y="388620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1790640" y="3124080"/>
                <a:ext cx="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6080" y="19051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790640" y="5410080"/>
                <a:ext cx="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6080" y="594360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90640" y="4495680"/>
                <a:ext cx="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90640" y="2286000"/>
                <a:ext cx="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048120" y="1905120"/>
              <a:ext cx="1714320" cy="4548600"/>
              <a:chOff x="3048120" y="1905120"/>
              <a:chExt cx="1714320" cy="4548600"/>
            </a:xfrm>
          </p:grpSpPr>
          <p:sp>
            <p:nvSpPr>
              <p:cNvPr id="315" name=""/>
              <p:cNvSpPr/>
              <p:nvPr/>
            </p:nvSpPr>
            <p:spPr>
              <a:xfrm>
                <a:off x="3162240" y="19051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162240" y="594360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62240" y="495288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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+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62240" y="27432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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+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3048120" y="3809880"/>
                <a:ext cx="609480" cy="609840"/>
                <a:chOff x="3048120" y="3809880"/>
                <a:chExt cx="609480" cy="60984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3048120" y="3809880"/>
                  <a:ext cx="609480" cy="60984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086280" y="388620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3390840" y="3124080"/>
                <a:ext cx="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390840" y="5410080"/>
                <a:ext cx="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390840" y="4495680"/>
                <a:ext cx="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90840" y="2286000"/>
                <a:ext cx="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3886200" y="3809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4648320" y="2057400"/>
              <a:ext cx="1942920" cy="4396320"/>
              <a:chOff x="4648320" y="2057400"/>
              <a:chExt cx="1942920" cy="439632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4648320" y="3733920"/>
                <a:ext cx="609480" cy="609480"/>
                <a:chOff x="4648320" y="3733920"/>
                <a:chExt cx="609480" cy="6094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648320" y="3733920"/>
                  <a:ext cx="609480" cy="60948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686480" y="380988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4991040" y="2971800"/>
                <a:ext cx="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981760" y="205740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91040" y="449568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686480" y="594360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915080" y="27432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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L+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62440" y="472428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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nL+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91040" y="57913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62440" y="5410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991040" y="518148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143680" y="5638680"/>
                <a:ext cx="1218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362640" y="2514600"/>
                <a:ext cx="0" cy="312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6324480" y="160020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d(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858000" y="2286000"/>
            <a:ext cx="2438280" cy="4117320"/>
            <a:chOff x="6858000" y="2286000"/>
            <a:chExt cx="2438280" cy="4117320"/>
          </a:xfrm>
        </p:grpSpPr>
        <p:sp>
          <p:nvSpPr>
            <p:cNvPr id="344" name=""/>
            <p:cNvSpPr/>
            <p:nvPr/>
          </p:nvSpPr>
          <p:spPr>
            <a:xfrm>
              <a:off x="6858000" y="594360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48440" y="2743200"/>
              <a:ext cx="224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(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1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+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6934320" y="3809880"/>
              <a:ext cx="609480" cy="609840"/>
              <a:chOff x="6934320" y="3809880"/>
              <a:chExt cx="609480" cy="609840"/>
            </a:xfrm>
          </p:grpSpPr>
          <p:sp>
            <p:nvSpPr>
              <p:cNvPr id="347" name=""/>
              <p:cNvSpPr/>
              <p:nvPr/>
            </p:nvSpPr>
            <p:spPr>
              <a:xfrm>
                <a:off x="6934320" y="3809880"/>
                <a:ext cx="609480" cy="60984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72480" y="388620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7277040" y="3124080"/>
              <a:ext cx="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77040" y="228600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48440" y="4952880"/>
              <a:ext cx="224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(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2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+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77040" y="533412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77040" y="4495680"/>
              <a:ext cx="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BA1D-B00A-43FF-AB68-4C91E1483F1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ES-Based WEP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752480" y="2362320"/>
            <a:ext cx="1218960" cy="761760"/>
            <a:chOff x="1752480" y="2362320"/>
            <a:chExt cx="1218960" cy="761760"/>
          </a:xfrm>
        </p:grpSpPr>
        <p:sp>
          <p:nvSpPr>
            <p:cNvPr id="356" name=""/>
            <p:cNvSpPr/>
            <p:nvPr/>
          </p:nvSpPr>
          <p:spPr>
            <a:xfrm>
              <a:off x="1752480" y="2362320"/>
              <a:ext cx="1218960" cy="761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04760" y="245268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02.11 H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971800" y="2362320"/>
            <a:ext cx="3429000" cy="761760"/>
            <a:chOff x="2971800" y="2362320"/>
            <a:chExt cx="3429000" cy="761760"/>
          </a:xfrm>
        </p:grpSpPr>
        <p:sp>
          <p:nvSpPr>
            <p:cNvPr id="359" name=""/>
            <p:cNvSpPr/>
            <p:nvPr/>
          </p:nvSpPr>
          <p:spPr>
            <a:xfrm>
              <a:off x="2971800" y="2362320"/>
              <a:ext cx="3429000" cy="7617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29280" y="257508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762120" y="4572000"/>
            <a:ext cx="7543440" cy="762120"/>
            <a:chOff x="762120" y="4572000"/>
            <a:chExt cx="7543440" cy="762120"/>
          </a:xfrm>
        </p:grpSpPr>
        <p:grpSp>
          <p:nvGrpSpPr>
            <p:cNvPr id="362" name=""/>
            <p:cNvGrpSpPr/>
            <p:nvPr/>
          </p:nvGrpSpPr>
          <p:grpSpPr>
            <a:xfrm>
              <a:off x="6400800" y="4572000"/>
              <a:ext cx="838080" cy="762120"/>
              <a:chOff x="6400800" y="4572000"/>
              <a:chExt cx="838080" cy="762120"/>
            </a:xfrm>
          </p:grpSpPr>
          <p:sp>
            <p:nvSpPr>
              <p:cNvPr id="363" name=""/>
              <p:cNvSpPr/>
              <p:nvPr/>
            </p:nvSpPr>
            <p:spPr>
              <a:xfrm>
                <a:off x="6400800" y="4572000"/>
                <a:ext cx="838080" cy="762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477120" y="4662360"/>
                <a:ext cx="685800" cy="580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77777"/>
                    </a:solidFill>
                    <a:latin typeface="Times New Roman"/>
                  </a:rPr>
                  <a:t>Seq Nu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2971800" y="4572000"/>
              <a:ext cx="3429000" cy="762120"/>
              <a:chOff x="2971800" y="4572000"/>
              <a:chExt cx="3429000" cy="762120"/>
            </a:xfrm>
          </p:grpSpPr>
          <p:sp>
            <p:nvSpPr>
              <p:cNvPr id="366" name=""/>
              <p:cNvSpPr/>
              <p:nvPr/>
            </p:nvSpPr>
            <p:spPr>
              <a:xfrm>
                <a:off x="2971800" y="4572000"/>
                <a:ext cx="3429000" cy="7621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29280" y="4784760"/>
                <a:ext cx="914400" cy="3373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77777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62120" y="4572000"/>
              <a:ext cx="1218960" cy="761760"/>
              <a:chOff x="762120" y="4572000"/>
              <a:chExt cx="1218960" cy="761760"/>
            </a:xfrm>
          </p:grpSpPr>
          <p:sp>
            <p:nvSpPr>
              <p:cNvPr id="369" name=""/>
              <p:cNvSpPr/>
              <p:nvPr/>
            </p:nvSpPr>
            <p:spPr>
              <a:xfrm>
                <a:off x="762120" y="4572000"/>
                <a:ext cx="1218960" cy="76176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914400" y="4662360"/>
                <a:ext cx="914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802.11 Hd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1981080" y="4572000"/>
              <a:ext cx="990720" cy="761760"/>
              <a:chOff x="1981080" y="4572000"/>
              <a:chExt cx="990720" cy="761760"/>
            </a:xfrm>
          </p:grpSpPr>
          <p:sp>
            <p:nvSpPr>
              <p:cNvPr id="372" name=""/>
              <p:cNvSpPr/>
              <p:nvPr/>
            </p:nvSpPr>
            <p:spPr>
              <a:xfrm>
                <a:off x="1981080" y="4572000"/>
                <a:ext cx="990720" cy="7617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057400" y="4662360"/>
                <a:ext cx="838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28-bit IV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7238880" y="4572000"/>
              <a:ext cx="1066680" cy="761760"/>
              <a:chOff x="7238880" y="4572000"/>
              <a:chExt cx="1066680" cy="761760"/>
            </a:xfrm>
          </p:grpSpPr>
          <p:sp>
            <p:nvSpPr>
              <p:cNvPr id="375" name=""/>
              <p:cNvSpPr/>
              <p:nvPr/>
            </p:nvSpPr>
            <p:spPr>
              <a:xfrm>
                <a:off x="7238880" y="4572000"/>
                <a:ext cx="1066680" cy="76176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353000" y="4662360"/>
                <a:ext cx="838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28-bit MI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" name=""/>
          <p:cNvSpPr/>
          <p:nvPr/>
        </p:nvSpPr>
        <p:spPr>
          <a:xfrm>
            <a:off x="3809880" y="33526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05120" y="3581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5943600" y="33526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3505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ps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387-11FD-4809-87FF-4EA9D742672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 strong and fast and paralleliz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B mode provides both data authenticity and encry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voids many common implementation and design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s number of gates to i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and paralleliz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fail catastrophically if IV is re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0FCA-F4C0-4721-ABD1-181B07BA22F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600200"/>
            <a:ext cx="548640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and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 Security To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Wrong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Authentication, Authorization, and Ke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436-FE99-4B0E-8AA9-C2974E91EA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04920" y="3962520"/>
            <a:ext cx="8229600" cy="10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and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 Security To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Wrong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Authentication, Authorization, and Ke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EE3-C7C3-48B4-9E34-237E61BE4E0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existing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beros V (RFC 15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S-API (RFC 27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KERB (draft-ietf-cat-iakerb-05.t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P-GSS (draft-aboba-pppext-eapgss-02.t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P (RFC 22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X/EAP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securit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odel for authentication/associa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3B1B-CCBF-4531-B9F8-8D197AE20C3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X Termi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40160" y="1523880"/>
            <a:ext cx="3173400" cy="115920"/>
          </a:xfrm>
          <a:custGeom>
            <a:avLst/>
            <a:gdLst/>
            <a:ahLst/>
            <a:rect l="l" t="t" r="r" b="b"/>
            <a:pathLst>
              <a:path w="1999" h="73">
                <a:moveTo>
                  <a:pt x="0" y="73"/>
                </a:moveTo>
                <a:lnTo>
                  <a:pt x="0" y="0"/>
                </a:lnTo>
                <a:lnTo>
                  <a:pt x="1999" y="0"/>
                </a:lnTo>
              </a:path>
            </a:pathLst>
          </a:custGeom>
          <a:noFill/>
          <a:ln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05120" y="1981080"/>
            <a:ext cx="1904760" cy="15264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743200" y="3124080"/>
            <a:ext cx="2743200" cy="1304640"/>
            <a:chOff x="2743200" y="3124080"/>
            <a:chExt cx="2743200" cy="1304640"/>
          </a:xfrm>
        </p:grpSpPr>
        <p:grpSp>
          <p:nvGrpSpPr>
            <p:cNvPr id="392" name=""/>
            <p:cNvGrpSpPr/>
            <p:nvPr/>
          </p:nvGrpSpPr>
          <p:grpSpPr>
            <a:xfrm>
              <a:off x="2743200" y="3124080"/>
              <a:ext cx="2743200" cy="1304640"/>
              <a:chOff x="2743200" y="3124080"/>
              <a:chExt cx="2743200" cy="130464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3124440" y="3471480"/>
                <a:ext cx="2361960" cy="609840"/>
                <a:chOff x="3124440" y="3471480"/>
                <a:chExt cx="2361960" cy="60984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200400" y="3471480"/>
                  <a:ext cx="1600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191120" y="408132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800600" y="34714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800600" y="37764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>
                  <a:off x="3124440" y="40813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diamond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720" rIns="7272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2895840" y="4081320"/>
                <a:ext cx="213336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080" rIns="73080" tIns="36360" bIns="3636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ntrolled por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743200" y="3124080"/>
                <a:ext cx="25146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080" rIns="73080" tIns="36360" bIns="3636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Uncontrolled por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 flipH="1">
              <a:off x="3657600" y="4081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304920" y="1752480"/>
            <a:ext cx="1523880" cy="1261800"/>
            <a:chOff x="304920" y="1752480"/>
            <a:chExt cx="1523880" cy="1261800"/>
          </a:xfrm>
        </p:grpSpPr>
        <p:pic>
          <p:nvPicPr>
            <p:cNvPr id="403" name="" descr=""/>
            <p:cNvPicPr/>
            <p:nvPr/>
          </p:nvPicPr>
          <p:blipFill>
            <a:blip r:embed="rId1"/>
            <a:stretch/>
          </p:blipFill>
          <p:spPr>
            <a:xfrm>
              <a:off x="609480" y="1752480"/>
              <a:ext cx="91440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304920" y="2666880"/>
              <a:ext cx="15238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lic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6781680" y="1676520"/>
            <a:ext cx="1981440" cy="1460160"/>
            <a:chOff x="6781680" y="1676520"/>
            <a:chExt cx="1981440" cy="1460160"/>
          </a:xfrm>
        </p:grpSpPr>
        <p:pic>
          <p:nvPicPr>
            <p:cNvPr id="406" name="" descr=""/>
            <p:cNvPicPr/>
            <p:nvPr/>
          </p:nvPicPr>
          <p:blipFill>
            <a:blip r:embed="rId2"/>
            <a:stretch/>
          </p:blipFill>
          <p:spPr>
            <a:xfrm>
              <a:off x="7391520" y="1676520"/>
              <a:ext cx="7887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6781680" y="2514960"/>
              <a:ext cx="198144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uthentication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505320" y="1676520"/>
            <a:ext cx="2057400" cy="1414440"/>
            <a:chOff x="3505320" y="1676520"/>
            <a:chExt cx="2057400" cy="1414440"/>
          </a:xfrm>
        </p:grpSpPr>
        <p:pic>
          <p:nvPicPr>
            <p:cNvPr id="409" name="" descr=""/>
            <p:cNvPicPr/>
            <p:nvPr/>
          </p:nvPicPr>
          <p:blipFill>
            <a:blip r:embed="rId3"/>
            <a:stretch/>
          </p:blipFill>
          <p:spPr>
            <a:xfrm>
              <a:off x="4114800" y="1676520"/>
              <a:ext cx="60948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3505320" y="2743560"/>
              <a:ext cx="205740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uthentic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85800" y="4419720"/>
            <a:ext cx="784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to control access to any 802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as a transport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tensible Authentication Protoc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AP, RFC 228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AD39-D8A0-485C-9BB3-011DFC39123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572000" y="2666880"/>
            <a:ext cx="304920" cy="2590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76920" y="2666880"/>
            <a:ext cx="2971800" cy="2590920"/>
          </a:xfrm>
          <a:prstGeom prst="rect">
            <a:avLst/>
          </a:prstGeom>
          <a:solidFill>
            <a:srgbClr val="ffff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19320" y="2666880"/>
            <a:ext cx="3352680" cy="2590920"/>
          </a:xfrm>
          <a:prstGeom prst="rect">
            <a:avLst/>
          </a:prstGeom>
          <a:solidFill>
            <a:srgbClr val="cc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X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981080" y="2286000"/>
            <a:ext cx="2286000" cy="307080"/>
            <a:chOff x="1981080" y="2286000"/>
            <a:chExt cx="2286000" cy="307080"/>
          </a:xfrm>
        </p:grpSpPr>
        <p:sp>
          <p:nvSpPr>
            <p:cNvPr id="417" name=""/>
            <p:cNvSpPr/>
            <p:nvPr/>
          </p:nvSpPr>
          <p:spPr>
            <a:xfrm>
              <a:off x="1981080" y="25146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228600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ssoci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980720" y="2743200"/>
            <a:ext cx="2210040" cy="307080"/>
            <a:chOff x="1980720" y="2743200"/>
            <a:chExt cx="2210040" cy="307080"/>
          </a:xfrm>
        </p:grpSpPr>
        <p:sp>
          <p:nvSpPr>
            <p:cNvPr id="420" name=""/>
            <p:cNvSpPr/>
            <p:nvPr/>
          </p:nvSpPr>
          <p:spPr>
            <a:xfrm flipH="1">
              <a:off x="1980720" y="297180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09680" y="27432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 Identity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980720" y="4572000"/>
            <a:ext cx="2286360" cy="307080"/>
            <a:chOff x="1980720" y="4572000"/>
            <a:chExt cx="2286360" cy="307080"/>
          </a:xfrm>
        </p:grpSpPr>
        <p:sp>
          <p:nvSpPr>
            <p:cNvPr id="423" name=""/>
            <p:cNvSpPr/>
            <p:nvPr/>
          </p:nvSpPr>
          <p:spPr>
            <a:xfrm flipH="1">
              <a:off x="1980720" y="487692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7400" y="457200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Su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4343400" y="1371600"/>
            <a:ext cx="609480" cy="9237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7440480" y="1447920"/>
            <a:ext cx="789120" cy="836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572000" y="1752480"/>
            <a:ext cx="2941560" cy="76320"/>
          </a:xfrm>
          <a:custGeom>
            <a:avLst/>
            <a:gdLst/>
            <a:ahLst/>
            <a:rect l="l" t="t" r="r" b="b"/>
            <a:pathLst>
              <a:path w="1999" h="73">
                <a:moveTo>
                  <a:pt x="0" y="73"/>
                </a:moveTo>
                <a:lnTo>
                  <a:pt x="0" y="0"/>
                </a:lnTo>
                <a:lnTo>
                  <a:pt x="1999" y="0"/>
                </a:lnTo>
              </a:path>
            </a:pathLst>
          </a:custGeom>
          <a:noFill/>
          <a:ln w="25560">
            <a:solidFill>
              <a:srgbClr val="ff66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52480" y="1905120"/>
            <a:ext cx="2514600" cy="1522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4920" y="227016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00600" y="1965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81680" y="213372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5050"/>
                </a:solidFill>
                <a:uFillTx/>
                <a:latin typeface="Times New Roman"/>
              </a:rPr>
              <a:t>Authenticatio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371600" y="4038480"/>
            <a:ext cx="6400800" cy="307080"/>
            <a:chOff x="1371600" y="4038480"/>
            <a:chExt cx="6400800" cy="307080"/>
          </a:xfrm>
        </p:grpSpPr>
        <p:sp>
          <p:nvSpPr>
            <p:cNvPr id="434" name=""/>
            <p:cNvSpPr/>
            <p:nvPr/>
          </p:nvSpPr>
          <p:spPr>
            <a:xfrm>
              <a:off x="1981080" y="43434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71600" y="4038480"/>
              <a:ext cx="327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 Auth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05520" y="43434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95680" y="4038480"/>
              <a:ext cx="327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 Auth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1523880" y="3505320"/>
            <a:ext cx="6477120" cy="383040"/>
            <a:chOff x="1523880" y="3505320"/>
            <a:chExt cx="6477120" cy="383040"/>
          </a:xfrm>
        </p:grpSpPr>
        <p:sp>
          <p:nvSpPr>
            <p:cNvPr id="439" name=""/>
            <p:cNvSpPr/>
            <p:nvPr/>
          </p:nvSpPr>
          <p:spPr>
            <a:xfrm flipH="1">
              <a:off x="1980720" y="388620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23880" y="3581280"/>
              <a:ext cx="327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 Auth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5181120" y="380988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24280" y="3505320"/>
              <a:ext cx="327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 Auth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447920" y="3048120"/>
            <a:ext cx="6248160" cy="307080"/>
            <a:chOff x="1447920" y="3048120"/>
            <a:chExt cx="6248160" cy="307080"/>
          </a:xfrm>
        </p:grpSpPr>
        <p:sp>
          <p:nvSpPr>
            <p:cNvPr id="444" name=""/>
            <p:cNvSpPr/>
            <p:nvPr/>
          </p:nvSpPr>
          <p:spPr>
            <a:xfrm>
              <a:off x="5029200" y="335268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95680" y="304812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 Identity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1080" y="335268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47920" y="304812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 Identity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3505320" y="5486400"/>
            <a:ext cx="2361960" cy="1157760"/>
            <a:chOff x="3505320" y="5486400"/>
            <a:chExt cx="2361960" cy="1157760"/>
          </a:xfrm>
        </p:grpSpPr>
        <p:grpSp>
          <p:nvGrpSpPr>
            <p:cNvPr id="449" name=""/>
            <p:cNvGrpSpPr/>
            <p:nvPr/>
          </p:nvGrpSpPr>
          <p:grpSpPr>
            <a:xfrm>
              <a:off x="3505320" y="5486400"/>
              <a:ext cx="2361960" cy="871560"/>
              <a:chOff x="3505320" y="5486400"/>
              <a:chExt cx="2361960" cy="871560"/>
            </a:xfrm>
          </p:grpSpPr>
          <p:sp>
            <p:nvSpPr>
              <p:cNvPr id="450" name=""/>
              <p:cNvSpPr/>
              <p:nvPr/>
            </p:nvSpPr>
            <p:spPr>
              <a:xfrm>
                <a:off x="4572000" y="63579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181480" y="57484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181480" y="60530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3505320" y="6357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flipV="1">
                <a:off x="4038480" y="6129000"/>
                <a:ext cx="533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05320" y="5486400"/>
                <a:ext cx="1981080" cy="2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080" rIns="73080" tIns="36360" bIns="3636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uthentication traff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581280" y="574848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3581280" y="6357960"/>
              <a:ext cx="16765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ormal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1447920" y="5791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 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4038480" y="4495680"/>
            <a:ext cx="3429000" cy="1905120"/>
            <a:chOff x="4038480" y="4495680"/>
            <a:chExt cx="3429000" cy="1905120"/>
          </a:xfrm>
        </p:grpSpPr>
        <p:sp>
          <p:nvSpPr>
            <p:cNvPr id="460" name=""/>
            <p:cNvSpPr/>
            <p:nvPr/>
          </p:nvSpPr>
          <p:spPr>
            <a:xfrm flipH="1">
              <a:off x="5181120" y="480060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57800" y="44956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Su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4038480" y="6019920"/>
              <a:ext cx="533520" cy="380880"/>
              <a:chOff x="4038480" y="6019920"/>
              <a:chExt cx="533520" cy="380880"/>
            </a:xfrm>
          </p:grpSpPr>
          <p:sp>
            <p:nvSpPr>
              <p:cNvPr id="463" name=""/>
              <p:cNvSpPr/>
              <p:nvPr/>
            </p:nvSpPr>
            <p:spPr>
              <a:xfrm>
                <a:off x="4038480" y="6019920"/>
                <a:ext cx="53352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4038480" y="63244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AB49-66FC-4AEB-8A79-9475EB1A992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P Frame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P provides a flexible link layer security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capsulation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ependency on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/NAK, no wind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ragmenta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link layer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un over any link layer (PPP, 802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s no re-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un over lossy or lossless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0004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ansmission responsibility of authenticator (not needed for 802.1X or 802.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P methods based on IETF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 Level Security (TLS) (supported in Windows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S_API (including Kerb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9D21-5328-45F4-B7F2-E7EAD63394E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P-GSS and IAKER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P-GSS (draft-aboba-pppext-eapgss-02.t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GSS_API authentication methods within 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Kerb (draft-ietf-cat-iakberb-05.t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S-API method enabling proxy Kerb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 not able to talk to KDC directly prior to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KERB enables STA to obtain TGT, Ticket to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cket to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6479-E57C-4C29-8603-AA294C7C869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tising Security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ed on “supported rat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advertises security options in prob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d in probe response only if STA requests it in probe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s collect this information prior to associations and can make association and roaming decisions based up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585-3331-4EBC-A6A0-24F9D80F78E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lecting security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 requests security options in association request from available options contained in probe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accepts/rejects association based on request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dditional protocol handshakes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mpact on roam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0D4E-8710-43BD-BD84-5B71B432E41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219320" y="2514600"/>
            <a:ext cx="3352680" cy="3886200"/>
          </a:xfrm>
          <a:prstGeom prst="rect">
            <a:avLst/>
          </a:prstGeom>
          <a:solidFill>
            <a:srgbClr val="cc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76920" y="2514600"/>
            <a:ext cx="2971800" cy="38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0" y="2514600"/>
            <a:ext cx="304920" cy="3886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itial Cont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981080" y="2286000"/>
            <a:ext cx="2286000" cy="307080"/>
            <a:chOff x="1981080" y="2286000"/>
            <a:chExt cx="2286000" cy="307080"/>
          </a:xfrm>
        </p:grpSpPr>
        <p:sp>
          <p:nvSpPr>
            <p:cNvPr id="478" name=""/>
            <p:cNvSpPr/>
            <p:nvPr/>
          </p:nvSpPr>
          <p:spPr>
            <a:xfrm>
              <a:off x="1981080" y="25146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286000" y="228600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ssoci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980720" y="2666880"/>
            <a:ext cx="2210040" cy="307080"/>
            <a:chOff x="1980720" y="2666880"/>
            <a:chExt cx="2210040" cy="307080"/>
          </a:xfrm>
        </p:grpSpPr>
        <p:sp>
          <p:nvSpPr>
            <p:cNvPr id="481" name=""/>
            <p:cNvSpPr/>
            <p:nvPr/>
          </p:nvSpPr>
          <p:spPr>
            <a:xfrm flipH="1">
              <a:off x="1980720" y="289548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209680" y="26668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 Identity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1981080" y="2971800"/>
            <a:ext cx="2286000" cy="307080"/>
            <a:chOff x="1981080" y="2971800"/>
            <a:chExt cx="2286000" cy="307080"/>
          </a:xfrm>
        </p:grpSpPr>
        <p:sp>
          <p:nvSpPr>
            <p:cNvPr id="484" name=""/>
            <p:cNvSpPr/>
            <p:nvPr/>
          </p:nvSpPr>
          <p:spPr>
            <a:xfrm>
              <a:off x="1981080" y="32004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057400" y="297180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 Identity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1980720" y="3276720"/>
            <a:ext cx="2286360" cy="307080"/>
            <a:chOff x="1980720" y="3276720"/>
            <a:chExt cx="2286360" cy="307080"/>
          </a:xfrm>
        </p:grpSpPr>
        <p:sp>
          <p:nvSpPr>
            <p:cNvPr id="487" name=""/>
            <p:cNvSpPr/>
            <p:nvPr/>
          </p:nvSpPr>
          <p:spPr>
            <a:xfrm flipH="1">
              <a:off x="1980720" y="350496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57400" y="327672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GSS Request (Empt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1447920" y="3581280"/>
            <a:ext cx="6248160" cy="383400"/>
            <a:chOff x="1447920" y="3581280"/>
            <a:chExt cx="6248160" cy="383400"/>
          </a:xfrm>
        </p:grpSpPr>
        <p:sp>
          <p:nvSpPr>
            <p:cNvPr id="490" name=""/>
            <p:cNvSpPr/>
            <p:nvPr/>
          </p:nvSpPr>
          <p:spPr>
            <a:xfrm>
              <a:off x="1981080" y="38862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47920" y="358128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GSS Response (IAKERB: AS_REQ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29200" y="38862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95680" y="365760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S_R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1371600" y="4343400"/>
            <a:ext cx="6324480" cy="383040"/>
            <a:chOff x="1371600" y="4343400"/>
            <a:chExt cx="6324480" cy="383040"/>
          </a:xfrm>
        </p:grpSpPr>
        <p:sp>
          <p:nvSpPr>
            <p:cNvPr id="495" name=""/>
            <p:cNvSpPr/>
            <p:nvPr/>
          </p:nvSpPr>
          <p:spPr>
            <a:xfrm>
              <a:off x="1981080" y="464796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71600" y="4343400"/>
              <a:ext cx="327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GSS Response (IAKERB: TGS_REQ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29200" y="464796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95680" y="441936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GS_R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1523880" y="4724280"/>
            <a:ext cx="6248520" cy="383400"/>
            <a:chOff x="1523880" y="4724280"/>
            <a:chExt cx="6248520" cy="383400"/>
          </a:xfrm>
        </p:grpSpPr>
        <p:sp>
          <p:nvSpPr>
            <p:cNvPr id="500" name=""/>
            <p:cNvSpPr/>
            <p:nvPr/>
          </p:nvSpPr>
          <p:spPr>
            <a:xfrm>
              <a:off x="1523880" y="4724280"/>
              <a:ext cx="327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GSS Request (IAKERB: TGS_RE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1980720" y="502920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4952520" y="502920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95680" y="4800600"/>
              <a:ext cx="327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GS_R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828800" y="5105520"/>
            <a:ext cx="2590920" cy="307080"/>
            <a:chOff x="1828800" y="5105520"/>
            <a:chExt cx="2590920" cy="307080"/>
          </a:xfrm>
        </p:grpSpPr>
        <p:sp>
          <p:nvSpPr>
            <p:cNvPr id="505" name=""/>
            <p:cNvSpPr/>
            <p:nvPr/>
          </p:nvSpPr>
          <p:spPr>
            <a:xfrm>
              <a:off x="1981080" y="541008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28800" y="510552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 IAKERB Response (Empt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980720" y="5486400"/>
            <a:ext cx="2286360" cy="307080"/>
            <a:chOff x="1980720" y="5486400"/>
            <a:chExt cx="2286360" cy="307080"/>
          </a:xfrm>
        </p:grpSpPr>
        <p:sp>
          <p:nvSpPr>
            <p:cNvPr id="508" name=""/>
            <p:cNvSpPr/>
            <p:nvPr/>
          </p:nvSpPr>
          <p:spPr>
            <a:xfrm flipH="1">
              <a:off x="1980720" y="571500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57400" y="548640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Su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1980720" y="6172200"/>
            <a:ext cx="2286360" cy="307080"/>
            <a:chOff x="1980720" y="6172200"/>
            <a:chExt cx="2286360" cy="307080"/>
          </a:xfrm>
        </p:grpSpPr>
        <p:sp>
          <p:nvSpPr>
            <p:cNvPr id="511" name=""/>
            <p:cNvSpPr/>
            <p:nvPr/>
          </p:nvSpPr>
          <p:spPr>
            <a:xfrm flipH="1">
              <a:off x="1980720" y="640080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57400" y="617220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Key (AP_RE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1828800" y="5791320"/>
            <a:ext cx="2590920" cy="307080"/>
            <a:chOff x="1828800" y="5791320"/>
            <a:chExt cx="2590920" cy="307080"/>
          </a:xfrm>
        </p:grpSpPr>
        <p:sp>
          <p:nvSpPr>
            <p:cNvPr id="514" name=""/>
            <p:cNvSpPr/>
            <p:nvPr/>
          </p:nvSpPr>
          <p:spPr>
            <a:xfrm>
              <a:off x="1828800" y="579132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Key (AP_REQ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81080" y="601992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4343400" y="1371600"/>
            <a:ext cx="609480" cy="9237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7440480" y="1447920"/>
            <a:ext cx="789120" cy="83664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4572000" y="1752480"/>
            <a:ext cx="2941560" cy="76320"/>
          </a:xfrm>
          <a:custGeom>
            <a:avLst/>
            <a:gdLst/>
            <a:ahLst/>
            <a:rect l="l" t="t" r="r" b="b"/>
            <a:pathLst>
              <a:path w="1999" h="73">
                <a:moveTo>
                  <a:pt x="0" y="73"/>
                </a:moveTo>
                <a:lnTo>
                  <a:pt x="0" y="0"/>
                </a:lnTo>
                <a:lnTo>
                  <a:pt x="1999" y="0"/>
                </a:lnTo>
              </a:path>
            </a:pathLst>
          </a:custGeom>
          <a:noFill/>
          <a:ln w="25560">
            <a:solidFill>
              <a:srgbClr val="ff66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752480" y="1905120"/>
            <a:ext cx="2514600" cy="1522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04920" y="227016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800600" y="1965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001000" y="2133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5050"/>
                </a:solidFill>
                <a:uFillTx/>
                <a:latin typeface="Times New Roman"/>
              </a:rPr>
              <a:t>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523880" y="3962520"/>
            <a:ext cx="6248520" cy="307080"/>
            <a:chOff x="1523880" y="3962520"/>
            <a:chExt cx="6248520" cy="307080"/>
          </a:xfrm>
        </p:grpSpPr>
        <p:grpSp>
          <p:nvGrpSpPr>
            <p:cNvPr id="525" name=""/>
            <p:cNvGrpSpPr/>
            <p:nvPr/>
          </p:nvGrpSpPr>
          <p:grpSpPr>
            <a:xfrm>
              <a:off x="4495680" y="3962520"/>
              <a:ext cx="3276720" cy="307080"/>
              <a:chOff x="4495680" y="3962520"/>
              <a:chExt cx="3276720" cy="307080"/>
            </a:xfrm>
          </p:grpSpPr>
          <p:sp>
            <p:nvSpPr>
              <p:cNvPr id="526" name=""/>
              <p:cNvSpPr/>
              <p:nvPr/>
            </p:nvSpPr>
            <p:spPr>
              <a:xfrm flipH="1">
                <a:off x="4952520" y="4190760"/>
                <a:ext cx="22100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495680" y="3962520"/>
                <a:ext cx="327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_RE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 flipH="1">
              <a:off x="4952520" y="426708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1523880" y="3962520"/>
              <a:ext cx="3276720" cy="307080"/>
              <a:chOff x="1523880" y="3962520"/>
              <a:chExt cx="3276720" cy="307080"/>
            </a:xfrm>
          </p:grpSpPr>
          <p:sp>
            <p:nvSpPr>
              <p:cNvPr id="530" name=""/>
              <p:cNvSpPr/>
              <p:nvPr/>
            </p:nvSpPr>
            <p:spPr>
              <a:xfrm flipH="1">
                <a:off x="1980720" y="4267080"/>
                <a:ext cx="22100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523880" y="3962520"/>
                <a:ext cx="327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AP-GSS Request (IAKERB: AS_REP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 flipH="1">
              <a:off x="1980720" y="426708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B9A1-8FCD-4D33-80E0-A06AD4E0EA2D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erational Deta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method defaults to IAK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 can attempt SP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 can choose IAKERB if it doesn’t support anything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P-Key packets passed up and down via driver interface and 802.11 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STA, GSS_API implementation needs to be able to generate AP_REQ, send it down to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P, need ability to validate received AP_REQ, force 802.1X controlled port into authorize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 encryption turned on after AP_REQ/AP_REP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 turns on encryption after sending AP_R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 turns on encryption after receiving AP_R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AP-Key exchange occurs prior to completion of 802.1X, then part of the 802.1X exchange may be encryp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BF71-8FC0-4AC2-8CBA-1584BA30F57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 security recently gained notorie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brated UC Berkeley paper by Borisov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. 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publicized attacks on 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se were discussed privately in 802.11 TGe throughout last year and documented in doc. IEEE 802.11/00-3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 Berkeley group wasn’t participating in the process, but 802.11 was living in 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1E27-C28F-4EF7-B61C-387436AB97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urity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of client to KDC (TGS_RE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DATA typically NOT used with AS_REQ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of KDC to client (AS_REP, TGS_R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key for client-AP communication (TGS_REP, AP_RE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T, Session key for client-KDC communication (AS_R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of client to AP (AP_RE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of AP to client (AP_R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B32-A2E7-4071-A67D-FB95F11E034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219320" y="2438280"/>
            <a:ext cx="3352680" cy="2590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72000" y="2438280"/>
            <a:ext cx="304920" cy="2590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76920" y="2438280"/>
            <a:ext cx="2971800" cy="2590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aming Within Real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981080" y="2666880"/>
            <a:ext cx="2286000" cy="307080"/>
            <a:chOff x="1981080" y="2666880"/>
            <a:chExt cx="2286000" cy="307080"/>
          </a:xfrm>
        </p:grpSpPr>
        <p:sp>
          <p:nvSpPr>
            <p:cNvPr id="542" name=""/>
            <p:cNvSpPr/>
            <p:nvPr/>
          </p:nvSpPr>
          <p:spPr>
            <a:xfrm>
              <a:off x="1981080" y="289548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86000" y="266688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eassoci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980720" y="4359240"/>
            <a:ext cx="2286360" cy="307080"/>
            <a:chOff x="1980720" y="4359240"/>
            <a:chExt cx="2286360" cy="307080"/>
          </a:xfrm>
        </p:grpSpPr>
        <p:sp>
          <p:nvSpPr>
            <p:cNvPr id="545" name=""/>
            <p:cNvSpPr/>
            <p:nvPr/>
          </p:nvSpPr>
          <p:spPr>
            <a:xfrm flipH="1">
              <a:off x="1980720" y="458784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057400" y="435924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Su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1828800" y="3124080"/>
            <a:ext cx="2590920" cy="307080"/>
            <a:chOff x="1828800" y="3124080"/>
            <a:chExt cx="2590920" cy="307080"/>
          </a:xfrm>
        </p:grpSpPr>
        <p:sp>
          <p:nvSpPr>
            <p:cNvPr id="548" name=""/>
            <p:cNvSpPr/>
            <p:nvPr/>
          </p:nvSpPr>
          <p:spPr>
            <a:xfrm>
              <a:off x="1981080" y="34290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828800" y="3124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Key (AP_REQ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1980720" y="3657600"/>
            <a:ext cx="2286360" cy="307080"/>
            <a:chOff x="1980720" y="3657600"/>
            <a:chExt cx="2286360" cy="307080"/>
          </a:xfrm>
        </p:grpSpPr>
        <p:sp>
          <p:nvSpPr>
            <p:cNvPr id="551" name=""/>
            <p:cNvSpPr/>
            <p:nvPr/>
          </p:nvSpPr>
          <p:spPr>
            <a:xfrm>
              <a:off x="2057400" y="365760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Key (AP_RE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1980720" y="388620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4343400" y="1371600"/>
            <a:ext cx="609480" cy="92376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7440480" y="1447920"/>
            <a:ext cx="789120" cy="83664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4572000" y="1752480"/>
            <a:ext cx="2941560" cy="76320"/>
          </a:xfrm>
          <a:custGeom>
            <a:avLst/>
            <a:gdLst/>
            <a:ahLst/>
            <a:rect l="l" t="t" r="r" b="b"/>
            <a:pathLst>
              <a:path w="1999" h="73">
                <a:moveTo>
                  <a:pt x="0" y="73"/>
                </a:moveTo>
                <a:lnTo>
                  <a:pt x="0" y="0"/>
                </a:lnTo>
                <a:lnTo>
                  <a:pt x="1999" y="0"/>
                </a:lnTo>
              </a:path>
            </a:pathLst>
          </a:custGeom>
          <a:noFill/>
          <a:ln w="25560">
            <a:solidFill>
              <a:srgbClr val="ff66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752480" y="1905120"/>
            <a:ext cx="2514600" cy="1522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4920" y="227016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00600" y="1965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001000" y="2133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5050"/>
                </a:solidFill>
                <a:uFillTx/>
                <a:latin typeface="Times New Roman"/>
              </a:rPr>
              <a:t>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38080" y="54864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s: APs can share identity and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80A-A7A5-42DC-9C8A-3843BC76A80B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urity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method defaults to IAK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 encryption turned on after AP_REQ/AP_REP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of client to KDC (TGS_RE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of KDC to client (AS_REP, TGS_R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key for client-AP communication (TGS_REP, AP_RE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T, Session key for client-KDC communication (AS_R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of client to AP (AP_RE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of AP to client (AP_R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1FF-B1C9-49E4-9151-82F3E2BC4C4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cover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04920" y="5029200"/>
            <a:ext cx="304776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and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 Security To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Wrong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Authentication, Authorization, and Ke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9FC-2530-4BF5-9943-0D666BBB45B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security doesn’t meet any of its security objectives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TGe is working to re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scheme using 802.1X and Kerb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 scheme using AES in OCB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o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aint’s not d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807-A810-41E2-A820-A7652C9AB6F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split dir="in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edbac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e01496_" descr=""/>
          <p:cNvPicPr/>
          <p:nvPr/>
        </p:nvPicPr>
        <p:blipFill>
          <a:blip r:embed="rId1"/>
          <a:stretch/>
        </p:blipFill>
        <p:spPr>
          <a:xfrm>
            <a:off x="3110040" y="1941480"/>
            <a:ext cx="2922480" cy="346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A559-EC13-4757-BD5F-32F75F861B9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wider understanding of network security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802.11 security work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its majo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is being done to address th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50F-9536-4594-B171-6D8DBBEA16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2209680"/>
            <a:ext cx="5486400" cy="6098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and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 Security To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Wrong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Authentication, Authorization, and Ke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C988-B3DC-4799-9E2D-346AC4D0E8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1 Security To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 of existing 802.11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ing security consists of two sub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encapsulation technique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valen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vacy (WE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uthentication algorithm called Shared Key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05C-ABD6-47C6-A0E6-5CA847FC33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isting 802.11 Security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rivacy achieved by a wired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prevent intellectual property from leaking through casual brow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e physical access control by denying access to unauthenticated 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2611-4A11-43AC-AECE-B5543775CD7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P Encaps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286000" y="1676520"/>
            <a:ext cx="4723920" cy="533160"/>
            <a:chOff x="2286000" y="1676520"/>
            <a:chExt cx="4723920" cy="533160"/>
          </a:xfrm>
        </p:grpSpPr>
        <p:grpSp>
          <p:nvGrpSpPr>
            <p:cNvPr id="77" name=""/>
            <p:cNvGrpSpPr/>
            <p:nvPr/>
          </p:nvGrpSpPr>
          <p:grpSpPr>
            <a:xfrm>
              <a:off x="2286000" y="1676520"/>
              <a:ext cx="1295280" cy="533160"/>
              <a:chOff x="2286000" y="1676520"/>
              <a:chExt cx="1295280" cy="533160"/>
            </a:xfrm>
          </p:grpSpPr>
          <p:sp>
            <p:nvSpPr>
              <p:cNvPr id="78" name=""/>
              <p:cNvSpPr/>
              <p:nvPr/>
            </p:nvSpPr>
            <p:spPr>
              <a:xfrm>
                <a:off x="2286000" y="1676520"/>
                <a:ext cx="1295280" cy="5331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400120" y="1790640"/>
                <a:ext cx="106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802.11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3581280" y="1676520"/>
              <a:ext cx="3428640" cy="533160"/>
              <a:chOff x="3581280" y="1676520"/>
              <a:chExt cx="3428640" cy="533160"/>
            </a:xfrm>
          </p:grpSpPr>
          <p:sp>
            <p:nvSpPr>
              <p:cNvPr id="81" name=""/>
              <p:cNvSpPr/>
              <p:nvPr/>
            </p:nvSpPr>
            <p:spPr>
              <a:xfrm>
                <a:off x="3581280" y="1676520"/>
                <a:ext cx="3428640" cy="53316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62080" y="1790640"/>
                <a:ext cx="106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>
            <a:off x="533520" y="3657600"/>
            <a:ext cx="79246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P Encapsulation Summa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ion Algorithm = RC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packet encryption key = 24-bit IV concatenated to a pre-shared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P allows IV to be reused with any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integrity provided by CRC-32 of the plaintext data (the “ICV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and ICV are encrypted under the per-packet 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447920" y="2819520"/>
            <a:ext cx="6400800" cy="533160"/>
            <a:chOff x="1447920" y="2819520"/>
            <a:chExt cx="6400800" cy="533160"/>
          </a:xfrm>
        </p:grpSpPr>
        <p:grpSp>
          <p:nvGrpSpPr>
            <p:cNvPr id="85" name=""/>
            <p:cNvGrpSpPr/>
            <p:nvPr/>
          </p:nvGrpSpPr>
          <p:grpSpPr>
            <a:xfrm>
              <a:off x="1447920" y="2819520"/>
              <a:ext cx="1295280" cy="533160"/>
              <a:chOff x="1447920" y="2819520"/>
              <a:chExt cx="1295280" cy="533160"/>
            </a:xfrm>
          </p:grpSpPr>
          <p:sp>
            <p:nvSpPr>
              <p:cNvPr id="86" name=""/>
              <p:cNvSpPr/>
              <p:nvPr/>
            </p:nvSpPr>
            <p:spPr>
              <a:xfrm>
                <a:off x="1447920" y="2819520"/>
                <a:ext cx="1295280" cy="5331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562040" y="293364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802.11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3581280" y="2819520"/>
              <a:ext cx="3429000" cy="533160"/>
              <a:chOff x="3581280" y="2819520"/>
              <a:chExt cx="3429000" cy="533160"/>
            </a:xfrm>
          </p:grpSpPr>
          <p:sp>
            <p:nvSpPr>
              <p:cNvPr id="89" name=""/>
              <p:cNvSpPr/>
              <p:nvPr/>
            </p:nvSpPr>
            <p:spPr>
              <a:xfrm>
                <a:off x="3581280" y="2819520"/>
                <a:ext cx="3429000" cy="5331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762440" y="293364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777777"/>
                    </a:solidFill>
                    <a:latin typeface="Times New Roman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2743200" y="2819520"/>
              <a:ext cx="838080" cy="533160"/>
              <a:chOff x="2743200" y="2819520"/>
              <a:chExt cx="838080" cy="533160"/>
            </a:xfrm>
          </p:grpSpPr>
          <p:sp>
            <p:nvSpPr>
              <p:cNvPr id="92" name=""/>
              <p:cNvSpPr/>
              <p:nvPr/>
            </p:nvSpPr>
            <p:spPr>
              <a:xfrm>
                <a:off x="2743200" y="2819520"/>
                <a:ext cx="838080" cy="5331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817720" y="2933640"/>
                <a:ext cx="689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7010280" y="2819520"/>
              <a:ext cx="838440" cy="533160"/>
              <a:chOff x="7010280" y="2819520"/>
              <a:chExt cx="838440" cy="533160"/>
            </a:xfrm>
          </p:grpSpPr>
          <p:sp>
            <p:nvSpPr>
              <p:cNvPr id="95" name=""/>
              <p:cNvSpPr/>
              <p:nvPr/>
            </p:nvSpPr>
            <p:spPr>
              <a:xfrm>
                <a:off x="7010280" y="2819520"/>
                <a:ext cx="838440" cy="53316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084080" y="2933640"/>
                <a:ext cx="69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777777"/>
                    </a:solidFill>
                    <a:latin typeface="Times New Roman"/>
                  </a:rPr>
                  <a:t>IC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2362320" y="2209680"/>
            <a:ext cx="1447560" cy="609840"/>
            <a:chOff x="2362320" y="2209680"/>
            <a:chExt cx="1447560" cy="609840"/>
          </a:xfrm>
        </p:grpSpPr>
        <p:sp>
          <p:nvSpPr>
            <p:cNvPr id="98" name=""/>
            <p:cNvSpPr/>
            <p:nvPr/>
          </p:nvSpPr>
          <p:spPr>
            <a:xfrm>
              <a:off x="3809880" y="2209680"/>
              <a:ext cx="0" cy="609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62320" y="236232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ncapsu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648320" y="2209680"/>
            <a:ext cx="1371600" cy="609840"/>
            <a:chOff x="4648320" y="2209680"/>
            <a:chExt cx="1371600" cy="609840"/>
          </a:xfrm>
        </p:grpSpPr>
        <p:sp>
          <p:nvSpPr>
            <p:cNvPr id="101" name=""/>
            <p:cNvSpPr/>
            <p:nvPr/>
          </p:nvSpPr>
          <p:spPr>
            <a:xfrm>
              <a:off x="4648320" y="236232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capsu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648320" y="2209680"/>
              <a:ext cx="0" cy="609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0074-C3CE-41B5-842F-4AE1A7C36D4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9:10:22Z</dcterms:created>
  <dc:creator>Jesse R Walker</dc:creator>
  <dc:description>&lt;doc#&gt;</dc:description>
  <dc:language>en-US</dc:language>
  <cp:lastModifiedBy>John R. Barr</cp:lastModifiedBy>
  <cp:lastPrinted>1998-02-10T13:28:06Z</cp:lastPrinted>
  <dcterms:modified xsi:type="dcterms:W3CDTF">2001-03-11T20:58:58Z</dcterms:modified>
  <cp:revision>14</cp:revision>
  <dc:subject>IEEE 802.15 &lt;subject&gt;</dc:subject>
  <dc:title>Overview of 802.11 Security</dc:title>
</cp:coreProperties>
</file>