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A31B54-7738-4D26-9C06-B51881E57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there we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f 412 comments and we believe that 122 are direct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's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inds of com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Yellow = Technical [these are important e.g., technical peer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ry and IEEE P802.15 would like the Bluetooth SIG to review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ise on their ability to include these into the errata proces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for inclusion to the v1.0B Bluetooth Specification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 White = Protocol Implementation Conformance Statement (PICS) [thes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but relate to separate Bluetooth documents and *not* the Core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les Specifications.  I believe that the following BSIG Promoter/IE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5 Members Dr. Fujio Watanabe &lt;fwatanabe@ieee.org&gt; and Mr. Arto Pa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rto.palin@nokia.com&gt; are dealing directly with these comments in term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tooth Test Specifications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Blue = Editorial [these are less important e.g., grammar, typo'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should be considered in the errata process too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y are provided sequentially in these colors on the Work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F93EE8-74E6-4BE6-9CD8-4EB67512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BB012F-AA77-4819-AA34-6CE57734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there we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f 412 comments and we believe that 122 are direct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's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inds of com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Yellow = Technical [these are important e.g., technical peer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ry and IEEE P802.15 would like the Bluetooth SIG to review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ise on their ability to include these into the errata proces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for inclusion to the v1.0B Bluetooth Specification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 White = Protocol Implementation Conformance Statement (PICS) [thes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but relate to separate Bluetooth documents and *not* the Core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les Specifications.  I believe that the following BSIG Promoter/IE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5 Members Dr. Fujio Watanabe &lt;fwatanabe@ieee.org&gt; and Mr. Arto Pa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rto.palin@nokia.com&gt; are dealing directly with these comments in term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tooth Test Specifications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Blue = Editorial [these are less important e.g., grammar, typo'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should be considered in the errata process too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y are provided sequentially in these colors on the Work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there we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f 412 comments and we believe that 122 are direct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's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inds of com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Yellow = Technical [these are important e.g., technical peer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ry and IEEE P802.15 would like the Bluetooth SIG to review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ise on their ability to include these into the errata proces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for inclusion to the v1.0B Bluetooth Specification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 White = Protocol Implementation Conformance Statement (PICS) [thes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but relate to separate Bluetooth documents and *not* the Core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les Specifications.  I believe that the following BSIG Promoter/IE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5 Members Dr. Fujio Watanabe &lt;fwatanabe@ieee.org&gt; and Mr. Arto Pa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arto.palin@nokia.com&gt; are dealing directly with these comments in term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tooth Test Specifications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Blue = Editorial [these are less important e.g., grammar, typo'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should be considered in the errata process too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y are provided sequentially in these colors on the Work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AA1-725D-40F0-B17B-0348737E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C8C-B5C3-41D4-A7AC-D9AA0A0C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799-E2A3-4887-A89B-D8F6BCCE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115-4FF0-4F2D-B332-8E422613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C51-91E3-4B4E-AA0E-483D47E5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E94-9693-412F-9E26-0162073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7A5-90D5-44F4-B10F-C876E8FF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C2A-CABB-4169-A93F-2C33272C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ECE-AC88-459D-A95B-C3395BC8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AE8-3F02-42B1-AF66-FE2321EA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2F9-9C1A-46D1-BC2E-42D6C6D9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034-D5D1-4E46-91A8-C88262FC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6218F8-162F-4EAB-B940-BE47D133C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8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8 Summary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8 opened 9Feb01 12am EST, closed11Mar01 12am 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tion: To submit the contents of document IEEE P802.15.1/D0.8.0 to Sponsor Bal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8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were 74 Voting members. 51 submitted their vo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turn ratio is 51/74 = 69 % (50 % is required) and the abstention rate was less than 30% of those voting.  The ballot is valid. 23 failed to  vo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on passed with 46/4/1 or 92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 CONFIRMATION – 2 (Kinney/Watanabe) of the 4 No’s will be changed to Yes.  Likely, that a third (Ling) will too.  The remaining no Voter has 37 rejected comments.  We will continue the resolution and editing of the IEEE Draft P802.15.1/D0.9.0 in March and early April to maximize consens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fficial opening date of the re-circulation ballot is April 9, 200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5CF-762C-4C86-BB4C-C5D6AB431E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8 Summary Repor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006640" y="1434960"/>
          <a:ext cx="51274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434960"/>
                    <a:ext cx="51274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028-87E6-4C5A-868C-FFC336BBE3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8 Summary Repor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3480" y="2371680"/>
          <a:ext cx="9077040" cy="21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" y="2371680"/>
                    <a:ext cx="907704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flipV="1">
            <a:off x="7543800" y="4419720"/>
            <a:ext cx="114300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4495680"/>
            <a:ext cx="2666880" cy="175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 LB8 Bal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solu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emed un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m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s “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EDD-9101-4DA9-A1BD-E21844D8D6D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Motio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– TG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/N/A: 4/0/0, 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–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/N/A: 18/4/11, 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D36-069F-461B-840E-CC837DA059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the 802.15.1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move that the 802.15.1 TG1 approve the submission of a motion to the WG to request that the WG Chair seek ExCom approval for forwarding IEEE Draft 802.15.1/D1.0 to LMSC letter ballot, based on a successful completion of a WG re-circulation bal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Technical 50% (Procedu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d: Tom Si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: Michael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/N/A: 4/0/0, 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00" y="620244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conditional approval expires at the opening of the next plenary; 9Jul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07C-71FD-43BC-AABF-3DD9DDE44F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 Current Project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Discussion on Propos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draft ready for WG bal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allot complete, second ballot kicked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ready for IEEE sponsor ball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IEEE Standards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IEEE Standards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557680"/>
            <a:ext cx="6095880" cy="9144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3840" y="457200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 Sponsor Expec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562360" y="4876920"/>
            <a:ext cx="19810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60720" y="39304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5.1 Project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562360" y="4267080"/>
            <a:ext cx="198108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CBF-052E-4503-A530-B465B6A2B4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Draft - 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320" y="2362320"/>
          <a:ext cx="5932440" cy="24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2362320"/>
                    <a:ext cx="5932440" cy="24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80880" y="5867280"/>
            <a:ext cx="838224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took awhile for the TG1 to synchronize the IEEE editing phase with the BSIG derivativ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iting phase.  Today we are in synch.  This issue will need to be monitored going forw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362320"/>
            <a:ext cx="18288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.1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0.9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B(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Apr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3733920"/>
            <a:ext cx="2590920" cy="1295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01/117r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4419720"/>
            <a:ext cx="2590560" cy="1295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828800"/>
            <a:ext cx="2590920" cy="1295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 (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21D-8A36-42C5-B9A0-6EDF0CB8F7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04920" y="1368720"/>
            <a:ext cx="5974200" cy="3965400"/>
            <a:chOff x="304920" y="1368720"/>
            <a:chExt cx="5974200" cy="3965400"/>
          </a:xfrm>
        </p:grpSpPr>
        <p:sp>
          <p:nvSpPr>
            <p:cNvPr id="108" name=""/>
            <p:cNvSpPr/>
            <p:nvPr/>
          </p:nvSpPr>
          <p:spPr>
            <a:xfrm>
              <a:off x="304920" y="1905120"/>
              <a:ext cx="5486400" cy="304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580360" y="1368720"/>
              <a:ext cx="698760" cy="3965400"/>
              <a:chOff x="5580360" y="1368720"/>
              <a:chExt cx="698760" cy="3965400"/>
            </a:xfrm>
          </p:grpSpPr>
          <p:sp>
            <p:nvSpPr>
              <p:cNvPr id="110" name=""/>
              <p:cNvSpPr/>
              <p:nvPr/>
            </p:nvSpPr>
            <p:spPr>
              <a:xfrm>
                <a:off x="5790960" y="1905120"/>
                <a:ext cx="0" cy="3429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504800">
                <a:off x="5610600" y="1523520"/>
                <a:ext cx="63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Times New Roman"/>
                  </a:rPr>
                  <a:t>Tod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Draft -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867280"/>
            <a:ext cx="838224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EEE Std 802.15.1/D1.1, 2001 Edition will be derived from BT v1.1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1.1 = BT v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181480"/>
            <a:ext cx="861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9051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905120"/>
            <a:ext cx="1828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160" y="53452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7200" y="536112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536112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0440" y="536112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9920" y="53611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905120"/>
            <a:ext cx="2971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905120"/>
            <a:ext cx="2971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19051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24440" y="536112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19051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19051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49920" y="53611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1640" y="534528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2666880"/>
            <a:ext cx="106668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B1/D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666880"/>
            <a:ext cx="182880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B3/D0.7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3124080"/>
            <a:ext cx="45720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124080"/>
            <a:ext cx="45720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B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05280" y="324792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00/159r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46720" y="2666880"/>
            <a:ext cx="44460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B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8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240" y="2857680"/>
            <a:ext cx="144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.15 W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l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76800" y="4191120"/>
            <a:ext cx="4431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15280" y="4191120"/>
            <a:ext cx="3744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1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04600" y="938160"/>
            <a:ext cx="1318680" cy="4395960"/>
            <a:chOff x="7104600" y="938160"/>
            <a:chExt cx="1318680" cy="4395960"/>
          </a:xfrm>
        </p:grpSpPr>
        <p:sp>
          <p:nvSpPr>
            <p:cNvPr id="140" name=""/>
            <p:cNvSpPr/>
            <p:nvPr/>
          </p:nvSpPr>
          <p:spPr>
            <a:xfrm>
              <a:off x="7314840" y="1905120"/>
              <a:ext cx="0" cy="342900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504800">
              <a:off x="7066800" y="1308960"/>
              <a:ext cx="139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Approval by St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908760" y="4191120"/>
            <a:ext cx="374760" cy="609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6800" y="4114800"/>
            <a:ext cx="119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Spo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l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62760" y="324792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99/173r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29480" y="3124080"/>
            <a:ext cx="222120" cy="457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6360" y="4267080"/>
            <a:ext cx="6807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1.1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T v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840" y="3238560"/>
            <a:ext cx="6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01/117r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3BA-81B7-4410-8BF0-BBF85A1D11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2438280" y="3457440"/>
            <a:ext cx="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362320"/>
            <a:ext cx="227304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60" y="2362320"/>
            <a:ext cx="566424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Ballot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680" y="2362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2120" y="2362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005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508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6716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7204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7692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052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5296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884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972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4280" y="3005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5520" y="3005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7840" y="3005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7640" y="3005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8880" y="3005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940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4680" y="3005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6080" y="3005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46240" y="3005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77440" y="3005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6408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6800" y="3005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20908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32160" y="2465280"/>
            <a:ext cx="1910520" cy="27648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opyright Addendum 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2770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328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328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26080" y="328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97800" y="3009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9360" y="335268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380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7624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0040" y="3000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5320" y="3000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6200" y="30002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6720" y="3000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30800" y="30002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3516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328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867280"/>
            <a:ext cx="838224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SIG-IEEE have been discussing how IEEE would maintain a spec after accredi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is may determine whether the IEEE should accredit BT 1.1 or a more stable ver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560" y="1612800"/>
            <a:ext cx="1372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Rev 1.0 B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 FM Source 3Dec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8180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304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1548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67560" y="3287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61040" y="3008160"/>
            <a:ext cx="2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18160" y="3005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74920" y="3005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55080" y="3005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5265720"/>
            <a:ext cx="11430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tB 4-6Dec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534520" y="3352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2240" y="5326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40640" y="532116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po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9920" y="1614600"/>
            <a:ext cx="1508040" cy="459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Rev 1.1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 FM Source ~22Feb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76880" y="2104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3581280"/>
            <a:ext cx="167652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LB3 F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24May00 – 6Nov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543800" y="335232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3352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477120" y="3352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4635360"/>
            <a:ext cx="129528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SB(3)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9Jul – 25J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33523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89360" y="4102200"/>
            <a:ext cx="129528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LB6 Pa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01Dec – 15Dec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72040" y="3352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7000" y="1614600"/>
            <a:ext cx="1121040" cy="276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Rev 1.x 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53280" y="1905120"/>
            <a:ext cx="76212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-bluetm001" descr=""/>
          <p:cNvPicPr/>
          <p:nvPr/>
        </p:nvPicPr>
        <p:blipFill>
          <a:blip r:embed="rId1"/>
          <a:stretch/>
        </p:blipFill>
        <p:spPr>
          <a:xfrm>
            <a:off x="1600200" y="154296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226" name="802" descr=""/>
          <p:cNvPicPr/>
          <p:nvPr/>
        </p:nvPicPr>
        <p:blipFill>
          <a:blip r:embed="rId2"/>
          <a:stretch/>
        </p:blipFill>
        <p:spPr>
          <a:xfrm>
            <a:off x="1447920" y="4133880"/>
            <a:ext cx="1014120" cy="104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934320" y="32004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96240" y="32004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5824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35053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21600">
            <a:off x="6333840" y="402804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aft Deadline 3Aug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7800">
            <a:off x="7285680" y="4038840"/>
            <a:ext cx="14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aft Deadline 26Oct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960" y="5335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ou ar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838080"/>
            <a:ext cx="34290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00360" y="4800600"/>
            <a:ext cx="142884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LB(8) D0.8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9Feb01 – 11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029200" y="3352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3581280"/>
            <a:ext cx="121932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SB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16Apr – 27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6892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4102200"/>
            <a:ext cx="121932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+ SB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11Jun – 26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4952880"/>
            <a:ext cx="11430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tB 11-13Sep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611-3AF4-473E-B465-883B70A665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8 Summary Repor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600200"/>
          <a:ext cx="7772400" cy="480996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358128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Status/Response 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Ste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ed/Closed (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e report -01/117r8 from the LB8 Ballot Review Committe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ed/Open (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y edits and then distribute report from the LB8 Ballot Review Committe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ed/Closed (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decline letters; request possible withdrawal of the objection via an affirmation or change the objection to an absten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ed/Unsatisfied (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Bluetooth Errata; request and follow up respon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617760" y="620244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-01/117r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96E-F14A-43F8-8C9D-C7E2E1D001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the 802 SE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 that the ExCom forward IEEE Draft 802.15.1/D1.0 to Sponsor ballot, based on a successful completion of a WG re-circulation ballot. Conditional approval to expire at the beginning of the Portland Plenary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Technical 50% (Procedu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d: Bob H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: Stuart J. K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/N/A: 11/0/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00" y="620244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conditional approval expires at the opening of the next plenary; 9Jul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05C-3AD2-4A4A-BB9B-B52133E9A0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4E9-CFF6-46A2-8C63-001A9844417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the 802.15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move that the 802.15 WG Chair seek ExCom approval for forwarding IEEE Draft 802.15.1/D1.0 to LMSC letter ballot, based on a successful completion of a WG re-circulation bal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Technical 50% (Procedu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d: Ian Gif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: Tom Si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/N/A: 18/4/11, 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00" y="620244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conditional approval expires at the opening of the next plenary; 9Jul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381-C490-406A-A7E6-5EA804614A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8 Summary Repor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: 802.15.1 Std D0.8.0/resolution approval; Date Closed: 11Mar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ots Sent 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ots Return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irmatives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s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ention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sponse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Ballots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Returned (46 + 4 + 1) / 74 = 6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Affirmative 46 / (46 + 4) = 92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Abstentions 1 / 51 =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61E-AAB6-434F-ABC5-9B2A933BD3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/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/dispatched for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/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/rej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/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/unstatis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/withdra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800600" y="1981080"/>
          <a:ext cx="39816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9816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800600" y="5410080"/>
            <a:ext cx="4191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8FD-34D4-4561-B705-5D32AA4DF8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8 Summary Repor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893960" y="1523880"/>
          <a:ext cx="5356080" cy="487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1523880"/>
                    <a:ext cx="5356080" cy="48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051-13D1-4CB9-BE31-5768F42DEA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8 Summary Repor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5120" y="1801800"/>
          <a:ext cx="5348160" cy="46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01800"/>
                    <a:ext cx="534816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57D-902D-43FF-9EFB-10A9268AC3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Mr. Ian Gifford 
Director of Standards 
M/A-COM, Inc. 
1011 Pawtucket Boulevard 
Lowell, MA 01853-3295, USA 
TEL +1 978 442 4650 
FAX +1 978 442 5442 
E-M giffordi@tycoelectronics.com
</dc:description>
  <dc:language>en-US</dc:language>
  <cp:lastModifiedBy>Robert F.  Heile</cp:lastModifiedBy>
  <cp:lastPrinted>1998-02-10T13:28:06Z</cp:lastPrinted>
  <dcterms:modified xsi:type="dcterms:W3CDTF">2001-03-16T00:31:33Z</dcterms:modified>
  <cp:revision>403</cp:revision>
  <dc:subject>IEEE 802.15 TG1 Report</dc:subject>
  <dc:title>IEEE P802.15 Working Group for Wireless Personal Area Networks</dc:title>
</cp:coreProperties>
</file>