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DC1D1-40E4-4EC1-88D8-6B9C1BD5B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2C61-B254-4570-A3B2-008A765F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50E37-61A6-45DA-B48C-5A900A31D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EBCC3-FD3E-498C-8D08-5FB813051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FCB1-B200-44F0-B7EF-1D00B375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E3771-A162-436E-AF5B-EEE3CE16E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390C-1090-43EC-BC0E-96CDD7519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CB17-7A4D-4AB6-890F-8B11C32E6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ED41-9FF0-4637-A9B9-98375B76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9D18-2346-4B2B-AF98-A4CBB96B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3135-94FC-43D8-B09F-C49DD6E91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C5788-C168-4EE9-9D2C-A9E2B1F2D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AC92D1-F404-4181-B0F9-33A26B33E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MAC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March,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MAC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862E035E-1509-48A2-BED1-6657953431D6}"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3332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oha, M.D.</a:t>
            </a:r>
            <a:endParaRPr b="0" lang="en-US" sz="4000" spc="-1" strike="noStrike">
              <a:solidFill>
                <a:srgbClr val="000000"/>
              </a:solidFill>
              <a:latin typeface="Arial"/>
            </a:endParaRPr>
          </a:p>
        </p:txBody>
      </p:sp>
      <p:sp>
        <p:nvSpPr>
          <p:cNvPr id="707" name="PlaceHolder 2"/>
          <p:cNvSpPr>
            <a:spLocks noGrp="1"/>
          </p:cNvSpPr>
          <p:nvPr>
            <p:ph/>
          </p:nvPr>
        </p:nvSpPr>
        <p:spPr>
          <a:xfrm>
            <a:off x="685800" y="1994040"/>
            <a:ext cx="7772400" cy="36115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ally each idle device in the network transmits an “Any traffic for me?” mess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D receives these messages, noting the time each was sent, and sends appropriate replies when the receiver of each node is activ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E619697B-96C8-48A7-A5EE-A1D566246B50}"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5027760" y="1185840"/>
            <a:ext cx="3581280" cy="1918800"/>
            <a:chOff x="5027760" y="1185840"/>
            <a:chExt cx="3581280" cy="1918800"/>
          </a:xfrm>
        </p:grpSpPr>
        <p:sp>
          <p:nvSpPr>
            <p:cNvPr id="709" name=""/>
            <p:cNvSpPr/>
            <p:nvPr/>
          </p:nvSpPr>
          <p:spPr>
            <a:xfrm>
              <a:off x="5904000" y="1466640"/>
              <a:ext cx="293760" cy="294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952040" y="139356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123240" y="2128680"/>
              <a:ext cx="293400" cy="293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259680" y="28112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842240" y="2077920"/>
              <a:ext cx="2937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7760" y="2422440"/>
              <a:ext cx="291960" cy="293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927840" y="1466640"/>
              <a:ext cx="292320" cy="294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317080" y="279072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73920" y="17618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770800" y="1954080"/>
              <a:ext cx="34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a:t>
              </a:r>
              <a:endParaRPr b="0" lang="en-US" sz="1800" spc="-1" strike="noStrike">
                <a:solidFill>
                  <a:srgbClr val="000000"/>
                </a:solidFill>
                <a:latin typeface="Times New Roman"/>
              </a:endParaRPr>
            </a:p>
          </p:txBody>
        </p:sp>
        <p:sp>
          <p:nvSpPr>
            <p:cNvPr id="719" name=""/>
            <p:cNvSpPr/>
            <p:nvPr/>
          </p:nvSpPr>
          <p:spPr>
            <a:xfrm>
              <a:off x="7163280" y="118584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Times New Roman"/>
              </a:endParaRPr>
            </a:p>
          </p:txBody>
        </p:sp>
        <p:sp>
          <p:nvSpPr>
            <p:cNvPr id="720" name=""/>
            <p:cNvSpPr/>
            <p:nvPr/>
          </p:nvSpPr>
          <p:spPr>
            <a:xfrm flipH="1">
              <a:off x="6416640" y="1690560"/>
              <a:ext cx="509760" cy="512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214040" y="203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MD</a:t>
              </a:r>
              <a:endParaRPr b="0" lang="en-US" sz="1800" spc="-1" strike="noStrike">
                <a:solidFill>
                  <a:srgbClr val="000000"/>
                </a:solidFill>
                <a:latin typeface="Times New Roman"/>
              </a:endParaRPr>
            </a:p>
          </p:txBody>
        </p:sp>
        <p:sp>
          <p:nvSpPr>
            <p:cNvPr id="722" name=""/>
            <p:cNvSpPr/>
            <p:nvPr/>
          </p:nvSpPr>
          <p:spPr>
            <a:xfrm flipH="1">
              <a:off x="7083000" y="1761840"/>
              <a:ext cx="1800" cy="526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475680" y="2314440"/>
              <a:ext cx="452160" cy="10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977160" y="2314440"/>
              <a:ext cx="291960" cy="2934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415280" y="27158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15280" y="27158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7" name=""/>
          <p:cNvSpPr/>
          <p:nvPr/>
        </p:nvSpPr>
        <p:spPr>
          <a:xfrm>
            <a:off x="101520" y="720720"/>
            <a:ext cx="5072040" cy="28306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an “I have traffic for node B” message, but B is sleeping.  The MD intercepts node A’s message, including timing information. </a:t>
            </a:r>
            <a:endParaRPr b="0" lang="en-US" sz="1800" spc="-1" strike="noStrike">
              <a:solidFill>
                <a:srgbClr val="000000"/>
              </a:solidFill>
              <a:latin typeface="Times New Roman"/>
            </a:endParaRPr>
          </a:p>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de B checks in with the MD, it finds out that A has a message, and when A will try to contact again.</a:t>
            </a:r>
            <a:endParaRPr b="0" lang="en-US" sz="1800" spc="-1" strike="noStrike">
              <a:solidFill>
                <a:srgbClr val="000000"/>
              </a:solidFill>
              <a:latin typeface="Times New Roman"/>
            </a:endParaRPr>
          </a:p>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B now knows A’s schedule, so they can now sync on the same time slot and start communication.</a:t>
            </a:r>
            <a:endParaRPr b="0" lang="en-US" sz="1800" spc="-1" strike="noStrike">
              <a:solidFill>
                <a:srgbClr val="000000"/>
              </a:solidFill>
              <a:latin typeface="Times New Roman"/>
            </a:endParaRPr>
          </a:p>
        </p:txBody>
      </p:sp>
      <p:grpSp>
        <p:nvGrpSpPr>
          <p:cNvPr id="728" name=""/>
          <p:cNvGrpSpPr/>
          <p:nvPr/>
        </p:nvGrpSpPr>
        <p:grpSpPr>
          <a:xfrm>
            <a:off x="646560" y="3551400"/>
            <a:ext cx="7502040" cy="2782440"/>
            <a:chOff x="646560" y="3551400"/>
            <a:chExt cx="7502040" cy="2782440"/>
          </a:xfrm>
        </p:grpSpPr>
        <p:sp>
          <p:nvSpPr>
            <p:cNvPr id="729" name=""/>
            <p:cNvSpPr/>
            <p:nvPr/>
          </p:nvSpPr>
          <p:spPr>
            <a:xfrm>
              <a:off x="1338120" y="4984920"/>
              <a:ext cx="732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D</a:t>
              </a:r>
              <a:endParaRPr b="0" lang="en-US" sz="2800" spc="-1" strike="noStrike">
                <a:solidFill>
                  <a:srgbClr val="000000"/>
                </a:solidFill>
                <a:latin typeface="Times New Roman"/>
              </a:endParaRPr>
            </a:p>
          </p:txBody>
        </p:sp>
        <p:sp>
          <p:nvSpPr>
            <p:cNvPr id="730" name=""/>
            <p:cNvSpPr/>
            <p:nvPr/>
          </p:nvSpPr>
          <p:spPr>
            <a:xfrm>
              <a:off x="646560" y="409248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A</a:t>
              </a:r>
              <a:endParaRPr b="0" lang="en-US" sz="2800" spc="-1" strike="noStrike">
                <a:solidFill>
                  <a:srgbClr val="000000"/>
                </a:solidFill>
                <a:latin typeface="Times New Roman"/>
              </a:endParaRPr>
            </a:p>
          </p:txBody>
        </p:sp>
        <p:sp>
          <p:nvSpPr>
            <p:cNvPr id="731" name=""/>
            <p:cNvSpPr/>
            <p:nvPr/>
          </p:nvSpPr>
          <p:spPr>
            <a:xfrm>
              <a:off x="651240" y="581328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B</a:t>
              </a:r>
              <a:endParaRPr b="0" lang="en-US" sz="2800" spc="-1" strike="noStrike">
                <a:solidFill>
                  <a:srgbClr val="000000"/>
                </a:solidFill>
                <a:latin typeface="Times New Roman"/>
              </a:endParaRPr>
            </a:p>
          </p:txBody>
        </p:sp>
        <p:sp>
          <p:nvSpPr>
            <p:cNvPr id="732" name=""/>
            <p:cNvSpPr/>
            <p:nvPr/>
          </p:nvSpPr>
          <p:spPr>
            <a:xfrm>
              <a:off x="2235240" y="4479840"/>
              <a:ext cx="591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235240" y="536904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35240" y="620388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676760" y="505296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436920" y="5052960"/>
              <a:ext cx="1084320" cy="3096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D Listen</a:t>
              </a:r>
              <a:endParaRPr b="0" lang="en-US" sz="1400" spc="-1" strike="noStrike">
                <a:solidFill>
                  <a:srgbClr val="000000"/>
                </a:solidFill>
                <a:latin typeface="Times New Roman"/>
              </a:endParaRPr>
            </a:p>
          </p:txBody>
        </p:sp>
        <p:sp>
          <p:nvSpPr>
            <p:cNvPr id="737" name=""/>
            <p:cNvSpPr/>
            <p:nvPr/>
          </p:nvSpPr>
          <p:spPr>
            <a:xfrm>
              <a:off x="3727440" y="416736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330800" y="416736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530440" y="416880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127320" y="416880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759120" y="4502160"/>
              <a:ext cx="0" cy="541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073400" y="58849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676760" y="588492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857680" y="588636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467160" y="5886360"/>
              <a:ext cx="6336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4108320" y="537696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711680" y="537696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145200" y="416880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48560" y="416880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941720" y="41641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545080" y="416412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754680" y="58849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538960" y="588636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44960" y="588636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5573880" y="448452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973760" y="450360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351560" y="416412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558880" y="4502160"/>
              <a:ext cx="0" cy="574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138720" y="588636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180120" y="4516560"/>
              <a:ext cx="0" cy="1339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558880" y="382284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159000" y="382752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558880" y="3949560"/>
              <a:ext cx="600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622600" y="355140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s</a:t>
              </a:r>
              <a:endParaRPr b="0" lang="en-US" sz="1800" spc="-1" strike="noStrike">
                <a:solidFill>
                  <a:srgbClr val="000000"/>
                </a:solidFill>
                <a:latin typeface="Times New Roman"/>
              </a:endParaRPr>
            </a:p>
          </p:txBody>
        </p:sp>
        <p:sp>
          <p:nvSpPr>
            <p:cNvPr id="765" name=""/>
            <p:cNvSpPr/>
            <p:nvPr/>
          </p:nvSpPr>
          <p:spPr>
            <a:xfrm>
              <a:off x="3495600" y="4608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66" name=""/>
            <p:cNvSpPr/>
            <p:nvPr/>
          </p:nvSpPr>
          <p:spPr>
            <a:xfrm>
              <a:off x="3825720" y="5450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767" name=""/>
            <p:cNvSpPr/>
            <p:nvPr/>
          </p:nvSpPr>
          <p:spPr>
            <a:xfrm>
              <a:off x="4456080" y="544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768" name=""/>
            <p:cNvSpPr/>
            <p:nvPr/>
          </p:nvSpPr>
          <p:spPr>
            <a:xfrm>
              <a:off x="4719600" y="4632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769" name=""/>
            <p:cNvSpPr/>
            <p:nvPr/>
          </p:nvSpPr>
          <p:spPr>
            <a:xfrm flipV="1">
              <a:off x="2894040" y="538488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A54AB69B-9DCE-45D7-B790-F022C8097AA0}" type="slidenum">
              <a:t>11</a:t>
            </a:fld>
          </a:p>
        </p:txBody>
      </p:sp>
      <p:sp>
        <p:nvSpPr>
          <p:cNvPr id="4" name="PlaceHolder 3"/>
          <p:cNvSpPr>
            <a:spLocks noGrp="1"/>
          </p:cNvSpPr>
          <p:nvPr>
            <p:ph type="dt" idx="1"/>
          </p:nvPr>
        </p:nvSpPr>
        <p:spPr/>
        <p:txBody>
          <a:bodyPr/>
          <a:p>
            <a:r>
              <a:rPr lang="en-US"/>
              <a:t>March 200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tributed Mediation Devices</a:t>
            </a:r>
            <a:endParaRPr b="0" lang="en-US" sz="4000" spc="-1" strike="noStrike">
              <a:solidFill>
                <a:srgbClr val="000000"/>
              </a:solidFill>
              <a:latin typeface="Arial"/>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variation of the dedicated mediation device, the functionality of the MD can be distributed among all nodes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ode becomes an MD at a random time, then returns to normal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with which a node performs the MD function depends on several factors, inclu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d battery lif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requi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nodes in the network</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DE210048-A50C-4A94-90B0-299E06859CCC}"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 Size</a:t>
            </a:r>
            <a:endParaRPr b="0" lang="en-US" sz="4000" spc="-1" strike="noStrike">
              <a:solidFill>
                <a:srgbClr val="000000"/>
              </a:solidFill>
              <a:latin typeface="Arial"/>
            </a:endParaRPr>
          </a:p>
        </p:txBody>
      </p:sp>
      <p:sp>
        <p:nvSpPr>
          <p:cNvPr id="7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mplementation o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packet recovery, addressing, system tim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packet construction, addressing, system tim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tion Device func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kB RO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kB 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k gates CPU core (overkil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mm</a:t>
            </a:r>
            <a:r>
              <a:rPr b="0" lang="en-US" sz="2400" spc="-1" strike="noStrike" baseline="30000">
                <a:solidFill>
                  <a:srgbClr val="000000"/>
                </a:solidFill>
                <a:latin typeface="Arial"/>
              </a:rPr>
              <a:t>2</a:t>
            </a:r>
            <a:r>
              <a:rPr b="0" lang="en-US" sz="2400" spc="-1" strike="noStrike">
                <a:solidFill>
                  <a:srgbClr val="000000"/>
                </a:solidFill>
                <a:latin typeface="Arial"/>
              </a:rPr>
              <a:t> in 0.18 um standard CM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FDDF722-9289-4C34-BE3F-B6ACB0D4664E}"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5616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on</a:t>
            </a:r>
            <a:endParaRPr b="0" lang="en-US" sz="4000" spc="-1" strike="noStrike">
              <a:solidFill>
                <a:srgbClr val="000000"/>
              </a:solidFill>
              <a:latin typeface="Arial"/>
            </a:endParaRPr>
          </a:p>
        </p:txBody>
      </p:sp>
      <p:sp>
        <p:nvSpPr>
          <p:cNvPr id="775" name="PlaceHolder 2"/>
          <p:cNvSpPr>
            <a:spLocks noGrp="1"/>
          </p:cNvSpPr>
          <p:nvPr>
            <p:ph/>
          </p:nvPr>
        </p:nvSpPr>
        <p:spPr>
          <a:xfrm>
            <a:off x="282600" y="1666440"/>
            <a:ext cx="8175600" cy="45212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have an obligation to support industry direction and emerging market opportun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determination and remote sensing of inventory alone is a $25 billion market, growing at 15 to 20% per year … industrial control and monitoring is larger sti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arkets </a:t>
            </a:r>
            <a:r>
              <a:rPr b="1" lang="en-US" sz="2000" spc="-1" strike="noStrike">
                <a:solidFill>
                  <a:srgbClr val="000000"/>
                </a:solidFill>
                <a:latin typeface="Arial"/>
              </a:rPr>
              <a:t>cannot be met</a:t>
            </a:r>
            <a:r>
              <a:rPr b="0" lang="en-US" sz="2000" spc="-1" strike="noStrike">
                <a:solidFill>
                  <a:srgbClr val="000000"/>
                </a:solidFill>
                <a:latin typeface="Arial"/>
              </a:rPr>
              <a:t> with existing star networks, due to cost and power concer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we must produce a standard that suppo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requiring ultra-low cost &amp; low energy no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that require large node numbers and sca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location determin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innovative solution</a:t>
            </a:r>
            <a:r>
              <a:rPr b="0" lang="en-US" sz="2000" spc="-1" strike="noStrike">
                <a:solidFill>
                  <a:srgbClr val="000000"/>
                </a:solidFill>
                <a:latin typeface="Arial"/>
              </a:rPr>
              <a:t> is needed, and we believe that the Aloha MD approach is that solu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39D68F9-46ED-458A-9D5A-29BF00D457C4}"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1</a:t>
            </a:r>
            <a:endParaRPr b="0" lang="en-US" sz="4000" spc="-1" strike="noStrike">
              <a:solidFill>
                <a:srgbClr val="000000"/>
              </a:solidFill>
              <a:latin typeface="Times New Roman"/>
            </a:endParaRPr>
          </a:p>
        </p:txBody>
      </p:sp>
      <p:graphicFrame>
        <p:nvGraphicFramePr>
          <p:cNvPr id="777" name=""/>
          <p:cNvGraphicFramePr/>
          <p:nvPr/>
        </p:nvGraphicFramePr>
        <p:xfrm>
          <a:off x="1482840" y="1176480"/>
          <a:ext cx="6178320" cy="5259240"/>
        </p:xfrm>
        <a:graphic>
          <a:graphicData uri="http://schemas.openxmlformats.org/presentationml/2006/ole">
            <p:oleObj progId="Excel.Sheet.12" r:id="rId1" spid="">
              <p:embed/>
              <p:pic>
                <p:nvPicPr>
                  <p:cNvPr id="778" name="" descr=""/>
                  <p:cNvPicPr/>
                  <p:nvPr/>
                </p:nvPicPr>
                <p:blipFill>
                  <a:blip r:embed="rId2"/>
                  <a:stretch/>
                </p:blipFill>
                <p:spPr>
                  <a:xfrm>
                    <a:off x="1482840" y="1176480"/>
                    <a:ext cx="6178320" cy="525924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A1347B8D-43CE-4354-B068-A0F11C0CBC96}" type="slidenum">
              <a:t>15</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2</a:t>
            </a:r>
            <a:endParaRPr b="0" lang="en-US" sz="4000" spc="-1" strike="noStrike">
              <a:solidFill>
                <a:srgbClr val="000000"/>
              </a:solidFill>
              <a:latin typeface="Times New Roman"/>
            </a:endParaRPr>
          </a:p>
        </p:txBody>
      </p:sp>
      <p:graphicFrame>
        <p:nvGraphicFramePr>
          <p:cNvPr id="780" name=""/>
          <p:cNvGraphicFramePr/>
          <p:nvPr/>
        </p:nvGraphicFramePr>
        <p:xfrm>
          <a:off x="1671480" y="1176480"/>
          <a:ext cx="5794560" cy="5200560"/>
        </p:xfrm>
        <a:graphic>
          <a:graphicData uri="http://schemas.openxmlformats.org/presentationml/2006/ole">
            <p:oleObj progId="Excel.Sheet.12" r:id="rId1" spid="">
              <p:embed/>
              <p:pic>
                <p:nvPicPr>
                  <p:cNvPr id="781" name="" descr=""/>
                  <p:cNvPicPr/>
                  <p:nvPr/>
                </p:nvPicPr>
                <p:blipFill>
                  <a:blip r:embed="rId2"/>
                  <a:stretch/>
                </p:blipFill>
                <p:spPr>
                  <a:xfrm>
                    <a:off x="1671480" y="1176480"/>
                    <a:ext cx="5794560" cy="520056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5726CD0E-F8D8-425F-ACE5-006C75687AF0}" type="slidenum">
              <a:t>16</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3</a:t>
            </a:r>
            <a:endParaRPr b="0" lang="en-US" sz="4000" spc="-1" strike="noStrike">
              <a:solidFill>
                <a:srgbClr val="000000"/>
              </a:solidFill>
              <a:latin typeface="Times New Roman"/>
            </a:endParaRPr>
          </a:p>
        </p:txBody>
      </p:sp>
      <p:graphicFrame>
        <p:nvGraphicFramePr>
          <p:cNvPr id="783" name=""/>
          <p:cNvGraphicFramePr/>
          <p:nvPr/>
        </p:nvGraphicFramePr>
        <p:xfrm>
          <a:off x="1816200" y="1176480"/>
          <a:ext cx="5513400" cy="5283000"/>
        </p:xfrm>
        <a:graphic>
          <a:graphicData uri="http://schemas.openxmlformats.org/presentationml/2006/ole">
            <p:oleObj progId="Excel.Sheet.12" r:id="rId1" spid="">
              <p:embed/>
              <p:pic>
                <p:nvPicPr>
                  <p:cNvPr id="784" name="" descr=""/>
                  <p:cNvPicPr/>
                  <p:nvPr/>
                </p:nvPicPr>
                <p:blipFill>
                  <a:blip r:embed="rId2"/>
                  <a:stretch/>
                </p:blipFill>
                <p:spPr>
                  <a:xfrm>
                    <a:off x="1816200" y="1176480"/>
                    <a:ext cx="5513400" cy="528300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DC088ABB-4DD1-49F9-ADC6-14E300753BF2}" type="slidenum">
              <a:t>17</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85800" y="60012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 4</a:t>
            </a:r>
            <a:endParaRPr b="0" lang="en-US" sz="4000" spc="-1" strike="noStrike">
              <a:solidFill>
                <a:srgbClr val="000000"/>
              </a:solidFill>
              <a:latin typeface="Times New Roman"/>
            </a:endParaRPr>
          </a:p>
        </p:txBody>
      </p:sp>
      <p:graphicFrame>
        <p:nvGraphicFramePr>
          <p:cNvPr id="786" name=""/>
          <p:cNvGraphicFramePr/>
          <p:nvPr/>
        </p:nvGraphicFramePr>
        <p:xfrm>
          <a:off x="1647720" y="1252440"/>
          <a:ext cx="5848560" cy="4353120"/>
        </p:xfrm>
        <a:graphic>
          <a:graphicData uri="http://schemas.openxmlformats.org/presentationml/2006/ole">
            <p:oleObj progId="Excel.Sheet.12" r:id="rId1" spid="">
              <p:embed/>
              <p:pic>
                <p:nvPicPr>
                  <p:cNvPr id="787" name="" descr=""/>
                  <p:cNvPicPr/>
                  <p:nvPr/>
                </p:nvPicPr>
                <p:blipFill>
                  <a:blip r:embed="rId2"/>
                  <a:stretch/>
                </p:blipFill>
                <p:spPr>
                  <a:xfrm>
                    <a:off x="1647720" y="1252440"/>
                    <a:ext cx="5848560" cy="4353120"/>
                  </a:xfrm>
                  <a:prstGeom prst="rect">
                    <a:avLst/>
                  </a:prstGeom>
                  <a:ln w="0">
                    <a:noFill/>
                  </a:ln>
                </p:spPr>
              </p:pic>
            </p:oleObj>
          </a:graphicData>
        </a:graphic>
      </p:graphicFrame>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10472DBB-CC09-4B83-8D22-16739E275278}" type="slidenum">
              <a:t>18</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3339BD1B-566D-4CD0-9146-CF021417ED17}"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4 is Different!</a:t>
            </a:r>
            <a:endParaRPr b="0" lang="en-US" sz="4000" spc="-1" strike="noStrike">
              <a:solidFill>
                <a:srgbClr val="000000"/>
              </a:solidFill>
              <a:latin typeface="Arial"/>
            </a:endParaRPr>
          </a:p>
        </p:txBody>
      </p:sp>
      <p:sp>
        <p:nvSpPr>
          <p:cNvPr id="49" name="PlaceHolder 2"/>
          <p:cNvSpPr>
            <a:spLocks noGrp="1"/>
          </p:cNvSpPr>
          <p:nvPr>
            <p:ph/>
          </p:nvPr>
        </p:nvSpPr>
        <p:spPr>
          <a:xfrm>
            <a:off x="685800" y="1752480"/>
            <a:ext cx="7772400" cy="4375440"/>
          </a:xfrm>
          <a:prstGeom prst="rect">
            <a:avLst/>
          </a:prstGeom>
          <a:noFill/>
          <a:ln w="0">
            <a:noFill/>
          </a:ln>
        </p:spPr>
        <p:txBody>
          <a:bodyPr lIns="92160" rIns="92160" tIns="46080" bIns="46080" anchor="t">
            <a:normAutofit/>
          </a:bodyPr>
          <a:p>
            <a:pPr marL="343080" indent="0">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ssum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2M is a major market that needs to be addres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differ from those of other WPA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mphasis on longer battery life and lower c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mphasis on message latency, channel capacity, and Q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larger space and device numb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determination.</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nce the requirements are different, the design should be, to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6F5F4B9-DAF7-426C-9120-CF990ECA6B9C}"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Mesh Network</a:t>
            </a:r>
            <a:endParaRPr b="0" lang="en-US" sz="4000" spc="-1" strike="noStrike">
              <a:solidFill>
                <a:srgbClr val="000000"/>
              </a:solidFill>
              <a:latin typeface="Arial"/>
            </a:endParaRPr>
          </a:p>
        </p:txBody>
      </p:sp>
      <p:sp>
        <p:nvSpPr>
          <p:cNvPr id="51" name="PlaceHolder 2"/>
          <p:cNvSpPr>
            <a:spLocks noGrp="1"/>
          </p:cNvSpPr>
          <p:nvPr>
            <p:ph/>
          </p:nvPr>
        </p:nvSpPr>
        <p:spPr>
          <a:xfrm>
            <a:off x="533160" y="1460520"/>
            <a:ext cx="5810040" cy="8222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a large number of devices (Scalable)</a:t>
            </a:r>
            <a:endParaRPr b="0" lang="en-US" sz="2400" spc="-1" strike="noStrike">
              <a:solidFill>
                <a:srgbClr val="000000"/>
              </a:solidFill>
              <a:latin typeface="Arial"/>
            </a:endParaRPr>
          </a:p>
        </p:txBody>
      </p:sp>
      <p:sp>
        <p:nvSpPr>
          <p:cNvPr id="52" name=""/>
          <p:cNvSpPr/>
          <p:nvPr/>
        </p:nvSpPr>
        <p:spPr>
          <a:xfrm>
            <a:off x="2554200" y="594504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987800" y="2089080"/>
            <a:ext cx="1871640" cy="2197080"/>
          </a:xfrm>
          <a:custGeom>
            <a:avLst/>
            <a:gdLst/>
            <a:ahLst/>
            <a:rect l="l" t="t" r="r" b="b"/>
            <a:pathLst>
              <a:path w="1554" h="1819">
                <a:moveTo>
                  <a:pt x="326" y="66"/>
                </a:moveTo>
                <a:lnTo>
                  <a:pt x="295" y="84"/>
                </a:lnTo>
                <a:lnTo>
                  <a:pt x="264" y="104"/>
                </a:lnTo>
                <a:lnTo>
                  <a:pt x="235" y="127"/>
                </a:lnTo>
                <a:lnTo>
                  <a:pt x="208" y="151"/>
                </a:lnTo>
                <a:lnTo>
                  <a:pt x="183" y="177"/>
                </a:lnTo>
                <a:lnTo>
                  <a:pt x="158" y="204"/>
                </a:lnTo>
                <a:lnTo>
                  <a:pt x="136" y="232"/>
                </a:lnTo>
                <a:lnTo>
                  <a:pt x="116" y="263"/>
                </a:lnTo>
                <a:lnTo>
                  <a:pt x="96" y="295"/>
                </a:lnTo>
                <a:lnTo>
                  <a:pt x="79" y="329"/>
                </a:lnTo>
                <a:lnTo>
                  <a:pt x="63" y="363"/>
                </a:lnTo>
                <a:lnTo>
                  <a:pt x="49" y="399"/>
                </a:lnTo>
                <a:lnTo>
                  <a:pt x="37" y="436"/>
                </a:lnTo>
                <a:lnTo>
                  <a:pt x="26" y="473"/>
                </a:lnTo>
                <a:lnTo>
                  <a:pt x="17" y="511"/>
                </a:lnTo>
                <a:lnTo>
                  <a:pt x="10" y="551"/>
                </a:lnTo>
                <a:lnTo>
                  <a:pt x="4" y="592"/>
                </a:lnTo>
                <a:lnTo>
                  <a:pt x="2" y="634"/>
                </a:lnTo>
                <a:lnTo>
                  <a:pt x="0" y="675"/>
                </a:lnTo>
                <a:lnTo>
                  <a:pt x="0" y="718"/>
                </a:lnTo>
                <a:lnTo>
                  <a:pt x="2" y="760"/>
                </a:lnTo>
                <a:lnTo>
                  <a:pt x="4" y="804"/>
                </a:lnTo>
                <a:lnTo>
                  <a:pt x="10" y="847"/>
                </a:lnTo>
                <a:lnTo>
                  <a:pt x="17" y="891"/>
                </a:lnTo>
                <a:lnTo>
                  <a:pt x="27" y="937"/>
                </a:lnTo>
                <a:lnTo>
                  <a:pt x="37" y="981"/>
                </a:lnTo>
                <a:lnTo>
                  <a:pt x="50" y="1025"/>
                </a:lnTo>
                <a:lnTo>
                  <a:pt x="66" y="1071"/>
                </a:lnTo>
                <a:lnTo>
                  <a:pt x="81" y="1115"/>
                </a:lnTo>
                <a:lnTo>
                  <a:pt x="100" y="1159"/>
                </a:lnTo>
                <a:lnTo>
                  <a:pt x="120" y="1203"/>
                </a:lnTo>
                <a:lnTo>
                  <a:pt x="143" y="1247"/>
                </a:lnTo>
                <a:lnTo>
                  <a:pt x="167" y="1290"/>
                </a:lnTo>
                <a:lnTo>
                  <a:pt x="192" y="1331"/>
                </a:lnTo>
                <a:lnTo>
                  <a:pt x="218" y="1371"/>
                </a:lnTo>
                <a:lnTo>
                  <a:pt x="247" y="1411"/>
                </a:lnTo>
                <a:lnTo>
                  <a:pt x="275" y="1448"/>
                </a:lnTo>
                <a:lnTo>
                  <a:pt x="305" y="1483"/>
                </a:lnTo>
                <a:lnTo>
                  <a:pt x="336" y="1516"/>
                </a:lnTo>
                <a:lnTo>
                  <a:pt x="368" y="1549"/>
                </a:lnTo>
                <a:lnTo>
                  <a:pt x="400" y="1580"/>
                </a:lnTo>
                <a:lnTo>
                  <a:pt x="435" y="1609"/>
                </a:lnTo>
                <a:lnTo>
                  <a:pt x="467" y="1636"/>
                </a:lnTo>
                <a:lnTo>
                  <a:pt x="503" y="1661"/>
                </a:lnTo>
                <a:lnTo>
                  <a:pt x="539" y="1686"/>
                </a:lnTo>
                <a:lnTo>
                  <a:pt x="574" y="1707"/>
                </a:lnTo>
                <a:lnTo>
                  <a:pt x="610" y="1727"/>
                </a:lnTo>
                <a:lnTo>
                  <a:pt x="647" y="1745"/>
                </a:lnTo>
                <a:lnTo>
                  <a:pt x="684" y="1761"/>
                </a:lnTo>
                <a:lnTo>
                  <a:pt x="721" y="1775"/>
                </a:lnTo>
                <a:lnTo>
                  <a:pt x="758" y="1788"/>
                </a:lnTo>
                <a:lnTo>
                  <a:pt x="795" y="1798"/>
                </a:lnTo>
                <a:lnTo>
                  <a:pt x="833" y="1807"/>
                </a:lnTo>
                <a:lnTo>
                  <a:pt x="870" y="1812"/>
                </a:lnTo>
                <a:lnTo>
                  <a:pt x="907" y="1817"/>
                </a:lnTo>
                <a:lnTo>
                  <a:pt x="944" y="1819"/>
                </a:lnTo>
                <a:lnTo>
                  <a:pt x="981" y="1819"/>
                </a:lnTo>
                <a:lnTo>
                  <a:pt x="1017" y="1817"/>
                </a:lnTo>
                <a:lnTo>
                  <a:pt x="1054" y="1812"/>
                </a:lnTo>
                <a:lnTo>
                  <a:pt x="1090" y="1805"/>
                </a:lnTo>
                <a:lnTo>
                  <a:pt x="1125" y="1795"/>
                </a:lnTo>
                <a:lnTo>
                  <a:pt x="1159" y="1784"/>
                </a:lnTo>
                <a:lnTo>
                  <a:pt x="1194" y="1770"/>
                </a:lnTo>
                <a:lnTo>
                  <a:pt x="1226" y="1754"/>
                </a:lnTo>
                <a:lnTo>
                  <a:pt x="1259" y="1735"/>
                </a:lnTo>
                <a:lnTo>
                  <a:pt x="1289" y="1716"/>
                </a:lnTo>
                <a:lnTo>
                  <a:pt x="1317" y="1693"/>
                </a:lnTo>
                <a:lnTo>
                  <a:pt x="1345" y="1669"/>
                </a:lnTo>
                <a:lnTo>
                  <a:pt x="1370" y="1643"/>
                </a:lnTo>
                <a:lnTo>
                  <a:pt x="1394" y="1616"/>
                </a:lnTo>
                <a:lnTo>
                  <a:pt x="1417" y="1587"/>
                </a:lnTo>
                <a:lnTo>
                  <a:pt x="1437" y="1556"/>
                </a:lnTo>
                <a:lnTo>
                  <a:pt x="1457" y="1525"/>
                </a:lnTo>
                <a:lnTo>
                  <a:pt x="1474" y="1492"/>
                </a:lnTo>
                <a:lnTo>
                  <a:pt x="1490" y="1456"/>
                </a:lnTo>
                <a:lnTo>
                  <a:pt x="1504" y="1421"/>
                </a:lnTo>
                <a:lnTo>
                  <a:pt x="1515" y="1385"/>
                </a:lnTo>
                <a:lnTo>
                  <a:pt x="1527" y="1347"/>
                </a:lnTo>
                <a:lnTo>
                  <a:pt x="1535" y="1308"/>
                </a:lnTo>
                <a:lnTo>
                  <a:pt x="1542" y="1269"/>
                </a:lnTo>
                <a:lnTo>
                  <a:pt x="1548" y="1227"/>
                </a:lnTo>
                <a:lnTo>
                  <a:pt x="1551" y="1187"/>
                </a:lnTo>
                <a:lnTo>
                  <a:pt x="1554" y="1145"/>
                </a:lnTo>
                <a:lnTo>
                  <a:pt x="1554" y="1102"/>
                </a:lnTo>
                <a:lnTo>
                  <a:pt x="1551" y="1059"/>
                </a:lnTo>
                <a:lnTo>
                  <a:pt x="1548" y="1015"/>
                </a:lnTo>
                <a:lnTo>
                  <a:pt x="1542" y="972"/>
                </a:lnTo>
                <a:lnTo>
                  <a:pt x="1535" y="928"/>
                </a:lnTo>
                <a:lnTo>
                  <a:pt x="1525" y="883"/>
                </a:lnTo>
                <a:lnTo>
                  <a:pt x="1515" y="839"/>
                </a:lnTo>
                <a:lnTo>
                  <a:pt x="1503" y="794"/>
                </a:lnTo>
                <a:lnTo>
                  <a:pt x="1488" y="749"/>
                </a:lnTo>
                <a:lnTo>
                  <a:pt x="1471" y="705"/>
                </a:lnTo>
                <a:lnTo>
                  <a:pt x="1453" y="661"/>
                </a:lnTo>
                <a:lnTo>
                  <a:pt x="1433" y="617"/>
                </a:lnTo>
                <a:lnTo>
                  <a:pt x="1410" y="572"/>
                </a:lnTo>
                <a:lnTo>
                  <a:pt x="1386" y="530"/>
                </a:lnTo>
                <a:lnTo>
                  <a:pt x="1360" y="488"/>
                </a:lnTo>
                <a:lnTo>
                  <a:pt x="1335" y="449"/>
                </a:lnTo>
                <a:lnTo>
                  <a:pt x="1306" y="409"/>
                </a:lnTo>
                <a:lnTo>
                  <a:pt x="1278" y="372"/>
                </a:lnTo>
                <a:lnTo>
                  <a:pt x="1248" y="338"/>
                </a:lnTo>
                <a:lnTo>
                  <a:pt x="1216" y="303"/>
                </a:lnTo>
                <a:lnTo>
                  <a:pt x="1185" y="271"/>
                </a:lnTo>
                <a:lnTo>
                  <a:pt x="1152" y="241"/>
                </a:lnTo>
                <a:lnTo>
                  <a:pt x="1120" y="211"/>
                </a:lnTo>
                <a:lnTo>
                  <a:pt x="1085" y="184"/>
                </a:lnTo>
                <a:lnTo>
                  <a:pt x="1050" y="158"/>
                </a:lnTo>
                <a:lnTo>
                  <a:pt x="1014" y="134"/>
                </a:lnTo>
                <a:lnTo>
                  <a:pt x="979" y="113"/>
                </a:lnTo>
                <a:lnTo>
                  <a:pt x="943" y="93"/>
                </a:lnTo>
                <a:lnTo>
                  <a:pt x="906" y="74"/>
                </a:lnTo>
                <a:lnTo>
                  <a:pt x="869" y="59"/>
                </a:lnTo>
                <a:lnTo>
                  <a:pt x="832" y="44"/>
                </a:lnTo>
                <a:lnTo>
                  <a:pt x="795" y="31"/>
                </a:lnTo>
                <a:lnTo>
                  <a:pt x="758" y="21"/>
                </a:lnTo>
                <a:lnTo>
                  <a:pt x="721" y="13"/>
                </a:lnTo>
                <a:lnTo>
                  <a:pt x="682" y="7"/>
                </a:lnTo>
                <a:lnTo>
                  <a:pt x="645" y="3"/>
                </a:lnTo>
                <a:lnTo>
                  <a:pt x="608" y="0"/>
                </a:lnTo>
                <a:lnTo>
                  <a:pt x="571" y="2"/>
                </a:lnTo>
                <a:lnTo>
                  <a:pt x="536" y="3"/>
                </a:lnTo>
                <a:lnTo>
                  <a:pt x="499" y="7"/>
                </a:lnTo>
                <a:lnTo>
                  <a:pt x="463" y="14"/>
                </a:lnTo>
                <a:lnTo>
                  <a:pt x="427" y="24"/>
                </a:lnTo>
                <a:lnTo>
                  <a:pt x="393" y="36"/>
                </a:lnTo>
                <a:lnTo>
                  <a:pt x="359" y="50"/>
                </a:lnTo>
                <a:lnTo>
                  <a:pt x="326" y="66"/>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376880" y="4013280"/>
            <a:ext cx="2458800" cy="1795320"/>
          </a:xfrm>
          <a:custGeom>
            <a:avLst/>
            <a:gdLst/>
            <a:ahLst/>
            <a:rect l="l" t="t" r="r" b="b"/>
            <a:pathLst>
              <a:path w="2041" h="1485">
                <a:moveTo>
                  <a:pt x="1268" y="107"/>
                </a:moveTo>
                <a:lnTo>
                  <a:pt x="1216" y="88"/>
                </a:lnTo>
                <a:lnTo>
                  <a:pt x="1165" y="71"/>
                </a:lnTo>
                <a:lnTo>
                  <a:pt x="1114" y="56"/>
                </a:lnTo>
                <a:lnTo>
                  <a:pt x="1063" y="43"/>
                </a:lnTo>
                <a:lnTo>
                  <a:pt x="1013" y="31"/>
                </a:lnTo>
                <a:lnTo>
                  <a:pt x="961" y="21"/>
                </a:lnTo>
                <a:lnTo>
                  <a:pt x="912" y="13"/>
                </a:lnTo>
                <a:lnTo>
                  <a:pt x="863" y="7"/>
                </a:lnTo>
                <a:lnTo>
                  <a:pt x="813" y="3"/>
                </a:lnTo>
                <a:lnTo>
                  <a:pt x="766" y="0"/>
                </a:lnTo>
                <a:lnTo>
                  <a:pt x="718" y="0"/>
                </a:lnTo>
                <a:lnTo>
                  <a:pt x="672" y="0"/>
                </a:lnTo>
                <a:lnTo>
                  <a:pt x="627" y="3"/>
                </a:lnTo>
                <a:lnTo>
                  <a:pt x="581" y="7"/>
                </a:lnTo>
                <a:lnTo>
                  <a:pt x="539" y="14"/>
                </a:lnTo>
                <a:lnTo>
                  <a:pt x="496" y="21"/>
                </a:lnTo>
                <a:lnTo>
                  <a:pt x="455" y="31"/>
                </a:lnTo>
                <a:lnTo>
                  <a:pt x="415" y="41"/>
                </a:lnTo>
                <a:lnTo>
                  <a:pt x="375" y="54"/>
                </a:lnTo>
                <a:lnTo>
                  <a:pt x="338" y="68"/>
                </a:lnTo>
                <a:lnTo>
                  <a:pt x="302" y="84"/>
                </a:lnTo>
                <a:lnTo>
                  <a:pt x="268" y="103"/>
                </a:lnTo>
                <a:lnTo>
                  <a:pt x="235" y="121"/>
                </a:lnTo>
                <a:lnTo>
                  <a:pt x="205" y="141"/>
                </a:lnTo>
                <a:lnTo>
                  <a:pt x="175" y="164"/>
                </a:lnTo>
                <a:lnTo>
                  <a:pt x="150" y="187"/>
                </a:lnTo>
                <a:lnTo>
                  <a:pt x="124" y="212"/>
                </a:lnTo>
                <a:lnTo>
                  <a:pt x="101" y="238"/>
                </a:lnTo>
                <a:lnTo>
                  <a:pt x="80" y="266"/>
                </a:lnTo>
                <a:lnTo>
                  <a:pt x="62" y="296"/>
                </a:lnTo>
                <a:lnTo>
                  <a:pt x="46" y="326"/>
                </a:lnTo>
                <a:lnTo>
                  <a:pt x="32" y="359"/>
                </a:lnTo>
                <a:lnTo>
                  <a:pt x="20" y="392"/>
                </a:lnTo>
                <a:lnTo>
                  <a:pt x="12" y="426"/>
                </a:lnTo>
                <a:lnTo>
                  <a:pt x="6" y="460"/>
                </a:lnTo>
                <a:lnTo>
                  <a:pt x="2" y="494"/>
                </a:lnTo>
                <a:lnTo>
                  <a:pt x="0" y="530"/>
                </a:lnTo>
                <a:lnTo>
                  <a:pt x="3" y="565"/>
                </a:lnTo>
                <a:lnTo>
                  <a:pt x="6" y="601"/>
                </a:lnTo>
                <a:lnTo>
                  <a:pt x="13" y="636"/>
                </a:lnTo>
                <a:lnTo>
                  <a:pt x="22" y="672"/>
                </a:lnTo>
                <a:lnTo>
                  <a:pt x="33" y="708"/>
                </a:lnTo>
                <a:lnTo>
                  <a:pt x="46" y="743"/>
                </a:lnTo>
                <a:lnTo>
                  <a:pt x="62" y="779"/>
                </a:lnTo>
                <a:lnTo>
                  <a:pt x="80" y="814"/>
                </a:lnTo>
                <a:lnTo>
                  <a:pt x="100" y="850"/>
                </a:lnTo>
                <a:lnTo>
                  <a:pt x="123" y="886"/>
                </a:lnTo>
                <a:lnTo>
                  <a:pt x="147" y="920"/>
                </a:lnTo>
                <a:lnTo>
                  <a:pt x="173" y="955"/>
                </a:lnTo>
                <a:lnTo>
                  <a:pt x="201" y="988"/>
                </a:lnTo>
                <a:lnTo>
                  <a:pt x="231" y="1022"/>
                </a:lnTo>
                <a:lnTo>
                  <a:pt x="262" y="1055"/>
                </a:lnTo>
                <a:lnTo>
                  <a:pt x="296" y="1086"/>
                </a:lnTo>
                <a:lnTo>
                  <a:pt x="332" y="1118"/>
                </a:lnTo>
                <a:lnTo>
                  <a:pt x="369" y="1149"/>
                </a:lnTo>
                <a:lnTo>
                  <a:pt x="408" y="1179"/>
                </a:lnTo>
                <a:lnTo>
                  <a:pt x="449" y="1207"/>
                </a:lnTo>
                <a:lnTo>
                  <a:pt x="490" y="1236"/>
                </a:lnTo>
                <a:lnTo>
                  <a:pt x="534" y="1263"/>
                </a:lnTo>
                <a:lnTo>
                  <a:pt x="578" y="1288"/>
                </a:lnTo>
                <a:lnTo>
                  <a:pt x="625" y="1313"/>
                </a:lnTo>
                <a:lnTo>
                  <a:pt x="674" y="1335"/>
                </a:lnTo>
                <a:lnTo>
                  <a:pt x="722" y="1358"/>
                </a:lnTo>
                <a:lnTo>
                  <a:pt x="774" y="1378"/>
                </a:lnTo>
                <a:lnTo>
                  <a:pt x="825" y="1397"/>
                </a:lnTo>
                <a:lnTo>
                  <a:pt x="876" y="1414"/>
                </a:lnTo>
                <a:lnTo>
                  <a:pt x="927" y="1429"/>
                </a:lnTo>
                <a:lnTo>
                  <a:pt x="979" y="1442"/>
                </a:lnTo>
                <a:lnTo>
                  <a:pt x="1028" y="1454"/>
                </a:lnTo>
                <a:lnTo>
                  <a:pt x="1080" y="1463"/>
                </a:lnTo>
                <a:lnTo>
                  <a:pt x="1130" y="1472"/>
                </a:lnTo>
                <a:lnTo>
                  <a:pt x="1178" y="1478"/>
                </a:lnTo>
                <a:lnTo>
                  <a:pt x="1228" y="1482"/>
                </a:lnTo>
                <a:lnTo>
                  <a:pt x="1275" y="1485"/>
                </a:lnTo>
                <a:lnTo>
                  <a:pt x="1323" y="1485"/>
                </a:lnTo>
                <a:lnTo>
                  <a:pt x="1369" y="1485"/>
                </a:lnTo>
                <a:lnTo>
                  <a:pt x="1414" y="1482"/>
                </a:lnTo>
                <a:lnTo>
                  <a:pt x="1460" y="1478"/>
                </a:lnTo>
                <a:lnTo>
                  <a:pt x="1504" y="1471"/>
                </a:lnTo>
                <a:lnTo>
                  <a:pt x="1545" y="1463"/>
                </a:lnTo>
                <a:lnTo>
                  <a:pt x="1587" y="1454"/>
                </a:lnTo>
                <a:lnTo>
                  <a:pt x="1628" y="1444"/>
                </a:lnTo>
                <a:lnTo>
                  <a:pt x="1666" y="1431"/>
                </a:lnTo>
                <a:lnTo>
                  <a:pt x="1703" y="1417"/>
                </a:lnTo>
                <a:lnTo>
                  <a:pt x="1739" y="1401"/>
                </a:lnTo>
                <a:lnTo>
                  <a:pt x="1773" y="1384"/>
                </a:lnTo>
                <a:lnTo>
                  <a:pt x="1806" y="1364"/>
                </a:lnTo>
                <a:lnTo>
                  <a:pt x="1836" y="1344"/>
                </a:lnTo>
                <a:lnTo>
                  <a:pt x="1866" y="1321"/>
                </a:lnTo>
                <a:lnTo>
                  <a:pt x="1893" y="1298"/>
                </a:lnTo>
                <a:lnTo>
                  <a:pt x="1917" y="1273"/>
                </a:lnTo>
                <a:lnTo>
                  <a:pt x="1940" y="1247"/>
                </a:lnTo>
                <a:lnTo>
                  <a:pt x="1961" y="1219"/>
                </a:lnTo>
                <a:lnTo>
                  <a:pt x="1980" y="1189"/>
                </a:lnTo>
                <a:lnTo>
                  <a:pt x="1995" y="1159"/>
                </a:lnTo>
                <a:lnTo>
                  <a:pt x="2010" y="1126"/>
                </a:lnTo>
                <a:lnTo>
                  <a:pt x="2021" y="1093"/>
                </a:lnTo>
                <a:lnTo>
                  <a:pt x="2030" y="1059"/>
                </a:lnTo>
                <a:lnTo>
                  <a:pt x="2037" y="1025"/>
                </a:lnTo>
                <a:lnTo>
                  <a:pt x="2039" y="991"/>
                </a:lnTo>
                <a:lnTo>
                  <a:pt x="2041" y="955"/>
                </a:lnTo>
                <a:lnTo>
                  <a:pt x="2039" y="920"/>
                </a:lnTo>
                <a:lnTo>
                  <a:pt x="2035" y="884"/>
                </a:lnTo>
                <a:lnTo>
                  <a:pt x="2028" y="849"/>
                </a:lnTo>
                <a:lnTo>
                  <a:pt x="2020" y="813"/>
                </a:lnTo>
                <a:lnTo>
                  <a:pt x="2008" y="777"/>
                </a:lnTo>
                <a:lnTo>
                  <a:pt x="1995" y="742"/>
                </a:lnTo>
                <a:lnTo>
                  <a:pt x="1980" y="706"/>
                </a:lnTo>
                <a:lnTo>
                  <a:pt x="1961" y="671"/>
                </a:lnTo>
                <a:lnTo>
                  <a:pt x="1941" y="635"/>
                </a:lnTo>
                <a:lnTo>
                  <a:pt x="1918" y="599"/>
                </a:lnTo>
                <a:lnTo>
                  <a:pt x="1896" y="565"/>
                </a:lnTo>
                <a:lnTo>
                  <a:pt x="1869" y="531"/>
                </a:lnTo>
                <a:lnTo>
                  <a:pt x="1840" y="497"/>
                </a:lnTo>
                <a:lnTo>
                  <a:pt x="1810" y="463"/>
                </a:lnTo>
                <a:lnTo>
                  <a:pt x="1779" y="430"/>
                </a:lnTo>
                <a:lnTo>
                  <a:pt x="1745" y="399"/>
                </a:lnTo>
                <a:lnTo>
                  <a:pt x="1709" y="367"/>
                </a:lnTo>
                <a:lnTo>
                  <a:pt x="1672" y="336"/>
                </a:lnTo>
                <a:lnTo>
                  <a:pt x="1634" y="306"/>
                </a:lnTo>
                <a:lnTo>
                  <a:pt x="1592" y="278"/>
                </a:lnTo>
                <a:lnTo>
                  <a:pt x="1551" y="249"/>
                </a:lnTo>
                <a:lnTo>
                  <a:pt x="1507" y="224"/>
                </a:lnTo>
                <a:lnTo>
                  <a:pt x="1463" y="197"/>
                </a:lnTo>
                <a:lnTo>
                  <a:pt x="1416" y="172"/>
                </a:lnTo>
                <a:lnTo>
                  <a:pt x="1367" y="150"/>
                </a:lnTo>
                <a:lnTo>
                  <a:pt x="1319" y="127"/>
                </a:lnTo>
                <a:lnTo>
                  <a:pt x="1268" y="107"/>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464160" y="3686040"/>
            <a:ext cx="7488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6" name=""/>
          <p:cNvSpPr/>
          <p:nvPr/>
        </p:nvSpPr>
        <p:spPr>
          <a:xfrm>
            <a:off x="5970600" y="4100400"/>
            <a:ext cx="7452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7" name=""/>
          <p:cNvSpPr/>
          <p:nvPr/>
        </p:nvSpPr>
        <p:spPr>
          <a:xfrm>
            <a:off x="7122960" y="4513320"/>
            <a:ext cx="74880" cy="76320"/>
          </a:xfrm>
          <a:prstGeom prst="ellipse">
            <a:avLst/>
          </a:prstGeom>
          <a:solidFill>
            <a:srgbClr val="ff000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 name=""/>
          <p:cNvSpPr/>
          <p:nvPr/>
        </p:nvSpPr>
        <p:spPr>
          <a:xfrm>
            <a:off x="8277120" y="310824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 name=""/>
          <p:cNvSpPr/>
          <p:nvPr/>
        </p:nvSpPr>
        <p:spPr>
          <a:xfrm>
            <a:off x="7947000" y="170352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 name=""/>
          <p:cNvSpPr/>
          <p:nvPr/>
        </p:nvSpPr>
        <p:spPr>
          <a:xfrm>
            <a:off x="7616880" y="2365200"/>
            <a:ext cx="7452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1" name=""/>
          <p:cNvSpPr/>
          <p:nvPr/>
        </p:nvSpPr>
        <p:spPr>
          <a:xfrm>
            <a:off x="7203960" y="3025800"/>
            <a:ext cx="763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2" name=""/>
          <p:cNvSpPr/>
          <p:nvPr/>
        </p:nvSpPr>
        <p:spPr>
          <a:xfrm>
            <a:off x="7783560" y="3686040"/>
            <a:ext cx="73080" cy="74880"/>
          </a:xfrm>
          <a:prstGeom prst="ellipse">
            <a:avLst/>
          </a:prstGeom>
          <a:solidFill>
            <a:srgbClr val="00cc66"/>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 name=""/>
          <p:cNvSpPr/>
          <p:nvPr/>
        </p:nvSpPr>
        <p:spPr>
          <a:xfrm>
            <a:off x="7783560" y="4349880"/>
            <a:ext cx="7308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 name=""/>
          <p:cNvSpPr/>
          <p:nvPr/>
        </p:nvSpPr>
        <p:spPr>
          <a:xfrm>
            <a:off x="6546960" y="2779560"/>
            <a:ext cx="73080" cy="730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 name=""/>
          <p:cNvSpPr/>
          <p:nvPr/>
        </p:nvSpPr>
        <p:spPr>
          <a:xfrm>
            <a:off x="6794640" y="2116080"/>
            <a:ext cx="72720" cy="76320"/>
          </a:xfrm>
          <a:prstGeom prst="ellipse">
            <a:avLst/>
          </a:prstGeom>
          <a:solidFill>
            <a:srgbClr val="ff000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 name=""/>
          <p:cNvSpPr/>
          <p:nvPr/>
        </p:nvSpPr>
        <p:spPr>
          <a:xfrm>
            <a:off x="7369200" y="1787400"/>
            <a:ext cx="7776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 name=""/>
          <p:cNvSpPr/>
          <p:nvPr/>
        </p:nvSpPr>
        <p:spPr>
          <a:xfrm>
            <a:off x="6464160" y="5091120"/>
            <a:ext cx="74880" cy="76320"/>
          </a:xfrm>
          <a:prstGeom prst="ellipse">
            <a:avLst/>
          </a:prstGeom>
          <a:solidFill>
            <a:srgbClr val="00cc66"/>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 name=""/>
          <p:cNvSpPr/>
          <p:nvPr/>
        </p:nvSpPr>
        <p:spPr>
          <a:xfrm>
            <a:off x="7122960" y="5754600"/>
            <a:ext cx="748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 name=""/>
          <p:cNvSpPr/>
          <p:nvPr/>
        </p:nvSpPr>
        <p:spPr>
          <a:xfrm>
            <a:off x="7783560" y="5505480"/>
            <a:ext cx="730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 name=""/>
          <p:cNvSpPr/>
          <p:nvPr/>
        </p:nvSpPr>
        <p:spPr>
          <a:xfrm>
            <a:off x="7947000" y="600228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1" name=""/>
          <p:cNvSpPr/>
          <p:nvPr/>
        </p:nvSpPr>
        <p:spPr>
          <a:xfrm>
            <a:off x="4983120" y="4764240"/>
            <a:ext cx="74520" cy="712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 name=""/>
          <p:cNvSpPr/>
          <p:nvPr/>
        </p:nvSpPr>
        <p:spPr>
          <a:xfrm>
            <a:off x="5475240" y="525924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 name=""/>
          <p:cNvSpPr/>
          <p:nvPr/>
        </p:nvSpPr>
        <p:spPr>
          <a:xfrm>
            <a:off x="6464160" y="591984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 name=""/>
          <p:cNvSpPr/>
          <p:nvPr/>
        </p:nvSpPr>
        <p:spPr>
          <a:xfrm flipV="1">
            <a:off x="5127480" y="2511360"/>
            <a:ext cx="35568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27480" y="2924280"/>
            <a:ext cx="766800" cy="358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24520" y="3351240"/>
            <a:ext cx="81000" cy="744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951520" y="3338640"/>
            <a:ext cx="520560" cy="35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951520" y="2842920"/>
            <a:ext cx="603360" cy="439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583320" y="2182320"/>
            <a:ext cx="216000" cy="592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624720" y="2813040"/>
            <a:ext cx="574560" cy="246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7270920" y="2428920"/>
            <a:ext cx="353880" cy="60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83520" y="3059280"/>
            <a:ext cx="988920" cy="83880"/>
          </a:xfrm>
          <a:prstGeom prst="line">
            <a:avLst/>
          </a:prstGeom>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 name=""/>
          <p:cNvSpPr/>
          <p:nvPr/>
        </p:nvSpPr>
        <p:spPr>
          <a:xfrm>
            <a:off x="7270920" y="3090960"/>
            <a:ext cx="519120" cy="603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19920" y="3765600"/>
            <a:ext cx="1800" cy="57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5018040" y="4092480"/>
            <a:ext cx="246240" cy="66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18040" y="4836960"/>
            <a:ext cx="465120" cy="427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5554800" y="5129280"/>
            <a:ext cx="904680" cy="163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500880" y="5170320"/>
            <a:ext cx="1440" cy="744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26080" y="5157720"/>
            <a:ext cx="603360" cy="601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7188120" y="4411800"/>
            <a:ext cx="601920" cy="109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199280" y="5568480"/>
            <a:ext cx="59076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188120" y="5818320"/>
            <a:ext cx="752400" cy="217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7407360" y="1862280"/>
            <a:ext cx="217440" cy="511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7680240" y="1767960"/>
            <a:ext cx="274680" cy="605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4859280" y="2658960"/>
            <a:ext cx="329760" cy="196560"/>
            <a:chOff x="4859280" y="2658960"/>
            <a:chExt cx="329760" cy="196560"/>
          </a:xfrm>
        </p:grpSpPr>
        <p:sp>
          <p:nvSpPr>
            <p:cNvPr id="96" name=""/>
            <p:cNvSpPr/>
            <p:nvPr/>
          </p:nvSpPr>
          <p:spPr>
            <a:xfrm>
              <a:off x="4859280" y="2658960"/>
              <a:ext cx="327600" cy="19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59280" y="2658960"/>
              <a:ext cx="327600" cy="1965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59280" y="2658960"/>
              <a:ext cx="329760" cy="196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59280" y="2658960"/>
              <a:ext cx="327600" cy="19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4858920" y="26686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2</a:t>
            </a:r>
            <a:endParaRPr b="0" lang="en-US" sz="900" spc="-1" strike="noStrike">
              <a:solidFill>
                <a:srgbClr val="000000"/>
              </a:solidFill>
              <a:latin typeface="Times New Roman"/>
            </a:endParaRPr>
          </a:p>
        </p:txBody>
      </p:sp>
      <p:grpSp>
        <p:nvGrpSpPr>
          <p:cNvPr id="101" name=""/>
          <p:cNvGrpSpPr/>
          <p:nvPr/>
        </p:nvGrpSpPr>
        <p:grpSpPr>
          <a:xfrm>
            <a:off x="4809960" y="4013280"/>
            <a:ext cx="331560" cy="201240"/>
            <a:chOff x="4809960" y="4013280"/>
            <a:chExt cx="331560" cy="201240"/>
          </a:xfrm>
        </p:grpSpPr>
        <p:sp>
          <p:nvSpPr>
            <p:cNvPr id="102" name=""/>
            <p:cNvSpPr/>
            <p:nvPr/>
          </p:nvSpPr>
          <p:spPr>
            <a:xfrm>
              <a:off x="4809960" y="4013280"/>
              <a:ext cx="32940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809960" y="4013280"/>
              <a:ext cx="329400" cy="198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809960" y="4013280"/>
              <a:ext cx="331560" cy="20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9960" y="4013280"/>
              <a:ext cx="32940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810320" y="4022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3</a:t>
            </a:r>
            <a:endParaRPr b="0" lang="en-US" sz="900" spc="-1" strike="noStrike">
              <a:solidFill>
                <a:srgbClr val="000000"/>
              </a:solidFill>
              <a:latin typeface="Times New Roman"/>
            </a:endParaRPr>
          </a:p>
        </p:txBody>
      </p:sp>
      <p:sp>
        <p:nvSpPr>
          <p:cNvPr id="107" name=""/>
          <p:cNvSpPr/>
          <p:nvPr/>
        </p:nvSpPr>
        <p:spPr>
          <a:xfrm>
            <a:off x="5888160" y="3274920"/>
            <a:ext cx="73080" cy="7164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 name=""/>
          <p:cNvSpPr/>
          <p:nvPr/>
        </p:nvSpPr>
        <p:spPr>
          <a:xfrm>
            <a:off x="5475240" y="244800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9" name=""/>
          <p:cNvSpPr/>
          <p:nvPr/>
        </p:nvSpPr>
        <p:spPr>
          <a:xfrm>
            <a:off x="6029280" y="4925880"/>
            <a:ext cx="2129040" cy="1474920"/>
          </a:xfrm>
          <a:custGeom>
            <a:avLst/>
            <a:gdLst/>
            <a:ahLst/>
            <a:rect l="l" t="t" r="r" b="b"/>
            <a:pathLst>
              <a:path w="1765" h="1220">
                <a:moveTo>
                  <a:pt x="1082" y="98"/>
                </a:moveTo>
                <a:lnTo>
                  <a:pt x="1038" y="81"/>
                </a:lnTo>
                <a:lnTo>
                  <a:pt x="992" y="66"/>
                </a:lnTo>
                <a:lnTo>
                  <a:pt x="948" y="54"/>
                </a:lnTo>
                <a:lnTo>
                  <a:pt x="904" y="41"/>
                </a:lnTo>
                <a:lnTo>
                  <a:pt x="861" y="31"/>
                </a:lnTo>
                <a:lnTo>
                  <a:pt x="817" y="22"/>
                </a:lnTo>
                <a:lnTo>
                  <a:pt x="774" y="14"/>
                </a:lnTo>
                <a:lnTo>
                  <a:pt x="732" y="8"/>
                </a:lnTo>
                <a:lnTo>
                  <a:pt x="689" y="4"/>
                </a:lnTo>
                <a:lnTo>
                  <a:pt x="648" y="1"/>
                </a:lnTo>
                <a:lnTo>
                  <a:pt x="606" y="0"/>
                </a:lnTo>
                <a:lnTo>
                  <a:pt x="566" y="0"/>
                </a:lnTo>
                <a:lnTo>
                  <a:pt x="489" y="2"/>
                </a:lnTo>
                <a:lnTo>
                  <a:pt x="415" y="12"/>
                </a:lnTo>
                <a:lnTo>
                  <a:pt x="346" y="27"/>
                </a:lnTo>
                <a:lnTo>
                  <a:pt x="280" y="47"/>
                </a:lnTo>
                <a:lnTo>
                  <a:pt x="250" y="59"/>
                </a:lnTo>
                <a:lnTo>
                  <a:pt x="220" y="72"/>
                </a:lnTo>
                <a:lnTo>
                  <a:pt x="193" y="88"/>
                </a:lnTo>
                <a:lnTo>
                  <a:pt x="168" y="103"/>
                </a:lnTo>
                <a:lnTo>
                  <a:pt x="143" y="121"/>
                </a:lnTo>
                <a:lnTo>
                  <a:pt x="121" y="139"/>
                </a:lnTo>
                <a:lnTo>
                  <a:pt x="99" y="159"/>
                </a:lnTo>
                <a:lnTo>
                  <a:pt x="79" y="180"/>
                </a:lnTo>
                <a:lnTo>
                  <a:pt x="62" y="202"/>
                </a:lnTo>
                <a:lnTo>
                  <a:pt x="47" y="226"/>
                </a:lnTo>
                <a:lnTo>
                  <a:pt x="34" y="250"/>
                </a:lnTo>
                <a:lnTo>
                  <a:pt x="22" y="276"/>
                </a:lnTo>
                <a:lnTo>
                  <a:pt x="14" y="303"/>
                </a:lnTo>
                <a:lnTo>
                  <a:pt x="7" y="330"/>
                </a:lnTo>
                <a:lnTo>
                  <a:pt x="2" y="357"/>
                </a:lnTo>
                <a:lnTo>
                  <a:pt x="0" y="385"/>
                </a:lnTo>
                <a:lnTo>
                  <a:pt x="0" y="414"/>
                </a:lnTo>
                <a:lnTo>
                  <a:pt x="2" y="442"/>
                </a:lnTo>
                <a:lnTo>
                  <a:pt x="7" y="472"/>
                </a:lnTo>
                <a:lnTo>
                  <a:pt x="12" y="501"/>
                </a:lnTo>
                <a:lnTo>
                  <a:pt x="21" y="531"/>
                </a:lnTo>
                <a:lnTo>
                  <a:pt x="31" y="559"/>
                </a:lnTo>
                <a:lnTo>
                  <a:pt x="44" y="589"/>
                </a:lnTo>
                <a:lnTo>
                  <a:pt x="58" y="619"/>
                </a:lnTo>
                <a:lnTo>
                  <a:pt x="75" y="647"/>
                </a:lnTo>
                <a:lnTo>
                  <a:pt x="92" y="677"/>
                </a:lnTo>
                <a:lnTo>
                  <a:pt x="112" y="706"/>
                </a:lnTo>
                <a:lnTo>
                  <a:pt x="133" y="736"/>
                </a:lnTo>
                <a:lnTo>
                  <a:pt x="158" y="764"/>
                </a:lnTo>
                <a:lnTo>
                  <a:pt x="182" y="791"/>
                </a:lnTo>
                <a:lnTo>
                  <a:pt x="209" y="820"/>
                </a:lnTo>
                <a:lnTo>
                  <a:pt x="237" y="847"/>
                </a:lnTo>
                <a:lnTo>
                  <a:pt x="266" y="874"/>
                </a:lnTo>
                <a:lnTo>
                  <a:pt x="297" y="901"/>
                </a:lnTo>
                <a:lnTo>
                  <a:pt x="330" y="926"/>
                </a:lnTo>
                <a:lnTo>
                  <a:pt x="364" y="950"/>
                </a:lnTo>
                <a:lnTo>
                  <a:pt x="437" y="999"/>
                </a:lnTo>
                <a:lnTo>
                  <a:pt x="514" y="1043"/>
                </a:lnTo>
                <a:lnTo>
                  <a:pt x="596" y="1084"/>
                </a:lnTo>
                <a:lnTo>
                  <a:pt x="683" y="1121"/>
                </a:lnTo>
                <a:lnTo>
                  <a:pt x="727" y="1138"/>
                </a:lnTo>
                <a:lnTo>
                  <a:pt x="773" y="1153"/>
                </a:lnTo>
                <a:lnTo>
                  <a:pt x="817" y="1165"/>
                </a:lnTo>
                <a:lnTo>
                  <a:pt x="861" y="1178"/>
                </a:lnTo>
                <a:lnTo>
                  <a:pt x="905" y="1188"/>
                </a:lnTo>
                <a:lnTo>
                  <a:pt x="948" y="1197"/>
                </a:lnTo>
                <a:lnTo>
                  <a:pt x="991" y="1205"/>
                </a:lnTo>
                <a:lnTo>
                  <a:pt x="1033" y="1211"/>
                </a:lnTo>
                <a:lnTo>
                  <a:pt x="1076" y="1215"/>
                </a:lnTo>
                <a:lnTo>
                  <a:pt x="1117" y="1218"/>
                </a:lnTo>
                <a:lnTo>
                  <a:pt x="1159" y="1220"/>
                </a:lnTo>
                <a:lnTo>
                  <a:pt x="1199" y="1220"/>
                </a:lnTo>
                <a:lnTo>
                  <a:pt x="1276" y="1217"/>
                </a:lnTo>
                <a:lnTo>
                  <a:pt x="1350" y="1207"/>
                </a:lnTo>
                <a:lnTo>
                  <a:pt x="1419" y="1192"/>
                </a:lnTo>
                <a:lnTo>
                  <a:pt x="1485" y="1173"/>
                </a:lnTo>
                <a:lnTo>
                  <a:pt x="1515" y="1160"/>
                </a:lnTo>
                <a:lnTo>
                  <a:pt x="1545" y="1147"/>
                </a:lnTo>
                <a:lnTo>
                  <a:pt x="1572" y="1131"/>
                </a:lnTo>
                <a:lnTo>
                  <a:pt x="1597" y="1116"/>
                </a:lnTo>
                <a:lnTo>
                  <a:pt x="1622" y="1099"/>
                </a:lnTo>
                <a:lnTo>
                  <a:pt x="1644" y="1080"/>
                </a:lnTo>
                <a:lnTo>
                  <a:pt x="1666" y="1060"/>
                </a:lnTo>
                <a:lnTo>
                  <a:pt x="1686" y="1040"/>
                </a:lnTo>
                <a:lnTo>
                  <a:pt x="1703" y="1017"/>
                </a:lnTo>
                <a:lnTo>
                  <a:pt x="1718" y="993"/>
                </a:lnTo>
                <a:lnTo>
                  <a:pt x="1731" y="969"/>
                </a:lnTo>
                <a:lnTo>
                  <a:pt x="1743" y="943"/>
                </a:lnTo>
                <a:lnTo>
                  <a:pt x="1751" y="916"/>
                </a:lnTo>
                <a:lnTo>
                  <a:pt x="1758" y="889"/>
                </a:lnTo>
                <a:lnTo>
                  <a:pt x="1763" y="862"/>
                </a:lnTo>
                <a:lnTo>
                  <a:pt x="1765" y="834"/>
                </a:lnTo>
                <a:lnTo>
                  <a:pt x="1765" y="805"/>
                </a:lnTo>
                <a:lnTo>
                  <a:pt x="1763" y="777"/>
                </a:lnTo>
                <a:lnTo>
                  <a:pt x="1758" y="747"/>
                </a:lnTo>
                <a:lnTo>
                  <a:pt x="1753" y="718"/>
                </a:lnTo>
                <a:lnTo>
                  <a:pt x="1744" y="689"/>
                </a:lnTo>
                <a:lnTo>
                  <a:pt x="1734" y="660"/>
                </a:lnTo>
                <a:lnTo>
                  <a:pt x="1721" y="630"/>
                </a:lnTo>
                <a:lnTo>
                  <a:pt x="1707" y="600"/>
                </a:lnTo>
                <a:lnTo>
                  <a:pt x="1690" y="572"/>
                </a:lnTo>
                <a:lnTo>
                  <a:pt x="1673" y="542"/>
                </a:lnTo>
                <a:lnTo>
                  <a:pt x="1653" y="513"/>
                </a:lnTo>
                <a:lnTo>
                  <a:pt x="1632" y="485"/>
                </a:lnTo>
                <a:lnTo>
                  <a:pt x="1607" y="455"/>
                </a:lnTo>
                <a:lnTo>
                  <a:pt x="1583" y="428"/>
                </a:lnTo>
                <a:lnTo>
                  <a:pt x="1556" y="400"/>
                </a:lnTo>
                <a:lnTo>
                  <a:pt x="1528" y="373"/>
                </a:lnTo>
                <a:lnTo>
                  <a:pt x="1499" y="345"/>
                </a:lnTo>
                <a:lnTo>
                  <a:pt x="1468" y="320"/>
                </a:lnTo>
                <a:lnTo>
                  <a:pt x="1435" y="293"/>
                </a:lnTo>
                <a:lnTo>
                  <a:pt x="1401" y="269"/>
                </a:lnTo>
                <a:lnTo>
                  <a:pt x="1328" y="220"/>
                </a:lnTo>
                <a:lnTo>
                  <a:pt x="1251" y="176"/>
                </a:lnTo>
                <a:lnTo>
                  <a:pt x="1169" y="135"/>
                </a:lnTo>
                <a:lnTo>
                  <a:pt x="1082" y="98"/>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43640" y="1523880"/>
            <a:ext cx="2243160" cy="2295720"/>
          </a:xfrm>
          <a:custGeom>
            <a:avLst/>
            <a:gdLst/>
            <a:ahLst/>
            <a:rect l="l" t="t" r="r" b="b"/>
            <a:pathLst>
              <a:path w="1860" h="1897">
                <a:moveTo>
                  <a:pt x="480" y="104"/>
                </a:moveTo>
                <a:lnTo>
                  <a:pt x="439" y="126"/>
                </a:lnTo>
                <a:lnTo>
                  <a:pt x="399" y="152"/>
                </a:lnTo>
                <a:lnTo>
                  <a:pt x="362" y="179"/>
                </a:lnTo>
                <a:lnTo>
                  <a:pt x="325" y="207"/>
                </a:lnTo>
                <a:lnTo>
                  <a:pt x="291" y="239"/>
                </a:lnTo>
                <a:lnTo>
                  <a:pt x="258" y="270"/>
                </a:lnTo>
                <a:lnTo>
                  <a:pt x="228" y="304"/>
                </a:lnTo>
                <a:lnTo>
                  <a:pt x="198" y="338"/>
                </a:lnTo>
                <a:lnTo>
                  <a:pt x="171" y="374"/>
                </a:lnTo>
                <a:lnTo>
                  <a:pt x="147" y="412"/>
                </a:lnTo>
                <a:lnTo>
                  <a:pt x="123" y="451"/>
                </a:lnTo>
                <a:lnTo>
                  <a:pt x="101" y="491"/>
                </a:lnTo>
                <a:lnTo>
                  <a:pt x="83" y="531"/>
                </a:lnTo>
                <a:lnTo>
                  <a:pt x="64" y="572"/>
                </a:lnTo>
                <a:lnTo>
                  <a:pt x="50" y="615"/>
                </a:lnTo>
                <a:lnTo>
                  <a:pt x="36" y="657"/>
                </a:lnTo>
                <a:lnTo>
                  <a:pt x="24" y="701"/>
                </a:lnTo>
                <a:lnTo>
                  <a:pt x="16" y="746"/>
                </a:lnTo>
                <a:lnTo>
                  <a:pt x="9" y="790"/>
                </a:lnTo>
                <a:lnTo>
                  <a:pt x="3" y="835"/>
                </a:lnTo>
                <a:lnTo>
                  <a:pt x="0" y="881"/>
                </a:lnTo>
                <a:lnTo>
                  <a:pt x="0" y="926"/>
                </a:lnTo>
                <a:lnTo>
                  <a:pt x="2" y="973"/>
                </a:lnTo>
                <a:lnTo>
                  <a:pt x="4" y="1019"/>
                </a:lnTo>
                <a:lnTo>
                  <a:pt x="10" y="1064"/>
                </a:lnTo>
                <a:lnTo>
                  <a:pt x="19" y="1111"/>
                </a:lnTo>
                <a:lnTo>
                  <a:pt x="29" y="1157"/>
                </a:lnTo>
                <a:lnTo>
                  <a:pt x="42" y="1203"/>
                </a:lnTo>
                <a:lnTo>
                  <a:pt x="57" y="1248"/>
                </a:lnTo>
                <a:lnTo>
                  <a:pt x="74" y="1294"/>
                </a:lnTo>
                <a:lnTo>
                  <a:pt x="94" y="1338"/>
                </a:lnTo>
                <a:lnTo>
                  <a:pt x="116" y="1382"/>
                </a:lnTo>
                <a:lnTo>
                  <a:pt x="140" y="1425"/>
                </a:lnTo>
                <a:lnTo>
                  <a:pt x="165" y="1466"/>
                </a:lnTo>
                <a:lnTo>
                  <a:pt x="194" y="1506"/>
                </a:lnTo>
                <a:lnTo>
                  <a:pt x="222" y="1543"/>
                </a:lnTo>
                <a:lnTo>
                  <a:pt x="254" y="1578"/>
                </a:lnTo>
                <a:lnTo>
                  <a:pt x="286" y="1613"/>
                </a:lnTo>
                <a:lnTo>
                  <a:pt x="319" y="1645"/>
                </a:lnTo>
                <a:lnTo>
                  <a:pt x="355" y="1677"/>
                </a:lnTo>
                <a:lnTo>
                  <a:pt x="390" y="1705"/>
                </a:lnTo>
                <a:lnTo>
                  <a:pt x="427" y="1732"/>
                </a:lnTo>
                <a:lnTo>
                  <a:pt x="466" y="1756"/>
                </a:lnTo>
                <a:lnTo>
                  <a:pt x="506" y="1779"/>
                </a:lnTo>
                <a:lnTo>
                  <a:pt x="546" y="1800"/>
                </a:lnTo>
                <a:lnTo>
                  <a:pt x="587" y="1819"/>
                </a:lnTo>
                <a:lnTo>
                  <a:pt x="630" y="1836"/>
                </a:lnTo>
                <a:lnTo>
                  <a:pt x="672" y="1852"/>
                </a:lnTo>
                <a:lnTo>
                  <a:pt x="715" y="1864"/>
                </a:lnTo>
                <a:lnTo>
                  <a:pt x="759" y="1874"/>
                </a:lnTo>
                <a:lnTo>
                  <a:pt x="803" y="1883"/>
                </a:lnTo>
                <a:lnTo>
                  <a:pt x="848" y="1890"/>
                </a:lnTo>
                <a:lnTo>
                  <a:pt x="893" y="1894"/>
                </a:lnTo>
                <a:lnTo>
                  <a:pt x="937" y="1897"/>
                </a:lnTo>
                <a:lnTo>
                  <a:pt x="983" y="1897"/>
                </a:lnTo>
                <a:lnTo>
                  <a:pt x="1027" y="1894"/>
                </a:lnTo>
                <a:lnTo>
                  <a:pt x="1073" y="1890"/>
                </a:lnTo>
                <a:lnTo>
                  <a:pt x="1118" y="1883"/>
                </a:lnTo>
                <a:lnTo>
                  <a:pt x="1162" y="1873"/>
                </a:lnTo>
                <a:lnTo>
                  <a:pt x="1206" y="1862"/>
                </a:lnTo>
                <a:lnTo>
                  <a:pt x="1251" y="1849"/>
                </a:lnTo>
                <a:lnTo>
                  <a:pt x="1295" y="1832"/>
                </a:lnTo>
                <a:lnTo>
                  <a:pt x="1337" y="1813"/>
                </a:lnTo>
                <a:lnTo>
                  <a:pt x="1380" y="1792"/>
                </a:lnTo>
                <a:lnTo>
                  <a:pt x="1421" y="1769"/>
                </a:lnTo>
                <a:lnTo>
                  <a:pt x="1461" y="1743"/>
                </a:lnTo>
                <a:lnTo>
                  <a:pt x="1500" y="1716"/>
                </a:lnTo>
                <a:lnTo>
                  <a:pt x="1535" y="1688"/>
                </a:lnTo>
                <a:lnTo>
                  <a:pt x="1569" y="1657"/>
                </a:lnTo>
                <a:lnTo>
                  <a:pt x="1602" y="1625"/>
                </a:lnTo>
                <a:lnTo>
                  <a:pt x="1634" y="1591"/>
                </a:lnTo>
                <a:lnTo>
                  <a:pt x="1662" y="1557"/>
                </a:lnTo>
                <a:lnTo>
                  <a:pt x="1689" y="1521"/>
                </a:lnTo>
                <a:lnTo>
                  <a:pt x="1713" y="1483"/>
                </a:lnTo>
                <a:lnTo>
                  <a:pt x="1738" y="1445"/>
                </a:lnTo>
                <a:lnTo>
                  <a:pt x="1759" y="1406"/>
                </a:lnTo>
                <a:lnTo>
                  <a:pt x="1777" y="1365"/>
                </a:lnTo>
                <a:lnTo>
                  <a:pt x="1796" y="1324"/>
                </a:lnTo>
                <a:lnTo>
                  <a:pt x="1810" y="1281"/>
                </a:lnTo>
                <a:lnTo>
                  <a:pt x="1824" y="1238"/>
                </a:lnTo>
                <a:lnTo>
                  <a:pt x="1836" y="1194"/>
                </a:lnTo>
                <a:lnTo>
                  <a:pt x="1844" y="1150"/>
                </a:lnTo>
                <a:lnTo>
                  <a:pt x="1851" y="1106"/>
                </a:lnTo>
                <a:lnTo>
                  <a:pt x="1857" y="1060"/>
                </a:lnTo>
                <a:lnTo>
                  <a:pt x="1860" y="1015"/>
                </a:lnTo>
                <a:lnTo>
                  <a:pt x="1860" y="969"/>
                </a:lnTo>
                <a:lnTo>
                  <a:pt x="1859" y="922"/>
                </a:lnTo>
                <a:lnTo>
                  <a:pt x="1856" y="877"/>
                </a:lnTo>
                <a:lnTo>
                  <a:pt x="1850" y="831"/>
                </a:lnTo>
                <a:lnTo>
                  <a:pt x="1841" y="784"/>
                </a:lnTo>
                <a:lnTo>
                  <a:pt x="1832" y="738"/>
                </a:lnTo>
                <a:lnTo>
                  <a:pt x="1819" y="693"/>
                </a:lnTo>
                <a:lnTo>
                  <a:pt x="1803" y="647"/>
                </a:lnTo>
                <a:lnTo>
                  <a:pt x="1786" y="602"/>
                </a:lnTo>
                <a:lnTo>
                  <a:pt x="1767" y="558"/>
                </a:lnTo>
                <a:lnTo>
                  <a:pt x="1745" y="514"/>
                </a:lnTo>
                <a:lnTo>
                  <a:pt x="1720" y="471"/>
                </a:lnTo>
                <a:lnTo>
                  <a:pt x="1695" y="430"/>
                </a:lnTo>
                <a:lnTo>
                  <a:pt x="1666" y="390"/>
                </a:lnTo>
                <a:lnTo>
                  <a:pt x="1638" y="353"/>
                </a:lnTo>
                <a:lnTo>
                  <a:pt x="1607" y="317"/>
                </a:lnTo>
                <a:lnTo>
                  <a:pt x="1575" y="283"/>
                </a:lnTo>
                <a:lnTo>
                  <a:pt x="1541" y="250"/>
                </a:lnTo>
                <a:lnTo>
                  <a:pt x="1505" y="219"/>
                </a:lnTo>
                <a:lnTo>
                  <a:pt x="1470" y="190"/>
                </a:lnTo>
                <a:lnTo>
                  <a:pt x="1433" y="163"/>
                </a:lnTo>
                <a:lnTo>
                  <a:pt x="1394" y="139"/>
                </a:lnTo>
                <a:lnTo>
                  <a:pt x="1354" y="116"/>
                </a:lnTo>
                <a:lnTo>
                  <a:pt x="1315" y="95"/>
                </a:lnTo>
                <a:lnTo>
                  <a:pt x="1273" y="77"/>
                </a:lnTo>
                <a:lnTo>
                  <a:pt x="1231" y="59"/>
                </a:lnTo>
                <a:lnTo>
                  <a:pt x="1188" y="44"/>
                </a:lnTo>
                <a:lnTo>
                  <a:pt x="1145" y="31"/>
                </a:lnTo>
                <a:lnTo>
                  <a:pt x="1101" y="21"/>
                </a:lnTo>
                <a:lnTo>
                  <a:pt x="1057" y="12"/>
                </a:lnTo>
                <a:lnTo>
                  <a:pt x="1013" y="5"/>
                </a:lnTo>
                <a:lnTo>
                  <a:pt x="969" y="1"/>
                </a:lnTo>
                <a:lnTo>
                  <a:pt x="923" y="0"/>
                </a:lnTo>
                <a:lnTo>
                  <a:pt x="877" y="0"/>
                </a:lnTo>
                <a:lnTo>
                  <a:pt x="833" y="1"/>
                </a:lnTo>
                <a:lnTo>
                  <a:pt x="788" y="5"/>
                </a:lnTo>
                <a:lnTo>
                  <a:pt x="742" y="12"/>
                </a:lnTo>
                <a:lnTo>
                  <a:pt x="698" y="22"/>
                </a:lnTo>
                <a:lnTo>
                  <a:pt x="654" y="34"/>
                </a:lnTo>
                <a:lnTo>
                  <a:pt x="610" y="48"/>
                </a:lnTo>
                <a:lnTo>
                  <a:pt x="566" y="64"/>
                </a:lnTo>
                <a:lnTo>
                  <a:pt x="523" y="82"/>
                </a:lnTo>
                <a:lnTo>
                  <a:pt x="480" y="104"/>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962760" y="3527280"/>
            <a:ext cx="1384200" cy="13892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7365960" y="3598920"/>
            <a:ext cx="326880" cy="201240"/>
            <a:chOff x="7365960" y="3598920"/>
            <a:chExt cx="326880" cy="201240"/>
          </a:xfrm>
        </p:grpSpPr>
        <p:sp>
          <p:nvSpPr>
            <p:cNvPr id="113" name=""/>
            <p:cNvSpPr/>
            <p:nvPr/>
          </p:nvSpPr>
          <p:spPr>
            <a:xfrm>
              <a:off x="7365960" y="3598920"/>
              <a:ext cx="3268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365960" y="3598920"/>
              <a:ext cx="326880" cy="198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365960" y="3598920"/>
              <a:ext cx="326880" cy="20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65960" y="3598920"/>
              <a:ext cx="3268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7365600" y="36082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5</a:t>
            </a:r>
            <a:endParaRPr b="0" lang="en-US" sz="900" spc="-1" strike="noStrike">
              <a:solidFill>
                <a:srgbClr val="000000"/>
              </a:solidFill>
              <a:latin typeface="Times New Roman"/>
            </a:endParaRPr>
          </a:p>
        </p:txBody>
      </p:sp>
      <p:grpSp>
        <p:nvGrpSpPr>
          <p:cNvPr id="118" name=""/>
          <p:cNvGrpSpPr/>
          <p:nvPr/>
        </p:nvGrpSpPr>
        <p:grpSpPr>
          <a:xfrm>
            <a:off x="6496200" y="2905200"/>
            <a:ext cx="329760" cy="201240"/>
            <a:chOff x="6496200" y="2905200"/>
            <a:chExt cx="329760" cy="201240"/>
          </a:xfrm>
        </p:grpSpPr>
        <p:sp>
          <p:nvSpPr>
            <p:cNvPr id="119" name=""/>
            <p:cNvSpPr/>
            <p:nvPr/>
          </p:nvSpPr>
          <p:spPr>
            <a:xfrm>
              <a:off x="6496200" y="2905200"/>
              <a:ext cx="32760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96200" y="2905200"/>
              <a:ext cx="327600" cy="199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96200" y="2905200"/>
              <a:ext cx="329760" cy="201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96200" y="2905200"/>
              <a:ext cx="32760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6495840" y="29145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4</a:t>
            </a:r>
            <a:endParaRPr b="0" lang="en-US" sz="900" spc="-1" strike="noStrike">
              <a:solidFill>
                <a:srgbClr val="000000"/>
              </a:solidFill>
              <a:latin typeface="Times New Roman"/>
            </a:endParaRPr>
          </a:p>
        </p:txBody>
      </p:sp>
      <p:grpSp>
        <p:nvGrpSpPr>
          <p:cNvPr id="124" name=""/>
          <p:cNvGrpSpPr/>
          <p:nvPr/>
        </p:nvGrpSpPr>
        <p:grpSpPr>
          <a:xfrm>
            <a:off x="6620040" y="4956120"/>
            <a:ext cx="327960" cy="201240"/>
            <a:chOff x="6620040" y="4956120"/>
            <a:chExt cx="327960" cy="201240"/>
          </a:xfrm>
        </p:grpSpPr>
        <p:sp>
          <p:nvSpPr>
            <p:cNvPr id="125" name=""/>
            <p:cNvSpPr/>
            <p:nvPr/>
          </p:nvSpPr>
          <p:spPr>
            <a:xfrm>
              <a:off x="6620040" y="4956120"/>
              <a:ext cx="32796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620040" y="4956120"/>
              <a:ext cx="327960" cy="199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20040" y="4956120"/>
              <a:ext cx="327960" cy="20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620040" y="4956120"/>
              <a:ext cx="327960" cy="19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6618960" y="49561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6</a:t>
            </a:r>
            <a:endParaRPr b="0" lang="en-US" sz="900" spc="-1" strike="noStrike">
              <a:solidFill>
                <a:srgbClr val="000000"/>
              </a:solidFill>
              <a:latin typeface="Times New Roman"/>
            </a:endParaRPr>
          </a:p>
        </p:txBody>
      </p:sp>
      <p:sp>
        <p:nvSpPr>
          <p:cNvPr id="130" name=""/>
          <p:cNvSpPr/>
          <p:nvPr/>
        </p:nvSpPr>
        <p:spPr>
          <a:xfrm>
            <a:off x="3738600" y="2089080"/>
            <a:ext cx="9921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22880" y="2193840"/>
            <a:ext cx="99216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19720" y="225432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2</a:t>
            </a:r>
            <a:endParaRPr b="0" lang="en-US" sz="1200" spc="-1" strike="noStrike">
              <a:solidFill>
                <a:srgbClr val="000000"/>
              </a:solidFill>
              <a:latin typeface="Times New Roman"/>
            </a:endParaRPr>
          </a:p>
        </p:txBody>
      </p:sp>
      <p:sp>
        <p:nvSpPr>
          <p:cNvPr id="133" name=""/>
          <p:cNvSpPr/>
          <p:nvPr/>
        </p:nvSpPr>
        <p:spPr>
          <a:xfrm>
            <a:off x="6953400" y="1533600"/>
            <a:ext cx="9921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694640" y="243828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4</a:t>
            </a:r>
            <a:endParaRPr b="0" lang="en-US" sz="1200" spc="-1" strike="noStrike">
              <a:solidFill>
                <a:srgbClr val="000000"/>
              </a:solidFill>
              <a:latin typeface="Times New Roman"/>
            </a:endParaRPr>
          </a:p>
        </p:txBody>
      </p:sp>
      <p:sp>
        <p:nvSpPr>
          <p:cNvPr id="135" name=""/>
          <p:cNvSpPr/>
          <p:nvPr/>
        </p:nvSpPr>
        <p:spPr>
          <a:xfrm>
            <a:off x="5472000" y="4427640"/>
            <a:ext cx="9907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69200" y="448452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3</a:t>
            </a:r>
            <a:endParaRPr b="0" lang="en-US" sz="1200" spc="-1" strike="noStrike">
              <a:solidFill>
                <a:srgbClr val="000000"/>
              </a:solidFill>
              <a:latin typeface="Times New Roman"/>
            </a:endParaRPr>
          </a:p>
        </p:txBody>
      </p:sp>
      <p:sp>
        <p:nvSpPr>
          <p:cNvPr id="137" name=""/>
          <p:cNvSpPr/>
          <p:nvPr/>
        </p:nvSpPr>
        <p:spPr>
          <a:xfrm>
            <a:off x="7199280" y="4591080"/>
            <a:ext cx="99216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161480" y="457200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5</a:t>
            </a:r>
            <a:endParaRPr b="0" lang="en-US" sz="1200" spc="-1" strike="noStrike">
              <a:solidFill>
                <a:srgbClr val="000000"/>
              </a:solidFill>
              <a:latin typeface="Times New Roman"/>
            </a:endParaRPr>
          </a:p>
        </p:txBody>
      </p:sp>
      <p:sp>
        <p:nvSpPr>
          <p:cNvPr id="139" name=""/>
          <p:cNvSpPr/>
          <p:nvPr/>
        </p:nvSpPr>
        <p:spPr>
          <a:xfrm>
            <a:off x="6791400" y="5170320"/>
            <a:ext cx="98892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6560" y="530388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6</a:t>
            </a:r>
            <a:endParaRPr b="0" lang="en-US" sz="1200" spc="-1" strike="noStrike">
              <a:solidFill>
                <a:srgbClr val="000000"/>
              </a:solidFill>
              <a:latin typeface="Times New Roman"/>
            </a:endParaRPr>
          </a:p>
        </p:txBody>
      </p:sp>
      <p:grpSp>
        <p:nvGrpSpPr>
          <p:cNvPr id="141" name=""/>
          <p:cNvGrpSpPr/>
          <p:nvPr/>
        </p:nvGrpSpPr>
        <p:grpSpPr>
          <a:xfrm>
            <a:off x="4648320" y="2427120"/>
            <a:ext cx="67680" cy="150480"/>
            <a:chOff x="4648320" y="2427120"/>
            <a:chExt cx="67680" cy="150480"/>
          </a:xfrm>
        </p:grpSpPr>
        <p:sp>
          <p:nvSpPr>
            <p:cNvPr id="142" name=""/>
            <p:cNvSpPr/>
            <p:nvPr/>
          </p:nvSpPr>
          <p:spPr>
            <a:xfrm>
              <a:off x="4648320" y="2427120"/>
              <a:ext cx="651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48320" y="2427120"/>
              <a:ext cx="651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48320" y="2427120"/>
              <a:ext cx="67680" cy="1504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48320" y="2427120"/>
              <a:ext cx="651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5059440" y="2938320"/>
            <a:ext cx="69480" cy="150480"/>
            <a:chOff x="5059440" y="2938320"/>
            <a:chExt cx="69480" cy="150480"/>
          </a:xfrm>
        </p:grpSpPr>
        <p:sp>
          <p:nvSpPr>
            <p:cNvPr id="147" name=""/>
            <p:cNvSpPr/>
            <p:nvPr/>
          </p:nvSpPr>
          <p:spPr>
            <a:xfrm>
              <a:off x="5059440" y="293832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59440" y="2938320"/>
              <a:ext cx="6660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59440" y="2938320"/>
              <a:ext cx="69480" cy="150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059440" y="293832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5222520" y="3859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152" name=""/>
          <p:cNvGrpSpPr/>
          <p:nvPr/>
        </p:nvGrpSpPr>
        <p:grpSpPr>
          <a:xfrm>
            <a:off x="5472000" y="2525760"/>
            <a:ext cx="68040" cy="148680"/>
            <a:chOff x="5472000" y="2525760"/>
            <a:chExt cx="68040" cy="148680"/>
          </a:xfrm>
        </p:grpSpPr>
        <p:sp>
          <p:nvSpPr>
            <p:cNvPr id="153" name=""/>
            <p:cNvSpPr/>
            <p:nvPr/>
          </p:nvSpPr>
          <p:spPr>
            <a:xfrm>
              <a:off x="5472000" y="2525760"/>
              <a:ext cx="6588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472000" y="2525760"/>
              <a:ext cx="65880" cy="1465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472000" y="2525760"/>
              <a:ext cx="68040" cy="148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472000" y="2525760"/>
              <a:ext cx="6588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5471640" y="2533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158" name=""/>
          <p:cNvGrpSpPr/>
          <p:nvPr/>
        </p:nvGrpSpPr>
        <p:grpSpPr>
          <a:xfrm>
            <a:off x="5799240" y="3352680"/>
            <a:ext cx="70920" cy="150480"/>
            <a:chOff x="5799240" y="3352680"/>
            <a:chExt cx="70920" cy="150480"/>
          </a:xfrm>
        </p:grpSpPr>
        <p:sp>
          <p:nvSpPr>
            <p:cNvPr id="159" name=""/>
            <p:cNvSpPr/>
            <p:nvPr/>
          </p:nvSpPr>
          <p:spPr>
            <a:xfrm>
              <a:off x="5799240" y="3352680"/>
              <a:ext cx="687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99240" y="3352680"/>
              <a:ext cx="687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99240" y="3352680"/>
              <a:ext cx="70920" cy="150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799240" y="3352680"/>
              <a:ext cx="687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5798880" y="3362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164" name=""/>
          <p:cNvGrpSpPr/>
          <p:nvPr/>
        </p:nvGrpSpPr>
        <p:grpSpPr>
          <a:xfrm>
            <a:off x="6046920" y="4013280"/>
            <a:ext cx="70920" cy="150480"/>
            <a:chOff x="6046920" y="4013280"/>
            <a:chExt cx="70920" cy="150480"/>
          </a:xfrm>
        </p:grpSpPr>
        <p:sp>
          <p:nvSpPr>
            <p:cNvPr id="165" name=""/>
            <p:cNvSpPr/>
            <p:nvPr/>
          </p:nvSpPr>
          <p:spPr>
            <a:xfrm>
              <a:off x="604692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6920" y="4013280"/>
              <a:ext cx="6804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046920" y="4013280"/>
              <a:ext cx="70920" cy="150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4692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604656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170" name=""/>
          <p:cNvGrpSpPr/>
          <p:nvPr/>
        </p:nvGrpSpPr>
        <p:grpSpPr>
          <a:xfrm>
            <a:off x="6378480" y="3767040"/>
            <a:ext cx="69480" cy="145800"/>
            <a:chOff x="6378480" y="3767040"/>
            <a:chExt cx="69480" cy="145800"/>
          </a:xfrm>
        </p:grpSpPr>
        <p:sp>
          <p:nvSpPr>
            <p:cNvPr id="171" name=""/>
            <p:cNvSpPr/>
            <p:nvPr/>
          </p:nvSpPr>
          <p:spPr>
            <a:xfrm>
              <a:off x="6378480" y="3767040"/>
              <a:ext cx="6732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378480" y="3767040"/>
              <a:ext cx="67320" cy="145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78480" y="3767040"/>
              <a:ext cx="69480" cy="145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378480" y="3767040"/>
              <a:ext cx="6732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6378120" y="37735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grpSp>
        <p:nvGrpSpPr>
          <p:cNvPr id="176" name=""/>
          <p:cNvGrpSpPr/>
          <p:nvPr/>
        </p:nvGrpSpPr>
        <p:grpSpPr>
          <a:xfrm>
            <a:off x="6473880" y="2608200"/>
            <a:ext cx="69480" cy="149040"/>
            <a:chOff x="6473880" y="2608200"/>
            <a:chExt cx="69480" cy="149040"/>
          </a:xfrm>
        </p:grpSpPr>
        <p:sp>
          <p:nvSpPr>
            <p:cNvPr id="177" name=""/>
            <p:cNvSpPr/>
            <p:nvPr/>
          </p:nvSpPr>
          <p:spPr>
            <a:xfrm>
              <a:off x="6473880" y="2608200"/>
              <a:ext cx="673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473880" y="2608200"/>
              <a:ext cx="67320" cy="146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473880" y="2608200"/>
              <a:ext cx="69480" cy="1490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3880" y="2608200"/>
              <a:ext cx="673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6473520" y="26179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82" name=""/>
          <p:cNvSpPr/>
          <p:nvPr/>
        </p:nvSpPr>
        <p:spPr>
          <a:xfrm>
            <a:off x="8190000" y="2774880"/>
            <a:ext cx="318960" cy="2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289720" y="2833560"/>
            <a:ext cx="8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t>
            </a:r>
            <a:endParaRPr b="0" lang="en-US" sz="900" spc="-1" strike="noStrike">
              <a:solidFill>
                <a:srgbClr val="000000"/>
              </a:solidFill>
              <a:latin typeface="Times New Roman"/>
            </a:endParaRPr>
          </a:p>
        </p:txBody>
      </p:sp>
      <p:grpSp>
        <p:nvGrpSpPr>
          <p:cNvPr id="184" name=""/>
          <p:cNvGrpSpPr/>
          <p:nvPr/>
        </p:nvGrpSpPr>
        <p:grpSpPr>
          <a:xfrm>
            <a:off x="609480" y="2030400"/>
            <a:ext cx="4946760" cy="2976480"/>
            <a:chOff x="609480" y="2030400"/>
            <a:chExt cx="4946760" cy="2976480"/>
          </a:xfrm>
        </p:grpSpPr>
        <p:sp>
          <p:nvSpPr>
            <p:cNvPr id="185" name=""/>
            <p:cNvSpPr/>
            <p:nvPr/>
          </p:nvSpPr>
          <p:spPr>
            <a:xfrm>
              <a:off x="2916360" y="2030400"/>
              <a:ext cx="2639880" cy="27273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09480" y="2278080"/>
              <a:ext cx="2721240" cy="272880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940040" y="4591080"/>
              <a:ext cx="83880" cy="84240"/>
            </a:xfrm>
            <a:prstGeom prst="ellipse">
              <a:avLst/>
            </a:prstGeom>
            <a:solidFill>
              <a:srgbClr val="ff0000"/>
            </a:solidFill>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776160" y="3849840"/>
              <a:ext cx="84240" cy="83880"/>
            </a:xfrm>
            <a:prstGeom prst="ellipse">
              <a:avLst/>
            </a:prstGeom>
            <a:solidFill>
              <a:srgbClr val="ff0000"/>
            </a:solidFill>
            <a:ln w="64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9" name=""/>
            <p:cNvSpPr/>
            <p:nvPr/>
          </p:nvSpPr>
          <p:spPr>
            <a:xfrm>
              <a:off x="1928880" y="3598920"/>
              <a:ext cx="84240" cy="85680"/>
            </a:xfrm>
            <a:prstGeom prst="ellipse">
              <a:avLst/>
            </a:prstGeom>
            <a:solidFill>
              <a:srgbClr val="ffff00"/>
            </a:solidFill>
            <a:ln w="6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190" name=""/>
            <p:cNvGrpSpPr/>
            <p:nvPr/>
          </p:nvGrpSpPr>
          <p:grpSpPr>
            <a:xfrm>
              <a:off x="1681200" y="3516480"/>
              <a:ext cx="239400" cy="201240"/>
              <a:chOff x="1681200" y="3516480"/>
              <a:chExt cx="239400" cy="201240"/>
            </a:xfrm>
          </p:grpSpPr>
          <p:sp>
            <p:nvSpPr>
              <p:cNvPr id="191" name=""/>
              <p:cNvSpPr/>
              <p:nvPr/>
            </p:nvSpPr>
            <p:spPr>
              <a:xfrm>
                <a:off x="1681200" y="3516480"/>
                <a:ext cx="23652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81200" y="3516480"/>
                <a:ext cx="236520" cy="198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681200" y="3516480"/>
                <a:ext cx="239400" cy="2012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81200" y="3516480"/>
                <a:ext cx="23652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680480" y="352728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t>
              </a:r>
              <a:endParaRPr b="0" lang="en-US" sz="1200" spc="-1" strike="noStrike">
                <a:solidFill>
                  <a:srgbClr val="000000"/>
                </a:solidFill>
                <a:latin typeface="Times New Roman"/>
              </a:endParaRPr>
            </a:p>
          </p:txBody>
        </p:sp>
        <p:sp>
          <p:nvSpPr>
            <p:cNvPr id="196" name=""/>
            <p:cNvSpPr/>
            <p:nvPr/>
          </p:nvSpPr>
          <p:spPr>
            <a:xfrm>
              <a:off x="1357200" y="3935520"/>
              <a:ext cx="7488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7" name=""/>
            <p:cNvSpPr/>
            <p:nvPr/>
          </p:nvSpPr>
          <p:spPr>
            <a:xfrm>
              <a:off x="2014560" y="401940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 name=""/>
            <p:cNvSpPr/>
            <p:nvPr/>
          </p:nvSpPr>
          <p:spPr>
            <a:xfrm>
              <a:off x="2676600" y="3852720"/>
              <a:ext cx="73080" cy="76320"/>
            </a:xfrm>
            <a:prstGeom prst="ellipse">
              <a:avLst/>
            </a:prstGeom>
            <a:solidFill>
              <a:srgbClr val="ff0000"/>
            </a:solidFill>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 name=""/>
            <p:cNvSpPr/>
            <p:nvPr/>
          </p:nvSpPr>
          <p:spPr>
            <a:xfrm>
              <a:off x="2676600" y="3522600"/>
              <a:ext cx="730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0" name=""/>
            <p:cNvSpPr/>
            <p:nvPr/>
          </p:nvSpPr>
          <p:spPr>
            <a:xfrm>
              <a:off x="2427120" y="302580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2593800" y="4430880"/>
              <a:ext cx="7164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2" name=""/>
            <p:cNvSpPr/>
            <p:nvPr/>
          </p:nvSpPr>
          <p:spPr>
            <a:xfrm>
              <a:off x="1932120" y="2944800"/>
              <a:ext cx="745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2097000" y="2612880"/>
              <a:ext cx="748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 name=""/>
            <p:cNvSpPr/>
            <p:nvPr/>
          </p:nvSpPr>
          <p:spPr>
            <a:xfrm>
              <a:off x="1357200" y="2944800"/>
              <a:ext cx="7488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 name=""/>
            <p:cNvSpPr/>
            <p:nvPr/>
          </p:nvSpPr>
          <p:spPr>
            <a:xfrm>
              <a:off x="1108080" y="3274920"/>
              <a:ext cx="74520" cy="7164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flipH="1">
              <a:off x="1418760" y="3668760"/>
              <a:ext cx="520920" cy="27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flipV="1">
              <a:off x="858600" y="3887640"/>
              <a:ext cx="49212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 name=""/>
            <p:cNvSpPr/>
            <p:nvPr/>
          </p:nvSpPr>
          <p:spPr>
            <a:xfrm>
              <a:off x="1969920" y="3681360"/>
              <a:ext cx="81000" cy="331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1981080" y="4092480"/>
              <a:ext cx="69840" cy="49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79720" y="4083120"/>
              <a:ext cx="517320" cy="355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969920" y="3019320"/>
              <a:ext cx="1800" cy="57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flipV="1">
              <a:off x="1418760" y="3006360"/>
              <a:ext cx="520920" cy="606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1172880" y="3006720"/>
              <a:ext cx="191880" cy="276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998720" y="2677680"/>
              <a:ext cx="106200" cy="27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11320" y="2978280"/>
              <a:ext cx="409680" cy="810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 name=""/>
            <p:cNvSpPr/>
            <p:nvPr/>
          </p:nvSpPr>
          <p:spPr>
            <a:xfrm flipV="1">
              <a:off x="2011320" y="3555720"/>
              <a:ext cx="658800" cy="83880"/>
            </a:xfrm>
            <a:prstGeom prst="line">
              <a:avLst/>
            </a:prstGeom>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flipV="1">
              <a:off x="2738520" y="3222360"/>
              <a:ext cx="368280" cy="30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11520" y="3598920"/>
              <a:ext cx="144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86280" y="4019400"/>
              <a:ext cx="727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 name=""/>
            <p:cNvSpPr/>
            <p:nvPr/>
          </p:nvSpPr>
          <p:spPr>
            <a:xfrm>
              <a:off x="861840" y="2944800"/>
              <a:ext cx="7632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1" name=""/>
            <p:cNvSpPr/>
            <p:nvPr/>
          </p:nvSpPr>
          <p:spPr>
            <a:xfrm>
              <a:off x="2676600" y="2612880"/>
              <a:ext cx="730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 name=""/>
            <p:cNvSpPr/>
            <p:nvPr/>
          </p:nvSpPr>
          <p:spPr>
            <a:xfrm flipH="1">
              <a:off x="939960" y="2978280"/>
              <a:ext cx="411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flipV="1">
              <a:off x="1998720" y="2677680"/>
              <a:ext cx="682560" cy="27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38520" y="3587760"/>
              <a:ext cx="355680" cy="436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1351080" y="4013280"/>
              <a:ext cx="70920" cy="150480"/>
              <a:chOff x="1351080" y="4013280"/>
              <a:chExt cx="70920" cy="150480"/>
            </a:xfrm>
          </p:grpSpPr>
          <p:sp>
            <p:nvSpPr>
              <p:cNvPr id="226" name=""/>
              <p:cNvSpPr/>
              <p:nvPr/>
            </p:nvSpPr>
            <p:spPr>
              <a:xfrm>
                <a:off x="135108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351080" y="4013280"/>
                <a:ext cx="6804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1080" y="4013280"/>
                <a:ext cx="70920" cy="150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51080" y="401328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135072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231" name=""/>
            <p:cNvGrpSpPr/>
            <p:nvPr/>
          </p:nvGrpSpPr>
          <p:grpSpPr>
            <a:xfrm>
              <a:off x="2023920" y="3646440"/>
              <a:ext cx="71280" cy="149040"/>
              <a:chOff x="2023920" y="3646440"/>
              <a:chExt cx="71280" cy="149040"/>
            </a:xfrm>
          </p:grpSpPr>
          <p:sp>
            <p:nvSpPr>
              <p:cNvPr id="232" name=""/>
              <p:cNvSpPr/>
              <p:nvPr/>
            </p:nvSpPr>
            <p:spPr>
              <a:xfrm>
                <a:off x="2023920" y="3646440"/>
                <a:ext cx="69120" cy="14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023920" y="3646440"/>
                <a:ext cx="69120" cy="1461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023920" y="3646440"/>
                <a:ext cx="71280" cy="1490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23920" y="3646440"/>
                <a:ext cx="69120" cy="14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2023560" y="3656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grpSp>
          <p:nvGrpSpPr>
            <p:cNvPr id="237" name=""/>
            <p:cNvGrpSpPr/>
            <p:nvPr/>
          </p:nvGrpSpPr>
          <p:grpSpPr>
            <a:xfrm>
              <a:off x="858960" y="3930480"/>
              <a:ext cx="69480" cy="150480"/>
              <a:chOff x="858960" y="3930480"/>
              <a:chExt cx="69480" cy="150480"/>
            </a:xfrm>
          </p:grpSpPr>
          <p:sp>
            <p:nvSpPr>
              <p:cNvPr id="238" name=""/>
              <p:cNvSpPr/>
              <p:nvPr/>
            </p:nvSpPr>
            <p:spPr>
              <a:xfrm>
                <a:off x="858960" y="39304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58960" y="3930480"/>
                <a:ext cx="6660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58960" y="3930480"/>
                <a:ext cx="69480" cy="1504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58960" y="39304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859320" y="3940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243" name=""/>
            <p:cNvGrpSpPr/>
            <p:nvPr/>
          </p:nvGrpSpPr>
          <p:grpSpPr>
            <a:xfrm>
              <a:off x="1928880" y="4013280"/>
              <a:ext cx="69480" cy="150480"/>
              <a:chOff x="1928880" y="4013280"/>
              <a:chExt cx="69480" cy="150480"/>
            </a:xfrm>
          </p:grpSpPr>
          <p:sp>
            <p:nvSpPr>
              <p:cNvPr id="244" name=""/>
              <p:cNvSpPr/>
              <p:nvPr/>
            </p:nvSpPr>
            <p:spPr>
              <a:xfrm>
                <a:off x="1928880" y="40132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28880" y="4013280"/>
                <a:ext cx="694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28880" y="4013280"/>
                <a:ext cx="69480" cy="150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28880" y="40132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192852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249" name=""/>
            <p:cNvGrpSpPr/>
            <p:nvPr/>
          </p:nvGrpSpPr>
          <p:grpSpPr>
            <a:xfrm>
              <a:off x="2011320" y="3021120"/>
              <a:ext cx="68040" cy="150480"/>
              <a:chOff x="2011320" y="3021120"/>
              <a:chExt cx="68040" cy="150480"/>
            </a:xfrm>
          </p:grpSpPr>
          <p:sp>
            <p:nvSpPr>
              <p:cNvPr id="250" name=""/>
              <p:cNvSpPr/>
              <p:nvPr/>
            </p:nvSpPr>
            <p:spPr>
              <a:xfrm>
                <a:off x="2011320" y="302112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11320" y="3021120"/>
                <a:ext cx="6804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11320" y="3021120"/>
                <a:ext cx="68040" cy="1504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011320" y="3021120"/>
                <a:ext cx="6804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011680" y="3030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255" name=""/>
            <p:cNvGrpSpPr/>
            <p:nvPr/>
          </p:nvGrpSpPr>
          <p:grpSpPr>
            <a:xfrm>
              <a:off x="2587680" y="3352680"/>
              <a:ext cx="69480" cy="150480"/>
              <a:chOff x="2587680" y="3352680"/>
              <a:chExt cx="69480" cy="150480"/>
            </a:xfrm>
          </p:grpSpPr>
          <p:sp>
            <p:nvSpPr>
              <p:cNvPr id="256" name=""/>
              <p:cNvSpPr/>
              <p:nvPr/>
            </p:nvSpPr>
            <p:spPr>
              <a:xfrm>
                <a:off x="2587680" y="33526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87680" y="3352680"/>
                <a:ext cx="6660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87680" y="3352680"/>
                <a:ext cx="69480" cy="150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87680" y="3352680"/>
                <a:ext cx="6660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2588040" y="3362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grpSp>
          <p:nvGrpSpPr>
            <p:cNvPr id="261" name=""/>
            <p:cNvGrpSpPr/>
            <p:nvPr/>
          </p:nvGrpSpPr>
          <p:grpSpPr>
            <a:xfrm>
              <a:off x="2587680" y="3767040"/>
              <a:ext cx="69480" cy="145800"/>
              <a:chOff x="2587680" y="3767040"/>
              <a:chExt cx="69480" cy="145800"/>
            </a:xfrm>
          </p:grpSpPr>
          <p:sp>
            <p:nvSpPr>
              <p:cNvPr id="262" name=""/>
              <p:cNvSpPr/>
              <p:nvPr/>
            </p:nvSpPr>
            <p:spPr>
              <a:xfrm>
                <a:off x="2587680" y="3767040"/>
                <a:ext cx="6660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587680" y="3767040"/>
                <a:ext cx="66600" cy="145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587680" y="3767040"/>
                <a:ext cx="69480" cy="145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587680" y="3767040"/>
                <a:ext cx="6660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588040" y="37735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267" name=""/>
            <p:cNvGrpSpPr/>
            <p:nvPr/>
          </p:nvGrpSpPr>
          <p:grpSpPr>
            <a:xfrm>
              <a:off x="1189080" y="3270240"/>
              <a:ext cx="68040" cy="147240"/>
              <a:chOff x="1189080" y="3270240"/>
              <a:chExt cx="68040" cy="147240"/>
            </a:xfrm>
          </p:grpSpPr>
          <p:sp>
            <p:nvSpPr>
              <p:cNvPr id="268" name=""/>
              <p:cNvSpPr/>
              <p:nvPr/>
            </p:nvSpPr>
            <p:spPr>
              <a:xfrm>
                <a:off x="1189080" y="3270240"/>
                <a:ext cx="6552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89080" y="3270240"/>
                <a:ext cx="65520" cy="147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189080" y="3270240"/>
                <a:ext cx="68040" cy="1472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89080" y="3270240"/>
                <a:ext cx="6552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189440" y="3278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273" name=""/>
            <p:cNvGrpSpPr/>
            <p:nvPr/>
          </p:nvGrpSpPr>
          <p:grpSpPr>
            <a:xfrm>
              <a:off x="884160" y="2774880"/>
              <a:ext cx="139320" cy="147240"/>
              <a:chOff x="884160" y="2774880"/>
              <a:chExt cx="139320" cy="147240"/>
            </a:xfrm>
          </p:grpSpPr>
          <p:sp>
            <p:nvSpPr>
              <p:cNvPr id="274" name=""/>
              <p:cNvSpPr/>
              <p:nvPr/>
            </p:nvSpPr>
            <p:spPr>
              <a:xfrm>
                <a:off x="884160" y="2774880"/>
                <a:ext cx="13716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84160" y="2774880"/>
                <a:ext cx="137160" cy="147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84160" y="2774880"/>
                <a:ext cx="139320" cy="1472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84160" y="2774880"/>
                <a:ext cx="13716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884880" y="27828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Times New Roman"/>
              </a:endParaRPr>
            </a:p>
          </p:txBody>
        </p:sp>
        <p:grpSp>
          <p:nvGrpSpPr>
            <p:cNvPr id="279" name=""/>
            <p:cNvGrpSpPr/>
            <p:nvPr/>
          </p:nvGrpSpPr>
          <p:grpSpPr>
            <a:xfrm>
              <a:off x="1812960" y="4591080"/>
              <a:ext cx="136080" cy="150480"/>
              <a:chOff x="1812960" y="4591080"/>
              <a:chExt cx="136080" cy="150480"/>
            </a:xfrm>
          </p:grpSpPr>
          <p:sp>
            <p:nvSpPr>
              <p:cNvPr id="280" name=""/>
              <p:cNvSpPr/>
              <p:nvPr/>
            </p:nvSpPr>
            <p:spPr>
              <a:xfrm>
                <a:off x="1812960" y="4591080"/>
                <a:ext cx="1360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12960" y="4591080"/>
                <a:ext cx="1360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812960" y="4591080"/>
                <a:ext cx="136080" cy="1504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812960" y="4591080"/>
                <a:ext cx="1360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1813320" y="46004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285" name=""/>
            <p:cNvGrpSpPr/>
            <p:nvPr/>
          </p:nvGrpSpPr>
          <p:grpSpPr>
            <a:xfrm>
              <a:off x="1433520" y="2855880"/>
              <a:ext cx="140760" cy="150480"/>
              <a:chOff x="1433520" y="2855880"/>
              <a:chExt cx="140760" cy="150480"/>
            </a:xfrm>
          </p:grpSpPr>
          <p:sp>
            <p:nvSpPr>
              <p:cNvPr id="286" name=""/>
              <p:cNvSpPr/>
              <p:nvPr/>
            </p:nvSpPr>
            <p:spPr>
              <a:xfrm>
                <a:off x="1433520" y="2855880"/>
                <a:ext cx="1378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33520" y="2855880"/>
                <a:ext cx="1378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433520" y="2855880"/>
                <a:ext cx="140760" cy="150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433520" y="2855880"/>
                <a:ext cx="1378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1434240" y="28670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grpSp>
          <p:nvGrpSpPr>
            <p:cNvPr id="291" name=""/>
            <p:cNvGrpSpPr/>
            <p:nvPr/>
          </p:nvGrpSpPr>
          <p:grpSpPr>
            <a:xfrm>
              <a:off x="2998800" y="4013280"/>
              <a:ext cx="72720" cy="150480"/>
              <a:chOff x="2998800" y="4013280"/>
              <a:chExt cx="72720" cy="150480"/>
            </a:xfrm>
          </p:grpSpPr>
          <p:sp>
            <p:nvSpPr>
              <p:cNvPr id="292" name=""/>
              <p:cNvSpPr/>
              <p:nvPr/>
            </p:nvSpPr>
            <p:spPr>
              <a:xfrm>
                <a:off x="2998800" y="401328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998800" y="4013280"/>
                <a:ext cx="705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98800" y="4013280"/>
                <a:ext cx="72720" cy="150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98800" y="401328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2999160" y="4022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nvGrpSpPr>
            <p:cNvPr id="297" name=""/>
            <p:cNvGrpSpPr/>
            <p:nvPr/>
          </p:nvGrpSpPr>
          <p:grpSpPr>
            <a:xfrm>
              <a:off x="3046320" y="3270240"/>
              <a:ext cx="139320" cy="147240"/>
              <a:chOff x="3046320" y="3270240"/>
              <a:chExt cx="139320" cy="147240"/>
            </a:xfrm>
          </p:grpSpPr>
          <p:sp>
            <p:nvSpPr>
              <p:cNvPr id="298" name=""/>
              <p:cNvSpPr/>
              <p:nvPr/>
            </p:nvSpPr>
            <p:spPr>
              <a:xfrm>
                <a:off x="3046320" y="3270240"/>
                <a:ext cx="13644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046320" y="3270240"/>
                <a:ext cx="136440" cy="147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46320" y="3270240"/>
                <a:ext cx="139320" cy="1472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46320" y="3270240"/>
                <a:ext cx="136440" cy="14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046320" y="32781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grpSp>
          <p:nvGrpSpPr>
            <p:cNvPr id="303" name=""/>
            <p:cNvGrpSpPr/>
            <p:nvPr/>
          </p:nvGrpSpPr>
          <p:grpSpPr>
            <a:xfrm>
              <a:off x="2752560" y="2690640"/>
              <a:ext cx="139680" cy="147600"/>
              <a:chOff x="2752560" y="2690640"/>
              <a:chExt cx="139680" cy="147600"/>
            </a:xfrm>
          </p:grpSpPr>
          <p:sp>
            <p:nvSpPr>
              <p:cNvPr id="304" name=""/>
              <p:cNvSpPr/>
              <p:nvPr/>
            </p:nvSpPr>
            <p:spPr>
              <a:xfrm>
                <a:off x="2752560" y="2690640"/>
                <a:ext cx="1368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52560" y="2690640"/>
                <a:ext cx="136800" cy="147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752560" y="2690640"/>
                <a:ext cx="139680" cy="147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52560" y="2690640"/>
                <a:ext cx="1368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2753280" y="27003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grpSp>
          <p:nvGrpSpPr>
            <p:cNvPr id="309" name=""/>
            <p:cNvGrpSpPr/>
            <p:nvPr/>
          </p:nvGrpSpPr>
          <p:grpSpPr>
            <a:xfrm>
              <a:off x="2176560" y="2608200"/>
              <a:ext cx="137520" cy="149040"/>
              <a:chOff x="2176560" y="2608200"/>
              <a:chExt cx="137520" cy="149040"/>
            </a:xfrm>
          </p:grpSpPr>
          <p:sp>
            <p:nvSpPr>
              <p:cNvPr id="310" name=""/>
              <p:cNvSpPr/>
              <p:nvPr/>
            </p:nvSpPr>
            <p:spPr>
              <a:xfrm>
                <a:off x="2176560" y="2608200"/>
                <a:ext cx="1375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76560" y="2608200"/>
                <a:ext cx="137520" cy="1468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176560" y="2608200"/>
                <a:ext cx="137520" cy="149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176560" y="2608200"/>
                <a:ext cx="137520" cy="146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 name=""/>
            <p:cNvSpPr/>
            <p:nvPr/>
          </p:nvSpPr>
          <p:spPr>
            <a:xfrm>
              <a:off x="2176920" y="26179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grpSp>
          <p:nvGrpSpPr>
            <p:cNvPr id="315" name=""/>
            <p:cNvGrpSpPr/>
            <p:nvPr/>
          </p:nvGrpSpPr>
          <p:grpSpPr>
            <a:xfrm>
              <a:off x="2587680" y="4260960"/>
              <a:ext cx="139320" cy="148680"/>
              <a:chOff x="2587680" y="4260960"/>
              <a:chExt cx="139320" cy="148680"/>
            </a:xfrm>
          </p:grpSpPr>
          <p:sp>
            <p:nvSpPr>
              <p:cNvPr id="316" name=""/>
              <p:cNvSpPr/>
              <p:nvPr/>
            </p:nvSpPr>
            <p:spPr>
              <a:xfrm>
                <a:off x="2587680" y="4260960"/>
                <a:ext cx="137160" cy="14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87680" y="4260960"/>
                <a:ext cx="137160" cy="148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587680" y="4260960"/>
                <a:ext cx="139320" cy="1486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587680" y="4260960"/>
                <a:ext cx="137160" cy="14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587680" y="42688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2</a:t>
              </a:r>
              <a:endParaRPr b="0" lang="en-US" sz="600" spc="-1" strike="noStrike">
                <a:solidFill>
                  <a:srgbClr val="000000"/>
                </a:solidFill>
                <a:latin typeface="Times New Roman"/>
              </a:endParaRPr>
            </a:p>
          </p:txBody>
        </p:sp>
        <p:grpSp>
          <p:nvGrpSpPr>
            <p:cNvPr id="321" name=""/>
            <p:cNvGrpSpPr/>
            <p:nvPr/>
          </p:nvGrpSpPr>
          <p:grpSpPr>
            <a:xfrm>
              <a:off x="2503440" y="3021120"/>
              <a:ext cx="72720" cy="150480"/>
              <a:chOff x="2503440" y="3021120"/>
              <a:chExt cx="72720" cy="150480"/>
            </a:xfrm>
          </p:grpSpPr>
          <p:sp>
            <p:nvSpPr>
              <p:cNvPr id="322" name=""/>
              <p:cNvSpPr/>
              <p:nvPr/>
            </p:nvSpPr>
            <p:spPr>
              <a:xfrm>
                <a:off x="2503440" y="302112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503440" y="3021120"/>
                <a:ext cx="7056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3440" y="3021120"/>
                <a:ext cx="72720" cy="150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503440" y="3021120"/>
                <a:ext cx="7056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
            <p:cNvSpPr/>
            <p:nvPr/>
          </p:nvSpPr>
          <p:spPr>
            <a:xfrm>
              <a:off x="2503800" y="3030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327" name=""/>
            <p:cNvSpPr/>
            <p:nvPr/>
          </p:nvSpPr>
          <p:spPr>
            <a:xfrm>
              <a:off x="3162240" y="3222720"/>
              <a:ext cx="414360" cy="137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3176640" y="3006720"/>
              <a:ext cx="896760" cy="185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flipV="1">
              <a:off x="3974760" y="2596680"/>
              <a:ext cx="9828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4132440" y="2624040"/>
              <a:ext cx="425160" cy="324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32440" y="3006720"/>
              <a:ext cx="44604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46440" y="3389400"/>
              <a:ext cx="506520" cy="333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616200" y="3402000"/>
              <a:ext cx="135000" cy="62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4143240" y="2895480"/>
              <a:ext cx="91620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5" name=""/>
            <p:cNvSpPr/>
            <p:nvPr/>
          </p:nvSpPr>
          <p:spPr>
            <a:xfrm>
              <a:off x="4632480" y="3421080"/>
              <a:ext cx="603000" cy="603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82880" y="2938320"/>
              <a:ext cx="328320" cy="199800"/>
              <a:chOff x="2882880" y="2938320"/>
              <a:chExt cx="328320" cy="199800"/>
            </a:xfrm>
          </p:grpSpPr>
          <p:sp>
            <p:nvSpPr>
              <p:cNvPr id="337" name=""/>
              <p:cNvSpPr/>
              <p:nvPr/>
            </p:nvSpPr>
            <p:spPr>
              <a:xfrm>
                <a:off x="2882880" y="2938320"/>
                <a:ext cx="32616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882880" y="2938320"/>
                <a:ext cx="326160" cy="199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882880" y="2938320"/>
                <a:ext cx="328320" cy="1998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882880" y="2938320"/>
                <a:ext cx="32616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2882520" y="29480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1</a:t>
              </a:r>
              <a:endParaRPr b="0" lang="en-US" sz="900" spc="-1" strike="noStrike">
                <a:solidFill>
                  <a:srgbClr val="000000"/>
                </a:solidFill>
                <a:latin typeface="Times New Roman"/>
              </a:endParaRPr>
            </a:p>
          </p:txBody>
        </p:sp>
        <p:sp>
          <p:nvSpPr>
            <p:cNvPr id="342" name=""/>
            <p:cNvSpPr/>
            <p:nvPr/>
          </p:nvSpPr>
          <p:spPr>
            <a:xfrm>
              <a:off x="3100320" y="3159000"/>
              <a:ext cx="69840" cy="74880"/>
            </a:xfrm>
            <a:prstGeom prst="ellipse">
              <a:avLst/>
            </a:prstGeom>
            <a:solidFill>
              <a:srgbClr val="00cc66"/>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 name=""/>
            <p:cNvSpPr/>
            <p:nvPr/>
          </p:nvSpPr>
          <p:spPr>
            <a:xfrm>
              <a:off x="3581280" y="3324240"/>
              <a:ext cx="7488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4067280" y="2940120"/>
              <a:ext cx="74520" cy="75960"/>
            </a:xfrm>
            <a:prstGeom prst="ellipse">
              <a:avLst/>
            </a:prstGeom>
            <a:solidFill>
              <a:srgbClr val="ff0000"/>
            </a:solidFill>
            <a:ln w="6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5" name=""/>
            <p:cNvSpPr/>
            <p:nvPr/>
          </p:nvSpPr>
          <p:spPr>
            <a:xfrm>
              <a:off x="4549680" y="2558880"/>
              <a:ext cx="7488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6" name=""/>
            <p:cNvSpPr/>
            <p:nvPr/>
          </p:nvSpPr>
          <p:spPr>
            <a:xfrm>
              <a:off x="4570560" y="335916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7" name=""/>
            <p:cNvSpPr/>
            <p:nvPr/>
          </p:nvSpPr>
          <p:spPr>
            <a:xfrm>
              <a:off x="3746520" y="4019400"/>
              <a:ext cx="74520" cy="730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8" name=""/>
            <p:cNvSpPr/>
            <p:nvPr/>
          </p:nvSpPr>
          <p:spPr>
            <a:xfrm>
              <a:off x="4157640" y="3686040"/>
              <a:ext cx="76320" cy="74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9" name=""/>
            <p:cNvSpPr/>
            <p:nvPr/>
          </p:nvSpPr>
          <p:spPr>
            <a:xfrm>
              <a:off x="5227560" y="4019400"/>
              <a:ext cx="74520" cy="730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3908520" y="2530440"/>
              <a:ext cx="75960" cy="7452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1" name=""/>
            <p:cNvSpPr/>
            <p:nvPr/>
          </p:nvSpPr>
          <p:spPr>
            <a:xfrm>
              <a:off x="5062680" y="2862360"/>
              <a:ext cx="75960" cy="74520"/>
            </a:xfrm>
            <a:prstGeom prst="ellipse">
              <a:avLst/>
            </a:prstGeom>
            <a:solidFill>
              <a:srgbClr val="00cc66"/>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2" name=""/>
            <p:cNvSpPr/>
            <p:nvPr/>
          </p:nvSpPr>
          <p:spPr>
            <a:xfrm>
              <a:off x="3838680" y="214776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1</a:t>
              </a:r>
              <a:endParaRPr b="0" lang="en-US" sz="1200" spc="-1" strike="noStrike">
                <a:solidFill>
                  <a:srgbClr val="000000"/>
                </a:solidFill>
                <a:latin typeface="Times New Roman"/>
              </a:endParaRPr>
            </a:p>
          </p:txBody>
        </p:sp>
        <p:grpSp>
          <p:nvGrpSpPr>
            <p:cNvPr id="353" name=""/>
            <p:cNvGrpSpPr/>
            <p:nvPr/>
          </p:nvGrpSpPr>
          <p:grpSpPr>
            <a:xfrm>
              <a:off x="3492360" y="3370320"/>
              <a:ext cx="71280" cy="148680"/>
              <a:chOff x="3492360" y="3370320"/>
              <a:chExt cx="71280" cy="148680"/>
            </a:xfrm>
          </p:grpSpPr>
          <p:sp>
            <p:nvSpPr>
              <p:cNvPr id="354" name=""/>
              <p:cNvSpPr/>
              <p:nvPr/>
            </p:nvSpPr>
            <p:spPr>
              <a:xfrm>
                <a:off x="3492360" y="3370320"/>
                <a:ext cx="691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92360" y="3370320"/>
                <a:ext cx="69120" cy="1465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92360" y="3370320"/>
                <a:ext cx="71280" cy="1486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92360" y="3370320"/>
                <a:ext cx="691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3492720" y="3379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359" name=""/>
            <p:cNvGrpSpPr/>
            <p:nvPr/>
          </p:nvGrpSpPr>
          <p:grpSpPr>
            <a:xfrm>
              <a:off x="3989520" y="3021120"/>
              <a:ext cx="69480" cy="150480"/>
              <a:chOff x="3989520" y="3021120"/>
              <a:chExt cx="69480" cy="150480"/>
            </a:xfrm>
          </p:grpSpPr>
          <p:sp>
            <p:nvSpPr>
              <p:cNvPr id="360" name=""/>
              <p:cNvSpPr/>
              <p:nvPr/>
            </p:nvSpPr>
            <p:spPr>
              <a:xfrm>
                <a:off x="3989520" y="3021120"/>
                <a:ext cx="6732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89520" y="3021120"/>
                <a:ext cx="6732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989520" y="3021120"/>
                <a:ext cx="69480" cy="1504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989520" y="3021120"/>
                <a:ext cx="6732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3989880" y="3030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365" name=""/>
            <p:cNvGrpSpPr/>
            <p:nvPr/>
          </p:nvGrpSpPr>
          <p:grpSpPr>
            <a:xfrm>
              <a:off x="3822840" y="3930480"/>
              <a:ext cx="69480" cy="150480"/>
              <a:chOff x="3822840" y="3930480"/>
              <a:chExt cx="69480" cy="150480"/>
            </a:xfrm>
          </p:grpSpPr>
          <p:sp>
            <p:nvSpPr>
              <p:cNvPr id="366" name=""/>
              <p:cNvSpPr/>
              <p:nvPr/>
            </p:nvSpPr>
            <p:spPr>
              <a:xfrm>
                <a:off x="3822840" y="39304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822840" y="3930480"/>
                <a:ext cx="69480" cy="1483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822840" y="3930480"/>
                <a:ext cx="69480" cy="150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822840" y="3930480"/>
                <a:ext cx="69480" cy="1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3822480" y="3940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371" name=""/>
            <p:cNvGrpSpPr/>
            <p:nvPr/>
          </p:nvGrpSpPr>
          <p:grpSpPr>
            <a:xfrm>
              <a:off x="4152960" y="3516480"/>
              <a:ext cx="70920" cy="150120"/>
              <a:chOff x="4152960" y="3516480"/>
              <a:chExt cx="70920" cy="150120"/>
            </a:xfrm>
          </p:grpSpPr>
          <p:sp>
            <p:nvSpPr>
              <p:cNvPr id="372" name=""/>
              <p:cNvSpPr/>
              <p:nvPr/>
            </p:nvSpPr>
            <p:spPr>
              <a:xfrm>
                <a:off x="4152960" y="3516480"/>
                <a:ext cx="68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152960" y="3516480"/>
                <a:ext cx="68040" cy="1479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52960" y="3516480"/>
                <a:ext cx="70920" cy="1501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52960" y="3516480"/>
                <a:ext cx="68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4152600" y="35272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377" name=""/>
            <p:cNvGrpSpPr/>
            <p:nvPr/>
          </p:nvGrpSpPr>
          <p:grpSpPr>
            <a:xfrm>
              <a:off x="3905280" y="2690640"/>
              <a:ext cx="70920" cy="147600"/>
              <a:chOff x="3905280" y="2690640"/>
              <a:chExt cx="70920" cy="147600"/>
            </a:xfrm>
          </p:grpSpPr>
          <p:sp>
            <p:nvSpPr>
              <p:cNvPr id="378" name=""/>
              <p:cNvSpPr/>
              <p:nvPr/>
            </p:nvSpPr>
            <p:spPr>
              <a:xfrm>
                <a:off x="3905280" y="2690640"/>
                <a:ext cx="6876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905280" y="2690640"/>
                <a:ext cx="68760" cy="147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905280" y="2690640"/>
                <a:ext cx="70920" cy="1476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05280" y="2690640"/>
                <a:ext cx="6876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3905640" y="2700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383" name=""/>
            <p:cNvSpPr/>
            <p:nvPr/>
          </p:nvSpPr>
          <p:spPr>
            <a:xfrm>
              <a:off x="4647960" y="2427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384" name=""/>
            <p:cNvSpPr/>
            <p:nvPr/>
          </p:nvSpPr>
          <p:spPr>
            <a:xfrm>
              <a:off x="5059800" y="29480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385" name=""/>
            <p:cNvGrpSpPr/>
            <p:nvPr/>
          </p:nvGrpSpPr>
          <p:grpSpPr>
            <a:xfrm>
              <a:off x="5222880" y="3849840"/>
              <a:ext cx="70920" cy="148680"/>
              <a:chOff x="5222880" y="3849840"/>
              <a:chExt cx="70920" cy="148680"/>
            </a:xfrm>
          </p:grpSpPr>
          <p:sp>
            <p:nvSpPr>
              <p:cNvPr id="386" name=""/>
              <p:cNvSpPr/>
              <p:nvPr/>
            </p:nvSpPr>
            <p:spPr>
              <a:xfrm>
                <a:off x="5222880" y="3849840"/>
                <a:ext cx="709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222880" y="3849840"/>
                <a:ext cx="70920" cy="1465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222880" y="3849840"/>
                <a:ext cx="70920" cy="1486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222880" y="3849840"/>
                <a:ext cx="70920" cy="14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
            <p:cNvSpPr/>
            <p:nvPr/>
          </p:nvSpPr>
          <p:spPr>
            <a:xfrm>
              <a:off x="1351080" y="2360520"/>
              <a:ext cx="99216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49360" y="241920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0</a:t>
              </a:r>
              <a:endParaRPr b="0" lang="en-US" sz="1200" spc="-1" strike="noStrike">
                <a:solidFill>
                  <a:srgbClr val="000000"/>
                </a:solidFill>
                <a:latin typeface="Times New Roman"/>
              </a:endParaRPr>
            </a:p>
          </p:txBody>
        </p:sp>
        <p:sp>
          <p:nvSpPr>
            <p:cNvPr id="392" name=""/>
            <p:cNvSpPr/>
            <p:nvPr/>
          </p:nvSpPr>
          <p:spPr>
            <a:xfrm>
              <a:off x="4647960" y="3240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sp>
        <p:nvSpPr>
          <p:cNvPr id="393" name=""/>
          <p:cNvSpPr/>
          <p:nvPr/>
        </p:nvSpPr>
        <p:spPr>
          <a:xfrm>
            <a:off x="533520" y="5105520"/>
            <a:ext cx="458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devices are physically identical, except the “Designated Device” Gatewa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D244148-88DB-42B0-94FA-9CFCDB1BCB0F}"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80680"/>
            <a:ext cx="7772400" cy="80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Formation</a:t>
            </a:r>
            <a:endParaRPr b="0" lang="en-US" sz="4000" spc="-1" strike="noStrike">
              <a:solidFill>
                <a:srgbClr val="000000"/>
              </a:solidFill>
              <a:latin typeface="Arial"/>
            </a:endParaRPr>
          </a:p>
        </p:txBody>
      </p:sp>
      <p:sp>
        <p:nvSpPr>
          <p:cNvPr id="395" name="PlaceHolder 2"/>
          <p:cNvSpPr>
            <a:spLocks noGrp="1"/>
          </p:cNvSpPr>
          <p:nvPr>
            <p:ph/>
          </p:nvPr>
        </p:nvSpPr>
        <p:spPr>
          <a:xfrm>
            <a:off x="274320" y="1658880"/>
            <a:ext cx="8116920" cy="752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gnated Device” (Gateway) initiates network formation by designating Cluster Head 0 (which may be separate from the DD).</a:t>
            </a:r>
            <a:endParaRPr b="0" lang="en-US" sz="2000" spc="-1" strike="noStrike">
              <a:solidFill>
                <a:srgbClr val="000000"/>
              </a:solidFill>
              <a:latin typeface="Arial"/>
            </a:endParaRPr>
          </a:p>
        </p:txBody>
      </p:sp>
      <p:grpSp>
        <p:nvGrpSpPr>
          <p:cNvPr id="396" name=""/>
          <p:cNvGrpSpPr/>
          <p:nvPr/>
        </p:nvGrpSpPr>
        <p:grpSpPr>
          <a:xfrm>
            <a:off x="4871880" y="2523960"/>
            <a:ext cx="3957840" cy="2381040"/>
            <a:chOff x="4871880" y="2523960"/>
            <a:chExt cx="3957840" cy="2381040"/>
          </a:xfrm>
        </p:grpSpPr>
        <p:sp>
          <p:nvSpPr>
            <p:cNvPr id="397" name=""/>
            <p:cNvSpPr/>
            <p:nvPr/>
          </p:nvSpPr>
          <p:spPr>
            <a:xfrm>
              <a:off x="6717600" y="2523960"/>
              <a:ext cx="2112120" cy="21819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871880" y="2721960"/>
              <a:ext cx="2176920" cy="218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936400" y="4572720"/>
              <a:ext cx="66960" cy="67320"/>
            </a:xfrm>
            <a:prstGeom prst="ellipse">
              <a:avLst/>
            </a:prstGeom>
            <a:solidFill>
              <a:srgbClr val="ff0000"/>
            </a:solidFill>
            <a:ln w="6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5005080" y="3979440"/>
              <a:ext cx="67320" cy="66960"/>
            </a:xfrm>
            <a:prstGeom prst="ellipse">
              <a:avLst/>
            </a:prstGeom>
            <a:solidFill>
              <a:srgbClr val="ff0000"/>
            </a:solidFill>
            <a:ln w="6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5927400" y="3778920"/>
              <a:ext cx="67320" cy="68400"/>
            </a:xfrm>
            <a:prstGeom prst="ellipse">
              <a:avLst/>
            </a:prstGeom>
            <a:solidFill>
              <a:srgbClr val="ffff00"/>
            </a:solidFill>
            <a:ln w="64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402" name=""/>
            <p:cNvGrpSpPr/>
            <p:nvPr/>
          </p:nvGrpSpPr>
          <p:grpSpPr>
            <a:xfrm>
              <a:off x="5729040" y="3712680"/>
              <a:ext cx="191160" cy="160920"/>
              <a:chOff x="5729040" y="3712680"/>
              <a:chExt cx="191160" cy="160920"/>
            </a:xfrm>
          </p:grpSpPr>
          <p:sp>
            <p:nvSpPr>
              <p:cNvPr id="403" name=""/>
              <p:cNvSpPr/>
              <p:nvPr/>
            </p:nvSpPr>
            <p:spPr>
              <a:xfrm>
                <a:off x="5729040" y="3712680"/>
                <a:ext cx="1890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729040" y="3712680"/>
                <a:ext cx="189000" cy="1587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729040" y="3712680"/>
                <a:ext cx="191160" cy="160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29040" y="3712680"/>
                <a:ext cx="1890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5727960" y="37213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t>
              </a:r>
              <a:endParaRPr b="0" lang="en-US" sz="1200" spc="-1" strike="noStrike">
                <a:solidFill>
                  <a:srgbClr val="000000"/>
                </a:solidFill>
                <a:latin typeface="Times New Roman"/>
              </a:endParaRPr>
            </a:p>
          </p:txBody>
        </p:sp>
        <p:sp>
          <p:nvSpPr>
            <p:cNvPr id="408" name=""/>
            <p:cNvSpPr/>
            <p:nvPr/>
          </p:nvSpPr>
          <p:spPr>
            <a:xfrm>
              <a:off x="5469840" y="4048200"/>
              <a:ext cx="5976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5995800" y="4115160"/>
              <a:ext cx="5940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0" name=""/>
            <p:cNvSpPr/>
            <p:nvPr/>
          </p:nvSpPr>
          <p:spPr>
            <a:xfrm>
              <a:off x="6525720" y="3981960"/>
              <a:ext cx="58320" cy="60840"/>
            </a:xfrm>
            <a:prstGeom prst="ellipse">
              <a:avLst/>
            </a:prstGeom>
            <a:solidFill>
              <a:srgbClr val="ff0000"/>
            </a:solidFill>
            <a:ln w="64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1" name=""/>
            <p:cNvSpPr/>
            <p:nvPr/>
          </p:nvSpPr>
          <p:spPr>
            <a:xfrm>
              <a:off x="6525720" y="3717720"/>
              <a:ext cx="5832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2" name=""/>
            <p:cNvSpPr/>
            <p:nvPr/>
          </p:nvSpPr>
          <p:spPr>
            <a:xfrm>
              <a:off x="6325920" y="3320280"/>
              <a:ext cx="5976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3" name=""/>
            <p:cNvSpPr/>
            <p:nvPr/>
          </p:nvSpPr>
          <p:spPr>
            <a:xfrm>
              <a:off x="6459480" y="4444560"/>
              <a:ext cx="5724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
            <p:cNvSpPr/>
            <p:nvPr/>
          </p:nvSpPr>
          <p:spPr>
            <a:xfrm>
              <a:off x="5929920" y="3255480"/>
              <a:ext cx="5940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5" name=""/>
            <p:cNvSpPr/>
            <p:nvPr/>
          </p:nvSpPr>
          <p:spPr>
            <a:xfrm>
              <a:off x="6062040" y="2989800"/>
              <a:ext cx="5976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6" name=""/>
            <p:cNvSpPr/>
            <p:nvPr/>
          </p:nvSpPr>
          <p:spPr>
            <a:xfrm>
              <a:off x="5469840" y="3255480"/>
              <a:ext cx="5976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a:off x="5270760" y="3519360"/>
              <a:ext cx="5940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8" name=""/>
            <p:cNvSpPr/>
            <p:nvPr/>
          </p:nvSpPr>
          <p:spPr>
            <a:xfrm flipH="1">
              <a:off x="5519160" y="3834720"/>
              <a:ext cx="416520" cy="21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5070960" y="4009680"/>
              <a:ext cx="39348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0" name=""/>
            <p:cNvSpPr/>
            <p:nvPr/>
          </p:nvSpPr>
          <p:spPr>
            <a:xfrm>
              <a:off x="5960160" y="3844800"/>
              <a:ext cx="64800" cy="265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5968800" y="4173480"/>
              <a:ext cx="55800" cy="39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048000" y="4166280"/>
              <a:ext cx="413640" cy="28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5960160" y="3314880"/>
              <a:ext cx="1440" cy="463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flipV="1">
              <a:off x="5519160" y="3304800"/>
              <a:ext cx="416520" cy="48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5322600" y="3304800"/>
              <a:ext cx="15336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5983200" y="3042000"/>
              <a:ext cx="84960" cy="21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93280" y="3282120"/>
              <a:ext cx="32760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8" name=""/>
            <p:cNvSpPr/>
            <p:nvPr/>
          </p:nvSpPr>
          <p:spPr>
            <a:xfrm flipV="1">
              <a:off x="5993280" y="3744360"/>
              <a:ext cx="527040" cy="66960"/>
            </a:xfrm>
            <a:prstGeom prst="line">
              <a:avLst/>
            </a:prstGeom>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9" name=""/>
            <p:cNvSpPr/>
            <p:nvPr/>
          </p:nvSpPr>
          <p:spPr>
            <a:xfrm flipV="1">
              <a:off x="6575040" y="3477600"/>
              <a:ext cx="294480" cy="24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553440" y="3778920"/>
              <a:ext cx="1080" cy="200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853320" y="4115160"/>
              <a:ext cx="5796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2" name=""/>
            <p:cNvSpPr/>
            <p:nvPr/>
          </p:nvSpPr>
          <p:spPr>
            <a:xfrm>
              <a:off x="5073480" y="3255480"/>
              <a:ext cx="6084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3" name=""/>
            <p:cNvSpPr/>
            <p:nvPr/>
          </p:nvSpPr>
          <p:spPr>
            <a:xfrm>
              <a:off x="6525720" y="2989800"/>
              <a:ext cx="5832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4" name=""/>
            <p:cNvSpPr/>
            <p:nvPr/>
          </p:nvSpPr>
          <p:spPr>
            <a:xfrm flipH="1">
              <a:off x="5135760" y="3282120"/>
              <a:ext cx="328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5" name=""/>
            <p:cNvSpPr/>
            <p:nvPr/>
          </p:nvSpPr>
          <p:spPr>
            <a:xfrm flipV="1">
              <a:off x="5983200" y="3042000"/>
              <a:ext cx="545760" cy="219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75040" y="3769920"/>
              <a:ext cx="284400" cy="34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5465160" y="4110120"/>
              <a:ext cx="56520" cy="120240"/>
              <a:chOff x="5465160" y="4110120"/>
              <a:chExt cx="56520" cy="120240"/>
            </a:xfrm>
          </p:grpSpPr>
          <p:sp>
            <p:nvSpPr>
              <p:cNvPr id="438" name=""/>
              <p:cNvSpPr/>
              <p:nvPr/>
            </p:nvSpPr>
            <p:spPr>
              <a:xfrm>
                <a:off x="5465160" y="41101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465160" y="4110120"/>
                <a:ext cx="543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465160" y="4110120"/>
                <a:ext cx="56520" cy="120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465160" y="41101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5465160" y="4117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443" name=""/>
            <p:cNvGrpSpPr/>
            <p:nvPr/>
          </p:nvGrpSpPr>
          <p:grpSpPr>
            <a:xfrm>
              <a:off x="6003360" y="3816720"/>
              <a:ext cx="56880" cy="119160"/>
              <a:chOff x="6003360" y="3816720"/>
              <a:chExt cx="56880" cy="119160"/>
            </a:xfrm>
          </p:grpSpPr>
          <p:sp>
            <p:nvSpPr>
              <p:cNvPr id="444" name=""/>
              <p:cNvSpPr/>
              <p:nvPr/>
            </p:nvSpPr>
            <p:spPr>
              <a:xfrm>
                <a:off x="6003360" y="381672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003360" y="3816720"/>
                <a:ext cx="550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03360" y="3816720"/>
                <a:ext cx="56880" cy="119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003360" y="381672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6003360" y="38246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grpSp>
          <p:nvGrpSpPr>
            <p:cNvPr id="449" name=""/>
            <p:cNvGrpSpPr/>
            <p:nvPr/>
          </p:nvGrpSpPr>
          <p:grpSpPr>
            <a:xfrm>
              <a:off x="5071320" y="4043880"/>
              <a:ext cx="55440" cy="120240"/>
              <a:chOff x="5071320" y="4043880"/>
              <a:chExt cx="55440" cy="120240"/>
            </a:xfrm>
          </p:grpSpPr>
          <p:sp>
            <p:nvSpPr>
              <p:cNvPr id="450" name=""/>
              <p:cNvSpPr/>
              <p:nvPr/>
            </p:nvSpPr>
            <p:spPr>
              <a:xfrm>
                <a:off x="5071320" y="404388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071320" y="4043880"/>
                <a:ext cx="532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071320" y="4043880"/>
                <a:ext cx="55440" cy="12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71320" y="404388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5071320" y="40518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455" name=""/>
            <p:cNvGrpSpPr/>
            <p:nvPr/>
          </p:nvGrpSpPr>
          <p:grpSpPr>
            <a:xfrm>
              <a:off x="5927400" y="4110120"/>
              <a:ext cx="55440" cy="120240"/>
              <a:chOff x="5927400" y="4110120"/>
              <a:chExt cx="55440" cy="120240"/>
            </a:xfrm>
          </p:grpSpPr>
          <p:sp>
            <p:nvSpPr>
              <p:cNvPr id="456" name=""/>
              <p:cNvSpPr/>
              <p:nvPr/>
            </p:nvSpPr>
            <p:spPr>
              <a:xfrm>
                <a:off x="5927400" y="411012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927400" y="4110120"/>
                <a:ext cx="554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927400" y="4110120"/>
                <a:ext cx="55440" cy="120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927400" y="411012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5927400" y="4117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461" name=""/>
            <p:cNvGrpSpPr/>
            <p:nvPr/>
          </p:nvGrpSpPr>
          <p:grpSpPr>
            <a:xfrm>
              <a:off x="5993280" y="3316320"/>
              <a:ext cx="54360" cy="120240"/>
              <a:chOff x="5993280" y="3316320"/>
              <a:chExt cx="54360" cy="120240"/>
            </a:xfrm>
          </p:grpSpPr>
          <p:sp>
            <p:nvSpPr>
              <p:cNvPr id="462" name=""/>
              <p:cNvSpPr/>
              <p:nvPr/>
            </p:nvSpPr>
            <p:spPr>
              <a:xfrm>
                <a:off x="5993280" y="33163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993280" y="3316320"/>
                <a:ext cx="543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993280" y="3316320"/>
                <a:ext cx="54360" cy="12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993280" y="3316320"/>
                <a:ext cx="543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5992200" y="3323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467" name=""/>
            <p:cNvGrpSpPr/>
            <p:nvPr/>
          </p:nvGrpSpPr>
          <p:grpSpPr>
            <a:xfrm>
              <a:off x="6454440" y="3581640"/>
              <a:ext cx="55440" cy="120240"/>
              <a:chOff x="6454440" y="3581640"/>
              <a:chExt cx="55440" cy="120240"/>
            </a:xfrm>
          </p:grpSpPr>
          <p:sp>
            <p:nvSpPr>
              <p:cNvPr id="468" name=""/>
              <p:cNvSpPr/>
              <p:nvPr/>
            </p:nvSpPr>
            <p:spPr>
              <a:xfrm>
                <a:off x="6454440" y="358164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454440" y="3581640"/>
                <a:ext cx="532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454440" y="3581640"/>
                <a:ext cx="55440" cy="1202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454440" y="3581640"/>
                <a:ext cx="532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6454440" y="358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grpSp>
          <p:nvGrpSpPr>
            <p:cNvPr id="473" name=""/>
            <p:cNvGrpSpPr/>
            <p:nvPr/>
          </p:nvGrpSpPr>
          <p:grpSpPr>
            <a:xfrm>
              <a:off x="6454440" y="3913200"/>
              <a:ext cx="55440" cy="116280"/>
              <a:chOff x="6454440" y="3913200"/>
              <a:chExt cx="55440" cy="116280"/>
            </a:xfrm>
          </p:grpSpPr>
          <p:sp>
            <p:nvSpPr>
              <p:cNvPr id="474" name=""/>
              <p:cNvSpPr/>
              <p:nvPr/>
            </p:nvSpPr>
            <p:spPr>
              <a:xfrm>
                <a:off x="6454440" y="3913200"/>
                <a:ext cx="53280" cy="11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454440" y="3913200"/>
                <a:ext cx="53280" cy="1162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454440" y="3913200"/>
                <a:ext cx="55440" cy="116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454440" y="3913200"/>
                <a:ext cx="53280" cy="11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 name=""/>
            <p:cNvSpPr/>
            <p:nvPr/>
          </p:nvSpPr>
          <p:spPr>
            <a:xfrm>
              <a:off x="6454440" y="3918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479" name=""/>
            <p:cNvGrpSpPr/>
            <p:nvPr/>
          </p:nvGrpSpPr>
          <p:grpSpPr>
            <a:xfrm>
              <a:off x="5335560" y="3515760"/>
              <a:ext cx="54360" cy="117720"/>
              <a:chOff x="5335560" y="3515760"/>
              <a:chExt cx="54360" cy="117720"/>
            </a:xfrm>
          </p:grpSpPr>
          <p:sp>
            <p:nvSpPr>
              <p:cNvPr id="480" name=""/>
              <p:cNvSpPr/>
              <p:nvPr/>
            </p:nvSpPr>
            <p:spPr>
              <a:xfrm>
                <a:off x="5335560" y="3515760"/>
                <a:ext cx="5220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335560" y="3515760"/>
                <a:ext cx="5220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35560" y="3515760"/>
                <a:ext cx="54360" cy="117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335560" y="3515760"/>
                <a:ext cx="5220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5335560" y="35222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485" name=""/>
            <p:cNvGrpSpPr/>
            <p:nvPr/>
          </p:nvGrpSpPr>
          <p:grpSpPr>
            <a:xfrm>
              <a:off x="5091480" y="3119400"/>
              <a:ext cx="111240" cy="117720"/>
              <a:chOff x="5091480" y="3119400"/>
              <a:chExt cx="111240" cy="117720"/>
            </a:xfrm>
          </p:grpSpPr>
          <p:sp>
            <p:nvSpPr>
              <p:cNvPr id="486" name=""/>
              <p:cNvSpPr/>
              <p:nvPr/>
            </p:nvSpPr>
            <p:spPr>
              <a:xfrm>
                <a:off x="5091480" y="311940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091480" y="3119400"/>
                <a:ext cx="10944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091480" y="3119400"/>
                <a:ext cx="111240" cy="117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091480" y="311940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090400" y="31258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Times New Roman"/>
              </a:endParaRPr>
            </a:p>
          </p:txBody>
        </p:sp>
        <p:grpSp>
          <p:nvGrpSpPr>
            <p:cNvPr id="491" name=""/>
            <p:cNvGrpSpPr/>
            <p:nvPr/>
          </p:nvGrpSpPr>
          <p:grpSpPr>
            <a:xfrm>
              <a:off x="5834520" y="4572720"/>
              <a:ext cx="108720" cy="120240"/>
              <a:chOff x="5834520" y="4572720"/>
              <a:chExt cx="108720" cy="120240"/>
            </a:xfrm>
          </p:grpSpPr>
          <p:sp>
            <p:nvSpPr>
              <p:cNvPr id="492" name=""/>
              <p:cNvSpPr/>
              <p:nvPr/>
            </p:nvSpPr>
            <p:spPr>
              <a:xfrm>
                <a:off x="5834520" y="457272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834520" y="4572720"/>
                <a:ext cx="108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34520" y="4572720"/>
                <a:ext cx="108720" cy="1202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34520" y="457272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5833080" y="45799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497" name=""/>
            <p:cNvGrpSpPr/>
            <p:nvPr/>
          </p:nvGrpSpPr>
          <p:grpSpPr>
            <a:xfrm>
              <a:off x="5531040" y="3184200"/>
              <a:ext cx="112320" cy="120240"/>
              <a:chOff x="5531040" y="3184200"/>
              <a:chExt cx="112320" cy="120240"/>
            </a:xfrm>
          </p:grpSpPr>
          <p:sp>
            <p:nvSpPr>
              <p:cNvPr id="498" name=""/>
              <p:cNvSpPr/>
              <p:nvPr/>
            </p:nvSpPr>
            <p:spPr>
              <a:xfrm>
                <a:off x="5531040" y="3184200"/>
                <a:ext cx="110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531040" y="3184200"/>
                <a:ext cx="1101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31040" y="3184200"/>
                <a:ext cx="112320" cy="1202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531040" y="3184200"/>
                <a:ext cx="110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
            <p:cNvSpPr/>
            <p:nvPr/>
          </p:nvSpPr>
          <p:spPr>
            <a:xfrm>
              <a:off x="5530680" y="31942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grpSp>
          <p:nvGrpSpPr>
            <p:cNvPr id="503" name=""/>
            <p:cNvGrpSpPr/>
            <p:nvPr/>
          </p:nvGrpSpPr>
          <p:grpSpPr>
            <a:xfrm>
              <a:off x="6783480" y="4110120"/>
              <a:ext cx="57960" cy="120240"/>
              <a:chOff x="6783480" y="4110120"/>
              <a:chExt cx="57960" cy="120240"/>
            </a:xfrm>
          </p:grpSpPr>
          <p:sp>
            <p:nvSpPr>
              <p:cNvPr id="504" name=""/>
              <p:cNvSpPr/>
              <p:nvPr/>
            </p:nvSpPr>
            <p:spPr>
              <a:xfrm>
                <a:off x="6783480" y="41101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783480" y="4110120"/>
                <a:ext cx="561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783480" y="4110120"/>
                <a:ext cx="57960" cy="1202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783480" y="41101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6783480" y="4117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nvGrpSpPr>
            <p:cNvPr id="509" name=""/>
            <p:cNvGrpSpPr/>
            <p:nvPr/>
          </p:nvGrpSpPr>
          <p:grpSpPr>
            <a:xfrm>
              <a:off x="6821280" y="3515760"/>
              <a:ext cx="111240" cy="117720"/>
              <a:chOff x="6821280" y="3515760"/>
              <a:chExt cx="111240" cy="117720"/>
            </a:xfrm>
          </p:grpSpPr>
          <p:sp>
            <p:nvSpPr>
              <p:cNvPr id="510" name=""/>
              <p:cNvSpPr/>
              <p:nvPr/>
            </p:nvSpPr>
            <p:spPr>
              <a:xfrm>
                <a:off x="6821280" y="3515760"/>
                <a:ext cx="109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821280" y="3515760"/>
                <a:ext cx="10908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21280" y="3515760"/>
                <a:ext cx="111240" cy="117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821280" y="3515760"/>
                <a:ext cx="109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 name=""/>
            <p:cNvSpPr/>
            <p:nvPr/>
          </p:nvSpPr>
          <p:spPr>
            <a:xfrm>
              <a:off x="6820920" y="35222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grpSp>
          <p:nvGrpSpPr>
            <p:cNvPr id="515" name=""/>
            <p:cNvGrpSpPr/>
            <p:nvPr/>
          </p:nvGrpSpPr>
          <p:grpSpPr>
            <a:xfrm>
              <a:off x="6586560" y="3052080"/>
              <a:ext cx="111600" cy="117720"/>
              <a:chOff x="6586560" y="3052080"/>
              <a:chExt cx="111600" cy="117720"/>
            </a:xfrm>
          </p:grpSpPr>
          <p:sp>
            <p:nvSpPr>
              <p:cNvPr id="516" name=""/>
              <p:cNvSpPr/>
              <p:nvPr/>
            </p:nvSpPr>
            <p:spPr>
              <a:xfrm>
                <a:off x="6586560" y="305208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586560" y="3052080"/>
                <a:ext cx="10944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586560" y="3052080"/>
                <a:ext cx="111600" cy="1177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586560" y="3052080"/>
                <a:ext cx="10944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6586200" y="30610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grpSp>
          <p:nvGrpSpPr>
            <p:cNvPr id="521" name=""/>
            <p:cNvGrpSpPr/>
            <p:nvPr/>
          </p:nvGrpSpPr>
          <p:grpSpPr>
            <a:xfrm>
              <a:off x="6125400" y="2986200"/>
              <a:ext cx="109800" cy="119160"/>
              <a:chOff x="6125400" y="2986200"/>
              <a:chExt cx="109800" cy="119160"/>
            </a:xfrm>
          </p:grpSpPr>
          <p:sp>
            <p:nvSpPr>
              <p:cNvPr id="522" name=""/>
              <p:cNvSpPr/>
              <p:nvPr/>
            </p:nvSpPr>
            <p:spPr>
              <a:xfrm>
                <a:off x="6125400" y="2986200"/>
                <a:ext cx="10980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25400" y="2986200"/>
                <a:ext cx="109800" cy="117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125400" y="2986200"/>
                <a:ext cx="109800" cy="1191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125400" y="2986200"/>
                <a:ext cx="10980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6125400" y="29937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grpSp>
          <p:nvGrpSpPr>
            <p:cNvPr id="527" name=""/>
            <p:cNvGrpSpPr/>
            <p:nvPr/>
          </p:nvGrpSpPr>
          <p:grpSpPr>
            <a:xfrm>
              <a:off x="6454440" y="4308480"/>
              <a:ext cx="111240" cy="118800"/>
              <a:chOff x="6454440" y="4308480"/>
              <a:chExt cx="111240" cy="118800"/>
            </a:xfrm>
          </p:grpSpPr>
          <p:sp>
            <p:nvSpPr>
              <p:cNvPr id="528" name=""/>
              <p:cNvSpPr/>
              <p:nvPr/>
            </p:nvSpPr>
            <p:spPr>
              <a:xfrm>
                <a:off x="6454440" y="4308480"/>
                <a:ext cx="109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454440" y="4308480"/>
                <a:ext cx="10944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54440" y="4308480"/>
                <a:ext cx="111240" cy="1188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454440" y="4308480"/>
                <a:ext cx="109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6454440" y="4314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2</a:t>
              </a:r>
              <a:endParaRPr b="0" lang="en-US" sz="600" spc="-1" strike="noStrike">
                <a:solidFill>
                  <a:srgbClr val="000000"/>
                </a:solidFill>
                <a:latin typeface="Times New Roman"/>
              </a:endParaRPr>
            </a:p>
          </p:txBody>
        </p:sp>
        <p:grpSp>
          <p:nvGrpSpPr>
            <p:cNvPr id="533" name=""/>
            <p:cNvGrpSpPr/>
            <p:nvPr/>
          </p:nvGrpSpPr>
          <p:grpSpPr>
            <a:xfrm>
              <a:off x="6387120" y="3316320"/>
              <a:ext cx="57960" cy="120240"/>
              <a:chOff x="6387120" y="3316320"/>
              <a:chExt cx="57960" cy="120240"/>
            </a:xfrm>
          </p:grpSpPr>
          <p:sp>
            <p:nvSpPr>
              <p:cNvPr id="534" name=""/>
              <p:cNvSpPr/>
              <p:nvPr/>
            </p:nvSpPr>
            <p:spPr>
              <a:xfrm>
                <a:off x="6387120" y="33163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387120" y="3316320"/>
                <a:ext cx="5616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387120" y="3316320"/>
                <a:ext cx="57960" cy="1202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387120" y="3316320"/>
                <a:ext cx="5616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6386040" y="3323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539" name=""/>
            <p:cNvSpPr/>
            <p:nvPr/>
          </p:nvSpPr>
          <p:spPr>
            <a:xfrm>
              <a:off x="6914160" y="3477600"/>
              <a:ext cx="331200" cy="11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6925680" y="3304800"/>
              <a:ext cx="717480" cy="148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flipV="1">
              <a:off x="7564680" y="2977200"/>
              <a:ext cx="78480" cy="280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7690320" y="2998800"/>
              <a:ext cx="339840" cy="25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90320" y="3304800"/>
              <a:ext cx="35676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301520" y="3611160"/>
              <a:ext cx="405000" cy="26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277400" y="3621240"/>
              <a:ext cx="108000" cy="497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7698960" y="3215880"/>
              <a:ext cx="73296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7" name=""/>
            <p:cNvSpPr/>
            <p:nvPr/>
          </p:nvSpPr>
          <p:spPr>
            <a:xfrm>
              <a:off x="8090640" y="3636360"/>
              <a:ext cx="482400" cy="48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6690600" y="3250080"/>
              <a:ext cx="262440" cy="159480"/>
              <a:chOff x="6690600" y="3250080"/>
              <a:chExt cx="262440" cy="159480"/>
            </a:xfrm>
          </p:grpSpPr>
          <p:sp>
            <p:nvSpPr>
              <p:cNvPr id="549" name=""/>
              <p:cNvSpPr/>
              <p:nvPr/>
            </p:nvSpPr>
            <p:spPr>
              <a:xfrm>
                <a:off x="6690600" y="3250080"/>
                <a:ext cx="260640" cy="15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690600" y="3250080"/>
                <a:ext cx="260640" cy="159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90600" y="3250080"/>
                <a:ext cx="262440" cy="159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690600" y="3250080"/>
                <a:ext cx="260640" cy="15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
            <p:cNvSpPr/>
            <p:nvPr/>
          </p:nvSpPr>
          <p:spPr>
            <a:xfrm>
              <a:off x="6690240" y="325800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1</a:t>
              </a:r>
              <a:endParaRPr b="0" lang="en-US" sz="900" spc="-1" strike="noStrike">
                <a:solidFill>
                  <a:srgbClr val="000000"/>
                </a:solidFill>
                <a:latin typeface="Times New Roman"/>
              </a:endParaRPr>
            </a:p>
          </p:txBody>
        </p:sp>
        <p:sp>
          <p:nvSpPr>
            <p:cNvPr id="554" name=""/>
            <p:cNvSpPr/>
            <p:nvPr/>
          </p:nvSpPr>
          <p:spPr>
            <a:xfrm>
              <a:off x="6864480" y="3426840"/>
              <a:ext cx="55800" cy="59760"/>
            </a:xfrm>
            <a:prstGeom prst="ellipse">
              <a:avLst/>
            </a:prstGeom>
            <a:solidFill>
              <a:srgbClr val="00cc66"/>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5" name=""/>
            <p:cNvSpPr/>
            <p:nvPr/>
          </p:nvSpPr>
          <p:spPr>
            <a:xfrm>
              <a:off x="7249320" y="3558960"/>
              <a:ext cx="5976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6" name=""/>
            <p:cNvSpPr/>
            <p:nvPr/>
          </p:nvSpPr>
          <p:spPr>
            <a:xfrm>
              <a:off x="7638120" y="3251520"/>
              <a:ext cx="5940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57" name=""/>
            <p:cNvSpPr/>
            <p:nvPr/>
          </p:nvSpPr>
          <p:spPr>
            <a:xfrm>
              <a:off x="8024400" y="2946600"/>
              <a:ext cx="59760" cy="59760"/>
            </a:xfrm>
            <a:prstGeom prst="ellipse">
              <a:avLst/>
            </a:prstGeom>
            <a:solidFill>
              <a:srgbClr val="ff0000"/>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8" name=""/>
            <p:cNvSpPr/>
            <p:nvPr/>
          </p:nvSpPr>
          <p:spPr>
            <a:xfrm>
              <a:off x="8040960" y="3587040"/>
              <a:ext cx="5940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9" name=""/>
            <p:cNvSpPr/>
            <p:nvPr/>
          </p:nvSpPr>
          <p:spPr>
            <a:xfrm>
              <a:off x="7381800" y="4115160"/>
              <a:ext cx="59400" cy="5832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60" name=""/>
            <p:cNvSpPr/>
            <p:nvPr/>
          </p:nvSpPr>
          <p:spPr>
            <a:xfrm>
              <a:off x="7710480" y="3848400"/>
              <a:ext cx="60840" cy="59760"/>
            </a:xfrm>
            <a:prstGeom prst="ellipse">
              <a:avLst/>
            </a:prstGeom>
            <a:solidFill>
              <a:srgbClr val="ff0000"/>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1" name=""/>
            <p:cNvSpPr/>
            <p:nvPr/>
          </p:nvSpPr>
          <p:spPr>
            <a:xfrm>
              <a:off x="8566560" y="4115160"/>
              <a:ext cx="59400" cy="58320"/>
            </a:xfrm>
            <a:prstGeom prst="ellipse">
              <a:avLst/>
            </a:prstGeom>
            <a:solidFill>
              <a:srgbClr val="00cc66"/>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62" name=""/>
            <p:cNvSpPr/>
            <p:nvPr/>
          </p:nvSpPr>
          <p:spPr>
            <a:xfrm>
              <a:off x="7511400" y="2923920"/>
              <a:ext cx="60480" cy="59400"/>
            </a:xfrm>
            <a:prstGeom prst="ellipse">
              <a:avLst/>
            </a:prstGeom>
            <a:solidFill>
              <a:srgbClr val="ff0000"/>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63" name=""/>
            <p:cNvSpPr/>
            <p:nvPr/>
          </p:nvSpPr>
          <p:spPr>
            <a:xfrm>
              <a:off x="8434800" y="3189600"/>
              <a:ext cx="60480" cy="59400"/>
            </a:xfrm>
            <a:prstGeom prst="ellipse">
              <a:avLst/>
            </a:prstGeom>
            <a:solidFill>
              <a:srgbClr val="00cc66"/>
            </a:solidFill>
            <a:ln w="64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64" name=""/>
            <p:cNvSpPr/>
            <p:nvPr/>
          </p:nvSpPr>
          <p:spPr>
            <a:xfrm>
              <a:off x="7455240" y="261756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1</a:t>
              </a:r>
              <a:endParaRPr b="0" lang="en-US" sz="1200" spc="-1" strike="noStrike">
                <a:solidFill>
                  <a:srgbClr val="000000"/>
                </a:solidFill>
                <a:latin typeface="Times New Roman"/>
              </a:endParaRPr>
            </a:p>
          </p:txBody>
        </p:sp>
        <p:grpSp>
          <p:nvGrpSpPr>
            <p:cNvPr id="565" name=""/>
            <p:cNvGrpSpPr/>
            <p:nvPr/>
          </p:nvGrpSpPr>
          <p:grpSpPr>
            <a:xfrm>
              <a:off x="7178400" y="3595680"/>
              <a:ext cx="56880" cy="118800"/>
              <a:chOff x="7178400" y="3595680"/>
              <a:chExt cx="56880" cy="118800"/>
            </a:xfrm>
          </p:grpSpPr>
          <p:sp>
            <p:nvSpPr>
              <p:cNvPr id="566" name=""/>
              <p:cNvSpPr/>
              <p:nvPr/>
            </p:nvSpPr>
            <p:spPr>
              <a:xfrm>
                <a:off x="7178400" y="359568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178400" y="3595680"/>
                <a:ext cx="550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178400" y="3595680"/>
                <a:ext cx="56880" cy="118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178400" y="3595680"/>
                <a:ext cx="55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7178400" y="36032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571" name=""/>
            <p:cNvGrpSpPr/>
            <p:nvPr/>
          </p:nvGrpSpPr>
          <p:grpSpPr>
            <a:xfrm>
              <a:off x="7576200" y="3316320"/>
              <a:ext cx="55440" cy="120240"/>
              <a:chOff x="7576200" y="3316320"/>
              <a:chExt cx="55440" cy="120240"/>
            </a:xfrm>
          </p:grpSpPr>
          <p:sp>
            <p:nvSpPr>
              <p:cNvPr id="572" name=""/>
              <p:cNvSpPr/>
              <p:nvPr/>
            </p:nvSpPr>
            <p:spPr>
              <a:xfrm>
                <a:off x="7576200" y="3316320"/>
                <a:ext cx="536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576200" y="3316320"/>
                <a:ext cx="536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576200" y="3316320"/>
                <a:ext cx="55440" cy="1202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576200" y="3316320"/>
                <a:ext cx="536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7575480" y="3323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577" name=""/>
            <p:cNvGrpSpPr/>
            <p:nvPr/>
          </p:nvGrpSpPr>
          <p:grpSpPr>
            <a:xfrm>
              <a:off x="7442640" y="4043880"/>
              <a:ext cx="55440" cy="120240"/>
              <a:chOff x="7442640" y="4043880"/>
              <a:chExt cx="55440" cy="120240"/>
            </a:xfrm>
          </p:grpSpPr>
          <p:sp>
            <p:nvSpPr>
              <p:cNvPr id="578" name=""/>
              <p:cNvSpPr/>
              <p:nvPr/>
            </p:nvSpPr>
            <p:spPr>
              <a:xfrm>
                <a:off x="7442640" y="404388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442640" y="4043880"/>
                <a:ext cx="554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442640" y="4043880"/>
                <a:ext cx="55440" cy="1202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442640" y="4043880"/>
                <a:ext cx="55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7441920" y="40518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583" name=""/>
            <p:cNvGrpSpPr/>
            <p:nvPr/>
          </p:nvGrpSpPr>
          <p:grpSpPr>
            <a:xfrm>
              <a:off x="7706880" y="3712680"/>
              <a:ext cx="56520" cy="119880"/>
              <a:chOff x="7706880" y="3712680"/>
              <a:chExt cx="56520" cy="119880"/>
            </a:xfrm>
          </p:grpSpPr>
          <p:sp>
            <p:nvSpPr>
              <p:cNvPr id="584" name=""/>
              <p:cNvSpPr/>
              <p:nvPr/>
            </p:nvSpPr>
            <p:spPr>
              <a:xfrm>
                <a:off x="7706880" y="3712680"/>
                <a:ext cx="5436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706880" y="3712680"/>
                <a:ext cx="54360" cy="118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706880" y="3712680"/>
                <a:ext cx="56520" cy="119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706880" y="3712680"/>
                <a:ext cx="5436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a:off x="7706880" y="37213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589" name=""/>
            <p:cNvGrpSpPr/>
            <p:nvPr/>
          </p:nvGrpSpPr>
          <p:grpSpPr>
            <a:xfrm>
              <a:off x="7508520" y="3052080"/>
              <a:ext cx="56520" cy="117720"/>
              <a:chOff x="7508520" y="3052080"/>
              <a:chExt cx="56520" cy="117720"/>
            </a:xfrm>
          </p:grpSpPr>
          <p:sp>
            <p:nvSpPr>
              <p:cNvPr id="590" name=""/>
              <p:cNvSpPr/>
              <p:nvPr/>
            </p:nvSpPr>
            <p:spPr>
              <a:xfrm>
                <a:off x="7508520" y="3052080"/>
                <a:ext cx="55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508520" y="3052080"/>
                <a:ext cx="55080" cy="1177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508520" y="3052080"/>
                <a:ext cx="56520" cy="117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508520" y="3052080"/>
                <a:ext cx="55080" cy="117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7508520" y="3061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595" name=""/>
            <p:cNvSpPr/>
            <p:nvPr/>
          </p:nvSpPr>
          <p:spPr>
            <a:xfrm>
              <a:off x="8102520" y="2841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596" name=""/>
            <p:cNvSpPr/>
            <p:nvPr/>
          </p:nvSpPr>
          <p:spPr>
            <a:xfrm>
              <a:off x="8432640" y="3258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597" name=""/>
            <p:cNvGrpSpPr/>
            <p:nvPr/>
          </p:nvGrpSpPr>
          <p:grpSpPr>
            <a:xfrm>
              <a:off x="8562960" y="3979440"/>
              <a:ext cx="56520" cy="118800"/>
              <a:chOff x="8562960" y="3979440"/>
              <a:chExt cx="56520" cy="118800"/>
            </a:xfrm>
          </p:grpSpPr>
          <p:sp>
            <p:nvSpPr>
              <p:cNvPr id="598" name=""/>
              <p:cNvSpPr/>
              <p:nvPr/>
            </p:nvSpPr>
            <p:spPr>
              <a:xfrm>
                <a:off x="8562960" y="3979440"/>
                <a:ext cx="565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562960" y="3979440"/>
                <a:ext cx="5652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562960" y="3979440"/>
                <a:ext cx="56520" cy="1188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562960" y="3979440"/>
                <a:ext cx="565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5465160" y="2787840"/>
              <a:ext cx="793800" cy="21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543280" y="2835000"/>
              <a:ext cx="93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ID = 0</a:t>
              </a:r>
              <a:endParaRPr b="0" lang="en-US" sz="1200" spc="-1" strike="noStrike">
                <a:solidFill>
                  <a:srgbClr val="000000"/>
                </a:solidFill>
                <a:latin typeface="Times New Roman"/>
              </a:endParaRPr>
            </a:p>
          </p:txBody>
        </p:sp>
        <p:sp>
          <p:nvSpPr>
            <p:cNvPr id="604" name=""/>
            <p:cNvSpPr/>
            <p:nvPr/>
          </p:nvSpPr>
          <p:spPr>
            <a:xfrm>
              <a:off x="8102520" y="3493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sp>
        <p:nvSpPr>
          <p:cNvPr id="605" name=""/>
          <p:cNvSpPr/>
          <p:nvPr/>
        </p:nvSpPr>
        <p:spPr>
          <a:xfrm>
            <a:off x="274680" y="2617920"/>
            <a:ext cx="4392720" cy="2182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grows via inquiry/inquiry scan technique, similar to 15.1.</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s assigned a network address composed of the Designated Device ID, Cluster ID, and Device ID (total of 24 bits).</a:t>
            </a:r>
            <a:endParaRPr b="0" lang="en-US" sz="2000" spc="-1" strike="noStrike">
              <a:solidFill>
                <a:srgbClr val="000000"/>
              </a:solidFill>
              <a:latin typeface="Times New Roman"/>
            </a:endParaRPr>
          </a:p>
        </p:txBody>
      </p:sp>
      <p:sp>
        <p:nvSpPr>
          <p:cNvPr id="606" name=""/>
          <p:cNvSpPr/>
          <p:nvPr/>
        </p:nvSpPr>
        <p:spPr>
          <a:xfrm>
            <a:off x="274680" y="5129280"/>
            <a:ext cx="7772400" cy="1120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ed Device assigns Cluster IDs; cluster heads assign device I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150579FC-280B-4B86-AF99-8695E37064CB}"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ting</a:t>
            </a:r>
            <a:endParaRPr b="0" lang="en-US" sz="4000" spc="-1" strike="noStrike">
              <a:solidFill>
                <a:srgbClr val="000000"/>
              </a:solidFill>
              <a:latin typeface="Arial"/>
            </a:endParaRPr>
          </a:p>
        </p:txBody>
      </p:sp>
      <p:sp>
        <p:nvSpPr>
          <p:cNvPr id="608" name="PlaceHolder 2"/>
          <p:cNvSpPr>
            <a:spLocks noGrp="1"/>
          </p:cNvSpPr>
          <p:nvPr>
            <p:ph/>
          </p:nvPr>
        </p:nvSpPr>
        <p:spPr>
          <a:xfrm>
            <a:off x="685440" y="1936800"/>
            <a:ext cx="807876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ode maintains a “neighbor list” of devices it can hear (designating its parent), plus a list of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overhear network maintenance messages to identify children and the route to the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in routing algorithm is to check the neighbor list; if destination is on the list, message is sent directly (“wormhole rou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message is sent to the parent; process is repeated until a node is reached that has the destination as a child (or on its neighbo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7E3E544-8306-4FEF-B93C-BD11E3FAB627}"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47640" y="709560"/>
            <a:ext cx="7772400" cy="69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Frame</a:t>
            </a:r>
            <a:endParaRPr b="0" lang="en-US" sz="4000" spc="-1" strike="noStrike">
              <a:solidFill>
                <a:srgbClr val="000000"/>
              </a:solidFill>
              <a:latin typeface="Arial"/>
            </a:endParaRPr>
          </a:p>
        </p:txBody>
      </p:sp>
      <p:sp>
        <p:nvSpPr>
          <p:cNvPr id="610" name="PlaceHolder 2"/>
          <p:cNvSpPr>
            <a:spLocks noGrp="1"/>
          </p:cNvSpPr>
          <p:nvPr>
            <p:ph/>
          </p:nvPr>
        </p:nvSpPr>
        <p:spPr>
          <a:xfrm>
            <a:off x="533520" y="1472760"/>
            <a:ext cx="8153280" cy="2476440"/>
          </a:xfrm>
          <a:prstGeom prst="rect">
            <a:avLst/>
          </a:prstGeom>
          <a:noFill/>
          <a:ln w="0">
            <a:noFill/>
          </a:ln>
        </p:spPr>
        <p:txBody>
          <a:bodyPr lIns="92160" rIns="92160" tIns="46080" bIns="460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ower power consumption, node duty cycle is reduced to </a:t>
            </a:r>
            <a:r>
              <a:rPr b="0" lang="en-US" sz="2000" spc="-1" strike="noStrike">
                <a:solidFill>
                  <a:srgbClr val="ff0000"/>
                </a:solidFill>
                <a:latin typeface="Arial"/>
              </a:rPr>
              <a:t>0.1%.</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for an asynchronous system, two nodes are unlikely to be simultaneously activ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to achieve the low cost goal, inexpensive time base elements (preferably ceramic resonators or, ideally, MEMS devices) are desired, which have relatively poor frequency stability.</a:t>
            </a:r>
            <a:endParaRPr b="0" lang="en-US" sz="2000" spc="-1" strike="noStrike">
              <a:solidFill>
                <a:srgbClr val="000000"/>
              </a:solidFill>
              <a:latin typeface="Arial"/>
            </a:endParaRPr>
          </a:p>
        </p:txBody>
      </p:sp>
      <p:grpSp>
        <p:nvGrpSpPr>
          <p:cNvPr id="611" name=""/>
          <p:cNvGrpSpPr/>
          <p:nvPr/>
        </p:nvGrpSpPr>
        <p:grpSpPr>
          <a:xfrm>
            <a:off x="457200" y="4317840"/>
            <a:ext cx="8229600" cy="1930680"/>
            <a:chOff x="457200" y="4317840"/>
            <a:chExt cx="8229600" cy="1930680"/>
          </a:xfrm>
        </p:grpSpPr>
        <p:sp>
          <p:nvSpPr>
            <p:cNvPr id="612" name=""/>
            <p:cNvSpPr/>
            <p:nvPr/>
          </p:nvSpPr>
          <p:spPr>
            <a:xfrm flipV="1">
              <a:off x="76212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62120" y="5257800"/>
              <a:ext cx="3045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4" name=""/>
            <p:cNvGrpSpPr/>
            <p:nvPr/>
          </p:nvGrpSpPr>
          <p:grpSpPr>
            <a:xfrm>
              <a:off x="1066680" y="5257800"/>
              <a:ext cx="0" cy="761760"/>
              <a:chOff x="1066680" y="5257800"/>
              <a:chExt cx="0" cy="761760"/>
            </a:xfrm>
          </p:grpSpPr>
          <p:sp>
            <p:nvSpPr>
              <p:cNvPr id="615" name=""/>
              <p:cNvSpPr/>
              <p:nvPr/>
            </p:nvSpPr>
            <p:spPr>
              <a:xfrm flipV="1">
                <a:off x="106668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106668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1066680" y="6019920"/>
              <a:ext cx="198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276720" y="6019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495680" y="5257800"/>
              <a:ext cx="0" cy="38088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495680" y="5257800"/>
              <a:ext cx="304920" cy="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4800600" y="5257800"/>
              <a:ext cx="0" cy="761760"/>
              <a:chOff x="4800600" y="5257800"/>
              <a:chExt cx="0" cy="761760"/>
            </a:xfrm>
          </p:grpSpPr>
          <p:sp>
            <p:nvSpPr>
              <p:cNvPr id="622" name=""/>
              <p:cNvSpPr/>
              <p:nvPr/>
            </p:nvSpPr>
            <p:spPr>
              <a:xfrm flipV="1">
                <a:off x="4800600" y="5257800"/>
                <a:ext cx="0" cy="38088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4800600" y="5638320"/>
                <a:ext cx="0" cy="3812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 name=""/>
            <p:cNvSpPr/>
            <p:nvPr/>
          </p:nvSpPr>
          <p:spPr>
            <a:xfrm>
              <a:off x="4800600" y="6019920"/>
              <a:ext cx="160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1066680" y="441936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2120" y="4724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4800600" y="441936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97180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2408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762120" y="5029200"/>
              <a:ext cx="30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7180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12408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1066680" y="45720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289320" y="4572000"/>
              <a:ext cx="15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80760" y="476244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s</a:t>
              </a:r>
              <a:endParaRPr b="0" lang="en-US" sz="1200" spc="-1" strike="noStrike">
                <a:solidFill>
                  <a:srgbClr val="000000"/>
                </a:solidFill>
                <a:latin typeface="Times New Roman"/>
              </a:endParaRPr>
            </a:p>
          </p:txBody>
        </p:sp>
        <p:sp>
          <p:nvSpPr>
            <p:cNvPr id="636" name=""/>
            <p:cNvSpPr/>
            <p:nvPr/>
          </p:nvSpPr>
          <p:spPr>
            <a:xfrm>
              <a:off x="2115720" y="431784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a:t>
              </a:r>
              <a:endParaRPr b="0" lang="en-US" sz="1400" spc="-1" strike="noStrike">
                <a:solidFill>
                  <a:srgbClr val="000000"/>
                </a:solidFill>
                <a:latin typeface="Times New Roman"/>
              </a:endParaRPr>
            </a:p>
          </p:txBody>
        </p:sp>
        <p:sp>
          <p:nvSpPr>
            <p:cNvPr id="637" name=""/>
            <p:cNvSpPr/>
            <p:nvPr/>
          </p:nvSpPr>
          <p:spPr>
            <a:xfrm>
              <a:off x="802080" y="5440320"/>
              <a:ext cx="2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638" name=""/>
            <p:cNvSpPr/>
            <p:nvPr/>
          </p:nvSpPr>
          <p:spPr>
            <a:xfrm flipV="1">
              <a:off x="76212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5720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62120" y="601992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495680" y="5638320"/>
              <a:ext cx="0" cy="381240"/>
            </a:xfrm>
            <a:prstGeom prst="line">
              <a:avLst/>
            </a:prstGeom>
            <a:ln w="190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91120" y="601992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49568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535640" y="5440320"/>
              <a:ext cx="308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x</a:t>
              </a:r>
              <a:endParaRPr b="0" lang="en-US" sz="1400" spc="-1" strike="noStrike">
                <a:solidFill>
                  <a:srgbClr val="000000"/>
                </a:solidFill>
                <a:latin typeface="Times New Roman"/>
              </a:endParaRPr>
            </a:p>
          </p:txBody>
        </p:sp>
        <p:sp>
          <p:nvSpPr>
            <p:cNvPr id="645" name=""/>
            <p:cNvSpPr/>
            <p:nvPr/>
          </p:nvSpPr>
          <p:spPr>
            <a:xfrm>
              <a:off x="4502160" y="4724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4501800" y="5029200"/>
              <a:ext cx="30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421160" y="476244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s</a:t>
              </a:r>
              <a:endParaRPr b="0" lang="en-US" sz="1200" spc="-1" strike="noStrike">
                <a:solidFill>
                  <a:srgbClr val="000000"/>
                </a:solidFill>
                <a:latin typeface="Times New Roman"/>
              </a:endParaRPr>
            </a:p>
          </p:txBody>
        </p:sp>
        <p:sp>
          <p:nvSpPr>
            <p:cNvPr id="648" name=""/>
            <p:cNvSpPr/>
            <p:nvPr/>
          </p:nvSpPr>
          <p:spPr>
            <a:xfrm>
              <a:off x="6705720" y="6019920"/>
              <a:ext cx="90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791208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912080" y="5257800"/>
              <a:ext cx="3049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1" name=""/>
            <p:cNvGrpSpPr/>
            <p:nvPr/>
          </p:nvGrpSpPr>
          <p:grpSpPr>
            <a:xfrm>
              <a:off x="8217000" y="5257800"/>
              <a:ext cx="0" cy="761760"/>
              <a:chOff x="8217000" y="5257800"/>
              <a:chExt cx="0" cy="761760"/>
            </a:xfrm>
          </p:grpSpPr>
          <p:sp>
            <p:nvSpPr>
              <p:cNvPr id="652" name=""/>
              <p:cNvSpPr/>
              <p:nvPr/>
            </p:nvSpPr>
            <p:spPr>
              <a:xfrm flipV="1">
                <a:off x="8217000" y="5257800"/>
                <a:ext cx="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821700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8217000" y="6019920"/>
              <a:ext cx="46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8217000" y="441936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912080" y="4724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7911720" y="5029200"/>
              <a:ext cx="30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40080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419720"/>
              <a:ext cx="165240" cy="38088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4800240" y="4572000"/>
              <a:ext cx="1600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831080" y="476244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s</a:t>
              </a:r>
              <a:endParaRPr b="0" lang="en-US" sz="1200" spc="-1" strike="noStrike">
                <a:solidFill>
                  <a:srgbClr val="000000"/>
                </a:solidFill>
                <a:latin typeface="Times New Roman"/>
              </a:endParaRPr>
            </a:p>
          </p:txBody>
        </p:sp>
        <p:sp>
          <p:nvSpPr>
            <p:cNvPr id="662" name=""/>
            <p:cNvSpPr/>
            <p:nvPr/>
          </p:nvSpPr>
          <p:spPr>
            <a:xfrm>
              <a:off x="5563800" y="431784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a:t>
              </a:r>
              <a:endParaRPr b="0" lang="en-US" sz="1400" spc="-1" strike="noStrike">
                <a:solidFill>
                  <a:srgbClr val="000000"/>
                </a:solidFill>
                <a:latin typeface="Times New Roman"/>
              </a:endParaRPr>
            </a:p>
          </p:txBody>
        </p:sp>
        <p:sp>
          <p:nvSpPr>
            <p:cNvPr id="663" name=""/>
            <p:cNvSpPr/>
            <p:nvPr/>
          </p:nvSpPr>
          <p:spPr>
            <a:xfrm>
              <a:off x="7952040" y="5440320"/>
              <a:ext cx="2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x</a:t>
              </a:r>
              <a:endParaRPr b="0" lang="en-US" sz="1400" spc="-1" strike="noStrike">
                <a:solidFill>
                  <a:srgbClr val="000000"/>
                </a:solidFill>
                <a:latin typeface="Times New Roman"/>
              </a:endParaRPr>
            </a:p>
          </p:txBody>
        </p:sp>
        <p:sp>
          <p:nvSpPr>
            <p:cNvPr id="664" name=""/>
            <p:cNvSpPr/>
            <p:nvPr/>
          </p:nvSpPr>
          <p:spPr>
            <a:xfrm flipV="1">
              <a:off x="7912080" y="5638320"/>
              <a:ext cx="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60716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12080" y="60199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705720" y="45720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40080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553080" y="5867280"/>
              <a:ext cx="165240" cy="381240"/>
            </a:xfrm>
            <a:custGeom>
              <a:avLst/>
              <a:gdLst/>
              <a:ahLst/>
              <a:rect l="l" t="t" r="r" b="b"/>
              <a:pathLst>
                <a:path w="152" h="336">
                  <a:moveTo>
                    <a:pt x="96" y="0"/>
                  </a:moveTo>
                  <a:cubicBezTo>
                    <a:pt x="68" y="60"/>
                    <a:pt x="40" y="120"/>
                    <a:pt x="48" y="144"/>
                  </a:cubicBezTo>
                  <a:cubicBezTo>
                    <a:pt x="56" y="168"/>
                    <a:pt x="152" y="112"/>
                    <a:pt x="144" y="144"/>
                  </a:cubicBezTo>
                  <a:cubicBezTo>
                    <a:pt x="136" y="176"/>
                    <a:pt x="68" y="256"/>
                    <a:pt x="0" y="33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258B6DB-4CE2-4EB9-A9F2-9905121E1165}"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725400"/>
            <a:ext cx="7772400" cy="814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oha Statistics</a:t>
            </a:r>
            <a:endParaRPr b="0" lang="en-US" sz="4000" spc="-1" strike="noStrike">
              <a:solidFill>
                <a:srgbClr val="000000"/>
              </a:solidFill>
              <a:latin typeface="Arial"/>
            </a:endParaRPr>
          </a:p>
        </p:txBody>
      </p:sp>
      <p:pic>
        <p:nvPicPr>
          <p:cNvPr id="671" name="Capacity" descr=""/>
          <p:cNvPicPr/>
          <p:nvPr/>
        </p:nvPicPr>
        <p:blipFill>
          <a:blip r:embed="rId1"/>
          <a:stretch/>
        </p:blipFill>
        <p:spPr>
          <a:xfrm>
            <a:off x="0" y="1539720"/>
            <a:ext cx="4653000" cy="3489480"/>
          </a:xfrm>
          <a:prstGeom prst="rect">
            <a:avLst/>
          </a:prstGeom>
          <a:ln w="0">
            <a:noFill/>
          </a:ln>
        </p:spPr>
      </p:pic>
      <p:pic>
        <p:nvPicPr>
          <p:cNvPr id="672" name="Colli_Fix_Pro" descr=""/>
          <p:cNvPicPr/>
          <p:nvPr/>
        </p:nvPicPr>
        <p:blipFill>
          <a:blip r:embed="rId2"/>
          <a:stretch/>
        </p:blipFill>
        <p:spPr>
          <a:xfrm>
            <a:off x="4419720" y="1539720"/>
            <a:ext cx="4724280" cy="3543480"/>
          </a:xfrm>
          <a:prstGeom prst="rect">
            <a:avLst/>
          </a:prstGeom>
          <a:ln w="0">
            <a:noFill/>
          </a:ln>
        </p:spPr>
      </p:pic>
      <p:sp>
        <p:nvSpPr>
          <p:cNvPr id="673" name=""/>
          <p:cNvSpPr/>
          <p:nvPr/>
        </p:nvSpPr>
        <p:spPr>
          <a:xfrm>
            <a:off x="506520" y="5029200"/>
            <a:ext cx="8291520" cy="116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short (1 ms) transmissions, collisions are unlikely.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liability (</a:t>
            </a:r>
            <a:r>
              <a:rPr b="0" lang="en-US" sz="2000" spc="-1" strike="noStrike">
                <a:solidFill>
                  <a:srgbClr val="ff0000"/>
                </a:solidFill>
                <a:latin typeface="Arial"/>
              </a:rPr>
              <a:t>poor reference stability</a:t>
            </a:r>
            <a:r>
              <a:rPr b="0" lang="en-US" sz="2000" spc="-1" strike="noStrike">
                <a:solidFill>
                  <a:srgbClr val="000000"/>
                </a:solidFill>
                <a:latin typeface="Arial"/>
              </a:rPr>
              <a:t>) is turned into an asset (</a:t>
            </a:r>
            <a:r>
              <a:rPr b="0" lang="en-US" sz="2000" spc="-1" strike="noStrike">
                <a:solidFill>
                  <a:srgbClr val="33cc33"/>
                </a:solidFill>
                <a:latin typeface="Arial"/>
              </a:rPr>
              <a:t>randomized transmission timing</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3F05CFF3-3A6D-4086-AEB1-7158CF1F98BC}"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4474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dicated Mediation Devices</a:t>
            </a:r>
            <a:endParaRPr b="0" lang="en-US" sz="4000" spc="-1" strike="noStrike">
              <a:solidFill>
                <a:srgbClr val="000000"/>
              </a:solidFill>
              <a:latin typeface="Arial"/>
            </a:endParaRPr>
          </a:p>
        </p:txBody>
      </p:sp>
      <p:sp>
        <p:nvSpPr>
          <p:cNvPr id="675" name="PlaceHolder 2"/>
          <p:cNvSpPr>
            <a:spLocks noGrp="1"/>
          </p:cNvSpPr>
          <p:nvPr>
            <p:ph/>
          </p:nvPr>
        </p:nvSpPr>
        <p:spPr>
          <a:xfrm>
            <a:off x="762120" y="1430280"/>
            <a:ext cx="7772400" cy="3549600"/>
          </a:xfrm>
          <a:prstGeom prst="rect">
            <a:avLst/>
          </a:prstGeom>
          <a:noFill/>
          <a:ln w="0">
            <a:noFill/>
          </a:ln>
        </p:spPr>
        <p:txBody>
          <a:bodyPr lIns="92160" rIns="92160" tIns="46080" bIns="460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nodes to synchronize, Mediation Devices (MDs), which can record and replay messages, are dispersed throughout the network.</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 MDs receive for a period of time (e.g., 2 s), transmit as needed, sleep, then repeat the proces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s, like telephone answering machines, are simple: They must record and replay simple control words such as who is transmitting, who is desired, timing information, and perhaps short messages.</a:t>
            </a:r>
            <a:endParaRPr b="0" lang="en-US" sz="2000" spc="-1" strike="noStrike">
              <a:solidFill>
                <a:srgbClr val="000000"/>
              </a:solidFill>
              <a:latin typeface="Arial"/>
            </a:endParaRPr>
          </a:p>
        </p:txBody>
      </p:sp>
      <p:grpSp>
        <p:nvGrpSpPr>
          <p:cNvPr id="676" name=""/>
          <p:cNvGrpSpPr/>
          <p:nvPr/>
        </p:nvGrpSpPr>
        <p:grpSpPr>
          <a:xfrm>
            <a:off x="685800" y="4830840"/>
            <a:ext cx="7848720" cy="1467360"/>
            <a:chOff x="685800" y="4830840"/>
            <a:chExt cx="7848720" cy="1467360"/>
          </a:xfrm>
        </p:grpSpPr>
        <p:sp>
          <p:nvSpPr>
            <p:cNvPr id="677" name=""/>
            <p:cNvSpPr/>
            <p:nvPr/>
          </p:nvSpPr>
          <p:spPr>
            <a:xfrm>
              <a:off x="807480" y="5942160"/>
              <a:ext cx="766080" cy="307080"/>
            </a:xfrm>
            <a:prstGeom prst="rect">
              <a:avLst/>
            </a:prstGeom>
            <a:noFill/>
            <a:ln w="1908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eceive</a:t>
              </a:r>
              <a:endParaRPr b="0" lang="en-US" sz="1400" spc="-1" strike="noStrike">
                <a:solidFill>
                  <a:srgbClr val="000000"/>
                </a:solidFill>
                <a:latin typeface="Times New Roman"/>
              </a:endParaRPr>
            </a:p>
          </p:txBody>
        </p:sp>
        <p:sp>
          <p:nvSpPr>
            <p:cNvPr id="678" name=""/>
            <p:cNvSpPr/>
            <p:nvPr/>
          </p:nvSpPr>
          <p:spPr>
            <a:xfrm>
              <a:off x="4188960" y="5942160"/>
              <a:ext cx="766080" cy="307080"/>
            </a:xfrm>
            <a:prstGeom prst="rect">
              <a:avLst/>
            </a:prstGeom>
            <a:noFill/>
            <a:ln w="1908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eceive</a:t>
              </a:r>
              <a:endParaRPr b="0" lang="en-US" sz="1400" spc="-1" strike="noStrike">
                <a:solidFill>
                  <a:srgbClr val="000000"/>
                </a:solidFill>
                <a:latin typeface="Times New Roman"/>
              </a:endParaRPr>
            </a:p>
          </p:txBody>
        </p:sp>
        <p:sp>
          <p:nvSpPr>
            <p:cNvPr id="679" name=""/>
            <p:cNvSpPr/>
            <p:nvPr/>
          </p:nvSpPr>
          <p:spPr>
            <a:xfrm>
              <a:off x="7578000" y="5942160"/>
              <a:ext cx="766080" cy="307080"/>
            </a:xfrm>
            <a:prstGeom prst="rect">
              <a:avLst/>
            </a:prstGeom>
            <a:noFill/>
            <a:ln w="1908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Receive</a:t>
              </a:r>
              <a:endParaRPr b="0" lang="en-US" sz="1400" spc="-1" strike="noStrike">
                <a:solidFill>
                  <a:srgbClr val="000000"/>
                </a:solidFill>
                <a:latin typeface="Times New Roman"/>
              </a:endParaRPr>
            </a:p>
          </p:txBody>
        </p:sp>
        <p:sp>
          <p:nvSpPr>
            <p:cNvPr id="680" name=""/>
            <p:cNvSpPr/>
            <p:nvPr/>
          </p:nvSpPr>
          <p:spPr>
            <a:xfrm flipV="1">
              <a:off x="1709640" y="596736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1862280" y="597528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073240" y="597528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5208480" y="596736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19800" y="5967360"/>
              <a:ext cx="0" cy="287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618920" y="57164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x</a:t>
              </a:r>
              <a:endParaRPr b="0" lang="en-US" sz="1400" spc="-1" strike="noStrike">
                <a:solidFill>
                  <a:srgbClr val="000000"/>
                </a:solidFill>
                <a:latin typeface="Times New Roman"/>
              </a:endParaRPr>
            </a:p>
          </p:txBody>
        </p:sp>
        <p:sp>
          <p:nvSpPr>
            <p:cNvPr id="686" name=""/>
            <p:cNvSpPr/>
            <p:nvPr/>
          </p:nvSpPr>
          <p:spPr>
            <a:xfrm>
              <a:off x="5067000" y="57229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x</a:t>
              </a:r>
              <a:endParaRPr b="0" lang="en-US" sz="1400" spc="-1" strike="noStrike">
                <a:solidFill>
                  <a:srgbClr val="000000"/>
                </a:solidFill>
                <a:latin typeface="Times New Roman"/>
              </a:endParaRPr>
            </a:p>
          </p:txBody>
        </p:sp>
        <p:sp>
          <p:nvSpPr>
            <p:cNvPr id="687" name=""/>
            <p:cNvSpPr/>
            <p:nvPr/>
          </p:nvSpPr>
          <p:spPr>
            <a:xfrm>
              <a:off x="2746440" y="59911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eep)</a:t>
              </a:r>
              <a:endParaRPr b="0" lang="en-US" sz="1400" spc="-1" strike="noStrike">
                <a:solidFill>
                  <a:srgbClr val="000000"/>
                </a:solidFill>
                <a:latin typeface="Times New Roman"/>
              </a:endParaRPr>
            </a:p>
          </p:txBody>
        </p:sp>
        <p:sp>
          <p:nvSpPr>
            <p:cNvPr id="688" name=""/>
            <p:cNvSpPr/>
            <p:nvPr/>
          </p:nvSpPr>
          <p:spPr>
            <a:xfrm>
              <a:off x="6532560" y="598788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eep)</a:t>
              </a:r>
              <a:endParaRPr b="0" lang="en-US" sz="1400" spc="-1" strike="noStrike">
                <a:solidFill>
                  <a:srgbClr val="000000"/>
                </a:solidFill>
                <a:latin typeface="Times New Roman"/>
              </a:endParaRPr>
            </a:p>
          </p:txBody>
        </p:sp>
        <p:sp>
          <p:nvSpPr>
            <p:cNvPr id="689" name=""/>
            <p:cNvSpPr/>
            <p:nvPr/>
          </p:nvSpPr>
          <p:spPr>
            <a:xfrm>
              <a:off x="1026720" y="535608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a:t>
              </a:r>
              <a:endParaRPr b="0" lang="en-US" sz="1400" spc="-1" strike="noStrike">
                <a:solidFill>
                  <a:srgbClr val="000000"/>
                </a:solidFill>
                <a:latin typeface="Times New Roman"/>
              </a:endParaRPr>
            </a:p>
          </p:txBody>
        </p:sp>
        <p:sp>
          <p:nvSpPr>
            <p:cNvPr id="690" name=""/>
            <p:cNvSpPr/>
            <p:nvPr/>
          </p:nvSpPr>
          <p:spPr>
            <a:xfrm flipV="1">
              <a:off x="797040" y="5048280"/>
              <a:ext cx="0" cy="7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1565280" y="5381640"/>
              <a:ext cx="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7040" y="5656320"/>
              <a:ext cx="768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07840" y="535608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a:t>
              </a:r>
              <a:endParaRPr b="0" lang="en-US" sz="1400" spc="-1" strike="noStrike">
                <a:solidFill>
                  <a:srgbClr val="000000"/>
                </a:solidFill>
                <a:latin typeface="Times New Roman"/>
              </a:endParaRPr>
            </a:p>
          </p:txBody>
        </p:sp>
        <p:sp>
          <p:nvSpPr>
            <p:cNvPr id="694" name=""/>
            <p:cNvSpPr/>
            <p:nvPr/>
          </p:nvSpPr>
          <p:spPr>
            <a:xfrm flipV="1">
              <a:off x="4178160" y="5048280"/>
              <a:ext cx="0" cy="7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4968720" y="5381640"/>
              <a:ext cx="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78160" y="5656320"/>
              <a:ext cx="787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797240" y="535608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a:t>
              </a:r>
              <a:endParaRPr b="0" lang="en-US" sz="1400" spc="-1" strike="noStrike">
                <a:solidFill>
                  <a:srgbClr val="000000"/>
                </a:solidFill>
                <a:latin typeface="Times New Roman"/>
              </a:endParaRPr>
            </a:p>
          </p:txBody>
        </p:sp>
        <p:sp>
          <p:nvSpPr>
            <p:cNvPr id="698" name=""/>
            <p:cNvSpPr/>
            <p:nvPr/>
          </p:nvSpPr>
          <p:spPr>
            <a:xfrm flipV="1">
              <a:off x="7567560" y="5048280"/>
              <a:ext cx="0" cy="7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8358120" y="5381640"/>
              <a:ext cx="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567560" y="5656320"/>
              <a:ext cx="790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97040" y="5202360"/>
              <a:ext cx="3381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983240" y="4830840"/>
              <a:ext cx="42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s</a:t>
              </a:r>
              <a:endParaRPr b="0" lang="en-US" sz="1400" spc="-1" strike="noStrike">
                <a:solidFill>
                  <a:srgbClr val="000000"/>
                </a:solidFill>
                <a:latin typeface="Times New Roman"/>
              </a:endParaRPr>
            </a:p>
          </p:txBody>
        </p:sp>
        <p:sp>
          <p:nvSpPr>
            <p:cNvPr id="703" name=""/>
            <p:cNvSpPr/>
            <p:nvPr/>
          </p:nvSpPr>
          <p:spPr>
            <a:xfrm>
              <a:off x="4179960" y="5202360"/>
              <a:ext cx="3381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366160" y="4830840"/>
              <a:ext cx="42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s</a:t>
              </a:r>
              <a:endParaRPr b="0" lang="en-US" sz="1400" spc="-1" strike="noStrike">
                <a:solidFill>
                  <a:srgbClr val="000000"/>
                </a:solidFill>
                <a:latin typeface="Times New Roman"/>
              </a:endParaRPr>
            </a:p>
          </p:txBody>
        </p:sp>
        <p:sp>
          <p:nvSpPr>
            <p:cNvPr id="705" name=""/>
            <p:cNvSpPr/>
            <p:nvPr/>
          </p:nvSpPr>
          <p:spPr>
            <a:xfrm>
              <a:off x="685800" y="6265800"/>
              <a:ext cx="784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4338F4D2-7EDF-451C-8DE5-EF0A220989F5}"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Ed Callaway</cp:lastModifiedBy>
  <dcterms:modified xsi:type="dcterms:W3CDTF">2001-03-13T13:41:37Z</dcterms:modified>
  <cp:revision>43</cp:revision>
  <dc:subject/>
  <dc:title>Motorola IEEE 802.15.4 MAC Proposal</dc:title>
</cp:coreProperties>
</file>