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3AD77-1592-4C9A-B7EF-BBC4CDCC0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EA4E9-5A81-47F2-BB51-4F70B7D7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A114F-1B77-4D2B-AE25-99097131A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A72AD-3582-4AC3-A805-ACF169306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3A04-CF39-4F00-931A-41DBC4B4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5A85-4031-47D2-A5CA-875B8206C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88EF-EBC6-4A11-8AF1-708B7790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E7632-E1D1-4B7E-9B8F-6F28A4C95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5C69C-F293-4B10-9C40-9AF02709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15DAD-22EC-4C9C-A031-4A38BE39F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4C7C-934A-4732-B60C-9EC2CF68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5CC1-41ED-4963-9DE2-DB03604C9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BDC0D8-3578-46DE-B1AE-DE039EFAB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7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3CDF0D2-4306-4B57-8630-46C9696DEA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G1 Wireless 802 Microwave Magazine Articl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2Mar0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0/126r1 &amp; May01 Special Issue of IEEE Microwave Magazine - targeted for handout at the MTT-S 2001 http://www.ieee.org/organizations/pubs/magazines/mm.ht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Graphics for an article that provides an update on the IEEE 802.15 – as of 25Feb0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e purpose of this Magazine Article is to promote the emerging wireless standards-making WGs inside of IEEE 802 and the IEEE Computer Society.  There is reason to believe we can place this article into IEEE Spectrum and/or other IEEE Magazines NLT this Summ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962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1 Wireless 802 Microwave Magazine Article Graph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2001 Hilton Head (HH) Island, SC US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537BD7B-D71D-4FA3-9076-A405A5A3C0AF}"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s for r1 artic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54FF019-E017-4BEB-A6E2-AE5EC203C221}"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gure 1 802.15 Project Planning, as of 25Feb01</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5" name=""/>
          <p:cNvGraphicFramePr/>
          <p:nvPr/>
        </p:nvGraphicFramePr>
        <p:xfrm>
          <a:off x="28440" y="2685960"/>
          <a:ext cx="9087120" cy="2237040"/>
        </p:xfrm>
        <a:graphic>
          <a:graphicData uri="http://schemas.openxmlformats.org/presentationml/2006/ole">
            <p:oleObj progId="Excel.Sheet.12" r:id="rId1" spid="">
              <p:embed/>
              <p:pic>
                <p:nvPicPr>
                  <p:cNvPr id="56" name="" descr=""/>
                  <p:cNvPicPr/>
                  <p:nvPr/>
                </p:nvPicPr>
                <p:blipFill>
                  <a:blip r:embed="rId2"/>
                  <a:stretch/>
                </p:blipFill>
                <p:spPr>
                  <a:xfrm>
                    <a:off x="28440" y="2685960"/>
                    <a:ext cx="9087120" cy="22370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A029364-9597-4602-A282-7E51703B7765}" type="slidenum">
              <a:t>4</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ea typeface="Times New Roman"/>
              </a:rPr>
              <a:t>Figure 2 Mapping of ISO OSI to scope of WPAN standar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
          <p:cNvSpPr/>
          <p:nvPr/>
        </p:nvSpPr>
        <p:spPr>
          <a:xfrm>
            <a:off x="1604880" y="17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Bluetooth_block_r5_ISO" descr=""/>
          <p:cNvPicPr/>
          <p:nvPr/>
        </p:nvPicPr>
        <p:blipFill>
          <a:blip r:embed="rId1"/>
          <a:stretch/>
        </p:blipFill>
        <p:spPr>
          <a:xfrm>
            <a:off x="533520" y="1981080"/>
            <a:ext cx="7778520" cy="43084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EDADA89-39C4-4A8F-893A-9CBCACD2E0ED}" type="slidenum">
              <a:t>5</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gure 3 802.15.2, The Four Areas of the Coexistence Mode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
          <p:cNvSpPr/>
          <p:nvPr/>
        </p:nvSpPr>
        <p:spPr>
          <a:xfrm>
            <a:off x="26431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Coexistence-Model" descr=""/>
          <p:cNvPicPr/>
          <p:nvPr/>
        </p:nvPicPr>
        <p:blipFill>
          <a:blip r:embed="rId1"/>
          <a:stretch/>
        </p:blipFill>
        <p:spPr>
          <a:xfrm>
            <a:off x="457200" y="2057400"/>
            <a:ext cx="8263080" cy="387684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B87487A-36F0-4821-9710-368605457C13}" type="slidenum">
              <a:t>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gue 4 802.15.4 Project Plan, 19Jan01</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64" name=""/>
          <p:cNvGraphicFramePr/>
          <p:nvPr/>
        </p:nvGraphicFramePr>
        <p:xfrm>
          <a:off x="812880" y="2666880"/>
          <a:ext cx="7797600" cy="2627280"/>
        </p:xfrm>
        <a:graphic>
          <a:graphicData uri="http://schemas.openxmlformats.org/presentationml/2006/ole">
            <p:oleObj progId="Excel.Sheet.12" r:id="rId1" spid="">
              <p:embed/>
              <p:pic>
                <p:nvPicPr>
                  <p:cNvPr id="65" name="" descr=""/>
                  <p:cNvPicPr/>
                  <p:nvPr/>
                </p:nvPicPr>
                <p:blipFill>
                  <a:blip r:embed="rId2"/>
                  <a:stretch/>
                </p:blipFill>
                <p:spPr>
                  <a:xfrm>
                    <a:off x="812880" y="2666880"/>
                    <a:ext cx="7797600" cy="26272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F925460-9E22-4EE5-8C2F-B6BC2A9456EA}" type="slidenum">
              <a:t>7</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Mr. Ian Gifford 
Director of Standards 
M/A-COM, Inc. 
1011 Pawtucket Boulevard 
Lowell, MA 01853-3295, USA 
TEL +1 978 442 4650 
FAX +1 978 442 5442 
E-M giffordi@tycoelectronics.com
</dc:description>
  <cp:keywords>March 2001</cp:keywords>
  <dc:language>en-US</dc:language>
  <cp:lastModifiedBy>MA013831</cp:lastModifiedBy>
  <cp:lastPrinted>1998-02-10T13:28:06Z</cp:lastPrinted>
  <dcterms:modified xsi:type="dcterms:W3CDTF">2001-03-11T18:21:42Z</dcterms:modified>
  <cp:revision>285</cp:revision>
  <dc:subject>IEEE 802.15 Working Group for Wireless Personal Area Networks (WPANs)</dc:subject>
  <dc:title>TG1 Wireless 802 Microwave Magazine Article</dc:title>
</cp:coreProperties>
</file>