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33D19-B4DA-4549-A1B0-8B8C6C6E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741F-D948-44CE-ADA0-EC3E5A7CC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CA2B1-2D80-4D0E-958E-C05735613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CF5BE-EE8E-4D0B-B67E-8684FF711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B148D-35F1-40E5-B58C-A04838DD8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943F-84E2-4F36-98BA-71E132A33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183F-E53E-4EAB-A305-A4FCCE12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46E0-F97C-4E19-B611-3060D504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F00E-BF45-4880-9B63-681FBE3B2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6AF1-71D3-49D6-875D-3AEC8EA3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E812-D467-48B8-B18F-6494E6EF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96EE-C48F-411D-A8F2-58848F397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167040"/>
            <a:ext cx="16002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886409-90F7-4B92-9642-3FDE0FC7A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0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40F1041-9238-4A67-9FFA-6C303D1222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167040"/>
            <a:ext cx="1600200" cy="4266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r>
              <a:rPr b="1" lang="en-US" sz="1400" spc="-1" strike="noStrike">
                <a:solidFill>
                  <a:srgbClr val="ffffff"/>
                </a:solidFill>
                <a:latin typeface="Times New Roman"/>
              </a:rPr>
              <a:t>March 2001</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12Mar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Mar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098r2P802-15_TG3-Mar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Summary</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PHY Draft review</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ng Definition Review</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ization/PSD</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FEC</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Evening: OQPSK/QPSK CAZAC Implications (8:00P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Joint MAC/PHY Session</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otiation and Changing Data rate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format and information</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Resolution of other issu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on proposed PHY amendments (8:36AM)</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PHY issue resolution (4:31P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A633B27-37F9-4817-B7DA-1E58B390F4A8}"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1 of x)</a:t>
            </a:r>
            <a:endParaRPr b="0" lang="en-US" sz="3600" spc="-1" strike="noStrike">
              <a:solidFill>
                <a:srgbClr val="000000"/>
              </a:solidFill>
              <a:latin typeface="Times New Roman"/>
            </a:endParaRPr>
          </a:p>
        </p:txBody>
      </p:sp>
      <p:sp>
        <p:nvSpPr>
          <p:cNvPr id="10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91000"/>
          </a:bodyPr>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0407r2_TG3-Draft-Standard-Organization.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34r2P802-15_TG3-MAC-Clause7-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69r2P802-15_TG3-Channel-plan-for-HR-WPAN .doc</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75r2P802-15_TG3-running ConCall-minutes-MAC-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76r4P802-15_TG3-running ConCall-minutes-PHY-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90r2P802-15_TG3-Measurement-Accuracy.pdf</a:t>
            </a:r>
            <a:r>
              <a:rPr b="0" lang="en-US" sz="2000" spc="-1" strike="noStrike">
                <a:solidFill>
                  <a:srgbClr val="000000"/>
                </a:solidFill>
                <a:latin typeface="Times New Roman"/>
              </a:rPr>
              <a:t>	</a:t>
            </a:r>
            <a:r>
              <a:rPr b="0" lang="en-US" sz="2000" spc="-1" strike="noStrike">
                <a:solidFill>
                  <a:srgbClr val="000000"/>
                </a:solidFill>
                <a:latin typeface="Times New Roman"/>
              </a:rPr>
              <a:t>Music</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98r2P802-15_TG3-High-Rate-Agenda-Mar01.xls</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2r0P802-15_TG3-Opening-Report-12Mar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4r0P802-15_TG3-MAC-Open-Issues-List.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1212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5R0P802-15_TG3-MAC-Ad-Hoc-Meeting-Agenda-Feb01.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AB9F0DF-C19D-445C-A155-3EAC7692512A}"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2 of 2)</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20r0P802.15_TG3-XSI-MAC-suggestions.ppt</a:t>
            </a:r>
            <a:r>
              <a:rPr b="0" lang="en-US" sz="2000" spc="-1" strike="noStrike">
                <a:solidFill>
                  <a:srgbClr val="000000"/>
                </a:solidFill>
                <a:latin typeface="Times New Roman"/>
              </a:rPr>
              <a:t>	</a:t>
            </a:r>
            <a:r>
              <a:rPr b="0" lang="en-US" sz="2000" spc="-1" strike="noStrike">
                <a:solidFill>
                  <a:srgbClr val="000000"/>
                </a:solidFill>
                <a:latin typeface="Times New Roman"/>
              </a:rPr>
              <a:t>Shvodia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21r1P802-15_TG3-MAC-Clause9-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22r1P802-15_TG3-PHY-Issues-List.xls</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47r0P802-15_TG3-Tx-clock-synchronization.pp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54r0P802-15_TG3-Overview-of-802-11-Security.ppt</a:t>
            </a:r>
            <a:r>
              <a:rPr b="0" lang="en-US" sz="2000" spc="-1" strike="noStrike">
                <a:solidFill>
                  <a:srgbClr val="000000"/>
                </a:solidFill>
                <a:latin typeface="Times New Roman"/>
              </a:rPr>
              <a:t>	</a:t>
            </a:r>
            <a:r>
              <a:rPr b="0" lang="en-US" sz="2000" spc="-1" strike="noStrike">
                <a:solidFill>
                  <a:srgbClr val="000000"/>
                </a:solidFill>
                <a:latin typeface="Times New Roman"/>
              </a:rPr>
              <a:t>Walk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d02P802-15-3__Draft_Standard.pdf</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A6B44E3-7143-46BF-805C-2A4F5EE1503C}"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March Session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Overview of baseline draf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Review of committee work and resolution of outstanding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802.11e Security Pres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Resolution of issues and preparation of baseline draft amend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 Voting on MAC, PHY, and System amendments, and vote on baseline draf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Standard drafting, committee reports, Updating project plan, March-May work plan, and WG re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C999CFD-60A5-4C3E-8E8B-8FD71FC97976}"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March 26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0D3C7A5-1663-4C4C-9B15-E7CEF1D7E7B9}"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01, Hilton Head, SC</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A12BAF6-A04B-475E-8FFC-F757E42084F7}"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March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BCA3639-740D-4706-8DDC-D291379EC6CF}"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anuar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status, including approval of any ad hoc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 on acceptance of baselin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outstand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ssues requiring re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work plan for March-M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037D32F-BD33-4832-AD7D-6122ECED27B8}"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3099F8D-BB60-429C-9CAF-496284EDD504}"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MAC/PHY standard of high rate WPAN</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Establish base line draft, March, 2001. Working Group draft, Ma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2CF0B46-32B2-470F-B264-FA7F49C7C9F8}"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Finalize clauses for base line draft. Identify key issues and create proposed resolution for vote to approve base line draft during Hilton Head mee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Thurs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BC9319F-14CD-440E-8088-A7419B24066B}"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ummary</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142640"/>
            <a:ext cx="792468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Overview of MAC clauses in base line draf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view of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access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free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management SA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mp; Privacy (Ref 802.11e wor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MAC Issue Resolu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MAC review and issue re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ize proposed MAC baseline ammend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MAC/PHY session to resolve issu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C Planning and Issue Resolu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approve MAC ammendments (8:06 A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 session at 4:00 P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A39E505-437A-4F63-97ED-DFEEB2BFE6B6}"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s Summary</a:t>
            </a:r>
            <a:endParaRPr b="0" lang="en-US" sz="3600" spc="-1" strike="noStrike">
              <a:solidFill>
                <a:srgbClr val="000000"/>
              </a:solidFill>
              <a:latin typeface="Times New Roman"/>
            </a:endParaRPr>
          </a:p>
        </p:txBody>
      </p:sp>
      <p:sp>
        <p:nvSpPr>
          <p:cNvPr id="97"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Systems committee re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esday: Systems Issue Resolution (1:00P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proposed amendments (5:21P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dnesday: Vote on systems amendments (8:36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296E9D2-DF15-4F3A-8483-FFA3CBDDD01B}"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MA013831</cp:lastModifiedBy>
  <cp:lastPrinted>1998-02-10T13:28:06Z</cp:lastPrinted>
  <dcterms:modified xsi:type="dcterms:W3CDTF">2001-03-13T01:41:35Z</dcterms:modified>
  <cp:revision>233</cp:revision>
  <dc:subject>TG3 Opening Report, 12Mar01</dc:subject>
  <dc:title>IEEE P802.15 Working Group for Wireless Personal Area Networks</dc:title>
</cp:coreProperties>
</file>