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86E-947C-43BE-AAF7-262C58A3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2AFF-B429-4DAD-B5E9-3F18F30E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A7E7-D09D-4483-9CA6-ED4264B5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3DDF-2B21-423A-80FC-CB106F6B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9DE2-D2C3-4F17-A44C-711023E7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281F-32C6-43C4-8894-EE8916F4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88A-34BE-4F05-A54C-74B246D1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BC4-2DA8-403C-B90F-EA0BC323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BF6-7055-4B49-A298-F3E62610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1442-FDBF-4C24-A224-7E178F2C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CF7B-68DE-4FCD-9402-65F81B8E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09D0-6749-4264-B4D6-D2BA5A41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a Golmie, 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68C87C5-D004-4716-95DB-84818A746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18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aptive Frequency Hopp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d-Hoc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5588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: Combine the proposals received on AFH (01/367r1-01/57r1-01/169r0-01/082r0) and recommend a single AFH proposal to TG2 based on the agreed AFH princi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: The group will have a bi-weekly telecon TB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G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5F2-5A3C-4598-BA0D-11B1E863DEE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4600" y="6220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aptive Frequency Hopp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d-Hoc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1960" y="153648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uj Ba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en Elie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g 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an Tri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C 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a Gol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who wants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a Golmie  (nada@nist.go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G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EE60-E394-4D9A-8D51-98F2F848B52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748800"/>
            <a:ext cx="8229600" cy="9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aptive Frequency Hopp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d-Hoc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9216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-Hoc group telecon meeting will be announced on the TG2 refl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: Form an Ad-hoc group on Adaptive Frequency Hop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G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DAF1-6050-4ACF-8EB0-12F094121D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inciples of AF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0240" y="1625400"/>
            <a:ext cx="8141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Qualit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mapping of channels from original hopping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frequency hopping sequ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hopping sequence length / Short Period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s on to the Bluetooth specifications (Baseband and L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exchange of new sequ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 compatibility with legacy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G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48B-6CC5-4B18-9B36-8C2DF02E59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/>
  <dc:description>&lt;doc#&gt;</dc:description>
  <dc:language>en-US</dc:language>
  <cp:lastModifiedBy>Stephen J. Shellhammer</cp:lastModifiedBy>
  <cp:lastPrinted>1998-02-10T13:28:06Z</cp:lastPrinted>
  <dcterms:modified xsi:type="dcterms:W3CDTF">2001-03-15T20:44:29Z</dcterms:modified>
  <cp:revision>433</cp:revision>
  <dc:subject>IEEE 802.15 &lt;subject&gt;</dc:subject>
  <dc:title>&lt;title&gt;</dc:title>
</cp:coreProperties>
</file>