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EE2A-0E14-44FF-B1D1-561308B7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9634-53AA-48A7-B480-B5E41D1A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6A6C-B829-4CD6-AA6F-9B2A2903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B5F7-D31E-460B-83DB-8CEAA53F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8160-59BB-440C-AB00-BC2BB963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38E8-88B6-40D3-A3A6-D52B93E0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50A1-1AD4-4CA7-94BD-95EE5FC5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6F08-1427-4EB2-88A2-63E68327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8405-DCD6-4E88-9660-A0FF1AE8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C2B4-1869-466A-8844-6EF949D8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30B0-CBD2-4E2C-9677-CA83CEE4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19D3-F1DD-4057-92E7-38FF6018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e Liang, Texas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C3D2EAF-5249-45EC-AB9D-47C3A5094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080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963520" y="3200400"/>
            <a:ext cx="342540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ie Li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as Instruments Incorpo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500 TI Blv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las, Texas 752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h) 214-480-4105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mail) liang@t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sal for Collaborative BT and 802.11b MAC Mechanisms for Enhanced Coexis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E0A7-B08F-4719-9E79-6F00DF7888F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802.11b Channel Acces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T In-band slot times (possible collisions) are known well ahead of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 slots are pre-scheduled and known well ahead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co-located BT is master, all TX/RX timing is know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co-located BT is slave, ACL TX slot is known about 625us ahead of time and 802.11b can be notified; ACL RX slot is known after decoding the BT packet header (this requires quick notification to 802.11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T should notify 802.11b the TX/RX timing of the current frame after decoding packet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.11b should notify BT the TX/RX time of the cur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 exchange immediately after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6D2D-9787-438A-809A-1456C94625A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802.11b Channel Acces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9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Peri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p_m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TXOP is too short, do not trans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p_m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time needed),  fragment the current packet to fit in the g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=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ansmit the current frame w/o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ree Peri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fp_m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TXOP is too short, do not trans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f_m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time needed),  fragment the current packet to fit in the g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=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ansmit the current frame w/o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the transmission window size during CP and CF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436A-C70D-4023-85E2-B86D875EE72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llaborative BT Mech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Id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co-located 802.11b device to reserve slot in BT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T slave can only transmit after receiving packet from BT master and the next slot is not reserved by 802.1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T master should not initiate a packet exchange if the next two slots contain 802.11b reserved s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when not restricted by other factors, move piconet master to the collocated BT dev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compatible with standard BT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hanges to others parts of BT implemen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7928-317B-42B6-8AF3-F58F97B6A2A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line BT Channel A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2590920"/>
            <a:ext cx="561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379600" y="2020680"/>
            <a:ext cx="0" cy="56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392200" y="1944720"/>
            <a:ext cx="2084400" cy="642600"/>
            <a:chOff x="2392200" y="1944720"/>
            <a:chExt cx="2084400" cy="642600"/>
          </a:xfrm>
        </p:grpSpPr>
        <p:sp>
          <p:nvSpPr>
            <p:cNvPr id="184" name=""/>
            <p:cNvSpPr/>
            <p:nvPr/>
          </p:nvSpPr>
          <p:spPr>
            <a:xfrm flipV="1">
              <a:off x="3398760" y="2017440"/>
              <a:ext cx="0" cy="56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92200" y="2317680"/>
              <a:ext cx="102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08920" y="1946520"/>
              <a:ext cx="59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-&gt;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476600" y="2016000"/>
              <a:ext cx="0" cy="56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99720" y="1944720"/>
              <a:ext cx="59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-&gt;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35480" y="2316240"/>
              <a:ext cx="10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491000" y="1955880"/>
            <a:ext cx="2084400" cy="642600"/>
            <a:chOff x="4491000" y="1955880"/>
            <a:chExt cx="2084400" cy="642600"/>
          </a:xfrm>
        </p:grpSpPr>
        <p:sp>
          <p:nvSpPr>
            <p:cNvPr id="191" name=""/>
            <p:cNvSpPr/>
            <p:nvPr/>
          </p:nvSpPr>
          <p:spPr>
            <a:xfrm flipV="1">
              <a:off x="5497560" y="2028600"/>
              <a:ext cx="0" cy="56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1000" y="2328840"/>
              <a:ext cx="102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07720" y="1957680"/>
              <a:ext cx="59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-&gt;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6575400" y="2027160"/>
              <a:ext cx="0" cy="56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8520" y="1955880"/>
              <a:ext cx="59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-&gt;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34280" y="2327400"/>
              <a:ext cx="10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821520" y="3249720"/>
            <a:ext cx="7477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ter TX in even slots, and slave TX in odd sl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ave can access the channel only when addressed in the previous s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ACL (except AUX1) packets must be acknowledged in the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s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C4AB-DE84-4400-B190-9760B11B96E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llaborative BT Mechanism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2590920"/>
            <a:ext cx="561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151000" y="2020680"/>
            <a:ext cx="0" cy="56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163600" y="1944720"/>
            <a:ext cx="2084400" cy="642600"/>
            <a:chOff x="2163600" y="1944720"/>
            <a:chExt cx="2084400" cy="642600"/>
          </a:xfrm>
        </p:grpSpPr>
        <p:sp>
          <p:nvSpPr>
            <p:cNvPr id="202" name=""/>
            <p:cNvSpPr/>
            <p:nvPr/>
          </p:nvSpPr>
          <p:spPr>
            <a:xfrm flipV="1">
              <a:off x="3170160" y="2017440"/>
              <a:ext cx="0" cy="56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63600" y="2317680"/>
              <a:ext cx="102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80320" y="1946520"/>
              <a:ext cx="59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-&gt;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4248000" y="2016000"/>
              <a:ext cx="0" cy="56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71120" y="1944720"/>
              <a:ext cx="59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-&gt;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06880" y="2316240"/>
              <a:ext cx="10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262400" y="1955880"/>
            <a:ext cx="2084400" cy="642600"/>
            <a:chOff x="4262400" y="1955880"/>
            <a:chExt cx="2084400" cy="642600"/>
          </a:xfrm>
        </p:grpSpPr>
        <p:sp>
          <p:nvSpPr>
            <p:cNvPr id="209" name=""/>
            <p:cNvSpPr/>
            <p:nvPr/>
          </p:nvSpPr>
          <p:spPr>
            <a:xfrm flipV="1">
              <a:off x="5268960" y="2028600"/>
              <a:ext cx="0" cy="56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62400" y="2328840"/>
              <a:ext cx="102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79120" y="1957680"/>
              <a:ext cx="59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-&gt;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6346800" y="2027160"/>
              <a:ext cx="0" cy="56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69920" y="1955880"/>
              <a:ext cx="59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-&gt;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05680" y="2327400"/>
              <a:ext cx="10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664200" y="3505320"/>
            <a:ext cx="804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ave should not transmit when its TX overlaps with reserved time s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ter should not initiate a frame exchange with a slave whe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two slots contains reserved s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ave should generate reservation signal to co-located 802.11b device 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ext S-&gt;M slot when it decodes master packet addressed to it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ter should generate reservation signal to co-located 802.11b device 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ext two slots when it tries to schedule traffic to a BT sl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5760" y="2585880"/>
            <a:ext cx="1755720" cy="381240"/>
          </a:xfrm>
          <a:prstGeom prst="parallelogram">
            <a:avLst>
              <a:gd name="adj" fmla="val 115132"/>
            </a:avLst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02.11b 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1E4A-1A64-48D1-BD72-D43A0D64D49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llaborative BT Mechanism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 shall update 802.11b device its packet timing immediately after decoding the packet h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methods proposed in the non-collaborative BT proposal still apply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C996-00C8-453F-9AF4-AFDE5041186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ffic Regulation through Timing Coordinator Un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28760" y="5467320"/>
            <a:ext cx="6305400" cy="214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reless Med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78280" y="4748040"/>
            <a:ext cx="12535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T 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26080" y="4721400"/>
            <a:ext cx="18554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b 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28240" y="3962520"/>
            <a:ext cx="13388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T 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42920" y="3962520"/>
            <a:ext cx="1941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b 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2286000"/>
            <a:ext cx="1994040" cy="13892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(C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33920" y="3306600"/>
            <a:ext cx="617760" cy="66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9320" y="2819520"/>
            <a:ext cx="1127160" cy="1152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087720" y="3306240"/>
            <a:ext cx="701640" cy="6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634840" y="2925720"/>
            <a:ext cx="1033560" cy="1022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22680" y="312120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2.11b 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92200" y="360504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T 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65920" y="296532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2.11b 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83040" y="360360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T 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71920" y="4433760"/>
            <a:ext cx="106200" cy="309600"/>
          </a:xfrm>
          <a:prstGeom prst="upDownArrow">
            <a:avLst>
              <a:gd name="adj1" fmla="val 50000"/>
              <a:gd name="adj2" fmla="val 5803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44920" y="5216400"/>
            <a:ext cx="106200" cy="309600"/>
          </a:xfrm>
          <a:prstGeom prst="upDownArrow">
            <a:avLst>
              <a:gd name="adj1" fmla="val 50000"/>
              <a:gd name="adj2" fmla="val 5803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27720" y="4419720"/>
            <a:ext cx="106560" cy="309600"/>
          </a:xfrm>
          <a:prstGeom prst="upDownArrow">
            <a:avLst>
              <a:gd name="adj1" fmla="val 50000"/>
              <a:gd name="adj2" fmla="val 5783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26280" y="5180040"/>
            <a:ext cx="106200" cy="309600"/>
          </a:xfrm>
          <a:prstGeom prst="upDownArrow">
            <a:avLst>
              <a:gd name="adj1" fmla="val 50000"/>
              <a:gd name="adj2" fmla="val 5803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154D-77ED-48C2-9579-37F18B77710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ordinator Un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es traffic of co-located 802.11b and BT de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licts of overlapping slot reservation from 802.11b and BT can be resolved using virtual statistical contention in C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 link will take priority over both ACL and 802.11b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: threshold between [0,1],  D: uniform random variable in [0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26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&gt;= Dp, block 802.11b timing and feed BT timing to 802.1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26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&lt; Dp,    block BT timing and feed 802.11b timing to 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 can be used for adjust the throughput of 802.11b and 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 of Contention-based C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rness (both have opportunities to access the medium through the conten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8299-93D6-4D15-A80D-AE45B1F8B66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rn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or 802.11b can access medium based on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xcess long dela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 series of unsuccessful contention result in long delay (low prob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 can incorporate more intelligent contention crite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 classes, delay bound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adjust throughput biases between BT and 802.11b by changing 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 bursty traffic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load allows, proposed method automatically allocates more bandwidth to the bursty traffi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2BB7-4122-4620-A78C-C9A77FD36CB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(1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Questionnai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on 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access for 802.11b and BT to include re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hanges in other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y Imp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modification to current channel access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erability with Non-coexistence De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compa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6355-07AA-4DC7-A80C-3BF2DFCA284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ve 802.11b MAC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ve Bluetooth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or Unit for Resolving 802.11b and BT collisions using statistical con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C805-720E-4924-9E1B-1C2E5BCBCE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(2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valuation Questionnai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es of Oper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PCF and DCF for 802.1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rofiles in B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 and Data Supp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on higher lay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on Power Manag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97A2-EC4A-487B-8300-A7A2D5D6A36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ey Id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b and BT collocated devices can reserve TX/RX slots in the channel access timing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virtual contention to resolve conflicting reservation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C59-A7EC-49ED-BEA6-FDA37F6825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/improve combined 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the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fairness between BT and 802.11b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long delays for packet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to traffic load adaptive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r minimal penalty to throughput when collision probability is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 bursty data traffic from either 802.11 or B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ility in allocating throughput of BT and 802.1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ey Issues and 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066680" y="2895480"/>
            <a:ext cx="6553080" cy="380880"/>
            <a:chOff x="1066680" y="2895480"/>
            <a:chExt cx="6553080" cy="380880"/>
          </a:xfrm>
        </p:grpSpPr>
        <p:sp>
          <p:nvSpPr>
            <p:cNvPr id="54" name=""/>
            <p:cNvSpPr/>
            <p:nvPr/>
          </p:nvSpPr>
          <p:spPr>
            <a:xfrm>
              <a:off x="1066680" y="2895480"/>
              <a:ext cx="65530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66680" y="2895480"/>
              <a:ext cx="1143000" cy="3808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1960" y="2895480"/>
              <a:ext cx="609480" cy="380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276360" y="2895480"/>
              <a:ext cx="990720" cy="3808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95680" y="2895480"/>
              <a:ext cx="1143000" cy="380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90960" y="2895480"/>
              <a:ext cx="1295280" cy="3808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800600" y="2514600"/>
            <a:ext cx="228600" cy="152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0732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2514600"/>
            <a:ext cx="22860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5040" y="2438280"/>
            <a:ext cx="67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2.1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2514600"/>
            <a:ext cx="2286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13160" y="243828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um i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72400" y="31240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96800" y="27432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8C70-55D2-4E8A-9FA3-0AFA3C9144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llaborative 802.11b MAC Mech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 of 802.11b Channel Access mechanism to incorporate BT timing for collision avo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rved BT slots are treated the same as “busy medium” in 802.11b channel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put of 802.11b and BT can be regulated through a coordinator unit (CU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utiliz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contention to resolve confl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C4AB-F682-4A81-BBFA-A3EFB6DC3E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llaborative 802.11b MAC Mech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acc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ly determined by 802.11b timing and BT in-band slot 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fragmentation to fit PSDU between BT in-band s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 updates from BT MAC regarding BT TX/RX ti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 updates to BT MAC regarding 802.11b TX/RX ti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2498-0DF6-49A7-8D13-F3401D464A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line 802.11b Channel A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2160" y="319248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CP Channel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74080" y="3632040"/>
            <a:ext cx="485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y Medium: could be from CCA or N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82600" y="2898720"/>
            <a:ext cx="726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87600" y="2209680"/>
            <a:ext cx="0" cy="6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03400" y="2220840"/>
            <a:ext cx="0" cy="6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43680" y="23144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87600" y="2577960"/>
            <a:ext cx="426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14560" y="2602080"/>
            <a:ext cx="1579680" cy="296640"/>
          </a:xfrm>
          <a:prstGeom prst="parallelogram">
            <a:avLst>
              <a:gd name="adj" fmla="val 133131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y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03600" y="2195640"/>
            <a:ext cx="0" cy="68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19400" y="2206800"/>
            <a:ext cx="0" cy="68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59680" y="230040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03600" y="2563920"/>
            <a:ext cx="426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08600" y="2589120"/>
            <a:ext cx="1590480" cy="297000"/>
          </a:xfrm>
          <a:prstGeom prst="parallelogram">
            <a:avLst>
              <a:gd name="adj" fmla="val 13387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-off Win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98920" y="228600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um I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05560" y="2911320"/>
            <a:ext cx="1138320" cy="297000"/>
          </a:xfrm>
          <a:prstGeom prst="parallelogram">
            <a:avLst>
              <a:gd name="adj" fmla="val 9581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08800" y="1741320"/>
            <a:ext cx="0" cy="152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59720" y="2654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38880" y="2590920"/>
            <a:ext cx="700200" cy="296640"/>
          </a:xfrm>
          <a:prstGeom prst="parallelogram">
            <a:avLst>
              <a:gd name="adj" fmla="val 59011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24680" y="1752480"/>
            <a:ext cx="0" cy="159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25720" y="211788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Exchange 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43828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99400" y="5899320"/>
            <a:ext cx="21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CFP Channel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60680" y="5430960"/>
            <a:ext cx="592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65320" y="4741920"/>
            <a:ext cx="0" cy="6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81120" y="4289400"/>
            <a:ext cx="0" cy="115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21040" y="4621320"/>
            <a:ext cx="48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65320" y="5110200"/>
            <a:ext cx="426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92280" y="5133960"/>
            <a:ext cx="1211400" cy="297000"/>
          </a:xfrm>
          <a:prstGeom prst="parallelogram">
            <a:avLst>
              <a:gd name="adj" fmla="val 10197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1+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13040" y="4740120"/>
            <a:ext cx="0" cy="6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29200" y="4727520"/>
            <a:ext cx="0" cy="10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68760" y="48448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13040" y="5108400"/>
            <a:ext cx="427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35320" y="5443560"/>
            <a:ext cx="1138320" cy="297000"/>
          </a:xfrm>
          <a:prstGeom prst="parallelogram">
            <a:avLst>
              <a:gd name="adj" fmla="val 9581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1+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24360" y="5133960"/>
            <a:ext cx="1270080" cy="297000"/>
          </a:xfrm>
          <a:prstGeom prst="parallelogram">
            <a:avLst>
              <a:gd name="adj" fmla="val 10690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2+ack+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7240" y="425772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Exchange 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495288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80120" y="50594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35480" y="497376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80120" y="5283360"/>
            <a:ext cx="426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27600" y="5103720"/>
            <a:ext cx="0" cy="50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77160" y="4275000"/>
            <a:ext cx="0" cy="14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53840" y="4495680"/>
            <a:ext cx="2598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mum T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uccessful frame transmission (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4495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5600" y="17524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86600" y="1905120"/>
            <a:ext cx="830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638680" y="1905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2743200"/>
            <a:ext cx="427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2666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4382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ED8E-10BD-4F5D-9738-6B60E6B0A5A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line Channel A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001000" cy="439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Period (C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CP, channel access is obtained mostly through contention (RTS/CTS sequence is another w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 defers transmission when sensing medium busy (medium status determined by both CCA and NA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frame must be acknowledged (ACK) – the minimum time for a successful frame transmission is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urrent frame+SIF+ACK fr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ree Period (CF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CFP, channel access is obtained by CF-PO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receiving a CF-POLL frame, the addressed station transmits and waits for acknowled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inimum time for successful transmission of a frame 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f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urrent frame+SIF+next frame with A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929A-E6D4-4A93-9C00-AF303D560A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802.11b Channel Acces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2673360"/>
            <a:ext cx="8147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1240" y="1984320"/>
            <a:ext cx="0" cy="6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57400" y="1995480"/>
            <a:ext cx="0" cy="6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7320" y="20890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1240" y="2352600"/>
            <a:ext cx="427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68560" y="2376360"/>
            <a:ext cx="1579320" cy="297000"/>
          </a:xfrm>
          <a:prstGeom prst="parallelogram">
            <a:avLst>
              <a:gd name="adj" fmla="val 13293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y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57600" y="1969920"/>
            <a:ext cx="0" cy="6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73400" y="1981080"/>
            <a:ext cx="0" cy="6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13680" y="20750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57600" y="2338560"/>
            <a:ext cx="426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62240" y="2363760"/>
            <a:ext cx="1590840" cy="297000"/>
          </a:xfrm>
          <a:prstGeom prst="parallelogram">
            <a:avLst>
              <a:gd name="adj" fmla="val 13390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-off Win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52560" y="206064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um I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59200" y="2685960"/>
            <a:ext cx="1138320" cy="297000"/>
          </a:xfrm>
          <a:prstGeom prst="parallelogram">
            <a:avLst>
              <a:gd name="adj" fmla="val 9581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61000" y="1752480"/>
            <a:ext cx="1440" cy="178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2362320"/>
            <a:ext cx="700200" cy="296640"/>
          </a:xfrm>
          <a:prstGeom prst="parallelogram">
            <a:avLst>
              <a:gd name="adj" fmla="val 59011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10280" y="1752480"/>
            <a:ext cx="0" cy="179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9000" y="190512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Exchange 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2209680"/>
            <a:ext cx="2255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10280" y="2362320"/>
            <a:ext cx="1592280" cy="296640"/>
          </a:xfrm>
          <a:prstGeom prst="parallelogram">
            <a:avLst>
              <a:gd name="adj" fmla="val 134193"/>
            </a:avLst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T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2960" y="3059280"/>
            <a:ext cx="357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08080" y="5346720"/>
            <a:ext cx="745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30280" y="4657680"/>
            <a:ext cx="0" cy="6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46440" y="4205160"/>
            <a:ext cx="0" cy="115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86000" y="4537080"/>
            <a:ext cx="48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30280" y="5025960"/>
            <a:ext cx="426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57240" y="5049720"/>
            <a:ext cx="1211400" cy="297000"/>
          </a:xfrm>
          <a:prstGeom prst="parallelogram">
            <a:avLst>
              <a:gd name="adj" fmla="val 10197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1+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78000" y="4656240"/>
            <a:ext cx="0" cy="6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81560" y="4678200"/>
            <a:ext cx="0" cy="107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33720" y="4761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78000" y="5024520"/>
            <a:ext cx="427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00280" y="5359320"/>
            <a:ext cx="1138320" cy="297000"/>
          </a:xfrm>
          <a:prstGeom prst="parallelogram">
            <a:avLst>
              <a:gd name="adj" fmla="val 9581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1+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89680" y="5049720"/>
            <a:ext cx="1269720" cy="297000"/>
          </a:xfrm>
          <a:prstGeom prst="parallelogram">
            <a:avLst>
              <a:gd name="adj" fmla="val 10687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2+ack+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22560" y="417348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Exchange 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524400" y="4854600"/>
            <a:ext cx="279072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5080" y="497520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00440" y="48895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5080" y="5199120"/>
            <a:ext cx="426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92560" y="5019840"/>
            <a:ext cx="0" cy="50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42120" y="4191120"/>
            <a:ext cx="0" cy="14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47440" y="4427640"/>
            <a:ext cx="11757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mum T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frame (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44197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86400" y="5342040"/>
            <a:ext cx="1592280" cy="296640"/>
          </a:xfrm>
          <a:prstGeom prst="parallelogram">
            <a:avLst>
              <a:gd name="adj" fmla="val 134193"/>
            </a:avLst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T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25720" y="3533760"/>
            <a:ext cx="34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CP Channel Access for coexis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00520" y="600228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CFP Channel Access for coexis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11920" y="2257560"/>
            <a:ext cx="0" cy="68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27720" y="2268360"/>
            <a:ext cx="0" cy="6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2286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2514600"/>
            <a:ext cx="426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00600" y="3352680"/>
            <a:ext cx="2255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303B-84FB-4CAD-AFAC-09A6A143C64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/>
  <dc:description>&lt;doc#&gt;</dc:description>
  <dc:language>en-US</dc:language>
  <cp:lastModifiedBy>Jie Liang</cp:lastModifiedBy>
  <cp:lastPrinted>1998-02-10T13:28:06Z</cp:lastPrinted>
  <dcterms:modified xsi:type="dcterms:W3CDTF">2001-03-13T19:38:33Z</dcterms:modified>
  <cp:revision>28</cp:revision>
  <dc:subject>IEEE 802.15 &lt;subject&gt;</dc:subject>
  <dc:title>&lt;title&gt;</dc:title>
</cp:coreProperties>
</file>