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05CD4-FF08-469C-A004-10A89AD26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33D9-4120-4C84-88A0-0A15F7B8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8B3B0-5526-48B0-9F99-5C906C4D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2F36-8350-4A22-939A-D213D8401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09B23-E4AF-4136-89C1-030A6018C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4070-EC2C-4477-84FC-6F2B2379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F8016-107E-416C-B01A-F0D8F29F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6E4C2-C0FB-4E2F-A72A-0CF8BB4BD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6BFC-2DFE-481A-8813-D92CE4C5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EFC6-6589-419A-A941-9E5ECBFB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9164-DC3E-4BCE-A80D-A511F9DA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A440-8714-4358-B712-A3D8F567A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B78E17-DCA8-4A7D-82BE-8B8A3DD60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Draft-Standard-Opening</a:t>
            </a:r>
            <a:r>
              <a:rPr b="0" lang="en-US" sz="1600" spc="-1" strike="noStrike">
                <a:solidFill>
                  <a:srgbClr val="000000"/>
                </a:solidFill>
                <a:latin typeface="Times New Roman"/>
              </a:rPr>
              <a:t>-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2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for the draft standard in conference calls and via email since the last meeting in Monterre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draft standard edi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FACCD6A-4612-4F39-AF84-4D8AF26306E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Standard Accomplishments</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im Ad-Hoc MAC meeting in Boulder</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ccomplishments to be reported by A. Heberling</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line draft released</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format is coming together, still some tweaks needed.</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HY issues resolved</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PIB, MLME-SAP and PLME-SAP are outlined in draft</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 good progress this week</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ccomplishments to be reported by R. Rober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83461CB-EDFC-4BE6-9900-E67E6DCA321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ouncement</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to approve/modify minutes of PHY and MAC conference cal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March 14, 10:31 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 P802.15-01/075r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 P802.15-01/076r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6D5E39C-E24E-425E-892A-0D108F41A7E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ccomplishment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sensitivity -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odulation performance - left for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mble/flush bits - 2 symbols,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hannel arrangement - in basel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ccuracy - in P802.15-01/090r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crambler - side stream with polynomial TBD, uses different IV based on TBD timing inf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50EAB9-C5D7-4B0F-BE85-8301A5D155E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Accomplishments (cont.)</a:t>
            </a:r>
            <a:endParaRPr b="0" lang="en-US" sz="36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TX power set by regulatory, no minim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band performance set by regula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RX turnaround 10 </a:t>
            </a:r>
            <a:r>
              <a:rPr b="0" lang="en-US" sz="2800" spc="-1" strike="noStrike">
                <a:solidFill>
                  <a:srgbClr val="000000"/>
                </a:solidFill>
                <a:latin typeface="Symbol"/>
                <a:ea typeface="Symbol"/>
              </a:rPr>
              <a:t></a:t>
            </a:r>
            <a:r>
              <a:rPr b="0" lang="en-US" sz="2800" spc="-1" strike="noStrike">
                <a:solidFill>
                  <a:srgbClr val="000000"/>
                </a:solidFill>
                <a:latin typeface="Times New Roman"/>
              </a:rPr>
              <a:t>s - in draf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1514 byte max packet, MAC adopted 2048 by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temperature range, 0-40 C in draft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5106CB3-7B72-418E-8990-9D0454CC2427}"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Issues from Monterrey</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d in P802.15-01/122r2, 30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resolv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ending re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ill be resolved in Hilton Head</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DDC4AAD-7294-4472-8556-5A323859AABF}"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FEC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t time, IFS'es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estimate information (M. Nafie)</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crambler polynomial and seed source. (T. Schmidl, J. Karaoguz)</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packet length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switch time (J. Gilb)</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carrier and clock synchronization (S. Ling)</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settings (J. Gil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2A524B8-6289-4CD4-87BF-83CB3F0D9D3D}"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 (cont)</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SI if needed (MAC + 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maximum input level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timing accuracy measurement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for jamming resistance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 format (J. Gilb, determined, but needs to be documented we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PIB and PLME-SAP feedback (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packet size. (J. Karaoguz)</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8AFBE4-DD26-47C4-8E5D-4E746C287984}"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PKG</cp:lastModifiedBy>
  <cp:lastPrinted>1998-02-10T13:28:06Z</cp:lastPrinted>
  <dcterms:modified xsi:type="dcterms:W3CDTF">2001-03-16T19:48:18Z</dcterms:modified>
  <cp:revision>66</cp:revision>
  <dc:subject>IEEE 802.15 PHY Committee Monterey Report</dc:subject>
  <dc:title>No Slide Title</dc:title>
</cp:coreProperties>
</file>