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486-F8F3-40B3-B246-E9133BD3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534-8CD9-475D-B78B-011BCB93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372-AB8F-400B-9434-D583B3B6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6D1-2132-434E-8510-5F89BB9C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FF4-BD46-48A1-AB16-A18AABBD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276-6DB7-4436-BA86-37F4007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939-D907-4184-BA4C-8068154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136-1FBE-45E5-B039-79AE876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BAC-FF8E-4A75-B9B8-19FA925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8DF-938F-46B9-B24C-26A7C5E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5E0-3FF8-41B0-9C0B-EC69147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2A5-03DF-4685-83ED-3F8C5A1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D9DAB9-649D-471A-A705-BE7F008B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1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ott Beach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lton Head,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2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929-D6F6-41A2-8217-AA4FE9543D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for Intent was Issued for Proposals-9 response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CFAs reviewed at Monterey Meeting, Criteria Matrix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Doc in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drafted and submitted in response to CFP from IEEE Networking Magaz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C03-494F-419F-8242-0CD584D1F0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GROUP 4 OBJECTIVES FOR THIS MEETING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Finalize Criteria Do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Establish Criteria Weigh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Finalize Selection Pro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Hear top level responses to the C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vise Project Plan as Requi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499-2217-498B-AA73-7154137E7A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GERE Proposal Overview-Steven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MERISYS Proposal Overview-Re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MI Proposal Overview-Yo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COMPAQ Proposal Over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INTERMEC PHY Proposal Over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MOTOROLA PHY Proposal Over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NOKIA PHY Proposal Over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PHILIPS PHY Proposal Over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RFWAVES PHY Proposa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P Intents Received for Review on Tuesday and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65D-6527-4C4E-A8D0-CC2AA62EBF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1DC-F808-4D61-A971-A6115B9329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3-12T13:06:09Z</dcterms:modified>
  <cp:revision>13</cp:revision>
  <dc:subject>IEEE 802.15 &lt;subject&gt;</dc:subject>
  <dc:title>Task Group 4 Low Rate WPANS Opening Report</dc:title>
</cp:coreProperties>
</file>