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1C48B-95C3-4EB8-9B55-54C9A8951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FF966-B1F0-4E6A-9775-838BADF0E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D8BCD-8F7E-4834-91DC-DCF2D2909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973F3-D46A-49E9-B926-8B3EDDBB7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1ADF3-82C1-4521-B5BE-BE36B11B2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B400F-79CB-48B7-A1F4-4870D0591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97C79-D3E3-40BD-A844-C3AC1A46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89F78-3094-41F3-8FE9-0CF5438FC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07FDF-C5E2-4472-BCF7-DF12279E3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5CA71-275C-4613-906C-8CAF850C6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ED57-27E9-469F-A4CA-767D09277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0D54D-965C-404C-B7D3-04329A20E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 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BFDFF8-3AE5-4F6F-AC5B-A5EAD6270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5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OQPSK-Tutori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2 March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217-2201</a:t>
            </a:r>
            <a:r>
              <a:rPr b="0" lang="en-US" sz="1600" spc="-1" strike="noStrike">
                <a:solidFill>
                  <a:srgbClr val="000000"/>
                </a:solidFill>
                <a:latin typeface="Times New Roman"/>
              </a:rPr>
              <a:t>], FAX: [</a:t>
            </a:r>
            <a:r>
              <a:rPr b="0" lang="en-US" sz="1600" spc="-1" strike="noStrike">
                <a:solidFill>
                  <a:srgbClr val="000000"/>
                </a:solidFill>
                <a:latin typeface="Times New Roman"/>
              </a:rPr>
              <a:t>1-858-217-2301</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is document provides a very rudimentary overview of the OQPSK modulation format and how it is related to QPSK and MSK.  It also provides a motivation for a differential mode of signal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nvey information to the PHY committee and other interested par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DB238D6-B8E9-4851-B19C-137456C6F000}"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OQPSK</a:t>
            </a:r>
            <a:endParaRPr b="0" lang="en-US" sz="36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QPSK - Offset Quadrature Phase Shift Keyin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as QPSK, except either the I or Q is delayed by 1/2 of a symbol</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as the reverse link for IS95 (CDMA) standard</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pilot for reverse link, so it is differentially coherently detected.</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link started out QPSK, but ACPR requirements forced a change to OQPSK</a:t>
            </a:r>
            <a:endParaRPr b="0" lang="en-US" sz="2400" spc="-1" strike="noStrike">
              <a:solidFill>
                <a:srgbClr val="000000"/>
              </a:solidFill>
              <a:latin typeface="Times New Roman"/>
            </a:endParaRPr>
          </a:p>
          <a:p>
            <a:pPr lvl="2" marL="106380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link had more DC power available and average power of multiple outgoing calls decreased peak-to-averag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4F61D3D-7456-468C-B8D5-61243E280A6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PSK v. OQPSK</a:t>
            </a:r>
            <a:endParaRPr b="0"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data is unfiltered, both are constant envelope signa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ing the baseband data, however, increases the peak to average ratio</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so with QPSK due to 180 degree phase shift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QPSK does not allow 180 degree phase shif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kes the signal more susceptible to spectral regrowth in the analog and RF parts of the rad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y are technically phase shift modulations, they can also be seen as frequency shift modulatio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29CFEDA-3094-4330-B5F0-6B0B112806B0}"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QPSK Characteristics</a:t>
            </a:r>
            <a:endParaRPr b="0"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DC can be easily shared between I &amp; Q at twice the clock r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s power and cost (analog portion of ADC drives current drain, sampling rate is 2nd order effe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the offset in sampling is a feature, not a bu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DAC can also be shared at twice the clock r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ave power and co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D2B6E60-DCE7-4922-899B-FDEA21A48FA6}"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QPSK vs. QPSK Constellations</a:t>
            </a:r>
            <a:endParaRPr b="0" lang="en-US" sz="3600" spc="-1" strike="noStrike">
              <a:solidFill>
                <a:srgbClr val="000000"/>
              </a:solidFill>
              <a:latin typeface="Arial"/>
            </a:endParaRPr>
          </a:p>
        </p:txBody>
      </p:sp>
      <p:sp>
        <p:nvSpPr>
          <p:cNvPr id="53" name=""/>
          <p:cNvSpPr/>
          <p:nvPr/>
        </p:nvSpPr>
        <p:spPr>
          <a:xfrm>
            <a:off x="6400800" y="2133720"/>
            <a:ext cx="0" cy="2666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105520" y="3429000"/>
            <a:ext cx="2590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238880" y="3352680"/>
            <a:ext cx="15264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24480" y="2438280"/>
            <a:ext cx="15264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410080" y="3352680"/>
            <a:ext cx="15264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24480" y="4267080"/>
            <a:ext cx="15264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477120" y="342900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5486400" y="342900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flipV="1">
            <a:off x="5486400" y="251460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6477120" y="251460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6400800" y="2666520"/>
            <a:ext cx="0" cy="160020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5562360" y="3429000"/>
            <a:ext cx="1600200" cy="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90920" y="2133720"/>
            <a:ext cx="0" cy="2666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295280" y="3429000"/>
            <a:ext cx="2590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
          <p:cNvGrpSpPr/>
          <p:nvPr/>
        </p:nvGrpSpPr>
        <p:grpSpPr>
          <a:xfrm>
            <a:off x="1600200" y="2438280"/>
            <a:ext cx="1981080" cy="1981440"/>
            <a:chOff x="1600200" y="2438280"/>
            <a:chExt cx="1981080" cy="1981440"/>
          </a:xfrm>
        </p:grpSpPr>
        <p:sp>
          <p:nvSpPr>
            <p:cNvPr id="68" name=""/>
            <p:cNvSpPr/>
            <p:nvPr/>
          </p:nvSpPr>
          <p:spPr>
            <a:xfrm>
              <a:off x="3429000" y="3352680"/>
              <a:ext cx="15228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514600" y="2438280"/>
              <a:ext cx="15228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00200" y="3352680"/>
              <a:ext cx="15228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514600" y="4267080"/>
              <a:ext cx="15228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66880" y="3429000"/>
              <a:ext cx="83844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1676520" y="342900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flipV="1">
              <a:off x="1676520" y="251460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2666880" y="2514600"/>
              <a:ext cx="83844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3581280" y="1905120"/>
            <a:ext cx="15264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3429000" y="2286000"/>
            <a:ext cx="457200" cy="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962520" y="1752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ellation points</a:t>
            </a:r>
            <a:endParaRPr b="0" lang="en-US" sz="1800" spc="-1" strike="noStrike">
              <a:solidFill>
                <a:srgbClr val="000000"/>
              </a:solidFill>
              <a:latin typeface="Times New Roman"/>
            </a:endParaRPr>
          </a:p>
        </p:txBody>
      </p:sp>
      <p:sp>
        <p:nvSpPr>
          <p:cNvPr id="79" name=""/>
          <p:cNvSpPr/>
          <p:nvPr/>
        </p:nvSpPr>
        <p:spPr>
          <a:xfrm>
            <a:off x="3962520" y="21337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paths</a:t>
            </a:r>
            <a:endParaRPr b="0" lang="en-US" sz="1800" spc="-1" strike="noStrike">
              <a:solidFill>
                <a:srgbClr val="000000"/>
              </a:solidFill>
              <a:latin typeface="Times New Roman"/>
            </a:endParaRPr>
          </a:p>
        </p:txBody>
      </p:sp>
      <p:sp>
        <p:nvSpPr>
          <p:cNvPr id="80" name=""/>
          <p:cNvSpPr/>
          <p:nvPr/>
        </p:nvSpPr>
        <p:spPr>
          <a:xfrm>
            <a:off x="1447920" y="489096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QPSK</a:t>
            </a:r>
            <a:endParaRPr b="0" lang="en-US" sz="2400" spc="-1" strike="noStrike">
              <a:solidFill>
                <a:srgbClr val="000000"/>
              </a:solidFill>
              <a:latin typeface="Times New Roman"/>
            </a:endParaRPr>
          </a:p>
        </p:txBody>
      </p:sp>
      <p:sp>
        <p:nvSpPr>
          <p:cNvPr id="81" name=""/>
          <p:cNvSpPr/>
          <p:nvPr/>
        </p:nvSpPr>
        <p:spPr>
          <a:xfrm>
            <a:off x="533412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PSK</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07493F5-D714-48E9-AE72-8E7F32EEB743}"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QPSK vs. QPSK </a:t>
            </a:r>
            <a:r>
              <a:rPr b="0" lang="en-US" sz="3600" spc="-1" strike="noStrike">
                <a:solidFill>
                  <a:srgbClr val="000000"/>
                </a:solidFill>
                <a:latin typeface="Symbol"/>
                <a:ea typeface="Symbol"/>
              </a:rPr>
              <a:t></a:t>
            </a:r>
            <a:r>
              <a:rPr b="0" lang="en-US" sz="3600" spc="-1" strike="noStrike">
                <a:solidFill>
                  <a:srgbClr val="000000"/>
                </a:solidFill>
                <a:latin typeface="Arial"/>
              </a:rPr>
              <a:t>/4 shift</a:t>
            </a:r>
            <a:endParaRPr b="0" lang="en-US" sz="3600" spc="-1" strike="noStrike">
              <a:solidFill>
                <a:srgbClr val="000000"/>
              </a:solidFill>
              <a:latin typeface="Arial"/>
            </a:endParaRPr>
          </a:p>
        </p:txBody>
      </p:sp>
      <p:sp>
        <p:nvSpPr>
          <p:cNvPr id="83" name=""/>
          <p:cNvSpPr/>
          <p:nvPr/>
        </p:nvSpPr>
        <p:spPr>
          <a:xfrm>
            <a:off x="6400800" y="2133720"/>
            <a:ext cx="0" cy="2666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05520" y="3429000"/>
            <a:ext cx="2590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5108040" y="2135880"/>
            <a:ext cx="2585520" cy="2586240"/>
            <a:chOff x="5108040" y="2135880"/>
            <a:chExt cx="2585520" cy="2586240"/>
          </a:xfrm>
        </p:grpSpPr>
        <p:sp>
          <p:nvSpPr>
            <p:cNvPr id="86" name=""/>
            <p:cNvSpPr/>
            <p:nvPr/>
          </p:nvSpPr>
          <p:spPr>
            <a:xfrm rot="18833400">
              <a:off x="6958080" y="2693520"/>
              <a:ext cx="15264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8833400">
              <a:off x="5665320" y="2718720"/>
              <a:ext cx="15264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8833400">
              <a:off x="5690160" y="4011480"/>
              <a:ext cx="15264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8833400">
              <a:off x="6983280" y="3986640"/>
              <a:ext cx="152640" cy="152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8833400">
              <a:off x="6654600" y="293148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rot="18833400">
              <a:off x="5967360" y="364572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flipV="1" rot="18833400">
              <a:off x="5308920" y="301140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rot="18833400">
              <a:off x="5995440" y="2297160"/>
              <a:ext cx="838080" cy="91440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5851440" y="2900520"/>
              <a:ext cx="1153080" cy="110916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5819400" y="2880000"/>
              <a:ext cx="1109520" cy="115308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2590920" y="2133720"/>
            <a:ext cx="0" cy="2666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95280" y="3429000"/>
            <a:ext cx="2590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1297440" y="2135520"/>
            <a:ext cx="2585880" cy="2586240"/>
            <a:chOff x="1297440" y="2135520"/>
            <a:chExt cx="2585880" cy="2586240"/>
          </a:xfrm>
        </p:grpSpPr>
        <p:sp>
          <p:nvSpPr>
            <p:cNvPr id="99" name=""/>
            <p:cNvSpPr/>
            <p:nvPr/>
          </p:nvSpPr>
          <p:spPr>
            <a:xfrm rot="18856800">
              <a:off x="3152520" y="269784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8856800">
              <a:off x="1859400" y="27144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8856800">
              <a:off x="1875600" y="400716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8856800">
              <a:off x="3168720" y="399096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8856800">
              <a:off x="2844000" y="2936520"/>
              <a:ext cx="838440" cy="91404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rot="18856200">
              <a:off x="2152440" y="3645360"/>
              <a:ext cx="838080" cy="91404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rot="18856800">
              <a:off x="1497600" y="3006720"/>
              <a:ext cx="838080" cy="91404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rot="18856200">
              <a:off x="2189160" y="2297520"/>
              <a:ext cx="838440" cy="914040"/>
            </a:xfrm>
            <a:custGeom>
              <a:avLst/>
              <a:gdLst/>
              <a:ahLst/>
              <a:rect l="l" t="t" r="r" b="b"/>
              <a:pathLst>
                <a:path w="528" h="576">
                  <a:moveTo>
                    <a:pt x="0" y="576"/>
                  </a:moveTo>
                  <a:cubicBezTo>
                    <a:pt x="43" y="563"/>
                    <a:pt x="190" y="528"/>
                    <a:pt x="256" y="500"/>
                  </a:cubicBezTo>
                  <a:cubicBezTo>
                    <a:pt x="322" y="472"/>
                    <a:pt x="370" y="430"/>
                    <a:pt x="398" y="407"/>
                  </a:cubicBezTo>
                  <a:cubicBezTo>
                    <a:pt x="426" y="384"/>
                    <a:pt x="409" y="394"/>
                    <a:pt x="427" y="364"/>
                  </a:cubicBezTo>
                  <a:cubicBezTo>
                    <a:pt x="445" y="334"/>
                    <a:pt x="488" y="290"/>
                    <a:pt x="505" y="229"/>
                  </a:cubicBezTo>
                  <a:cubicBezTo>
                    <a:pt x="522" y="168"/>
                    <a:pt x="523" y="48"/>
                    <a:pt x="528" y="0"/>
                  </a:cubicBezTo>
                </a:path>
              </a:pathLst>
            </a:custGeom>
            <a:noFill/>
            <a:ln w="1908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3581280" y="1905120"/>
            <a:ext cx="15264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429000" y="2286000"/>
            <a:ext cx="457200" cy="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2520" y="1752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ellation points</a:t>
            </a:r>
            <a:endParaRPr b="0" lang="en-US" sz="1800" spc="-1" strike="noStrike">
              <a:solidFill>
                <a:srgbClr val="000000"/>
              </a:solidFill>
              <a:latin typeface="Times New Roman"/>
            </a:endParaRPr>
          </a:p>
        </p:txBody>
      </p:sp>
      <p:sp>
        <p:nvSpPr>
          <p:cNvPr id="110" name=""/>
          <p:cNvSpPr/>
          <p:nvPr/>
        </p:nvSpPr>
        <p:spPr>
          <a:xfrm>
            <a:off x="3962520" y="21337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paths</a:t>
            </a:r>
            <a:endParaRPr b="0" lang="en-US" sz="1800" spc="-1" strike="noStrike">
              <a:solidFill>
                <a:srgbClr val="000000"/>
              </a:solidFill>
              <a:latin typeface="Times New Roman"/>
            </a:endParaRPr>
          </a:p>
        </p:txBody>
      </p:sp>
      <p:sp>
        <p:nvSpPr>
          <p:cNvPr id="111" name=""/>
          <p:cNvSpPr/>
          <p:nvPr/>
        </p:nvSpPr>
        <p:spPr>
          <a:xfrm>
            <a:off x="1447920" y="489096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QPSK</a:t>
            </a:r>
            <a:endParaRPr b="0" lang="en-US" sz="2400" spc="-1" strike="noStrike">
              <a:solidFill>
                <a:srgbClr val="000000"/>
              </a:solidFill>
              <a:latin typeface="Times New Roman"/>
            </a:endParaRPr>
          </a:p>
        </p:txBody>
      </p:sp>
      <p:sp>
        <p:nvSpPr>
          <p:cNvPr id="112" name=""/>
          <p:cNvSpPr/>
          <p:nvPr/>
        </p:nvSpPr>
        <p:spPr>
          <a:xfrm>
            <a:off x="533412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PSK</a:t>
            </a:r>
            <a:endParaRPr b="0" lang="en-US" sz="2400" spc="-1" strike="noStrike">
              <a:solidFill>
                <a:srgbClr val="000000"/>
              </a:solidFill>
              <a:latin typeface="Times New Roman"/>
            </a:endParaRPr>
          </a:p>
        </p:txBody>
      </p:sp>
      <p:sp>
        <p:nvSpPr>
          <p:cNvPr id="113" name=""/>
          <p:cNvSpPr/>
          <p:nvPr/>
        </p:nvSpPr>
        <p:spPr>
          <a:xfrm>
            <a:off x="1066680" y="54864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phase reference to the carrier is an arbitrary choice for coherent modulation and not relevant for differential encoding</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D64AC12-D8D6-4576-8E9A-8ED96B22FD21}"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JPKG</cp:lastModifiedBy>
  <cp:lastPrinted>1998-02-10T13:28:06Z</cp:lastPrinted>
  <dcterms:modified xsi:type="dcterms:W3CDTF">2001-03-12T02:49:21Z</dcterms:modified>
  <cp:revision>66</cp:revision>
  <dc:subject>IEEE 802.15 PHY Committee Monterey Report</dc:subject>
  <dc:title>No Slide Title</dc:title>
</cp:coreProperties>
</file>