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8E7-9555-4AEB-AD28-38E24BC8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3D1-C1B1-4F0B-90DD-466B22A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302-5AD4-4D39-BD3E-26E272D4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190-8C98-4F09-908B-8692D575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384-799F-4384-A5F9-3DDEF1BF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541-FB0B-40C8-9F55-7F8493DF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E6B-A5BC-4D1F-B3E9-52BC29C9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415-099C-464D-A172-9981C50B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575-0B89-4CBD-9920-9D5C0D8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80B-A899-4354-BF9F-C1ACB1D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2B3-A75D-428F-8F4C-137909F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B70-0B17-48D0-89BD-6C1FBFC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7E313F-56E8-47C4-ABCA-F86BE435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6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on Monday Executive Committee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BEC-A9C0-4A5C-A04B-5160E2E31D8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Hilton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pa meeting ran a 30K surplus-need to review future fees/finan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Standards Board Meeting Thurs, 7-8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 Aft-Pat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-am/pm--RevCom/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day- SAB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94C-B4DC-464D-A6BB-390B8357FB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Hilton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change for 802 dissemination of standards passed SEC lette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change on membership definition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ors hired to install an 802 all wirel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7BE-B91C-4BE7-B12E-324754FF30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Hilton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with Jessie Walker to see if differences in free standards methods are irreconcilable-issue is mandatory corporate spons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 are getting too large-do we split th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passed to move closing SEC meeting to Friday morning beginning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E5A-2C6D-4D6B-B990-8D130774A7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Hilton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R issue raised-concern is Coercion, ok to ask for letters on the part of the group not individual compa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802 level Coexistence and Regulatory Functions Study Group for Action Thursday 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proposing to split the “e”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9BD-E339-4F39-A589-126229953B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Hilton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of 5GSG Partnership function not unlike 3G Introduced to the Exec to facilitate creating a “gold” standard at 5 gig worldw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O’Hara will be nominated as the SEC Recording Secretary to replace Howard Fra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9B3-1AD7-4514-A366-4CFB7F6B2A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Hilton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0BF-9413-41FF-B159-EC9024EB6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ec Meeting-Hilton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5A6-EF04-4C8F-8FD7-F208E26A2C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0:05:47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3-12T12:11:21Z</dcterms:modified>
  <cp:revision>15</cp:revision>
  <dc:subject>IEEE 802.15 &lt;subject&gt;</dc:subject>
  <dc:title>No Slide Title</dc:title>
</cp:coreProperties>
</file>