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A3361-60BB-4401-A056-CFE8B37D0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34D68-4BD9-49A7-9BA4-E9B801A8F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B40C6-500E-4D32-92C0-20EC706E9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5FAE5-E441-4254-820D-CC119075F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BAFFF-B526-49C2-87B0-C1C3FA9D5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E80A9-C2E2-42B8-8077-2CE9393F0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85B13-C6F1-4DAA-AEB1-0D4CC24AA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9F26D-BF24-4CD1-8F4D-0EBD2B2D7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3A892-683F-404E-91AB-B7D2ED22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AE69-78C8-4419-8828-88AB5F847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F6856-EB83-4F2B-8EA5-09133BF85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4549-571D-435B-B51A-1570345A6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y Volinskey, RFWaves LT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F202E0-98C4-415F-A403-C73F67E97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4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4 RFWaves MAC Proposal Overview</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46" name=""/>
          <p:cNvSpPr/>
          <p:nvPr/>
        </p:nvSpPr>
        <p:spPr>
          <a:xfrm>
            <a:off x="152280" y="609480"/>
            <a:ext cx="8991720" cy="52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ubmission Title:</a:t>
            </a:r>
            <a:r>
              <a:rPr b="0" lang="en-GB" sz="1600" spc="-1" strike="noStrike">
                <a:solidFill>
                  <a:srgbClr val="000000"/>
                </a:solidFill>
                <a:latin typeface="Times New Roman"/>
              </a:rPr>
              <a:t> TG4 RFWaves MAC Proposal Overview</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ate Submitted: </a:t>
            </a:r>
            <a:r>
              <a:rPr b="0" lang="en-GB" sz="1600" spc="-1" strike="noStrike">
                <a:solidFill>
                  <a:srgbClr val="000000"/>
                </a:solidFill>
                <a:latin typeface="Times New Roman"/>
              </a:rPr>
              <a:t>8 March, 2001</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urce:</a:t>
            </a:r>
            <a:r>
              <a:rPr b="0" lang="en-GB" sz="1600" spc="-1" strike="noStrike">
                <a:solidFill>
                  <a:srgbClr val="000000"/>
                </a:solidFill>
                <a:latin typeface="Times New Roman"/>
              </a:rPr>
              <a:t> Barry Volinskey, RFWaves, LT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ress [</a:t>
            </a:r>
            <a:r>
              <a:rPr b="0" lang="en-GB" sz="1600" spc="-1" strike="noStrike">
                <a:solidFill>
                  <a:srgbClr val="ff0000"/>
                </a:solidFill>
                <a:latin typeface="Times New Roman"/>
              </a:rPr>
              <a:t>Add address Street, City, PC, Province/State, Country</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oice:+972-3-6344131 FAX: +972-3-6344130 , E-Mail: Volinskey@RFWaves.com</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If this is a response to a Call for Contributions, cite the name and date of the Call for Contributions to which this document responds, as well as the relevant item number in the Call for Contribu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Note: Contributions that are not responsive to this section of the template, and contributions which 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not address the topic under which they are submitted, may be refused or consigned to the “General Contributions” area.]</a:t>
            </a:r>
            <a:r>
              <a:rPr b="0" lang="en-GB"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bstract:</a:t>
            </a:r>
            <a:r>
              <a:rPr b="0" lang="en-GB" sz="1600" spc="-1" strike="noStrike">
                <a:solidFill>
                  <a:srgbClr val="000000"/>
                </a:solidFill>
                <a:latin typeface="Times New Roman"/>
              </a:rPr>
              <a:t>	</a:t>
            </a:r>
            <a:r>
              <a:rPr b="0" lang="en-GB" sz="1600" spc="-1" strike="noStrike">
                <a:solidFill>
                  <a:srgbClr val="000000"/>
                </a:solidFill>
                <a:latin typeface="Times New Roman"/>
              </a:rPr>
              <a:t>An overview of the MAC layer proposed by RFWaves for TG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urpose:</a:t>
            </a:r>
            <a:r>
              <a:rPr b="0" lang="en-GB" sz="1600" spc="-1" strike="noStrike">
                <a:solidFill>
                  <a:srgbClr val="000000"/>
                </a:solidFill>
                <a:latin typeface="Times New Roman"/>
              </a:rPr>
              <a:t>	</a:t>
            </a:r>
            <a:r>
              <a:rPr b="0" lang="en-GB" sz="1600" spc="-1" strike="noStrike">
                <a:solidFill>
                  <a:srgbClr val="000000"/>
                </a:solidFill>
                <a:latin typeface="Times New Roman"/>
              </a:rPr>
              <a:t>Presentation to TG4 at the HH meet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tice:</a:t>
            </a:r>
            <a:r>
              <a:rPr b="0" lang="en-GB" sz="1600" spc="-1" strike="noStrike">
                <a:solidFill>
                  <a:srgbClr val="000000"/>
                </a:solidFill>
                <a:latin typeface="Times New Roman"/>
              </a:rPr>
              <a:t>	</a:t>
            </a:r>
            <a:r>
              <a:rPr b="0" lang="en-GB"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lease:</a:t>
            </a:r>
            <a:r>
              <a:rPr b="0" lang="en-GB" sz="1600" spc="-1" strike="noStrike">
                <a:solidFill>
                  <a:srgbClr val="000000"/>
                </a:solidFill>
                <a:latin typeface="Times New Roman"/>
              </a:rPr>
              <a:t>	</a:t>
            </a:r>
            <a:r>
              <a:rPr b="0" lang="en-GB" sz="1600" spc="-1" strike="noStrike">
                <a:solidFill>
                  <a:srgbClr val="000000"/>
                </a:solidFill>
                <a:latin typeface="Times New Roman"/>
              </a:rPr>
              <a:t>The contributor acknowledges and accepts that this contribution becomes the property of IEEE and may be made publicly available by P802.15.</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196EC58-F373-4C0B-8987-319299F33BD1}"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Structure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yload length (8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cket number (8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otal length (8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pare (8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yload (up to 256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RC/Checksum (16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End byte (8 b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otal overhead – 112-136 bi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22CF944-DD03-4FF3-A7D2-8BD449A0C4C0}"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Structure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Example packet structure – Short packets</a:t>
            </a:r>
            <a:endParaRPr b="0" lang="en-US" sz="2400" spc="-1" strike="noStrike">
              <a:solidFill>
                <a:srgbClr val="000000"/>
              </a:solidFill>
              <a:latin typeface="Arial"/>
            </a:endParaRPr>
          </a:p>
          <a:p>
            <a:pPr lvl="1" marL="683280" indent="-26280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reamble (8 bit)</a:t>
            </a:r>
            <a:endParaRPr b="0" lang="en-US" sz="2400" spc="-1" strike="noStrike">
              <a:solidFill>
                <a:srgbClr val="000000"/>
              </a:solidFill>
              <a:latin typeface="Arial"/>
            </a:endParaRPr>
          </a:p>
          <a:p>
            <a:pPr lvl="1" marL="683280" indent="-26280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ource Address (8 bit)</a:t>
            </a:r>
            <a:endParaRPr b="0" lang="en-US" sz="2400" spc="-1" strike="noStrike">
              <a:solidFill>
                <a:srgbClr val="000000"/>
              </a:solidFill>
              <a:latin typeface="Arial"/>
            </a:endParaRPr>
          </a:p>
          <a:p>
            <a:pPr lvl="1" marL="683280" indent="-26280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Destination Address (8 bit)</a:t>
            </a:r>
            <a:endParaRPr b="0" lang="en-US" sz="2400" spc="-1" strike="noStrike">
              <a:solidFill>
                <a:srgbClr val="000000"/>
              </a:solidFill>
              <a:latin typeface="Arial"/>
            </a:endParaRPr>
          </a:p>
          <a:p>
            <a:pPr lvl="1" marL="683280" indent="-26280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cket type (4 bit)</a:t>
            </a:r>
            <a:endParaRPr b="0" lang="en-US" sz="2400" spc="-1" strike="noStrike">
              <a:solidFill>
                <a:srgbClr val="000000"/>
              </a:solidFill>
              <a:latin typeface="Arial"/>
            </a:endParaRPr>
          </a:p>
          <a:p>
            <a:pPr lvl="1" marL="683280" indent="-26280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pare (4 bit)</a:t>
            </a:r>
            <a:endParaRPr b="0" lang="en-US" sz="2400" spc="-1" strike="noStrike">
              <a:solidFill>
                <a:srgbClr val="000000"/>
              </a:solidFill>
              <a:latin typeface="Arial"/>
            </a:endParaRPr>
          </a:p>
          <a:p>
            <a:pPr lvl="1" marL="683280" indent="-26280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yload 0 or 64 bit</a:t>
            </a:r>
            <a:endParaRPr b="0" lang="en-US" sz="2400" spc="-1" strike="noStrike">
              <a:solidFill>
                <a:srgbClr val="000000"/>
              </a:solidFill>
              <a:latin typeface="Arial"/>
            </a:endParaRPr>
          </a:p>
          <a:p>
            <a:pPr lvl="1" marL="683280" indent="-26280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RC/Checksum (16 bit)</a:t>
            </a:r>
            <a:endParaRPr b="0" lang="en-US" sz="2400" spc="-1" strike="noStrike">
              <a:solidFill>
                <a:srgbClr val="000000"/>
              </a:solidFill>
              <a:latin typeface="Arial"/>
            </a:endParaRPr>
          </a:p>
          <a:p>
            <a:pPr lvl="1" marL="683280" indent="-26280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top byte (8 bit)</a:t>
            </a:r>
            <a:endParaRPr b="0" lang="en-US" sz="2400" spc="-1" strike="noStrike">
              <a:solidFill>
                <a:srgbClr val="000000"/>
              </a:solidFill>
              <a:latin typeface="Arial"/>
            </a:endParaRPr>
          </a:p>
          <a:p>
            <a:pPr marL="315360" indent="-31536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otal overhead – 56 bit</a:t>
            </a:r>
            <a:endParaRPr b="0" lang="en-US" sz="2400" spc="-1" strike="noStrike">
              <a:solidFill>
                <a:srgbClr val="000000"/>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3BC9C60-4350-4407-9AC8-BADA6AE9FD57}"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ly to CFA</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Applies to both sweet spots of applic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64K Devi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Master-Slave architecture with automatic network initiation and service discove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Bi-Directional communi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upport both TDMA and CSMA types of communi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Latency for 128bit packet – Less than 1mSec – with retransmissions for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3F32680-C102-40C8-9B76-3274DA5BF523}"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ly to CFA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tar and Mesh topologies supported by PH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everal networks can interact in the same area, due to high bandwid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Battery life – Long – Depending on appli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ize – Extremely small – going smalle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2.4GHz Antenna benef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No location awarenes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AD5AE08-064F-4E50-856D-B1A8124D1BE9}"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ly to CFA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10m Range with small, printed antenna and no coding – Longer range available with improved antenna and cod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Global 2.4GHz ISM band</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oexistence in the 2.4GHz ISM band</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echnically Feasible (working technolog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o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ost/Performanc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E18644E-7AFC-4A95-A13A-290502D66B15}"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FWaves Ltd.</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Eurose"/>
              </a:rPr>
              <a:t>TG4 RFWaves MAC Proposal Overview</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2AB456F-490D-4FA9-A784-A8DE84804C64}"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RFWaves main interest is in the PHY</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The MAC should utilize the PHY to the benefit of the applica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Application segments includ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Home automation and secur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Industrial autom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Toys and gam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Controllers and peripheral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Internet connected applianc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Different requirem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Market size &gt;&gt; 100M Units a yea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EE8485E-46C9-4973-AFBD-E117F214179C}"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Implementation Requirement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oftware should be able to run on a 8bit microcontroll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Low Pow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Low Co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ASIC or FPGA can be used in some applications to perform MAC function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606D056-67C8-4D98-8D08-9C7FC2024D1E}"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ggested MAC Solution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Low end Master-Slave CSMA – Most Comm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Master has a large power sourc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All communication is through the mast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Other applications may require different MAC lay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High bit-rate applications Master-Slave TDM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Symmetric, User initiated, Master-Slave</a:t>
            </a:r>
            <a:endParaRPr b="0" lang="en-US" sz="2000" spc="-1" strike="noStrike">
              <a:solidFill>
                <a:srgbClr val="000000"/>
              </a:solidFill>
              <a:latin typeface="Arial"/>
            </a:endParaRPr>
          </a:p>
          <a:p>
            <a:pPr lvl="2" marL="1085760" indent="-228600">
              <a:lnSpc>
                <a:spcPct val="100000"/>
              </a:lnSpc>
              <a:spcBef>
                <a:spcPts val="499"/>
              </a:spcBef>
              <a:buClr>
                <a:srgbClr val="000000"/>
              </a:buClr>
              <a:buFont typeface="Euros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Symmetric Power Consumption.</a:t>
            </a:r>
            <a:endParaRPr b="0" lang="en-US" sz="2000" spc="-1" strike="noStrike">
              <a:solidFill>
                <a:srgbClr val="000000"/>
              </a:solidFill>
              <a:latin typeface="Arial"/>
            </a:endParaRPr>
          </a:p>
          <a:p>
            <a:pPr lvl="2" marL="1085760" indent="-228600">
              <a:lnSpc>
                <a:spcPct val="100000"/>
              </a:lnSpc>
              <a:spcBef>
                <a:spcPts val="499"/>
              </a:spcBef>
              <a:buClr>
                <a:srgbClr val="000000"/>
              </a:buClr>
              <a:buFont typeface="Euros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Example -  a network of handheld gam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AF7CA2A-E0D6-4CDB-80C6-157AF0823228}"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MA, Master-Slave Based MAC</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Great for various automation and security  applica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One master node with large power source</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Master is always in receiving mo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A slave device would burst and wait for ACK from the mast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All communication is done through the master no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Do 650uSec between tries to avoid Bluetooth</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128 bit packets – 32bit ACK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00ADADB-47AA-4EEA-A86C-B2072C0342D6}"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unication Format</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lave unit senses for carri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If carrier exists – it waits for a random based time of P (other schemes possible) and try to sense aga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If no carrier is detected packet is transmitted, going to receive mode immediately afterwards to receive ACK and any packets await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Master sends an ACK immediately and signals the slave to remain in reception if more packets await i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F9F71A4-2FF1-41C4-A0F9-E191BFD49F68}"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unication Format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Failures in receiving ACK result in retransmits with varying delays</a:t>
            </a:r>
            <a:endParaRPr b="0" lang="en-US" sz="2400" spc="-1" strike="noStrike">
              <a:solidFill>
                <a:srgbClr val="000000"/>
              </a:solidFill>
              <a:latin typeface="Arial"/>
            </a:endParaRPr>
          </a:p>
          <a:p>
            <a:pPr marL="332640" indent="-3326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etup phase includes a specific packet with a “new device” address, resulting in a reply from the master containing the address for the device</a:t>
            </a:r>
            <a:endParaRPr b="0" lang="en-US" sz="2400" spc="-1" strike="noStrike">
              <a:solidFill>
                <a:srgbClr val="000000"/>
              </a:solidFill>
              <a:latin typeface="Arial"/>
            </a:endParaRPr>
          </a:p>
          <a:p>
            <a:pPr marL="332640" indent="-3326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he master can keep a translation table between real MAC addresses (32 bit) to their network address (8 bit) if needed</a:t>
            </a:r>
            <a:endParaRPr b="0" lang="en-US" sz="2400" spc="-1" strike="noStrike">
              <a:solidFill>
                <a:srgbClr val="000000"/>
              </a:solidFill>
              <a:latin typeface="Arial"/>
            </a:endParaRPr>
          </a:p>
          <a:p>
            <a:pPr marL="332640" indent="-3326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If a device does not get replied several times it will go back into the setup phase</a:t>
            </a: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FF37E84-B192-402D-B444-7315A738E6C7}"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Structure</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Example packet structure – Long packe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reamble (8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ource Address (2-4 by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Destination Address (2-4 by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cket type (8 bit)</a:t>
            </a:r>
            <a:endParaRPr b="0" lang="en-US" sz="2400" spc="-1" strike="noStrike">
              <a:solidFill>
                <a:srgbClr val="000000"/>
              </a:solidFill>
              <a:latin typeface="Arial"/>
            </a:endParaRPr>
          </a:p>
          <a:p>
            <a:pPr lvl="2" marL="1085760" indent="-228600">
              <a:lnSpc>
                <a:spcPct val="100000"/>
              </a:lnSpc>
              <a:spcBef>
                <a:spcPts val="601"/>
              </a:spcBef>
              <a:buClr>
                <a:srgbClr val="000000"/>
              </a:buClr>
              <a:buFont typeface="Euros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IP, ACK, last packet in a buffer, control, etc.</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B9C7379-7657-4A4B-BBAD-1BF5694D1DD6}"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8T20:23:35Z</dcterms:created>
  <dc:creator>Barry Volinskey</dc:creator>
  <dc:description>&lt;doc#&gt;</dc:description>
  <dc:language>en-US</dc:language>
  <cp:lastModifiedBy>Robert F.  Heile</cp:lastModifiedBy>
  <cp:lastPrinted>1998-02-10T13:28:06Z</cp:lastPrinted>
  <dcterms:modified xsi:type="dcterms:W3CDTF">2001-03-12T21:27:05Z</dcterms:modified>
  <cp:revision>5</cp:revision>
  <dc:subject>IEEE 802.15 &lt;subject&gt;</dc:subject>
  <dc:title>PowerPoint Presentation</dc:title>
</cp:coreProperties>
</file>