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3C5002-A148-4B99-B375-E4569B0732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6070FD-3970-4A2E-9581-9B8263A89B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9564B9-C5A9-42FA-BB66-00D7162BD3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AAB0C1-251F-4C19-97B3-70ECF7AEA5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E8F769-170E-4952-A8D6-A09992839F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C99F9-B2F0-4E3B-A326-290DBBB20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F9C410-19C4-45C1-8737-A5C7FA2116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36B10F-1331-4347-ACDD-9DC06DF575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AA1026-1753-499F-95E8-7EE12A51AD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C3DAB-32D3-454C-80C4-35D68AC6B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FD04A-2C72-4487-AA44-61FAEC545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C7E57-6918-4807-A8B1-DBC2EAD091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D7E7473-E29C-4725-9F4D-7F35B658EE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155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749160"/>
            <a:ext cx="8763120" cy="426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oject: IEEE P802.15 Working Group for Wireless Personal Area Networks (WPA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IEEE802.15.3: Need for baseline mod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9 March, 2001</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Dr. Tim Schmidl </a:t>
            </a:r>
            <a:r>
              <a:rPr b="0" lang="en-US" sz="1600" spc="-1" strike="noStrike">
                <a:solidFill>
                  <a:srgbClr val="000000"/>
                </a:solidFill>
                <a:latin typeface="Times New Roman"/>
              </a:rPr>
              <a:t>	</a:t>
            </a:r>
            <a:r>
              <a:rPr b="1" lang="en-US" sz="1600" spc="-1" strike="noStrike">
                <a:solidFill>
                  <a:srgbClr val="000000"/>
                </a:solidFill>
                <a:latin typeface="Times New Roman"/>
              </a:rPr>
              <a:t>Company: </a:t>
            </a:r>
            <a:r>
              <a:rPr b="0" lang="en-US" sz="1600" spc="-1" strike="noStrike">
                <a:solidFill>
                  <a:srgbClr val="000000"/>
                </a:solidFill>
                <a:latin typeface="Times New Roman"/>
              </a:rPr>
              <a:t>Texas Instrumen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2500 TI Boulevard, MS 8632, Dallas, TX 75243</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  +1.214.480-4460, FAX: +1.972.761.6967, E-Mail: schmidl@ti.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Document pointing out the need for a baseline mode</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 </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Tim Schmidl, Texas Instruments</a:t>
            </a:r>
          </a:p>
        </p:txBody>
      </p:sp>
      <p:sp>
        <p:nvSpPr>
          <p:cNvPr id="3" name="PlaceHolder 2"/>
          <p:cNvSpPr>
            <a:spLocks noGrp="1"/>
          </p:cNvSpPr>
          <p:nvPr>
            <p:ph type="sldNum" idx="3"/>
          </p:nvPr>
        </p:nvSpPr>
        <p:spPr/>
        <p:txBody>
          <a:bodyPr/>
          <a:p>
            <a:fld id="{A9BC36DC-004C-4617-976A-59DB3AA9AB38}" type="slidenum">
              <a:t>1</a:t>
            </a:fld>
          </a:p>
        </p:txBody>
      </p:sp>
      <p:sp>
        <p:nvSpPr>
          <p:cNvPr id="4" name="PlaceHolder 3"/>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ed for a Baseline Mode</a:t>
            </a:r>
            <a:endParaRPr b="0" lang="en-US" sz="3600" spc="-1" strike="noStrike">
              <a:solidFill>
                <a:srgbClr val="000000"/>
              </a:solidFill>
              <a:latin typeface="Times New Roman"/>
            </a:endParaRPr>
          </a:p>
        </p:txBody>
      </p:sp>
      <p:sp>
        <p:nvSpPr>
          <p:cNvPr id="47" name="PlaceHolder 2"/>
          <p:cNvSpPr>
            <a:spLocks noGrp="1"/>
          </p:cNvSpPr>
          <p:nvPr>
            <p:ph/>
          </p:nvPr>
        </p:nvSpPr>
        <p:spPr>
          <a:xfrm>
            <a:off x="685800" y="1600200"/>
            <a:ext cx="7772400" cy="457344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 802.15.3 group was formed, Bluetooth 1.x was assumed to be the baseline mod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Bluetooth 1.x is used as the baseline mode</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to a piconet can be performed using the Bluetooth 1.x inquiry and paging mode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ing interference to find a good frequency band for the piconet can be performed in Bluetooth 1.x mod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by and low power modes such as sniff, hold, and park modes can be entered in Bluetooth mod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piconet collapses due to interference or loss of some members, fallback mode can be Bluetooth mod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 time to market for 802.15.3 since Bluetooth 1.x is already defined and Bluetooth modules are availabl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Tim Schmidl, Texas Instruments</a:t>
            </a:r>
          </a:p>
        </p:txBody>
      </p:sp>
      <p:sp>
        <p:nvSpPr>
          <p:cNvPr id="5" name="PlaceHolder 4"/>
          <p:cNvSpPr>
            <a:spLocks noGrp="1"/>
          </p:cNvSpPr>
          <p:nvPr>
            <p:ph type="sldNum" idx="3"/>
          </p:nvPr>
        </p:nvSpPr>
        <p:spPr/>
        <p:txBody>
          <a:bodyPr/>
          <a:p>
            <a:fld id="{E2E51F49-D1B8-423C-8E24-D344192CFC44}" type="slidenum">
              <a:t>2</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f Bluetooth 1.x is not baseline mode ...</a:t>
            </a:r>
            <a:endParaRPr b="0" lang="en-US" sz="3600" spc="-1" strike="noStrike">
              <a:solidFill>
                <a:srgbClr val="000000"/>
              </a:solidFill>
              <a:latin typeface="Times New Roman"/>
            </a:endParaRPr>
          </a:p>
        </p:txBody>
      </p:sp>
      <p:sp>
        <p:nvSpPr>
          <p:cNvPr id="49" name="PlaceHolder 2"/>
          <p:cNvSpPr>
            <a:spLocks noGrp="1"/>
          </p:cNvSpPr>
          <p:nvPr>
            <p:ph/>
          </p:nvPr>
        </p:nvSpPr>
        <p:spPr>
          <a:xfrm>
            <a:off x="685800" y="1600200"/>
            <a:ext cx="7772400" cy="457344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802.15.3 group could invent a new mode with similar functionality to Bluetooth 1.x.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inventing Bluetooth 1.x will lead to a significant delay in bringing products to market.</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802.15.3 group could use similar connect and power saving modes as 802.11b.</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point (AP) transmits a beacon, and mobile stations (STA) search for the beacon and then attempt to associate with the AP.</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is 802.15.3 different from 802.11b?</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Tim Schmidl, Texas Instruments</a:t>
            </a:r>
          </a:p>
        </p:txBody>
      </p:sp>
      <p:sp>
        <p:nvSpPr>
          <p:cNvPr id="5" name="PlaceHolder 4"/>
          <p:cNvSpPr>
            <a:spLocks noGrp="1"/>
          </p:cNvSpPr>
          <p:nvPr>
            <p:ph type="sldNum" idx="3"/>
          </p:nvPr>
        </p:nvSpPr>
        <p:spPr/>
        <p:txBody>
          <a:bodyPr/>
          <a:p>
            <a:fld id="{21CB6BCD-F142-4840-A935-6076F36037A0}" type="slidenum">
              <a:t>3</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clusion</a:t>
            </a:r>
            <a:endParaRPr b="0" lang="en-US" sz="3600" spc="-1" strike="noStrike">
              <a:solidFill>
                <a:srgbClr val="000000"/>
              </a:solidFill>
              <a:latin typeface="Times New Roman"/>
            </a:endParaRPr>
          </a:p>
        </p:txBody>
      </p:sp>
      <p:sp>
        <p:nvSpPr>
          <p:cNvPr id="51" name="PlaceHolder 2"/>
          <p:cNvSpPr>
            <a:spLocks noGrp="1"/>
          </p:cNvSpPr>
          <p:nvPr>
            <p:ph/>
          </p:nvPr>
        </p:nvSpPr>
        <p:spPr>
          <a:xfrm>
            <a:off x="685800" y="1600200"/>
            <a:ext cx="7772400" cy="457344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nt to make 802.15.1 (Bluetooth) as the mandatory baseline mode for 802.15.3.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ll allow rapid development of 802.15.3 standard, and it will maintain the basic characteristics of a WPA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ll allow devices to only scan (and not actively transmit) and wait for an inquiry or page.</a:t>
            </a:r>
            <a:endParaRPr b="0" lang="en-US" sz="1800" spc="-1" strike="noStrike">
              <a:solidFill>
                <a:srgbClr val="000000"/>
              </a:solidFill>
              <a:latin typeface="Arial"/>
            </a:endParaRPr>
          </a:p>
          <a:p>
            <a:pPr lvl="2" marL="108576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need to continually transmit a beacon, which would increase interference</a:t>
            </a:r>
            <a:endParaRPr b="0" lang="en-US" sz="1600" spc="-1" strike="noStrike">
              <a:solidFill>
                <a:srgbClr val="000000"/>
              </a:solidFill>
              <a:latin typeface="Arial"/>
            </a:endParaRPr>
          </a:p>
          <a:p>
            <a:pPr lvl="2" marL="108576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devices connect and decide to transmit at high rate, they can switch to the high rate mode</a:t>
            </a: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s 802.15.1 and 802.15.3 to be interoperabl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Tim Schmidl, Texas Instruments</a:t>
            </a:r>
          </a:p>
        </p:txBody>
      </p:sp>
      <p:sp>
        <p:nvSpPr>
          <p:cNvPr id="5" name="PlaceHolder 4"/>
          <p:cNvSpPr>
            <a:spLocks noGrp="1"/>
          </p:cNvSpPr>
          <p:nvPr>
            <p:ph type="sldNum" idx="3"/>
          </p:nvPr>
        </p:nvSpPr>
        <p:spPr/>
        <p:txBody>
          <a:bodyPr/>
          <a:p>
            <a:fld id="{9C59C034-62A0-4DE7-B783-87DC0AD2EB83}" type="slidenum">
              <a:t>4</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3T23:29:32Z</dcterms:created>
  <dc:creator> Systems and Solutions Division</dc:creator>
  <dc:description>&lt;doc#&gt;</dc:description>
  <dc:language>en-US</dc:language>
  <cp:lastModifiedBy>TI Employee </cp:lastModifiedBy>
  <cp:lastPrinted>2001-03-09T22:31:46Z</cp:lastPrinted>
  <dcterms:modified xsi:type="dcterms:W3CDTF">2001-03-12T13:44:35Z</dcterms:modified>
  <cp:revision>95</cp:revision>
  <dc:subject>IEEE 802.15 &lt;subject&gt;</dc:subject>
  <dc:title>No Slide Title</dc:title>
</cp:coreProperties>
</file>