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0422-F075-4817-9467-2E89F935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26E9B-66DB-4A92-8AD9-52231FE4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606E0-3627-431A-B726-60E76626C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088D4-B663-477C-8C9C-355C788F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10164-315D-4D52-82D0-53C6A9002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B3A6-BE01-4E47-8DE1-1DD2FD09E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3E910-EA20-4697-9291-86A99F09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1764-2B3E-4492-B4EC-E7A7E8CC4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5377-D9C0-4D4C-9A23-1D87AE8A8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36F9-2727-4CC3-BAC9-2F3C0057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CCBE-2A67-4B3B-AC7B-D6B877A2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F3B4-9674-4E38-8798-39FB95C98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ECAAB9-6951-472A-AB52-245E9C2FD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Draft-Standard-Opening</a:t>
            </a:r>
            <a:r>
              <a:rPr b="0" lang="en-US" sz="1600" spc="-1" strike="noStrike">
                <a:solidFill>
                  <a:srgbClr val="000000"/>
                </a:solidFill>
                <a:latin typeface="Times New Roman"/>
              </a:rPr>
              <a:t>-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2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451-3438</a:t>
            </a:r>
            <a:r>
              <a:rPr b="0" lang="en-US" sz="1600" spc="-1" strike="noStrike">
                <a:solidFill>
                  <a:srgbClr val="000000"/>
                </a:solidFill>
                <a:latin typeface="Times New Roman"/>
              </a:rPr>
              <a:t>], FAX: [</a:t>
            </a:r>
            <a:r>
              <a:rPr b="0" lang="en-US" sz="1600" spc="-1" strike="noStrike">
                <a:solidFill>
                  <a:srgbClr val="000000"/>
                </a:solidFill>
                <a:latin typeface="Times New Roman"/>
              </a:rPr>
              <a:t>1-858-451-3546</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for the draft standard in conference calls and via email since the last meeting in Monterre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draft standard edi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4230964-D1B9-408E-9DCA-2399275B8D1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Standard Accomplishments at Hilton Head</a:t>
            </a:r>
            <a:endParaRPr b="0" lang="en-US" sz="3600" spc="-1" strike="noStrike">
              <a:solidFill>
                <a:srgbClr val="000000"/>
              </a:solidFill>
              <a:latin typeface="Arial"/>
            </a:endParaRPr>
          </a:p>
        </p:txBody>
      </p:sp>
      <p:sp>
        <p:nvSpPr>
          <p:cNvPr id="47"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editorial review by IEE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it looks very goo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direction on cross referen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clean up "shall/</a:t>
            </a:r>
            <a:r>
              <a:rPr b="0" lang="en-US" sz="2400" spc="-1" strike="noStrike">
                <a:solidFill>
                  <a:srgbClr val="000000"/>
                </a:solidFill>
                <a:latin typeface="Times New Roman"/>
                <a:ea typeface="Times New Roman"/>
              </a:rPr>
              <a:t>should/may/can/will/mu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minor correc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d d02+changes for baseline draft d0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2P802-5-3__Draft-Standard.pd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5-01/165_TG3-PHY-Amendments.d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5-01/166_TG3-MAC-Amendments.d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5-01/167_TG3-System-Amendments.doc</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396442-1D59-454E-BA33-EDC677BF0D2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s</a:t>
            </a:r>
            <a:endParaRPr b="0" lang="en-US" sz="3600" spc="-1" strike="noStrike">
              <a:solidFill>
                <a:srgbClr val="000000"/>
              </a:solidFill>
              <a:latin typeface="Arial"/>
            </a:endParaRPr>
          </a:p>
        </p:txBody>
      </p:sp>
      <p:sp>
        <p:nvSpPr>
          <p:cNvPr id="49"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alls next wee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gendas should be out 24 hrs pri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al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at 12 noon EST, beginning 27 March, repeating weekl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al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10 am PST, beginning 27 March, semi-weekl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row time and emai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B28EFB-C632-405D-94A1-A93349105BBA}"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mplishments </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d Clause 8.2.4.1 regarding explicit token passing.</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d piconet data rate support byte from beacon frame format.</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d SC-TDMA(VTS) clauses 8.2.4.3 and 8.2.5 per TG3 approval.</a:t>
            </a: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02178A5-1A32-4AEB-927E-E7503CE9DEB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mplishments </a:t>
            </a:r>
            <a:r>
              <a:rPr b="0" lang="en-US" sz="2800" spc="-1" strike="noStrike">
                <a:solidFill>
                  <a:srgbClr val="000000"/>
                </a:solidFill>
                <a:latin typeface="Arial"/>
              </a:rPr>
              <a:t>continued</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ained the D-TDMA(GTS) clause 8.2.4.2 in the baseline per TG3 approval.</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o add a MAC SAP clause to the baseline based on doc: 802.15-01/060r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66B6013-A6CB-4629-8862-DEB05931E34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Issues Resolved</a:t>
            </a:r>
            <a:endParaRPr b="0" lang="en-US" sz="36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solutions in P802.15-01/16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crambler polynom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packet leng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switch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PIB and PHY-S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partially resolved (in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3D23B85-6972-495E-BD22-964AF31721D0}"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FEC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t time, IFS'es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 estimate information (M. Naf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d source (T. Schmidl, J. Karaogu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carrier and clock synchronization (S. 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A settings (J. Gil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F3922AB-1166-4D40-9D16-1C9D345ACA66}"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Unresolved Issues (cont)</a:t>
            </a:r>
            <a:endParaRPr b="0" lang="en-US" sz="36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SSI if needed (MAC + 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maximum input level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 timing accuracy measurement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for jamming resistance (J. Gil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um packet length (B. Shvodi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ZAC OQPSK/QPS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D621B0C-98E1-4899-BE81-9E6B7561CACC}"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PKG</cp:lastModifiedBy>
  <cp:lastPrinted>1998-02-10T13:28:06Z</cp:lastPrinted>
  <dcterms:modified xsi:type="dcterms:W3CDTF">2001-03-15T18:40:30Z</dcterms:modified>
  <cp:revision>70</cp:revision>
  <dc:subject>IEEE 802.15 PHY Committee Monterey Report</dc:subject>
  <dc:title>No Slide Title</dc:title>
</cp:coreProperties>
</file>