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B15A7-9896-48B0-AA04-62FBB173F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52A06-5A19-48EE-A18A-A8F23D97D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60BB4-1B43-4030-889B-B233F6790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76F06-B257-4D91-975D-A5236FE4C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6C2A5-5BB1-43FA-BF6A-528C2DA53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89B82-5636-4504-A6ED-197A30F2D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94B27-B323-463E-8257-F3BD4D8F5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FD1FC-4310-4989-B272-3DFD3065A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BC23F-6DE2-4AE7-91C8-59099F30D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A5EF8-5662-43DA-A6C3-3E0A1D0EB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21A3E-70DA-4944-968A-836A7704A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7AF9D-0699-4694-B4BE-745E28DC9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C8C1E8-3D00-4D03-BE40-5B6DF6EBA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15092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09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4426DC7-8EF7-40FA-9212-5E4F4610230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Opening Report 12Mar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1Mar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1098r2P802-15_TG3-Mar01-Meeting-Objective-and-Agenda.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802.15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WG to update them from the last session on all work i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Summary</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PHY Draft review</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ing Definition Review</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ization/PSD</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er FEC</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Evening: OQPSK/QPSK CAZAC Implications (8:00PM)</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Joint MAC/PHY Session</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otiation and Changing Data rate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er format and information</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Resolution of other issu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on proposed PHY amendments (8:36AM)</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PHY issue resolution (4:31PM)</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362724E9-14DD-431B-9EA8-EE9FDA445E43}"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ch Document Summary (1 of x)</a:t>
            </a:r>
            <a:endParaRPr b="0" lang="en-US" sz="3600" spc="-1" strike="noStrike">
              <a:solidFill>
                <a:srgbClr val="000000"/>
              </a:solidFill>
              <a:latin typeface="Times New Roman"/>
            </a:endParaRPr>
          </a:p>
        </p:txBody>
      </p:sp>
      <p:sp>
        <p:nvSpPr>
          <p:cNvPr id="101"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94000"/>
          </a:bodyPr>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0407r2_TG3-Draft-Standard-Organization.pp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034r2P802-15_TG3-MAC-Clause7-Draft-Text.doc</a:t>
            </a:r>
            <a:r>
              <a:rPr b="0" lang="en-US" sz="2000" spc="-1" strike="noStrike">
                <a:solidFill>
                  <a:srgbClr val="000000"/>
                </a:solidFill>
                <a:latin typeface="Times New Roman"/>
              </a:rPr>
              <a:t>	</a:t>
            </a:r>
            <a:r>
              <a:rPr b="0" lang="en-US" sz="2000" spc="-1" strike="noStrike">
                <a:solidFill>
                  <a:srgbClr val="000000"/>
                </a:solidFill>
                <a:latin typeface="Times New Roman"/>
              </a:rPr>
              <a:t>Gubbi</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069r2P802-15_TG3-Channel-plan-for-HR-WPAN .doc</a:t>
            </a:r>
            <a:r>
              <a:rPr b="0" lang="en-US" sz="2000" spc="-1" strike="noStrike">
                <a:solidFill>
                  <a:srgbClr val="000000"/>
                </a:solidFill>
                <a:latin typeface="Times New Roman"/>
              </a:rPr>
              <a:t>	</a:t>
            </a:r>
            <a:r>
              <a:rPr b="0" lang="en-US" sz="2000" spc="-1" strike="noStrike">
                <a:solidFill>
                  <a:srgbClr val="000000"/>
                </a:solidFill>
                <a:latin typeface="Times New Roman"/>
              </a:rPr>
              <a:t>Ling</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075r2P802-15_TG3-running ConCall-minutes-MAC-sub-group.doc</a:t>
            </a:r>
            <a:r>
              <a:rPr b="0" lang="en-US" sz="2000" spc="-1" strike="noStrike">
                <a:solidFill>
                  <a:srgbClr val="000000"/>
                </a:solidFill>
                <a:latin typeface="Times New Roman"/>
              </a:rPr>
              <a:t>	</a:t>
            </a:r>
            <a:r>
              <a:rPr b="0" lang="en-US" sz="2000" spc="-1" strike="noStrike">
                <a:solidFill>
                  <a:srgbClr val="000000"/>
                </a:solidFill>
                <a:latin typeface="Times New Roman"/>
              </a:rPr>
              <a:t>K</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076r4P802-15_TG3-running ConCall-minutes-PHY-sub-group.doc</a:t>
            </a:r>
            <a:r>
              <a:rPr b="0" lang="en-US" sz="2000" spc="-1" strike="noStrike">
                <a:solidFill>
                  <a:srgbClr val="000000"/>
                </a:solidFill>
                <a:latin typeface="Times New Roman"/>
              </a:rPr>
              <a:t>	</a:t>
            </a:r>
            <a:r>
              <a:rPr b="0" lang="en-US" sz="2000" spc="-1" strike="noStrike">
                <a:solidFill>
                  <a:srgbClr val="000000"/>
                </a:solidFill>
                <a:latin typeface="Times New Roman"/>
              </a:rPr>
              <a:t>K</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090r2P802-15_TG3-Measurement-Accuracy.pdf</a:t>
            </a:r>
            <a:r>
              <a:rPr b="0" lang="en-US" sz="2000" spc="-1" strike="noStrike">
                <a:solidFill>
                  <a:srgbClr val="000000"/>
                </a:solidFill>
                <a:latin typeface="Times New Roman"/>
              </a:rPr>
              <a:t>	</a:t>
            </a:r>
            <a:r>
              <a:rPr b="0" lang="en-US" sz="2000" spc="-1" strike="noStrike">
                <a:solidFill>
                  <a:srgbClr val="000000"/>
                </a:solidFill>
                <a:latin typeface="Times New Roman"/>
              </a:rPr>
              <a:t>Music</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098r2P802-15_TG3-High-Rate-Agenda-Mar01.xls</a:t>
            </a:r>
            <a:r>
              <a:rPr b="0" lang="en-US" sz="2000" spc="-1" strike="noStrike">
                <a:solidFill>
                  <a:srgbClr val="000000"/>
                </a:solidFill>
                <a:latin typeface="Times New Roman"/>
              </a:rPr>
              <a:t>	</a:t>
            </a:r>
            <a:r>
              <a:rPr b="0" lang="en-US" sz="2000" spc="-1" strike="noStrike">
                <a:solidFill>
                  <a:srgbClr val="000000"/>
                </a:solidFill>
                <a:latin typeface="Times New Roman"/>
              </a:rPr>
              <a:t>Barr</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12r0P802-15_TG3-Opening-Report-12Mar01.ppt</a:t>
            </a:r>
            <a:r>
              <a:rPr b="0" lang="en-US" sz="2000" spc="-1" strike="noStrike">
                <a:solidFill>
                  <a:srgbClr val="000000"/>
                </a:solidFill>
                <a:latin typeface="Times New Roman"/>
              </a:rPr>
              <a:t>	</a:t>
            </a:r>
            <a:r>
              <a:rPr b="0" lang="en-US" sz="2000" spc="-1" strike="noStrike">
                <a:solidFill>
                  <a:srgbClr val="000000"/>
                </a:solidFill>
                <a:latin typeface="Times New Roman"/>
              </a:rPr>
              <a:t>Barr</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13r0P802-15_TG3-PHY_OQPSK Cross-Talk Characteristics.ppt</a:t>
            </a:r>
            <a:r>
              <a:rPr b="0" lang="en-US" sz="2000" spc="-1" strike="noStrike">
                <a:solidFill>
                  <a:srgbClr val="000000"/>
                </a:solidFill>
                <a:latin typeface="Times New Roman"/>
              </a:rPr>
              <a:t>	</a:t>
            </a:r>
            <a:r>
              <a:rPr b="0" lang="en-US" sz="2000" spc="-1" strike="noStrike">
                <a:solidFill>
                  <a:srgbClr val="000000"/>
                </a:solidFill>
                <a:latin typeface="Times New Roman"/>
              </a:rPr>
              <a:t>Roberts</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14r0P802-15_TG3-MAC-Open-Issues-List.xls</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15R0P802-15_TG3-MAC-Ad-Hoc-Meeting-Agenda-Feb01.xls</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6032674B-A09E-4E40-B08B-2657B1EE748B}" type="slidenum">
              <a:t>1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ch Document Summary (2 of 2)</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19r0P802.15_TG3-Modified-CFP.ppt</a:t>
            </a:r>
            <a:r>
              <a:rPr b="0" lang="en-US" sz="2000" spc="-1" strike="noStrike">
                <a:solidFill>
                  <a:srgbClr val="000000"/>
                </a:solidFill>
                <a:latin typeface="Times New Roman"/>
              </a:rPr>
              <a:t>	</a:t>
            </a:r>
            <a:r>
              <a:rPr b="0" lang="en-US" sz="2000" spc="-1" strike="noStrike">
                <a:solidFill>
                  <a:srgbClr val="000000"/>
                </a:solidFill>
                <a:latin typeface="Times New Roman"/>
              </a:rPr>
              <a:t>Shvodia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20r0P802.15_TG3-XSI-MAC-suggestions.ppt</a:t>
            </a:r>
            <a:r>
              <a:rPr b="0" lang="en-US" sz="2000" spc="-1" strike="noStrike">
                <a:solidFill>
                  <a:srgbClr val="000000"/>
                </a:solidFill>
                <a:latin typeface="Times New Roman"/>
              </a:rPr>
              <a:t>	</a:t>
            </a:r>
            <a:r>
              <a:rPr b="0" lang="en-US" sz="2000" spc="-1" strike="noStrike">
                <a:solidFill>
                  <a:srgbClr val="000000"/>
                </a:solidFill>
                <a:latin typeface="Times New Roman"/>
              </a:rPr>
              <a:t>Shvodia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21r1P802-15_TG3-MAC-Clause9-Draft-Text.doc</a:t>
            </a:r>
            <a:r>
              <a:rPr b="0" lang="en-US" sz="2000" spc="-1" strike="noStrike">
                <a:solidFill>
                  <a:srgbClr val="000000"/>
                </a:solidFill>
                <a:latin typeface="Times New Roman"/>
              </a:rPr>
              <a:t>	</a:t>
            </a:r>
            <a:r>
              <a:rPr b="0" lang="en-US" sz="2000" spc="-1" strike="noStrike">
                <a:solidFill>
                  <a:srgbClr val="000000"/>
                </a:solidFill>
                <a:latin typeface="Times New Roman"/>
              </a:rPr>
              <a:t>Gubb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22r1P802-15_TG3-PHY-Issues-List.xls</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47r0P802-15_TG3-Tx-clock-synchronization.ppt</a:t>
            </a:r>
            <a:r>
              <a:rPr b="0" lang="en-US" sz="2000" spc="-1" strike="noStrike">
                <a:solidFill>
                  <a:srgbClr val="000000"/>
                </a:solidFill>
                <a:latin typeface="Times New Roman"/>
              </a:rPr>
              <a:t>	</a:t>
            </a:r>
            <a:r>
              <a:rPr b="0" lang="en-US" sz="2000" spc="-1" strike="noStrike">
                <a:solidFill>
                  <a:srgbClr val="000000"/>
                </a:solidFill>
                <a:latin typeface="Times New Roman"/>
              </a:rPr>
              <a:t>Li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49r0P802-15_TG3-SYS_HH_WorkDoc.doc</a:t>
            </a:r>
            <a:r>
              <a:rPr b="0" lang="en-US" sz="2000" spc="-1" strike="noStrike">
                <a:solidFill>
                  <a:srgbClr val="000000"/>
                </a:solidFill>
                <a:latin typeface="Times New Roman"/>
              </a:rPr>
              <a:t>	</a:t>
            </a:r>
            <a:r>
              <a:rPr b="0" lang="en-US" sz="2000" spc="-1" strike="noStrike">
                <a:solidFill>
                  <a:srgbClr val="000000"/>
                </a:solidFill>
                <a:latin typeface="Times New Roman"/>
              </a:rPr>
              <a:t>Rober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50r0P802-15_TG3-Data-scrambling.ppt</a:t>
            </a:r>
            <a:r>
              <a:rPr b="0" lang="en-US" sz="2000" spc="-1" strike="noStrike">
                <a:solidFill>
                  <a:srgbClr val="000000"/>
                </a:solidFill>
                <a:latin typeface="Times New Roman"/>
              </a:rPr>
              <a:t>	</a:t>
            </a:r>
            <a:r>
              <a:rPr b="0" lang="en-US" sz="2000" spc="-1" strike="noStrike">
                <a:solidFill>
                  <a:srgbClr val="000000"/>
                </a:solidFill>
                <a:latin typeface="Times New Roman"/>
              </a:rPr>
              <a:t>Schmid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51r0P802-15_TG3-Draft-Standard-Opening-Report.pp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54r0P802-15_TG3-Overview-of-802-11-Security.ppt</a:t>
            </a:r>
            <a:r>
              <a:rPr b="0" lang="en-US" sz="2000" spc="-1" strike="noStrike">
                <a:solidFill>
                  <a:srgbClr val="000000"/>
                </a:solidFill>
                <a:latin typeface="Times New Roman"/>
              </a:rPr>
              <a:t>	</a:t>
            </a:r>
            <a:r>
              <a:rPr b="0" lang="en-US" sz="2000" spc="-1" strike="noStrike">
                <a:solidFill>
                  <a:srgbClr val="000000"/>
                </a:solidFill>
                <a:latin typeface="Times New Roman"/>
              </a:rPr>
              <a:t>Walk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56r0P802-15_TG3-MAC-PIB text.doc</a:t>
            </a:r>
            <a:r>
              <a:rPr b="0" lang="en-US" sz="2000" spc="-1" strike="noStrike">
                <a:solidFill>
                  <a:srgbClr val="000000"/>
                </a:solidFill>
                <a:latin typeface="Times New Roman"/>
              </a:rPr>
              <a:t>	</a:t>
            </a:r>
            <a:r>
              <a:rPr b="0" lang="en-US" sz="2000" spc="-1" strike="noStrike">
                <a:solidFill>
                  <a:srgbClr val="000000"/>
                </a:solidFill>
                <a:latin typeface="Times New Roman"/>
              </a:rPr>
              <a:t>Rober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0d02P802-15-3__Draft_Standard.pdf</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95F6449-3348-4C14-8740-A91A134C5701}" type="slidenum">
              <a:t>1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March Sessions</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Overview of baseline draf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Review of committee work and resolution of outstanding iss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802.11e Security Present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Resolution of issues and preparation of baseline draft amend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 Voting on MAC, PHY, and System amendments, and vote on baseline draf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Standard drafting, committee reports, Updating project plan, March-May work plan, and WG repor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AE721E2E-C717-4FD1-AB8A-7BF39A2342D2}" type="slidenum">
              <a:t>1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work next week</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s will not resume until week of March 26t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5CD31046-15BC-4D95-B6BE-54C49D6E6F54}" type="slidenum">
              <a:t>1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Status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2001, Hilton Head, SC</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513EFF89-A7C0-4094-9BBC-D37BF27ACC16}"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 of March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3 P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and plans for TG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Document 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9974BA07-7BBB-40E4-845C-C32C2D2E8728}"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January Meeting</a:t>
            </a:r>
            <a:endParaRPr b="0" lang="en-US" sz="3600" spc="-1" strike="noStrike">
              <a:solidFill>
                <a:srgbClr val="000000"/>
              </a:solidFill>
              <a:latin typeface="Times New Roman"/>
            </a:endParaRPr>
          </a:p>
        </p:txBody>
      </p:sp>
      <p:sp>
        <p:nvSpPr>
          <p:cNvPr id="87"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 status, including approval of any ad hoc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te on acceptance of baseline draf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ve outstanding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issues requiring re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project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 work plan for March-Ma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542365DC-64BF-42DE-9A04-C12230FAC10A}"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PAR</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Medium Access Control (MAC) and Physical Layer (PHY) Specifications for High Rate Wireless Personal Area Networks (WP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reless connectivity with fixed, portable and moving devices within or entering a Personal Operating Space (POS) (up to 10 meters in all directions enveloping a pers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operability or coexistence with other 802.15 T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existence with other wireless devices in conjunction with Coexistence Task Groups such as 802.15.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w complexity, low cost, low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t;20Mbps to satisfy a set of consumer multi-media industry needs for WPAN communicat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52ABC5E0-97D6-4FDD-B587-16D9A093A5E0}"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and Plans for TG3</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of Initial Draft</a:t>
            </a:r>
            <a:endParaRPr b="0" lang="en-US" sz="32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MAC/PHY standard of high rate WPAN</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Produce a Standard by the end of 2001 or early 2002</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teps</a:t>
            </a:r>
            <a:endParaRPr b="0" lang="en-US" sz="32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Establish base line draft, March, 2001. Working Group draft, May, 2001. Sponsor ballot, November, 200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2BEF003A-80B2-4A30-BF18-7471CAD4F19A}"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93" name="PlaceHolder 2"/>
          <p:cNvSpPr>
            <a:spLocks noGrp="1"/>
          </p:cNvSpPr>
          <p:nvPr>
            <p:ph/>
          </p:nvPr>
        </p:nvSpPr>
        <p:spPr>
          <a:xfrm>
            <a:off x="457200" y="1600200"/>
            <a:ext cx="830592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Finalize clauses for base line draft. Identify key issues and create proposed resolution for vote to approve base line draft during Hilton Head mee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3 General: Held every Tuesday between F2F meet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Committee: Every Thursd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Committee: Every Tuesday following general 802.15.3 ca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ommittee: No calls scheduled. Email wor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F6547C4-3A16-43C7-8449-7A1A5F3A9D6F}" type="slidenum">
              <a:t>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Summary</a:t>
            </a:r>
            <a:endParaRPr b="0" lang="en-US" sz="3600" spc="-1" strike="noStrike">
              <a:solidFill>
                <a:srgbClr val="000000"/>
              </a:solidFill>
              <a:latin typeface="Times New Roman"/>
            </a:endParaRPr>
          </a:p>
        </p:txBody>
      </p:sp>
      <p:sp>
        <p:nvSpPr>
          <p:cNvPr id="95" name="PlaceHolder 2"/>
          <p:cNvSpPr>
            <a:spLocks noGrp="1"/>
          </p:cNvSpPr>
          <p:nvPr>
            <p:ph/>
          </p:nvPr>
        </p:nvSpPr>
        <p:spPr>
          <a:xfrm>
            <a:off x="685440" y="1142640"/>
            <a:ext cx="7924680" cy="5257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Overview of MAC clauses in base line draf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view of M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hroniz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ion access perio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ion free perio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management SA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 &amp; Privacy (Ref 802.11e work)</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MAC Issue Resolu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ed MAC review and issue resolu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ize proposed MAC baseline amendmen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int MAC/PHY session to resolve issu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MAC Planning and Issue Resolu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to approve MAC amendments (8:06 A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ing session at 4:00 PM</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515F8823-E758-499A-A4E0-3145607EBD30}" type="slidenum">
              <a:t>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stems Summary</a:t>
            </a:r>
            <a:endParaRPr b="0" lang="en-US" sz="3600" spc="-1" strike="noStrike">
              <a:solidFill>
                <a:srgbClr val="000000"/>
              </a:solidFill>
              <a:latin typeface="Times New Roman"/>
            </a:endParaRPr>
          </a:p>
        </p:txBody>
      </p:sp>
      <p:sp>
        <p:nvSpPr>
          <p:cNvPr id="97"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day: Systems committee re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esday: Systems Issue Resolution (1:00P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of proposed amendments (5:21P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dnesday: Vote on systems amendments (8:36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901F43EB-992F-43E4-AE23-E339ACDA5391}"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
  <dc:language>en-US</dc:language>
  <cp:lastModifiedBy>MA013831</cp:lastModifiedBy>
  <cp:lastPrinted>1998-02-10T13:28:06Z</cp:lastPrinted>
  <dcterms:modified xsi:type="dcterms:W3CDTF">2001-03-13T01:43:49Z</dcterms:modified>
  <cp:revision>235</cp:revision>
  <dc:subject>TG3 Opening Report, 12Mar01</dc:subject>
  <dc:title>IEEE P802.15 Working Group for Wireless Personal Area Networks</dc:title>
</cp:coreProperties>
</file>