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7EB5A-9055-4255-9088-9ED3850FF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4E60A-F8E9-49F2-A5D1-183F6698C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9D1C8-AB41-48FB-A68C-D5D5C99F3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22F31-35F0-412E-884E-DA5434705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C4BFE-E8D3-4615-B344-766EF65DA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596F3-12DD-4202-8265-6DFE0A30F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766D2-51E8-4974-81E0-400F34880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0FCF7-5F80-4BF3-9558-6AD40BDD2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77A29-924C-40EC-A51C-6CFCF8E75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83B76-F9F9-47B6-8477-B31D2C6A9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3FBE3-81EC-43E3-8D80-2D86B069E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28B8B-0EB0-45D4-93D5-CC8337F6F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 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82771C-C85C-44CC-890F-98ADEBBC7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5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839440" cy="471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Draft-Standard-Opening</a:t>
            </a:r>
            <a:r>
              <a:rPr b="0" lang="en-US" sz="1600" spc="-1" strike="noStrike">
                <a:solidFill>
                  <a:srgbClr val="000000"/>
                </a:solidFill>
                <a:latin typeface="Times New Roman"/>
              </a:rPr>
              <a:t>-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2 March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451-3438</a:t>
            </a:r>
            <a:r>
              <a:rPr b="0" lang="en-US" sz="1600" spc="-1" strike="noStrike">
                <a:solidFill>
                  <a:srgbClr val="000000"/>
                </a:solidFill>
                <a:latin typeface="Times New Roman"/>
              </a:rPr>
              <a:t>], FAX: [</a:t>
            </a:r>
            <a:r>
              <a:rPr b="0" lang="en-US" sz="1600" spc="-1" strike="noStrike">
                <a:solidFill>
                  <a:srgbClr val="000000"/>
                </a:solidFill>
                <a:latin typeface="Times New Roman"/>
              </a:rPr>
              <a:t>1-858-451-3546</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A summary of the work accomplished for the draft standard in conference calls and via email since the last meeting in Monterre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Document the work accomplished by the draft standard edito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4751ECB8-056A-4464-B1A9-69AB030511F5}"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 Copies of presentation</a:t>
            </a:r>
            <a:endParaRPr b="0" lang="en-US" sz="3600" spc="-1" strike="noStrike">
              <a:solidFill>
                <a:srgbClr val="000000"/>
              </a:solidFill>
              <a:latin typeface="Arial"/>
            </a:endParaRPr>
          </a:p>
        </p:txBody>
      </p:sp>
      <p:pic>
        <p:nvPicPr>
          <p:cNvPr id="47" name="dilbert-cut" descr=""/>
          <p:cNvPicPr/>
          <p:nvPr/>
        </p:nvPicPr>
        <p:blipFill>
          <a:blip r:embed="rId1"/>
          <a:stretch/>
        </p:blipFill>
        <p:spPr>
          <a:xfrm>
            <a:off x="838080" y="2362320"/>
            <a:ext cx="7925040" cy="3935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DF86D53-F759-4D3F-A1FF-C0B964B80CA8}"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Standard Accomplishments</a:t>
            </a:r>
            <a:endParaRPr b="0" lang="en-US" sz="3600" spc="-1" strike="noStrike">
              <a:solidFill>
                <a:srgbClr val="000000"/>
              </a:solidFill>
              <a:latin typeface="Arial"/>
            </a:endParaRPr>
          </a:p>
        </p:txBody>
      </p:sp>
      <p:sp>
        <p:nvSpPr>
          <p:cNvPr id="4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im Ad-Hoc MAC meeting in Boulder</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accomplishments to be reported by A. Heberling</a:t>
            </a:r>
            <a:endParaRPr b="0" lang="en-US" sz="2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line draft released</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all format is coming together, still some tweaks needed.</a:t>
            </a:r>
            <a:endParaRPr b="0" lang="en-US" sz="2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HY issues resolved</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PIB, MLME-SAP and PLME-SAP are outlined in draft</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 good progress this week</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ccomplishments to be reported by R. Rober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140A5CB-D31F-4B19-A283-9D5FD94FF6A9}"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nouncement</a:t>
            </a:r>
            <a:endParaRPr b="0"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to approve/modify minutes of PHY and MAC conference cal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March 14, 10:31 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 P802.15-01/075r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 P802.15-01/076r4</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B7DFE47-9E67-4368-9FF9-1DE574459CDC}"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Accomplishments</a:t>
            </a:r>
            <a:endParaRPr b="0" lang="en-US" sz="36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X sensitivity - in baseli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odulation performance - left for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amble/flush bits - 2 symbols, in baseli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channel arrangement - in baseli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ation accuracy - in P802.15-01/090r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scrambler - side stream with polynomial TBD, uses different IV based on TBD timing inf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1FEF457-D769-4691-8C1F-58CF94C6BCEA}"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Accomplishments (cont.)</a:t>
            </a:r>
            <a:endParaRPr b="0" lang="en-US" sz="36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 TX power set by regulatory, no minimu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of-band performance set by regulat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RX turnaround 10 </a:t>
            </a:r>
            <a:r>
              <a:rPr b="0" lang="en-US" sz="2800" spc="-1" strike="noStrike">
                <a:solidFill>
                  <a:srgbClr val="000000"/>
                </a:solidFill>
                <a:latin typeface="Symbol"/>
                <a:ea typeface="Symbol"/>
              </a:rPr>
              <a:t></a:t>
            </a:r>
            <a:r>
              <a:rPr b="0" lang="en-US" sz="2800" spc="-1" strike="noStrike">
                <a:solidFill>
                  <a:srgbClr val="000000"/>
                </a:solidFill>
                <a:latin typeface="Times New Roman"/>
              </a:rPr>
              <a:t>s - in draft stand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opted 1514 byte max packet, MAC adopted 2048 by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um temperature range, 0-40 C in draft 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D4A0612-6EE9-4E1F-A1A7-AAEB6DBEB78C}"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Issues from Monterrey</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d in P802.15-01/122r2, 30 iss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resolv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assign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ending resol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will be resolved in Hilton Head</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1DA602B-FA24-4CE9-BC81-6058413A9828}"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Unresolved Issues</a:t>
            </a:r>
            <a:endParaRPr b="0" lang="en-US" sz="36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der FEC (J. Gilb)</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t time, IFS'es (J. Gilb)</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nel estimate information (M. Nafie)</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scrambler polynomial and seed source. (T. Schmidl, J. Karaoguz)</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imum packet length (J. Gilb)</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nel switch time (J. Gilb)</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 carrier and clock synchronization (S. Ling)</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CA settings (J. Gil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84F587A-8631-4AD3-A48C-2C68B6E34562}"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Unresolved Issues (cont)</a:t>
            </a:r>
            <a:endParaRPr b="0" lang="en-US" sz="36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SSI if needed (MAC + PH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X maximum input level (J. Gil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 timing accuracy measurement (J. Gil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s for jamming resistance (J. Gil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me format (J. Gilb, determined, but needs to be documented we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PIB and PLME-SAP feedback (A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um packet size. (J. Karaoguz)</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285FFB6-F2DD-4C51-A33B-28D3F350BA83}"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P. K. Gilb</dc:creator>
  <dc:description>IEEE 802.15-01/027r1</dc:description>
  <dc:language>en-US</dc:language>
  <cp:lastModifiedBy>JPKG</cp:lastModifiedBy>
  <cp:lastPrinted>1998-02-10T13:28:06Z</cp:lastPrinted>
  <dcterms:modified xsi:type="dcterms:W3CDTF">2001-03-12T20:59:14Z</dcterms:modified>
  <cp:revision>64</cp:revision>
  <dc:subject>IEEE 802.15 PHY Committee Monterey Report</dc:subject>
  <dc:title>No Slide Title</dc:title>
</cp:coreProperties>
</file>