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8D3D-4AD1-441A-9574-AAD29C5A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F3D9-B659-4B68-BADD-1F68E4D6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6794-FFAA-460C-A0DF-9DF83B43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755-BFDE-49E6-84F8-FA12BEDA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0D42-E653-472C-A909-80DE76BF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D51-65DB-44A8-99ED-0C49FE25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A71A-0D15-4642-B07B-B65F8066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6C4-7AE4-457B-8DED-D8473E04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9075-0945-44A9-97DB-98B8F09F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EA7D-8D3F-4185-8004-7D28BE91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5FE-8985-4077-A028-83D04C73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E54-6447-4726-B6A2-9F8A2C6D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h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8273612-C5D1-4396-AB13-4BF0CF257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17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 for TG3 PHY and MAC Models for Incorporation into TG2 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BD60-6363-4543-9D31-D72F70BF8D0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ortance of Coexis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802.15.3 coexist well with other 802 wireless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5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step to ensure coexistence is incorporation of a TG3 PHY/MAC model into the TG2 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2BDB-6869-40C9-8C6C-B1D6DD89D57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quired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upport TG3 we need the following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Y level model of TG3 transmitter and receiver.  This should be a baseband equivalent model (C-code or MatLab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C level model of TG3 in Op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3 data traffic mod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G3 Channe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CA4C-3A24-47D5-BE65-3192426F74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acts within 802.15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 Layer Model &amp; Channe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Van Dy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Layer Model &amp; Data Traffic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a Gol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E999-5918-43E7-A168-BD2CC049EF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TG2 receives the TG3 models we will incorporate those models into the 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then run scenarios to investigate the effects of the mutual interference with other wireless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5.1 (Bluetoo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2A84-6BAE-44A1-B2A8-7D8F329548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Stephen J. Shellhammer</cp:lastModifiedBy>
  <cp:lastPrinted>2000-09-20T20:30:42Z</cp:lastPrinted>
  <dcterms:modified xsi:type="dcterms:W3CDTF">2001-03-15T16:55:58Z</dcterms:modified>
  <cp:revision>320</cp:revision>
  <dc:subject>IEEE 802.15 &lt;subject&gt;</dc:subject>
  <dc:title>IEEE P802.15 Working Group for Wireless Personal Area Networks</dc:title>
</cp:coreProperties>
</file>