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95D53-1E93-43D3-9F21-E9E1418AD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98390-EA79-4CDD-9BBC-E6D54704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D3D7B-C4B1-4DC6-B5AB-E48191D61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F4B86-A0E3-4A8B-B7C4-4FE246BAE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205CD-88B6-4F91-AF9F-3C984D107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DDA6A-6F41-4091-8A35-3401B2A3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7FADA-B248-4158-B07C-6D9015BD8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ED68-03B3-4687-AC59-446B0E6BA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B839-9882-48F8-BB96-EA0D5D95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296D-D4BE-4DC3-A5CC-CB123677B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4EF2-220D-4810-8E23-528BE835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71B0-F5E7-469D-848A-8567B7733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5EDD02-EAE7-4303-98A2-C1996BE29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7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Private%20Area%20Access.ppt"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B0E22F9-A439-43EE-9F8E-2414656243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4Mar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Jim Allen] Company [Motorola/Kod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109R0P802-15_TG3-High-Rate-Agenda-Mar01.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on March plenary meeting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March Meeting</a:t>
            </a:r>
            <a:endParaRPr b="0" lang="en-US" sz="3600" spc="-1" strike="noStrike">
              <a:solidFill>
                <a:srgbClr val="000000"/>
              </a:solidFill>
              <a:latin typeface="Times New Roman"/>
            </a:endParaRPr>
          </a:p>
        </p:txBody>
      </p:sp>
      <p:sp>
        <p:nvSpPr>
          <p:cNvPr id="9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Conference call status, including approval of any ad hoc busines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Vote on acceptance of baseline draf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Resolve outstanding issu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Identify issues requiring resolutio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Review project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r" pos="7372440"/>
                <a:tab algn="l" pos="8229600"/>
                <a:tab algn="l" pos="9144000"/>
                <a:tab algn="l" pos="10058400"/>
              </a:tabLst>
            </a:pPr>
            <a:r>
              <a:rPr b="0" lang="en-US" sz="3200" spc="-1" strike="noStrike">
                <a:solidFill>
                  <a:srgbClr val="000000"/>
                </a:solidFill>
                <a:latin typeface="Times New Roman"/>
              </a:rPr>
              <a:t>Establish work plan for March-M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46E70100-4B84-45CF-B9B0-BDE64A926722}" type="slidenum">
              <a:t>10</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MAC/PHY standard of high rate WPAN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37244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spcBef>
                <a:spcPts val="700"/>
              </a:spcBef>
              <a:buNone/>
              <a:tabLst>
                <a:tab algn="l" pos="0"/>
                <a:tab algn="r" pos="737244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Working Group draft, Jul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BA35210A-1EDA-4249-BFB1-55A28A69EBAE}" type="slidenum">
              <a:t>11</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for Orlando (May)</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draft D0.4 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comments and open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mendments document for D0.4 to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drafting update to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for letter ballot of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 letter ballo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B269231-906D-439D-9A24-35673AF87710}" type="slidenum">
              <a:t>1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105"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Goal: Identify and resolve issues. Review proposed changes to draft. Plan agenda for next F2F mee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802.15.3 General: Held every Tuesday 10AM C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PHY Committee: Every other Thursday 12PM C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MAC Committee: Every Tuesday 11AM C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System Committee: No calls scheduled. Email work. System items will be included in TG3 calls.</a:t>
            </a:r>
            <a:endParaRPr b="0" lang="en-US" sz="2800" spc="-1" strike="noStrike">
              <a:solidFill>
                <a:srgbClr val="000000"/>
              </a:solidFill>
              <a:latin typeface="Times New Roman"/>
            </a:endParaRPr>
          </a:p>
          <a:p>
            <a:pPr marL="343080" indent="0">
              <a:spcBef>
                <a:spcPts val="700"/>
              </a:spcBef>
              <a:buNone/>
              <a:tabLst>
                <a:tab algn="r" pos="737244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r" pos="7372440"/>
                <a:tab algn="l" pos="8229600"/>
                <a:tab algn="l" pos="9144000"/>
                <a:tab algn="l" pos="10058400"/>
              </a:tabLst>
            </a:pPr>
            <a:r>
              <a:rPr b="0" lang="en-US" sz="2800" spc="-1" strike="noStrike">
                <a:solidFill>
                  <a:srgbClr val="000000"/>
                </a:solidFill>
                <a:latin typeface="Times New Roman"/>
              </a:rPr>
              <a:t>First call March 27 (TG3 ca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1DA3B2A-DDC9-4AD8-846A-29E6ABD3AD0A}" type="slidenum">
              <a:t>1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1 of 2)</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2000"/>
          </a:bodyPr>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0127r5P802-15_TG3-HR-Project-Plan.doc</a:t>
            </a:r>
            <a:r>
              <a:rPr b="0" lang="en-US" sz="2000" spc="-1" strike="noStrike">
                <a:solidFill>
                  <a:srgbClr val="000000"/>
                </a:solidFill>
                <a:latin typeface="Times New Roman"/>
              </a:rPr>
              <a:t>	</a:t>
            </a:r>
            <a:r>
              <a:rPr b="0" lang="en-US" sz="2000" spc="-1" strike="noStrike">
                <a:solidFill>
                  <a:srgbClr val="000000"/>
                </a:solidFill>
                <a:latin typeface="Times New Roman"/>
              </a:rPr>
              <a:t>Allen</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0209r2P802-15_TG3-MAC-LAYER-SUB.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34r2P802-15_TG3-MAC-Clause7-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61r1P802-15_TG3-SC-TDMA.ppt</a:t>
            </a:r>
            <a:r>
              <a:rPr b="0" lang="en-US" sz="2000" spc="-1" strike="noStrike">
                <a:solidFill>
                  <a:srgbClr val="000000"/>
                </a:solidFill>
                <a:latin typeface="Times New Roman"/>
              </a:rPr>
              <a:t>	</a:t>
            </a:r>
            <a:r>
              <a:rPr b="0" lang="en-US" sz="2000" spc="-1" strike="noStrike">
                <a:solidFill>
                  <a:srgbClr val="000000"/>
                </a:solidFill>
                <a:latin typeface="Times New Roman"/>
              </a:rPr>
              <a:t>Schrader</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69r2P802-15_TG3-Channel-plan-for-HR-WPAN .doc</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75r3P802-15_TG3-running ConCall-minutes-MAC-sub-group.doc</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76r4P802-15_TG3-running ConCall-minutes-PHY-sub-group.doc</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90r2P802-15_TG3-Measurement-Accuracy.pdf</a:t>
            </a:r>
            <a:r>
              <a:rPr b="0" lang="en-US" sz="2000" spc="-1" strike="noStrike">
                <a:solidFill>
                  <a:srgbClr val="000000"/>
                </a:solidFill>
                <a:latin typeface="Times New Roman"/>
              </a:rPr>
              <a:t>	</a:t>
            </a:r>
            <a:r>
              <a:rPr b="0" lang="en-US" sz="2000" spc="-1" strike="noStrike">
                <a:solidFill>
                  <a:srgbClr val="000000"/>
                </a:solidFill>
                <a:latin typeface="Times New Roman"/>
              </a:rPr>
              <a:t>Music</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098r4P802-15_TG3-High-Rate-Agenda-Mar01.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109r0P802-15_TG3-Opening-Report-12Mar01.ppt</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113r0P802-15_TG3-PHY_OQPSK Cross-Talk Characteristics.ppt</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114r0P802-15_TG3-MAC-Open-Issues-List.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15360" indent="0">
              <a:lnSpc>
                <a:spcPct val="90000"/>
              </a:lnSpc>
              <a:spcBef>
                <a:spcPts val="499"/>
              </a:spcBef>
              <a:buNone/>
              <a:tabLst>
                <a:tab algn="l" pos="0"/>
                <a:tab algn="r" pos="8169120"/>
                <a:tab algn="l" pos="8229600"/>
                <a:tab algn="l" pos="9144000"/>
                <a:tab algn="l" pos="10058400"/>
              </a:tabLst>
            </a:pPr>
            <a:r>
              <a:rPr b="0" lang="en-US" sz="2000" spc="-1" strike="noStrike">
                <a:solidFill>
                  <a:srgbClr val="000000"/>
                </a:solidFill>
                <a:latin typeface="Times New Roman"/>
              </a:rPr>
              <a:t>01115R0P802-15_TG3-MAC-Ad-Hoc-Meeting-Agenda-Feb01.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35F32EE-F1B0-4C04-93EA-7FB8FC9C58E8}" type="slidenum">
              <a:t>1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2 of 3)</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16r1P802-15_TG3-SC-TDMA-Capabilities.doc</a:t>
            </a:r>
            <a:r>
              <a:rPr b="0" lang="en-US" sz="2000" spc="-1" strike="noStrike">
                <a:solidFill>
                  <a:srgbClr val="000000"/>
                </a:solidFill>
                <a:latin typeface="Times New Roman"/>
              </a:rPr>
              <a:t>	</a:t>
            </a:r>
            <a:r>
              <a:rPr b="0" lang="en-US" sz="2000" spc="-1" strike="noStrike">
                <a:solidFill>
                  <a:srgbClr val="000000"/>
                </a:solidFill>
                <a:latin typeface="Times New Roman"/>
              </a:rPr>
              <a:t>Schrader</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19r1P802.15_TG3-Modified-CFP.ppt</a:t>
            </a:r>
            <a:r>
              <a:rPr b="0" lang="en-US" sz="2000" spc="-1" strike="noStrike">
                <a:solidFill>
                  <a:srgbClr val="000000"/>
                </a:solidFill>
                <a:latin typeface="Times New Roman"/>
              </a:rPr>
              <a:t>	</a:t>
            </a:r>
            <a:r>
              <a:rPr b="0" lang="en-US" sz="2000" spc="-1" strike="noStrike">
                <a:solidFill>
                  <a:srgbClr val="000000"/>
                </a:solidFill>
                <a:latin typeface="Times New Roman"/>
              </a:rPr>
              <a:t>Shvodian</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20r0P802.15_TG3-XSI-MAC-suggestions.ppt</a:t>
            </a:r>
            <a:r>
              <a:rPr b="0" lang="en-US" sz="2000" spc="-1" strike="noStrike">
                <a:solidFill>
                  <a:srgbClr val="000000"/>
                </a:solidFill>
                <a:latin typeface="Times New Roman"/>
              </a:rPr>
              <a:t>	</a:t>
            </a:r>
            <a:r>
              <a:rPr b="0" lang="en-US" sz="2000" spc="-1" strike="noStrike">
                <a:solidFill>
                  <a:srgbClr val="000000"/>
                </a:solidFill>
                <a:latin typeface="Times New Roman"/>
              </a:rPr>
              <a:t>Shvodian</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21r1P802-15_TG3-MAC-Clause9-Draft-Text.doc</a:t>
            </a:r>
            <a:r>
              <a:rPr b="0" lang="en-US" sz="2000" spc="-1" strike="noStrike">
                <a:solidFill>
                  <a:srgbClr val="000000"/>
                </a:solidFill>
                <a:latin typeface="Times New Roman"/>
              </a:rPr>
              <a:t>	</a:t>
            </a:r>
            <a:r>
              <a:rPr b="0" lang="en-US" sz="2000" spc="-1" strike="noStrike">
                <a:solidFill>
                  <a:srgbClr val="000000"/>
                </a:solidFill>
                <a:latin typeface="Times New Roman"/>
              </a:rPr>
              <a:t>Gubbi</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22r2P802-15_TG3-PHY-Issues-List.xl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47r0P802-15_TG3-Tx-clock-synchronization.ppt</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49r3P802-15_TG3-SYS_HH_WorkDoc.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0r0P802-15_TG3-Data-scrambling.ppt</a:t>
            </a:r>
            <a:r>
              <a:rPr b="0" lang="en-US" sz="2000" spc="-1" strike="noStrike">
                <a:solidFill>
                  <a:srgbClr val="000000"/>
                </a:solidFill>
                <a:latin typeface="Times New Roman"/>
              </a:rPr>
              <a:t>	</a:t>
            </a:r>
            <a:r>
              <a:rPr b="0" lang="en-US" sz="2000" spc="-1" strike="noStrike">
                <a:solidFill>
                  <a:srgbClr val="000000"/>
                </a:solidFill>
                <a:latin typeface="Times New Roman"/>
              </a:rPr>
              <a:t>Schmidl</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1r0P802-15_TG3-Draft-Standard-Opening-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2r0P802-15_TG3-Draft-Standard-Closing-Report.pp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3r0P802.15_TG3-OQPSK-Tutorial.ppt</a:t>
            </a:r>
            <a:r>
              <a:rPr b="0" lang="en-US" sz="2000" spc="-1" strike="noStrike">
                <a:solidFill>
                  <a:srgbClr val="000000"/>
                </a:solidFill>
                <a:latin typeface="Times New Roman"/>
              </a:rPr>
              <a:t>	</a:t>
            </a:r>
            <a:r>
              <a:rPr b="0" lang="en-US" sz="2000" spc="-1" strike="noStrike">
                <a:solidFill>
                  <a:srgbClr val="000000"/>
                </a:solidFill>
                <a:latin typeface="Times New Roman"/>
              </a:rPr>
              <a:t>Gilb </a:t>
            </a:r>
            <a:endParaRPr b="0" lang="en-US" sz="2000" spc="-1" strike="noStrike">
              <a:solidFill>
                <a:srgbClr val="000000"/>
              </a:solidFill>
              <a:latin typeface="Times New Roman"/>
            </a:endParaRPr>
          </a:p>
          <a:p>
            <a:pPr marL="335880" indent="0">
              <a:lnSpc>
                <a:spcPct val="90000"/>
              </a:lnSpc>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4r0P802-15_TG3-Overview-of-802-11-Security.ppt</a:t>
            </a:r>
            <a:r>
              <a:rPr b="0" lang="en-US" sz="2000" spc="-1" strike="noStrike">
                <a:solidFill>
                  <a:srgbClr val="000000"/>
                </a:solidFill>
                <a:latin typeface="Times New Roman"/>
              </a:rPr>
              <a:t>	</a:t>
            </a:r>
            <a:r>
              <a:rPr b="0" lang="en-US" sz="2000" spc="-1" strike="noStrike">
                <a:solidFill>
                  <a:srgbClr val="000000"/>
                </a:solidFill>
                <a:latin typeface="Times New Roman"/>
              </a:rPr>
              <a:t>Walk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B7BE32F-0A20-49B5-B978-AB03CEE65112}" type="slidenum">
              <a:t>1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3 of 3)</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5r0P802-15_TG3-Need-for-baseline-mode.ppt</a:t>
            </a:r>
            <a:r>
              <a:rPr b="0" lang="en-US" sz="2000" spc="-1" strike="noStrike">
                <a:solidFill>
                  <a:srgbClr val="000000"/>
                </a:solidFill>
                <a:latin typeface="Times New Roman"/>
              </a:rPr>
              <a:t>	</a:t>
            </a:r>
            <a:r>
              <a:rPr b="0" lang="en-US" sz="2000" spc="-1" strike="noStrike">
                <a:solidFill>
                  <a:srgbClr val="000000"/>
                </a:solidFill>
                <a:latin typeface="Times New Roman"/>
              </a:rPr>
              <a:t>Schmidl</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56r0P802-15_TG3-MAC-PIB text.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61r1P802-15_TG3-SC-TDMA-Capabilities.doc</a:t>
            </a:r>
            <a:r>
              <a:rPr b="0" lang="en-US" sz="2000" spc="-1" strike="noStrike">
                <a:solidFill>
                  <a:srgbClr val="000000"/>
                </a:solidFill>
                <a:latin typeface="Times New Roman"/>
              </a:rPr>
              <a:t>	</a:t>
            </a:r>
            <a:r>
              <a:rPr b="0" lang="en-US" sz="2000" spc="-1" strike="noStrike">
                <a:solidFill>
                  <a:srgbClr val="000000"/>
                </a:solidFill>
                <a:latin typeface="Times New Roman"/>
              </a:rPr>
              <a:t>Schrader</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62r0P802.15_TG3-MAC-Committee-Opening-Report-and-Plan.pp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65r0P802-15_TG3-PHY-Amendments.doc</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66r0P802-15_TG3-MAC-Amendments.doc</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67r0P802-15_TG3-System-Amendments.doc</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78r0P802-15_TG3-Voting-Hilton-Head.xls</a:t>
            </a:r>
            <a:r>
              <a:rPr b="0" lang="en-US" sz="2000" spc="-1" strike="noStrike">
                <a:solidFill>
                  <a:srgbClr val="000000"/>
                </a:solidFill>
                <a:latin typeface="Times New Roman"/>
              </a:rPr>
              <a:t>	</a:t>
            </a:r>
            <a:r>
              <a:rPr b="0" lang="en-US" sz="2000" spc="-1" strike="noStrike">
                <a:solidFill>
                  <a:srgbClr val="000000"/>
                </a:solidFill>
                <a:latin typeface="Times New Roman"/>
              </a:rPr>
              <a:t>Barr</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1180r0P802-15_TG3-CFP-MAC-Proposal-Evaluations.xl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32640" indent="0">
              <a:spcBef>
                <a:spcPts val="499"/>
              </a:spcBef>
              <a:buNone/>
              <a:tabLst>
                <a:tab algn="l" pos="0"/>
                <a:tab algn="r" pos="7372440"/>
                <a:tab algn="l" pos="8229600"/>
                <a:tab algn="l" pos="9144000"/>
                <a:tab algn="l" pos="10058400"/>
              </a:tabLst>
            </a:pPr>
            <a:r>
              <a:rPr b="0" lang="en-US" sz="2000" spc="-1" strike="noStrike">
                <a:solidFill>
                  <a:srgbClr val="000000"/>
                </a:solidFill>
                <a:latin typeface="Times New Roman"/>
              </a:rPr>
              <a:t>00000d02P802-15-3__Draft_Standard.pdf</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1FB0488-DCEB-4087-B457-6D1A8E6FAAD6}" type="slidenum">
              <a:t>1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h 2001, Hilton Head, SC</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0E09B57D-1217-446F-96C6-91129A87F519}" type="slidenum">
              <a:t>2</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Approve PHY Amendment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pprove document 01165r0P802-15_TG3-PHY-Amendments.doc as amendments to the baseline draft standard 00000d02P802-15-3__Draft-Standard.pd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by: James 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Jim All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call vote: 19/0/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1B08D7C8-D46A-4236-974C-778F9EFB41BF}" type="slidenum">
              <a:t>3</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Approve MAC Amendment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pprove document 01166r0P802-15_TG3-MAC-Amendments.doc as amendments to the baseline draft standard 00000d02P802-15-3__Draft-Standard.pd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by: Allan Heberl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Mark Schrad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call vote: 20/0/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16207A7-4774-45A4-8DD3-D7B2CF175542}" type="slidenum">
              <a:t>4</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Approve System Amendmen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pprove document 01167r0P802-15_TG3-System-Amendments.doc as amendments to the baseline draft standard 00000d02P802-15-3__Draft-Standard.pd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by: Rick Rober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James Gil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call vote: 20/0/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94A8DD5-6B7D-46CE-9138-798EE2DF48E0}" type="slidenum">
              <a:t>5</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Approve Baseline Draft</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pprove document 00000d02-P802-15-3_Draft-Standard.pdf as amended in docum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65r0P802-15_TG3-PHY-Amendments.do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66r0P802-15_TG3-MAC-Amendments.do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67r0P802-15_TG3-System-Amendments.doc</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he baseline draft standard for high-rate WPAN MAC and PHY, representing the technical decisions submitted by TG3 subcommittees. The modified baseline draft will be released as 00000d0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James Gilb</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by: Jim All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l call vote: 21/0/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821CC24-B7D0-4EBE-B9F3-97135E88AE1F}" type="slidenum">
              <a:t>6</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ificant Event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3 released – April 1, 20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4 release for comments – April 30, 20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5 created during Orlan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5 Letter Ballot starts – May 25, 20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0.5 Letter Ballot complete – July 9, 200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15/private3/ </a:t>
            </a:r>
            <a:r>
              <a:rPr b="0" lang="en-US" sz="2800" spc="-1" strike="noStrike" u="sng">
                <a:solidFill>
                  <a:srgbClr val="ccccff"/>
                </a:solidFill>
                <a:uFillTx/>
                <a:latin typeface="Times New Roman"/>
                <a:hlinkClick r:id="rId1"/>
              </a:rPr>
              <a:t>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CC82540-4B0F-4FCA-BB5F-5876B7A56716}" type="slidenum">
              <a:t>7</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ground for Motio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lando is an Interim meeting.  There is a high probability that the WG will not achieve a quoru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plan calls for updating D0.3 to D0.4 from comments generated during circulation prior to Orlando.  If completed, the plan calls for a LB following the Orlando Meeting on D0.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B requires approval which is only possible if a quorum is pres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d authorization of the LB will not reduce individual contributions because they are solicited as part of the LB.</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8570A43-05D0-49BE-9441-FDE7BD56AB6A}" type="slidenum">
              <a:t>8</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Pre-Authorize Letter Ballot</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 TG3 to issue letter ballot for approval of D0.5 following the Orlando meeting as long as a quorum is not present for Orlando. Authorization expires at the beginning of the Portland plenar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Jim Alle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Rick Rober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 15/0/4 Pass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BA43050-AC30-4720-996F-AC46828BA64A}" type="slidenum">
              <a:t>9</a:t>
            </a:fld>
          </a:p>
        </p:txBody>
      </p:sp>
      <p:sp>
        <p:nvSpPr>
          <p:cNvPr id="6" name="PlaceHolder 5"/>
          <p:cNvSpPr>
            <a:spLocks noGrp="1"/>
          </p:cNvSpPr>
          <p:nvPr>
            <p:ph type="dt" idx="1"/>
          </p:nvPr>
        </p:nvSpPr>
        <p:spPr/>
        <p:txBody>
          <a:bodyPr/>
          <a:p>
            <a:r>
              <a:rPr lang="en-US"/>
              <a:t>Marc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Jim Allen</dc:creator>
  <dc:description/>
  <dc:language>en-US</dc:language>
  <cp:lastModifiedBy>John R. Barr</cp:lastModifiedBy>
  <cp:lastPrinted>1998-02-10T13:28:06Z</cp:lastPrinted>
  <dcterms:modified xsi:type="dcterms:W3CDTF">2001-03-15T21:24:34Z</dcterms:modified>
  <cp:revision>268</cp:revision>
  <dc:subject>TG3 Closing Report, Mar01</dc:subject>
  <dc:title>IEEE P802.15 Working Group for Wireless Personal Area Networks</dc:title>
</cp:coreProperties>
</file>