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5E3751-D4C7-4444-9343-AC9C8E7A6C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2E300-D617-4920-BC41-B70BA0528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F2AC19-B737-4691-89C6-4FD45EC872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C6E69-B878-449E-AE69-0C35F0C572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03D87-E7C3-4C7E-AB2C-B01EE64EC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D0C7D-2033-4549-86B0-087E7D88F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26AF8-C95E-4D17-B7AA-C84802A91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1CBC7-CB6F-4906-BCEE-C6B4AA226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0F5F4-BE22-4ABE-B976-E69D4F24A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DCFC2-A9EA-4A41-8E96-80BA3141D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B3D74-F0DD-4D57-8384-D69B69438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3AA68-C0AF-4053-A746-D30F7C0416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ch 27 2001 </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g Bing Gan, Bijan Treister et al</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280FDAC-0A2E-4C7C-9AE8-76BEE375B4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 01/187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
          <p:cNvSpPr/>
          <p:nvPr/>
        </p:nvSpPr>
        <p:spPr>
          <a:xfrm>
            <a:off x="147600" y="914400"/>
            <a:ext cx="8991720" cy="535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Fundamentals of Adaptive Frequency Hopping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27th, March,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Hongbing Gan, Bijan Treister, et al.  Company: Bandspeed Inc.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7000 West William Cannon Drive, Austin, TX78735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512 358 9000, FAX: 512 358 9001,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ail: h.gan@bandspeed.com.au, b.treister@bandspeed.com.au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Fundamentals of adaptive frequency hopping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e documentation presents the fundamentals of a non-collaborative coexistence mechanism - Adaptive Frequency Hopping.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his is a submission to IEEE 802.15.2 of a Recommended Practice for a Non-collaborative Coexistence Mechanism.</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C82A9124-8990-4DD0-8485-5DAF9F308B13}" type="slidenum">
              <a:t>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11426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 </a:t>
            </a:r>
            <a:r>
              <a:rPr b="1" lang="en-GB" sz="2800" spc="-1" strike="noStrike">
                <a:solidFill>
                  <a:srgbClr val="000000"/>
                </a:solidFill>
                <a:latin typeface="Arial"/>
              </a:rPr>
              <a:t>Channel assessment / categorisation</a:t>
            </a:r>
            <a:endParaRPr b="0" lang="en-US" sz="2800" spc="-1" strike="noStrike">
              <a:solidFill>
                <a:srgbClr val="000000"/>
              </a:solidFill>
              <a:latin typeface="Times New Roman"/>
            </a:endParaRPr>
          </a:p>
        </p:txBody>
      </p:sp>
      <p:sp>
        <p:nvSpPr>
          <p:cNvPr id="48" name="PlaceHolder 2"/>
          <p:cNvSpPr>
            <a:spLocks noGrp="1"/>
          </p:cNvSpPr>
          <p:nvPr>
            <p:ph/>
          </p:nvPr>
        </p:nvSpPr>
        <p:spPr>
          <a:xfrm>
            <a:off x="762120" y="2438280"/>
            <a:ext cx="7772400" cy="327672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r>
              <a:rPr b="0" i="1" lang="en-GB" sz="1600" spc="-1" strike="noStrike">
                <a:solidFill>
                  <a:srgbClr val="000000"/>
                </a:solidFill>
                <a:latin typeface="Arial"/>
              </a:rPr>
              <a:t>- Adaptive hopping is based on the problem that some channels are ‘better’ than others, thus some method of categorising the channels needs to be agreed upon.</a:t>
            </a:r>
            <a:br>
              <a:rPr sz="1600"/>
            </a:b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traints:</a:t>
            </a:r>
            <a:endParaRPr b="0" lang="en-US" sz="20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reate a sound and robust method of categorising each channel;</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sessment must not take ‘too long’;</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assessment of all channels at ‘regular’ intervals;</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tegorisation of channels should be polar – bad/good;</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rive to detect all types of interferenc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inimise additions/changes to existing standards;</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733819B-7028-48B1-BE8E-57F194FE9CEA}"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685440"/>
            <a:ext cx="82296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 Reliable exchange of channel categorisation</a:t>
            </a:r>
            <a:endParaRPr b="0" lang="en-US" sz="28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i.e. The new adaptive hopping sequence needs to be known by all supporting devices on the picone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traints:</a:t>
            </a:r>
            <a:endParaRPr b="0" lang="en-US" sz="20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ust be a robust mechanism which ensures a ‘safe’ transition between hopping sequences;</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lk channel replacement, ‘one channel at a time’ replacement optiona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inimise changes/additions to existing standards;</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3D1BE06-5ACF-413E-99F4-493BFDD2BE1B}"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3. Mechanism of adaptively hopping</a:t>
            </a:r>
            <a:endParaRPr b="0" lang="en-US" sz="2800" spc="-1" strike="noStrike">
              <a:solidFill>
                <a:srgbClr val="000000"/>
              </a:solidFill>
              <a:latin typeface="Times New Roman"/>
            </a:endParaRPr>
          </a:p>
        </p:txBody>
      </p:sp>
      <p:sp>
        <p:nvSpPr>
          <p:cNvPr id="52"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i.e. The re-mapping, re-ordering and/or changing of the existing hopping sequenc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traints:</a:t>
            </a:r>
            <a:endParaRPr b="0" lang="en-US" sz="20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chanism needs to show some throughput improvement for </a:t>
            </a:r>
            <a:r>
              <a:rPr b="0" i="1" lang="en-GB" sz="1600" spc="-1" strike="noStrike">
                <a:solidFill>
                  <a:srgbClr val="000000"/>
                </a:solidFill>
                <a:latin typeface="Arial"/>
              </a:rPr>
              <a:t>all</a:t>
            </a:r>
            <a:r>
              <a:rPr b="0" lang="en-GB" sz="1600" spc="-1" strike="noStrike">
                <a:solidFill>
                  <a:srgbClr val="000000"/>
                </a:solidFill>
                <a:latin typeface="Arial"/>
              </a:rPr>
              <a:t> networks in area according to some measure;</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devices must know how to re-order/re-map/change the sequence in the same way;</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iform usage of ‘good’ channels;</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fine minimum number of ‘good’ channels allowed;</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egacy devices will inter-operate with new ones in same piconet;</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devices maintain clock synchronisation with Master;</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inimise changes/additions to existing standar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inimise complexity of this mechanism;</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281AC29-C1D7-44FA-AD4E-0D455978A4CB}"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06:41:21Z</dcterms:created>
  <dc:creator>Bijan Treister</dc:creator>
  <dc:description>&lt;doc#&gt;</dc:description>
  <dc:language>en-US</dc:language>
  <cp:lastModifiedBy>Bijan Treister</cp:lastModifiedBy>
  <cp:lastPrinted>1998-02-10T13:28:06Z</cp:lastPrinted>
  <dcterms:modified xsi:type="dcterms:W3CDTF">2001-03-27T23:11:34Z</dcterms:modified>
  <cp:revision>19</cp:revision>
  <dc:subject>IEEE 802.15 &lt;subject&gt;</dc:subject>
  <dc:title>Adaptive Frequency hopping in  a Bluetooth / 802.15.1 piconet</dc:title>
</cp:coreProperties>
</file>