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832B-71D1-4BDF-ABE6-67F216089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B40F-900E-41A8-9B05-A5CC7D5F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FD0A-5FC2-4CAE-BA61-B13683DD4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E84A-0A2D-4237-805D-53091BB87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FD4C-06BF-4032-9715-4C4F239C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1651-2E58-4709-AD35-D9B06DA1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F14D-FE43-4D6C-9935-407F14B2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A5E5-CE77-4315-B573-344F39B1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A282-9477-4610-BDA9-9F533274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EF4A-099C-4DE2-9AA0-5AC4AE4E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DE9C-B69F-4CA3-84A7-C6273823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B0A4-C286-40D5-85E9-D5874A56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6164D87-462A-4276-956D-F4CF73B50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1/159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752480" y="685800"/>
            <a:ext cx="5645160" cy="1711440"/>
            <a:chOff x="1752480" y="685800"/>
            <a:chExt cx="5645160" cy="1711440"/>
          </a:xfrm>
        </p:grpSpPr>
        <p:pic>
          <p:nvPicPr>
            <p:cNvPr id="46" name="802" descr=""/>
            <p:cNvPicPr/>
            <p:nvPr/>
          </p:nvPicPr>
          <p:blipFill>
            <a:blip r:embed="rId1"/>
            <a:stretch/>
          </p:blipFill>
          <p:spPr>
            <a:xfrm>
              <a:off x="5737320" y="685800"/>
              <a:ext cx="1660320" cy="171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" name=""/>
            <p:cNvGrpSpPr/>
            <p:nvPr/>
          </p:nvGrpSpPr>
          <p:grpSpPr>
            <a:xfrm>
              <a:off x="1752480" y="933480"/>
              <a:ext cx="5477040" cy="1114560"/>
              <a:chOff x="1752480" y="933480"/>
              <a:chExt cx="5477040" cy="1114560"/>
            </a:xfrm>
          </p:grpSpPr>
          <p:sp>
            <p:nvSpPr>
              <p:cNvPr id="48" name=""/>
              <p:cNvSpPr/>
              <p:nvPr/>
            </p:nvSpPr>
            <p:spPr>
              <a:xfrm>
                <a:off x="1752480" y="933480"/>
                <a:ext cx="4181760" cy="11145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630240" y="1028880"/>
                <a:ext cx="20674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66ff"/>
                    </a:solidFill>
                    <a:latin typeface="Times New Roman"/>
                  </a:rPr>
                  <a:t>802.15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1895400" y="976320"/>
                <a:ext cx="1595520" cy="1045800"/>
                <a:chOff x="1895400" y="976320"/>
                <a:chExt cx="1595520" cy="1045800"/>
              </a:xfrm>
            </p:grpSpPr>
            <p:grpSp>
              <p:nvGrpSpPr>
                <p:cNvPr id="51" name=""/>
                <p:cNvGrpSpPr/>
                <p:nvPr/>
              </p:nvGrpSpPr>
              <p:grpSpPr>
                <a:xfrm>
                  <a:off x="2165400" y="985680"/>
                  <a:ext cx="1325520" cy="1036440"/>
                  <a:chOff x="2165400" y="985680"/>
                  <a:chExt cx="1325520" cy="1036440"/>
                </a:xfrm>
              </p:grpSpPr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5400" y="1245960"/>
                    <a:ext cx="103824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53" name=""/>
                  <p:cNvGrpSpPr/>
                  <p:nvPr/>
                </p:nvGrpSpPr>
                <p:grpSpPr>
                  <a:xfrm>
                    <a:off x="2544840" y="985680"/>
                    <a:ext cx="946080" cy="944640"/>
                    <a:chOff x="2544840" y="985680"/>
                    <a:chExt cx="946080" cy="944640"/>
                  </a:xfrm>
                </p:grpSpPr>
                <p:sp>
                  <p:nvSpPr>
                    <p:cNvPr id="54" name=""/>
                    <p:cNvSpPr/>
                    <p:nvPr/>
                  </p:nvSpPr>
                  <p:spPr>
                    <a:xfrm>
                      <a:off x="2544840" y="985680"/>
                      <a:ext cx="946080" cy="9446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" name=""/>
                    <p:cNvSpPr/>
                    <p:nvPr/>
                  </p:nvSpPr>
                  <p:spPr>
                    <a:xfrm>
                      <a:off x="2616120" y="1056960"/>
                      <a:ext cx="804960" cy="8035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" name=""/>
                    <p:cNvSpPr/>
                    <p:nvPr/>
                  </p:nvSpPr>
                  <p:spPr>
                    <a:xfrm>
                      <a:off x="2690640" y="1133280"/>
                      <a:ext cx="654120" cy="6508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" name=""/>
                    <p:cNvSpPr/>
                    <p:nvPr/>
                  </p:nvSpPr>
                  <p:spPr>
                    <a:xfrm>
                      <a:off x="2776320" y="1211040"/>
                      <a:ext cx="482760" cy="4968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" name=""/>
                    <p:cNvSpPr/>
                    <p:nvPr/>
                  </p:nvSpPr>
                  <p:spPr>
                    <a:xfrm>
                      <a:off x="2865240" y="1306440"/>
                      <a:ext cx="304920" cy="3045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" name=""/>
                    <p:cNvSpPr/>
                    <p:nvPr/>
                  </p:nvSpPr>
                  <p:spPr>
                    <a:xfrm>
                      <a:off x="2935080" y="1376280"/>
                      <a:ext cx="165240" cy="166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" name=""/>
                    <p:cNvSpPr/>
                    <p:nvPr/>
                  </p:nvSpPr>
                  <p:spPr>
                    <a:xfrm>
                      <a:off x="2979720" y="1420560"/>
                      <a:ext cx="76320" cy="777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8640" bIns="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212920" y="1041120"/>
                    <a:ext cx="946080" cy="944640"/>
                    <a:chOff x="2212920" y="1041120"/>
                    <a:chExt cx="946080" cy="94464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212920" y="1041120"/>
                      <a:ext cx="946080" cy="9446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>
                      <a:off x="2286000" y="1110960"/>
                      <a:ext cx="801720" cy="8017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" name=""/>
                    <p:cNvSpPr/>
                    <p:nvPr/>
                  </p:nvSpPr>
                  <p:spPr>
                    <a:xfrm>
                      <a:off x="2360520" y="1185480"/>
                      <a:ext cx="652320" cy="652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" name=""/>
                    <p:cNvSpPr/>
                    <p:nvPr/>
                  </p:nvSpPr>
                  <p:spPr>
                    <a:xfrm>
                      <a:off x="2444760" y="1265040"/>
                      <a:ext cx="484200" cy="4953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2533680" y="1360440"/>
                      <a:ext cx="306360" cy="3045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>
                      <a:off x="2603520" y="1430280"/>
                      <a:ext cx="166680" cy="166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" name=""/>
                    <p:cNvSpPr/>
                    <p:nvPr/>
                  </p:nvSpPr>
                  <p:spPr>
                    <a:xfrm>
                      <a:off x="2647800" y="1473120"/>
                      <a:ext cx="77760" cy="777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8640" bIns="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1895400" y="976320"/>
                  <a:ext cx="946080" cy="942840"/>
                  <a:chOff x="1895400" y="976320"/>
                  <a:chExt cx="946080" cy="94284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>
                    <a:off x="1895400" y="976320"/>
                    <a:ext cx="946080" cy="9428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1965240" y="1045800"/>
                    <a:ext cx="804960" cy="8031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2041560" y="1122120"/>
                    <a:ext cx="654120" cy="6505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2127240" y="1201680"/>
                    <a:ext cx="482400" cy="494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2216160" y="1296720"/>
                    <a:ext cx="304560" cy="3027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286000" y="1366560"/>
                    <a:ext cx="164880" cy="1648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2330280" y="1409400"/>
                    <a:ext cx="76320" cy="774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7" name=""/>
              <p:cNvSpPr/>
              <p:nvPr/>
            </p:nvSpPr>
            <p:spPr>
              <a:xfrm>
                <a:off x="5924520" y="933480"/>
                <a:ext cx="1305000" cy="111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th Session of meetings of the IEEE 802.15 Working Group for Wireless Personal Area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ch 12-14,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riott Beach Re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lton Head, 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5DF9-FBDC-4B61-9BA0-83A24364279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0880" y="68580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5 Functional Organization Ch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58720" y="2089080"/>
          <a:ext cx="8023320" cy="397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2089080"/>
                    <a:ext cx="8023320" cy="39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7C15-B086-4813-B584-BB380C74BB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s of the Hilton Head Meet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rch 12-14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ASK GROUP 1 OBJECTIVES FOR THIS MEETING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B8 COMMENT RESOLUTION/SEC MOTION [DEPENDENT ON LB8 RESULTS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PROJECT PLANNING UPDATE -00/375r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LLEL PRODUCTION AND/OR REVIEW OF  IEEE Std 802.15.1/D0.8.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SESSION #12/ORLANDO OBJECTIV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4F1C-6FED-4BCE-89CA-FE4460A22B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s of the Hilton Head Meet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rch 12-14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ASK GROUP 2 OBJECTIVES FOR THE MEETING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 BLUETOOTH SIG COEXISTENCE WORKING GROUP LIASION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 PRESENTATION OF UPDATED COEXISTENCE MECHANISM SUBMI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 SUMMARIZE AND COMMENT ON ALL THE COEXISTENCE MECHANISM SUBMISSION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 VOTE TO SELECT ONE COLLOCATED COLLABORATIVE COEXISTENCE MECHANISM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 VOTE TO SELECT ONE NON-COLLOCATED COLLABORATIVE COEXISTENCE MECHANISM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 VOTE TO SELECT ONE OR MORE NON-COLLABORATIVE COEXISTENCE MECHANISM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 DISCUSSION WITH JULIUS KNAPP FROM THE FC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PRESENTATION ON A PROPOSED MORE ROBUST VOICE LINK FOR BLUETOO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 COEXISTENCE MODEL PRESENTATION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F8AF-9830-42C0-89EB-F0D2AF6BDA0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s of the Hilton Head Meet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rch 12-14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ASK GROUP 3 OBJECTIVES FOR THIS MEETING: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CONFERENCE CALL STATUS,  INCLUDING APPROVAL OF ANY AD HOC BUSINE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VOTE ON ACCEPTANCE OF BASELINE DRAF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RESOLVE OUTSTANDING ISS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IDENTIFY ISSUES REQUIRING RESOL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REVIEW PROJECT PL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ESTABLISH WORK PLAN FOR MARCH-MA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F6CD-4C16-4095-9DD2-DAD93C9A0F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s of the Hilton Head Meet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rch 12-14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ASK GROUP 4 OBJECTIVES FOR THIS MEETING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Finalize Criteria D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Establish Criteria Weight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Finalize Selection Proce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Hear top level responses to the C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Revise Project Plan as Requir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8595-59D4-4F1C-9665-C33ADD0B58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s of the Hilton Head Meet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rch 12-14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802.15 PC/802.11PC OBJECTIVES FOR THIS MEETING: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Complete work on General Publicity Presentation for WG Web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Finalize WLAN Forecast Documen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Update Conference Calend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Continue to Work on Joint 802.11 / 802.15 Publicity Activ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WECA 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OFDM Forum 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A3CF-0FAB-4A3D-9F8D-1219BCCFC3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gistics-Meeting Graph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066680"/>
          <a:ext cx="7834320" cy="539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6680"/>
                    <a:ext cx="7834320" cy="53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6A5B-C215-45B2-A531-41057CE37D4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2T06:24:01Z</dcterms:created>
  <dc:creator>Robert F. Heile</dc:creator>
  <dc:description>01/194r0</dc:description>
  <dc:language>en-US</dc:language>
  <cp:lastModifiedBy>Robert F.  Heile</cp:lastModifiedBy>
  <cp:lastPrinted>2000-07-07T01:25:49Z</cp:lastPrinted>
  <dcterms:modified xsi:type="dcterms:W3CDTF">2001-03-12T11:54:32Z</dcterms:modified>
  <cp:revision>124</cp:revision>
  <dc:subject>IEEE 802.15 &lt;subject&gt;</dc:subject>
  <dc:title>WG- Mar01-meeting into and basic policies</dc:title>
</cp:coreProperties>
</file>