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9FFB2-6068-4CAD-9613-678D97579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8BEB7-FA8E-4C4D-A87C-CFCE23777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F233C-F26D-49A4-A43E-4E24D6518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92AFC-A295-4778-AF87-BFC0813BC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AF144-6E83-4C96-B656-D30DED6DB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BE2A9-5790-4E76-8BF7-9DB5F004C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66433-7894-4492-986C-95CAC3A99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2560E-B964-487D-886C-84E64A52C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B22D2-A6BC-4962-A097-5A3AA1F8A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8635-B2D7-48DA-9D44-BEB902489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AD9C-2676-4DD5-84D0-E9B7AA2BD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DFA8-0F62-4E72-A071-9820EB93B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F76265-5AE4-43C3-93BD-7B0B2664B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5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490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Data scramb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8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Tim Schmidl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Texas Instru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2500 TI Boulevard, MS 8632, Dallas, TX 7524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214.480-4460, FAX: +1.972.761.6967, E-Mail: schmidl@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Proposal for data scrambling method</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oposal presents a method for data scrambl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esent a method for data scrambling that can be used in the 802.15.3 standar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Tim Schmidl, Texas Instruments</a:t>
            </a:r>
          </a:p>
        </p:txBody>
      </p:sp>
      <p:sp>
        <p:nvSpPr>
          <p:cNvPr id="3" name="PlaceHolder 2"/>
          <p:cNvSpPr>
            <a:spLocks noGrp="1"/>
          </p:cNvSpPr>
          <p:nvPr>
            <p:ph type="sldNum" idx="3"/>
          </p:nvPr>
        </p:nvSpPr>
        <p:spPr/>
        <p:txBody>
          <a:bodyPr/>
          <a:p>
            <a:fld id="{FD2432D1-7C30-42CD-B84C-D34563C3570A}"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Scrambling</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599840"/>
            <a:ext cx="7772400" cy="36831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crambling is used to break up redundancy in the input data and to minimize DC bia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 and payload are scrambled (but not pream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 synchronous scrambling is used, starting immediately after the pream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crambling is performed by modulo-2 adding source data with a known bit sequence which may be generated with a shift regis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descrambling is performed by modulo-2 adding received data with the known bit sequ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im Schmidl, Texas Instruments</a:t>
            </a:r>
          </a:p>
        </p:txBody>
      </p:sp>
      <p:sp>
        <p:nvSpPr>
          <p:cNvPr id="5" name="PlaceHolder 4"/>
          <p:cNvSpPr>
            <a:spLocks noGrp="1"/>
          </p:cNvSpPr>
          <p:nvPr>
            <p:ph type="sldNum" idx="3"/>
          </p:nvPr>
        </p:nvSpPr>
        <p:spPr/>
        <p:txBody>
          <a:bodyPr/>
          <a:p>
            <a:fld id="{1717F70A-4468-49CF-A19D-B0880B2F5BC5}"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Scrambler and Descrambler</a:t>
            </a:r>
            <a:endParaRPr b="0" lang="en-US" sz="3600" spc="-1" strike="noStrike">
              <a:solidFill>
                <a:srgbClr val="000000"/>
              </a:solidFill>
              <a:latin typeface="Times New Roman"/>
            </a:endParaRPr>
          </a:p>
        </p:txBody>
      </p:sp>
      <p:sp>
        <p:nvSpPr>
          <p:cNvPr id="49" name=""/>
          <p:cNvSpPr/>
          <p:nvPr/>
        </p:nvSpPr>
        <p:spPr>
          <a:xfrm>
            <a:off x="6188040" y="25066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n</a:t>
            </a:r>
            <a:endParaRPr b="0" lang="en-US" sz="2000" spc="-1" strike="noStrike">
              <a:solidFill>
                <a:srgbClr val="000000"/>
              </a:solidFill>
              <a:latin typeface="Times New Roman"/>
            </a:endParaRPr>
          </a:p>
        </p:txBody>
      </p:sp>
      <p:sp>
        <p:nvSpPr>
          <p:cNvPr id="50" name=""/>
          <p:cNvSpPr/>
          <p:nvPr/>
        </p:nvSpPr>
        <p:spPr>
          <a:xfrm>
            <a:off x="6145200" y="42879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out</a:t>
            </a:r>
            <a:endParaRPr b="0" lang="en-US" sz="2000" spc="-1" strike="noStrike">
              <a:solidFill>
                <a:srgbClr val="000000"/>
              </a:solidFill>
              <a:latin typeface="Times New Roman"/>
            </a:endParaRPr>
          </a:p>
        </p:txBody>
      </p:sp>
      <p:grpSp>
        <p:nvGrpSpPr>
          <p:cNvPr id="51" name=""/>
          <p:cNvGrpSpPr/>
          <p:nvPr/>
        </p:nvGrpSpPr>
        <p:grpSpPr>
          <a:xfrm>
            <a:off x="1301760" y="3400560"/>
            <a:ext cx="457200" cy="398880"/>
            <a:chOff x="1301760" y="3400560"/>
            <a:chExt cx="457200" cy="398880"/>
          </a:xfrm>
        </p:grpSpPr>
        <p:sp>
          <p:nvSpPr>
            <p:cNvPr id="52" name=""/>
            <p:cNvSpPr/>
            <p:nvPr/>
          </p:nvSpPr>
          <p:spPr>
            <a:xfrm>
              <a:off x="1301760" y="3400560"/>
              <a:ext cx="457200" cy="39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41360" y="3400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grpSp>
      <p:sp>
        <p:nvSpPr>
          <p:cNvPr id="54" name=""/>
          <p:cNvSpPr/>
          <p:nvPr/>
        </p:nvSpPr>
        <p:spPr>
          <a:xfrm flipH="1">
            <a:off x="1752480" y="360684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2286000" y="3400560"/>
            <a:ext cx="457200" cy="398880"/>
            <a:chOff x="2286000" y="3400560"/>
            <a:chExt cx="457200" cy="398880"/>
          </a:xfrm>
        </p:grpSpPr>
        <p:sp>
          <p:nvSpPr>
            <p:cNvPr id="56" name=""/>
            <p:cNvSpPr/>
            <p:nvPr/>
          </p:nvSpPr>
          <p:spPr>
            <a:xfrm>
              <a:off x="2286000" y="3400560"/>
              <a:ext cx="457200" cy="39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325600" y="3400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grpSp>
      <p:sp>
        <p:nvSpPr>
          <p:cNvPr id="58" name=""/>
          <p:cNvSpPr/>
          <p:nvPr/>
        </p:nvSpPr>
        <p:spPr>
          <a:xfrm flipH="1">
            <a:off x="4537080" y="360684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5070600" y="3400560"/>
            <a:ext cx="457200" cy="398880"/>
            <a:chOff x="5070600" y="3400560"/>
            <a:chExt cx="457200" cy="398880"/>
          </a:xfrm>
        </p:grpSpPr>
        <p:sp>
          <p:nvSpPr>
            <p:cNvPr id="60" name=""/>
            <p:cNvSpPr/>
            <p:nvPr/>
          </p:nvSpPr>
          <p:spPr>
            <a:xfrm>
              <a:off x="5070600" y="3400560"/>
              <a:ext cx="457200" cy="39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109840" y="3400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grpSp>
      <p:sp>
        <p:nvSpPr>
          <p:cNvPr id="62" name=""/>
          <p:cNvSpPr/>
          <p:nvPr/>
        </p:nvSpPr>
        <p:spPr>
          <a:xfrm>
            <a:off x="3828960" y="3019320"/>
            <a:ext cx="746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63" name=""/>
          <p:cNvSpPr/>
          <p:nvPr/>
        </p:nvSpPr>
        <p:spPr>
          <a:xfrm flipH="1">
            <a:off x="2743200" y="360684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3276720" y="3400560"/>
            <a:ext cx="457200" cy="398880"/>
            <a:chOff x="3276720" y="3400560"/>
            <a:chExt cx="457200" cy="398880"/>
          </a:xfrm>
        </p:grpSpPr>
        <p:sp>
          <p:nvSpPr>
            <p:cNvPr id="65" name=""/>
            <p:cNvSpPr/>
            <p:nvPr/>
          </p:nvSpPr>
          <p:spPr>
            <a:xfrm>
              <a:off x="3276720" y="3400560"/>
              <a:ext cx="457200" cy="39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316320" y="3400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grpSp>
      <p:sp>
        <p:nvSpPr>
          <p:cNvPr id="67" name=""/>
          <p:cNvSpPr/>
          <p:nvPr/>
        </p:nvSpPr>
        <p:spPr>
          <a:xfrm>
            <a:off x="1533600" y="2679840"/>
            <a:ext cx="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3514680" y="2849400"/>
            <a:ext cx="0" cy="55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33600" y="2692440"/>
            <a:ext cx="17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3244680" y="2511360"/>
            <a:ext cx="625680" cy="337320"/>
            <a:chOff x="3244680" y="2511360"/>
            <a:chExt cx="625680" cy="337320"/>
          </a:xfrm>
        </p:grpSpPr>
        <p:sp>
          <p:nvSpPr>
            <p:cNvPr id="71" name=""/>
            <p:cNvSpPr/>
            <p:nvPr/>
          </p:nvSpPr>
          <p:spPr>
            <a:xfrm>
              <a:off x="3244680" y="2511360"/>
              <a:ext cx="625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OR</a:t>
              </a:r>
              <a:endParaRPr b="0" lang="en-US" sz="1600" spc="-1" strike="noStrike">
                <a:solidFill>
                  <a:srgbClr val="000000"/>
                </a:solidFill>
                <a:latin typeface="Times New Roman"/>
              </a:endParaRPr>
            </a:p>
          </p:txBody>
        </p:sp>
        <p:sp>
          <p:nvSpPr>
            <p:cNvPr id="72" name=""/>
            <p:cNvSpPr/>
            <p:nvPr/>
          </p:nvSpPr>
          <p:spPr>
            <a:xfrm>
              <a:off x="3244680" y="2511360"/>
              <a:ext cx="625680" cy="33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540400" y="3606840"/>
            <a:ext cx="878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875040" y="2682720"/>
            <a:ext cx="213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006960" y="2678040"/>
            <a:ext cx="0" cy="92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6419880" y="3441600"/>
            <a:ext cx="625320" cy="337320"/>
            <a:chOff x="6419880" y="3441600"/>
            <a:chExt cx="625320" cy="337320"/>
          </a:xfrm>
        </p:grpSpPr>
        <p:sp>
          <p:nvSpPr>
            <p:cNvPr id="77" name=""/>
            <p:cNvSpPr/>
            <p:nvPr/>
          </p:nvSpPr>
          <p:spPr>
            <a:xfrm>
              <a:off x="6419880" y="3441600"/>
              <a:ext cx="62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OR</a:t>
              </a:r>
              <a:endParaRPr b="0" lang="en-US" sz="1600" spc="-1" strike="noStrike">
                <a:solidFill>
                  <a:srgbClr val="000000"/>
                </a:solidFill>
                <a:latin typeface="Times New Roman"/>
              </a:endParaRPr>
            </a:p>
          </p:txBody>
        </p:sp>
        <p:sp>
          <p:nvSpPr>
            <p:cNvPr id="78" name=""/>
            <p:cNvSpPr/>
            <p:nvPr/>
          </p:nvSpPr>
          <p:spPr>
            <a:xfrm>
              <a:off x="6419880" y="3441600"/>
              <a:ext cx="625320" cy="33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6724800" y="3784680"/>
            <a:ext cx="0" cy="57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24800" y="2884320"/>
            <a:ext cx="0" cy="554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im Schmidl, Texas Instruments</a:t>
            </a:r>
          </a:p>
        </p:txBody>
      </p:sp>
      <p:sp>
        <p:nvSpPr>
          <p:cNvPr id="4" name="PlaceHolder 3"/>
          <p:cNvSpPr>
            <a:spLocks noGrp="1"/>
          </p:cNvSpPr>
          <p:nvPr>
            <p:ph type="sldNum" idx="3"/>
          </p:nvPr>
        </p:nvSpPr>
        <p:spPr/>
        <p:txBody>
          <a:bodyPr/>
          <a:p>
            <a:fld id="{6AB74FD5-786E-4258-8D6D-E19B7902ED39}" type="slidenum">
              <a:t>3</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itialization of Shift Register</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599840"/>
            <a:ext cx="7772400" cy="4498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or variable initialization of shift register</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b uses fixed initializ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etooth uses variable initialization based on master clock, which is known to all devices in a piconet.  Initialization changes each pack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header is scrambled and variable initialization is used, then initial value of shift register must be based on information known to all devices in the piconet prior to transmission.  Alternatively, header is not scrambled and seed can be sent as part of the header.</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pathological cases in which the interaction of the source data with the data scrambler produces an output with DC bias or a high degree of redundanc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the initialization of the shift register on a packet-by-packet basis means that the pathological case may exist on one packet, but not on the retransmission of the packe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im Schmidl, Texas Instruments</a:t>
            </a:r>
          </a:p>
        </p:txBody>
      </p:sp>
      <p:sp>
        <p:nvSpPr>
          <p:cNvPr id="5" name="PlaceHolder 4"/>
          <p:cNvSpPr>
            <a:spLocks noGrp="1"/>
          </p:cNvSpPr>
          <p:nvPr>
            <p:ph type="sldNum" idx="3"/>
          </p:nvPr>
        </p:nvSpPr>
        <p:spPr/>
        <p:txBody>
          <a:bodyPr/>
          <a:p>
            <a:fld id="{F9D7F97D-9320-4B67-A1D6-1931EEF70A45}"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tor Polynomial</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599840"/>
            <a:ext cx="7772400" cy="44989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polynomials are generally used in data scramble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b uses a polynomial of degree 7, which generates 127 bi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x) = x^7 + x^4 + 1</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sizes will generally be about 512 bytes (4096 bits), but can be as large as 2048 bytes (16384 bi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thological cases the input can have a periodicity, which can appear at the outpu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increase the degree of the generator polynomial for longer scrambling sequenc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1 + x^2 + 1             2047 bit scrambling sequen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5 + x^14 + 1           32,767 bit scrambling sequen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im Schmidl, Texas Instruments</a:t>
            </a:r>
          </a:p>
        </p:txBody>
      </p:sp>
      <p:sp>
        <p:nvSpPr>
          <p:cNvPr id="5" name="PlaceHolder 4"/>
          <p:cNvSpPr>
            <a:spLocks noGrp="1"/>
          </p:cNvSpPr>
          <p:nvPr>
            <p:ph type="sldNum" idx="3"/>
          </p:nvPr>
        </p:nvSpPr>
        <p:spPr/>
        <p:txBody>
          <a:bodyPr/>
          <a:p>
            <a:fld id="{62A5BED4-6522-48FB-8199-5E5863B90C34}"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 Systems and Solutions Division</dc:creator>
  <dc:description>&lt;doc#&gt;</dc:description>
  <dc:language>en-US</dc:language>
  <cp:lastModifiedBy>A0212496</cp:lastModifiedBy>
  <cp:lastPrinted>2001-03-08T23:08:34Z</cp:lastPrinted>
  <dcterms:modified xsi:type="dcterms:W3CDTF">2001-03-09T23:01:04Z</dcterms:modified>
  <cp:revision>89</cp:revision>
  <dc:subject>IEEE 802.15 &lt;subject&gt;</dc:subject>
  <dc:title>No Slide Title</dc:title>
</cp:coreProperties>
</file>