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06004-3EFC-4C88-8348-694F851AC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3B5AB-7573-41A1-862D-4A86767AB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81F21-2FC0-485F-B2BC-A3A248E94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3369A-4BFB-4275-9731-F32ACDDB6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18B05-172D-47F6-92A6-78AA6675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0BD93-D532-46D7-9CF3-E8DC4E30A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568F9-B253-4A8C-B32F-E4BDD9462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2F603-5359-406B-B888-FF3D53010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0DD6-637F-4F41-A464-684770B3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7AA9-0EBD-417A-950A-7AADC9E2B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90B1-3334-4CD5-BE9A-BA48A8326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787F-5782-4E0D-A8AA-31551F673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B8F846-6DDF-4BDC-AB28-F52C1B3DA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5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br>
              <a:rPr sz="3200"/>
            </a:br>
            <a:r>
              <a:rPr b="0" lang="en-US" sz="3200" spc="-1" strike="noStrike">
                <a:solidFill>
                  <a:srgbClr val="000000"/>
                </a:solidFill>
                <a:latin typeface="Times New Roman"/>
              </a:rPr>
              <a:t>Coexistence Working Group</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 Siz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Coexistence Working Group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al Interest Group</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l Laborator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B0DA93B2-B68A-4C8D-AD37-382B4CA751A9}" type="slidenum">
              <a:t>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Working Group Charter</a:t>
            </a:r>
            <a:endParaRPr b="0" lang="en-US" sz="3600" spc="-1" strike="noStrike">
              <a:solidFill>
                <a:srgbClr val="000000"/>
              </a:solidFill>
              <a:latin typeface="Times New Roman"/>
            </a:endParaRPr>
          </a:p>
        </p:txBody>
      </p:sp>
      <p:sp>
        <p:nvSpPr>
          <p:cNvPr id="48" name="PlaceHolder 2"/>
          <p:cNvSpPr>
            <a:spLocks noGrp="1"/>
          </p:cNvSpPr>
          <p:nvPr>
            <p:ph/>
          </p:nvPr>
        </p:nvSpPr>
        <p:spPr>
          <a:xfrm>
            <a:off x="609480" y="1752480"/>
            <a:ext cx="6934320" cy="4114800"/>
          </a:xfrm>
          <a:prstGeom prst="rect">
            <a:avLst/>
          </a:prstGeom>
          <a:noFill/>
          <a:ln w="0">
            <a:noFill/>
          </a:ln>
        </p:spPr>
        <p:txBody>
          <a:bodyPr lIns="92160" rIns="92160" tIns="46080" bIns="46080" anchor="t">
            <a:normAutofit fontScale="98000"/>
          </a:bodyPr>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in the Bluetooth™ community as well as with cross industry groups (e.g. IEEE) to quantify the detrimental effects which Bluetooth™ and other wireless products will have on the performance of both. This information will be imperative for members of the Bluetooth community to advise their customers of the realistic performance one can expect in different environments as well a build products which span between Bluetooth™ and other wireless products.  In addition, it will be used to disseminate SIG sponsored information on issues of coexistence to regulatory bodies.</a:t>
            </a:r>
            <a:endParaRPr b="0" lang="en-US" sz="1600" spc="-1" strike="noStrike">
              <a:solidFill>
                <a:srgbClr val="000000"/>
              </a:solidFill>
              <a:latin typeface="Arial"/>
            </a:endParaRPr>
          </a:p>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methods of Bluetooth™ operation that will be used to improve coexistence between systems in the shared radio band.  These will be issued as </a:t>
            </a:r>
            <a:r>
              <a:rPr b="0" i="1" lang="en-US" sz="1600" spc="-1" strike="noStrike">
                <a:solidFill>
                  <a:srgbClr val="000000"/>
                </a:solidFill>
                <a:latin typeface="Arial"/>
              </a:rPr>
              <a:t>Best Practices</a:t>
            </a:r>
            <a:r>
              <a:rPr b="0" lang="en-US" sz="1600" spc="-1" strike="noStrike">
                <a:solidFill>
                  <a:srgbClr val="000000"/>
                </a:solidFill>
                <a:latin typeface="Arial"/>
              </a:rPr>
              <a:t> white papers, improvements to the Bluetooth™ specifications, or formal profiles as necessary.</a:t>
            </a:r>
            <a:endParaRPr b="0" lang="en-US" sz="1600" spc="-1" strike="noStrike">
              <a:solidFill>
                <a:srgbClr val="000000"/>
              </a:solidFill>
              <a:latin typeface="Arial"/>
            </a:endParaRPr>
          </a:p>
          <a:p>
            <a:pPr lvl="1" marL="727920" indent="-280080" algn="just">
              <a:spcBef>
                <a:spcPts val="400"/>
              </a:spcBef>
              <a:spcAft>
                <a:spcPts val="11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ork closely with the Radio 2.0 Working Group to evaluate coexistence issues in new proposed radio designs.</a:t>
            </a: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531140E8-2F4F-4C5F-8548-14FA34ED68B8}"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ess since last IEEE Meeting</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completed live testing of Bluetooth devices vs:</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RF</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 GHz DEC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ther types of Cordless phones </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Generator version of RFID systems and WBFH syste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9F88D1B7-4C67-44F6-BD08-589194F75F1C}"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ess since last IEEE Meeting (2)</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ing simulations on additional interferers and multiple interfer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ing the results of our simulations and live tests in a Technical Memorand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ite Paper will also be created as a more approachable version of the 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C23577F1-9967-4F9B-8D80-F42C15044BF2}"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64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TG2/ Bluetooth SIG Coexistence Working Group Coordination</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2742840"/>
            <a:ext cx="7772400" cy="33526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coordinate our efforts with those of the 802.15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ve Shellhammer and I are serving as liai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interested in more interactions in the area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Mechanis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layer simulations (esp. with new coexistence mechanisms employ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d Sizer, Lucent Technologies / Bell Laboratories</a:t>
            </a:r>
          </a:p>
        </p:txBody>
      </p:sp>
      <p:sp>
        <p:nvSpPr>
          <p:cNvPr id="5" name="PlaceHolder 4"/>
          <p:cNvSpPr>
            <a:spLocks noGrp="1"/>
          </p:cNvSpPr>
          <p:nvPr>
            <p:ph type="sldNum" idx="3"/>
          </p:nvPr>
        </p:nvSpPr>
        <p:spPr/>
        <p:txBody>
          <a:bodyPr/>
          <a:p>
            <a:fld id="{8345FFA2-E3DE-46D5-A816-E5385A40840C}"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4:02:26Z</dcterms:created>
  <dc:creator>Theodore Sizer</dc:creator>
  <dc:description>&lt;doc#&gt;</dc:description>
  <dc:language>en-US</dc:language>
  <cp:lastModifiedBy>Stephen J. Shellhammer</cp:lastModifiedBy>
  <cp:lastPrinted>1998-02-10T13:28:06Z</cp:lastPrinted>
  <dcterms:modified xsi:type="dcterms:W3CDTF">2001-03-12T03:52:50Z</dcterms:modified>
  <cp:revision>5</cp:revision>
  <dc:subject>IEEE 802.15 &lt;subject&gt;</dc:subject>
  <dc:title>Bluetooth SIG Coexistence Working Group</dc:title>
</cp:coreProperties>
</file>