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D8DB8-BAC5-4C6C-B9AB-F82011CC2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E2BD-AFCF-4F72-9589-C6F9D2C1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39AC5-0830-4C5D-8290-1CCF25BF8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95775-7994-478E-8C13-25813F6EE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9A04-3653-4602-8D64-C8AE3AC64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E16C-C5C8-458C-8720-6F4CF08E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E4D1F-3453-467A-B153-F657C769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32CB4-5390-4829-A2BB-8CB38B49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56E4-0685-4F87-BA75-4B36DB6D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C797-20D3-4D42-ADBE-7DB8E65E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825E-39F5-4546-85E5-08FC92B2F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CEF6-1F1A-41DF-8A0D-6FEA32D96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806F05-F7AC-41E0-9F66-7565168EB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8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802/Standards Board Leader Meeting</a:t>
            </a:r>
            <a:endParaRPr b="0" lang="en-US" sz="3200" spc="-1" strike="noStrike">
              <a:solidFill>
                <a:srgbClr val="000000"/>
              </a:solidFill>
              <a:latin typeface="Times New Roman"/>
            </a:endParaRPr>
          </a:p>
        </p:txBody>
      </p:sp>
      <p:sp>
        <p:nvSpPr>
          <p:cNvPr id="46" name=""/>
          <p:cNvSpPr/>
          <p:nvPr/>
        </p:nvSpPr>
        <p:spPr>
          <a:xfrm>
            <a:off x="762120" y="1523880"/>
            <a:ext cx="7991280" cy="540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Attendees this meeting:  125</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with the IEEE-SA Staff regarding Standards Process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FEEDBACK </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pen-ness to adopting industry specifications, such a Bluetooth</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wnership of, and maintenance of, Standards souce materials, </a:t>
            </a:r>
            <a:r>
              <a:rPr b="0" lang="en-US" sz="20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including SDLs</a:t>
            </a:r>
            <a:r>
              <a:rPr b="0" lang="en-US" sz="2400" spc="-1" strike="noStrike">
                <a:solidFill>
                  <a:srgbClr val="000000"/>
                </a:solidFill>
                <a:latin typeface="Arial"/>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IMPROVEMENT </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cess is event-driven (gated on meeting times for the SA)</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cess often hard to understand/communicate to new commers.</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fficult to understand the policies regarding ownership and copyright of material submitted for standards. When we asked for help from the IEEE, the response was vague and contradictory. Most damaging was the statement that the IEEE would own executable SDL (required) and would licens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E1E64603-3773-4084-9A6D-4D9947C52303}" type="slidenum">
              <a:t>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5T20:16:37Z</dcterms:created>
  <dc:creator>Robert F.  Heile</dc:creator>
  <dc:description>&lt;doc#&gt;</dc:description>
  <dc:language>en-US</dc:language>
  <cp:lastModifiedBy>Robert F.  Heile</cp:lastModifiedBy>
  <cp:lastPrinted>1998-02-10T13:28:06Z</cp:lastPrinted>
  <dcterms:modified xsi:type="dcterms:W3CDTF">2001-04-01T18:37:23Z</dcterms:modified>
  <cp:revision>4</cp:revision>
  <dc:subject>IEEE 802.15 &lt;subject&gt;</dc:subject>
  <dc:title>Joint 802/Standards Board Leader Meeting</dc:title>
</cp:coreProperties>
</file>