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5D7D1-AF4E-42E1-B5C3-D1B054DB7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300E2-3EFA-4D88-BCDA-C051B74FA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131FA-8C42-46B5-9BA8-47D8F8A06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8A6CE-CEAA-4FD0-8ADF-BE536F051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7DB22-C7A9-468B-8D2E-8A95F6C04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D4FCC-AD86-4E06-A35D-1CAF8192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E26C-FE12-4B4E-BA99-DB94485DD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1AED-40B9-42AD-BD17-4E829F7B2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1BE03-15AA-4F50-9C14-FB6E8BCE3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B70CE-6AA2-49C4-AFAC-3D8D7A3A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A4C8C-A3CC-4B2B-AE0C-2B71160D9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5DC64-AEF1-4E20-A59F-20BB63AD2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104A0E-1D4F-4915-9DFA-3B32545D9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54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MAC Committee Closing Report and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Ma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269-3022, FAX: +1.703.749.0249, E-Mail: aheberling@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Orlando TG3 MAC report and pl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1) </a:t>
            </a:r>
            <a:r>
              <a:rPr b="0" lang="en-US" sz="1600" spc="-1" strike="noStrike">
                <a:solidFill>
                  <a:srgbClr val="000000"/>
                </a:solidFill>
                <a:latin typeface="Times New Roman"/>
              </a:rPr>
              <a:t>To report to the IEEE 802.15.3 regarding the activities of the IEEE 802.15.3 MAC committee accomplished during the Orlando Interim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To inform the IEEE 802.15.3 regarding the activities the TG3 MAC committee is planning for the time interval leading up to the Portland Plenary Mee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a:t>
            </a:r>
          </a:p>
        </p:txBody>
      </p:sp>
      <p:sp>
        <p:nvSpPr>
          <p:cNvPr id="3" name="PlaceHolder 2"/>
          <p:cNvSpPr>
            <a:spLocks noGrp="1"/>
          </p:cNvSpPr>
          <p:nvPr>
            <p:ph type="sldNum" idx="3"/>
          </p:nvPr>
        </p:nvSpPr>
        <p:spPr/>
        <p:txBody>
          <a:bodyPr/>
          <a:p>
            <a:fld id="{08C36994-E630-43CB-A420-C8B9A1327E8A}" type="slidenum">
              <a:t>1</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6 Security Parms Cla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 Rasor to author w/ input from B. Arbaugh and the Security committe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Security/Privacy Cla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 Rasor to author w/ input from B. Arbaugh and the Security committe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SCs and a high level 15.3 SDL Model for the Portland Plen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eberling to auth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BD690DB-A01E-4658-A4A2-2F9020914767}"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ill Unassigned:</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5 Frag and De-Frag (SAR)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1 Tx Power Control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8 Tx Power Control Parms Cla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EEB46841-A331-4B46-A4A5-3EEACC972F8C}" type="slidenum">
              <a:t>1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Closing Report and Plan at Orlando, May 2001</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D48D6F7-5929-4493-88B6-6A3C27DAB54F}"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TG3 MAC committee activities during the Orlando Interim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3 MAC Activities planned for the time interval leading up to the Portland Plen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3AD9845-BCFE-422E-A390-C3A705C2A52D}"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Accomplished during the Orlando Interim</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ed, categorized and prioritized comments in the Open Issues List (doc:01/114r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ed 214 MAC Open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70 amendments to create D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d resolved issues into MAC amendments document 01/221r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Siep presentation regarding draft standard editorial proces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D830BF4D-3814-4604-9DAD-2D335DBFAF6D}"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Accomplished during the Orlando Interim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ted for approval the MAC amendments  doc: 01/221r0… describing recommended modifications to D04 to create D05 Bill Arbaugh presentation regarding Security/Privacy in WPAN de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a MAC committee Plan (doc: 01/237…) for the interval between the Orlando Interim meeting and the Portland Plenary mee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214A120D-D2B0-4568-AC18-0FF22621DC3D}"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Conference Calls Schedul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5/29, 6/5, 6/12, 6/19, 6/26</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date and location (tentative DC area) for a MAC ad-hoc meeting 30 days from end of Orlando meeting. </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report progress </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resolving open issues</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of Amendments for inclusion into D0.6,  one week prior to Portland Plenary</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8961E866-7C1D-408E-809C-36A44828D255}"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or Complete these cla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hannel-Time.req/ind/rsp/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oordHndOvr.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Connect.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Disconnect.req/ind/confi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6DF5C1FA-D052-479F-8771-003BB82EEFA5}"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Repeater.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Status.req/ind/confi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berts to author w/ inputs from staf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D1BA3F0-4716-4582-B616-60BC711B8C83}"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7 Power Management Parms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Bain to author w/ inputs to MLME sub-clau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0 Power Management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Bain to auth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2 Frame Xchng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Shvodian to author</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E8A29C62-607D-4C32-BD62-B4E431A9F5C7}"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Allen Heberling</dc:creator>
  <dc:description>IEEE 802.15.3-01/238r0</dc:description>
  <dc:language>en-US</dc:language>
  <cp:lastModifiedBy>aheberl</cp:lastModifiedBy>
  <cp:lastPrinted>1998-02-10T13:28:06Z</cp:lastPrinted>
  <dcterms:modified xsi:type="dcterms:W3CDTF">2001-05-17T16:36:52Z</dcterms:modified>
  <cp:revision>154</cp:revision>
  <dc:subject>IEEE 802.15.3 TG3 MAC Committee Closing Report and Plan</dc:subject>
  <dc:title>TG3 MAC Committee Closing Report and Plan </dc:title>
</cp:coreProperties>
</file>