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A1E71-BBAE-4422-AC43-708CD0F00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1D031-836B-4B73-BDFF-A5F97CFA0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994FB-7681-420E-B258-C5C13DCC0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19D1C-F574-48AC-98BB-D3238FA62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5F1E5-C08B-4D96-BB1B-7EBDE86EF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4A6AD-68C9-4A74-AE8A-614430A58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5A2E8-537F-45BF-A1F1-83A0AC0A7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E300C-8AE1-4DE7-9F5F-A615EC0A2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7DA9F-5F4D-4E13-A129-0FF9F6C79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AB422-1D10-4BCC-ADE7-456FBE2F5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2A86C-F829-499C-89FA-E6DC0B33B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699B1-60E5-4C0A-B772-A18D0F577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8B70F5-9DE1-493C-9050-752146B22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8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54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MAC Committee Closing Report and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Ma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269-3022, FAX: +1.703.749.0249, E-Mail: aheberling@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  </a:t>
            </a:r>
            <a:r>
              <a:rPr b="0" lang="en-US" sz="1600" spc="-1" strike="noStrike">
                <a:solidFill>
                  <a:srgbClr val="000000"/>
                </a:solidFill>
                <a:latin typeface="Times New Roman"/>
              </a:rPr>
              <a:t>Orlando TG3 MAC report and plan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 1) </a:t>
            </a:r>
            <a:r>
              <a:rPr b="0" lang="en-US" sz="1600" spc="-1" strike="noStrike">
                <a:solidFill>
                  <a:srgbClr val="000000"/>
                </a:solidFill>
                <a:latin typeface="Times New Roman"/>
              </a:rPr>
              <a:t>To report to the IEEE 802.15.3 regarding the activities of the IEEE 802.15.3 MAC committee accomplished during the Orlando Interim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To inform the IEEE 802.15.3 regarding the activities the TG3 MAC committee is planning for the time interval leading up to the Portland Plenary Mee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D. Heberling, XtremeSpectrum</a:t>
            </a:r>
          </a:p>
        </p:txBody>
      </p:sp>
      <p:sp>
        <p:nvSpPr>
          <p:cNvPr id="3" name="PlaceHolder 2"/>
          <p:cNvSpPr>
            <a:spLocks noGrp="1"/>
          </p:cNvSpPr>
          <p:nvPr>
            <p:ph type="sldNum" idx="3"/>
          </p:nvPr>
        </p:nvSpPr>
        <p:spPr/>
        <p:txBody>
          <a:bodyPr/>
          <a:p>
            <a:fld id="{B873215C-224B-4A55-B7B6-EE8A370791F7}" type="slidenum">
              <a:t>1</a:t>
            </a:fld>
          </a:p>
        </p:txBody>
      </p:sp>
      <p:sp>
        <p:nvSpPr>
          <p:cNvPr id="4" name="PlaceHolder 3"/>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 </a:t>
            </a:r>
            <a:r>
              <a:rPr b="0" lang="en-US" sz="2800" spc="-1" strike="noStrike">
                <a:solidFill>
                  <a:srgbClr val="000000"/>
                </a:solidFill>
                <a:latin typeface="Times New Roman"/>
              </a:rPr>
              <a:t>cont</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6 Security Parms Clau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gg Rasor to author w/ input from B. Arbaugh and the Security committe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Security/Privacy Clau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gg Rasor to author w/ input from B. Arbaugh and the Security committe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SCs and a high level 15.3 SDL Model for the Portland Plen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eberling to auth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B7898EE9-95E0-4480-AA5D-718A17E2395B}" type="slidenum">
              <a:t>1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ill Unassigned:</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5 Frag and De-Frag (SAR) Cla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Shvodian to author this clau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1 Tx Power Control Cla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Roberts and J. Bain will review TGh and HiperLan2 solution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8 Tx Power Control Parms Cla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Roberts and J. Bain will review TGh and HiperLan2 solution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C7BC0069-75EA-4118-9AC6-7276184B948C}" type="slidenum">
              <a:t>1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Closing Report and Plan at Orlando, May 2001</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EA33A302-31F9-41DB-B2CA-C4F6660B4614}" type="slidenum">
              <a:t>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he TG3 MAC committee activities during the Orlando Interim me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3 MAC Activities planned for the time interval leading up to the Portland Plen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797850B9-08BC-47B4-B24F-AE88E9399E17}" type="slidenum">
              <a:t>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Accomplished during the Orlando Interim</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ed, categorized and prioritized comments in the Open Issues List (doc:01/114r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ed 214 MAC Open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70 amendments to create D0.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d resolved issues into MAC amendments document 01/221r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Siep presentation regarding draft standard editorial proces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2A429318-C01F-46C9-AF07-7AD9304FA864}" type="slidenum">
              <a:t>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Accomplished during the Orlando Interim </a:t>
            </a:r>
            <a:r>
              <a:rPr b="0" lang="en-US" sz="2800" spc="-1" strike="noStrike">
                <a:solidFill>
                  <a:srgbClr val="000000"/>
                </a:solidFill>
                <a:latin typeface="Times New Roman"/>
              </a:rPr>
              <a:t>continue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ted for approval the MAC amendments  doc: 01/221r0… describing recommended modifications to D04 to create D05 Bill Arbaugh presentation regarding Security/Privacy in WPAN de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d a MAC committee Plan (doc: 01/237…) for the interval between the Orlando Interim meeting and the Portland Plenary mee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5DE7FB60-F6F5-4512-A092-F7B1C8B1EE74}" type="slidenum">
              <a:t>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Conference Calls Schedul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5/29, 6/5, 6/12, 6/19, 6/26</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date and location (tentative DC area) for a MAC ad-hoc meeting 30 days from end of Orlando meeting. </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report progress </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resolving open issues</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on of Amendments for inclusion into D0.6,  one week prior to Portland Plenary</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7C3CE678-A6E9-449C-A1C4-CF69669295CF}" type="slidenum">
              <a:t>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 </a:t>
            </a:r>
            <a:r>
              <a:rPr b="0" lang="en-US" sz="2800" spc="-1" strike="noStrike">
                <a:solidFill>
                  <a:srgbClr val="000000"/>
                </a:solidFill>
                <a:latin typeface="Times New Roman"/>
              </a:rPr>
              <a:t>cont</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or Complete these clau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Channel-Time.req/ind/rsp/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CoordHndOvr.req/ind/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StreamConnect.req/ind/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StreamDisconnect.req/ind/confi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B88ABE21-993E-4E34-BDDC-5255B0086C3A}" type="slidenum">
              <a:t>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 </a:t>
            </a:r>
            <a:r>
              <a:rPr b="0" lang="en-US" sz="2800" spc="-1" strike="noStrike">
                <a:solidFill>
                  <a:srgbClr val="000000"/>
                </a:solidFill>
                <a:latin typeface="Times New Roman"/>
              </a:rPr>
              <a:t>cont</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Repeater.req/ind/confi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ChannelStatus.req/ind/confir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Roberts to author w/ inputs from staf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67E67539-20F2-4B61-98C8-CA5EDC1DC3D2}" type="slidenum">
              <a:t>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 </a:t>
            </a:r>
            <a:r>
              <a:rPr b="0" lang="en-US" sz="2800" spc="-1" strike="noStrike">
                <a:solidFill>
                  <a:srgbClr val="000000"/>
                </a:solidFill>
                <a:latin typeface="Times New Roman"/>
              </a:rPr>
              <a:t>cont</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7 Power Management Parms Cla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Bain to author w/ inputs to MLME sub-clau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0 Power Management Cla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Bain to auth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2 Frame Xchng Cla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Shvodian to author</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FEB90980-BF3C-4F56-9E56-305D65431219}" type="slidenum">
              <a:t>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Allen Heberling</dc:creator>
  <dc:description>IEEE 802.15.3-01/238r0</dc:description>
  <dc:language>en-US</dc:language>
  <cp:lastModifiedBy>aheberl</cp:lastModifiedBy>
  <cp:lastPrinted>1998-02-10T13:28:06Z</cp:lastPrinted>
  <dcterms:modified xsi:type="dcterms:W3CDTF">2001-05-17T19:53:19Z</dcterms:modified>
  <cp:revision>156</cp:revision>
  <dc:subject>IEEE 802.15.3 TG3 MAC Committee Closing Report and Plan</dc:subject>
  <dc:title>TG3 MAC Committee Closing Report and Plan </dc:title>
</cp:coreProperties>
</file>