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55D1E-D53A-4D93-92A5-50CC8B00D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AFAC2-99D3-403D-8279-E5B8091A2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C7C87-6C8C-4940-9E5E-5CCBA3B7E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5E8C1-3E53-4BE9-B47D-2551009C0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84292-E331-43E0-B8DE-36607ED0D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C9B79-5A36-4579-B84B-208281CE2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0C687-75DB-4F27-A10D-D7CD9893A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6B81D-6A35-4ABE-A09D-80B6BA902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FB348-5A49-434E-9E76-C42F959BA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119A6-CB85-451E-BAB7-116EC7C6B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E12BA-6302-41B0-90B9-61407B0D8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734C7-7405-47CE-ACAC-BF63F4903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79E7B8-16A7-4193-B890-8CE64C3A2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15092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1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5931008-DDBD-4FC8-BF01-CB29B57989A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y 2001</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Opening Report 13May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3May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201r3P802-15_TG3-May01-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from the last session on all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Y/Draft Summary</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0512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time will be yielded to MAC This week</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PHY staff are not able to be he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Progress in PHY.  Some Issues to resolve, but progress is being mad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ep to give presentation Monday on Draft Comment proces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aft reviews and Writing sessions will be yielded as necessar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 PHY Amendments as a result of System and MAC discussion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8AACFB0C-D061-4AF2-A514-5989598F13BD}"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y Document Summary (1 of 2)</a:t>
            </a:r>
            <a:endParaRPr b="0" lang="en-US" sz="3600" spc="-1" strike="noStrike">
              <a:solidFill>
                <a:srgbClr val="000000"/>
              </a:solidFill>
              <a:latin typeface="Times New Roman"/>
            </a:endParaRPr>
          </a:p>
        </p:txBody>
      </p:sp>
      <p:sp>
        <p:nvSpPr>
          <p:cNvPr id="101"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94000"/>
          </a:bodyPr>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0127r5 – TG3 Project Plan</a:t>
            </a:r>
            <a:r>
              <a:rPr b="0" lang="en-US" sz="2000" spc="-1" strike="noStrike">
                <a:solidFill>
                  <a:srgbClr val="000000"/>
                </a:solidFill>
                <a:latin typeface="Times New Roman"/>
              </a:rPr>
              <a:t>	</a:t>
            </a:r>
            <a:r>
              <a:rPr b="0" lang="en-US" sz="2000" spc="-1" strike="noStrike">
                <a:solidFill>
                  <a:srgbClr val="000000"/>
                </a:solidFill>
                <a:latin typeface="Times New Roman"/>
              </a:rPr>
              <a:t>Allen</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04r0 – TG3 Hilton Head Minutes</a:t>
            </a:r>
            <a:r>
              <a:rPr b="0" lang="en-US" sz="2000" spc="-1" strike="noStrike">
                <a:solidFill>
                  <a:srgbClr val="000000"/>
                </a:solidFill>
                <a:latin typeface="Times New Roman"/>
              </a:rPr>
              <a:t>	</a:t>
            </a:r>
            <a:r>
              <a:rPr b="0" lang="en-US" sz="2000" spc="-1" strike="noStrike">
                <a:solidFill>
                  <a:srgbClr val="000000"/>
                </a:solidFill>
                <a:latin typeface="Times New Roman"/>
              </a:rPr>
              <a:t>Kinney</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14rx – TG3 MAC Issue List</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22rx – PHY Issue Resolution</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86r2 – Systems Committee Report and Plan</a:t>
            </a:r>
            <a:r>
              <a:rPr b="0" lang="en-US" sz="2000" spc="-1" strike="noStrike">
                <a:solidFill>
                  <a:srgbClr val="000000"/>
                </a:solidFill>
                <a:latin typeface="Times New Roman"/>
              </a:rPr>
              <a:t>	</a:t>
            </a:r>
            <a:r>
              <a:rPr b="0" lang="en-US" sz="2000" spc="-1" strike="noStrike">
                <a:solidFill>
                  <a:srgbClr val="000000"/>
                </a:solidFill>
                <a:latin typeface="Times New Roman"/>
              </a:rPr>
              <a:t>Roberts</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90rx – MAC Committee Running Minutes</a:t>
            </a:r>
            <a:r>
              <a:rPr b="0" lang="en-US" sz="2000" spc="-1" strike="noStrike">
                <a:solidFill>
                  <a:srgbClr val="000000"/>
                </a:solidFill>
                <a:latin typeface="Times New Roman"/>
              </a:rPr>
              <a:t>	</a:t>
            </a:r>
            <a:r>
              <a:rPr b="0" lang="en-US" sz="2000" spc="-1" strike="noStrike">
                <a:solidFill>
                  <a:srgbClr val="000000"/>
                </a:solidFill>
                <a:latin typeface="Times New Roman"/>
              </a:rPr>
              <a:t>xxx</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91rx – PHY Committee Running Minutes</a:t>
            </a:r>
            <a:r>
              <a:rPr b="0" lang="en-US" sz="2000" spc="-1" strike="noStrike">
                <a:solidFill>
                  <a:srgbClr val="000000"/>
                </a:solidFill>
                <a:latin typeface="Times New Roman"/>
              </a:rPr>
              <a:t>	</a:t>
            </a:r>
            <a:r>
              <a:rPr b="0" lang="en-US" sz="2000" spc="-1" strike="noStrike">
                <a:solidFill>
                  <a:srgbClr val="000000"/>
                </a:solidFill>
                <a:latin typeface="Times New Roman"/>
              </a:rPr>
              <a:t>xxx</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216r0 – PHY Committee Report and Plan</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217r0 – Drafting Progress Repor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218r0 – PHY Committee May Working Documen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219r0 – MAC-PHY Issue Resolution</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3BC135DB-0B1A-4561-87F1-AB5951B77FB7}"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ch Document Summary (2 of 2)</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220r0 – TG3 PHY Draft D0.4 Amendment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221r0 – TG3 MAC Draft D0.4 Amendment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222r0 – TG3 System Draft D0.4 Amendments</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223r0 – TG3 Publicity Presentation</a:t>
            </a:r>
            <a:r>
              <a:rPr b="0" lang="en-US" sz="2400" spc="-1" strike="noStrike">
                <a:solidFill>
                  <a:srgbClr val="000000"/>
                </a:solidFill>
                <a:latin typeface="Times New Roman"/>
              </a:rPr>
              <a:t>	</a:t>
            </a:r>
            <a:r>
              <a:rPr b="0" lang="en-US" sz="2400" spc="-1" strike="noStrike">
                <a:solidFill>
                  <a:srgbClr val="000000"/>
                </a:solidFill>
                <a:latin typeface="Times New Roman"/>
              </a:rPr>
              <a:t>B/A/K</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224r0 – Draft Comment Resolution Methods</a:t>
            </a:r>
            <a:r>
              <a:rPr b="0" lang="en-US" sz="2400" spc="-1" strike="noStrike">
                <a:solidFill>
                  <a:srgbClr val="000000"/>
                </a:solidFill>
                <a:latin typeface="Times New Roman"/>
              </a:rPr>
              <a:t>	</a:t>
            </a:r>
            <a:r>
              <a:rPr b="0" lang="en-US" sz="2400" spc="-1" strike="noStrike">
                <a:solidFill>
                  <a:srgbClr val="000000"/>
                </a:solidFill>
                <a:latin typeface="Times New Roman"/>
              </a:rPr>
              <a:t>Siep</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235r0 – MAC Committee Report and Plan</a:t>
            </a:r>
            <a:r>
              <a:rPr b="0" lang="en-US" sz="2400" spc="-1" strike="noStrike">
                <a:solidFill>
                  <a:srgbClr val="000000"/>
                </a:solidFill>
                <a:latin typeface="Times New Roman"/>
              </a:rPr>
              <a:t>	</a:t>
            </a:r>
            <a:r>
              <a:rPr b="0" lang="en-US" sz="2400" spc="-1" strike="noStrike">
                <a:solidFill>
                  <a:srgbClr val="000000"/>
                </a:solidFill>
                <a:latin typeface="Times New Roman"/>
              </a:rPr>
              <a:t>Heberl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242r0 – Effects of OQPSK on CAZAC</a:t>
            </a:r>
            <a:r>
              <a:rPr b="0" lang="en-US" sz="2400" spc="-1" strike="noStrike">
                <a:solidFill>
                  <a:srgbClr val="000000"/>
                </a:solidFill>
                <a:latin typeface="Times New Roman"/>
              </a:rPr>
              <a:t>	</a:t>
            </a:r>
            <a:r>
              <a:rPr b="0" lang="en-US" sz="2400" spc="-1" strike="noStrike">
                <a:solidFill>
                  <a:srgbClr val="000000"/>
                </a:solidFill>
                <a:latin typeface="Times New Roman"/>
              </a:rPr>
              <a:t>Karaoguz</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244r0 – Header error rate analysis</a:t>
            </a:r>
            <a:r>
              <a:rPr b="0" lang="en-US" sz="2400" spc="-1" strike="noStrike">
                <a:solidFill>
                  <a:srgbClr val="000000"/>
                </a:solidFill>
                <a:latin typeface="Times New Roman"/>
              </a:rPr>
              <a:t>	</a:t>
            </a:r>
            <a:r>
              <a:rPr b="0" lang="en-US" sz="2400" spc="-1" strike="noStrike">
                <a:solidFill>
                  <a:srgbClr val="000000"/>
                </a:solidFill>
                <a:latin typeface="Times New Roman"/>
              </a:rPr>
              <a:t>L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d03P802-15-3__Draft_Standard.pdf</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d04P802-15-3__Draft_Standard.pdf</a:t>
            </a:r>
            <a:r>
              <a:rPr b="0" lang="en-US" sz="2400" spc="-1" strike="noStrike">
                <a:solidFill>
                  <a:srgbClr val="000000"/>
                </a:solidFill>
                <a:latin typeface="Times New Roman"/>
              </a:rPr>
              <a:t>	</a:t>
            </a:r>
            <a:r>
              <a:rPr b="0" lang="en-US" sz="2400" spc="-1" strike="noStrike">
                <a:solidFill>
                  <a:srgbClr val="000000"/>
                </a:solidFill>
                <a:latin typeface="Times New Roman"/>
              </a:rPr>
              <a:t>Gilb</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64AAB59D-AB24-4516-B9A6-7A9B969C99D6}" type="slidenum">
              <a:t>1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May Sessions</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day: Review of committee work and resolution of outstanding issues. Overview of current draft (D0.4).</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esday: Resolution of MAC and Systems issues and preparation of baseline draft amendment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dnesday: Resolution of PHY issues, overview chapter, and MAC planning meeting.</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 Voting on MAC, PHY, and System amendments, and vote on baseline draf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802.11e Security Presentat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rsday: Standard drafting, committee reports, Updating project plan, May-July work plan, and WG repor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9541254-8152-4514-AA1E-63680A51FDF6}" type="slidenum">
              <a:t>1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work next week</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s will not resume until week of May 29th.</a:t>
            </a:r>
            <a:br>
              <a:rPr sz="3200"/>
            </a:br>
            <a:br>
              <a:rPr sz="2400"/>
            </a:br>
            <a:r>
              <a:rPr b="0" lang="en-US" sz="2400" spc="-1" strike="noStrike">
                <a:solidFill>
                  <a:srgbClr val="000000"/>
                </a:solidFill>
                <a:latin typeface="Times New Roman"/>
              </a:rPr>
              <a:t>                              </a:t>
            </a:r>
            <a:r>
              <a:rPr b="1" lang="en-US" sz="3200" spc="-1" strike="noStrike">
                <a:solidFill>
                  <a:srgbClr val="000000"/>
                </a:solidFill>
                <a:latin typeface="Times New Roman"/>
              </a:rPr>
              <a:t>Questions</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ndees this week (straw poll).</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esday Dinner (straw poll). (18 would attend)</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ing Meeting (Straw poll).</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tear down (Straw pol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A102B7C8-F1B4-425A-8E03-E7903C58565F}" type="slidenum">
              <a:t>1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143000" y="739800"/>
            <a:ext cx="5992920" cy="5584680"/>
          </a:xfrm>
          <a:prstGeom prst="rect">
            <a:avLst/>
          </a:prstGeom>
          <a:ln w="0">
            <a:noFill/>
          </a:ln>
        </p:spPr>
      </p:pic>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gratulate Mary Duval</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here Systems Engineering Degre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duates This weeke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92EA8825-CEDB-4998-96B0-94E812D532AE}" type="slidenum">
              <a:t>1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Opening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001, Orlando, FL</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6AAA978-B147-47E0-BAA6-210882E38A18}"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enda</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s of May Me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3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s and plans for TG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Document 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622815E6-05C0-43F5-92DF-3D63AE716BEC}"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May Meeting</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523880"/>
            <a:ext cx="807732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erence call status, including approval of any ad hoc busin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Draft D0.4 Com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 comments and open iss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mendments documents for D0.4 to D0.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lete drafting update to D0.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pare letter ballot of D0.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ize Letter Ballot of D0.5.)</a:t>
            </a:r>
            <a:r>
              <a:rPr b="0" lang="en-US" sz="2400" spc="-1" strike="noStrike">
                <a:solidFill>
                  <a:srgbClr val="000000"/>
                </a:solidFill>
                <a:latin typeface="Times New Roman"/>
              </a:rPr>
              <a:t> Now just RF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Discussion -&gt; r4 of Graph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goals and plans for May-Ju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81BA77DA-3636-40E5-ADA6-412ABEC10B5A}"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PAR</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Medium Access Control (MAC) and Physical Layer (PHY) Specifications for High Rate Wireless Personal Area Networks (WP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reless connectivity with fixed, portable and moving devices within or entering a Personal Operating Space (POS) (up to 10 meters in all directions enveloping a 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operability or coexistence with other 802.15 T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existence with other wireless devices in conjunction with Coexistence Task Groups such as 802.15.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w complexity, low cost, low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t;20Mbps to satisfy a set of consumer multi-media industry needs for WPAN communi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DDF777E9-12FB-4E64-9280-CD582EDEDDCB}"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and Plans for TG3</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of Initial Draft</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MAC/PHY standard of high rate WPA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Produce a Standard by the end of 2001 or early 2002</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oal</a:t>
            </a:r>
            <a:r>
              <a:rPr b="0" lang="en-US" sz="2800" spc="-1" strike="noStrike">
                <a:solidFill>
                  <a:srgbClr val="000000"/>
                </a:solidFill>
                <a:latin typeface="Times New Roman"/>
              </a:rPr>
              <a:t>: Resolve comments/issues with current task group draft (D.0.4), May, 2001. Working Group draft, July, 2001. Sponsor ballot, November, 200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2554DFC9-9EEC-410E-A158-9E2939346F98}"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600200"/>
            <a:ext cx="830592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Release updated draft from Hilton Head (D0.3), prepare new proposed draft for review (D0.4), identify outstanding issues and work to be comple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3 General: Held every Tuesday between F2F meet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Committee: Every other Thursd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ommittee: Every Tuesday following general 802.15.3 c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ommittee: No calls scheduled. Email 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75E21C38-2232-473A-9152-F162A95E7413}"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ummary</a:t>
            </a:r>
            <a:endParaRPr b="0" lang="en-US" sz="3600" spc="-1" strike="noStrike">
              <a:solidFill>
                <a:srgbClr val="000000"/>
              </a:solidFill>
              <a:latin typeface="Times New Roman"/>
            </a:endParaRPr>
          </a:p>
        </p:txBody>
      </p:sp>
      <p:sp>
        <p:nvSpPr>
          <p:cNvPr id="95" name="PlaceHolder 2"/>
          <p:cNvSpPr>
            <a:spLocks noGrp="1"/>
          </p:cNvSpPr>
          <p:nvPr>
            <p:ph/>
          </p:nvPr>
        </p:nvSpPr>
        <p:spPr>
          <a:xfrm>
            <a:off x="685440" y="1142640"/>
            <a:ext cx="7924680" cy="5257800"/>
          </a:xfrm>
          <a:prstGeom prst="rect">
            <a:avLst/>
          </a:prstGeom>
          <a:noFill/>
          <a:ln w="0">
            <a:noFill/>
          </a:ln>
        </p:spPr>
        <p:txBody>
          <a:bodyPr lIns="92160" rIns="92160" tIns="46080" bIns="4608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the activities of the TG3 MAC committee since Hilton Head</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Con-Calls</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review of draft 0.2 and  0.3</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initial review of draft 0.4</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 categorization and Prioritization of</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issues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initial resolution of Open Issue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Planned for Orlando:</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ect, Categorize and Prioritize new Open Issues from draft 0.4</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ve open MAC issues</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ve MAC/PHY interface issues</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ect resolved issues into MAC amendment doc.</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and Vote on MAC amendment Doc.</a:t>
            </a:r>
            <a:endParaRPr b="0" lang="en-US" sz="18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nd assign tasks leading into Portland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C4217447-E3A2-4CD7-88B4-DB45B29F1618}"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stems Summary</a:t>
            </a:r>
            <a:endParaRPr b="0" lang="en-US" sz="3600" spc="-1" strike="noStrike">
              <a:solidFill>
                <a:srgbClr val="000000"/>
              </a:solidFill>
              <a:latin typeface="Times New Roman"/>
            </a:endParaRPr>
          </a:p>
        </p:txBody>
      </p:sp>
      <p:sp>
        <p:nvSpPr>
          <p:cNvPr id="97" name="PlaceHolder 2"/>
          <p:cNvSpPr>
            <a:spLocks noGrp="1"/>
          </p:cNvSpPr>
          <p:nvPr>
            <p:ph/>
          </p:nvPr>
        </p:nvSpPr>
        <p:spPr>
          <a:xfrm>
            <a:off x="609120" y="1523880"/>
            <a:ext cx="8077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lton Head action items are in Draft 0.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SAP/PHY PIB, are ready for WG re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SAPs have a number of issues in MLE, MAC SAP, and MAC PIB,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 Stay active with PHY and MAC to deal with PIBs, SAPs and systems issues in real time.  May need spot re-revi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riginal presentations plann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Barr, Motorola</a:t>
            </a:r>
          </a:p>
        </p:txBody>
      </p:sp>
      <p:sp>
        <p:nvSpPr>
          <p:cNvPr id="5" name="PlaceHolder 4"/>
          <p:cNvSpPr>
            <a:spLocks noGrp="1"/>
          </p:cNvSpPr>
          <p:nvPr>
            <p:ph type="sldNum" idx="3"/>
          </p:nvPr>
        </p:nvSpPr>
        <p:spPr/>
        <p:txBody>
          <a:bodyPr/>
          <a:p>
            <a:fld id="{E6A7563C-79A8-4160-A455-17BCFBB14C69}"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James D. Allen</cp:lastModifiedBy>
  <cp:lastPrinted>1998-02-10T13:28:06Z</cp:lastPrinted>
  <dcterms:modified xsi:type="dcterms:W3CDTF">2001-05-14T13:35:09Z</dcterms:modified>
  <cp:revision>247</cp:revision>
  <dc:subject>TG3 Opening Report,13May01</dc:subject>
  <dc:title>IEEE P802.15 Working Group for Wireless Personal Area Networks</dc:title>
</cp:coreProperties>
</file>