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31E-96DE-47E1-8376-7392D17F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C5F-CDB7-4605-9746-5D85BAF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12B-3953-4AAA-8A54-7EB44AE9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CEC-CD79-4DFB-9504-AEC50F03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3D3-5658-4F03-B293-BDA6BA4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095-CC52-47D1-82EF-D95A1A4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89F-F8CC-45A0-B068-3B5DF394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6AC-5E5D-466A-AA45-2136C2E9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CD9-9915-48AE-B5A1-2A3E1A1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FCE-7453-4697-866A-7D96BD0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6A0-7038-4C7E-93CB-6450DA9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FBD-7031-41CC-95FC-DDCEFB5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05695C-3BB0-48E9-B56E-15FBD497E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3 Review Procedur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ll of these recommendations do not apply to TG votes, but highly are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Ballo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Ballo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A81-2C6D-4835-BEA9-70D21AF3A4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Ho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Technical comment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riag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and document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420-8E3D-4ABA-B3CC-F9DF250253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liminary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-level task for “controversial”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sue per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er’s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er team’s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e for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B90-1B7F-4002-A92B-1DB125DA2C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aft Response to vo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for re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for any descript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letter per v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as e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 from 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C3D-63D7-4E3E-8363-31D1459A8D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val of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/TG vote (as appropri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issue (75% appro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AAB-8790-40C6-8C78-171B51DF11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of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d by Section Ed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by Lea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Technical Editor available as an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34D-F8A9-42B6-A443-1EFFF1CF6B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fication of Rejections/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via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change of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o WG/TG on any withdrawal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840-9DCC-4732-B0E9-8D4B3974E4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-Ballot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ot tim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backwards from desired processing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specific TG or WG pre-approval for further action if processing event is not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ot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r comment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265-516A-4752-89FE-D1699721AF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lo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NOT change Draft during a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ates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quired changes are identified,posting of notation of intent to change – this means another ballot will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chair (WG or TG) pings voters period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% voters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entions count towards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approval required for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045-D075-47E0-95BD-FEB4B8D835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-Ballot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ge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Response to v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of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fication of Rejections/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521-4268-44F4-B057-74E3789BEB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/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/dispatched for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/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/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/ques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/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/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/unstatis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/withdr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00600" y="1981080"/>
          <a:ext cx="398160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98160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800600" y="5410080"/>
            <a:ext cx="41911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905-D23B-4753-8A8A-E35D35AAF1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Flowchart (1 of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46240" y="1539720"/>
          <a:ext cx="534528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1539720"/>
                    <a:ext cx="534528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A65-A095-4D10-9FAD-4620988A0B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Flowchart (2 of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27440" y="1371600"/>
          <a:ext cx="37256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7440" y="1371600"/>
                    <a:ext cx="37256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29D-4708-47E3-8E20-201462C0BE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Flowchart (3 of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84760" y="1600200"/>
          <a:ext cx="12967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1600200"/>
                    <a:ext cx="12967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52B-2C14-4FD9-ADA3-4F9130E242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iage of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all comments into a singl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here is sufficient information in each comment to identify target of that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comment is classified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allots into logic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“tiger teams” to address com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 tiger team to complete processing by a definit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MS Consulta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78E-011E-4EA8-9BF7-E7234446DA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08:02Z</dcterms:created>
  <dc:creator>Tom Siep</dc:creator>
  <dc:description>01/224r0</dc:description>
  <dc:language>en-US</dc:language>
  <cp:lastModifiedBy>Tom Siep</cp:lastModifiedBy>
  <cp:lastPrinted>1998-02-10T13:28:06Z</cp:lastPrinted>
  <dcterms:modified xsi:type="dcterms:W3CDTF">2001-05-14T20:26:41Z</dcterms:modified>
  <cp:revision>13</cp:revision>
  <dc:subject>IEEE 802.15 </dc:subject>
  <dc:title>TG3 Proposed Comment Resolution Mechanism</dc:title>
</cp:coreProperties>
</file>