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4FF-4D31-4DF2-9D62-7745EC10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2A9-42CE-4E03-A566-8C845032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ED8-8E8F-464A-8213-3215D506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9F8-63DE-4E06-8519-901660A5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86D-E64A-4DCE-936C-F5330732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B7A-40C5-44E0-AADE-7458B314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C19-34FC-4B90-ACF5-BF8E6E1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036-93D2-4C00-99CF-C41B552C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09C-F3CF-4D42-91F5-82AC1DC8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6C5-C042-4119-AA04-83AEBF46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D22-4878-4AF6-9CD8-146A8F16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148-4D35-479C-BCB7-86232EC8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E75E2D-36E0-4B9B-A807-1857D2043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1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sson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lando, 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4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060-9B2E-4D9D-BB69-A9A4BE0C5C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ll for Intent was Issued for Proposals-9 response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FAs reviewed at Monterey Meeting, Criteria Matrix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Proposal overviews heard at the March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Doc drafted at March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drafted and submitted in response to CFP from IEEE Networking Magaz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D79-552F-44D5-964D-870C354F67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GROUP 4 OBJECTIVES FOR THIS MEETING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PRESENT REMAINING CF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REVIEW/REVISE CRITERIA DOC A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REVIEW PROGRESS ON LOW RATE ARTIC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FINALIZE JULY SELECTION PROC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OBJECTIVES FOR JULY MEE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686-F4AF-4ADB-9D2C-C9907D7329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AGERE MAC &amp; PHY Proposal -Steven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AMI/STS MAC Proposa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Leeuw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INVENSYS MAC &amp; PHY Proposal -Kin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MOTOROLA MAC &amp; PHY Proposal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NOKIA MAC &amp; PHY Proposa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ok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PHILIPS MAC &amp; PHY Proposal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son/Mori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RFWAVES PHY Proposal-Vol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752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s Received for Review on Monday and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AC2-428B-48EC-B89E-1D580B2CDB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2438280"/>
          <a:ext cx="8686800" cy="28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686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25160" y="17524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0D7-3B5B-4608-8B84-AEEAADB9060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3:04:44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5-14T23:24:59Z</dcterms:modified>
  <cp:revision>20</cp:revision>
  <dc:subject>IEEE 802.15 &lt;subject&gt;</dc:subject>
  <dc:title>Task Group 4 Low Rate WPANS Opening Report</dc:title>
</cp:coreProperties>
</file>