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BF82C-AD07-4C1E-9735-14E3CB57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C1D0D-2A2E-4602-9E5C-EBC1BBBC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987C-AFED-46B6-8A43-27D417AC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88194-1612-4763-B629-959F8331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C168F-7738-4ECE-A823-D3BA1D0F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C3768-DA09-49DE-8235-2121A8C7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E7337-C28C-4F33-AF47-56B3653E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065F5-C3F0-412F-BB5F-68BCDB59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67E3-F1BF-4523-9839-66C2E000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52DF-FD98-47C7-8B36-42158EC9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6FA08-6A29-4D54-8A5B-05033F38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3BEB1-53F2-4FAA-9663-C037BF01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24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74FAFCD-2C3B-4C5C-8622-46ED182E8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971800"/>
            <a:ext cx="67057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ation at In-Stat Forum on “Access To Intelligenc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oenix 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1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19D8-4660-4BF3-A9CC-B17055376B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echanisms Facilitate Coexistence of WPAN &amp; WLAN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ssions were given 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2000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2001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2001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sub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ed on selection of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E366B-AC9D-48F0-A334-DDFBDC8FFF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form of communication exists between the WLAN and W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is link to provide fair sharing of medium (i.e. air wav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llaborativ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mmunication between WLAN and WPAN exi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 to minimize the effects of the mutual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6C957-D0A6-45CD-9EB4-14CE4E5202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Mechanism (Only 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a joint proposal from Mobilian, Symbol Technologies, and N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ily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ordinated Scheduling Mech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D168-511F-47F5-B800-D2F46B338E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ech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llaborative (Multi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uetooth Packet Selection and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EEE 802.11b Transmit Power Control and Data Rate Sc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uetooth Adaptive Frequency Ho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ore working being done by Ad Hoc committe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763B8-DFE0-4267-830E-57882A0524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 Web 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re information see the          IEEE 802.15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ww.ieee802.org/15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DD89D-CE19-4C62-BBA3-3BF7E0E9540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luetooth and IEEE 802.11b Coexist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7720" y="335232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hen J. Shellh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irman IEEE 802.1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ior Director, Symbol Technologies,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96B93-BBD7-448F-88A8-8F93DC4EAE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tual Inter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3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Both IEEE 802.11 and Bluetooth operate in the same 2.4 GHz ISM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Bluetooth enabled devices will likely be portable and will need to operate in an IEEE 802.11 WLAN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There will be some level of mutual inter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D6CC4-7241-4DA1-BA96-114A0D4C85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.2 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fy the effect of the mutual interference of WLAN (e.g. 802.11) and WPAN (e.g. Bluetooth) upon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xist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s or techniques to facilitate coexistence of WLAN and WPAN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o be documented in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EE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EBE0-73C9-49EB-8D31-E851430784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is Coexistence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quantify the effect of the mutual interference under various scen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 in Laptop and Bluetooth in nearby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 and Bluetooth in the same Lap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monstrate the effectiveness of the adopted Coexistence Mech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758C-E84E-4A2E-92CA-C5E939D9FC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xistence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 of four sec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Layer Mod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802.11 and Bluetooth Ra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 Layer Mod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oth 802.11 and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F Channel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Radio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Traffic Mod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traffic over both 802.11 and Bluetooth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EF00F-0204-4B81-A578-5ECD37CA12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put to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of 802.11 and Bluetooth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Data Traffic flowing over both the 802.11 and Bluetooth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put of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Throughput, for both 802.11 and Blueto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tency, for both 802.11 and Blueto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Error rate for voice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8CBB-448B-4DF3-9C34-02429BE64C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existence Model - Bluetooth SCO Link in the Presence of IEEE 802.11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62120" y="1295280"/>
          <a:ext cx="7794360" cy="533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79436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6CB76-C91D-4113-9ADE-00C1D37779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existence Model - IEEE 802.11b (11Mbps) in the Presence of Blueto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90720" y="1295280"/>
          <a:ext cx="780228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80228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3A8E3-F853-438F-9F98-9640E7858E6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ve Shellhammer</cp:lastModifiedBy>
  <cp:lastPrinted>2001-04-12T18:05:42Z</cp:lastPrinted>
  <dcterms:modified xsi:type="dcterms:W3CDTF">2001-05-07T14:58:06Z</dcterms:modified>
  <cp:revision>348</cp:revision>
  <dc:subject>IEEE 802.15 &lt;subject&gt;</dc:subject>
  <dc:title>IEEE P802.15 Working Group for Wireless Personal Area Networks</dc:title>
</cp:coreProperties>
</file>