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131-D6AD-4D73-BFC2-23F777DD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F66-F7F1-4F92-9A3C-DF812D1E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686-A09D-4687-83E4-3A777F3A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1BB-BCF7-4E7F-9BEC-268C70DA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3BC-07F9-4128-8AE5-32D0AB2E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A5E-10F3-401E-8BD4-257F0260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19C-0683-4E19-92D5-9AA48551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247-6C53-451D-AC0C-548A0D6A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B7C-9788-47BA-951E-DA8AB921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346-FE05-4027-AE77-ED17F2FB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9C9-1E13-455D-B395-45C249FA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4F1-0150-4DD2-8524-158D2EE8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B25B3C-A92C-4A6D-A67B-5C3DA038F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25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os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sson Uni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lando, 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8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96C-6E67-4B06-BD03-78D606E1146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rd proposals from 7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ed Criteria doc to be more proposer friendly without sacrificing usefu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ed selection process based on TG3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d merger opport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work to establish relationship with RF-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434-51DC-42CC-B15F-B151A1F992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AGERE MAC &amp; PHY Proposal -Steven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AMI/STS PHY Proposa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Leeuw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INVENSYS MAC &amp; PHY Proposal -Kinn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MOTOROLA MAC &amp; PHY Proposal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NOKIA MAC &amp; PHY Proposal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ok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PHILIPS MAC &amp; PHY Proposal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ieson/Mori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4 RFWAVES PHY Proposal-Volin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752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s Reviewed on Monday and 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096-094E-4E89-BB7A-419E5B2CEB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 GROUP 4 OBJECTIVES FOR JULY MEETING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Present final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Select Baseline MAC and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Organize Editing functions for draft stand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omplete paper to IE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OBJECTIVES FOR Sept. MEE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B32-1230-4023-B98D-909F0BD7DB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4 Low Rate WP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2438280"/>
          <a:ext cx="8686800" cy="28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686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125160" y="175248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Tim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061-F793-4AC3-88C6-CDD1A13318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3:04:44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1-05-18T11:36:56Z</dcterms:modified>
  <cp:revision>28</cp:revision>
  <dc:subject>IEEE 802.15 &lt;subject&gt;</dc:subject>
  <dc:title>Task Group 4 Low Rate WPANS Opening Report</dc:title>
</cp:coreProperties>
</file>