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7C80-FDED-4236-99CC-AC069A53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F710-4E8D-47DC-885A-EC36AD3D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2AC9-B93D-410B-A851-6A1E4063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06E5-598A-4F3B-8401-32995D31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65B5-E0E4-40A2-8453-8DD6F5A2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A8B2-799B-4398-9F3A-C5E253D1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8811-D5CE-4AB4-A195-68BA27C9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D216-4A6B-4462-99BD-992C8816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8366-CF29-4E71-83AE-29293BBA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20EE-1D43-467C-9F17-D82910B9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CE8D-F363-4763-B76B-ECABB06E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6229-682D-45C4-AAFB-FF8F68C9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8A362B1-F336-4408-A408-403566595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33920" y="380160"/>
            <a:ext cx="472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1/302-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dnesday report Radio Regulations, May 2001 mee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tory ad-hoc Chairma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Vic Hay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ieee802.org/Regulations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Agere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28B7-8A4A-4FAA-9066-08C9C6777B2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for Orlando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Regulatory Group as Permanent Group with a Char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on 6th Criter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epare and submit position statements if nee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Spectrum requirement 5 GHz 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NPRM 99-23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 OUTPUT DOCUMENT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Agere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9307-D3E2-4DC1-BA94-500ACC70E10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eting schedule this we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eld the following meeting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day 1 - 3 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esday 8 - 10 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esday 1 - 3 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Agere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FCE7-E45B-4BD7-A9B6-E79DC4E7E8A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s from 6th Criter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to submit document proposing a rules change for adding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 th criter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802 operating rules (11-01/095r2 / 15-01/71r1 / 16-01-?? ) to the SEC, when all three wireless working groups have approved the sub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to postpone the consideration of this motion until the May 2001 meeting. Moved by Stuart Kerry, second John Fakatse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in dot11: 42:1:11 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in dot15: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 in dot 16: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Agere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774B-F448-4166-B52D-D003CCDF4C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 for Permanent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523880" y="2174760"/>
            <a:ext cx="6607440" cy="4149720"/>
            <a:chOff x="1523880" y="2174760"/>
            <a:chExt cx="6607440" cy="4149720"/>
          </a:xfrm>
        </p:grpSpPr>
        <p:sp>
          <p:nvSpPr>
            <p:cNvPr id="55" name=""/>
            <p:cNvSpPr/>
            <p:nvPr/>
          </p:nvSpPr>
          <p:spPr>
            <a:xfrm>
              <a:off x="3344040" y="2174760"/>
              <a:ext cx="20415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R TAG Cha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57800" y="2819520"/>
              <a:ext cx="28735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R TAG Advisory gro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741840" y="4038480"/>
              <a:ext cx="12870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R TA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33720" y="5105520"/>
              <a:ext cx="144756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WG 1 memb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657600" y="5105520"/>
              <a:ext cx="14479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WG 3 memb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81480" y="5105520"/>
              <a:ext cx="14479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WG 2 memb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23880" y="4724280"/>
              <a:ext cx="5639040" cy="160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343400" y="26668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343400" y="3200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343400" y="4495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Agere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2E7B-8A85-4E95-AB4E-D88E4B66282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s for handl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ory mat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Overview presentation for Working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Formalization of the rules in 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rules for th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rules change for LMSC Operating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Agere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255B-D099-4603-AC2B-B1AC114CD0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on ET Docket No. 99-2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mit proposals and follow discussions over e-mail distribution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ds-802-regs@ieee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for Preparing a draft for July mee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4038480"/>
            <a:ext cx="39625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dline for proposed 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Teleco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Teleco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to W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038480"/>
            <a:ext cx="3733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29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e 1, 7-9 AM, P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e 22, 7-9 AM, P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y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Agere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4420-6429-4AB9-A4DE-700BC92081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for remainder of we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ursday 10-noon, Tele-conference on IWG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rsday 1 - 3 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result on 6th Criter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on operating rules for Regulatory Group as Permanent Grou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Agere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5A3D-5E92-490D-8001-5965237E283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00:41:31Z</dcterms:created>
  <dc:creator>Vic Hayes</dc:creator>
  <dc:description/>
  <dc:language>en-US</dc:language>
  <cp:lastModifiedBy>Vic Hayes</cp:lastModifiedBy>
  <cp:lastPrinted>1998-02-10T13:28:06Z</cp:lastPrinted>
  <dcterms:modified xsi:type="dcterms:W3CDTF">2001-05-16T16:27:58Z</dcterms:modified>
  <cp:revision>12</cp:revision>
  <dc:subject/>
  <dc:title>Opening report March 2001 meeting</dc:title>
</cp:coreProperties>
</file>