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AFECC-F9E3-418C-A1AD-3D4B5C05C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B94B-3B82-4978-9058-7BE6C22D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9483F-C8A2-4A9F-9ACA-C363CF913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D1EF3-3A08-454B-8841-97975ED57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B665-E37E-430F-84C7-BC588E2F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71807-7668-491B-B579-402A86986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BD03-A5BA-4BA6-8383-7CD627D4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A5C2-E18D-4346-B92D-464222EFA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3DC7-03F5-42DC-9FAE-112729DDF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BF73-6AEE-48EE-8835-E9B64DDC8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0B8C-9482-4E90-87A2-3A08BAA6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94EE-B4E7-4578-B69B-F264436F9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563604-6BDB-4315-A4CF-14F06436D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54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MAC Committee Opening Report and Pl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llen Heberling</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269-3022, FAX: +1.703.749.0249, E-Mail: aheberling@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  </a:t>
            </a:r>
            <a:r>
              <a:rPr b="0" lang="en-US" sz="1600" spc="-1" strike="noStrike">
                <a:solidFill>
                  <a:srgbClr val="000000"/>
                </a:solidFill>
                <a:latin typeface="Times New Roman"/>
              </a:rPr>
              <a:t>Orlando TG3 MAC report and plan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 1) </a:t>
            </a:r>
            <a:r>
              <a:rPr b="0" lang="en-US" sz="1600" spc="-1" strike="noStrike">
                <a:solidFill>
                  <a:srgbClr val="000000"/>
                </a:solidFill>
                <a:latin typeface="Times New Roman"/>
              </a:rPr>
              <a:t>To report to the IEEE 802.15.3 regarding the activities of the IEEE 802.15.3 MAC committee since the Hilton Head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To inform the IEEE 802.15.3 regarding the activities the TG3 MAC committee has planned for this meeting (Orlan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llen D. Heberling, XtremeSpectrum</a:t>
            </a:r>
          </a:p>
        </p:txBody>
      </p:sp>
      <p:sp>
        <p:nvSpPr>
          <p:cNvPr id="3" name="PlaceHolder 2"/>
          <p:cNvSpPr>
            <a:spLocks noGrp="1"/>
          </p:cNvSpPr>
          <p:nvPr>
            <p:ph type="sldNum" idx="3"/>
          </p:nvPr>
        </p:nvSpPr>
        <p:spPr/>
        <p:txBody>
          <a:bodyPr/>
          <a:p>
            <a:fld id="{1691E8ED-1C24-4A04-B1B1-CD958C4615BA}" type="slidenum">
              <a:t>1</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Orlando </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ses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categorization and prioritization of comments via Open Issues L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ution of MAC Open 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on of resolved issues into MAC amendments document 01221rxP802-15_TG3-MAC-Amendments.do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F3DFCDC-9908-4288-95DD-02D3DC3EAB8B}"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Orlando </a:t>
            </a:r>
            <a:r>
              <a:rPr b="0" lang="en-US" sz="2800" spc="-1" strike="noStrike">
                <a:solidFill>
                  <a:srgbClr val="000000"/>
                </a:solidFill>
                <a:latin typeface="Times New Roman"/>
              </a:rPr>
              <a:t>continued</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Afternoon:</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MAC committee Plan for the interval between the May Interim meeting and the Portland Plenary meeting.</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MAC committee tasks for the time leading up to Portland</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 MAC/PHY issu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A2D42BA-4AD2-4779-AB58-24445965928D}"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Activities Planned for Orlando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Mo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nd Vote on MAC amend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Afterno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Arbaugh presentation regarding Security/Privacy in WPAN de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rlando accomplishments per the MAC committe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MAC committee Activities Plan leading  into the Portland Plen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C37FEF7-CED7-4141-887C-370C13DF8C75}" type="slidenum">
              <a:t>1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ing to be a full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committee members have worked hard on their respective cla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avail yourselves of the presentations and discussion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ward to your participation and com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4FE9FD41-130C-4AFB-9203-4F286BD8610C}" type="slidenum">
              <a:t>1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Committee Opening Report and Plan at Orlando, May 2001</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C6C194BF-C68C-4DA2-AC3E-57654CB28A1B}"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he TG3 MAC committee activities since the Hilton Head Interim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the various MAC clauses in draft 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planned by the TG3 MAC committee for this we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95A507BF-1EC2-4B26-8CED-0B18B6C1D01B}"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3 MAC </a:t>
            </a:r>
            <a:br>
              <a:rPr sz="3600"/>
            </a:br>
            <a:r>
              <a:rPr b="0" lang="en-US" sz="3600" spc="-1" strike="noStrike">
                <a:solidFill>
                  <a:srgbClr val="000000"/>
                </a:solidFill>
                <a:latin typeface="Times New Roman"/>
              </a:rPr>
              <a:t>Committee Activities Report</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Conference Calls (</a:t>
            </a:r>
            <a:r>
              <a:rPr b="0" lang="en-US" sz="2400" spc="-1" strike="noStrike">
                <a:solidFill>
                  <a:srgbClr val="000000"/>
                </a:solidFill>
                <a:latin typeface="Arial"/>
              </a:rPr>
              <a:t>see doc:01190r0P802.15_TG3-MAC-Committee-running-ConCall-minutes-HiltonHead-to-Orlando.doc</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rogress Reports regarding MAC claus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issues (</a:t>
            </a:r>
            <a:r>
              <a:rPr b="0" lang="en-US" sz="2000" spc="-1" strike="noStrike">
                <a:solidFill>
                  <a:srgbClr val="000000"/>
                </a:solidFill>
                <a:latin typeface="Arial"/>
              </a:rPr>
              <a:t>see doc:01114r1P802.15_TG3-MAC-Open-Issues-List.xl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for Orlando meet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F59A0852-9292-4485-AA0D-F9F1F4C4566B}"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Draft 0.4  Clause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and general descrip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Still in Flu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s more detail</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Layer SA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Still in flux.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MAC Open Issues List</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need to include Stream control comman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EB726B22-CD4F-4FDF-82D5-AB80189E2A2B}"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AP</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Now included in draft 0.4 as a sub clause of MAC Management Claus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Some parameters need refinement.</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Format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a:t>
            </a:r>
            <a:endParaRPr b="0" lang="en-US" sz="24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ltonHead Amendments have been incorporated into D0.4</a:t>
            </a:r>
            <a:endParaRPr b="0" lang="en-US" sz="2000" spc="-1" strike="noStrike">
              <a:solidFill>
                <a:srgbClr val="000000"/>
              </a:solidFill>
              <a:latin typeface="Arial"/>
            </a:endParaRPr>
          </a:p>
          <a:p>
            <a:pPr lvl="2" marL="106380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ion of some of the resolved open issues into D0.4 has begu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a:t>
            </a:r>
            <a:r>
              <a:rPr b="0" lang="en-US" sz="2000" spc="-1" strike="noStrike">
                <a:solidFill>
                  <a:srgbClr val="000000"/>
                </a:solidFill>
                <a:latin typeface="Arial"/>
              </a:rPr>
              <a:t>See doc:01114r1P802.15_TG3-MAC-Open-Issues-List.xl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3C8BE620-0D1D-4A31-BAF4-78FA9488F411}"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Clauses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function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ltonHead Amendments have been incorporated into D0.4</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ion of some of the resolved open issues into D0.4 has begu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a:t>
            </a:r>
            <a:r>
              <a:rPr b="0" lang="en-US" sz="2400" spc="-1" strike="noStrike">
                <a:solidFill>
                  <a:srgbClr val="000000"/>
                </a:solidFill>
                <a:latin typeface="Arial"/>
              </a:rPr>
              <a:t>See doc:01114r1P802.15_TG3-MAC-Open-Issues-List.x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133196A4-F292-4CBE-A015-020745DEF7C0}"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service (QoS) polic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MAC Committee decided to eliminate this as a separate clause.  Policies will be rolled into MAC functional description clause and the MAC SAP subclause of the MAC Management cla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Stream management signals have been identified but they and their associated parameters still need to be defi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BDA9C18F-E315-40EA-96FF-0D1DB64E46F4}"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Clauses in Current TG3 MAC Baseline </a:t>
            </a:r>
            <a:r>
              <a:rPr b="0" lang="en-US" sz="2800" spc="-1" strike="noStrike">
                <a:solidFill>
                  <a:srgbClr val="000000"/>
                </a:solidFill>
                <a:latin typeface="Times New Roman"/>
              </a:rPr>
              <a:t>continue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cy and secur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  Not star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Many fundamental security/privacy issues associated with WPAN devices need to be resolve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ommittee has invited the University of Maryland, Associate Professor, Bill Arbaugh to address those issues during a 1:00pm session this coming Thursda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llen D. Heberling, XtremeSpectrum</a:t>
            </a:r>
          </a:p>
        </p:txBody>
      </p:sp>
      <p:sp>
        <p:nvSpPr>
          <p:cNvPr id="5" name="PlaceHolder 4"/>
          <p:cNvSpPr>
            <a:spLocks noGrp="1"/>
          </p:cNvSpPr>
          <p:nvPr>
            <p:ph type="sldNum" idx="3"/>
          </p:nvPr>
        </p:nvSpPr>
        <p:spPr/>
        <p:txBody>
          <a:bodyPr/>
          <a:p>
            <a:fld id="{1A391772-53BF-47BC-BC68-3CD39D498213}"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Allen Heberling</dc:creator>
  <dc:description>IEEE 802.15.3-01/236r0</dc:description>
  <dc:language>en-US</dc:language>
  <cp:lastModifiedBy>aheberl</cp:lastModifiedBy>
  <cp:lastPrinted>1998-02-10T13:28:06Z</cp:lastPrinted>
  <dcterms:modified xsi:type="dcterms:W3CDTF">2001-05-14T13:02:03Z</dcterms:modified>
  <cp:revision>152</cp:revision>
  <dc:subject>IEEE 802.15.3 TG3 MAC Committee Opening Report and Plan</dc:subject>
  <dc:title>TG3 MAC Committee Opening Report and Plan </dc:title>
</cp:coreProperties>
</file>