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C04-FD81-43B9-B2F4-8FFBAD94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893-C73B-4355-8967-502E943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390-408E-4F64-A3E0-53AF3FB5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385-19A6-48A7-8B01-9EEA78F7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2EF-DB3D-4505-AB87-99419733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0D2-3252-4585-B971-FE43E41F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8AC-9B53-46BE-AC55-0EB8652A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B59-0216-47D5-A012-1CC3499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807-C1FF-406E-9933-A5145231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94B-FDB7-4815-BBC0-5E8C0808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27D-4D22-4E76-AC4D-0E9D876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9E1-F8CC-489A-8D5C-028AE6A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F041DA-D23C-44B2-8F71-FCEEF187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1/2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 ExCom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ton Head-March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meeting with the SA---discussed positives and areas of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attendance-- 1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e PAR  to be split into two parts.  Package must be submitted for a 14 day SEC letter ballot prior to submission to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 renamed his PARs (ag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1 draft given conditional approval for Sponso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310-7DC7-4A96-BC64-B41208592B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modified in draft 802 Overview and Architecture, submitted by 802.1, which formally embraces the low rate WPAN activity by deleting the reference to a minimum data rate of 1 Mbps. Doc received conditional approval to submit to Rev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 for free standards was approved 11/0/0 (PDFs with 6 month delay after approval of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9E0-A0DA-4572-A97A-E70CADE45F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Takefman approved as chair of 802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GigSG approved for another plenary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O’Hara approved as the new SEC Recording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Level SG for Wireless Coexistence approved-Jim Lansford to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7D9-BF40-4907-9CF6-9E8516485B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493-255C-42C1-8512-1C436E8B4E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254-F8F4-4AEF-823A-A88ACE6D7D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22:11:06Z</dcterms:created>
  <dc:creator>Robert F.  Heile</dc:creator>
  <dc:description>&lt;doc#&gt;</dc:description>
  <dc:language>en-US</dc:language>
  <cp:lastModifiedBy>Robert F.  Heile</cp:lastModifiedBy>
  <cp:lastPrinted>1998-02-10T13:28:06Z</cp:lastPrinted>
  <dcterms:modified xsi:type="dcterms:W3CDTF">2001-05-14T18:11:56Z</dcterms:modified>
  <cp:revision>13</cp:revision>
  <dc:subject>IEEE 802.15 &lt;subject&gt;</dc:subject>
  <dc:title>No Slide Title</dc:title>
</cp:coreProperties>
</file>