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D2A-4D0D-40C8-945B-9DD71A4D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09F-619F-4265-8BDB-AA267E1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C64-1EBB-4C8F-AAF5-541C9FFB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B89-B020-420B-9A28-D875E2D9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B95-5503-4E65-93C4-DF21D05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730-B8EF-424B-989B-041A676F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1F2-8C29-40F2-8D84-87A39236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497-A32D-41E5-A1C8-F8C8BF70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E8F-7EA3-4CD4-B970-2D5EC013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809-EFA2-481C-9CF7-B1F2A52E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372-9A7E-4688-A274-2D59831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AD4-644A-4D34-B001-38088B1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BECE42-484A-4C7D-971E-0F70D452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1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5049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LAN/WPAN Coexistence Task Group             Opening Meet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lando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99E-7B83-4DC8-A9E5-1C3C806645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Hilton Head (March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Joint Symbol/Mobilian/NIST Collaborative Coexistenc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luetooth Packet Scheduling Non-Collaborative Coexistence Mechan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802.11b Transmit Power Control and Data Rate Scaling Non-Collaborativ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00D-E5AF-4746-9A02-ED745EB785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ed vote on Adaptive Frequency Hopping Non-Collaborative Coexistence Mechanism, due to lack of consen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an Ad Hoc Committee on Adaptive 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on a regular basis over the last two months via conferenc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Hilton Head (March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4EB-946A-40F4-B4B2-48D0E751C9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ith Julius Knapp from the FCC to discuss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meeting a Working group letter ballot was held and passed unanimously to send a Request for Clarification on the FCC r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sent by Vic Hays, IEEE 802 Regulatory Ombuds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Hilton Head (March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06C-22D2-49C4-89C8-75310A2E23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ith IEEE EMC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s on Coexistenc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n Coexistence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n proposal for new Bluetooth SCO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Hilton Head (March)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F4B-CBC5-49BC-A745-F7D6D1A152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This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on vote on TG2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utline of Recommend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ison with Bluetooth SIG Coexistence Working Group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 from AFH Ad Hoc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 consensus AF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e on consensus AFH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802.11b TPC and Data Rate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a Representative Set of Coexistenc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2 Project Pla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C18-9CFB-4FDA-94E5-AC0B856E90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Stephen J. Shellhammer</cp:lastModifiedBy>
  <cp:lastPrinted>2000-09-20T20:30:42Z</cp:lastPrinted>
  <dcterms:modified xsi:type="dcterms:W3CDTF">2001-05-14T02:44:19Z</dcterms:modified>
  <cp:revision>314</cp:revision>
  <dc:subject>IEEE 802.15 &lt;subject&gt;</dc:subject>
  <dc:title>IEEE P802.15 Working Group for Wireless Personal Area Networks</dc:title>
</cp:coreProperties>
</file>