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DDFFC-974B-44C3-BBA0-0A93D9004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7C6BA-9786-4B35-998C-6B2B35F38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798F4-CF35-4292-8896-9B858BC65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7DA17-36AC-4267-9598-FE626CA95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4022-288F-4AD2-804E-4DE7B3764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8ECB8-669E-4064-80EA-703480362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BCA73-A572-4020-82A0-570849DF4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CCAC8-BC1E-4A2D-A830-F0D6C8988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66C86-7BDF-46D1-AA82-700ECADA0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18A2C-9C5D-4F07-BF34-D464777D7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600AD-D460-438C-AC87-A2CA6D8E0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66DD1-6E63-4C37-B23E-29737D637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412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7B414E-1274-4413-95CF-0FAB003BC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809880" y="396000"/>
            <a:ext cx="46483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P802.15-01/22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7772400" cy="56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oject: IEEE P802.15 Working Group for Wireless Personal Area Networks (WPA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ssion Title:</a:t>
            </a:r>
            <a:r>
              <a:rPr b="0" lang="en-US" sz="1400" spc="-1" strike="noStrike">
                <a:solidFill>
                  <a:srgbClr val="000000"/>
                </a:solidFill>
                <a:latin typeface="Times New Roman"/>
              </a:rPr>
              <a:t> [Media Access Control proposal for the 802.15.4 Low Rate WPAN Standard]</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Submitted: </a:t>
            </a:r>
            <a:r>
              <a:rPr b="0" lang="en-US" sz="1400" spc="-1" strike="noStrike">
                <a:solidFill>
                  <a:srgbClr val="000000"/>
                </a:solidFill>
                <a:latin typeface="Times New Roman"/>
              </a:rPr>
              <a:t> [May 2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r>
              <a:rPr b="0" lang="en-US" sz="1400" spc="-1" strike="noStrike">
                <a:solidFill>
                  <a:srgbClr val="000000"/>
                </a:solidFill>
                <a:latin typeface="Times New Roman"/>
              </a:rPr>
              <a:t>  [Carl R. Stevenson]    Company: [Agere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 [555 Union Boulevard, Room 22W214EQ, Allentown, PA 181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610) 712-8514], FAX: [(610) 712-4508], E-Mail:[carlstevenson@agere.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t>
            </a:r>
            <a:r>
              <a:rPr b="0" lang="en-US" sz="1400" spc="-1" strike="noStrike">
                <a:solidFill>
                  <a:srgbClr val="000000"/>
                </a:solidFill>
                <a:latin typeface="Times New Roman"/>
              </a:rPr>
              <a:t> [ MAC layer proposal submission, in response of the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tract:</a:t>
            </a:r>
            <a:r>
              <a:rPr b="0" lang="en-US" sz="1400" spc="-1" strike="noStrike">
                <a:solidFill>
                  <a:srgbClr val="000000"/>
                </a:solidFill>
                <a:latin typeface="Times New Roman"/>
              </a:rPr>
              <a:t>	</a:t>
            </a:r>
            <a:r>
              <a:rPr b="0" lang="en-US" sz="1400" spc="-1" strike="noStrike">
                <a:solidFill>
                  <a:srgbClr val="000000"/>
                </a:solidFill>
                <a:latin typeface="Times New Roman"/>
              </a:rPr>
              <a:t>[This contribution is a flexible MAC proposal for a Low Rate WPAN intended to be compliant with the P802.115.4 PAR.  It is intended to support both master-slave and peer-to-peer communications. It can also optionally support node-to-node relay capabilities to provide robust communications in a variety of propagation environments to meet the needs of a wide range of low data rate applications.  In its basic form, it can support up to 255 nodes per PAN, but through address extension can be expanded to support a much larger number of nodes.]</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r>
              <a:rPr b="0" lang="en-US" sz="1400" spc="-1" strike="noStrike">
                <a:solidFill>
                  <a:srgbClr val="000000"/>
                </a:solidFill>
                <a:latin typeface="Times New Roman"/>
              </a:rPr>
              <a:t>	</a:t>
            </a:r>
            <a:r>
              <a:rPr b="0" lang="en-US" sz="1400" spc="-1" strike="noStrike">
                <a:solidFill>
                  <a:srgbClr val="000000"/>
                </a:solidFill>
                <a:latin typeface="Times New Roman"/>
              </a:rPr>
              <a:t>[Response to IEEE 802.15.4 TG Call for Proposals] </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a:t>
            </a:r>
            <a:r>
              <a:rPr b="0" lang="en-US" sz="1400" spc="-1" strike="noStrike">
                <a:solidFill>
                  <a:srgbClr val="000000"/>
                </a:solidFill>
                <a:latin typeface="Times New Roman"/>
              </a:rPr>
              <a:t>	</a:t>
            </a:r>
            <a:r>
              <a:rPr b="0" lang="en-US" sz="14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a:t>
            </a:r>
            <a:r>
              <a:rPr b="0" lang="en-US" sz="1400" spc="-1" strike="noStrike">
                <a:solidFill>
                  <a:srgbClr val="000000"/>
                </a:solidFill>
                <a:latin typeface="Times New Roman"/>
              </a:rPr>
              <a:t>	</a:t>
            </a:r>
            <a:r>
              <a:rPr b="0" lang="en-US" sz="1400" spc="-1" strike="noStrike">
                <a:solidFill>
                  <a:srgbClr val="000000"/>
                </a:solidFill>
                <a:latin typeface="Times New Roman"/>
              </a:rPr>
              <a:t>The contributor acknowledges and accepts that this contribution becomes the property of IEEE and may be made publicly available by P802.15.</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F73AF272-7CAE-4030-A62A-B13293E665D4}"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 Implementation Concept</a:t>
            </a:r>
            <a:br>
              <a:rPr sz="2400"/>
            </a:br>
            <a:r>
              <a:rPr b="1" lang="en-US" sz="1800" spc="-1" strike="noStrike">
                <a:solidFill>
                  <a:srgbClr val="000000"/>
                </a:solidFill>
                <a:latin typeface="Verdana"/>
              </a:rPr>
              <a:t>(actually a MAC + LLC + at this point)</a:t>
            </a:r>
            <a:endParaRPr b="0" lang="en-US" sz="1800" spc="-1" strike="noStrike">
              <a:solidFill>
                <a:srgbClr val="000000"/>
              </a:solidFill>
              <a:latin typeface="Times New Roman"/>
            </a:endParaRPr>
          </a:p>
        </p:txBody>
      </p:sp>
      <p:sp>
        <p:nvSpPr>
          <p:cNvPr id="70" name="PlaceHolder 2"/>
          <p:cNvSpPr>
            <a:spLocks noGrp="1"/>
          </p:cNvSpPr>
          <p:nvPr>
            <p:ph/>
          </p:nvPr>
        </p:nvSpPr>
        <p:spPr>
          <a:xfrm>
            <a:off x="685800" y="1828800"/>
            <a:ext cx="7772400" cy="4572000"/>
          </a:xfrm>
          <a:prstGeom prst="rect">
            <a:avLst/>
          </a:prstGeom>
          <a:noFill/>
          <a:ln w="0">
            <a:noFill/>
          </a:ln>
        </p:spPr>
        <p:txBody>
          <a:bodyPr lIns="92160" rIns="92160" tIns="46080" bIns="4608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tantially “Soft” MAC/LLC Implementation</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posal estimates based on synthesizable ARM7 cor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me buffers included in PHY size/power estimat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k Bytes RAM estimated for data</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8k bytes ROM estimated for MAC/LLC/Application cod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M and ROM sizes can be optimized as requirements become more clear (128k bytes of ROM is generou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ipherals include 16 bits of GPIO &amp; RTC (other option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ock circuitry for scaleable clock rates including very low power ring oscillator for use during deep sleep mod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ng oscillator calibrated to master crystal oscillator to minimize clock drift during sleep mod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nimal additional support logic</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ication code space and CPU cycles available</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1764C4D5-6C50-45C0-AC6C-EF747DF0CA13}"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wer Mangement and Battery Life</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rdinators should generally be line-powered or have &gt;&gt; battery capacity than slaves</a:t>
            </a:r>
            <a:endParaRPr b="0" lang="en-US" sz="2400" spc="-1" strike="noStrike">
              <a:solidFill>
                <a:srgbClr val="000000"/>
              </a:solidFill>
              <a:latin typeface="Arial"/>
            </a:endParaRPr>
          </a:p>
          <a:p>
            <a:pPr lvl="1" marL="743040" indent="-28584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cilitates efficient, reliable network control</a:t>
            </a:r>
            <a:endParaRPr b="0" lang="en-US" sz="1800" spc="-1" strike="noStrike">
              <a:solidFill>
                <a:srgbClr val="000000"/>
              </a:solidFill>
              <a:latin typeface="Arial"/>
            </a:endParaRPr>
          </a:p>
          <a:p>
            <a:pPr lvl="1" marL="743040" indent="-28584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res beacons are available regularly for slaves</a:t>
            </a:r>
            <a:endParaRPr b="0" lang="en-US" sz="1800" spc="-1" strike="noStrike">
              <a:solidFill>
                <a:srgbClr val="000000"/>
              </a:solidFill>
              <a:latin typeface="Arial"/>
            </a:endParaRPr>
          </a:p>
          <a:p>
            <a:pPr lvl="1" marL="743040" indent="-28584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drain due to processing load becomes insignificant</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laves can have extended operating life on modest batterie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lave devices make use of low power mod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ordinator can command slaves into deep sleep mode for multiple superframe intervals to conserve battery power in slave devices which can tolerate latenc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SSI &amp; link quality based TX power management possi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ery requirements/battery life depend on traffic load, TX power, and latency tolerance of a devi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40DEB3C1-0564-41A6-A31D-FEACB0C81473}"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e Size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685800" y="2057400"/>
            <a:ext cx="7686720" cy="257976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135E2E00-C103-4C5C-924C-051F338FB3B6}" type="slidenum">
              <a:t>1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wer Consumption Estimate - Total Solution</a:t>
            </a:r>
            <a:br>
              <a:rPr sz="2400"/>
            </a:br>
            <a:r>
              <a:rPr b="1" lang="en-US" sz="2400" spc="-1" strike="noStrike">
                <a:solidFill>
                  <a:srgbClr val="000000"/>
                </a:solidFill>
                <a:latin typeface="Verdana"/>
              </a:rPr>
              <a:t>(PHY + MAC + Misc)</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838080" y="2209680"/>
            <a:ext cx="7543800" cy="3645000"/>
          </a:xfrm>
          <a:prstGeom prst="rect">
            <a:avLst/>
          </a:prstGeom>
          <a:ln w="0">
            <a:noFill/>
          </a:ln>
        </p:spPr>
      </p:pic>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8C27F83C-D880-4BB1-8144-55B99F236FCB}" type="slidenum">
              <a:t>1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General Solution Criteria</a:t>
            </a:r>
            <a:endParaRPr b="0" lang="en-US" sz="2000" spc="-1" strike="noStrike">
              <a:solidFill>
                <a:srgbClr val="000000"/>
              </a:solidFill>
              <a:latin typeface="Times New Roman"/>
            </a:endParaRPr>
          </a:p>
        </p:txBody>
      </p:sp>
      <p:grpSp>
        <p:nvGrpSpPr>
          <p:cNvPr id="78" name=""/>
          <p:cNvGrpSpPr/>
          <p:nvPr/>
        </p:nvGrpSpPr>
        <p:grpSpPr>
          <a:xfrm>
            <a:off x="1447920" y="1371600"/>
            <a:ext cx="6203880" cy="5029200"/>
            <a:chOff x="1447920" y="1371600"/>
            <a:chExt cx="6203880" cy="5029200"/>
          </a:xfrm>
        </p:grpSpPr>
        <p:grpSp>
          <p:nvGrpSpPr>
            <p:cNvPr id="79" name=""/>
            <p:cNvGrpSpPr/>
            <p:nvPr/>
          </p:nvGrpSpPr>
          <p:grpSpPr>
            <a:xfrm>
              <a:off x="1452600" y="1374840"/>
              <a:ext cx="6194520" cy="5022000"/>
              <a:chOff x="1452600" y="1374840"/>
              <a:chExt cx="6194520" cy="5022000"/>
            </a:xfrm>
          </p:grpSpPr>
          <p:grpSp>
            <p:nvGrpSpPr>
              <p:cNvPr id="80" name=""/>
              <p:cNvGrpSpPr/>
              <p:nvPr/>
            </p:nvGrpSpPr>
            <p:grpSpPr>
              <a:xfrm>
                <a:off x="1452600" y="1374840"/>
                <a:ext cx="1519200" cy="456480"/>
                <a:chOff x="1452600" y="1374840"/>
                <a:chExt cx="1519200" cy="456480"/>
              </a:xfrm>
            </p:grpSpPr>
            <p:sp>
              <p:nvSpPr>
                <p:cNvPr id="81" name=""/>
                <p:cNvSpPr/>
                <p:nvPr/>
              </p:nvSpPr>
              <p:spPr>
                <a:xfrm>
                  <a:off x="1452600" y="1374840"/>
                  <a:ext cx="151920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1452600" y="1374840"/>
                  <a:ext cx="1519200" cy="456480"/>
                  <a:chOff x="1452600" y="1374840"/>
                  <a:chExt cx="1519200" cy="456480"/>
                </a:xfrm>
              </p:grpSpPr>
              <p:sp>
                <p:nvSpPr>
                  <p:cNvPr id="83" name=""/>
                  <p:cNvSpPr/>
                  <p:nvPr/>
                </p:nvSpPr>
                <p:spPr>
                  <a:xfrm>
                    <a:off x="1521000" y="1374840"/>
                    <a:ext cx="138240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1452600" y="1374840"/>
                    <a:ext cx="151920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 name=""/>
              <p:cNvGrpSpPr/>
              <p:nvPr/>
            </p:nvGrpSpPr>
            <p:grpSpPr>
              <a:xfrm>
                <a:off x="2971800" y="1374840"/>
                <a:ext cx="708120" cy="456480"/>
                <a:chOff x="2971800" y="1374840"/>
                <a:chExt cx="708120" cy="456480"/>
              </a:xfrm>
            </p:grpSpPr>
            <p:sp>
              <p:nvSpPr>
                <p:cNvPr id="86" name=""/>
                <p:cNvSpPr/>
                <p:nvPr/>
              </p:nvSpPr>
              <p:spPr>
                <a:xfrm>
                  <a:off x="2971800" y="1374840"/>
                  <a:ext cx="7081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2971800" y="1374840"/>
                  <a:ext cx="708120" cy="456480"/>
                  <a:chOff x="2971800" y="1374840"/>
                  <a:chExt cx="708120" cy="456480"/>
                </a:xfrm>
              </p:grpSpPr>
              <p:sp>
                <p:nvSpPr>
                  <p:cNvPr id="88" name=""/>
                  <p:cNvSpPr/>
                  <p:nvPr/>
                </p:nvSpPr>
                <p:spPr>
                  <a:xfrm>
                    <a:off x="3040200" y="1374840"/>
                    <a:ext cx="5713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
                  <p:cNvSpPr/>
                  <p:nvPr/>
                </p:nvSpPr>
                <p:spPr>
                  <a:xfrm>
                    <a:off x="2971800" y="1374840"/>
                    <a:ext cx="70812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 name=""/>
              <p:cNvGrpSpPr/>
              <p:nvPr/>
            </p:nvGrpSpPr>
            <p:grpSpPr>
              <a:xfrm>
                <a:off x="3679920" y="1374840"/>
                <a:ext cx="3316320" cy="456480"/>
                <a:chOff x="3679920" y="1374840"/>
                <a:chExt cx="3316320" cy="456480"/>
              </a:xfrm>
            </p:grpSpPr>
            <p:sp>
              <p:nvSpPr>
                <p:cNvPr id="91" name=""/>
                <p:cNvSpPr/>
                <p:nvPr/>
              </p:nvSpPr>
              <p:spPr>
                <a:xfrm>
                  <a:off x="3679920" y="1374840"/>
                  <a:ext cx="331632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3679920" y="1374840"/>
                  <a:ext cx="3316320" cy="456480"/>
                  <a:chOff x="3679920" y="1374840"/>
                  <a:chExt cx="3316320" cy="456480"/>
                </a:xfrm>
              </p:grpSpPr>
              <p:sp>
                <p:nvSpPr>
                  <p:cNvPr id="93" name=""/>
                  <p:cNvSpPr/>
                  <p:nvPr/>
                </p:nvSpPr>
                <p:spPr>
                  <a:xfrm>
                    <a:off x="3747960" y="1374840"/>
                    <a:ext cx="317988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3679920" y="1374840"/>
                    <a:ext cx="331632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 name=""/>
              <p:cNvGrpSpPr/>
              <p:nvPr/>
            </p:nvGrpSpPr>
            <p:grpSpPr>
              <a:xfrm>
                <a:off x="6996240" y="1374840"/>
                <a:ext cx="650880" cy="456480"/>
                <a:chOff x="6996240" y="1374840"/>
                <a:chExt cx="650880" cy="456480"/>
              </a:xfrm>
            </p:grpSpPr>
            <p:sp>
              <p:nvSpPr>
                <p:cNvPr id="96" name=""/>
                <p:cNvSpPr/>
                <p:nvPr/>
              </p:nvSpPr>
              <p:spPr>
                <a:xfrm>
                  <a:off x="6996240" y="1374840"/>
                  <a:ext cx="65088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6996240" y="1374840"/>
                  <a:ext cx="650880" cy="456480"/>
                  <a:chOff x="6996240" y="1374840"/>
                  <a:chExt cx="650880" cy="456480"/>
                </a:xfrm>
              </p:grpSpPr>
              <p:sp>
                <p:nvSpPr>
                  <p:cNvPr id="98" name=""/>
                  <p:cNvSpPr/>
                  <p:nvPr/>
                </p:nvSpPr>
                <p:spPr>
                  <a:xfrm>
                    <a:off x="7064280" y="1374840"/>
                    <a:ext cx="514440" cy="456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6996240" y="1374840"/>
                    <a:ext cx="650880" cy="45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0" name=""/>
              <p:cNvGrpSpPr/>
              <p:nvPr/>
            </p:nvGrpSpPr>
            <p:grpSpPr>
              <a:xfrm>
                <a:off x="1452600" y="1831320"/>
                <a:ext cx="1519200" cy="717480"/>
                <a:chOff x="1452600" y="1831320"/>
                <a:chExt cx="1519200" cy="717480"/>
              </a:xfrm>
            </p:grpSpPr>
            <p:sp>
              <p:nvSpPr>
                <p:cNvPr id="101" name=""/>
                <p:cNvSpPr/>
                <p:nvPr/>
              </p:nvSpPr>
              <p:spPr>
                <a:xfrm>
                  <a:off x="1521000" y="1831320"/>
                  <a:ext cx="138240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t Manufacturing Cos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1452600" y="1831320"/>
                  <a:ext cx="151920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2971800" y="1831320"/>
                <a:ext cx="708120" cy="717480"/>
                <a:chOff x="2971800" y="1831320"/>
                <a:chExt cx="708120" cy="717480"/>
              </a:xfrm>
            </p:grpSpPr>
            <p:sp>
              <p:nvSpPr>
                <p:cNvPr id="104" name=""/>
                <p:cNvSpPr/>
                <p:nvPr/>
              </p:nvSpPr>
              <p:spPr>
                <a:xfrm>
                  <a:off x="3040200" y="1831320"/>
                  <a:ext cx="57132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2971800" y="1831320"/>
                  <a:ext cx="7081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3679920" y="1831320"/>
                <a:ext cx="3316320" cy="717480"/>
                <a:chOff x="3679920" y="1831320"/>
                <a:chExt cx="3316320" cy="717480"/>
              </a:xfrm>
            </p:grpSpPr>
            <p:sp>
              <p:nvSpPr>
                <p:cNvPr id="107" name=""/>
                <p:cNvSpPr/>
                <p:nvPr/>
              </p:nvSpPr>
              <p:spPr>
                <a:xfrm>
                  <a:off x="3747960" y="1831320"/>
                  <a:ext cx="317988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d on area estimates + SOC mplementation, total system cost, including PHY, MAC, LLC &amp; simple application est. to be ~ $1.00-$1.5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3679920" y="1831320"/>
                  <a:ext cx="331632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6996240" y="1831320"/>
                <a:ext cx="650880" cy="717480"/>
                <a:chOff x="6996240" y="1831320"/>
                <a:chExt cx="650880" cy="717480"/>
              </a:xfrm>
            </p:grpSpPr>
            <p:sp>
              <p:nvSpPr>
                <p:cNvPr id="110" name=""/>
                <p:cNvSpPr/>
                <p:nvPr/>
              </p:nvSpPr>
              <p:spPr>
                <a:xfrm>
                  <a:off x="7064280" y="1831320"/>
                  <a:ext cx="514440" cy="7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br>
                    <a:rPr sz="1200"/>
                  </a:b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6996240" y="1831320"/>
                  <a:ext cx="650880" cy="71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1452600" y="2549160"/>
                <a:ext cx="1519200" cy="586800"/>
                <a:chOff x="1452600" y="2549160"/>
                <a:chExt cx="1519200" cy="586800"/>
              </a:xfrm>
            </p:grpSpPr>
            <p:sp>
              <p:nvSpPr>
                <p:cNvPr id="113" name=""/>
                <p:cNvSpPr/>
                <p:nvPr/>
              </p:nvSpPr>
              <p:spPr>
                <a:xfrm>
                  <a:off x="1521000" y="2549160"/>
                  <a:ext cx="138240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ference and Suscepti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
                <p:cNvSpPr/>
                <p:nvPr/>
              </p:nvSpPr>
              <p:spPr>
                <a:xfrm>
                  <a:off x="1452600" y="2549160"/>
                  <a:ext cx="151920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2971800" y="2549160"/>
                <a:ext cx="708120" cy="586800"/>
                <a:chOff x="2971800" y="2549160"/>
                <a:chExt cx="708120" cy="586800"/>
              </a:xfrm>
            </p:grpSpPr>
            <p:sp>
              <p:nvSpPr>
                <p:cNvPr id="116" name=""/>
                <p:cNvSpPr/>
                <p:nvPr/>
              </p:nvSpPr>
              <p:spPr>
                <a:xfrm>
                  <a:off x="3040200" y="2549160"/>
                  <a:ext cx="57132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2971800" y="2549160"/>
                  <a:ext cx="70812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3679920" y="2549160"/>
                <a:ext cx="3316320" cy="586800"/>
                <a:chOff x="3679920" y="2549160"/>
                <a:chExt cx="3316320" cy="586800"/>
              </a:xfrm>
            </p:grpSpPr>
            <p:sp>
              <p:nvSpPr>
                <p:cNvPr id="119" name=""/>
                <p:cNvSpPr/>
                <p:nvPr/>
              </p:nvSpPr>
              <p:spPr>
                <a:xfrm>
                  <a:off x="3747960" y="2549160"/>
                  <a:ext cx="317988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3679920" y="2549160"/>
                  <a:ext cx="331632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996240" y="2549160"/>
                <a:ext cx="650880" cy="586800"/>
                <a:chOff x="6996240" y="2549160"/>
                <a:chExt cx="650880" cy="586800"/>
              </a:xfrm>
            </p:grpSpPr>
            <p:sp>
              <p:nvSpPr>
                <p:cNvPr id="122" name=""/>
                <p:cNvSpPr/>
                <p:nvPr/>
              </p:nvSpPr>
              <p:spPr>
                <a:xfrm>
                  <a:off x="7064280" y="2549160"/>
                  <a:ext cx="514440" cy="58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6996240" y="2549160"/>
                  <a:ext cx="650880" cy="586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1452600" y="3135960"/>
                <a:ext cx="1519200" cy="717120"/>
                <a:chOff x="1452600" y="3135960"/>
                <a:chExt cx="1519200" cy="717120"/>
              </a:xfrm>
            </p:grpSpPr>
            <p:sp>
              <p:nvSpPr>
                <p:cNvPr id="125" name=""/>
                <p:cNvSpPr/>
                <p:nvPr/>
              </p:nvSpPr>
              <p:spPr>
                <a:xfrm>
                  <a:off x="1521000" y="3135960"/>
                  <a:ext cx="138240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modulation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1452600" y="3135960"/>
                  <a:ext cx="151920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971800" y="3135960"/>
                <a:ext cx="708120" cy="717120"/>
                <a:chOff x="2971800" y="3135960"/>
                <a:chExt cx="708120" cy="717120"/>
              </a:xfrm>
            </p:grpSpPr>
            <p:sp>
              <p:nvSpPr>
                <p:cNvPr id="128" name=""/>
                <p:cNvSpPr/>
                <p:nvPr/>
              </p:nvSpPr>
              <p:spPr>
                <a:xfrm>
                  <a:off x="3040200" y="3135960"/>
                  <a:ext cx="57132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2971800" y="3135960"/>
                  <a:ext cx="7081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3679920" y="3135960"/>
                <a:ext cx="3316320" cy="717120"/>
                <a:chOff x="3679920" y="3135960"/>
                <a:chExt cx="3316320" cy="717120"/>
              </a:xfrm>
            </p:grpSpPr>
            <p:sp>
              <p:nvSpPr>
                <p:cNvPr id="131" name=""/>
                <p:cNvSpPr/>
                <p:nvPr/>
              </p:nvSpPr>
              <p:spPr>
                <a:xfrm>
                  <a:off x="3747960" y="3135960"/>
                  <a:ext cx="317988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679920" y="3135960"/>
                  <a:ext cx="33163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6996240" y="3135960"/>
                <a:ext cx="650880" cy="717120"/>
                <a:chOff x="6996240" y="3135960"/>
                <a:chExt cx="650880" cy="717120"/>
              </a:xfrm>
            </p:grpSpPr>
            <p:sp>
              <p:nvSpPr>
                <p:cNvPr id="134" name=""/>
                <p:cNvSpPr/>
                <p:nvPr/>
              </p:nvSpPr>
              <p:spPr>
                <a:xfrm>
                  <a:off x="7064280" y="3135960"/>
                  <a:ext cx="51444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6996240" y="3135960"/>
                  <a:ext cx="65088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452600" y="3853440"/>
                <a:ext cx="1519200" cy="847800"/>
                <a:chOff x="1452600" y="3853440"/>
                <a:chExt cx="1519200" cy="847800"/>
              </a:xfrm>
            </p:grpSpPr>
            <p:sp>
              <p:nvSpPr>
                <p:cNvPr id="137" name=""/>
                <p:cNvSpPr/>
                <p:nvPr/>
              </p:nvSpPr>
              <p:spPr>
                <a:xfrm>
                  <a:off x="1521000" y="3853440"/>
                  <a:ext cx="138240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mming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1452600" y="3853440"/>
                  <a:ext cx="151920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2971800" y="3853440"/>
                <a:ext cx="708120" cy="847800"/>
                <a:chOff x="2971800" y="3853440"/>
                <a:chExt cx="708120" cy="847800"/>
              </a:xfrm>
            </p:grpSpPr>
            <p:sp>
              <p:nvSpPr>
                <p:cNvPr id="140" name=""/>
                <p:cNvSpPr/>
                <p:nvPr/>
              </p:nvSpPr>
              <p:spPr>
                <a:xfrm>
                  <a:off x="3040200" y="3853440"/>
                  <a:ext cx="57132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971800" y="3853440"/>
                  <a:ext cx="70812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3679920" y="3853440"/>
                <a:ext cx="3316320" cy="847800"/>
                <a:chOff x="3679920" y="3853440"/>
                <a:chExt cx="3316320" cy="847800"/>
              </a:xfrm>
            </p:grpSpPr>
            <p:sp>
              <p:nvSpPr>
                <p:cNvPr id="143" name=""/>
                <p:cNvSpPr/>
                <p:nvPr/>
              </p:nvSpPr>
              <p:spPr>
                <a:xfrm>
                  <a:off x="3747960" y="3853440"/>
                  <a:ext cx="317988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1: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2: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3:</a:t>
                  </a:r>
                  <a:r>
                    <a:rPr b="0" lang="en-US" sz="1200" spc="-1" strike="noStrike">
                      <a:solidFill>
                        <a:srgbClr val="000000"/>
                      </a:solidFill>
                      <a:latin typeface="Times New Roman"/>
                    </a:rPr>
                    <a:t> 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4: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p:txBody>
            </p:sp>
            <p:sp>
              <p:nvSpPr>
                <p:cNvPr id="144" name=""/>
                <p:cNvSpPr/>
                <p:nvPr/>
              </p:nvSpPr>
              <p:spPr>
                <a:xfrm>
                  <a:off x="3679920" y="3853440"/>
                  <a:ext cx="331632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6996240" y="3853440"/>
                <a:ext cx="650880" cy="847800"/>
                <a:chOff x="6996240" y="3853440"/>
                <a:chExt cx="650880" cy="847800"/>
              </a:xfrm>
            </p:grpSpPr>
            <p:sp>
              <p:nvSpPr>
                <p:cNvPr id="146" name=""/>
                <p:cNvSpPr/>
                <p:nvPr/>
              </p:nvSpPr>
              <p:spPr>
                <a:xfrm>
                  <a:off x="7064280" y="3853440"/>
                  <a:ext cx="514440" cy="84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6996240" y="3853440"/>
                  <a:ext cx="650880" cy="84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1452600" y="4701600"/>
                <a:ext cx="1519200" cy="717120"/>
                <a:chOff x="1452600" y="4701600"/>
                <a:chExt cx="1519200" cy="717120"/>
              </a:xfrm>
            </p:grpSpPr>
            <p:sp>
              <p:nvSpPr>
                <p:cNvPr id="149" name=""/>
                <p:cNvSpPr/>
                <p:nvPr/>
              </p:nvSpPr>
              <p:spPr>
                <a:xfrm>
                  <a:off x="1521000" y="4701600"/>
                  <a:ext cx="138240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ltiple A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1452600" y="4701600"/>
                  <a:ext cx="151920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2971800" y="4701600"/>
                <a:ext cx="708120" cy="717120"/>
                <a:chOff x="2971800" y="4701600"/>
                <a:chExt cx="708120" cy="717120"/>
              </a:xfrm>
            </p:grpSpPr>
            <p:sp>
              <p:nvSpPr>
                <p:cNvPr id="152" name=""/>
                <p:cNvSpPr/>
                <p:nvPr/>
              </p:nvSpPr>
              <p:spPr>
                <a:xfrm>
                  <a:off x="3040200" y="4701600"/>
                  <a:ext cx="57132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2971800" y="4701600"/>
                  <a:ext cx="7081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679920" y="4701600"/>
                <a:ext cx="3316320" cy="717120"/>
                <a:chOff x="3679920" y="4701600"/>
                <a:chExt cx="3316320" cy="717120"/>
              </a:xfrm>
            </p:grpSpPr>
            <p:sp>
              <p:nvSpPr>
                <p:cNvPr id="155" name=""/>
                <p:cNvSpPr/>
                <p:nvPr/>
              </p:nvSpPr>
              <p:spPr>
                <a:xfrm>
                  <a:off x="3747960" y="4701600"/>
                  <a:ext cx="317988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enario 1: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enario 2: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enario 3: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679920" y="4701600"/>
                  <a:ext cx="331632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6996240" y="4701600"/>
                <a:ext cx="650880" cy="717120"/>
                <a:chOff x="6996240" y="4701600"/>
                <a:chExt cx="650880" cy="717120"/>
              </a:xfrm>
            </p:grpSpPr>
            <p:sp>
              <p:nvSpPr>
                <p:cNvPr id="158" name=""/>
                <p:cNvSpPr/>
                <p:nvPr/>
              </p:nvSpPr>
              <p:spPr>
                <a:xfrm>
                  <a:off x="7064280" y="4701600"/>
                  <a:ext cx="514440" cy="71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6996240" y="4701600"/>
                  <a:ext cx="650880" cy="71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1452600" y="5418720"/>
                <a:ext cx="1519200" cy="978120"/>
                <a:chOff x="1452600" y="5418720"/>
                <a:chExt cx="1519200" cy="978120"/>
              </a:xfrm>
            </p:grpSpPr>
            <p:sp>
              <p:nvSpPr>
                <p:cNvPr id="161" name=""/>
                <p:cNvSpPr/>
                <p:nvPr/>
              </p:nvSpPr>
              <p:spPr>
                <a:xfrm>
                  <a:off x="1521000" y="5418720"/>
                  <a:ext cx="138240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exis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1452600" y="5418720"/>
                  <a:ext cx="151920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971800" y="5418720"/>
                <a:ext cx="708120" cy="978120"/>
                <a:chOff x="2971800" y="5418720"/>
                <a:chExt cx="708120" cy="978120"/>
              </a:xfrm>
            </p:grpSpPr>
            <p:sp>
              <p:nvSpPr>
                <p:cNvPr id="164" name=""/>
                <p:cNvSpPr/>
                <p:nvPr/>
              </p:nvSpPr>
              <p:spPr>
                <a:xfrm>
                  <a:off x="3040200" y="5418720"/>
                  <a:ext cx="57132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2971800" y="5418720"/>
                  <a:ext cx="70812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3679920" y="5418720"/>
                <a:ext cx="3316320" cy="978120"/>
                <a:chOff x="3679920" y="5418720"/>
                <a:chExt cx="3316320" cy="978120"/>
              </a:xfrm>
            </p:grpSpPr>
            <p:sp>
              <p:nvSpPr>
                <p:cNvPr id="167" name=""/>
                <p:cNvSpPr/>
                <p:nvPr/>
              </p:nvSpPr>
              <p:spPr>
                <a:xfrm>
                  <a:off x="3747960" y="5418720"/>
                  <a:ext cx="317988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1: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2: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3: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4: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5: </a:t>
                  </a: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3679920" y="5418720"/>
                  <a:ext cx="331632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6996240" y="5418720"/>
                <a:ext cx="650880" cy="978120"/>
                <a:chOff x="6996240" y="5418720"/>
                <a:chExt cx="650880" cy="978120"/>
              </a:xfrm>
            </p:grpSpPr>
            <p:sp>
              <p:nvSpPr>
                <p:cNvPr id="170" name=""/>
                <p:cNvSpPr/>
                <p:nvPr/>
              </p:nvSpPr>
              <p:spPr>
                <a:xfrm>
                  <a:off x="7064280" y="5418720"/>
                  <a:ext cx="514440" cy="97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6996240" y="5418720"/>
                  <a:ext cx="650880" cy="97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 name=""/>
            <p:cNvSpPr/>
            <p:nvPr/>
          </p:nvSpPr>
          <p:spPr>
            <a:xfrm>
              <a:off x="1447920" y="1371600"/>
              <a:ext cx="620388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3733920" y="266688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D – simulations under way</a:t>
            </a:r>
            <a:endParaRPr b="0" lang="en-US" sz="1200" spc="-1" strike="noStrike">
              <a:solidFill>
                <a:srgbClr val="000000"/>
              </a:solidFill>
              <a:latin typeface="Times New Roman"/>
            </a:endParaRPr>
          </a:p>
        </p:txBody>
      </p:sp>
      <p:sp>
        <p:nvSpPr>
          <p:cNvPr id="174" name=""/>
          <p:cNvSpPr/>
          <p:nvPr/>
        </p:nvSpPr>
        <p:spPr>
          <a:xfrm>
            <a:off x="3733920" y="327672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D- simulations under way</a:t>
            </a:r>
            <a:endParaRPr b="0" lang="en-US" sz="1200" spc="-1" strike="noStrike">
              <a:solidFill>
                <a:srgbClr val="000000"/>
              </a:solidFill>
              <a:latin typeface="Times New Roman"/>
            </a:endParaRPr>
          </a:p>
        </p:txBody>
      </p:sp>
      <p:sp>
        <p:nvSpPr>
          <p:cNvPr id="175" name=""/>
          <p:cNvSpPr/>
          <p:nvPr/>
        </p:nvSpPr>
        <p:spPr>
          <a:xfrm>
            <a:off x="4572000" y="4038480"/>
            <a:ext cx="20574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C4300939-6D8E-484A-AFF8-DA578034DA39}" type="slidenum">
              <a:t>14</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General Solution Criteria (cont.)</a:t>
            </a:r>
            <a:endParaRPr b="0" lang="en-US" sz="2000" spc="-1" strike="noStrike">
              <a:solidFill>
                <a:srgbClr val="000000"/>
              </a:solidFill>
              <a:latin typeface="Times New Roman"/>
            </a:endParaRPr>
          </a:p>
        </p:txBody>
      </p:sp>
      <p:grpSp>
        <p:nvGrpSpPr>
          <p:cNvPr id="177" name=""/>
          <p:cNvGrpSpPr/>
          <p:nvPr/>
        </p:nvGrpSpPr>
        <p:grpSpPr>
          <a:xfrm>
            <a:off x="1447920" y="1447920"/>
            <a:ext cx="6203880" cy="4800600"/>
            <a:chOff x="1447920" y="1447920"/>
            <a:chExt cx="6203880" cy="4800600"/>
          </a:xfrm>
        </p:grpSpPr>
        <p:grpSp>
          <p:nvGrpSpPr>
            <p:cNvPr id="178" name=""/>
            <p:cNvGrpSpPr/>
            <p:nvPr/>
          </p:nvGrpSpPr>
          <p:grpSpPr>
            <a:xfrm>
              <a:off x="1452600" y="1451520"/>
              <a:ext cx="6194520" cy="4792320"/>
              <a:chOff x="1452600" y="1451520"/>
              <a:chExt cx="6194520" cy="4792320"/>
            </a:xfrm>
          </p:grpSpPr>
          <p:grpSp>
            <p:nvGrpSpPr>
              <p:cNvPr id="179" name=""/>
              <p:cNvGrpSpPr/>
              <p:nvPr/>
            </p:nvGrpSpPr>
            <p:grpSpPr>
              <a:xfrm>
                <a:off x="1452600" y="1451520"/>
                <a:ext cx="1519200" cy="502560"/>
                <a:chOff x="1452600" y="1451520"/>
                <a:chExt cx="1519200" cy="502560"/>
              </a:xfrm>
            </p:grpSpPr>
            <p:sp>
              <p:nvSpPr>
                <p:cNvPr id="180" name=""/>
                <p:cNvSpPr/>
                <p:nvPr/>
              </p:nvSpPr>
              <p:spPr>
                <a:xfrm>
                  <a:off x="1452600" y="1451520"/>
                  <a:ext cx="151920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1452600" y="1451520"/>
                  <a:ext cx="1519200" cy="502560"/>
                  <a:chOff x="1452600" y="1451520"/>
                  <a:chExt cx="1519200" cy="502560"/>
                </a:xfrm>
              </p:grpSpPr>
              <p:sp>
                <p:nvSpPr>
                  <p:cNvPr id="182" name=""/>
                  <p:cNvSpPr/>
                  <p:nvPr/>
                </p:nvSpPr>
                <p:spPr>
                  <a:xfrm>
                    <a:off x="1521000" y="1451520"/>
                    <a:ext cx="138240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1452600" y="1451520"/>
                    <a:ext cx="151920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 name=""/>
              <p:cNvGrpSpPr/>
              <p:nvPr/>
            </p:nvGrpSpPr>
            <p:grpSpPr>
              <a:xfrm>
                <a:off x="2971800" y="1451520"/>
                <a:ext cx="708120" cy="502560"/>
                <a:chOff x="2971800" y="1451520"/>
                <a:chExt cx="708120" cy="502560"/>
              </a:xfrm>
            </p:grpSpPr>
            <p:sp>
              <p:nvSpPr>
                <p:cNvPr id="185" name=""/>
                <p:cNvSpPr/>
                <p:nvPr/>
              </p:nvSpPr>
              <p:spPr>
                <a:xfrm>
                  <a:off x="2971800" y="1451520"/>
                  <a:ext cx="7081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2971800" y="1451520"/>
                  <a:ext cx="708120" cy="502560"/>
                  <a:chOff x="2971800" y="1451520"/>
                  <a:chExt cx="708120" cy="502560"/>
                </a:xfrm>
              </p:grpSpPr>
              <p:sp>
                <p:nvSpPr>
                  <p:cNvPr id="187" name=""/>
                  <p:cNvSpPr/>
                  <p:nvPr/>
                </p:nvSpPr>
                <p:spPr>
                  <a:xfrm>
                    <a:off x="3040200" y="1451520"/>
                    <a:ext cx="5713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2971800" y="1451520"/>
                    <a:ext cx="7081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3679920" y="1451520"/>
                <a:ext cx="3316320" cy="502560"/>
                <a:chOff x="3679920" y="1451520"/>
                <a:chExt cx="3316320" cy="502560"/>
              </a:xfrm>
            </p:grpSpPr>
            <p:sp>
              <p:nvSpPr>
                <p:cNvPr id="190" name=""/>
                <p:cNvSpPr/>
                <p:nvPr/>
              </p:nvSpPr>
              <p:spPr>
                <a:xfrm>
                  <a:off x="3679920" y="1451520"/>
                  <a:ext cx="331632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3679920" y="1451520"/>
                  <a:ext cx="3316320" cy="502560"/>
                  <a:chOff x="3679920" y="1451520"/>
                  <a:chExt cx="3316320" cy="502560"/>
                </a:xfrm>
              </p:grpSpPr>
              <p:sp>
                <p:nvSpPr>
                  <p:cNvPr id="192" name=""/>
                  <p:cNvSpPr/>
                  <p:nvPr/>
                </p:nvSpPr>
                <p:spPr>
                  <a:xfrm>
                    <a:off x="3747960" y="1451520"/>
                    <a:ext cx="317988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3679920" y="1451520"/>
                    <a:ext cx="33163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4" name=""/>
              <p:cNvGrpSpPr/>
              <p:nvPr/>
            </p:nvGrpSpPr>
            <p:grpSpPr>
              <a:xfrm>
                <a:off x="6996240" y="1451520"/>
                <a:ext cx="650880" cy="502560"/>
                <a:chOff x="6996240" y="1451520"/>
                <a:chExt cx="650880" cy="502560"/>
              </a:xfrm>
            </p:grpSpPr>
            <p:sp>
              <p:nvSpPr>
                <p:cNvPr id="195" name=""/>
                <p:cNvSpPr/>
                <p:nvPr/>
              </p:nvSpPr>
              <p:spPr>
                <a:xfrm>
                  <a:off x="6996240" y="1451520"/>
                  <a:ext cx="65088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6996240" y="1451520"/>
                  <a:ext cx="650880" cy="502560"/>
                  <a:chOff x="6996240" y="1451520"/>
                  <a:chExt cx="650880" cy="502560"/>
                </a:xfrm>
              </p:grpSpPr>
              <p:sp>
                <p:nvSpPr>
                  <p:cNvPr id="197" name=""/>
                  <p:cNvSpPr/>
                  <p:nvPr/>
                </p:nvSpPr>
                <p:spPr>
                  <a:xfrm>
                    <a:off x="7064280" y="1451520"/>
                    <a:ext cx="514440" cy="5025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6996240" y="1451520"/>
                    <a:ext cx="65088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 name=""/>
              <p:cNvGrpSpPr/>
              <p:nvPr/>
            </p:nvGrpSpPr>
            <p:grpSpPr>
              <a:xfrm>
                <a:off x="1452600" y="1954080"/>
                <a:ext cx="1519200" cy="646200"/>
                <a:chOff x="1452600" y="1954080"/>
                <a:chExt cx="1519200" cy="646200"/>
              </a:xfrm>
            </p:grpSpPr>
            <p:sp>
              <p:nvSpPr>
                <p:cNvPr id="200" name=""/>
                <p:cNvSpPr/>
                <p:nvPr/>
              </p:nvSpPr>
              <p:spPr>
                <a:xfrm>
                  <a:off x="1521000" y="1954080"/>
                  <a:ext cx="138240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oper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1452600" y="1954080"/>
                  <a:ext cx="151920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2971800" y="1954080"/>
                <a:ext cx="708120" cy="646200"/>
                <a:chOff x="2971800" y="1954080"/>
                <a:chExt cx="708120" cy="646200"/>
              </a:xfrm>
            </p:grpSpPr>
            <p:sp>
              <p:nvSpPr>
                <p:cNvPr id="203" name=""/>
                <p:cNvSpPr/>
                <p:nvPr/>
              </p:nvSpPr>
              <p:spPr>
                <a:xfrm>
                  <a:off x="3040200" y="1954080"/>
                  <a:ext cx="57132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2971800" y="1954080"/>
                  <a:ext cx="70812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679920" y="1954080"/>
                <a:ext cx="3316320" cy="646200"/>
                <a:chOff x="3679920" y="1954080"/>
                <a:chExt cx="3316320" cy="646200"/>
              </a:xfrm>
            </p:grpSpPr>
            <p:sp>
              <p:nvSpPr>
                <p:cNvPr id="206" name=""/>
                <p:cNvSpPr/>
                <p:nvPr/>
              </p:nvSpPr>
              <p:spPr>
                <a:xfrm>
                  <a:off x="3747960" y="1954080"/>
                  <a:ext cx="317988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679920" y="1954080"/>
                  <a:ext cx="331632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6996240" y="1954080"/>
                <a:ext cx="650880" cy="646200"/>
                <a:chOff x="6996240" y="1954080"/>
                <a:chExt cx="650880" cy="646200"/>
              </a:xfrm>
            </p:grpSpPr>
            <p:sp>
              <p:nvSpPr>
                <p:cNvPr id="209" name=""/>
                <p:cNvSpPr/>
                <p:nvPr/>
              </p:nvSpPr>
              <p:spPr>
                <a:xfrm>
                  <a:off x="7064280" y="1954080"/>
                  <a:ext cx="514440" cy="64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6996240" y="1954080"/>
                  <a:ext cx="650880" cy="64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1452600" y="2600280"/>
                <a:ext cx="1519200" cy="645840"/>
                <a:chOff x="1452600" y="2600280"/>
                <a:chExt cx="1519200" cy="645840"/>
              </a:xfrm>
            </p:grpSpPr>
            <p:sp>
              <p:nvSpPr>
                <p:cNvPr id="212" name=""/>
                <p:cNvSpPr/>
                <p:nvPr/>
              </p:nvSpPr>
              <p:spPr>
                <a:xfrm>
                  <a:off x="1521000" y="2600280"/>
                  <a:ext cx="138240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e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1452600" y="260028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2971800" y="2600280"/>
                <a:ext cx="708120" cy="645840"/>
                <a:chOff x="2971800" y="2600280"/>
                <a:chExt cx="708120" cy="645840"/>
              </a:xfrm>
            </p:grpSpPr>
            <p:sp>
              <p:nvSpPr>
                <p:cNvPr id="215" name=""/>
                <p:cNvSpPr/>
                <p:nvPr/>
              </p:nvSpPr>
              <p:spPr>
                <a:xfrm>
                  <a:off x="3040200" y="2600280"/>
                  <a:ext cx="57132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2971800" y="260028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679920" y="2600280"/>
                <a:ext cx="3316320" cy="645840"/>
                <a:chOff x="3679920" y="2600280"/>
                <a:chExt cx="3316320" cy="645840"/>
              </a:xfrm>
            </p:grpSpPr>
            <p:sp>
              <p:nvSpPr>
                <p:cNvPr id="218" name=""/>
                <p:cNvSpPr/>
                <p:nvPr/>
              </p:nvSpPr>
              <p:spPr>
                <a:xfrm>
                  <a:off x="3747960" y="260028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679920" y="260028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6996240" y="2600280"/>
                <a:ext cx="650880" cy="645840"/>
                <a:chOff x="6996240" y="2600280"/>
                <a:chExt cx="650880" cy="645840"/>
              </a:xfrm>
            </p:grpSpPr>
            <p:sp>
              <p:nvSpPr>
                <p:cNvPr id="221" name=""/>
                <p:cNvSpPr/>
                <p:nvPr/>
              </p:nvSpPr>
              <p:spPr>
                <a:xfrm>
                  <a:off x="7064280" y="260028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6996240" y="260028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1452600" y="3246480"/>
                <a:ext cx="1519200" cy="502560"/>
                <a:chOff x="1452600" y="3246480"/>
                <a:chExt cx="1519200" cy="502560"/>
              </a:xfrm>
            </p:grpSpPr>
            <p:sp>
              <p:nvSpPr>
                <p:cNvPr id="224" name=""/>
                <p:cNvSpPr/>
                <p:nvPr/>
              </p:nvSpPr>
              <p:spPr>
                <a:xfrm>
                  <a:off x="1521000" y="3246480"/>
                  <a:ext cx="138240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to Mark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1452600" y="3246480"/>
                  <a:ext cx="151920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971800" y="3246480"/>
                <a:ext cx="708120" cy="502560"/>
                <a:chOff x="2971800" y="3246480"/>
                <a:chExt cx="708120" cy="502560"/>
              </a:xfrm>
            </p:grpSpPr>
            <p:sp>
              <p:nvSpPr>
                <p:cNvPr id="227" name=""/>
                <p:cNvSpPr/>
                <p:nvPr/>
              </p:nvSpPr>
              <p:spPr>
                <a:xfrm>
                  <a:off x="3040200" y="3246480"/>
                  <a:ext cx="57132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2971800" y="3246480"/>
                  <a:ext cx="7081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679920" y="3246480"/>
                <a:ext cx="3316320" cy="502560"/>
                <a:chOff x="3679920" y="3246480"/>
                <a:chExt cx="3316320" cy="502560"/>
              </a:xfrm>
            </p:grpSpPr>
            <p:sp>
              <p:nvSpPr>
                <p:cNvPr id="230" name=""/>
                <p:cNvSpPr/>
                <p:nvPr/>
              </p:nvSpPr>
              <p:spPr>
                <a:xfrm>
                  <a:off x="3747960" y="3246480"/>
                  <a:ext cx="317988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679920" y="3246480"/>
                  <a:ext cx="331632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6996240" y="3246480"/>
                <a:ext cx="650880" cy="502560"/>
                <a:chOff x="6996240" y="3246480"/>
                <a:chExt cx="650880" cy="502560"/>
              </a:xfrm>
            </p:grpSpPr>
            <p:sp>
              <p:nvSpPr>
                <p:cNvPr id="233" name=""/>
                <p:cNvSpPr/>
                <p:nvPr/>
              </p:nvSpPr>
              <p:spPr>
                <a:xfrm>
                  <a:off x="7064280" y="3246480"/>
                  <a:ext cx="514440" cy="50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6996240" y="3246480"/>
                  <a:ext cx="650880" cy="50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1452600" y="3749400"/>
                <a:ext cx="1519200" cy="645840"/>
                <a:chOff x="1452600" y="3749400"/>
                <a:chExt cx="1519200" cy="645840"/>
              </a:xfrm>
            </p:grpSpPr>
            <p:sp>
              <p:nvSpPr>
                <p:cNvPr id="236" name=""/>
                <p:cNvSpPr/>
                <p:nvPr/>
              </p:nvSpPr>
              <p:spPr>
                <a:xfrm>
                  <a:off x="1521000" y="3749400"/>
                  <a:ext cx="138240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ulatory Imp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1452600" y="374940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2971800" y="3749400"/>
                <a:ext cx="708120" cy="645840"/>
                <a:chOff x="2971800" y="3749400"/>
                <a:chExt cx="708120" cy="645840"/>
              </a:xfrm>
            </p:grpSpPr>
            <p:sp>
              <p:nvSpPr>
                <p:cNvPr id="239" name=""/>
                <p:cNvSpPr/>
                <p:nvPr/>
              </p:nvSpPr>
              <p:spPr>
                <a:xfrm>
                  <a:off x="3040200" y="3749400"/>
                  <a:ext cx="57132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2971800" y="374940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3679920" y="3749400"/>
                <a:ext cx="3316320" cy="645840"/>
                <a:chOff x="3679920" y="3749400"/>
                <a:chExt cx="3316320" cy="645840"/>
              </a:xfrm>
            </p:grpSpPr>
            <p:sp>
              <p:nvSpPr>
                <p:cNvPr id="242" name=""/>
                <p:cNvSpPr/>
                <p:nvPr/>
              </p:nvSpPr>
              <p:spPr>
                <a:xfrm>
                  <a:off x="3747960" y="374940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a:off x="3679920" y="374940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996240" y="3749400"/>
                <a:ext cx="650880" cy="645840"/>
                <a:chOff x="6996240" y="3749400"/>
                <a:chExt cx="650880" cy="645840"/>
              </a:xfrm>
            </p:grpSpPr>
            <p:sp>
              <p:nvSpPr>
                <p:cNvPr id="245" name=""/>
                <p:cNvSpPr/>
                <p:nvPr/>
              </p:nvSpPr>
              <p:spPr>
                <a:xfrm>
                  <a:off x="7064280" y="374940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6996240" y="374940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1452600" y="4395240"/>
                <a:ext cx="1519200" cy="645840"/>
                <a:chOff x="1452600" y="4395240"/>
                <a:chExt cx="1519200" cy="645840"/>
              </a:xfrm>
            </p:grpSpPr>
            <p:sp>
              <p:nvSpPr>
                <p:cNvPr id="248" name=""/>
                <p:cNvSpPr/>
                <p:nvPr/>
              </p:nvSpPr>
              <p:spPr>
                <a:xfrm>
                  <a:off x="1521000" y="4395240"/>
                  <a:ext cx="138240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urity of Solu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1452600" y="439524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2971800" y="4395240"/>
                <a:ext cx="708120" cy="645840"/>
                <a:chOff x="2971800" y="4395240"/>
                <a:chExt cx="708120" cy="645840"/>
              </a:xfrm>
            </p:grpSpPr>
            <p:sp>
              <p:nvSpPr>
                <p:cNvPr id="251" name=""/>
                <p:cNvSpPr/>
                <p:nvPr/>
              </p:nvSpPr>
              <p:spPr>
                <a:xfrm>
                  <a:off x="3040200" y="4395240"/>
                  <a:ext cx="57132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2971800" y="439524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3679920" y="4395240"/>
                <a:ext cx="3316320" cy="645840"/>
                <a:chOff x="3679920" y="4395240"/>
                <a:chExt cx="3316320" cy="645840"/>
              </a:xfrm>
            </p:grpSpPr>
            <p:sp>
              <p:nvSpPr>
                <p:cNvPr id="254" name=""/>
                <p:cNvSpPr/>
                <p:nvPr/>
              </p:nvSpPr>
              <p:spPr>
                <a:xfrm>
                  <a:off x="3747960" y="439524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
                <p:cNvSpPr/>
                <p:nvPr/>
              </p:nvSpPr>
              <p:spPr>
                <a:xfrm>
                  <a:off x="3679920" y="439524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996240" y="4395240"/>
                <a:ext cx="650880" cy="645840"/>
                <a:chOff x="6996240" y="4395240"/>
                <a:chExt cx="650880" cy="645840"/>
              </a:xfrm>
            </p:grpSpPr>
            <p:sp>
              <p:nvSpPr>
                <p:cNvPr id="257" name=""/>
                <p:cNvSpPr/>
                <p:nvPr/>
              </p:nvSpPr>
              <p:spPr>
                <a:xfrm>
                  <a:off x="7064280" y="439524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
                <p:cNvSpPr/>
                <p:nvPr/>
              </p:nvSpPr>
              <p:spPr>
                <a:xfrm>
                  <a:off x="6996240" y="439524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1452600" y="5041440"/>
                <a:ext cx="1519200" cy="556200"/>
                <a:chOff x="1452600" y="5041440"/>
                <a:chExt cx="1519200" cy="556200"/>
              </a:xfrm>
            </p:grpSpPr>
            <p:sp>
              <p:nvSpPr>
                <p:cNvPr id="260" name=""/>
                <p:cNvSpPr/>
                <p:nvPr/>
              </p:nvSpPr>
              <p:spPr>
                <a:xfrm>
                  <a:off x="1521000" y="5041440"/>
                  <a:ext cx="138240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1452600" y="5041440"/>
                  <a:ext cx="151920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971800" y="5041440"/>
                <a:ext cx="708120" cy="556200"/>
                <a:chOff x="2971800" y="5041440"/>
                <a:chExt cx="708120" cy="556200"/>
              </a:xfrm>
            </p:grpSpPr>
            <p:sp>
              <p:nvSpPr>
                <p:cNvPr id="263" name=""/>
                <p:cNvSpPr/>
                <p:nvPr/>
              </p:nvSpPr>
              <p:spPr>
                <a:xfrm>
                  <a:off x="3040200" y="5041440"/>
                  <a:ext cx="57132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2971800" y="5041440"/>
                  <a:ext cx="7081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679920" y="5041440"/>
                <a:ext cx="3316320" cy="556200"/>
                <a:chOff x="3679920" y="5041440"/>
                <a:chExt cx="3316320" cy="556200"/>
              </a:xfrm>
            </p:grpSpPr>
            <p:sp>
              <p:nvSpPr>
                <p:cNvPr id="266" name=""/>
                <p:cNvSpPr/>
                <p:nvPr/>
              </p:nvSpPr>
              <p:spPr>
                <a:xfrm>
                  <a:off x="3747960" y="5041440"/>
                  <a:ext cx="317988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
                <p:cNvSpPr/>
                <p:nvPr/>
              </p:nvSpPr>
              <p:spPr>
                <a:xfrm>
                  <a:off x="3679920" y="5041440"/>
                  <a:ext cx="33163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6996240" y="5041440"/>
                <a:ext cx="650880" cy="556200"/>
                <a:chOff x="6996240" y="5041440"/>
                <a:chExt cx="650880" cy="556200"/>
              </a:xfrm>
            </p:grpSpPr>
            <p:sp>
              <p:nvSpPr>
                <p:cNvPr id="269" name=""/>
                <p:cNvSpPr/>
                <p:nvPr/>
              </p:nvSpPr>
              <p:spPr>
                <a:xfrm>
                  <a:off x="7064280" y="5041440"/>
                  <a:ext cx="51444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
                <p:cNvSpPr/>
                <p:nvPr/>
              </p:nvSpPr>
              <p:spPr>
                <a:xfrm>
                  <a:off x="6996240" y="5041440"/>
                  <a:ext cx="6508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1452600" y="5598000"/>
                <a:ext cx="1519200" cy="645840"/>
                <a:chOff x="1452600" y="5598000"/>
                <a:chExt cx="1519200" cy="645840"/>
              </a:xfrm>
            </p:grpSpPr>
            <p:sp>
              <p:nvSpPr>
                <p:cNvPr id="272" name=""/>
                <p:cNvSpPr/>
                <p:nvPr/>
              </p:nvSpPr>
              <p:spPr>
                <a:xfrm>
                  <a:off x="1521000" y="5598000"/>
                  <a:ext cx="138240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 Awaren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
                <p:cNvSpPr/>
                <p:nvPr/>
              </p:nvSpPr>
              <p:spPr>
                <a:xfrm>
                  <a:off x="1452600" y="5598000"/>
                  <a:ext cx="151920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2971800" y="5598000"/>
                <a:ext cx="708120" cy="645840"/>
                <a:chOff x="2971800" y="5598000"/>
                <a:chExt cx="708120" cy="645840"/>
              </a:xfrm>
            </p:grpSpPr>
            <p:sp>
              <p:nvSpPr>
                <p:cNvPr id="275" name=""/>
                <p:cNvSpPr/>
                <p:nvPr/>
              </p:nvSpPr>
              <p:spPr>
                <a:xfrm>
                  <a:off x="3040200" y="5598000"/>
                  <a:ext cx="57132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
                <p:cNvSpPr/>
                <p:nvPr/>
              </p:nvSpPr>
              <p:spPr>
                <a:xfrm>
                  <a:off x="2971800" y="5598000"/>
                  <a:ext cx="7081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3679920" y="5598000"/>
                <a:ext cx="3316320" cy="645840"/>
                <a:chOff x="3679920" y="5598000"/>
                <a:chExt cx="3316320" cy="645840"/>
              </a:xfrm>
            </p:grpSpPr>
            <p:sp>
              <p:nvSpPr>
                <p:cNvPr id="278" name=""/>
                <p:cNvSpPr/>
                <p:nvPr/>
              </p:nvSpPr>
              <p:spPr>
                <a:xfrm>
                  <a:off x="3747960" y="5598000"/>
                  <a:ext cx="317988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supported in terms of measuring relative locations in cm … RSSI and time of arrival techniques cannot readily provide much inf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3679920" y="5598000"/>
                  <a:ext cx="331632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6996240" y="5598000"/>
                <a:ext cx="650880" cy="645840"/>
                <a:chOff x="6996240" y="5598000"/>
                <a:chExt cx="650880" cy="645840"/>
              </a:xfrm>
            </p:grpSpPr>
            <p:sp>
              <p:nvSpPr>
                <p:cNvPr id="281" name=""/>
                <p:cNvSpPr/>
                <p:nvPr/>
              </p:nvSpPr>
              <p:spPr>
                <a:xfrm>
                  <a:off x="7064280" y="5598000"/>
                  <a:ext cx="514440" cy="64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
                <p:cNvSpPr/>
                <p:nvPr/>
              </p:nvSpPr>
              <p:spPr>
                <a:xfrm>
                  <a:off x="6996240" y="5598000"/>
                  <a:ext cx="650880" cy="64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3" name=""/>
            <p:cNvSpPr/>
            <p:nvPr/>
          </p:nvSpPr>
          <p:spPr>
            <a:xfrm>
              <a:off x="1447920" y="1447920"/>
              <a:ext cx="620388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
          <p:cNvSpPr/>
          <p:nvPr/>
        </p:nvSpPr>
        <p:spPr>
          <a:xfrm>
            <a:off x="3733920" y="2666880"/>
            <a:ext cx="32763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733920" y="2590920"/>
            <a:ext cx="32004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 proposed system is based on substantial reuse of existing, proven technology which has been in high volume production for several years</a:t>
            </a:r>
            <a:endParaRPr b="0" lang="en-US" sz="1200" spc="-1" strike="noStrike">
              <a:solidFill>
                <a:srgbClr val="000000"/>
              </a:solidFill>
              <a:latin typeface="Times New Roman"/>
            </a:endParaRPr>
          </a:p>
        </p:txBody>
      </p:sp>
      <p:sp>
        <p:nvSpPr>
          <p:cNvPr id="286" name=""/>
          <p:cNvSpPr/>
          <p:nvPr/>
        </p:nvSpPr>
        <p:spPr>
          <a:xfrm>
            <a:off x="3733920" y="32767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ent on finalization of specification – could be as soon as ~ 6 months after final specification</a:t>
            </a:r>
            <a:endParaRPr b="0" lang="en-US" sz="1200" spc="-1" strike="noStrike">
              <a:solidFill>
                <a:srgbClr val="000000"/>
              </a:solidFill>
              <a:latin typeface="Times New Roman"/>
            </a:endParaRPr>
          </a:p>
        </p:txBody>
      </p:sp>
      <p:sp>
        <p:nvSpPr>
          <p:cNvPr id="287" name=""/>
          <p:cNvSpPr/>
          <p:nvPr/>
        </p:nvSpPr>
        <p:spPr>
          <a:xfrm>
            <a:off x="3733920" y="4419720"/>
            <a:ext cx="3276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system is based on substantial reuse of existing, proven technology which has been in high volume production for several years</a:t>
            </a:r>
            <a:endParaRPr b="0" lang="en-US" sz="1200" spc="-1" strike="noStrike">
              <a:solidFill>
                <a:srgbClr val="000000"/>
              </a:solidFill>
              <a:latin typeface="Times New Roman"/>
            </a:endParaRPr>
          </a:p>
        </p:txBody>
      </p:sp>
      <p:sp>
        <p:nvSpPr>
          <p:cNvPr id="288" name=""/>
          <p:cNvSpPr/>
          <p:nvPr/>
        </p:nvSpPr>
        <p:spPr>
          <a:xfrm>
            <a:off x="3733920" y="51055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sic concept can be scaled to other data rates, frequency bands, number of channels, etc.</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B054813A-A340-4F47-A2ED-AF1FF2B7C11E}" type="slidenum">
              <a:t>15</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MAC Protocol Criteria</a:t>
            </a:r>
            <a:endParaRPr b="0" lang="en-US" sz="2000" spc="-1" strike="noStrike">
              <a:solidFill>
                <a:srgbClr val="000000"/>
              </a:solidFill>
              <a:latin typeface="Times New Roman"/>
            </a:endParaRPr>
          </a:p>
        </p:txBody>
      </p:sp>
      <p:grpSp>
        <p:nvGrpSpPr>
          <p:cNvPr id="290" name=""/>
          <p:cNvGrpSpPr/>
          <p:nvPr/>
        </p:nvGrpSpPr>
        <p:grpSpPr>
          <a:xfrm>
            <a:off x="1287360" y="1371600"/>
            <a:ext cx="6568920" cy="5029200"/>
            <a:chOff x="1287360" y="1371600"/>
            <a:chExt cx="6568920" cy="5029200"/>
          </a:xfrm>
        </p:grpSpPr>
        <p:grpSp>
          <p:nvGrpSpPr>
            <p:cNvPr id="291" name=""/>
            <p:cNvGrpSpPr/>
            <p:nvPr/>
          </p:nvGrpSpPr>
          <p:grpSpPr>
            <a:xfrm>
              <a:off x="1292040" y="1374840"/>
              <a:ext cx="6559560" cy="5022000"/>
              <a:chOff x="1292040" y="1374840"/>
              <a:chExt cx="6559560" cy="5022000"/>
            </a:xfrm>
          </p:grpSpPr>
          <p:grpSp>
            <p:nvGrpSpPr>
              <p:cNvPr id="292" name=""/>
              <p:cNvGrpSpPr/>
              <p:nvPr/>
            </p:nvGrpSpPr>
            <p:grpSpPr>
              <a:xfrm>
                <a:off x="1292040" y="1374840"/>
                <a:ext cx="1517760" cy="450720"/>
                <a:chOff x="1292040" y="1374840"/>
                <a:chExt cx="1517760" cy="450720"/>
              </a:xfrm>
            </p:grpSpPr>
            <p:sp>
              <p:nvSpPr>
                <p:cNvPr id="293" name=""/>
                <p:cNvSpPr/>
                <p:nvPr/>
              </p:nvSpPr>
              <p:spPr>
                <a:xfrm>
                  <a:off x="1292040" y="1374840"/>
                  <a:ext cx="1517760" cy="450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1292040" y="1374840"/>
                  <a:ext cx="1517760" cy="450720"/>
                  <a:chOff x="1292040" y="1374840"/>
                  <a:chExt cx="1517760" cy="450720"/>
                </a:xfrm>
              </p:grpSpPr>
              <p:sp>
                <p:nvSpPr>
                  <p:cNvPr id="295" name=""/>
                  <p:cNvSpPr/>
                  <p:nvPr/>
                </p:nvSpPr>
                <p:spPr>
                  <a:xfrm>
                    <a:off x="1360440" y="1374840"/>
                    <a:ext cx="1380960" cy="450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1292040" y="1374840"/>
                    <a:ext cx="1517760" cy="45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 name=""/>
              <p:cNvGrpSpPr/>
              <p:nvPr/>
            </p:nvGrpSpPr>
            <p:grpSpPr>
              <a:xfrm>
                <a:off x="2809800" y="1374840"/>
                <a:ext cx="2025720" cy="450720"/>
                <a:chOff x="2809800" y="1374840"/>
                <a:chExt cx="2025720" cy="450720"/>
              </a:xfrm>
            </p:grpSpPr>
            <p:sp>
              <p:nvSpPr>
                <p:cNvPr id="298" name=""/>
                <p:cNvSpPr/>
                <p:nvPr/>
              </p:nvSpPr>
              <p:spPr>
                <a:xfrm>
                  <a:off x="2809800" y="1374840"/>
                  <a:ext cx="2025720" cy="450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2809800" y="1374840"/>
                  <a:ext cx="2025720" cy="450720"/>
                  <a:chOff x="2809800" y="1374840"/>
                  <a:chExt cx="2025720" cy="450720"/>
                </a:xfrm>
              </p:grpSpPr>
              <p:sp>
                <p:nvSpPr>
                  <p:cNvPr id="300" name=""/>
                  <p:cNvSpPr/>
                  <p:nvPr/>
                </p:nvSpPr>
                <p:spPr>
                  <a:xfrm>
                    <a:off x="2877840" y="1374840"/>
                    <a:ext cx="1889280" cy="450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
                  <p:cNvSpPr/>
                  <p:nvPr/>
                </p:nvSpPr>
                <p:spPr>
                  <a:xfrm>
                    <a:off x="2809800" y="1374840"/>
                    <a:ext cx="2025720" cy="45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2" name=""/>
              <p:cNvGrpSpPr/>
              <p:nvPr/>
            </p:nvGrpSpPr>
            <p:grpSpPr>
              <a:xfrm>
                <a:off x="4835520" y="1374840"/>
                <a:ext cx="2307960" cy="450720"/>
                <a:chOff x="4835520" y="1374840"/>
                <a:chExt cx="2307960" cy="450720"/>
              </a:xfrm>
            </p:grpSpPr>
            <p:sp>
              <p:nvSpPr>
                <p:cNvPr id="303" name=""/>
                <p:cNvSpPr/>
                <p:nvPr/>
              </p:nvSpPr>
              <p:spPr>
                <a:xfrm>
                  <a:off x="4835520" y="1374840"/>
                  <a:ext cx="2307960" cy="450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4835520" y="1374840"/>
                  <a:ext cx="2307960" cy="450720"/>
                  <a:chOff x="4835520" y="1374840"/>
                  <a:chExt cx="2307960" cy="450720"/>
                </a:xfrm>
              </p:grpSpPr>
              <p:sp>
                <p:nvSpPr>
                  <p:cNvPr id="305" name=""/>
                  <p:cNvSpPr/>
                  <p:nvPr/>
                </p:nvSpPr>
                <p:spPr>
                  <a:xfrm>
                    <a:off x="4903560" y="1374840"/>
                    <a:ext cx="2171880" cy="450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
                  <p:cNvSpPr/>
                  <p:nvPr/>
                </p:nvSpPr>
                <p:spPr>
                  <a:xfrm>
                    <a:off x="4835520" y="1374840"/>
                    <a:ext cx="2307960" cy="45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7143480" y="1374840"/>
                <a:ext cx="708120" cy="450720"/>
                <a:chOff x="7143480" y="1374840"/>
                <a:chExt cx="708120" cy="450720"/>
              </a:xfrm>
            </p:grpSpPr>
            <p:sp>
              <p:nvSpPr>
                <p:cNvPr id="308" name=""/>
                <p:cNvSpPr/>
                <p:nvPr/>
              </p:nvSpPr>
              <p:spPr>
                <a:xfrm>
                  <a:off x="7143480" y="1374840"/>
                  <a:ext cx="708120" cy="450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7143480" y="1374840"/>
                  <a:ext cx="708120" cy="450720"/>
                  <a:chOff x="7143480" y="1374840"/>
                  <a:chExt cx="708120" cy="450720"/>
                </a:xfrm>
              </p:grpSpPr>
              <p:sp>
                <p:nvSpPr>
                  <p:cNvPr id="310" name=""/>
                  <p:cNvSpPr/>
                  <p:nvPr/>
                </p:nvSpPr>
                <p:spPr>
                  <a:xfrm>
                    <a:off x="7211880" y="1374840"/>
                    <a:ext cx="571320" cy="450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
                  <p:cNvSpPr/>
                  <p:nvPr/>
                </p:nvSpPr>
                <p:spPr>
                  <a:xfrm>
                    <a:off x="7143480" y="1374840"/>
                    <a:ext cx="708120" cy="45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1292040" y="1825560"/>
                <a:ext cx="1517760" cy="708120"/>
                <a:chOff x="1292040" y="1825560"/>
                <a:chExt cx="1517760" cy="708120"/>
              </a:xfrm>
            </p:grpSpPr>
            <p:sp>
              <p:nvSpPr>
                <p:cNvPr id="313" name=""/>
                <p:cNvSpPr/>
                <p:nvPr/>
              </p:nvSpPr>
              <p:spPr>
                <a:xfrm>
                  <a:off x="1360440" y="1825560"/>
                  <a:ext cx="138096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parent to Upper Layer Protocols (TCP/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1292040" y="1825560"/>
                  <a:ext cx="151776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2809800" y="1825560"/>
                <a:ext cx="2025720" cy="708120"/>
                <a:chOff x="2809800" y="1825560"/>
                <a:chExt cx="2025720" cy="708120"/>
              </a:xfrm>
            </p:grpSpPr>
            <p:sp>
              <p:nvSpPr>
                <p:cNvPr id="316" name=""/>
                <p:cNvSpPr/>
                <p:nvPr/>
              </p:nvSpPr>
              <p:spPr>
                <a:xfrm>
                  <a:off x="2877840" y="1825560"/>
                  <a:ext cx="188928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2809800" y="1825560"/>
                  <a:ext cx="20257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4835520" y="1825560"/>
                <a:ext cx="2307960" cy="708120"/>
                <a:chOff x="4835520" y="1825560"/>
                <a:chExt cx="2307960" cy="708120"/>
              </a:xfrm>
            </p:grpSpPr>
            <p:sp>
              <p:nvSpPr>
                <p:cNvPr id="319" name=""/>
                <p:cNvSpPr/>
                <p:nvPr/>
              </p:nvSpPr>
              <p:spPr>
                <a:xfrm>
                  <a:off x="4903560" y="1825560"/>
                  <a:ext cx="217188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br>
                    <a:rPr sz="1200"/>
                  </a:b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
                <p:cNvSpPr/>
                <p:nvPr/>
              </p:nvSpPr>
              <p:spPr>
                <a:xfrm>
                  <a:off x="4835520" y="1825560"/>
                  <a:ext cx="230796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7143480" y="1825560"/>
                <a:ext cx="708120" cy="708120"/>
                <a:chOff x="7143480" y="1825560"/>
                <a:chExt cx="708120" cy="708120"/>
              </a:xfrm>
            </p:grpSpPr>
            <p:sp>
              <p:nvSpPr>
                <p:cNvPr id="322" name=""/>
                <p:cNvSpPr/>
                <p:nvPr/>
              </p:nvSpPr>
              <p:spPr>
                <a:xfrm>
                  <a:off x="7211880" y="1825560"/>
                  <a:ext cx="57132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
                <p:cNvSpPr/>
                <p:nvPr/>
              </p:nvSpPr>
              <p:spPr>
                <a:xfrm>
                  <a:off x="7143480" y="1825560"/>
                  <a:ext cx="7081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1292040" y="2533680"/>
                <a:ext cx="1517760" cy="579600"/>
                <a:chOff x="1292040" y="2533680"/>
                <a:chExt cx="1517760" cy="579600"/>
              </a:xfrm>
            </p:grpSpPr>
            <p:sp>
              <p:nvSpPr>
                <p:cNvPr id="325" name=""/>
                <p:cNvSpPr/>
                <p:nvPr/>
              </p:nvSpPr>
              <p:spPr>
                <a:xfrm>
                  <a:off x="1360440" y="2533680"/>
                  <a:ext cx="13809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que 48-bit Addre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
                <p:cNvSpPr/>
                <p:nvPr/>
              </p:nvSpPr>
              <p:spPr>
                <a:xfrm>
                  <a:off x="1292040" y="2533680"/>
                  <a:ext cx="151776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2809800" y="2533680"/>
                <a:ext cx="2025720" cy="579600"/>
                <a:chOff x="2809800" y="2533680"/>
                <a:chExt cx="2025720" cy="579600"/>
              </a:xfrm>
            </p:grpSpPr>
            <p:sp>
              <p:nvSpPr>
                <p:cNvPr id="328" name=""/>
                <p:cNvSpPr/>
                <p:nvPr/>
              </p:nvSpPr>
              <p:spPr>
                <a:xfrm>
                  <a:off x="2877840" y="2533680"/>
                  <a:ext cx="188928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ubject to debate – needs further discu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
                <p:cNvSpPr/>
                <p:nvPr/>
              </p:nvSpPr>
              <p:spPr>
                <a:xfrm>
                  <a:off x="2809800" y="2533680"/>
                  <a:ext cx="20257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4835520" y="2533680"/>
                <a:ext cx="2307960" cy="579600"/>
                <a:chOff x="4835520" y="2533680"/>
                <a:chExt cx="2307960" cy="579600"/>
              </a:xfrm>
            </p:grpSpPr>
            <p:sp>
              <p:nvSpPr>
                <p:cNvPr id="331" name=""/>
                <p:cNvSpPr/>
                <p:nvPr/>
              </p:nvSpPr>
              <p:spPr>
                <a:xfrm>
                  <a:off x="4903560" y="2533680"/>
                  <a:ext cx="217188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E</a:t>
                  </a:r>
                  <a:br>
                    <a:rPr sz="1200"/>
                  </a:br>
                  <a:r>
                    <a:rPr b="1" lang="en-US" sz="1200" spc="-1" strike="noStrike" u="sng">
                      <a:solidFill>
                        <a:srgbClr val="ff0000"/>
                      </a:solidFill>
                      <a:uFillTx/>
                      <a:latin typeface="Times New Roman"/>
                      <a:ea typeface="Times New Roman"/>
                    </a:rPr>
                    <a:t>FALSE </a:t>
                  </a:r>
                  <a:r>
                    <a:rPr b="1"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gateway devices on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
                <p:cNvSpPr/>
                <p:nvPr/>
              </p:nvSpPr>
              <p:spPr>
                <a:xfrm>
                  <a:off x="4835520" y="2533680"/>
                  <a:ext cx="230796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7143480" y="2533680"/>
                <a:ext cx="708120" cy="579600"/>
                <a:chOff x="7143480" y="2533680"/>
                <a:chExt cx="708120" cy="579600"/>
              </a:xfrm>
            </p:grpSpPr>
            <p:sp>
              <p:nvSpPr>
                <p:cNvPr id="334" name=""/>
                <p:cNvSpPr/>
                <p:nvPr/>
              </p:nvSpPr>
              <p:spPr>
                <a:xfrm>
                  <a:off x="7211880" y="2533680"/>
                  <a:ext cx="57132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7143480" y="2533680"/>
                  <a:ext cx="708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1292040" y="3113280"/>
                <a:ext cx="1517760" cy="836640"/>
                <a:chOff x="1292040" y="3113280"/>
                <a:chExt cx="1517760" cy="836640"/>
              </a:xfrm>
            </p:grpSpPr>
            <p:sp>
              <p:nvSpPr>
                <p:cNvPr id="337" name=""/>
                <p:cNvSpPr/>
                <p:nvPr/>
              </p:nvSpPr>
              <p:spPr>
                <a:xfrm>
                  <a:off x="1360440" y="3113280"/>
                  <a:ext cx="13809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mple Network Join/UnJoin Procedures for RF enabled devi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
                <p:cNvSpPr/>
                <p:nvPr/>
              </p:nvSpPr>
              <p:spPr>
                <a:xfrm>
                  <a:off x="1292040" y="3113280"/>
                  <a:ext cx="151776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2809800" y="3113280"/>
                <a:ext cx="2025720" cy="836640"/>
                <a:chOff x="2809800" y="3113280"/>
                <a:chExt cx="2025720" cy="836640"/>
              </a:xfrm>
            </p:grpSpPr>
            <p:sp>
              <p:nvSpPr>
                <p:cNvPr id="340" name=""/>
                <p:cNvSpPr/>
                <p:nvPr/>
              </p:nvSpPr>
              <p:spPr>
                <a:xfrm>
                  <a:off x="2877840" y="3113280"/>
                  <a:ext cx="188928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
                <p:cNvSpPr/>
                <p:nvPr/>
              </p:nvSpPr>
              <p:spPr>
                <a:xfrm>
                  <a:off x="2809800" y="3113280"/>
                  <a:ext cx="20257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4835520" y="3113280"/>
                <a:ext cx="2307960" cy="836640"/>
                <a:chOff x="4835520" y="3113280"/>
                <a:chExt cx="2307960" cy="836640"/>
              </a:xfrm>
            </p:grpSpPr>
            <p:sp>
              <p:nvSpPr>
                <p:cNvPr id="343" name=""/>
                <p:cNvSpPr/>
                <p:nvPr/>
              </p:nvSpPr>
              <p:spPr>
                <a:xfrm>
                  <a:off x="4903560" y="3113280"/>
                  <a:ext cx="217188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twork join/unjoin can be either automatic or manu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e network connection is established, sync is inher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
                <p:cNvSpPr/>
                <p:nvPr/>
              </p:nvSpPr>
              <p:spPr>
                <a:xfrm>
                  <a:off x="4835520" y="3113280"/>
                  <a:ext cx="230796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7143480" y="3113280"/>
                <a:ext cx="708120" cy="836640"/>
                <a:chOff x="7143480" y="3113280"/>
                <a:chExt cx="708120" cy="836640"/>
              </a:xfrm>
            </p:grpSpPr>
            <p:sp>
              <p:nvSpPr>
                <p:cNvPr id="346" name=""/>
                <p:cNvSpPr/>
                <p:nvPr/>
              </p:nvSpPr>
              <p:spPr>
                <a:xfrm>
                  <a:off x="7211880" y="3113280"/>
                  <a:ext cx="57132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7143480" y="3113280"/>
                  <a:ext cx="7081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1292040" y="3950280"/>
                <a:ext cx="1517760" cy="708120"/>
                <a:chOff x="1292040" y="3950280"/>
                <a:chExt cx="1517760" cy="708120"/>
              </a:xfrm>
            </p:grpSpPr>
            <p:sp>
              <p:nvSpPr>
                <p:cNvPr id="349" name=""/>
                <p:cNvSpPr/>
                <p:nvPr/>
              </p:nvSpPr>
              <p:spPr>
                <a:xfrm>
                  <a:off x="1360440" y="3950280"/>
                  <a:ext cx="138096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vice Regist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
                <p:cNvSpPr/>
                <p:nvPr/>
              </p:nvSpPr>
              <p:spPr>
                <a:xfrm>
                  <a:off x="1292040" y="3950280"/>
                  <a:ext cx="151776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2809800" y="3950280"/>
                <a:ext cx="2025720" cy="708120"/>
                <a:chOff x="2809800" y="3950280"/>
                <a:chExt cx="2025720" cy="708120"/>
              </a:xfrm>
            </p:grpSpPr>
            <p:sp>
              <p:nvSpPr>
                <p:cNvPr id="352" name=""/>
                <p:cNvSpPr/>
                <p:nvPr/>
              </p:nvSpPr>
              <p:spPr>
                <a:xfrm>
                  <a:off x="2877840" y="3950280"/>
                  <a:ext cx="188928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
                <p:cNvSpPr/>
                <p:nvPr/>
              </p:nvSpPr>
              <p:spPr>
                <a:xfrm>
                  <a:off x="2809800" y="3950280"/>
                  <a:ext cx="20257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4835520" y="3950280"/>
                <a:ext cx="2307960" cy="708120"/>
                <a:chOff x="4835520" y="3950280"/>
                <a:chExt cx="2307960" cy="708120"/>
              </a:xfrm>
            </p:grpSpPr>
            <p:sp>
              <p:nvSpPr>
                <p:cNvPr id="355" name=""/>
                <p:cNvSpPr/>
                <p:nvPr/>
              </p:nvSpPr>
              <p:spPr>
                <a:xfrm>
                  <a:off x="4903560" y="3950280"/>
                  <a:ext cx="217188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4835520" y="3950280"/>
                  <a:ext cx="230796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7143480" y="3950280"/>
                <a:ext cx="708120" cy="708120"/>
                <a:chOff x="7143480" y="3950280"/>
                <a:chExt cx="708120" cy="708120"/>
              </a:xfrm>
            </p:grpSpPr>
            <p:sp>
              <p:nvSpPr>
                <p:cNvPr id="358" name=""/>
                <p:cNvSpPr/>
                <p:nvPr/>
              </p:nvSpPr>
              <p:spPr>
                <a:xfrm>
                  <a:off x="7211880" y="3950280"/>
                  <a:ext cx="57132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7143480" y="3950280"/>
                  <a:ext cx="7081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1292040" y="4658760"/>
                <a:ext cx="1517760" cy="579240"/>
                <a:chOff x="1292040" y="4658760"/>
                <a:chExt cx="1517760" cy="579240"/>
              </a:xfrm>
            </p:grpSpPr>
            <p:sp>
              <p:nvSpPr>
                <p:cNvPr id="361" name=""/>
                <p:cNvSpPr/>
                <p:nvPr/>
              </p:nvSpPr>
              <p:spPr>
                <a:xfrm>
                  <a:off x="1360440" y="4658760"/>
                  <a:ext cx="13809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livered data throughp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292040" y="4658760"/>
                  <a:ext cx="151776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2809800" y="4658760"/>
                <a:ext cx="2025720" cy="579240"/>
                <a:chOff x="2809800" y="4658760"/>
                <a:chExt cx="2025720" cy="579240"/>
              </a:xfrm>
            </p:grpSpPr>
            <p:sp>
              <p:nvSpPr>
                <p:cNvPr id="364" name=""/>
                <p:cNvSpPr/>
                <p:nvPr/>
              </p:nvSpPr>
              <p:spPr>
                <a:xfrm>
                  <a:off x="2877840" y="4658760"/>
                  <a:ext cx="188928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
                <p:cNvSpPr/>
                <p:nvPr/>
              </p:nvSpPr>
              <p:spPr>
                <a:xfrm>
                  <a:off x="2809800" y="4658760"/>
                  <a:ext cx="20257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4835520" y="4658760"/>
                <a:ext cx="2307960" cy="579240"/>
                <a:chOff x="4835520" y="4658760"/>
                <a:chExt cx="2307960" cy="579240"/>
              </a:xfrm>
            </p:grpSpPr>
            <p:sp>
              <p:nvSpPr>
                <p:cNvPr id="367" name=""/>
                <p:cNvSpPr/>
                <p:nvPr/>
              </p:nvSpPr>
              <p:spPr>
                <a:xfrm>
                  <a:off x="4903560" y="4658760"/>
                  <a:ext cx="217188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
                <p:cNvSpPr/>
                <p:nvPr/>
              </p:nvSpPr>
              <p:spPr>
                <a:xfrm>
                  <a:off x="4835520" y="4658760"/>
                  <a:ext cx="230796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7143480" y="4658760"/>
                <a:ext cx="708120" cy="579240"/>
                <a:chOff x="7143480" y="4658760"/>
                <a:chExt cx="708120" cy="579240"/>
              </a:xfrm>
            </p:grpSpPr>
            <p:sp>
              <p:nvSpPr>
                <p:cNvPr id="370" name=""/>
                <p:cNvSpPr/>
                <p:nvPr/>
              </p:nvSpPr>
              <p:spPr>
                <a:xfrm>
                  <a:off x="7211880" y="4658760"/>
                  <a:ext cx="57132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7143480" y="4658760"/>
                  <a:ext cx="7081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1292040" y="5238000"/>
                <a:ext cx="1517760" cy="708120"/>
                <a:chOff x="1292040" y="5238000"/>
                <a:chExt cx="1517760" cy="708120"/>
              </a:xfrm>
            </p:grpSpPr>
            <p:sp>
              <p:nvSpPr>
                <p:cNvPr id="373" name=""/>
                <p:cNvSpPr/>
                <p:nvPr/>
              </p:nvSpPr>
              <p:spPr>
                <a:xfrm>
                  <a:off x="1360440" y="5238000"/>
                  <a:ext cx="138096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ffic Typ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
                <p:cNvSpPr/>
                <p:nvPr/>
              </p:nvSpPr>
              <p:spPr>
                <a:xfrm>
                  <a:off x="1292040" y="5238000"/>
                  <a:ext cx="151776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2809800" y="5238000"/>
                <a:ext cx="2025720" cy="708120"/>
                <a:chOff x="2809800" y="5238000"/>
                <a:chExt cx="2025720" cy="708120"/>
              </a:xfrm>
            </p:grpSpPr>
            <p:sp>
              <p:nvSpPr>
                <p:cNvPr id="376" name=""/>
                <p:cNvSpPr/>
                <p:nvPr/>
              </p:nvSpPr>
              <p:spPr>
                <a:xfrm>
                  <a:off x="2877840" y="5238000"/>
                  <a:ext cx="188928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eakdown of Application Requirements3.3.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
                <p:cNvSpPr/>
                <p:nvPr/>
              </p:nvSpPr>
              <p:spPr>
                <a:xfrm>
                  <a:off x="2809800" y="5238000"/>
                  <a:ext cx="20257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4835520" y="5238000"/>
                <a:ext cx="2307960" cy="708120"/>
                <a:chOff x="4835520" y="5238000"/>
                <a:chExt cx="2307960" cy="708120"/>
              </a:xfrm>
            </p:grpSpPr>
            <p:sp>
              <p:nvSpPr>
                <p:cNvPr id="379" name=""/>
                <p:cNvSpPr/>
                <p:nvPr/>
              </p:nvSpPr>
              <p:spPr>
                <a:xfrm>
                  <a:off x="4903560" y="5238000"/>
                  <a:ext cx="217188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ontinuos Data</a:t>
                  </a:r>
                  <a:r>
                    <a:rPr b="0" lang="en-US" sz="1200" spc="-1" strike="noStrike">
                      <a:solidFill>
                        <a:srgbClr val="000000"/>
                      </a:solidFill>
                      <a:latin typeface="Times New Roman"/>
                      <a:ea typeface="Times New Roman"/>
                    </a:rPr>
                    <a:t>  - TB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Periodic Data</a:t>
                  </a:r>
                  <a:r>
                    <a:rPr b="0" lang="en-US" sz="1200" spc="-1" strike="noStrike">
                      <a:solidFill>
                        <a:srgbClr val="000000"/>
                      </a:solidFill>
                      <a:latin typeface="Times New Roman"/>
                      <a:ea typeface="Times New Roman"/>
                    </a:rPr>
                    <a:t> - TB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mittent Data</a:t>
                  </a:r>
                  <a:r>
                    <a:rPr b="0" lang="en-US" sz="1200" spc="-1" strike="noStrike">
                      <a:solidFill>
                        <a:srgbClr val="000000"/>
                      </a:solidFill>
                      <a:latin typeface="Times New Roman"/>
                      <a:ea typeface="Times New Roman"/>
                    </a:rPr>
                    <a:t>  - TB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835520" y="5238000"/>
                  <a:ext cx="230796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7143480" y="5238000"/>
                <a:ext cx="708120" cy="708120"/>
                <a:chOff x="7143480" y="5238000"/>
                <a:chExt cx="708120" cy="708120"/>
              </a:xfrm>
            </p:grpSpPr>
            <p:sp>
              <p:nvSpPr>
                <p:cNvPr id="382" name=""/>
                <p:cNvSpPr/>
                <p:nvPr/>
              </p:nvSpPr>
              <p:spPr>
                <a:xfrm>
                  <a:off x="7211880" y="5238000"/>
                  <a:ext cx="571320" cy="708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83" name=""/>
                <p:cNvSpPr/>
                <p:nvPr/>
              </p:nvSpPr>
              <p:spPr>
                <a:xfrm>
                  <a:off x="7143480" y="5238000"/>
                  <a:ext cx="708120" cy="70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292040" y="5946120"/>
                <a:ext cx="1517760" cy="450720"/>
                <a:chOff x="1292040" y="5946120"/>
                <a:chExt cx="1517760" cy="450720"/>
              </a:xfrm>
            </p:grpSpPr>
            <p:sp>
              <p:nvSpPr>
                <p:cNvPr id="385" name=""/>
                <p:cNvSpPr/>
                <p:nvPr/>
              </p:nvSpPr>
              <p:spPr>
                <a:xfrm>
                  <a:off x="1360440" y="5946120"/>
                  <a:ext cx="138096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polog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
                <p:cNvSpPr/>
                <p:nvPr/>
              </p:nvSpPr>
              <p:spPr>
                <a:xfrm>
                  <a:off x="1292040" y="5946120"/>
                  <a:ext cx="1517760" cy="45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2809800" y="5946120"/>
                <a:ext cx="2025720" cy="450720"/>
                <a:chOff x="2809800" y="5946120"/>
                <a:chExt cx="2025720" cy="450720"/>
              </a:xfrm>
            </p:grpSpPr>
            <p:sp>
              <p:nvSpPr>
                <p:cNvPr id="388" name=""/>
                <p:cNvSpPr/>
                <p:nvPr/>
              </p:nvSpPr>
              <p:spPr>
                <a:xfrm>
                  <a:off x="2877840" y="5946120"/>
                  <a:ext cx="188928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
                <p:cNvSpPr/>
                <p:nvPr/>
              </p:nvSpPr>
              <p:spPr>
                <a:xfrm>
                  <a:off x="2809800" y="5946120"/>
                  <a:ext cx="2025720" cy="45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4835520" y="5946120"/>
                <a:ext cx="2307960" cy="450720"/>
                <a:chOff x="4835520" y="5946120"/>
                <a:chExt cx="2307960" cy="450720"/>
              </a:xfrm>
            </p:grpSpPr>
            <p:sp>
              <p:nvSpPr>
                <p:cNvPr id="391" name=""/>
                <p:cNvSpPr/>
                <p:nvPr/>
              </p:nvSpPr>
              <p:spPr>
                <a:xfrm>
                  <a:off x="4903560" y="5946120"/>
                  <a:ext cx="217188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
                <p:cNvSpPr/>
                <p:nvPr/>
              </p:nvSpPr>
              <p:spPr>
                <a:xfrm>
                  <a:off x="4835520" y="5946120"/>
                  <a:ext cx="2307960" cy="45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7143480" y="5946120"/>
                <a:ext cx="708120" cy="450720"/>
                <a:chOff x="7143480" y="5946120"/>
                <a:chExt cx="708120" cy="450720"/>
              </a:xfrm>
            </p:grpSpPr>
            <p:sp>
              <p:nvSpPr>
                <p:cNvPr id="394" name=""/>
                <p:cNvSpPr/>
                <p:nvPr/>
              </p:nvSpPr>
              <p:spPr>
                <a:xfrm>
                  <a:off x="7211880" y="5946120"/>
                  <a:ext cx="57132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
                <p:cNvSpPr/>
                <p:nvPr/>
              </p:nvSpPr>
              <p:spPr>
                <a:xfrm>
                  <a:off x="7143480" y="5946120"/>
                  <a:ext cx="708120" cy="45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6" name=""/>
            <p:cNvSpPr/>
            <p:nvPr/>
          </p:nvSpPr>
          <p:spPr>
            <a:xfrm>
              <a:off x="1287360" y="1371600"/>
              <a:ext cx="656892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7" name=""/>
          <p:cNvSpPr/>
          <p:nvPr/>
        </p:nvSpPr>
        <p:spPr>
          <a:xfrm>
            <a:off x="4876920" y="320040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876920" y="3886200"/>
            <a:ext cx="2286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dependent.  Some apps need security of user intervention, some can be more promiscuous.</a:t>
            </a:r>
            <a:endParaRPr b="0" lang="en-US" sz="1200" spc="-1" strike="noStrike">
              <a:solidFill>
                <a:srgbClr val="000000"/>
              </a:solidFill>
              <a:latin typeface="Times New Roman"/>
            </a:endParaRPr>
          </a:p>
        </p:txBody>
      </p:sp>
      <p:sp>
        <p:nvSpPr>
          <p:cNvPr id="399" name=""/>
          <p:cNvSpPr/>
          <p:nvPr/>
        </p:nvSpPr>
        <p:spPr>
          <a:xfrm>
            <a:off x="4876920" y="4648320"/>
            <a:ext cx="228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data rate 160 kbps, scalable. Net throughput TBD pending sim results for various cases.</a:t>
            </a:r>
            <a:endParaRPr b="0" lang="en-US" sz="1200" spc="-1" strike="noStrike">
              <a:solidFill>
                <a:srgbClr val="000000"/>
              </a:solidFill>
              <a:latin typeface="Times New Roman"/>
            </a:endParaRPr>
          </a:p>
        </p:txBody>
      </p:sp>
      <p:sp>
        <p:nvSpPr>
          <p:cNvPr id="400" name=""/>
          <p:cNvSpPr/>
          <p:nvPr/>
        </p:nvSpPr>
        <p:spPr>
          <a:xfrm>
            <a:off x="4876920" y="5943600"/>
            <a:ext cx="2286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h or star, master/slave, peer-peer, with relays to extend rang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BA334D8B-8607-4563-A22D-7F5039836720}" type="slidenum">
              <a:t>1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MAC Protocol Criteria (cont.)</a:t>
            </a:r>
            <a:endParaRPr b="0" lang="en-US" sz="2000" spc="-1" strike="noStrike">
              <a:solidFill>
                <a:srgbClr val="000000"/>
              </a:solidFill>
              <a:latin typeface="Times New Roman"/>
            </a:endParaRPr>
          </a:p>
        </p:txBody>
      </p:sp>
      <p:grpSp>
        <p:nvGrpSpPr>
          <p:cNvPr id="402" name=""/>
          <p:cNvGrpSpPr/>
          <p:nvPr/>
        </p:nvGrpSpPr>
        <p:grpSpPr>
          <a:xfrm>
            <a:off x="1447920" y="1371600"/>
            <a:ext cx="6205320" cy="5029200"/>
            <a:chOff x="1447920" y="1371600"/>
            <a:chExt cx="6205320" cy="5029200"/>
          </a:xfrm>
        </p:grpSpPr>
        <p:grpSp>
          <p:nvGrpSpPr>
            <p:cNvPr id="403" name=""/>
            <p:cNvGrpSpPr/>
            <p:nvPr/>
          </p:nvGrpSpPr>
          <p:grpSpPr>
            <a:xfrm>
              <a:off x="1452600" y="1374120"/>
              <a:ext cx="6195960" cy="5023440"/>
              <a:chOff x="1452600" y="1374120"/>
              <a:chExt cx="6195960" cy="5023440"/>
            </a:xfrm>
          </p:grpSpPr>
          <p:grpSp>
            <p:nvGrpSpPr>
              <p:cNvPr id="404" name=""/>
              <p:cNvGrpSpPr/>
              <p:nvPr/>
            </p:nvGrpSpPr>
            <p:grpSpPr>
              <a:xfrm>
                <a:off x="1452600" y="1374120"/>
                <a:ext cx="1517760" cy="390600"/>
                <a:chOff x="1452600" y="1374120"/>
                <a:chExt cx="1517760" cy="390600"/>
              </a:xfrm>
            </p:grpSpPr>
            <p:sp>
              <p:nvSpPr>
                <p:cNvPr id="405" name=""/>
                <p:cNvSpPr/>
                <p:nvPr/>
              </p:nvSpPr>
              <p:spPr>
                <a:xfrm>
                  <a:off x="1452600" y="1374120"/>
                  <a:ext cx="1517760" cy="390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 name=""/>
                <p:cNvGrpSpPr/>
                <p:nvPr/>
              </p:nvGrpSpPr>
              <p:grpSpPr>
                <a:xfrm>
                  <a:off x="1452600" y="1374120"/>
                  <a:ext cx="1517760" cy="390600"/>
                  <a:chOff x="1452600" y="1374120"/>
                  <a:chExt cx="1517760" cy="390600"/>
                </a:xfrm>
              </p:grpSpPr>
              <p:sp>
                <p:nvSpPr>
                  <p:cNvPr id="407" name=""/>
                  <p:cNvSpPr/>
                  <p:nvPr/>
                </p:nvSpPr>
                <p:spPr>
                  <a:xfrm>
                    <a:off x="1521000" y="1374120"/>
                    <a:ext cx="1380960" cy="3906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
                  <p:cNvSpPr/>
                  <p:nvPr/>
                </p:nvSpPr>
                <p:spPr>
                  <a:xfrm>
                    <a:off x="1452600" y="1374120"/>
                    <a:ext cx="151776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9" name=""/>
              <p:cNvGrpSpPr/>
              <p:nvPr/>
            </p:nvGrpSpPr>
            <p:grpSpPr>
              <a:xfrm>
                <a:off x="2970360" y="1374120"/>
                <a:ext cx="712800" cy="390600"/>
                <a:chOff x="2970360" y="1374120"/>
                <a:chExt cx="712800" cy="390600"/>
              </a:xfrm>
            </p:grpSpPr>
            <p:sp>
              <p:nvSpPr>
                <p:cNvPr id="410" name=""/>
                <p:cNvSpPr/>
                <p:nvPr/>
              </p:nvSpPr>
              <p:spPr>
                <a:xfrm>
                  <a:off x="2970360" y="1374120"/>
                  <a:ext cx="712800" cy="390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1" name=""/>
                <p:cNvGrpSpPr/>
                <p:nvPr/>
              </p:nvGrpSpPr>
              <p:grpSpPr>
                <a:xfrm>
                  <a:off x="2970360" y="1374120"/>
                  <a:ext cx="712800" cy="390600"/>
                  <a:chOff x="2970360" y="1374120"/>
                  <a:chExt cx="712800" cy="390600"/>
                </a:xfrm>
              </p:grpSpPr>
              <p:sp>
                <p:nvSpPr>
                  <p:cNvPr id="412" name=""/>
                  <p:cNvSpPr/>
                  <p:nvPr/>
                </p:nvSpPr>
                <p:spPr>
                  <a:xfrm>
                    <a:off x="3038400" y="1374120"/>
                    <a:ext cx="576360" cy="3906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
                  <p:cNvSpPr/>
                  <p:nvPr/>
                </p:nvSpPr>
                <p:spPr>
                  <a:xfrm>
                    <a:off x="2970360" y="1374120"/>
                    <a:ext cx="71280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4" name=""/>
              <p:cNvGrpSpPr/>
              <p:nvPr/>
            </p:nvGrpSpPr>
            <p:grpSpPr>
              <a:xfrm>
                <a:off x="3683160" y="1374120"/>
                <a:ext cx="3317760" cy="390600"/>
                <a:chOff x="3683160" y="1374120"/>
                <a:chExt cx="3317760" cy="390600"/>
              </a:xfrm>
            </p:grpSpPr>
            <p:sp>
              <p:nvSpPr>
                <p:cNvPr id="415" name=""/>
                <p:cNvSpPr/>
                <p:nvPr/>
              </p:nvSpPr>
              <p:spPr>
                <a:xfrm>
                  <a:off x="3683160" y="1374120"/>
                  <a:ext cx="3317760" cy="390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3683160" y="1374120"/>
                  <a:ext cx="3317760" cy="390600"/>
                  <a:chOff x="3683160" y="1374120"/>
                  <a:chExt cx="3317760" cy="390600"/>
                </a:xfrm>
              </p:grpSpPr>
              <p:sp>
                <p:nvSpPr>
                  <p:cNvPr id="417" name=""/>
                  <p:cNvSpPr/>
                  <p:nvPr/>
                </p:nvSpPr>
                <p:spPr>
                  <a:xfrm>
                    <a:off x="3751200" y="1374120"/>
                    <a:ext cx="3181320" cy="3906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
                  <p:cNvSpPr/>
                  <p:nvPr/>
                </p:nvSpPr>
                <p:spPr>
                  <a:xfrm>
                    <a:off x="3683160" y="1374120"/>
                    <a:ext cx="331776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9" name=""/>
              <p:cNvGrpSpPr/>
              <p:nvPr/>
            </p:nvGrpSpPr>
            <p:grpSpPr>
              <a:xfrm>
                <a:off x="7000920" y="1374120"/>
                <a:ext cx="647640" cy="390600"/>
                <a:chOff x="7000920" y="1374120"/>
                <a:chExt cx="647640" cy="390600"/>
              </a:xfrm>
            </p:grpSpPr>
            <p:sp>
              <p:nvSpPr>
                <p:cNvPr id="420" name=""/>
                <p:cNvSpPr/>
                <p:nvPr/>
              </p:nvSpPr>
              <p:spPr>
                <a:xfrm>
                  <a:off x="7000920" y="1374120"/>
                  <a:ext cx="647640" cy="390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1" name=""/>
                <p:cNvGrpSpPr/>
                <p:nvPr/>
              </p:nvGrpSpPr>
              <p:grpSpPr>
                <a:xfrm>
                  <a:off x="7000920" y="1374120"/>
                  <a:ext cx="647640" cy="390600"/>
                  <a:chOff x="7000920" y="1374120"/>
                  <a:chExt cx="647640" cy="390600"/>
                </a:xfrm>
              </p:grpSpPr>
              <p:sp>
                <p:nvSpPr>
                  <p:cNvPr id="422" name=""/>
                  <p:cNvSpPr/>
                  <p:nvPr/>
                </p:nvSpPr>
                <p:spPr>
                  <a:xfrm>
                    <a:off x="7069320" y="1374120"/>
                    <a:ext cx="511200" cy="3906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7000920" y="1374120"/>
                    <a:ext cx="64764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4" name=""/>
              <p:cNvGrpSpPr/>
              <p:nvPr/>
            </p:nvGrpSpPr>
            <p:grpSpPr>
              <a:xfrm>
                <a:off x="1452600" y="1764720"/>
                <a:ext cx="1517760" cy="948600"/>
                <a:chOff x="1452600" y="1764720"/>
                <a:chExt cx="1517760" cy="948600"/>
              </a:xfrm>
            </p:grpSpPr>
            <p:sp>
              <p:nvSpPr>
                <p:cNvPr id="425" name=""/>
                <p:cNvSpPr/>
                <p:nvPr/>
              </p:nvSpPr>
              <p:spPr>
                <a:xfrm>
                  <a:off x="1521000" y="1764720"/>
                  <a:ext cx="1380960" cy="94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x. # of devi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
                <p:cNvSpPr/>
                <p:nvPr/>
              </p:nvSpPr>
              <p:spPr>
                <a:xfrm>
                  <a:off x="1452600" y="1764720"/>
                  <a:ext cx="1517760" cy="94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970360" y="1764720"/>
                <a:ext cx="712800" cy="948600"/>
                <a:chOff x="2970360" y="1764720"/>
                <a:chExt cx="712800" cy="948600"/>
              </a:xfrm>
            </p:grpSpPr>
            <p:sp>
              <p:nvSpPr>
                <p:cNvPr id="428" name=""/>
                <p:cNvSpPr/>
                <p:nvPr/>
              </p:nvSpPr>
              <p:spPr>
                <a:xfrm>
                  <a:off x="3038400" y="1764720"/>
                  <a:ext cx="576360" cy="94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
                <p:cNvSpPr/>
                <p:nvPr/>
              </p:nvSpPr>
              <p:spPr>
                <a:xfrm>
                  <a:off x="2970360" y="1764720"/>
                  <a:ext cx="712800" cy="94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683160" y="1764720"/>
                <a:ext cx="3317760" cy="948600"/>
                <a:chOff x="3683160" y="1764720"/>
                <a:chExt cx="3317760" cy="948600"/>
              </a:xfrm>
            </p:grpSpPr>
            <p:sp>
              <p:nvSpPr>
                <p:cNvPr id="431" name=""/>
                <p:cNvSpPr/>
                <p:nvPr/>
              </p:nvSpPr>
              <p:spPr>
                <a:xfrm>
                  <a:off x="3751200" y="1764720"/>
                  <a:ext cx="3181320" cy="94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ddress Space: 255, extendable</a:t>
                  </a:r>
                  <a:br>
                    <a:rPr sz="1200"/>
                  </a:br>
                  <a:r>
                    <a:rPr b="0" lang="en-US" sz="1200" spc="-1" strike="noStrike">
                      <a:solidFill>
                        <a:srgbClr val="000000"/>
                      </a:solidFill>
                      <a:latin typeface="Times New Roman"/>
                      <a:ea typeface="Times New Roman"/>
                    </a:rPr>
                    <a:t>2a. Continuos Data: TBD rqmt. ill-defined</a:t>
                  </a:r>
                  <a:br>
                    <a:rPr sz="1200"/>
                  </a:br>
                  <a:r>
                    <a:rPr b="0" lang="en-US" sz="1200" spc="-1" strike="noStrike">
                      <a:solidFill>
                        <a:srgbClr val="000000"/>
                      </a:solidFill>
                      <a:latin typeface="Times New Roman"/>
                      <a:ea typeface="Times New Roman"/>
                    </a:rPr>
                    <a:t>2b. Periodic Data: TBD rqmt. ill-defined</a:t>
                  </a:r>
                  <a:br>
                    <a:rPr sz="1200"/>
                  </a:br>
                  <a:r>
                    <a:rPr b="0" lang="en-US" sz="1200" spc="-1" strike="noStrike">
                      <a:solidFill>
                        <a:srgbClr val="000000"/>
                      </a:solidFill>
                      <a:latin typeface="Times New Roman"/>
                      <a:ea typeface="Times New Roman"/>
                    </a:rPr>
                    <a:t>2c. Intermittent Data: TBD rqmt. ill-defined</a:t>
                  </a:r>
                  <a:br>
                    <a:rPr sz="1200"/>
                  </a:br>
                  <a:r>
                    <a:rPr b="0" lang="en-US" sz="1200" spc="-1" strike="noStrike">
                      <a:solidFill>
                        <a:srgbClr val="000000"/>
                      </a:solidFill>
                      <a:latin typeface="Times New Roman"/>
                      <a:ea typeface="Times New Roman"/>
                    </a:rPr>
                    <a:t>3. Combination: TBD rqmt. ill-defined</a:t>
                  </a: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
                <p:cNvSpPr/>
                <p:nvPr/>
              </p:nvSpPr>
              <p:spPr>
                <a:xfrm>
                  <a:off x="3683160" y="1764720"/>
                  <a:ext cx="3317760" cy="94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7000920" y="1764720"/>
                <a:ext cx="647640" cy="948600"/>
                <a:chOff x="7000920" y="1764720"/>
                <a:chExt cx="647640" cy="948600"/>
              </a:xfrm>
            </p:grpSpPr>
            <p:sp>
              <p:nvSpPr>
                <p:cNvPr id="434" name=""/>
                <p:cNvSpPr/>
                <p:nvPr/>
              </p:nvSpPr>
              <p:spPr>
                <a:xfrm>
                  <a:off x="7069320" y="1764720"/>
                  <a:ext cx="511200" cy="9486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35" name=""/>
                <p:cNvSpPr/>
                <p:nvPr/>
              </p:nvSpPr>
              <p:spPr>
                <a:xfrm>
                  <a:off x="7000920" y="1764720"/>
                  <a:ext cx="647640" cy="94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1452600" y="2713680"/>
                <a:ext cx="1517760" cy="502200"/>
                <a:chOff x="1452600" y="2713680"/>
                <a:chExt cx="1517760" cy="502200"/>
              </a:xfrm>
            </p:grpSpPr>
            <p:sp>
              <p:nvSpPr>
                <p:cNvPr id="437" name=""/>
                <p:cNvSpPr/>
                <p:nvPr/>
              </p:nvSpPr>
              <p:spPr>
                <a:xfrm>
                  <a:off x="1521000" y="2713680"/>
                  <a:ext cx="138096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Hoc Network</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
                <p:cNvSpPr/>
                <p:nvPr/>
              </p:nvSpPr>
              <p:spPr>
                <a:xfrm>
                  <a:off x="1452600" y="2713680"/>
                  <a:ext cx="151776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2970360" y="2713680"/>
                <a:ext cx="712800" cy="502200"/>
                <a:chOff x="2970360" y="2713680"/>
                <a:chExt cx="712800" cy="502200"/>
              </a:xfrm>
            </p:grpSpPr>
            <p:sp>
              <p:nvSpPr>
                <p:cNvPr id="440" name=""/>
                <p:cNvSpPr/>
                <p:nvPr/>
              </p:nvSpPr>
              <p:spPr>
                <a:xfrm>
                  <a:off x="3038400" y="2713680"/>
                  <a:ext cx="57636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
                <p:cNvSpPr/>
                <p:nvPr/>
              </p:nvSpPr>
              <p:spPr>
                <a:xfrm>
                  <a:off x="2970360" y="2713680"/>
                  <a:ext cx="71280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3683160" y="2713680"/>
                <a:ext cx="3317760" cy="502200"/>
                <a:chOff x="3683160" y="2713680"/>
                <a:chExt cx="3317760" cy="502200"/>
              </a:xfrm>
            </p:grpSpPr>
            <p:sp>
              <p:nvSpPr>
                <p:cNvPr id="443" name=""/>
                <p:cNvSpPr/>
                <p:nvPr/>
              </p:nvSpPr>
              <p:spPr>
                <a:xfrm>
                  <a:off x="3751200" y="2713680"/>
                  <a:ext cx="318132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br>
                    <a:rPr sz="1200"/>
                  </a:b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
                <p:cNvSpPr/>
                <p:nvPr/>
              </p:nvSpPr>
              <p:spPr>
                <a:xfrm>
                  <a:off x="3683160" y="2713680"/>
                  <a:ext cx="331776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000920" y="2713680"/>
                <a:ext cx="647640" cy="502200"/>
                <a:chOff x="7000920" y="2713680"/>
                <a:chExt cx="647640" cy="502200"/>
              </a:xfrm>
            </p:grpSpPr>
            <p:sp>
              <p:nvSpPr>
                <p:cNvPr id="446" name=""/>
                <p:cNvSpPr/>
                <p:nvPr/>
              </p:nvSpPr>
              <p:spPr>
                <a:xfrm>
                  <a:off x="7069320" y="2713680"/>
                  <a:ext cx="51120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
                <p:cNvSpPr/>
                <p:nvPr/>
              </p:nvSpPr>
              <p:spPr>
                <a:xfrm>
                  <a:off x="7000920" y="2713680"/>
                  <a:ext cx="64764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1452600" y="3215880"/>
                <a:ext cx="1517760" cy="502200"/>
                <a:chOff x="1452600" y="3215880"/>
                <a:chExt cx="1517760" cy="502200"/>
              </a:xfrm>
            </p:grpSpPr>
            <p:sp>
              <p:nvSpPr>
                <p:cNvPr id="449" name=""/>
                <p:cNvSpPr/>
                <p:nvPr/>
              </p:nvSpPr>
              <p:spPr>
                <a:xfrm>
                  <a:off x="1521000" y="3215880"/>
                  <a:ext cx="138096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ss to a Gate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
                <p:cNvSpPr/>
                <p:nvPr/>
              </p:nvSpPr>
              <p:spPr>
                <a:xfrm>
                  <a:off x="1452600" y="3215880"/>
                  <a:ext cx="151776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2970360" y="3215880"/>
                <a:ext cx="712800" cy="502200"/>
                <a:chOff x="2970360" y="3215880"/>
                <a:chExt cx="712800" cy="502200"/>
              </a:xfrm>
            </p:grpSpPr>
            <p:sp>
              <p:nvSpPr>
                <p:cNvPr id="452" name=""/>
                <p:cNvSpPr/>
                <p:nvPr/>
              </p:nvSpPr>
              <p:spPr>
                <a:xfrm>
                  <a:off x="3038400" y="3215880"/>
                  <a:ext cx="57636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
                <p:cNvSpPr/>
                <p:nvPr/>
              </p:nvSpPr>
              <p:spPr>
                <a:xfrm>
                  <a:off x="2970360" y="3215880"/>
                  <a:ext cx="71280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3683160" y="3215880"/>
                <a:ext cx="3317760" cy="502200"/>
                <a:chOff x="3683160" y="3215880"/>
                <a:chExt cx="3317760" cy="502200"/>
              </a:xfrm>
            </p:grpSpPr>
            <p:sp>
              <p:nvSpPr>
                <p:cNvPr id="455" name=""/>
                <p:cNvSpPr/>
                <p:nvPr/>
              </p:nvSpPr>
              <p:spPr>
                <a:xfrm>
                  <a:off x="3751200" y="3215880"/>
                  <a:ext cx="318132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br>
                    <a:rPr sz="1200"/>
                  </a:b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
                <p:cNvSpPr/>
                <p:nvPr/>
              </p:nvSpPr>
              <p:spPr>
                <a:xfrm>
                  <a:off x="3683160" y="3215880"/>
                  <a:ext cx="331776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7000920" y="3215880"/>
                <a:ext cx="647640" cy="502200"/>
                <a:chOff x="7000920" y="3215880"/>
                <a:chExt cx="647640" cy="502200"/>
              </a:xfrm>
            </p:grpSpPr>
            <p:sp>
              <p:nvSpPr>
                <p:cNvPr id="458" name=""/>
                <p:cNvSpPr/>
                <p:nvPr/>
              </p:nvSpPr>
              <p:spPr>
                <a:xfrm>
                  <a:off x="7069320" y="3215880"/>
                  <a:ext cx="51120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
                <p:cNvSpPr/>
                <p:nvPr/>
              </p:nvSpPr>
              <p:spPr>
                <a:xfrm>
                  <a:off x="7000920" y="3215880"/>
                  <a:ext cx="64764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1452600" y="3718440"/>
                <a:ext cx="1517760" cy="613800"/>
                <a:chOff x="1452600" y="3718440"/>
                <a:chExt cx="1517760" cy="613800"/>
              </a:xfrm>
            </p:grpSpPr>
            <p:sp>
              <p:nvSpPr>
                <p:cNvPr id="461" name=""/>
                <p:cNvSpPr/>
                <p:nvPr/>
              </p:nvSpPr>
              <p:spPr>
                <a:xfrm>
                  <a:off x="1521000" y="3718440"/>
                  <a:ext cx="138096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ster Redundanc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
                <p:cNvSpPr/>
                <p:nvPr/>
              </p:nvSpPr>
              <p:spPr>
                <a:xfrm>
                  <a:off x="1452600" y="3718440"/>
                  <a:ext cx="151776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2970360" y="3718440"/>
                <a:ext cx="712800" cy="613800"/>
                <a:chOff x="2970360" y="3718440"/>
                <a:chExt cx="712800" cy="613800"/>
              </a:xfrm>
            </p:grpSpPr>
            <p:sp>
              <p:nvSpPr>
                <p:cNvPr id="464" name=""/>
                <p:cNvSpPr/>
                <p:nvPr/>
              </p:nvSpPr>
              <p:spPr>
                <a:xfrm>
                  <a:off x="3038400" y="3718440"/>
                  <a:ext cx="57636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
                <p:cNvSpPr/>
                <p:nvPr/>
              </p:nvSpPr>
              <p:spPr>
                <a:xfrm>
                  <a:off x="2970360" y="3718440"/>
                  <a:ext cx="71280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3683160" y="3718440"/>
                <a:ext cx="3317760" cy="613800"/>
                <a:chOff x="3683160" y="3718440"/>
                <a:chExt cx="3317760" cy="613800"/>
              </a:xfrm>
            </p:grpSpPr>
            <p:sp>
              <p:nvSpPr>
                <p:cNvPr id="467" name=""/>
                <p:cNvSpPr/>
                <p:nvPr/>
              </p:nvSpPr>
              <p:spPr>
                <a:xfrm>
                  <a:off x="3751200" y="3718440"/>
                  <a:ext cx="3181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r>
                    <a:rPr b="0" lang="en-US" sz="1200" spc="-1" strike="noStrike">
                      <a:solidFill>
                        <a:srgbClr val="ff0000"/>
                      </a:solidFill>
                      <a:latin typeface="Times New Roman"/>
                      <a:ea typeface="Times New Roman"/>
                    </a:rPr>
                    <a:t> – coordinator, not master, per 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PPLIC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3683160" y="3718440"/>
                  <a:ext cx="331776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7000920" y="3718440"/>
                <a:ext cx="647640" cy="613800"/>
                <a:chOff x="7000920" y="3718440"/>
                <a:chExt cx="647640" cy="613800"/>
              </a:xfrm>
            </p:grpSpPr>
            <p:sp>
              <p:nvSpPr>
                <p:cNvPr id="470" name=""/>
                <p:cNvSpPr/>
                <p:nvPr/>
              </p:nvSpPr>
              <p:spPr>
                <a:xfrm>
                  <a:off x="7069320" y="3718440"/>
                  <a:ext cx="51120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
                <p:cNvSpPr/>
                <p:nvPr/>
              </p:nvSpPr>
              <p:spPr>
                <a:xfrm>
                  <a:off x="7000920" y="3718440"/>
                  <a:ext cx="64764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1452600" y="4332600"/>
                <a:ext cx="1517760" cy="502200"/>
                <a:chOff x="1452600" y="4332600"/>
                <a:chExt cx="1517760" cy="502200"/>
              </a:xfrm>
            </p:grpSpPr>
            <p:sp>
              <p:nvSpPr>
                <p:cNvPr id="473" name=""/>
                <p:cNvSpPr/>
                <p:nvPr/>
              </p:nvSpPr>
              <p:spPr>
                <a:xfrm>
                  <a:off x="1521000" y="4332600"/>
                  <a:ext cx="138096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ss of Connection</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
                <p:cNvSpPr/>
                <p:nvPr/>
              </p:nvSpPr>
              <p:spPr>
                <a:xfrm>
                  <a:off x="1452600" y="4332600"/>
                  <a:ext cx="151776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2970360" y="4332600"/>
                <a:ext cx="712800" cy="502200"/>
                <a:chOff x="2970360" y="4332600"/>
                <a:chExt cx="712800" cy="502200"/>
              </a:xfrm>
            </p:grpSpPr>
            <p:sp>
              <p:nvSpPr>
                <p:cNvPr id="476" name=""/>
                <p:cNvSpPr/>
                <p:nvPr/>
              </p:nvSpPr>
              <p:spPr>
                <a:xfrm>
                  <a:off x="3038400" y="4332600"/>
                  <a:ext cx="57636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2970360" y="4332600"/>
                  <a:ext cx="71280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3683160" y="4332600"/>
                <a:ext cx="3317760" cy="502200"/>
                <a:chOff x="3683160" y="4332600"/>
                <a:chExt cx="3317760" cy="502200"/>
              </a:xfrm>
            </p:grpSpPr>
            <p:sp>
              <p:nvSpPr>
                <p:cNvPr id="479" name=""/>
                <p:cNvSpPr/>
                <p:nvPr/>
              </p:nvSpPr>
              <p:spPr>
                <a:xfrm>
                  <a:off x="3751200" y="4332600"/>
                  <a:ext cx="318132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r>
                    <a:rPr b="0" lang="en-US" sz="1200" spc="-1" strike="noStrike">
                      <a:solidFill>
                        <a:srgbClr val="000000"/>
                      </a:solidFill>
                      <a:latin typeface="Times New Roman"/>
                      <a:ea typeface="Times New Roman"/>
                    </a:rPr>
                    <a:t> – detect no beacon, new coordin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
                <p:cNvSpPr/>
                <p:nvPr/>
              </p:nvSpPr>
              <p:spPr>
                <a:xfrm>
                  <a:off x="3683160" y="4332600"/>
                  <a:ext cx="331776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7000920" y="4332600"/>
                <a:ext cx="647640" cy="502200"/>
                <a:chOff x="7000920" y="4332600"/>
                <a:chExt cx="647640" cy="502200"/>
              </a:xfrm>
            </p:grpSpPr>
            <p:sp>
              <p:nvSpPr>
                <p:cNvPr id="482" name=""/>
                <p:cNvSpPr/>
                <p:nvPr/>
              </p:nvSpPr>
              <p:spPr>
                <a:xfrm>
                  <a:off x="7069320" y="4332600"/>
                  <a:ext cx="511200" cy="50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
                <p:cNvSpPr/>
                <p:nvPr/>
              </p:nvSpPr>
              <p:spPr>
                <a:xfrm>
                  <a:off x="7000920" y="4332600"/>
                  <a:ext cx="64764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1452600" y="4834800"/>
                <a:ext cx="1517760" cy="613800"/>
                <a:chOff x="1452600" y="4834800"/>
                <a:chExt cx="1517760" cy="613800"/>
              </a:xfrm>
            </p:grpSpPr>
            <p:sp>
              <p:nvSpPr>
                <p:cNvPr id="485" name=""/>
                <p:cNvSpPr/>
                <p:nvPr/>
              </p:nvSpPr>
              <p:spPr>
                <a:xfrm>
                  <a:off x="1521000" y="4834800"/>
                  <a:ext cx="138096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Management Typ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
                <p:cNvSpPr/>
                <p:nvPr/>
              </p:nvSpPr>
              <p:spPr>
                <a:xfrm>
                  <a:off x="1452600" y="4834800"/>
                  <a:ext cx="151776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2970360" y="4834800"/>
                <a:ext cx="712800" cy="613800"/>
                <a:chOff x="2970360" y="4834800"/>
                <a:chExt cx="712800" cy="613800"/>
              </a:xfrm>
            </p:grpSpPr>
            <p:sp>
              <p:nvSpPr>
                <p:cNvPr id="488" name=""/>
                <p:cNvSpPr/>
                <p:nvPr/>
              </p:nvSpPr>
              <p:spPr>
                <a:xfrm>
                  <a:off x="3038400" y="4834800"/>
                  <a:ext cx="57636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
                <p:cNvSpPr/>
                <p:nvPr/>
              </p:nvSpPr>
              <p:spPr>
                <a:xfrm>
                  <a:off x="2970360" y="4834800"/>
                  <a:ext cx="71280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3683160" y="4834800"/>
                <a:ext cx="3317760" cy="613800"/>
                <a:chOff x="3683160" y="4834800"/>
                <a:chExt cx="3317760" cy="613800"/>
              </a:xfrm>
            </p:grpSpPr>
            <p:sp>
              <p:nvSpPr>
                <p:cNvPr id="491" name=""/>
                <p:cNvSpPr/>
                <p:nvPr/>
              </p:nvSpPr>
              <p:spPr>
                <a:xfrm>
                  <a:off x="3751200" y="4834800"/>
                  <a:ext cx="318132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
                <p:cNvSpPr/>
                <p:nvPr/>
              </p:nvSpPr>
              <p:spPr>
                <a:xfrm>
                  <a:off x="3683160" y="4834800"/>
                  <a:ext cx="331776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7000920" y="4834800"/>
                <a:ext cx="647640" cy="613800"/>
                <a:chOff x="7000920" y="4834800"/>
                <a:chExt cx="647640" cy="613800"/>
              </a:xfrm>
            </p:grpSpPr>
            <p:sp>
              <p:nvSpPr>
                <p:cNvPr id="494" name=""/>
                <p:cNvSpPr/>
                <p:nvPr/>
              </p:nvSpPr>
              <p:spPr>
                <a:xfrm>
                  <a:off x="7069320" y="4834800"/>
                  <a:ext cx="511200" cy="61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
                <p:cNvSpPr/>
                <p:nvPr/>
              </p:nvSpPr>
              <p:spPr>
                <a:xfrm>
                  <a:off x="7000920" y="4834800"/>
                  <a:ext cx="647640" cy="61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1452600" y="5448960"/>
                <a:ext cx="1517760" cy="948600"/>
                <a:chOff x="1452600" y="5448960"/>
                <a:chExt cx="1517760" cy="948600"/>
              </a:xfrm>
            </p:grpSpPr>
            <p:sp>
              <p:nvSpPr>
                <p:cNvPr id="497" name=""/>
                <p:cNvSpPr/>
                <p:nvPr/>
              </p:nvSpPr>
              <p:spPr>
                <a:xfrm>
                  <a:off x="1521000" y="5448960"/>
                  <a:ext cx="1380960" cy="94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Consumption of MAC controll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
                <p:cNvSpPr/>
                <p:nvPr/>
              </p:nvSpPr>
              <p:spPr>
                <a:xfrm>
                  <a:off x="1452600" y="5448960"/>
                  <a:ext cx="1517760" cy="94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2970360" y="5448960"/>
                <a:ext cx="712800" cy="948600"/>
                <a:chOff x="2970360" y="5448960"/>
                <a:chExt cx="712800" cy="948600"/>
              </a:xfrm>
            </p:grpSpPr>
            <p:sp>
              <p:nvSpPr>
                <p:cNvPr id="500" name=""/>
                <p:cNvSpPr/>
                <p:nvPr/>
              </p:nvSpPr>
              <p:spPr>
                <a:xfrm>
                  <a:off x="3038400" y="5448960"/>
                  <a:ext cx="576360" cy="94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
                <p:cNvSpPr/>
                <p:nvPr/>
              </p:nvSpPr>
              <p:spPr>
                <a:xfrm>
                  <a:off x="2970360" y="5448960"/>
                  <a:ext cx="712800" cy="94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3683160" y="5448960"/>
                <a:ext cx="3317760" cy="948600"/>
                <a:chOff x="3683160" y="5448960"/>
                <a:chExt cx="3317760" cy="948600"/>
              </a:xfrm>
            </p:grpSpPr>
            <p:sp>
              <p:nvSpPr>
                <p:cNvPr id="503" name=""/>
                <p:cNvSpPr/>
                <p:nvPr/>
              </p:nvSpPr>
              <p:spPr>
                <a:xfrm>
                  <a:off x="3751200" y="5448960"/>
                  <a:ext cx="3181320" cy="94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X and RX: ~6.25mW (MAC @ 100 % d/c)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8.75 mW (PMLA 100 % d/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leep: ~0.099 mW (P+M+L+A @ 0.1% d/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ep Sleep: &lt;0.030 m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
                <p:cNvSpPr/>
                <p:nvPr/>
              </p:nvSpPr>
              <p:spPr>
                <a:xfrm>
                  <a:off x="3683160" y="5448960"/>
                  <a:ext cx="3317760" cy="94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7000920" y="5448960"/>
                <a:ext cx="647640" cy="948600"/>
                <a:chOff x="7000920" y="5448960"/>
                <a:chExt cx="647640" cy="948600"/>
              </a:xfrm>
            </p:grpSpPr>
            <p:sp>
              <p:nvSpPr>
                <p:cNvPr id="506" name=""/>
                <p:cNvSpPr/>
                <p:nvPr/>
              </p:nvSpPr>
              <p:spPr>
                <a:xfrm>
                  <a:off x="7069320" y="5448960"/>
                  <a:ext cx="511200" cy="94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
                <p:cNvSpPr/>
                <p:nvPr/>
              </p:nvSpPr>
              <p:spPr>
                <a:xfrm>
                  <a:off x="7000920" y="5448960"/>
                  <a:ext cx="647640" cy="948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8" name=""/>
            <p:cNvSpPr/>
            <p:nvPr/>
          </p:nvSpPr>
          <p:spPr>
            <a:xfrm>
              <a:off x="1447920" y="1371600"/>
              <a:ext cx="620532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9" name=""/>
          <p:cNvSpPr/>
          <p:nvPr/>
        </p:nvSpPr>
        <p:spPr>
          <a:xfrm>
            <a:off x="3733920" y="48769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system includes extensive power management modes, including “deep sleep”</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991A69FE-2CDB-4029-9247-7851FDE4392F}" type="slidenum">
              <a:t>1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MAC Protocol Criteria (cont.)</a:t>
            </a:r>
            <a:endParaRPr b="0" lang="en-US" sz="2000" spc="-1" strike="noStrike">
              <a:solidFill>
                <a:srgbClr val="000000"/>
              </a:solidFill>
              <a:latin typeface="Times New Roman"/>
            </a:endParaRPr>
          </a:p>
        </p:txBody>
      </p:sp>
      <p:grpSp>
        <p:nvGrpSpPr>
          <p:cNvPr id="511" name=""/>
          <p:cNvGrpSpPr/>
          <p:nvPr/>
        </p:nvGrpSpPr>
        <p:grpSpPr>
          <a:xfrm>
            <a:off x="1469880" y="2100240"/>
            <a:ext cx="6205320" cy="2658960"/>
            <a:chOff x="1469880" y="2100240"/>
            <a:chExt cx="6205320" cy="2658960"/>
          </a:xfrm>
        </p:grpSpPr>
        <p:grpSp>
          <p:nvGrpSpPr>
            <p:cNvPr id="512" name=""/>
            <p:cNvGrpSpPr/>
            <p:nvPr/>
          </p:nvGrpSpPr>
          <p:grpSpPr>
            <a:xfrm>
              <a:off x="1474560" y="2104920"/>
              <a:ext cx="6195960" cy="2649600"/>
              <a:chOff x="1474560" y="2104920"/>
              <a:chExt cx="6195960" cy="2649600"/>
            </a:xfrm>
          </p:grpSpPr>
          <p:grpSp>
            <p:nvGrpSpPr>
              <p:cNvPr id="513" name=""/>
              <p:cNvGrpSpPr/>
              <p:nvPr/>
            </p:nvGrpSpPr>
            <p:grpSpPr>
              <a:xfrm>
                <a:off x="1474560" y="2104920"/>
                <a:ext cx="1517760" cy="639720"/>
                <a:chOff x="1474560" y="2104920"/>
                <a:chExt cx="1517760" cy="639720"/>
              </a:xfrm>
            </p:grpSpPr>
            <p:sp>
              <p:nvSpPr>
                <p:cNvPr id="514" name=""/>
                <p:cNvSpPr/>
                <p:nvPr/>
              </p:nvSpPr>
              <p:spPr>
                <a:xfrm>
                  <a:off x="1474560" y="2104920"/>
                  <a:ext cx="1517760" cy="639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 name=""/>
                <p:cNvGrpSpPr/>
                <p:nvPr/>
              </p:nvGrpSpPr>
              <p:grpSpPr>
                <a:xfrm>
                  <a:off x="1474560" y="2104920"/>
                  <a:ext cx="1517760" cy="639720"/>
                  <a:chOff x="1474560" y="2104920"/>
                  <a:chExt cx="1517760" cy="639720"/>
                </a:xfrm>
              </p:grpSpPr>
              <p:sp>
                <p:nvSpPr>
                  <p:cNvPr id="516" name=""/>
                  <p:cNvSpPr/>
                  <p:nvPr/>
                </p:nvSpPr>
                <p:spPr>
                  <a:xfrm>
                    <a:off x="1542960" y="2104920"/>
                    <a:ext cx="1380960" cy="6397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
                  <p:cNvSpPr/>
                  <p:nvPr/>
                </p:nvSpPr>
                <p:spPr>
                  <a:xfrm>
                    <a:off x="1474560" y="2104920"/>
                    <a:ext cx="15177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8" name=""/>
              <p:cNvGrpSpPr/>
              <p:nvPr/>
            </p:nvGrpSpPr>
            <p:grpSpPr>
              <a:xfrm>
                <a:off x="2992320" y="2104920"/>
                <a:ext cx="712800" cy="639720"/>
                <a:chOff x="2992320" y="2104920"/>
                <a:chExt cx="712800" cy="639720"/>
              </a:xfrm>
            </p:grpSpPr>
            <p:sp>
              <p:nvSpPr>
                <p:cNvPr id="519" name=""/>
                <p:cNvSpPr/>
                <p:nvPr/>
              </p:nvSpPr>
              <p:spPr>
                <a:xfrm>
                  <a:off x="2992320" y="2104920"/>
                  <a:ext cx="712800" cy="639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 name=""/>
                <p:cNvGrpSpPr/>
                <p:nvPr/>
              </p:nvGrpSpPr>
              <p:grpSpPr>
                <a:xfrm>
                  <a:off x="2992320" y="2104920"/>
                  <a:ext cx="712800" cy="639720"/>
                  <a:chOff x="2992320" y="2104920"/>
                  <a:chExt cx="712800" cy="639720"/>
                </a:xfrm>
              </p:grpSpPr>
              <p:sp>
                <p:nvSpPr>
                  <p:cNvPr id="521" name=""/>
                  <p:cNvSpPr/>
                  <p:nvPr/>
                </p:nvSpPr>
                <p:spPr>
                  <a:xfrm>
                    <a:off x="3060360" y="2104920"/>
                    <a:ext cx="576360" cy="6397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
                  <p:cNvSpPr/>
                  <p:nvPr/>
                </p:nvSpPr>
                <p:spPr>
                  <a:xfrm>
                    <a:off x="2992320" y="2104920"/>
                    <a:ext cx="712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3" name=""/>
              <p:cNvGrpSpPr/>
              <p:nvPr/>
            </p:nvGrpSpPr>
            <p:grpSpPr>
              <a:xfrm>
                <a:off x="3705120" y="2104920"/>
                <a:ext cx="3317760" cy="639720"/>
                <a:chOff x="3705120" y="2104920"/>
                <a:chExt cx="3317760" cy="639720"/>
              </a:xfrm>
            </p:grpSpPr>
            <p:sp>
              <p:nvSpPr>
                <p:cNvPr id="524" name=""/>
                <p:cNvSpPr/>
                <p:nvPr/>
              </p:nvSpPr>
              <p:spPr>
                <a:xfrm>
                  <a:off x="3705120" y="2104920"/>
                  <a:ext cx="3317760" cy="639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3705120" y="2104920"/>
                  <a:ext cx="3317760" cy="639720"/>
                  <a:chOff x="3705120" y="2104920"/>
                  <a:chExt cx="3317760" cy="639720"/>
                </a:xfrm>
              </p:grpSpPr>
              <p:sp>
                <p:nvSpPr>
                  <p:cNvPr id="526" name=""/>
                  <p:cNvSpPr/>
                  <p:nvPr/>
                </p:nvSpPr>
                <p:spPr>
                  <a:xfrm>
                    <a:off x="3773160" y="2104920"/>
                    <a:ext cx="3181320" cy="6397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
                  <p:cNvSpPr/>
                  <p:nvPr/>
                </p:nvSpPr>
                <p:spPr>
                  <a:xfrm>
                    <a:off x="3705120" y="2104920"/>
                    <a:ext cx="33177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8" name=""/>
              <p:cNvGrpSpPr/>
              <p:nvPr/>
            </p:nvGrpSpPr>
            <p:grpSpPr>
              <a:xfrm>
                <a:off x="7022880" y="2104920"/>
                <a:ext cx="647640" cy="639720"/>
                <a:chOff x="7022880" y="2104920"/>
                <a:chExt cx="647640" cy="639720"/>
              </a:xfrm>
            </p:grpSpPr>
            <p:sp>
              <p:nvSpPr>
                <p:cNvPr id="529" name=""/>
                <p:cNvSpPr/>
                <p:nvPr/>
              </p:nvSpPr>
              <p:spPr>
                <a:xfrm>
                  <a:off x="7022880" y="2104920"/>
                  <a:ext cx="647640" cy="639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
                <p:cNvGrpSpPr/>
                <p:nvPr/>
              </p:nvGrpSpPr>
              <p:grpSpPr>
                <a:xfrm>
                  <a:off x="7022880" y="2104920"/>
                  <a:ext cx="647640" cy="639720"/>
                  <a:chOff x="7022880" y="2104920"/>
                  <a:chExt cx="647640" cy="639720"/>
                </a:xfrm>
              </p:grpSpPr>
              <p:sp>
                <p:nvSpPr>
                  <p:cNvPr id="531" name=""/>
                  <p:cNvSpPr/>
                  <p:nvPr/>
                </p:nvSpPr>
                <p:spPr>
                  <a:xfrm>
                    <a:off x="7091280" y="2104920"/>
                    <a:ext cx="511200" cy="6397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7022880" y="2104920"/>
                    <a:ext cx="6476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3" name=""/>
              <p:cNvGrpSpPr/>
              <p:nvPr/>
            </p:nvGrpSpPr>
            <p:grpSpPr>
              <a:xfrm>
                <a:off x="1474560" y="2744640"/>
                <a:ext cx="1517760" cy="1004760"/>
                <a:chOff x="1474560" y="2744640"/>
                <a:chExt cx="1517760" cy="1004760"/>
              </a:xfrm>
            </p:grpSpPr>
            <p:sp>
              <p:nvSpPr>
                <p:cNvPr id="534" name=""/>
                <p:cNvSpPr/>
                <p:nvPr/>
              </p:nvSpPr>
              <p:spPr>
                <a:xfrm>
                  <a:off x="1542960" y="2744640"/>
                  <a:ext cx="138096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hent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
                <p:cNvSpPr/>
                <p:nvPr/>
              </p:nvSpPr>
              <p:spPr>
                <a:xfrm>
                  <a:off x="1474560" y="2744640"/>
                  <a:ext cx="1517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2992320" y="2744640"/>
                <a:ext cx="712800" cy="1004760"/>
                <a:chOff x="2992320" y="2744640"/>
                <a:chExt cx="712800" cy="1004760"/>
              </a:xfrm>
            </p:grpSpPr>
            <p:sp>
              <p:nvSpPr>
                <p:cNvPr id="537" name=""/>
                <p:cNvSpPr/>
                <p:nvPr/>
              </p:nvSpPr>
              <p:spPr>
                <a:xfrm>
                  <a:off x="3060360" y="2744640"/>
                  <a:ext cx="57636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
                <p:cNvSpPr/>
                <p:nvPr/>
              </p:nvSpPr>
              <p:spPr>
                <a:xfrm>
                  <a:off x="2992320" y="2744640"/>
                  <a:ext cx="7128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3705120" y="2744640"/>
                <a:ext cx="3317760" cy="1004760"/>
                <a:chOff x="3705120" y="2744640"/>
                <a:chExt cx="3317760" cy="1004760"/>
              </a:xfrm>
            </p:grpSpPr>
            <p:sp>
              <p:nvSpPr>
                <p:cNvPr id="540" name=""/>
                <p:cNvSpPr/>
                <p:nvPr/>
              </p:nvSpPr>
              <p:spPr>
                <a:xfrm>
                  <a:off x="3773160" y="2744640"/>
                  <a:ext cx="318132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
                <p:cNvSpPr/>
                <p:nvPr/>
              </p:nvSpPr>
              <p:spPr>
                <a:xfrm>
                  <a:off x="3705120" y="2744640"/>
                  <a:ext cx="331776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7022880" y="2744640"/>
                <a:ext cx="647640" cy="1004760"/>
                <a:chOff x="7022880" y="2744640"/>
                <a:chExt cx="647640" cy="1004760"/>
              </a:xfrm>
            </p:grpSpPr>
            <p:sp>
              <p:nvSpPr>
                <p:cNvPr id="543" name=""/>
                <p:cNvSpPr/>
                <p:nvPr/>
              </p:nvSpPr>
              <p:spPr>
                <a:xfrm>
                  <a:off x="7091280" y="2744640"/>
                  <a:ext cx="51120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7022880" y="2744640"/>
                  <a:ext cx="64764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1474560" y="3749400"/>
                <a:ext cx="1517760" cy="1005120"/>
                <a:chOff x="1474560" y="3749400"/>
                <a:chExt cx="1517760" cy="1005120"/>
              </a:xfrm>
            </p:grpSpPr>
            <p:sp>
              <p:nvSpPr>
                <p:cNvPr id="546" name=""/>
                <p:cNvSpPr/>
                <p:nvPr/>
              </p:nvSpPr>
              <p:spPr>
                <a:xfrm>
                  <a:off x="1542960" y="3749400"/>
                  <a:ext cx="138096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vac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
                <p:cNvSpPr/>
                <p:nvPr/>
              </p:nvSpPr>
              <p:spPr>
                <a:xfrm>
                  <a:off x="1474560" y="3749400"/>
                  <a:ext cx="1517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2992320" y="3749400"/>
                <a:ext cx="712800" cy="1005120"/>
                <a:chOff x="2992320" y="3749400"/>
                <a:chExt cx="712800" cy="1005120"/>
              </a:xfrm>
            </p:grpSpPr>
            <p:sp>
              <p:nvSpPr>
                <p:cNvPr id="549" name=""/>
                <p:cNvSpPr/>
                <p:nvPr/>
              </p:nvSpPr>
              <p:spPr>
                <a:xfrm>
                  <a:off x="3060360" y="3749400"/>
                  <a:ext cx="57636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
                <p:cNvSpPr/>
                <p:nvPr/>
              </p:nvSpPr>
              <p:spPr>
                <a:xfrm>
                  <a:off x="2992320" y="3749400"/>
                  <a:ext cx="71280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3705120" y="3749400"/>
                <a:ext cx="3317760" cy="1005120"/>
                <a:chOff x="3705120" y="3749400"/>
                <a:chExt cx="3317760" cy="1005120"/>
              </a:xfrm>
            </p:grpSpPr>
            <p:sp>
              <p:nvSpPr>
                <p:cNvPr id="552" name=""/>
                <p:cNvSpPr/>
                <p:nvPr/>
              </p:nvSpPr>
              <p:spPr>
                <a:xfrm>
                  <a:off x="3773160" y="3749400"/>
                  <a:ext cx="318132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
                <p:cNvSpPr/>
                <p:nvPr/>
              </p:nvSpPr>
              <p:spPr>
                <a:xfrm>
                  <a:off x="3705120" y="3749400"/>
                  <a:ext cx="331776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7022880" y="3749400"/>
                <a:ext cx="647640" cy="1005120"/>
                <a:chOff x="7022880" y="3749400"/>
                <a:chExt cx="647640" cy="1005120"/>
              </a:xfrm>
            </p:grpSpPr>
            <p:sp>
              <p:nvSpPr>
                <p:cNvPr id="555" name=""/>
                <p:cNvSpPr/>
                <p:nvPr/>
              </p:nvSpPr>
              <p:spPr>
                <a:xfrm>
                  <a:off x="7091280" y="3749400"/>
                  <a:ext cx="511200" cy="100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
                <p:cNvSpPr/>
                <p:nvPr/>
              </p:nvSpPr>
              <p:spPr>
                <a:xfrm>
                  <a:off x="7022880" y="3749400"/>
                  <a:ext cx="647640" cy="1005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7" name=""/>
            <p:cNvSpPr/>
            <p:nvPr/>
          </p:nvSpPr>
          <p:spPr>
            <a:xfrm>
              <a:off x="1469880" y="2100240"/>
              <a:ext cx="6205320" cy="2658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8" name=""/>
          <p:cNvSpPr/>
          <p:nvPr/>
        </p:nvSpPr>
        <p:spPr>
          <a:xfrm>
            <a:off x="3733920" y="2819520"/>
            <a:ext cx="3276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could support authentication at MAC layer, but we believe that authentication should be implemented in the application, as the requirement may be highly application depenent</a:t>
            </a:r>
            <a:endParaRPr b="0" lang="en-US" sz="1200" spc="-1" strike="noStrike">
              <a:solidFill>
                <a:srgbClr val="000000"/>
              </a:solidFill>
              <a:latin typeface="Times New Roman"/>
            </a:endParaRPr>
          </a:p>
        </p:txBody>
      </p:sp>
      <p:sp>
        <p:nvSpPr>
          <p:cNvPr id="559" name=""/>
          <p:cNvSpPr/>
          <p:nvPr/>
        </p:nvSpPr>
        <p:spPr>
          <a:xfrm>
            <a:off x="3733920" y="3733920"/>
            <a:ext cx="3276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mple packet encryption can be provided at the MAC layer, but again, it may be more cost-effective to implement encryption of payloads at the application layer, due to application dependence of requiremen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6BB58156-0E71-4D4B-B967-614FB273FD99}" type="slidenum">
              <a:t>1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Pugh Matrix Comparison Values</a:t>
            </a:r>
            <a:br>
              <a:rPr sz="2000"/>
            </a:br>
            <a:r>
              <a:rPr b="1" i="1" lang="en-US" sz="2000" spc="-1" strike="noStrike" u="sng">
                <a:solidFill>
                  <a:srgbClr val="000000"/>
                </a:solidFill>
                <a:uFillTx/>
                <a:latin typeface="Times New Roman"/>
              </a:rPr>
              <a:t>General Solution Criteria Comparison Values</a:t>
            </a:r>
            <a:endParaRPr b="0" lang="en-US" sz="2000" spc="-1" strike="noStrike">
              <a:solidFill>
                <a:srgbClr val="000000"/>
              </a:solidFill>
              <a:latin typeface="Times New Roman"/>
            </a:endParaRPr>
          </a:p>
        </p:txBody>
      </p:sp>
      <p:grpSp>
        <p:nvGrpSpPr>
          <p:cNvPr id="561" name=""/>
          <p:cNvGrpSpPr/>
          <p:nvPr/>
        </p:nvGrpSpPr>
        <p:grpSpPr>
          <a:xfrm>
            <a:off x="762120" y="1523880"/>
            <a:ext cx="7561080" cy="4894560"/>
            <a:chOff x="762120" y="1523880"/>
            <a:chExt cx="7561080" cy="4894560"/>
          </a:xfrm>
        </p:grpSpPr>
        <p:grpSp>
          <p:nvGrpSpPr>
            <p:cNvPr id="562" name=""/>
            <p:cNvGrpSpPr/>
            <p:nvPr/>
          </p:nvGrpSpPr>
          <p:grpSpPr>
            <a:xfrm>
              <a:off x="766800" y="1527480"/>
              <a:ext cx="7551720" cy="4886640"/>
              <a:chOff x="766800" y="1527480"/>
              <a:chExt cx="7551720" cy="4886640"/>
            </a:xfrm>
          </p:grpSpPr>
          <p:grpSp>
            <p:nvGrpSpPr>
              <p:cNvPr id="563" name=""/>
              <p:cNvGrpSpPr/>
              <p:nvPr/>
            </p:nvGrpSpPr>
            <p:grpSpPr>
              <a:xfrm>
                <a:off x="766800" y="1527480"/>
                <a:ext cx="1519200" cy="518400"/>
                <a:chOff x="766800" y="1527480"/>
                <a:chExt cx="1519200" cy="518400"/>
              </a:xfrm>
            </p:grpSpPr>
            <p:sp>
              <p:nvSpPr>
                <p:cNvPr id="564" name=""/>
                <p:cNvSpPr/>
                <p:nvPr/>
              </p:nvSpPr>
              <p:spPr>
                <a:xfrm>
                  <a:off x="766800" y="1527480"/>
                  <a:ext cx="1519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 name=""/>
                <p:cNvGrpSpPr/>
                <p:nvPr/>
              </p:nvGrpSpPr>
              <p:grpSpPr>
                <a:xfrm>
                  <a:off x="766800" y="1527480"/>
                  <a:ext cx="1519200" cy="518400"/>
                  <a:chOff x="766800" y="1527480"/>
                  <a:chExt cx="1519200" cy="518400"/>
                </a:xfrm>
              </p:grpSpPr>
              <p:sp>
                <p:nvSpPr>
                  <p:cNvPr id="566" name=""/>
                  <p:cNvSpPr/>
                  <p:nvPr/>
                </p:nvSpPr>
                <p:spPr>
                  <a:xfrm>
                    <a:off x="835200" y="1527480"/>
                    <a:ext cx="13824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
                  <p:cNvSpPr/>
                  <p:nvPr/>
                </p:nvSpPr>
                <p:spPr>
                  <a:xfrm>
                    <a:off x="766800" y="1527480"/>
                    <a:ext cx="15192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8" name=""/>
              <p:cNvGrpSpPr/>
              <p:nvPr/>
            </p:nvGrpSpPr>
            <p:grpSpPr>
              <a:xfrm>
                <a:off x="2286000" y="1527480"/>
                <a:ext cx="708120" cy="518400"/>
                <a:chOff x="2286000" y="1527480"/>
                <a:chExt cx="708120" cy="518400"/>
              </a:xfrm>
            </p:grpSpPr>
            <p:sp>
              <p:nvSpPr>
                <p:cNvPr id="569" name=""/>
                <p:cNvSpPr/>
                <p:nvPr/>
              </p:nvSpPr>
              <p:spPr>
                <a:xfrm>
                  <a:off x="2286000" y="1527480"/>
                  <a:ext cx="7081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0" name=""/>
                <p:cNvGrpSpPr/>
                <p:nvPr/>
              </p:nvGrpSpPr>
              <p:grpSpPr>
                <a:xfrm>
                  <a:off x="2286000" y="1527480"/>
                  <a:ext cx="708120" cy="518400"/>
                  <a:chOff x="2286000" y="1527480"/>
                  <a:chExt cx="708120" cy="518400"/>
                </a:xfrm>
              </p:grpSpPr>
              <p:sp>
                <p:nvSpPr>
                  <p:cNvPr id="571" name=""/>
                  <p:cNvSpPr/>
                  <p:nvPr/>
                </p:nvSpPr>
                <p:spPr>
                  <a:xfrm>
                    <a:off x="2354400" y="1527480"/>
                    <a:ext cx="5713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
                  <p:cNvSpPr/>
                  <p:nvPr/>
                </p:nvSpPr>
                <p:spPr>
                  <a:xfrm>
                    <a:off x="2286000" y="1527480"/>
                    <a:ext cx="70812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3" name=""/>
              <p:cNvGrpSpPr/>
              <p:nvPr/>
            </p:nvGrpSpPr>
            <p:grpSpPr>
              <a:xfrm>
                <a:off x="2994120" y="1527480"/>
                <a:ext cx="1736640" cy="518400"/>
                <a:chOff x="2994120" y="1527480"/>
                <a:chExt cx="1736640" cy="518400"/>
              </a:xfrm>
            </p:grpSpPr>
            <p:sp>
              <p:nvSpPr>
                <p:cNvPr id="574" name=""/>
                <p:cNvSpPr/>
                <p:nvPr/>
              </p:nvSpPr>
              <p:spPr>
                <a:xfrm>
                  <a:off x="2994120" y="1527480"/>
                  <a:ext cx="173664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5" name=""/>
                <p:cNvGrpSpPr/>
                <p:nvPr/>
              </p:nvGrpSpPr>
              <p:grpSpPr>
                <a:xfrm>
                  <a:off x="2994120" y="1527480"/>
                  <a:ext cx="1736640" cy="518400"/>
                  <a:chOff x="2994120" y="1527480"/>
                  <a:chExt cx="1736640" cy="518400"/>
                </a:xfrm>
              </p:grpSpPr>
              <p:sp>
                <p:nvSpPr>
                  <p:cNvPr id="576" name=""/>
                  <p:cNvSpPr/>
                  <p:nvPr/>
                </p:nvSpPr>
                <p:spPr>
                  <a:xfrm>
                    <a:off x="3062160" y="1527480"/>
                    <a:ext cx="1600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
                  <p:cNvSpPr/>
                  <p:nvPr/>
                </p:nvSpPr>
                <p:spPr>
                  <a:xfrm>
                    <a:off x="2994120" y="1527480"/>
                    <a:ext cx="173664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8" name=""/>
              <p:cNvGrpSpPr/>
              <p:nvPr/>
            </p:nvGrpSpPr>
            <p:grpSpPr>
              <a:xfrm>
                <a:off x="4730760" y="1527480"/>
                <a:ext cx="1736640" cy="518400"/>
                <a:chOff x="4730760" y="1527480"/>
                <a:chExt cx="1736640" cy="518400"/>
              </a:xfrm>
            </p:grpSpPr>
            <p:sp>
              <p:nvSpPr>
                <p:cNvPr id="579" name=""/>
                <p:cNvSpPr/>
                <p:nvPr/>
              </p:nvSpPr>
              <p:spPr>
                <a:xfrm>
                  <a:off x="4730760" y="1527480"/>
                  <a:ext cx="173664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4730760" y="1527480"/>
                  <a:ext cx="1736640" cy="518400"/>
                  <a:chOff x="4730760" y="1527480"/>
                  <a:chExt cx="1736640" cy="518400"/>
                </a:xfrm>
              </p:grpSpPr>
              <p:sp>
                <p:nvSpPr>
                  <p:cNvPr id="581" name=""/>
                  <p:cNvSpPr/>
                  <p:nvPr/>
                </p:nvSpPr>
                <p:spPr>
                  <a:xfrm>
                    <a:off x="4799160" y="1527480"/>
                    <a:ext cx="1600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rison Val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4730760" y="1527480"/>
                    <a:ext cx="173664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3" name=""/>
              <p:cNvGrpSpPr/>
              <p:nvPr/>
            </p:nvGrpSpPr>
            <p:grpSpPr>
              <a:xfrm>
                <a:off x="6467400" y="1527480"/>
                <a:ext cx="1851120" cy="518400"/>
                <a:chOff x="6467400" y="1527480"/>
                <a:chExt cx="1851120" cy="518400"/>
              </a:xfrm>
            </p:grpSpPr>
            <p:sp>
              <p:nvSpPr>
                <p:cNvPr id="584" name=""/>
                <p:cNvSpPr/>
                <p:nvPr/>
              </p:nvSpPr>
              <p:spPr>
                <a:xfrm>
                  <a:off x="6467400" y="1527480"/>
                  <a:ext cx="18511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5" name=""/>
                <p:cNvGrpSpPr/>
                <p:nvPr/>
              </p:nvGrpSpPr>
              <p:grpSpPr>
                <a:xfrm>
                  <a:off x="6467400" y="1527480"/>
                  <a:ext cx="1851120" cy="518400"/>
                  <a:chOff x="6467400" y="1527480"/>
                  <a:chExt cx="1851120" cy="518400"/>
                </a:xfrm>
              </p:grpSpPr>
              <p:sp>
                <p:nvSpPr>
                  <p:cNvPr id="586" name=""/>
                  <p:cNvSpPr/>
                  <p:nvPr/>
                </p:nvSpPr>
                <p:spPr>
                  <a:xfrm>
                    <a:off x="6535800" y="1527480"/>
                    <a:ext cx="17143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
                  <p:cNvSpPr/>
                  <p:nvPr/>
                </p:nvSpPr>
                <p:spPr>
                  <a:xfrm>
                    <a:off x="6467400" y="1527480"/>
                    <a:ext cx="185112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8" name=""/>
              <p:cNvGrpSpPr/>
              <p:nvPr/>
            </p:nvGrpSpPr>
            <p:grpSpPr>
              <a:xfrm>
                <a:off x="766800" y="2045880"/>
                <a:ext cx="1519200" cy="518400"/>
                <a:chOff x="766800" y="2045880"/>
                <a:chExt cx="1519200" cy="518400"/>
              </a:xfrm>
            </p:grpSpPr>
            <p:sp>
              <p:nvSpPr>
                <p:cNvPr id="589" name=""/>
                <p:cNvSpPr/>
                <p:nvPr/>
              </p:nvSpPr>
              <p:spPr>
                <a:xfrm>
                  <a:off x="766800" y="2045880"/>
                  <a:ext cx="1519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 name=""/>
                <p:cNvGrpSpPr/>
                <p:nvPr/>
              </p:nvGrpSpPr>
              <p:grpSpPr>
                <a:xfrm>
                  <a:off x="766800" y="2045880"/>
                  <a:ext cx="1519200" cy="518400"/>
                  <a:chOff x="766800" y="2045880"/>
                  <a:chExt cx="1519200" cy="518400"/>
                </a:xfrm>
              </p:grpSpPr>
              <p:sp>
                <p:nvSpPr>
                  <p:cNvPr id="591" name=""/>
                  <p:cNvSpPr/>
                  <p:nvPr/>
                </p:nvSpPr>
                <p:spPr>
                  <a:xfrm>
                    <a:off x="835200" y="2045880"/>
                    <a:ext cx="13824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
                  <p:cNvSpPr/>
                  <p:nvPr/>
                </p:nvSpPr>
                <p:spPr>
                  <a:xfrm>
                    <a:off x="766800" y="2045880"/>
                    <a:ext cx="15192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3" name=""/>
              <p:cNvGrpSpPr/>
              <p:nvPr/>
            </p:nvGrpSpPr>
            <p:grpSpPr>
              <a:xfrm>
                <a:off x="2286000" y="2045880"/>
                <a:ext cx="708120" cy="518400"/>
                <a:chOff x="2286000" y="2045880"/>
                <a:chExt cx="708120" cy="518400"/>
              </a:xfrm>
            </p:grpSpPr>
            <p:sp>
              <p:nvSpPr>
                <p:cNvPr id="594" name=""/>
                <p:cNvSpPr/>
                <p:nvPr/>
              </p:nvSpPr>
              <p:spPr>
                <a:xfrm>
                  <a:off x="2286000" y="2045880"/>
                  <a:ext cx="7081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 name=""/>
                <p:cNvGrpSpPr/>
                <p:nvPr/>
              </p:nvGrpSpPr>
              <p:grpSpPr>
                <a:xfrm>
                  <a:off x="2286000" y="2045880"/>
                  <a:ext cx="708120" cy="518400"/>
                  <a:chOff x="2286000" y="2045880"/>
                  <a:chExt cx="708120" cy="518400"/>
                </a:xfrm>
              </p:grpSpPr>
              <p:sp>
                <p:nvSpPr>
                  <p:cNvPr id="596" name=""/>
                  <p:cNvSpPr/>
                  <p:nvPr/>
                </p:nvSpPr>
                <p:spPr>
                  <a:xfrm>
                    <a:off x="2354400" y="2045880"/>
                    <a:ext cx="5713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2286000" y="2045880"/>
                    <a:ext cx="70812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8" name=""/>
              <p:cNvGrpSpPr/>
              <p:nvPr/>
            </p:nvGrpSpPr>
            <p:grpSpPr>
              <a:xfrm>
                <a:off x="2994120" y="2045880"/>
                <a:ext cx="1736640" cy="518400"/>
                <a:chOff x="2994120" y="2045880"/>
                <a:chExt cx="1736640" cy="518400"/>
              </a:xfrm>
            </p:grpSpPr>
            <p:sp>
              <p:nvSpPr>
                <p:cNvPr id="599" name=""/>
                <p:cNvSpPr/>
                <p:nvPr/>
              </p:nvSpPr>
              <p:spPr>
                <a:xfrm>
                  <a:off x="2994120" y="2045880"/>
                  <a:ext cx="173664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0" name=""/>
                <p:cNvGrpSpPr/>
                <p:nvPr/>
              </p:nvGrpSpPr>
              <p:grpSpPr>
                <a:xfrm>
                  <a:off x="2994120" y="2045880"/>
                  <a:ext cx="1736640" cy="518400"/>
                  <a:chOff x="2994120" y="2045880"/>
                  <a:chExt cx="1736640" cy="518400"/>
                </a:xfrm>
              </p:grpSpPr>
              <p:sp>
                <p:nvSpPr>
                  <p:cNvPr id="601" name=""/>
                  <p:cNvSpPr/>
                  <p:nvPr/>
                </p:nvSpPr>
                <p:spPr>
                  <a:xfrm>
                    <a:off x="3062160" y="2045880"/>
                    <a:ext cx="1600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
                  <p:cNvSpPr/>
                  <p:nvPr/>
                </p:nvSpPr>
                <p:spPr>
                  <a:xfrm>
                    <a:off x="2994120" y="2045880"/>
                    <a:ext cx="173664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3" name=""/>
              <p:cNvGrpSpPr/>
              <p:nvPr/>
            </p:nvGrpSpPr>
            <p:grpSpPr>
              <a:xfrm>
                <a:off x="4730760" y="2045880"/>
                <a:ext cx="1736640" cy="518400"/>
                <a:chOff x="4730760" y="2045880"/>
                <a:chExt cx="1736640" cy="518400"/>
              </a:xfrm>
            </p:grpSpPr>
            <p:sp>
              <p:nvSpPr>
                <p:cNvPr id="604" name=""/>
                <p:cNvSpPr/>
                <p:nvPr/>
              </p:nvSpPr>
              <p:spPr>
                <a:xfrm>
                  <a:off x="4730760" y="2045880"/>
                  <a:ext cx="173664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4730760" y="2045880"/>
                  <a:ext cx="1736640" cy="518400"/>
                  <a:chOff x="4730760" y="2045880"/>
                  <a:chExt cx="1736640" cy="518400"/>
                </a:xfrm>
              </p:grpSpPr>
              <p:sp>
                <p:nvSpPr>
                  <p:cNvPr id="606" name=""/>
                  <p:cNvSpPr/>
                  <p:nvPr/>
                </p:nvSpPr>
                <p:spPr>
                  <a:xfrm>
                    <a:off x="4799160" y="2045880"/>
                    <a:ext cx="160020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7" name=""/>
                  <p:cNvSpPr/>
                  <p:nvPr/>
                </p:nvSpPr>
                <p:spPr>
                  <a:xfrm>
                    <a:off x="4730760" y="2045880"/>
                    <a:ext cx="173664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8" name=""/>
              <p:cNvGrpSpPr/>
              <p:nvPr/>
            </p:nvGrpSpPr>
            <p:grpSpPr>
              <a:xfrm>
                <a:off x="6467400" y="2045880"/>
                <a:ext cx="1851120" cy="518400"/>
                <a:chOff x="6467400" y="2045880"/>
                <a:chExt cx="1851120" cy="518400"/>
              </a:xfrm>
            </p:grpSpPr>
            <p:sp>
              <p:nvSpPr>
                <p:cNvPr id="609" name=""/>
                <p:cNvSpPr/>
                <p:nvPr/>
              </p:nvSpPr>
              <p:spPr>
                <a:xfrm>
                  <a:off x="6467400" y="2045880"/>
                  <a:ext cx="18511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6467400" y="2045880"/>
                  <a:ext cx="1851120" cy="518400"/>
                  <a:chOff x="6467400" y="2045880"/>
                  <a:chExt cx="1851120" cy="518400"/>
                </a:xfrm>
              </p:grpSpPr>
              <p:sp>
                <p:nvSpPr>
                  <p:cNvPr id="611" name=""/>
                  <p:cNvSpPr/>
                  <p:nvPr/>
                </p:nvSpPr>
                <p:spPr>
                  <a:xfrm>
                    <a:off x="6535800" y="2045880"/>
                    <a:ext cx="1714320" cy="5184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6467400" y="2045880"/>
                    <a:ext cx="185112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3" name=""/>
              <p:cNvGrpSpPr/>
              <p:nvPr/>
            </p:nvGrpSpPr>
            <p:grpSpPr>
              <a:xfrm>
                <a:off x="766800" y="2564640"/>
                <a:ext cx="1519200" cy="1998720"/>
                <a:chOff x="766800" y="2564640"/>
                <a:chExt cx="1519200" cy="1998720"/>
              </a:xfrm>
            </p:grpSpPr>
            <p:sp>
              <p:nvSpPr>
                <p:cNvPr id="614" name=""/>
                <p:cNvSpPr/>
                <p:nvPr/>
              </p:nvSpPr>
              <p:spPr>
                <a:xfrm>
                  <a:off x="835200" y="2564640"/>
                  <a:ext cx="1382400" cy="19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t Manufacturing Cost ($) as a function of time (when product delivers) and volu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766800" y="2564640"/>
                  <a:ext cx="1519200" cy="199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2286000" y="2564640"/>
                <a:ext cx="708120" cy="1998720"/>
                <a:chOff x="2286000" y="2564640"/>
                <a:chExt cx="708120" cy="1998720"/>
              </a:xfrm>
            </p:grpSpPr>
            <p:sp>
              <p:nvSpPr>
                <p:cNvPr id="617" name=""/>
                <p:cNvSpPr/>
                <p:nvPr/>
              </p:nvSpPr>
              <p:spPr>
                <a:xfrm>
                  <a:off x="2354400" y="2564640"/>
                  <a:ext cx="571320" cy="19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2286000" y="2564640"/>
                  <a:ext cx="708120" cy="199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2994120" y="2564640"/>
                <a:ext cx="1736640" cy="1998720"/>
                <a:chOff x="2994120" y="2564640"/>
                <a:chExt cx="1736640" cy="1998720"/>
              </a:xfrm>
            </p:grpSpPr>
            <p:sp>
              <p:nvSpPr>
                <p:cNvPr id="620" name=""/>
                <p:cNvSpPr/>
                <p:nvPr/>
              </p:nvSpPr>
              <p:spPr>
                <a:xfrm>
                  <a:off x="3062160" y="2564640"/>
                  <a:ext cx="1600200" cy="19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t; ¼ x equivalent Bluetooth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2994120" y="2564640"/>
                  <a:ext cx="1736640" cy="199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4730760" y="2564640"/>
                <a:ext cx="1736640" cy="1998720"/>
                <a:chOff x="4730760" y="2564640"/>
                <a:chExt cx="1736640" cy="1998720"/>
              </a:xfrm>
            </p:grpSpPr>
            <p:sp>
              <p:nvSpPr>
                <p:cNvPr id="623" name=""/>
                <p:cNvSpPr/>
                <p:nvPr/>
              </p:nvSpPr>
              <p:spPr>
                <a:xfrm>
                  <a:off x="4799160" y="2564640"/>
                  <a:ext cx="1600200" cy="19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1/20- x equivalent Bluetooth 1 value as indicated in Note #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Times New Roman"/>
                      <a:ea typeface="Times New Roman"/>
                    </a:rPr>
                    <a:t>No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1.  Bluetooth 1 value is assumed to be $20 in 2H2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4730760" y="2564640"/>
                  <a:ext cx="1736640" cy="199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6467400" y="2564640"/>
                <a:ext cx="1851120" cy="1998720"/>
                <a:chOff x="6467400" y="2564640"/>
                <a:chExt cx="1851120" cy="1998720"/>
              </a:xfrm>
            </p:grpSpPr>
            <p:sp>
              <p:nvSpPr>
                <p:cNvPr id="626" name=""/>
                <p:cNvSpPr/>
                <p:nvPr/>
              </p:nvSpPr>
              <p:spPr>
                <a:xfrm>
                  <a:off x="6535800" y="2564640"/>
                  <a:ext cx="1714320" cy="19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t; 1/20 x equivalent Bluetooth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
                <p:cNvSpPr/>
                <p:nvPr/>
              </p:nvSpPr>
              <p:spPr>
                <a:xfrm>
                  <a:off x="6467400" y="2564640"/>
                  <a:ext cx="1851120" cy="199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766800" y="4563720"/>
                <a:ext cx="1519200" cy="1850400"/>
                <a:chOff x="766800" y="4563720"/>
                <a:chExt cx="1519200" cy="1850400"/>
              </a:xfrm>
            </p:grpSpPr>
            <p:sp>
              <p:nvSpPr>
                <p:cNvPr id="629" name=""/>
                <p:cNvSpPr/>
                <p:nvPr/>
              </p:nvSpPr>
              <p:spPr>
                <a:xfrm>
                  <a:off x="835200" y="4563720"/>
                  <a:ext cx="1382400" cy="185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ference and Suscepti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
                <p:cNvSpPr/>
                <p:nvPr/>
              </p:nvSpPr>
              <p:spPr>
                <a:xfrm>
                  <a:off x="766800" y="4563720"/>
                  <a:ext cx="1519200" cy="185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2286000" y="4563720"/>
                <a:ext cx="708120" cy="1850400"/>
                <a:chOff x="2286000" y="4563720"/>
                <a:chExt cx="708120" cy="1850400"/>
              </a:xfrm>
            </p:grpSpPr>
            <p:sp>
              <p:nvSpPr>
                <p:cNvPr id="632" name=""/>
                <p:cNvSpPr/>
                <p:nvPr/>
              </p:nvSpPr>
              <p:spPr>
                <a:xfrm>
                  <a:off x="2354400" y="4563720"/>
                  <a:ext cx="571320" cy="185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 name=""/>
                <p:cNvSpPr/>
                <p:nvPr/>
              </p:nvSpPr>
              <p:spPr>
                <a:xfrm>
                  <a:off x="2286000" y="4563720"/>
                  <a:ext cx="708120" cy="185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2994120" y="4563720"/>
                <a:ext cx="1736640" cy="1850400"/>
                <a:chOff x="2994120" y="4563720"/>
                <a:chExt cx="1736640" cy="1850400"/>
              </a:xfrm>
            </p:grpSpPr>
            <p:sp>
              <p:nvSpPr>
                <p:cNvPr id="635" name=""/>
                <p:cNvSpPr/>
                <p:nvPr/>
              </p:nvSpPr>
              <p:spPr>
                <a:xfrm>
                  <a:off x="3062160" y="4563720"/>
                  <a:ext cx="1600200" cy="185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ut of the proposed band:</a:t>
                  </a:r>
                  <a:r>
                    <a:rPr b="0" lang="en-US" sz="1200" spc="-1" strike="noStrike">
                      <a:solidFill>
                        <a:srgbClr val="000000"/>
                      </a:solidFill>
                      <a:latin typeface="Times New Roman"/>
                      <a:ea typeface="Times New Roman"/>
                    </a:rPr>
                    <a:t>  Worse performance than same 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 band:</a:t>
                  </a:r>
                  <a:r>
                    <a:rPr b="0" lang="en-US" sz="1200" spc="-1" strike="noStrike">
                      <a:solidFill>
                        <a:srgbClr val="000000"/>
                      </a:solidFill>
                      <a:latin typeface="Times New Roman"/>
                      <a:ea typeface="Times New Roman"/>
                    </a:rPr>
                    <a:t> -: Interference protection is less than 25dB (excluding co-channel and adjacent chann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
                <p:cNvSpPr/>
                <p:nvPr/>
              </p:nvSpPr>
              <p:spPr>
                <a:xfrm>
                  <a:off x="2994120" y="4563720"/>
                  <a:ext cx="1736640" cy="185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4730760" y="4563720"/>
                <a:ext cx="1736640" cy="1850400"/>
                <a:chOff x="4730760" y="4563720"/>
                <a:chExt cx="1736640" cy="1850400"/>
              </a:xfrm>
            </p:grpSpPr>
            <p:sp>
              <p:nvSpPr>
                <p:cNvPr id="638" name=""/>
                <p:cNvSpPr/>
                <p:nvPr/>
              </p:nvSpPr>
              <p:spPr>
                <a:xfrm>
                  <a:off x="4799160" y="4563720"/>
                  <a:ext cx="1600200" cy="185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Out of the proposed band:</a:t>
                  </a:r>
                  <a:r>
                    <a:rPr b="0" lang="en-US" sz="1200" spc="-1" strike="noStrike">
                      <a:solidFill>
                        <a:srgbClr val="000000"/>
                      </a:solidFill>
                      <a:latin typeface="Times New Roman"/>
                      <a:ea typeface="Times New Roman"/>
                    </a:rPr>
                    <a:t> based on Bluetooth 1.0b (section A.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 band: </a:t>
                  </a:r>
                  <a:r>
                    <a:rPr b="0" lang="en-US" sz="1200" spc="-1" strike="noStrike">
                      <a:solidFill>
                        <a:srgbClr val="000000"/>
                      </a:solidFill>
                      <a:latin typeface="Times New Roman"/>
                      <a:ea typeface="Times New Roman"/>
                    </a:rPr>
                    <a:t>Interference protection is less than 30dB (excluding co-channel and adjacent and first chann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
                <p:cNvSpPr/>
                <p:nvPr/>
              </p:nvSpPr>
              <p:spPr>
                <a:xfrm>
                  <a:off x="4730760" y="4563720"/>
                  <a:ext cx="1736640" cy="185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6467400" y="4563720"/>
                <a:ext cx="1851120" cy="1850400"/>
                <a:chOff x="6467400" y="4563720"/>
                <a:chExt cx="1851120" cy="1850400"/>
              </a:xfrm>
            </p:grpSpPr>
            <p:sp>
              <p:nvSpPr>
                <p:cNvPr id="641" name=""/>
                <p:cNvSpPr/>
                <p:nvPr/>
              </p:nvSpPr>
              <p:spPr>
                <a:xfrm>
                  <a:off x="6535800" y="4563720"/>
                  <a:ext cx="1714320" cy="185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ea typeface="Times New Roman"/>
                    </a:rPr>
                    <a:t>Out of the proposed band:</a:t>
                  </a:r>
                  <a:r>
                    <a:rPr b="0" lang="en-US" sz="1200" spc="-1" strike="noStrike">
                      <a:solidFill>
                        <a:srgbClr val="ff0000"/>
                      </a:solidFill>
                      <a:latin typeface="Times New Roman"/>
                      <a:ea typeface="Times New Roman"/>
                    </a:rPr>
                    <a:t>  Better performance than same 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99"/>
                      </a:solidFill>
                      <a:latin typeface="Times New Roman"/>
                      <a:ea typeface="Times New Roman"/>
                    </a:rPr>
                    <a:t>In band:</a:t>
                  </a:r>
                  <a:r>
                    <a:rPr b="0" lang="en-US" sz="1200" spc="-1" strike="noStrike">
                      <a:solidFill>
                        <a:srgbClr val="00cc99"/>
                      </a:solidFill>
                      <a:latin typeface="Times New Roman"/>
                      <a:ea typeface="Times New Roman"/>
                    </a:rPr>
                    <a:t>  Interference protection is less greater than 35dB (excluding co-channel and adjacent chann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
                <p:cNvSpPr/>
                <p:nvPr/>
              </p:nvSpPr>
              <p:spPr>
                <a:xfrm>
                  <a:off x="6467400" y="4563720"/>
                  <a:ext cx="1851120" cy="185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3" name=""/>
            <p:cNvSpPr/>
            <p:nvPr/>
          </p:nvSpPr>
          <p:spPr>
            <a:xfrm>
              <a:off x="762120" y="1523880"/>
              <a:ext cx="7561080" cy="48945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32D9B9C1-1209-4A02-869A-A8082D217ACB}" type="slidenum">
              <a:t>1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286000" y="1600200"/>
            <a:ext cx="4549680" cy="1573200"/>
          </a:xfrm>
          <a:prstGeom prst="rect">
            <a:avLst/>
          </a:prstGeom>
          <a:ln w="0">
            <a:noFill/>
          </a:ln>
        </p:spPr>
      </p:pic>
      <p:sp>
        <p:nvSpPr>
          <p:cNvPr id="47" name=""/>
          <p:cNvSpPr/>
          <p:nvPr/>
        </p:nvSpPr>
        <p:spPr>
          <a:xfrm>
            <a:off x="685800" y="38862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C Layer Proposal Submission to the IEEE P802.15.4 Low Rate WPAN Task Group</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4D6FE33B-69BD-4EFD-86FD-DB2285E2E290}" type="slidenum">
              <a:t>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Pugh Matrix Comparison Values</a:t>
            </a:r>
            <a:br>
              <a:rPr sz="2000"/>
            </a:br>
            <a:r>
              <a:rPr b="1" i="1" lang="en-US" sz="2000" spc="-1" strike="noStrike" u="sng">
                <a:solidFill>
                  <a:srgbClr val="000000"/>
                </a:solidFill>
                <a:uFillTx/>
                <a:latin typeface="Times New Roman"/>
              </a:rPr>
              <a:t>General Solution Criteria Comparison Values (cont.)</a:t>
            </a:r>
            <a:endParaRPr b="0" lang="en-US" sz="2000" spc="-1" strike="noStrike">
              <a:solidFill>
                <a:srgbClr val="000000"/>
              </a:solidFill>
              <a:latin typeface="Times New Roman"/>
            </a:endParaRPr>
          </a:p>
        </p:txBody>
      </p:sp>
      <p:grpSp>
        <p:nvGrpSpPr>
          <p:cNvPr id="645" name=""/>
          <p:cNvGrpSpPr/>
          <p:nvPr/>
        </p:nvGrpSpPr>
        <p:grpSpPr>
          <a:xfrm>
            <a:off x="763560" y="1447920"/>
            <a:ext cx="7618320" cy="4952880"/>
            <a:chOff x="763560" y="1447920"/>
            <a:chExt cx="7618320" cy="4952880"/>
          </a:xfrm>
        </p:grpSpPr>
        <p:grpSp>
          <p:nvGrpSpPr>
            <p:cNvPr id="646" name=""/>
            <p:cNvGrpSpPr/>
            <p:nvPr/>
          </p:nvGrpSpPr>
          <p:grpSpPr>
            <a:xfrm>
              <a:off x="768240" y="1450800"/>
              <a:ext cx="7608960" cy="4946040"/>
              <a:chOff x="768240" y="1450800"/>
              <a:chExt cx="7608960" cy="4946040"/>
            </a:xfrm>
          </p:grpSpPr>
          <p:grpSp>
            <p:nvGrpSpPr>
              <p:cNvPr id="647" name=""/>
              <p:cNvGrpSpPr/>
              <p:nvPr/>
            </p:nvGrpSpPr>
            <p:grpSpPr>
              <a:xfrm>
                <a:off x="768240" y="1450800"/>
                <a:ext cx="1976400" cy="432720"/>
                <a:chOff x="768240" y="1450800"/>
                <a:chExt cx="1976400" cy="432720"/>
              </a:xfrm>
            </p:grpSpPr>
            <p:sp>
              <p:nvSpPr>
                <p:cNvPr id="648" name=""/>
                <p:cNvSpPr/>
                <p:nvPr/>
              </p:nvSpPr>
              <p:spPr>
                <a:xfrm>
                  <a:off x="768240" y="1450800"/>
                  <a:ext cx="197640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768240" y="1450800"/>
                  <a:ext cx="1976400" cy="432720"/>
                  <a:chOff x="768240" y="1450800"/>
                  <a:chExt cx="1976400" cy="432720"/>
                </a:xfrm>
              </p:grpSpPr>
              <p:sp>
                <p:nvSpPr>
                  <p:cNvPr id="650" name=""/>
                  <p:cNvSpPr/>
                  <p:nvPr/>
                </p:nvSpPr>
                <p:spPr>
                  <a:xfrm>
                    <a:off x="836640" y="1450800"/>
                    <a:ext cx="183960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
                  <p:cNvSpPr/>
                  <p:nvPr/>
                </p:nvSpPr>
                <p:spPr>
                  <a:xfrm>
                    <a:off x="768240" y="1450800"/>
                    <a:ext cx="197640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2" name=""/>
              <p:cNvGrpSpPr/>
              <p:nvPr/>
            </p:nvGrpSpPr>
            <p:grpSpPr>
              <a:xfrm>
                <a:off x="2744640" y="1450800"/>
                <a:ext cx="879480" cy="432720"/>
                <a:chOff x="2744640" y="1450800"/>
                <a:chExt cx="879480" cy="432720"/>
              </a:xfrm>
            </p:grpSpPr>
            <p:sp>
              <p:nvSpPr>
                <p:cNvPr id="653" name=""/>
                <p:cNvSpPr/>
                <p:nvPr/>
              </p:nvSpPr>
              <p:spPr>
                <a:xfrm>
                  <a:off x="2744640" y="1450800"/>
                  <a:ext cx="8794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2744640" y="1450800"/>
                  <a:ext cx="879480" cy="432720"/>
                  <a:chOff x="2744640" y="1450800"/>
                  <a:chExt cx="879480" cy="432720"/>
                </a:xfrm>
              </p:grpSpPr>
              <p:sp>
                <p:nvSpPr>
                  <p:cNvPr id="655" name=""/>
                  <p:cNvSpPr/>
                  <p:nvPr/>
                </p:nvSpPr>
                <p:spPr>
                  <a:xfrm>
                    <a:off x="2813040" y="1450800"/>
                    <a:ext cx="7426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
                  <p:cNvSpPr/>
                  <p:nvPr/>
                </p:nvSpPr>
                <p:spPr>
                  <a:xfrm>
                    <a:off x="2744640" y="1450800"/>
                    <a:ext cx="8794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7" name=""/>
              <p:cNvGrpSpPr/>
              <p:nvPr/>
            </p:nvGrpSpPr>
            <p:grpSpPr>
              <a:xfrm>
                <a:off x="3624120" y="1450800"/>
                <a:ext cx="1565280" cy="432720"/>
                <a:chOff x="3624120" y="1450800"/>
                <a:chExt cx="1565280" cy="432720"/>
              </a:xfrm>
            </p:grpSpPr>
            <p:sp>
              <p:nvSpPr>
                <p:cNvPr id="658" name=""/>
                <p:cNvSpPr/>
                <p:nvPr/>
              </p:nvSpPr>
              <p:spPr>
                <a:xfrm>
                  <a:off x="3624120" y="1450800"/>
                  <a:ext cx="15652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9" name=""/>
                <p:cNvGrpSpPr/>
                <p:nvPr/>
              </p:nvGrpSpPr>
              <p:grpSpPr>
                <a:xfrm>
                  <a:off x="3624120" y="1450800"/>
                  <a:ext cx="1565280" cy="432720"/>
                  <a:chOff x="3624120" y="1450800"/>
                  <a:chExt cx="1565280" cy="432720"/>
                </a:xfrm>
              </p:grpSpPr>
              <p:sp>
                <p:nvSpPr>
                  <p:cNvPr id="660" name=""/>
                  <p:cNvSpPr/>
                  <p:nvPr/>
                </p:nvSpPr>
                <p:spPr>
                  <a:xfrm>
                    <a:off x="3692520" y="1450800"/>
                    <a:ext cx="14284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
                  <p:cNvSpPr/>
                  <p:nvPr/>
                </p:nvSpPr>
                <p:spPr>
                  <a:xfrm>
                    <a:off x="3624120" y="145080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2" name=""/>
              <p:cNvGrpSpPr/>
              <p:nvPr/>
            </p:nvGrpSpPr>
            <p:grpSpPr>
              <a:xfrm>
                <a:off x="5189400" y="1450800"/>
                <a:ext cx="1622520" cy="432720"/>
                <a:chOff x="5189400" y="1450800"/>
                <a:chExt cx="1622520" cy="432720"/>
              </a:xfrm>
            </p:grpSpPr>
            <p:sp>
              <p:nvSpPr>
                <p:cNvPr id="663" name=""/>
                <p:cNvSpPr/>
                <p:nvPr/>
              </p:nvSpPr>
              <p:spPr>
                <a:xfrm>
                  <a:off x="5189400" y="1450800"/>
                  <a:ext cx="162252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9400" y="1450800"/>
                  <a:ext cx="1622520" cy="432720"/>
                  <a:chOff x="5189400" y="1450800"/>
                  <a:chExt cx="1622520" cy="432720"/>
                </a:xfrm>
              </p:grpSpPr>
              <p:sp>
                <p:nvSpPr>
                  <p:cNvPr id="665" name=""/>
                  <p:cNvSpPr/>
                  <p:nvPr/>
                </p:nvSpPr>
                <p:spPr>
                  <a:xfrm>
                    <a:off x="5257800" y="1450800"/>
                    <a:ext cx="148572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rison Val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
                  <p:cNvSpPr/>
                  <p:nvPr/>
                </p:nvSpPr>
                <p:spPr>
                  <a:xfrm>
                    <a:off x="5189400" y="1450800"/>
                    <a:ext cx="162252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7" name=""/>
              <p:cNvGrpSpPr/>
              <p:nvPr/>
            </p:nvGrpSpPr>
            <p:grpSpPr>
              <a:xfrm>
                <a:off x="6811920" y="1450800"/>
                <a:ext cx="1565280" cy="432720"/>
                <a:chOff x="6811920" y="1450800"/>
                <a:chExt cx="1565280" cy="432720"/>
              </a:xfrm>
            </p:grpSpPr>
            <p:sp>
              <p:nvSpPr>
                <p:cNvPr id="668" name=""/>
                <p:cNvSpPr/>
                <p:nvPr/>
              </p:nvSpPr>
              <p:spPr>
                <a:xfrm>
                  <a:off x="6811920" y="1450800"/>
                  <a:ext cx="15652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9" name=""/>
                <p:cNvGrpSpPr/>
                <p:nvPr/>
              </p:nvGrpSpPr>
              <p:grpSpPr>
                <a:xfrm>
                  <a:off x="6811920" y="1450800"/>
                  <a:ext cx="1565280" cy="432720"/>
                  <a:chOff x="6811920" y="1450800"/>
                  <a:chExt cx="1565280" cy="432720"/>
                </a:xfrm>
              </p:grpSpPr>
              <p:sp>
                <p:nvSpPr>
                  <p:cNvPr id="670" name=""/>
                  <p:cNvSpPr/>
                  <p:nvPr/>
                </p:nvSpPr>
                <p:spPr>
                  <a:xfrm>
                    <a:off x="6879960" y="1450800"/>
                    <a:ext cx="142884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
                  <p:cNvSpPr/>
                  <p:nvPr/>
                </p:nvSpPr>
                <p:spPr>
                  <a:xfrm>
                    <a:off x="6811920" y="145080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2" name=""/>
              <p:cNvGrpSpPr/>
              <p:nvPr/>
            </p:nvGrpSpPr>
            <p:grpSpPr>
              <a:xfrm>
                <a:off x="768240" y="1883520"/>
                <a:ext cx="1976400" cy="432720"/>
                <a:chOff x="768240" y="1883520"/>
                <a:chExt cx="1976400" cy="432720"/>
              </a:xfrm>
            </p:grpSpPr>
            <p:sp>
              <p:nvSpPr>
                <p:cNvPr id="673" name=""/>
                <p:cNvSpPr/>
                <p:nvPr/>
              </p:nvSpPr>
              <p:spPr>
                <a:xfrm>
                  <a:off x="768240" y="1883520"/>
                  <a:ext cx="197640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768240" y="1883520"/>
                  <a:ext cx="1976400" cy="432720"/>
                  <a:chOff x="768240" y="1883520"/>
                  <a:chExt cx="1976400" cy="432720"/>
                </a:xfrm>
              </p:grpSpPr>
              <p:sp>
                <p:nvSpPr>
                  <p:cNvPr id="675" name=""/>
                  <p:cNvSpPr/>
                  <p:nvPr/>
                </p:nvSpPr>
                <p:spPr>
                  <a:xfrm>
                    <a:off x="836640" y="1883520"/>
                    <a:ext cx="183960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768240" y="1883520"/>
                    <a:ext cx="197640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7" name=""/>
              <p:cNvGrpSpPr/>
              <p:nvPr/>
            </p:nvGrpSpPr>
            <p:grpSpPr>
              <a:xfrm>
                <a:off x="2744640" y="1883520"/>
                <a:ext cx="879480" cy="432720"/>
                <a:chOff x="2744640" y="1883520"/>
                <a:chExt cx="879480" cy="432720"/>
              </a:xfrm>
            </p:grpSpPr>
            <p:sp>
              <p:nvSpPr>
                <p:cNvPr id="678" name=""/>
                <p:cNvSpPr/>
                <p:nvPr/>
              </p:nvSpPr>
              <p:spPr>
                <a:xfrm>
                  <a:off x="2744640" y="1883520"/>
                  <a:ext cx="8794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9" name=""/>
                <p:cNvGrpSpPr/>
                <p:nvPr/>
              </p:nvGrpSpPr>
              <p:grpSpPr>
                <a:xfrm>
                  <a:off x="2744640" y="1883520"/>
                  <a:ext cx="879480" cy="432720"/>
                  <a:chOff x="2744640" y="1883520"/>
                  <a:chExt cx="879480" cy="432720"/>
                </a:xfrm>
              </p:grpSpPr>
              <p:sp>
                <p:nvSpPr>
                  <p:cNvPr id="680" name=""/>
                  <p:cNvSpPr/>
                  <p:nvPr/>
                </p:nvSpPr>
                <p:spPr>
                  <a:xfrm>
                    <a:off x="2813040" y="1883520"/>
                    <a:ext cx="7426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
                  <p:cNvSpPr/>
                  <p:nvPr/>
                </p:nvSpPr>
                <p:spPr>
                  <a:xfrm>
                    <a:off x="2744640" y="1883520"/>
                    <a:ext cx="8794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2" name=""/>
              <p:cNvGrpSpPr/>
              <p:nvPr/>
            </p:nvGrpSpPr>
            <p:grpSpPr>
              <a:xfrm>
                <a:off x="3624120" y="1883520"/>
                <a:ext cx="1565280" cy="432720"/>
                <a:chOff x="3624120" y="1883520"/>
                <a:chExt cx="1565280" cy="432720"/>
              </a:xfrm>
            </p:grpSpPr>
            <p:sp>
              <p:nvSpPr>
                <p:cNvPr id="683" name=""/>
                <p:cNvSpPr/>
                <p:nvPr/>
              </p:nvSpPr>
              <p:spPr>
                <a:xfrm>
                  <a:off x="3624120" y="1883520"/>
                  <a:ext cx="15652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4" name=""/>
                <p:cNvGrpSpPr/>
                <p:nvPr/>
              </p:nvGrpSpPr>
              <p:grpSpPr>
                <a:xfrm>
                  <a:off x="3624120" y="1883520"/>
                  <a:ext cx="1565280" cy="432720"/>
                  <a:chOff x="3624120" y="1883520"/>
                  <a:chExt cx="1565280" cy="432720"/>
                </a:xfrm>
              </p:grpSpPr>
              <p:sp>
                <p:nvSpPr>
                  <p:cNvPr id="685" name=""/>
                  <p:cNvSpPr/>
                  <p:nvPr/>
                </p:nvSpPr>
                <p:spPr>
                  <a:xfrm>
                    <a:off x="3692520" y="1883520"/>
                    <a:ext cx="14284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
                  <p:cNvSpPr/>
                  <p:nvPr/>
                </p:nvSpPr>
                <p:spPr>
                  <a:xfrm>
                    <a:off x="3624120" y="188352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7" name=""/>
              <p:cNvGrpSpPr/>
              <p:nvPr/>
            </p:nvGrpSpPr>
            <p:grpSpPr>
              <a:xfrm>
                <a:off x="5189400" y="1883520"/>
                <a:ext cx="1622520" cy="432720"/>
                <a:chOff x="5189400" y="1883520"/>
                <a:chExt cx="1622520" cy="432720"/>
              </a:xfrm>
            </p:grpSpPr>
            <p:sp>
              <p:nvSpPr>
                <p:cNvPr id="688" name=""/>
                <p:cNvSpPr/>
                <p:nvPr/>
              </p:nvSpPr>
              <p:spPr>
                <a:xfrm>
                  <a:off x="5189400" y="1883520"/>
                  <a:ext cx="162252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9" name=""/>
                <p:cNvGrpSpPr/>
                <p:nvPr/>
              </p:nvGrpSpPr>
              <p:grpSpPr>
                <a:xfrm>
                  <a:off x="5189400" y="1883520"/>
                  <a:ext cx="1622520" cy="432720"/>
                  <a:chOff x="5189400" y="1883520"/>
                  <a:chExt cx="1622520" cy="432720"/>
                </a:xfrm>
              </p:grpSpPr>
              <p:sp>
                <p:nvSpPr>
                  <p:cNvPr id="690" name=""/>
                  <p:cNvSpPr/>
                  <p:nvPr/>
                </p:nvSpPr>
                <p:spPr>
                  <a:xfrm>
                    <a:off x="5257800" y="1883520"/>
                    <a:ext cx="148572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1" name=""/>
                  <p:cNvSpPr/>
                  <p:nvPr/>
                </p:nvSpPr>
                <p:spPr>
                  <a:xfrm>
                    <a:off x="5189400" y="1883520"/>
                    <a:ext cx="162252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2" name=""/>
              <p:cNvGrpSpPr/>
              <p:nvPr/>
            </p:nvGrpSpPr>
            <p:grpSpPr>
              <a:xfrm>
                <a:off x="6811920" y="1883520"/>
                <a:ext cx="1565280" cy="432720"/>
                <a:chOff x="6811920" y="1883520"/>
                <a:chExt cx="1565280" cy="432720"/>
              </a:xfrm>
            </p:grpSpPr>
            <p:sp>
              <p:nvSpPr>
                <p:cNvPr id="693" name=""/>
                <p:cNvSpPr/>
                <p:nvPr/>
              </p:nvSpPr>
              <p:spPr>
                <a:xfrm>
                  <a:off x="6811920" y="1883520"/>
                  <a:ext cx="156528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4" name=""/>
                <p:cNvGrpSpPr/>
                <p:nvPr/>
              </p:nvGrpSpPr>
              <p:grpSpPr>
                <a:xfrm>
                  <a:off x="6811920" y="1883520"/>
                  <a:ext cx="1565280" cy="432720"/>
                  <a:chOff x="6811920" y="1883520"/>
                  <a:chExt cx="1565280" cy="432720"/>
                </a:xfrm>
              </p:grpSpPr>
              <p:sp>
                <p:nvSpPr>
                  <p:cNvPr id="695" name=""/>
                  <p:cNvSpPr/>
                  <p:nvPr/>
                </p:nvSpPr>
                <p:spPr>
                  <a:xfrm>
                    <a:off x="6879960" y="1883520"/>
                    <a:ext cx="1428840" cy="4327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
                  <p:cNvSpPr/>
                  <p:nvPr/>
                </p:nvSpPr>
                <p:spPr>
                  <a:xfrm>
                    <a:off x="6811920" y="188352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7" name=""/>
              <p:cNvGrpSpPr/>
              <p:nvPr/>
            </p:nvGrpSpPr>
            <p:grpSpPr>
              <a:xfrm>
                <a:off x="768240" y="2316600"/>
                <a:ext cx="1976400" cy="680040"/>
                <a:chOff x="768240" y="2316600"/>
                <a:chExt cx="1976400" cy="680040"/>
              </a:xfrm>
            </p:grpSpPr>
            <p:sp>
              <p:nvSpPr>
                <p:cNvPr id="698" name=""/>
                <p:cNvSpPr/>
                <p:nvPr/>
              </p:nvSpPr>
              <p:spPr>
                <a:xfrm>
                  <a:off x="836640" y="2316600"/>
                  <a:ext cx="183960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modulatio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
                <p:cNvSpPr/>
                <p:nvPr/>
              </p:nvSpPr>
              <p:spPr>
                <a:xfrm>
                  <a:off x="768240" y="2316600"/>
                  <a:ext cx="197640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744640" y="2316600"/>
                <a:ext cx="879480" cy="680040"/>
                <a:chOff x="2744640" y="2316600"/>
                <a:chExt cx="879480" cy="680040"/>
              </a:xfrm>
            </p:grpSpPr>
            <p:sp>
              <p:nvSpPr>
                <p:cNvPr id="701" name=""/>
                <p:cNvSpPr/>
                <p:nvPr/>
              </p:nvSpPr>
              <p:spPr>
                <a:xfrm>
                  <a:off x="2813040" y="2316600"/>
                  <a:ext cx="74268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2.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Value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
                <p:cNvSpPr/>
                <p:nvPr/>
              </p:nvSpPr>
              <p:spPr>
                <a:xfrm>
                  <a:off x="2744640" y="2316600"/>
                  <a:ext cx="8794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624120" y="2316600"/>
                <a:ext cx="1565280" cy="680040"/>
                <a:chOff x="3624120" y="2316600"/>
                <a:chExt cx="1565280" cy="680040"/>
              </a:xfrm>
            </p:grpSpPr>
            <p:sp>
              <p:nvSpPr>
                <p:cNvPr id="704" name=""/>
                <p:cNvSpPr/>
                <p:nvPr/>
              </p:nvSpPr>
              <p:spPr>
                <a:xfrm>
                  <a:off x="3692520" y="2316600"/>
                  <a:ext cx="142848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 -45d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
                <p:cNvSpPr/>
                <p:nvPr/>
              </p:nvSpPr>
              <p:spPr>
                <a:xfrm>
                  <a:off x="3624120" y="2316600"/>
                  <a:ext cx="15652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189400" y="2316600"/>
                <a:ext cx="1622520" cy="680040"/>
                <a:chOff x="5189400" y="2316600"/>
                <a:chExt cx="1622520" cy="680040"/>
              </a:xfrm>
            </p:grpSpPr>
            <p:sp>
              <p:nvSpPr>
                <p:cNvPr id="707" name=""/>
                <p:cNvSpPr/>
                <p:nvPr/>
              </p:nvSpPr>
              <p:spPr>
                <a:xfrm>
                  <a:off x="5257800" y="2316600"/>
                  <a:ext cx="148572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35dBm to –45d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Needs clarification in Criteria Docu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
                <p:cNvSpPr/>
                <p:nvPr/>
              </p:nvSpPr>
              <p:spPr>
                <a:xfrm>
                  <a:off x="5189400" y="2316600"/>
                  <a:ext cx="162252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811920" y="2316600"/>
                <a:ext cx="1565280" cy="680040"/>
                <a:chOff x="6811920" y="2316600"/>
                <a:chExt cx="1565280" cy="680040"/>
              </a:xfrm>
            </p:grpSpPr>
            <p:sp>
              <p:nvSpPr>
                <p:cNvPr id="710" name=""/>
                <p:cNvSpPr/>
                <p:nvPr/>
              </p:nvSpPr>
              <p:spPr>
                <a:xfrm>
                  <a:off x="6879960" y="2316600"/>
                  <a:ext cx="142884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t; -35d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
                <p:cNvSpPr/>
                <p:nvPr/>
              </p:nvSpPr>
              <p:spPr>
                <a:xfrm>
                  <a:off x="6811920" y="2316600"/>
                  <a:ext cx="15652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8240" y="2996640"/>
                <a:ext cx="1976400" cy="803520"/>
                <a:chOff x="768240" y="2996640"/>
                <a:chExt cx="1976400" cy="803520"/>
              </a:xfrm>
            </p:grpSpPr>
            <p:sp>
              <p:nvSpPr>
                <p:cNvPr id="713" name=""/>
                <p:cNvSpPr/>
                <p:nvPr/>
              </p:nvSpPr>
              <p:spPr>
                <a:xfrm>
                  <a:off x="836640" y="2996640"/>
                  <a:ext cx="1839600" cy="80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modulation above (sensitivity +3 dB) for minimum required data r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
                <p:cNvSpPr/>
                <p:nvPr/>
              </p:nvSpPr>
              <p:spPr>
                <a:xfrm>
                  <a:off x="768240" y="2996640"/>
                  <a:ext cx="1976400" cy="80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2744640" y="2996640"/>
                <a:ext cx="879480" cy="803520"/>
                <a:chOff x="2744640" y="2996640"/>
                <a:chExt cx="879480" cy="803520"/>
              </a:xfrm>
            </p:grpSpPr>
            <p:sp>
              <p:nvSpPr>
                <p:cNvPr id="716" name=""/>
                <p:cNvSpPr/>
                <p:nvPr/>
              </p:nvSpPr>
              <p:spPr>
                <a:xfrm>
                  <a:off x="2813040" y="2996640"/>
                  <a:ext cx="742680" cy="80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2.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Value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
                <p:cNvSpPr/>
                <p:nvPr/>
              </p:nvSpPr>
              <p:spPr>
                <a:xfrm>
                  <a:off x="2744640" y="2996640"/>
                  <a:ext cx="879480" cy="80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3624120" y="2996640"/>
                <a:ext cx="1565280" cy="803520"/>
                <a:chOff x="3624120" y="2996640"/>
                <a:chExt cx="1565280" cy="803520"/>
              </a:xfrm>
            </p:grpSpPr>
            <p:sp>
              <p:nvSpPr>
                <p:cNvPr id="719" name=""/>
                <p:cNvSpPr/>
                <p:nvPr/>
              </p:nvSpPr>
              <p:spPr>
                <a:xfrm>
                  <a:off x="3692520" y="2996640"/>
                  <a:ext cx="1428480" cy="803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 25 dB</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
                <p:cNvSpPr/>
                <p:nvPr/>
              </p:nvSpPr>
              <p:spPr>
                <a:xfrm>
                  <a:off x="3624120" y="2996640"/>
                  <a:ext cx="1565280" cy="80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5189400" y="2996640"/>
                <a:ext cx="1622520" cy="803520"/>
                <a:chOff x="5189400" y="2996640"/>
                <a:chExt cx="1622520" cy="803520"/>
              </a:xfrm>
            </p:grpSpPr>
            <p:sp>
              <p:nvSpPr>
                <p:cNvPr id="722" name=""/>
                <p:cNvSpPr/>
                <p:nvPr/>
              </p:nvSpPr>
              <p:spPr>
                <a:xfrm>
                  <a:off x="5257800" y="2996640"/>
                  <a:ext cx="1485720" cy="803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25 to 35 dB</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Needs clarification in Criteria Document</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
                <p:cNvSpPr/>
                <p:nvPr/>
              </p:nvSpPr>
              <p:spPr>
                <a:xfrm>
                  <a:off x="5189400" y="2996640"/>
                  <a:ext cx="1622520" cy="80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6811920" y="2996640"/>
                <a:ext cx="1565280" cy="803520"/>
                <a:chOff x="6811920" y="2996640"/>
                <a:chExt cx="1565280" cy="803520"/>
              </a:xfrm>
            </p:grpSpPr>
            <p:sp>
              <p:nvSpPr>
                <p:cNvPr id="725" name=""/>
                <p:cNvSpPr/>
                <p:nvPr/>
              </p:nvSpPr>
              <p:spPr>
                <a:xfrm>
                  <a:off x="6879960" y="2996640"/>
                  <a:ext cx="1428840" cy="80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t; 35 d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
                <p:cNvSpPr/>
                <p:nvPr/>
              </p:nvSpPr>
              <p:spPr>
                <a:xfrm>
                  <a:off x="6811920" y="2996640"/>
                  <a:ext cx="1565280" cy="80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68240" y="3800520"/>
                <a:ext cx="1976400" cy="556200"/>
                <a:chOff x="768240" y="3800520"/>
                <a:chExt cx="1976400" cy="556200"/>
              </a:xfrm>
            </p:grpSpPr>
            <p:sp>
              <p:nvSpPr>
                <p:cNvPr id="728" name=""/>
                <p:cNvSpPr/>
                <p:nvPr/>
              </p:nvSpPr>
              <p:spPr>
                <a:xfrm>
                  <a:off x="836640" y="3800520"/>
                  <a:ext cx="183960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mming Resista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Needs Simplif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
                <p:cNvSpPr/>
                <p:nvPr/>
              </p:nvSpPr>
              <p:spPr>
                <a:xfrm>
                  <a:off x="768240" y="3800520"/>
                  <a:ext cx="197640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2744640" y="3800520"/>
                <a:ext cx="879480" cy="556200"/>
                <a:chOff x="2744640" y="3800520"/>
                <a:chExt cx="879480" cy="556200"/>
              </a:xfrm>
            </p:grpSpPr>
            <p:sp>
              <p:nvSpPr>
                <p:cNvPr id="731" name=""/>
                <p:cNvSpPr/>
                <p:nvPr/>
              </p:nvSpPr>
              <p:spPr>
                <a:xfrm>
                  <a:off x="2813040" y="3800520"/>
                  <a:ext cx="74268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2.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
                <p:cNvSpPr/>
                <p:nvPr/>
              </p:nvSpPr>
              <p:spPr>
                <a:xfrm>
                  <a:off x="2744640" y="3800520"/>
                  <a:ext cx="8794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3624120" y="3800520"/>
                <a:ext cx="1565280" cy="556200"/>
                <a:chOff x="3624120" y="3800520"/>
                <a:chExt cx="1565280" cy="556200"/>
              </a:xfrm>
            </p:grpSpPr>
            <p:sp>
              <p:nvSpPr>
                <p:cNvPr id="734" name=""/>
                <p:cNvSpPr/>
                <p:nvPr/>
              </p:nvSpPr>
              <p:spPr>
                <a:xfrm>
                  <a:off x="3692520" y="3800520"/>
                  <a:ext cx="142848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y 3 or more sources listed j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
                <p:cNvSpPr/>
                <p:nvPr/>
              </p:nvSpPr>
              <p:spPr>
                <a:xfrm>
                  <a:off x="3624120" y="3800520"/>
                  <a:ext cx="15652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5189400" y="3800520"/>
                <a:ext cx="1622520" cy="556200"/>
                <a:chOff x="5189400" y="3800520"/>
                <a:chExt cx="1622520" cy="556200"/>
              </a:xfrm>
            </p:grpSpPr>
            <p:sp>
              <p:nvSpPr>
                <p:cNvPr id="737" name=""/>
                <p:cNvSpPr/>
                <p:nvPr/>
              </p:nvSpPr>
              <p:spPr>
                <a:xfrm>
                  <a:off x="5257800" y="3800520"/>
                  <a:ext cx="148572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sources j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
                <p:cNvSpPr/>
                <p:nvPr/>
              </p:nvSpPr>
              <p:spPr>
                <a:xfrm>
                  <a:off x="5189400" y="3800520"/>
                  <a:ext cx="162252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6811920" y="3800520"/>
                <a:ext cx="1565280" cy="556200"/>
                <a:chOff x="6811920" y="3800520"/>
                <a:chExt cx="1565280" cy="556200"/>
              </a:xfrm>
            </p:grpSpPr>
            <p:sp>
              <p:nvSpPr>
                <p:cNvPr id="740" name=""/>
                <p:cNvSpPr/>
                <p:nvPr/>
              </p:nvSpPr>
              <p:spPr>
                <a:xfrm>
                  <a:off x="6879960" y="3800520"/>
                  <a:ext cx="1428840" cy="55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No more than 1 sources ja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1" name=""/>
                <p:cNvSpPr/>
                <p:nvPr/>
              </p:nvSpPr>
              <p:spPr>
                <a:xfrm>
                  <a:off x="6811920" y="3800520"/>
                  <a:ext cx="1565280" cy="55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768240" y="4356720"/>
                <a:ext cx="1976400" cy="680040"/>
                <a:chOff x="768240" y="4356720"/>
                <a:chExt cx="1976400" cy="680040"/>
              </a:xfrm>
            </p:grpSpPr>
            <p:sp>
              <p:nvSpPr>
                <p:cNvPr id="743" name=""/>
                <p:cNvSpPr/>
                <p:nvPr/>
              </p:nvSpPr>
              <p:spPr>
                <a:xfrm>
                  <a:off x="836640" y="4356720"/>
                  <a:ext cx="183960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ltiple Acc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
                <p:cNvSpPr/>
                <p:nvPr/>
              </p:nvSpPr>
              <p:spPr>
                <a:xfrm>
                  <a:off x="768240" y="4356720"/>
                  <a:ext cx="197640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2744640" y="4356720"/>
                <a:ext cx="879480" cy="680040"/>
                <a:chOff x="2744640" y="4356720"/>
                <a:chExt cx="879480" cy="680040"/>
              </a:xfrm>
            </p:grpSpPr>
            <p:sp>
              <p:nvSpPr>
                <p:cNvPr id="746" name=""/>
                <p:cNvSpPr/>
                <p:nvPr/>
              </p:nvSpPr>
              <p:spPr>
                <a:xfrm>
                  <a:off x="2813040" y="4356720"/>
                  <a:ext cx="74268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
                <p:cNvSpPr/>
                <p:nvPr/>
              </p:nvSpPr>
              <p:spPr>
                <a:xfrm>
                  <a:off x="2744640" y="4356720"/>
                  <a:ext cx="8794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3624120" y="4356720"/>
                <a:ext cx="1565280" cy="680040"/>
                <a:chOff x="3624120" y="4356720"/>
                <a:chExt cx="1565280" cy="680040"/>
              </a:xfrm>
            </p:grpSpPr>
            <p:sp>
              <p:nvSpPr>
                <p:cNvPr id="749" name=""/>
                <p:cNvSpPr/>
                <p:nvPr/>
              </p:nvSpPr>
              <p:spPr>
                <a:xfrm>
                  <a:off x="3692520" y="4356720"/>
                  <a:ext cx="142848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Scenarios wo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
                <p:cNvSpPr/>
                <p:nvPr/>
              </p:nvSpPr>
              <p:spPr>
                <a:xfrm>
                  <a:off x="3624120" y="4356720"/>
                  <a:ext cx="15652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5189400" y="4356720"/>
                <a:ext cx="1622520" cy="680040"/>
                <a:chOff x="5189400" y="4356720"/>
                <a:chExt cx="1622520" cy="680040"/>
              </a:xfrm>
            </p:grpSpPr>
            <p:sp>
              <p:nvSpPr>
                <p:cNvPr id="752" name=""/>
                <p:cNvSpPr/>
                <p:nvPr/>
              </p:nvSpPr>
              <p:spPr>
                <a:xfrm>
                  <a:off x="5257800" y="4356720"/>
                  <a:ext cx="148572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ndles </a:t>
                  </a:r>
                  <a:r>
                    <a:rPr b="0" lang="en-US" sz="1200" spc="-1" strike="noStrike">
                      <a:solidFill>
                        <a:srgbClr val="000000"/>
                      </a:solidFill>
                      <a:latin typeface="Times New Roman"/>
                      <a:ea typeface="Times New Roman"/>
                    </a:rPr>
                    <a:t>Scenari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
                <p:cNvSpPr/>
                <p:nvPr/>
              </p:nvSpPr>
              <p:spPr>
                <a:xfrm>
                  <a:off x="5189400" y="4356720"/>
                  <a:ext cx="162252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811920" y="4356720"/>
                <a:ext cx="1565280" cy="680040"/>
                <a:chOff x="6811920" y="4356720"/>
                <a:chExt cx="1565280" cy="680040"/>
              </a:xfrm>
            </p:grpSpPr>
            <p:sp>
              <p:nvSpPr>
                <p:cNvPr id="755" name=""/>
                <p:cNvSpPr/>
                <p:nvPr/>
              </p:nvSpPr>
              <p:spPr>
                <a:xfrm>
                  <a:off x="6879960" y="4356720"/>
                  <a:ext cx="1428840" cy="68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One or more of the other 2 scenarios wo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6" name=""/>
                <p:cNvSpPr/>
                <p:nvPr/>
              </p:nvSpPr>
              <p:spPr>
                <a:xfrm>
                  <a:off x="6811920" y="4356720"/>
                  <a:ext cx="1565280" cy="68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768240" y="5037120"/>
                <a:ext cx="1976400" cy="927000"/>
                <a:chOff x="768240" y="5037120"/>
                <a:chExt cx="1976400" cy="927000"/>
              </a:xfrm>
            </p:grpSpPr>
            <p:sp>
              <p:nvSpPr>
                <p:cNvPr id="758" name=""/>
                <p:cNvSpPr/>
                <p:nvPr/>
              </p:nvSpPr>
              <p:spPr>
                <a:xfrm>
                  <a:off x="836640" y="5037120"/>
                  <a:ext cx="183960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existen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aluation for each of the 5 sources and the create a total value using the formula shown in note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9" name=""/>
                <p:cNvSpPr/>
                <p:nvPr/>
              </p:nvSpPr>
              <p:spPr>
                <a:xfrm>
                  <a:off x="768240" y="5037120"/>
                  <a:ext cx="1976400" cy="92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2744640" y="5037120"/>
                <a:ext cx="879480" cy="927000"/>
                <a:chOff x="2744640" y="5037120"/>
                <a:chExt cx="879480" cy="927000"/>
              </a:xfrm>
            </p:grpSpPr>
            <p:sp>
              <p:nvSpPr>
                <p:cNvPr id="761" name=""/>
                <p:cNvSpPr/>
                <p:nvPr/>
              </p:nvSpPr>
              <p:spPr>
                <a:xfrm>
                  <a:off x="2813040" y="5037120"/>
                  <a:ext cx="74268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2.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
                <p:cNvSpPr/>
                <p:nvPr/>
              </p:nvSpPr>
              <p:spPr>
                <a:xfrm>
                  <a:off x="2744640" y="5037120"/>
                  <a:ext cx="879480" cy="92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3624120" y="5037120"/>
                <a:ext cx="1565280" cy="927000"/>
                <a:chOff x="3624120" y="5037120"/>
                <a:chExt cx="1565280" cy="927000"/>
              </a:xfrm>
            </p:grpSpPr>
            <p:sp>
              <p:nvSpPr>
                <p:cNvPr id="764" name=""/>
                <p:cNvSpPr/>
                <p:nvPr/>
              </p:nvSpPr>
              <p:spPr>
                <a:xfrm>
                  <a:off x="3692520" y="5037120"/>
                  <a:ext cx="142848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dividual Sources:</a:t>
                  </a:r>
                  <a:r>
                    <a:rPr b="0" lang="en-US" sz="1200" spc="-1" strike="noStrike">
                      <a:solidFill>
                        <a:srgbClr val="000000"/>
                      </a:solidFill>
                      <a:latin typeface="Times New Roman"/>
                      <a:ea typeface="Times New Roman"/>
                    </a:rPr>
                    <a:t>  less than 4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C =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t;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5" name=""/>
                <p:cNvSpPr/>
                <p:nvPr/>
              </p:nvSpPr>
              <p:spPr>
                <a:xfrm>
                  <a:off x="3624120" y="5037120"/>
                  <a:ext cx="1565280" cy="92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5189400" y="5037120"/>
                <a:ext cx="1622520" cy="927000"/>
                <a:chOff x="5189400" y="5037120"/>
                <a:chExt cx="1622520" cy="927000"/>
              </a:xfrm>
            </p:grpSpPr>
            <p:sp>
              <p:nvSpPr>
                <p:cNvPr id="767" name=""/>
                <p:cNvSpPr/>
                <p:nvPr/>
              </p:nvSpPr>
              <p:spPr>
                <a:xfrm>
                  <a:off x="5257800" y="5037120"/>
                  <a:ext cx="148572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dividual Sources:</a:t>
                  </a:r>
                  <a:r>
                    <a:rPr b="0" lang="en-US" sz="1200" spc="-1" strike="noStrike">
                      <a:solidFill>
                        <a:srgbClr val="000000"/>
                      </a:solidFill>
                      <a:latin typeface="Times New Roman"/>
                      <a:ea typeface="Times New Roman"/>
                    </a:rPr>
                    <a:t>  40% - 6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C =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8" name=""/>
                <p:cNvSpPr/>
                <p:nvPr/>
              </p:nvSpPr>
              <p:spPr>
                <a:xfrm>
                  <a:off x="5189400" y="5037120"/>
                  <a:ext cx="1622520" cy="92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811920" y="5037120"/>
                <a:ext cx="1565280" cy="927000"/>
                <a:chOff x="6811920" y="5037120"/>
                <a:chExt cx="1565280" cy="927000"/>
              </a:xfrm>
            </p:grpSpPr>
            <p:sp>
              <p:nvSpPr>
                <p:cNvPr id="770" name=""/>
                <p:cNvSpPr/>
                <p:nvPr/>
              </p:nvSpPr>
              <p:spPr>
                <a:xfrm>
                  <a:off x="6879960" y="5037120"/>
                  <a:ext cx="142884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Individual Sources:</a:t>
                  </a:r>
                  <a:r>
                    <a:rPr b="0" lang="en-US" sz="1200" spc="-1" strike="noStrike">
                      <a:solidFill>
                        <a:srgbClr val="000000"/>
                      </a:solidFill>
                      <a:latin typeface="Times New Roman"/>
                      <a:ea typeface="Times New Roman"/>
                    </a:rPr>
                    <a:t>  greater than 60% (IC =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t;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1" name=""/>
                <p:cNvSpPr/>
                <p:nvPr/>
              </p:nvSpPr>
              <p:spPr>
                <a:xfrm>
                  <a:off x="6811920" y="5037120"/>
                  <a:ext cx="1565280" cy="92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768240" y="5964120"/>
                <a:ext cx="1976400" cy="432720"/>
                <a:chOff x="768240" y="5964120"/>
                <a:chExt cx="1976400" cy="432720"/>
              </a:xfrm>
            </p:grpSpPr>
            <p:sp>
              <p:nvSpPr>
                <p:cNvPr id="773" name=""/>
                <p:cNvSpPr/>
                <p:nvPr/>
              </p:nvSpPr>
              <p:spPr>
                <a:xfrm>
                  <a:off x="836640" y="5964120"/>
                  <a:ext cx="1839600" cy="4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oper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4" name=""/>
                <p:cNvSpPr/>
                <p:nvPr/>
              </p:nvSpPr>
              <p:spPr>
                <a:xfrm>
                  <a:off x="768240" y="5964120"/>
                  <a:ext cx="197640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2744640" y="5964120"/>
                <a:ext cx="879480" cy="432720"/>
                <a:chOff x="2744640" y="5964120"/>
                <a:chExt cx="879480" cy="432720"/>
              </a:xfrm>
            </p:grpSpPr>
            <p:sp>
              <p:nvSpPr>
                <p:cNvPr id="776" name=""/>
                <p:cNvSpPr/>
                <p:nvPr/>
              </p:nvSpPr>
              <p:spPr>
                <a:xfrm>
                  <a:off x="2813040" y="5964120"/>
                  <a:ext cx="742680" cy="4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
                <p:cNvSpPr/>
                <p:nvPr/>
              </p:nvSpPr>
              <p:spPr>
                <a:xfrm>
                  <a:off x="2744640" y="5964120"/>
                  <a:ext cx="8794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3624120" y="5964120"/>
                <a:ext cx="1565280" cy="432720"/>
                <a:chOff x="3624120" y="5964120"/>
                <a:chExt cx="1565280" cy="432720"/>
              </a:xfrm>
            </p:grpSpPr>
            <p:sp>
              <p:nvSpPr>
                <p:cNvPr id="779" name=""/>
                <p:cNvSpPr/>
                <p:nvPr/>
              </p:nvSpPr>
              <p:spPr>
                <a:xfrm>
                  <a:off x="3692520" y="5964120"/>
                  <a:ext cx="1428480" cy="4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0" name=""/>
                <p:cNvSpPr/>
                <p:nvPr/>
              </p:nvSpPr>
              <p:spPr>
                <a:xfrm>
                  <a:off x="3624120" y="596412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5189400" y="5964120"/>
                <a:ext cx="1622520" cy="432720"/>
                <a:chOff x="5189400" y="5964120"/>
                <a:chExt cx="1622520" cy="432720"/>
              </a:xfrm>
            </p:grpSpPr>
            <p:sp>
              <p:nvSpPr>
                <p:cNvPr id="782" name=""/>
                <p:cNvSpPr/>
                <p:nvPr/>
              </p:nvSpPr>
              <p:spPr>
                <a:xfrm>
                  <a:off x="5257800" y="5964120"/>
                  <a:ext cx="1485720" cy="4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3" name=""/>
                <p:cNvSpPr/>
                <p:nvPr/>
              </p:nvSpPr>
              <p:spPr>
                <a:xfrm>
                  <a:off x="5189400" y="5964120"/>
                  <a:ext cx="162252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6811920" y="5964120"/>
                <a:ext cx="1565280" cy="432720"/>
                <a:chOff x="6811920" y="5964120"/>
                <a:chExt cx="1565280" cy="432720"/>
              </a:xfrm>
            </p:grpSpPr>
            <p:sp>
              <p:nvSpPr>
                <p:cNvPr id="785" name=""/>
                <p:cNvSpPr/>
                <p:nvPr/>
              </p:nvSpPr>
              <p:spPr>
                <a:xfrm>
                  <a:off x="6879960" y="5964120"/>
                  <a:ext cx="1428840" cy="43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6" name=""/>
                <p:cNvSpPr/>
                <p:nvPr/>
              </p:nvSpPr>
              <p:spPr>
                <a:xfrm>
                  <a:off x="6811920" y="5964120"/>
                  <a:ext cx="15652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7" name=""/>
            <p:cNvSpPr/>
            <p:nvPr/>
          </p:nvSpPr>
          <p:spPr>
            <a:xfrm>
              <a:off x="763560" y="1447920"/>
              <a:ext cx="761832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FBB4AA86-006C-4FF1-B55B-834FDE239AB7}" type="slidenum">
              <a:t>20</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Pugh Matrix Comparison Values</a:t>
            </a:r>
            <a:br>
              <a:rPr sz="2000"/>
            </a:br>
            <a:r>
              <a:rPr b="1" i="1" lang="en-US" sz="2000" spc="-1" strike="noStrike" u="sng">
                <a:solidFill>
                  <a:srgbClr val="000000"/>
                </a:solidFill>
                <a:uFillTx/>
                <a:latin typeface="Times New Roman"/>
              </a:rPr>
              <a:t>General Solution Criteria Comparison Values (cont.)</a:t>
            </a:r>
            <a:endParaRPr b="0" lang="en-US" sz="2000" spc="-1" strike="noStrike">
              <a:solidFill>
                <a:srgbClr val="000000"/>
              </a:solidFill>
              <a:latin typeface="Times New Roman"/>
            </a:endParaRPr>
          </a:p>
        </p:txBody>
      </p:sp>
      <p:grpSp>
        <p:nvGrpSpPr>
          <p:cNvPr id="789" name=""/>
          <p:cNvGrpSpPr/>
          <p:nvPr/>
        </p:nvGrpSpPr>
        <p:grpSpPr>
          <a:xfrm>
            <a:off x="992160" y="1447920"/>
            <a:ext cx="7161120" cy="3657600"/>
            <a:chOff x="992160" y="1447920"/>
            <a:chExt cx="7161120" cy="3657600"/>
          </a:xfrm>
        </p:grpSpPr>
        <p:grpSp>
          <p:nvGrpSpPr>
            <p:cNvPr id="790" name=""/>
            <p:cNvGrpSpPr/>
            <p:nvPr/>
          </p:nvGrpSpPr>
          <p:grpSpPr>
            <a:xfrm>
              <a:off x="996840" y="1450440"/>
              <a:ext cx="7151760" cy="3652200"/>
              <a:chOff x="996840" y="1450440"/>
              <a:chExt cx="7151760" cy="3652200"/>
            </a:xfrm>
          </p:grpSpPr>
          <p:grpSp>
            <p:nvGrpSpPr>
              <p:cNvPr id="791" name=""/>
              <p:cNvGrpSpPr/>
              <p:nvPr/>
            </p:nvGrpSpPr>
            <p:grpSpPr>
              <a:xfrm>
                <a:off x="996840" y="1450440"/>
                <a:ext cx="1519200" cy="375840"/>
                <a:chOff x="996840" y="1450440"/>
                <a:chExt cx="1519200" cy="375840"/>
              </a:xfrm>
            </p:grpSpPr>
            <p:sp>
              <p:nvSpPr>
                <p:cNvPr id="792" name=""/>
                <p:cNvSpPr/>
                <p:nvPr/>
              </p:nvSpPr>
              <p:spPr>
                <a:xfrm>
                  <a:off x="996840" y="1450440"/>
                  <a:ext cx="151920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3" name=""/>
                <p:cNvGrpSpPr/>
                <p:nvPr/>
              </p:nvGrpSpPr>
              <p:grpSpPr>
                <a:xfrm>
                  <a:off x="996840" y="1450440"/>
                  <a:ext cx="1519200" cy="375840"/>
                  <a:chOff x="996840" y="1450440"/>
                  <a:chExt cx="1519200" cy="375840"/>
                </a:xfrm>
              </p:grpSpPr>
              <p:sp>
                <p:nvSpPr>
                  <p:cNvPr id="794" name=""/>
                  <p:cNvSpPr/>
                  <p:nvPr/>
                </p:nvSpPr>
                <p:spPr>
                  <a:xfrm>
                    <a:off x="1065240" y="1450440"/>
                    <a:ext cx="138240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996840" y="1450440"/>
                    <a:ext cx="15192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6" name=""/>
              <p:cNvGrpSpPr/>
              <p:nvPr/>
            </p:nvGrpSpPr>
            <p:grpSpPr>
              <a:xfrm>
                <a:off x="2516040" y="1450440"/>
                <a:ext cx="708120" cy="375840"/>
                <a:chOff x="2516040" y="1450440"/>
                <a:chExt cx="708120" cy="375840"/>
              </a:xfrm>
            </p:grpSpPr>
            <p:sp>
              <p:nvSpPr>
                <p:cNvPr id="797" name=""/>
                <p:cNvSpPr/>
                <p:nvPr/>
              </p:nvSpPr>
              <p:spPr>
                <a:xfrm>
                  <a:off x="2516040" y="1450440"/>
                  <a:ext cx="7081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8" name=""/>
                <p:cNvGrpSpPr/>
                <p:nvPr/>
              </p:nvGrpSpPr>
              <p:grpSpPr>
                <a:xfrm>
                  <a:off x="2516040" y="1450440"/>
                  <a:ext cx="708120" cy="375840"/>
                  <a:chOff x="2516040" y="1450440"/>
                  <a:chExt cx="708120" cy="375840"/>
                </a:xfrm>
              </p:grpSpPr>
              <p:sp>
                <p:nvSpPr>
                  <p:cNvPr id="799" name=""/>
                  <p:cNvSpPr/>
                  <p:nvPr/>
                </p:nvSpPr>
                <p:spPr>
                  <a:xfrm>
                    <a:off x="2584440" y="1450440"/>
                    <a:ext cx="5713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
                  <p:cNvSpPr/>
                  <p:nvPr/>
                </p:nvSpPr>
                <p:spPr>
                  <a:xfrm>
                    <a:off x="2516040" y="1450440"/>
                    <a:ext cx="708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1" name=""/>
              <p:cNvGrpSpPr/>
              <p:nvPr/>
            </p:nvGrpSpPr>
            <p:grpSpPr>
              <a:xfrm>
                <a:off x="3224160" y="1450440"/>
                <a:ext cx="1622520" cy="375840"/>
                <a:chOff x="3224160" y="1450440"/>
                <a:chExt cx="1622520" cy="375840"/>
              </a:xfrm>
            </p:grpSpPr>
            <p:sp>
              <p:nvSpPr>
                <p:cNvPr id="802" name=""/>
                <p:cNvSpPr/>
                <p:nvPr/>
              </p:nvSpPr>
              <p:spPr>
                <a:xfrm>
                  <a:off x="3224160" y="1450440"/>
                  <a:ext cx="16225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3" name=""/>
                <p:cNvGrpSpPr/>
                <p:nvPr/>
              </p:nvGrpSpPr>
              <p:grpSpPr>
                <a:xfrm>
                  <a:off x="3224160" y="1450440"/>
                  <a:ext cx="1622520" cy="375840"/>
                  <a:chOff x="3224160" y="1450440"/>
                  <a:chExt cx="1622520" cy="375840"/>
                </a:xfrm>
              </p:grpSpPr>
              <p:sp>
                <p:nvSpPr>
                  <p:cNvPr id="804" name=""/>
                  <p:cNvSpPr/>
                  <p:nvPr/>
                </p:nvSpPr>
                <p:spPr>
                  <a:xfrm>
                    <a:off x="3292200" y="1450440"/>
                    <a:ext cx="14860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5" name=""/>
                  <p:cNvSpPr/>
                  <p:nvPr/>
                </p:nvSpPr>
                <p:spPr>
                  <a:xfrm>
                    <a:off x="3224160" y="1450440"/>
                    <a:ext cx="16225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06" name=""/>
              <p:cNvGrpSpPr/>
              <p:nvPr/>
            </p:nvGrpSpPr>
            <p:grpSpPr>
              <a:xfrm>
                <a:off x="4846680" y="1450440"/>
                <a:ext cx="1622160" cy="375840"/>
                <a:chOff x="4846680" y="1450440"/>
                <a:chExt cx="1622160" cy="375840"/>
              </a:xfrm>
            </p:grpSpPr>
            <p:sp>
              <p:nvSpPr>
                <p:cNvPr id="807" name=""/>
                <p:cNvSpPr/>
                <p:nvPr/>
              </p:nvSpPr>
              <p:spPr>
                <a:xfrm>
                  <a:off x="4846680" y="1450440"/>
                  <a:ext cx="16221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8" name=""/>
                <p:cNvGrpSpPr/>
                <p:nvPr/>
              </p:nvGrpSpPr>
              <p:grpSpPr>
                <a:xfrm>
                  <a:off x="4846680" y="1450440"/>
                  <a:ext cx="1622160" cy="375840"/>
                  <a:chOff x="4846680" y="1450440"/>
                  <a:chExt cx="1622160" cy="375840"/>
                </a:xfrm>
              </p:grpSpPr>
              <p:sp>
                <p:nvSpPr>
                  <p:cNvPr id="809" name=""/>
                  <p:cNvSpPr/>
                  <p:nvPr/>
                </p:nvSpPr>
                <p:spPr>
                  <a:xfrm>
                    <a:off x="4914720" y="1450440"/>
                    <a:ext cx="14860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rison Val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
                  <p:cNvSpPr/>
                  <p:nvPr/>
                </p:nvSpPr>
                <p:spPr>
                  <a:xfrm>
                    <a:off x="4846680" y="1450440"/>
                    <a:ext cx="16221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1" name=""/>
              <p:cNvGrpSpPr/>
              <p:nvPr/>
            </p:nvGrpSpPr>
            <p:grpSpPr>
              <a:xfrm>
                <a:off x="6468840" y="1450440"/>
                <a:ext cx="1679760" cy="375840"/>
                <a:chOff x="6468840" y="1450440"/>
                <a:chExt cx="1679760" cy="375840"/>
              </a:xfrm>
            </p:grpSpPr>
            <p:sp>
              <p:nvSpPr>
                <p:cNvPr id="812" name=""/>
                <p:cNvSpPr/>
                <p:nvPr/>
              </p:nvSpPr>
              <p:spPr>
                <a:xfrm>
                  <a:off x="6468840" y="1450440"/>
                  <a:ext cx="16797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3" name=""/>
                <p:cNvGrpSpPr/>
                <p:nvPr/>
              </p:nvGrpSpPr>
              <p:grpSpPr>
                <a:xfrm>
                  <a:off x="6468840" y="1450440"/>
                  <a:ext cx="1679760" cy="375840"/>
                  <a:chOff x="6468840" y="1450440"/>
                  <a:chExt cx="1679760" cy="375840"/>
                </a:xfrm>
              </p:grpSpPr>
              <p:sp>
                <p:nvSpPr>
                  <p:cNvPr id="814" name=""/>
                  <p:cNvSpPr/>
                  <p:nvPr/>
                </p:nvSpPr>
                <p:spPr>
                  <a:xfrm>
                    <a:off x="6537240" y="1450440"/>
                    <a:ext cx="15429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
                  <p:cNvSpPr/>
                  <p:nvPr/>
                </p:nvSpPr>
                <p:spPr>
                  <a:xfrm>
                    <a:off x="6468840" y="1450440"/>
                    <a:ext cx="16797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6" name=""/>
              <p:cNvGrpSpPr/>
              <p:nvPr/>
            </p:nvGrpSpPr>
            <p:grpSpPr>
              <a:xfrm>
                <a:off x="996840" y="1826280"/>
                <a:ext cx="1519200" cy="375840"/>
                <a:chOff x="996840" y="1826280"/>
                <a:chExt cx="1519200" cy="375840"/>
              </a:xfrm>
            </p:grpSpPr>
            <p:sp>
              <p:nvSpPr>
                <p:cNvPr id="817" name=""/>
                <p:cNvSpPr/>
                <p:nvPr/>
              </p:nvSpPr>
              <p:spPr>
                <a:xfrm>
                  <a:off x="996840" y="1826280"/>
                  <a:ext cx="151920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8" name=""/>
                <p:cNvGrpSpPr/>
                <p:nvPr/>
              </p:nvGrpSpPr>
              <p:grpSpPr>
                <a:xfrm>
                  <a:off x="996840" y="1826280"/>
                  <a:ext cx="1519200" cy="375840"/>
                  <a:chOff x="996840" y="1826280"/>
                  <a:chExt cx="1519200" cy="375840"/>
                </a:xfrm>
              </p:grpSpPr>
              <p:sp>
                <p:nvSpPr>
                  <p:cNvPr id="819" name=""/>
                  <p:cNvSpPr/>
                  <p:nvPr/>
                </p:nvSpPr>
                <p:spPr>
                  <a:xfrm>
                    <a:off x="1065240" y="1826280"/>
                    <a:ext cx="138240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996840" y="1826280"/>
                    <a:ext cx="15192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1" name=""/>
              <p:cNvGrpSpPr/>
              <p:nvPr/>
            </p:nvGrpSpPr>
            <p:grpSpPr>
              <a:xfrm>
                <a:off x="2516040" y="1826280"/>
                <a:ext cx="708120" cy="375840"/>
                <a:chOff x="2516040" y="1826280"/>
                <a:chExt cx="708120" cy="375840"/>
              </a:xfrm>
            </p:grpSpPr>
            <p:sp>
              <p:nvSpPr>
                <p:cNvPr id="822" name=""/>
                <p:cNvSpPr/>
                <p:nvPr/>
              </p:nvSpPr>
              <p:spPr>
                <a:xfrm>
                  <a:off x="2516040" y="1826280"/>
                  <a:ext cx="7081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3" name=""/>
                <p:cNvGrpSpPr/>
                <p:nvPr/>
              </p:nvGrpSpPr>
              <p:grpSpPr>
                <a:xfrm>
                  <a:off x="2516040" y="1826280"/>
                  <a:ext cx="708120" cy="375840"/>
                  <a:chOff x="2516040" y="1826280"/>
                  <a:chExt cx="708120" cy="375840"/>
                </a:xfrm>
              </p:grpSpPr>
              <p:sp>
                <p:nvSpPr>
                  <p:cNvPr id="824" name=""/>
                  <p:cNvSpPr/>
                  <p:nvPr/>
                </p:nvSpPr>
                <p:spPr>
                  <a:xfrm>
                    <a:off x="2584440" y="1826280"/>
                    <a:ext cx="5713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
                  <p:cNvSpPr/>
                  <p:nvPr/>
                </p:nvSpPr>
                <p:spPr>
                  <a:xfrm>
                    <a:off x="2516040" y="1826280"/>
                    <a:ext cx="708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6" name=""/>
              <p:cNvGrpSpPr/>
              <p:nvPr/>
            </p:nvGrpSpPr>
            <p:grpSpPr>
              <a:xfrm>
                <a:off x="3224160" y="1826280"/>
                <a:ext cx="1622520" cy="375840"/>
                <a:chOff x="3224160" y="1826280"/>
                <a:chExt cx="1622520" cy="375840"/>
              </a:xfrm>
            </p:grpSpPr>
            <p:sp>
              <p:nvSpPr>
                <p:cNvPr id="827" name=""/>
                <p:cNvSpPr/>
                <p:nvPr/>
              </p:nvSpPr>
              <p:spPr>
                <a:xfrm>
                  <a:off x="3224160" y="1826280"/>
                  <a:ext cx="16225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8" name=""/>
                <p:cNvGrpSpPr/>
                <p:nvPr/>
              </p:nvGrpSpPr>
              <p:grpSpPr>
                <a:xfrm>
                  <a:off x="3224160" y="1826280"/>
                  <a:ext cx="1622520" cy="375840"/>
                  <a:chOff x="3224160" y="1826280"/>
                  <a:chExt cx="1622520" cy="375840"/>
                </a:xfrm>
              </p:grpSpPr>
              <p:sp>
                <p:nvSpPr>
                  <p:cNvPr id="829" name=""/>
                  <p:cNvSpPr/>
                  <p:nvPr/>
                </p:nvSpPr>
                <p:spPr>
                  <a:xfrm>
                    <a:off x="3292200" y="1826280"/>
                    <a:ext cx="14860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
                  <p:cNvSpPr/>
                  <p:nvPr/>
                </p:nvSpPr>
                <p:spPr>
                  <a:xfrm>
                    <a:off x="3224160" y="1826280"/>
                    <a:ext cx="16225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1" name=""/>
              <p:cNvGrpSpPr/>
              <p:nvPr/>
            </p:nvGrpSpPr>
            <p:grpSpPr>
              <a:xfrm>
                <a:off x="4846680" y="1826280"/>
                <a:ext cx="1622160" cy="375840"/>
                <a:chOff x="4846680" y="1826280"/>
                <a:chExt cx="1622160" cy="375840"/>
              </a:xfrm>
            </p:grpSpPr>
            <p:sp>
              <p:nvSpPr>
                <p:cNvPr id="832" name=""/>
                <p:cNvSpPr/>
                <p:nvPr/>
              </p:nvSpPr>
              <p:spPr>
                <a:xfrm>
                  <a:off x="4846680" y="1826280"/>
                  <a:ext cx="16221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4846680" y="1826280"/>
                  <a:ext cx="1622160" cy="375840"/>
                  <a:chOff x="4846680" y="1826280"/>
                  <a:chExt cx="1622160" cy="375840"/>
                </a:xfrm>
              </p:grpSpPr>
              <p:sp>
                <p:nvSpPr>
                  <p:cNvPr id="834" name=""/>
                  <p:cNvSpPr/>
                  <p:nvPr/>
                </p:nvSpPr>
                <p:spPr>
                  <a:xfrm>
                    <a:off x="4914720" y="1826280"/>
                    <a:ext cx="14860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
                  <p:cNvSpPr/>
                  <p:nvPr/>
                </p:nvSpPr>
                <p:spPr>
                  <a:xfrm>
                    <a:off x="4846680" y="1826280"/>
                    <a:ext cx="16221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6" name=""/>
              <p:cNvGrpSpPr/>
              <p:nvPr/>
            </p:nvGrpSpPr>
            <p:grpSpPr>
              <a:xfrm>
                <a:off x="6468840" y="1826280"/>
                <a:ext cx="1679760" cy="375840"/>
                <a:chOff x="6468840" y="1826280"/>
                <a:chExt cx="1679760" cy="375840"/>
              </a:xfrm>
            </p:grpSpPr>
            <p:sp>
              <p:nvSpPr>
                <p:cNvPr id="837" name=""/>
                <p:cNvSpPr/>
                <p:nvPr/>
              </p:nvSpPr>
              <p:spPr>
                <a:xfrm>
                  <a:off x="6468840" y="1826280"/>
                  <a:ext cx="16797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 name=""/>
                <p:cNvGrpSpPr/>
                <p:nvPr/>
              </p:nvGrpSpPr>
              <p:grpSpPr>
                <a:xfrm>
                  <a:off x="6468840" y="1826280"/>
                  <a:ext cx="1679760" cy="375840"/>
                  <a:chOff x="6468840" y="1826280"/>
                  <a:chExt cx="1679760" cy="375840"/>
                </a:xfrm>
              </p:grpSpPr>
              <p:sp>
                <p:nvSpPr>
                  <p:cNvPr id="839" name=""/>
                  <p:cNvSpPr/>
                  <p:nvPr/>
                </p:nvSpPr>
                <p:spPr>
                  <a:xfrm>
                    <a:off x="6537240" y="1826280"/>
                    <a:ext cx="154296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
                  <p:cNvSpPr/>
                  <p:nvPr/>
                </p:nvSpPr>
                <p:spPr>
                  <a:xfrm>
                    <a:off x="6468840" y="1826280"/>
                    <a:ext cx="16797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1" name=""/>
              <p:cNvGrpSpPr/>
              <p:nvPr/>
            </p:nvGrpSpPr>
            <p:grpSpPr>
              <a:xfrm>
                <a:off x="996840" y="2202480"/>
                <a:ext cx="1519200" cy="483120"/>
                <a:chOff x="996840" y="2202480"/>
                <a:chExt cx="1519200" cy="483120"/>
              </a:xfrm>
            </p:grpSpPr>
            <p:sp>
              <p:nvSpPr>
                <p:cNvPr id="842" name=""/>
                <p:cNvSpPr/>
                <p:nvPr/>
              </p:nvSpPr>
              <p:spPr>
                <a:xfrm>
                  <a:off x="1065240" y="2202480"/>
                  <a:ext cx="138240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ufacture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
                <p:cNvSpPr/>
                <p:nvPr/>
              </p:nvSpPr>
              <p:spPr>
                <a:xfrm>
                  <a:off x="996840" y="2202480"/>
                  <a:ext cx="151920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2516040" y="2202480"/>
                <a:ext cx="708120" cy="483120"/>
                <a:chOff x="2516040" y="2202480"/>
                <a:chExt cx="708120" cy="483120"/>
              </a:xfrm>
            </p:grpSpPr>
            <p:sp>
              <p:nvSpPr>
                <p:cNvPr id="845" name=""/>
                <p:cNvSpPr/>
                <p:nvPr/>
              </p:nvSpPr>
              <p:spPr>
                <a:xfrm>
                  <a:off x="2584440" y="2202480"/>
                  <a:ext cx="57132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
                <p:cNvSpPr/>
                <p:nvPr/>
              </p:nvSpPr>
              <p:spPr>
                <a:xfrm>
                  <a:off x="2516040" y="2202480"/>
                  <a:ext cx="7081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3224160" y="2202480"/>
                <a:ext cx="1622520" cy="483120"/>
                <a:chOff x="3224160" y="2202480"/>
                <a:chExt cx="1622520" cy="483120"/>
              </a:xfrm>
            </p:grpSpPr>
            <p:sp>
              <p:nvSpPr>
                <p:cNvPr id="848" name=""/>
                <p:cNvSpPr/>
                <p:nvPr/>
              </p:nvSpPr>
              <p:spPr>
                <a:xfrm>
                  <a:off x="3292200" y="2202480"/>
                  <a:ext cx="148608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pert opinion, mode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
                <p:cNvSpPr/>
                <p:nvPr/>
              </p:nvSpPr>
              <p:spPr>
                <a:xfrm>
                  <a:off x="3224160" y="2202480"/>
                  <a:ext cx="16225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4846680" y="2202480"/>
                <a:ext cx="1622160" cy="483120"/>
                <a:chOff x="4846680" y="2202480"/>
                <a:chExt cx="1622160" cy="483120"/>
              </a:xfrm>
            </p:grpSpPr>
            <p:sp>
              <p:nvSpPr>
                <p:cNvPr id="851" name=""/>
                <p:cNvSpPr/>
                <p:nvPr/>
              </p:nvSpPr>
              <p:spPr>
                <a:xfrm>
                  <a:off x="4914720" y="2202480"/>
                  <a:ext cx="148608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peri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2" name=""/>
                <p:cNvSpPr/>
                <p:nvPr/>
              </p:nvSpPr>
              <p:spPr>
                <a:xfrm>
                  <a:off x="4846680" y="2202480"/>
                  <a:ext cx="16221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6468840" y="2202480"/>
                <a:ext cx="1679760" cy="483120"/>
                <a:chOff x="6468840" y="2202480"/>
                <a:chExt cx="1679760" cy="483120"/>
              </a:xfrm>
            </p:grpSpPr>
            <p:sp>
              <p:nvSpPr>
                <p:cNvPr id="854" name=""/>
                <p:cNvSpPr/>
                <p:nvPr/>
              </p:nvSpPr>
              <p:spPr>
                <a:xfrm>
                  <a:off x="6537240" y="2202480"/>
                  <a:ext cx="154296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Pre-existence examples</a:t>
                  </a:r>
                  <a:r>
                    <a:rPr b="0" lang="en-US" sz="1200" spc="-1" strike="noStrike">
                      <a:solidFill>
                        <a:srgbClr val="000000"/>
                      </a:solidFill>
                      <a:latin typeface="Times New Roman"/>
                      <a:ea typeface="Times New Roman"/>
                    </a:rPr>
                    <a:t>, dem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5" name=""/>
                <p:cNvSpPr/>
                <p:nvPr/>
              </p:nvSpPr>
              <p:spPr>
                <a:xfrm>
                  <a:off x="6468840" y="2202480"/>
                  <a:ext cx="16797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996840" y="2685600"/>
                <a:ext cx="1519200" cy="483480"/>
                <a:chOff x="996840" y="2685600"/>
                <a:chExt cx="1519200" cy="483480"/>
              </a:xfrm>
            </p:grpSpPr>
            <p:sp>
              <p:nvSpPr>
                <p:cNvPr id="857" name=""/>
                <p:cNvSpPr/>
                <p:nvPr/>
              </p:nvSpPr>
              <p:spPr>
                <a:xfrm>
                  <a:off x="1065240" y="2685600"/>
                  <a:ext cx="138240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me to Mark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When Spec Fi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
                <p:cNvSpPr/>
                <p:nvPr/>
              </p:nvSpPr>
              <p:spPr>
                <a:xfrm>
                  <a:off x="996840" y="2685600"/>
                  <a:ext cx="151920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2516040" y="2685600"/>
                <a:ext cx="708120" cy="483480"/>
                <a:chOff x="2516040" y="2685600"/>
                <a:chExt cx="708120" cy="483480"/>
              </a:xfrm>
            </p:grpSpPr>
            <p:sp>
              <p:nvSpPr>
                <p:cNvPr id="860" name=""/>
                <p:cNvSpPr/>
                <p:nvPr/>
              </p:nvSpPr>
              <p:spPr>
                <a:xfrm>
                  <a:off x="2584440" y="2685600"/>
                  <a:ext cx="57132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
                <p:cNvSpPr/>
                <p:nvPr/>
              </p:nvSpPr>
              <p:spPr>
                <a:xfrm>
                  <a:off x="2516040" y="2685600"/>
                  <a:ext cx="70812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3224160" y="2685600"/>
                <a:ext cx="1622520" cy="483480"/>
                <a:chOff x="3224160" y="2685600"/>
                <a:chExt cx="1622520" cy="483480"/>
              </a:xfrm>
            </p:grpSpPr>
            <p:sp>
              <p:nvSpPr>
                <p:cNvPr id="863" name=""/>
                <p:cNvSpPr/>
                <p:nvPr/>
              </p:nvSpPr>
              <p:spPr>
                <a:xfrm>
                  <a:off x="3292200" y="2685600"/>
                  <a:ext cx="148608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ailable after 1Q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
                <p:cNvSpPr/>
                <p:nvPr/>
              </p:nvSpPr>
              <p:spPr>
                <a:xfrm>
                  <a:off x="3224160" y="2685600"/>
                  <a:ext cx="162252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4846680" y="2685600"/>
                <a:ext cx="1622160" cy="483480"/>
                <a:chOff x="4846680" y="2685600"/>
                <a:chExt cx="1622160" cy="483480"/>
              </a:xfrm>
            </p:grpSpPr>
            <p:sp>
              <p:nvSpPr>
                <p:cNvPr id="866" name=""/>
                <p:cNvSpPr/>
                <p:nvPr/>
              </p:nvSpPr>
              <p:spPr>
                <a:xfrm>
                  <a:off x="4914720" y="2685600"/>
                  <a:ext cx="148608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ailable in 1Q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
                <p:cNvSpPr/>
                <p:nvPr/>
              </p:nvSpPr>
              <p:spPr>
                <a:xfrm>
                  <a:off x="4846680" y="2685600"/>
                  <a:ext cx="162216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6468840" y="2685600"/>
                <a:ext cx="1679760" cy="483480"/>
                <a:chOff x="6468840" y="2685600"/>
                <a:chExt cx="1679760" cy="483480"/>
              </a:xfrm>
            </p:grpSpPr>
            <p:sp>
              <p:nvSpPr>
                <p:cNvPr id="869" name=""/>
                <p:cNvSpPr/>
                <p:nvPr/>
              </p:nvSpPr>
              <p:spPr>
                <a:xfrm>
                  <a:off x="6537240" y="2685600"/>
                  <a:ext cx="154296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ailable earlier than 1Q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
                <p:cNvSpPr/>
                <p:nvPr/>
              </p:nvSpPr>
              <p:spPr>
                <a:xfrm>
                  <a:off x="6468840" y="2685600"/>
                  <a:ext cx="167976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996840" y="3169080"/>
                <a:ext cx="1519200" cy="375840"/>
                <a:chOff x="996840" y="3169080"/>
                <a:chExt cx="1519200" cy="375840"/>
              </a:xfrm>
            </p:grpSpPr>
            <p:sp>
              <p:nvSpPr>
                <p:cNvPr id="872" name=""/>
                <p:cNvSpPr/>
                <p:nvPr/>
              </p:nvSpPr>
              <p:spPr>
                <a:xfrm>
                  <a:off x="1065240" y="3169080"/>
                  <a:ext cx="138240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ulatory Imp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
                <p:cNvSpPr/>
                <p:nvPr/>
              </p:nvSpPr>
              <p:spPr>
                <a:xfrm>
                  <a:off x="996840" y="3169080"/>
                  <a:ext cx="15192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2516040" y="3169080"/>
                <a:ext cx="708120" cy="375840"/>
                <a:chOff x="2516040" y="3169080"/>
                <a:chExt cx="708120" cy="375840"/>
              </a:xfrm>
            </p:grpSpPr>
            <p:sp>
              <p:nvSpPr>
                <p:cNvPr id="875" name=""/>
                <p:cNvSpPr/>
                <p:nvPr/>
              </p:nvSpPr>
              <p:spPr>
                <a:xfrm>
                  <a:off x="2584440" y="3169080"/>
                  <a:ext cx="5713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6" name=""/>
                <p:cNvSpPr/>
                <p:nvPr/>
              </p:nvSpPr>
              <p:spPr>
                <a:xfrm>
                  <a:off x="2516040" y="3169080"/>
                  <a:ext cx="708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3224160" y="3169080"/>
                <a:ext cx="1622520" cy="375840"/>
                <a:chOff x="3224160" y="3169080"/>
                <a:chExt cx="1622520" cy="375840"/>
              </a:xfrm>
            </p:grpSpPr>
            <p:sp>
              <p:nvSpPr>
                <p:cNvPr id="878" name=""/>
                <p:cNvSpPr/>
                <p:nvPr/>
              </p:nvSpPr>
              <p:spPr>
                <a:xfrm>
                  <a:off x="3292200" y="3169080"/>
                  <a:ext cx="148608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9" name=""/>
                <p:cNvSpPr/>
                <p:nvPr/>
              </p:nvSpPr>
              <p:spPr>
                <a:xfrm>
                  <a:off x="3224160" y="3169080"/>
                  <a:ext cx="16225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4846680" y="3169080"/>
                <a:ext cx="1622160" cy="375840"/>
                <a:chOff x="4846680" y="3169080"/>
                <a:chExt cx="1622160" cy="375840"/>
              </a:xfrm>
            </p:grpSpPr>
            <p:sp>
              <p:nvSpPr>
                <p:cNvPr id="881" name=""/>
                <p:cNvSpPr/>
                <p:nvPr/>
              </p:nvSpPr>
              <p:spPr>
                <a:xfrm>
                  <a:off x="4914720" y="3169080"/>
                  <a:ext cx="148608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imes New Roman"/>
                      <a:ea typeface="Times New Roman"/>
                    </a:rPr>
                    <a:t>Tr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2" name=""/>
                <p:cNvSpPr/>
                <p:nvPr/>
              </p:nvSpPr>
              <p:spPr>
                <a:xfrm>
                  <a:off x="4846680" y="3169080"/>
                  <a:ext cx="16221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6468840" y="3169080"/>
                <a:ext cx="1679760" cy="375840"/>
                <a:chOff x="6468840" y="3169080"/>
                <a:chExt cx="1679760" cy="375840"/>
              </a:xfrm>
            </p:grpSpPr>
            <p:sp>
              <p:nvSpPr>
                <p:cNvPr id="884" name=""/>
                <p:cNvSpPr/>
                <p:nvPr/>
              </p:nvSpPr>
              <p:spPr>
                <a:xfrm>
                  <a:off x="6537240" y="3169080"/>
                  <a:ext cx="154296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5" name=""/>
                <p:cNvSpPr/>
                <p:nvPr/>
              </p:nvSpPr>
              <p:spPr>
                <a:xfrm>
                  <a:off x="6468840" y="3169080"/>
                  <a:ext cx="167976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996840" y="3545280"/>
                <a:ext cx="1519200" cy="483120"/>
                <a:chOff x="996840" y="3545280"/>
                <a:chExt cx="1519200" cy="483120"/>
              </a:xfrm>
            </p:grpSpPr>
            <p:sp>
              <p:nvSpPr>
                <p:cNvPr id="887" name=""/>
                <p:cNvSpPr/>
                <p:nvPr/>
              </p:nvSpPr>
              <p:spPr>
                <a:xfrm>
                  <a:off x="1065240" y="3545280"/>
                  <a:ext cx="138240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urity of Solu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
                <p:cNvSpPr/>
                <p:nvPr/>
              </p:nvSpPr>
              <p:spPr>
                <a:xfrm>
                  <a:off x="996840" y="3545280"/>
                  <a:ext cx="151920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2516040" y="3545280"/>
                <a:ext cx="708120" cy="483120"/>
                <a:chOff x="2516040" y="3545280"/>
                <a:chExt cx="708120" cy="483120"/>
              </a:xfrm>
            </p:grpSpPr>
            <p:sp>
              <p:nvSpPr>
                <p:cNvPr id="890" name=""/>
                <p:cNvSpPr/>
                <p:nvPr/>
              </p:nvSpPr>
              <p:spPr>
                <a:xfrm>
                  <a:off x="2584440" y="3545280"/>
                  <a:ext cx="57132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
                <p:cNvSpPr/>
                <p:nvPr/>
              </p:nvSpPr>
              <p:spPr>
                <a:xfrm>
                  <a:off x="2516040" y="3545280"/>
                  <a:ext cx="7081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3224160" y="3545280"/>
                <a:ext cx="1622520" cy="483120"/>
                <a:chOff x="3224160" y="3545280"/>
                <a:chExt cx="1622520" cy="483120"/>
              </a:xfrm>
            </p:grpSpPr>
            <p:sp>
              <p:nvSpPr>
                <p:cNvPr id="893" name=""/>
                <p:cNvSpPr/>
                <p:nvPr/>
              </p:nvSpPr>
              <p:spPr>
                <a:xfrm>
                  <a:off x="3292200" y="3545280"/>
                  <a:ext cx="148608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pert opinion, mode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3224160" y="3545280"/>
                  <a:ext cx="162252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4846680" y="3545280"/>
                <a:ext cx="1622160" cy="483120"/>
                <a:chOff x="4846680" y="3545280"/>
                <a:chExt cx="1622160" cy="483120"/>
              </a:xfrm>
            </p:grpSpPr>
            <p:sp>
              <p:nvSpPr>
                <p:cNvPr id="896" name=""/>
                <p:cNvSpPr/>
                <p:nvPr/>
              </p:nvSpPr>
              <p:spPr>
                <a:xfrm>
                  <a:off x="4914720" y="3545280"/>
                  <a:ext cx="148608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peri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7" name=""/>
                <p:cNvSpPr/>
                <p:nvPr/>
              </p:nvSpPr>
              <p:spPr>
                <a:xfrm>
                  <a:off x="4846680" y="3545280"/>
                  <a:ext cx="16221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6468840" y="3545280"/>
                <a:ext cx="1679760" cy="483120"/>
                <a:chOff x="6468840" y="3545280"/>
                <a:chExt cx="1679760" cy="483120"/>
              </a:xfrm>
            </p:grpSpPr>
            <p:sp>
              <p:nvSpPr>
                <p:cNvPr id="899" name=""/>
                <p:cNvSpPr/>
                <p:nvPr/>
              </p:nvSpPr>
              <p:spPr>
                <a:xfrm>
                  <a:off x="6537240" y="3545280"/>
                  <a:ext cx="1542960" cy="48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Pre-existence examples</a:t>
                  </a:r>
                  <a:r>
                    <a:rPr b="0" lang="en-US" sz="1200" spc="-1" strike="noStrike">
                      <a:solidFill>
                        <a:srgbClr val="000000"/>
                      </a:solidFill>
                      <a:latin typeface="Times New Roman"/>
                      <a:ea typeface="Times New Roman"/>
                    </a:rPr>
                    <a:t>, dem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0" name=""/>
                <p:cNvSpPr/>
                <p:nvPr/>
              </p:nvSpPr>
              <p:spPr>
                <a:xfrm>
                  <a:off x="6468840" y="3545280"/>
                  <a:ext cx="1679760" cy="4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996840" y="4028400"/>
                <a:ext cx="1519200" cy="590400"/>
                <a:chOff x="996840" y="4028400"/>
                <a:chExt cx="1519200" cy="590400"/>
              </a:xfrm>
            </p:grpSpPr>
            <p:sp>
              <p:nvSpPr>
                <p:cNvPr id="902" name=""/>
                <p:cNvSpPr/>
                <p:nvPr/>
              </p:nvSpPr>
              <p:spPr>
                <a:xfrm>
                  <a:off x="1065240" y="4028400"/>
                  <a:ext cx="1382400" cy="59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3" name=""/>
                <p:cNvSpPr/>
                <p:nvPr/>
              </p:nvSpPr>
              <p:spPr>
                <a:xfrm>
                  <a:off x="996840" y="4028400"/>
                  <a:ext cx="151920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2516040" y="4028400"/>
                <a:ext cx="708120" cy="590400"/>
                <a:chOff x="2516040" y="4028400"/>
                <a:chExt cx="708120" cy="590400"/>
              </a:xfrm>
            </p:grpSpPr>
            <p:sp>
              <p:nvSpPr>
                <p:cNvPr id="905" name=""/>
                <p:cNvSpPr/>
                <p:nvPr/>
              </p:nvSpPr>
              <p:spPr>
                <a:xfrm>
                  <a:off x="2584440" y="4028400"/>
                  <a:ext cx="571320" cy="59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6" name=""/>
                <p:cNvSpPr/>
                <p:nvPr/>
              </p:nvSpPr>
              <p:spPr>
                <a:xfrm>
                  <a:off x="2516040" y="4028400"/>
                  <a:ext cx="70812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3224160" y="4028400"/>
                <a:ext cx="1622520" cy="590400"/>
                <a:chOff x="3224160" y="4028400"/>
                <a:chExt cx="1622520" cy="590400"/>
              </a:xfrm>
            </p:grpSpPr>
            <p:sp>
              <p:nvSpPr>
                <p:cNvPr id="908" name=""/>
                <p:cNvSpPr/>
                <p:nvPr/>
              </p:nvSpPr>
              <p:spPr>
                <a:xfrm>
                  <a:off x="3292200" y="4028400"/>
                  <a:ext cx="1486080" cy="59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 in 1 or less than of the 5 areas lis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9" name=""/>
                <p:cNvSpPr/>
                <p:nvPr/>
              </p:nvSpPr>
              <p:spPr>
                <a:xfrm>
                  <a:off x="3224160" y="4028400"/>
                  <a:ext cx="162252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4846680" y="4028400"/>
                <a:ext cx="1622160" cy="590400"/>
                <a:chOff x="4846680" y="4028400"/>
                <a:chExt cx="1622160" cy="590400"/>
              </a:xfrm>
            </p:grpSpPr>
            <p:sp>
              <p:nvSpPr>
                <p:cNvPr id="911" name=""/>
                <p:cNvSpPr/>
                <p:nvPr/>
              </p:nvSpPr>
              <p:spPr>
                <a:xfrm>
                  <a:off x="4914720" y="4028400"/>
                  <a:ext cx="1486080" cy="59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alability in 2 areas of the 5 lis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 name=""/>
                <p:cNvSpPr/>
                <p:nvPr/>
              </p:nvSpPr>
              <p:spPr>
                <a:xfrm>
                  <a:off x="4846680" y="4028400"/>
                  <a:ext cx="162216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6468840" y="4028400"/>
                <a:ext cx="1679760" cy="590400"/>
                <a:chOff x="6468840" y="4028400"/>
                <a:chExt cx="1679760" cy="590400"/>
              </a:xfrm>
            </p:grpSpPr>
            <p:sp>
              <p:nvSpPr>
                <p:cNvPr id="914" name=""/>
                <p:cNvSpPr/>
                <p:nvPr/>
              </p:nvSpPr>
              <p:spPr>
                <a:xfrm>
                  <a:off x="6537240" y="4028400"/>
                  <a:ext cx="1542960" cy="59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calability in 3 or more of the 5 areas lis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5" name=""/>
                <p:cNvSpPr/>
                <p:nvPr/>
              </p:nvSpPr>
              <p:spPr>
                <a:xfrm>
                  <a:off x="6468840" y="4028400"/>
                  <a:ext cx="1679760" cy="59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996840" y="4619160"/>
                <a:ext cx="1519200" cy="483480"/>
                <a:chOff x="996840" y="4619160"/>
                <a:chExt cx="1519200" cy="483480"/>
              </a:xfrm>
            </p:grpSpPr>
            <p:sp>
              <p:nvSpPr>
                <p:cNvPr id="917" name=""/>
                <p:cNvSpPr/>
                <p:nvPr/>
              </p:nvSpPr>
              <p:spPr>
                <a:xfrm>
                  <a:off x="1065240" y="4619160"/>
                  <a:ext cx="138240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cation Awaren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8" name=""/>
                <p:cNvSpPr/>
                <p:nvPr/>
              </p:nvSpPr>
              <p:spPr>
                <a:xfrm>
                  <a:off x="996840" y="4619160"/>
                  <a:ext cx="151920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2516040" y="4619160"/>
                <a:ext cx="708120" cy="483480"/>
                <a:chOff x="2516040" y="4619160"/>
                <a:chExt cx="708120" cy="483480"/>
              </a:xfrm>
            </p:grpSpPr>
            <p:sp>
              <p:nvSpPr>
                <p:cNvPr id="920" name=""/>
                <p:cNvSpPr/>
                <p:nvPr/>
              </p:nvSpPr>
              <p:spPr>
                <a:xfrm>
                  <a:off x="2584440" y="4619160"/>
                  <a:ext cx="57132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1" name=""/>
                <p:cNvSpPr/>
                <p:nvPr/>
              </p:nvSpPr>
              <p:spPr>
                <a:xfrm>
                  <a:off x="2516040" y="4619160"/>
                  <a:ext cx="70812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3224160" y="4619160"/>
                <a:ext cx="1622520" cy="483480"/>
                <a:chOff x="3224160" y="4619160"/>
                <a:chExt cx="1622520" cy="483480"/>
              </a:xfrm>
            </p:grpSpPr>
            <p:sp>
              <p:nvSpPr>
                <p:cNvPr id="923" name=""/>
                <p:cNvSpPr/>
                <p:nvPr/>
              </p:nvSpPr>
              <p:spPr>
                <a:xfrm>
                  <a:off x="3292200" y="4619160"/>
                  <a:ext cx="148608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4" name=""/>
                <p:cNvSpPr/>
                <p:nvPr/>
              </p:nvSpPr>
              <p:spPr>
                <a:xfrm>
                  <a:off x="3224160" y="4619160"/>
                  <a:ext cx="162252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4846680" y="4619160"/>
                <a:ext cx="1622160" cy="483480"/>
                <a:chOff x="4846680" y="4619160"/>
                <a:chExt cx="1622160" cy="483480"/>
              </a:xfrm>
            </p:grpSpPr>
            <p:sp>
              <p:nvSpPr>
                <p:cNvPr id="926" name=""/>
                <p:cNvSpPr/>
                <p:nvPr/>
              </p:nvSpPr>
              <p:spPr>
                <a:xfrm>
                  <a:off x="4914720" y="4619160"/>
                  <a:ext cx="148608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4846680" y="4619160"/>
                  <a:ext cx="162216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6468840" y="4619160"/>
                <a:ext cx="1679760" cy="483480"/>
                <a:chOff x="6468840" y="4619160"/>
                <a:chExt cx="1679760" cy="483480"/>
              </a:xfrm>
            </p:grpSpPr>
            <p:sp>
              <p:nvSpPr>
                <p:cNvPr id="929" name=""/>
                <p:cNvSpPr/>
                <p:nvPr/>
              </p:nvSpPr>
              <p:spPr>
                <a:xfrm>
                  <a:off x="6537240" y="4619160"/>
                  <a:ext cx="154296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0" name=""/>
                <p:cNvSpPr/>
                <p:nvPr/>
              </p:nvSpPr>
              <p:spPr>
                <a:xfrm>
                  <a:off x="6468840" y="4619160"/>
                  <a:ext cx="167976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1" name=""/>
            <p:cNvSpPr/>
            <p:nvPr/>
          </p:nvSpPr>
          <p:spPr>
            <a:xfrm>
              <a:off x="992160" y="1447920"/>
              <a:ext cx="7161120" cy="3657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
          <p:cNvSpPr/>
          <p:nvPr/>
        </p:nvSpPr>
        <p:spPr>
          <a:xfrm>
            <a:off x="990720" y="5181480"/>
            <a:ext cx="71625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990720" y="5105520"/>
            <a:ext cx="7162560" cy="113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Note 3:</a:t>
            </a:r>
            <a:r>
              <a:rPr b="0" lang="en-US" sz="1200" spc="-1" strike="noStrike">
                <a:solidFill>
                  <a:srgbClr val="000000"/>
                </a:solidFill>
                <a:latin typeface="Times New Roman"/>
                <a:ea typeface="Times New Roman"/>
              </a:rPr>
              <a:t>  Total equation for coexistence value calculation.  Individual comparison values (-, same, +) are represented by the following numbers:  - equals –1, same equals 0, + equals +1.  The individual comparison values will be represented as IC in the equation below, with the subscript representing the source number reference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 2 * IC</a:t>
            </a:r>
            <a:r>
              <a:rPr b="0" lang="en-US" sz="1200" spc="-1" strike="noStrike" baseline="-30000">
                <a:solidFill>
                  <a:srgbClr val="000000"/>
                </a:solidFill>
                <a:latin typeface="Times New Roman"/>
                <a:ea typeface="Times New Roman"/>
              </a:rPr>
              <a:t>1</a:t>
            </a:r>
            <a:r>
              <a:rPr b="0" lang="en-US" sz="1200" spc="-1" strike="noStrike">
                <a:solidFill>
                  <a:srgbClr val="000000"/>
                </a:solidFill>
                <a:latin typeface="Times New Roman"/>
                <a:ea typeface="Times New Roman"/>
              </a:rPr>
              <a:t> + 2 * IC</a:t>
            </a:r>
            <a:r>
              <a:rPr b="0" lang="en-US" sz="1200" spc="-1" strike="noStrike" baseline="-30000">
                <a:solidFill>
                  <a:srgbClr val="000000"/>
                </a:solidFill>
                <a:latin typeface="Times New Roman"/>
                <a:ea typeface="Times New Roman"/>
              </a:rPr>
              <a:t>2 </a:t>
            </a:r>
            <a:r>
              <a:rPr b="0" lang="en-US" sz="1200" spc="-1" strike="noStrike">
                <a:solidFill>
                  <a:srgbClr val="000000"/>
                </a:solidFill>
                <a:latin typeface="Times New Roman"/>
                <a:ea typeface="Times New Roman"/>
              </a:rPr>
              <a:t>+ IC</a:t>
            </a:r>
            <a:r>
              <a:rPr b="0" lang="en-US" sz="1200" spc="-1" strike="noStrike" baseline="-30000">
                <a:solidFill>
                  <a:srgbClr val="000000"/>
                </a:solidFill>
                <a:latin typeface="Times New Roman"/>
                <a:ea typeface="Times New Roman"/>
              </a:rPr>
              <a:t>3 </a:t>
            </a:r>
            <a:r>
              <a:rPr b="0" lang="en-US" sz="1200" spc="-1" strike="noStrike">
                <a:solidFill>
                  <a:srgbClr val="000000"/>
                </a:solidFill>
                <a:latin typeface="Times New Roman"/>
                <a:ea typeface="Times New Roman"/>
              </a:rPr>
              <a:t>+</a:t>
            </a:r>
            <a:r>
              <a:rPr b="0" lang="en-US" sz="1200" spc="-1" strike="noStrike" baseline="-30000">
                <a:solidFill>
                  <a:srgbClr val="000000"/>
                </a:solidFill>
                <a:latin typeface="Times New Roman"/>
                <a:ea typeface="Times New Roman"/>
              </a:rPr>
              <a:t> </a:t>
            </a:r>
            <a:r>
              <a:rPr b="0" lang="en-US" sz="1200" spc="-1" strike="noStrike">
                <a:solidFill>
                  <a:srgbClr val="000000"/>
                </a:solidFill>
                <a:latin typeface="Times New Roman"/>
                <a:ea typeface="Times New Roman"/>
              </a:rPr>
              <a:t>IC</a:t>
            </a:r>
            <a:r>
              <a:rPr b="0" lang="en-US" sz="1200" spc="-1" strike="noStrike" baseline="-30000">
                <a:solidFill>
                  <a:srgbClr val="000000"/>
                </a:solidFill>
                <a:latin typeface="Times New Roman"/>
                <a:ea typeface="Times New Roman"/>
              </a:rPr>
              <a:t>4 </a:t>
            </a:r>
            <a:r>
              <a:rPr b="0" lang="en-US" sz="1200" spc="-1" strike="noStrike">
                <a:solidFill>
                  <a:srgbClr val="000000"/>
                </a:solidFill>
                <a:latin typeface="Times New Roman"/>
                <a:ea typeface="Times New Roman"/>
              </a:rPr>
              <a:t>+ IC</a:t>
            </a:r>
            <a:r>
              <a:rPr b="0" lang="en-US" sz="1200" spc="-1" strike="noStrike" baseline="-30000">
                <a:solidFill>
                  <a:srgbClr val="000000"/>
                </a:solidFill>
                <a:latin typeface="Times New Roman"/>
                <a:ea typeface="Times New Roman"/>
              </a:rPr>
              <a:t>5</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8167B07C-32D0-4759-819F-E0C8D0789292}" type="slidenum">
              <a:t>21</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Pugh Matrix Comparison Values</a:t>
            </a:r>
            <a:br>
              <a:rPr sz="2000"/>
            </a:br>
            <a:r>
              <a:rPr b="1" i="1" lang="en-US" sz="2000" spc="-1" strike="noStrike" u="sng">
                <a:solidFill>
                  <a:srgbClr val="000000"/>
                </a:solidFill>
                <a:uFillTx/>
                <a:latin typeface="Times New Roman"/>
                <a:ea typeface="Times New Roman"/>
              </a:rPr>
              <a:t>MAC Protocol Criteria</a:t>
            </a:r>
            <a:r>
              <a:rPr b="1" i="1" lang="en-US" sz="2000" spc="-1" strike="noStrike" u="sng">
                <a:solidFill>
                  <a:srgbClr val="000000"/>
                </a:solidFill>
                <a:uFillTx/>
                <a:latin typeface="Times New Roman"/>
              </a:rPr>
              <a:t> Criteria Comparison Values</a:t>
            </a:r>
            <a:endParaRPr b="0" lang="en-US" sz="2000" spc="-1" strike="noStrike">
              <a:solidFill>
                <a:srgbClr val="000000"/>
              </a:solidFill>
              <a:latin typeface="Times New Roman"/>
            </a:endParaRPr>
          </a:p>
        </p:txBody>
      </p:sp>
      <p:sp>
        <p:nvSpPr>
          <p:cNvPr id="935" name=""/>
          <p:cNvSpPr/>
          <p:nvPr/>
        </p:nvSpPr>
        <p:spPr>
          <a:xfrm>
            <a:off x="990720" y="5181480"/>
            <a:ext cx="71625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6" name=""/>
          <p:cNvGrpSpPr/>
          <p:nvPr/>
        </p:nvGrpSpPr>
        <p:grpSpPr>
          <a:xfrm>
            <a:off x="449280" y="1447920"/>
            <a:ext cx="8246880" cy="4952880"/>
            <a:chOff x="449280" y="1447920"/>
            <a:chExt cx="8246880" cy="4952880"/>
          </a:xfrm>
        </p:grpSpPr>
        <p:grpSp>
          <p:nvGrpSpPr>
            <p:cNvPr id="937" name=""/>
            <p:cNvGrpSpPr/>
            <p:nvPr/>
          </p:nvGrpSpPr>
          <p:grpSpPr>
            <a:xfrm>
              <a:off x="453960" y="1450440"/>
              <a:ext cx="8237520" cy="4946760"/>
              <a:chOff x="453960" y="1450440"/>
              <a:chExt cx="8237520" cy="4946760"/>
            </a:xfrm>
          </p:grpSpPr>
          <p:grpSp>
            <p:nvGrpSpPr>
              <p:cNvPr id="938" name=""/>
              <p:cNvGrpSpPr/>
              <p:nvPr/>
            </p:nvGrpSpPr>
            <p:grpSpPr>
              <a:xfrm>
                <a:off x="453960" y="1450440"/>
                <a:ext cx="1841400" cy="380520"/>
                <a:chOff x="453960" y="1450440"/>
                <a:chExt cx="1841400" cy="380520"/>
              </a:xfrm>
            </p:grpSpPr>
            <p:sp>
              <p:nvSpPr>
                <p:cNvPr id="939" name=""/>
                <p:cNvSpPr/>
                <p:nvPr/>
              </p:nvSpPr>
              <p:spPr>
                <a:xfrm>
                  <a:off x="453960" y="1450440"/>
                  <a:ext cx="184140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0" name=""/>
                <p:cNvGrpSpPr/>
                <p:nvPr/>
              </p:nvGrpSpPr>
              <p:grpSpPr>
                <a:xfrm>
                  <a:off x="453960" y="1450440"/>
                  <a:ext cx="1841400" cy="380520"/>
                  <a:chOff x="453960" y="1450440"/>
                  <a:chExt cx="1841400" cy="380520"/>
                </a:xfrm>
              </p:grpSpPr>
              <p:sp>
                <p:nvSpPr>
                  <p:cNvPr id="941" name=""/>
                  <p:cNvSpPr/>
                  <p:nvPr/>
                </p:nvSpPr>
                <p:spPr>
                  <a:xfrm>
                    <a:off x="522360" y="1450440"/>
                    <a:ext cx="170496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2" name=""/>
                  <p:cNvSpPr/>
                  <p:nvPr/>
                </p:nvSpPr>
                <p:spPr>
                  <a:xfrm>
                    <a:off x="453960" y="1450440"/>
                    <a:ext cx="1841400" cy="38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3" name=""/>
              <p:cNvGrpSpPr/>
              <p:nvPr/>
            </p:nvGrpSpPr>
            <p:grpSpPr>
              <a:xfrm>
                <a:off x="2295360" y="1450440"/>
                <a:ext cx="744480" cy="380520"/>
                <a:chOff x="2295360" y="1450440"/>
                <a:chExt cx="744480" cy="380520"/>
              </a:xfrm>
            </p:grpSpPr>
            <p:sp>
              <p:nvSpPr>
                <p:cNvPr id="944" name=""/>
                <p:cNvSpPr/>
                <p:nvPr/>
              </p:nvSpPr>
              <p:spPr>
                <a:xfrm>
                  <a:off x="2295360" y="1450440"/>
                  <a:ext cx="74448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2295360" y="1450440"/>
                  <a:ext cx="744480" cy="380520"/>
                  <a:chOff x="2295360" y="1450440"/>
                  <a:chExt cx="744480" cy="380520"/>
                </a:xfrm>
              </p:grpSpPr>
              <p:sp>
                <p:nvSpPr>
                  <p:cNvPr id="946" name=""/>
                  <p:cNvSpPr/>
                  <p:nvPr/>
                </p:nvSpPr>
                <p:spPr>
                  <a:xfrm>
                    <a:off x="2363760" y="1450440"/>
                    <a:ext cx="60804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2295360" y="1450440"/>
                    <a:ext cx="744480" cy="38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8" name=""/>
              <p:cNvGrpSpPr/>
              <p:nvPr/>
            </p:nvGrpSpPr>
            <p:grpSpPr>
              <a:xfrm>
                <a:off x="3039840" y="1450440"/>
                <a:ext cx="1758960" cy="380520"/>
                <a:chOff x="3039840" y="1450440"/>
                <a:chExt cx="1758960" cy="380520"/>
              </a:xfrm>
            </p:grpSpPr>
            <p:sp>
              <p:nvSpPr>
                <p:cNvPr id="949" name=""/>
                <p:cNvSpPr/>
                <p:nvPr/>
              </p:nvSpPr>
              <p:spPr>
                <a:xfrm>
                  <a:off x="3039840" y="1450440"/>
                  <a:ext cx="175896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0" name=""/>
                <p:cNvGrpSpPr/>
                <p:nvPr/>
              </p:nvGrpSpPr>
              <p:grpSpPr>
                <a:xfrm>
                  <a:off x="3039840" y="1450440"/>
                  <a:ext cx="1758960" cy="380520"/>
                  <a:chOff x="3039840" y="1450440"/>
                  <a:chExt cx="1758960" cy="380520"/>
                </a:xfrm>
              </p:grpSpPr>
              <p:sp>
                <p:nvSpPr>
                  <p:cNvPr id="951" name=""/>
                  <p:cNvSpPr/>
                  <p:nvPr/>
                </p:nvSpPr>
                <p:spPr>
                  <a:xfrm>
                    <a:off x="3108240" y="1450440"/>
                    <a:ext cx="162252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
                  <p:cNvSpPr/>
                  <p:nvPr/>
                </p:nvSpPr>
                <p:spPr>
                  <a:xfrm>
                    <a:off x="3039840" y="1450440"/>
                    <a:ext cx="1758960" cy="38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3" name=""/>
              <p:cNvGrpSpPr/>
              <p:nvPr/>
            </p:nvGrpSpPr>
            <p:grpSpPr>
              <a:xfrm>
                <a:off x="4798800" y="1450440"/>
                <a:ext cx="2098800" cy="380520"/>
                <a:chOff x="4798800" y="1450440"/>
                <a:chExt cx="2098800" cy="380520"/>
              </a:xfrm>
            </p:grpSpPr>
            <p:sp>
              <p:nvSpPr>
                <p:cNvPr id="954" name=""/>
                <p:cNvSpPr/>
                <p:nvPr/>
              </p:nvSpPr>
              <p:spPr>
                <a:xfrm>
                  <a:off x="4798800" y="1450440"/>
                  <a:ext cx="209880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5" name=""/>
                <p:cNvGrpSpPr/>
                <p:nvPr/>
              </p:nvGrpSpPr>
              <p:grpSpPr>
                <a:xfrm>
                  <a:off x="4798800" y="1450440"/>
                  <a:ext cx="2098800" cy="380520"/>
                  <a:chOff x="4798800" y="1450440"/>
                  <a:chExt cx="2098800" cy="380520"/>
                </a:xfrm>
              </p:grpSpPr>
              <p:sp>
                <p:nvSpPr>
                  <p:cNvPr id="956" name=""/>
                  <p:cNvSpPr/>
                  <p:nvPr/>
                </p:nvSpPr>
                <p:spPr>
                  <a:xfrm>
                    <a:off x="4867200" y="1450440"/>
                    <a:ext cx="196200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rison Val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
                  <p:cNvSpPr/>
                  <p:nvPr/>
                </p:nvSpPr>
                <p:spPr>
                  <a:xfrm>
                    <a:off x="4798800" y="1450440"/>
                    <a:ext cx="2098800" cy="38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8" name=""/>
              <p:cNvGrpSpPr/>
              <p:nvPr/>
            </p:nvGrpSpPr>
            <p:grpSpPr>
              <a:xfrm>
                <a:off x="6897600" y="1450440"/>
                <a:ext cx="1793880" cy="380520"/>
                <a:chOff x="6897600" y="1450440"/>
                <a:chExt cx="1793880" cy="380520"/>
              </a:xfrm>
            </p:grpSpPr>
            <p:sp>
              <p:nvSpPr>
                <p:cNvPr id="959" name=""/>
                <p:cNvSpPr/>
                <p:nvPr/>
              </p:nvSpPr>
              <p:spPr>
                <a:xfrm>
                  <a:off x="6897600" y="1450440"/>
                  <a:ext cx="179388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0" name=""/>
                <p:cNvGrpSpPr/>
                <p:nvPr/>
              </p:nvGrpSpPr>
              <p:grpSpPr>
                <a:xfrm>
                  <a:off x="6897600" y="1450440"/>
                  <a:ext cx="1793880" cy="380520"/>
                  <a:chOff x="6897600" y="1450440"/>
                  <a:chExt cx="1793880" cy="380520"/>
                </a:xfrm>
              </p:grpSpPr>
              <p:sp>
                <p:nvSpPr>
                  <p:cNvPr id="961" name=""/>
                  <p:cNvSpPr/>
                  <p:nvPr/>
                </p:nvSpPr>
                <p:spPr>
                  <a:xfrm>
                    <a:off x="6966000" y="1450440"/>
                    <a:ext cx="165708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6897600" y="1450440"/>
                    <a:ext cx="1793880" cy="38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3" name=""/>
              <p:cNvGrpSpPr/>
              <p:nvPr/>
            </p:nvGrpSpPr>
            <p:grpSpPr>
              <a:xfrm>
                <a:off x="453960" y="1830960"/>
                <a:ext cx="1841400" cy="380520"/>
                <a:chOff x="453960" y="1830960"/>
                <a:chExt cx="1841400" cy="380520"/>
              </a:xfrm>
            </p:grpSpPr>
            <p:sp>
              <p:nvSpPr>
                <p:cNvPr id="964" name=""/>
                <p:cNvSpPr/>
                <p:nvPr/>
              </p:nvSpPr>
              <p:spPr>
                <a:xfrm>
                  <a:off x="453960" y="1830960"/>
                  <a:ext cx="184140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5" name=""/>
                <p:cNvGrpSpPr/>
                <p:nvPr/>
              </p:nvGrpSpPr>
              <p:grpSpPr>
                <a:xfrm>
                  <a:off x="453960" y="1830960"/>
                  <a:ext cx="1841400" cy="380520"/>
                  <a:chOff x="453960" y="1830960"/>
                  <a:chExt cx="1841400" cy="380520"/>
                </a:xfrm>
              </p:grpSpPr>
              <p:sp>
                <p:nvSpPr>
                  <p:cNvPr id="966" name=""/>
                  <p:cNvSpPr/>
                  <p:nvPr/>
                </p:nvSpPr>
                <p:spPr>
                  <a:xfrm>
                    <a:off x="522360" y="1830960"/>
                    <a:ext cx="170496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
                  <p:cNvSpPr/>
                  <p:nvPr/>
                </p:nvSpPr>
                <p:spPr>
                  <a:xfrm>
                    <a:off x="453960" y="1830960"/>
                    <a:ext cx="1841400" cy="38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8" name=""/>
              <p:cNvGrpSpPr/>
              <p:nvPr/>
            </p:nvGrpSpPr>
            <p:grpSpPr>
              <a:xfrm>
                <a:off x="2295360" y="1830960"/>
                <a:ext cx="744480" cy="380520"/>
                <a:chOff x="2295360" y="1830960"/>
                <a:chExt cx="744480" cy="380520"/>
              </a:xfrm>
            </p:grpSpPr>
            <p:sp>
              <p:nvSpPr>
                <p:cNvPr id="969" name=""/>
                <p:cNvSpPr/>
                <p:nvPr/>
              </p:nvSpPr>
              <p:spPr>
                <a:xfrm>
                  <a:off x="2295360" y="1830960"/>
                  <a:ext cx="74448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0" name=""/>
                <p:cNvGrpSpPr/>
                <p:nvPr/>
              </p:nvGrpSpPr>
              <p:grpSpPr>
                <a:xfrm>
                  <a:off x="2295360" y="1830960"/>
                  <a:ext cx="744480" cy="380520"/>
                  <a:chOff x="2295360" y="1830960"/>
                  <a:chExt cx="744480" cy="380520"/>
                </a:xfrm>
              </p:grpSpPr>
              <p:sp>
                <p:nvSpPr>
                  <p:cNvPr id="971" name=""/>
                  <p:cNvSpPr/>
                  <p:nvPr/>
                </p:nvSpPr>
                <p:spPr>
                  <a:xfrm>
                    <a:off x="2363760" y="1830960"/>
                    <a:ext cx="60804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
                  <p:cNvSpPr/>
                  <p:nvPr/>
                </p:nvSpPr>
                <p:spPr>
                  <a:xfrm>
                    <a:off x="2295360" y="1830960"/>
                    <a:ext cx="744480" cy="38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3" name=""/>
              <p:cNvGrpSpPr/>
              <p:nvPr/>
            </p:nvGrpSpPr>
            <p:grpSpPr>
              <a:xfrm>
                <a:off x="3039840" y="1830960"/>
                <a:ext cx="1758960" cy="380520"/>
                <a:chOff x="3039840" y="1830960"/>
                <a:chExt cx="1758960" cy="380520"/>
              </a:xfrm>
            </p:grpSpPr>
            <p:sp>
              <p:nvSpPr>
                <p:cNvPr id="974" name=""/>
                <p:cNvSpPr/>
                <p:nvPr/>
              </p:nvSpPr>
              <p:spPr>
                <a:xfrm>
                  <a:off x="3039840" y="1830960"/>
                  <a:ext cx="175896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5" name=""/>
                <p:cNvGrpSpPr/>
                <p:nvPr/>
              </p:nvGrpSpPr>
              <p:grpSpPr>
                <a:xfrm>
                  <a:off x="3039840" y="1830960"/>
                  <a:ext cx="1758960" cy="380520"/>
                  <a:chOff x="3039840" y="1830960"/>
                  <a:chExt cx="1758960" cy="380520"/>
                </a:xfrm>
              </p:grpSpPr>
              <p:sp>
                <p:nvSpPr>
                  <p:cNvPr id="976" name=""/>
                  <p:cNvSpPr/>
                  <p:nvPr/>
                </p:nvSpPr>
                <p:spPr>
                  <a:xfrm>
                    <a:off x="3108240" y="1830960"/>
                    <a:ext cx="162252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7" name=""/>
                  <p:cNvSpPr/>
                  <p:nvPr/>
                </p:nvSpPr>
                <p:spPr>
                  <a:xfrm>
                    <a:off x="3039840" y="1830960"/>
                    <a:ext cx="1758960" cy="38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8" name=""/>
              <p:cNvGrpSpPr/>
              <p:nvPr/>
            </p:nvGrpSpPr>
            <p:grpSpPr>
              <a:xfrm>
                <a:off x="4798800" y="1830960"/>
                <a:ext cx="2098800" cy="380520"/>
                <a:chOff x="4798800" y="1830960"/>
                <a:chExt cx="2098800" cy="380520"/>
              </a:xfrm>
            </p:grpSpPr>
            <p:sp>
              <p:nvSpPr>
                <p:cNvPr id="979" name=""/>
                <p:cNvSpPr/>
                <p:nvPr/>
              </p:nvSpPr>
              <p:spPr>
                <a:xfrm>
                  <a:off x="4798800" y="1830960"/>
                  <a:ext cx="209880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0" name=""/>
                <p:cNvGrpSpPr/>
                <p:nvPr/>
              </p:nvGrpSpPr>
              <p:grpSpPr>
                <a:xfrm>
                  <a:off x="4798800" y="1830960"/>
                  <a:ext cx="2098800" cy="380520"/>
                  <a:chOff x="4798800" y="1830960"/>
                  <a:chExt cx="2098800" cy="380520"/>
                </a:xfrm>
              </p:grpSpPr>
              <p:sp>
                <p:nvSpPr>
                  <p:cNvPr id="981" name=""/>
                  <p:cNvSpPr/>
                  <p:nvPr/>
                </p:nvSpPr>
                <p:spPr>
                  <a:xfrm>
                    <a:off x="4867200" y="1830960"/>
                    <a:ext cx="196200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4798800" y="1830960"/>
                    <a:ext cx="2098800" cy="38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3" name=""/>
              <p:cNvGrpSpPr/>
              <p:nvPr/>
            </p:nvGrpSpPr>
            <p:grpSpPr>
              <a:xfrm>
                <a:off x="6897600" y="1830960"/>
                <a:ext cx="1793880" cy="380520"/>
                <a:chOff x="6897600" y="1830960"/>
                <a:chExt cx="1793880" cy="380520"/>
              </a:xfrm>
            </p:grpSpPr>
            <p:sp>
              <p:nvSpPr>
                <p:cNvPr id="984" name=""/>
                <p:cNvSpPr/>
                <p:nvPr/>
              </p:nvSpPr>
              <p:spPr>
                <a:xfrm>
                  <a:off x="6897600" y="1830960"/>
                  <a:ext cx="179388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5" name=""/>
                <p:cNvGrpSpPr/>
                <p:nvPr/>
              </p:nvGrpSpPr>
              <p:grpSpPr>
                <a:xfrm>
                  <a:off x="6897600" y="1830960"/>
                  <a:ext cx="1793880" cy="380520"/>
                  <a:chOff x="6897600" y="1830960"/>
                  <a:chExt cx="1793880" cy="380520"/>
                </a:xfrm>
              </p:grpSpPr>
              <p:sp>
                <p:nvSpPr>
                  <p:cNvPr id="986" name=""/>
                  <p:cNvSpPr/>
                  <p:nvPr/>
                </p:nvSpPr>
                <p:spPr>
                  <a:xfrm>
                    <a:off x="6966000" y="1830960"/>
                    <a:ext cx="1657080" cy="3805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
                  <p:cNvSpPr/>
                  <p:nvPr/>
                </p:nvSpPr>
                <p:spPr>
                  <a:xfrm>
                    <a:off x="6897600" y="1830960"/>
                    <a:ext cx="1793880" cy="38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8" name=""/>
              <p:cNvGrpSpPr/>
              <p:nvPr/>
            </p:nvGrpSpPr>
            <p:grpSpPr>
              <a:xfrm>
                <a:off x="453960" y="2211480"/>
                <a:ext cx="1841400" cy="597960"/>
                <a:chOff x="453960" y="2211480"/>
                <a:chExt cx="1841400" cy="597960"/>
              </a:xfrm>
            </p:grpSpPr>
            <p:sp>
              <p:nvSpPr>
                <p:cNvPr id="989" name=""/>
                <p:cNvSpPr/>
                <p:nvPr/>
              </p:nvSpPr>
              <p:spPr>
                <a:xfrm>
                  <a:off x="522360" y="2211480"/>
                  <a:ext cx="170496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parent to Upper Layer Protocols (TCP/I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
                <p:cNvSpPr/>
                <p:nvPr/>
              </p:nvSpPr>
              <p:spPr>
                <a:xfrm>
                  <a:off x="453960" y="2211480"/>
                  <a:ext cx="184140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1" name=""/>
              <p:cNvGrpSpPr/>
              <p:nvPr/>
            </p:nvGrpSpPr>
            <p:grpSpPr>
              <a:xfrm>
                <a:off x="2295360" y="2211480"/>
                <a:ext cx="744480" cy="597960"/>
                <a:chOff x="2295360" y="2211480"/>
                <a:chExt cx="744480" cy="597960"/>
              </a:xfrm>
            </p:grpSpPr>
            <p:sp>
              <p:nvSpPr>
                <p:cNvPr id="992" name=""/>
                <p:cNvSpPr/>
                <p:nvPr/>
              </p:nvSpPr>
              <p:spPr>
                <a:xfrm>
                  <a:off x="2363760" y="2211480"/>
                  <a:ext cx="60804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
                <p:cNvSpPr/>
                <p:nvPr/>
              </p:nvSpPr>
              <p:spPr>
                <a:xfrm>
                  <a:off x="2295360" y="2211480"/>
                  <a:ext cx="74448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4" name=""/>
              <p:cNvGrpSpPr/>
              <p:nvPr/>
            </p:nvGrpSpPr>
            <p:grpSpPr>
              <a:xfrm>
                <a:off x="3039840" y="2211480"/>
                <a:ext cx="1758960" cy="597960"/>
                <a:chOff x="3039840" y="2211480"/>
                <a:chExt cx="1758960" cy="597960"/>
              </a:xfrm>
            </p:grpSpPr>
            <p:sp>
              <p:nvSpPr>
                <p:cNvPr id="995" name=""/>
                <p:cNvSpPr/>
                <p:nvPr/>
              </p:nvSpPr>
              <p:spPr>
                <a:xfrm>
                  <a:off x="3108240" y="2211480"/>
                  <a:ext cx="162252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
                <p:cNvSpPr/>
                <p:nvPr/>
              </p:nvSpPr>
              <p:spPr>
                <a:xfrm>
                  <a:off x="3039840" y="2211480"/>
                  <a:ext cx="175896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7" name=""/>
              <p:cNvGrpSpPr/>
              <p:nvPr/>
            </p:nvGrpSpPr>
            <p:grpSpPr>
              <a:xfrm>
                <a:off x="4798800" y="2211480"/>
                <a:ext cx="2098800" cy="597960"/>
                <a:chOff x="4798800" y="2211480"/>
                <a:chExt cx="2098800" cy="597960"/>
              </a:xfrm>
            </p:grpSpPr>
            <p:sp>
              <p:nvSpPr>
                <p:cNvPr id="998" name=""/>
                <p:cNvSpPr/>
                <p:nvPr/>
              </p:nvSpPr>
              <p:spPr>
                <a:xfrm>
                  <a:off x="4867200" y="2211480"/>
                  <a:ext cx="196200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
                <p:cNvSpPr/>
                <p:nvPr/>
              </p:nvSpPr>
              <p:spPr>
                <a:xfrm>
                  <a:off x="4798800" y="2211480"/>
                  <a:ext cx="209880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0" name=""/>
              <p:cNvGrpSpPr/>
              <p:nvPr/>
            </p:nvGrpSpPr>
            <p:grpSpPr>
              <a:xfrm>
                <a:off x="6897600" y="2211480"/>
                <a:ext cx="1793880" cy="597960"/>
                <a:chOff x="6897600" y="2211480"/>
                <a:chExt cx="1793880" cy="597960"/>
              </a:xfrm>
            </p:grpSpPr>
            <p:sp>
              <p:nvSpPr>
                <p:cNvPr id="1001" name=""/>
                <p:cNvSpPr/>
                <p:nvPr/>
              </p:nvSpPr>
              <p:spPr>
                <a:xfrm>
                  <a:off x="6966000" y="2211480"/>
                  <a:ext cx="165708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
                <p:cNvSpPr/>
                <p:nvPr/>
              </p:nvSpPr>
              <p:spPr>
                <a:xfrm>
                  <a:off x="6897600" y="2211480"/>
                  <a:ext cx="179388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3" name=""/>
              <p:cNvGrpSpPr/>
              <p:nvPr/>
            </p:nvGrpSpPr>
            <p:grpSpPr>
              <a:xfrm>
                <a:off x="453960" y="2809800"/>
                <a:ext cx="1841400" cy="489240"/>
                <a:chOff x="453960" y="2809800"/>
                <a:chExt cx="1841400" cy="489240"/>
              </a:xfrm>
            </p:grpSpPr>
            <p:sp>
              <p:nvSpPr>
                <p:cNvPr id="1004" name=""/>
                <p:cNvSpPr/>
                <p:nvPr/>
              </p:nvSpPr>
              <p:spPr>
                <a:xfrm>
                  <a:off x="522360" y="2809800"/>
                  <a:ext cx="1704960" cy="4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que 48-bit Addr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ubject to debat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
                <p:cNvSpPr/>
                <p:nvPr/>
              </p:nvSpPr>
              <p:spPr>
                <a:xfrm>
                  <a:off x="453960" y="2809800"/>
                  <a:ext cx="184140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6" name=""/>
              <p:cNvGrpSpPr/>
              <p:nvPr/>
            </p:nvGrpSpPr>
            <p:grpSpPr>
              <a:xfrm>
                <a:off x="2295360" y="2809800"/>
                <a:ext cx="744480" cy="489240"/>
                <a:chOff x="2295360" y="2809800"/>
                <a:chExt cx="744480" cy="489240"/>
              </a:xfrm>
            </p:grpSpPr>
            <p:sp>
              <p:nvSpPr>
                <p:cNvPr id="1007" name=""/>
                <p:cNvSpPr/>
                <p:nvPr/>
              </p:nvSpPr>
              <p:spPr>
                <a:xfrm>
                  <a:off x="2363760" y="2809800"/>
                  <a:ext cx="608040" cy="4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
                <p:cNvSpPr/>
                <p:nvPr/>
              </p:nvSpPr>
              <p:spPr>
                <a:xfrm>
                  <a:off x="2295360" y="2809800"/>
                  <a:ext cx="74448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9" name=""/>
              <p:cNvGrpSpPr/>
              <p:nvPr/>
            </p:nvGrpSpPr>
            <p:grpSpPr>
              <a:xfrm>
                <a:off x="3039840" y="2809800"/>
                <a:ext cx="1758960" cy="489240"/>
                <a:chOff x="3039840" y="2809800"/>
                <a:chExt cx="1758960" cy="489240"/>
              </a:xfrm>
            </p:grpSpPr>
            <p:sp>
              <p:nvSpPr>
                <p:cNvPr id="1010" name=""/>
                <p:cNvSpPr/>
                <p:nvPr/>
              </p:nvSpPr>
              <p:spPr>
                <a:xfrm>
                  <a:off x="3108240" y="2809800"/>
                  <a:ext cx="1622520" cy="4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Qualified (required by 8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
                <p:cNvSpPr/>
                <p:nvPr/>
              </p:nvSpPr>
              <p:spPr>
                <a:xfrm>
                  <a:off x="3039840" y="2809800"/>
                  <a:ext cx="175896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2" name=""/>
              <p:cNvGrpSpPr/>
              <p:nvPr/>
            </p:nvGrpSpPr>
            <p:grpSpPr>
              <a:xfrm>
                <a:off x="4798800" y="2809800"/>
                <a:ext cx="2098800" cy="489240"/>
                <a:chOff x="4798800" y="2809800"/>
                <a:chExt cx="2098800" cy="489240"/>
              </a:xfrm>
            </p:grpSpPr>
            <p:sp>
              <p:nvSpPr>
                <p:cNvPr id="1013" name=""/>
                <p:cNvSpPr/>
                <p:nvPr/>
              </p:nvSpPr>
              <p:spPr>
                <a:xfrm>
                  <a:off x="4867200" y="2809800"/>
                  <a:ext cx="1962000" cy="4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sent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ubject to debate</a:t>
                  </a:r>
                  <a:endParaRPr b="0" lang="en-US" sz="1200" spc="-1" strike="noStrike">
                    <a:solidFill>
                      <a:srgbClr val="000000"/>
                    </a:solidFill>
                    <a:latin typeface="Times New Roman"/>
                  </a:endParaRPr>
                </a:p>
              </p:txBody>
            </p:sp>
            <p:sp>
              <p:nvSpPr>
                <p:cNvPr id="1014" name=""/>
                <p:cNvSpPr/>
                <p:nvPr/>
              </p:nvSpPr>
              <p:spPr>
                <a:xfrm>
                  <a:off x="4798800" y="2809800"/>
                  <a:ext cx="209880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5" name=""/>
              <p:cNvGrpSpPr/>
              <p:nvPr/>
            </p:nvGrpSpPr>
            <p:grpSpPr>
              <a:xfrm>
                <a:off x="6897600" y="2809800"/>
                <a:ext cx="1793880" cy="489240"/>
                <a:chOff x="6897600" y="2809800"/>
                <a:chExt cx="1793880" cy="489240"/>
              </a:xfrm>
            </p:grpSpPr>
            <p:sp>
              <p:nvSpPr>
                <p:cNvPr id="1016" name=""/>
                <p:cNvSpPr/>
                <p:nvPr/>
              </p:nvSpPr>
              <p:spPr>
                <a:xfrm>
                  <a:off x="6966000" y="2809800"/>
                  <a:ext cx="1657080" cy="4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
                <p:cNvSpPr/>
                <p:nvPr/>
              </p:nvSpPr>
              <p:spPr>
                <a:xfrm>
                  <a:off x="6897600" y="2809800"/>
                  <a:ext cx="179388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8" name=""/>
              <p:cNvGrpSpPr/>
              <p:nvPr/>
            </p:nvGrpSpPr>
            <p:grpSpPr>
              <a:xfrm>
                <a:off x="453960" y="3299040"/>
                <a:ext cx="1841400" cy="597600"/>
                <a:chOff x="453960" y="3299040"/>
                <a:chExt cx="1841400" cy="597600"/>
              </a:xfrm>
            </p:grpSpPr>
            <p:sp>
              <p:nvSpPr>
                <p:cNvPr id="1019" name=""/>
                <p:cNvSpPr/>
                <p:nvPr/>
              </p:nvSpPr>
              <p:spPr>
                <a:xfrm>
                  <a:off x="522360" y="3299040"/>
                  <a:ext cx="1704960" cy="5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mple Network Join/UnJoin Procedures for RF enabled devi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
                <p:cNvSpPr/>
                <p:nvPr/>
              </p:nvSpPr>
              <p:spPr>
                <a:xfrm>
                  <a:off x="453960" y="3299040"/>
                  <a:ext cx="1841400" cy="597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1" name=""/>
              <p:cNvGrpSpPr/>
              <p:nvPr/>
            </p:nvGrpSpPr>
            <p:grpSpPr>
              <a:xfrm>
                <a:off x="2295360" y="3299040"/>
                <a:ext cx="744480" cy="597600"/>
                <a:chOff x="2295360" y="3299040"/>
                <a:chExt cx="744480" cy="597600"/>
              </a:xfrm>
            </p:grpSpPr>
            <p:sp>
              <p:nvSpPr>
                <p:cNvPr id="1022" name=""/>
                <p:cNvSpPr/>
                <p:nvPr/>
              </p:nvSpPr>
              <p:spPr>
                <a:xfrm>
                  <a:off x="2363760" y="3299040"/>
                  <a:ext cx="608040" cy="5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
                <p:cNvSpPr/>
                <p:nvPr/>
              </p:nvSpPr>
              <p:spPr>
                <a:xfrm>
                  <a:off x="2295360" y="3299040"/>
                  <a:ext cx="744480" cy="597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4" name=""/>
              <p:cNvGrpSpPr/>
              <p:nvPr/>
            </p:nvGrpSpPr>
            <p:grpSpPr>
              <a:xfrm>
                <a:off x="3039840" y="3299040"/>
                <a:ext cx="1758960" cy="597600"/>
                <a:chOff x="3039840" y="3299040"/>
                <a:chExt cx="1758960" cy="597600"/>
              </a:xfrm>
            </p:grpSpPr>
            <p:sp>
              <p:nvSpPr>
                <p:cNvPr id="1025" name=""/>
                <p:cNvSpPr/>
                <p:nvPr/>
              </p:nvSpPr>
              <p:spPr>
                <a:xfrm>
                  <a:off x="3108240" y="3299040"/>
                  <a:ext cx="1622520" cy="5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tended procedure for joining netwo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
                <p:cNvSpPr/>
                <p:nvPr/>
              </p:nvSpPr>
              <p:spPr>
                <a:xfrm>
                  <a:off x="3039840" y="3299040"/>
                  <a:ext cx="1758960" cy="597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798800" y="3299040"/>
                <a:ext cx="2098800" cy="597600"/>
                <a:chOff x="4798800" y="3299040"/>
                <a:chExt cx="2098800" cy="597600"/>
              </a:xfrm>
            </p:grpSpPr>
            <p:sp>
              <p:nvSpPr>
                <p:cNvPr id="1028" name=""/>
                <p:cNvSpPr/>
                <p:nvPr/>
              </p:nvSpPr>
              <p:spPr>
                <a:xfrm>
                  <a:off x="4867200" y="3299040"/>
                  <a:ext cx="1962000" cy="5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2.15.1 style jo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
                <p:cNvSpPr/>
                <p:nvPr/>
              </p:nvSpPr>
              <p:spPr>
                <a:xfrm>
                  <a:off x="4798800" y="3299040"/>
                  <a:ext cx="2098800" cy="597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0" name=""/>
              <p:cNvGrpSpPr/>
              <p:nvPr/>
            </p:nvGrpSpPr>
            <p:grpSpPr>
              <a:xfrm>
                <a:off x="6897600" y="3299040"/>
                <a:ext cx="1793880" cy="597600"/>
                <a:chOff x="6897600" y="3299040"/>
                <a:chExt cx="1793880" cy="597600"/>
              </a:xfrm>
            </p:grpSpPr>
            <p:sp>
              <p:nvSpPr>
                <p:cNvPr id="1031" name=""/>
                <p:cNvSpPr/>
                <p:nvPr/>
              </p:nvSpPr>
              <p:spPr>
                <a:xfrm>
                  <a:off x="6966000" y="3299040"/>
                  <a:ext cx="1657080" cy="5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hanced self-configuration of netwo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
                <p:cNvSpPr/>
                <p:nvPr/>
              </p:nvSpPr>
              <p:spPr>
                <a:xfrm>
                  <a:off x="6897600" y="3299040"/>
                  <a:ext cx="1793880" cy="597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3" name=""/>
              <p:cNvGrpSpPr/>
              <p:nvPr/>
            </p:nvGrpSpPr>
            <p:grpSpPr>
              <a:xfrm>
                <a:off x="453960" y="3897000"/>
                <a:ext cx="1841400" cy="597960"/>
                <a:chOff x="453960" y="3897000"/>
                <a:chExt cx="1841400" cy="597960"/>
              </a:xfrm>
            </p:grpSpPr>
            <p:sp>
              <p:nvSpPr>
                <p:cNvPr id="1034" name=""/>
                <p:cNvSpPr/>
                <p:nvPr/>
              </p:nvSpPr>
              <p:spPr>
                <a:xfrm>
                  <a:off x="522360" y="3897000"/>
                  <a:ext cx="170496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vice Regist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pplication-depend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Needs further discus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
                <p:cNvSpPr/>
                <p:nvPr/>
              </p:nvSpPr>
              <p:spPr>
                <a:xfrm>
                  <a:off x="453960" y="3897000"/>
                  <a:ext cx="184140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6" name=""/>
              <p:cNvGrpSpPr/>
              <p:nvPr/>
            </p:nvGrpSpPr>
            <p:grpSpPr>
              <a:xfrm>
                <a:off x="2295360" y="3897000"/>
                <a:ext cx="744480" cy="597960"/>
                <a:chOff x="2295360" y="3897000"/>
                <a:chExt cx="744480" cy="597960"/>
              </a:xfrm>
            </p:grpSpPr>
            <p:sp>
              <p:nvSpPr>
                <p:cNvPr id="1037" name=""/>
                <p:cNvSpPr/>
                <p:nvPr/>
              </p:nvSpPr>
              <p:spPr>
                <a:xfrm>
                  <a:off x="2363760" y="3897000"/>
                  <a:ext cx="60804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
                <p:cNvSpPr/>
                <p:nvPr/>
              </p:nvSpPr>
              <p:spPr>
                <a:xfrm>
                  <a:off x="2295360" y="3897000"/>
                  <a:ext cx="74448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9" name=""/>
              <p:cNvGrpSpPr/>
              <p:nvPr/>
            </p:nvGrpSpPr>
            <p:grpSpPr>
              <a:xfrm>
                <a:off x="3039840" y="3897000"/>
                <a:ext cx="1758960" cy="597960"/>
                <a:chOff x="3039840" y="3897000"/>
                <a:chExt cx="1758960" cy="597960"/>
              </a:xfrm>
            </p:grpSpPr>
            <p:sp>
              <p:nvSpPr>
                <p:cNvPr id="1040" name=""/>
                <p:cNvSpPr/>
                <p:nvPr/>
              </p:nvSpPr>
              <p:spPr>
                <a:xfrm>
                  <a:off x="3108240" y="3897000"/>
                  <a:ext cx="162252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quires manual configu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
                <p:cNvSpPr/>
                <p:nvPr/>
              </p:nvSpPr>
              <p:spPr>
                <a:xfrm>
                  <a:off x="3039840" y="3897000"/>
                  <a:ext cx="175896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4798800" y="3897000"/>
                <a:ext cx="2098800" cy="597960"/>
                <a:chOff x="4798800" y="3897000"/>
                <a:chExt cx="2098800" cy="597960"/>
              </a:xfrm>
            </p:grpSpPr>
            <p:sp>
              <p:nvSpPr>
                <p:cNvPr id="1043" name=""/>
                <p:cNvSpPr/>
                <p:nvPr/>
              </p:nvSpPr>
              <p:spPr>
                <a:xfrm>
                  <a:off x="4867200" y="3897000"/>
                  <a:ext cx="196200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2.15.1 style registration as specified in sections 8.10.7 and 11.6.5.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
                <p:cNvSpPr/>
                <p:nvPr/>
              </p:nvSpPr>
              <p:spPr>
                <a:xfrm>
                  <a:off x="4798800" y="3897000"/>
                  <a:ext cx="209880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5" name=""/>
              <p:cNvGrpSpPr/>
              <p:nvPr/>
            </p:nvGrpSpPr>
            <p:grpSpPr>
              <a:xfrm>
                <a:off x="6897600" y="3897000"/>
                <a:ext cx="1793880" cy="597960"/>
                <a:chOff x="6897600" y="3897000"/>
                <a:chExt cx="1793880" cy="597960"/>
              </a:xfrm>
            </p:grpSpPr>
            <p:sp>
              <p:nvSpPr>
                <p:cNvPr id="1046" name=""/>
                <p:cNvSpPr/>
                <p:nvPr/>
              </p:nvSpPr>
              <p:spPr>
                <a:xfrm>
                  <a:off x="6966000" y="3897000"/>
                  <a:ext cx="165708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registration based on pro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
                <p:cNvSpPr/>
                <p:nvPr/>
              </p:nvSpPr>
              <p:spPr>
                <a:xfrm>
                  <a:off x="6897600" y="3897000"/>
                  <a:ext cx="179388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8" name=""/>
              <p:cNvGrpSpPr/>
              <p:nvPr/>
            </p:nvGrpSpPr>
            <p:grpSpPr>
              <a:xfrm>
                <a:off x="453960" y="4494960"/>
                <a:ext cx="1841400" cy="815040"/>
                <a:chOff x="453960" y="4494960"/>
                <a:chExt cx="1841400" cy="815040"/>
              </a:xfrm>
            </p:grpSpPr>
            <p:sp>
              <p:nvSpPr>
                <p:cNvPr id="1049" name=""/>
                <p:cNvSpPr/>
                <p:nvPr/>
              </p:nvSpPr>
              <p:spPr>
                <a:xfrm>
                  <a:off x="522360" y="4494960"/>
                  <a:ext cx="1704960" cy="81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livered data throughp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
                <p:cNvSpPr/>
                <p:nvPr/>
              </p:nvSpPr>
              <p:spPr>
                <a:xfrm>
                  <a:off x="453960" y="4494960"/>
                  <a:ext cx="184140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
              <p:cNvGrpSpPr/>
              <p:nvPr/>
            </p:nvGrpSpPr>
            <p:grpSpPr>
              <a:xfrm>
                <a:off x="2295360" y="4494960"/>
                <a:ext cx="744480" cy="815040"/>
                <a:chOff x="2295360" y="4494960"/>
                <a:chExt cx="744480" cy="815040"/>
              </a:xfrm>
            </p:grpSpPr>
            <p:sp>
              <p:nvSpPr>
                <p:cNvPr id="1052" name=""/>
                <p:cNvSpPr/>
                <p:nvPr/>
              </p:nvSpPr>
              <p:spPr>
                <a:xfrm>
                  <a:off x="2363760" y="4494960"/>
                  <a:ext cx="608040" cy="81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
                <p:cNvSpPr/>
                <p:nvPr/>
              </p:nvSpPr>
              <p:spPr>
                <a:xfrm>
                  <a:off x="2295360" y="4494960"/>
                  <a:ext cx="7444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4" name=""/>
              <p:cNvGrpSpPr/>
              <p:nvPr/>
            </p:nvGrpSpPr>
            <p:grpSpPr>
              <a:xfrm>
                <a:off x="3039840" y="4494960"/>
                <a:ext cx="1758960" cy="815040"/>
                <a:chOff x="3039840" y="4494960"/>
                <a:chExt cx="1758960" cy="815040"/>
              </a:xfrm>
            </p:grpSpPr>
            <p:sp>
              <p:nvSpPr>
                <p:cNvPr id="1055" name=""/>
                <p:cNvSpPr/>
                <p:nvPr/>
              </p:nvSpPr>
              <p:spPr>
                <a:xfrm>
                  <a:off x="3108240" y="4494960"/>
                  <a:ext cx="1622520" cy="81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es not provide data throughput between 10kkbps and 200k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
                <p:cNvSpPr/>
                <p:nvPr/>
              </p:nvSpPr>
              <p:spPr>
                <a:xfrm>
                  <a:off x="3039840" y="4494960"/>
                  <a:ext cx="17589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7" name=""/>
              <p:cNvGrpSpPr/>
              <p:nvPr/>
            </p:nvGrpSpPr>
            <p:grpSpPr>
              <a:xfrm>
                <a:off x="4798800" y="4494960"/>
                <a:ext cx="2098800" cy="815040"/>
                <a:chOff x="4798800" y="4494960"/>
                <a:chExt cx="2098800" cy="815040"/>
              </a:xfrm>
            </p:grpSpPr>
            <p:sp>
              <p:nvSpPr>
                <p:cNvPr id="1058" name=""/>
                <p:cNvSpPr/>
                <p:nvPr/>
              </p:nvSpPr>
              <p:spPr>
                <a:xfrm>
                  <a:off x="4867200" y="4494960"/>
                  <a:ext cx="1962000" cy="81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One data rate between 10kbps and  200k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Can be scaled, howev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
                <p:cNvSpPr/>
                <p:nvPr/>
              </p:nvSpPr>
              <p:spPr>
                <a:xfrm>
                  <a:off x="4798800" y="4494960"/>
                  <a:ext cx="209880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0" name=""/>
              <p:cNvGrpSpPr/>
              <p:nvPr/>
            </p:nvGrpSpPr>
            <p:grpSpPr>
              <a:xfrm>
                <a:off x="6897600" y="4494960"/>
                <a:ext cx="1793880" cy="815040"/>
                <a:chOff x="6897600" y="4494960"/>
                <a:chExt cx="1793880" cy="815040"/>
              </a:xfrm>
            </p:grpSpPr>
            <p:sp>
              <p:nvSpPr>
                <p:cNvPr id="1061" name=""/>
                <p:cNvSpPr/>
                <p:nvPr/>
              </p:nvSpPr>
              <p:spPr>
                <a:xfrm>
                  <a:off x="6966000" y="4494960"/>
                  <a:ext cx="1657080" cy="81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or more data rates one between 10kbps and 100kbps and 1 &lt;&gt; 100kbps and 200k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
                <p:cNvSpPr/>
                <p:nvPr/>
              </p:nvSpPr>
              <p:spPr>
                <a:xfrm>
                  <a:off x="6897600" y="4494960"/>
                  <a:ext cx="17938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3" name=""/>
              <p:cNvGrpSpPr/>
              <p:nvPr/>
            </p:nvGrpSpPr>
            <p:grpSpPr>
              <a:xfrm>
                <a:off x="453960" y="5310000"/>
                <a:ext cx="1841400" cy="489240"/>
                <a:chOff x="453960" y="5310000"/>
                <a:chExt cx="1841400" cy="489240"/>
              </a:xfrm>
            </p:grpSpPr>
            <p:sp>
              <p:nvSpPr>
                <p:cNvPr id="1064" name=""/>
                <p:cNvSpPr/>
                <p:nvPr/>
              </p:nvSpPr>
              <p:spPr>
                <a:xfrm>
                  <a:off x="522360" y="5310000"/>
                  <a:ext cx="1704960" cy="4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ffic Typ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
                <p:cNvSpPr/>
                <p:nvPr/>
              </p:nvSpPr>
              <p:spPr>
                <a:xfrm>
                  <a:off x="453960" y="5310000"/>
                  <a:ext cx="184140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2295360" y="5310000"/>
                <a:ext cx="744480" cy="489240"/>
                <a:chOff x="2295360" y="5310000"/>
                <a:chExt cx="744480" cy="489240"/>
              </a:xfrm>
            </p:grpSpPr>
            <p:sp>
              <p:nvSpPr>
                <p:cNvPr id="1067" name=""/>
                <p:cNvSpPr/>
                <p:nvPr/>
              </p:nvSpPr>
              <p:spPr>
                <a:xfrm>
                  <a:off x="2363760" y="5310000"/>
                  <a:ext cx="608040" cy="4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8" name=""/>
                <p:cNvSpPr/>
                <p:nvPr/>
              </p:nvSpPr>
              <p:spPr>
                <a:xfrm>
                  <a:off x="2295360" y="5310000"/>
                  <a:ext cx="74448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9" name=""/>
              <p:cNvGrpSpPr/>
              <p:nvPr/>
            </p:nvGrpSpPr>
            <p:grpSpPr>
              <a:xfrm>
                <a:off x="3039840" y="5310000"/>
                <a:ext cx="1758960" cy="489240"/>
                <a:chOff x="3039840" y="5310000"/>
                <a:chExt cx="1758960" cy="489240"/>
              </a:xfrm>
            </p:grpSpPr>
            <p:sp>
              <p:nvSpPr>
                <p:cNvPr id="1070" name=""/>
                <p:cNvSpPr/>
                <p:nvPr/>
              </p:nvSpPr>
              <p:spPr>
                <a:xfrm>
                  <a:off x="3108240" y="5310000"/>
                  <a:ext cx="1622520" cy="4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pports 1 or 2 traffic typ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
                <p:cNvSpPr/>
                <p:nvPr/>
              </p:nvSpPr>
              <p:spPr>
                <a:xfrm>
                  <a:off x="3039840" y="5310000"/>
                  <a:ext cx="175896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2" name=""/>
              <p:cNvGrpSpPr/>
              <p:nvPr/>
            </p:nvGrpSpPr>
            <p:grpSpPr>
              <a:xfrm>
                <a:off x="4798800" y="5310000"/>
                <a:ext cx="2098800" cy="489240"/>
                <a:chOff x="4798800" y="5310000"/>
                <a:chExt cx="2098800" cy="489240"/>
              </a:xfrm>
            </p:grpSpPr>
            <p:sp>
              <p:nvSpPr>
                <p:cNvPr id="1073" name=""/>
                <p:cNvSpPr/>
                <p:nvPr/>
              </p:nvSpPr>
              <p:spPr>
                <a:xfrm>
                  <a:off x="4867200" y="5310000"/>
                  <a:ext cx="1962000" cy="4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upport for all 3 traffic typ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4" name=""/>
                <p:cNvSpPr/>
                <p:nvPr/>
              </p:nvSpPr>
              <p:spPr>
                <a:xfrm>
                  <a:off x="4798800" y="5310000"/>
                  <a:ext cx="209880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5" name=""/>
              <p:cNvGrpSpPr/>
              <p:nvPr/>
            </p:nvGrpSpPr>
            <p:grpSpPr>
              <a:xfrm>
                <a:off x="6897600" y="5310000"/>
                <a:ext cx="1793880" cy="489240"/>
                <a:chOff x="6897600" y="5310000"/>
                <a:chExt cx="1793880" cy="489240"/>
              </a:xfrm>
            </p:grpSpPr>
            <p:sp>
              <p:nvSpPr>
                <p:cNvPr id="1076" name=""/>
                <p:cNvSpPr/>
                <p:nvPr/>
              </p:nvSpPr>
              <p:spPr>
                <a:xfrm>
                  <a:off x="6966000" y="5310000"/>
                  <a:ext cx="1657080" cy="4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
                <p:cNvSpPr/>
                <p:nvPr/>
              </p:nvSpPr>
              <p:spPr>
                <a:xfrm>
                  <a:off x="6897600" y="5310000"/>
                  <a:ext cx="1793880" cy="48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8" name=""/>
              <p:cNvGrpSpPr/>
              <p:nvPr/>
            </p:nvGrpSpPr>
            <p:grpSpPr>
              <a:xfrm>
                <a:off x="453960" y="5799240"/>
                <a:ext cx="1841400" cy="597960"/>
                <a:chOff x="453960" y="5799240"/>
                <a:chExt cx="1841400" cy="597960"/>
              </a:xfrm>
            </p:grpSpPr>
            <p:sp>
              <p:nvSpPr>
                <p:cNvPr id="1079" name=""/>
                <p:cNvSpPr/>
                <p:nvPr/>
              </p:nvSpPr>
              <p:spPr>
                <a:xfrm>
                  <a:off x="522360" y="5799240"/>
                  <a:ext cx="170496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polog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
                <p:cNvSpPr/>
                <p:nvPr/>
              </p:nvSpPr>
              <p:spPr>
                <a:xfrm>
                  <a:off x="453960" y="5799240"/>
                  <a:ext cx="184140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1" name=""/>
              <p:cNvGrpSpPr/>
              <p:nvPr/>
            </p:nvGrpSpPr>
            <p:grpSpPr>
              <a:xfrm>
                <a:off x="2295360" y="5799240"/>
                <a:ext cx="744480" cy="597960"/>
                <a:chOff x="2295360" y="5799240"/>
                <a:chExt cx="744480" cy="597960"/>
              </a:xfrm>
            </p:grpSpPr>
            <p:sp>
              <p:nvSpPr>
                <p:cNvPr id="1082" name=""/>
                <p:cNvSpPr/>
                <p:nvPr/>
              </p:nvSpPr>
              <p:spPr>
                <a:xfrm>
                  <a:off x="2363760" y="5799240"/>
                  <a:ext cx="60804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
                <p:cNvSpPr/>
                <p:nvPr/>
              </p:nvSpPr>
              <p:spPr>
                <a:xfrm>
                  <a:off x="2295360" y="5799240"/>
                  <a:ext cx="74448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4" name=""/>
              <p:cNvGrpSpPr/>
              <p:nvPr/>
            </p:nvGrpSpPr>
            <p:grpSpPr>
              <a:xfrm>
                <a:off x="3039840" y="5799240"/>
                <a:ext cx="1758960" cy="597960"/>
                <a:chOff x="3039840" y="5799240"/>
                <a:chExt cx="1758960" cy="597960"/>
              </a:xfrm>
            </p:grpSpPr>
            <p:sp>
              <p:nvSpPr>
                <p:cNvPr id="1085" name=""/>
                <p:cNvSpPr/>
                <p:nvPr/>
              </p:nvSpPr>
              <p:spPr>
                <a:xfrm>
                  <a:off x="3108240" y="5799240"/>
                  <a:ext cx="162252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int-to-Multipoint onl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
                <p:cNvSpPr/>
                <p:nvPr/>
              </p:nvSpPr>
              <p:spPr>
                <a:xfrm>
                  <a:off x="3039840" y="5799240"/>
                  <a:ext cx="175896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7" name=""/>
              <p:cNvGrpSpPr/>
              <p:nvPr/>
            </p:nvGrpSpPr>
            <p:grpSpPr>
              <a:xfrm>
                <a:off x="4798800" y="5799240"/>
                <a:ext cx="2098800" cy="597960"/>
                <a:chOff x="4798800" y="5799240"/>
                <a:chExt cx="2098800" cy="597960"/>
              </a:xfrm>
            </p:grpSpPr>
            <p:sp>
              <p:nvSpPr>
                <p:cNvPr id="1088" name=""/>
                <p:cNvSpPr/>
                <p:nvPr/>
              </p:nvSpPr>
              <p:spPr>
                <a:xfrm>
                  <a:off x="4867200" y="5799240"/>
                  <a:ext cx="196200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int-to-Multipoint &am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int-to-Point (with no Peer-to-Pe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
                <p:cNvSpPr/>
                <p:nvPr/>
              </p:nvSpPr>
              <p:spPr>
                <a:xfrm>
                  <a:off x="4798800" y="5799240"/>
                  <a:ext cx="209880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0" name=""/>
              <p:cNvGrpSpPr/>
              <p:nvPr/>
            </p:nvGrpSpPr>
            <p:grpSpPr>
              <a:xfrm>
                <a:off x="6897600" y="5799240"/>
                <a:ext cx="1793880" cy="597960"/>
                <a:chOff x="6897600" y="5799240"/>
                <a:chExt cx="1793880" cy="597960"/>
              </a:xfrm>
            </p:grpSpPr>
            <p:sp>
              <p:nvSpPr>
                <p:cNvPr id="1091" name=""/>
                <p:cNvSpPr/>
                <p:nvPr/>
              </p:nvSpPr>
              <p:spPr>
                <a:xfrm>
                  <a:off x="6966000" y="5799240"/>
                  <a:ext cx="1657080" cy="59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Point-to-Multipoi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Point-to-Point &am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Peer-to-Pe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
                <p:cNvSpPr/>
                <p:nvPr/>
              </p:nvSpPr>
              <p:spPr>
                <a:xfrm>
                  <a:off x="6897600" y="5799240"/>
                  <a:ext cx="1793880" cy="597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93" name=""/>
            <p:cNvSpPr/>
            <p:nvPr/>
          </p:nvSpPr>
          <p:spPr>
            <a:xfrm>
              <a:off x="449280" y="1447920"/>
              <a:ext cx="82468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205CD758-A0E8-41BB-AFA9-61FFE9FD619D}" type="slidenum">
              <a:t>22</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Pugh Matrix Comparison Values</a:t>
            </a:r>
            <a:br>
              <a:rPr sz="2000"/>
            </a:br>
            <a:r>
              <a:rPr b="1" i="1" lang="en-US" sz="2000" spc="-1" strike="noStrike" u="sng">
                <a:solidFill>
                  <a:srgbClr val="000000"/>
                </a:solidFill>
                <a:uFillTx/>
                <a:latin typeface="Times New Roman"/>
                <a:ea typeface="Times New Roman"/>
              </a:rPr>
              <a:t>MAC Protocol Criteria</a:t>
            </a:r>
            <a:r>
              <a:rPr b="1" i="1" lang="en-US" sz="2000" spc="-1" strike="noStrike" u="sng">
                <a:solidFill>
                  <a:srgbClr val="000000"/>
                </a:solidFill>
                <a:uFillTx/>
                <a:latin typeface="Times New Roman"/>
              </a:rPr>
              <a:t> Criteria Comparison Values (cont.)</a:t>
            </a:r>
            <a:endParaRPr b="0" lang="en-US" sz="2000" spc="-1" strike="noStrike">
              <a:solidFill>
                <a:srgbClr val="000000"/>
              </a:solidFill>
              <a:latin typeface="Times New Roman"/>
            </a:endParaRPr>
          </a:p>
        </p:txBody>
      </p:sp>
      <p:sp>
        <p:nvSpPr>
          <p:cNvPr id="1095" name=""/>
          <p:cNvSpPr/>
          <p:nvPr/>
        </p:nvSpPr>
        <p:spPr>
          <a:xfrm>
            <a:off x="990720" y="5181480"/>
            <a:ext cx="71625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6" name=""/>
          <p:cNvGrpSpPr/>
          <p:nvPr/>
        </p:nvGrpSpPr>
        <p:grpSpPr>
          <a:xfrm>
            <a:off x="449280" y="1447920"/>
            <a:ext cx="8246880" cy="4876560"/>
            <a:chOff x="449280" y="1447920"/>
            <a:chExt cx="8246880" cy="4876560"/>
          </a:xfrm>
        </p:grpSpPr>
        <p:grpSp>
          <p:nvGrpSpPr>
            <p:cNvPr id="1097" name=""/>
            <p:cNvGrpSpPr/>
            <p:nvPr/>
          </p:nvGrpSpPr>
          <p:grpSpPr>
            <a:xfrm>
              <a:off x="453960" y="1450440"/>
              <a:ext cx="8237520" cy="4870800"/>
              <a:chOff x="453960" y="1450440"/>
              <a:chExt cx="8237520" cy="4870800"/>
            </a:xfrm>
          </p:grpSpPr>
          <p:grpSp>
            <p:nvGrpSpPr>
              <p:cNvPr id="1098" name=""/>
              <p:cNvGrpSpPr/>
              <p:nvPr/>
            </p:nvGrpSpPr>
            <p:grpSpPr>
              <a:xfrm>
                <a:off x="453960" y="1450440"/>
                <a:ext cx="2262240" cy="375840"/>
                <a:chOff x="453960" y="1450440"/>
                <a:chExt cx="2262240" cy="375840"/>
              </a:xfrm>
            </p:grpSpPr>
            <p:sp>
              <p:nvSpPr>
                <p:cNvPr id="1099" name=""/>
                <p:cNvSpPr/>
                <p:nvPr/>
              </p:nvSpPr>
              <p:spPr>
                <a:xfrm>
                  <a:off x="453960" y="1450440"/>
                  <a:ext cx="226224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0" name=""/>
                <p:cNvGrpSpPr/>
                <p:nvPr/>
              </p:nvGrpSpPr>
              <p:grpSpPr>
                <a:xfrm>
                  <a:off x="453960" y="1450440"/>
                  <a:ext cx="2262240" cy="375840"/>
                  <a:chOff x="453960" y="1450440"/>
                  <a:chExt cx="2262240" cy="375840"/>
                </a:xfrm>
              </p:grpSpPr>
              <p:sp>
                <p:nvSpPr>
                  <p:cNvPr id="1101" name=""/>
                  <p:cNvSpPr/>
                  <p:nvPr/>
                </p:nvSpPr>
                <p:spPr>
                  <a:xfrm>
                    <a:off x="522360" y="1450440"/>
                    <a:ext cx="212544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
                  <p:cNvSpPr/>
                  <p:nvPr/>
                </p:nvSpPr>
                <p:spPr>
                  <a:xfrm>
                    <a:off x="453960" y="1450440"/>
                    <a:ext cx="226224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03" name=""/>
              <p:cNvGrpSpPr/>
              <p:nvPr/>
            </p:nvGrpSpPr>
            <p:grpSpPr>
              <a:xfrm>
                <a:off x="2716200" y="1450440"/>
                <a:ext cx="765000" cy="375840"/>
                <a:chOff x="2716200" y="1450440"/>
                <a:chExt cx="765000" cy="375840"/>
              </a:xfrm>
            </p:grpSpPr>
            <p:sp>
              <p:nvSpPr>
                <p:cNvPr id="1104" name=""/>
                <p:cNvSpPr/>
                <p:nvPr/>
              </p:nvSpPr>
              <p:spPr>
                <a:xfrm>
                  <a:off x="2716200" y="1450440"/>
                  <a:ext cx="76500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5" name=""/>
                <p:cNvGrpSpPr/>
                <p:nvPr/>
              </p:nvGrpSpPr>
              <p:grpSpPr>
                <a:xfrm>
                  <a:off x="2716200" y="1450440"/>
                  <a:ext cx="765000" cy="375840"/>
                  <a:chOff x="2716200" y="1450440"/>
                  <a:chExt cx="765000" cy="375840"/>
                </a:xfrm>
              </p:grpSpPr>
              <p:sp>
                <p:nvSpPr>
                  <p:cNvPr id="1106" name=""/>
                  <p:cNvSpPr/>
                  <p:nvPr/>
                </p:nvSpPr>
                <p:spPr>
                  <a:xfrm>
                    <a:off x="2784240" y="1450440"/>
                    <a:ext cx="6289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7" name=""/>
                  <p:cNvSpPr/>
                  <p:nvPr/>
                </p:nvSpPr>
                <p:spPr>
                  <a:xfrm>
                    <a:off x="2716200" y="1450440"/>
                    <a:ext cx="7650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08" name=""/>
              <p:cNvGrpSpPr/>
              <p:nvPr/>
            </p:nvGrpSpPr>
            <p:grpSpPr>
              <a:xfrm>
                <a:off x="3481200" y="1450440"/>
                <a:ext cx="1565280" cy="375840"/>
                <a:chOff x="3481200" y="1450440"/>
                <a:chExt cx="1565280" cy="375840"/>
              </a:xfrm>
            </p:grpSpPr>
            <p:sp>
              <p:nvSpPr>
                <p:cNvPr id="1109" name=""/>
                <p:cNvSpPr/>
                <p:nvPr/>
              </p:nvSpPr>
              <p:spPr>
                <a:xfrm>
                  <a:off x="3481200" y="1450440"/>
                  <a:ext cx="15652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0" name=""/>
                <p:cNvGrpSpPr/>
                <p:nvPr/>
              </p:nvGrpSpPr>
              <p:grpSpPr>
                <a:xfrm>
                  <a:off x="3481200" y="1450440"/>
                  <a:ext cx="1565280" cy="375840"/>
                  <a:chOff x="3481200" y="1450440"/>
                  <a:chExt cx="1565280" cy="375840"/>
                </a:xfrm>
              </p:grpSpPr>
              <p:sp>
                <p:nvSpPr>
                  <p:cNvPr id="1111" name=""/>
                  <p:cNvSpPr/>
                  <p:nvPr/>
                </p:nvSpPr>
                <p:spPr>
                  <a:xfrm>
                    <a:off x="3549600" y="1450440"/>
                    <a:ext cx="142884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2" name=""/>
                  <p:cNvSpPr/>
                  <p:nvPr/>
                </p:nvSpPr>
                <p:spPr>
                  <a:xfrm>
                    <a:off x="3481200" y="1450440"/>
                    <a:ext cx="15652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13" name=""/>
              <p:cNvGrpSpPr/>
              <p:nvPr/>
            </p:nvGrpSpPr>
            <p:grpSpPr>
              <a:xfrm>
                <a:off x="5046480" y="1450440"/>
                <a:ext cx="1851120" cy="375840"/>
                <a:chOff x="5046480" y="1450440"/>
                <a:chExt cx="1851120" cy="375840"/>
              </a:xfrm>
            </p:grpSpPr>
            <p:sp>
              <p:nvSpPr>
                <p:cNvPr id="1114" name=""/>
                <p:cNvSpPr/>
                <p:nvPr/>
              </p:nvSpPr>
              <p:spPr>
                <a:xfrm>
                  <a:off x="5046480" y="1450440"/>
                  <a:ext cx="18511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5" name=""/>
                <p:cNvGrpSpPr/>
                <p:nvPr/>
              </p:nvGrpSpPr>
              <p:grpSpPr>
                <a:xfrm>
                  <a:off x="5046480" y="1450440"/>
                  <a:ext cx="1851120" cy="375840"/>
                  <a:chOff x="5046480" y="1450440"/>
                  <a:chExt cx="1851120" cy="375840"/>
                </a:xfrm>
              </p:grpSpPr>
              <p:sp>
                <p:nvSpPr>
                  <p:cNvPr id="1116" name=""/>
                  <p:cNvSpPr/>
                  <p:nvPr/>
                </p:nvSpPr>
                <p:spPr>
                  <a:xfrm>
                    <a:off x="5114880" y="1450440"/>
                    <a:ext cx="17143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rison Valu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5046480" y="1450440"/>
                    <a:ext cx="1851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18" name=""/>
              <p:cNvGrpSpPr/>
              <p:nvPr/>
            </p:nvGrpSpPr>
            <p:grpSpPr>
              <a:xfrm>
                <a:off x="6897600" y="1450440"/>
                <a:ext cx="1793880" cy="375840"/>
                <a:chOff x="6897600" y="1450440"/>
                <a:chExt cx="1793880" cy="375840"/>
              </a:xfrm>
            </p:grpSpPr>
            <p:sp>
              <p:nvSpPr>
                <p:cNvPr id="1119" name=""/>
                <p:cNvSpPr/>
                <p:nvPr/>
              </p:nvSpPr>
              <p:spPr>
                <a:xfrm>
                  <a:off x="6897600" y="1450440"/>
                  <a:ext cx="17938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0" name=""/>
                <p:cNvGrpSpPr/>
                <p:nvPr/>
              </p:nvGrpSpPr>
              <p:grpSpPr>
                <a:xfrm>
                  <a:off x="6897600" y="1450440"/>
                  <a:ext cx="1793880" cy="375840"/>
                  <a:chOff x="6897600" y="1450440"/>
                  <a:chExt cx="1793880" cy="375840"/>
                </a:xfrm>
              </p:grpSpPr>
              <p:sp>
                <p:nvSpPr>
                  <p:cNvPr id="1121" name=""/>
                  <p:cNvSpPr/>
                  <p:nvPr/>
                </p:nvSpPr>
                <p:spPr>
                  <a:xfrm>
                    <a:off x="6966000" y="1450440"/>
                    <a:ext cx="16570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2" name=""/>
                  <p:cNvSpPr/>
                  <p:nvPr/>
                </p:nvSpPr>
                <p:spPr>
                  <a:xfrm>
                    <a:off x="6897600" y="1450440"/>
                    <a:ext cx="17938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23" name=""/>
              <p:cNvGrpSpPr/>
              <p:nvPr/>
            </p:nvGrpSpPr>
            <p:grpSpPr>
              <a:xfrm>
                <a:off x="453960" y="1826280"/>
                <a:ext cx="2262240" cy="375840"/>
                <a:chOff x="453960" y="1826280"/>
                <a:chExt cx="2262240" cy="375840"/>
              </a:xfrm>
            </p:grpSpPr>
            <p:sp>
              <p:nvSpPr>
                <p:cNvPr id="1124" name=""/>
                <p:cNvSpPr/>
                <p:nvPr/>
              </p:nvSpPr>
              <p:spPr>
                <a:xfrm>
                  <a:off x="453960" y="1826280"/>
                  <a:ext cx="226224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5" name=""/>
                <p:cNvGrpSpPr/>
                <p:nvPr/>
              </p:nvGrpSpPr>
              <p:grpSpPr>
                <a:xfrm>
                  <a:off x="453960" y="1826280"/>
                  <a:ext cx="2262240" cy="375840"/>
                  <a:chOff x="453960" y="1826280"/>
                  <a:chExt cx="2262240" cy="375840"/>
                </a:xfrm>
              </p:grpSpPr>
              <p:sp>
                <p:nvSpPr>
                  <p:cNvPr id="1126" name=""/>
                  <p:cNvSpPr/>
                  <p:nvPr/>
                </p:nvSpPr>
                <p:spPr>
                  <a:xfrm>
                    <a:off x="522360" y="1826280"/>
                    <a:ext cx="212544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7" name=""/>
                  <p:cNvSpPr/>
                  <p:nvPr/>
                </p:nvSpPr>
                <p:spPr>
                  <a:xfrm>
                    <a:off x="453960" y="1826280"/>
                    <a:ext cx="226224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28" name=""/>
              <p:cNvGrpSpPr/>
              <p:nvPr/>
            </p:nvGrpSpPr>
            <p:grpSpPr>
              <a:xfrm>
                <a:off x="2716200" y="1826280"/>
                <a:ext cx="765000" cy="375840"/>
                <a:chOff x="2716200" y="1826280"/>
                <a:chExt cx="765000" cy="375840"/>
              </a:xfrm>
            </p:grpSpPr>
            <p:sp>
              <p:nvSpPr>
                <p:cNvPr id="1129" name=""/>
                <p:cNvSpPr/>
                <p:nvPr/>
              </p:nvSpPr>
              <p:spPr>
                <a:xfrm>
                  <a:off x="2716200" y="1826280"/>
                  <a:ext cx="76500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0" name=""/>
                <p:cNvGrpSpPr/>
                <p:nvPr/>
              </p:nvGrpSpPr>
              <p:grpSpPr>
                <a:xfrm>
                  <a:off x="2716200" y="1826280"/>
                  <a:ext cx="765000" cy="375840"/>
                  <a:chOff x="2716200" y="1826280"/>
                  <a:chExt cx="765000" cy="375840"/>
                </a:xfrm>
              </p:grpSpPr>
              <p:sp>
                <p:nvSpPr>
                  <p:cNvPr id="1131" name=""/>
                  <p:cNvSpPr/>
                  <p:nvPr/>
                </p:nvSpPr>
                <p:spPr>
                  <a:xfrm>
                    <a:off x="2784240" y="1826280"/>
                    <a:ext cx="6289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
                  <p:cNvSpPr/>
                  <p:nvPr/>
                </p:nvSpPr>
                <p:spPr>
                  <a:xfrm>
                    <a:off x="2716200" y="1826280"/>
                    <a:ext cx="7650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33" name=""/>
              <p:cNvGrpSpPr/>
              <p:nvPr/>
            </p:nvGrpSpPr>
            <p:grpSpPr>
              <a:xfrm>
                <a:off x="3481200" y="1826280"/>
                <a:ext cx="1565280" cy="375840"/>
                <a:chOff x="3481200" y="1826280"/>
                <a:chExt cx="1565280" cy="375840"/>
              </a:xfrm>
            </p:grpSpPr>
            <p:sp>
              <p:nvSpPr>
                <p:cNvPr id="1134" name=""/>
                <p:cNvSpPr/>
                <p:nvPr/>
              </p:nvSpPr>
              <p:spPr>
                <a:xfrm>
                  <a:off x="3481200" y="1826280"/>
                  <a:ext cx="15652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5" name=""/>
                <p:cNvGrpSpPr/>
                <p:nvPr/>
              </p:nvGrpSpPr>
              <p:grpSpPr>
                <a:xfrm>
                  <a:off x="3481200" y="1826280"/>
                  <a:ext cx="1565280" cy="375840"/>
                  <a:chOff x="3481200" y="1826280"/>
                  <a:chExt cx="1565280" cy="375840"/>
                </a:xfrm>
              </p:grpSpPr>
              <p:sp>
                <p:nvSpPr>
                  <p:cNvPr id="1136" name=""/>
                  <p:cNvSpPr/>
                  <p:nvPr/>
                </p:nvSpPr>
                <p:spPr>
                  <a:xfrm>
                    <a:off x="3549600" y="1826280"/>
                    <a:ext cx="142884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7" name=""/>
                  <p:cNvSpPr/>
                  <p:nvPr/>
                </p:nvSpPr>
                <p:spPr>
                  <a:xfrm>
                    <a:off x="3481200" y="1826280"/>
                    <a:ext cx="15652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38" name=""/>
              <p:cNvGrpSpPr/>
              <p:nvPr/>
            </p:nvGrpSpPr>
            <p:grpSpPr>
              <a:xfrm>
                <a:off x="5046480" y="1826280"/>
                <a:ext cx="1851120" cy="375840"/>
                <a:chOff x="5046480" y="1826280"/>
                <a:chExt cx="1851120" cy="375840"/>
              </a:xfrm>
            </p:grpSpPr>
            <p:sp>
              <p:nvSpPr>
                <p:cNvPr id="1139" name=""/>
                <p:cNvSpPr/>
                <p:nvPr/>
              </p:nvSpPr>
              <p:spPr>
                <a:xfrm>
                  <a:off x="5046480" y="1826280"/>
                  <a:ext cx="18511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0" name=""/>
                <p:cNvGrpSpPr/>
                <p:nvPr/>
              </p:nvGrpSpPr>
              <p:grpSpPr>
                <a:xfrm>
                  <a:off x="5046480" y="1826280"/>
                  <a:ext cx="1851120" cy="375840"/>
                  <a:chOff x="5046480" y="1826280"/>
                  <a:chExt cx="1851120" cy="375840"/>
                </a:xfrm>
              </p:grpSpPr>
              <p:sp>
                <p:nvSpPr>
                  <p:cNvPr id="1141" name=""/>
                  <p:cNvSpPr/>
                  <p:nvPr/>
                </p:nvSpPr>
                <p:spPr>
                  <a:xfrm>
                    <a:off x="5114880" y="1826280"/>
                    <a:ext cx="171432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2" name=""/>
                  <p:cNvSpPr/>
                  <p:nvPr/>
                </p:nvSpPr>
                <p:spPr>
                  <a:xfrm>
                    <a:off x="5046480" y="1826280"/>
                    <a:ext cx="1851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43" name=""/>
              <p:cNvGrpSpPr/>
              <p:nvPr/>
            </p:nvGrpSpPr>
            <p:grpSpPr>
              <a:xfrm>
                <a:off x="6897600" y="1826280"/>
                <a:ext cx="1793880" cy="375840"/>
                <a:chOff x="6897600" y="1826280"/>
                <a:chExt cx="1793880" cy="375840"/>
              </a:xfrm>
            </p:grpSpPr>
            <p:sp>
              <p:nvSpPr>
                <p:cNvPr id="1144" name=""/>
                <p:cNvSpPr/>
                <p:nvPr/>
              </p:nvSpPr>
              <p:spPr>
                <a:xfrm>
                  <a:off x="6897600" y="1826280"/>
                  <a:ext cx="17938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5" name=""/>
                <p:cNvGrpSpPr/>
                <p:nvPr/>
              </p:nvGrpSpPr>
              <p:grpSpPr>
                <a:xfrm>
                  <a:off x="6897600" y="1826280"/>
                  <a:ext cx="1793880" cy="375840"/>
                  <a:chOff x="6897600" y="1826280"/>
                  <a:chExt cx="1793880" cy="375840"/>
                </a:xfrm>
              </p:grpSpPr>
              <p:sp>
                <p:nvSpPr>
                  <p:cNvPr id="1146" name=""/>
                  <p:cNvSpPr/>
                  <p:nvPr/>
                </p:nvSpPr>
                <p:spPr>
                  <a:xfrm>
                    <a:off x="6966000" y="1826280"/>
                    <a:ext cx="1657080" cy="37584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
                  <p:cNvSpPr/>
                  <p:nvPr/>
                </p:nvSpPr>
                <p:spPr>
                  <a:xfrm>
                    <a:off x="6897600" y="1826280"/>
                    <a:ext cx="17938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48" name=""/>
              <p:cNvGrpSpPr/>
              <p:nvPr/>
            </p:nvGrpSpPr>
            <p:grpSpPr>
              <a:xfrm>
                <a:off x="453960" y="2202480"/>
                <a:ext cx="2262240" cy="375840"/>
                <a:chOff x="453960" y="2202480"/>
                <a:chExt cx="2262240" cy="375840"/>
              </a:xfrm>
            </p:grpSpPr>
            <p:sp>
              <p:nvSpPr>
                <p:cNvPr id="1149" name=""/>
                <p:cNvSpPr/>
                <p:nvPr/>
              </p:nvSpPr>
              <p:spPr>
                <a:xfrm>
                  <a:off x="522360" y="2202480"/>
                  <a:ext cx="212544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x. # Devic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453960" y="2202480"/>
                  <a:ext cx="226224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2716200" y="2202480"/>
                <a:ext cx="765000" cy="375840"/>
                <a:chOff x="2716200" y="2202480"/>
                <a:chExt cx="765000" cy="375840"/>
              </a:xfrm>
            </p:grpSpPr>
            <p:sp>
              <p:nvSpPr>
                <p:cNvPr id="1152" name=""/>
                <p:cNvSpPr/>
                <p:nvPr/>
              </p:nvSpPr>
              <p:spPr>
                <a:xfrm>
                  <a:off x="2784240" y="2202480"/>
                  <a:ext cx="6289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
                <p:cNvSpPr/>
                <p:nvPr/>
              </p:nvSpPr>
              <p:spPr>
                <a:xfrm>
                  <a:off x="2716200" y="2202480"/>
                  <a:ext cx="7650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3481200" y="2202480"/>
                <a:ext cx="1565280" cy="375840"/>
                <a:chOff x="3481200" y="2202480"/>
                <a:chExt cx="1565280" cy="375840"/>
              </a:xfrm>
            </p:grpSpPr>
            <p:sp>
              <p:nvSpPr>
                <p:cNvPr id="1155" name=""/>
                <p:cNvSpPr/>
                <p:nvPr/>
              </p:nvSpPr>
              <p:spPr>
                <a:xfrm>
                  <a:off x="3549600" y="2202480"/>
                  <a:ext cx="142884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
                <p:cNvSpPr/>
                <p:nvPr/>
              </p:nvSpPr>
              <p:spPr>
                <a:xfrm>
                  <a:off x="3481200" y="2202480"/>
                  <a:ext cx="15652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5046480" y="2202480"/>
                <a:ext cx="1851120" cy="375840"/>
                <a:chOff x="5046480" y="2202480"/>
                <a:chExt cx="1851120" cy="375840"/>
              </a:xfrm>
            </p:grpSpPr>
            <p:sp>
              <p:nvSpPr>
                <p:cNvPr id="1158" name=""/>
                <p:cNvSpPr/>
                <p:nvPr/>
              </p:nvSpPr>
              <p:spPr>
                <a:xfrm>
                  <a:off x="5114880" y="2202480"/>
                  <a:ext cx="17143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
                <p:cNvSpPr/>
                <p:nvPr/>
              </p:nvSpPr>
              <p:spPr>
                <a:xfrm>
                  <a:off x="5046480" y="2202480"/>
                  <a:ext cx="1851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6897600" y="2202480"/>
                <a:ext cx="1793880" cy="375840"/>
                <a:chOff x="6897600" y="2202480"/>
                <a:chExt cx="1793880" cy="375840"/>
              </a:xfrm>
            </p:grpSpPr>
            <p:sp>
              <p:nvSpPr>
                <p:cNvPr id="1161" name=""/>
                <p:cNvSpPr/>
                <p:nvPr/>
              </p:nvSpPr>
              <p:spPr>
                <a:xfrm>
                  <a:off x="6966000" y="2202480"/>
                  <a:ext cx="1657080" cy="375840"/>
                </a:xfrm>
                <a:prstGeom prst="rect">
                  <a:avLst/>
                </a:prstGeom>
                <a:noFill/>
                <a:ln w="0">
                  <a:noFill/>
                </a:ln>
              </p:spPr>
              <p:style>
                <a:lnRef idx="0"/>
                <a:fillRef idx="0"/>
                <a:effectRef idx="0"/>
                <a:fontRef idx="minor"/>
              </p:style>
              <p:txBody>
                <a:bodyPr lIns="90000" rIns="90000" tIns="46800" bIns="46800" anchor="t">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255 with ext. possi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2" name=""/>
                <p:cNvSpPr/>
                <p:nvPr/>
              </p:nvSpPr>
              <p:spPr>
                <a:xfrm>
                  <a:off x="6897600" y="2202480"/>
                  <a:ext cx="17938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453960" y="2578680"/>
                <a:ext cx="2262240" cy="375840"/>
                <a:chOff x="453960" y="2578680"/>
                <a:chExt cx="2262240" cy="375840"/>
              </a:xfrm>
            </p:grpSpPr>
            <p:sp>
              <p:nvSpPr>
                <p:cNvPr id="1164" name=""/>
                <p:cNvSpPr/>
                <p:nvPr/>
              </p:nvSpPr>
              <p:spPr>
                <a:xfrm>
                  <a:off x="522360" y="2578680"/>
                  <a:ext cx="212544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Hoc Netwo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5" name=""/>
                <p:cNvSpPr/>
                <p:nvPr/>
              </p:nvSpPr>
              <p:spPr>
                <a:xfrm>
                  <a:off x="453960" y="2578680"/>
                  <a:ext cx="226224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2716200" y="2578680"/>
                <a:ext cx="765000" cy="375840"/>
                <a:chOff x="2716200" y="2578680"/>
                <a:chExt cx="765000" cy="375840"/>
              </a:xfrm>
            </p:grpSpPr>
            <p:sp>
              <p:nvSpPr>
                <p:cNvPr id="1167" name=""/>
                <p:cNvSpPr/>
                <p:nvPr/>
              </p:nvSpPr>
              <p:spPr>
                <a:xfrm>
                  <a:off x="2784240" y="2578680"/>
                  <a:ext cx="6289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8" name=""/>
                <p:cNvSpPr/>
                <p:nvPr/>
              </p:nvSpPr>
              <p:spPr>
                <a:xfrm>
                  <a:off x="2716200" y="2578680"/>
                  <a:ext cx="7650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3481200" y="2578680"/>
                <a:ext cx="1565280" cy="375840"/>
                <a:chOff x="3481200" y="2578680"/>
                <a:chExt cx="1565280" cy="375840"/>
              </a:xfrm>
            </p:grpSpPr>
            <p:sp>
              <p:nvSpPr>
                <p:cNvPr id="1170" name=""/>
                <p:cNvSpPr/>
                <p:nvPr/>
              </p:nvSpPr>
              <p:spPr>
                <a:xfrm>
                  <a:off x="3549600" y="2578680"/>
                  <a:ext cx="142884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1" name=""/>
                <p:cNvSpPr/>
                <p:nvPr/>
              </p:nvSpPr>
              <p:spPr>
                <a:xfrm>
                  <a:off x="3481200" y="2578680"/>
                  <a:ext cx="15652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5046480" y="2578680"/>
                <a:ext cx="1851120" cy="375840"/>
                <a:chOff x="5046480" y="2578680"/>
                <a:chExt cx="1851120" cy="375840"/>
              </a:xfrm>
            </p:grpSpPr>
            <p:sp>
              <p:nvSpPr>
                <p:cNvPr id="1173" name=""/>
                <p:cNvSpPr/>
                <p:nvPr/>
              </p:nvSpPr>
              <p:spPr>
                <a:xfrm>
                  <a:off x="5114880" y="2578680"/>
                  <a:ext cx="17143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4" name=""/>
                <p:cNvSpPr/>
                <p:nvPr/>
              </p:nvSpPr>
              <p:spPr>
                <a:xfrm>
                  <a:off x="5046480" y="2578680"/>
                  <a:ext cx="1851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6897600" y="2578680"/>
                <a:ext cx="1793880" cy="375840"/>
                <a:chOff x="6897600" y="2578680"/>
                <a:chExt cx="1793880" cy="375840"/>
              </a:xfrm>
            </p:grpSpPr>
            <p:sp>
              <p:nvSpPr>
                <p:cNvPr id="1176" name=""/>
                <p:cNvSpPr/>
                <p:nvPr/>
              </p:nvSpPr>
              <p:spPr>
                <a:xfrm>
                  <a:off x="6966000" y="2578680"/>
                  <a:ext cx="165708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7" name=""/>
                <p:cNvSpPr/>
                <p:nvPr/>
              </p:nvSpPr>
              <p:spPr>
                <a:xfrm>
                  <a:off x="6897600" y="2578680"/>
                  <a:ext cx="17938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453960" y="2954880"/>
                <a:ext cx="2262240" cy="376200"/>
                <a:chOff x="453960" y="2954880"/>
                <a:chExt cx="2262240" cy="376200"/>
              </a:xfrm>
            </p:grpSpPr>
            <p:sp>
              <p:nvSpPr>
                <p:cNvPr id="1179" name=""/>
                <p:cNvSpPr/>
                <p:nvPr/>
              </p:nvSpPr>
              <p:spPr>
                <a:xfrm>
                  <a:off x="522360" y="2954880"/>
                  <a:ext cx="2125440" cy="37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cess to a Gatew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0" name=""/>
                <p:cNvSpPr/>
                <p:nvPr/>
              </p:nvSpPr>
              <p:spPr>
                <a:xfrm>
                  <a:off x="453960" y="2954880"/>
                  <a:ext cx="2262240" cy="37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2716200" y="2954880"/>
                <a:ext cx="765000" cy="376200"/>
                <a:chOff x="2716200" y="2954880"/>
                <a:chExt cx="765000" cy="376200"/>
              </a:xfrm>
            </p:grpSpPr>
            <p:sp>
              <p:nvSpPr>
                <p:cNvPr id="1182" name=""/>
                <p:cNvSpPr/>
                <p:nvPr/>
              </p:nvSpPr>
              <p:spPr>
                <a:xfrm>
                  <a:off x="2784240" y="2954880"/>
                  <a:ext cx="628920" cy="37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3" name=""/>
                <p:cNvSpPr/>
                <p:nvPr/>
              </p:nvSpPr>
              <p:spPr>
                <a:xfrm>
                  <a:off x="2716200" y="2954880"/>
                  <a:ext cx="765000" cy="37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3481200" y="2954880"/>
                <a:ext cx="1565280" cy="376200"/>
                <a:chOff x="3481200" y="2954880"/>
                <a:chExt cx="1565280" cy="376200"/>
              </a:xfrm>
            </p:grpSpPr>
            <p:sp>
              <p:nvSpPr>
                <p:cNvPr id="1185" name=""/>
                <p:cNvSpPr/>
                <p:nvPr/>
              </p:nvSpPr>
              <p:spPr>
                <a:xfrm>
                  <a:off x="3549600" y="2954880"/>
                  <a:ext cx="1428840" cy="37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6" name=""/>
                <p:cNvSpPr/>
                <p:nvPr/>
              </p:nvSpPr>
              <p:spPr>
                <a:xfrm>
                  <a:off x="3481200" y="2954880"/>
                  <a:ext cx="1565280" cy="37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5046480" y="2954880"/>
                <a:ext cx="1851120" cy="376200"/>
                <a:chOff x="5046480" y="2954880"/>
                <a:chExt cx="1851120" cy="376200"/>
              </a:xfrm>
            </p:grpSpPr>
            <p:sp>
              <p:nvSpPr>
                <p:cNvPr id="1188" name=""/>
                <p:cNvSpPr/>
                <p:nvPr/>
              </p:nvSpPr>
              <p:spPr>
                <a:xfrm>
                  <a:off x="5114880" y="2954880"/>
                  <a:ext cx="1714320" cy="37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9" name=""/>
                <p:cNvSpPr/>
                <p:nvPr/>
              </p:nvSpPr>
              <p:spPr>
                <a:xfrm>
                  <a:off x="5046480" y="2954880"/>
                  <a:ext cx="1851120" cy="37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6897600" y="2954880"/>
                <a:ext cx="1793880" cy="376200"/>
                <a:chOff x="6897600" y="2954880"/>
                <a:chExt cx="1793880" cy="376200"/>
              </a:xfrm>
            </p:grpSpPr>
            <p:sp>
              <p:nvSpPr>
                <p:cNvPr id="1191" name=""/>
                <p:cNvSpPr/>
                <p:nvPr/>
              </p:nvSpPr>
              <p:spPr>
                <a:xfrm>
                  <a:off x="6966000" y="2954880"/>
                  <a:ext cx="1657080" cy="37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2" name=""/>
                <p:cNvSpPr/>
                <p:nvPr/>
              </p:nvSpPr>
              <p:spPr>
                <a:xfrm>
                  <a:off x="6897600" y="2954880"/>
                  <a:ext cx="1793880" cy="37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453960" y="3331440"/>
                <a:ext cx="2262240" cy="375840"/>
                <a:chOff x="453960" y="3331440"/>
                <a:chExt cx="2262240" cy="375840"/>
              </a:xfrm>
            </p:grpSpPr>
            <p:sp>
              <p:nvSpPr>
                <p:cNvPr id="1194" name=""/>
                <p:cNvSpPr/>
                <p:nvPr/>
              </p:nvSpPr>
              <p:spPr>
                <a:xfrm>
                  <a:off x="522360" y="3331440"/>
                  <a:ext cx="212544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ster Redundanc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5" name=""/>
                <p:cNvSpPr/>
                <p:nvPr/>
              </p:nvSpPr>
              <p:spPr>
                <a:xfrm>
                  <a:off x="453960" y="3331440"/>
                  <a:ext cx="226224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2716200" y="3331440"/>
                <a:ext cx="765000" cy="375840"/>
                <a:chOff x="2716200" y="3331440"/>
                <a:chExt cx="765000" cy="375840"/>
              </a:xfrm>
            </p:grpSpPr>
            <p:sp>
              <p:nvSpPr>
                <p:cNvPr id="1197" name=""/>
                <p:cNvSpPr/>
                <p:nvPr/>
              </p:nvSpPr>
              <p:spPr>
                <a:xfrm>
                  <a:off x="2784240" y="3331440"/>
                  <a:ext cx="6289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8" name=""/>
                <p:cNvSpPr/>
                <p:nvPr/>
              </p:nvSpPr>
              <p:spPr>
                <a:xfrm>
                  <a:off x="2716200" y="3331440"/>
                  <a:ext cx="7650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3481200" y="3331440"/>
                <a:ext cx="1565280" cy="375840"/>
                <a:chOff x="3481200" y="3331440"/>
                <a:chExt cx="1565280" cy="375840"/>
              </a:xfrm>
            </p:grpSpPr>
            <p:sp>
              <p:nvSpPr>
                <p:cNvPr id="1200" name=""/>
                <p:cNvSpPr/>
                <p:nvPr/>
              </p:nvSpPr>
              <p:spPr>
                <a:xfrm>
                  <a:off x="3549600" y="3331440"/>
                  <a:ext cx="142884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1" name=""/>
                <p:cNvSpPr/>
                <p:nvPr/>
              </p:nvSpPr>
              <p:spPr>
                <a:xfrm>
                  <a:off x="3481200" y="3331440"/>
                  <a:ext cx="15652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5046480" y="3331440"/>
                <a:ext cx="1851120" cy="375840"/>
                <a:chOff x="5046480" y="3331440"/>
                <a:chExt cx="1851120" cy="375840"/>
              </a:xfrm>
            </p:grpSpPr>
            <p:sp>
              <p:nvSpPr>
                <p:cNvPr id="1203" name=""/>
                <p:cNvSpPr/>
                <p:nvPr/>
              </p:nvSpPr>
              <p:spPr>
                <a:xfrm>
                  <a:off x="5114880" y="3331440"/>
                  <a:ext cx="17143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4" name=""/>
                <p:cNvSpPr/>
                <p:nvPr/>
              </p:nvSpPr>
              <p:spPr>
                <a:xfrm>
                  <a:off x="5046480" y="3331440"/>
                  <a:ext cx="1851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6897600" y="3331440"/>
                <a:ext cx="1793880" cy="375840"/>
                <a:chOff x="6897600" y="3331440"/>
                <a:chExt cx="1793880" cy="375840"/>
              </a:xfrm>
            </p:grpSpPr>
            <p:sp>
              <p:nvSpPr>
                <p:cNvPr id="1206" name=""/>
                <p:cNvSpPr/>
                <p:nvPr/>
              </p:nvSpPr>
              <p:spPr>
                <a:xfrm>
                  <a:off x="6966000" y="3331440"/>
                  <a:ext cx="165708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7" name=""/>
                <p:cNvSpPr/>
                <p:nvPr/>
              </p:nvSpPr>
              <p:spPr>
                <a:xfrm>
                  <a:off x="6897600" y="3331440"/>
                  <a:ext cx="17938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453960" y="3707640"/>
                <a:ext cx="2262240" cy="375840"/>
                <a:chOff x="453960" y="3707640"/>
                <a:chExt cx="2262240" cy="375840"/>
              </a:xfrm>
            </p:grpSpPr>
            <p:sp>
              <p:nvSpPr>
                <p:cNvPr id="1209" name=""/>
                <p:cNvSpPr/>
                <p:nvPr/>
              </p:nvSpPr>
              <p:spPr>
                <a:xfrm>
                  <a:off x="522360" y="3707640"/>
                  <a:ext cx="212544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ss of Connec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
                <p:cNvSpPr/>
                <p:nvPr/>
              </p:nvSpPr>
              <p:spPr>
                <a:xfrm>
                  <a:off x="453960" y="3707640"/>
                  <a:ext cx="226224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2716200" y="3707640"/>
                <a:ext cx="765000" cy="375840"/>
                <a:chOff x="2716200" y="3707640"/>
                <a:chExt cx="765000" cy="375840"/>
              </a:xfrm>
            </p:grpSpPr>
            <p:sp>
              <p:nvSpPr>
                <p:cNvPr id="1212" name=""/>
                <p:cNvSpPr/>
                <p:nvPr/>
              </p:nvSpPr>
              <p:spPr>
                <a:xfrm>
                  <a:off x="2784240" y="3707640"/>
                  <a:ext cx="6289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3" name=""/>
                <p:cNvSpPr/>
                <p:nvPr/>
              </p:nvSpPr>
              <p:spPr>
                <a:xfrm>
                  <a:off x="2716200" y="3707640"/>
                  <a:ext cx="7650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3481200" y="3707640"/>
                <a:ext cx="1565280" cy="375840"/>
                <a:chOff x="3481200" y="3707640"/>
                <a:chExt cx="1565280" cy="375840"/>
              </a:xfrm>
            </p:grpSpPr>
            <p:sp>
              <p:nvSpPr>
                <p:cNvPr id="1215" name=""/>
                <p:cNvSpPr/>
                <p:nvPr/>
              </p:nvSpPr>
              <p:spPr>
                <a:xfrm>
                  <a:off x="3549600" y="3707640"/>
                  <a:ext cx="142884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L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6" name=""/>
                <p:cNvSpPr/>
                <p:nvPr/>
              </p:nvSpPr>
              <p:spPr>
                <a:xfrm>
                  <a:off x="3481200" y="3707640"/>
                  <a:ext cx="15652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5046480" y="3707640"/>
                <a:ext cx="1851120" cy="375840"/>
                <a:chOff x="5046480" y="3707640"/>
                <a:chExt cx="1851120" cy="375840"/>
              </a:xfrm>
            </p:grpSpPr>
            <p:sp>
              <p:nvSpPr>
                <p:cNvPr id="1218" name=""/>
                <p:cNvSpPr/>
                <p:nvPr/>
              </p:nvSpPr>
              <p:spPr>
                <a:xfrm>
                  <a:off x="5114880" y="3707640"/>
                  <a:ext cx="17143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ea typeface="Times New Roman"/>
                    </a:rPr>
                    <a:t>TR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9" name=""/>
                <p:cNvSpPr/>
                <p:nvPr/>
              </p:nvSpPr>
              <p:spPr>
                <a:xfrm>
                  <a:off x="5046480" y="3707640"/>
                  <a:ext cx="1851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0" name=""/>
              <p:cNvGrpSpPr/>
              <p:nvPr/>
            </p:nvGrpSpPr>
            <p:grpSpPr>
              <a:xfrm>
                <a:off x="6897600" y="3707640"/>
                <a:ext cx="1793880" cy="375840"/>
                <a:chOff x="6897600" y="3707640"/>
                <a:chExt cx="1793880" cy="375840"/>
              </a:xfrm>
            </p:grpSpPr>
            <p:sp>
              <p:nvSpPr>
                <p:cNvPr id="1221" name=""/>
                <p:cNvSpPr/>
                <p:nvPr/>
              </p:nvSpPr>
              <p:spPr>
                <a:xfrm>
                  <a:off x="6966000" y="3707640"/>
                  <a:ext cx="165708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2" name=""/>
                <p:cNvSpPr/>
                <p:nvPr/>
              </p:nvSpPr>
              <p:spPr>
                <a:xfrm>
                  <a:off x="6897600" y="3707640"/>
                  <a:ext cx="17938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3" name=""/>
              <p:cNvGrpSpPr/>
              <p:nvPr/>
            </p:nvGrpSpPr>
            <p:grpSpPr>
              <a:xfrm>
                <a:off x="453960" y="4083840"/>
                <a:ext cx="2262240" cy="483480"/>
                <a:chOff x="453960" y="4083840"/>
                <a:chExt cx="2262240" cy="483480"/>
              </a:xfrm>
            </p:grpSpPr>
            <p:sp>
              <p:nvSpPr>
                <p:cNvPr id="1224" name=""/>
                <p:cNvSpPr/>
                <p:nvPr/>
              </p:nvSpPr>
              <p:spPr>
                <a:xfrm>
                  <a:off x="522360" y="4083840"/>
                  <a:ext cx="212544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Management Typ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5" name=""/>
                <p:cNvSpPr/>
                <p:nvPr/>
              </p:nvSpPr>
              <p:spPr>
                <a:xfrm>
                  <a:off x="453960" y="4083840"/>
                  <a:ext cx="226224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6" name=""/>
              <p:cNvGrpSpPr/>
              <p:nvPr/>
            </p:nvGrpSpPr>
            <p:grpSpPr>
              <a:xfrm>
                <a:off x="2716200" y="4083840"/>
                <a:ext cx="765000" cy="483480"/>
                <a:chOff x="2716200" y="4083840"/>
                <a:chExt cx="765000" cy="483480"/>
              </a:xfrm>
            </p:grpSpPr>
            <p:sp>
              <p:nvSpPr>
                <p:cNvPr id="1227" name=""/>
                <p:cNvSpPr/>
                <p:nvPr/>
              </p:nvSpPr>
              <p:spPr>
                <a:xfrm>
                  <a:off x="2784240" y="4083840"/>
                  <a:ext cx="62892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8" name=""/>
                <p:cNvSpPr/>
                <p:nvPr/>
              </p:nvSpPr>
              <p:spPr>
                <a:xfrm>
                  <a:off x="2716200" y="4083840"/>
                  <a:ext cx="76500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9" name=""/>
              <p:cNvGrpSpPr/>
              <p:nvPr/>
            </p:nvGrpSpPr>
            <p:grpSpPr>
              <a:xfrm>
                <a:off x="3481200" y="4083840"/>
                <a:ext cx="1565280" cy="483480"/>
                <a:chOff x="3481200" y="4083840"/>
                <a:chExt cx="1565280" cy="483480"/>
              </a:xfrm>
            </p:grpSpPr>
            <p:sp>
              <p:nvSpPr>
                <p:cNvPr id="1230" name=""/>
                <p:cNvSpPr/>
                <p:nvPr/>
              </p:nvSpPr>
              <p:spPr>
                <a:xfrm>
                  <a:off x="3549600" y="4083840"/>
                  <a:ext cx="142884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es not provide power manage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1" name=""/>
                <p:cNvSpPr/>
                <p:nvPr/>
              </p:nvSpPr>
              <p:spPr>
                <a:xfrm>
                  <a:off x="3481200" y="4083840"/>
                  <a:ext cx="156528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2" name=""/>
              <p:cNvGrpSpPr/>
              <p:nvPr/>
            </p:nvGrpSpPr>
            <p:grpSpPr>
              <a:xfrm>
                <a:off x="5046480" y="4083840"/>
                <a:ext cx="1851120" cy="483480"/>
                <a:chOff x="5046480" y="4083840"/>
                <a:chExt cx="1851120" cy="483480"/>
              </a:xfrm>
            </p:grpSpPr>
            <p:sp>
              <p:nvSpPr>
                <p:cNvPr id="1233" name=""/>
                <p:cNvSpPr/>
                <p:nvPr/>
              </p:nvSpPr>
              <p:spPr>
                <a:xfrm>
                  <a:off x="5114880" y="4083840"/>
                  <a:ext cx="171432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Provides power savings mechanis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4" name=""/>
                <p:cNvSpPr/>
                <p:nvPr/>
              </p:nvSpPr>
              <p:spPr>
                <a:xfrm>
                  <a:off x="5046480" y="4083840"/>
                  <a:ext cx="185112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
              <p:cNvGrpSpPr/>
              <p:nvPr/>
            </p:nvGrpSpPr>
            <p:grpSpPr>
              <a:xfrm>
                <a:off x="6897600" y="4083840"/>
                <a:ext cx="1793880" cy="483480"/>
                <a:chOff x="6897600" y="4083840"/>
                <a:chExt cx="1793880" cy="483480"/>
              </a:xfrm>
            </p:grpSpPr>
            <p:sp>
              <p:nvSpPr>
                <p:cNvPr id="1236" name=""/>
                <p:cNvSpPr/>
                <p:nvPr/>
              </p:nvSpPr>
              <p:spPr>
                <a:xfrm>
                  <a:off x="6966000" y="4083840"/>
                  <a:ext cx="1657080" cy="48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s power harvest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7" name=""/>
                <p:cNvSpPr/>
                <p:nvPr/>
              </p:nvSpPr>
              <p:spPr>
                <a:xfrm>
                  <a:off x="6897600" y="4083840"/>
                  <a:ext cx="1793880" cy="48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8" name=""/>
              <p:cNvGrpSpPr/>
              <p:nvPr/>
            </p:nvGrpSpPr>
            <p:grpSpPr>
              <a:xfrm>
                <a:off x="453960" y="4567320"/>
                <a:ext cx="2262240" cy="786600"/>
                <a:chOff x="453960" y="4567320"/>
                <a:chExt cx="2262240" cy="786600"/>
              </a:xfrm>
            </p:grpSpPr>
            <p:sp>
              <p:nvSpPr>
                <p:cNvPr id="1239" name=""/>
                <p:cNvSpPr/>
                <p:nvPr/>
              </p:nvSpPr>
              <p:spPr>
                <a:xfrm>
                  <a:off x="522360" y="4567320"/>
                  <a:ext cx="2125440" cy="78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 Consumption of MAC controller (the peak power of the MAC combined with an appropriate PH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0" name=""/>
                <p:cNvSpPr/>
                <p:nvPr/>
              </p:nvSpPr>
              <p:spPr>
                <a:xfrm>
                  <a:off x="453960" y="4567320"/>
                  <a:ext cx="2262240" cy="78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1" name=""/>
              <p:cNvGrpSpPr/>
              <p:nvPr/>
            </p:nvGrpSpPr>
            <p:grpSpPr>
              <a:xfrm>
                <a:off x="2716200" y="4567320"/>
                <a:ext cx="765000" cy="786600"/>
                <a:chOff x="2716200" y="4567320"/>
                <a:chExt cx="765000" cy="786600"/>
              </a:xfrm>
            </p:grpSpPr>
            <p:sp>
              <p:nvSpPr>
                <p:cNvPr id="1242" name=""/>
                <p:cNvSpPr/>
                <p:nvPr/>
              </p:nvSpPr>
              <p:spPr>
                <a:xfrm>
                  <a:off x="2784240" y="4567320"/>
                  <a:ext cx="628920" cy="78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3" name=""/>
                <p:cNvSpPr/>
                <p:nvPr/>
              </p:nvSpPr>
              <p:spPr>
                <a:xfrm>
                  <a:off x="2716200" y="4567320"/>
                  <a:ext cx="765000" cy="78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4" name=""/>
              <p:cNvGrpSpPr/>
              <p:nvPr/>
            </p:nvGrpSpPr>
            <p:grpSpPr>
              <a:xfrm>
                <a:off x="3481200" y="4567320"/>
                <a:ext cx="1565280" cy="786600"/>
                <a:chOff x="3481200" y="4567320"/>
                <a:chExt cx="1565280" cy="786600"/>
              </a:xfrm>
            </p:grpSpPr>
            <p:sp>
              <p:nvSpPr>
                <p:cNvPr id="1245" name=""/>
                <p:cNvSpPr/>
                <p:nvPr/>
              </p:nvSpPr>
              <p:spPr>
                <a:xfrm>
                  <a:off x="3549600" y="4567320"/>
                  <a:ext cx="1428840" cy="786600"/>
                </a:xfrm>
                <a:prstGeom prst="rect">
                  <a:avLst/>
                </a:prstGeom>
                <a:noFill/>
                <a:ln w="0">
                  <a:noFill/>
                </a:ln>
              </p:spPr>
              <p:style>
                <a:lnRef idx="0"/>
                <a:fillRef idx="0"/>
                <a:effectRef idx="0"/>
                <a:fontRef idx="minor"/>
              </p:style>
              <p:txBody>
                <a:bodyPr lIns="90000" rIns="90000" tIns="46800" bIns="46800" anchor="t">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30mW (PMLA)</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average under real duty cycles will be MUCH les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6" name=""/>
                <p:cNvSpPr/>
                <p:nvPr/>
              </p:nvSpPr>
              <p:spPr>
                <a:xfrm>
                  <a:off x="3481200" y="4567320"/>
                  <a:ext cx="1565280" cy="78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7" name=""/>
              <p:cNvGrpSpPr/>
              <p:nvPr/>
            </p:nvGrpSpPr>
            <p:grpSpPr>
              <a:xfrm>
                <a:off x="5046480" y="4567320"/>
                <a:ext cx="1851120" cy="786600"/>
                <a:chOff x="5046480" y="4567320"/>
                <a:chExt cx="1851120" cy="786600"/>
              </a:xfrm>
            </p:grpSpPr>
            <p:sp>
              <p:nvSpPr>
                <p:cNvPr id="1248" name=""/>
                <p:cNvSpPr/>
                <p:nvPr/>
              </p:nvSpPr>
              <p:spPr>
                <a:xfrm>
                  <a:off x="5114880" y="4567320"/>
                  <a:ext cx="1714320" cy="78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tween 5mW and 30m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9" name=""/>
                <p:cNvSpPr/>
                <p:nvPr/>
              </p:nvSpPr>
              <p:spPr>
                <a:xfrm>
                  <a:off x="5046480" y="4567320"/>
                  <a:ext cx="1851120" cy="78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0" name=""/>
              <p:cNvGrpSpPr/>
              <p:nvPr/>
            </p:nvGrpSpPr>
            <p:grpSpPr>
              <a:xfrm>
                <a:off x="6897600" y="4567320"/>
                <a:ext cx="1793880" cy="786600"/>
                <a:chOff x="6897600" y="4567320"/>
                <a:chExt cx="1793880" cy="786600"/>
              </a:xfrm>
            </p:grpSpPr>
            <p:sp>
              <p:nvSpPr>
                <p:cNvPr id="1251" name=""/>
                <p:cNvSpPr/>
                <p:nvPr/>
              </p:nvSpPr>
              <p:spPr>
                <a:xfrm>
                  <a:off x="6966000" y="4567320"/>
                  <a:ext cx="1657080" cy="78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t; 5mW</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2" name=""/>
                <p:cNvSpPr/>
                <p:nvPr/>
              </p:nvSpPr>
              <p:spPr>
                <a:xfrm>
                  <a:off x="6897600" y="4567320"/>
                  <a:ext cx="1793880" cy="78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3" name=""/>
              <p:cNvGrpSpPr/>
              <p:nvPr/>
            </p:nvGrpSpPr>
            <p:grpSpPr>
              <a:xfrm>
                <a:off x="453960" y="5354280"/>
                <a:ext cx="2262240" cy="590760"/>
                <a:chOff x="453960" y="5354280"/>
                <a:chExt cx="2262240" cy="590760"/>
              </a:xfrm>
            </p:grpSpPr>
            <p:sp>
              <p:nvSpPr>
                <p:cNvPr id="1254" name=""/>
                <p:cNvSpPr/>
                <p:nvPr/>
              </p:nvSpPr>
              <p:spPr>
                <a:xfrm>
                  <a:off x="522360" y="5354280"/>
                  <a:ext cx="212544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hent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5" name=""/>
                <p:cNvSpPr/>
                <p:nvPr/>
              </p:nvSpPr>
              <p:spPr>
                <a:xfrm>
                  <a:off x="453960" y="5354280"/>
                  <a:ext cx="226224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6" name=""/>
              <p:cNvGrpSpPr/>
              <p:nvPr/>
            </p:nvGrpSpPr>
            <p:grpSpPr>
              <a:xfrm>
                <a:off x="2716200" y="5354280"/>
                <a:ext cx="765000" cy="590760"/>
                <a:chOff x="2716200" y="5354280"/>
                <a:chExt cx="765000" cy="590760"/>
              </a:xfrm>
            </p:grpSpPr>
            <p:sp>
              <p:nvSpPr>
                <p:cNvPr id="1257" name=""/>
                <p:cNvSpPr/>
                <p:nvPr/>
              </p:nvSpPr>
              <p:spPr>
                <a:xfrm>
                  <a:off x="2784240" y="5354280"/>
                  <a:ext cx="62892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8" name=""/>
                <p:cNvSpPr/>
                <p:nvPr/>
              </p:nvSpPr>
              <p:spPr>
                <a:xfrm>
                  <a:off x="2716200" y="5354280"/>
                  <a:ext cx="76500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9" name=""/>
              <p:cNvGrpSpPr/>
              <p:nvPr/>
            </p:nvGrpSpPr>
            <p:grpSpPr>
              <a:xfrm>
                <a:off x="3481200" y="5354280"/>
                <a:ext cx="1565280" cy="590760"/>
                <a:chOff x="3481200" y="5354280"/>
                <a:chExt cx="1565280" cy="590760"/>
              </a:xfrm>
            </p:grpSpPr>
            <p:sp>
              <p:nvSpPr>
                <p:cNvPr id="1260" name=""/>
                <p:cNvSpPr/>
                <p:nvPr/>
              </p:nvSpPr>
              <p:spPr>
                <a:xfrm>
                  <a:off x="3549600" y="5354280"/>
                  <a:ext cx="142884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1" name=""/>
                <p:cNvSpPr/>
                <p:nvPr/>
              </p:nvSpPr>
              <p:spPr>
                <a:xfrm>
                  <a:off x="3481200" y="5354280"/>
                  <a:ext cx="15652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5046480" y="5354280"/>
                <a:ext cx="1851120" cy="590760"/>
                <a:chOff x="5046480" y="5354280"/>
                <a:chExt cx="1851120" cy="590760"/>
              </a:xfrm>
            </p:grpSpPr>
            <p:sp>
              <p:nvSpPr>
                <p:cNvPr id="1263" name=""/>
                <p:cNvSpPr/>
                <p:nvPr/>
              </p:nvSpPr>
              <p:spPr>
                <a:xfrm>
                  <a:off x="5114880" y="5354280"/>
                  <a:ext cx="171432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No Authent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can support opt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4" name=""/>
                <p:cNvSpPr/>
                <p:nvPr/>
              </p:nvSpPr>
              <p:spPr>
                <a:xfrm>
                  <a:off x="5046480" y="5354280"/>
                  <a:ext cx="185112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6897600" y="5354280"/>
                <a:ext cx="1793880" cy="590760"/>
                <a:chOff x="6897600" y="5354280"/>
                <a:chExt cx="1793880" cy="590760"/>
              </a:xfrm>
            </p:grpSpPr>
            <p:sp>
              <p:nvSpPr>
                <p:cNvPr id="1266" name=""/>
                <p:cNvSpPr/>
                <p:nvPr/>
              </p:nvSpPr>
              <p:spPr>
                <a:xfrm>
                  <a:off x="6966000" y="5354280"/>
                  <a:ext cx="165708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Enhanced authentication at MAC lay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6897600" y="5354280"/>
                  <a:ext cx="179388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53960" y="5945400"/>
                <a:ext cx="2262240" cy="375840"/>
                <a:chOff x="453960" y="5945400"/>
                <a:chExt cx="2262240" cy="375840"/>
              </a:xfrm>
            </p:grpSpPr>
            <p:sp>
              <p:nvSpPr>
                <p:cNvPr id="1269" name=""/>
                <p:cNvSpPr/>
                <p:nvPr/>
              </p:nvSpPr>
              <p:spPr>
                <a:xfrm>
                  <a:off x="522360" y="5945400"/>
                  <a:ext cx="212544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vacy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
                <p:cNvSpPr/>
                <p:nvPr/>
              </p:nvSpPr>
              <p:spPr>
                <a:xfrm>
                  <a:off x="453960" y="5945400"/>
                  <a:ext cx="226224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1" name=""/>
              <p:cNvGrpSpPr/>
              <p:nvPr/>
            </p:nvGrpSpPr>
            <p:grpSpPr>
              <a:xfrm>
                <a:off x="2716200" y="5945400"/>
                <a:ext cx="765000" cy="375840"/>
                <a:chOff x="2716200" y="5945400"/>
                <a:chExt cx="765000" cy="375840"/>
              </a:xfrm>
            </p:grpSpPr>
            <p:sp>
              <p:nvSpPr>
                <p:cNvPr id="1272" name=""/>
                <p:cNvSpPr/>
                <p:nvPr/>
              </p:nvSpPr>
              <p:spPr>
                <a:xfrm>
                  <a:off x="2784240" y="5945400"/>
                  <a:ext cx="6289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
                <p:cNvSpPr/>
                <p:nvPr/>
              </p:nvSpPr>
              <p:spPr>
                <a:xfrm>
                  <a:off x="2716200" y="5945400"/>
                  <a:ext cx="76500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4" name=""/>
              <p:cNvGrpSpPr/>
              <p:nvPr/>
            </p:nvGrpSpPr>
            <p:grpSpPr>
              <a:xfrm>
                <a:off x="3481200" y="5945400"/>
                <a:ext cx="1565280" cy="375840"/>
                <a:chOff x="3481200" y="5945400"/>
                <a:chExt cx="1565280" cy="375840"/>
              </a:xfrm>
            </p:grpSpPr>
            <p:sp>
              <p:nvSpPr>
                <p:cNvPr id="1275" name=""/>
                <p:cNvSpPr/>
                <p:nvPr/>
              </p:nvSpPr>
              <p:spPr>
                <a:xfrm>
                  <a:off x="3549600" y="5945400"/>
                  <a:ext cx="142884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encryp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6" name=""/>
                <p:cNvSpPr/>
                <p:nvPr/>
              </p:nvSpPr>
              <p:spPr>
                <a:xfrm>
                  <a:off x="3481200" y="5945400"/>
                  <a:ext cx="15652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7" name=""/>
              <p:cNvGrpSpPr/>
              <p:nvPr/>
            </p:nvGrpSpPr>
            <p:grpSpPr>
              <a:xfrm>
                <a:off x="5046480" y="5945400"/>
                <a:ext cx="1851120" cy="375840"/>
                <a:chOff x="5046480" y="5945400"/>
                <a:chExt cx="1851120" cy="375840"/>
              </a:xfrm>
            </p:grpSpPr>
            <p:sp>
              <p:nvSpPr>
                <p:cNvPr id="1278" name=""/>
                <p:cNvSpPr/>
                <p:nvPr/>
              </p:nvSpPr>
              <p:spPr>
                <a:xfrm>
                  <a:off x="5114880" y="5945400"/>
                  <a:ext cx="171432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No encryp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can support opt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
                <p:cNvSpPr/>
                <p:nvPr/>
              </p:nvSpPr>
              <p:spPr>
                <a:xfrm>
                  <a:off x="5046480" y="5945400"/>
                  <a:ext cx="185112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0" name=""/>
              <p:cNvGrpSpPr/>
              <p:nvPr/>
            </p:nvGrpSpPr>
            <p:grpSpPr>
              <a:xfrm>
                <a:off x="6897600" y="5945400"/>
                <a:ext cx="1793880" cy="375840"/>
                <a:chOff x="6897600" y="5945400"/>
                <a:chExt cx="1793880" cy="375840"/>
              </a:xfrm>
            </p:grpSpPr>
            <p:sp>
              <p:nvSpPr>
                <p:cNvPr id="1281" name=""/>
                <p:cNvSpPr/>
                <p:nvPr/>
              </p:nvSpPr>
              <p:spPr>
                <a:xfrm>
                  <a:off x="6966000" y="5945400"/>
                  <a:ext cx="1657080" cy="37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ea typeface="Times New Roman"/>
                    </a:rPr>
                    <a:t>Packet encryp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
                <p:cNvSpPr/>
                <p:nvPr/>
              </p:nvSpPr>
              <p:spPr>
                <a:xfrm>
                  <a:off x="6897600" y="5945400"/>
                  <a:ext cx="1793880" cy="37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3" name=""/>
            <p:cNvSpPr/>
            <p:nvPr/>
          </p:nvSpPr>
          <p:spPr>
            <a:xfrm>
              <a:off x="449280" y="1447920"/>
              <a:ext cx="8246880" cy="48765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EFDCAE1E-66E3-40FA-A461-D760B341053C}" type="slidenum">
              <a:t>2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990720"/>
            <a:ext cx="769608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Who is                          ?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9" name=""/>
          <p:cNvSpPr/>
          <p:nvPr/>
        </p:nvSpPr>
        <p:spPr>
          <a:xfrm>
            <a:off x="685800" y="2743200"/>
            <a:ext cx="7772400" cy="3429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erly Lucent Technologies Microelectronics Group</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process of spinning off as an independent semiconductor company</a:t>
            </a:r>
            <a:endParaRPr b="0" lang="en-US" sz="2000" spc="-1" strike="noStrike">
              <a:solidFill>
                <a:srgbClr val="000000"/>
              </a:solidFill>
              <a:latin typeface="Times New Roman"/>
            </a:endParaRPr>
          </a:p>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ve experience in communications IC design, DSPs, and wireless systems design</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962520" y="1066680"/>
            <a:ext cx="3124080" cy="1079640"/>
          </a:xfrm>
          <a:prstGeom prst="rect">
            <a:avLst/>
          </a:prstGeom>
          <a:ln w="0">
            <a:noFill/>
          </a:ln>
        </p:spPr>
      </p:pic>
      <p:sp>
        <p:nvSpPr>
          <p:cNvPr id="2" name="PlaceHolder 1"/>
          <p:cNvSpPr>
            <a:spLocks noGrp="1"/>
          </p:cNvSpPr>
          <p:nvPr>
            <p:ph type="ftr" idx="2"/>
          </p:nvPr>
        </p:nvSpPr>
        <p:spPr/>
        <p:txBody>
          <a:bodyPr/>
          <a:p>
            <a:r>
              <a:t>Carl R. Stevenson, Agere Systems</a:t>
            </a:r>
          </a:p>
        </p:txBody>
      </p:sp>
      <p:sp>
        <p:nvSpPr>
          <p:cNvPr id="3" name="PlaceHolder 2"/>
          <p:cNvSpPr>
            <a:spLocks noGrp="1"/>
          </p:cNvSpPr>
          <p:nvPr>
            <p:ph type="sldNum" idx="3"/>
          </p:nvPr>
        </p:nvSpPr>
        <p:spPr/>
        <p:txBody>
          <a:bodyPr/>
          <a:p>
            <a:fld id="{00E0BAC6-916D-4A4B-848F-DD5CC9758D4C}" type="slidenum">
              <a:t>3</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scription of MAC Layer Proposal</a:t>
            </a:r>
            <a:br>
              <a:rPr sz="2400"/>
            </a:br>
            <a:r>
              <a:rPr b="1" lang="en-US" sz="2400" spc="-1" strike="noStrike">
                <a:solidFill>
                  <a:srgbClr val="000000"/>
                </a:solidFill>
                <a:latin typeface="Verdana"/>
              </a:rPr>
              <a:t> </a:t>
            </a:r>
            <a:r>
              <a:rPr b="1" lang="en-US" sz="1800" spc="-1" strike="noStrike">
                <a:solidFill>
                  <a:srgbClr val="000000"/>
                </a:solidFill>
                <a:latin typeface="Verdana"/>
              </a:rPr>
              <a:t>(actually a MAC + LLC + at this point)</a:t>
            </a:r>
            <a:endParaRPr b="0" lang="en-US" sz="1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Op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lf-duplex TDMA/CSMA-CA DAMA/contention based Protocol</a:t>
            </a:r>
            <a:endParaRPr b="0" lang="en-US" sz="20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s) controlled by “coordinator” unit(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 from coordinator defines TDMA frame structure</a:t>
            </a:r>
            <a:endParaRPr b="0" lang="en-US" sz="1600" spc="-1" strike="noStrike">
              <a:solidFill>
                <a:srgbClr val="000000"/>
              </a:solidFill>
              <a:latin typeface="Arial"/>
            </a:endParaRPr>
          </a:p>
          <a:p>
            <a:pPr lvl="3" marL="142884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persistent slotted aloha CSMA-CA reservation request slots</a:t>
            </a:r>
            <a:endParaRPr b="0" lang="en-US" sz="1400" spc="-1" strike="noStrike">
              <a:solidFill>
                <a:srgbClr val="000000"/>
              </a:solidFill>
              <a:latin typeface="Arial"/>
            </a:endParaRPr>
          </a:p>
          <a:p>
            <a:pPr lvl="3" marL="142884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ynamic bandwidth allocations for time-sensitive traffic</a:t>
            </a:r>
            <a:endParaRPr b="0" lang="en-US" sz="1400" spc="-1" strike="noStrike">
              <a:solidFill>
                <a:srgbClr val="000000"/>
              </a:solidFill>
              <a:latin typeface="Arial"/>
            </a:endParaRPr>
          </a:p>
          <a:p>
            <a:pPr lvl="3" marL="142884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persistent slotted aloha CSMA-CA contention access slots</a:t>
            </a:r>
            <a:endParaRPr b="0" lang="en-US" sz="14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s time-sensitive and asynchronous traffic through mix of assigned bandwidth and contention acces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s master-slave and peer-peer communication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sible for slaves to participate in &gt; 1 network</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sible to have gateways/portals to other dissimilar network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motes power efficiency through sleep mode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6577763C-0CDA-41D0-83EF-AB3EBF4ED073}"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DLC-like Packet Structure Supports Protocols</a:t>
            </a:r>
            <a:endParaRPr b="0" lang="en-US" sz="2400" spc="-1" strike="noStrike">
              <a:solidFill>
                <a:srgbClr val="000000"/>
              </a:solidFill>
              <a:latin typeface="Times New Roman"/>
            </a:endParaRPr>
          </a:p>
        </p:txBody>
      </p:sp>
      <p:sp>
        <p:nvSpPr>
          <p:cNvPr id="54" name="PlaceHolder 2"/>
          <p:cNvSpPr>
            <a:spLocks noGrp="1"/>
          </p:cNvSpPr>
          <p:nvPr>
            <p:ph/>
          </p:nvPr>
        </p:nvSpPr>
        <p:spPr>
          <a:xfrm>
            <a:off x="762120" y="1676160"/>
            <a:ext cx="7772400" cy="46479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existing ISO/IEEE/other standar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SDL exists for similar protocols, which may be reusable with little modific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arent to data content</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ows encapsulation of higher layer protocols between link layer DSAP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es not impose data type dependenci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transport encrypted payloads, if desirable</a:t>
            </a:r>
            <a:endParaRPr b="0" lang="en-US" sz="18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mall code size and CPU load possib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mateur packet radio implementations with nearly comparable complexity use 8-bit CPUs &amp; 32k bytes of cod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complexity for TDMA and other features should not be excessiv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arl R. Stevenson, Agere Systems</a:t>
            </a:r>
          </a:p>
        </p:txBody>
      </p:sp>
      <p:sp>
        <p:nvSpPr>
          <p:cNvPr id="5" name="PlaceHolder 4"/>
          <p:cNvSpPr>
            <a:spLocks noGrp="1"/>
          </p:cNvSpPr>
          <p:nvPr>
            <p:ph type="sldNum" idx="3"/>
          </p:nvPr>
        </p:nvSpPr>
        <p:spPr/>
        <p:txBody>
          <a:bodyPr/>
          <a:p>
            <a:fld id="{64C68B3E-4A82-4E8A-81A3-F6848BB826B3}"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ariable Length Packets</a:t>
            </a:r>
            <a:endParaRPr b="0" lang="en-US" sz="2400" spc="-1" strike="noStrike">
              <a:solidFill>
                <a:srgbClr val="000000"/>
              </a:solidFill>
              <a:latin typeface="Times New Roman"/>
            </a:endParaRPr>
          </a:p>
        </p:txBody>
      </p:sp>
      <p:graphicFrame>
        <p:nvGraphicFramePr>
          <p:cNvPr id="56" name=""/>
          <p:cNvGraphicFramePr/>
          <p:nvPr/>
        </p:nvGraphicFramePr>
        <p:xfrm>
          <a:off x="1295280" y="1447920"/>
          <a:ext cx="6782040" cy="4800600"/>
        </p:xfrm>
        <a:graphic>
          <a:graphicData uri="http://schemas.openxmlformats.org/presentationml/2006/ole">
            <p:oleObj r:id="rId1" spid="">
              <p:embed/>
              <p:pic>
                <p:nvPicPr>
                  <p:cNvPr id="57" name="" descr=""/>
                  <p:cNvPicPr/>
                  <p:nvPr/>
                </p:nvPicPr>
                <p:blipFill>
                  <a:blip r:embed="rId2"/>
                  <a:stretch/>
                </p:blipFill>
                <p:spPr>
                  <a:xfrm>
                    <a:off x="1295280" y="1447920"/>
                    <a:ext cx="6782040" cy="480060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E1E0CB9A-A835-4FA5-939B-3FEDC4DCA6F6}" type="slidenum">
              <a:t>6</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ynamically-assigned Frame Structure</a:t>
            </a:r>
            <a:endParaRPr b="0" lang="en-US" sz="2400" spc="-1" strike="noStrike">
              <a:solidFill>
                <a:srgbClr val="000000"/>
              </a:solidFill>
              <a:latin typeface="Times New Roman"/>
            </a:endParaRPr>
          </a:p>
        </p:txBody>
      </p:sp>
      <p:graphicFrame>
        <p:nvGraphicFramePr>
          <p:cNvPr id="59" name=""/>
          <p:cNvGraphicFramePr/>
          <p:nvPr/>
        </p:nvGraphicFramePr>
        <p:xfrm>
          <a:off x="838080" y="1523880"/>
          <a:ext cx="7425000" cy="4888080"/>
        </p:xfrm>
        <a:graphic>
          <a:graphicData uri="http://schemas.openxmlformats.org/presentationml/2006/ole">
            <p:oleObj r:id="rId1" spid="">
              <p:embed/>
              <p:pic>
                <p:nvPicPr>
                  <p:cNvPr id="60" name="" descr=""/>
                  <p:cNvPicPr/>
                  <p:nvPr/>
                </p:nvPicPr>
                <p:blipFill>
                  <a:blip r:embed="rId2"/>
                  <a:stretch/>
                </p:blipFill>
                <p:spPr>
                  <a:xfrm>
                    <a:off x="838080" y="1523880"/>
                    <a:ext cx="7425000" cy="488808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4BCC3850-D5B7-4825-BED7-5E9487D90D15}"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ame Structure Can Vary Frame to Frame to Efficiently Handle a Mix of Traffic Types</a:t>
            </a:r>
            <a:endParaRPr b="0" lang="en-US" sz="2400" spc="-1" strike="noStrike">
              <a:solidFill>
                <a:srgbClr val="000000"/>
              </a:solidFill>
              <a:latin typeface="Times New Roman"/>
            </a:endParaRPr>
          </a:p>
        </p:txBody>
      </p:sp>
      <p:graphicFrame>
        <p:nvGraphicFramePr>
          <p:cNvPr id="62" name=""/>
          <p:cNvGraphicFramePr/>
          <p:nvPr/>
        </p:nvGraphicFramePr>
        <p:xfrm>
          <a:off x="457200" y="1828800"/>
          <a:ext cx="8229600" cy="1951200"/>
        </p:xfrm>
        <a:graphic>
          <a:graphicData uri="http://schemas.openxmlformats.org/presentationml/2006/ole">
            <p:oleObj r:id="rId1" spid="">
              <p:embed/>
              <p:pic>
                <p:nvPicPr>
                  <p:cNvPr id="63" name="" descr=""/>
                  <p:cNvPicPr/>
                  <p:nvPr/>
                </p:nvPicPr>
                <p:blipFill>
                  <a:blip r:embed="rId2"/>
                  <a:stretch/>
                </p:blipFill>
                <p:spPr>
                  <a:xfrm>
                    <a:off x="457200" y="1828800"/>
                    <a:ext cx="8229600" cy="1951200"/>
                  </a:xfrm>
                  <a:prstGeom prst="rect">
                    <a:avLst/>
                  </a:prstGeom>
                  <a:ln w="0">
                    <a:noFill/>
                  </a:ln>
                </p:spPr>
              </p:pic>
            </p:oleObj>
          </a:graphicData>
        </a:graphic>
      </p:graphicFrame>
      <p:sp>
        <p:nvSpPr>
          <p:cNvPr id="64" name=""/>
          <p:cNvSpPr/>
          <p:nvPr/>
        </p:nvSpPr>
        <p:spPr>
          <a:xfrm>
            <a:off x="533520" y="4191120"/>
            <a:ext cx="81532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CEDCED6A-B054-43AC-879E-605C32359552}"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laves Can Be Moved to Other Channels Temporarily if Traffic Makes it Desirable</a:t>
            </a:r>
            <a:endParaRPr b="0" lang="en-US" sz="2400" spc="-1" strike="noStrike">
              <a:solidFill>
                <a:srgbClr val="000000"/>
              </a:solidFill>
              <a:latin typeface="Times New Roman"/>
            </a:endParaRPr>
          </a:p>
        </p:txBody>
      </p:sp>
      <p:sp>
        <p:nvSpPr>
          <p:cNvPr id="66" name=""/>
          <p:cNvSpPr/>
          <p:nvPr/>
        </p:nvSpPr>
        <p:spPr>
          <a:xfrm>
            <a:off x="533520" y="4191120"/>
            <a:ext cx="81532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 name=""/>
          <p:cNvGraphicFramePr/>
          <p:nvPr/>
        </p:nvGraphicFramePr>
        <p:xfrm>
          <a:off x="380880" y="1676520"/>
          <a:ext cx="8382240" cy="4600440"/>
        </p:xfrm>
        <a:graphic>
          <a:graphicData uri="http://schemas.openxmlformats.org/presentationml/2006/ole">
            <p:oleObj r:id="rId1" spid="">
              <p:embed/>
              <p:pic>
                <p:nvPicPr>
                  <p:cNvPr id="68" name="" descr=""/>
                  <p:cNvPicPr/>
                  <p:nvPr/>
                </p:nvPicPr>
                <p:blipFill>
                  <a:blip r:embed="rId2"/>
                  <a:stretch/>
                </p:blipFill>
                <p:spPr>
                  <a:xfrm>
                    <a:off x="380880" y="1676520"/>
                    <a:ext cx="8382240" cy="4600440"/>
                  </a:xfrm>
                  <a:prstGeom prst="rect">
                    <a:avLst/>
                  </a:prstGeom>
                  <a:ln w="0">
                    <a:noFill/>
                  </a:ln>
                </p:spPr>
              </p:pic>
            </p:oleObj>
          </a:graphicData>
        </a:graphic>
      </p:graphicFrame>
      <p:sp>
        <p:nvSpPr>
          <p:cNvPr id="3" name="PlaceHolder 2"/>
          <p:cNvSpPr>
            <a:spLocks noGrp="1"/>
          </p:cNvSpPr>
          <p:nvPr>
            <p:ph type="ftr" idx="2"/>
          </p:nvPr>
        </p:nvSpPr>
        <p:spPr/>
        <p:txBody>
          <a:bodyPr/>
          <a:p>
            <a:r>
              <a:t>Carl R. Stevenson, Agere Systems</a:t>
            </a:r>
          </a:p>
        </p:txBody>
      </p:sp>
      <p:sp>
        <p:nvSpPr>
          <p:cNvPr id="4" name="PlaceHolder 3"/>
          <p:cNvSpPr>
            <a:spLocks noGrp="1"/>
          </p:cNvSpPr>
          <p:nvPr>
            <p:ph type="sldNum" idx="3"/>
          </p:nvPr>
        </p:nvSpPr>
        <p:spPr/>
        <p:txBody>
          <a:bodyPr/>
          <a:p>
            <a:fld id="{61BF7D95-A6B4-42B9-9B67-087706006E9D}" type="slidenum">
              <a:t>9</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20:41:03Z</dcterms:created>
  <dc:creator>Carl R. Stevenson</dc:creator>
  <dc:description>01/226TG4r0</dc:description>
  <dc:language>en-US</dc:language>
  <cp:lastModifiedBy>Ian Gifford</cp:lastModifiedBy>
  <cp:lastPrinted>1998-02-10T13:28:06Z</cp:lastPrinted>
  <dcterms:modified xsi:type="dcterms:W3CDTF">2001-05-10T03:57:39Z</dcterms:modified>
  <cp:revision>32</cp:revision>
  <dc:subject>IEEE 802.15 &lt;subject&gt;</dc:subject>
  <dc:title>No Slide Title</dc:title>
</cp:coreProperties>
</file>