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3F8967-8476-4E4F-BC6A-DB93343412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ABAE21-F922-4943-B660-FAB4F84B06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3BAEE7-1699-4EC2-9BBA-744D04ECF2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3295B1-9F97-4312-8DD4-05C6F3D2E0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2B63FA-B7D2-4F91-AB7F-038A63D9DD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850849-B889-4E07-A163-0B5D934216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81C9C8-319C-4E76-A6FC-AC4929BDD6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CD6135-2EEC-49A7-BDD5-91E16EC8DE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8E459C-35E4-4283-BFF5-C241EBE9B4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4DFDE-6959-45D4-AD43-30AACC70C9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B4EC74-7CE6-4254-9458-36661808AE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2CF94-804B-4C00-BA99-9B8164C4BA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y 2001</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Symbol Technologies</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39DD8B9-2BCD-4467-8092-FD9C235674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255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orking Group for Wireless Personal Area Networks</a:t>
            </a:r>
            <a:r>
              <a:rPr b="0" lang="en-US" sz="3200" spc="-1" strike="noStrike" baseline="30000">
                <a:solidFill>
                  <a:srgbClr val="000000"/>
                </a:solidFill>
                <a:latin typeface="Times New Roman"/>
              </a:rPr>
              <a:t>TM</a:t>
            </a:r>
            <a:endParaRPr b="0" lang="en-US" sz="3200" spc="-1" strike="noStrike">
              <a:solidFill>
                <a:srgbClr val="000000"/>
              </a:solidFill>
              <a:latin typeface="Times New Roman"/>
            </a:endParaRPr>
          </a:p>
        </p:txBody>
      </p:sp>
      <p:sp>
        <p:nvSpPr>
          <p:cNvPr id="46" name="PlaceHolder 2"/>
          <p:cNvSpPr>
            <a:spLocks noGrp="1"/>
          </p:cNvSpPr>
          <p:nvPr>
            <p:ph type="subTitle"/>
          </p:nvPr>
        </p:nvSpPr>
        <p:spPr>
          <a:xfrm>
            <a:off x="837720" y="3504960"/>
            <a:ext cx="7620120" cy="251460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EEE 802.15.2</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LAN/WPAN Coexistence Task Group             Closing Report</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Orlando, FL</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802E2DC9-F4E4-4E45-8803-EC6058CD0A2B}" type="slidenum">
              <a:t>1</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ic’s Proposed Text</a:t>
            </a:r>
            <a:endParaRPr b="0" lang="en-US" sz="3600" spc="-1" strike="noStrike">
              <a:solidFill>
                <a:srgbClr val="000000"/>
              </a:solidFill>
              <a:latin typeface="Times New Roman"/>
            </a:endParaRPr>
          </a:p>
        </p:txBody>
      </p:sp>
      <p:sp>
        <p:nvSpPr>
          <p:cNvPr id="64" name="PlaceHolder 2"/>
          <p:cNvSpPr>
            <a:spLocks noGrp="1"/>
          </p:cNvSpPr>
          <p:nvPr>
            <p:ph/>
          </p:nvPr>
        </p:nvSpPr>
        <p:spPr>
          <a:xfrm>
            <a:off x="457200" y="1371600"/>
            <a:ext cx="8305920" cy="4952880"/>
          </a:xfrm>
          <a:prstGeom prst="rect">
            <a:avLst/>
          </a:prstGeom>
          <a:noFill/>
          <a:ln w="0">
            <a:noFill/>
          </a:ln>
        </p:spPr>
        <p:txBody>
          <a:bodyPr lIns="92160" rIns="92160" tIns="46080" bIns="4608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Regulatory Conformity and Spectrum Sharing Feasibility For a wireless project to be authorized, it shall address regulatory conformity and show spectrum sharing feasibility for its intended applications. At a minimum, the proposed project shall address:</a:t>
            </a:r>
            <a:endParaRPr b="0"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formance to existing regulations for proposed regulatory domains: ITU, regional, national, etc.</a:t>
            </a:r>
            <a:endParaRPr b="0"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Feasibility of coexistence with other IEEE 802 standards and projects, and other devices that share the spectrum</a:t>
            </a:r>
            <a:endParaRPr b="0"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Confidence that ongoing regulatory activity (e.g. FCC Notice Of Inquiry, Notice of Proposed Rule Making) will allow deployment of devices implementing the proposed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82AFEDFA-E3DA-4B8F-9E72-1AA154D59016}" type="slidenum">
              <a:t>10</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2’s Version</a:t>
            </a:r>
            <a:endParaRPr b="0" lang="en-US" sz="3600" spc="-1" strike="noStrike">
              <a:solidFill>
                <a:srgbClr val="000000"/>
              </a:solidFill>
              <a:latin typeface="Times New Roman"/>
            </a:endParaRPr>
          </a:p>
        </p:txBody>
      </p:sp>
      <p:sp>
        <p:nvSpPr>
          <p:cNvPr id="66" name="PlaceHolder 2"/>
          <p:cNvSpPr>
            <a:spLocks noGrp="1"/>
          </p:cNvSpPr>
          <p:nvPr>
            <p:ph/>
          </p:nvPr>
        </p:nvSpPr>
        <p:spPr>
          <a:xfrm>
            <a:off x="304920" y="1371240"/>
            <a:ext cx="8686800" cy="5181480"/>
          </a:xfrm>
          <a:prstGeom prst="rect">
            <a:avLst/>
          </a:prstGeom>
          <a:noFill/>
          <a:ln w="0">
            <a:noFill/>
          </a:ln>
        </p:spPr>
        <p:txBody>
          <a:bodyPr lIns="92160" rIns="92160" tIns="46080" bIns="46080" anchor="t">
            <a:normAutofit/>
          </a:bodyPr>
          <a:p>
            <a:pPr lvl="1" marL="114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tory Conformity and Coexistence with other Wireless IEEE 802 Standard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 wireless project to be authorized, the Project Authorization Request (PAR) shall require regulatory conformity and coexistence with other Wireless IEEE 802 Standards.  At a minimum, the proposed project shall requir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formance to existing regulations for proposed regulatory domains (e.g. ITU, regional, national) or have indications that ongoing regulatory activity (e.g. FCC Notice Of Inquiry, Notice of Proposed Rule Making) will allow deployment of devices implementing the proposed standar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Coexistence with other Wireless IEEE 802 standards and projec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1BDEDB84-21AC-44E0-B64F-9CBE6A02FC5D}" type="slidenum">
              <a:t>11</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PC/DRS Proposal</a:t>
            </a:r>
            <a:endParaRPr b="0" lang="en-US" sz="3600" spc="-1" strike="noStrike">
              <a:solidFill>
                <a:srgbClr val="000000"/>
              </a:solidFill>
              <a:latin typeface="Times New Roman"/>
            </a:endParaRPr>
          </a:p>
        </p:txBody>
      </p:sp>
      <p:sp>
        <p:nvSpPr>
          <p:cNvPr id="68"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the March meeting TG2 approved a non-collaborative coexistence mechanism for Transmit Power Control and Data Rate Scaling in 802.11b</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tthew Shoemake, who submitted the proposal, is too busy to work on the proposal at this point in time.</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02.11h is adding TPC to 802.11</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4D6B015D-D514-42B8-B4BF-3276F9C8CFE7}" type="slidenum">
              <a:t>1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tions on TPC/DRS Proposal</a:t>
            </a:r>
            <a:endParaRPr b="0" lang="en-US" sz="3600" spc="-1" strike="noStrike">
              <a:solidFill>
                <a:srgbClr val="000000"/>
              </a:solidFill>
              <a:latin typeface="Times New Roman"/>
            </a:endParaRPr>
          </a:p>
        </p:txBody>
      </p:sp>
      <p:sp>
        <p:nvSpPr>
          <p:cNvPr id="70" name="PlaceHolder 2"/>
          <p:cNvSpPr>
            <a:spLocks noGrp="1"/>
          </p:cNvSpPr>
          <p:nvPr>
            <p:ph/>
          </p:nvPr>
        </p:nvSpPr>
        <p:spPr>
          <a:xfrm>
            <a:off x="685440" y="1676160"/>
            <a:ext cx="8001000" cy="4647960"/>
          </a:xfrm>
          <a:prstGeom prst="rect">
            <a:avLst/>
          </a:prstGeom>
          <a:noFill/>
          <a:ln w="0">
            <a:noFill/>
          </a:ln>
        </p:spPr>
        <p:txBody>
          <a:bodyPr lIns="92160" rIns="92160" tIns="46080" bIns="4608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on to drop the TPC mechanism proposal</a:t>
            </a:r>
            <a:endParaRPr b="0" lang="en-US" sz="32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4/0/1</a:t>
            </a:r>
            <a:endParaRPr b="0" lang="en-US" sz="28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aw poll to see if there is merit in working on Data Rate Scaling (if we can find resources to work on it)</a:t>
            </a:r>
            <a:endParaRPr b="0" lang="en-US" sz="32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13/0/1</a:t>
            </a:r>
            <a:endParaRPr b="0" lang="en-US" sz="28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on Item to recruit people to work on Data Rate Scaling</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549E055F-6B5D-4D57-BCB2-C4DD27A9EEDD}" type="slidenum">
              <a:t>1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2 Project Plan</a:t>
            </a:r>
            <a:endParaRPr b="0" lang="en-US" sz="36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 Shellhammer, </a:t>
            </a:r>
            <a:r>
              <a:rPr b="0" i="1" lang="en-US" sz="3200" spc="-1" strike="noStrike">
                <a:solidFill>
                  <a:srgbClr val="000000"/>
                </a:solidFill>
                <a:latin typeface="Arial"/>
              </a:rPr>
              <a:t>TG2 Project Plan,</a:t>
            </a:r>
            <a:r>
              <a:rPr b="0" lang="en-US" sz="3200" spc="-1" strike="noStrike">
                <a:solidFill>
                  <a:srgbClr val="000000"/>
                </a:solidFill>
                <a:latin typeface="Arial"/>
              </a:rPr>
              <a:t> 00/089r2.</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B55BDD9C-5136-4D07-90E4-CB2129891406}" type="slidenum">
              <a:t>1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daptive Frequency Hopping</a:t>
            </a:r>
            <a:endParaRPr b="0" lang="en-US" sz="36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Treister, H. B. Gan, K. C. Chen, H. K. Chen, A. Batra, O. Eliezer, </a:t>
            </a:r>
            <a:r>
              <a:rPr b="0" i="1" lang="en-US" sz="3200" spc="-1" strike="noStrike">
                <a:solidFill>
                  <a:srgbClr val="000000"/>
                </a:solidFill>
                <a:latin typeface="Arial"/>
              </a:rPr>
              <a:t>Adaptive Frequency Hopping: A Non-Collaborative Coexistence Mechanism,</a:t>
            </a:r>
            <a:r>
              <a:rPr b="0" lang="en-US" sz="3200" spc="-1" strike="noStrike">
                <a:solidFill>
                  <a:srgbClr val="000000"/>
                </a:solidFill>
                <a:latin typeface="Arial"/>
              </a:rPr>
              <a:t> 01/252r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G2 voted to adopt this propos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ssed 10/0/1</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FBB3FD88-DB1B-4836-A756-511BB5968F73}" type="slidenum">
              <a:t>15</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presentative Set of Interference Scenarios</a:t>
            </a:r>
            <a:endParaRPr b="0" lang="en-US" sz="36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G2 discussed which interference scenarios to simulate and include in the Recommended Pract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da Golmie will summarize the agreed upon scenarios and post to the email reflector.</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6F40184E-2BC1-41A6-ADD5-41EE67F818BF}" type="slidenum">
              <a:t>16</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lans for This Week</a:t>
            </a:r>
            <a:endParaRPr b="0" lang="en-US" sz="3600" spc="-1" strike="noStrike">
              <a:solidFill>
                <a:srgbClr val="000000"/>
              </a:solidFill>
              <a:latin typeface="Times New Roman"/>
            </a:endParaRPr>
          </a:p>
        </p:txBody>
      </p:sp>
      <p:sp>
        <p:nvSpPr>
          <p:cNvPr id="48" name="PlaceHolder 2"/>
          <p:cNvSpPr>
            <a:spLocks noGrp="1"/>
          </p:cNvSpPr>
          <p:nvPr>
            <p:ph/>
          </p:nvPr>
        </p:nvSpPr>
        <p:spPr>
          <a:xfrm>
            <a:off x="609120" y="1371600"/>
            <a:ext cx="8001000" cy="4952880"/>
          </a:xfrm>
          <a:prstGeom prst="rect">
            <a:avLst/>
          </a:prstGeom>
          <a:noFill/>
          <a:ln w="0">
            <a:noFill/>
          </a:ln>
        </p:spPr>
        <p:txBody>
          <a:bodyPr lIns="92160" rIns="92160" tIns="46080" bIns="46080"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rmation vote on TG2 Editor</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Outline of Recommended Practice</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aison with Bluetooth SIG Coexistence Working Group (?)</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ess Report from AFH Ad Hoc Committee</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 on a consensus AFH proposal</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te on consensus AFH proposal</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 802.11b TPC and Data Rate Scaling</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ree on a Representative Set of Coexistence Scenarios</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G2 Project Plan Update</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21A25C60-C643-4100-85C2-AD55BC43761D}" type="slidenum">
              <a:t>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ew TG2 Editor</a:t>
            </a:r>
            <a:endParaRPr b="0" lang="en-US" sz="3600" spc="-1" strike="noStrike">
              <a:solidFill>
                <a:srgbClr val="000000"/>
              </a:solidFill>
              <a:latin typeface="Times New Roman"/>
            </a:endParaRPr>
          </a:p>
        </p:txBody>
      </p:sp>
      <p:sp>
        <p:nvSpPr>
          <p:cNvPr id="50" name="PlaceHolder 2"/>
          <p:cNvSpPr>
            <a:spLocks noGrp="1"/>
          </p:cNvSpPr>
          <p:nvPr>
            <p:ph/>
          </p:nvPr>
        </p:nvSpPr>
        <p:spPr>
          <a:xfrm>
            <a:off x="685800" y="1523520"/>
            <a:ext cx="7772400" cy="449604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e to new commitments at work Dan McGlynn can no longer serve as the TG2 Edit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a result I have appointed David Cypher as the new TG2 Edit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G2 voted to reaffirm David Cypher as the TG2 Edito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6/0/1</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3C67595B-613D-483D-9D26-11E46DBAAD83}" type="slidenum">
              <a:t>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2 Presentations</a:t>
            </a:r>
            <a:endParaRPr b="0" lang="en-US" sz="36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vid Cypher, </a:t>
            </a:r>
            <a:r>
              <a:rPr b="0" i="1" lang="en-US" sz="3200" spc="-1" strike="noStrike">
                <a:solidFill>
                  <a:srgbClr val="000000"/>
                </a:solidFill>
                <a:latin typeface="Arial"/>
              </a:rPr>
              <a:t>Baseline Recommended Practice,</a:t>
            </a:r>
            <a:r>
              <a:rPr b="0" lang="en-US" sz="3200" spc="-1" strike="noStrike">
                <a:solidFill>
                  <a:srgbClr val="000000"/>
                </a:solidFill>
                <a:latin typeface="Arial"/>
              </a:rPr>
              <a:t> 01/239r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C. Chen, H. K. Chen, C.C. Chao, </a:t>
            </a:r>
            <a:r>
              <a:rPr b="0" i="1" lang="en-US" sz="3200" spc="-1" strike="noStrike">
                <a:solidFill>
                  <a:srgbClr val="000000"/>
                </a:solidFill>
                <a:latin typeface="Arial"/>
              </a:rPr>
              <a:t>Merged IPC and TI Adaptive Frequency Hopping Proposals,</a:t>
            </a:r>
            <a:r>
              <a:rPr b="0" lang="en-US" sz="3200" spc="-1" strike="noStrike">
                <a:solidFill>
                  <a:srgbClr val="000000"/>
                </a:solidFill>
                <a:latin typeface="Arial"/>
              </a:rPr>
              <a:t> 01/246r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jan Treister, </a:t>
            </a:r>
            <a:r>
              <a:rPr b="0" i="1" lang="en-US" sz="3200" spc="-1" strike="noStrike">
                <a:solidFill>
                  <a:srgbClr val="000000"/>
                </a:solidFill>
                <a:latin typeface="Arial"/>
              </a:rPr>
              <a:t>AFH Ad Hoc Group Summary,</a:t>
            </a:r>
            <a:r>
              <a:rPr b="0" lang="en-US" sz="3200" spc="-1" strike="noStrike">
                <a:solidFill>
                  <a:srgbClr val="000000"/>
                </a:solidFill>
                <a:latin typeface="Arial"/>
              </a:rPr>
              <a:t> 01/248r0.</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64971928-F58B-4322-9C48-B04EDE236247}" type="slidenum">
              <a:t>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CC NPRM 01-158</a:t>
            </a:r>
            <a:endParaRPr b="0" lang="en-US" sz="3600" spc="-1" strike="noStrike">
              <a:solidFill>
                <a:srgbClr val="000000"/>
              </a:solidFill>
              <a:latin typeface="Times New Roman"/>
            </a:endParaRPr>
          </a:p>
        </p:txBody>
      </p:sp>
      <p:sp>
        <p:nvSpPr>
          <p:cNvPr id="54" name="PlaceHolder 2"/>
          <p:cNvSpPr>
            <a:spLocks noGrp="1"/>
          </p:cNvSpPr>
          <p:nvPr>
            <p:ph/>
          </p:nvPr>
        </p:nvSpPr>
        <p:spPr>
          <a:xfrm>
            <a:off x="685800" y="1752120"/>
            <a:ext cx="7772400" cy="441972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 May 10 the FCC issued a Notice of Proposed Rule Making, 01-158</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PRM addresses several issu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SSS Processing Gai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gital Modul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aptive Frequency Hopp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G2 review the NPRM on the issue of Adaptive Frequency Hopping</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8BDE9D82-BC62-44C1-AD2B-FBECFFA454A4}" type="slidenum">
              <a:t>5</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CC NPRM 01-158</a:t>
            </a:r>
            <a:endParaRPr b="0" lang="en-US" sz="3600" spc="-1" strike="noStrike">
              <a:solidFill>
                <a:srgbClr val="000000"/>
              </a:solidFill>
              <a:latin typeface="Times New Roman"/>
            </a:endParaRPr>
          </a:p>
        </p:txBody>
      </p:sp>
      <p:sp>
        <p:nvSpPr>
          <p:cNvPr id="56" name=""/>
          <p:cNvSpPr/>
          <p:nvPr/>
        </p:nvSpPr>
        <p:spPr>
          <a:xfrm>
            <a:off x="685800" y="1523880"/>
            <a:ext cx="7772400" cy="46483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agraph a.1.iii</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requency hopping systems in the 2400 - 2483.5 MHz band shall use at least 75 non-overlapping channels, except that as few as 15 non-overlapping channels may be used for systems that intelligently modify their hopsets in accordance with Section 15.247(g). Hopsets modified in this manner must be re-determined at least once every 30 seconds. The average time of occupancy on any channel shall not be greater than 0.4 seconds within a period of 0.4 seconds multiplied by the number of hopping channels employed.</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CF7C1031-00CC-429F-BB29-C8558EF49729}" type="slidenum">
              <a:t>6</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CC NPRM 01-158</a:t>
            </a:r>
            <a:endParaRPr b="0" lang="en-US" sz="3600" spc="-1" strike="noStrike">
              <a:solidFill>
                <a:srgbClr val="000000"/>
              </a:solidFill>
              <a:latin typeface="Times New Roman"/>
            </a:endParaRPr>
          </a:p>
        </p:txBody>
      </p:sp>
      <p:sp>
        <p:nvSpPr>
          <p:cNvPr id="58" name=""/>
          <p:cNvSpPr/>
          <p:nvPr/>
        </p:nvSpPr>
        <p:spPr>
          <a:xfrm>
            <a:off x="685800" y="182880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ragraph b.1</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or frequency hopping systems in the 2400 -2483.5 MHz band employing at least 75 hopping channels, and all frequency hopping systems in the 5725-5850 MHz band: 1 Watt. For all other frequency hopping systems in the 2400 - 2483.5 band: 0.125 Watt</a:t>
            </a: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2401E056-5432-424D-B315-6C887BB12A4C}" type="slidenum">
              <a:t>7</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CC NPRM 01-158 AFH Summary</a:t>
            </a:r>
            <a:endParaRPr b="0" lang="en-US" sz="3600" spc="-1" strike="noStrike">
              <a:solidFill>
                <a:srgbClr val="000000"/>
              </a:solidFill>
              <a:latin typeface="Times New Roman"/>
            </a:endParaRPr>
          </a:p>
        </p:txBody>
      </p:sp>
      <p:sp>
        <p:nvSpPr>
          <p:cNvPr id="60" name=""/>
          <p:cNvSpPr/>
          <p:nvPr/>
        </p:nvSpPr>
        <p:spPr>
          <a:xfrm>
            <a:off x="685800" y="1828800"/>
            <a:ext cx="7772400" cy="4343400"/>
          </a:xfrm>
          <a:prstGeom prst="rect">
            <a:avLst/>
          </a:prstGeom>
          <a:noFill/>
          <a:ln w="0">
            <a:noFill/>
          </a:ln>
        </p:spPr>
        <p:style>
          <a:lnRef idx="0"/>
          <a:fillRef idx="0"/>
          <a:effectRef idx="0"/>
          <a:fontRef idx="minor"/>
        </p:style>
        <p:txBody>
          <a:bodyPr lIns="92160" rIns="92160" tIns="46080" bIns="46080" anchor="t">
            <a:normAutofit fontScale="99000"/>
          </a:bodyPr>
          <a:p>
            <a:pPr marL="339480" indent="-33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imum of 15 non-overlapping channels for systems that intelligently modify their hopsets.</a:t>
            </a:r>
            <a:endParaRPr b="0" lang="en-US" sz="2800" spc="-1" strike="noStrike">
              <a:solidFill>
                <a:srgbClr val="000000"/>
              </a:solidFill>
              <a:latin typeface="Times New Roman"/>
            </a:endParaRPr>
          </a:p>
          <a:p>
            <a:pPr marL="339480" indent="-33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psets must be re-determined at least every 30 seconds.</a:t>
            </a:r>
            <a:endParaRPr b="0" lang="en-US" sz="2800" spc="-1" strike="noStrike">
              <a:solidFill>
                <a:srgbClr val="000000"/>
              </a:solidFill>
              <a:latin typeface="Times New Roman"/>
            </a:endParaRPr>
          </a:p>
          <a:p>
            <a:pPr marL="339480" indent="-33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erage occupancy must not exceed 400 ms in  N*400 ms (where N is number of hopping channels).</a:t>
            </a:r>
            <a:endParaRPr b="0" lang="en-US" sz="2800" spc="-1" strike="noStrike">
              <a:solidFill>
                <a:srgbClr val="000000"/>
              </a:solidFill>
              <a:latin typeface="Times New Roman"/>
            </a:endParaRPr>
          </a:p>
          <a:p>
            <a:pPr marL="339480" indent="-33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ximum 125 mwatts if using &lt; 75 hopping channels.</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5465B095-F446-4D84-9A1A-CE9FD070CC6C}" type="slidenum">
              <a:t>8</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1-01/095r2</a:t>
            </a:r>
            <a:endParaRPr b="0" lang="en-US" sz="36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c Hayes has recommended adding a Sixth Requirement to the Five Criteria Docume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ulatory Complian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trum Sharing Feasibility</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38AC00BF-5121-4952-83DD-75E837A151F8}" type="slidenum">
              <a:t>9</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5T16:01:39Z</dcterms:created>
  <dc:creator>Steve Shellhammer</dc:creator>
  <dc:description>&lt;doc#&gt;</dc:description>
  <dc:language>en-US</dc:language>
  <cp:lastModifiedBy>Stephen J. Shellhammer</cp:lastModifiedBy>
  <cp:lastPrinted>2000-09-20T20:30:42Z</cp:lastPrinted>
  <dcterms:modified xsi:type="dcterms:W3CDTF">2001-05-18T12:08:54Z</dcterms:modified>
  <cp:revision>343</cp:revision>
  <dc:subject>IEEE 802.15 &lt;subject&gt;</dc:subject>
  <dc:title>IEEE P802.15 Working Group for Wireless Personal Area Networks</dc:title>
</cp:coreProperties>
</file>