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0501B-7765-4165-B060-4B7A7989F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94E97-ECCC-4290-8CAB-989B5FC18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2EEE9-FD20-44FA-88E1-9C383519E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5C64B-FA6A-4C26-B635-65063D2DF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4253E-25D2-443B-9C39-5DE76137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050A2-C776-4362-8630-862B2DA3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EE44-9E25-40FB-9538-5ACD6F85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C3283-696D-496A-AC65-5119B97D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88E3D-6454-4518-A86E-10C0CCD3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1AAC-C6C7-401D-B0F9-E6BA234A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0D26E-AC90-46A6-A0E7-176E5F17B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FAD2-4ADF-4475-A475-5383E14F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412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B20115-E522-4AB3-90F3-4FBFF1032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886200" y="396000"/>
            <a:ext cx="45720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P802.15-01/22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838080"/>
            <a:ext cx="7772400" cy="54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Physical Layer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Carl R. Stevenson]    Company: [Agere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555 Union Boulevard, Room 22W214EQ, Allentown, PA 18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610) 712-8514], FAX: [(610) 712-4508], E-Mail:[carlstevenson@agere.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PHY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PHY proposal for a Low Rate WPAN intended to be compliant with the P802.115.4 PAR.  It is based on proven, low risk technology, which can be implemented at low cost and can provide scaleable data rates with robust performance and low power consumption for low data rate, battery-powered devices intended to communicate within the 10m “bubble” which defines the PAN operating space.]</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B04BD581-A658-41FF-B507-53D8C423671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 (filtered)</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1523880" y="1600200"/>
            <a:ext cx="6324840" cy="48182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3A20863-FBC6-4B11-A744-CA9A35402774}" type="slidenum">
              <a:t>1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TX Signal at 1.360 MHz Low IF</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1447920" y="1600200"/>
            <a:ext cx="6248160" cy="48243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9E28263-A68E-42E8-BCAE-DF699B983CA5}" type="slidenum">
              <a:t>1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to demonstrate image rejection - lower Fo used to reduce simulation time)</a:t>
            </a:r>
            <a:endParaRPr b="0" lang="en-US" sz="1400" spc="-1" strike="noStrike">
              <a:solidFill>
                <a:srgbClr val="000000"/>
              </a:solidFill>
              <a:latin typeface="Times New Roman"/>
            </a:endParaRPr>
          </a:p>
        </p:txBody>
      </p:sp>
      <p:pic>
        <p:nvPicPr>
          <p:cNvPr id="69" name="" descr=""/>
          <p:cNvPicPr/>
          <p:nvPr/>
        </p:nvPicPr>
        <p:blipFill>
          <a:blip r:embed="rId1"/>
          <a:stretch/>
        </p:blipFill>
        <p:spPr>
          <a:xfrm>
            <a:off x="1523880" y="1676520"/>
            <a:ext cx="6248520" cy="4741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71B4412-CEE2-40CD-8562-5310E4DD1468}"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Modulated Signal Image-reject Upconverted to 71.36 MHz</a:t>
            </a:r>
            <a:br>
              <a:rPr sz="2400"/>
            </a:br>
            <a:r>
              <a:rPr b="0" lang="en-US" sz="1400" spc="-1" strike="noStrike">
                <a:solidFill>
                  <a:srgbClr val="000000"/>
                </a:solidFill>
                <a:latin typeface="Verdana"/>
              </a:rPr>
              <a:t>(less resolution than low IF simulation due to FFT size at higher Fo)</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1676520" y="1676520"/>
            <a:ext cx="6248160" cy="47862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5816FDC-8137-4B41-88AC-8C94571D701D}"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73" name=""/>
          <p:cNvGraphicFramePr/>
          <p:nvPr/>
        </p:nvGraphicFramePr>
        <p:xfrm>
          <a:off x="914400" y="1600200"/>
          <a:ext cx="7086600" cy="4745160"/>
        </p:xfrm>
        <a:graphic>
          <a:graphicData uri="http://schemas.openxmlformats.org/presentationml/2006/ole">
            <p:oleObj r:id="rId1" spid="">
              <p:embed/>
              <p:pic>
                <p:nvPicPr>
                  <p:cNvPr id="74"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E6B58820-3453-47CC-878B-374EAB1CC356}"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ed Receiver Performance of a Similar System Using an All-Digital FSK Demodulator</a:t>
            </a:r>
            <a:endParaRPr b="0" lang="en-US" sz="2400" spc="-1" strike="noStrike">
              <a:solidFill>
                <a:srgbClr val="000000"/>
              </a:solidFill>
              <a:latin typeface="Times New Roman"/>
            </a:endParaRPr>
          </a:p>
        </p:txBody>
      </p:sp>
      <p:graphicFrame>
        <p:nvGraphicFramePr>
          <p:cNvPr id="76" name=""/>
          <p:cNvGraphicFramePr/>
          <p:nvPr/>
        </p:nvGraphicFramePr>
        <p:xfrm>
          <a:off x="762120" y="1371600"/>
          <a:ext cx="7692840" cy="5261040"/>
        </p:xfrm>
        <a:graphic>
          <a:graphicData uri="http://schemas.openxmlformats.org/presentationml/2006/ole">
            <p:oleObj progId="Excel.Sheet.12" r:id="rId1" spid="">
              <p:embed/>
              <p:pic>
                <p:nvPicPr>
                  <p:cNvPr id="77" name="" descr=""/>
                  <p:cNvPicPr/>
                  <p:nvPr/>
                </p:nvPicPr>
                <p:blipFill>
                  <a:blip r:embed="rId2"/>
                  <a:stretch/>
                </p:blipFill>
                <p:spPr>
                  <a:xfrm>
                    <a:off x="762120" y="1371600"/>
                    <a:ext cx="7692840" cy="526104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22DBD23D-324B-47C5-BBFA-34C89A00514D}"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th Order Complex Filter:</a:t>
            </a:r>
            <a:br>
              <a:rPr sz="2400"/>
            </a:br>
            <a:r>
              <a:rPr b="1" lang="en-US" sz="2400" spc="-1" strike="noStrike">
                <a:solidFill>
                  <a:srgbClr val="000000"/>
                </a:solidFill>
                <a:latin typeface="Verdana"/>
              </a:rPr>
              <a:t>Block Diagram and Pole Location</a:t>
            </a:r>
            <a:endParaRPr b="0" lang="en-US" sz="2400" spc="-1" strike="noStrike">
              <a:solidFill>
                <a:srgbClr val="000000"/>
              </a:solidFill>
              <a:latin typeface="Times New Roman"/>
            </a:endParaRPr>
          </a:p>
        </p:txBody>
      </p:sp>
      <p:grpSp>
        <p:nvGrpSpPr>
          <p:cNvPr id="79" name=""/>
          <p:cNvGrpSpPr/>
          <p:nvPr/>
        </p:nvGrpSpPr>
        <p:grpSpPr>
          <a:xfrm>
            <a:off x="990720" y="3427560"/>
            <a:ext cx="6247800" cy="2058480"/>
            <a:chOff x="990720" y="3427560"/>
            <a:chExt cx="6247800" cy="2058480"/>
          </a:xfrm>
        </p:grpSpPr>
        <p:sp>
          <p:nvSpPr>
            <p:cNvPr id="80" name=""/>
            <p:cNvSpPr/>
            <p:nvPr/>
          </p:nvSpPr>
          <p:spPr>
            <a:xfrm>
              <a:off x="1218960" y="480060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8960" y="3581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599840" y="3581640"/>
              <a:ext cx="876960" cy="1218600"/>
              <a:chOff x="1599840" y="3581640"/>
              <a:chExt cx="876960" cy="1218600"/>
            </a:xfrm>
          </p:grpSpPr>
          <p:sp>
            <p:nvSpPr>
              <p:cNvPr id="83" name=""/>
              <p:cNvSpPr/>
              <p:nvPr/>
            </p:nvSpPr>
            <p:spPr>
              <a:xfrm flipV="1">
                <a:off x="1599840" y="4343400"/>
                <a:ext cx="151920" cy="75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84" name=""/>
              <p:cNvSpPr/>
              <p:nvPr/>
            </p:nvSpPr>
            <p:spPr>
              <a:xfrm flipV="1">
                <a:off x="1675800" y="41904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675800" y="419076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752120" y="380808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1</a:t>
                </a:r>
                <a:endParaRPr b="0" lang="en-US" sz="1400" spc="-1" strike="noStrike">
                  <a:solidFill>
                    <a:srgbClr val="000000"/>
                  </a:solidFill>
                  <a:latin typeface="Times New Roman"/>
                </a:endParaRPr>
              </a:p>
            </p:txBody>
          </p:sp>
          <p:sp>
            <p:nvSpPr>
              <p:cNvPr id="87" name=""/>
              <p:cNvSpPr/>
              <p:nvPr/>
            </p:nvSpPr>
            <p:spPr>
              <a:xfrm>
                <a:off x="1828080" y="3809880"/>
                <a:ext cx="60912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33000" y="45720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33000" y="35816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514240" y="3427560"/>
              <a:ext cx="1676160" cy="1905840"/>
              <a:chOff x="2514240" y="3427560"/>
              <a:chExt cx="1676160" cy="1905840"/>
            </a:xfrm>
          </p:grpSpPr>
          <p:grpSp>
            <p:nvGrpSpPr>
              <p:cNvPr id="91" name=""/>
              <p:cNvGrpSpPr/>
              <p:nvPr/>
            </p:nvGrpSpPr>
            <p:grpSpPr>
              <a:xfrm>
                <a:off x="2757600" y="3427560"/>
                <a:ext cx="518040" cy="610560"/>
                <a:chOff x="2757600" y="3427560"/>
                <a:chExt cx="518040" cy="610560"/>
              </a:xfrm>
            </p:grpSpPr>
            <p:sp>
              <p:nvSpPr>
                <p:cNvPr id="92" name=""/>
                <p:cNvSpPr/>
                <p:nvPr/>
              </p:nvSpPr>
              <p:spPr>
                <a:xfrm rot="16200000">
                  <a:off x="2742480" y="350496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2757600" y="342756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94" name=""/>
              <p:cNvGrpSpPr/>
              <p:nvPr/>
            </p:nvGrpSpPr>
            <p:grpSpPr>
              <a:xfrm>
                <a:off x="2590200" y="3885840"/>
                <a:ext cx="228600" cy="228600"/>
                <a:chOff x="2590200" y="3885840"/>
                <a:chExt cx="228600" cy="228600"/>
              </a:xfrm>
            </p:grpSpPr>
            <p:sp>
              <p:nvSpPr>
                <p:cNvPr id="95" name=""/>
                <p:cNvSpPr/>
                <p:nvPr/>
              </p:nvSpPr>
              <p:spPr>
                <a:xfrm flipV="1">
                  <a:off x="2590200" y="40381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96" name=""/>
                <p:cNvSpPr/>
                <p:nvPr/>
              </p:nvSpPr>
              <p:spPr>
                <a:xfrm flipV="1">
                  <a:off x="2666520" y="38858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666520" y="3885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757600" y="4646880"/>
                <a:ext cx="518040" cy="610920"/>
                <a:chOff x="2757600" y="4646880"/>
                <a:chExt cx="518040" cy="610920"/>
              </a:xfrm>
            </p:grpSpPr>
            <p:sp>
              <p:nvSpPr>
                <p:cNvPr id="99" name=""/>
                <p:cNvSpPr/>
                <p:nvPr/>
              </p:nvSpPr>
              <p:spPr>
                <a:xfrm rot="16200000">
                  <a:off x="2742120" y="472428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2757600" y="464688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01" name=""/>
              <p:cNvGrpSpPr/>
              <p:nvPr/>
            </p:nvGrpSpPr>
            <p:grpSpPr>
              <a:xfrm>
                <a:off x="2590200" y="5104800"/>
                <a:ext cx="228600" cy="228600"/>
                <a:chOff x="2590200" y="5104800"/>
                <a:chExt cx="228600" cy="228600"/>
              </a:xfrm>
            </p:grpSpPr>
            <p:sp>
              <p:nvSpPr>
                <p:cNvPr id="102" name=""/>
                <p:cNvSpPr/>
                <p:nvPr/>
              </p:nvSpPr>
              <p:spPr>
                <a:xfrm flipV="1">
                  <a:off x="2590200" y="525708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03" name=""/>
                <p:cNvSpPr/>
                <p:nvPr/>
              </p:nvSpPr>
              <p:spPr>
                <a:xfrm flipV="1">
                  <a:off x="2666520" y="51048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520" y="5104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flipH="1">
                <a:off x="2514240" y="48006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514240" y="35812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76000" y="495288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276000" y="373356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200040" y="3733560"/>
                <a:ext cx="876960" cy="1219320"/>
                <a:chOff x="3200040" y="3733560"/>
                <a:chExt cx="876960" cy="1219320"/>
              </a:xfrm>
            </p:grpSpPr>
            <p:sp>
              <p:nvSpPr>
                <p:cNvPr id="110" name=""/>
                <p:cNvSpPr/>
                <p:nvPr/>
              </p:nvSpPr>
              <p:spPr>
                <a:xfrm flipV="1">
                  <a:off x="3200040" y="449496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11" name=""/>
                <p:cNvSpPr/>
                <p:nvPr/>
              </p:nvSpPr>
              <p:spPr>
                <a:xfrm flipV="1">
                  <a:off x="3276000" y="43430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76000" y="434304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320" y="396072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2</a:t>
                  </a:r>
                  <a:endParaRPr b="0" lang="en-US" sz="1400" spc="-1" strike="noStrike">
                    <a:solidFill>
                      <a:srgbClr val="000000"/>
                    </a:solidFill>
                    <a:latin typeface="Times New Roman"/>
                  </a:endParaRPr>
                </a:p>
              </p:txBody>
            </p:sp>
            <p:sp>
              <p:nvSpPr>
                <p:cNvPr id="114" name=""/>
                <p:cNvSpPr/>
                <p:nvPr/>
              </p:nvSpPr>
              <p:spPr>
                <a:xfrm>
                  <a:off x="3428280" y="396216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33200" y="4724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733200" y="37335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5562360" y="3580200"/>
              <a:ext cx="1676160" cy="1905840"/>
              <a:chOff x="5562360" y="3580200"/>
              <a:chExt cx="1676160" cy="1905840"/>
            </a:xfrm>
          </p:grpSpPr>
          <p:grpSp>
            <p:nvGrpSpPr>
              <p:cNvPr id="118" name=""/>
              <p:cNvGrpSpPr/>
              <p:nvPr/>
            </p:nvGrpSpPr>
            <p:grpSpPr>
              <a:xfrm>
                <a:off x="5805720" y="3580200"/>
                <a:ext cx="518040" cy="610560"/>
                <a:chOff x="5805720" y="3580200"/>
                <a:chExt cx="518040" cy="610560"/>
              </a:xfrm>
            </p:grpSpPr>
            <p:sp>
              <p:nvSpPr>
                <p:cNvPr id="119" name=""/>
                <p:cNvSpPr/>
                <p:nvPr/>
              </p:nvSpPr>
              <p:spPr>
                <a:xfrm rot="16200000">
                  <a:off x="5790600" y="3657600"/>
                  <a:ext cx="609480" cy="456840"/>
                </a:xfrm>
                <a:custGeom>
                  <a:avLst/>
                  <a:gdLst>
                    <a:gd name="textAreaLeft" fmla="*/ 133920 w 609480"/>
                    <a:gd name="textAreaRight" fmla="*/ 475560 w 60948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805720" y="358020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1" name=""/>
              <p:cNvGrpSpPr/>
              <p:nvPr/>
            </p:nvGrpSpPr>
            <p:grpSpPr>
              <a:xfrm>
                <a:off x="5638320" y="4038480"/>
                <a:ext cx="228600" cy="228600"/>
                <a:chOff x="5638320" y="4038480"/>
                <a:chExt cx="228600" cy="228600"/>
              </a:xfrm>
            </p:grpSpPr>
            <p:sp>
              <p:nvSpPr>
                <p:cNvPr id="122" name=""/>
                <p:cNvSpPr/>
                <p:nvPr/>
              </p:nvSpPr>
              <p:spPr>
                <a:xfrm flipV="1">
                  <a:off x="5638320" y="419076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23" name=""/>
                <p:cNvSpPr/>
                <p:nvPr/>
              </p:nvSpPr>
              <p:spPr>
                <a:xfrm flipV="1">
                  <a:off x="5714640" y="4038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714640" y="40384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5805720" y="4799520"/>
                <a:ext cx="518040" cy="610920"/>
                <a:chOff x="5805720" y="4799520"/>
                <a:chExt cx="518040" cy="610920"/>
              </a:xfrm>
            </p:grpSpPr>
            <p:sp>
              <p:nvSpPr>
                <p:cNvPr id="126" name=""/>
                <p:cNvSpPr/>
                <p:nvPr/>
              </p:nvSpPr>
              <p:spPr>
                <a:xfrm rot="16200000">
                  <a:off x="5790240" y="4876920"/>
                  <a:ext cx="609840" cy="456840"/>
                </a:xfrm>
                <a:custGeom>
                  <a:avLst/>
                  <a:gdLst>
                    <a:gd name="textAreaLeft" fmla="*/ 133920 w 609840"/>
                    <a:gd name="textAreaRight" fmla="*/ 475920 w 609840"/>
                    <a:gd name="textAreaTop" fmla="*/ 100440 h 456840"/>
                    <a:gd name="textAreaBottom" fmla="*/ 356400 h 4568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805720" y="4799520"/>
                  <a:ext cx="2829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a:t>
                  </a:r>
                  <a:endParaRPr b="0" lang="en-US" sz="1400" spc="-1" strike="noStrike">
                    <a:solidFill>
                      <a:srgbClr val="000000"/>
                    </a:solidFill>
                    <a:latin typeface="Times New Roman"/>
                  </a:endParaRPr>
                </a:p>
              </p:txBody>
            </p:sp>
          </p:grpSp>
          <p:grpSp>
            <p:nvGrpSpPr>
              <p:cNvPr id="128" name=""/>
              <p:cNvGrpSpPr/>
              <p:nvPr/>
            </p:nvGrpSpPr>
            <p:grpSpPr>
              <a:xfrm>
                <a:off x="5638320" y="5257440"/>
                <a:ext cx="228600" cy="228600"/>
                <a:chOff x="5638320" y="5257440"/>
                <a:chExt cx="228600" cy="228600"/>
              </a:xfrm>
            </p:grpSpPr>
            <p:sp>
              <p:nvSpPr>
                <p:cNvPr id="129" name=""/>
                <p:cNvSpPr/>
                <p:nvPr/>
              </p:nvSpPr>
              <p:spPr>
                <a:xfrm flipV="1">
                  <a:off x="5638320" y="5409720"/>
                  <a:ext cx="152640" cy="763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30" name=""/>
                <p:cNvSpPr/>
                <p:nvPr/>
              </p:nvSpPr>
              <p:spPr>
                <a:xfrm flipV="1">
                  <a:off x="5714640" y="52574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4640" y="52574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562360" y="495324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56236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24120" y="5105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6324120" y="38862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 name=""/>
              <p:cNvGrpSpPr/>
              <p:nvPr/>
            </p:nvGrpSpPr>
            <p:grpSpPr>
              <a:xfrm>
                <a:off x="6248160" y="3886200"/>
                <a:ext cx="876960" cy="1219320"/>
                <a:chOff x="6248160" y="3886200"/>
                <a:chExt cx="876960" cy="1219320"/>
              </a:xfrm>
            </p:grpSpPr>
            <p:sp>
              <p:nvSpPr>
                <p:cNvPr id="137" name=""/>
                <p:cNvSpPr/>
                <p:nvPr/>
              </p:nvSpPr>
              <p:spPr>
                <a:xfrm flipV="1">
                  <a:off x="6248160" y="4647600"/>
                  <a:ext cx="151920" cy="759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138" name=""/>
                <p:cNvSpPr/>
                <p:nvPr/>
              </p:nvSpPr>
              <p:spPr>
                <a:xfrm flipV="1">
                  <a:off x="6324120" y="4495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24120" y="44956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00440" y="4113360"/>
                  <a:ext cx="7246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_Z(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e 5</a:t>
                  </a:r>
                  <a:endParaRPr b="0" lang="en-US" sz="1400" spc="-1" strike="noStrike">
                    <a:solidFill>
                      <a:srgbClr val="000000"/>
                    </a:solidFill>
                    <a:latin typeface="Times New Roman"/>
                  </a:endParaRPr>
                </a:p>
              </p:txBody>
            </p:sp>
            <p:sp>
              <p:nvSpPr>
                <p:cNvPr id="141" name=""/>
                <p:cNvSpPr/>
                <p:nvPr/>
              </p:nvSpPr>
              <p:spPr>
                <a:xfrm>
                  <a:off x="6476400" y="4114800"/>
                  <a:ext cx="60912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78132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320" y="3886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4" name=""/>
            <p:cNvSpPr/>
            <p:nvPr/>
          </p:nvSpPr>
          <p:spPr>
            <a:xfrm>
              <a:off x="4343040" y="495324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040" y="3733920"/>
              <a:ext cx="10666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80060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95280" y="3581640"/>
              <a:ext cx="304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90720" y="3505320"/>
              <a:ext cx="151920" cy="1371600"/>
            </a:xfrm>
            <a:custGeom>
              <a:avLst/>
              <a:gdLst>
                <a:gd name="textAreaLeft" fmla="*/ 97200 w 151920"/>
                <a:gd name="textAreaRight" fmla="*/ 152280 w 151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rot="16200000">
            <a:off x="37800" y="3767040"/>
            <a:ext cx="12643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urrent inp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rectly fro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mixers)</a:t>
            </a:r>
            <a:endParaRPr b="0" lang="en-US" sz="1400" spc="-1" strike="noStrike">
              <a:solidFill>
                <a:srgbClr val="000000"/>
              </a:solidFill>
              <a:latin typeface="Times New Roman"/>
            </a:endParaRPr>
          </a:p>
        </p:txBody>
      </p:sp>
      <p:grpSp>
        <p:nvGrpSpPr>
          <p:cNvPr id="150" name=""/>
          <p:cNvGrpSpPr/>
          <p:nvPr/>
        </p:nvGrpSpPr>
        <p:grpSpPr>
          <a:xfrm>
            <a:off x="7238880" y="1828800"/>
            <a:ext cx="1413720" cy="2819520"/>
            <a:chOff x="7238880" y="1828800"/>
            <a:chExt cx="1413720" cy="2819520"/>
          </a:xfrm>
        </p:grpSpPr>
        <p:sp>
          <p:nvSpPr>
            <p:cNvPr id="151" name=""/>
            <p:cNvSpPr/>
            <p:nvPr/>
          </p:nvSpPr>
          <p:spPr>
            <a:xfrm>
              <a:off x="7924680" y="1828800"/>
              <a:ext cx="0" cy="2819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7392960" y="1980720"/>
              <a:ext cx="887400" cy="915840"/>
              <a:chOff x="7392960" y="1980720"/>
              <a:chExt cx="887400" cy="915840"/>
            </a:xfrm>
          </p:grpSpPr>
          <p:sp>
            <p:nvSpPr>
              <p:cNvPr id="153" name=""/>
              <p:cNvSpPr/>
              <p:nvPr/>
            </p:nvSpPr>
            <p:spPr>
              <a:xfrm flipV="1" rot="5400000">
                <a:off x="7518600" y="2057400"/>
                <a:ext cx="761760" cy="761760"/>
              </a:xfrm>
              <a:custGeom>
                <a:avLst/>
                <a:gdLst/>
                <a:ahLst/>
                <a:rect l="l" t="t" r="r" b="b"/>
                <a:pathLst>
                  <a:path stroke="0" w="21600" h="21600">
                    <a:moveTo>
                      <a:pt x="1" y="10974"/>
                    </a:moveTo>
                    <a:arcTo wR="10800" hR="10800" stAng="10744490" swAng="10855510"/>
                    <a:lnTo>
                      <a:pt x="10800" y="10800"/>
                    </a:lnTo>
                    <a:close/>
                  </a:path>
                  <a:path fill="none" w="21600" h="21600">
                    <a:moveTo>
                      <a:pt x="1" y="10974"/>
                    </a:moveTo>
                    <a:arcTo wR="10800" hR="10800" stAng="10744490" swAng="10855510"/>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6240" y="19807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5" name=""/>
              <p:cNvSpPr/>
              <p:nvPr/>
            </p:nvSpPr>
            <p:spPr>
              <a:xfrm>
                <a:off x="7621560" y="268092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6" name=""/>
              <p:cNvSpPr/>
              <p:nvPr/>
            </p:nvSpPr>
            <p:spPr>
              <a:xfrm>
                <a:off x="7459560" y="25426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7" name=""/>
              <p:cNvSpPr/>
              <p:nvPr/>
            </p:nvSpPr>
            <p:spPr>
              <a:xfrm>
                <a:off x="7464240" y="21189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8" name=""/>
              <p:cNvSpPr/>
              <p:nvPr/>
            </p:nvSpPr>
            <p:spPr>
              <a:xfrm>
                <a:off x="7392960" y="2337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59" name=""/>
              <p:cNvSpPr/>
              <p:nvPr/>
            </p:nvSpPr>
            <p:spPr>
              <a:xfrm>
                <a:off x="7924680" y="243864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7387920" y="3477600"/>
              <a:ext cx="487800" cy="944640"/>
              <a:chOff x="7387920" y="3477600"/>
              <a:chExt cx="487800" cy="944640"/>
            </a:xfrm>
          </p:grpSpPr>
          <p:sp>
            <p:nvSpPr>
              <p:cNvPr id="161" name=""/>
              <p:cNvSpPr/>
              <p:nvPr/>
            </p:nvSpPr>
            <p:spPr>
              <a:xfrm>
                <a:off x="7626240" y="35046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2" name=""/>
              <p:cNvSpPr/>
              <p:nvPr/>
            </p:nvSpPr>
            <p:spPr>
              <a:xfrm>
                <a:off x="7621560" y="420480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3" name=""/>
              <p:cNvSpPr/>
              <p:nvPr/>
            </p:nvSpPr>
            <p:spPr>
              <a:xfrm>
                <a:off x="7459560" y="406656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4" name=""/>
              <p:cNvSpPr/>
              <p:nvPr/>
            </p:nvSpPr>
            <p:spPr>
              <a:xfrm>
                <a:off x="7464240" y="364284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5" name=""/>
              <p:cNvSpPr/>
              <p:nvPr/>
            </p:nvSpPr>
            <p:spPr>
              <a:xfrm>
                <a:off x="7392960" y="3862080"/>
                <a:ext cx="2494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X</a:t>
                </a:r>
                <a:endParaRPr b="0" lang="en-US" sz="800" spc="-1" strike="noStrike">
                  <a:solidFill>
                    <a:srgbClr val="000000"/>
                  </a:solidFill>
                  <a:latin typeface="Times New Roman"/>
                </a:endParaRPr>
              </a:p>
            </p:txBody>
          </p:sp>
          <p:sp>
            <p:nvSpPr>
              <p:cNvPr id="166" name=""/>
              <p:cNvSpPr/>
              <p:nvPr/>
            </p:nvSpPr>
            <p:spPr>
              <a:xfrm>
                <a:off x="7623000" y="3477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7" name=""/>
              <p:cNvSpPr/>
              <p:nvPr/>
            </p:nvSpPr>
            <p:spPr>
              <a:xfrm>
                <a:off x="7616520" y="41760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8" name=""/>
              <p:cNvSpPr/>
              <p:nvPr/>
            </p:nvSpPr>
            <p:spPr>
              <a:xfrm>
                <a:off x="7457760" y="3617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69" name=""/>
              <p:cNvSpPr/>
              <p:nvPr/>
            </p:nvSpPr>
            <p:spPr>
              <a:xfrm>
                <a:off x="7387920" y="3833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sp>
            <p:nvSpPr>
              <p:cNvPr id="170" name=""/>
              <p:cNvSpPr/>
              <p:nvPr/>
            </p:nvSpPr>
            <p:spPr>
              <a:xfrm>
                <a:off x="7459560" y="40330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o</a:t>
                </a:r>
                <a:endParaRPr b="0" lang="en-US" sz="1000" spc="-1" strike="noStrike">
                  <a:solidFill>
                    <a:srgbClr val="000000"/>
                  </a:solidFill>
                  <a:latin typeface="Times New Roman"/>
                </a:endParaRPr>
              </a:p>
            </p:txBody>
          </p:sp>
        </p:grpSp>
        <p:sp>
          <p:nvSpPr>
            <p:cNvPr id="171" name=""/>
            <p:cNvSpPr/>
            <p:nvPr/>
          </p:nvSpPr>
          <p:spPr>
            <a:xfrm flipH="1">
              <a:off x="7238880" y="32004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77320" y="2438640"/>
              <a:ext cx="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87760" y="2575800"/>
              <a:ext cx="5648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36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Hz</a:t>
              </a:r>
              <a:endParaRPr b="0" lang="en-US" sz="1200" spc="-1" strike="noStrike">
                <a:solidFill>
                  <a:srgbClr val="000000"/>
                </a:solidFill>
                <a:latin typeface="Times New Roman"/>
              </a:endParaRPr>
            </a:p>
          </p:txBody>
        </p:sp>
        <p:sp>
          <p:nvSpPr>
            <p:cNvPr id="174" name=""/>
            <p:cNvSpPr/>
            <p:nvPr/>
          </p:nvSpPr>
          <p:spPr>
            <a:xfrm>
              <a:off x="7264080" y="2323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a:t>
              </a:r>
              <a:endParaRPr b="0" lang="en-US" sz="1000" spc="-1" strike="noStrike">
                <a:solidFill>
                  <a:srgbClr val="000000"/>
                </a:solidFill>
                <a:latin typeface="Times New Roman"/>
              </a:endParaRPr>
            </a:p>
          </p:txBody>
        </p:sp>
        <p:sp>
          <p:nvSpPr>
            <p:cNvPr id="175" name=""/>
            <p:cNvSpPr/>
            <p:nvPr/>
          </p:nvSpPr>
          <p:spPr>
            <a:xfrm>
              <a:off x="7354800" y="25282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a:t>
              </a:r>
              <a:endParaRPr b="0" lang="en-US" sz="1000" spc="-1" strike="noStrike">
                <a:solidFill>
                  <a:srgbClr val="000000"/>
                </a:solidFill>
                <a:latin typeface="Times New Roman"/>
              </a:endParaRPr>
            </a:p>
          </p:txBody>
        </p:sp>
        <p:sp>
          <p:nvSpPr>
            <p:cNvPr id="176" name=""/>
            <p:cNvSpPr/>
            <p:nvPr/>
          </p:nvSpPr>
          <p:spPr>
            <a:xfrm>
              <a:off x="7350120" y="20948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3</a:t>
              </a:r>
              <a:endParaRPr b="0" lang="en-US" sz="1000" spc="-1" strike="noStrike">
                <a:solidFill>
                  <a:srgbClr val="000000"/>
                </a:solidFill>
                <a:latin typeface="Times New Roman"/>
              </a:endParaRPr>
            </a:p>
          </p:txBody>
        </p:sp>
        <p:sp>
          <p:nvSpPr>
            <p:cNvPr id="177" name=""/>
            <p:cNvSpPr/>
            <p:nvPr/>
          </p:nvSpPr>
          <p:spPr>
            <a:xfrm>
              <a:off x="7507080" y="26805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4</a:t>
              </a:r>
              <a:endParaRPr b="0" lang="en-US" sz="1000" spc="-1" strike="noStrike">
                <a:solidFill>
                  <a:srgbClr val="000000"/>
                </a:solidFill>
                <a:latin typeface="Times New Roman"/>
              </a:endParaRPr>
            </a:p>
          </p:txBody>
        </p:sp>
        <p:sp>
          <p:nvSpPr>
            <p:cNvPr id="178" name=""/>
            <p:cNvSpPr/>
            <p:nvPr/>
          </p:nvSpPr>
          <p:spPr>
            <a:xfrm>
              <a:off x="7516800" y="19281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a:t>
              </a:r>
              <a:endParaRPr b="0" lang="en-US" sz="1000" spc="-1" strike="noStrike">
                <a:solidFill>
                  <a:srgbClr val="000000"/>
                </a:solidFill>
                <a:latin typeface="Times New Roman"/>
              </a:endParaRPr>
            </a:p>
          </p:txBody>
        </p:sp>
      </p:grpSp>
      <p:sp>
        <p:nvSpPr>
          <p:cNvPr id="179" name=""/>
          <p:cNvSpPr/>
          <p:nvPr/>
        </p:nvSpPr>
        <p:spPr>
          <a:xfrm>
            <a:off x="918360" y="2133720"/>
            <a:ext cx="5554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lex filters can also provide channel selectivity i.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ppress adjacent channels (similar to a regular BP filter) </a:t>
            </a:r>
            <a:endParaRPr b="0" lang="en-US" sz="1600" spc="-1" strike="noStrike">
              <a:solidFill>
                <a:srgbClr val="000000"/>
              </a:solidFill>
              <a:latin typeface="Times New Roman"/>
            </a:endParaRPr>
          </a:p>
        </p:txBody>
      </p:sp>
      <p:sp>
        <p:nvSpPr>
          <p:cNvPr id="180" name=""/>
          <p:cNvSpPr/>
          <p:nvPr/>
        </p:nvSpPr>
        <p:spPr>
          <a:xfrm>
            <a:off x="763200" y="5562360"/>
            <a:ext cx="408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e actual design is fully-differential</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FC50E1C2-A75D-4F20-8B35-D57ED0101CC8}"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asured Image Rejection in Actual Implementation Exceeds 40dB</a:t>
            </a:r>
            <a:endParaRPr b="0" lang="en-US" sz="2400" spc="-1" strike="noStrike">
              <a:solidFill>
                <a:srgbClr val="000000"/>
              </a:solidFill>
              <a:latin typeface="Times New Roman"/>
            </a:endParaRPr>
          </a:p>
        </p:txBody>
      </p:sp>
      <p:grpSp>
        <p:nvGrpSpPr>
          <p:cNvPr id="182" name=""/>
          <p:cNvGrpSpPr/>
          <p:nvPr/>
        </p:nvGrpSpPr>
        <p:grpSpPr>
          <a:xfrm>
            <a:off x="914400" y="1752480"/>
            <a:ext cx="7807680" cy="4226040"/>
            <a:chOff x="914400" y="1752480"/>
            <a:chExt cx="7807680" cy="4226040"/>
          </a:xfrm>
        </p:grpSpPr>
        <p:pic>
          <p:nvPicPr>
            <p:cNvPr id="183" name="IMAGE" descr=""/>
            <p:cNvPicPr/>
            <p:nvPr/>
          </p:nvPicPr>
          <p:blipFill>
            <a:blip r:embed="rId1"/>
            <a:stretch/>
          </p:blipFill>
          <p:spPr>
            <a:xfrm>
              <a:off x="914400" y="1752480"/>
              <a:ext cx="4800600" cy="4226040"/>
            </a:xfrm>
            <a:prstGeom prst="rect">
              <a:avLst/>
            </a:prstGeom>
            <a:ln w="0">
              <a:noFill/>
            </a:ln>
          </p:spPr>
        </p:pic>
        <p:sp>
          <p:nvSpPr>
            <p:cNvPr id="184" name=""/>
            <p:cNvSpPr/>
            <p:nvPr/>
          </p:nvSpPr>
          <p:spPr>
            <a:xfrm>
              <a:off x="2971800" y="2437920"/>
              <a:ext cx="7124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85" name=""/>
            <p:cNvSpPr/>
            <p:nvPr/>
          </p:nvSpPr>
          <p:spPr>
            <a:xfrm flipH="1" flipV="1">
              <a:off x="2742840" y="236196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5160" y="3504960"/>
              <a:ext cx="734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a:t>
              </a:r>
              <a:endParaRPr b="0" lang="en-US" sz="1600" spc="-1" strike="noStrike">
                <a:solidFill>
                  <a:srgbClr val="000000"/>
                </a:solidFill>
                <a:latin typeface="Times New Roman"/>
              </a:endParaRPr>
            </a:p>
          </p:txBody>
        </p:sp>
        <p:sp>
          <p:nvSpPr>
            <p:cNvPr id="187" name=""/>
            <p:cNvSpPr/>
            <p:nvPr/>
          </p:nvSpPr>
          <p:spPr>
            <a:xfrm flipH="1">
              <a:off x="2971440" y="373392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73240" y="3276360"/>
              <a:ext cx="3048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tones at the in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lter have the sa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e</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092E5FC0-79BF-4104-AD8C-2B396AD6EB97}"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e Size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685800" y="2057400"/>
            <a:ext cx="7686720" cy="2579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A20A08A-680B-4FC0-8BF9-C5F53EE6B0C9}"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Consumption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838080" y="2209680"/>
            <a:ext cx="7696440" cy="37195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A8B2FB6A-DD20-4576-8EDD-8AFB9D76641F}"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0" y="1600200"/>
            <a:ext cx="4551480" cy="1573200"/>
          </a:xfrm>
          <a:prstGeom prst="rect">
            <a:avLst/>
          </a:prstGeom>
          <a:ln w="0">
            <a:noFill/>
          </a:ln>
        </p:spPr>
      </p:pic>
      <p:sp>
        <p:nvSpPr>
          <p:cNvPr id="47" name=""/>
          <p:cNvSpPr/>
          <p:nvPr/>
        </p:nvSpPr>
        <p:spPr>
          <a:xfrm>
            <a:off x="685800" y="388620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HY Layer Proposal Submission to the IEEE P802.15.4 Low Rate WPAN Task Grou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316B1875-4E27-4E8E-B25A-39AEA7A846E2}"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IFE</a:t>
            </a:r>
            <a:endParaRPr b="0" lang="en-US" sz="2400" spc="-1" strike="noStrike">
              <a:solidFill>
                <a:srgbClr val="000000"/>
              </a:solidFill>
              <a:latin typeface="Times New Roman"/>
            </a:endParaRPr>
          </a:p>
        </p:txBody>
      </p:sp>
      <p:pic>
        <p:nvPicPr>
          <p:cNvPr id="194" name="" descr=""/>
          <p:cNvPicPr/>
          <p:nvPr/>
        </p:nvPicPr>
        <p:blipFill>
          <a:blip r:embed="rId1"/>
          <a:stretch/>
        </p:blipFill>
        <p:spPr>
          <a:xfrm>
            <a:off x="609480" y="2133720"/>
            <a:ext cx="8153640" cy="37908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03CF31B5-B330-4B3A-8701-5BEC1BC57B07}"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LP DFE</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533520" y="2209680"/>
            <a:ext cx="8124840" cy="37245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EA2EB738-BDA7-4BEF-B95B-6EED36C5F781}"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685800"/>
            <a:ext cx="815328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nk Budget, Receiver Performance,</a:t>
            </a:r>
            <a:br>
              <a:rPr sz="2400"/>
            </a:br>
            <a:r>
              <a:rPr b="1" lang="en-US" sz="2400" spc="-1" strike="noStrike">
                <a:solidFill>
                  <a:srgbClr val="000000"/>
                </a:solidFill>
                <a:latin typeface="Verdana"/>
              </a:rPr>
              <a:t>and Link Margin – HP DFE</a:t>
            </a:r>
            <a:endParaRPr b="0" lang="en-US" sz="2400" spc="-1" strike="noStrike">
              <a:solidFill>
                <a:srgbClr val="000000"/>
              </a:solidFill>
              <a:latin typeface="Times New Roman"/>
            </a:endParaRPr>
          </a:p>
        </p:txBody>
      </p:sp>
      <p:pic>
        <p:nvPicPr>
          <p:cNvPr id="198" name="" descr=""/>
          <p:cNvPicPr/>
          <p:nvPr/>
        </p:nvPicPr>
        <p:blipFill>
          <a:blip r:embed="rId1"/>
          <a:stretch/>
        </p:blipFill>
        <p:spPr>
          <a:xfrm>
            <a:off x="533520" y="2209680"/>
            <a:ext cx="8124840" cy="3695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02D57A8-82D2-408E-9C65-3599ABA691BA}"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a:t>
            </a:r>
            <a:endParaRPr b="0" lang="en-US" sz="2000" spc="-1" strike="noStrike">
              <a:solidFill>
                <a:srgbClr val="000000"/>
              </a:solidFill>
              <a:latin typeface="Times New Roman"/>
            </a:endParaRPr>
          </a:p>
        </p:txBody>
      </p:sp>
      <p:sp>
        <p:nvSpPr>
          <p:cNvPr id="200"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1" name=""/>
          <p:cNvGrpSpPr/>
          <p:nvPr/>
        </p:nvGrpSpPr>
        <p:grpSpPr>
          <a:xfrm>
            <a:off x="1447920" y="1371600"/>
            <a:ext cx="6203880" cy="5029200"/>
            <a:chOff x="1447920" y="1371600"/>
            <a:chExt cx="6203880" cy="5029200"/>
          </a:xfrm>
        </p:grpSpPr>
        <p:grpSp>
          <p:nvGrpSpPr>
            <p:cNvPr id="202" name=""/>
            <p:cNvGrpSpPr/>
            <p:nvPr/>
          </p:nvGrpSpPr>
          <p:grpSpPr>
            <a:xfrm>
              <a:off x="1452600" y="1374840"/>
              <a:ext cx="6194520" cy="5022000"/>
              <a:chOff x="1452600" y="1374840"/>
              <a:chExt cx="6194520" cy="5022000"/>
            </a:xfrm>
          </p:grpSpPr>
          <p:grpSp>
            <p:nvGrpSpPr>
              <p:cNvPr id="203" name=""/>
              <p:cNvGrpSpPr/>
              <p:nvPr/>
            </p:nvGrpSpPr>
            <p:grpSpPr>
              <a:xfrm>
                <a:off x="1452600" y="1374840"/>
                <a:ext cx="1519200" cy="456480"/>
                <a:chOff x="1452600" y="1374840"/>
                <a:chExt cx="1519200" cy="456480"/>
              </a:xfrm>
            </p:grpSpPr>
            <p:sp>
              <p:nvSpPr>
                <p:cNvPr id="204" name=""/>
                <p:cNvSpPr/>
                <p:nvPr/>
              </p:nvSpPr>
              <p:spPr>
                <a:xfrm>
                  <a:off x="1452600" y="1374840"/>
                  <a:ext cx="15192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1452600" y="1374840"/>
                  <a:ext cx="1519200" cy="456480"/>
                  <a:chOff x="1452600" y="1374840"/>
                  <a:chExt cx="1519200" cy="456480"/>
                </a:xfrm>
              </p:grpSpPr>
              <p:sp>
                <p:nvSpPr>
                  <p:cNvPr id="206" name=""/>
                  <p:cNvSpPr/>
                  <p:nvPr/>
                </p:nvSpPr>
                <p:spPr>
                  <a:xfrm>
                    <a:off x="1521000" y="1374840"/>
                    <a:ext cx="13824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452600" y="1374840"/>
                    <a:ext cx="151920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2971800" y="1374840"/>
                <a:ext cx="708120" cy="456480"/>
                <a:chOff x="2971800" y="1374840"/>
                <a:chExt cx="708120" cy="456480"/>
              </a:xfrm>
            </p:grpSpPr>
            <p:sp>
              <p:nvSpPr>
                <p:cNvPr id="209" name=""/>
                <p:cNvSpPr/>
                <p:nvPr/>
              </p:nvSpPr>
              <p:spPr>
                <a:xfrm>
                  <a:off x="2971800" y="1374840"/>
                  <a:ext cx="7081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2971800" y="1374840"/>
                  <a:ext cx="708120" cy="456480"/>
                  <a:chOff x="2971800" y="1374840"/>
                  <a:chExt cx="708120" cy="456480"/>
                </a:xfrm>
              </p:grpSpPr>
              <p:sp>
                <p:nvSpPr>
                  <p:cNvPr id="211" name=""/>
                  <p:cNvSpPr/>
                  <p:nvPr/>
                </p:nvSpPr>
                <p:spPr>
                  <a:xfrm>
                    <a:off x="3040200" y="1374840"/>
                    <a:ext cx="571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2971800" y="1374840"/>
                    <a:ext cx="7081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3679920" y="1374840"/>
                <a:ext cx="3316320" cy="456480"/>
                <a:chOff x="3679920" y="1374840"/>
                <a:chExt cx="3316320" cy="456480"/>
              </a:xfrm>
            </p:grpSpPr>
            <p:sp>
              <p:nvSpPr>
                <p:cNvPr id="214" name=""/>
                <p:cNvSpPr/>
                <p:nvPr/>
              </p:nvSpPr>
              <p:spPr>
                <a:xfrm>
                  <a:off x="3679920" y="1374840"/>
                  <a:ext cx="3316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3679920" y="1374840"/>
                  <a:ext cx="3316320" cy="456480"/>
                  <a:chOff x="3679920" y="1374840"/>
                  <a:chExt cx="3316320" cy="456480"/>
                </a:xfrm>
              </p:grpSpPr>
              <p:sp>
                <p:nvSpPr>
                  <p:cNvPr id="216" name=""/>
                  <p:cNvSpPr/>
                  <p:nvPr/>
                </p:nvSpPr>
                <p:spPr>
                  <a:xfrm>
                    <a:off x="3747960" y="1374840"/>
                    <a:ext cx="3179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3679920" y="1374840"/>
                    <a:ext cx="33163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6996240" y="1374840"/>
                <a:ext cx="650880" cy="456480"/>
                <a:chOff x="6996240" y="1374840"/>
                <a:chExt cx="650880" cy="456480"/>
              </a:xfrm>
            </p:grpSpPr>
            <p:sp>
              <p:nvSpPr>
                <p:cNvPr id="219" name=""/>
                <p:cNvSpPr/>
                <p:nvPr/>
              </p:nvSpPr>
              <p:spPr>
                <a:xfrm>
                  <a:off x="6996240" y="1374840"/>
                  <a:ext cx="650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6996240" y="1374840"/>
                  <a:ext cx="650880" cy="456480"/>
                  <a:chOff x="6996240" y="1374840"/>
                  <a:chExt cx="650880" cy="456480"/>
                </a:xfrm>
              </p:grpSpPr>
              <p:sp>
                <p:nvSpPr>
                  <p:cNvPr id="221" name=""/>
                  <p:cNvSpPr/>
                  <p:nvPr/>
                </p:nvSpPr>
                <p:spPr>
                  <a:xfrm>
                    <a:off x="7064280" y="1374840"/>
                    <a:ext cx="51444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6996240" y="1374840"/>
                    <a:ext cx="65088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1452600" y="1831320"/>
                <a:ext cx="1519200" cy="717480"/>
                <a:chOff x="1452600" y="1831320"/>
                <a:chExt cx="1519200" cy="717480"/>
              </a:xfrm>
            </p:grpSpPr>
            <p:sp>
              <p:nvSpPr>
                <p:cNvPr id="224" name=""/>
                <p:cNvSpPr/>
                <p:nvPr/>
              </p:nvSpPr>
              <p:spPr>
                <a:xfrm>
                  <a:off x="1521000" y="1831320"/>
                  <a:ext cx="138240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t Manufacturing Cos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1452600" y="1831320"/>
                  <a:ext cx="151920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971800" y="1831320"/>
                <a:ext cx="708120" cy="717480"/>
                <a:chOff x="2971800" y="1831320"/>
                <a:chExt cx="708120" cy="717480"/>
              </a:xfrm>
            </p:grpSpPr>
            <p:sp>
              <p:nvSpPr>
                <p:cNvPr id="227" name=""/>
                <p:cNvSpPr/>
                <p:nvPr/>
              </p:nvSpPr>
              <p:spPr>
                <a:xfrm>
                  <a:off x="3040200" y="1831320"/>
                  <a:ext cx="57132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2971800" y="1831320"/>
                  <a:ext cx="7081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679920" y="1831320"/>
                <a:ext cx="3316320" cy="717480"/>
                <a:chOff x="3679920" y="1831320"/>
                <a:chExt cx="3316320" cy="717480"/>
              </a:xfrm>
            </p:grpSpPr>
            <p:sp>
              <p:nvSpPr>
                <p:cNvPr id="230" name=""/>
                <p:cNvSpPr/>
                <p:nvPr/>
              </p:nvSpPr>
              <p:spPr>
                <a:xfrm>
                  <a:off x="3747960" y="1831320"/>
                  <a:ext cx="317988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area estimates + SOC mplementation, total system cost, including PHY, MAC, LLC &amp; simple application est. to be ~ $1.00-$1.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679920" y="1831320"/>
                  <a:ext cx="33163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6996240" y="1831320"/>
                <a:ext cx="650880" cy="717480"/>
                <a:chOff x="6996240" y="1831320"/>
                <a:chExt cx="650880" cy="717480"/>
              </a:xfrm>
            </p:grpSpPr>
            <p:sp>
              <p:nvSpPr>
                <p:cNvPr id="233" name=""/>
                <p:cNvSpPr/>
                <p:nvPr/>
              </p:nvSpPr>
              <p:spPr>
                <a:xfrm>
                  <a:off x="7064280" y="1831320"/>
                  <a:ext cx="51444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br>
                    <a:rPr sz="1200"/>
                  </a:b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6996240" y="1831320"/>
                  <a:ext cx="65088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1452600" y="2549160"/>
                <a:ext cx="1519200" cy="586800"/>
                <a:chOff x="1452600" y="2549160"/>
                <a:chExt cx="1519200" cy="586800"/>
              </a:xfrm>
            </p:grpSpPr>
            <p:sp>
              <p:nvSpPr>
                <p:cNvPr id="236" name=""/>
                <p:cNvSpPr/>
                <p:nvPr/>
              </p:nvSpPr>
              <p:spPr>
                <a:xfrm>
                  <a:off x="1521000" y="2549160"/>
                  <a:ext cx="138240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nce and Suscepti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1452600" y="2549160"/>
                  <a:ext cx="151920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971800" y="2549160"/>
                <a:ext cx="708120" cy="586800"/>
                <a:chOff x="2971800" y="2549160"/>
                <a:chExt cx="708120" cy="586800"/>
              </a:xfrm>
            </p:grpSpPr>
            <p:sp>
              <p:nvSpPr>
                <p:cNvPr id="239" name=""/>
                <p:cNvSpPr/>
                <p:nvPr/>
              </p:nvSpPr>
              <p:spPr>
                <a:xfrm>
                  <a:off x="3040200" y="2549160"/>
                  <a:ext cx="57132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2971800" y="2549160"/>
                  <a:ext cx="7081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3679920" y="2549160"/>
                <a:ext cx="3316320" cy="586800"/>
                <a:chOff x="3679920" y="2549160"/>
                <a:chExt cx="3316320" cy="586800"/>
              </a:xfrm>
            </p:grpSpPr>
            <p:sp>
              <p:nvSpPr>
                <p:cNvPr id="242" name=""/>
                <p:cNvSpPr/>
                <p:nvPr/>
              </p:nvSpPr>
              <p:spPr>
                <a:xfrm>
                  <a:off x="3747960" y="2549160"/>
                  <a:ext cx="317988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3679920" y="2549160"/>
                  <a:ext cx="33163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996240" y="2549160"/>
                <a:ext cx="650880" cy="586800"/>
                <a:chOff x="6996240" y="2549160"/>
                <a:chExt cx="650880" cy="586800"/>
              </a:xfrm>
            </p:grpSpPr>
            <p:sp>
              <p:nvSpPr>
                <p:cNvPr id="245" name=""/>
                <p:cNvSpPr/>
                <p:nvPr/>
              </p:nvSpPr>
              <p:spPr>
                <a:xfrm>
                  <a:off x="7064280" y="2549160"/>
                  <a:ext cx="51444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6996240" y="2549160"/>
                  <a:ext cx="65088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452600" y="3135960"/>
                <a:ext cx="1519200" cy="717120"/>
                <a:chOff x="1452600" y="3135960"/>
                <a:chExt cx="1519200" cy="717120"/>
              </a:xfrm>
            </p:grpSpPr>
            <p:sp>
              <p:nvSpPr>
                <p:cNvPr id="248" name=""/>
                <p:cNvSpPr/>
                <p:nvPr/>
              </p:nvSpPr>
              <p:spPr>
                <a:xfrm>
                  <a:off x="1521000" y="313596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1452600" y="313596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971800" y="3135960"/>
                <a:ext cx="708120" cy="717120"/>
                <a:chOff x="2971800" y="3135960"/>
                <a:chExt cx="708120" cy="717120"/>
              </a:xfrm>
            </p:grpSpPr>
            <p:sp>
              <p:nvSpPr>
                <p:cNvPr id="251" name=""/>
                <p:cNvSpPr/>
                <p:nvPr/>
              </p:nvSpPr>
              <p:spPr>
                <a:xfrm>
                  <a:off x="3040200" y="313596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971800" y="313596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679920" y="3135960"/>
                <a:ext cx="3316320" cy="717120"/>
                <a:chOff x="3679920" y="3135960"/>
                <a:chExt cx="3316320" cy="717120"/>
              </a:xfrm>
            </p:grpSpPr>
            <p:sp>
              <p:nvSpPr>
                <p:cNvPr id="254" name=""/>
                <p:cNvSpPr/>
                <p:nvPr/>
              </p:nvSpPr>
              <p:spPr>
                <a:xfrm>
                  <a:off x="3747960" y="313596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3679920" y="313596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996240" y="3135960"/>
                <a:ext cx="650880" cy="717120"/>
                <a:chOff x="6996240" y="3135960"/>
                <a:chExt cx="650880" cy="717120"/>
              </a:xfrm>
            </p:grpSpPr>
            <p:sp>
              <p:nvSpPr>
                <p:cNvPr id="257" name=""/>
                <p:cNvSpPr/>
                <p:nvPr/>
              </p:nvSpPr>
              <p:spPr>
                <a:xfrm>
                  <a:off x="7064280" y="313596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6996240" y="313596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452600" y="3853440"/>
                <a:ext cx="1519200" cy="847800"/>
                <a:chOff x="1452600" y="3853440"/>
                <a:chExt cx="1519200" cy="847800"/>
              </a:xfrm>
            </p:grpSpPr>
            <p:sp>
              <p:nvSpPr>
                <p:cNvPr id="260" name=""/>
                <p:cNvSpPr/>
                <p:nvPr/>
              </p:nvSpPr>
              <p:spPr>
                <a:xfrm>
                  <a:off x="1521000" y="3853440"/>
                  <a:ext cx="138240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mming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1452600" y="3853440"/>
                  <a:ext cx="151920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971800" y="3853440"/>
                <a:ext cx="708120" cy="847800"/>
                <a:chOff x="2971800" y="3853440"/>
                <a:chExt cx="708120" cy="847800"/>
              </a:xfrm>
            </p:grpSpPr>
            <p:sp>
              <p:nvSpPr>
                <p:cNvPr id="263" name=""/>
                <p:cNvSpPr/>
                <p:nvPr/>
              </p:nvSpPr>
              <p:spPr>
                <a:xfrm>
                  <a:off x="3040200" y="3853440"/>
                  <a:ext cx="57132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2971800" y="3853440"/>
                  <a:ext cx="7081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679920" y="3853440"/>
                <a:ext cx="3316320" cy="847800"/>
                <a:chOff x="3679920" y="3853440"/>
                <a:chExt cx="3316320" cy="847800"/>
              </a:xfrm>
            </p:grpSpPr>
            <p:sp>
              <p:nvSpPr>
                <p:cNvPr id="266" name=""/>
                <p:cNvSpPr/>
                <p:nvPr/>
              </p:nvSpPr>
              <p:spPr>
                <a:xfrm>
                  <a:off x="3747960" y="3853440"/>
                  <a:ext cx="317988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1: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2: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3:</a:t>
                  </a:r>
                  <a:r>
                    <a:rPr b="0" lang="en-US" sz="1200" spc="-1" strike="noStrike">
                      <a:solidFill>
                        <a:srgbClr val="000000"/>
                      </a:solidFill>
                      <a:latin typeface="Times New Roman"/>
                    </a:rPr>
                    <a:t> 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4: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p:txBody>
            </p:sp>
            <p:sp>
              <p:nvSpPr>
                <p:cNvPr id="267" name=""/>
                <p:cNvSpPr/>
                <p:nvPr/>
              </p:nvSpPr>
              <p:spPr>
                <a:xfrm>
                  <a:off x="3679920" y="3853440"/>
                  <a:ext cx="33163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6996240" y="3853440"/>
                <a:ext cx="650880" cy="847800"/>
                <a:chOff x="6996240" y="3853440"/>
                <a:chExt cx="650880" cy="847800"/>
              </a:xfrm>
            </p:grpSpPr>
            <p:sp>
              <p:nvSpPr>
                <p:cNvPr id="269" name=""/>
                <p:cNvSpPr/>
                <p:nvPr/>
              </p:nvSpPr>
              <p:spPr>
                <a:xfrm>
                  <a:off x="7064280" y="3853440"/>
                  <a:ext cx="51444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6996240" y="3853440"/>
                  <a:ext cx="65088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1452600" y="4701600"/>
                <a:ext cx="1519200" cy="717120"/>
                <a:chOff x="1452600" y="4701600"/>
                <a:chExt cx="1519200" cy="717120"/>
              </a:xfrm>
            </p:grpSpPr>
            <p:sp>
              <p:nvSpPr>
                <p:cNvPr id="272" name=""/>
                <p:cNvSpPr/>
                <p:nvPr/>
              </p:nvSpPr>
              <p:spPr>
                <a:xfrm>
                  <a:off x="1521000" y="470160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ltiple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
                <p:cNvSpPr/>
                <p:nvPr/>
              </p:nvSpPr>
              <p:spPr>
                <a:xfrm>
                  <a:off x="1452600" y="470160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2971800" y="4701600"/>
                <a:ext cx="708120" cy="717120"/>
                <a:chOff x="2971800" y="4701600"/>
                <a:chExt cx="708120" cy="717120"/>
              </a:xfrm>
            </p:grpSpPr>
            <p:sp>
              <p:nvSpPr>
                <p:cNvPr id="275" name=""/>
                <p:cNvSpPr/>
                <p:nvPr/>
              </p:nvSpPr>
              <p:spPr>
                <a:xfrm>
                  <a:off x="3040200" y="470160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2971800" y="470160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3679920" y="4701600"/>
                <a:ext cx="3316320" cy="717120"/>
                <a:chOff x="3679920" y="4701600"/>
                <a:chExt cx="3316320" cy="717120"/>
              </a:xfrm>
            </p:grpSpPr>
            <p:sp>
              <p:nvSpPr>
                <p:cNvPr id="278" name=""/>
                <p:cNvSpPr/>
                <p:nvPr/>
              </p:nvSpPr>
              <p:spPr>
                <a:xfrm>
                  <a:off x="3747960" y="470160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enario 1: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enario 2: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enario 3: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3679920" y="470160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6996240" y="4701600"/>
                <a:ext cx="650880" cy="717120"/>
                <a:chOff x="6996240" y="4701600"/>
                <a:chExt cx="650880" cy="717120"/>
              </a:xfrm>
            </p:grpSpPr>
            <p:sp>
              <p:nvSpPr>
                <p:cNvPr id="281" name=""/>
                <p:cNvSpPr/>
                <p:nvPr/>
              </p:nvSpPr>
              <p:spPr>
                <a:xfrm>
                  <a:off x="7064280" y="470160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
                <p:cNvSpPr/>
                <p:nvPr/>
              </p:nvSpPr>
              <p:spPr>
                <a:xfrm>
                  <a:off x="6996240" y="470160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1452600" y="5418720"/>
                <a:ext cx="1519200" cy="978120"/>
                <a:chOff x="1452600" y="5418720"/>
                <a:chExt cx="1519200" cy="978120"/>
              </a:xfrm>
            </p:grpSpPr>
            <p:sp>
              <p:nvSpPr>
                <p:cNvPr id="284" name=""/>
                <p:cNvSpPr/>
                <p:nvPr/>
              </p:nvSpPr>
              <p:spPr>
                <a:xfrm>
                  <a:off x="1521000" y="5418720"/>
                  <a:ext cx="138240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exis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1452600" y="5418720"/>
                  <a:ext cx="151920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2971800" y="5418720"/>
                <a:ext cx="708120" cy="978120"/>
                <a:chOff x="2971800" y="5418720"/>
                <a:chExt cx="708120" cy="978120"/>
              </a:xfrm>
            </p:grpSpPr>
            <p:sp>
              <p:nvSpPr>
                <p:cNvPr id="287" name=""/>
                <p:cNvSpPr/>
                <p:nvPr/>
              </p:nvSpPr>
              <p:spPr>
                <a:xfrm>
                  <a:off x="3040200" y="5418720"/>
                  <a:ext cx="57132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
                <p:cNvSpPr/>
                <p:nvPr/>
              </p:nvSpPr>
              <p:spPr>
                <a:xfrm>
                  <a:off x="2971800" y="5418720"/>
                  <a:ext cx="7081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679920" y="5418720"/>
                <a:ext cx="3316320" cy="978120"/>
                <a:chOff x="3679920" y="5418720"/>
                <a:chExt cx="3316320" cy="978120"/>
              </a:xfrm>
            </p:grpSpPr>
            <p:sp>
              <p:nvSpPr>
                <p:cNvPr id="290" name=""/>
                <p:cNvSpPr/>
                <p:nvPr/>
              </p:nvSpPr>
              <p:spPr>
                <a:xfrm>
                  <a:off x="3747960" y="5418720"/>
                  <a:ext cx="317988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1: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2: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3: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4: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5: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
                <p:cNvSpPr/>
                <p:nvPr/>
              </p:nvSpPr>
              <p:spPr>
                <a:xfrm>
                  <a:off x="3679920" y="5418720"/>
                  <a:ext cx="33163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6996240" y="5418720"/>
                <a:ext cx="650880" cy="978120"/>
                <a:chOff x="6996240" y="5418720"/>
                <a:chExt cx="650880" cy="978120"/>
              </a:xfrm>
            </p:grpSpPr>
            <p:sp>
              <p:nvSpPr>
                <p:cNvPr id="293" name=""/>
                <p:cNvSpPr/>
                <p:nvPr/>
              </p:nvSpPr>
              <p:spPr>
                <a:xfrm>
                  <a:off x="7064280" y="5418720"/>
                  <a:ext cx="51444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996240" y="5418720"/>
                  <a:ext cx="65088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5" name=""/>
            <p:cNvSpPr/>
            <p:nvPr/>
          </p:nvSpPr>
          <p:spPr>
            <a:xfrm>
              <a:off x="1447920" y="1371600"/>
              <a:ext cx="620388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3733920" y="266688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D – simulations under wa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3733920" y="3276720"/>
            <a:ext cx="327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D – simulations under way</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1630C4B-DE0A-46F8-A89B-43189A159E58}"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 (cont.)</a:t>
            </a:r>
            <a:endParaRPr b="0" lang="en-US" sz="2000" spc="-1" strike="noStrike">
              <a:solidFill>
                <a:srgbClr val="000000"/>
              </a:solidFill>
              <a:latin typeface="Times New Roman"/>
            </a:endParaRPr>
          </a:p>
        </p:txBody>
      </p:sp>
      <p:sp>
        <p:nvSpPr>
          <p:cNvPr id="299"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00" name=""/>
          <p:cNvGrpSpPr/>
          <p:nvPr/>
        </p:nvGrpSpPr>
        <p:grpSpPr>
          <a:xfrm>
            <a:off x="1447920" y="1447920"/>
            <a:ext cx="6203880" cy="4800600"/>
            <a:chOff x="1447920" y="1447920"/>
            <a:chExt cx="6203880" cy="4800600"/>
          </a:xfrm>
        </p:grpSpPr>
        <p:grpSp>
          <p:nvGrpSpPr>
            <p:cNvPr id="301" name=""/>
            <p:cNvGrpSpPr/>
            <p:nvPr/>
          </p:nvGrpSpPr>
          <p:grpSpPr>
            <a:xfrm>
              <a:off x="1452600" y="1451520"/>
              <a:ext cx="6194520" cy="4792320"/>
              <a:chOff x="1452600" y="1451520"/>
              <a:chExt cx="6194520" cy="4792320"/>
            </a:xfrm>
          </p:grpSpPr>
          <p:grpSp>
            <p:nvGrpSpPr>
              <p:cNvPr id="302" name=""/>
              <p:cNvGrpSpPr/>
              <p:nvPr/>
            </p:nvGrpSpPr>
            <p:grpSpPr>
              <a:xfrm>
                <a:off x="1452600" y="1451520"/>
                <a:ext cx="1519200" cy="502560"/>
                <a:chOff x="1452600" y="1451520"/>
                <a:chExt cx="1519200" cy="502560"/>
              </a:xfrm>
            </p:grpSpPr>
            <p:sp>
              <p:nvSpPr>
                <p:cNvPr id="303" name=""/>
                <p:cNvSpPr/>
                <p:nvPr/>
              </p:nvSpPr>
              <p:spPr>
                <a:xfrm>
                  <a:off x="1452600" y="1451520"/>
                  <a:ext cx="15192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1452600" y="1451520"/>
                  <a:ext cx="1519200" cy="502560"/>
                  <a:chOff x="1452600" y="1451520"/>
                  <a:chExt cx="1519200" cy="502560"/>
                </a:xfrm>
              </p:grpSpPr>
              <p:sp>
                <p:nvSpPr>
                  <p:cNvPr id="305" name=""/>
                  <p:cNvSpPr/>
                  <p:nvPr/>
                </p:nvSpPr>
                <p:spPr>
                  <a:xfrm>
                    <a:off x="1521000" y="1451520"/>
                    <a:ext cx="13824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
                  <p:cNvSpPr/>
                  <p:nvPr/>
                </p:nvSpPr>
                <p:spPr>
                  <a:xfrm>
                    <a:off x="1452600" y="145152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971800" y="1451520"/>
                <a:ext cx="708120" cy="502560"/>
                <a:chOff x="2971800" y="1451520"/>
                <a:chExt cx="708120" cy="502560"/>
              </a:xfrm>
            </p:grpSpPr>
            <p:sp>
              <p:nvSpPr>
                <p:cNvPr id="308" name=""/>
                <p:cNvSpPr/>
                <p:nvPr/>
              </p:nvSpPr>
              <p:spPr>
                <a:xfrm>
                  <a:off x="2971800" y="1451520"/>
                  <a:ext cx="7081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971800" y="1451520"/>
                  <a:ext cx="708120" cy="502560"/>
                  <a:chOff x="2971800" y="1451520"/>
                  <a:chExt cx="708120" cy="502560"/>
                </a:xfrm>
              </p:grpSpPr>
              <p:sp>
                <p:nvSpPr>
                  <p:cNvPr id="310" name=""/>
                  <p:cNvSpPr/>
                  <p:nvPr/>
                </p:nvSpPr>
                <p:spPr>
                  <a:xfrm>
                    <a:off x="3040200" y="1451520"/>
                    <a:ext cx="571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2971800" y="145152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3679920" y="1451520"/>
                <a:ext cx="3316320" cy="502560"/>
                <a:chOff x="3679920" y="1451520"/>
                <a:chExt cx="3316320" cy="502560"/>
              </a:xfrm>
            </p:grpSpPr>
            <p:sp>
              <p:nvSpPr>
                <p:cNvPr id="313" name=""/>
                <p:cNvSpPr/>
                <p:nvPr/>
              </p:nvSpPr>
              <p:spPr>
                <a:xfrm>
                  <a:off x="3679920" y="1451520"/>
                  <a:ext cx="3316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 name=""/>
                <p:cNvGrpSpPr/>
                <p:nvPr/>
              </p:nvGrpSpPr>
              <p:grpSpPr>
                <a:xfrm>
                  <a:off x="3679920" y="1451520"/>
                  <a:ext cx="3316320" cy="502560"/>
                  <a:chOff x="3679920" y="1451520"/>
                  <a:chExt cx="3316320" cy="502560"/>
                </a:xfrm>
              </p:grpSpPr>
              <p:sp>
                <p:nvSpPr>
                  <p:cNvPr id="315" name=""/>
                  <p:cNvSpPr/>
                  <p:nvPr/>
                </p:nvSpPr>
                <p:spPr>
                  <a:xfrm>
                    <a:off x="3747960" y="1451520"/>
                    <a:ext cx="3179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
                  <p:cNvSpPr/>
                  <p:nvPr/>
                </p:nvSpPr>
                <p:spPr>
                  <a:xfrm>
                    <a:off x="3679920" y="145152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6996240" y="1451520"/>
                <a:ext cx="650880" cy="502560"/>
                <a:chOff x="6996240" y="1451520"/>
                <a:chExt cx="650880" cy="502560"/>
              </a:xfrm>
            </p:grpSpPr>
            <p:sp>
              <p:nvSpPr>
                <p:cNvPr id="318" name=""/>
                <p:cNvSpPr/>
                <p:nvPr/>
              </p:nvSpPr>
              <p:spPr>
                <a:xfrm>
                  <a:off x="6996240" y="1451520"/>
                  <a:ext cx="650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6996240" y="1451520"/>
                  <a:ext cx="650880" cy="502560"/>
                  <a:chOff x="6996240" y="1451520"/>
                  <a:chExt cx="650880" cy="502560"/>
                </a:xfrm>
              </p:grpSpPr>
              <p:sp>
                <p:nvSpPr>
                  <p:cNvPr id="320" name=""/>
                  <p:cNvSpPr/>
                  <p:nvPr/>
                </p:nvSpPr>
                <p:spPr>
                  <a:xfrm>
                    <a:off x="7064280" y="1451520"/>
                    <a:ext cx="51444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6996240" y="145152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1452600" y="1954080"/>
                <a:ext cx="1519200" cy="646200"/>
                <a:chOff x="1452600" y="1954080"/>
                <a:chExt cx="1519200" cy="646200"/>
              </a:xfrm>
            </p:grpSpPr>
            <p:sp>
              <p:nvSpPr>
                <p:cNvPr id="323" name=""/>
                <p:cNvSpPr/>
                <p:nvPr/>
              </p:nvSpPr>
              <p:spPr>
                <a:xfrm>
                  <a:off x="1521000" y="1954080"/>
                  <a:ext cx="138240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oper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
                <p:cNvSpPr/>
                <p:nvPr/>
              </p:nvSpPr>
              <p:spPr>
                <a:xfrm>
                  <a:off x="1452600" y="1954080"/>
                  <a:ext cx="151920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2971800" y="1954080"/>
                <a:ext cx="708120" cy="646200"/>
                <a:chOff x="2971800" y="1954080"/>
                <a:chExt cx="708120" cy="646200"/>
              </a:xfrm>
            </p:grpSpPr>
            <p:sp>
              <p:nvSpPr>
                <p:cNvPr id="326" name=""/>
                <p:cNvSpPr/>
                <p:nvPr/>
              </p:nvSpPr>
              <p:spPr>
                <a:xfrm>
                  <a:off x="3040200" y="1954080"/>
                  <a:ext cx="57132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
                <p:cNvSpPr/>
                <p:nvPr/>
              </p:nvSpPr>
              <p:spPr>
                <a:xfrm>
                  <a:off x="2971800" y="1954080"/>
                  <a:ext cx="7081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3679920" y="1954080"/>
                <a:ext cx="3316320" cy="646200"/>
                <a:chOff x="3679920" y="1954080"/>
                <a:chExt cx="3316320" cy="646200"/>
              </a:xfrm>
            </p:grpSpPr>
            <p:sp>
              <p:nvSpPr>
                <p:cNvPr id="329" name=""/>
                <p:cNvSpPr/>
                <p:nvPr/>
              </p:nvSpPr>
              <p:spPr>
                <a:xfrm>
                  <a:off x="3747960" y="1954080"/>
                  <a:ext cx="317988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
                <p:cNvSpPr/>
                <p:nvPr/>
              </p:nvSpPr>
              <p:spPr>
                <a:xfrm>
                  <a:off x="3679920" y="1954080"/>
                  <a:ext cx="33163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6996240" y="1954080"/>
                <a:ext cx="650880" cy="646200"/>
                <a:chOff x="6996240" y="1954080"/>
                <a:chExt cx="650880" cy="646200"/>
              </a:xfrm>
            </p:grpSpPr>
            <p:sp>
              <p:nvSpPr>
                <p:cNvPr id="332" name=""/>
                <p:cNvSpPr/>
                <p:nvPr/>
              </p:nvSpPr>
              <p:spPr>
                <a:xfrm>
                  <a:off x="7064280" y="1954080"/>
                  <a:ext cx="51444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
                <p:cNvSpPr/>
                <p:nvPr/>
              </p:nvSpPr>
              <p:spPr>
                <a:xfrm>
                  <a:off x="6996240" y="1954080"/>
                  <a:ext cx="65088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1452600" y="2600280"/>
                <a:ext cx="1519200" cy="645840"/>
                <a:chOff x="1452600" y="2600280"/>
                <a:chExt cx="1519200" cy="645840"/>
              </a:xfrm>
            </p:grpSpPr>
            <p:sp>
              <p:nvSpPr>
                <p:cNvPr id="335" name=""/>
                <p:cNvSpPr/>
                <p:nvPr/>
              </p:nvSpPr>
              <p:spPr>
                <a:xfrm>
                  <a:off x="1521000" y="260028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e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1452600" y="260028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971800" y="2600280"/>
                <a:ext cx="708120" cy="645840"/>
                <a:chOff x="2971800" y="2600280"/>
                <a:chExt cx="708120" cy="645840"/>
              </a:xfrm>
            </p:grpSpPr>
            <p:sp>
              <p:nvSpPr>
                <p:cNvPr id="338" name=""/>
                <p:cNvSpPr/>
                <p:nvPr/>
              </p:nvSpPr>
              <p:spPr>
                <a:xfrm>
                  <a:off x="3040200" y="260028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
                <p:cNvSpPr/>
                <p:nvPr/>
              </p:nvSpPr>
              <p:spPr>
                <a:xfrm>
                  <a:off x="2971800" y="260028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3679920" y="2600280"/>
                <a:ext cx="3316320" cy="645840"/>
                <a:chOff x="3679920" y="2600280"/>
                <a:chExt cx="3316320" cy="645840"/>
              </a:xfrm>
            </p:grpSpPr>
            <p:sp>
              <p:nvSpPr>
                <p:cNvPr id="341" name=""/>
                <p:cNvSpPr/>
                <p:nvPr/>
              </p:nvSpPr>
              <p:spPr>
                <a:xfrm>
                  <a:off x="3747960" y="260028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
                <p:cNvSpPr/>
                <p:nvPr/>
              </p:nvSpPr>
              <p:spPr>
                <a:xfrm>
                  <a:off x="3679920" y="260028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996240" y="2600280"/>
                <a:ext cx="650880" cy="645840"/>
                <a:chOff x="6996240" y="2600280"/>
                <a:chExt cx="650880" cy="645840"/>
              </a:xfrm>
            </p:grpSpPr>
            <p:sp>
              <p:nvSpPr>
                <p:cNvPr id="344" name=""/>
                <p:cNvSpPr/>
                <p:nvPr/>
              </p:nvSpPr>
              <p:spPr>
                <a:xfrm>
                  <a:off x="7064280" y="260028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
                <p:cNvSpPr/>
                <p:nvPr/>
              </p:nvSpPr>
              <p:spPr>
                <a:xfrm>
                  <a:off x="6996240" y="260028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1452600" y="3246480"/>
                <a:ext cx="1519200" cy="502560"/>
                <a:chOff x="1452600" y="3246480"/>
                <a:chExt cx="1519200" cy="502560"/>
              </a:xfrm>
            </p:grpSpPr>
            <p:sp>
              <p:nvSpPr>
                <p:cNvPr id="347" name=""/>
                <p:cNvSpPr/>
                <p:nvPr/>
              </p:nvSpPr>
              <p:spPr>
                <a:xfrm>
                  <a:off x="1521000" y="3246480"/>
                  <a:ext cx="138240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1452600" y="324648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71800" y="3246480"/>
                <a:ext cx="708120" cy="502560"/>
                <a:chOff x="2971800" y="3246480"/>
                <a:chExt cx="708120" cy="502560"/>
              </a:xfrm>
            </p:grpSpPr>
            <p:sp>
              <p:nvSpPr>
                <p:cNvPr id="350" name=""/>
                <p:cNvSpPr/>
                <p:nvPr/>
              </p:nvSpPr>
              <p:spPr>
                <a:xfrm>
                  <a:off x="3040200" y="3246480"/>
                  <a:ext cx="57132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2971800" y="324648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3679920" y="3246480"/>
                <a:ext cx="3316320" cy="502560"/>
                <a:chOff x="3679920" y="3246480"/>
                <a:chExt cx="3316320" cy="502560"/>
              </a:xfrm>
            </p:grpSpPr>
            <p:sp>
              <p:nvSpPr>
                <p:cNvPr id="353" name=""/>
                <p:cNvSpPr/>
                <p:nvPr/>
              </p:nvSpPr>
              <p:spPr>
                <a:xfrm>
                  <a:off x="3747960" y="3246480"/>
                  <a:ext cx="317988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
                <p:cNvSpPr/>
                <p:nvPr/>
              </p:nvSpPr>
              <p:spPr>
                <a:xfrm>
                  <a:off x="3679920" y="324648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96240" y="3246480"/>
                <a:ext cx="650880" cy="502560"/>
                <a:chOff x="6996240" y="3246480"/>
                <a:chExt cx="650880" cy="502560"/>
              </a:xfrm>
            </p:grpSpPr>
            <p:sp>
              <p:nvSpPr>
                <p:cNvPr id="356" name=""/>
                <p:cNvSpPr/>
                <p:nvPr/>
              </p:nvSpPr>
              <p:spPr>
                <a:xfrm>
                  <a:off x="7064280" y="3246480"/>
                  <a:ext cx="51444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6996240" y="324648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1452600" y="3749400"/>
                <a:ext cx="1519200" cy="645840"/>
                <a:chOff x="1452600" y="3749400"/>
                <a:chExt cx="1519200" cy="645840"/>
              </a:xfrm>
            </p:grpSpPr>
            <p:sp>
              <p:nvSpPr>
                <p:cNvPr id="359" name=""/>
                <p:cNvSpPr/>
                <p:nvPr/>
              </p:nvSpPr>
              <p:spPr>
                <a:xfrm>
                  <a:off x="1521000" y="374940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ulatory Imp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1452600" y="37494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2971800" y="3749400"/>
                <a:ext cx="708120" cy="645840"/>
                <a:chOff x="2971800" y="3749400"/>
                <a:chExt cx="708120" cy="645840"/>
              </a:xfrm>
            </p:grpSpPr>
            <p:sp>
              <p:nvSpPr>
                <p:cNvPr id="362" name=""/>
                <p:cNvSpPr/>
                <p:nvPr/>
              </p:nvSpPr>
              <p:spPr>
                <a:xfrm>
                  <a:off x="3040200" y="374940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2971800" y="37494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3679920" y="3749400"/>
                <a:ext cx="3316320" cy="645840"/>
                <a:chOff x="3679920" y="3749400"/>
                <a:chExt cx="3316320" cy="645840"/>
              </a:xfrm>
            </p:grpSpPr>
            <p:sp>
              <p:nvSpPr>
                <p:cNvPr id="365" name=""/>
                <p:cNvSpPr/>
                <p:nvPr/>
              </p:nvSpPr>
              <p:spPr>
                <a:xfrm>
                  <a:off x="3747960" y="374940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3679920" y="37494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6996240" y="3749400"/>
                <a:ext cx="650880" cy="645840"/>
                <a:chOff x="6996240" y="3749400"/>
                <a:chExt cx="650880" cy="645840"/>
              </a:xfrm>
            </p:grpSpPr>
            <p:sp>
              <p:nvSpPr>
                <p:cNvPr id="368" name=""/>
                <p:cNvSpPr/>
                <p:nvPr/>
              </p:nvSpPr>
              <p:spPr>
                <a:xfrm>
                  <a:off x="7064280" y="37494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
                <p:cNvSpPr/>
                <p:nvPr/>
              </p:nvSpPr>
              <p:spPr>
                <a:xfrm>
                  <a:off x="6996240" y="37494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1452600" y="4395240"/>
                <a:ext cx="1519200" cy="645840"/>
                <a:chOff x="1452600" y="4395240"/>
                <a:chExt cx="1519200" cy="645840"/>
              </a:xfrm>
            </p:grpSpPr>
            <p:sp>
              <p:nvSpPr>
                <p:cNvPr id="371" name=""/>
                <p:cNvSpPr/>
                <p:nvPr/>
              </p:nvSpPr>
              <p:spPr>
                <a:xfrm>
                  <a:off x="1521000" y="439524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urity of Solu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
                <p:cNvSpPr/>
                <p:nvPr/>
              </p:nvSpPr>
              <p:spPr>
                <a:xfrm>
                  <a:off x="1452600" y="439524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2971800" y="4395240"/>
                <a:ext cx="708120" cy="645840"/>
                <a:chOff x="2971800" y="4395240"/>
                <a:chExt cx="708120" cy="645840"/>
              </a:xfrm>
            </p:grpSpPr>
            <p:sp>
              <p:nvSpPr>
                <p:cNvPr id="374" name=""/>
                <p:cNvSpPr/>
                <p:nvPr/>
              </p:nvSpPr>
              <p:spPr>
                <a:xfrm>
                  <a:off x="3040200" y="439524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2971800" y="439524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3679920" y="4395240"/>
                <a:ext cx="3316320" cy="645840"/>
                <a:chOff x="3679920" y="4395240"/>
                <a:chExt cx="3316320" cy="645840"/>
              </a:xfrm>
            </p:grpSpPr>
            <p:sp>
              <p:nvSpPr>
                <p:cNvPr id="377" name=""/>
                <p:cNvSpPr/>
                <p:nvPr/>
              </p:nvSpPr>
              <p:spPr>
                <a:xfrm>
                  <a:off x="3747960" y="439524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3679920" y="439524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96240" y="4395240"/>
                <a:ext cx="650880" cy="645840"/>
                <a:chOff x="6996240" y="4395240"/>
                <a:chExt cx="650880" cy="645840"/>
              </a:xfrm>
            </p:grpSpPr>
            <p:sp>
              <p:nvSpPr>
                <p:cNvPr id="380" name=""/>
                <p:cNvSpPr/>
                <p:nvPr/>
              </p:nvSpPr>
              <p:spPr>
                <a:xfrm>
                  <a:off x="7064280" y="439524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6996240" y="439524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452600" y="5041440"/>
                <a:ext cx="1519200" cy="556200"/>
                <a:chOff x="1452600" y="5041440"/>
                <a:chExt cx="1519200" cy="556200"/>
              </a:xfrm>
            </p:grpSpPr>
            <p:sp>
              <p:nvSpPr>
                <p:cNvPr id="383" name=""/>
                <p:cNvSpPr/>
                <p:nvPr/>
              </p:nvSpPr>
              <p:spPr>
                <a:xfrm>
                  <a:off x="1521000" y="5041440"/>
                  <a:ext cx="138240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452600" y="5041440"/>
                  <a:ext cx="151920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971800" y="5041440"/>
                <a:ext cx="708120" cy="556200"/>
                <a:chOff x="2971800" y="5041440"/>
                <a:chExt cx="708120" cy="556200"/>
              </a:xfrm>
            </p:grpSpPr>
            <p:sp>
              <p:nvSpPr>
                <p:cNvPr id="386" name=""/>
                <p:cNvSpPr/>
                <p:nvPr/>
              </p:nvSpPr>
              <p:spPr>
                <a:xfrm>
                  <a:off x="3040200" y="5041440"/>
                  <a:ext cx="57132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
                <p:cNvSpPr/>
                <p:nvPr/>
              </p:nvSpPr>
              <p:spPr>
                <a:xfrm>
                  <a:off x="2971800" y="5041440"/>
                  <a:ext cx="7081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679920" y="5041440"/>
                <a:ext cx="3316320" cy="556200"/>
                <a:chOff x="3679920" y="5041440"/>
                <a:chExt cx="3316320" cy="556200"/>
              </a:xfrm>
            </p:grpSpPr>
            <p:sp>
              <p:nvSpPr>
                <p:cNvPr id="389" name=""/>
                <p:cNvSpPr/>
                <p:nvPr/>
              </p:nvSpPr>
              <p:spPr>
                <a:xfrm>
                  <a:off x="3747960" y="5041440"/>
                  <a:ext cx="31798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3679920" y="5041440"/>
                  <a:ext cx="33163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996240" y="5041440"/>
                <a:ext cx="650880" cy="556200"/>
                <a:chOff x="6996240" y="5041440"/>
                <a:chExt cx="650880" cy="556200"/>
              </a:xfrm>
            </p:grpSpPr>
            <p:sp>
              <p:nvSpPr>
                <p:cNvPr id="392" name=""/>
                <p:cNvSpPr/>
                <p:nvPr/>
              </p:nvSpPr>
              <p:spPr>
                <a:xfrm>
                  <a:off x="7064280" y="5041440"/>
                  <a:ext cx="51444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
                <p:cNvSpPr/>
                <p:nvPr/>
              </p:nvSpPr>
              <p:spPr>
                <a:xfrm>
                  <a:off x="6996240" y="5041440"/>
                  <a:ext cx="6508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452600" y="5598000"/>
                <a:ext cx="1519200" cy="645840"/>
                <a:chOff x="1452600" y="5598000"/>
                <a:chExt cx="1519200" cy="645840"/>
              </a:xfrm>
            </p:grpSpPr>
            <p:sp>
              <p:nvSpPr>
                <p:cNvPr id="395" name=""/>
                <p:cNvSpPr/>
                <p:nvPr/>
              </p:nvSpPr>
              <p:spPr>
                <a:xfrm>
                  <a:off x="1521000" y="559800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 Awaren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1452600" y="55980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2971800" y="5598000"/>
                <a:ext cx="708120" cy="645840"/>
                <a:chOff x="2971800" y="5598000"/>
                <a:chExt cx="708120" cy="645840"/>
              </a:xfrm>
            </p:grpSpPr>
            <p:sp>
              <p:nvSpPr>
                <p:cNvPr id="398" name=""/>
                <p:cNvSpPr/>
                <p:nvPr/>
              </p:nvSpPr>
              <p:spPr>
                <a:xfrm>
                  <a:off x="3040200" y="559800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
                <p:cNvSpPr/>
                <p:nvPr/>
              </p:nvSpPr>
              <p:spPr>
                <a:xfrm>
                  <a:off x="2971800" y="55980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3679920" y="5598000"/>
                <a:ext cx="3316320" cy="645840"/>
                <a:chOff x="3679920" y="5598000"/>
                <a:chExt cx="3316320" cy="645840"/>
              </a:xfrm>
            </p:grpSpPr>
            <p:sp>
              <p:nvSpPr>
                <p:cNvPr id="401" name=""/>
                <p:cNvSpPr/>
                <p:nvPr/>
              </p:nvSpPr>
              <p:spPr>
                <a:xfrm>
                  <a:off x="3747960" y="559800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supported in terms of measuring relative locations in cm … RSSI and time of arrival techniques cannot readily provide much inf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
                <p:cNvSpPr/>
                <p:nvPr/>
              </p:nvSpPr>
              <p:spPr>
                <a:xfrm>
                  <a:off x="3679920" y="55980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6996240" y="5598000"/>
                <a:ext cx="650880" cy="645840"/>
                <a:chOff x="6996240" y="5598000"/>
                <a:chExt cx="650880" cy="645840"/>
              </a:xfrm>
            </p:grpSpPr>
            <p:sp>
              <p:nvSpPr>
                <p:cNvPr id="404" name=""/>
                <p:cNvSpPr/>
                <p:nvPr/>
              </p:nvSpPr>
              <p:spPr>
                <a:xfrm>
                  <a:off x="7064280" y="55980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
                <p:cNvSpPr/>
                <p:nvPr/>
              </p:nvSpPr>
              <p:spPr>
                <a:xfrm>
                  <a:off x="6996240" y="55980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1447920" y="1447920"/>
              <a:ext cx="620388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3733920" y="2590920"/>
            <a:ext cx="327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proposed system is based on substantial reuse of existing, proven technology which has been in high volume production for several years</a:t>
            </a:r>
            <a:endParaRPr b="0" lang="en-US" sz="1200" spc="-1" strike="noStrike">
              <a:solidFill>
                <a:srgbClr val="000000"/>
              </a:solidFill>
              <a:latin typeface="Times New Roman"/>
            </a:endParaRPr>
          </a:p>
        </p:txBody>
      </p:sp>
      <p:sp>
        <p:nvSpPr>
          <p:cNvPr id="408"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ent on finalization of specification – could be as soon as ~ 6 months after final specification</a:t>
            </a:r>
            <a:endParaRPr b="0" lang="en-US" sz="1200" spc="-1" strike="noStrike">
              <a:solidFill>
                <a:srgbClr val="000000"/>
              </a:solidFill>
              <a:latin typeface="Times New Roman"/>
            </a:endParaRPr>
          </a:p>
        </p:txBody>
      </p:sp>
      <p:sp>
        <p:nvSpPr>
          <p:cNvPr id="409" name=""/>
          <p:cNvSpPr/>
          <p:nvPr/>
        </p:nvSpPr>
        <p:spPr>
          <a:xfrm>
            <a:off x="3733920" y="4419720"/>
            <a:ext cx="327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system is based on substantial reuse of existing, proven technology which has been in high volume production for several years</a:t>
            </a:r>
            <a:endParaRPr b="0" lang="en-US" sz="1200" spc="-1" strike="noStrike">
              <a:solidFill>
                <a:srgbClr val="000000"/>
              </a:solidFill>
              <a:latin typeface="Times New Roman"/>
            </a:endParaRPr>
          </a:p>
        </p:txBody>
      </p:sp>
      <p:sp>
        <p:nvSpPr>
          <p:cNvPr id="410" name=""/>
          <p:cNvSpPr/>
          <p:nvPr/>
        </p:nvSpPr>
        <p:spPr>
          <a:xfrm>
            <a:off x="3733920" y="5105520"/>
            <a:ext cx="3200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sic concept can be scaled to other data rates, frequency bands, number of channels, et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DD984AE4-14C3-4FE7-A600-2E4B2CFDEFB7}" type="slidenum">
              <a:t>2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PHY Protocol Criteria</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412" name=""/>
          <p:cNvGrpSpPr/>
          <p:nvPr/>
        </p:nvGrpSpPr>
        <p:grpSpPr>
          <a:xfrm>
            <a:off x="1468440" y="1447920"/>
            <a:ext cx="6207120" cy="4952880"/>
            <a:chOff x="1468440" y="1447920"/>
            <a:chExt cx="6207120" cy="4952880"/>
          </a:xfrm>
        </p:grpSpPr>
        <p:grpSp>
          <p:nvGrpSpPr>
            <p:cNvPr id="413" name=""/>
            <p:cNvGrpSpPr/>
            <p:nvPr/>
          </p:nvGrpSpPr>
          <p:grpSpPr>
            <a:xfrm>
              <a:off x="1473120" y="1450800"/>
              <a:ext cx="6197760" cy="4946760"/>
              <a:chOff x="1473120" y="1450800"/>
              <a:chExt cx="6197760" cy="4946760"/>
            </a:xfrm>
          </p:grpSpPr>
          <p:grpSp>
            <p:nvGrpSpPr>
              <p:cNvPr id="414" name=""/>
              <p:cNvGrpSpPr/>
              <p:nvPr/>
            </p:nvGrpSpPr>
            <p:grpSpPr>
              <a:xfrm>
                <a:off x="1473120" y="1450800"/>
                <a:ext cx="1517760" cy="397800"/>
                <a:chOff x="1473120" y="1450800"/>
                <a:chExt cx="1517760" cy="397800"/>
              </a:xfrm>
            </p:grpSpPr>
            <p:sp>
              <p:nvSpPr>
                <p:cNvPr id="415" name=""/>
                <p:cNvSpPr/>
                <p:nvPr/>
              </p:nvSpPr>
              <p:spPr>
                <a:xfrm>
                  <a:off x="1473120" y="1450800"/>
                  <a:ext cx="15177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1473120" y="1450800"/>
                  <a:ext cx="1517760" cy="397800"/>
                  <a:chOff x="1473120" y="1450800"/>
                  <a:chExt cx="1517760" cy="397800"/>
                </a:xfrm>
              </p:grpSpPr>
              <p:sp>
                <p:nvSpPr>
                  <p:cNvPr id="417" name=""/>
                  <p:cNvSpPr/>
                  <p:nvPr/>
                </p:nvSpPr>
                <p:spPr>
                  <a:xfrm>
                    <a:off x="1541520" y="1450800"/>
                    <a:ext cx="13809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
                  <p:cNvSpPr/>
                  <p:nvPr/>
                </p:nvSpPr>
                <p:spPr>
                  <a:xfrm>
                    <a:off x="1473120" y="1450800"/>
                    <a:ext cx="151776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9" name=""/>
              <p:cNvGrpSpPr/>
              <p:nvPr/>
            </p:nvGrpSpPr>
            <p:grpSpPr>
              <a:xfrm>
                <a:off x="2990880" y="1450800"/>
                <a:ext cx="711000" cy="397800"/>
                <a:chOff x="2990880" y="1450800"/>
                <a:chExt cx="711000" cy="397800"/>
              </a:xfrm>
            </p:grpSpPr>
            <p:sp>
              <p:nvSpPr>
                <p:cNvPr id="420" name=""/>
                <p:cNvSpPr/>
                <p:nvPr/>
              </p:nvSpPr>
              <p:spPr>
                <a:xfrm>
                  <a:off x="2990880" y="1450800"/>
                  <a:ext cx="71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2990880" y="1450800"/>
                  <a:ext cx="711000" cy="397800"/>
                  <a:chOff x="2990880" y="1450800"/>
                  <a:chExt cx="711000" cy="397800"/>
                </a:xfrm>
              </p:grpSpPr>
              <p:sp>
                <p:nvSpPr>
                  <p:cNvPr id="422" name=""/>
                  <p:cNvSpPr/>
                  <p:nvPr/>
                </p:nvSpPr>
                <p:spPr>
                  <a:xfrm>
                    <a:off x="3058920" y="1450800"/>
                    <a:ext cx="57492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2990880" y="1450800"/>
                    <a:ext cx="71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4" name=""/>
              <p:cNvGrpSpPr/>
              <p:nvPr/>
            </p:nvGrpSpPr>
            <p:grpSpPr>
              <a:xfrm>
                <a:off x="3701880" y="1450800"/>
                <a:ext cx="3321000" cy="397800"/>
                <a:chOff x="3701880" y="1450800"/>
                <a:chExt cx="3321000" cy="397800"/>
              </a:xfrm>
            </p:grpSpPr>
            <p:sp>
              <p:nvSpPr>
                <p:cNvPr id="425" name=""/>
                <p:cNvSpPr/>
                <p:nvPr/>
              </p:nvSpPr>
              <p:spPr>
                <a:xfrm>
                  <a:off x="3701880" y="1450800"/>
                  <a:ext cx="3321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3701880" y="1450800"/>
                  <a:ext cx="3321000" cy="397800"/>
                  <a:chOff x="3701880" y="1450800"/>
                  <a:chExt cx="3321000" cy="397800"/>
                </a:xfrm>
              </p:grpSpPr>
              <p:sp>
                <p:nvSpPr>
                  <p:cNvPr id="427" name=""/>
                  <p:cNvSpPr/>
                  <p:nvPr/>
                </p:nvSpPr>
                <p:spPr>
                  <a:xfrm>
                    <a:off x="3770280" y="1450800"/>
                    <a:ext cx="318456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3701880" y="1450800"/>
                    <a:ext cx="3321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7022880" y="1450800"/>
                <a:ext cx="648000" cy="397800"/>
                <a:chOff x="7022880" y="1450800"/>
                <a:chExt cx="648000" cy="397800"/>
              </a:xfrm>
            </p:grpSpPr>
            <p:sp>
              <p:nvSpPr>
                <p:cNvPr id="430" name=""/>
                <p:cNvSpPr/>
                <p:nvPr/>
              </p:nvSpPr>
              <p:spPr>
                <a:xfrm>
                  <a:off x="7022880" y="1450800"/>
                  <a:ext cx="6480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7022880" y="1450800"/>
                  <a:ext cx="648000" cy="397800"/>
                  <a:chOff x="7022880" y="1450800"/>
                  <a:chExt cx="648000" cy="397800"/>
                </a:xfrm>
              </p:grpSpPr>
              <p:sp>
                <p:nvSpPr>
                  <p:cNvPr id="432" name=""/>
                  <p:cNvSpPr/>
                  <p:nvPr/>
                </p:nvSpPr>
                <p:spPr>
                  <a:xfrm>
                    <a:off x="7091280" y="1450800"/>
                    <a:ext cx="511200" cy="3978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
                  <p:cNvSpPr/>
                  <p:nvPr/>
                </p:nvSpPr>
                <p:spPr>
                  <a:xfrm>
                    <a:off x="7022880" y="1450800"/>
                    <a:ext cx="648000" cy="39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4" name=""/>
              <p:cNvGrpSpPr/>
              <p:nvPr/>
            </p:nvGrpSpPr>
            <p:grpSpPr>
              <a:xfrm>
                <a:off x="1473120" y="1848600"/>
                <a:ext cx="1517760" cy="511560"/>
                <a:chOff x="1473120" y="1848600"/>
                <a:chExt cx="1517760" cy="511560"/>
              </a:xfrm>
            </p:grpSpPr>
            <p:sp>
              <p:nvSpPr>
                <p:cNvPr id="435" name=""/>
                <p:cNvSpPr/>
                <p:nvPr/>
              </p:nvSpPr>
              <p:spPr>
                <a:xfrm>
                  <a:off x="1541520" y="184860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ze and Form F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1473120" y="184860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990880" y="1848600"/>
                <a:ext cx="711000" cy="511560"/>
                <a:chOff x="2990880" y="1848600"/>
                <a:chExt cx="711000" cy="511560"/>
              </a:xfrm>
            </p:grpSpPr>
            <p:sp>
              <p:nvSpPr>
                <p:cNvPr id="438" name=""/>
                <p:cNvSpPr/>
                <p:nvPr/>
              </p:nvSpPr>
              <p:spPr>
                <a:xfrm>
                  <a:off x="3058920" y="184860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
                <p:cNvSpPr/>
                <p:nvPr/>
              </p:nvSpPr>
              <p:spPr>
                <a:xfrm>
                  <a:off x="2990880" y="184860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701880" y="1848600"/>
                <a:ext cx="3321000" cy="511560"/>
                <a:chOff x="3701880" y="1848600"/>
                <a:chExt cx="3321000" cy="511560"/>
              </a:xfrm>
            </p:grpSpPr>
            <p:sp>
              <p:nvSpPr>
                <p:cNvPr id="441" name=""/>
                <p:cNvSpPr/>
                <p:nvPr/>
              </p:nvSpPr>
              <p:spPr>
                <a:xfrm>
                  <a:off x="3770280" y="184860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
                <p:cNvSpPr/>
                <p:nvPr/>
              </p:nvSpPr>
              <p:spPr>
                <a:xfrm>
                  <a:off x="3701880" y="184860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7022880" y="1848600"/>
                <a:ext cx="648000" cy="511560"/>
                <a:chOff x="7022880" y="1848600"/>
                <a:chExt cx="648000" cy="511560"/>
              </a:xfrm>
            </p:grpSpPr>
            <p:sp>
              <p:nvSpPr>
                <p:cNvPr id="444" name=""/>
                <p:cNvSpPr/>
                <p:nvPr/>
              </p:nvSpPr>
              <p:spPr>
                <a:xfrm>
                  <a:off x="7091280" y="184860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7022880" y="184860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473120" y="2360520"/>
                <a:ext cx="1517760" cy="511920"/>
                <a:chOff x="1473120" y="2360520"/>
                <a:chExt cx="1517760" cy="511920"/>
              </a:xfrm>
            </p:grpSpPr>
            <p:sp>
              <p:nvSpPr>
                <p:cNvPr id="447" name=""/>
                <p:cNvSpPr/>
                <p:nvPr/>
              </p:nvSpPr>
              <p:spPr>
                <a:xfrm>
                  <a:off x="1541520" y="2360520"/>
                  <a:ext cx="13809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
                <p:cNvSpPr/>
                <p:nvPr/>
              </p:nvSpPr>
              <p:spPr>
                <a:xfrm>
                  <a:off x="1473120" y="2360520"/>
                  <a:ext cx="151776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2990880" y="2360520"/>
                <a:ext cx="711000" cy="511920"/>
                <a:chOff x="2990880" y="2360520"/>
                <a:chExt cx="711000" cy="511920"/>
              </a:xfrm>
            </p:grpSpPr>
            <p:sp>
              <p:nvSpPr>
                <p:cNvPr id="450" name=""/>
                <p:cNvSpPr/>
                <p:nvPr/>
              </p:nvSpPr>
              <p:spPr>
                <a:xfrm>
                  <a:off x="3058920" y="2360520"/>
                  <a:ext cx="57492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2990880" y="2360520"/>
                  <a:ext cx="71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3701880" y="2360520"/>
                <a:ext cx="3321000" cy="511920"/>
                <a:chOff x="3701880" y="2360520"/>
                <a:chExt cx="3321000" cy="511920"/>
              </a:xfrm>
            </p:grpSpPr>
            <p:sp>
              <p:nvSpPr>
                <p:cNvPr id="453" name=""/>
                <p:cNvSpPr/>
                <p:nvPr/>
              </p:nvSpPr>
              <p:spPr>
                <a:xfrm>
                  <a:off x="3770280" y="2360520"/>
                  <a:ext cx="318456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3701880" y="2360520"/>
                  <a:ext cx="3321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022880" y="2360520"/>
                <a:ext cx="648000" cy="511920"/>
                <a:chOff x="7022880" y="2360520"/>
                <a:chExt cx="648000" cy="511920"/>
              </a:xfrm>
            </p:grpSpPr>
            <p:sp>
              <p:nvSpPr>
                <p:cNvPr id="456" name=""/>
                <p:cNvSpPr/>
                <p:nvPr/>
              </p:nvSpPr>
              <p:spPr>
                <a:xfrm>
                  <a:off x="7091280" y="2360520"/>
                  <a:ext cx="511200" cy="51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7022880" y="2360520"/>
                  <a:ext cx="648000" cy="51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1473120" y="2872440"/>
                <a:ext cx="1517760" cy="738720"/>
                <a:chOff x="1473120" y="2872440"/>
                <a:chExt cx="1517760" cy="738720"/>
              </a:xfrm>
            </p:grpSpPr>
            <p:sp>
              <p:nvSpPr>
                <p:cNvPr id="459" name=""/>
                <p:cNvSpPr/>
                <p:nvPr/>
              </p:nvSpPr>
              <p:spPr>
                <a:xfrm>
                  <a:off x="1541520" y="2872440"/>
                  <a:ext cx="13809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Simultaneously Operating Full-Throughput PA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1473120" y="2872440"/>
                  <a:ext cx="151776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2990880" y="2872440"/>
                <a:ext cx="711000" cy="738720"/>
                <a:chOff x="2990880" y="2872440"/>
                <a:chExt cx="711000" cy="738720"/>
              </a:xfrm>
            </p:grpSpPr>
            <p:sp>
              <p:nvSpPr>
                <p:cNvPr id="462" name=""/>
                <p:cNvSpPr/>
                <p:nvPr/>
              </p:nvSpPr>
              <p:spPr>
                <a:xfrm>
                  <a:off x="3058920" y="2872440"/>
                  <a:ext cx="57492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2990880" y="2872440"/>
                  <a:ext cx="71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3701880" y="2872440"/>
                <a:ext cx="3321000" cy="738720"/>
                <a:chOff x="3701880" y="2872440"/>
                <a:chExt cx="3321000" cy="738720"/>
              </a:xfrm>
            </p:grpSpPr>
            <p:sp>
              <p:nvSpPr>
                <p:cNvPr id="465" name=""/>
                <p:cNvSpPr/>
                <p:nvPr/>
              </p:nvSpPr>
              <p:spPr>
                <a:xfrm>
                  <a:off x="3770280" y="2872440"/>
                  <a:ext cx="318456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
                <p:cNvSpPr/>
                <p:nvPr/>
              </p:nvSpPr>
              <p:spPr>
                <a:xfrm>
                  <a:off x="3701880" y="2872440"/>
                  <a:ext cx="3321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7022880" y="2872440"/>
                <a:ext cx="648000" cy="738720"/>
                <a:chOff x="7022880" y="2872440"/>
                <a:chExt cx="648000" cy="738720"/>
              </a:xfrm>
            </p:grpSpPr>
            <p:sp>
              <p:nvSpPr>
                <p:cNvPr id="468" name=""/>
                <p:cNvSpPr/>
                <p:nvPr/>
              </p:nvSpPr>
              <p:spPr>
                <a:xfrm>
                  <a:off x="7091280" y="2872440"/>
                  <a:ext cx="511200" cy="73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
                <p:cNvSpPr/>
                <p:nvPr/>
              </p:nvSpPr>
              <p:spPr>
                <a:xfrm>
                  <a:off x="7022880" y="2872440"/>
                  <a:ext cx="648000" cy="73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1473120" y="3611520"/>
                <a:ext cx="1517760" cy="625320"/>
                <a:chOff x="1473120" y="3611520"/>
                <a:chExt cx="1517760" cy="625320"/>
              </a:xfrm>
            </p:grpSpPr>
            <p:sp>
              <p:nvSpPr>
                <p:cNvPr id="471" name=""/>
                <p:cNvSpPr/>
                <p:nvPr/>
              </p:nvSpPr>
              <p:spPr>
                <a:xfrm>
                  <a:off x="1541520" y="361152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gnal Acquisition Meth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
                <p:cNvSpPr/>
                <p:nvPr/>
              </p:nvSpPr>
              <p:spPr>
                <a:xfrm>
                  <a:off x="1473120" y="361152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2990880" y="3611520"/>
                <a:ext cx="711000" cy="625320"/>
                <a:chOff x="2990880" y="3611520"/>
                <a:chExt cx="711000" cy="625320"/>
              </a:xfrm>
            </p:grpSpPr>
            <p:sp>
              <p:nvSpPr>
                <p:cNvPr id="474" name=""/>
                <p:cNvSpPr/>
                <p:nvPr/>
              </p:nvSpPr>
              <p:spPr>
                <a:xfrm>
                  <a:off x="3058920" y="361152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2990880" y="361152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3701880" y="3611520"/>
                <a:ext cx="3321000" cy="625320"/>
                <a:chOff x="3701880" y="3611520"/>
                <a:chExt cx="3321000" cy="625320"/>
              </a:xfrm>
            </p:grpSpPr>
            <p:sp>
              <p:nvSpPr>
                <p:cNvPr id="477" name=""/>
                <p:cNvSpPr/>
                <p:nvPr/>
              </p:nvSpPr>
              <p:spPr>
                <a:xfrm>
                  <a:off x="3770280" y="361152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
                <p:cNvSpPr/>
                <p:nvPr/>
              </p:nvSpPr>
              <p:spPr>
                <a:xfrm>
                  <a:off x="3701880" y="361152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7022880" y="3611520"/>
                <a:ext cx="648000" cy="625320"/>
                <a:chOff x="7022880" y="3611520"/>
                <a:chExt cx="648000" cy="625320"/>
              </a:xfrm>
            </p:grpSpPr>
            <p:sp>
              <p:nvSpPr>
                <p:cNvPr id="480" name=""/>
                <p:cNvSpPr/>
                <p:nvPr/>
              </p:nvSpPr>
              <p:spPr>
                <a:xfrm>
                  <a:off x="7091280" y="361152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
                <p:cNvSpPr/>
                <p:nvPr/>
              </p:nvSpPr>
              <p:spPr>
                <a:xfrm>
                  <a:off x="7022880" y="361152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1473120" y="4236840"/>
                <a:ext cx="1517760" cy="398160"/>
                <a:chOff x="1473120" y="4236840"/>
                <a:chExt cx="1517760" cy="398160"/>
              </a:xfrm>
            </p:grpSpPr>
            <p:sp>
              <p:nvSpPr>
                <p:cNvPr id="483" name=""/>
                <p:cNvSpPr/>
                <p:nvPr/>
              </p:nvSpPr>
              <p:spPr>
                <a:xfrm>
                  <a:off x="1541520" y="4236840"/>
                  <a:ext cx="13809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n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
                <p:cNvSpPr/>
                <p:nvPr/>
              </p:nvSpPr>
              <p:spPr>
                <a:xfrm>
                  <a:off x="1473120" y="4236840"/>
                  <a:ext cx="151776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2990880" y="4236840"/>
                <a:ext cx="711000" cy="398160"/>
                <a:chOff x="2990880" y="4236840"/>
                <a:chExt cx="711000" cy="398160"/>
              </a:xfrm>
            </p:grpSpPr>
            <p:sp>
              <p:nvSpPr>
                <p:cNvPr id="486" name=""/>
                <p:cNvSpPr/>
                <p:nvPr/>
              </p:nvSpPr>
              <p:spPr>
                <a:xfrm>
                  <a:off x="3058920" y="4236840"/>
                  <a:ext cx="57492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
                <p:cNvSpPr/>
                <p:nvPr/>
              </p:nvSpPr>
              <p:spPr>
                <a:xfrm>
                  <a:off x="2990880" y="4236840"/>
                  <a:ext cx="71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3701880" y="4236840"/>
                <a:ext cx="3321000" cy="398160"/>
                <a:chOff x="3701880" y="4236840"/>
                <a:chExt cx="3321000" cy="398160"/>
              </a:xfrm>
            </p:grpSpPr>
            <p:sp>
              <p:nvSpPr>
                <p:cNvPr id="489" name=""/>
                <p:cNvSpPr/>
                <p:nvPr/>
              </p:nvSpPr>
              <p:spPr>
                <a:xfrm>
                  <a:off x="3770280" y="4236840"/>
                  <a:ext cx="318456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3701880" y="4236840"/>
                  <a:ext cx="3321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022880" y="4236840"/>
                <a:ext cx="648000" cy="398160"/>
                <a:chOff x="7022880" y="4236840"/>
                <a:chExt cx="648000" cy="398160"/>
              </a:xfrm>
            </p:grpSpPr>
            <p:sp>
              <p:nvSpPr>
                <p:cNvPr id="492" name=""/>
                <p:cNvSpPr/>
                <p:nvPr/>
              </p:nvSpPr>
              <p:spPr>
                <a:xfrm>
                  <a:off x="7091280" y="4236840"/>
                  <a:ext cx="511200" cy="39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7022880" y="4236840"/>
                  <a:ext cx="648000" cy="39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1473120" y="4635000"/>
                <a:ext cx="1517760" cy="625320"/>
                <a:chOff x="1473120" y="4635000"/>
                <a:chExt cx="1517760" cy="625320"/>
              </a:xfrm>
            </p:grpSpPr>
            <p:sp>
              <p:nvSpPr>
                <p:cNvPr id="495" name=""/>
                <p:cNvSpPr/>
                <p:nvPr/>
              </p:nvSpPr>
              <p:spPr>
                <a:xfrm>
                  <a:off x="1541520" y="463500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itiv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1473120" y="463500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2990880" y="4635000"/>
                <a:ext cx="711000" cy="625320"/>
                <a:chOff x="2990880" y="4635000"/>
                <a:chExt cx="711000" cy="625320"/>
              </a:xfrm>
            </p:grpSpPr>
            <p:sp>
              <p:nvSpPr>
                <p:cNvPr id="498" name=""/>
                <p:cNvSpPr/>
                <p:nvPr/>
              </p:nvSpPr>
              <p:spPr>
                <a:xfrm>
                  <a:off x="3058920" y="463500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2990880" y="463500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3701880" y="4635000"/>
                <a:ext cx="3321000" cy="625320"/>
                <a:chOff x="3701880" y="4635000"/>
                <a:chExt cx="3321000" cy="625320"/>
              </a:xfrm>
            </p:grpSpPr>
            <p:sp>
              <p:nvSpPr>
                <p:cNvPr id="501" name=""/>
                <p:cNvSpPr/>
                <p:nvPr/>
              </p:nvSpPr>
              <p:spPr>
                <a:xfrm>
                  <a:off x="3770280" y="463500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level: -96 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 TB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R: 10e-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3701880" y="463500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7022880" y="4635000"/>
                <a:ext cx="648000" cy="625320"/>
                <a:chOff x="7022880" y="4635000"/>
                <a:chExt cx="648000" cy="625320"/>
              </a:xfrm>
            </p:grpSpPr>
            <p:sp>
              <p:nvSpPr>
                <p:cNvPr id="504" name=""/>
                <p:cNvSpPr/>
                <p:nvPr/>
              </p:nvSpPr>
              <p:spPr>
                <a:xfrm>
                  <a:off x="7091280" y="463500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7022880" y="463500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1473120" y="5260320"/>
                <a:ext cx="1517760" cy="511560"/>
                <a:chOff x="1473120" y="5260320"/>
                <a:chExt cx="1517760" cy="511560"/>
              </a:xfrm>
            </p:grpSpPr>
            <p:sp>
              <p:nvSpPr>
                <p:cNvPr id="507" name=""/>
                <p:cNvSpPr/>
                <p:nvPr/>
              </p:nvSpPr>
              <p:spPr>
                <a:xfrm>
                  <a:off x="1541520" y="5260320"/>
                  <a:ext cx="13809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ay Spread Toler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473120" y="5260320"/>
                  <a:ext cx="151776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2990880" y="5260320"/>
                <a:ext cx="711000" cy="511560"/>
                <a:chOff x="2990880" y="5260320"/>
                <a:chExt cx="711000" cy="511560"/>
              </a:xfrm>
            </p:grpSpPr>
            <p:sp>
              <p:nvSpPr>
                <p:cNvPr id="510" name=""/>
                <p:cNvSpPr/>
                <p:nvPr/>
              </p:nvSpPr>
              <p:spPr>
                <a:xfrm>
                  <a:off x="3058920" y="5260320"/>
                  <a:ext cx="57492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2990880" y="5260320"/>
                  <a:ext cx="71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3701880" y="5260320"/>
                <a:ext cx="3321000" cy="511560"/>
                <a:chOff x="3701880" y="5260320"/>
                <a:chExt cx="3321000" cy="511560"/>
              </a:xfrm>
            </p:grpSpPr>
            <p:sp>
              <p:nvSpPr>
                <p:cNvPr id="513" name=""/>
                <p:cNvSpPr/>
                <p:nvPr/>
              </p:nvSpPr>
              <p:spPr>
                <a:xfrm>
                  <a:off x="3770280" y="5260320"/>
                  <a:ext cx="318456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3701880" y="5260320"/>
                  <a:ext cx="3321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022880" y="5260320"/>
                <a:ext cx="648000" cy="511560"/>
                <a:chOff x="7022880" y="5260320"/>
                <a:chExt cx="648000" cy="511560"/>
              </a:xfrm>
            </p:grpSpPr>
            <p:sp>
              <p:nvSpPr>
                <p:cNvPr id="516" name=""/>
                <p:cNvSpPr/>
                <p:nvPr/>
              </p:nvSpPr>
              <p:spPr>
                <a:xfrm>
                  <a:off x="7091280" y="5260320"/>
                  <a:ext cx="511200" cy="51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7022880" y="5260320"/>
                  <a:ext cx="648000" cy="51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1473120" y="5772240"/>
                <a:ext cx="1517760" cy="625320"/>
                <a:chOff x="1473120" y="5772240"/>
                <a:chExt cx="1517760" cy="625320"/>
              </a:xfrm>
            </p:grpSpPr>
            <p:sp>
              <p:nvSpPr>
                <p:cNvPr id="519" name=""/>
                <p:cNvSpPr/>
                <p:nvPr/>
              </p:nvSpPr>
              <p:spPr>
                <a:xfrm>
                  <a:off x="1541520" y="5772240"/>
                  <a:ext cx="13809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Consum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1473120" y="5772240"/>
                  <a:ext cx="151776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2990880" y="5772240"/>
                <a:ext cx="711000" cy="625320"/>
                <a:chOff x="2990880" y="5772240"/>
                <a:chExt cx="711000" cy="625320"/>
              </a:xfrm>
            </p:grpSpPr>
            <p:sp>
              <p:nvSpPr>
                <p:cNvPr id="522" name=""/>
                <p:cNvSpPr/>
                <p:nvPr/>
              </p:nvSpPr>
              <p:spPr>
                <a:xfrm>
                  <a:off x="3058920" y="5772240"/>
                  <a:ext cx="57492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2990880" y="5772240"/>
                  <a:ext cx="71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3701880" y="5772240"/>
                <a:ext cx="3321000" cy="625320"/>
                <a:chOff x="3701880" y="5772240"/>
                <a:chExt cx="3321000" cy="625320"/>
              </a:xfrm>
            </p:grpSpPr>
            <p:sp>
              <p:nvSpPr>
                <p:cNvPr id="525" name=""/>
                <p:cNvSpPr/>
                <p:nvPr/>
              </p:nvSpPr>
              <p:spPr>
                <a:xfrm>
                  <a:off x="3770280" y="5772240"/>
                  <a:ext cx="318456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3701880" y="5772240"/>
                  <a:ext cx="3321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022880" y="5772240"/>
                <a:ext cx="648000" cy="625320"/>
                <a:chOff x="7022880" y="5772240"/>
                <a:chExt cx="648000" cy="625320"/>
              </a:xfrm>
            </p:grpSpPr>
            <p:sp>
              <p:nvSpPr>
                <p:cNvPr id="528" name=""/>
                <p:cNvSpPr/>
                <p:nvPr/>
              </p:nvSpPr>
              <p:spPr>
                <a:xfrm>
                  <a:off x="7091280" y="5772240"/>
                  <a:ext cx="511200" cy="62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7022880" y="5772240"/>
                  <a:ext cx="64800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0" name=""/>
            <p:cNvSpPr/>
            <p:nvPr/>
          </p:nvSpPr>
          <p:spPr>
            <a:xfrm>
              <a:off x="1468440" y="1447920"/>
              <a:ext cx="620712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3733920" y="19051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OS flip-chip approx. 9mm^2, plus a few passives (bypass caps, etc.) &lt;&lt; compact flash T1</a:t>
            </a:r>
            <a:endParaRPr b="0" lang="en-US" sz="1200" spc="-1" strike="noStrike">
              <a:solidFill>
                <a:srgbClr val="000000"/>
              </a:solidFill>
              <a:latin typeface="Times New Roman"/>
            </a:endParaRPr>
          </a:p>
        </p:txBody>
      </p:sp>
      <p:sp>
        <p:nvSpPr>
          <p:cNvPr id="532" name=""/>
          <p:cNvSpPr/>
          <p:nvPr/>
        </p:nvSpPr>
        <p:spPr>
          <a:xfrm>
            <a:off x="3733920" y="243828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GHz ISM band for global availability, variants could be designed for other bands (e.g. 900 MHz)</a:t>
            </a:r>
            <a:endParaRPr b="0" lang="en-US" sz="1200" spc="-1" strike="noStrike">
              <a:solidFill>
                <a:srgbClr val="000000"/>
              </a:solidFill>
              <a:latin typeface="Times New Roman"/>
            </a:endParaRPr>
          </a:p>
        </p:txBody>
      </p:sp>
      <p:sp>
        <p:nvSpPr>
          <p:cNvPr id="533" name=""/>
          <p:cNvSpPr/>
          <p:nvPr/>
        </p:nvSpPr>
        <p:spPr>
          <a:xfrm>
            <a:off x="3733920" y="2971800"/>
            <a:ext cx="327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15, assuming 16 channel spacing and no interference from other systems – perhaps more, depending on RX dynamic range/power tradeoffs</a:t>
            </a:r>
            <a:endParaRPr b="0" lang="en-US" sz="1200" spc="-1" strike="noStrike">
              <a:solidFill>
                <a:srgbClr val="000000"/>
              </a:solidFill>
              <a:latin typeface="Times New Roman"/>
            </a:endParaRPr>
          </a:p>
        </p:txBody>
      </p:sp>
      <p:sp>
        <p:nvSpPr>
          <p:cNvPr id="534" name=""/>
          <p:cNvSpPr/>
          <p:nvPr/>
        </p:nvSpPr>
        <p:spPr>
          <a:xfrm>
            <a:off x="3733920" y="365760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track to frequency of coordinator’s beacon, adjusting their local references to achieve and maintain  frequency and timing sync</a:t>
            </a:r>
            <a:endParaRPr b="0" lang="en-US" sz="1200" spc="-1" strike="noStrike">
              <a:solidFill>
                <a:srgbClr val="000000"/>
              </a:solidFill>
              <a:latin typeface="Times New Roman"/>
            </a:endParaRPr>
          </a:p>
        </p:txBody>
      </p:sp>
      <p:sp>
        <p:nvSpPr>
          <p:cNvPr id="535" name=""/>
          <p:cNvSpPr/>
          <p:nvPr/>
        </p:nvSpPr>
        <p:spPr>
          <a:xfrm>
            <a:off x="3733920" y="43434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10m with &gt;= 28 dB fade margin to 10e-4 BER</a:t>
            </a:r>
            <a:endParaRPr b="0" lang="en-US" sz="1200" spc="-1" strike="noStrike">
              <a:solidFill>
                <a:srgbClr val="000000"/>
              </a:solidFill>
              <a:latin typeface="Times New Roman"/>
            </a:endParaRPr>
          </a:p>
        </p:txBody>
      </p:sp>
      <p:sp>
        <p:nvSpPr>
          <p:cNvPr id="536" name=""/>
          <p:cNvSpPr/>
          <p:nvPr/>
        </p:nvSpPr>
        <p:spPr>
          <a:xfrm>
            <a:off x="3733920" y="5867280"/>
            <a:ext cx="3200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 &amp; RX Peak: ~68.75 mW (100% duty cyc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power duty cycle dependent – see tabl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4492750-715E-42D6-A32A-EF64591F9EDB}" type="slidenum">
              <a:t>2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rPr>
              <a:t>General Solution Criteria Comparison Values</a:t>
            </a:r>
            <a:endParaRPr b="0" lang="en-US" sz="2000" spc="-1" strike="noStrike">
              <a:solidFill>
                <a:srgbClr val="000000"/>
              </a:solidFill>
              <a:latin typeface="Times New Roman"/>
            </a:endParaRPr>
          </a:p>
        </p:txBody>
      </p:sp>
      <p:grpSp>
        <p:nvGrpSpPr>
          <p:cNvPr id="539" name=""/>
          <p:cNvGrpSpPr/>
          <p:nvPr/>
        </p:nvGrpSpPr>
        <p:grpSpPr>
          <a:xfrm>
            <a:off x="762120" y="1523880"/>
            <a:ext cx="7561080" cy="4894560"/>
            <a:chOff x="762120" y="1523880"/>
            <a:chExt cx="7561080" cy="4894560"/>
          </a:xfrm>
        </p:grpSpPr>
        <p:grpSp>
          <p:nvGrpSpPr>
            <p:cNvPr id="540" name=""/>
            <p:cNvGrpSpPr/>
            <p:nvPr/>
          </p:nvGrpSpPr>
          <p:grpSpPr>
            <a:xfrm>
              <a:off x="766800" y="1527480"/>
              <a:ext cx="7551720" cy="4886640"/>
              <a:chOff x="766800" y="1527480"/>
              <a:chExt cx="7551720" cy="4886640"/>
            </a:xfrm>
          </p:grpSpPr>
          <p:grpSp>
            <p:nvGrpSpPr>
              <p:cNvPr id="541" name=""/>
              <p:cNvGrpSpPr/>
              <p:nvPr/>
            </p:nvGrpSpPr>
            <p:grpSpPr>
              <a:xfrm>
                <a:off x="766800" y="1527480"/>
                <a:ext cx="1519200" cy="518400"/>
                <a:chOff x="766800" y="1527480"/>
                <a:chExt cx="1519200" cy="518400"/>
              </a:xfrm>
            </p:grpSpPr>
            <p:sp>
              <p:nvSpPr>
                <p:cNvPr id="542" name=""/>
                <p:cNvSpPr/>
                <p:nvPr/>
              </p:nvSpPr>
              <p:spPr>
                <a:xfrm>
                  <a:off x="766800" y="1527480"/>
                  <a:ext cx="1519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766800" y="1527480"/>
                  <a:ext cx="1519200" cy="518400"/>
                  <a:chOff x="766800" y="1527480"/>
                  <a:chExt cx="1519200" cy="518400"/>
                </a:xfrm>
              </p:grpSpPr>
              <p:sp>
                <p:nvSpPr>
                  <p:cNvPr id="544" name=""/>
                  <p:cNvSpPr/>
                  <p:nvPr/>
                </p:nvSpPr>
                <p:spPr>
                  <a:xfrm>
                    <a:off x="835200" y="1527480"/>
                    <a:ext cx="13824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
                  <p:cNvSpPr/>
                  <p:nvPr/>
                </p:nvSpPr>
                <p:spPr>
                  <a:xfrm>
                    <a:off x="766800" y="1527480"/>
                    <a:ext cx="15192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6" name=""/>
              <p:cNvGrpSpPr/>
              <p:nvPr/>
            </p:nvGrpSpPr>
            <p:grpSpPr>
              <a:xfrm>
                <a:off x="2286000" y="1527480"/>
                <a:ext cx="708120" cy="518400"/>
                <a:chOff x="2286000" y="1527480"/>
                <a:chExt cx="708120" cy="518400"/>
              </a:xfrm>
            </p:grpSpPr>
            <p:sp>
              <p:nvSpPr>
                <p:cNvPr id="547" name=""/>
                <p:cNvSpPr/>
                <p:nvPr/>
              </p:nvSpPr>
              <p:spPr>
                <a:xfrm>
                  <a:off x="2286000" y="1527480"/>
                  <a:ext cx="708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2286000" y="1527480"/>
                  <a:ext cx="708120" cy="518400"/>
                  <a:chOff x="2286000" y="1527480"/>
                  <a:chExt cx="708120" cy="518400"/>
                </a:xfrm>
              </p:grpSpPr>
              <p:sp>
                <p:nvSpPr>
                  <p:cNvPr id="549" name=""/>
                  <p:cNvSpPr/>
                  <p:nvPr/>
                </p:nvSpPr>
                <p:spPr>
                  <a:xfrm>
                    <a:off x="2354400" y="1527480"/>
                    <a:ext cx="571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
                  <p:cNvSpPr/>
                  <p:nvPr/>
                </p:nvSpPr>
                <p:spPr>
                  <a:xfrm>
                    <a:off x="2286000" y="1527480"/>
                    <a:ext cx="708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1" name=""/>
              <p:cNvGrpSpPr/>
              <p:nvPr/>
            </p:nvGrpSpPr>
            <p:grpSpPr>
              <a:xfrm>
                <a:off x="2994120" y="1527480"/>
                <a:ext cx="1736640" cy="518400"/>
                <a:chOff x="2994120" y="1527480"/>
                <a:chExt cx="1736640" cy="518400"/>
              </a:xfrm>
            </p:grpSpPr>
            <p:sp>
              <p:nvSpPr>
                <p:cNvPr id="552" name=""/>
                <p:cNvSpPr/>
                <p:nvPr/>
              </p:nvSpPr>
              <p:spPr>
                <a:xfrm>
                  <a:off x="2994120" y="15274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 name=""/>
                <p:cNvGrpSpPr/>
                <p:nvPr/>
              </p:nvGrpSpPr>
              <p:grpSpPr>
                <a:xfrm>
                  <a:off x="2994120" y="1527480"/>
                  <a:ext cx="1736640" cy="518400"/>
                  <a:chOff x="2994120" y="1527480"/>
                  <a:chExt cx="1736640" cy="518400"/>
                </a:xfrm>
              </p:grpSpPr>
              <p:sp>
                <p:nvSpPr>
                  <p:cNvPr id="554" name=""/>
                  <p:cNvSpPr/>
                  <p:nvPr/>
                </p:nvSpPr>
                <p:spPr>
                  <a:xfrm>
                    <a:off x="3062160" y="15274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2994120" y="15274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6" name=""/>
              <p:cNvGrpSpPr/>
              <p:nvPr/>
            </p:nvGrpSpPr>
            <p:grpSpPr>
              <a:xfrm>
                <a:off x="4730760" y="1527480"/>
                <a:ext cx="1736640" cy="518400"/>
                <a:chOff x="4730760" y="1527480"/>
                <a:chExt cx="1736640" cy="518400"/>
              </a:xfrm>
            </p:grpSpPr>
            <p:sp>
              <p:nvSpPr>
                <p:cNvPr id="557" name=""/>
                <p:cNvSpPr/>
                <p:nvPr/>
              </p:nvSpPr>
              <p:spPr>
                <a:xfrm>
                  <a:off x="4730760" y="15274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8" name=""/>
                <p:cNvGrpSpPr/>
                <p:nvPr/>
              </p:nvGrpSpPr>
              <p:grpSpPr>
                <a:xfrm>
                  <a:off x="4730760" y="1527480"/>
                  <a:ext cx="1736640" cy="518400"/>
                  <a:chOff x="4730760" y="1527480"/>
                  <a:chExt cx="1736640" cy="518400"/>
                </a:xfrm>
              </p:grpSpPr>
              <p:sp>
                <p:nvSpPr>
                  <p:cNvPr id="559" name=""/>
                  <p:cNvSpPr/>
                  <p:nvPr/>
                </p:nvSpPr>
                <p:spPr>
                  <a:xfrm>
                    <a:off x="4799160" y="15274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
                  <p:cNvSpPr/>
                  <p:nvPr/>
                </p:nvSpPr>
                <p:spPr>
                  <a:xfrm>
                    <a:off x="4730760" y="15274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1" name=""/>
              <p:cNvGrpSpPr/>
              <p:nvPr/>
            </p:nvGrpSpPr>
            <p:grpSpPr>
              <a:xfrm>
                <a:off x="6467400" y="1527480"/>
                <a:ext cx="1851120" cy="518400"/>
                <a:chOff x="6467400" y="1527480"/>
                <a:chExt cx="1851120" cy="518400"/>
              </a:xfrm>
            </p:grpSpPr>
            <p:sp>
              <p:nvSpPr>
                <p:cNvPr id="562" name=""/>
                <p:cNvSpPr/>
                <p:nvPr/>
              </p:nvSpPr>
              <p:spPr>
                <a:xfrm>
                  <a:off x="6467400" y="1527480"/>
                  <a:ext cx="1851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6467400" y="1527480"/>
                  <a:ext cx="1851120" cy="518400"/>
                  <a:chOff x="6467400" y="1527480"/>
                  <a:chExt cx="1851120" cy="518400"/>
                </a:xfrm>
              </p:grpSpPr>
              <p:sp>
                <p:nvSpPr>
                  <p:cNvPr id="564" name=""/>
                  <p:cNvSpPr/>
                  <p:nvPr/>
                </p:nvSpPr>
                <p:spPr>
                  <a:xfrm>
                    <a:off x="6535800" y="1527480"/>
                    <a:ext cx="1714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
                  <p:cNvSpPr/>
                  <p:nvPr/>
                </p:nvSpPr>
                <p:spPr>
                  <a:xfrm>
                    <a:off x="6467400" y="1527480"/>
                    <a:ext cx="1851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6" name=""/>
              <p:cNvGrpSpPr/>
              <p:nvPr/>
            </p:nvGrpSpPr>
            <p:grpSpPr>
              <a:xfrm>
                <a:off x="766800" y="2045880"/>
                <a:ext cx="1519200" cy="518400"/>
                <a:chOff x="766800" y="2045880"/>
                <a:chExt cx="1519200" cy="518400"/>
              </a:xfrm>
            </p:grpSpPr>
            <p:sp>
              <p:nvSpPr>
                <p:cNvPr id="567" name=""/>
                <p:cNvSpPr/>
                <p:nvPr/>
              </p:nvSpPr>
              <p:spPr>
                <a:xfrm>
                  <a:off x="766800" y="2045880"/>
                  <a:ext cx="1519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8" name=""/>
                <p:cNvGrpSpPr/>
                <p:nvPr/>
              </p:nvGrpSpPr>
              <p:grpSpPr>
                <a:xfrm>
                  <a:off x="766800" y="2045880"/>
                  <a:ext cx="1519200" cy="518400"/>
                  <a:chOff x="766800" y="2045880"/>
                  <a:chExt cx="1519200" cy="518400"/>
                </a:xfrm>
              </p:grpSpPr>
              <p:sp>
                <p:nvSpPr>
                  <p:cNvPr id="569" name=""/>
                  <p:cNvSpPr/>
                  <p:nvPr/>
                </p:nvSpPr>
                <p:spPr>
                  <a:xfrm>
                    <a:off x="835200" y="2045880"/>
                    <a:ext cx="13824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
                  <p:cNvSpPr/>
                  <p:nvPr/>
                </p:nvSpPr>
                <p:spPr>
                  <a:xfrm>
                    <a:off x="766800" y="2045880"/>
                    <a:ext cx="15192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1" name=""/>
              <p:cNvGrpSpPr/>
              <p:nvPr/>
            </p:nvGrpSpPr>
            <p:grpSpPr>
              <a:xfrm>
                <a:off x="2286000" y="2045880"/>
                <a:ext cx="708120" cy="518400"/>
                <a:chOff x="2286000" y="2045880"/>
                <a:chExt cx="708120" cy="518400"/>
              </a:xfrm>
            </p:grpSpPr>
            <p:sp>
              <p:nvSpPr>
                <p:cNvPr id="572" name=""/>
                <p:cNvSpPr/>
                <p:nvPr/>
              </p:nvSpPr>
              <p:spPr>
                <a:xfrm>
                  <a:off x="2286000" y="2045880"/>
                  <a:ext cx="708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3" name=""/>
                <p:cNvGrpSpPr/>
                <p:nvPr/>
              </p:nvGrpSpPr>
              <p:grpSpPr>
                <a:xfrm>
                  <a:off x="2286000" y="2045880"/>
                  <a:ext cx="708120" cy="518400"/>
                  <a:chOff x="2286000" y="2045880"/>
                  <a:chExt cx="708120" cy="518400"/>
                </a:xfrm>
              </p:grpSpPr>
              <p:sp>
                <p:nvSpPr>
                  <p:cNvPr id="574" name=""/>
                  <p:cNvSpPr/>
                  <p:nvPr/>
                </p:nvSpPr>
                <p:spPr>
                  <a:xfrm>
                    <a:off x="2354400" y="2045880"/>
                    <a:ext cx="571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
                  <p:cNvSpPr/>
                  <p:nvPr/>
                </p:nvSpPr>
                <p:spPr>
                  <a:xfrm>
                    <a:off x="2286000" y="2045880"/>
                    <a:ext cx="708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6" name=""/>
              <p:cNvGrpSpPr/>
              <p:nvPr/>
            </p:nvGrpSpPr>
            <p:grpSpPr>
              <a:xfrm>
                <a:off x="2994120" y="2045880"/>
                <a:ext cx="1736640" cy="518400"/>
                <a:chOff x="2994120" y="2045880"/>
                <a:chExt cx="1736640" cy="518400"/>
              </a:xfrm>
            </p:grpSpPr>
            <p:sp>
              <p:nvSpPr>
                <p:cNvPr id="577" name=""/>
                <p:cNvSpPr/>
                <p:nvPr/>
              </p:nvSpPr>
              <p:spPr>
                <a:xfrm>
                  <a:off x="2994120" y="20458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 name=""/>
                <p:cNvGrpSpPr/>
                <p:nvPr/>
              </p:nvGrpSpPr>
              <p:grpSpPr>
                <a:xfrm>
                  <a:off x="2994120" y="2045880"/>
                  <a:ext cx="1736640" cy="518400"/>
                  <a:chOff x="2994120" y="2045880"/>
                  <a:chExt cx="1736640" cy="518400"/>
                </a:xfrm>
              </p:grpSpPr>
              <p:sp>
                <p:nvSpPr>
                  <p:cNvPr id="579" name=""/>
                  <p:cNvSpPr/>
                  <p:nvPr/>
                </p:nvSpPr>
                <p:spPr>
                  <a:xfrm>
                    <a:off x="3062160" y="20458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
                  <p:cNvSpPr/>
                  <p:nvPr/>
                </p:nvSpPr>
                <p:spPr>
                  <a:xfrm>
                    <a:off x="2994120" y="20458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1" name=""/>
              <p:cNvGrpSpPr/>
              <p:nvPr/>
            </p:nvGrpSpPr>
            <p:grpSpPr>
              <a:xfrm>
                <a:off x="4730760" y="2045880"/>
                <a:ext cx="1736640" cy="518400"/>
                <a:chOff x="4730760" y="2045880"/>
                <a:chExt cx="1736640" cy="518400"/>
              </a:xfrm>
            </p:grpSpPr>
            <p:sp>
              <p:nvSpPr>
                <p:cNvPr id="582" name=""/>
                <p:cNvSpPr/>
                <p:nvPr/>
              </p:nvSpPr>
              <p:spPr>
                <a:xfrm>
                  <a:off x="4730760" y="20458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 name=""/>
                <p:cNvGrpSpPr/>
                <p:nvPr/>
              </p:nvGrpSpPr>
              <p:grpSpPr>
                <a:xfrm>
                  <a:off x="4730760" y="2045880"/>
                  <a:ext cx="1736640" cy="518400"/>
                  <a:chOff x="4730760" y="2045880"/>
                  <a:chExt cx="1736640" cy="518400"/>
                </a:xfrm>
              </p:grpSpPr>
              <p:sp>
                <p:nvSpPr>
                  <p:cNvPr id="584" name=""/>
                  <p:cNvSpPr/>
                  <p:nvPr/>
                </p:nvSpPr>
                <p:spPr>
                  <a:xfrm>
                    <a:off x="4799160" y="20458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4730760" y="20458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6" name=""/>
              <p:cNvGrpSpPr/>
              <p:nvPr/>
            </p:nvGrpSpPr>
            <p:grpSpPr>
              <a:xfrm>
                <a:off x="6467400" y="2045880"/>
                <a:ext cx="1851120" cy="518400"/>
                <a:chOff x="6467400" y="2045880"/>
                <a:chExt cx="1851120" cy="518400"/>
              </a:xfrm>
            </p:grpSpPr>
            <p:sp>
              <p:nvSpPr>
                <p:cNvPr id="587" name=""/>
                <p:cNvSpPr/>
                <p:nvPr/>
              </p:nvSpPr>
              <p:spPr>
                <a:xfrm>
                  <a:off x="6467400" y="2045880"/>
                  <a:ext cx="1851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6467400" y="2045880"/>
                  <a:ext cx="1851120" cy="518400"/>
                  <a:chOff x="6467400" y="2045880"/>
                  <a:chExt cx="1851120" cy="518400"/>
                </a:xfrm>
              </p:grpSpPr>
              <p:sp>
                <p:nvSpPr>
                  <p:cNvPr id="589" name=""/>
                  <p:cNvSpPr/>
                  <p:nvPr/>
                </p:nvSpPr>
                <p:spPr>
                  <a:xfrm>
                    <a:off x="6535800" y="2045880"/>
                    <a:ext cx="1714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
                  <p:cNvSpPr/>
                  <p:nvPr/>
                </p:nvSpPr>
                <p:spPr>
                  <a:xfrm>
                    <a:off x="6467400" y="2045880"/>
                    <a:ext cx="1851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1" name=""/>
              <p:cNvGrpSpPr/>
              <p:nvPr/>
            </p:nvGrpSpPr>
            <p:grpSpPr>
              <a:xfrm>
                <a:off x="766800" y="2564640"/>
                <a:ext cx="1519200" cy="1998720"/>
                <a:chOff x="766800" y="2564640"/>
                <a:chExt cx="1519200" cy="1998720"/>
              </a:xfrm>
            </p:grpSpPr>
            <p:sp>
              <p:nvSpPr>
                <p:cNvPr id="592" name=""/>
                <p:cNvSpPr/>
                <p:nvPr/>
              </p:nvSpPr>
              <p:spPr>
                <a:xfrm>
                  <a:off x="835200" y="2564640"/>
                  <a:ext cx="138240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t Manufacturing Cost ($) as a function of time (when product delivers) and volu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
                <p:cNvSpPr/>
                <p:nvPr/>
              </p:nvSpPr>
              <p:spPr>
                <a:xfrm>
                  <a:off x="766800" y="2564640"/>
                  <a:ext cx="151920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2286000" y="2564640"/>
                <a:ext cx="708120" cy="1998720"/>
                <a:chOff x="2286000" y="2564640"/>
                <a:chExt cx="708120" cy="1998720"/>
              </a:xfrm>
            </p:grpSpPr>
            <p:sp>
              <p:nvSpPr>
                <p:cNvPr id="595" name=""/>
                <p:cNvSpPr/>
                <p:nvPr/>
              </p:nvSpPr>
              <p:spPr>
                <a:xfrm>
                  <a:off x="2354400" y="2564640"/>
                  <a:ext cx="57132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
                <p:cNvSpPr/>
                <p:nvPr/>
              </p:nvSpPr>
              <p:spPr>
                <a:xfrm>
                  <a:off x="2286000" y="2564640"/>
                  <a:ext cx="70812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2994120" y="2564640"/>
                <a:ext cx="1736640" cy="1998720"/>
                <a:chOff x="2994120" y="2564640"/>
                <a:chExt cx="1736640" cy="1998720"/>
              </a:xfrm>
            </p:grpSpPr>
            <p:sp>
              <p:nvSpPr>
                <p:cNvPr id="598" name=""/>
                <p:cNvSpPr/>
                <p:nvPr/>
              </p:nvSpPr>
              <p:spPr>
                <a:xfrm>
                  <a:off x="3062160" y="2564640"/>
                  <a:ext cx="160020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t; ¼ x equivalent Bluetooth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
                <p:cNvSpPr/>
                <p:nvPr/>
              </p:nvSpPr>
              <p:spPr>
                <a:xfrm>
                  <a:off x="2994120" y="2564640"/>
                  <a:ext cx="173664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4730760" y="2564640"/>
                <a:ext cx="1736640" cy="1998720"/>
                <a:chOff x="4730760" y="2564640"/>
                <a:chExt cx="1736640" cy="1998720"/>
              </a:xfrm>
            </p:grpSpPr>
            <p:sp>
              <p:nvSpPr>
                <p:cNvPr id="601" name=""/>
                <p:cNvSpPr/>
                <p:nvPr/>
              </p:nvSpPr>
              <p:spPr>
                <a:xfrm>
                  <a:off x="4799160" y="2564640"/>
                  <a:ext cx="160020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1/20- x equivalent Bluetooth 1 value as indicated in Note #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imes New Roman"/>
                      <a:ea typeface="Times New Roman"/>
                    </a:rPr>
                    <a:t>No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1.  Bluetooth 1 value is assumed to be $20 in 2H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
                <p:cNvSpPr/>
                <p:nvPr/>
              </p:nvSpPr>
              <p:spPr>
                <a:xfrm>
                  <a:off x="4730760" y="2564640"/>
                  <a:ext cx="173664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6467400" y="2564640"/>
                <a:ext cx="1851120" cy="1998720"/>
                <a:chOff x="6467400" y="2564640"/>
                <a:chExt cx="1851120" cy="1998720"/>
              </a:xfrm>
            </p:grpSpPr>
            <p:sp>
              <p:nvSpPr>
                <p:cNvPr id="604" name=""/>
                <p:cNvSpPr/>
                <p:nvPr/>
              </p:nvSpPr>
              <p:spPr>
                <a:xfrm>
                  <a:off x="6535800" y="2564640"/>
                  <a:ext cx="171432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t; 1/20 x equivalent Bluetooth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6467400" y="2564640"/>
                  <a:ext cx="185112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766800" y="4563720"/>
                <a:ext cx="1519200" cy="1850400"/>
                <a:chOff x="766800" y="4563720"/>
                <a:chExt cx="1519200" cy="1850400"/>
              </a:xfrm>
            </p:grpSpPr>
            <p:sp>
              <p:nvSpPr>
                <p:cNvPr id="607" name=""/>
                <p:cNvSpPr/>
                <p:nvPr/>
              </p:nvSpPr>
              <p:spPr>
                <a:xfrm>
                  <a:off x="835200" y="4563720"/>
                  <a:ext cx="138240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nce and Suscepti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766800" y="4563720"/>
                  <a:ext cx="151920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2286000" y="4563720"/>
                <a:ext cx="708120" cy="1850400"/>
                <a:chOff x="2286000" y="4563720"/>
                <a:chExt cx="708120" cy="1850400"/>
              </a:xfrm>
            </p:grpSpPr>
            <p:sp>
              <p:nvSpPr>
                <p:cNvPr id="610" name=""/>
                <p:cNvSpPr/>
                <p:nvPr/>
              </p:nvSpPr>
              <p:spPr>
                <a:xfrm>
                  <a:off x="2354400" y="4563720"/>
                  <a:ext cx="57132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
                <p:cNvSpPr/>
                <p:nvPr/>
              </p:nvSpPr>
              <p:spPr>
                <a:xfrm>
                  <a:off x="2286000" y="4563720"/>
                  <a:ext cx="70812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2994120" y="4563720"/>
                <a:ext cx="1736640" cy="1850400"/>
                <a:chOff x="2994120" y="4563720"/>
                <a:chExt cx="1736640" cy="1850400"/>
              </a:xfrm>
            </p:grpSpPr>
            <p:sp>
              <p:nvSpPr>
                <p:cNvPr id="613" name=""/>
                <p:cNvSpPr/>
                <p:nvPr/>
              </p:nvSpPr>
              <p:spPr>
                <a:xfrm>
                  <a:off x="3062160" y="4563720"/>
                  <a:ext cx="160020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ut of the proposed band:</a:t>
                  </a:r>
                  <a:r>
                    <a:rPr b="0" lang="en-US" sz="1200" spc="-1" strike="noStrike">
                      <a:solidFill>
                        <a:srgbClr val="000000"/>
                      </a:solidFill>
                      <a:latin typeface="Times New Roman"/>
                      <a:ea typeface="Times New Roman"/>
                    </a:rPr>
                    <a:t>  Worse performance than same 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 band:</a:t>
                  </a:r>
                  <a:r>
                    <a:rPr b="0" lang="en-US" sz="1200" spc="-1" strike="noStrike">
                      <a:solidFill>
                        <a:srgbClr val="000000"/>
                      </a:solidFill>
                      <a:latin typeface="Times New Roman"/>
                      <a:ea typeface="Times New Roman"/>
                    </a:rPr>
                    <a:t> -: Interference protection is less than 25dB (excluding co-channel and adjacent chann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
                <p:cNvSpPr/>
                <p:nvPr/>
              </p:nvSpPr>
              <p:spPr>
                <a:xfrm>
                  <a:off x="2994120" y="4563720"/>
                  <a:ext cx="173664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4730760" y="4563720"/>
                <a:ext cx="1736640" cy="1850400"/>
                <a:chOff x="4730760" y="4563720"/>
                <a:chExt cx="1736640" cy="1850400"/>
              </a:xfrm>
            </p:grpSpPr>
            <p:sp>
              <p:nvSpPr>
                <p:cNvPr id="616" name=""/>
                <p:cNvSpPr/>
                <p:nvPr/>
              </p:nvSpPr>
              <p:spPr>
                <a:xfrm>
                  <a:off x="4799160" y="4563720"/>
                  <a:ext cx="160020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ut of the proposed band:</a:t>
                  </a:r>
                  <a:r>
                    <a:rPr b="0" lang="en-US" sz="1200" spc="-1" strike="noStrike">
                      <a:solidFill>
                        <a:srgbClr val="000000"/>
                      </a:solidFill>
                      <a:latin typeface="Times New Roman"/>
                      <a:ea typeface="Times New Roman"/>
                    </a:rPr>
                    <a:t> based on Bluetooth 1.0b (section A.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 band: </a:t>
                  </a:r>
                  <a:r>
                    <a:rPr b="0" lang="en-US" sz="1200" spc="-1" strike="noStrike">
                      <a:solidFill>
                        <a:srgbClr val="000000"/>
                      </a:solidFill>
                      <a:latin typeface="Times New Roman"/>
                      <a:ea typeface="Times New Roman"/>
                    </a:rPr>
                    <a:t>Interference protection is less than 30dB (excluding co-channel and adjacent and first chann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
                <p:cNvSpPr/>
                <p:nvPr/>
              </p:nvSpPr>
              <p:spPr>
                <a:xfrm>
                  <a:off x="4730760" y="4563720"/>
                  <a:ext cx="173664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6467400" y="4563720"/>
                <a:ext cx="1851120" cy="1850400"/>
                <a:chOff x="6467400" y="4563720"/>
                <a:chExt cx="1851120" cy="1850400"/>
              </a:xfrm>
            </p:grpSpPr>
            <p:sp>
              <p:nvSpPr>
                <p:cNvPr id="619" name=""/>
                <p:cNvSpPr/>
                <p:nvPr/>
              </p:nvSpPr>
              <p:spPr>
                <a:xfrm>
                  <a:off x="6535800" y="4563720"/>
                  <a:ext cx="171432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00"/>
                      </a:solidFill>
                      <a:latin typeface="Times New Roman"/>
                      <a:ea typeface="Times New Roman"/>
                    </a:rPr>
                    <a:t>Out of the proposed band:</a:t>
                  </a:r>
                  <a:r>
                    <a:rPr b="0" lang="en-US" sz="1200" spc="-1" strike="noStrike">
                      <a:solidFill>
                        <a:srgbClr val="ff3300"/>
                      </a:solidFill>
                      <a:latin typeface="Times New Roman"/>
                      <a:ea typeface="Times New Roman"/>
                    </a:rPr>
                    <a:t>  Better performance than same 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Times New Roman"/>
                      <a:ea typeface="Times New Roman"/>
                    </a:rPr>
                    <a:t>In band:</a:t>
                  </a:r>
                  <a:r>
                    <a:rPr b="0" lang="en-US" sz="1200" spc="-1" strike="noStrike">
                      <a:solidFill>
                        <a:srgbClr val="00cc99"/>
                      </a:solidFill>
                      <a:latin typeface="Times New Roman"/>
                      <a:ea typeface="Times New Roman"/>
                    </a:rPr>
                    <a:t>  Interference protection is less greater than 35dB (excluding co-channel and adjacent chann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
                <p:cNvSpPr/>
                <p:nvPr/>
              </p:nvSpPr>
              <p:spPr>
                <a:xfrm>
                  <a:off x="6467400" y="4563720"/>
                  <a:ext cx="185112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1" name=""/>
            <p:cNvSpPr/>
            <p:nvPr/>
          </p:nvSpPr>
          <p:spPr>
            <a:xfrm>
              <a:off x="762120" y="1523880"/>
              <a:ext cx="7561080" cy="48945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A72B2B0-F95D-41B3-A711-3F922534BFA6}" type="slidenum">
              <a:t>2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0" y="1523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rPr>
              <a:t>General Solution Criteria Comparison Values (cont.)</a:t>
            </a:r>
            <a:endParaRPr b="0" lang="en-US" sz="2000" spc="-1" strike="noStrike">
              <a:solidFill>
                <a:srgbClr val="000000"/>
              </a:solidFill>
              <a:latin typeface="Times New Roman"/>
            </a:endParaRPr>
          </a:p>
        </p:txBody>
      </p:sp>
      <p:grpSp>
        <p:nvGrpSpPr>
          <p:cNvPr id="624" name=""/>
          <p:cNvGrpSpPr/>
          <p:nvPr/>
        </p:nvGrpSpPr>
        <p:grpSpPr>
          <a:xfrm>
            <a:off x="763560" y="1447920"/>
            <a:ext cx="7618320" cy="4952880"/>
            <a:chOff x="763560" y="1447920"/>
            <a:chExt cx="7618320" cy="4952880"/>
          </a:xfrm>
        </p:grpSpPr>
        <p:grpSp>
          <p:nvGrpSpPr>
            <p:cNvPr id="625" name=""/>
            <p:cNvGrpSpPr/>
            <p:nvPr/>
          </p:nvGrpSpPr>
          <p:grpSpPr>
            <a:xfrm>
              <a:off x="768240" y="1450800"/>
              <a:ext cx="7608960" cy="4946040"/>
              <a:chOff x="768240" y="1450800"/>
              <a:chExt cx="7608960" cy="4946040"/>
            </a:xfrm>
          </p:grpSpPr>
          <p:grpSp>
            <p:nvGrpSpPr>
              <p:cNvPr id="626" name=""/>
              <p:cNvGrpSpPr/>
              <p:nvPr/>
            </p:nvGrpSpPr>
            <p:grpSpPr>
              <a:xfrm>
                <a:off x="768240" y="1450800"/>
                <a:ext cx="1976400" cy="432720"/>
                <a:chOff x="768240" y="1450800"/>
                <a:chExt cx="1976400" cy="432720"/>
              </a:xfrm>
            </p:grpSpPr>
            <p:sp>
              <p:nvSpPr>
                <p:cNvPr id="627" name=""/>
                <p:cNvSpPr/>
                <p:nvPr/>
              </p:nvSpPr>
              <p:spPr>
                <a:xfrm>
                  <a:off x="768240" y="1450800"/>
                  <a:ext cx="19764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8" name=""/>
                <p:cNvGrpSpPr/>
                <p:nvPr/>
              </p:nvGrpSpPr>
              <p:grpSpPr>
                <a:xfrm>
                  <a:off x="768240" y="1450800"/>
                  <a:ext cx="1976400" cy="432720"/>
                  <a:chOff x="768240" y="1450800"/>
                  <a:chExt cx="1976400" cy="432720"/>
                </a:xfrm>
              </p:grpSpPr>
              <p:sp>
                <p:nvSpPr>
                  <p:cNvPr id="629" name=""/>
                  <p:cNvSpPr/>
                  <p:nvPr/>
                </p:nvSpPr>
                <p:spPr>
                  <a:xfrm>
                    <a:off x="836640" y="1450800"/>
                    <a:ext cx="18396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768240" y="1450800"/>
                    <a:ext cx="197640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1" name=""/>
              <p:cNvGrpSpPr/>
              <p:nvPr/>
            </p:nvGrpSpPr>
            <p:grpSpPr>
              <a:xfrm>
                <a:off x="2744640" y="1450800"/>
                <a:ext cx="879480" cy="432720"/>
                <a:chOff x="2744640" y="1450800"/>
                <a:chExt cx="879480" cy="432720"/>
              </a:xfrm>
            </p:grpSpPr>
            <p:sp>
              <p:nvSpPr>
                <p:cNvPr id="632" name=""/>
                <p:cNvSpPr/>
                <p:nvPr/>
              </p:nvSpPr>
              <p:spPr>
                <a:xfrm>
                  <a:off x="2744640" y="1450800"/>
                  <a:ext cx="879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3" name=""/>
                <p:cNvGrpSpPr/>
                <p:nvPr/>
              </p:nvGrpSpPr>
              <p:grpSpPr>
                <a:xfrm>
                  <a:off x="2744640" y="1450800"/>
                  <a:ext cx="879480" cy="432720"/>
                  <a:chOff x="2744640" y="1450800"/>
                  <a:chExt cx="879480" cy="432720"/>
                </a:xfrm>
              </p:grpSpPr>
              <p:sp>
                <p:nvSpPr>
                  <p:cNvPr id="634" name=""/>
                  <p:cNvSpPr/>
                  <p:nvPr/>
                </p:nvSpPr>
                <p:spPr>
                  <a:xfrm>
                    <a:off x="2813040" y="1450800"/>
                    <a:ext cx="7426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
                  <p:cNvSpPr/>
                  <p:nvPr/>
                </p:nvSpPr>
                <p:spPr>
                  <a:xfrm>
                    <a:off x="2744640" y="1450800"/>
                    <a:ext cx="8794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6" name=""/>
              <p:cNvGrpSpPr/>
              <p:nvPr/>
            </p:nvGrpSpPr>
            <p:grpSpPr>
              <a:xfrm>
                <a:off x="3624120" y="1450800"/>
                <a:ext cx="1565280" cy="432720"/>
                <a:chOff x="3624120" y="1450800"/>
                <a:chExt cx="1565280" cy="432720"/>
              </a:xfrm>
            </p:grpSpPr>
            <p:sp>
              <p:nvSpPr>
                <p:cNvPr id="637" name=""/>
                <p:cNvSpPr/>
                <p:nvPr/>
              </p:nvSpPr>
              <p:spPr>
                <a:xfrm>
                  <a:off x="3624120" y="145080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3624120" y="1450800"/>
                  <a:ext cx="1565280" cy="432720"/>
                  <a:chOff x="3624120" y="1450800"/>
                  <a:chExt cx="1565280" cy="432720"/>
                </a:xfrm>
              </p:grpSpPr>
              <p:sp>
                <p:nvSpPr>
                  <p:cNvPr id="639" name=""/>
                  <p:cNvSpPr/>
                  <p:nvPr/>
                </p:nvSpPr>
                <p:spPr>
                  <a:xfrm>
                    <a:off x="3692520" y="1450800"/>
                    <a:ext cx="1428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
                  <p:cNvSpPr/>
                  <p:nvPr/>
                </p:nvSpPr>
                <p:spPr>
                  <a:xfrm>
                    <a:off x="3624120" y="145080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1" name=""/>
              <p:cNvGrpSpPr/>
              <p:nvPr/>
            </p:nvGrpSpPr>
            <p:grpSpPr>
              <a:xfrm>
                <a:off x="5189400" y="1450800"/>
                <a:ext cx="1622520" cy="432720"/>
                <a:chOff x="5189400" y="1450800"/>
                <a:chExt cx="1622520" cy="432720"/>
              </a:xfrm>
            </p:grpSpPr>
            <p:sp>
              <p:nvSpPr>
                <p:cNvPr id="642" name=""/>
                <p:cNvSpPr/>
                <p:nvPr/>
              </p:nvSpPr>
              <p:spPr>
                <a:xfrm>
                  <a:off x="5189400" y="1450800"/>
                  <a:ext cx="16225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 name=""/>
                <p:cNvGrpSpPr/>
                <p:nvPr/>
              </p:nvGrpSpPr>
              <p:grpSpPr>
                <a:xfrm>
                  <a:off x="5189400" y="1450800"/>
                  <a:ext cx="1622520" cy="432720"/>
                  <a:chOff x="5189400" y="1450800"/>
                  <a:chExt cx="1622520" cy="432720"/>
                </a:xfrm>
              </p:grpSpPr>
              <p:sp>
                <p:nvSpPr>
                  <p:cNvPr id="644" name=""/>
                  <p:cNvSpPr/>
                  <p:nvPr/>
                </p:nvSpPr>
                <p:spPr>
                  <a:xfrm>
                    <a:off x="5257800" y="1450800"/>
                    <a:ext cx="14857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5189400" y="1450800"/>
                    <a:ext cx="162252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6" name=""/>
              <p:cNvGrpSpPr/>
              <p:nvPr/>
            </p:nvGrpSpPr>
            <p:grpSpPr>
              <a:xfrm>
                <a:off x="6811920" y="1450800"/>
                <a:ext cx="1565280" cy="432720"/>
                <a:chOff x="6811920" y="1450800"/>
                <a:chExt cx="1565280" cy="432720"/>
              </a:xfrm>
            </p:grpSpPr>
            <p:sp>
              <p:nvSpPr>
                <p:cNvPr id="647" name=""/>
                <p:cNvSpPr/>
                <p:nvPr/>
              </p:nvSpPr>
              <p:spPr>
                <a:xfrm>
                  <a:off x="6811920" y="145080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8" name=""/>
                <p:cNvGrpSpPr/>
                <p:nvPr/>
              </p:nvGrpSpPr>
              <p:grpSpPr>
                <a:xfrm>
                  <a:off x="6811920" y="1450800"/>
                  <a:ext cx="1565280" cy="432720"/>
                  <a:chOff x="6811920" y="1450800"/>
                  <a:chExt cx="1565280" cy="432720"/>
                </a:xfrm>
              </p:grpSpPr>
              <p:sp>
                <p:nvSpPr>
                  <p:cNvPr id="649" name=""/>
                  <p:cNvSpPr/>
                  <p:nvPr/>
                </p:nvSpPr>
                <p:spPr>
                  <a:xfrm>
                    <a:off x="6879960" y="1450800"/>
                    <a:ext cx="142884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
                  <p:cNvSpPr/>
                  <p:nvPr/>
                </p:nvSpPr>
                <p:spPr>
                  <a:xfrm>
                    <a:off x="6811920" y="145080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1" name=""/>
              <p:cNvGrpSpPr/>
              <p:nvPr/>
            </p:nvGrpSpPr>
            <p:grpSpPr>
              <a:xfrm>
                <a:off x="768240" y="1883520"/>
                <a:ext cx="1976400" cy="432720"/>
                <a:chOff x="768240" y="1883520"/>
                <a:chExt cx="1976400" cy="432720"/>
              </a:xfrm>
            </p:grpSpPr>
            <p:sp>
              <p:nvSpPr>
                <p:cNvPr id="652" name=""/>
                <p:cNvSpPr/>
                <p:nvPr/>
              </p:nvSpPr>
              <p:spPr>
                <a:xfrm>
                  <a:off x="768240" y="1883520"/>
                  <a:ext cx="19764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768240" y="1883520"/>
                  <a:ext cx="1976400" cy="432720"/>
                  <a:chOff x="768240" y="1883520"/>
                  <a:chExt cx="1976400" cy="432720"/>
                </a:xfrm>
              </p:grpSpPr>
              <p:sp>
                <p:nvSpPr>
                  <p:cNvPr id="654" name=""/>
                  <p:cNvSpPr/>
                  <p:nvPr/>
                </p:nvSpPr>
                <p:spPr>
                  <a:xfrm>
                    <a:off x="836640" y="1883520"/>
                    <a:ext cx="18396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5" name=""/>
                  <p:cNvSpPr/>
                  <p:nvPr/>
                </p:nvSpPr>
                <p:spPr>
                  <a:xfrm>
                    <a:off x="768240" y="1883520"/>
                    <a:ext cx="197640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6" name=""/>
              <p:cNvGrpSpPr/>
              <p:nvPr/>
            </p:nvGrpSpPr>
            <p:grpSpPr>
              <a:xfrm>
                <a:off x="2744640" y="1883520"/>
                <a:ext cx="879480" cy="432720"/>
                <a:chOff x="2744640" y="1883520"/>
                <a:chExt cx="879480" cy="432720"/>
              </a:xfrm>
            </p:grpSpPr>
            <p:sp>
              <p:nvSpPr>
                <p:cNvPr id="657" name=""/>
                <p:cNvSpPr/>
                <p:nvPr/>
              </p:nvSpPr>
              <p:spPr>
                <a:xfrm>
                  <a:off x="2744640" y="1883520"/>
                  <a:ext cx="879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744640" y="1883520"/>
                  <a:ext cx="879480" cy="432720"/>
                  <a:chOff x="2744640" y="1883520"/>
                  <a:chExt cx="879480" cy="432720"/>
                </a:xfrm>
              </p:grpSpPr>
              <p:sp>
                <p:nvSpPr>
                  <p:cNvPr id="659" name=""/>
                  <p:cNvSpPr/>
                  <p:nvPr/>
                </p:nvSpPr>
                <p:spPr>
                  <a:xfrm>
                    <a:off x="2813040" y="1883520"/>
                    <a:ext cx="7426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2744640" y="1883520"/>
                    <a:ext cx="8794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1" name=""/>
              <p:cNvGrpSpPr/>
              <p:nvPr/>
            </p:nvGrpSpPr>
            <p:grpSpPr>
              <a:xfrm>
                <a:off x="3624120" y="1883520"/>
                <a:ext cx="1565280" cy="432720"/>
                <a:chOff x="3624120" y="1883520"/>
                <a:chExt cx="1565280" cy="432720"/>
              </a:xfrm>
            </p:grpSpPr>
            <p:sp>
              <p:nvSpPr>
                <p:cNvPr id="662" name=""/>
                <p:cNvSpPr/>
                <p:nvPr/>
              </p:nvSpPr>
              <p:spPr>
                <a:xfrm>
                  <a:off x="3624120" y="188352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 name=""/>
                <p:cNvGrpSpPr/>
                <p:nvPr/>
              </p:nvGrpSpPr>
              <p:grpSpPr>
                <a:xfrm>
                  <a:off x="3624120" y="1883520"/>
                  <a:ext cx="1565280" cy="432720"/>
                  <a:chOff x="3624120" y="1883520"/>
                  <a:chExt cx="1565280" cy="432720"/>
                </a:xfrm>
              </p:grpSpPr>
              <p:sp>
                <p:nvSpPr>
                  <p:cNvPr id="664" name=""/>
                  <p:cNvSpPr/>
                  <p:nvPr/>
                </p:nvSpPr>
                <p:spPr>
                  <a:xfrm>
                    <a:off x="3692520" y="1883520"/>
                    <a:ext cx="1428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
                  <p:cNvSpPr/>
                  <p:nvPr/>
                </p:nvSpPr>
                <p:spPr>
                  <a:xfrm>
                    <a:off x="3624120" y="18835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6" name=""/>
              <p:cNvGrpSpPr/>
              <p:nvPr/>
            </p:nvGrpSpPr>
            <p:grpSpPr>
              <a:xfrm>
                <a:off x="5189400" y="1883520"/>
                <a:ext cx="1622520" cy="432720"/>
                <a:chOff x="5189400" y="1883520"/>
                <a:chExt cx="1622520" cy="432720"/>
              </a:xfrm>
            </p:grpSpPr>
            <p:sp>
              <p:nvSpPr>
                <p:cNvPr id="667" name=""/>
                <p:cNvSpPr/>
                <p:nvPr/>
              </p:nvSpPr>
              <p:spPr>
                <a:xfrm>
                  <a:off x="5189400" y="1883520"/>
                  <a:ext cx="16225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 name=""/>
                <p:cNvGrpSpPr/>
                <p:nvPr/>
              </p:nvGrpSpPr>
              <p:grpSpPr>
                <a:xfrm>
                  <a:off x="5189400" y="1883520"/>
                  <a:ext cx="1622520" cy="432720"/>
                  <a:chOff x="5189400" y="1883520"/>
                  <a:chExt cx="1622520" cy="432720"/>
                </a:xfrm>
              </p:grpSpPr>
              <p:sp>
                <p:nvSpPr>
                  <p:cNvPr id="669" name=""/>
                  <p:cNvSpPr/>
                  <p:nvPr/>
                </p:nvSpPr>
                <p:spPr>
                  <a:xfrm>
                    <a:off x="5257800" y="1883520"/>
                    <a:ext cx="14857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
                  <p:cNvSpPr/>
                  <p:nvPr/>
                </p:nvSpPr>
                <p:spPr>
                  <a:xfrm>
                    <a:off x="5189400" y="1883520"/>
                    <a:ext cx="162252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1" name=""/>
              <p:cNvGrpSpPr/>
              <p:nvPr/>
            </p:nvGrpSpPr>
            <p:grpSpPr>
              <a:xfrm>
                <a:off x="6811920" y="1883520"/>
                <a:ext cx="1565280" cy="432720"/>
                <a:chOff x="6811920" y="1883520"/>
                <a:chExt cx="1565280" cy="432720"/>
              </a:xfrm>
            </p:grpSpPr>
            <p:sp>
              <p:nvSpPr>
                <p:cNvPr id="672" name=""/>
                <p:cNvSpPr/>
                <p:nvPr/>
              </p:nvSpPr>
              <p:spPr>
                <a:xfrm>
                  <a:off x="6811920" y="188352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3" name=""/>
                <p:cNvGrpSpPr/>
                <p:nvPr/>
              </p:nvGrpSpPr>
              <p:grpSpPr>
                <a:xfrm>
                  <a:off x="6811920" y="1883520"/>
                  <a:ext cx="1565280" cy="432720"/>
                  <a:chOff x="6811920" y="1883520"/>
                  <a:chExt cx="1565280" cy="432720"/>
                </a:xfrm>
              </p:grpSpPr>
              <p:sp>
                <p:nvSpPr>
                  <p:cNvPr id="674" name=""/>
                  <p:cNvSpPr/>
                  <p:nvPr/>
                </p:nvSpPr>
                <p:spPr>
                  <a:xfrm>
                    <a:off x="6879960" y="1883520"/>
                    <a:ext cx="142884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
                  <p:cNvSpPr/>
                  <p:nvPr/>
                </p:nvSpPr>
                <p:spPr>
                  <a:xfrm>
                    <a:off x="6811920" y="18835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6" name=""/>
              <p:cNvGrpSpPr/>
              <p:nvPr/>
            </p:nvGrpSpPr>
            <p:grpSpPr>
              <a:xfrm>
                <a:off x="768240" y="2316600"/>
                <a:ext cx="1976400" cy="680040"/>
                <a:chOff x="768240" y="2316600"/>
                <a:chExt cx="1976400" cy="680040"/>
              </a:xfrm>
            </p:grpSpPr>
            <p:sp>
              <p:nvSpPr>
                <p:cNvPr id="677" name=""/>
                <p:cNvSpPr/>
                <p:nvPr/>
              </p:nvSpPr>
              <p:spPr>
                <a:xfrm>
                  <a:off x="836640" y="2316600"/>
                  <a:ext cx="183960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
                <p:cNvSpPr/>
                <p:nvPr/>
              </p:nvSpPr>
              <p:spPr>
                <a:xfrm>
                  <a:off x="768240" y="2316600"/>
                  <a:ext cx="197640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2744640" y="2316600"/>
                <a:ext cx="879480" cy="680040"/>
                <a:chOff x="2744640" y="2316600"/>
                <a:chExt cx="879480" cy="680040"/>
              </a:xfrm>
            </p:grpSpPr>
            <p:sp>
              <p:nvSpPr>
                <p:cNvPr id="680" name=""/>
                <p:cNvSpPr/>
                <p:nvPr/>
              </p:nvSpPr>
              <p:spPr>
                <a:xfrm>
                  <a:off x="2813040" y="2316600"/>
                  <a:ext cx="7426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Value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2744640" y="2316600"/>
                  <a:ext cx="8794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3624120" y="2316600"/>
                <a:ext cx="1565280" cy="680040"/>
                <a:chOff x="3624120" y="2316600"/>
                <a:chExt cx="1565280" cy="680040"/>
              </a:xfrm>
            </p:grpSpPr>
            <p:sp>
              <p:nvSpPr>
                <p:cNvPr id="683" name=""/>
                <p:cNvSpPr/>
                <p:nvPr/>
              </p:nvSpPr>
              <p:spPr>
                <a:xfrm>
                  <a:off x="3692520" y="2316600"/>
                  <a:ext cx="14284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45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
                <p:cNvSpPr/>
                <p:nvPr/>
              </p:nvSpPr>
              <p:spPr>
                <a:xfrm>
                  <a:off x="3624120" y="231660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5189400" y="2316600"/>
                <a:ext cx="1622520" cy="680040"/>
                <a:chOff x="5189400" y="2316600"/>
                <a:chExt cx="1622520" cy="680040"/>
              </a:xfrm>
            </p:grpSpPr>
            <p:sp>
              <p:nvSpPr>
                <p:cNvPr id="686" name=""/>
                <p:cNvSpPr/>
                <p:nvPr/>
              </p:nvSpPr>
              <p:spPr>
                <a:xfrm>
                  <a:off x="5257800" y="2316600"/>
                  <a:ext cx="148572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35dBm to –45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eeds clarification in Criteria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
                <p:cNvSpPr/>
                <p:nvPr/>
              </p:nvSpPr>
              <p:spPr>
                <a:xfrm>
                  <a:off x="5189400" y="2316600"/>
                  <a:ext cx="162252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6811920" y="2316600"/>
                <a:ext cx="1565280" cy="680040"/>
                <a:chOff x="6811920" y="2316600"/>
                <a:chExt cx="1565280" cy="680040"/>
              </a:xfrm>
            </p:grpSpPr>
            <p:sp>
              <p:nvSpPr>
                <p:cNvPr id="689" name=""/>
                <p:cNvSpPr/>
                <p:nvPr/>
              </p:nvSpPr>
              <p:spPr>
                <a:xfrm>
                  <a:off x="6879960" y="2316600"/>
                  <a:ext cx="142884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t; -35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
                <p:cNvSpPr/>
                <p:nvPr/>
              </p:nvSpPr>
              <p:spPr>
                <a:xfrm>
                  <a:off x="6811920" y="231660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768240" y="2996640"/>
                <a:ext cx="1976400" cy="803520"/>
                <a:chOff x="768240" y="2996640"/>
                <a:chExt cx="1976400" cy="803520"/>
              </a:xfrm>
            </p:grpSpPr>
            <p:sp>
              <p:nvSpPr>
                <p:cNvPr id="692" name=""/>
                <p:cNvSpPr/>
                <p:nvPr/>
              </p:nvSpPr>
              <p:spPr>
                <a:xfrm>
                  <a:off x="836640" y="2996640"/>
                  <a:ext cx="183960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above (sensitivity +3 dB) for minimum required data r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
                <p:cNvSpPr/>
                <p:nvPr/>
              </p:nvSpPr>
              <p:spPr>
                <a:xfrm>
                  <a:off x="768240" y="2996640"/>
                  <a:ext cx="197640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2744640" y="2996640"/>
                <a:ext cx="879480" cy="803520"/>
                <a:chOff x="2744640" y="2996640"/>
                <a:chExt cx="879480" cy="803520"/>
              </a:xfrm>
            </p:grpSpPr>
            <p:sp>
              <p:nvSpPr>
                <p:cNvPr id="695" name=""/>
                <p:cNvSpPr/>
                <p:nvPr/>
              </p:nvSpPr>
              <p:spPr>
                <a:xfrm>
                  <a:off x="2813040" y="2996640"/>
                  <a:ext cx="74268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Value 2)</a:t>
                  </a:r>
                  <a:endParaRPr b="0" lang="en-US" sz="1200" spc="-1" strike="noStrike">
                    <a:solidFill>
                      <a:srgbClr val="000000"/>
                    </a:solidFill>
                    <a:latin typeface="Times New Roman"/>
                  </a:endParaRPr>
                </a:p>
              </p:txBody>
            </p:sp>
            <p:sp>
              <p:nvSpPr>
                <p:cNvPr id="696" name=""/>
                <p:cNvSpPr/>
                <p:nvPr/>
              </p:nvSpPr>
              <p:spPr>
                <a:xfrm>
                  <a:off x="2744640" y="2996640"/>
                  <a:ext cx="87948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3624120" y="2996640"/>
                <a:ext cx="1565280" cy="803520"/>
                <a:chOff x="3624120" y="2996640"/>
                <a:chExt cx="1565280" cy="803520"/>
              </a:xfrm>
            </p:grpSpPr>
            <p:sp>
              <p:nvSpPr>
                <p:cNvPr id="698" name=""/>
                <p:cNvSpPr/>
                <p:nvPr/>
              </p:nvSpPr>
              <p:spPr>
                <a:xfrm>
                  <a:off x="3692520" y="2996640"/>
                  <a:ext cx="142848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25 dB</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
                <p:cNvSpPr/>
                <p:nvPr/>
              </p:nvSpPr>
              <p:spPr>
                <a:xfrm>
                  <a:off x="3624120" y="2996640"/>
                  <a:ext cx="156528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5189400" y="2996640"/>
                <a:ext cx="1622520" cy="803520"/>
                <a:chOff x="5189400" y="2996640"/>
                <a:chExt cx="1622520" cy="803520"/>
              </a:xfrm>
            </p:grpSpPr>
            <p:sp>
              <p:nvSpPr>
                <p:cNvPr id="701" name=""/>
                <p:cNvSpPr/>
                <p:nvPr/>
              </p:nvSpPr>
              <p:spPr>
                <a:xfrm>
                  <a:off x="5257800" y="2996640"/>
                  <a:ext cx="148572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25 to 35 dB</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eeds clarification in Criteria Document</a:t>
                  </a:r>
                  <a:endParaRPr b="0" lang="en-US" sz="1200" spc="-1" strike="noStrike">
                    <a:solidFill>
                      <a:srgbClr val="000000"/>
                    </a:solidFill>
                    <a:latin typeface="Times New Roman"/>
                  </a:endParaRPr>
                </a:p>
              </p:txBody>
            </p:sp>
            <p:sp>
              <p:nvSpPr>
                <p:cNvPr id="702" name=""/>
                <p:cNvSpPr/>
                <p:nvPr/>
              </p:nvSpPr>
              <p:spPr>
                <a:xfrm>
                  <a:off x="5189400" y="2996640"/>
                  <a:ext cx="162252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6811920" y="2996640"/>
                <a:ext cx="1565280" cy="803520"/>
                <a:chOff x="6811920" y="2996640"/>
                <a:chExt cx="1565280" cy="803520"/>
              </a:xfrm>
            </p:grpSpPr>
            <p:sp>
              <p:nvSpPr>
                <p:cNvPr id="704" name=""/>
                <p:cNvSpPr/>
                <p:nvPr/>
              </p:nvSpPr>
              <p:spPr>
                <a:xfrm>
                  <a:off x="6879960" y="2996640"/>
                  <a:ext cx="142884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t; 35 d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
                <p:cNvSpPr/>
                <p:nvPr/>
              </p:nvSpPr>
              <p:spPr>
                <a:xfrm>
                  <a:off x="6811920" y="2996640"/>
                  <a:ext cx="156528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768240" y="3800520"/>
                <a:ext cx="1976400" cy="556200"/>
                <a:chOff x="768240" y="3800520"/>
                <a:chExt cx="1976400" cy="556200"/>
              </a:xfrm>
            </p:grpSpPr>
            <p:sp>
              <p:nvSpPr>
                <p:cNvPr id="707" name=""/>
                <p:cNvSpPr/>
                <p:nvPr/>
              </p:nvSpPr>
              <p:spPr>
                <a:xfrm>
                  <a:off x="836640" y="3800520"/>
                  <a:ext cx="183960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mming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eeds Simpl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
                <p:cNvSpPr/>
                <p:nvPr/>
              </p:nvSpPr>
              <p:spPr>
                <a:xfrm>
                  <a:off x="768240" y="3800520"/>
                  <a:ext cx="197640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2744640" y="3800520"/>
                <a:ext cx="879480" cy="556200"/>
                <a:chOff x="2744640" y="3800520"/>
                <a:chExt cx="879480" cy="556200"/>
              </a:xfrm>
            </p:grpSpPr>
            <p:sp>
              <p:nvSpPr>
                <p:cNvPr id="710" name=""/>
                <p:cNvSpPr/>
                <p:nvPr/>
              </p:nvSpPr>
              <p:spPr>
                <a:xfrm>
                  <a:off x="2813040" y="3800520"/>
                  <a:ext cx="7426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2.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2744640" y="3800520"/>
                  <a:ext cx="8794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3624120" y="3800520"/>
                <a:ext cx="1565280" cy="556200"/>
                <a:chOff x="3624120" y="3800520"/>
                <a:chExt cx="1565280" cy="556200"/>
              </a:xfrm>
            </p:grpSpPr>
            <p:sp>
              <p:nvSpPr>
                <p:cNvPr id="713" name=""/>
                <p:cNvSpPr/>
                <p:nvPr/>
              </p:nvSpPr>
              <p:spPr>
                <a:xfrm>
                  <a:off x="3692520" y="3800520"/>
                  <a:ext cx="14284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y 3 or more sources listed j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3624120" y="3800520"/>
                  <a:ext cx="15652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5189400" y="3800520"/>
                <a:ext cx="1622520" cy="556200"/>
                <a:chOff x="5189400" y="3800520"/>
                <a:chExt cx="1622520" cy="556200"/>
              </a:xfrm>
            </p:grpSpPr>
            <p:sp>
              <p:nvSpPr>
                <p:cNvPr id="716" name=""/>
                <p:cNvSpPr/>
                <p:nvPr/>
              </p:nvSpPr>
              <p:spPr>
                <a:xfrm>
                  <a:off x="5257800" y="3800520"/>
                  <a:ext cx="148572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sources j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5189400" y="3800520"/>
                  <a:ext cx="16225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6811920" y="3800520"/>
                <a:ext cx="1565280" cy="556200"/>
                <a:chOff x="6811920" y="3800520"/>
                <a:chExt cx="1565280" cy="556200"/>
              </a:xfrm>
            </p:grpSpPr>
            <p:sp>
              <p:nvSpPr>
                <p:cNvPr id="719" name=""/>
                <p:cNvSpPr/>
                <p:nvPr/>
              </p:nvSpPr>
              <p:spPr>
                <a:xfrm>
                  <a:off x="6879960" y="3800520"/>
                  <a:ext cx="142884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No more than 1 sources ja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6811920" y="3800520"/>
                  <a:ext cx="15652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68240" y="4356720"/>
                <a:ext cx="1976400" cy="680040"/>
                <a:chOff x="768240" y="4356720"/>
                <a:chExt cx="1976400" cy="680040"/>
              </a:xfrm>
            </p:grpSpPr>
            <p:sp>
              <p:nvSpPr>
                <p:cNvPr id="722" name=""/>
                <p:cNvSpPr/>
                <p:nvPr/>
              </p:nvSpPr>
              <p:spPr>
                <a:xfrm>
                  <a:off x="836640" y="4356720"/>
                  <a:ext cx="183960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ltiple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
                <p:cNvSpPr/>
                <p:nvPr/>
              </p:nvSpPr>
              <p:spPr>
                <a:xfrm>
                  <a:off x="768240" y="4356720"/>
                  <a:ext cx="197640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2744640" y="4356720"/>
                <a:ext cx="879480" cy="680040"/>
                <a:chOff x="2744640" y="4356720"/>
                <a:chExt cx="879480" cy="680040"/>
              </a:xfrm>
            </p:grpSpPr>
            <p:sp>
              <p:nvSpPr>
                <p:cNvPr id="725" name=""/>
                <p:cNvSpPr/>
                <p:nvPr/>
              </p:nvSpPr>
              <p:spPr>
                <a:xfrm>
                  <a:off x="2813040" y="4356720"/>
                  <a:ext cx="7426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
                <p:cNvSpPr/>
                <p:nvPr/>
              </p:nvSpPr>
              <p:spPr>
                <a:xfrm>
                  <a:off x="2744640" y="4356720"/>
                  <a:ext cx="8794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3624120" y="4356720"/>
                <a:ext cx="1565280" cy="680040"/>
                <a:chOff x="3624120" y="4356720"/>
                <a:chExt cx="1565280" cy="680040"/>
              </a:xfrm>
            </p:grpSpPr>
            <p:sp>
              <p:nvSpPr>
                <p:cNvPr id="728" name=""/>
                <p:cNvSpPr/>
                <p:nvPr/>
              </p:nvSpPr>
              <p:spPr>
                <a:xfrm>
                  <a:off x="3692520" y="4356720"/>
                  <a:ext cx="14284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Scenarios 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
                <p:cNvSpPr/>
                <p:nvPr/>
              </p:nvSpPr>
              <p:spPr>
                <a:xfrm>
                  <a:off x="3624120" y="435672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5189400" y="4356720"/>
                <a:ext cx="1622520" cy="680040"/>
                <a:chOff x="5189400" y="4356720"/>
                <a:chExt cx="1622520" cy="680040"/>
              </a:xfrm>
            </p:grpSpPr>
            <p:sp>
              <p:nvSpPr>
                <p:cNvPr id="731" name=""/>
                <p:cNvSpPr/>
                <p:nvPr/>
              </p:nvSpPr>
              <p:spPr>
                <a:xfrm>
                  <a:off x="5257800" y="4356720"/>
                  <a:ext cx="148572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ndles </a:t>
                  </a:r>
                  <a:r>
                    <a:rPr b="0" lang="en-US" sz="1200" spc="-1" strike="noStrike">
                      <a:solidFill>
                        <a:srgbClr val="000000"/>
                      </a:solidFill>
                      <a:latin typeface="Times New Roman"/>
                      <a:ea typeface="Times New Roman"/>
                    </a:rPr>
                    <a:t>Scenari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
                <p:cNvSpPr/>
                <p:nvPr/>
              </p:nvSpPr>
              <p:spPr>
                <a:xfrm>
                  <a:off x="5189400" y="4356720"/>
                  <a:ext cx="162252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6811920" y="4356720"/>
                <a:ext cx="1565280" cy="680040"/>
                <a:chOff x="6811920" y="4356720"/>
                <a:chExt cx="1565280" cy="680040"/>
              </a:xfrm>
            </p:grpSpPr>
            <p:sp>
              <p:nvSpPr>
                <p:cNvPr id="734" name=""/>
                <p:cNvSpPr/>
                <p:nvPr/>
              </p:nvSpPr>
              <p:spPr>
                <a:xfrm>
                  <a:off x="6879960" y="4356720"/>
                  <a:ext cx="142884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One or more of the other 2 scenarios 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
                <p:cNvSpPr/>
                <p:nvPr/>
              </p:nvSpPr>
              <p:spPr>
                <a:xfrm>
                  <a:off x="6811920" y="435672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768240" y="5037120"/>
                <a:ext cx="1976400" cy="927000"/>
                <a:chOff x="768240" y="5037120"/>
                <a:chExt cx="1976400" cy="927000"/>
              </a:xfrm>
            </p:grpSpPr>
            <p:sp>
              <p:nvSpPr>
                <p:cNvPr id="737" name=""/>
                <p:cNvSpPr/>
                <p:nvPr/>
              </p:nvSpPr>
              <p:spPr>
                <a:xfrm>
                  <a:off x="836640" y="5037120"/>
                  <a:ext cx="183960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exis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aluation for each of the 5 sources and the create a total value using the formula shown in note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
                <p:cNvSpPr/>
                <p:nvPr/>
              </p:nvSpPr>
              <p:spPr>
                <a:xfrm>
                  <a:off x="768240" y="5037120"/>
                  <a:ext cx="197640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2744640" y="5037120"/>
                <a:ext cx="879480" cy="927000"/>
                <a:chOff x="2744640" y="5037120"/>
                <a:chExt cx="879480" cy="927000"/>
              </a:xfrm>
            </p:grpSpPr>
            <p:sp>
              <p:nvSpPr>
                <p:cNvPr id="740" name=""/>
                <p:cNvSpPr/>
                <p:nvPr/>
              </p:nvSpPr>
              <p:spPr>
                <a:xfrm>
                  <a:off x="2813040" y="5037120"/>
                  <a:ext cx="74268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
                <p:cNvSpPr/>
                <p:nvPr/>
              </p:nvSpPr>
              <p:spPr>
                <a:xfrm>
                  <a:off x="2744640" y="5037120"/>
                  <a:ext cx="87948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3624120" y="5037120"/>
                <a:ext cx="1565280" cy="927000"/>
                <a:chOff x="3624120" y="5037120"/>
                <a:chExt cx="1565280" cy="927000"/>
              </a:xfrm>
            </p:grpSpPr>
            <p:sp>
              <p:nvSpPr>
                <p:cNvPr id="743" name=""/>
                <p:cNvSpPr/>
                <p:nvPr/>
              </p:nvSpPr>
              <p:spPr>
                <a:xfrm>
                  <a:off x="3692520" y="5037120"/>
                  <a:ext cx="142848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dividual Sources:</a:t>
                  </a:r>
                  <a:r>
                    <a:rPr b="0" lang="en-US" sz="1200" spc="-1" strike="noStrike">
                      <a:solidFill>
                        <a:srgbClr val="000000"/>
                      </a:solidFill>
                      <a:latin typeface="Times New Roman"/>
                      <a:ea typeface="Times New Roman"/>
                    </a:rPr>
                    <a:t>  less than 4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t;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
                <p:cNvSpPr/>
                <p:nvPr/>
              </p:nvSpPr>
              <p:spPr>
                <a:xfrm>
                  <a:off x="3624120" y="5037120"/>
                  <a:ext cx="156528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5189400" y="5037120"/>
                <a:ext cx="1622520" cy="927000"/>
                <a:chOff x="5189400" y="5037120"/>
                <a:chExt cx="1622520" cy="927000"/>
              </a:xfrm>
            </p:grpSpPr>
            <p:sp>
              <p:nvSpPr>
                <p:cNvPr id="746" name=""/>
                <p:cNvSpPr/>
                <p:nvPr/>
              </p:nvSpPr>
              <p:spPr>
                <a:xfrm>
                  <a:off x="5257800" y="5037120"/>
                  <a:ext cx="148572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dividual Sources:</a:t>
                  </a:r>
                  <a:r>
                    <a:rPr b="0" lang="en-US" sz="1200" spc="-1" strike="noStrike">
                      <a:solidFill>
                        <a:srgbClr val="000000"/>
                      </a:solidFill>
                      <a:latin typeface="Times New Roman"/>
                      <a:ea typeface="Times New Roman"/>
                    </a:rPr>
                    <a:t>  40% - 6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
                <p:cNvSpPr/>
                <p:nvPr/>
              </p:nvSpPr>
              <p:spPr>
                <a:xfrm>
                  <a:off x="5189400" y="5037120"/>
                  <a:ext cx="162252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6811920" y="5037120"/>
                <a:ext cx="1565280" cy="927000"/>
                <a:chOff x="6811920" y="5037120"/>
                <a:chExt cx="1565280" cy="927000"/>
              </a:xfrm>
            </p:grpSpPr>
            <p:sp>
              <p:nvSpPr>
                <p:cNvPr id="749" name=""/>
                <p:cNvSpPr/>
                <p:nvPr/>
              </p:nvSpPr>
              <p:spPr>
                <a:xfrm>
                  <a:off x="6879960" y="5037120"/>
                  <a:ext cx="142884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dividual Sources:</a:t>
                  </a:r>
                  <a:r>
                    <a:rPr b="0" lang="en-US" sz="1200" spc="-1" strike="noStrike">
                      <a:solidFill>
                        <a:srgbClr val="000000"/>
                      </a:solidFill>
                      <a:latin typeface="Times New Roman"/>
                      <a:ea typeface="Times New Roman"/>
                    </a:rPr>
                    <a:t>  greater than 60% (IC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t;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
                <p:cNvSpPr/>
                <p:nvPr/>
              </p:nvSpPr>
              <p:spPr>
                <a:xfrm>
                  <a:off x="6811920" y="5037120"/>
                  <a:ext cx="156528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768240" y="5964120"/>
                <a:ext cx="1976400" cy="432720"/>
                <a:chOff x="768240" y="5964120"/>
                <a:chExt cx="1976400" cy="432720"/>
              </a:xfrm>
            </p:grpSpPr>
            <p:sp>
              <p:nvSpPr>
                <p:cNvPr id="752" name=""/>
                <p:cNvSpPr/>
                <p:nvPr/>
              </p:nvSpPr>
              <p:spPr>
                <a:xfrm>
                  <a:off x="836640" y="5964120"/>
                  <a:ext cx="183960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oper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
                <p:cNvSpPr/>
                <p:nvPr/>
              </p:nvSpPr>
              <p:spPr>
                <a:xfrm>
                  <a:off x="768240" y="5964120"/>
                  <a:ext cx="197640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744640" y="5964120"/>
                <a:ext cx="879480" cy="432720"/>
                <a:chOff x="2744640" y="5964120"/>
                <a:chExt cx="879480" cy="432720"/>
              </a:xfrm>
            </p:grpSpPr>
            <p:sp>
              <p:nvSpPr>
                <p:cNvPr id="755" name=""/>
                <p:cNvSpPr/>
                <p:nvPr/>
              </p:nvSpPr>
              <p:spPr>
                <a:xfrm>
                  <a:off x="2813040" y="5964120"/>
                  <a:ext cx="74268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
                <p:cNvSpPr/>
                <p:nvPr/>
              </p:nvSpPr>
              <p:spPr>
                <a:xfrm>
                  <a:off x="2744640" y="5964120"/>
                  <a:ext cx="8794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624120" y="5964120"/>
                <a:ext cx="1565280" cy="432720"/>
                <a:chOff x="3624120" y="5964120"/>
                <a:chExt cx="1565280" cy="432720"/>
              </a:xfrm>
            </p:grpSpPr>
            <p:sp>
              <p:nvSpPr>
                <p:cNvPr id="758" name=""/>
                <p:cNvSpPr/>
                <p:nvPr/>
              </p:nvSpPr>
              <p:spPr>
                <a:xfrm>
                  <a:off x="3692520" y="5964120"/>
                  <a:ext cx="142848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
                <p:cNvSpPr/>
                <p:nvPr/>
              </p:nvSpPr>
              <p:spPr>
                <a:xfrm>
                  <a:off x="3624120" y="59641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89400" y="5964120"/>
                <a:ext cx="1622520" cy="432720"/>
                <a:chOff x="5189400" y="5964120"/>
                <a:chExt cx="1622520" cy="432720"/>
              </a:xfrm>
            </p:grpSpPr>
            <p:sp>
              <p:nvSpPr>
                <p:cNvPr id="761" name=""/>
                <p:cNvSpPr/>
                <p:nvPr/>
              </p:nvSpPr>
              <p:spPr>
                <a:xfrm>
                  <a:off x="5257800" y="5964120"/>
                  <a:ext cx="148572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
                <p:cNvSpPr/>
                <p:nvPr/>
              </p:nvSpPr>
              <p:spPr>
                <a:xfrm>
                  <a:off x="5189400" y="5964120"/>
                  <a:ext cx="162252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811920" y="5964120"/>
                <a:ext cx="1565280" cy="432720"/>
                <a:chOff x="6811920" y="5964120"/>
                <a:chExt cx="1565280" cy="432720"/>
              </a:xfrm>
            </p:grpSpPr>
            <p:sp>
              <p:nvSpPr>
                <p:cNvPr id="764" name=""/>
                <p:cNvSpPr/>
                <p:nvPr/>
              </p:nvSpPr>
              <p:spPr>
                <a:xfrm>
                  <a:off x="6879960" y="5964120"/>
                  <a:ext cx="142884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
                <p:cNvSpPr/>
                <p:nvPr/>
              </p:nvSpPr>
              <p:spPr>
                <a:xfrm>
                  <a:off x="6811920" y="59641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6" name=""/>
            <p:cNvSpPr/>
            <p:nvPr/>
          </p:nvSpPr>
          <p:spPr>
            <a:xfrm>
              <a:off x="763560" y="1447920"/>
              <a:ext cx="761832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929B308-356A-4CB6-BA60-789217663C68}" type="slidenum">
              <a:t>2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rPr>
              <a:t>General Solution Criteria Comparison Values (cont.)</a:t>
            </a:r>
            <a:endParaRPr b="0" lang="en-US" sz="2000" spc="-1" strike="noStrike">
              <a:solidFill>
                <a:srgbClr val="000000"/>
              </a:solidFill>
              <a:latin typeface="Times New Roman"/>
            </a:endParaRPr>
          </a:p>
        </p:txBody>
      </p:sp>
      <p:grpSp>
        <p:nvGrpSpPr>
          <p:cNvPr id="768" name=""/>
          <p:cNvGrpSpPr/>
          <p:nvPr/>
        </p:nvGrpSpPr>
        <p:grpSpPr>
          <a:xfrm>
            <a:off x="992160" y="1447920"/>
            <a:ext cx="7161120" cy="3657600"/>
            <a:chOff x="992160" y="1447920"/>
            <a:chExt cx="7161120" cy="3657600"/>
          </a:xfrm>
        </p:grpSpPr>
        <p:grpSp>
          <p:nvGrpSpPr>
            <p:cNvPr id="769" name=""/>
            <p:cNvGrpSpPr/>
            <p:nvPr/>
          </p:nvGrpSpPr>
          <p:grpSpPr>
            <a:xfrm>
              <a:off x="996840" y="1450440"/>
              <a:ext cx="7151760" cy="3652200"/>
              <a:chOff x="996840" y="1450440"/>
              <a:chExt cx="7151760" cy="3652200"/>
            </a:xfrm>
          </p:grpSpPr>
          <p:grpSp>
            <p:nvGrpSpPr>
              <p:cNvPr id="770" name=""/>
              <p:cNvGrpSpPr/>
              <p:nvPr/>
            </p:nvGrpSpPr>
            <p:grpSpPr>
              <a:xfrm>
                <a:off x="996840" y="1450440"/>
                <a:ext cx="1519200" cy="375840"/>
                <a:chOff x="996840" y="1450440"/>
                <a:chExt cx="1519200" cy="375840"/>
              </a:xfrm>
            </p:grpSpPr>
            <p:sp>
              <p:nvSpPr>
                <p:cNvPr id="771" name=""/>
                <p:cNvSpPr/>
                <p:nvPr/>
              </p:nvSpPr>
              <p:spPr>
                <a:xfrm>
                  <a:off x="996840" y="1450440"/>
                  <a:ext cx="15192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 name=""/>
                <p:cNvGrpSpPr/>
                <p:nvPr/>
              </p:nvGrpSpPr>
              <p:grpSpPr>
                <a:xfrm>
                  <a:off x="996840" y="1450440"/>
                  <a:ext cx="1519200" cy="375840"/>
                  <a:chOff x="996840" y="1450440"/>
                  <a:chExt cx="1519200" cy="375840"/>
                </a:xfrm>
              </p:grpSpPr>
              <p:sp>
                <p:nvSpPr>
                  <p:cNvPr id="773" name=""/>
                  <p:cNvSpPr/>
                  <p:nvPr/>
                </p:nvSpPr>
                <p:spPr>
                  <a:xfrm>
                    <a:off x="1065240" y="1450440"/>
                    <a:ext cx="13824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4" name=""/>
                  <p:cNvSpPr/>
                  <p:nvPr/>
                </p:nvSpPr>
                <p:spPr>
                  <a:xfrm>
                    <a:off x="996840" y="1450440"/>
                    <a:ext cx="15192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5" name=""/>
              <p:cNvGrpSpPr/>
              <p:nvPr/>
            </p:nvGrpSpPr>
            <p:grpSpPr>
              <a:xfrm>
                <a:off x="2516040" y="1450440"/>
                <a:ext cx="708120" cy="375840"/>
                <a:chOff x="2516040" y="1450440"/>
                <a:chExt cx="708120" cy="375840"/>
              </a:xfrm>
            </p:grpSpPr>
            <p:sp>
              <p:nvSpPr>
                <p:cNvPr id="776" name=""/>
                <p:cNvSpPr/>
                <p:nvPr/>
              </p:nvSpPr>
              <p:spPr>
                <a:xfrm>
                  <a:off x="2516040" y="1450440"/>
                  <a:ext cx="7081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7" name=""/>
                <p:cNvGrpSpPr/>
                <p:nvPr/>
              </p:nvGrpSpPr>
              <p:grpSpPr>
                <a:xfrm>
                  <a:off x="2516040" y="1450440"/>
                  <a:ext cx="708120" cy="375840"/>
                  <a:chOff x="2516040" y="1450440"/>
                  <a:chExt cx="708120" cy="375840"/>
                </a:xfrm>
              </p:grpSpPr>
              <p:sp>
                <p:nvSpPr>
                  <p:cNvPr id="778" name=""/>
                  <p:cNvSpPr/>
                  <p:nvPr/>
                </p:nvSpPr>
                <p:spPr>
                  <a:xfrm>
                    <a:off x="2584440" y="1450440"/>
                    <a:ext cx="5713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2516040" y="1450440"/>
                    <a:ext cx="708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0" name=""/>
              <p:cNvGrpSpPr/>
              <p:nvPr/>
            </p:nvGrpSpPr>
            <p:grpSpPr>
              <a:xfrm>
                <a:off x="3224160" y="1450440"/>
                <a:ext cx="1622520" cy="375840"/>
                <a:chOff x="3224160" y="1450440"/>
                <a:chExt cx="1622520" cy="375840"/>
              </a:xfrm>
            </p:grpSpPr>
            <p:sp>
              <p:nvSpPr>
                <p:cNvPr id="781" name=""/>
                <p:cNvSpPr/>
                <p:nvPr/>
              </p:nvSpPr>
              <p:spPr>
                <a:xfrm>
                  <a:off x="3224160" y="1450440"/>
                  <a:ext cx="16225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2" name=""/>
                <p:cNvGrpSpPr/>
                <p:nvPr/>
              </p:nvGrpSpPr>
              <p:grpSpPr>
                <a:xfrm>
                  <a:off x="3224160" y="1450440"/>
                  <a:ext cx="1622520" cy="375840"/>
                  <a:chOff x="3224160" y="1450440"/>
                  <a:chExt cx="1622520" cy="375840"/>
                </a:xfrm>
              </p:grpSpPr>
              <p:sp>
                <p:nvSpPr>
                  <p:cNvPr id="783" name=""/>
                  <p:cNvSpPr/>
                  <p:nvPr/>
                </p:nvSpPr>
                <p:spPr>
                  <a:xfrm>
                    <a:off x="3292200" y="145044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4" name=""/>
                  <p:cNvSpPr/>
                  <p:nvPr/>
                </p:nvSpPr>
                <p:spPr>
                  <a:xfrm>
                    <a:off x="3224160" y="1450440"/>
                    <a:ext cx="16225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5" name=""/>
              <p:cNvGrpSpPr/>
              <p:nvPr/>
            </p:nvGrpSpPr>
            <p:grpSpPr>
              <a:xfrm>
                <a:off x="4846680" y="1450440"/>
                <a:ext cx="1622160" cy="375840"/>
                <a:chOff x="4846680" y="1450440"/>
                <a:chExt cx="1622160" cy="375840"/>
              </a:xfrm>
            </p:grpSpPr>
            <p:sp>
              <p:nvSpPr>
                <p:cNvPr id="786" name=""/>
                <p:cNvSpPr/>
                <p:nvPr/>
              </p:nvSpPr>
              <p:spPr>
                <a:xfrm>
                  <a:off x="4846680" y="1450440"/>
                  <a:ext cx="16221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4846680" y="1450440"/>
                  <a:ext cx="1622160" cy="375840"/>
                  <a:chOff x="4846680" y="1450440"/>
                  <a:chExt cx="1622160" cy="375840"/>
                </a:xfrm>
              </p:grpSpPr>
              <p:sp>
                <p:nvSpPr>
                  <p:cNvPr id="788" name=""/>
                  <p:cNvSpPr/>
                  <p:nvPr/>
                </p:nvSpPr>
                <p:spPr>
                  <a:xfrm>
                    <a:off x="4914720" y="145044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9" name=""/>
                  <p:cNvSpPr/>
                  <p:nvPr/>
                </p:nvSpPr>
                <p:spPr>
                  <a:xfrm>
                    <a:off x="4846680" y="1450440"/>
                    <a:ext cx="16221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0" name=""/>
              <p:cNvGrpSpPr/>
              <p:nvPr/>
            </p:nvGrpSpPr>
            <p:grpSpPr>
              <a:xfrm>
                <a:off x="6468840" y="1450440"/>
                <a:ext cx="1679760" cy="375840"/>
                <a:chOff x="6468840" y="1450440"/>
                <a:chExt cx="1679760" cy="375840"/>
              </a:xfrm>
            </p:grpSpPr>
            <p:sp>
              <p:nvSpPr>
                <p:cNvPr id="791" name=""/>
                <p:cNvSpPr/>
                <p:nvPr/>
              </p:nvSpPr>
              <p:spPr>
                <a:xfrm>
                  <a:off x="6468840" y="1450440"/>
                  <a:ext cx="16797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6468840" y="1450440"/>
                  <a:ext cx="1679760" cy="375840"/>
                  <a:chOff x="6468840" y="1450440"/>
                  <a:chExt cx="1679760" cy="375840"/>
                </a:xfrm>
              </p:grpSpPr>
              <p:sp>
                <p:nvSpPr>
                  <p:cNvPr id="793" name=""/>
                  <p:cNvSpPr/>
                  <p:nvPr/>
                </p:nvSpPr>
                <p:spPr>
                  <a:xfrm>
                    <a:off x="6537240" y="1450440"/>
                    <a:ext cx="15429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
                  <p:cNvSpPr/>
                  <p:nvPr/>
                </p:nvSpPr>
                <p:spPr>
                  <a:xfrm>
                    <a:off x="6468840" y="1450440"/>
                    <a:ext cx="16797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5" name=""/>
              <p:cNvGrpSpPr/>
              <p:nvPr/>
            </p:nvGrpSpPr>
            <p:grpSpPr>
              <a:xfrm>
                <a:off x="996840" y="1826280"/>
                <a:ext cx="1519200" cy="375840"/>
                <a:chOff x="996840" y="1826280"/>
                <a:chExt cx="1519200" cy="375840"/>
              </a:xfrm>
            </p:grpSpPr>
            <p:sp>
              <p:nvSpPr>
                <p:cNvPr id="796" name=""/>
                <p:cNvSpPr/>
                <p:nvPr/>
              </p:nvSpPr>
              <p:spPr>
                <a:xfrm>
                  <a:off x="996840" y="1826280"/>
                  <a:ext cx="15192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7" name=""/>
                <p:cNvGrpSpPr/>
                <p:nvPr/>
              </p:nvGrpSpPr>
              <p:grpSpPr>
                <a:xfrm>
                  <a:off x="996840" y="1826280"/>
                  <a:ext cx="1519200" cy="375840"/>
                  <a:chOff x="996840" y="1826280"/>
                  <a:chExt cx="1519200" cy="375840"/>
                </a:xfrm>
              </p:grpSpPr>
              <p:sp>
                <p:nvSpPr>
                  <p:cNvPr id="798" name=""/>
                  <p:cNvSpPr/>
                  <p:nvPr/>
                </p:nvSpPr>
                <p:spPr>
                  <a:xfrm>
                    <a:off x="1065240" y="1826280"/>
                    <a:ext cx="13824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9" name=""/>
                  <p:cNvSpPr/>
                  <p:nvPr/>
                </p:nvSpPr>
                <p:spPr>
                  <a:xfrm>
                    <a:off x="996840" y="1826280"/>
                    <a:ext cx="15192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0" name=""/>
              <p:cNvGrpSpPr/>
              <p:nvPr/>
            </p:nvGrpSpPr>
            <p:grpSpPr>
              <a:xfrm>
                <a:off x="2516040" y="1826280"/>
                <a:ext cx="708120" cy="375840"/>
                <a:chOff x="2516040" y="1826280"/>
                <a:chExt cx="708120" cy="375840"/>
              </a:xfrm>
            </p:grpSpPr>
            <p:sp>
              <p:nvSpPr>
                <p:cNvPr id="801" name=""/>
                <p:cNvSpPr/>
                <p:nvPr/>
              </p:nvSpPr>
              <p:spPr>
                <a:xfrm>
                  <a:off x="2516040" y="1826280"/>
                  <a:ext cx="7081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2" name=""/>
                <p:cNvGrpSpPr/>
                <p:nvPr/>
              </p:nvGrpSpPr>
              <p:grpSpPr>
                <a:xfrm>
                  <a:off x="2516040" y="1826280"/>
                  <a:ext cx="708120" cy="375840"/>
                  <a:chOff x="2516040" y="1826280"/>
                  <a:chExt cx="708120" cy="375840"/>
                </a:xfrm>
              </p:grpSpPr>
              <p:sp>
                <p:nvSpPr>
                  <p:cNvPr id="803" name=""/>
                  <p:cNvSpPr/>
                  <p:nvPr/>
                </p:nvSpPr>
                <p:spPr>
                  <a:xfrm>
                    <a:off x="2584440" y="1826280"/>
                    <a:ext cx="5713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
                  <p:cNvSpPr/>
                  <p:nvPr/>
                </p:nvSpPr>
                <p:spPr>
                  <a:xfrm>
                    <a:off x="2516040" y="1826280"/>
                    <a:ext cx="708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5" name=""/>
              <p:cNvGrpSpPr/>
              <p:nvPr/>
            </p:nvGrpSpPr>
            <p:grpSpPr>
              <a:xfrm>
                <a:off x="3224160" y="1826280"/>
                <a:ext cx="1622520" cy="375840"/>
                <a:chOff x="3224160" y="1826280"/>
                <a:chExt cx="1622520" cy="375840"/>
              </a:xfrm>
            </p:grpSpPr>
            <p:sp>
              <p:nvSpPr>
                <p:cNvPr id="806" name=""/>
                <p:cNvSpPr/>
                <p:nvPr/>
              </p:nvSpPr>
              <p:spPr>
                <a:xfrm>
                  <a:off x="3224160" y="1826280"/>
                  <a:ext cx="16225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7" name=""/>
                <p:cNvGrpSpPr/>
                <p:nvPr/>
              </p:nvGrpSpPr>
              <p:grpSpPr>
                <a:xfrm>
                  <a:off x="3224160" y="1826280"/>
                  <a:ext cx="1622520" cy="375840"/>
                  <a:chOff x="3224160" y="1826280"/>
                  <a:chExt cx="1622520" cy="375840"/>
                </a:xfrm>
              </p:grpSpPr>
              <p:sp>
                <p:nvSpPr>
                  <p:cNvPr id="808" name=""/>
                  <p:cNvSpPr/>
                  <p:nvPr/>
                </p:nvSpPr>
                <p:spPr>
                  <a:xfrm>
                    <a:off x="3292200" y="182628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
                  <p:cNvSpPr/>
                  <p:nvPr/>
                </p:nvSpPr>
                <p:spPr>
                  <a:xfrm>
                    <a:off x="3224160" y="1826280"/>
                    <a:ext cx="16225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0" name=""/>
              <p:cNvGrpSpPr/>
              <p:nvPr/>
            </p:nvGrpSpPr>
            <p:grpSpPr>
              <a:xfrm>
                <a:off x="4846680" y="1826280"/>
                <a:ext cx="1622160" cy="375840"/>
                <a:chOff x="4846680" y="1826280"/>
                <a:chExt cx="1622160" cy="375840"/>
              </a:xfrm>
            </p:grpSpPr>
            <p:sp>
              <p:nvSpPr>
                <p:cNvPr id="811" name=""/>
                <p:cNvSpPr/>
                <p:nvPr/>
              </p:nvSpPr>
              <p:spPr>
                <a:xfrm>
                  <a:off x="4846680" y="1826280"/>
                  <a:ext cx="16221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
                <p:cNvGrpSpPr/>
                <p:nvPr/>
              </p:nvGrpSpPr>
              <p:grpSpPr>
                <a:xfrm>
                  <a:off x="4846680" y="1826280"/>
                  <a:ext cx="1622160" cy="375840"/>
                  <a:chOff x="4846680" y="1826280"/>
                  <a:chExt cx="1622160" cy="375840"/>
                </a:xfrm>
              </p:grpSpPr>
              <p:sp>
                <p:nvSpPr>
                  <p:cNvPr id="813" name=""/>
                  <p:cNvSpPr/>
                  <p:nvPr/>
                </p:nvSpPr>
                <p:spPr>
                  <a:xfrm>
                    <a:off x="4914720" y="182628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4" name=""/>
                  <p:cNvSpPr/>
                  <p:nvPr/>
                </p:nvSpPr>
                <p:spPr>
                  <a:xfrm>
                    <a:off x="4846680" y="1826280"/>
                    <a:ext cx="16221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5" name=""/>
              <p:cNvGrpSpPr/>
              <p:nvPr/>
            </p:nvGrpSpPr>
            <p:grpSpPr>
              <a:xfrm>
                <a:off x="6468840" y="1826280"/>
                <a:ext cx="1679760" cy="375840"/>
                <a:chOff x="6468840" y="1826280"/>
                <a:chExt cx="1679760" cy="375840"/>
              </a:xfrm>
            </p:grpSpPr>
            <p:sp>
              <p:nvSpPr>
                <p:cNvPr id="816" name=""/>
                <p:cNvSpPr/>
                <p:nvPr/>
              </p:nvSpPr>
              <p:spPr>
                <a:xfrm>
                  <a:off x="6468840" y="1826280"/>
                  <a:ext cx="16797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 name=""/>
                <p:cNvGrpSpPr/>
                <p:nvPr/>
              </p:nvGrpSpPr>
              <p:grpSpPr>
                <a:xfrm>
                  <a:off x="6468840" y="1826280"/>
                  <a:ext cx="1679760" cy="375840"/>
                  <a:chOff x="6468840" y="1826280"/>
                  <a:chExt cx="1679760" cy="375840"/>
                </a:xfrm>
              </p:grpSpPr>
              <p:sp>
                <p:nvSpPr>
                  <p:cNvPr id="818" name=""/>
                  <p:cNvSpPr/>
                  <p:nvPr/>
                </p:nvSpPr>
                <p:spPr>
                  <a:xfrm>
                    <a:off x="6537240" y="1826280"/>
                    <a:ext cx="15429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
                  <p:cNvSpPr/>
                  <p:nvPr/>
                </p:nvSpPr>
                <p:spPr>
                  <a:xfrm>
                    <a:off x="6468840" y="1826280"/>
                    <a:ext cx="16797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0" name=""/>
              <p:cNvGrpSpPr/>
              <p:nvPr/>
            </p:nvGrpSpPr>
            <p:grpSpPr>
              <a:xfrm>
                <a:off x="996840" y="2202480"/>
                <a:ext cx="1519200" cy="483120"/>
                <a:chOff x="996840" y="2202480"/>
                <a:chExt cx="1519200" cy="483120"/>
              </a:xfrm>
            </p:grpSpPr>
            <p:sp>
              <p:nvSpPr>
                <p:cNvPr id="821" name=""/>
                <p:cNvSpPr/>
                <p:nvPr/>
              </p:nvSpPr>
              <p:spPr>
                <a:xfrm>
                  <a:off x="1065240" y="2202480"/>
                  <a:ext cx="138240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e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
                <p:cNvSpPr/>
                <p:nvPr/>
              </p:nvSpPr>
              <p:spPr>
                <a:xfrm>
                  <a:off x="996840" y="2202480"/>
                  <a:ext cx="151920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2516040" y="2202480"/>
                <a:ext cx="708120" cy="483120"/>
                <a:chOff x="2516040" y="2202480"/>
                <a:chExt cx="708120" cy="483120"/>
              </a:xfrm>
            </p:grpSpPr>
            <p:sp>
              <p:nvSpPr>
                <p:cNvPr id="824" name=""/>
                <p:cNvSpPr/>
                <p:nvPr/>
              </p:nvSpPr>
              <p:spPr>
                <a:xfrm>
                  <a:off x="2584440" y="2202480"/>
                  <a:ext cx="57132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
                <p:cNvSpPr/>
                <p:nvPr/>
              </p:nvSpPr>
              <p:spPr>
                <a:xfrm>
                  <a:off x="2516040" y="2202480"/>
                  <a:ext cx="7081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3224160" y="2202480"/>
                <a:ext cx="1622520" cy="483120"/>
                <a:chOff x="3224160" y="2202480"/>
                <a:chExt cx="1622520" cy="483120"/>
              </a:xfrm>
            </p:grpSpPr>
            <p:sp>
              <p:nvSpPr>
                <p:cNvPr id="827" name=""/>
                <p:cNvSpPr/>
                <p:nvPr/>
              </p:nvSpPr>
              <p:spPr>
                <a:xfrm>
                  <a:off x="3292200" y="22024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t opinion, mode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
                <p:cNvSpPr/>
                <p:nvPr/>
              </p:nvSpPr>
              <p:spPr>
                <a:xfrm>
                  <a:off x="3224160" y="2202480"/>
                  <a:ext cx="16225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4846680" y="2202480"/>
                <a:ext cx="1622160" cy="483120"/>
                <a:chOff x="4846680" y="2202480"/>
                <a:chExt cx="1622160" cy="483120"/>
              </a:xfrm>
            </p:grpSpPr>
            <p:sp>
              <p:nvSpPr>
                <p:cNvPr id="830" name=""/>
                <p:cNvSpPr/>
                <p:nvPr/>
              </p:nvSpPr>
              <p:spPr>
                <a:xfrm>
                  <a:off x="4914720" y="22024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i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4846680" y="2202480"/>
                  <a:ext cx="16221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6468840" y="2202480"/>
                <a:ext cx="1679760" cy="483120"/>
                <a:chOff x="6468840" y="2202480"/>
                <a:chExt cx="1679760" cy="483120"/>
              </a:xfrm>
            </p:grpSpPr>
            <p:sp>
              <p:nvSpPr>
                <p:cNvPr id="833" name=""/>
                <p:cNvSpPr/>
                <p:nvPr/>
              </p:nvSpPr>
              <p:spPr>
                <a:xfrm>
                  <a:off x="6537240" y="2202480"/>
                  <a:ext cx="154296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Pre-existence examples</a:t>
                  </a:r>
                  <a:r>
                    <a:rPr b="0" lang="en-US" sz="1200" spc="-1" strike="noStrike">
                      <a:solidFill>
                        <a:srgbClr val="000000"/>
                      </a:solidFill>
                      <a:latin typeface="Times New Roman"/>
                      <a:ea typeface="Times New Roman"/>
                    </a:rPr>
                    <a:t>, dem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
                <p:cNvSpPr/>
                <p:nvPr/>
              </p:nvSpPr>
              <p:spPr>
                <a:xfrm>
                  <a:off x="6468840" y="2202480"/>
                  <a:ext cx="1679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996840" y="2685600"/>
                <a:ext cx="1519200" cy="483480"/>
                <a:chOff x="996840" y="2685600"/>
                <a:chExt cx="1519200" cy="483480"/>
              </a:xfrm>
            </p:grpSpPr>
            <p:sp>
              <p:nvSpPr>
                <p:cNvPr id="836" name=""/>
                <p:cNvSpPr/>
                <p:nvPr/>
              </p:nvSpPr>
              <p:spPr>
                <a:xfrm>
                  <a:off x="1065240" y="2685600"/>
                  <a:ext cx="138240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When Spec Fi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
                <p:cNvSpPr/>
                <p:nvPr/>
              </p:nvSpPr>
              <p:spPr>
                <a:xfrm>
                  <a:off x="996840" y="2685600"/>
                  <a:ext cx="151920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2516040" y="2685600"/>
                <a:ext cx="708120" cy="483480"/>
                <a:chOff x="2516040" y="2685600"/>
                <a:chExt cx="708120" cy="483480"/>
              </a:xfrm>
            </p:grpSpPr>
            <p:sp>
              <p:nvSpPr>
                <p:cNvPr id="839" name=""/>
                <p:cNvSpPr/>
                <p:nvPr/>
              </p:nvSpPr>
              <p:spPr>
                <a:xfrm>
                  <a:off x="2584440" y="2685600"/>
                  <a:ext cx="57132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
                <p:cNvSpPr/>
                <p:nvPr/>
              </p:nvSpPr>
              <p:spPr>
                <a:xfrm>
                  <a:off x="2516040" y="2685600"/>
                  <a:ext cx="7081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3224160" y="2685600"/>
                <a:ext cx="1622520" cy="483480"/>
                <a:chOff x="3224160" y="2685600"/>
                <a:chExt cx="1622520" cy="483480"/>
              </a:xfrm>
            </p:grpSpPr>
            <p:sp>
              <p:nvSpPr>
                <p:cNvPr id="842" name=""/>
                <p:cNvSpPr/>
                <p:nvPr/>
              </p:nvSpPr>
              <p:spPr>
                <a:xfrm>
                  <a:off x="3292200" y="268560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ailable after 1Q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
                <p:cNvSpPr/>
                <p:nvPr/>
              </p:nvSpPr>
              <p:spPr>
                <a:xfrm>
                  <a:off x="3224160" y="2685600"/>
                  <a:ext cx="16225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4846680" y="2685600"/>
                <a:ext cx="1622160" cy="483480"/>
                <a:chOff x="4846680" y="2685600"/>
                <a:chExt cx="1622160" cy="483480"/>
              </a:xfrm>
            </p:grpSpPr>
            <p:sp>
              <p:nvSpPr>
                <p:cNvPr id="845" name=""/>
                <p:cNvSpPr/>
                <p:nvPr/>
              </p:nvSpPr>
              <p:spPr>
                <a:xfrm>
                  <a:off x="4914720" y="268560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ailable in 1Q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
                <p:cNvSpPr/>
                <p:nvPr/>
              </p:nvSpPr>
              <p:spPr>
                <a:xfrm>
                  <a:off x="4846680" y="2685600"/>
                  <a:ext cx="16221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6468840" y="2685600"/>
                <a:ext cx="1679760" cy="483480"/>
                <a:chOff x="6468840" y="2685600"/>
                <a:chExt cx="1679760" cy="483480"/>
              </a:xfrm>
            </p:grpSpPr>
            <p:sp>
              <p:nvSpPr>
                <p:cNvPr id="848" name=""/>
                <p:cNvSpPr/>
                <p:nvPr/>
              </p:nvSpPr>
              <p:spPr>
                <a:xfrm>
                  <a:off x="6537240" y="2685600"/>
                  <a:ext cx="154296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ailable earlier than 1Q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
                <p:cNvSpPr/>
                <p:nvPr/>
              </p:nvSpPr>
              <p:spPr>
                <a:xfrm>
                  <a:off x="6468840" y="2685600"/>
                  <a:ext cx="16797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996840" y="3169080"/>
                <a:ext cx="1519200" cy="375840"/>
                <a:chOff x="996840" y="3169080"/>
                <a:chExt cx="1519200" cy="375840"/>
              </a:xfrm>
            </p:grpSpPr>
            <p:sp>
              <p:nvSpPr>
                <p:cNvPr id="851" name=""/>
                <p:cNvSpPr/>
                <p:nvPr/>
              </p:nvSpPr>
              <p:spPr>
                <a:xfrm>
                  <a:off x="1065240" y="3169080"/>
                  <a:ext cx="138240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ulatory Imp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
                <p:cNvSpPr/>
                <p:nvPr/>
              </p:nvSpPr>
              <p:spPr>
                <a:xfrm>
                  <a:off x="996840" y="3169080"/>
                  <a:ext cx="15192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2516040" y="3169080"/>
                <a:ext cx="708120" cy="375840"/>
                <a:chOff x="2516040" y="3169080"/>
                <a:chExt cx="708120" cy="375840"/>
              </a:xfrm>
            </p:grpSpPr>
            <p:sp>
              <p:nvSpPr>
                <p:cNvPr id="854" name=""/>
                <p:cNvSpPr/>
                <p:nvPr/>
              </p:nvSpPr>
              <p:spPr>
                <a:xfrm>
                  <a:off x="2584440" y="3169080"/>
                  <a:ext cx="5713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
                <p:cNvSpPr/>
                <p:nvPr/>
              </p:nvSpPr>
              <p:spPr>
                <a:xfrm>
                  <a:off x="2516040" y="3169080"/>
                  <a:ext cx="708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3224160" y="3169080"/>
                <a:ext cx="1622520" cy="375840"/>
                <a:chOff x="3224160" y="3169080"/>
                <a:chExt cx="1622520" cy="375840"/>
              </a:xfrm>
            </p:grpSpPr>
            <p:sp>
              <p:nvSpPr>
                <p:cNvPr id="857" name=""/>
                <p:cNvSpPr/>
                <p:nvPr/>
              </p:nvSpPr>
              <p:spPr>
                <a:xfrm>
                  <a:off x="3292200" y="3169080"/>
                  <a:ext cx="1486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
                <p:cNvSpPr/>
                <p:nvPr/>
              </p:nvSpPr>
              <p:spPr>
                <a:xfrm>
                  <a:off x="3224160" y="3169080"/>
                  <a:ext cx="16225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4846680" y="3169080"/>
                <a:ext cx="1622160" cy="375840"/>
                <a:chOff x="4846680" y="3169080"/>
                <a:chExt cx="1622160" cy="375840"/>
              </a:xfrm>
            </p:grpSpPr>
            <p:sp>
              <p:nvSpPr>
                <p:cNvPr id="860" name=""/>
                <p:cNvSpPr/>
                <p:nvPr/>
              </p:nvSpPr>
              <p:spPr>
                <a:xfrm>
                  <a:off x="4914720" y="3169080"/>
                  <a:ext cx="1486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3300"/>
                      </a:solidFill>
                      <a:uFillTx/>
                      <a:latin typeface="Times New Roman"/>
                      <a:ea typeface="Times New Roman"/>
                    </a:rPr>
                    <a:t>Tr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4846680" y="3169080"/>
                  <a:ext cx="16221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6468840" y="3169080"/>
                <a:ext cx="1679760" cy="375840"/>
                <a:chOff x="6468840" y="3169080"/>
                <a:chExt cx="1679760" cy="375840"/>
              </a:xfrm>
            </p:grpSpPr>
            <p:sp>
              <p:nvSpPr>
                <p:cNvPr id="863" name=""/>
                <p:cNvSpPr/>
                <p:nvPr/>
              </p:nvSpPr>
              <p:spPr>
                <a:xfrm>
                  <a:off x="6537240" y="3169080"/>
                  <a:ext cx="154296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
                <p:cNvSpPr/>
                <p:nvPr/>
              </p:nvSpPr>
              <p:spPr>
                <a:xfrm>
                  <a:off x="6468840" y="3169080"/>
                  <a:ext cx="16797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996840" y="3545280"/>
                <a:ext cx="1519200" cy="483120"/>
                <a:chOff x="996840" y="3545280"/>
                <a:chExt cx="1519200" cy="483120"/>
              </a:xfrm>
            </p:grpSpPr>
            <p:sp>
              <p:nvSpPr>
                <p:cNvPr id="866" name=""/>
                <p:cNvSpPr/>
                <p:nvPr/>
              </p:nvSpPr>
              <p:spPr>
                <a:xfrm>
                  <a:off x="1065240" y="3545280"/>
                  <a:ext cx="138240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urity of Solu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
                <p:cNvSpPr/>
                <p:nvPr/>
              </p:nvSpPr>
              <p:spPr>
                <a:xfrm>
                  <a:off x="996840" y="3545280"/>
                  <a:ext cx="151920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516040" y="3545280"/>
                <a:ext cx="708120" cy="483120"/>
                <a:chOff x="2516040" y="3545280"/>
                <a:chExt cx="708120" cy="483120"/>
              </a:xfrm>
            </p:grpSpPr>
            <p:sp>
              <p:nvSpPr>
                <p:cNvPr id="869" name=""/>
                <p:cNvSpPr/>
                <p:nvPr/>
              </p:nvSpPr>
              <p:spPr>
                <a:xfrm>
                  <a:off x="2584440" y="3545280"/>
                  <a:ext cx="57132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
                <p:cNvSpPr/>
                <p:nvPr/>
              </p:nvSpPr>
              <p:spPr>
                <a:xfrm>
                  <a:off x="2516040" y="3545280"/>
                  <a:ext cx="7081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224160" y="3545280"/>
                <a:ext cx="1622520" cy="483120"/>
                <a:chOff x="3224160" y="3545280"/>
                <a:chExt cx="1622520" cy="483120"/>
              </a:xfrm>
            </p:grpSpPr>
            <p:sp>
              <p:nvSpPr>
                <p:cNvPr id="872" name=""/>
                <p:cNvSpPr/>
                <p:nvPr/>
              </p:nvSpPr>
              <p:spPr>
                <a:xfrm>
                  <a:off x="3292200" y="35452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t opinion, mode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
                <p:cNvSpPr/>
                <p:nvPr/>
              </p:nvSpPr>
              <p:spPr>
                <a:xfrm>
                  <a:off x="3224160" y="3545280"/>
                  <a:ext cx="16225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4846680" y="3545280"/>
                <a:ext cx="1622160" cy="483120"/>
                <a:chOff x="4846680" y="3545280"/>
                <a:chExt cx="1622160" cy="483120"/>
              </a:xfrm>
            </p:grpSpPr>
            <p:sp>
              <p:nvSpPr>
                <p:cNvPr id="875" name=""/>
                <p:cNvSpPr/>
                <p:nvPr/>
              </p:nvSpPr>
              <p:spPr>
                <a:xfrm>
                  <a:off x="4914720" y="35452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i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6" name=""/>
                <p:cNvSpPr/>
                <p:nvPr/>
              </p:nvSpPr>
              <p:spPr>
                <a:xfrm>
                  <a:off x="4846680" y="3545280"/>
                  <a:ext cx="16221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468840" y="3545280"/>
                <a:ext cx="1679760" cy="483120"/>
                <a:chOff x="6468840" y="3545280"/>
                <a:chExt cx="1679760" cy="483120"/>
              </a:xfrm>
            </p:grpSpPr>
            <p:sp>
              <p:nvSpPr>
                <p:cNvPr id="878" name=""/>
                <p:cNvSpPr/>
                <p:nvPr/>
              </p:nvSpPr>
              <p:spPr>
                <a:xfrm>
                  <a:off x="6537240" y="3545280"/>
                  <a:ext cx="154296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Pre-existence examples</a:t>
                  </a:r>
                  <a:r>
                    <a:rPr b="0" lang="en-US" sz="1200" spc="-1" strike="noStrike">
                      <a:solidFill>
                        <a:srgbClr val="000000"/>
                      </a:solidFill>
                      <a:latin typeface="Times New Roman"/>
                      <a:ea typeface="Times New Roman"/>
                    </a:rPr>
                    <a:t>, dem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9" name=""/>
                <p:cNvSpPr/>
                <p:nvPr/>
              </p:nvSpPr>
              <p:spPr>
                <a:xfrm>
                  <a:off x="6468840" y="3545280"/>
                  <a:ext cx="1679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996840" y="4028400"/>
                <a:ext cx="1519200" cy="590400"/>
                <a:chOff x="996840" y="4028400"/>
                <a:chExt cx="1519200" cy="590400"/>
              </a:xfrm>
            </p:grpSpPr>
            <p:sp>
              <p:nvSpPr>
                <p:cNvPr id="881" name=""/>
                <p:cNvSpPr/>
                <p:nvPr/>
              </p:nvSpPr>
              <p:spPr>
                <a:xfrm>
                  <a:off x="1065240" y="4028400"/>
                  <a:ext cx="138240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2" name=""/>
                <p:cNvSpPr/>
                <p:nvPr/>
              </p:nvSpPr>
              <p:spPr>
                <a:xfrm>
                  <a:off x="996840" y="4028400"/>
                  <a:ext cx="151920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2516040" y="4028400"/>
                <a:ext cx="708120" cy="590400"/>
                <a:chOff x="2516040" y="4028400"/>
                <a:chExt cx="708120" cy="590400"/>
              </a:xfrm>
            </p:grpSpPr>
            <p:sp>
              <p:nvSpPr>
                <p:cNvPr id="884" name=""/>
                <p:cNvSpPr/>
                <p:nvPr/>
              </p:nvSpPr>
              <p:spPr>
                <a:xfrm>
                  <a:off x="2584440" y="4028400"/>
                  <a:ext cx="57132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5" name=""/>
                <p:cNvSpPr/>
                <p:nvPr/>
              </p:nvSpPr>
              <p:spPr>
                <a:xfrm>
                  <a:off x="2516040" y="4028400"/>
                  <a:ext cx="70812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3224160" y="4028400"/>
                <a:ext cx="1622520" cy="590400"/>
                <a:chOff x="3224160" y="4028400"/>
                <a:chExt cx="1622520" cy="590400"/>
              </a:xfrm>
            </p:grpSpPr>
            <p:sp>
              <p:nvSpPr>
                <p:cNvPr id="887" name=""/>
                <p:cNvSpPr/>
                <p:nvPr/>
              </p:nvSpPr>
              <p:spPr>
                <a:xfrm>
                  <a:off x="3292200" y="4028400"/>
                  <a:ext cx="148608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 in 1 or less than of the 5 areas lis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
                <p:cNvSpPr/>
                <p:nvPr/>
              </p:nvSpPr>
              <p:spPr>
                <a:xfrm>
                  <a:off x="3224160" y="4028400"/>
                  <a:ext cx="162252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4846680" y="4028400"/>
                <a:ext cx="1622160" cy="590400"/>
                <a:chOff x="4846680" y="4028400"/>
                <a:chExt cx="1622160" cy="590400"/>
              </a:xfrm>
            </p:grpSpPr>
            <p:sp>
              <p:nvSpPr>
                <p:cNvPr id="890" name=""/>
                <p:cNvSpPr/>
                <p:nvPr/>
              </p:nvSpPr>
              <p:spPr>
                <a:xfrm>
                  <a:off x="4914720" y="4028400"/>
                  <a:ext cx="148608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 in 2 areas of the 5 lis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
                <p:cNvSpPr/>
                <p:nvPr/>
              </p:nvSpPr>
              <p:spPr>
                <a:xfrm>
                  <a:off x="4846680" y="4028400"/>
                  <a:ext cx="162216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6468840" y="4028400"/>
                <a:ext cx="1679760" cy="590400"/>
                <a:chOff x="6468840" y="4028400"/>
                <a:chExt cx="1679760" cy="590400"/>
              </a:xfrm>
            </p:grpSpPr>
            <p:sp>
              <p:nvSpPr>
                <p:cNvPr id="893" name=""/>
                <p:cNvSpPr/>
                <p:nvPr/>
              </p:nvSpPr>
              <p:spPr>
                <a:xfrm>
                  <a:off x="6537240" y="4028400"/>
                  <a:ext cx="154296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Times New Roman"/>
                    </a:rPr>
                    <a:t>Scalability in 3 or more of the 5 areas lis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6468840" y="4028400"/>
                  <a:ext cx="167976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996840" y="4619160"/>
                <a:ext cx="1519200" cy="483480"/>
                <a:chOff x="996840" y="4619160"/>
                <a:chExt cx="1519200" cy="483480"/>
              </a:xfrm>
            </p:grpSpPr>
            <p:sp>
              <p:nvSpPr>
                <p:cNvPr id="896" name=""/>
                <p:cNvSpPr/>
                <p:nvPr/>
              </p:nvSpPr>
              <p:spPr>
                <a:xfrm>
                  <a:off x="1065240" y="4619160"/>
                  <a:ext cx="138240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cation Awaren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
                <p:cNvSpPr/>
                <p:nvPr/>
              </p:nvSpPr>
              <p:spPr>
                <a:xfrm>
                  <a:off x="996840" y="4619160"/>
                  <a:ext cx="151920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2516040" y="4619160"/>
                <a:ext cx="708120" cy="483480"/>
                <a:chOff x="2516040" y="4619160"/>
                <a:chExt cx="708120" cy="483480"/>
              </a:xfrm>
            </p:grpSpPr>
            <p:sp>
              <p:nvSpPr>
                <p:cNvPr id="899" name=""/>
                <p:cNvSpPr/>
                <p:nvPr/>
              </p:nvSpPr>
              <p:spPr>
                <a:xfrm>
                  <a:off x="2584440" y="4619160"/>
                  <a:ext cx="57132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
                <p:cNvSpPr/>
                <p:nvPr/>
              </p:nvSpPr>
              <p:spPr>
                <a:xfrm>
                  <a:off x="2516040" y="4619160"/>
                  <a:ext cx="7081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3224160" y="4619160"/>
                <a:ext cx="1622520" cy="483480"/>
                <a:chOff x="3224160" y="4619160"/>
                <a:chExt cx="1622520" cy="483480"/>
              </a:xfrm>
            </p:grpSpPr>
            <p:sp>
              <p:nvSpPr>
                <p:cNvPr id="902" name=""/>
                <p:cNvSpPr/>
                <p:nvPr/>
              </p:nvSpPr>
              <p:spPr>
                <a:xfrm>
                  <a:off x="3292200" y="461916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
                <p:cNvSpPr/>
                <p:nvPr/>
              </p:nvSpPr>
              <p:spPr>
                <a:xfrm>
                  <a:off x="3224160" y="4619160"/>
                  <a:ext cx="16225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4846680" y="4619160"/>
                <a:ext cx="1622160" cy="483480"/>
                <a:chOff x="4846680" y="4619160"/>
                <a:chExt cx="1622160" cy="483480"/>
              </a:xfrm>
            </p:grpSpPr>
            <p:sp>
              <p:nvSpPr>
                <p:cNvPr id="905" name=""/>
                <p:cNvSpPr/>
                <p:nvPr/>
              </p:nvSpPr>
              <p:spPr>
                <a:xfrm>
                  <a:off x="4914720" y="461916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3300"/>
                      </a:solidFill>
                      <a:uFillTx/>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
                <p:cNvSpPr/>
                <p:nvPr/>
              </p:nvSpPr>
              <p:spPr>
                <a:xfrm>
                  <a:off x="4846680" y="4619160"/>
                  <a:ext cx="16221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6468840" y="4619160"/>
                <a:ext cx="1679760" cy="483480"/>
                <a:chOff x="6468840" y="4619160"/>
                <a:chExt cx="1679760" cy="483480"/>
              </a:xfrm>
            </p:grpSpPr>
            <p:sp>
              <p:nvSpPr>
                <p:cNvPr id="908" name=""/>
                <p:cNvSpPr/>
                <p:nvPr/>
              </p:nvSpPr>
              <p:spPr>
                <a:xfrm>
                  <a:off x="6537240" y="4619160"/>
                  <a:ext cx="154296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9" name=""/>
                <p:cNvSpPr/>
                <p:nvPr/>
              </p:nvSpPr>
              <p:spPr>
                <a:xfrm>
                  <a:off x="6468840" y="4619160"/>
                  <a:ext cx="16797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0" name=""/>
            <p:cNvSpPr/>
            <p:nvPr/>
          </p:nvSpPr>
          <p:spPr>
            <a:xfrm>
              <a:off x="992160" y="1447920"/>
              <a:ext cx="7161120" cy="3657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
          <p:cNvSpPr/>
          <p:nvPr/>
        </p:nvSpPr>
        <p:spPr>
          <a:xfrm>
            <a:off x="990720" y="5105520"/>
            <a:ext cx="7162560" cy="113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Note 3:</a:t>
            </a:r>
            <a:r>
              <a:rPr b="0" lang="en-US" sz="1200" spc="-1" strike="noStrike">
                <a:solidFill>
                  <a:srgbClr val="000000"/>
                </a:solidFill>
                <a:latin typeface="Times New Roman"/>
                <a:ea typeface="Times New Roman"/>
              </a:rPr>
              <a:t>  Total equation for coexistence value calculation.  Individual comparison values (-, same, +) are represented by the following numbers:  - equals –1, same equals 0, + equals +1.  The individual comparison values will be represented as IC in the equation below, with the subscript representing the source number reference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2 * IC</a:t>
            </a:r>
            <a:r>
              <a:rPr b="0" lang="en-US" sz="1200" spc="-1" strike="noStrike" baseline="-30000">
                <a:solidFill>
                  <a:srgbClr val="000000"/>
                </a:solidFill>
                <a:latin typeface="Times New Roman"/>
                <a:ea typeface="Times New Roman"/>
              </a:rPr>
              <a:t>1</a:t>
            </a:r>
            <a:r>
              <a:rPr b="0" lang="en-US" sz="1200" spc="-1" strike="noStrike">
                <a:solidFill>
                  <a:srgbClr val="000000"/>
                </a:solidFill>
                <a:latin typeface="Times New Roman"/>
                <a:ea typeface="Times New Roman"/>
              </a:rPr>
              <a:t> + 2 * IC</a:t>
            </a:r>
            <a:r>
              <a:rPr b="0" lang="en-US" sz="1200" spc="-1" strike="noStrike" baseline="-30000">
                <a:solidFill>
                  <a:srgbClr val="000000"/>
                </a:solidFill>
                <a:latin typeface="Times New Roman"/>
                <a:ea typeface="Times New Roman"/>
              </a:rPr>
              <a:t>2 </a:t>
            </a:r>
            <a:r>
              <a:rPr b="0" lang="en-US" sz="1200" spc="-1" strike="noStrike">
                <a:solidFill>
                  <a:srgbClr val="000000"/>
                </a:solidFill>
                <a:latin typeface="Times New Roman"/>
                <a:ea typeface="Times New Roman"/>
              </a:rPr>
              <a:t>+ IC</a:t>
            </a:r>
            <a:r>
              <a:rPr b="0" lang="en-US" sz="1200" spc="-1" strike="noStrike" baseline="-30000">
                <a:solidFill>
                  <a:srgbClr val="000000"/>
                </a:solidFill>
                <a:latin typeface="Times New Roman"/>
                <a:ea typeface="Times New Roman"/>
              </a:rPr>
              <a:t>3 </a:t>
            </a:r>
            <a:r>
              <a:rPr b="0" lang="en-US" sz="1200" spc="-1" strike="noStrike">
                <a:solidFill>
                  <a:srgbClr val="000000"/>
                </a:solidFill>
                <a:latin typeface="Times New Roman"/>
                <a:ea typeface="Times New Roman"/>
              </a:rPr>
              <a:t>+</a:t>
            </a:r>
            <a:r>
              <a:rPr b="0" lang="en-US" sz="1200" spc="-1" strike="noStrike" baseline="-30000">
                <a:solidFill>
                  <a:srgbClr val="000000"/>
                </a:solidFill>
                <a:latin typeface="Times New Roman"/>
                <a:ea typeface="Times New Roman"/>
              </a:rPr>
              <a:t> </a:t>
            </a:r>
            <a:r>
              <a:rPr b="0" lang="en-US" sz="1200" spc="-1" strike="noStrike">
                <a:solidFill>
                  <a:srgbClr val="000000"/>
                </a:solidFill>
                <a:latin typeface="Times New Roman"/>
                <a:ea typeface="Times New Roman"/>
              </a:rPr>
              <a:t>IC</a:t>
            </a:r>
            <a:r>
              <a:rPr b="0" lang="en-US" sz="1200" spc="-1" strike="noStrike" baseline="-30000">
                <a:solidFill>
                  <a:srgbClr val="000000"/>
                </a:solidFill>
                <a:latin typeface="Times New Roman"/>
                <a:ea typeface="Times New Roman"/>
              </a:rPr>
              <a:t>4 </a:t>
            </a:r>
            <a:r>
              <a:rPr b="0" lang="en-US" sz="1200" spc="-1" strike="noStrike">
                <a:solidFill>
                  <a:srgbClr val="000000"/>
                </a:solidFill>
                <a:latin typeface="Times New Roman"/>
                <a:ea typeface="Times New Roman"/>
              </a:rPr>
              <a:t>+ IC</a:t>
            </a:r>
            <a:r>
              <a:rPr b="0" lang="en-US" sz="1200" spc="-1" strike="noStrike" baseline="-30000">
                <a:solidFill>
                  <a:srgbClr val="000000"/>
                </a:solidFill>
                <a:latin typeface="Times New Roman"/>
                <a:ea typeface="Times New Roman"/>
              </a:rPr>
              <a:t>5</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585F65A0-C03A-444C-8EA9-5B66F93AB233}" type="slidenum">
              <a:t>2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ea typeface="Times New Roman"/>
              </a:rPr>
              <a:t>PHY Protocol Criteria</a:t>
            </a:r>
            <a:r>
              <a:rPr b="1" i="1" lang="en-US" sz="2000" spc="-1" strike="noStrike" u="sng">
                <a:solidFill>
                  <a:srgbClr val="000000"/>
                </a:solidFill>
                <a:uFillTx/>
                <a:latin typeface="Times New Roman"/>
              </a:rPr>
              <a:t> Comparison Values</a:t>
            </a:r>
            <a:endParaRPr b="0" lang="en-US" sz="2000" spc="-1" strike="noStrike">
              <a:solidFill>
                <a:srgbClr val="000000"/>
              </a:solidFill>
              <a:latin typeface="Times New Roman"/>
            </a:endParaRPr>
          </a:p>
        </p:txBody>
      </p:sp>
      <p:grpSp>
        <p:nvGrpSpPr>
          <p:cNvPr id="913" name=""/>
          <p:cNvGrpSpPr/>
          <p:nvPr/>
        </p:nvGrpSpPr>
        <p:grpSpPr>
          <a:xfrm>
            <a:off x="511200" y="1447920"/>
            <a:ext cx="8121600" cy="4952880"/>
            <a:chOff x="511200" y="1447920"/>
            <a:chExt cx="8121600" cy="4952880"/>
          </a:xfrm>
        </p:grpSpPr>
        <p:grpSp>
          <p:nvGrpSpPr>
            <p:cNvPr id="914" name=""/>
            <p:cNvGrpSpPr/>
            <p:nvPr/>
          </p:nvGrpSpPr>
          <p:grpSpPr>
            <a:xfrm>
              <a:off x="515880" y="1450800"/>
              <a:ext cx="8112240" cy="4946400"/>
              <a:chOff x="515880" y="1450800"/>
              <a:chExt cx="8112240" cy="4946400"/>
            </a:xfrm>
          </p:grpSpPr>
          <p:grpSp>
            <p:nvGrpSpPr>
              <p:cNvPr id="915" name=""/>
              <p:cNvGrpSpPr/>
              <p:nvPr/>
            </p:nvGrpSpPr>
            <p:grpSpPr>
              <a:xfrm>
                <a:off x="515880" y="1450800"/>
                <a:ext cx="1976400" cy="421560"/>
                <a:chOff x="515880" y="1450800"/>
                <a:chExt cx="1976400" cy="421560"/>
              </a:xfrm>
            </p:grpSpPr>
            <p:sp>
              <p:nvSpPr>
                <p:cNvPr id="916" name=""/>
                <p:cNvSpPr/>
                <p:nvPr/>
              </p:nvSpPr>
              <p:spPr>
                <a:xfrm>
                  <a:off x="515880" y="1450800"/>
                  <a:ext cx="197640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7" name=""/>
                <p:cNvGrpSpPr/>
                <p:nvPr/>
              </p:nvGrpSpPr>
              <p:grpSpPr>
                <a:xfrm>
                  <a:off x="515880" y="1450800"/>
                  <a:ext cx="1976400" cy="421560"/>
                  <a:chOff x="515880" y="1450800"/>
                  <a:chExt cx="1976400" cy="421560"/>
                </a:xfrm>
              </p:grpSpPr>
              <p:sp>
                <p:nvSpPr>
                  <p:cNvPr id="918" name=""/>
                  <p:cNvSpPr/>
                  <p:nvPr/>
                </p:nvSpPr>
                <p:spPr>
                  <a:xfrm>
                    <a:off x="584280" y="1450800"/>
                    <a:ext cx="183960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
                  <p:cNvSpPr/>
                  <p:nvPr/>
                </p:nvSpPr>
                <p:spPr>
                  <a:xfrm>
                    <a:off x="515880" y="1450800"/>
                    <a:ext cx="1976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0" name=""/>
              <p:cNvGrpSpPr/>
              <p:nvPr/>
            </p:nvGrpSpPr>
            <p:grpSpPr>
              <a:xfrm>
                <a:off x="2492280" y="1450800"/>
                <a:ext cx="765360" cy="421560"/>
                <a:chOff x="2492280" y="1450800"/>
                <a:chExt cx="765360" cy="421560"/>
              </a:xfrm>
            </p:grpSpPr>
            <p:sp>
              <p:nvSpPr>
                <p:cNvPr id="921" name=""/>
                <p:cNvSpPr/>
                <p:nvPr/>
              </p:nvSpPr>
              <p:spPr>
                <a:xfrm>
                  <a:off x="2492280" y="1450800"/>
                  <a:ext cx="76536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2" name=""/>
                <p:cNvGrpSpPr/>
                <p:nvPr/>
              </p:nvGrpSpPr>
              <p:grpSpPr>
                <a:xfrm>
                  <a:off x="2492280" y="1450800"/>
                  <a:ext cx="765360" cy="421560"/>
                  <a:chOff x="2492280" y="1450800"/>
                  <a:chExt cx="765360" cy="421560"/>
                </a:xfrm>
              </p:grpSpPr>
              <p:sp>
                <p:nvSpPr>
                  <p:cNvPr id="923" name=""/>
                  <p:cNvSpPr/>
                  <p:nvPr/>
                </p:nvSpPr>
                <p:spPr>
                  <a:xfrm>
                    <a:off x="2560680" y="1450800"/>
                    <a:ext cx="62856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
                  <p:cNvSpPr/>
                  <p:nvPr/>
                </p:nvSpPr>
                <p:spPr>
                  <a:xfrm>
                    <a:off x="2492280" y="1450800"/>
                    <a:ext cx="7653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5" name=""/>
              <p:cNvGrpSpPr/>
              <p:nvPr/>
            </p:nvGrpSpPr>
            <p:grpSpPr>
              <a:xfrm>
                <a:off x="3257640" y="1450800"/>
                <a:ext cx="1565280" cy="421560"/>
                <a:chOff x="3257640" y="1450800"/>
                <a:chExt cx="1565280" cy="421560"/>
              </a:xfrm>
            </p:grpSpPr>
            <p:sp>
              <p:nvSpPr>
                <p:cNvPr id="926" name=""/>
                <p:cNvSpPr/>
                <p:nvPr/>
              </p:nvSpPr>
              <p:spPr>
                <a:xfrm>
                  <a:off x="3257640" y="1450800"/>
                  <a:ext cx="156528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7" name=""/>
                <p:cNvGrpSpPr/>
                <p:nvPr/>
              </p:nvGrpSpPr>
              <p:grpSpPr>
                <a:xfrm>
                  <a:off x="3257640" y="1450800"/>
                  <a:ext cx="1565280" cy="421560"/>
                  <a:chOff x="3257640" y="1450800"/>
                  <a:chExt cx="1565280" cy="421560"/>
                </a:xfrm>
              </p:grpSpPr>
              <p:sp>
                <p:nvSpPr>
                  <p:cNvPr id="928" name=""/>
                  <p:cNvSpPr/>
                  <p:nvPr/>
                </p:nvSpPr>
                <p:spPr>
                  <a:xfrm>
                    <a:off x="3325680" y="1450800"/>
                    <a:ext cx="142884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
                  <p:cNvSpPr/>
                  <p:nvPr/>
                </p:nvSpPr>
                <p:spPr>
                  <a:xfrm>
                    <a:off x="3257640" y="1450800"/>
                    <a:ext cx="156528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0" name=""/>
              <p:cNvGrpSpPr/>
              <p:nvPr/>
            </p:nvGrpSpPr>
            <p:grpSpPr>
              <a:xfrm>
                <a:off x="4822920" y="1450800"/>
                <a:ext cx="1796760" cy="421560"/>
                <a:chOff x="4822920" y="1450800"/>
                <a:chExt cx="1796760" cy="421560"/>
              </a:xfrm>
            </p:grpSpPr>
            <p:sp>
              <p:nvSpPr>
                <p:cNvPr id="931" name=""/>
                <p:cNvSpPr/>
                <p:nvPr/>
              </p:nvSpPr>
              <p:spPr>
                <a:xfrm>
                  <a:off x="4822920" y="1450800"/>
                  <a:ext cx="179676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4822920" y="1450800"/>
                  <a:ext cx="1796760" cy="421560"/>
                  <a:chOff x="4822920" y="1450800"/>
                  <a:chExt cx="1796760" cy="421560"/>
                </a:xfrm>
              </p:grpSpPr>
              <p:sp>
                <p:nvSpPr>
                  <p:cNvPr id="933" name=""/>
                  <p:cNvSpPr/>
                  <p:nvPr/>
                </p:nvSpPr>
                <p:spPr>
                  <a:xfrm>
                    <a:off x="4890960" y="1450800"/>
                    <a:ext cx="166068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
                  <p:cNvSpPr/>
                  <p:nvPr/>
                </p:nvSpPr>
                <p:spPr>
                  <a:xfrm>
                    <a:off x="4822920" y="1450800"/>
                    <a:ext cx="17967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5" name=""/>
              <p:cNvGrpSpPr/>
              <p:nvPr/>
            </p:nvGrpSpPr>
            <p:grpSpPr>
              <a:xfrm>
                <a:off x="6619680" y="1450800"/>
                <a:ext cx="2008440" cy="421560"/>
                <a:chOff x="6619680" y="1450800"/>
                <a:chExt cx="2008440" cy="421560"/>
              </a:xfrm>
            </p:grpSpPr>
            <p:sp>
              <p:nvSpPr>
                <p:cNvPr id="936" name=""/>
                <p:cNvSpPr/>
                <p:nvPr/>
              </p:nvSpPr>
              <p:spPr>
                <a:xfrm>
                  <a:off x="6619680" y="1450800"/>
                  <a:ext cx="200844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7" name=""/>
                <p:cNvGrpSpPr/>
                <p:nvPr/>
              </p:nvGrpSpPr>
              <p:grpSpPr>
                <a:xfrm>
                  <a:off x="6619680" y="1450800"/>
                  <a:ext cx="2008440" cy="421560"/>
                  <a:chOff x="6619680" y="1450800"/>
                  <a:chExt cx="2008440" cy="421560"/>
                </a:xfrm>
              </p:grpSpPr>
              <p:sp>
                <p:nvSpPr>
                  <p:cNvPr id="938" name=""/>
                  <p:cNvSpPr/>
                  <p:nvPr/>
                </p:nvSpPr>
                <p:spPr>
                  <a:xfrm>
                    <a:off x="6688080" y="1450800"/>
                    <a:ext cx="187164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9" name=""/>
                  <p:cNvSpPr/>
                  <p:nvPr/>
                </p:nvSpPr>
                <p:spPr>
                  <a:xfrm>
                    <a:off x="6619680" y="1450800"/>
                    <a:ext cx="20084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0" name=""/>
              <p:cNvGrpSpPr/>
              <p:nvPr/>
            </p:nvGrpSpPr>
            <p:grpSpPr>
              <a:xfrm>
                <a:off x="515880" y="1872360"/>
                <a:ext cx="1976400" cy="421560"/>
                <a:chOff x="515880" y="1872360"/>
                <a:chExt cx="1976400" cy="421560"/>
              </a:xfrm>
            </p:grpSpPr>
            <p:sp>
              <p:nvSpPr>
                <p:cNvPr id="941" name=""/>
                <p:cNvSpPr/>
                <p:nvPr/>
              </p:nvSpPr>
              <p:spPr>
                <a:xfrm>
                  <a:off x="515880" y="1872360"/>
                  <a:ext cx="197640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2" name=""/>
                <p:cNvGrpSpPr/>
                <p:nvPr/>
              </p:nvGrpSpPr>
              <p:grpSpPr>
                <a:xfrm>
                  <a:off x="515880" y="1872360"/>
                  <a:ext cx="1976400" cy="421560"/>
                  <a:chOff x="515880" y="1872360"/>
                  <a:chExt cx="1976400" cy="421560"/>
                </a:xfrm>
              </p:grpSpPr>
              <p:sp>
                <p:nvSpPr>
                  <p:cNvPr id="943" name=""/>
                  <p:cNvSpPr/>
                  <p:nvPr/>
                </p:nvSpPr>
                <p:spPr>
                  <a:xfrm>
                    <a:off x="584280" y="1872360"/>
                    <a:ext cx="183960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
                  <p:cNvSpPr/>
                  <p:nvPr/>
                </p:nvSpPr>
                <p:spPr>
                  <a:xfrm>
                    <a:off x="515880" y="1872360"/>
                    <a:ext cx="1976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5" name=""/>
              <p:cNvGrpSpPr/>
              <p:nvPr/>
            </p:nvGrpSpPr>
            <p:grpSpPr>
              <a:xfrm>
                <a:off x="2492280" y="1872360"/>
                <a:ext cx="765360" cy="421560"/>
                <a:chOff x="2492280" y="1872360"/>
                <a:chExt cx="765360" cy="421560"/>
              </a:xfrm>
            </p:grpSpPr>
            <p:sp>
              <p:nvSpPr>
                <p:cNvPr id="946" name=""/>
                <p:cNvSpPr/>
                <p:nvPr/>
              </p:nvSpPr>
              <p:spPr>
                <a:xfrm>
                  <a:off x="2492280" y="1872360"/>
                  <a:ext cx="76536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 name=""/>
                <p:cNvGrpSpPr/>
                <p:nvPr/>
              </p:nvGrpSpPr>
              <p:grpSpPr>
                <a:xfrm>
                  <a:off x="2492280" y="1872360"/>
                  <a:ext cx="765360" cy="421560"/>
                  <a:chOff x="2492280" y="1872360"/>
                  <a:chExt cx="765360" cy="421560"/>
                </a:xfrm>
              </p:grpSpPr>
              <p:sp>
                <p:nvSpPr>
                  <p:cNvPr id="948" name=""/>
                  <p:cNvSpPr/>
                  <p:nvPr/>
                </p:nvSpPr>
                <p:spPr>
                  <a:xfrm>
                    <a:off x="2560680" y="1872360"/>
                    <a:ext cx="62856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
                  <p:cNvSpPr/>
                  <p:nvPr/>
                </p:nvSpPr>
                <p:spPr>
                  <a:xfrm>
                    <a:off x="2492280" y="1872360"/>
                    <a:ext cx="7653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0" name=""/>
              <p:cNvGrpSpPr/>
              <p:nvPr/>
            </p:nvGrpSpPr>
            <p:grpSpPr>
              <a:xfrm>
                <a:off x="3257640" y="1872360"/>
                <a:ext cx="1565280" cy="421560"/>
                <a:chOff x="3257640" y="1872360"/>
                <a:chExt cx="1565280" cy="421560"/>
              </a:xfrm>
            </p:grpSpPr>
            <p:sp>
              <p:nvSpPr>
                <p:cNvPr id="951" name=""/>
                <p:cNvSpPr/>
                <p:nvPr/>
              </p:nvSpPr>
              <p:spPr>
                <a:xfrm>
                  <a:off x="3257640" y="1872360"/>
                  <a:ext cx="156528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2" name=""/>
                <p:cNvGrpSpPr/>
                <p:nvPr/>
              </p:nvGrpSpPr>
              <p:grpSpPr>
                <a:xfrm>
                  <a:off x="3257640" y="1872360"/>
                  <a:ext cx="1565280" cy="421560"/>
                  <a:chOff x="3257640" y="1872360"/>
                  <a:chExt cx="1565280" cy="421560"/>
                </a:xfrm>
              </p:grpSpPr>
              <p:sp>
                <p:nvSpPr>
                  <p:cNvPr id="953" name=""/>
                  <p:cNvSpPr/>
                  <p:nvPr/>
                </p:nvSpPr>
                <p:spPr>
                  <a:xfrm>
                    <a:off x="3325680" y="1872360"/>
                    <a:ext cx="142884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
                  <p:cNvSpPr/>
                  <p:nvPr/>
                </p:nvSpPr>
                <p:spPr>
                  <a:xfrm>
                    <a:off x="3257640" y="1872360"/>
                    <a:ext cx="156528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5" name=""/>
              <p:cNvGrpSpPr/>
              <p:nvPr/>
            </p:nvGrpSpPr>
            <p:grpSpPr>
              <a:xfrm>
                <a:off x="4822920" y="1872360"/>
                <a:ext cx="1796760" cy="421560"/>
                <a:chOff x="4822920" y="1872360"/>
                <a:chExt cx="1796760" cy="421560"/>
              </a:xfrm>
            </p:grpSpPr>
            <p:sp>
              <p:nvSpPr>
                <p:cNvPr id="956" name=""/>
                <p:cNvSpPr/>
                <p:nvPr/>
              </p:nvSpPr>
              <p:spPr>
                <a:xfrm>
                  <a:off x="4822920" y="1872360"/>
                  <a:ext cx="179676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7" name=""/>
                <p:cNvGrpSpPr/>
                <p:nvPr/>
              </p:nvGrpSpPr>
              <p:grpSpPr>
                <a:xfrm>
                  <a:off x="4822920" y="1872360"/>
                  <a:ext cx="1796760" cy="421560"/>
                  <a:chOff x="4822920" y="1872360"/>
                  <a:chExt cx="1796760" cy="421560"/>
                </a:xfrm>
              </p:grpSpPr>
              <p:sp>
                <p:nvSpPr>
                  <p:cNvPr id="958" name=""/>
                  <p:cNvSpPr/>
                  <p:nvPr/>
                </p:nvSpPr>
                <p:spPr>
                  <a:xfrm>
                    <a:off x="4890960" y="1872360"/>
                    <a:ext cx="166068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4822920" y="1872360"/>
                    <a:ext cx="17967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0" name=""/>
              <p:cNvGrpSpPr/>
              <p:nvPr/>
            </p:nvGrpSpPr>
            <p:grpSpPr>
              <a:xfrm>
                <a:off x="6619680" y="1872360"/>
                <a:ext cx="2008440" cy="421560"/>
                <a:chOff x="6619680" y="1872360"/>
                <a:chExt cx="2008440" cy="421560"/>
              </a:xfrm>
            </p:grpSpPr>
            <p:sp>
              <p:nvSpPr>
                <p:cNvPr id="961" name=""/>
                <p:cNvSpPr/>
                <p:nvPr/>
              </p:nvSpPr>
              <p:spPr>
                <a:xfrm>
                  <a:off x="6619680" y="1872360"/>
                  <a:ext cx="200844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2" name=""/>
                <p:cNvGrpSpPr/>
                <p:nvPr/>
              </p:nvGrpSpPr>
              <p:grpSpPr>
                <a:xfrm>
                  <a:off x="6619680" y="1872360"/>
                  <a:ext cx="2008440" cy="421560"/>
                  <a:chOff x="6619680" y="1872360"/>
                  <a:chExt cx="2008440" cy="421560"/>
                </a:xfrm>
              </p:grpSpPr>
              <p:sp>
                <p:nvSpPr>
                  <p:cNvPr id="963" name=""/>
                  <p:cNvSpPr/>
                  <p:nvPr/>
                </p:nvSpPr>
                <p:spPr>
                  <a:xfrm>
                    <a:off x="6688080" y="1872360"/>
                    <a:ext cx="1871640" cy="42156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619680" y="1872360"/>
                    <a:ext cx="20084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5" name=""/>
              <p:cNvGrpSpPr/>
              <p:nvPr/>
            </p:nvGrpSpPr>
            <p:grpSpPr>
              <a:xfrm>
                <a:off x="515880" y="2293920"/>
                <a:ext cx="1976400" cy="421560"/>
                <a:chOff x="515880" y="2293920"/>
                <a:chExt cx="1976400" cy="421560"/>
              </a:xfrm>
            </p:grpSpPr>
            <p:sp>
              <p:nvSpPr>
                <p:cNvPr id="966" name=""/>
                <p:cNvSpPr/>
                <p:nvPr/>
              </p:nvSpPr>
              <p:spPr>
                <a:xfrm>
                  <a:off x="584280" y="2293920"/>
                  <a:ext cx="183960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ze and Form Fac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
                <p:cNvSpPr/>
                <p:nvPr/>
              </p:nvSpPr>
              <p:spPr>
                <a:xfrm>
                  <a:off x="515880" y="2293920"/>
                  <a:ext cx="1976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2492280" y="2293920"/>
                <a:ext cx="765360" cy="421560"/>
                <a:chOff x="2492280" y="2293920"/>
                <a:chExt cx="765360" cy="421560"/>
              </a:xfrm>
            </p:grpSpPr>
            <p:sp>
              <p:nvSpPr>
                <p:cNvPr id="969" name=""/>
                <p:cNvSpPr/>
                <p:nvPr/>
              </p:nvSpPr>
              <p:spPr>
                <a:xfrm>
                  <a:off x="2560680" y="2293920"/>
                  <a:ext cx="62856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
                <p:cNvSpPr/>
                <p:nvPr/>
              </p:nvSpPr>
              <p:spPr>
                <a:xfrm>
                  <a:off x="2492280" y="2293920"/>
                  <a:ext cx="7653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3257640" y="2293920"/>
                <a:ext cx="1565280" cy="421560"/>
                <a:chOff x="3257640" y="2293920"/>
                <a:chExt cx="1565280" cy="421560"/>
              </a:xfrm>
            </p:grpSpPr>
            <p:sp>
              <p:nvSpPr>
                <p:cNvPr id="972" name=""/>
                <p:cNvSpPr/>
                <p:nvPr/>
              </p:nvSpPr>
              <p:spPr>
                <a:xfrm>
                  <a:off x="3325680" y="2293920"/>
                  <a:ext cx="14288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rg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
                <p:cNvSpPr/>
                <p:nvPr/>
              </p:nvSpPr>
              <p:spPr>
                <a:xfrm>
                  <a:off x="3257640" y="2293920"/>
                  <a:ext cx="156528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822920" y="2293920"/>
                <a:ext cx="1796760" cy="421560"/>
                <a:chOff x="4822920" y="2293920"/>
                <a:chExt cx="1796760" cy="421560"/>
              </a:xfrm>
            </p:grpSpPr>
            <p:sp>
              <p:nvSpPr>
                <p:cNvPr id="975" name=""/>
                <p:cNvSpPr/>
                <p:nvPr/>
              </p:nvSpPr>
              <p:spPr>
                <a:xfrm>
                  <a:off x="4890960" y="2293920"/>
                  <a:ext cx="166068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ct Flas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
                <p:cNvSpPr/>
                <p:nvPr/>
              </p:nvSpPr>
              <p:spPr>
                <a:xfrm>
                  <a:off x="4822920" y="2293920"/>
                  <a:ext cx="17967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6619680" y="2293920"/>
                <a:ext cx="2008440" cy="421560"/>
                <a:chOff x="6619680" y="2293920"/>
                <a:chExt cx="2008440" cy="421560"/>
              </a:xfrm>
            </p:grpSpPr>
            <p:sp>
              <p:nvSpPr>
                <p:cNvPr id="978" name=""/>
                <p:cNvSpPr/>
                <p:nvPr/>
              </p:nvSpPr>
              <p:spPr>
                <a:xfrm>
                  <a:off x="6688080" y="2293920"/>
                  <a:ext cx="18716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3300"/>
                      </a:solidFill>
                      <a:uFillTx/>
                      <a:latin typeface="Times New Roman"/>
                      <a:ea typeface="Times New Roman"/>
                    </a:rPr>
                    <a:t>Small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
                <p:cNvSpPr/>
                <p:nvPr/>
              </p:nvSpPr>
              <p:spPr>
                <a:xfrm>
                  <a:off x="6619680" y="2293920"/>
                  <a:ext cx="20084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15880" y="2715480"/>
                <a:ext cx="1976400" cy="542160"/>
                <a:chOff x="515880" y="2715480"/>
                <a:chExt cx="1976400" cy="542160"/>
              </a:xfrm>
            </p:grpSpPr>
            <p:sp>
              <p:nvSpPr>
                <p:cNvPr id="981" name=""/>
                <p:cNvSpPr/>
                <p:nvPr/>
              </p:nvSpPr>
              <p:spPr>
                <a:xfrm>
                  <a:off x="584280" y="2715480"/>
                  <a:ext cx="1839600" cy="54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equency Ban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515880" y="2715480"/>
                  <a:ext cx="197640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2492280" y="2715480"/>
                <a:ext cx="765360" cy="542160"/>
                <a:chOff x="2492280" y="2715480"/>
                <a:chExt cx="765360" cy="542160"/>
              </a:xfrm>
            </p:grpSpPr>
            <p:sp>
              <p:nvSpPr>
                <p:cNvPr id="984" name=""/>
                <p:cNvSpPr/>
                <p:nvPr/>
              </p:nvSpPr>
              <p:spPr>
                <a:xfrm>
                  <a:off x="2560680" y="2715480"/>
                  <a:ext cx="628560" cy="54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
                <p:cNvSpPr/>
                <p:nvPr/>
              </p:nvSpPr>
              <p:spPr>
                <a:xfrm>
                  <a:off x="2492280" y="2715480"/>
                  <a:ext cx="7653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57640" y="2715480"/>
                <a:ext cx="1565280" cy="542160"/>
                <a:chOff x="3257640" y="2715480"/>
                <a:chExt cx="1565280" cy="542160"/>
              </a:xfrm>
            </p:grpSpPr>
            <p:sp>
              <p:nvSpPr>
                <p:cNvPr id="987" name=""/>
                <p:cNvSpPr/>
                <p:nvPr/>
              </p:nvSpPr>
              <p:spPr>
                <a:xfrm>
                  <a:off x="3325680" y="2715480"/>
                  <a:ext cx="1428840" cy="54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 (not supported by P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3257640" y="2715480"/>
                  <a:ext cx="156528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4822920" y="2715480"/>
                <a:ext cx="1796760" cy="542160"/>
                <a:chOff x="4822920" y="2715480"/>
                <a:chExt cx="1796760" cy="542160"/>
              </a:xfrm>
            </p:grpSpPr>
            <p:sp>
              <p:nvSpPr>
                <p:cNvPr id="990" name=""/>
                <p:cNvSpPr/>
                <p:nvPr/>
              </p:nvSpPr>
              <p:spPr>
                <a:xfrm>
                  <a:off x="4890960" y="2715480"/>
                  <a:ext cx="1660680" cy="54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3300"/>
                      </a:solidFill>
                      <a:uFillTx/>
                      <a:latin typeface="Times New Roman"/>
                      <a:ea typeface="Times New Roman"/>
                    </a:rPr>
                    <a:t>Unlicen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1" name=""/>
                <p:cNvSpPr/>
                <p:nvPr/>
              </p:nvSpPr>
              <p:spPr>
                <a:xfrm>
                  <a:off x="4822920" y="2715480"/>
                  <a:ext cx="17967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6619680" y="2715480"/>
                <a:ext cx="2008440" cy="542160"/>
                <a:chOff x="6619680" y="2715480"/>
                <a:chExt cx="2008440" cy="542160"/>
              </a:xfrm>
            </p:grpSpPr>
            <p:sp>
              <p:nvSpPr>
                <p:cNvPr id="993" name=""/>
                <p:cNvSpPr/>
                <p:nvPr/>
              </p:nvSpPr>
              <p:spPr>
                <a:xfrm>
                  <a:off x="6688080" y="2715480"/>
                  <a:ext cx="1871640" cy="54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 (not supported by P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4" name=""/>
                <p:cNvSpPr/>
                <p:nvPr/>
              </p:nvSpPr>
              <p:spPr>
                <a:xfrm>
                  <a:off x="6619680" y="2715480"/>
                  <a:ext cx="200844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515880" y="3257640"/>
                <a:ext cx="1976400" cy="662040"/>
                <a:chOff x="515880" y="3257640"/>
                <a:chExt cx="1976400" cy="662040"/>
              </a:xfrm>
            </p:grpSpPr>
            <p:sp>
              <p:nvSpPr>
                <p:cNvPr id="996" name=""/>
                <p:cNvSpPr/>
                <p:nvPr/>
              </p:nvSpPr>
              <p:spPr>
                <a:xfrm>
                  <a:off x="584280" y="3257640"/>
                  <a:ext cx="1839600" cy="66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mber of Simultaneously Operating Full-Throughput PA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
                <p:cNvSpPr/>
                <p:nvPr/>
              </p:nvSpPr>
              <p:spPr>
                <a:xfrm>
                  <a:off x="515880" y="3257640"/>
                  <a:ext cx="197640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92280" y="3257640"/>
                <a:ext cx="765360" cy="662040"/>
                <a:chOff x="2492280" y="3257640"/>
                <a:chExt cx="765360" cy="662040"/>
              </a:xfrm>
            </p:grpSpPr>
            <p:sp>
              <p:nvSpPr>
                <p:cNvPr id="999" name=""/>
                <p:cNvSpPr/>
                <p:nvPr/>
              </p:nvSpPr>
              <p:spPr>
                <a:xfrm>
                  <a:off x="2560680" y="3257640"/>
                  <a:ext cx="628560" cy="66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0" name=""/>
                <p:cNvSpPr/>
                <p:nvPr/>
              </p:nvSpPr>
              <p:spPr>
                <a:xfrm>
                  <a:off x="2492280" y="3257640"/>
                  <a:ext cx="76536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257640" y="3257640"/>
                <a:ext cx="1565280" cy="662040"/>
                <a:chOff x="3257640" y="3257640"/>
                <a:chExt cx="1565280" cy="662040"/>
              </a:xfrm>
            </p:grpSpPr>
            <p:sp>
              <p:nvSpPr>
                <p:cNvPr id="1002" name=""/>
                <p:cNvSpPr/>
                <p:nvPr/>
              </p:nvSpPr>
              <p:spPr>
                <a:xfrm>
                  <a:off x="3325680" y="3257640"/>
                  <a:ext cx="1428840" cy="66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3257640" y="3257640"/>
                  <a:ext cx="156528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4822920" y="3257640"/>
                <a:ext cx="1796760" cy="662040"/>
                <a:chOff x="4822920" y="3257640"/>
                <a:chExt cx="1796760" cy="662040"/>
              </a:xfrm>
            </p:grpSpPr>
            <p:sp>
              <p:nvSpPr>
                <p:cNvPr id="1005" name=""/>
                <p:cNvSpPr/>
                <p:nvPr/>
              </p:nvSpPr>
              <p:spPr>
                <a:xfrm>
                  <a:off x="4890960" y="3257640"/>
                  <a:ext cx="1660680" cy="66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
                <p:cNvSpPr/>
                <p:nvPr/>
              </p:nvSpPr>
              <p:spPr>
                <a:xfrm>
                  <a:off x="4822920" y="3257640"/>
                  <a:ext cx="179676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619680" y="3257640"/>
                <a:ext cx="2008440" cy="662040"/>
                <a:chOff x="6619680" y="3257640"/>
                <a:chExt cx="2008440" cy="662040"/>
              </a:xfrm>
            </p:grpSpPr>
            <p:sp>
              <p:nvSpPr>
                <p:cNvPr id="1008" name=""/>
                <p:cNvSpPr/>
                <p:nvPr/>
              </p:nvSpPr>
              <p:spPr>
                <a:xfrm>
                  <a:off x="6688080" y="3257640"/>
                  <a:ext cx="1871640" cy="66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Times New Roman"/>
                    </a:rPr>
                    <a:t>&gt; 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619680" y="3257640"/>
                  <a:ext cx="200844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515880" y="3920040"/>
                <a:ext cx="1976400" cy="421560"/>
                <a:chOff x="515880" y="3920040"/>
                <a:chExt cx="1976400" cy="421560"/>
              </a:xfrm>
            </p:grpSpPr>
            <p:sp>
              <p:nvSpPr>
                <p:cNvPr id="1011" name=""/>
                <p:cNvSpPr/>
                <p:nvPr/>
              </p:nvSpPr>
              <p:spPr>
                <a:xfrm>
                  <a:off x="584280" y="3920040"/>
                  <a:ext cx="183960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gnal Acquisition Metho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515880" y="3920040"/>
                  <a:ext cx="1976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2492280" y="3920040"/>
                <a:ext cx="765360" cy="421560"/>
                <a:chOff x="2492280" y="3920040"/>
                <a:chExt cx="765360" cy="421560"/>
              </a:xfrm>
            </p:grpSpPr>
            <p:sp>
              <p:nvSpPr>
                <p:cNvPr id="1014" name=""/>
                <p:cNvSpPr/>
                <p:nvPr/>
              </p:nvSpPr>
              <p:spPr>
                <a:xfrm>
                  <a:off x="2560680" y="3920040"/>
                  <a:ext cx="62856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
                <p:cNvSpPr/>
                <p:nvPr/>
              </p:nvSpPr>
              <p:spPr>
                <a:xfrm>
                  <a:off x="2492280" y="3920040"/>
                  <a:ext cx="7653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3257640" y="3920040"/>
                <a:ext cx="1565280" cy="421560"/>
                <a:chOff x="3257640" y="3920040"/>
                <a:chExt cx="1565280" cy="421560"/>
              </a:xfrm>
            </p:grpSpPr>
            <p:sp>
              <p:nvSpPr>
                <p:cNvPr id="1017" name=""/>
                <p:cNvSpPr/>
                <p:nvPr/>
              </p:nvSpPr>
              <p:spPr>
                <a:xfrm>
                  <a:off x="3325680" y="3920040"/>
                  <a:ext cx="14288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
                <p:cNvSpPr/>
                <p:nvPr/>
              </p:nvSpPr>
              <p:spPr>
                <a:xfrm>
                  <a:off x="3257640" y="3920040"/>
                  <a:ext cx="156528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4822920" y="3920040"/>
                <a:ext cx="1796760" cy="421560"/>
                <a:chOff x="4822920" y="3920040"/>
                <a:chExt cx="1796760" cy="421560"/>
              </a:xfrm>
            </p:grpSpPr>
            <p:sp>
              <p:nvSpPr>
                <p:cNvPr id="1020" name=""/>
                <p:cNvSpPr/>
                <p:nvPr/>
              </p:nvSpPr>
              <p:spPr>
                <a:xfrm>
                  <a:off x="4890960" y="3920040"/>
                  <a:ext cx="166068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
                <p:cNvSpPr/>
                <p:nvPr/>
              </p:nvSpPr>
              <p:spPr>
                <a:xfrm>
                  <a:off x="4822920" y="3920040"/>
                  <a:ext cx="17967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6619680" y="3920040"/>
                <a:ext cx="2008440" cy="421560"/>
                <a:chOff x="6619680" y="3920040"/>
                <a:chExt cx="2008440" cy="421560"/>
              </a:xfrm>
            </p:grpSpPr>
            <p:sp>
              <p:nvSpPr>
                <p:cNvPr id="1023" name=""/>
                <p:cNvSpPr/>
                <p:nvPr/>
              </p:nvSpPr>
              <p:spPr>
                <a:xfrm>
                  <a:off x="6688080" y="3920040"/>
                  <a:ext cx="18716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
                <p:cNvSpPr/>
                <p:nvPr/>
              </p:nvSpPr>
              <p:spPr>
                <a:xfrm>
                  <a:off x="6619680" y="3920040"/>
                  <a:ext cx="20084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15880" y="4341600"/>
                <a:ext cx="1976400" cy="421560"/>
                <a:chOff x="515880" y="4341600"/>
                <a:chExt cx="1976400" cy="421560"/>
              </a:xfrm>
            </p:grpSpPr>
            <p:sp>
              <p:nvSpPr>
                <p:cNvPr id="1026" name=""/>
                <p:cNvSpPr/>
                <p:nvPr/>
              </p:nvSpPr>
              <p:spPr>
                <a:xfrm>
                  <a:off x="584280" y="4341600"/>
                  <a:ext cx="183960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n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
                <p:cNvSpPr/>
                <p:nvPr/>
              </p:nvSpPr>
              <p:spPr>
                <a:xfrm>
                  <a:off x="515880" y="4341600"/>
                  <a:ext cx="1976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2492280" y="4341600"/>
                <a:ext cx="765360" cy="421560"/>
                <a:chOff x="2492280" y="4341600"/>
                <a:chExt cx="765360" cy="421560"/>
              </a:xfrm>
            </p:grpSpPr>
            <p:sp>
              <p:nvSpPr>
                <p:cNvPr id="1029" name=""/>
                <p:cNvSpPr/>
                <p:nvPr/>
              </p:nvSpPr>
              <p:spPr>
                <a:xfrm>
                  <a:off x="2560680" y="4341600"/>
                  <a:ext cx="62856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2492280" y="4341600"/>
                  <a:ext cx="7653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3257640" y="4341600"/>
                <a:ext cx="1565280" cy="421560"/>
                <a:chOff x="3257640" y="4341600"/>
                <a:chExt cx="1565280" cy="421560"/>
              </a:xfrm>
            </p:grpSpPr>
            <p:sp>
              <p:nvSpPr>
                <p:cNvPr id="1032" name=""/>
                <p:cNvSpPr/>
                <p:nvPr/>
              </p:nvSpPr>
              <p:spPr>
                <a:xfrm>
                  <a:off x="3325680" y="4341600"/>
                  <a:ext cx="14288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10 met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3" name=""/>
                <p:cNvSpPr/>
                <p:nvPr/>
              </p:nvSpPr>
              <p:spPr>
                <a:xfrm>
                  <a:off x="3257640" y="4341600"/>
                  <a:ext cx="156528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4822920" y="4341600"/>
                <a:ext cx="1796760" cy="421560"/>
                <a:chOff x="4822920" y="4341600"/>
                <a:chExt cx="1796760" cy="421560"/>
              </a:xfrm>
            </p:grpSpPr>
            <p:sp>
              <p:nvSpPr>
                <p:cNvPr id="1035" name=""/>
                <p:cNvSpPr/>
                <p:nvPr/>
              </p:nvSpPr>
              <p:spPr>
                <a:xfrm>
                  <a:off x="4890960" y="4341600"/>
                  <a:ext cx="166068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3300"/>
                      </a:solidFill>
                      <a:uFillTx/>
                      <a:latin typeface="Times New Roman"/>
                      <a:ea typeface="Times New Roman"/>
                    </a:rPr>
                    <a:t>&gt;</a:t>
                  </a:r>
                  <a:r>
                    <a:rPr b="1" lang="en-US" sz="1400" spc="-1" strike="noStrike">
                      <a:solidFill>
                        <a:srgbClr val="ff3300"/>
                      </a:solidFill>
                      <a:latin typeface="Times New Roman"/>
                      <a:ea typeface="Times New Roman"/>
                    </a:rPr>
                    <a:t> 10 me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4822920" y="4341600"/>
                  <a:ext cx="17967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6619680" y="4341600"/>
                <a:ext cx="2008440" cy="421560"/>
                <a:chOff x="6619680" y="4341600"/>
                <a:chExt cx="2008440" cy="421560"/>
              </a:xfrm>
            </p:grpSpPr>
            <p:sp>
              <p:nvSpPr>
                <p:cNvPr id="1038" name=""/>
                <p:cNvSpPr/>
                <p:nvPr/>
              </p:nvSpPr>
              <p:spPr>
                <a:xfrm>
                  <a:off x="6688080" y="4341600"/>
                  <a:ext cx="18716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
                <p:cNvSpPr/>
                <p:nvPr/>
              </p:nvSpPr>
              <p:spPr>
                <a:xfrm>
                  <a:off x="6619680" y="4341600"/>
                  <a:ext cx="20084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515880" y="4763160"/>
                <a:ext cx="1976400" cy="421560"/>
                <a:chOff x="515880" y="4763160"/>
                <a:chExt cx="1976400" cy="421560"/>
              </a:xfrm>
            </p:grpSpPr>
            <p:sp>
              <p:nvSpPr>
                <p:cNvPr id="1041" name=""/>
                <p:cNvSpPr/>
                <p:nvPr/>
              </p:nvSpPr>
              <p:spPr>
                <a:xfrm>
                  <a:off x="584280" y="4763160"/>
                  <a:ext cx="183960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nsitiv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
                <p:cNvSpPr/>
                <p:nvPr/>
              </p:nvSpPr>
              <p:spPr>
                <a:xfrm>
                  <a:off x="515880" y="4763160"/>
                  <a:ext cx="1976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2492280" y="4763160"/>
                <a:ext cx="765360" cy="421560"/>
                <a:chOff x="2492280" y="4763160"/>
                <a:chExt cx="765360" cy="421560"/>
              </a:xfrm>
            </p:grpSpPr>
            <p:sp>
              <p:nvSpPr>
                <p:cNvPr id="1044" name=""/>
                <p:cNvSpPr/>
                <p:nvPr/>
              </p:nvSpPr>
              <p:spPr>
                <a:xfrm>
                  <a:off x="2560680" y="4763160"/>
                  <a:ext cx="62856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
                <p:cNvSpPr/>
                <p:nvPr/>
              </p:nvSpPr>
              <p:spPr>
                <a:xfrm>
                  <a:off x="2492280" y="4763160"/>
                  <a:ext cx="7653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3257640" y="4763160"/>
                <a:ext cx="1565280" cy="421560"/>
                <a:chOff x="3257640" y="4763160"/>
                <a:chExt cx="1565280" cy="421560"/>
              </a:xfrm>
            </p:grpSpPr>
            <p:sp>
              <p:nvSpPr>
                <p:cNvPr id="1047" name=""/>
                <p:cNvSpPr/>
                <p:nvPr/>
              </p:nvSpPr>
              <p:spPr>
                <a:xfrm>
                  <a:off x="3325680" y="4763160"/>
                  <a:ext cx="14288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
                <p:cNvSpPr/>
                <p:nvPr/>
              </p:nvSpPr>
              <p:spPr>
                <a:xfrm>
                  <a:off x="3257640" y="4763160"/>
                  <a:ext cx="156528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4822920" y="4763160"/>
                <a:ext cx="1796760" cy="421560"/>
                <a:chOff x="4822920" y="4763160"/>
                <a:chExt cx="1796760" cy="421560"/>
              </a:xfrm>
            </p:grpSpPr>
            <p:sp>
              <p:nvSpPr>
                <p:cNvPr id="1050" name=""/>
                <p:cNvSpPr/>
                <p:nvPr/>
              </p:nvSpPr>
              <p:spPr>
                <a:xfrm>
                  <a:off x="4890960" y="4763160"/>
                  <a:ext cx="166068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
                <p:cNvSpPr/>
                <p:nvPr/>
              </p:nvSpPr>
              <p:spPr>
                <a:xfrm>
                  <a:off x="4822920" y="4763160"/>
                  <a:ext cx="17967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6619680" y="4763160"/>
                <a:ext cx="2008440" cy="421560"/>
                <a:chOff x="6619680" y="4763160"/>
                <a:chExt cx="2008440" cy="421560"/>
              </a:xfrm>
            </p:grpSpPr>
            <p:sp>
              <p:nvSpPr>
                <p:cNvPr id="1053" name=""/>
                <p:cNvSpPr/>
                <p:nvPr/>
              </p:nvSpPr>
              <p:spPr>
                <a:xfrm>
                  <a:off x="6688080" y="4763160"/>
                  <a:ext cx="18716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
                <p:cNvSpPr/>
                <p:nvPr/>
              </p:nvSpPr>
              <p:spPr>
                <a:xfrm>
                  <a:off x="6619680" y="4763160"/>
                  <a:ext cx="20084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515880" y="5184720"/>
                <a:ext cx="1976400" cy="421560"/>
                <a:chOff x="515880" y="5184720"/>
                <a:chExt cx="1976400" cy="421560"/>
              </a:xfrm>
            </p:grpSpPr>
            <p:sp>
              <p:nvSpPr>
                <p:cNvPr id="1056" name=""/>
                <p:cNvSpPr/>
                <p:nvPr/>
              </p:nvSpPr>
              <p:spPr>
                <a:xfrm>
                  <a:off x="584280" y="5184720"/>
                  <a:ext cx="183960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ay Spread Toler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
                <p:cNvSpPr/>
                <p:nvPr/>
              </p:nvSpPr>
              <p:spPr>
                <a:xfrm>
                  <a:off x="515880" y="5184720"/>
                  <a:ext cx="197640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92280" y="5184720"/>
                <a:ext cx="765360" cy="421560"/>
                <a:chOff x="2492280" y="5184720"/>
                <a:chExt cx="765360" cy="421560"/>
              </a:xfrm>
            </p:grpSpPr>
            <p:sp>
              <p:nvSpPr>
                <p:cNvPr id="1059" name=""/>
                <p:cNvSpPr/>
                <p:nvPr/>
              </p:nvSpPr>
              <p:spPr>
                <a:xfrm>
                  <a:off x="2560680" y="5184720"/>
                  <a:ext cx="62856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
                <p:cNvSpPr/>
                <p:nvPr/>
              </p:nvSpPr>
              <p:spPr>
                <a:xfrm>
                  <a:off x="2492280" y="5184720"/>
                  <a:ext cx="7653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257640" y="5184720"/>
                <a:ext cx="1565280" cy="421560"/>
                <a:chOff x="3257640" y="5184720"/>
                <a:chExt cx="1565280" cy="421560"/>
              </a:xfrm>
            </p:grpSpPr>
            <p:sp>
              <p:nvSpPr>
                <p:cNvPr id="1062" name=""/>
                <p:cNvSpPr/>
                <p:nvPr/>
              </p:nvSpPr>
              <p:spPr>
                <a:xfrm>
                  <a:off x="3325680" y="5184720"/>
                  <a:ext cx="14288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25 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
                <p:cNvSpPr/>
                <p:nvPr/>
              </p:nvSpPr>
              <p:spPr>
                <a:xfrm>
                  <a:off x="3257640" y="5184720"/>
                  <a:ext cx="156528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4822920" y="5184720"/>
                <a:ext cx="1796760" cy="421560"/>
                <a:chOff x="4822920" y="5184720"/>
                <a:chExt cx="1796760" cy="421560"/>
              </a:xfrm>
            </p:grpSpPr>
            <p:sp>
              <p:nvSpPr>
                <p:cNvPr id="1065" name=""/>
                <p:cNvSpPr/>
                <p:nvPr/>
              </p:nvSpPr>
              <p:spPr>
                <a:xfrm>
                  <a:off x="4890960" y="5184720"/>
                  <a:ext cx="166068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ea typeface="Times New Roman"/>
                    </a:rPr>
                    <a:t>25 ns - 40 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4822920" y="5184720"/>
                  <a:ext cx="179676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619680" y="5184720"/>
                <a:ext cx="2008440" cy="421560"/>
                <a:chOff x="6619680" y="5184720"/>
                <a:chExt cx="2008440" cy="421560"/>
              </a:xfrm>
            </p:grpSpPr>
            <p:sp>
              <p:nvSpPr>
                <p:cNvPr id="1068" name=""/>
                <p:cNvSpPr/>
                <p:nvPr/>
              </p:nvSpPr>
              <p:spPr>
                <a:xfrm>
                  <a:off x="6688080" y="5184720"/>
                  <a:ext cx="1871640" cy="42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Times New Roman"/>
                      <a:ea typeface="Times New Roman"/>
                    </a:rPr>
                    <a:t>&gt; 40 ns TB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619680" y="5184720"/>
                  <a:ext cx="2008440" cy="42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515880" y="5606280"/>
                <a:ext cx="1976400" cy="790920"/>
                <a:chOff x="515880" y="5606280"/>
                <a:chExt cx="1976400" cy="790920"/>
              </a:xfrm>
            </p:grpSpPr>
            <p:sp>
              <p:nvSpPr>
                <p:cNvPr id="1071" name=""/>
                <p:cNvSpPr/>
                <p:nvPr/>
              </p:nvSpPr>
              <p:spPr>
                <a:xfrm>
                  <a:off x="584280" y="5606280"/>
                  <a:ext cx="183960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Consum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eak power of the PHY combined with an appropriate M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
                <p:cNvSpPr/>
                <p:nvPr/>
              </p:nvSpPr>
              <p:spPr>
                <a:xfrm>
                  <a:off x="515880" y="5606280"/>
                  <a:ext cx="197640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2492280" y="5606280"/>
                <a:ext cx="765360" cy="790920"/>
                <a:chOff x="2492280" y="5606280"/>
                <a:chExt cx="765360" cy="790920"/>
              </a:xfrm>
            </p:grpSpPr>
            <p:sp>
              <p:nvSpPr>
                <p:cNvPr id="1074" name=""/>
                <p:cNvSpPr/>
                <p:nvPr/>
              </p:nvSpPr>
              <p:spPr>
                <a:xfrm>
                  <a:off x="2560680" y="5606280"/>
                  <a:ext cx="62856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
                <p:cNvSpPr/>
                <p:nvPr/>
              </p:nvSpPr>
              <p:spPr>
                <a:xfrm>
                  <a:off x="2492280" y="5606280"/>
                  <a:ext cx="76536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3257640" y="5606280"/>
                <a:ext cx="1565280" cy="790920"/>
                <a:chOff x="3257640" y="5606280"/>
                <a:chExt cx="1565280" cy="790920"/>
              </a:xfrm>
            </p:grpSpPr>
            <p:sp>
              <p:nvSpPr>
                <p:cNvPr id="1077" name=""/>
                <p:cNvSpPr/>
                <p:nvPr/>
              </p:nvSpPr>
              <p:spPr>
                <a:xfrm>
                  <a:off x="3325680" y="5606280"/>
                  <a:ext cx="1428840" cy="790920"/>
                </a:xfrm>
                <a:prstGeom prst="rect">
                  <a:avLst/>
                </a:prstGeom>
                <a:noFill/>
                <a:ln w="0">
                  <a:noFill/>
                </a:ln>
              </p:spPr>
              <p:style>
                <a:lnRef idx="0"/>
                <a:fillRef idx="0"/>
                <a:effectRef idx="0"/>
                <a:fontRef idx="minor"/>
              </p:style>
              <p:txBody>
                <a:bodyPr lIns="90000" rIns="90000" tIns="46800" bIns="46800" anchor="t">
                  <a:no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Times New Roman"/>
                    </a:rPr>
                    <a:t>30m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average under real duty cycles will be MUCH less)</a:t>
                  </a:r>
                  <a:endParaRPr b="0" lang="en-US" sz="1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
                <p:cNvSpPr/>
                <p:nvPr/>
              </p:nvSpPr>
              <p:spPr>
                <a:xfrm>
                  <a:off x="3257640" y="5606280"/>
                  <a:ext cx="156528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4822920" y="5606280"/>
                <a:ext cx="1796760" cy="790920"/>
                <a:chOff x="4822920" y="5606280"/>
                <a:chExt cx="1796760" cy="790920"/>
              </a:xfrm>
            </p:grpSpPr>
            <p:sp>
              <p:nvSpPr>
                <p:cNvPr id="1080" name=""/>
                <p:cNvSpPr/>
                <p:nvPr/>
              </p:nvSpPr>
              <p:spPr>
                <a:xfrm>
                  <a:off x="4890960" y="5606280"/>
                  <a:ext cx="166068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tween 5mW and 30m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
                <p:cNvSpPr/>
                <p:nvPr/>
              </p:nvSpPr>
              <p:spPr>
                <a:xfrm>
                  <a:off x="4822920" y="5606280"/>
                  <a:ext cx="179676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6619680" y="5606280"/>
                <a:ext cx="2008440" cy="790920"/>
                <a:chOff x="6619680" y="5606280"/>
                <a:chExt cx="2008440" cy="790920"/>
              </a:xfrm>
            </p:grpSpPr>
            <p:sp>
              <p:nvSpPr>
                <p:cNvPr id="1083" name=""/>
                <p:cNvSpPr/>
                <p:nvPr/>
              </p:nvSpPr>
              <p:spPr>
                <a:xfrm>
                  <a:off x="6688080" y="5606280"/>
                  <a:ext cx="1871640" cy="79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5m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
                <p:cNvSpPr/>
                <p:nvPr/>
              </p:nvSpPr>
              <p:spPr>
                <a:xfrm>
                  <a:off x="6619680" y="5606280"/>
                  <a:ext cx="2008440" cy="79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85" name=""/>
            <p:cNvSpPr/>
            <p:nvPr/>
          </p:nvSpPr>
          <p:spPr>
            <a:xfrm>
              <a:off x="511200" y="1447920"/>
              <a:ext cx="812160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B02337B9-1924-4017-A48D-BE9587BDCA57}" type="slidenum">
              <a:t>2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69608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o is                          ?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2742840"/>
            <a:ext cx="7772400" cy="3429000"/>
          </a:xfrm>
          <a:prstGeom prst="rect">
            <a:avLst/>
          </a:prstGeom>
          <a:noFill/>
          <a:ln w="0">
            <a:noFill/>
          </a:ln>
        </p:spPr>
        <p:txBody>
          <a:bodyPr lIns="92160" rIns="92160" tIns="46080" bIns="4608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Lucent Technologies Microelectronics Group</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ocess of spinning off as an independent semiconductor company</a:t>
            </a:r>
            <a:endParaRPr b="0" lang="en-US" sz="2000" spc="-1" strike="noStrike">
              <a:solidFill>
                <a:srgbClr val="000000"/>
              </a:solidFill>
              <a:latin typeface="Arial"/>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experience in communications IC design, DSPs, and wireless systems design</a:t>
            </a:r>
            <a:endParaRPr b="0" lang="en-US" sz="2000" spc="-1" strike="noStrike">
              <a:solidFill>
                <a:srgbClr val="000000"/>
              </a:solidFill>
              <a:latin typeface="Arial"/>
            </a:endParaRPr>
          </a:p>
        </p:txBody>
      </p:sp>
      <p:pic>
        <p:nvPicPr>
          <p:cNvPr id="50" name="" descr=""/>
          <p:cNvPicPr/>
          <p:nvPr/>
        </p:nvPicPr>
        <p:blipFill>
          <a:blip r:embed="rId1"/>
          <a:stretch/>
        </p:blipFill>
        <p:spPr>
          <a:xfrm>
            <a:off x="3962520" y="1066680"/>
            <a:ext cx="3124080" cy="1079640"/>
          </a:xfrm>
          <a:prstGeom prst="rect">
            <a:avLst/>
          </a:prstGeom>
          <a:ln w="0">
            <a:noFill/>
          </a:ln>
        </p:spPr>
      </p:pic>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343B3E1D-BB5B-4D16-A381-A3667765434B}"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thogonal BFSK modulation (modulation index = 1)</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operation with low complexity (good Eb/No performance possible)</a:t>
            </a:r>
            <a:endParaRPr b="0" lang="en-US" sz="18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high performance all-digital modem possible </a:t>
            </a:r>
            <a:r>
              <a:rPr b="0" lang="en-US" sz="1600" spc="-1" strike="noStrike">
                <a:solidFill>
                  <a:srgbClr val="000000"/>
                </a:solidFill>
                <a:latin typeface="Verdana"/>
              </a:rPr>
              <a:t>(though conventional modulators/demodulators could be used)</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frequenci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00-2483.5 MHz (unlicensed operation)</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4 channels, 320 kHz spacing @ 160 kbp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IF architecture with upper/lower sideband select keeps LO and image in-band - fewer out of band spurious issue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Other bands possible with minor changes</a:t>
            </a:r>
            <a:r>
              <a:rPr b="0" lang="en-US" sz="1600" spc="-1" strike="noStrike">
                <a:solidFill>
                  <a:srgbClr val="000000"/>
                </a:solidFill>
                <a:latin typeface="Verdana"/>
              </a:rPr>
              <a:t> (where is the ?)</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es under FCC Part 15.249 rul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SS - uses DCS “Dynamic Channel Selection”</a:t>
            </a:r>
            <a:endParaRPr b="0" lang="en-US" sz="18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ordinator node “sniffs” band and selects channel(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  nodes find coordinator by scanning for beacons</a:t>
            </a:r>
            <a:endParaRPr b="0" lang="en-US" sz="1600" spc="-1" strike="noStrike">
              <a:solidFill>
                <a:srgbClr val="000000"/>
              </a:solidFill>
              <a:latin typeface="Arial"/>
            </a:endParaRPr>
          </a:p>
          <a:p>
            <a:pPr lvl="3" marL="1428840" indent="-228600">
              <a:lnSpc>
                <a:spcPct val="7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moves to a clear channel in case of interferenc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F94211D1-E1AF-4B62-B45C-385A79914E27}"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age-reject up/down conversion between low IF and RF</a:t>
            </a:r>
            <a:endParaRPr b="0" lang="en-US" sz="20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1/f noise problems in CMO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oids DC offset and linearity problems of direct conversion (RX IF can be AC-coupled and hard limited)</a:t>
            </a:r>
            <a:endParaRPr b="0" lang="en-US" sz="1600" spc="-1" strike="noStrike">
              <a:solidFill>
                <a:srgbClr val="000000"/>
              </a:solidFill>
              <a:latin typeface="Arial"/>
            </a:endParaRPr>
          </a:p>
          <a:p>
            <a:pPr lvl="2" marL="1085760" indent="-228600">
              <a:lnSpc>
                <a:spcPct val="10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izes amount of high frequency circuitry, allowing majority of signal processing to take place at very low frequencies in simple digital circuitry</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power consumption</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w frequency digital CMOS is power efficien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chip area</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all geometry digital CMOS is compa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s total solution size</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tion of filters, etc. allows single chip solution with only minimal external passives (bypass caps, etc.)</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ificant portions of system synthesizable from VHD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89220F93-A4FC-43DE-A35F-14B7E0FCB7B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Physical Layer Proposal</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 (con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ystem timing and frequency generation are based on a single master oscillator in each n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aves track frequency of coordinator</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n techniques provide good performance</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use of low cost, low precision crystals</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aves adjust their master oscillator (or synthesizer reference frequency) such that received signal is centered in their receive IF and recovered symbol timing is correct</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ignment takes place as “slaves” join 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initial acquisition is complete, tracking is based on fine corrections in recovered symbol cloc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ypical tracking in a real, commercially-produced system is equal to or better than 1 ppm with 50 ppm crystals</a:t>
            </a:r>
            <a:endParaRPr b="0" lang="en-US" sz="1600" spc="-1" strike="noStrike">
              <a:solidFill>
                <a:srgbClr val="000000"/>
              </a:solidFill>
              <a:latin typeface="Arial"/>
            </a:endParaRPr>
          </a:p>
          <a:p>
            <a:pPr lvl="4" marL="177156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equates to about 2.5 kHz worst-case offset at Fo of 2.5 GHz, which results in negligible performance los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ge/margin stated in this proposal are based on   -2 dBm nominal TX power output (with duty cycle averaging allowance ~ + 18 dBm is possibl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08FFB553-E543-4C5F-BA08-1884A82712B4}"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mplified Transceiver Block Diagram</a:t>
            </a:r>
            <a:br>
              <a:rPr sz="2400"/>
            </a:br>
            <a:r>
              <a:rPr b="0" lang="en-US" sz="1800" spc="-1" strike="noStrike">
                <a:solidFill>
                  <a:srgbClr val="000000"/>
                </a:solidFill>
                <a:latin typeface="Verdana"/>
              </a:rPr>
              <a:t>(does not show all control and power management signal details)</a:t>
            </a:r>
            <a:endParaRPr b="0" lang="en-US" sz="1800" spc="-1" strike="noStrike">
              <a:solidFill>
                <a:srgbClr val="000000"/>
              </a:solidFill>
              <a:latin typeface="Times New Roman"/>
            </a:endParaRPr>
          </a:p>
        </p:txBody>
      </p:sp>
      <p:graphicFrame>
        <p:nvGraphicFramePr>
          <p:cNvPr id="58" name=""/>
          <p:cNvGraphicFramePr/>
          <p:nvPr/>
        </p:nvGraphicFramePr>
        <p:xfrm>
          <a:off x="914400" y="1600200"/>
          <a:ext cx="7086600" cy="4745160"/>
        </p:xfrm>
        <a:graphic>
          <a:graphicData uri="http://schemas.openxmlformats.org/presentationml/2006/ole">
            <p:oleObj r:id="rId1" spid="">
              <p:embed/>
              <p:pic>
                <p:nvPicPr>
                  <p:cNvPr id="59" name="" descr=""/>
                  <p:cNvPicPr/>
                  <p:nvPr/>
                </p:nvPicPr>
                <p:blipFill>
                  <a:blip r:embed="rId2"/>
                  <a:stretch/>
                </p:blipFill>
                <p:spPr>
                  <a:xfrm>
                    <a:off x="914400" y="1600200"/>
                    <a:ext cx="7086600" cy="474516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AF14698-B907-440C-AF4E-4A872E622347}"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trum of All-digital Modulated TX Signal at 1.360 MHz Low IF (unfiltered)</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1676520" y="1600200"/>
            <a:ext cx="6172200" cy="481644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91276C6-BDD9-4CF0-8874-59240891A182}"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ponse of 5 pole Butterworth Filter with 280 kHz BW at 1.360 MH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676520" y="1600200"/>
            <a:ext cx="6172200" cy="484992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229D0D3-FDB0-4DE0-8BE6-1A0E97451431}"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41:03Z</dcterms:created>
  <dc:creator>Carl R. Stevenson</dc:creator>
  <dc:description>01/227TG4r0</dc:description>
  <dc:language>en-US</dc:language>
  <cp:lastModifiedBy>Ian Gifford</cp:lastModifiedBy>
  <cp:lastPrinted>2001-03-11T04:44:01Z</cp:lastPrinted>
  <dcterms:modified xsi:type="dcterms:W3CDTF">2001-05-10T04:06:42Z</dcterms:modified>
  <cp:revision>35</cp:revision>
  <dc:subject>IEEE 802.15 &lt;subject&gt;</dc:subject>
  <dc:title>No Slide Title</dc:title>
</cp:coreProperties>
</file>