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E3484-5D0A-4310-A4D1-B984D6EE1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8C5D8-3661-4DCC-9747-D147751F3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3FE8A-62FD-43F8-98EF-28D7C2A6D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5CD9E-4C90-4C54-9482-6822C586D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798B2-FE02-4A68-8308-CDDDF4372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2C841-C8D7-4A85-9976-0D1AF32B8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E013A-EDAE-4DFB-A89A-E9637612E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8DBCB-A3E2-486E-9B55-DB51BD3AA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BDCD6-6F1F-4F06-ABF4-B6E6ED483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BA8F8-127C-48AF-9BCB-CAFD22E22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787C2-501F-4CD4-A3AB-53A8AE233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28148-EF93-4A5B-9F2F-6BE55D3E2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EE69F8-CCDA-4506-A0AC-590810282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657600" y="396000"/>
            <a:ext cx="48006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6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0440" y="700200"/>
            <a:ext cx="8763120" cy="585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bmission Title:</a:t>
            </a:r>
            <a:r>
              <a:rPr b="0" lang="en-US" sz="1500" spc="-1" strike="noStrike">
                <a:solidFill>
                  <a:srgbClr val="000000"/>
                </a:solidFill>
                <a:latin typeface="Times New Roman"/>
              </a:rPr>
              <a:t> [Agere/Invensys/Motorola/Philips Combined MAC Proposal for the Low Rate 802.15.4 Standard]</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ate Submitted: </a:t>
            </a:r>
            <a:r>
              <a:rPr b="0" lang="en-US" sz="1500" spc="-1" strike="noStrike">
                <a:solidFill>
                  <a:srgbClr val="000000"/>
                </a:solidFill>
                <a:latin typeface="Times New Roman"/>
              </a:rPr>
              <a:t> [7 May, 2001]</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a:t>
            </a:r>
            <a:r>
              <a:rPr b="0" lang="en-US" sz="1500" spc="-1" strike="noStrike">
                <a:solidFill>
                  <a:srgbClr val="000000"/>
                </a:solidFill>
                <a:latin typeface="Times New Roman"/>
              </a:rPr>
              <a:t>  [Ed Callaway]    Company: [Motorola]</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8000 W. Sunrise Blvd., M/S 2141, Plantation, FL 33322]</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oice:[(954) 723-8341], FAX: [(954) 723-3712], E-Mail:[ed.callaway@motorola.com]</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a:t>
            </a:r>
            <a:r>
              <a:rPr b="0" lang="en-US" sz="1500" spc="-1" strike="noStrike">
                <a:solidFill>
                  <a:srgbClr val="000000"/>
                </a:solidFill>
                <a:latin typeface="Times New Roman"/>
              </a:rPr>
              <a:t> [WPAN-802.15.4 Call for Proposals; Doc. IEEE 802.15-01/135r1 , 01/188r0, 01/189r0, 01/232r0, 01/234r0, 01/226r0]</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bstract:</a:t>
            </a:r>
            <a:r>
              <a:rPr b="0" lang="en-US" sz="1500" spc="-1" strike="noStrike">
                <a:solidFill>
                  <a:srgbClr val="000000"/>
                </a:solidFill>
                <a:latin typeface="Times New Roman"/>
              </a:rPr>
              <a:t>	</a:t>
            </a:r>
            <a:r>
              <a:rPr b="0" lang="en-US" sz="1500" spc="-1" strike="noStrike">
                <a:solidFill>
                  <a:srgbClr val="000000"/>
                </a:solidFill>
                <a:latin typeface="Times New Roman"/>
              </a:rPr>
              <a:t>[This presentation represents a joint proposal for the P802.15.4 MAC standard, emphasizing the need for a low cost system having excellent battery life.]</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urpose:</a:t>
            </a:r>
            <a:r>
              <a:rPr b="0" lang="en-US" sz="1500" spc="-1" strike="noStrike">
                <a:solidFill>
                  <a:srgbClr val="000000"/>
                </a:solidFill>
                <a:latin typeface="Times New Roman"/>
              </a:rPr>
              <a:t>	</a:t>
            </a:r>
            <a:r>
              <a:rPr b="0" lang="en-US" sz="1500" spc="-1" strike="noStrike">
                <a:solidFill>
                  <a:srgbClr val="000000"/>
                </a:solidFill>
                <a:latin typeface="Times New Roman"/>
              </a:rPr>
              <a:t>[Response to WPAN-802.15.4 Call for Proposals] </a:t>
            </a:r>
            <a:endParaRPr b="0" lang="en-US" sz="15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tice:</a:t>
            </a:r>
            <a:r>
              <a:rPr b="0" lang="en-US" sz="1500" spc="-1" strike="noStrike">
                <a:solidFill>
                  <a:srgbClr val="000000"/>
                </a:solidFill>
                <a:latin typeface="Times New Roman"/>
              </a:rPr>
              <a:t>	</a:t>
            </a:r>
            <a:r>
              <a:rPr b="0" lang="en-US" sz="15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elease:</a:t>
            </a:r>
            <a:r>
              <a:rPr b="0" lang="en-US" sz="1500" spc="-1" strike="noStrike">
                <a:solidFill>
                  <a:srgbClr val="000000"/>
                </a:solidFill>
                <a:latin typeface="Times New Roman"/>
              </a:rPr>
              <a:t>	</a:t>
            </a:r>
            <a:r>
              <a:rPr b="0" lang="en-US" sz="1500" spc="-1" strike="noStrike">
                <a:solidFill>
                  <a:srgbClr val="000000"/>
                </a:solidFill>
                <a:latin typeface="Times New Roman"/>
              </a:rPr>
              <a:t>The contributor acknowledges and accepts that this contribution becomes the property of IEEE and may be made publicly available by P802.15.</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a:spcBef>
                <a:spcPts val="938"/>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ftr" idx="2"/>
          </p:nvPr>
        </p:nvSpPr>
        <p:spPr/>
        <p:txBody>
          <a:bodyPr/>
          <a:p>
            <a:r>
              <a:t>Ed Callaway, Motorola </a:t>
            </a:r>
          </a:p>
        </p:txBody>
      </p:sp>
      <p:sp>
        <p:nvSpPr>
          <p:cNvPr id="3" name="PlaceHolder 2"/>
          <p:cNvSpPr>
            <a:spLocks noGrp="1"/>
          </p:cNvSpPr>
          <p:nvPr>
            <p:ph type="sldNum" idx="3"/>
          </p:nvPr>
        </p:nvSpPr>
        <p:spPr/>
        <p:txBody>
          <a:bodyPr/>
          <a:p>
            <a:fld id="{F317C6C7-7DEC-4B6C-ADD5-75F981D14F2E}" type="slidenum">
              <a:t>1</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C Framework</a:t>
            </a:r>
            <a:endParaRPr b="0" lang="en-US" sz="40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ble of both star and cluster tree (mesh) network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 network to be TDD, TDMA, using a master/controll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controller transmits network beacons &amp; assigns slot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saving in master/controll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to-peer communication between slav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 tree network to incorporate M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possible via MAC bridge between TG4 and TG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query/response packets defin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 Callaway, Motorola </a:t>
            </a:r>
          </a:p>
        </p:txBody>
      </p:sp>
      <p:sp>
        <p:nvSpPr>
          <p:cNvPr id="5" name="PlaceHolder 4"/>
          <p:cNvSpPr>
            <a:spLocks noGrp="1"/>
          </p:cNvSpPr>
          <p:nvPr>
            <p:ph type="sldNum" idx="3"/>
          </p:nvPr>
        </p:nvSpPr>
        <p:spPr/>
        <p:txBody>
          <a:bodyPr/>
          <a:p>
            <a:fld id="{71534109-166C-428E-81DF-18EE93F2149E}"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6T19:55:17Z</dcterms:created>
  <dc:creator>Ed Callaway</dc:creator>
  <dc:description/>
  <dc:language>en-US</dc:language>
  <cp:lastModifiedBy>Administrator</cp:lastModifiedBy>
  <dcterms:modified xsi:type="dcterms:W3CDTF">2001-05-17T19:59:35Z</dcterms:modified>
  <cp:revision>126</cp:revision>
  <dc:subject/>
  <dc:title>Agere/Invensys/Motorola/Philips Combined IEEE 802.15.4 MAC Proposal</dc:title>
</cp:coreProperties>
</file>