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F547E7-647B-4701-B079-2EEF27153C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D0D882-F040-4424-8F8F-109D14D8EB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41CA1E-E58D-4E0F-B157-ABEF131A72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7B2CFC-5C94-4F58-9E1C-F243C8BD8D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AF4F5A-7CC2-43E1-8E79-610252DF21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08C48C-2F64-44A4-8D60-CF0AD5CD83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AE45C2-2022-4EE8-9856-B6E993BC1B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93D552-B7AD-4D95-A41A-36D8A0109A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7A11FD-5FDD-4E95-8D96-4CE93C4300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C0BBAA-7086-4084-8377-E64A4D68B8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BAA38F-16F0-4C1D-ACD5-79A04E2537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9EF04E-4A87-439E-BAE7-99DF0D9FFC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4C701B7-AD32-449B-B2F9-3BCF781319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ct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237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749160"/>
            <a:ext cx="8763120" cy="4902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roject: IEEE P802.15 Working Group for Wireless Personal Area Networks (WPAN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IEEE802.15.3: MAC Committee Plan Leading Into Portla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May, 2001</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llen Heberling</a:t>
            </a:r>
            <a:r>
              <a:rPr b="0" lang="en-US" sz="1600" spc="-1" strike="noStrike">
                <a:solidFill>
                  <a:srgbClr val="000000"/>
                </a:solidFill>
                <a:latin typeface="Times New Roman"/>
              </a:rPr>
              <a:t>	</a:t>
            </a:r>
            <a:r>
              <a:rPr b="1" lang="en-US" sz="1600" spc="-1" strike="noStrike">
                <a:solidFill>
                  <a:srgbClr val="000000"/>
                </a:solidFill>
                <a:latin typeface="Times New Roman"/>
              </a:rPr>
              <a:t>Company: </a:t>
            </a:r>
            <a:r>
              <a:rPr b="0" lang="en-US" sz="1600" spc="-1" strike="noStrike">
                <a:solidFill>
                  <a:srgbClr val="000000"/>
                </a:solidFill>
                <a:latin typeface="Times New Roman"/>
              </a:rPr>
              <a:t>XtremeSpectru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8133 Leesburg Pike, Suite 700, Vienna, Virginia 22182</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  +1.703.269-3022, FAX: +1.703.749.0249, E-Mail: aheberling@xtremespectrum.com</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  </a:t>
            </a:r>
            <a:r>
              <a:rPr b="0" lang="en-US" sz="1600" spc="-1" strike="noStrike">
                <a:solidFill>
                  <a:srgbClr val="000000"/>
                </a:solidFill>
                <a:latin typeface="Times New Roman"/>
              </a:rPr>
              <a:t>TG3 MAC plan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 </a:t>
            </a:r>
            <a:r>
              <a:rPr b="0" lang="en-US" sz="1600" spc="-1" strike="noStrike">
                <a:solidFill>
                  <a:srgbClr val="000000"/>
                </a:solidFill>
                <a:latin typeface="Times New Roman"/>
              </a:rPr>
              <a:t>	</a:t>
            </a:r>
            <a:r>
              <a:rPr b="0" lang="en-US" sz="1600" spc="-1" strike="noStrike">
                <a:solidFill>
                  <a:srgbClr val="000000"/>
                </a:solidFill>
                <a:latin typeface="Times New Roman"/>
              </a:rPr>
              <a:t>1) To inform the IEEE 802.15.3 regarding the activities the TG3 MAC committee is planning for the time interval leading up to the Portland Plenary Meet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ese viewgraphs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Allen D. Heberling, XtremeSpectrum</a:t>
            </a:r>
          </a:p>
        </p:txBody>
      </p:sp>
      <p:sp>
        <p:nvSpPr>
          <p:cNvPr id="3" name="PlaceHolder 2"/>
          <p:cNvSpPr>
            <a:spLocks noGrp="1"/>
          </p:cNvSpPr>
          <p:nvPr>
            <p:ph type="sldNum" idx="3"/>
          </p:nvPr>
        </p:nvSpPr>
        <p:spPr/>
        <p:txBody>
          <a:bodyPr/>
          <a:p>
            <a:fld id="{A64CE7A5-8EB2-4918-B34F-58897EF0FC70}" type="slidenum">
              <a:t>1</a:t>
            </a:fld>
          </a:p>
        </p:txBody>
      </p:sp>
      <p:sp>
        <p:nvSpPr>
          <p:cNvPr id="4" name="PlaceHolder 3"/>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3 MAC Committee Activities Planned for the Interval Leading Up To the Portland Plenary </a:t>
            </a:r>
            <a:r>
              <a:rPr b="0" lang="en-US" sz="2800" spc="-1" strike="noStrike">
                <a:solidFill>
                  <a:srgbClr val="000000"/>
                </a:solidFill>
                <a:latin typeface="Times New Roman"/>
              </a:rPr>
              <a:t>cont</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3.7 Power Management Parms Claus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 Bain to author w/ inputs to MLME sub-clause</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10 Power Management Claus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 Bain to author</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12 Frame Xchng Claus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 Shvodian to author</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llen D. Heberling, XtremeSpectrum</a:t>
            </a:r>
          </a:p>
        </p:txBody>
      </p:sp>
      <p:sp>
        <p:nvSpPr>
          <p:cNvPr id="5" name="PlaceHolder 4"/>
          <p:cNvSpPr>
            <a:spLocks noGrp="1"/>
          </p:cNvSpPr>
          <p:nvPr>
            <p:ph type="sldNum" idx="3"/>
          </p:nvPr>
        </p:nvSpPr>
        <p:spPr/>
        <p:txBody>
          <a:bodyPr/>
          <a:p>
            <a:fld id="{432D53D1-BADD-40B6-B7EF-6F71B1E89A97}" type="slidenum">
              <a:t>10</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3 MAC Committee Activities Planned for the Interval Leading Up To the Portland Plenary </a:t>
            </a:r>
            <a:r>
              <a:rPr b="0" lang="en-US" sz="2800" spc="-1" strike="noStrike">
                <a:solidFill>
                  <a:srgbClr val="000000"/>
                </a:solidFill>
                <a:latin typeface="Times New Roman"/>
              </a:rPr>
              <a:t>cont</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3.6 Security Parms Claus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g Rasor to author w/ input from B. Arbaugh and the Security committe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 Security/Privacy Claus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g Rasor to author w/ input from B. Arbaugh and the Security committe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SCs and a high level 15.3 SDL Model for the Portland Plenar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Heberling to autho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Allen D. Heberling, XtremeSpectrum</a:t>
            </a:r>
          </a:p>
        </p:txBody>
      </p:sp>
      <p:sp>
        <p:nvSpPr>
          <p:cNvPr id="5" name="PlaceHolder 4"/>
          <p:cNvSpPr>
            <a:spLocks noGrp="1"/>
          </p:cNvSpPr>
          <p:nvPr>
            <p:ph type="sldNum" idx="3"/>
          </p:nvPr>
        </p:nvSpPr>
        <p:spPr/>
        <p:txBody>
          <a:bodyPr/>
          <a:p>
            <a:fld id="{A9215D74-B53F-422E-988B-C79FBCD9F88B}" type="slidenum">
              <a:t>11</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ill Unassigned:</a:t>
            </a:r>
            <a:endParaRPr b="0" lang="en-US" sz="36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5 Frag and De-Frag (SAR) Clau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11 Tx Power Control Clau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3.8 Tx Power Control Parms Claus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llen D. Heberling, XtremeSpectrum</a:t>
            </a:r>
          </a:p>
        </p:txBody>
      </p:sp>
      <p:sp>
        <p:nvSpPr>
          <p:cNvPr id="5" name="PlaceHolder 4"/>
          <p:cNvSpPr>
            <a:spLocks noGrp="1"/>
          </p:cNvSpPr>
          <p:nvPr>
            <p:ph type="sldNum" idx="3"/>
          </p:nvPr>
        </p:nvSpPr>
        <p:spPr/>
        <p:txBody>
          <a:bodyPr/>
          <a:p>
            <a:fld id="{B1827BC6-27D8-49BE-A073-A32717FC4CA6}" type="slidenum">
              <a:t>12</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3 MAC Committee Plan for the Time Interval Leading up to Portland</a:t>
            </a:r>
            <a:endParaRPr b="0" lang="en-US" sz="3600" spc="-1" strike="noStrike">
              <a:solidFill>
                <a:srgbClr val="000000"/>
              </a:solidFill>
              <a:latin typeface="Times New Roman"/>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llen D. Heberling, XtremeSpectrum</a:t>
            </a:r>
          </a:p>
        </p:txBody>
      </p:sp>
      <p:sp>
        <p:nvSpPr>
          <p:cNvPr id="5" name="PlaceHolder 4"/>
          <p:cNvSpPr>
            <a:spLocks noGrp="1"/>
          </p:cNvSpPr>
          <p:nvPr>
            <p:ph type="sldNum" idx="3"/>
          </p:nvPr>
        </p:nvSpPr>
        <p:spPr/>
        <p:txBody>
          <a:bodyPr/>
          <a:p>
            <a:fld id="{C1FD6AF1-EECA-4483-B19B-40E1BE69BC0C}" type="slidenum">
              <a:t>2</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verview</a:t>
            </a:r>
            <a:endParaRPr b="0" lang="en-US" sz="36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holes in D0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G3 MAC Activities planned for the time interval leading up to the Portland Plenar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llen D. Heberling, XtremeSpectrum</a:t>
            </a:r>
          </a:p>
        </p:txBody>
      </p:sp>
      <p:sp>
        <p:nvSpPr>
          <p:cNvPr id="5" name="PlaceHolder 4"/>
          <p:cNvSpPr>
            <a:spLocks noGrp="1"/>
          </p:cNvSpPr>
          <p:nvPr>
            <p:ph type="sldNum" idx="3"/>
          </p:nvPr>
        </p:nvSpPr>
        <p:spPr/>
        <p:txBody>
          <a:bodyPr/>
          <a:p>
            <a:fld id="{92046404-B012-469B-907F-F1520CAA1152}" type="slidenum">
              <a:t>3</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jor Holes in D04</a:t>
            </a:r>
            <a:endParaRPr b="0" lang="en-US" sz="36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3.x.y MLME-Channel-Time.req/ind/rsp/confirm</a:t>
            </a:r>
            <a:endParaRPr b="0" lang="en-US" sz="3200" spc="-1" strike="noStrike">
              <a:solidFill>
                <a:srgbClr val="000000"/>
              </a:solidFill>
              <a:latin typeface="Arial"/>
            </a:endParaRPr>
          </a:p>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3.x.y MLME-CoordHndOvr.req/ind/confirm</a:t>
            </a:r>
            <a:endParaRPr b="0" lang="en-US" sz="3200" spc="-1" strike="noStrike">
              <a:solidFill>
                <a:srgbClr val="000000"/>
              </a:solidFill>
              <a:latin typeface="Arial"/>
            </a:endParaRPr>
          </a:p>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3.x.y MLME-StreamConnect.req/ind/confirm</a:t>
            </a:r>
            <a:endParaRPr b="0" lang="en-US" sz="3200" spc="-1" strike="noStrike">
              <a:solidFill>
                <a:srgbClr val="000000"/>
              </a:solidFill>
              <a:latin typeface="Arial"/>
            </a:endParaRPr>
          </a:p>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3.x.y MLME-StreamDisconnect.req/ind/confirm</a:t>
            </a:r>
            <a:endParaRPr b="0" lang="en-US" sz="3200" spc="-1" strike="noStrike">
              <a:solidFill>
                <a:srgbClr val="000000"/>
              </a:solidFill>
              <a:latin typeface="Arial"/>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llen D. Heberling, XtremeSpectrum</a:t>
            </a:r>
          </a:p>
        </p:txBody>
      </p:sp>
      <p:sp>
        <p:nvSpPr>
          <p:cNvPr id="5" name="PlaceHolder 4"/>
          <p:cNvSpPr>
            <a:spLocks noGrp="1"/>
          </p:cNvSpPr>
          <p:nvPr>
            <p:ph type="sldNum" idx="3"/>
          </p:nvPr>
        </p:nvSpPr>
        <p:spPr/>
        <p:txBody>
          <a:bodyPr/>
          <a:p>
            <a:fld id="{49690D7A-8EF3-40B8-ABBB-8B44E119EF0F}" type="slidenum">
              <a:t>4</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jor Holes in D04 continued…</a:t>
            </a:r>
            <a:endParaRPr b="0" lang="en-US" sz="36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3.x.y MLME-Repeater.req/ind/confir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3.x.y MLME-ChannelStatus.req/ind/confir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3.6 Security Parms Clau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3.7 Power Management Parms Clau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3.8 Tx Power Control Parms Clause</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llen D. Heberling, XtremeSpectrum</a:t>
            </a:r>
          </a:p>
        </p:txBody>
      </p:sp>
      <p:sp>
        <p:nvSpPr>
          <p:cNvPr id="5" name="PlaceHolder 4"/>
          <p:cNvSpPr>
            <a:spLocks noGrp="1"/>
          </p:cNvSpPr>
          <p:nvPr>
            <p:ph type="sldNum" idx="3"/>
          </p:nvPr>
        </p:nvSpPr>
        <p:spPr/>
        <p:txBody>
          <a:bodyPr/>
          <a:p>
            <a:fld id="{2F63D519-F4D0-4E27-8511-72608D82CAC8}" type="slidenum">
              <a:t>5</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jor Holes in D04 continued…</a:t>
            </a:r>
            <a:endParaRPr b="0" lang="en-US" sz="36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5 Frag and De-Frag (SAR) Clau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10 Power Management Clau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11 Tx Power Control Clau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12 Frame Xchng Clau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0 Security/Privacy Clau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ex A  15.3 MAC SDL Model</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llen D. Heberling, XtremeSpectrum</a:t>
            </a:r>
          </a:p>
        </p:txBody>
      </p:sp>
      <p:sp>
        <p:nvSpPr>
          <p:cNvPr id="5" name="PlaceHolder 4"/>
          <p:cNvSpPr>
            <a:spLocks noGrp="1"/>
          </p:cNvSpPr>
          <p:nvPr>
            <p:ph type="sldNum" idx="3"/>
          </p:nvPr>
        </p:nvSpPr>
        <p:spPr/>
        <p:txBody>
          <a:bodyPr/>
          <a:p>
            <a:fld id="{E979701C-9BC1-4FDF-A89E-B7E353616959}" type="slidenum">
              <a:t>6</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3 MAC Committee Activities Planned for the Interval Leading Up To the Portland Plenary:</a:t>
            </a:r>
            <a:endParaRPr b="0" lang="en-US" sz="36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 Conference Calls Scheduled</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es: 5/29, 6/5, 6/12, 6/19, 6/26</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rpose:</a:t>
            </a:r>
            <a:endParaRPr b="0" lang="en-US" sz="2800" spc="-1" strike="noStrike">
              <a:solidFill>
                <a:srgbClr val="000000"/>
              </a:solidFill>
              <a:latin typeface="Arial"/>
            </a:endParaRPr>
          </a:p>
          <a:p>
            <a:pPr lvl="2" marL="108576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a date and location (tentative DC area) for a MAC ad-hoc meeting 30 days from end of Orlando meeting. </a:t>
            </a:r>
            <a:endParaRPr b="0" lang="en-US" sz="2400" spc="-1" strike="noStrike">
              <a:solidFill>
                <a:srgbClr val="000000"/>
              </a:solidFill>
              <a:latin typeface="Arial"/>
            </a:endParaRPr>
          </a:p>
          <a:p>
            <a:pPr lvl="2" marL="108576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report progress </a:t>
            </a:r>
            <a:endParaRPr b="0" lang="en-US" sz="2400" spc="-1" strike="noStrike">
              <a:solidFill>
                <a:srgbClr val="000000"/>
              </a:solidFill>
              <a:latin typeface="Arial"/>
            </a:endParaRPr>
          </a:p>
          <a:p>
            <a:pPr lvl="2" marL="108576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e resolving open issues</a:t>
            </a:r>
            <a:endParaRPr b="0" lang="en-US" sz="2400" spc="-1" strike="noStrike">
              <a:solidFill>
                <a:srgbClr val="000000"/>
              </a:solidFill>
              <a:latin typeface="Arial"/>
            </a:endParaRPr>
          </a:p>
          <a:p>
            <a:pPr lvl="2" marL="108576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ion of Amendments for inclusion into D0.6,  one week prior to Portland Plenary</a:t>
            </a:r>
            <a:endParaRPr b="0" lang="en-US" sz="24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llen D. Heberling, XtremeSpectrum</a:t>
            </a:r>
          </a:p>
        </p:txBody>
      </p:sp>
      <p:sp>
        <p:nvSpPr>
          <p:cNvPr id="5" name="PlaceHolder 4"/>
          <p:cNvSpPr>
            <a:spLocks noGrp="1"/>
          </p:cNvSpPr>
          <p:nvPr>
            <p:ph type="sldNum" idx="3"/>
          </p:nvPr>
        </p:nvSpPr>
        <p:spPr/>
        <p:txBody>
          <a:bodyPr/>
          <a:p>
            <a:fld id="{9377339F-5593-490A-859F-C422996BAD86}" type="slidenum">
              <a:t>7</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3 MAC Committee Activities Planned for the Interval Leading Up To the Portland Plenary:</a:t>
            </a:r>
            <a:endParaRPr b="0" lang="en-US" sz="36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pare or Complete these claus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3.x.y MLME-Channel-Time.req/ind/rsp/confir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3.x.y MLME-CoordHndOvr.req/ind/confir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3.x.y MLME-StreamConnect.req/ind/confir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3.x.y MLME-StreamDisconnect.req/ind/confirm</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Allen D. Heberling, XtremeSpectrum</a:t>
            </a:r>
          </a:p>
        </p:txBody>
      </p:sp>
      <p:sp>
        <p:nvSpPr>
          <p:cNvPr id="5" name="PlaceHolder 4"/>
          <p:cNvSpPr>
            <a:spLocks noGrp="1"/>
          </p:cNvSpPr>
          <p:nvPr>
            <p:ph type="sldNum" idx="3"/>
          </p:nvPr>
        </p:nvSpPr>
        <p:spPr/>
        <p:txBody>
          <a:bodyPr/>
          <a:p>
            <a:fld id="{25CD3149-9B2A-4BE7-8B42-AE556482B773}" type="slidenum">
              <a:t>8</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3 MAC Committee Activities Planned for the Interval Leading Up To the Portland Plenary:</a:t>
            </a:r>
            <a:endParaRPr b="0" lang="en-US" sz="36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3.x.y MLME-Repeater.req/ind/confir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3.x.y MLME-ChannelStatus.req/ind/confirm</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 Roberts to author w/ inputs from staff.</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Allen D. Heberling, XtremeSpectrum</a:t>
            </a:r>
          </a:p>
        </p:txBody>
      </p:sp>
      <p:sp>
        <p:nvSpPr>
          <p:cNvPr id="5" name="PlaceHolder 4"/>
          <p:cNvSpPr>
            <a:spLocks noGrp="1"/>
          </p:cNvSpPr>
          <p:nvPr>
            <p:ph type="sldNum" idx="3"/>
          </p:nvPr>
        </p:nvSpPr>
        <p:spPr/>
        <p:txBody>
          <a:bodyPr/>
          <a:p>
            <a:fld id="{4464EB21-7B69-4836-B5C2-698F5CE83294}" type="slidenum">
              <a:t>9</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13T23:29:32Z</dcterms:created>
  <dc:creator>Allen Heberling</dc:creator>
  <dc:description>IEEE 802.15.3-01/237r0</dc:description>
  <dc:language>en-US</dc:language>
  <cp:lastModifiedBy>aheberl</cp:lastModifiedBy>
  <cp:lastPrinted>1998-02-10T13:28:06Z</cp:lastPrinted>
  <dcterms:modified xsi:type="dcterms:W3CDTF">2001-05-17T16:14:46Z</dcterms:modified>
  <cp:revision>155</cp:revision>
  <dc:subject>IEEE 802.15.3 TG3 MAC Committee Plan Leading into Portland</dc:subject>
  <dc:title>TG3 MAC Committee Plan Leading into Portland</dc:title>
</cp:coreProperties>
</file>