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10B-DF65-4279-B893-23A8B164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19B-3D11-49AC-95BB-D5C7FE9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2EE-1C83-4E6E-8210-FC18BBFA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BCE-CCD6-4A7E-87FB-72C46304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133-2F0E-4397-A109-4C948194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6FE-08A2-4081-BCCC-AC14C53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DC3-B4BE-4DE4-AD76-0F502446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058-402B-463C-AB60-03AA449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E1A-FB85-46AB-940E-B7BE7F10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07B-1BED-4277-B118-6D9F3B28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0D5-16DD-48DB-BCB7-E663CF3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C35-F1AA-42F9-9411-136079AF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2AE946-3909-4C12-B6EE-EE118F77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Wireless Coexistence Group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0280" y="3581280"/>
            <a:ext cx="592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, IEEE 802 Coexistence Stud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.Lansford@mobilia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05) 377-61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CC7-6A84-4AB7-B972-5804AB33713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le of this S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organizations go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*** won straw poll 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of SG (summary and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orks on the re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/when do we meet/conf 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---is July realis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D96-12C9-45AA-AE09-08F1177833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y/editor and liaisons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w poll indicated strong support for a Coexistence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xSG will have initial conference call in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distribution to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gin work on bylaws/operat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 to research pri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624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eed to determine how TAG gets call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ence will be sent to 11/15/17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reflec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will be to have draft of operating rules by Port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fied by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ized and published there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24B-58C5-4E0B-89DA-063826F118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is becoming increasingly important in IEEE 802 wireles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udy will recommend to ExCom the policies and procedures for future wireles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coordinated with ExCom 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61C-0C81-4867-B8A8-C53DFAC5F4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lection of secretary/edi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resentation on proposed tasks for study group (Ji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Organization (liaisons from 11, 15, 16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Tas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- Feedback (organization/membership of SG?, Creation of reflector?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ction plan to have SG complete work by Portla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irds of a Feather" Ses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May, 6:30-??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view Afternoon session, including feed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olicit feedback on organizational det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view 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0040" y="58672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al of agenda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D03-89DD-4C58-89B2-390C2AD69B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 selection – Tim Bla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 – tabled fo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– Stuart K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– Bob H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- David Chaunc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A9D-7AFA-452C-A87D-F9A7FC0323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purpose (Recommend to ExCom how IEEE 802 should address coexistence in existing and future spe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current standards where coexistence i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already underway (e.g., 802.15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ways ExCom can go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Group (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of SG (summary and rep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5EC-EC70-4854-BEF1-DE03E6CC6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 of 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of the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functional charter of this new group to best address the wireless coexiste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n organization to best accomplish (New WG, Joint TG, TAG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96F-0A6B-488C-9F8A-EC9800490C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802.15 became a Working Group it was required to “Coexist” with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ad to the formation 802.15 Task Group 2 on Coexistence of WLAN and WPAN devices in unlicensed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Coexiste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existence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D14-7771-4198-B9EC-0B2B54DD8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1 formed the 5 GHz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Harmonize all the 5 GHz WLANs (802.11a, HiperLAN2, MMAC) into a single worldwide 5GHz WLAN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inimum, ensure that the systems coex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DEE-89C6-4661-BB17-0620FD9E91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802.16 formed the Wireless HuMAN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Broadband Access in Unlicensed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8B2-9417-4798-97CB-09971AEED9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5 TG2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1 5GSG unchanged so they can continue working on their specific task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802.16 un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87E-3C73-4C9F-901C-93C6481209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Jim Lansford</dc:creator>
  <dc:description/>
  <dc:language>en-US</dc:language>
  <cp:lastModifiedBy>Jim Lansford</cp:lastModifiedBy>
  <cp:lastPrinted>2000-09-20T20:30:42Z</cp:lastPrinted>
  <dcterms:modified xsi:type="dcterms:W3CDTF">2001-05-16T17:34:27Z</dcterms:modified>
  <cp:revision>312</cp:revision>
  <dc:subject>Coexistence SG Kickoff</dc:subject>
  <dc:title>IEEE 802 Coexistence SG</dc:title>
</cp:coreProperties>
</file>