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80D5F-B3AF-41BA-8AE0-259FB22FE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713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371240"/>
            <a:ext cx="77724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8982F-CBDB-4607-87AE-BC451D087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713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FDFE0-AD2F-4CAD-9B8F-0DF860893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713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37124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37124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37124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383904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383904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3839040"/>
            <a:ext cx="250236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4FF95-158A-4728-B726-6C0EDE371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713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DBE10-07B1-4B97-B716-EDCA2F010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713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01FCE-8E51-4824-AFB9-060318C60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713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8C3DD-B696-4A09-B154-87CC93661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713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9E13C-CB28-44E8-AE5C-1864E1977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CE00F-1FA1-46CE-BFDC-3C68BE528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713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371240"/>
            <a:ext cx="37926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383904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01E26-0E39-4C23-8D53-B89180687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713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371240"/>
            <a:ext cx="3792600" cy="4724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383904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E5F4E-1FB7-4865-8C42-44B495BB9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7132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37124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371240"/>
            <a:ext cx="37926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3839040"/>
            <a:ext cx="7772400" cy="2253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B65B6-1EA6-4A9E-8B5B-7787F14D2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22C5DB-17F6-4F05-83E4-B92769F5F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839200" y="396000"/>
            <a:ext cx="26265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1/29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for a permanent Radio Regulations Group</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802.11 ad-hoc Regulatory group with participation from 802.15 and 802.16 membe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g. ad-hoc</a:t>
            </a:r>
          </a:p>
        </p:txBody>
      </p:sp>
      <p:sp>
        <p:nvSpPr>
          <p:cNvPr id="5" name="PlaceHolder 4"/>
          <p:cNvSpPr>
            <a:spLocks noGrp="1"/>
          </p:cNvSpPr>
          <p:nvPr>
            <p:ph type="sldNum" idx="3"/>
          </p:nvPr>
        </p:nvSpPr>
        <p:spPr/>
        <p:txBody>
          <a:bodyPr/>
          <a:p>
            <a:fld id="{D838B295-FFC8-45C1-91BC-4A98BBAC4B7D}" type="slidenum">
              <a:t>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ablishment of the RR TAG</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d-hoc RR group requests the approval of the RWGs for the establishment of the RR TAG proposed operation and rules chang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g. ad-hoc</a:t>
            </a:r>
          </a:p>
        </p:txBody>
      </p:sp>
      <p:sp>
        <p:nvSpPr>
          <p:cNvPr id="5" name="PlaceHolder 4"/>
          <p:cNvSpPr>
            <a:spLocks noGrp="1"/>
          </p:cNvSpPr>
          <p:nvPr>
            <p:ph type="sldNum" idx="3"/>
          </p:nvPr>
        </p:nvSpPr>
        <p:spPr/>
        <p:txBody>
          <a:bodyPr/>
          <a:p>
            <a:fld id="{C08CB042-DDE4-42F2-AA68-73C7B6402D36}" type="slidenum">
              <a:t>1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chnical Advisory Group like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minimum meeting sche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channel to Radio Regulatory Agencies for LMS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quire Radio Working Groups approv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g. ad-hoc</a:t>
            </a:r>
          </a:p>
        </p:txBody>
      </p:sp>
      <p:sp>
        <p:nvSpPr>
          <p:cNvPr id="5" name="PlaceHolder 4"/>
          <p:cNvSpPr>
            <a:spLocks noGrp="1"/>
          </p:cNvSpPr>
          <p:nvPr>
            <p:ph type="sldNum" idx="3"/>
          </p:nvPr>
        </p:nvSpPr>
        <p:spPr/>
        <p:txBody>
          <a:bodyPr/>
          <a:p>
            <a:fld id="{D9564B1B-0D8A-46EA-9E21-DB996D4ADA5D}" type="slidenum">
              <a:t>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ed new LMSC group</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G without TAG related membership but Working Group based membership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is </a:t>
            </a:r>
            <a:r>
              <a:rPr b="1" lang="en-GB" sz="3200" spc="-1" strike="noStrike">
                <a:solidFill>
                  <a:srgbClr val="000000"/>
                </a:solidFill>
                <a:latin typeface="Times New Roman"/>
              </a:rPr>
              <a:t>Radio Regulations TAG (RR TA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unction is to interface between Radio related Working Groups (RWGs) and the Radio Regulations and Spectrum Management Bod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g. ad-hoc</a:t>
            </a:r>
          </a:p>
        </p:txBody>
      </p:sp>
      <p:sp>
        <p:nvSpPr>
          <p:cNvPr id="5" name="PlaceHolder 4"/>
          <p:cNvSpPr>
            <a:spLocks noGrp="1"/>
          </p:cNvSpPr>
          <p:nvPr>
            <p:ph type="sldNum" idx="3"/>
          </p:nvPr>
        </p:nvSpPr>
        <p:spPr/>
        <p:txBody>
          <a:bodyPr/>
          <a:p>
            <a:fld id="{8FBCEA02-06DF-4CB6-8562-8F5CDF6A661F}" type="slidenum">
              <a:t>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 of RR TAG</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oduce draft position statements for the Working Groups responsible for producing standards for Radio devices (RWG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ntain the contacts and know the processes for interaction with radio regulatory and spectrum management bod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act as the only channel between RWGs and Regulatory agencies and spectrum management bod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coordinate spectrum sharing issues between 802 devices and other devic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eg. ad-hoc</a:t>
            </a:r>
          </a:p>
        </p:txBody>
      </p:sp>
      <p:sp>
        <p:nvSpPr>
          <p:cNvPr id="5" name="PlaceHolder 4"/>
          <p:cNvSpPr>
            <a:spLocks noGrp="1"/>
          </p:cNvSpPr>
          <p:nvPr>
            <p:ph type="sldNum" idx="3"/>
          </p:nvPr>
        </p:nvSpPr>
        <p:spPr/>
        <p:txBody>
          <a:bodyPr/>
          <a:p>
            <a:fld id="{8073260E-07DB-4074-A32A-1830C5C9CF8E}" type="slidenum">
              <a:t>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es requiremen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 change to LMSC Operating procedures to divide clause 5.2 point e into 2 part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as is for a TAG with TAG membership</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as for a TAG with membership from Working Groups</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 for the RR TAG</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be proposed by ad-hoc RR group</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be approved by the Radio Related Working Group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eg. ad-hoc</a:t>
            </a:r>
          </a:p>
        </p:txBody>
      </p:sp>
      <p:sp>
        <p:nvSpPr>
          <p:cNvPr id="5" name="PlaceHolder 4"/>
          <p:cNvSpPr>
            <a:spLocks noGrp="1"/>
          </p:cNvSpPr>
          <p:nvPr>
            <p:ph type="sldNum" idx="3"/>
          </p:nvPr>
        </p:nvSpPr>
        <p:spPr/>
        <p:txBody>
          <a:bodyPr/>
          <a:p>
            <a:fld id="{3C45B909-5F01-43E6-B6FE-85DCD4033000}" type="slidenum">
              <a:t>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d rules change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the rules of a TAG (5.2) with the following exception:</a:t>
            </a:r>
            <a:endParaRPr b="0" lang="en-US" sz="32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isting rule point e</a:t>
            </a:r>
            <a:endParaRPr b="0" lang="en-US" sz="2400" spc="-1" strike="noStrike">
              <a:solidFill>
                <a:srgbClr val="000000"/>
              </a:solidFill>
              <a:latin typeface="Times New Roman"/>
            </a:endParaRPr>
          </a:p>
          <a:p>
            <a:pPr lvl="2" marL="104220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ny report generated by a TAG that is forwarded to any Working Group in the name of the TAG, needs to get a 75% approval vote of the TAG members present who vote “Approve” and “Do Not Approve”.</a:t>
            </a:r>
            <a:endParaRPr b="0" lang="en-US" sz="2000" spc="-1" strike="noStrike">
              <a:solidFill>
                <a:srgbClr val="000000"/>
              </a:solidFill>
              <a:latin typeface="Times New Roman"/>
            </a:endParaRPr>
          </a:p>
          <a:p>
            <a:pPr lvl="1" marL="71316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ied rule point e</a:t>
            </a:r>
            <a:endParaRPr b="0" lang="en-US" sz="2800" spc="-1" strike="noStrike">
              <a:solidFill>
                <a:srgbClr val="000000"/>
              </a:solidFill>
              <a:latin typeface="Times New Roman"/>
            </a:endParaRPr>
          </a:p>
          <a:p>
            <a:pPr lvl="2" marL="1042200" indent="-21924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ions of the TAG are taken based on majority votes of the Members of each Radio related Working Group and the tallies shall be reported</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mmunications related to Radio regulations and Spectrum Management shall go through the RR TA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eg. ad-hoc</a:t>
            </a:r>
          </a:p>
        </p:txBody>
      </p:sp>
      <p:sp>
        <p:nvSpPr>
          <p:cNvPr id="5" name="PlaceHolder 4"/>
          <p:cNvSpPr>
            <a:spLocks noGrp="1"/>
          </p:cNvSpPr>
          <p:nvPr>
            <p:ph type="sldNum" idx="3"/>
          </p:nvPr>
        </p:nvSpPr>
        <p:spPr/>
        <p:txBody>
          <a:bodyPr/>
          <a:p>
            <a:fld id="{5AD68588-3A71-40AA-90B6-ABB8CA949712}" type="slidenum">
              <a:t>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s of each of the RWGs present will vote for each action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allies by RWG will be part of the report</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RWG decides whether it will approve submission of proposed papers prepared by the RR TAG, at which time they will be mentioned as the (co-) sourc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pport of LMSC will be sought when a majority of the RWGs approve a position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g. ad-hoc</a:t>
            </a:r>
          </a:p>
        </p:txBody>
      </p:sp>
      <p:sp>
        <p:nvSpPr>
          <p:cNvPr id="5" name="PlaceHolder 4"/>
          <p:cNvSpPr>
            <a:spLocks noGrp="1"/>
          </p:cNvSpPr>
          <p:nvPr>
            <p:ph type="sldNum" idx="3"/>
          </p:nvPr>
        </p:nvSpPr>
        <p:spPr/>
        <p:txBody>
          <a:bodyPr/>
          <a:p>
            <a:fld id="{5FFC1FA3-D7F2-401D-A245-E9145925F456}" type="slidenum">
              <a:t>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RWG appoints a mutual Liaison to the RR T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iaison will bring requests for RR TAG actions and report resul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ported results will be subject to appropriate action of the RWG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g. ad-hoc</a:t>
            </a:r>
          </a:p>
        </p:txBody>
      </p:sp>
      <p:sp>
        <p:nvSpPr>
          <p:cNvPr id="5" name="PlaceHolder 4"/>
          <p:cNvSpPr>
            <a:spLocks noGrp="1"/>
          </p:cNvSpPr>
          <p:nvPr>
            <p:ph type="sldNum" idx="3"/>
          </p:nvPr>
        </p:nvSpPr>
        <p:spPr/>
        <p:txBody>
          <a:bodyPr/>
          <a:p>
            <a:fld id="{A9E627DE-B1DE-465C-840C-9B416884319D}" type="slidenum">
              <a:t>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Meeting schedule</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R TAG shall have the following fixed, minimum, meeting schedule:</a:t>
            </a:r>
            <a:endParaRPr b="0" lang="en-US" sz="2800" spc="-1" strike="noStrike">
              <a:solidFill>
                <a:srgbClr val="000000"/>
              </a:solidFill>
              <a:latin typeface="Times New Roman"/>
            </a:endParaRPr>
          </a:p>
          <a:p>
            <a:pPr lvl="1" marL="720720" indent="-27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day 15:30-17:30</a:t>
            </a:r>
            <a:endParaRPr b="0" lang="en-US" sz="2400" spc="-1" strike="noStrike">
              <a:solidFill>
                <a:srgbClr val="000000"/>
              </a:solidFill>
              <a:latin typeface="Times New Roman"/>
            </a:endParaRPr>
          </a:p>
          <a:p>
            <a:pPr lvl="1" marL="720720" indent="-27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uesday 15:30-17:30</a:t>
            </a:r>
            <a:endParaRPr b="0" lang="en-US" sz="2400" spc="-1" strike="noStrike">
              <a:solidFill>
                <a:srgbClr val="000000"/>
              </a:solidFill>
              <a:latin typeface="Times New Roman"/>
            </a:endParaRPr>
          </a:p>
          <a:p>
            <a:pPr lvl="1" marL="720720" indent="-27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dnesday 13:00 - 15:00 a ”Wireless Technical Plenary" for the RWGs (No other wireless meetings that have regulatory impact scheduled for this slot)</a:t>
            </a:r>
            <a:endParaRPr b="0" lang="en-US" sz="2400" spc="-1" strike="noStrike">
              <a:solidFill>
                <a:srgbClr val="000000"/>
              </a:solidFill>
              <a:latin typeface="Times New Roman"/>
            </a:endParaRPr>
          </a:p>
          <a:p>
            <a:pPr lvl="1" marL="720720" indent="-277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rsday 13:00 - 15:00 as a final prep for WG Plenaries.</a:t>
            </a:r>
            <a:endParaRPr b="0" lang="en-US" sz="2400" spc="-1" strike="noStrike">
              <a:solidFill>
                <a:srgbClr val="000000"/>
              </a:solidFill>
              <a:latin typeface="Times New Roman"/>
            </a:endParaRPr>
          </a:p>
          <a:p>
            <a:pPr marL="332640" indent="-3326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ixed RR TAG schedule shall be on the schedule for each RWG and shall be such that the number of parallel tracks for the RWG is not beyond the number of tracks at any other meeting slot of the W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eg. ad-hoc</a:t>
            </a:r>
          </a:p>
        </p:txBody>
      </p:sp>
      <p:sp>
        <p:nvSpPr>
          <p:cNvPr id="5" name="PlaceHolder 4"/>
          <p:cNvSpPr>
            <a:spLocks noGrp="1"/>
          </p:cNvSpPr>
          <p:nvPr>
            <p:ph type="sldNum" idx="3"/>
          </p:nvPr>
        </p:nvSpPr>
        <p:spPr/>
        <p:txBody>
          <a:bodyPr/>
          <a:p>
            <a:fld id="{ADE0F407-530E-404B-A13D-C8F9A44C7969}" type="slidenum">
              <a:t>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2:17:11Z</dcterms:created>
  <dc:creator>Vic Hayes</dc:creator>
  <dc:description/>
  <dc:language>en-US</dc:language>
  <cp:lastModifiedBy>Vic Hayes</cp:lastModifiedBy>
  <cp:lastPrinted>1998-02-10T13:28:06Z</cp:lastPrinted>
  <dcterms:modified xsi:type="dcterms:W3CDTF">2001-05-16T16:27:30Z</dcterms:modified>
  <cp:revision>6</cp:revision>
  <dc:subject/>
  <dc:title>Proposed new LMSC group</dc:title>
</cp:coreProperties>
</file>