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194CE-C2F0-4106-8F39-7C4C7EA1C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4CA5A-360F-499A-B39A-734AE47BC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CCB78-5597-4021-A8DB-ADC82C1F6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E581A-ECD7-4276-9185-7ECCF90D0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28A28-401A-49C1-924C-B969ACB0E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77E2E-B47A-48F4-ADD6-FE5FEB2FC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B1150-7EFB-47A7-9CFA-DA63E57A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2F5A6-7B95-4C57-ADDF-0867D7DD3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840DE-4EA1-4CF7-AD7A-AC49E5923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9A05E-8933-48C6-8B22-17B335978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C789F-9A4C-489D-9CF3-06A312BA6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5C57E-C84F-4D6E-887C-9FD12285E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804CC9-8E26-4D45-AA0A-B247CC82C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17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71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Draft-Standard</a:t>
            </a:r>
            <a:r>
              <a:rPr b="0" lang="en-US" sz="1600" spc="-1" strike="noStrike">
                <a:solidFill>
                  <a:srgbClr val="000000"/>
                </a:solidFill>
                <a:latin typeface="Times New Roman"/>
              </a:rPr>
              <a:t>-May-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4 Ma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217-2201</a:t>
            </a:r>
            <a:r>
              <a:rPr b="0" lang="en-US" sz="1600" spc="-1" strike="noStrike">
                <a:solidFill>
                  <a:srgbClr val="000000"/>
                </a:solidFill>
                <a:latin typeface="Times New Roman"/>
              </a:rPr>
              <a:t>], FAX: [</a:t>
            </a:r>
            <a:r>
              <a:rPr b="0" lang="en-US" sz="1600" spc="-1" strike="noStrike">
                <a:solidFill>
                  <a:srgbClr val="000000"/>
                </a:solidFill>
                <a:latin typeface="Times New Roman"/>
              </a:rPr>
              <a:t>1-858-217-2301</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 summary of the work accomplished for the draft standard during the Monterey interim meet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ocument the work accomplished for the draft stand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8264346-124C-4FC3-BFD4-30F662A98126}"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d03 and d04 released</a:t>
            </a:r>
            <a:endParaRPr b="0" lang="en-US" sz="3600" spc="-1" strike="noStrike">
              <a:solidFill>
                <a:srgbClr val="000000"/>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d03, 00000d03P802-15-3</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most of the ammendments from Hilton Head applied</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documents P802.15-01/165r2, P802.15-01/166r2 and P802.15-01/167r2</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ammendments need to be added to the issues lis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d04, 00000d04P802-15-3</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updates from d03, please read careful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cool hyperlink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88D8A9C-28EF-464F-8CDE-657E33510440}"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ents on d04</a:t>
            </a:r>
            <a:endParaRPr b="0" lang="en-US" sz="3600" spc="-1" strike="noStrike">
              <a:solidFill>
                <a:srgbClr val="000000"/>
              </a:solidFill>
              <a:latin typeface="Arial"/>
            </a:endParaRPr>
          </a:p>
        </p:txBody>
      </p:sp>
      <p:sp>
        <p:nvSpPr>
          <p:cNvPr id="49"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 Siep will present suggested procedure Monday afterno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mes Gilb will provide updated procedure by end of Orland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erence is electronic submission via document TB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X, snail mail, personal delivery is OK too.</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828134A-2B31-47A3-B92F-46D5511AF29A}"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ture Plans</a:t>
            </a:r>
            <a:endParaRPr b="0" lang="en-US" sz="3600" spc="-1" strike="noStrike">
              <a:solidFill>
                <a:srgbClr val="000000"/>
              </a:solidFill>
              <a:latin typeface="Arial"/>
            </a:endParaRPr>
          </a:p>
        </p:txBody>
      </p:sp>
      <p:sp>
        <p:nvSpPr>
          <p:cNvPr id="51" name="PlaceHolder 2"/>
          <p:cNvSpPr>
            <a:spLocks noGrp="1"/>
          </p:cNvSpPr>
          <p:nvPr>
            <p:ph/>
          </p:nvPr>
        </p:nvSpPr>
        <p:spPr>
          <a:xfrm>
            <a:off x="685800" y="1600200"/>
            <a:ext cx="777240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d05, 00000d05P802-15-3</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mmendments from Orlan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request formal comments via a limited perio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work on format, spelling,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ore to the bibliography</a:t>
            </a:r>
            <a:endParaRPr b="0" lang="en-US" sz="24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bliograph is informative, but helpful to implementers</a:t>
            </a:r>
            <a:endParaRPr b="0" lang="en-US" sz="20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send suggestions to JPKG</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d06, 00000d06P802-15-3</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material and clarifica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pefully reduce number of oustanding issu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draft for letter ballo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2C51F0F-33BB-4D7A-A998-AFC013ECC170}"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P. K. Gilb</dc:creator>
  <dc:description>IEEE 802.15-01/30r0</dc:description>
  <dc:language>en-US</dc:language>
  <cp:lastModifiedBy>Robert F.  Heile</cp:lastModifiedBy>
  <cp:lastPrinted>1998-02-10T13:28:06Z</cp:lastPrinted>
  <dcterms:modified xsi:type="dcterms:W3CDTF">2001-05-15T12:12:58Z</dcterms:modified>
  <cp:revision>63</cp:revision>
  <dc:subject>IEEE 802.15 TG3 Draft Standard Report</dc:subject>
  <dc:title>Draft Standard Monterey Reoprt</dc:title>
</cp:coreProperties>
</file>