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0.wmf" ContentType="image/x-wmf"/>
  <Override PartName="/ppt/media/image6.png" ContentType="image/png"/>
  <Override PartName="/ppt/media/image18.png" ContentType="image/png"/>
  <Override PartName="/ppt/media/image57.jpeg" ContentType="image/jpeg"/>
  <Override PartName="/ppt/media/image20.wmf" ContentType="image/x-wmf"/>
  <Override PartName="/ppt/media/image63.png" ContentType="image/png"/>
  <Override PartName="/ppt/media/image5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5.png" ContentType="image/png"/>
  <Override PartName="/ppt/media/image5.png" ContentType="image/png"/>
  <Override PartName="/ppt/media/image55.png" ContentType="image/png"/>
  <Override PartName="/ppt/media/image11.png" ContentType="image/png"/>
  <Override PartName="/ppt/media/image51.wmf" ContentType="image/x-wmf"/>
  <Override PartName="/ppt/media/image30.png" ContentType="image/png"/>
  <Override PartName="/ppt/media/image50.wmf" ContentType="image/x-wmf"/>
  <Override PartName="/ppt/media/image10.png" ContentType="image/png"/>
  <Override PartName="/ppt/media/image1.jpeg" ContentType="image/jpeg"/>
  <Override PartName="/ppt/media/image67.wmf" ContentType="image/x-wmf"/>
  <Override PartName="/ppt/media/image65.jpeg" ContentType="image/jpeg"/>
  <Override PartName="/ppt/media/image16.wmf" ContentType="image/x-wmf"/>
  <Override PartName="/ppt/media/image66.jpeg" ContentType="image/jpeg"/>
  <Override PartName="/ppt/media/image4.wmf" ContentType="image/x-wmf"/>
  <Override PartName="/ppt/media/image27.wmf" ContentType="image/x-wmf"/>
  <Override PartName="/ppt/media/image64.wmf" ContentType="image/x-wmf"/>
  <Override PartName="/ppt/media/image2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26.wmf" ContentType="image/x-wmf"/>
  <Override PartName="/ppt/media/image61.png" ContentType="image/png"/>
  <Override PartName="/ppt/media/image41.wmf" ContentType="image/x-wmf"/>
  <Override PartName="/ppt/media/image19.png" ContentType="image/png"/>
  <Override PartName="/ppt/media/image23.png" ContentType="image/png"/>
  <Override PartName="/ppt/media/image22.png" ContentType="image/png"/>
  <Override PartName="/ppt/media/image36.png" ContentType="image/png"/>
  <Override PartName="/ppt/media/image60.jpeg" ContentType="image/jpeg"/>
  <Override PartName="/ppt/media/image21.wmf" ContentType="image/x-wmf"/>
  <Override PartName="/ppt/media/image29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17.wmf" ContentType="image/x-wmf"/>
  <Override PartName="/ppt/media/image42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28.wmf" ContentType="image/x-wmf"/>
  <Override PartName="/ppt/media/image31.jpeg" ContentType="image/jpeg"/>
  <Override PartName="/ppt/media/image47.wmf" ContentType="image/x-wmf"/>
  <Override PartName="/ppt/media/image32.wmf" ContentType="image/x-wmf"/>
  <Override PartName="/ppt/media/image34.png" ContentType="image/png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49.wmf" ContentType="image/x-wmf"/>
  <Override PartName="/ppt/media/image56.jpeg" ContentType="image/jpeg"/>
  <Override PartName="/ppt/media/image53.png" ContentType="image/png"/>
  <Override PartName="/ppt/media/image58.jpeg" ContentType="image/jpeg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601200" cy="77724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9360" y="436932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148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87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81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393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87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81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20720" y="723600"/>
            <a:ext cx="815976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148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-23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3" marL="1663560" indent="-23652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4" marL="2139840" indent="-237960">
              <a:buClr>
                <a:srgbClr val="0802bc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5" marL="2139840" indent="-237960"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6" marL="2139840" indent="-237960"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81760" y="6899400"/>
            <a:ext cx="20512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500" spc="-1" strike="noStrike">
                <a:solidFill>
                  <a:srgbClr val="0802bc"/>
                </a:solidFill>
                <a:latin typeface="Monotype Corsiva"/>
              </a:rPr>
              <a:t>T</a:t>
            </a:r>
            <a:r>
              <a:rPr b="1" i="1" lang="en-US" sz="1100" spc="-1" strike="noStrike">
                <a:solidFill>
                  <a:srgbClr val="0802bc"/>
                </a:solidFill>
                <a:latin typeface="Times New Roman"/>
              </a:rPr>
              <a:t>echnical </a:t>
            </a:r>
            <a:r>
              <a:rPr b="1" i="1" lang="en-US" sz="1500" spc="-1" strike="noStrike">
                <a:solidFill>
                  <a:srgbClr val="0802bc"/>
                </a:solidFill>
                <a:latin typeface="Monotype Corsiva"/>
              </a:rPr>
              <a:t>S</a:t>
            </a:r>
            <a:r>
              <a:rPr b="1" i="1" lang="en-US" sz="1100" spc="-1" strike="noStrike">
                <a:solidFill>
                  <a:srgbClr val="0802bc"/>
                </a:solidFill>
                <a:latin typeface="Times New Roman"/>
              </a:rPr>
              <a:t>trategy </a:t>
            </a:r>
            <a:r>
              <a:rPr b="1" i="1" lang="en-US" sz="1500" spc="-1" strike="noStrike">
                <a:solidFill>
                  <a:srgbClr val="0802bc"/>
                </a:solidFill>
                <a:latin typeface="Monotype Corsiva"/>
              </a:rPr>
              <a:t>A</a:t>
            </a:r>
            <a:r>
              <a:rPr b="1" i="1" lang="en-US" sz="1100" spc="-1" strike="noStrike">
                <a:solidFill>
                  <a:srgbClr val="0802bc"/>
                </a:solidFill>
                <a:latin typeface="Times New Roman"/>
              </a:rPr>
              <a:t>ssociates</a:t>
            </a:r>
            <a:r>
              <a:rPr b="1" lang="en-US" sz="1000" spc="-1" strike="noStrike">
                <a:solidFill>
                  <a:srgbClr val="0802bc"/>
                </a:solidFill>
                <a:latin typeface="Symbol"/>
                <a:ea typeface="Symbol"/>
              </a:rPr>
              <a:t>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50520" y="7081920"/>
            <a:ext cx="6289560" cy="0"/>
          </a:xfrm>
          <a:prstGeom prst="line">
            <a:avLst/>
          </a:prstGeom>
          <a:ln w="12600">
            <a:solidFill>
              <a:srgbClr val="080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50520" y="7039080"/>
            <a:ext cx="6289560" cy="0"/>
          </a:xfrm>
          <a:prstGeom prst="line">
            <a:avLst/>
          </a:prstGeom>
          <a:ln w="12600">
            <a:solidFill>
              <a:srgbClr val="080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36560" y="1320840"/>
            <a:ext cx="8115480" cy="63360"/>
            <a:chOff x="736560" y="1320840"/>
            <a:chExt cx="8115480" cy="63360"/>
          </a:xfrm>
        </p:grpSpPr>
        <p:sp>
          <p:nvSpPr>
            <p:cNvPr id="6" name=""/>
            <p:cNvSpPr/>
            <p:nvPr/>
          </p:nvSpPr>
          <p:spPr>
            <a:xfrm>
              <a:off x="736560" y="1320840"/>
              <a:ext cx="8115480" cy="0"/>
            </a:xfrm>
            <a:prstGeom prst="line">
              <a:avLst/>
            </a:prstGeom>
            <a:ln w="50760">
              <a:solidFill>
                <a:srgbClr val="0802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6560" y="1384200"/>
              <a:ext cx="811548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8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5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8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5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8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9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50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46.wmf"/><Relationship Id="rId6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png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9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0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1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2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3.png"/><Relationship Id="rId3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5.png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2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000" spc="-1" strike="noStrike">
                <a:solidFill>
                  <a:srgbClr val="0802bc"/>
                </a:solidFill>
                <a:latin typeface="Arial"/>
              </a:rPr>
              <a:t>Bluetooth Technology and Applications</a:t>
            </a:r>
            <a:endParaRPr b="1" lang="en-US" sz="40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ponsored by IEEE Boston Chapt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t Analog Devices, Inc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ilmington, M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pril/May 20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introduction: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Dr. James F. Mollenau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500" spc="-1" strike="noStrike">
                <a:solidFill>
                  <a:srgbClr val="cf0e30"/>
                </a:solidFill>
                <a:latin typeface="Arial"/>
              </a:rPr>
              <a:t>Technical Strategy Associates</a:t>
            </a:r>
            <a:endParaRPr b="1" lang="en-US" sz="15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500" spc="-1" strike="noStrike">
                <a:solidFill>
                  <a:srgbClr val="cf0e30"/>
                </a:solidFill>
                <a:latin typeface="Arial"/>
              </a:rPr>
              <a:t>Newton, MA 02468 USA</a:t>
            </a:r>
            <a:endParaRPr b="1" lang="en-US" sz="15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500" spc="-1" strike="noStrike">
                <a:solidFill>
                  <a:srgbClr val="cf0e30"/>
                </a:solidFill>
                <a:latin typeface="Arial"/>
              </a:rPr>
              <a:t>617-244-0077</a:t>
            </a:r>
            <a:endParaRPr b="1" lang="en-US" sz="15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500" spc="-1" strike="noStrike">
                <a:solidFill>
                  <a:srgbClr val="cf0e30"/>
                </a:solidFill>
                <a:latin typeface="Arial"/>
              </a:rPr>
              <a:t>jmollenauer@TechnicalStrategy.com</a:t>
            </a:r>
            <a:endParaRPr b="1" lang="en-US" sz="15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eja Vu: Remember Infra-Red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 short-range wireless technolog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ow-cost, reasonable data rat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ushed by Hewlett-Packar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st laptops adopted i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ots of cellphones and most palmtops have i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ut no software for general connectivit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ven HP printers don’t have IR ports!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RAL:  a very nonlinear proces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Value is low until most devices have it (cf. adoption of fax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eople won’t bother with it until probability of benefit is hig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ill Bluetooth Be Universal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2000"/>
          </a:bodyPr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YES, if the size of the organization behind it means anyth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283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riginal work at Ericsson in 1994: Sven Mattison and Jaap Haartse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283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 SIG (Special Interest Group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283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-27324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riginal founding members: Ericsson, IBM, Intel, Nokia, Toshib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romoter” group adds: 3Com, Lucent, Microsoft, Motorol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-27324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w  over 2100 member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veryone you can think of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ots of companies you never heard of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-27324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Very modest cost to join, unlike some other consorti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1360" indent="-27324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llectual property poo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embers agree to make their IP available to other member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(if necessary to implement spec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936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ere Did the Name Come From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101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 medieval Danish king, Harald Blaatand II or Bluetooth (940-981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ted for unifying Denmark and Swede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561" name="Hagar" descr=""/>
          <p:cNvPicPr/>
          <p:nvPr/>
        </p:nvPicPr>
        <p:blipFill>
          <a:blip r:embed="rId1"/>
          <a:stretch/>
        </p:blipFill>
        <p:spPr>
          <a:xfrm>
            <a:off x="3124080" y="2971800"/>
            <a:ext cx="2743200" cy="2394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39720" y="5715000"/>
            <a:ext cx="81615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rmAutofit/>
          </a:bodyPr>
          <a:p>
            <a:pPr marL="357120" indent="-35712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n’t ask: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would the methods that the Vikings used to achieve consensus be admissible in the standards process toda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bluetooth_logo_new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2556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From Specification to Standard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520" y="1731600"/>
            <a:ext cx="899172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4000"/>
          </a:bodyPr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itial work in the Bluetooth SI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pecification  version 1.1 approved (replacing 1.0B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oundation work joined by IEEE Project 802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Generate official standar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eliberation and due proces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 SIG continues 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802.15 group already chartered for PANs (personal area networks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IG responded to call for proposal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greement not to change the first version(s) of Bluetoot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ven if overall Project 802 requirements were not me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voided incompatible developments in Project 802 and SI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ome contention with 802.11 (wireless LAN) group) which considered PANs to be within its chart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0">
              <a:lnSpc>
                <a:spcPct val="9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uture technology: an issu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oth groups looking at faster rates: Radio 2 and 802.15 TG3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26840" indent="-279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P questions: IEEE doesn’t do patent pool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55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pecifications and Standard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161560" cy="4267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5000"/>
          </a:bodyPr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Specification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an be written by any company or organiza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Used frequently as a purchasing document, to solicit bid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s “standards”: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ritten by industry consorti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ubject only to their own review and rules of procedur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an be generated quickly, can be flaw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Standard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ritten by groups chartered to do standard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 U.S., under ANSI (American National Standards Institute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y cover only a part of full technology (IEEE 802 does layers 1 &amp; 2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ell-specified due process (which may be slow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y be dictated by international treati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9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752480"/>
            <a:ext cx="3048120" cy="3988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in Some, Lose Som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87000"/>
          </a:bodyPr>
          <a:p>
            <a:pPr marL="31068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fficial standards don’t always make specifications obsolete--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724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8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Etherne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 Book v. 2 by DEC, Intel, and Xerox preceded IEEE 802.3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802.3 Physical layer changes accepted immediatel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802.3 MAC layer changes not always used, even 20 years lat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mpatibility issues have been handled wel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AT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TM Forum became the driving force in AT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tandards groups ratified most of what the Forum did, after the fac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fficient process made it possible to generate specifications faster than customers could absorb the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bandoned by users in favor of high-speed Etherne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xcept carriers, where ATM start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Cable Modem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fficial group (IEEE 802.14) solicited cable operators to participat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perators finally did, but felt the IEEE process was too slow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id their own spec (DOCSIS), which they (not suppliers) controll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802.14 effort was ultimately abandon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342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ich Way Will Bluetooth Go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t like cable modem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uyers not concentrated in small group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illions of individuals will buy Bluetooth equipmen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t like AT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 established “legacy” technology like Etherne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fra-red exists but is not well establish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ow cost will keep complexity bound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robably like Ethernet (my opinion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existence of versions built to standard and original spec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mpatibility mechanisms neede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ssue now: version 1.0b vs. version 1.1, later 1.2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dvanced versions (higher speed, longer range) from 802.15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luetooth at a glanc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arald Blaatand “Bluetooth” II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King of Denmark 940-981 AC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pecification for small-form factor, low-cost, low-power, short-range radio link between notebook PCs, cellular phones, PDAs and other portable devices.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Radio frequency (RF) technology for Personal Connectivity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Operates in the unlicensed 2.4GHz ISM band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ardware/Software description &amp; application framework.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A little bit of history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 Bluetooth SIG (Special Interest Group) was formed in February 1998 by 5 promoter compani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Ericsson,IBM, Intel, Nokia, Toshiba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 Bluetooth SIG went “public” in May 1998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 Bluetooth SIG work (the spec: 1,600+ pages) became public on July 26, 1999 (ver. 1.0A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ver. 1.0B was released on December 6, 1999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ver. 1.1 was released on March 1, 2001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 promoter group increased in December 1999 to nin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added: 3Com, Lucent, Microsoft, Motorola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re are 2,164 adopters (as of 3/15/2001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adopters enjoy royalty free use of the Bluetooth technology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20720" y="457200"/>
            <a:ext cx="8159760" cy="711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luetooth a.k.a. MC Link</a:t>
            </a:r>
            <a:br>
              <a:rPr sz="3200"/>
            </a:b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ulti-communicator link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In 1994, Ericsson Mobile Communications AB in Lund, Sweden, initiated a study to investigate the feasibility of a low-power, low-cost radio interface between mobile phones and their accessories. The intention was to eliminate cables between phones and PC cards, wireless headsets, and so forth. The study was part of a larger project that investigated multi-communicators connected to the cellular network via cellular telephones. The last link in the connection between a communicator and the cellular network was a short-range radio link to the phone - thus, the link was called the multi-communicator link or MC link. As the MC link project progressed, it became clear that there was no limit to the kinds of application that could use a short-range radio link. Cheap, short-range radios would make wireless communication between portable devices economically feasible.” Jaap Haartsen, Ericcson Review No. 3, 1998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EEE Boston Chapter 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ourse on Bluetooth technology and application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867a34"/>
                </a:solidFill>
                <a:latin typeface="Albertus"/>
              </a:rPr>
              <a:t>Presented by a stellar cast..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ssion 1: April 18  -- 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Overview of Bluetoot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Jim Mollenauer - Technical Strategy Associate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Ian Gifford- Chair, IEEE 802.15.1 WPAN Committee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ssion 2: April 25  -- 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RF sec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Lane Bruns (&amp; Mark Lane) - Silicon Wave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Ashish Shah - Analog Device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ssion 3: May 2  -- 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Baseband process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Phillip Corrigan - Cambridge Silicon Radio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erry O'Brien - </a:t>
            </a: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Parthus Technologie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ssion 4: May 9  -- 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Software consideration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Lars Eriksson - Cetecom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ssion 5: May 16 -- 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Applying Bluetooth in real system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Martin Bodley - GN Netcom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Moshe Doron - Brightcom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502320" y="5932440"/>
            <a:ext cx="3067560" cy="87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QRB = Bluetooth Qualification Review 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TAB = Bluetooth Technical Advisor 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QA = Bluetooth Qualification Administra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QB = Bluetooth Qualification Body</a:t>
            </a:r>
            <a:r>
              <a:rPr b="0" lang="sv-SE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00280" y="1525680"/>
          <a:ext cx="792144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525680"/>
                    <a:ext cx="792144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luetooth SIG Structur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luetooth SIG - Key Group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39360" y="1599840"/>
            <a:ext cx="4003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2000"/>
          </a:bodyPr>
          <a:p>
            <a:pPr marL="3283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Policy Group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Architecture Review Board (arch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Measurement Initiative (mi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Regulatory (gov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Qualification Program (qp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Qualification Review Board (bqrb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Test Initiative (ti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Working Group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Radio 2.0 (radio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Car Profile (car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PAN Profile (pan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Human Interface Device (hid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Co-existence/Interoperability with 2.4 GHz ISM Devices (coexist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Richer Audio/Voice/Video (av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Printing Profile (printing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Still Image Profile (imaging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Extended Service Discovery Profile (esdp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Local Positioning Profile (lp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28320" indent="-32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UDI for Japanese 3G Handsets (udi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95920" y="1599840"/>
            <a:ext cx="40053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Expert Group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Automotive Expert Group (car)  (charter)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Security Expert Group (sec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Study Group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ATM Study Group (atm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Host Controller Interface Study Group (hci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Industrial Automation Study Group (ia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ISDN Study Group (isdn)  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Quality of Service Study Group (qos)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844040" cy="379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What Does Bluetooth Do?</a:t>
            </a:r>
            <a:endParaRPr b="1" lang="en-US" sz="2800" spc="-1" strike="noStrike">
              <a:solidFill>
                <a:srgbClr val="00ae00"/>
              </a:solidFill>
              <a:latin typeface="Arial"/>
            </a:endParaRPr>
          </a:p>
        </p:txBody>
      </p:sp>
      <p:pic>
        <p:nvPicPr>
          <p:cNvPr id="589" name="4" descr=""/>
          <p:cNvPicPr/>
          <p:nvPr/>
        </p:nvPicPr>
        <p:blipFill>
          <a:blip r:embed="rId1"/>
          <a:stretch/>
        </p:blipFill>
        <p:spPr>
          <a:xfrm>
            <a:off x="6380280" y="690480"/>
            <a:ext cx="2243160" cy="1814760"/>
          </a:xfrm>
          <a:prstGeom prst="rect">
            <a:avLst/>
          </a:prstGeom>
          <a:ln w="38160">
            <a:solidFill>
              <a:srgbClr val="fc0128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graphicFrame>
        <p:nvGraphicFramePr>
          <p:cNvPr id="590" name=""/>
          <p:cNvGraphicFramePr/>
          <p:nvPr/>
        </p:nvGraphicFramePr>
        <p:xfrm>
          <a:off x="399960" y="2590920"/>
          <a:ext cx="8921880" cy="431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2590920"/>
                    <a:ext cx="892188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6360" y="6994440"/>
            <a:ext cx="8836200" cy="60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able Replacemen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220920" y="1812960"/>
          <a:ext cx="1548000" cy="6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20920" y="1812960"/>
                    <a:ext cx="15480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2109960" y="690480"/>
          <a:ext cx="1382400" cy="62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9960" y="690480"/>
                    <a:ext cx="1382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3360600" y="1295280"/>
            <a:ext cx="567000" cy="373320"/>
          </a:xfrm>
          <a:prstGeom prst="lightningBolt">
            <a:avLst/>
          </a:prstGeom>
          <a:solidFill>
            <a:srgbClr val="00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haracteristic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1523880"/>
            <a:ext cx="83059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Operates in the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2.4 GHz 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band at a data rate of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720Kb/s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Uses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Frequency Hopping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(FH) spread spectrum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, which divides the frequency band into a number of channels (2.402 - 2.480 GHz yielding 79 channel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Radio transceivers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 hop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from one channel to another in a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pseudo-random fashion, determined by the master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Supports up to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8 devices in a piconet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(1 master and 7 slaves). </a:t>
            </a:r>
            <a:br>
              <a:rPr sz="2400"/>
            </a:b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Piconets</a:t>
            </a:r>
            <a:r>
              <a:rPr b="0" lang="en-US" sz="2400" spc="-1" strike="noStrike">
                <a:solidFill>
                  <a:srgbClr val="0802bc"/>
                </a:solidFill>
                <a:latin typeface="Times New Roman"/>
              </a:rPr>
              <a:t> can combine to form </a:t>
            </a:r>
            <a:r>
              <a:rPr b="1" lang="en-US" sz="2400" spc="-1" strike="noStrike">
                <a:solidFill>
                  <a:srgbClr val="0802bc"/>
                </a:solidFill>
                <a:latin typeface="Times New Roman"/>
              </a:rPr>
              <a:t>scattern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0680" y="683244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60520" y="1536840"/>
            <a:ext cx="6400800" cy="41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collection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of devices connected in an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ad hoc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fashion. </a:t>
            </a:r>
            <a:br>
              <a:rPr sz="2200"/>
            </a:b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One unit will act as a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master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and the others as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slave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s for the duration of the piconet conne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Master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sets the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clock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hopping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 patter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Each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piconet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has a u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nique hopping pattern/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Each 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master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can connect to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 7 simultaneous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or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 200+ inactive (parked) slaves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per</a:t>
            </a:r>
            <a:r>
              <a:rPr b="1" lang="en-US" sz="2200" spc="-1" strike="noStrike">
                <a:solidFill>
                  <a:srgbClr val="0802b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802bc"/>
                </a:solidFill>
                <a:latin typeface="Arial"/>
              </a:rPr>
              <a:t>picone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at is a Piconet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6591240" y="2485800"/>
            <a:ext cx="2763720" cy="2455920"/>
          </a:xfrm>
          <a:prstGeom prst="ellipse">
            <a:avLst/>
          </a:prstGeom>
          <a:solidFill>
            <a:srgbClr val="618f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808400" y="3071880"/>
            <a:ext cx="5144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508880" y="3156120"/>
            <a:ext cx="835200" cy="9349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472600" y="3213000"/>
            <a:ext cx="204840" cy="857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8309520" y="2944080"/>
            <a:ext cx="284040" cy="253800"/>
          </a:xfrm>
          <a:custGeom>
            <a:avLst/>
            <a:gdLst/>
            <a:ahLst/>
            <a:rect l="l" t="t" r="r" b="b"/>
            <a:pathLst>
              <a:path w="317" h="317">
                <a:moveTo>
                  <a:pt x="0" y="158"/>
                </a:moveTo>
                <a:lnTo>
                  <a:pt x="3" y="131"/>
                </a:lnTo>
                <a:lnTo>
                  <a:pt x="10" y="104"/>
                </a:lnTo>
                <a:lnTo>
                  <a:pt x="22" y="79"/>
                </a:lnTo>
                <a:lnTo>
                  <a:pt x="38" y="56"/>
                </a:lnTo>
                <a:lnTo>
                  <a:pt x="57" y="37"/>
                </a:lnTo>
                <a:lnTo>
                  <a:pt x="79" y="21"/>
                </a:lnTo>
                <a:lnTo>
                  <a:pt x="105" y="9"/>
                </a:lnTo>
                <a:lnTo>
                  <a:pt x="132" y="2"/>
                </a:lnTo>
                <a:lnTo>
                  <a:pt x="159" y="0"/>
                </a:lnTo>
                <a:lnTo>
                  <a:pt x="187" y="2"/>
                </a:lnTo>
                <a:lnTo>
                  <a:pt x="214" y="9"/>
                </a:lnTo>
                <a:lnTo>
                  <a:pt x="238" y="21"/>
                </a:lnTo>
                <a:lnTo>
                  <a:pt x="261" y="37"/>
                </a:lnTo>
                <a:lnTo>
                  <a:pt x="281" y="56"/>
                </a:lnTo>
                <a:lnTo>
                  <a:pt x="296" y="79"/>
                </a:lnTo>
                <a:lnTo>
                  <a:pt x="308" y="104"/>
                </a:lnTo>
                <a:lnTo>
                  <a:pt x="315" y="131"/>
                </a:lnTo>
                <a:lnTo>
                  <a:pt x="317" y="158"/>
                </a:lnTo>
                <a:lnTo>
                  <a:pt x="315" y="186"/>
                </a:lnTo>
                <a:lnTo>
                  <a:pt x="308" y="213"/>
                </a:lnTo>
                <a:lnTo>
                  <a:pt x="296" y="238"/>
                </a:lnTo>
                <a:lnTo>
                  <a:pt x="281" y="260"/>
                </a:lnTo>
                <a:lnTo>
                  <a:pt x="261" y="281"/>
                </a:lnTo>
                <a:lnTo>
                  <a:pt x="238" y="297"/>
                </a:lnTo>
                <a:lnTo>
                  <a:pt x="214" y="308"/>
                </a:lnTo>
                <a:lnTo>
                  <a:pt x="187" y="316"/>
                </a:lnTo>
                <a:lnTo>
                  <a:pt x="159" y="317"/>
                </a:lnTo>
                <a:lnTo>
                  <a:pt x="132" y="316"/>
                </a:lnTo>
                <a:lnTo>
                  <a:pt x="105" y="308"/>
                </a:lnTo>
                <a:lnTo>
                  <a:pt x="79" y="297"/>
                </a:lnTo>
                <a:lnTo>
                  <a:pt x="57" y="281"/>
                </a:lnTo>
                <a:lnTo>
                  <a:pt x="38" y="260"/>
                </a:lnTo>
                <a:lnTo>
                  <a:pt x="22" y="238"/>
                </a:lnTo>
                <a:lnTo>
                  <a:pt x="10" y="213"/>
                </a:lnTo>
                <a:lnTo>
                  <a:pt x="3" y="186"/>
                </a:lnTo>
                <a:lnTo>
                  <a:pt x="0" y="1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6200" y="296856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8564400" y="4076640"/>
            <a:ext cx="284400" cy="255600"/>
          </a:xfrm>
          <a:custGeom>
            <a:avLst/>
            <a:gdLst/>
            <a:ahLst/>
            <a:rect l="l" t="t" r="r" b="b"/>
            <a:pathLst>
              <a:path w="318" h="318">
                <a:moveTo>
                  <a:pt x="0" y="159"/>
                </a:moveTo>
                <a:lnTo>
                  <a:pt x="3" y="132"/>
                </a:lnTo>
                <a:lnTo>
                  <a:pt x="10" y="105"/>
                </a:lnTo>
                <a:lnTo>
                  <a:pt x="22" y="79"/>
                </a:lnTo>
                <a:lnTo>
                  <a:pt x="38" y="57"/>
                </a:lnTo>
                <a:lnTo>
                  <a:pt x="57" y="38"/>
                </a:lnTo>
                <a:lnTo>
                  <a:pt x="80" y="22"/>
                </a:lnTo>
                <a:lnTo>
                  <a:pt x="105" y="10"/>
                </a:lnTo>
                <a:lnTo>
                  <a:pt x="131" y="3"/>
                </a:lnTo>
                <a:lnTo>
                  <a:pt x="159" y="0"/>
                </a:lnTo>
                <a:lnTo>
                  <a:pt x="187" y="3"/>
                </a:lnTo>
                <a:lnTo>
                  <a:pt x="213" y="10"/>
                </a:lnTo>
                <a:lnTo>
                  <a:pt x="238" y="22"/>
                </a:lnTo>
                <a:lnTo>
                  <a:pt x="261" y="38"/>
                </a:lnTo>
                <a:lnTo>
                  <a:pt x="280" y="57"/>
                </a:lnTo>
                <a:lnTo>
                  <a:pt x="296" y="79"/>
                </a:lnTo>
                <a:lnTo>
                  <a:pt x="308" y="105"/>
                </a:lnTo>
                <a:lnTo>
                  <a:pt x="315" y="132"/>
                </a:lnTo>
                <a:lnTo>
                  <a:pt x="318" y="159"/>
                </a:lnTo>
                <a:lnTo>
                  <a:pt x="315" y="187"/>
                </a:lnTo>
                <a:lnTo>
                  <a:pt x="308" y="214"/>
                </a:lnTo>
                <a:lnTo>
                  <a:pt x="296" y="238"/>
                </a:lnTo>
                <a:lnTo>
                  <a:pt x="280" y="261"/>
                </a:lnTo>
                <a:lnTo>
                  <a:pt x="261" y="281"/>
                </a:lnTo>
                <a:lnTo>
                  <a:pt x="238" y="296"/>
                </a:lnTo>
                <a:lnTo>
                  <a:pt x="213" y="308"/>
                </a:lnTo>
                <a:lnTo>
                  <a:pt x="187" y="315"/>
                </a:lnTo>
                <a:lnTo>
                  <a:pt x="159" y="318"/>
                </a:lnTo>
                <a:lnTo>
                  <a:pt x="131" y="315"/>
                </a:lnTo>
                <a:lnTo>
                  <a:pt x="105" y="308"/>
                </a:lnTo>
                <a:lnTo>
                  <a:pt x="80" y="296"/>
                </a:lnTo>
                <a:lnTo>
                  <a:pt x="57" y="281"/>
                </a:lnTo>
                <a:lnTo>
                  <a:pt x="38" y="261"/>
                </a:lnTo>
                <a:lnTo>
                  <a:pt x="22" y="238"/>
                </a:lnTo>
                <a:lnTo>
                  <a:pt x="10" y="214"/>
                </a:lnTo>
                <a:lnTo>
                  <a:pt x="3" y="187"/>
                </a:lnTo>
                <a:lnTo>
                  <a:pt x="0" y="159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654760" y="410220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7283520" y="4075560"/>
            <a:ext cx="284400" cy="257400"/>
          </a:xfrm>
          <a:custGeom>
            <a:avLst/>
            <a:gdLst/>
            <a:ahLst/>
            <a:rect l="l" t="t" r="r" b="b"/>
            <a:pathLst>
              <a:path w="318" h="318">
                <a:moveTo>
                  <a:pt x="0" y="159"/>
                </a:moveTo>
                <a:lnTo>
                  <a:pt x="3" y="132"/>
                </a:lnTo>
                <a:lnTo>
                  <a:pt x="10" y="105"/>
                </a:lnTo>
                <a:lnTo>
                  <a:pt x="22" y="80"/>
                </a:lnTo>
                <a:lnTo>
                  <a:pt x="38" y="57"/>
                </a:lnTo>
                <a:lnTo>
                  <a:pt x="57" y="38"/>
                </a:lnTo>
                <a:lnTo>
                  <a:pt x="80" y="22"/>
                </a:lnTo>
                <a:lnTo>
                  <a:pt x="105" y="10"/>
                </a:lnTo>
                <a:lnTo>
                  <a:pt x="131" y="3"/>
                </a:lnTo>
                <a:lnTo>
                  <a:pt x="159" y="0"/>
                </a:lnTo>
                <a:lnTo>
                  <a:pt x="187" y="3"/>
                </a:lnTo>
                <a:lnTo>
                  <a:pt x="213" y="10"/>
                </a:lnTo>
                <a:lnTo>
                  <a:pt x="238" y="22"/>
                </a:lnTo>
                <a:lnTo>
                  <a:pt x="261" y="38"/>
                </a:lnTo>
                <a:lnTo>
                  <a:pt x="280" y="57"/>
                </a:lnTo>
                <a:lnTo>
                  <a:pt x="296" y="80"/>
                </a:lnTo>
                <a:lnTo>
                  <a:pt x="308" y="105"/>
                </a:lnTo>
                <a:lnTo>
                  <a:pt x="315" y="132"/>
                </a:lnTo>
                <a:lnTo>
                  <a:pt x="318" y="159"/>
                </a:lnTo>
                <a:lnTo>
                  <a:pt x="315" y="187"/>
                </a:lnTo>
                <a:lnTo>
                  <a:pt x="308" y="214"/>
                </a:lnTo>
                <a:lnTo>
                  <a:pt x="296" y="239"/>
                </a:lnTo>
                <a:lnTo>
                  <a:pt x="280" y="261"/>
                </a:lnTo>
                <a:lnTo>
                  <a:pt x="261" y="282"/>
                </a:lnTo>
                <a:lnTo>
                  <a:pt x="238" y="296"/>
                </a:lnTo>
                <a:lnTo>
                  <a:pt x="213" y="308"/>
                </a:lnTo>
                <a:lnTo>
                  <a:pt x="187" y="317"/>
                </a:lnTo>
                <a:lnTo>
                  <a:pt x="159" y="318"/>
                </a:lnTo>
                <a:lnTo>
                  <a:pt x="131" y="317"/>
                </a:lnTo>
                <a:lnTo>
                  <a:pt x="105" y="308"/>
                </a:lnTo>
                <a:lnTo>
                  <a:pt x="80" y="296"/>
                </a:lnTo>
                <a:lnTo>
                  <a:pt x="57" y="282"/>
                </a:lnTo>
                <a:lnTo>
                  <a:pt x="38" y="261"/>
                </a:lnTo>
                <a:lnTo>
                  <a:pt x="22" y="239"/>
                </a:lnTo>
                <a:lnTo>
                  <a:pt x="10" y="214"/>
                </a:lnTo>
                <a:lnTo>
                  <a:pt x="3" y="187"/>
                </a:lnTo>
                <a:lnTo>
                  <a:pt x="0" y="159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44360" y="41180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5400000">
            <a:off x="7541280" y="2943720"/>
            <a:ext cx="284040" cy="254160"/>
          </a:xfrm>
          <a:custGeom>
            <a:avLst/>
            <a:gdLst/>
            <a:ahLst/>
            <a:rect l="l" t="t" r="r" b="b"/>
            <a:pathLst>
              <a:path w="317" h="317">
                <a:moveTo>
                  <a:pt x="0" y="159"/>
                </a:moveTo>
                <a:lnTo>
                  <a:pt x="3" y="131"/>
                </a:lnTo>
                <a:lnTo>
                  <a:pt x="10" y="105"/>
                </a:lnTo>
                <a:lnTo>
                  <a:pt x="22" y="79"/>
                </a:lnTo>
                <a:lnTo>
                  <a:pt x="38" y="57"/>
                </a:lnTo>
                <a:lnTo>
                  <a:pt x="57" y="38"/>
                </a:lnTo>
                <a:lnTo>
                  <a:pt x="79" y="22"/>
                </a:lnTo>
                <a:lnTo>
                  <a:pt x="105" y="10"/>
                </a:lnTo>
                <a:lnTo>
                  <a:pt x="132" y="3"/>
                </a:lnTo>
                <a:lnTo>
                  <a:pt x="159" y="0"/>
                </a:lnTo>
                <a:lnTo>
                  <a:pt x="187" y="3"/>
                </a:lnTo>
                <a:lnTo>
                  <a:pt x="214" y="10"/>
                </a:lnTo>
                <a:lnTo>
                  <a:pt x="238" y="22"/>
                </a:lnTo>
                <a:lnTo>
                  <a:pt x="261" y="38"/>
                </a:lnTo>
                <a:lnTo>
                  <a:pt x="281" y="57"/>
                </a:lnTo>
                <a:lnTo>
                  <a:pt x="296" y="79"/>
                </a:lnTo>
                <a:lnTo>
                  <a:pt x="308" y="105"/>
                </a:lnTo>
                <a:lnTo>
                  <a:pt x="315" y="131"/>
                </a:lnTo>
                <a:lnTo>
                  <a:pt x="317" y="159"/>
                </a:lnTo>
                <a:lnTo>
                  <a:pt x="315" y="187"/>
                </a:lnTo>
                <a:lnTo>
                  <a:pt x="308" y="213"/>
                </a:lnTo>
                <a:lnTo>
                  <a:pt x="296" y="238"/>
                </a:lnTo>
                <a:lnTo>
                  <a:pt x="281" y="261"/>
                </a:lnTo>
                <a:lnTo>
                  <a:pt x="261" y="280"/>
                </a:lnTo>
                <a:lnTo>
                  <a:pt x="238" y="296"/>
                </a:lnTo>
                <a:lnTo>
                  <a:pt x="214" y="308"/>
                </a:lnTo>
                <a:lnTo>
                  <a:pt x="187" y="315"/>
                </a:lnTo>
                <a:lnTo>
                  <a:pt x="159" y="317"/>
                </a:lnTo>
                <a:lnTo>
                  <a:pt x="132" y="315"/>
                </a:lnTo>
                <a:lnTo>
                  <a:pt x="105" y="308"/>
                </a:lnTo>
                <a:lnTo>
                  <a:pt x="79" y="296"/>
                </a:lnTo>
                <a:lnTo>
                  <a:pt x="57" y="280"/>
                </a:lnTo>
                <a:lnTo>
                  <a:pt x="38" y="261"/>
                </a:lnTo>
                <a:lnTo>
                  <a:pt x="22" y="238"/>
                </a:lnTo>
                <a:lnTo>
                  <a:pt x="10" y="213"/>
                </a:lnTo>
                <a:lnTo>
                  <a:pt x="3" y="187"/>
                </a:lnTo>
                <a:lnTo>
                  <a:pt x="0" y="159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7680" y="296856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8030520" y="3989160"/>
            <a:ext cx="284400" cy="258840"/>
          </a:xfrm>
          <a:custGeom>
            <a:avLst/>
            <a:gdLst/>
            <a:ahLst/>
            <a:rect l="l" t="t" r="r" b="b"/>
            <a:pathLst>
              <a:path w="317" h="319">
                <a:moveTo>
                  <a:pt x="0" y="160"/>
                </a:moveTo>
                <a:lnTo>
                  <a:pt x="3" y="132"/>
                </a:lnTo>
                <a:lnTo>
                  <a:pt x="9" y="105"/>
                </a:lnTo>
                <a:lnTo>
                  <a:pt x="21" y="81"/>
                </a:lnTo>
                <a:lnTo>
                  <a:pt x="36" y="58"/>
                </a:lnTo>
                <a:lnTo>
                  <a:pt x="56" y="38"/>
                </a:lnTo>
                <a:lnTo>
                  <a:pt x="79" y="22"/>
                </a:lnTo>
                <a:lnTo>
                  <a:pt x="105" y="11"/>
                </a:lnTo>
                <a:lnTo>
                  <a:pt x="130" y="3"/>
                </a:lnTo>
                <a:lnTo>
                  <a:pt x="159" y="0"/>
                </a:lnTo>
                <a:lnTo>
                  <a:pt x="185" y="3"/>
                </a:lnTo>
                <a:lnTo>
                  <a:pt x="212" y="11"/>
                </a:lnTo>
                <a:lnTo>
                  <a:pt x="238" y="22"/>
                </a:lnTo>
                <a:lnTo>
                  <a:pt x="261" y="38"/>
                </a:lnTo>
                <a:lnTo>
                  <a:pt x="279" y="58"/>
                </a:lnTo>
                <a:lnTo>
                  <a:pt x="296" y="81"/>
                </a:lnTo>
                <a:lnTo>
                  <a:pt x="308" y="105"/>
                </a:lnTo>
                <a:lnTo>
                  <a:pt x="314" y="132"/>
                </a:lnTo>
                <a:lnTo>
                  <a:pt x="317" y="160"/>
                </a:lnTo>
                <a:lnTo>
                  <a:pt x="314" y="187"/>
                </a:lnTo>
                <a:lnTo>
                  <a:pt x="308" y="214"/>
                </a:lnTo>
                <a:lnTo>
                  <a:pt x="296" y="240"/>
                </a:lnTo>
                <a:lnTo>
                  <a:pt x="279" y="263"/>
                </a:lnTo>
                <a:lnTo>
                  <a:pt x="261" y="282"/>
                </a:lnTo>
                <a:lnTo>
                  <a:pt x="238" y="298"/>
                </a:lnTo>
                <a:lnTo>
                  <a:pt x="212" y="310"/>
                </a:lnTo>
                <a:lnTo>
                  <a:pt x="185" y="316"/>
                </a:lnTo>
                <a:lnTo>
                  <a:pt x="159" y="319"/>
                </a:lnTo>
                <a:lnTo>
                  <a:pt x="130" y="316"/>
                </a:lnTo>
                <a:lnTo>
                  <a:pt x="105" y="310"/>
                </a:lnTo>
                <a:lnTo>
                  <a:pt x="79" y="298"/>
                </a:lnTo>
                <a:lnTo>
                  <a:pt x="56" y="282"/>
                </a:lnTo>
                <a:lnTo>
                  <a:pt x="36" y="263"/>
                </a:lnTo>
                <a:lnTo>
                  <a:pt x="21" y="240"/>
                </a:lnTo>
                <a:lnTo>
                  <a:pt x="9" y="214"/>
                </a:lnTo>
                <a:lnTo>
                  <a:pt x="3" y="187"/>
                </a:lnTo>
                <a:lnTo>
                  <a:pt x="0" y="16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059320" y="4024440"/>
            <a:ext cx="26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B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7933320" y="4676040"/>
            <a:ext cx="282600" cy="258480"/>
          </a:xfrm>
          <a:custGeom>
            <a:avLst/>
            <a:gdLst/>
            <a:ahLst/>
            <a:rect l="l" t="t" r="r" b="b"/>
            <a:pathLst>
              <a:path w="317" h="318">
                <a:moveTo>
                  <a:pt x="0" y="158"/>
                </a:moveTo>
                <a:lnTo>
                  <a:pt x="2" y="131"/>
                </a:lnTo>
                <a:lnTo>
                  <a:pt x="10" y="104"/>
                </a:lnTo>
                <a:lnTo>
                  <a:pt x="20" y="79"/>
                </a:lnTo>
                <a:lnTo>
                  <a:pt x="36" y="56"/>
                </a:lnTo>
                <a:lnTo>
                  <a:pt x="57" y="37"/>
                </a:lnTo>
                <a:lnTo>
                  <a:pt x="80" y="21"/>
                </a:lnTo>
                <a:lnTo>
                  <a:pt x="104" y="9"/>
                </a:lnTo>
                <a:lnTo>
                  <a:pt x="131" y="2"/>
                </a:lnTo>
                <a:lnTo>
                  <a:pt x="159" y="0"/>
                </a:lnTo>
                <a:lnTo>
                  <a:pt x="186" y="2"/>
                </a:lnTo>
                <a:lnTo>
                  <a:pt x="213" y="9"/>
                </a:lnTo>
                <a:lnTo>
                  <a:pt x="238" y="21"/>
                </a:lnTo>
                <a:lnTo>
                  <a:pt x="261" y="37"/>
                </a:lnTo>
                <a:lnTo>
                  <a:pt x="280" y="56"/>
                </a:lnTo>
                <a:lnTo>
                  <a:pt x="296" y="79"/>
                </a:lnTo>
                <a:lnTo>
                  <a:pt x="308" y="104"/>
                </a:lnTo>
                <a:lnTo>
                  <a:pt x="315" y="131"/>
                </a:lnTo>
                <a:lnTo>
                  <a:pt x="317" y="158"/>
                </a:lnTo>
                <a:lnTo>
                  <a:pt x="315" y="187"/>
                </a:lnTo>
                <a:lnTo>
                  <a:pt x="308" y="213"/>
                </a:lnTo>
                <a:lnTo>
                  <a:pt x="296" y="238"/>
                </a:lnTo>
                <a:lnTo>
                  <a:pt x="280" y="260"/>
                </a:lnTo>
                <a:lnTo>
                  <a:pt x="261" y="281"/>
                </a:lnTo>
                <a:lnTo>
                  <a:pt x="238" y="297"/>
                </a:lnTo>
                <a:lnTo>
                  <a:pt x="213" y="308"/>
                </a:lnTo>
                <a:lnTo>
                  <a:pt x="186" y="316"/>
                </a:lnTo>
                <a:lnTo>
                  <a:pt x="159" y="318"/>
                </a:lnTo>
                <a:lnTo>
                  <a:pt x="131" y="316"/>
                </a:lnTo>
                <a:lnTo>
                  <a:pt x="104" y="308"/>
                </a:lnTo>
                <a:lnTo>
                  <a:pt x="80" y="297"/>
                </a:lnTo>
                <a:lnTo>
                  <a:pt x="57" y="281"/>
                </a:lnTo>
                <a:lnTo>
                  <a:pt x="36" y="260"/>
                </a:lnTo>
                <a:lnTo>
                  <a:pt x="20" y="238"/>
                </a:lnTo>
                <a:lnTo>
                  <a:pt x="10" y="213"/>
                </a:lnTo>
                <a:lnTo>
                  <a:pt x="2" y="187"/>
                </a:lnTo>
                <a:lnTo>
                  <a:pt x="0" y="158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52840" y="4714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400000">
            <a:off x="7335720" y="3354120"/>
            <a:ext cx="285480" cy="254160"/>
          </a:xfrm>
          <a:custGeom>
            <a:avLst/>
            <a:gdLst/>
            <a:ahLst/>
            <a:rect l="l" t="t" r="r" b="b"/>
            <a:pathLst>
              <a:path w="318" h="318">
                <a:moveTo>
                  <a:pt x="0" y="159"/>
                </a:moveTo>
                <a:lnTo>
                  <a:pt x="3" y="132"/>
                </a:lnTo>
                <a:lnTo>
                  <a:pt x="9" y="105"/>
                </a:lnTo>
                <a:lnTo>
                  <a:pt x="21" y="80"/>
                </a:lnTo>
                <a:lnTo>
                  <a:pt x="37" y="57"/>
                </a:lnTo>
                <a:lnTo>
                  <a:pt x="58" y="38"/>
                </a:lnTo>
                <a:lnTo>
                  <a:pt x="79" y="22"/>
                </a:lnTo>
                <a:lnTo>
                  <a:pt x="105" y="10"/>
                </a:lnTo>
                <a:lnTo>
                  <a:pt x="132" y="3"/>
                </a:lnTo>
                <a:lnTo>
                  <a:pt x="158" y="0"/>
                </a:lnTo>
                <a:lnTo>
                  <a:pt x="187" y="3"/>
                </a:lnTo>
                <a:lnTo>
                  <a:pt x="214" y="10"/>
                </a:lnTo>
                <a:lnTo>
                  <a:pt x="238" y="22"/>
                </a:lnTo>
                <a:lnTo>
                  <a:pt x="261" y="38"/>
                </a:lnTo>
                <a:lnTo>
                  <a:pt x="281" y="57"/>
                </a:lnTo>
                <a:lnTo>
                  <a:pt x="297" y="80"/>
                </a:lnTo>
                <a:lnTo>
                  <a:pt x="308" y="105"/>
                </a:lnTo>
                <a:lnTo>
                  <a:pt x="316" y="132"/>
                </a:lnTo>
                <a:lnTo>
                  <a:pt x="318" y="159"/>
                </a:lnTo>
                <a:lnTo>
                  <a:pt x="316" y="187"/>
                </a:lnTo>
                <a:lnTo>
                  <a:pt x="308" y="214"/>
                </a:lnTo>
                <a:lnTo>
                  <a:pt x="297" y="238"/>
                </a:lnTo>
                <a:lnTo>
                  <a:pt x="281" y="261"/>
                </a:lnTo>
                <a:lnTo>
                  <a:pt x="261" y="281"/>
                </a:lnTo>
                <a:lnTo>
                  <a:pt x="238" y="296"/>
                </a:lnTo>
                <a:lnTo>
                  <a:pt x="214" y="308"/>
                </a:lnTo>
                <a:lnTo>
                  <a:pt x="187" y="315"/>
                </a:lnTo>
                <a:lnTo>
                  <a:pt x="158" y="318"/>
                </a:lnTo>
                <a:lnTo>
                  <a:pt x="132" y="315"/>
                </a:lnTo>
                <a:lnTo>
                  <a:pt x="105" y="308"/>
                </a:lnTo>
                <a:lnTo>
                  <a:pt x="79" y="296"/>
                </a:lnTo>
                <a:lnTo>
                  <a:pt x="58" y="281"/>
                </a:lnTo>
                <a:lnTo>
                  <a:pt x="37" y="261"/>
                </a:lnTo>
                <a:lnTo>
                  <a:pt x="21" y="238"/>
                </a:lnTo>
                <a:lnTo>
                  <a:pt x="9" y="214"/>
                </a:lnTo>
                <a:lnTo>
                  <a:pt x="3" y="187"/>
                </a:lnTo>
                <a:lnTo>
                  <a:pt x="0" y="159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22840" y="3395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95440" y="5213520"/>
            <a:ext cx="11124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=Ma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=Sla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70120" y="5213520"/>
            <a:ext cx="129528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=Park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B=Standb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784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9520" y="1622520"/>
            <a:ext cx="5921280" cy="47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Scatternet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 is the 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linking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 of multiple 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co-located piconets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 through the sharing of common master or slave devic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A device can be both a 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master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 and a 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sla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Radios are</a:t>
            </a: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 symmetric 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(same radio can be master or slav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802bc"/>
                </a:solidFill>
                <a:latin typeface="Arial"/>
              </a:rPr>
              <a:t>High capacity system</a:t>
            </a:r>
            <a:r>
              <a:rPr b="0" lang="en-US" sz="2600" spc="-1" strike="noStrike">
                <a:solidFill>
                  <a:srgbClr val="0802bc"/>
                </a:solidFill>
                <a:latin typeface="Arial"/>
              </a:rPr>
              <a:t>, each piconet has maximum capacity (720 Kb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at is a Scatternet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560640" y="1122480"/>
            <a:ext cx="2714400" cy="4836600"/>
            <a:chOff x="6560640" y="1122480"/>
            <a:chExt cx="2714400" cy="4836600"/>
          </a:xfrm>
        </p:grpSpPr>
        <p:sp>
          <p:nvSpPr>
            <p:cNvPr id="627" name=""/>
            <p:cNvSpPr/>
            <p:nvPr/>
          </p:nvSpPr>
          <p:spPr>
            <a:xfrm rot="5400000">
              <a:off x="6354000" y="3038040"/>
              <a:ext cx="3147480" cy="269460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6514200" y="1168560"/>
              <a:ext cx="2787120" cy="269460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727040" y="1866960"/>
              <a:ext cx="564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42280" y="5061600"/>
              <a:ext cx="864720" cy="325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5480" y="3153600"/>
              <a:ext cx="1036440" cy="174888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399080" y="1953720"/>
              <a:ext cx="916560" cy="942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55680" y="2010240"/>
              <a:ext cx="225000" cy="863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8290080" y="4869720"/>
              <a:ext cx="285840" cy="279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61720" y="490644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8290080" y="1728000"/>
              <a:ext cx="285840" cy="27972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59920" y="17647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8570160" y="2869920"/>
              <a:ext cx="285840" cy="2815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655480" y="29073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7163640" y="2869920"/>
              <a:ext cx="285840" cy="2815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17280" y="29235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7164360" y="5298480"/>
              <a:ext cx="284400" cy="2815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47520" y="53366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5400000">
              <a:off x="7445520" y="1728000"/>
              <a:ext cx="285840" cy="27972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29040" y="1764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8360640" y="4069080"/>
              <a:ext cx="284400" cy="28152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443800" y="41072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7923960" y="2782440"/>
              <a:ext cx="286200" cy="28332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72560" y="2820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7318440" y="4426560"/>
              <a:ext cx="285840" cy="28152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68840" y="44640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5400000">
              <a:off x="7911720" y="3712320"/>
              <a:ext cx="284400" cy="2829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95600" y="37512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7220520" y="2141640"/>
              <a:ext cx="285840" cy="279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3680" y="21945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6816240" y="6045120"/>
            <a:ext cx="11124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=Ma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=Sla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150400" y="6045120"/>
            <a:ext cx="129528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=Park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B=Standb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517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Bluetooth protocol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20720" y="6130800"/>
            <a:ext cx="8159760" cy="1036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 hardware/software descrip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n application framewor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03360" y="1676520"/>
            <a:ext cx="7854480" cy="4350960"/>
            <a:chOff x="603360" y="1676520"/>
            <a:chExt cx="7854480" cy="4350960"/>
          </a:xfrm>
        </p:grpSpPr>
        <p:sp>
          <p:nvSpPr>
            <p:cNvPr id="662" name=""/>
            <p:cNvSpPr/>
            <p:nvPr/>
          </p:nvSpPr>
          <p:spPr>
            <a:xfrm>
              <a:off x="5061240" y="2257560"/>
              <a:ext cx="3396600" cy="86436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19720" y="1754640"/>
              <a:ext cx="433080" cy="1941840"/>
            </a:xfrm>
            <a:custGeom>
              <a:avLst/>
              <a:gdLst>
                <a:gd name="textAreaLeft" fmla="*/ 0 w 433080"/>
                <a:gd name="textAreaRight" fmla="*/ 156240 w 433080"/>
                <a:gd name="textAreaTop" fmla="*/ 50400 h 1941840"/>
                <a:gd name="textAreaBottom" fmla="*/ 1891440 h 194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11440" y="4121640"/>
              <a:ext cx="3182040" cy="86436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72800" y="4085640"/>
              <a:ext cx="431280" cy="776880"/>
            </a:xfrm>
            <a:custGeom>
              <a:avLst/>
              <a:gdLst>
                <a:gd name="textAreaLeft" fmla="*/ 0 w 431280"/>
                <a:gd name="textAreaRight" fmla="*/ 155520 w 431280"/>
                <a:gd name="textAreaTop" fmla="*/ 20160 h 776880"/>
                <a:gd name="textAreaBottom" fmla="*/ 756720 h 77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17200" y="5235480"/>
              <a:ext cx="3173400" cy="49860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72800" y="5016600"/>
              <a:ext cx="431280" cy="776880"/>
            </a:xfrm>
            <a:custGeom>
              <a:avLst/>
              <a:gdLst>
                <a:gd name="textAreaLeft" fmla="*/ 0 w 431280"/>
                <a:gd name="textAreaRight" fmla="*/ 155520 w 431280"/>
                <a:gd name="textAreaTop" fmla="*/ 20160 h 776880"/>
                <a:gd name="textAreaBottom" fmla="*/ 756720 h 77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8920" y="3265200"/>
              <a:ext cx="2753280" cy="86400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3484080" y="3696840"/>
              <a:ext cx="1656000" cy="77688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3360" y="5595120"/>
              <a:ext cx="2740680" cy="432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360" y="5063760"/>
              <a:ext cx="2740680" cy="46512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3360" y="4066920"/>
              <a:ext cx="671400" cy="930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9120" y="4565520"/>
              <a:ext cx="2014560" cy="432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29120" y="4066920"/>
              <a:ext cx="1285920" cy="4323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3360" y="2740320"/>
              <a:ext cx="2572200" cy="126108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3360" y="2207520"/>
              <a:ext cx="694080" cy="4654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70520" y="2207520"/>
              <a:ext cx="445680" cy="4654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87840" y="2207520"/>
              <a:ext cx="849960" cy="46548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600" y="3188880"/>
              <a:ext cx="78912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68040" y="2220480"/>
              <a:ext cx="516960" cy="46512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83520" y="2207520"/>
              <a:ext cx="1397520" cy="230328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3360" y="1676520"/>
              <a:ext cx="3578040" cy="432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GB" sz="22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7809800">
              <a:off x="2942280" y="3235680"/>
              <a:ext cx="1100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000160" y="1533600"/>
            <a:ext cx="6801120" cy="5095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00440" y="3521160"/>
            <a:ext cx="55213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00680" y="1704960"/>
            <a:ext cx="4321080" cy="51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dleware &amp; dat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39880" y="1704960"/>
            <a:ext cx="1200240" cy="51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dio 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39880" y="2397240"/>
            <a:ext cx="568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5920" y="5638680"/>
            <a:ext cx="1342440" cy="7844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: au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: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: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160720" y="2570040"/>
            <a:ext cx="6160680" cy="3800160"/>
            <a:chOff x="2160720" y="2570040"/>
            <a:chExt cx="6160680" cy="3800160"/>
          </a:xfrm>
        </p:grpSpPr>
        <p:sp>
          <p:nvSpPr>
            <p:cNvPr id="692" name=""/>
            <p:cNvSpPr/>
            <p:nvPr/>
          </p:nvSpPr>
          <p:spPr>
            <a:xfrm>
              <a:off x="2640600" y="5592960"/>
              <a:ext cx="5680800" cy="77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0600" y="4642560"/>
              <a:ext cx="5680800" cy="77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baseb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961320" y="3692880"/>
              <a:ext cx="1360080" cy="77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00680" y="2570040"/>
              <a:ext cx="1920240" cy="77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2CA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089760" y="2570040"/>
              <a:ext cx="720000" cy="1900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contro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15720" y="2570040"/>
              <a:ext cx="720000" cy="1900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60720" y="3347280"/>
              <a:ext cx="549720" cy="345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720" rIns="162720" tIns="81360" bIns="81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HC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320760" y="3952800"/>
            <a:ext cx="1039680" cy="7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0760" y="3089160"/>
            <a:ext cx="1039680" cy="776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0760" y="2225520"/>
            <a:ext cx="1039680" cy="776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360440" y="2396880"/>
            <a:ext cx="1200240" cy="155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360440" y="4729320"/>
            <a:ext cx="1200240" cy="164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transport protocol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10040" y="2311560"/>
            <a:ext cx="542520" cy="32796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95840" y="2311560"/>
            <a:ext cx="542520" cy="32796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83360" y="2311560"/>
            <a:ext cx="542520" cy="32796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“lower” layer transport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39360" y="137124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46320" indent="-3463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Radio (RF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The Bluetooth radio front-end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2.4GHz ISM band; 1Mbp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1,600hops/sec; 0dBm (1mW) radio (up to 20dBm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Baseband (BB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iconet/Channel definition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Low-level” packet definition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hannel sharing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Link Management (LM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Definition of link properti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encryption/authentication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olling intervals set-up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CO link set-up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low power mode set-up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6400800" y="1641600"/>
            <a:ext cx="2714040" cy="4835160"/>
            <a:chOff x="6400800" y="1641600"/>
            <a:chExt cx="2714040" cy="4835160"/>
          </a:xfrm>
        </p:grpSpPr>
        <p:sp>
          <p:nvSpPr>
            <p:cNvPr id="713" name=""/>
            <p:cNvSpPr/>
            <p:nvPr/>
          </p:nvSpPr>
          <p:spPr>
            <a:xfrm rot="5400000">
              <a:off x="6193800" y="3555720"/>
              <a:ext cx="3146400" cy="26953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5400000">
              <a:off x="6355080" y="1686960"/>
              <a:ext cx="2786040" cy="269496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567560" y="2386080"/>
              <a:ext cx="5644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7282440" y="5578920"/>
              <a:ext cx="864000" cy="325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46000" y="3672360"/>
              <a:ext cx="1036080" cy="17481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237800" y="2472480"/>
              <a:ext cx="917280" cy="9424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295480" y="2530080"/>
              <a:ext cx="224640" cy="8632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5400000">
              <a:off x="8130600" y="5387760"/>
              <a:ext cx="285840" cy="279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201520" y="5424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5400000">
              <a:off x="8130600" y="2246760"/>
              <a:ext cx="285840" cy="27972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99360" y="2283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5400000">
              <a:off x="8409240" y="3388320"/>
              <a:ext cx="285840" cy="28116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95280" y="34257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5400000">
              <a:off x="7003440" y="3388320"/>
              <a:ext cx="285840" cy="28116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7080" y="344196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5400000">
              <a:off x="7004520" y="5816160"/>
              <a:ext cx="284040" cy="28116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87320" y="58543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5400000">
              <a:off x="7285680" y="2246760"/>
              <a:ext cx="285840" cy="27972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68840" y="22834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5400000">
              <a:off x="8199720" y="4587120"/>
              <a:ext cx="284040" cy="28188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83600" y="46256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7764120" y="3301200"/>
              <a:ext cx="286200" cy="2829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12000" y="3339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7157520" y="4944240"/>
              <a:ext cx="286200" cy="28188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208280" y="498168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400000">
              <a:off x="7750800" y="4230360"/>
              <a:ext cx="284040" cy="28332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34680" y="42696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7060680" y="2660400"/>
              <a:ext cx="285840" cy="279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43840" y="27136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Bluetooth network topology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599840"/>
            <a:ext cx="5680080" cy="5481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Radio designation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Connected radios can be master or slave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Radios are symmetric (same radio can be master or slave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Piconet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Master can connect to 7 simultaneous or 200+ inactive (parked) slaves per piconet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Each piconet has maximum capacity (1 MSps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Unique hopping pattern/ID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catternet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iconets can coexist in time and space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784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ession 1: Introduction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4668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roduction - Jim Mollenau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urse schedule and logistic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hat is Bluetooth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hat problems is it intended to solve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pecifications vs. standard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istory and technical overview - Ian Giffor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 at a gla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istory &amp; current organiza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hat does Bluetooth do - technically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he Bluetooth protocol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roperability &amp; profil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EEE 802.15.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ummar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mpatibility issues - Jim Mollenau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040" y="6477120"/>
            <a:ext cx="462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TOOTH trademarks are owned by Bluetooth SIG, Inc. U.S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59760" cy="60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piconet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8005680" y="4749840"/>
          <a:ext cx="49392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5680" y="4749840"/>
                    <a:ext cx="49392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8024760" y="5051520"/>
          <a:ext cx="45396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4760" y="5051520"/>
                    <a:ext cx="4539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8028000" y="6562800"/>
          <a:ext cx="44928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28000" y="6562800"/>
                    <a:ext cx="449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2" name=""/>
          <p:cNvGrpSpPr/>
          <p:nvPr/>
        </p:nvGrpSpPr>
        <p:grpSpPr>
          <a:xfrm>
            <a:off x="7666200" y="6218280"/>
            <a:ext cx="1213920" cy="447120"/>
            <a:chOff x="7666200" y="6218280"/>
            <a:chExt cx="1213920" cy="447120"/>
          </a:xfrm>
        </p:grpSpPr>
        <p:graphicFrame>
          <p:nvGraphicFramePr>
            <p:cNvPr id="753" name=""/>
            <p:cNvGraphicFramePr/>
            <p:nvPr/>
          </p:nvGraphicFramePr>
          <p:xfrm>
            <a:off x="7666200" y="6218280"/>
            <a:ext cx="414360" cy="447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66200" y="6218280"/>
                      <a:ext cx="414360" cy="44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5" name=""/>
            <p:cNvGraphicFramePr/>
            <p:nvPr/>
          </p:nvGraphicFramePr>
          <p:xfrm>
            <a:off x="8465760" y="6218280"/>
            <a:ext cx="414360" cy="44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65760" y="6218280"/>
                      <a:ext cx="414360" cy="44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7" name=""/>
            <p:cNvSpPr/>
            <p:nvPr/>
          </p:nvSpPr>
          <p:spPr>
            <a:xfrm>
              <a:off x="8066160" y="6218280"/>
              <a:ext cx="6393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8" name=""/>
          <p:cNvGraphicFramePr/>
          <p:nvPr/>
        </p:nvGraphicFramePr>
        <p:xfrm>
          <a:off x="8028000" y="5465880"/>
          <a:ext cx="44784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28000" y="5465880"/>
                    <a:ext cx="447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0" name=""/>
          <p:cNvGrpSpPr/>
          <p:nvPr/>
        </p:nvGrpSpPr>
        <p:grpSpPr>
          <a:xfrm>
            <a:off x="479520" y="1441440"/>
            <a:ext cx="3058560" cy="3242880"/>
            <a:chOff x="479520" y="1441440"/>
            <a:chExt cx="3058560" cy="3242880"/>
          </a:xfrm>
        </p:grpSpPr>
        <p:sp>
          <p:nvSpPr>
            <p:cNvPr id="761" name=""/>
            <p:cNvSpPr/>
            <p:nvPr/>
          </p:nvSpPr>
          <p:spPr>
            <a:xfrm>
              <a:off x="479520" y="1441440"/>
              <a:ext cx="3058560" cy="32428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41200" y="2456280"/>
              <a:ext cx="336240" cy="338040"/>
            </a:xfrm>
            <a:custGeom>
              <a:avLst/>
              <a:gdLst/>
              <a:ahLst/>
              <a:rect l="l" t="t" r="r" b="b"/>
              <a:pathLst>
                <a:path w="403" h="376">
                  <a:moveTo>
                    <a:pt x="0" y="188"/>
                  </a:moveTo>
                  <a:lnTo>
                    <a:pt x="3" y="156"/>
                  </a:lnTo>
                  <a:lnTo>
                    <a:pt x="11" y="124"/>
                  </a:lnTo>
                  <a:lnTo>
                    <a:pt x="27" y="94"/>
                  </a:lnTo>
                  <a:lnTo>
                    <a:pt x="47" y="67"/>
                  </a:lnTo>
                  <a:lnTo>
                    <a:pt x="71" y="44"/>
                  </a:lnTo>
                  <a:lnTo>
                    <a:pt x="100" y="25"/>
                  </a:lnTo>
                  <a:lnTo>
                    <a:pt x="133" y="11"/>
                  </a:lnTo>
                  <a:lnTo>
                    <a:pt x="167" y="3"/>
                  </a:lnTo>
                  <a:lnTo>
                    <a:pt x="201" y="0"/>
                  </a:lnTo>
                  <a:lnTo>
                    <a:pt x="237" y="3"/>
                  </a:lnTo>
                  <a:lnTo>
                    <a:pt x="271" y="11"/>
                  </a:lnTo>
                  <a:lnTo>
                    <a:pt x="302" y="25"/>
                  </a:lnTo>
                  <a:lnTo>
                    <a:pt x="331" y="44"/>
                  </a:lnTo>
                  <a:lnTo>
                    <a:pt x="357" y="67"/>
                  </a:lnTo>
                  <a:lnTo>
                    <a:pt x="376" y="94"/>
                  </a:lnTo>
                  <a:lnTo>
                    <a:pt x="391" y="124"/>
                  </a:lnTo>
                  <a:lnTo>
                    <a:pt x="400" y="156"/>
                  </a:lnTo>
                  <a:lnTo>
                    <a:pt x="403" y="188"/>
                  </a:lnTo>
                  <a:lnTo>
                    <a:pt x="400" y="221"/>
                  </a:lnTo>
                  <a:lnTo>
                    <a:pt x="391" y="253"/>
                  </a:lnTo>
                  <a:lnTo>
                    <a:pt x="376" y="282"/>
                  </a:lnTo>
                  <a:lnTo>
                    <a:pt x="357" y="309"/>
                  </a:lnTo>
                  <a:lnTo>
                    <a:pt x="331" y="333"/>
                  </a:lnTo>
                  <a:lnTo>
                    <a:pt x="302" y="352"/>
                  </a:lnTo>
                  <a:lnTo>
                    <a:pt x="271" y="365"/>
                  </a:lnTo>
                  <a:lnTo>
                    <a:pt x="237" y="375"/>
                  </a:lnTo>
                  <a:lnTo>
                    <a:pt x="201" y="376"/>
                  </a:lnTo>
                  <a:lnTo>
                    <a:pt x="167" y="375"/>
                  </a:lnTo>
                  <a:lnTo>
                    <a:pt x="133" y="365"/>
                  </a:lnTo>
                  <a:lnTo>
                    <a:pt x="100" y="352"/>
                  </a:lnTo>
                  <a:lnTo>
                    <a:pt x="71" y="333"/>
                  </a:lnTo>
                  <a:lnTo>
                    <a:pt x="47" y="309"/>
                  </a:lnTo>
                  <a:lnTo>
                    <a:pt x="27" y="282"/>
                  </a:lnTo>
                  <a:lnTo>
                    <a:pt x="11" y="253"/>
                  </a:lnTo>
                  <a:lnTo>
                    <a:pt x="3" y="22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61800" y="25390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487960" y="2117880"/>
              <a:ext cx="336240" cy="338040"/>
            </a:xfrm>
            <a:custGeom>
              <a:avLst/>
              <a:gdLst/>
              <a:ahLst/>
              <a:rect l="l" t="t" r="r" b="b"/>
              <a:pathLst>
                <a:path w="403" h="377">
                  <a:moveTo>
                    <a:pt x="0" y="188"/>
                  </a:moveTo>
                  <a:lnTo>
                    <a:pt x="3" y="156"/>
                  </a:lnTo>
                  <a:lnTo>
                    <a:pt x="12" y="125"/>
                  </a:lnTo>
                  <a:lnTo>
                    <a:pt x="27" y="94"/>
                  </a:lnTo>
                  <a:lnTo>
                    <a:pt x="48" y="67"/>
                  </a:lnTo>
                  <a:lnTo>
                    <a:pt x="72" y="45"/>
                  </a:lnTo>
                  <a:lnTo>
                    <a:pt x="101" y="26"/>
                  </a:lnTo>
                  <a:lnTo>
                    <a:pt x="133" y="11"/>
                  </a:lnTo>
                  <a:lnTo>
                    <a:pt x="166" y="3"/>
                  </a:lnTo>
                  <a:lnTo>
                    <a:pt x="202" y="0"/>
                  </a:lnTo>
                  <a:lnTo>
                    <a:pt x="237" y="3"/>
                  </a:lnTo>
                  <a:lnTo>
                    <a:pt x="270" y="11"/>
                  </a:lnTo>
                  <a:lnTo>
                    <a:pt x="302" y="26"/>
                  </a:lnTo>
                  <a:lnTo>
                    <a:pt x="332" y="45"/>
                  </a:lnTo>
                  <a:lnTo>
                    <a:pt x="355" y="67"/>
                  </a:lnTo>
                  <a:lnTo>
                    <a:pt x="376" y="94"/>
                  </a:lnTo>
                  <a:lnTo>
                    <a:pt x="391" y="125"/>
                  </a:lnTo>
                  <a:lnTo>
                    <a:pt x="400" y="156"/>
                  </a:lnTo>
                  <a:lnTo>
                    <a:pt x="403" y="188"/>
                  </a:lnTo>
                  <a:lnTo>
                    <a:pt x="400" y="222"/>
                  </a:lnTo>
                  <a:lnTo>
                    <a:pt x="391" y="254"/>
                  </a:lnTo>
                  <a:lnTo>
                    <a:pt x="376" y="283"/>
                  </a:lnTo>
                  <a:lnTo>
                    <a:pt x="355" y="310"/>
                  </a:lnTo>
                  <a:lnTo>
                    <a:pt x="332" y="334"/>
                  </a:lnTo>
                  <a:lnTo>
                    <a:pt x="302" y="351"/>
                  </a:lnTo>
                  <a:lnTo>
                    <a:pt x="270" y="365"/>
                  </a:lnTo>
                  <a:lnTo>
                    <a:pt x="237" y="373"/>
                  </a:lnTo>
                  <a:lnTo>
                    <a:pt x="202" y="377"/>
                  </a:lnTo>
                  <a:lnTo>
                    <a:pt x="166" y="373"/>
                  </a:lnTo>
                  <a:lnTo>
                    <a:pt x="133" y="365"/>
                  </a:lnTo>
                  <a:lnTo>
                    <a:pt x="101" y="351"/>
                  </a:lnTo>
                  <a:lnTo>
                    <a:pt x="72" y="334"/>
                  </a:lnTo>
                  <a:lnTo>
                    <a:pt x="48" y="310"/>
                  </a:lnTo>
                  <a:lnTo>
                    <a:pt x="27" y="283"/>
                  </a:lnTo>
                  <a:lnTo>
                    <a:pt x="12" y="254"/>
                  </a:lnTo>
                  <a:lnTo>
                    <a:pt x="3" y="222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04600" y="2200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87960" y="3813480"/>
              <a:ext cx="336240" cy="338040"/>
            </a:xfrm>
            <a:custGeom>
              <a:avLst/>
              <a:gdLst/>
              <a:ahLst/>
              <a:rect l="l" t="t" r="r" b="b"/>
              <a:pathLst>
                <a:path w="403" h="377">
                  <a:moveTo>
                    <a:pt x="0" y="188"/>
                  </a:moveTo>
                  <a:lnTo>
                    <a:pt x="3" y="156"/>
                  </a:lnTo>
                  <a:lnTo>
                    <a:pt x="12" y="125"/>
                  </a:lnTo>
                  <a:lnTo>
                    <a:pt x="27" y="94"/>
                  </a:lnTo>
                  <a:lnTo>
                    <a:pt x="48" y="67"/>
                  </a:lnTo>
                  <a:lnTo>
                    <a:pt x="72" y="45"/>
                  </a:lnTo>
                  <a:lnTo>
                    <a:pt x="101" y="26"/>
                  </a:lnTo>
                  <a:lnTo>
                    <a:pt x="133" y="11"/>
                  </a:lnTo>
                  <a:lnTo>
                    <a:pt x="166" y="3"/>
                  </a:lnTo>
                  <a:lnTo>
                    <a:pt x="202" y="0"/>
                  </a:lnTo>
                  <a:lnTo>
                    <a:pt x="237" y="3"/>
                  </a:lnTo>
                  <a:lnTo>
                    <a:pt x="270" y="11"/>
                  </a:lnTo>
                  <a:lnTo>
                    <a:pt x="302" y="26"/>
                  </a:lnTo>
                  <a:lnTo>
                    <a:pt x="332" y="45"/>
                  </a:lnTo>
                  <a:lnTo>
                    <a:pt x="355" y="67"/>
                  </a:lnTo>
                  <a:lnTo>
                    <a:pt x="376" y="94"/>
                  </a:lnTo>
                  <a:lnTo>
                    <a:pt x="391" y="125"/>
                  </a:lnTo>
                  <a:lnTo>
                    <a:pt x="400" y="156"/>
                  </a:lnTo>
                  <a:lnTo>
                    <a:pt x="403" y="188"/>
                  </a:lnTo>
                  <a:lnTo>
                    <a:pt x="400" y="222"/>
                  </a:lnTo>
                  <a:lnTo>
                    <a:pt x="391" y="254"/>
                  </a:lnTo>
                  <a:lnTo>
                    <a:pt x="376" y="283"/>
                  </a:lnTo>
                  <a:lnTo>
                    <a:pt x="355" y="310"/>
                  </a:lnTo>
                  <a:lnTo>
                    <a:pt x="332" y="334"/>
                  </a:lnTo>
                  <a:lnTo>
                    <a:pt x="302" y="351"/>
                  </a:lnTo>
                  <a:lnTo>
                    <a:pt x="270" y="365"/>
                  </a:lnTo>
                  <a:lnTo>
                    <a:pt x="237" y="375"/>
                  </a:lnTo>
                  <a:lnTo>
                    <a:pt x="202" y="377"/>
                  </a:lnTo>
                  <a:lnTo>
                    <a:pt x="166" y="375"/>
                  </a:lnTo>
                  <a:lnTo>
                    <a:pt x="133" y="365"/>
                  </a:lnTo>
                  <a:lnTo>
                    <a:pt x="101" y="351"/>
                  </a:lnTo>
                  <a:lnTo>
                    <a:pt x="72" y="334"/>
                  </a:lnTo>
                  <a:lnTo>
                    <a:pt x="48" y="310"/>
                  </a:lnTo>
                  <a:lnTo>
                    <a:pt x="27" y="283"/>
                  </a:lnTo>
                  <a:lnTo>
                    <a:pt x="12" y="254"/>
                  </a:lnTo>
                  <a:lnTo>
                    <a:pt x="3" y="222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604600" y="3896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41200" y="3473280"/>
              <a:ext cx="336240" cy="339840"/>
            </a:xfrm>
            <a:custGeom>
              <a:avLst/>
              <a:gdLst/>
              <a:ahLst/>
              <a:rect l="l" t="t" r="r" b="b"/>
              <a:pathLst>
                <a:path w="403" h="376">
                  <a:moveTo>
                    <a:pt x="0" y="188"/>
                  </a:moveTo>
                  <a:lnTo>
                    <a:pt x="3" y="154"/>
                  </a:lnTo>
                  <a:lnTo>
                    <a:pt x="11" y="124"/>
                  </a:lnTo>
                  <a:lnTo>
                    <a:pt x="27" y="94"/>
                  </a:lnTo>
                  <a:lnTo>
                    <a:pt x="47" y="67"/>
                  </a:lnTo>
                  <a:lnTo>
                    <a:pt x="71" y="44"/>
                  </a:lnTo>
                  <a:lnTo>
                    <a:pt x="100" y="25"/>
                  </a:lnTo>
                  <a:lnTo>
                    <a:pt x="133" y="11"/>
                  </a:lnTo>
                  <a:lnTo>
                    <a:pt x="167" y="3"/>
                  </a:lnTo>
                  <a:lnTo>
                    <a:pt x="201" y="0"/>
                  </a:lnTo>
                  <a:lnTo>
                    <a:pt x="237" y="3"/>
                  </a:lnTo>
                  <a:lnTo>
                    <a:pt x="271" y="11"/>
                  </a:lnTo>
                  <a:lnTo>
                    <a:pt x="302" y="25"/>
                  </a:lnTo>
                  <a:lnTo>
                    <a:pt x="331" y="44"/>
                  </a:lnTo>
                  <a:lnTo>
                    <a:pt x="357" y="67"/>
                  </a:lnTo>
                  <a:lnTo>
                    <a:pt x="376" y="94"/>
                  </a:lnTo>
                  <a:lnTo>
                    <a:pt x="391" y="124"/>
                  </a:lnTo>
                  <a:lnTo>
                    <a:pt x="400" y="154"/>
                  </a:lnTo>
                  <a:lnTo>
                    <a:pt x="403" y="188"/>
                  </a:lnTo>
                  <a:lnTo>
                    <a:pt x="400" y="221"/>
                  </a:lnTo>
                  <a:lnTo>
                    <a:pt x="391" y="252"/>
                  </a:lnTo>
                  <a:lnTo>
                    <a:pt x="376" y="282"/>
                  </a:lnTo>
                  <a:lnTo>
                    <a:pt x="357" y="309"/>
                  </a:lnTo>
                  <a:lnTo>
                    <a:pt x="331" y="331"/>
                  </a:lnTo>
                  <a:lnTo>
                    <a:pt x="302" y="351"/>
                  </a:lnTo>
                  <a:lnTo>
                    <a:pt x="271" y="365"/>
                  </a:lnTo>
                  <a:lnTo>
                    <a:pt x="237" y="373"/>
                  </a:lnTo>
                  <a:lnTo>
                    <a:pt x="201" y="376"/>
                  </a:lnTo>
                  <a:lnTo>
                    <a:pt x="167" y="373"/>
                  </a:lnTo>
                  <a:lnTo>
                    <a:pt x="133" y="365"/>
                  </a:lnTo>
                  <a:lnTo>
                    <a:pt x="100" y="351"/>
                  </a:lnTo>
                  <a:lnTo>
                    <a:pt x="71" y="331"/>
                  </a:lnTo>
                  <a:lnTo>
                    <a:pt x="47" y="309"/>
                  </a:lnTo>
                  <a:lnTo>
                    <a:pt x="27" y="282"/>
                  </a:lnTo>
                  <a:lnTo>
                    <a:pt x="11" y="252"/>
                  </a:lnTo>
                  <a:lnTo>
                    <a:pt x="3" y="22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61800" y="35560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87880" y="2983680"/>
              <a:ext cx="334800" cy="338040"/>
            </a:xfrm>
            <a:custGeom>
              <a:avLst/>
              <a:gdLst/>
              <a:ahLst/>
              <a:rect l="l" t="t" r="r" b="b"/>
              <a:pathLst>
                <a:path w="404" h="377">
                  <a:moveTo>
                    <a:pt x="0" y="188"/>
                  </a:moveTo>
                  <a:lnTo>
                    <a:pt x="4" y="155"/>
                  </a:lnTo>
                  <a:lnTo>
                    <a:pt x="12" y="123"/>
                  </a:lnTo>
                  <a:lnTo>
                    <a:pt x="28" y="94"/>
                  </a:lnTo>
                  <a:lnTo>
                    <a:pt x="46" y="67"/>
                  </a:lnTo>
                  <a:lnTo>
                    <a:pt x="72" y="43"/>
                  </a:lnTo>
                  <a:lnTo>
                    <a:pt x="101" y="24"/>
                  </a:lnTo>
                  <a:lnTo>
                    <a:pt x="134" y="11"/>
                  </a:lnTo>
                  <a:lnTo>
                    <a:pt x="166" y="2"/>
                  </a:lnTo>
                  <a:lnTo>
                    <a:pt x="202" y="0"/>
                  </a:lnTo>
                  <a:lnTo>
                    <a:pt x="236" y="2"/>
                  </a:lnTo>
                  <a:lnTo>
                    <a:pt x="271" y="11"/>
                  </a:lnTo>
                  <a:lnTo>
                    <a:pt x="303" y="24"/>
                  </a:lnTo>
                  <a:lnTo>
                    <a:pt x="332" y="43"/>
                  </a:lnTo>
                  <a:lnTo>
                    <a:pt x="356" y="67"/>
                  </a:lnTo>
                  <a:lnTo>
                    <a:pt x="377" y="94"/>
                  </a:lnTo>
                  <a:lnTo>
                    <a:pt x="392" y="123"/>
                  </a:lnTo>
                  <a:lnTo>
                    <a:pt x="400" y="155"/>
                  </a:lnTo>
                  <a:lnTo>
                    <a:pt x="404" y="188"/>
                  </a:lnTo>
                  <a:lnTo>
                    <a:pt x="400" y="220"/>
                  </a:lnTo>
                  <a:lnTo>
                    <a:pt x="392" y="252"/>
                  </a:lnTo>
                  <a:lnTo>
                    <a:pt x="377" y="282"/>
                  </a:lnTo>
                  <a:lnTo>
                    <a:pt x="356" y="310"/>
                  </a:lnTo>
                  <a:lnTo>
                    <a:pt x="332" y="332"/>
                  </a:lnTo>
                  <a:lnTo>
                    <a:pt x="303" y="351"/>
                  </a:lnTo>
                  <a:lnTo>
                    <a:pt x="271" y="365"/>
                  </a:lnTo>
                  <a:lnTo>
                    <a:pt x="236" y="373"/>
                  </a:lnTo>
                  <a:lnTo>
                    <a:pt x="202" y="377"/>
                  </a:lnTo>
                  <a:lnTo>
                    <a:pt x="166" y="373"/>
                  </a:lnTo>
                  <a:lnTo>
                    <a:pt x="134" y="365"/>
                  </a:lnTo>
                  <a:lnTo>
                    <a:pt x="101" y="351"/>
                  </a:lnTo>
                  <a:lnTo>
                    <a:pt x="72" y="332"/>
                  </a:lnTo>
                  <a:lnTo>
                    <a:pt x="46" y="310"/>
                  </a:lnTo>
                  <a:lnTo>
                    <a:pt x="28" y="282"/>
                  </a:lnTo>
                  <a:lnTo>
                    <a:pt x="12" y="252"/>
                  </a:lnTo>
                  <a:lnTo>
                    <a:pt x="4" y="220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06320" y="30664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2" name=""/>
            <p:cNvGraphicFramePr/>
            <p:nvPr/>
          </p:nvGraphicFramePr>
          <p:xfrm>
            <a:off x="2917800" y="2177640"/>
            <a:ext cx="356760" cy="384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17800" y="2177640"/>
                      <a:ext cx="356760" cy="38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4" name=""/>
            <p:cNvGraphicFramePr/>
            <p:nvPr/>
          </p:nvGraphicFramePr>
          <p:xfrm>
            <a:off x="2917800" y="3725280"/>
            <a:ext cx="356760" cy="392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17800" y="3725280"/>
                      <a:ext cx="356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6" name=""/>
            <p:cNvGraphicFramePr/>
            <p:nvPr/>
          </p:nvGraphicFramePr>
          <p:xfrm>
            <a:off x="1124640" y="3880080"/>
            <a:ext cx="358200" cy="39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124640" y="3880080"/>
                      <a:ext cx="3582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8" name=""/>
            <p:cNvGraphicFramePr/>
            <p:nvPr/>
          </p:nvGraphicFramePr>
          <p:xfrm>
            <a:off x="694440" y="2409480"/>
            <a:ext cx="376200" cy="385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94440" y="2409480"/>
                      <a:ext cx="37620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0" name=""/>
            <p:cNvGraphicFramePr/>
            <p:nvPr/>
          </p:nvGraphicFramePr>
          <p:xfrm>
            <a:off x="622440" y="3493080"/>
            <a:ext cx="411480" cy="2700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22440" y="3493080"/>
                      <a:ext cx="41148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981000" y="2099880"/>
            <a:ext cx="411840" cy="26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981000" y="2099880"/>
                      <a:ext cx="4118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1986120" y="3802680"/>
            <a:ext cx="410040" cy="269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986120" y="3802680"/>
                      <a:ext cx="41004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6" name=""/>
            <p:cNvGraphicFramePr/>
            <p:nvPr/>
          </p:nvGraphicFramePr>
          <p:xfrm>
            <a:off x="2416320" y="1713240"/>
            <a:ext cx="410040" cy="2678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416320" y="1713240"/>
                      <a:ext cx="4100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8" name=""/>
            <p:cNvGraphicFramePr/>
            <p:nvPr/>
          </p:nvGraphicFramePr>
          <p:xfrm>
            <a:off x="2846520" y="2911680"/>
            <a:ext cx="356400" cy="386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789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846520" y="2911680"/>
                      <a:ext cx="356400" cy="38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0" name=""/>
            <p:cNvGraphicFramePr/>
            <p:nvPr/>
          </p:nvGraphicFramePr>
          <p:xfrm>
            <a:off x="1914840" y="2834280"/>
            <a:ext cx="410040" cy="2700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914840" y="2834280"/>
                      <a:ext cx="41004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2" name=""/>
          <p:cNvGrpSpPr/>
          <p:nvPr/>
        </p:nvGrpSpPr>
        <p:grpSpPr>
          <a:xfrm>
            <a:off x="6194520" y="1441440"/>
            <a:ext cx="3058560" cy="3282120"/>
            <a:chOff x="6194520" y="1441440"/>
            <a:chExt cx="3058560" cy="3282120"/>
          </a:xfrm>
        </p:grpSpPr>
        <p:sp>
          <p:nvSpPr>
            <p:cNvPr id="793" name=""/>
            <p:cNvSpPr/>
            <p:nvPr/>
          </p:nvSpPr>
          <p:spPr>
            <a:xfrm>
              <a:off x="6194520" y="1480680"/>
              <a:ext cx="3058560" cy="32428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6839280" y="2138040"/>
            <a:ext cx="1721880" cy="2064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839280" y="2138040"/>
                      <a:ext cx="1721880" cy="206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6" name=""/>
            <p:cNvGraphicFramePr/>
            <p:nvPr/>
          </p:nvGraphicFramePr>
          <p:xfrm>
            <a:off x="6409080" y="2447280"/>
            <a:ext cx="376920" cy="3866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797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409080" y="2447280"/>
                      <a:ext cx="376920" cy="38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8" name=""/>
            <p:cNvGraphicFramePr/>
            <p:nvPr/>
          </p:nvGraphicFramePr>
          <p:xfrm>
            <a:off x="6696000" y="2138040"/>
            <a:ext cx="411480" cy="2696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99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696000" y="2138040"/>
                      <a:ext cx="41148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0" name=""/>
            <p:cNvGraphicFramePr/>
            <p:nvPr/>
          </p:nvGraphicFramePr>
          <p:xfrm>
            <a:off x="7701120" y="3842280"/>
            <a:ext cx="410040" cy="2678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801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701120" y="3842280"/>
                      <a:ext cx="4100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2" name=""/>
            <p:cNvGraphicFramePr/>
            <p:nvPr/>
          </p:nvGraphicFramePr>
          <p:xfrm>
            <a:off x="8131680" y="1750680"/>
            <a:ext cx="409680" cy="2700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803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131680" y="1750680"/>
                      <a:ext cx="40968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4" name=""/>
            <p:cNvGraphicFramePr/>
            <p:nvPr/>
          </p:nvGraphicFramePr>
          <p:xfrm>
            <a:off x="6337800" y="3223440"/>
            <a:ext cx="411480" cy="26964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805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337800" y="3223440"/>
                      <a:ext cx="41148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6" name=""/>
            <p:cNvGraphicFramePr/>
            <p:nvPr/>
          </p:nvGraphicFramePr>
          <p:xfrm>
            <a:off x="6839280" y="3919680"/>
            <a:ext cx="376920" cy="3852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839280" y="3919680"/>
                      <a:ext cx="37692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8" name=""/>
            <p:cNvGraphicFramePr/>
            <p:nvPr/>
          </p:nvGraphicFramePr>
          <p:xfrm>
            <a:off x="7701120" y="3532680"/>
            <a:ext cx="410040" cy="26784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701120" y="3532680"/>
                      <a:ext cx="4100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"/>
            <p:cNvGraphicFramePr/>
            <p:nvPr/>
          </p:nvGraphicFramePr>
          <p:xfrm>
            <a:off x="8633160" y="3687480"/>
            <a:ext cx="376920" cy="38520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811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8633160" y="3687480"/>
                      <a:ext cx="376920" cy="38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2" name=""/>
            <p:cNvGraphicFramePr/>
            <p:nvPr/>
          </p:nvGraphicFramePr>
          <p:xfrm>
            <a:off x="8131680" y="1441440"/>
            <a:ext cx="409680" cy="2696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8131680" y="1441440"/>
                      <a:ext cx="40968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4" name=""/>
            <p:cNvGraphicFramePr/>
            <p:nvPr/>
          </p:nvGraphicFramePr>
          <p:xfrm>
            <a:off x="8633160" y="2138040"/>
            <a:ext cx="376920" cy="3848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8633160" y="2138040"/>
                      <a:ext cx="376920" cy="38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6" name=""/>
            <p:cNvGraphicFramePr/>
            <p:nvPr/>
          </p:nvGraphicFramePr>
          <p:xfrm>
            <a:off x="8418240" y="2911680"/>
            <a:ext cx="356760" cy="3866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8418240" y="2911680"/>
                      <a:ext cx="356760" cy="38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8" name=""/>
            <p:cNvGraphicFramePr/>
            <p:nvPr/>
          </p:nvGraphicFramePr>
          <p:xfrm>
            <a:off x="7556040" y="2757240"/>
            <a:ext cx="411480" cy="26964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819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7556040" y="2757240"/>
                      <a:ext cx="411480" cy="26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0" name=""/>
            <p:cNvGraphicFramePr/>
            <p:nvPr/>
          </p:nvGraphicFramePr>
          <p:xfrm>
            <a:off x="6337800" y="3532680"/>
            <a:ext cx="410040" cy="26784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6337800" y="3532680"/>
                      <a:ext cx="4100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2" name=""/>
          <p:cNvSpPr/>
          <p:nvPr/>
        </p:nvSpPr>
        <p:spPr>
          <a:xfrm>
            <a:off x="3440160" y="2824200"/>
            <a:ext cx="2881440" cy="517320"/>
          </a:xfrm>
          <a:prstGeom prst="rightArrow">
            <a:avLst>
              <a:gd name="adj1" fmla="val 33333"/>
              <a:gd name="adj2" fmla="val 11802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4647960"/>
            <a:ext cx="8480520" cy="2011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3000"/>
          </a:bodyPr>
          <a:p>
            <a:pPr marL="331920" indent="-3319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All devices in a piconet hop together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18920" indent="-27612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o form a piconet: master gives slaves its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clock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device ID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0556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opping pattern determined by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device ID</a:t>
            </a:r>
            <a:r>
              <a:rPr b="0" i="1" lang="en-US" sz="1800" spc="-1" strike="noStrike">
                <a:solidFill>
                  <a:srgbClr val="0802b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(48-bit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0556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hase in hopping pattern determined by 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Cloc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Non-piconet devices are in standby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iconet Addressing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18920" indent="-27612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ctive Member Address (AMA, 3-bits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18920" indent="-27612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arked Member Address (PMA, 8-bits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59760" cy="618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baseband state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321760" cy="2103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83000"/>
          </a:bodyPr>
          <a:p>
            <a:pPr marL="296280" indent="-29628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tandby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641520" indent="-24624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do nothing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296280" indent="-29628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Inquir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641520" indent="-24624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search for other devices in the vicinity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296280" indent="-29628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ag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641520" indent="-24624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connect to a specific device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296280" indent="-29628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onnected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641520" indent="-24624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articipate in a piconet (master or slave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</p:txBody>
      </p:sp>
      <p:cxnSp>
        <p:nvCxnSpPr>
          <p:cNvPr id="827" name=""/>
          <p:cNvCxnSpPr>
            <a:stCxn id="828" idx="0"/>
            <a:endCxn id="829" idx="1"/>
          </p:cNvCxnSpPr>
          <p:nvPr/>
        </p:nvCxnSpPr>
        <p:spPr>
          <a:xfrm flipH="1" flipV="1" rot="5400000">
            <a:off x="2712600" y="2112480"/>
            <a:ext cx="776880" cy="919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"/>
          <p:cNvCxnSpPr>
            <a:stCxn id="831" idx="3"/>
            <a:endCxn id="832" idx="0"/>
          </p:cNvCxnSpPr>
          <p:nvPr/>
        </p:nvCxnSpPr>
        <p:spPr>
          <a:xfrm>
            <a:off x="7080120" y="2184480"/>
            <a:ext cx="921600" cy="776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3" name=""/>
          <p:cNvCxnSpPr>
            <a:stCxn id="828" idx="0"/>
            <a:endCxn id="831" idx="0"/>
          </p:cNvCxnSpPr>
          <p:nvPr/>
        </p:nvCxnSpPr>
        <p:spPr>
          <a:xfrm flipH="1" flipV="1" rot="5400000">
            <a:off x="3897000" y="496440"/>
            <a:ext cx="1208880" cy="3720240"/>
          </a:xfrm>
          <a:prstGeom prst="bentConnector3">
            <a:avLst>
              <a:gd name="adj1" fmla="val 118915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4" name=""/>
          <p:cNvCxnSpPr>
            <a:stCxn id="832" idx="2"/>
            <a:endCxn id="828" idx="2"/>
          </p:cNvCxnSpPr>
          <p:nvPr/>
        </p:nvCxnSpPr>
        <p:spPr>
          <a:xfrm rot="5400000">
            <a:off x="5319720" y="1145160"/>
            <a:ext cx="2160" cy="5360040"/>
          </a:xfrm>
          <a:prstGeom prst="bentConnector3">
            <a:avLst>
              <a:gd name="adj1" fmla="val 144000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28" name=""/>
          <p:cNvSpPr/>
          <p:nvPr/>
        </p:nvSpPr>
        <p:spPr>
          <a:xfrm>
            <a:off x="1920960" y="2960640"/>
            <a:ext cx="14396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35240" y="3166920"/>
            <a:ext cx="80964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tandb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280280" y="2960640"/>
            <a:ext cx="14414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96360" y="3166920"/>
            <a:ext cx="80928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conn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9" idx="3"/>
            <a:endCxn id="831" idx="1"/>
          </p:cNvCxnSpPr>
          <p:nvPr/>
        </p:nvCxnSpPr>
        <p:spPr>
          <a:xfrm>
            <a:off x="5000400" y="2184120"/>
            <a:ext cx="640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1" name=""/>
          <p:cNvSpPr/>
          <p:nvPr/>
        </p:nvSpPr>
        <p:spPr>
          <a:xfrm>
            <a:off x="5640480" y="1752480"/>
            <a:ext cx="143964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956200" y="1957320"/>
            <a:ext cx="80964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60760" y="1752480"/>
            <a:ext cx="144000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75040" y="1957320"/>
            <a:ext cx="81144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inqui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"/>
          <p:cNvCxnSpPr>
            <a:stCxn id="832" idx="1"/>
            <a:endCxn id="831" idx="2"/>
          </p:cNvCxnSpPr>
          <p:nvPr/>
        </p:nvCxnSpPr>
        <p:spPr>
          <a:xfrm rot="10800000">
            <a:off x="6360480" y="2615400"/>
            <a:ext cx="919800" cy="77724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41" name=""/>
          <p:cNvCxnSpPr>
            <a:stCxn id="832" idx="1"/>
            <a:endCxn id="829" idx="2"/>
          </p:cNvCxnSpPr>
          <p:nvPr/>
        </p:nvCxnSpPr>
        <p:spPr>
          <a:xfrm rot="10800000">
            <a:off x="4280760" y="2615400"/>
            <a:ext cx="2999520" cy="77724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842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2924280" y="3753000"/>
            <a:ext cx="1444680" cy="618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27240" y="3841920"/>
            <a:ext cx="12384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00640" y="3753000"/>
            <a:ext cx="4230720" cy="618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606920" y="3841920"/>
            <a:ext cx="38196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ay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963720" y="3753000"/>
            <a:ext cx="1936800" cy="618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65320" y="3841920"/>
            <a:ext cx="15336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ccess 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368960" y="3417480"/>
            <a:ext cx="0" cy="3351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8631360" y="3417480"/>
            <a:ext cx="0" cy="3351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9360" y="3855960"/>
            <a:ext cx="4827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LS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664120" y="3855960"/>
            <a:ext cx="5454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MS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963720" y="3417480"/>
            <a:ext cx="0" cy="3351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924280" y="3417480"/>
            <a:ext cx="0" cy="33516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63720" y="353052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27680" y="3141720"/>
            <a:ext cx="1235880" cy="32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(68|72)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24280" y="353052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51160" y="3141720"/>
            <a:ext cx="795240" cy="32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54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400640" y="3530520"/>
            <a:ext cx="423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23800" y="3141720"/>
            <a:ext cx="1185480" cy="32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0-2745 b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aseband packet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47560" y="1473120"/>
            <a:ext cx="8035920" cy="5004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57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56220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55412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9760" y="3984480"/>
            <a:ext cx="888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9760" y="5819760"/>
            <a:ext cx="888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54756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55888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57540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56732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7560" y="2308320"/>
            <a:ext cx="2011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158480" y="2066760"/>
            <a:ext cx="991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625 µ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62200" y="2733840"/>
            <a:ext cx="10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21520" y="2506680"/>
            <a:ext cx="1190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312.5 µ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3718080" y="44366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6640" y="4653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717720" y="4653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88920" y="4392720"/>
            <a:ext cx="892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68 µ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13880" y="4395960"/>
            <a:ext cx="7884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64560" y="4395960"/>
            <a:ext cx="10170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+1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77760" y="4397400"/>
            <a:ext cx="10170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+2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63280" y="3211560"/>
            <a:ext cx="7884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72640" y="3211560"/>
            <a:ext cx="10170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+1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85840" y="3211560"/>
            <a:ext cx="101700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+2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54120" y="2733840"/>
            <a:ext cx="200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91440" y="3591000"/>
            <a:ext cx="158616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master liste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5000" y="4068720"/>
            <a:ext cx="138816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master pag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09400" y="3614760"/>
            <a:ext cx="158616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master liste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24280" y="4092480"/>
            <a:ext cx="168552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master respon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404640" y="2984400"/>
            <a:ext cx="455400" cy="999720"/>
            <a:chOff x="404640" y="2984400"/>
            <a:chExt cx="455400" cy="999720"/>
          </a:xfrm>
        </p:grpSpPr>
        <p:sp>
          <p:nvSpPr>
            <p:cNvPr id="892" name=""/>
            <p:cNvSpPr/>
            <p:nvPr/>
          </p:nvSpPr>
          <p:spPr>
            <a:xfrm>
              <a:off x="548640" y="2984400"/>
              <a:ext cx="154800" cy="999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4640" y="3268440"/>
              <a:ext cx="45540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428480" y="2984400"/>
            <a:ext cx="455400" cy="999720"/>
            <a:chOff x="1428480" y="2984400"/>
            <a:chExt cx="455400" cy="999720"/>
          </a:xfrm>
        </p:grpSpPr>
        <p:sp>
          <p:nvSpPr>
            <p:cNvPr id="895" name=""/>
            <p:cNvSpPr/>
            <p:nvPr/>
          </p:nvSpPr>
          <p:spPr>
            <a:xfrm>
              <a:off x="1553400" y="2984400"/>
              <a:ext cx="154080" cy="999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28480" y="3257640"/>
              <a:ext cx="45540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417840" y="4819680"/>
            <a:ext cx="455400" cy="999720"/>
            <a:chOff x="3417840" y="4819680"/>
            <a:chExt cx="455400" cy="999720"/>
          </a:xfrm>
        </p:grpSpPr>
        <p:sp>
          <p:nvSpPr>
            <p:cNvPr id="898" name=""/>
            <p:cNvSpPr/>
            <p:nvPr/>
          </p:nvSpPr>
          <p:spPr>
            <a:xfrm>
              <a:off x="3561480" y="4819680"/>
              <a:ext cx="154440" cy="999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17840" y="5069520"/>
              <a:ext cx="45540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564080" y="2984400"/>
            <a:ext cx="1083960" cy="999720"/>
            <a:chOff x="4564080" y="2984400"/>
            <a:chExt cx="1083960" cy="999720"/>
          </a:xfrm>
        </p:grpSpPr>
        <p:sp>
          <p:nvSpPr>
            <p:cNvPr id="901" name=""/>
            <p:cNvSpPr/>
            <p:nvPr/>
          </p:nvSpPr>
          <p:spPr>
            <a:xfrm>
              <a:off x="4564080" y="2984400"/>
              <a:ext cx="1083960" cy="999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36960" y="3331440"/>
              <a:ext cx="68256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</a:rPr>
                <a:t>FHS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432480" y="4819680"/>
            <a:ext cx="455400" cy="999720"/>
            <a:chOff x="6432480" y="4819680"/>
            <a:chExt cx="455400" cy="999720"/>
          </a:xfrm>
        </p:grpSpPr>
        <p:sp>
          <p:nvSpPr>
            <p:cNvPr id="904" name=""/>
            <p:cNvSpPr/>
            <p:nvPr/>
          </p:nvSpPr>
          <p:spPr>
            <a:xfrm>
              <a:off x="6575400" y="4819680"/>
              <a:ext cx="154080" cy="999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53966" dir="189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32480" y="5069520"/>
              <a:ext cx="455400" cy="32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</a:rPr>
                <a:t>ID</a:t>
              </a:r>
              <a:r>
                <a:rPr b="0" lang="en-US" sz="13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V="1">
            <a:off x="8583480" y="2066760"/>
            <a:ext cx="0" cy="3921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791440" y="6010200"/>
            <a:ext cx="158616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slave respon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77560" y="5987880"/>
            <a:ext cx="1586160" cy="2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slave respon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67320" y="2308320"/>
            <a:ext cx="200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00120" y="2066760"/>
            <a:ext cx="991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625 µ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93760" y="6477120"/>
            <a:ext cx="5251680" cy="89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A: slave acquires half-slot synchron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B: slave acquires full-slot synchron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: slave capable to join master’s pico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: piconet communications start with master Tx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66040" y="1639800"/>
            <a:ext cx="542520" cy="32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575400" y="1984320"/>
            <a:ext cx="542880" cy="166680"/>
          </a:xfrm>
          <a:prstGeom prst="rightArrow">
            <a:avLst>
              <a:gd name="adj1" fmla="val 50000"/>
              <a:gd name="adj2" fmla="val 81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653680" y="1650960"/>
            <a:ext cx="542520" cy="32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583480" y="1984320"/>
            <a:ext cx="542880" cy="166680"/>
          </a:xfrm>
          <a:prstGeom prst="rightArrow">
            <a:avLst>
              <a:gd name="adj1" fmla="val 50000"/>
              <a:gd name="adj2" fmla="val 81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552840" y="1650960"/>
            <a:ext cx="542520" cy="32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62200" y="1995480"/>
            <a:ext cx="541440" cy="165240"/>
          </a:xfrm>
          <a:prstGeom prst="rightArrow">
            <a:avLst>
              <a:gd name="adj1" fmla="val 50000"/>
              <a:gd name="adj2" fmla="val 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57960" y="1650960"/>
            <a:ext cx="542520" cy="32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67320" y="1995480"/>
            <a:ext cx="539640" cy="165240"/>
          </a:xfrm>
          <a:prstGeom prst="rightArrow">
            <a:avLst>
              <a:gd name="adj1" fmla="val 50000"/>
              <a:gd name="adj2" fmla="val 81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535600" y="3984480"/>
            <a:ext cx="788040" cy="3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[m]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Courier New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67320" y="2733840"/>
            <a:ext cx="401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87240" y="2508120"/>
            <a:ext cx="10911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1.25 m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63240" y="2508120"/>
            <a:ext cx="991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625 µse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aging sequenc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567040" y="64771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aseband link type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79320" y="1371240"/>
            <a:ext cx="8159760" cy="3946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39120" indent="-339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olling-based (TDD) packet transmission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1 slot: 0.625msec (max 1600 slots/sec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master/slave slots (even-/odd-numbered slots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olling: master always “polls” slaves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ynchronous connection-oriented (SCO) link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circuit-switched”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2" marL="112932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eriodic single-slot packet assignment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symmetric 64Kbps full-duplex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Asynchronous connection-less (ACL) link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packet switching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asymmetric bandwidth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2" marL="112932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variable packet size (1-5 slots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3" marL="158004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max. 721 kbps (57.6 kbps return channel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  <a:p>
            <a:pPr lvl="3" marL="1580040" indent="0">
              <a:lnSpc>
                <a:spcPct val="9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802bc"/>
                </a:solidFill>
                <a:latin typeface="Arial"/>
              </a:rPr>
              <a:t>108.8 - 432.6 kbps (symmetric)</a:t>
            </a:r>
            <a:endParaRPr b="1" lang="en-US" sz="2000" spc="-1" strike="noStrike">
              <a:solidFill>
                <a:srgbClr val="0802bc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20720" y="5562720"/>
            <a:ext cx="8159760" cy="1105560"/>
            <a:chOff x="720720" y="5562720"/>
            <a:chExt cx="8159760" cy="1105560"/>
          </a:xfrm>
        </p:grpSpPr>
        <p:grpSp>
          <p:nvGrpSpPr>
            <p:cNvPr id="929" name=""/>
            <p:cNvGrpSpPr/>
            <p:nvPr/>
          </p:nvGrpSpPr>
          <p:grpSpPr>
            <a:xfrm>
              <a:off x="5730840" y="6340320"/>
              <a:ext cx="1785600" cy="327960"/>
              <a:chOff x="5730840" y="6340320"/>
              <a:chExt cx="1785600" cy="327960"/>
            </a:xfrm>
          </p:grpSpPr>
          <p:sp>
            <p:nvSpPr>
              <p:cNvPr id="930" name=""/>
              <p:cNvSpPr/>
              <p:nvPr/>
            </p:nvSpPr>
            <p:spPr>
              <a:xfrm>
                <a:off x="6050880" y="6427080"/>
                <a:ext cx="31968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30840" y="6427080"/>
                <a:ext cx="32004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402600" y="6340320"/>
                <a:ext cx="111384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ourier New"/>
                  </a:rPr>
                  <a:t>ACL lin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720720" y="5562720"/>
              <a:ext cx="8159760" cy="804240"/>
              <a:chOff x="720720" y="5562720"/>
              <a:chExt cx="8159760" cy="804240"/>
            </a:xfrm>
          </p:grpSpPr>
          <p:sp>
            <p:nvSpPr>
              <p:cNvPr id="934" name=""/>
              <p:cNvSpPr/>
              <p:nvPr/>
            </p:nvSpPr>
            <p:spPr>
              <a:xfrm>
                <a:off x="1600200" y="5649840"/>
                <a:ext cx="320760" cy="17316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79640" y="5649840"/>
                <a:ext cx="32076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21160" y="5649840"/>
                <a:ext cx="318960" cy="17316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160880" y="5649840"/>
                <a:ext cx="31896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800600" y="5649840"/>
                <a:ext cx="32076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440320" y="5649840"/>
                <a:ext cx="320760" cy="17316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080040" y="5649840"/>
                <a:ext cx="96048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361280" y="5649840"/>
                <a:ext cx="318960" cy="17316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1000" y="5649840"/>
                <a:ext cx="320760" cy="17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00400" y="5649840"/>
                <a:ext cx="320760" cy="173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40120" y="5649840"/>
                <a:ext cx="32076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479840" y="5649840"/>
                <a:ext cx="32076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21360" y="5649840"/>
                <a:ext cx="318960" cy="173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61080" y="5649840"/>
                <a:ext cx="31896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40520" y="5649840"/>
                <a:ext cx="320760" cy="173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80240" y="5649840"/>
                <a:ext cx="32076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920960" y="5649840"/>
                <a:ext cx="958680" cy="1731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79440" y="5649840"/>
                <a:ext cx="320760" cy="173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20720" y="5823000"/>
                <a:ext cx="815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39920" y="57355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1560" y="57355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" name=""/>
              <p:cNvGrpSpPr/>
              <p:nvPr/>
            </p:nvGrpSpPr>
            <p:grpSpPr>
              <a:xfrm>
                <a:off x="1600200" y="5649840"/>
                <a:ext cx="6400440" cy="172800"/>
                <a:chOff x="1600200" y="5649840"/>
                <a:chExt cx="6400440" cy="1728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160020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88036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2008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6052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80024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44032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08076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056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000640" y="5649840"/>
                  <a:ext cx="0" cy="17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5" name=""/>
              <p:cNvSpPr/>
              <p:nvPr/>
            </p:nvSpPr>
            <p:spPr>
              <a:xfrm>
                <a:off x="8640720" y="57355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256400" y="5735520"/>
                <a:ext cx="7545960" cy="32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ff3300"/>
                    </a:solidFill>
                    <a:latin typeface="Courier New"/>
                  </a:rPr>
                  <a:t>0   1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  2  3  4   5  </a:t>
                </a:r>
                <a:r>
                  <a:rPr b="0" lang="en-US" sz="1300" spc="-1" strike="noStrike">
                    <a:solidFill>
                      <a:srgbClr val="ff3300"/>
                    </a:solidFill>
                    <a:latin typeface="Courier New"/>
                  </a:rPr>
                  <a:t>6  7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   8  9  10 11 </a:t>
                </a:r>
                <a:r>
                  <a:rPr b="0" lang="en-US" sz="1300" spc="-1" strike="noStrike">
                    <a:solidFill>
                      <a:srgbClr val="ff3300"/>
                    </a:solidFill>
                    <a:latin typeface="Courier New"/>
                  </a:rPr>
                  <a:t>12  13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 14  15 16 17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0" lang="en-US" sz="1300" spc="-1" strike="noStrike">
                    <a:solidFill>
                      <a:srgbClr val="ff3300"/>
                    </a:solidFill>
                    <a:latin typeface="Courier New"/>
                  </a:rPr>
                  <a:t>18  19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 20 21 2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560680" y="57355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400800" y="57355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9" name=""/>
              <p:cNvGrpSpPr/>
              <p:nvPr/>
            </p:nvGrpSpPr>
            <p:grpSpPr>
              <a:xfrm>
                <a:off x="5730840" y="6039000"/>
                <a:ext cx="1785600" cy="327960"/>
                <a:chOff x="5730840" y="6039000"/>
                <a:chExt cx="1785600" cy="32796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6050880" y="6125040"/>
                  <a:ext cx="319680" cy="17208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30840" y="6125040"/>
                  <a:ext cx="320040" cy="17208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402600" y="6039000"/>
                  <a:ext cx="111384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500" spc="-1" strike="noStrike">
                      <a:solidFill>
                        <a:srgbClr val="ff0000"/>
                      </a:solidFill>
                      <a:latin typeface="Courier New"/>
                    </a:rPr>
                    <a:t>SCO link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127944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92096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20040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84012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984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12136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6108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4052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8024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21760" y="5562720"/>
                <a:ext cx="0" cy="26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1224360" y="6062760"/>
                <a:ext cx="3145680" cy="297720"/>
                <a:chOff x="1224360" y="6062760"/>
                <a:chExt cx="3145680" cy="29772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730320" y="6123960"/>
                  <a:ext cx="319680" cy="173520"/>
                </a:xfrm>
                <a:prstGeom prst="rect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050000" y="6123960"/>
                  <a:ext cx="320040" cy="1735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224360" y="6062760"/>
                  <a:ext cx="257688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9360" rIns="99360" tIns="49680" bIns="496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Courier New"/>
                    </a:rPr>
                    <a:t>transmission from master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7" name=""/>
            <p:cNvGrpSpPr/>
            <p:nvPr/>
          </p:nvGrpSpPr>
          <p:grpSpPr>
            <a:xfrm>
              <a:off x="1323000" y="6365880"/>
              <a:ext cx="3047040" cy="297720"/>
              <a:chOff x="1323000" y="6365880"/>
              <a:chExt cx="3047040" cy="297720"/>
            </a:xfrm>
          </p:grpSpPr>
          <p:sp>
            <p:nvSpPr>
              <p:cNvPr id="988" name=""/>
              <p:cNvSpPr/>
              <p:nvPr/>
            </p:nvSpPr>
            <p:spPr>
              <a:xfrm>
                <a:off x="3730320" y="6426720"/>
                <a:ext cx="319680" cy="1728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050000" y="6426720"/>
                <a:ext cx="320040" cy="172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23000" y="6365880"/>
                <a:ext cx="247788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transmission from sla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>
            <a:off x="58068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Bluetooth security feature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39360" y="1523880"/>
            <a:ext cx="8161560" cy="5050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Authentication of remote devic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based on link key (128 bit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challenge/respons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may be performed in both direction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Encryption of payload data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tream cipher algorithm (</a:t>
            </a:r>
            <a:r>
              <a:rPr b="1" lang="en-US" sz="2800" spc="-1" strike="noStrike">
                <a:solidFill>
                  <a:srgbClr val="0802b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 128 Bit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afer+ (Massey and Rueppel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affects all traffic on a link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Initialization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hared key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PIN entry by user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80680" y="662940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Key generation and usag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112400" y="1344600"/>
            <a:ext cx="702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20800" y="2387520"/>
            <a:ext cx="1254240" cy="550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63600" y="1766880"/>
            <a:ext cx="368280" cy="620640"/>
          </a:xfrm>
          <a:prstGeom prst="downArrow">
            <a:avLst>
              <a:gd name="adj1" fmla="val 50000"/>
              <a:gd name="adj2" fmla="val 42131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8320" y="3508200"/>
            <a:ext cx="1700280" cy="6289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8600" y="5999040"/>
            <a:ext cx="2438280" cy="70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20800" y="4749840"/>
            <a:ext cx="1254240" cy="550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262160" y="4137120"/>
            <a:ext cx="369720" cy="614160"/>
          </a:xfrm>
          <a:prstGeom prst="downArrow">
            <a:avLst>
              <a:gd name="adj1" fmla="val 50000"/>
              <a:gd name="adj2" fmla="val 4152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62160" y="2938320"/>
            <a:ext cx="369720" cy="569880"/>
          </a:xfrm>
          <a:prstGeom prst="downArrow">
            <a:avLst>
              <a:gd name="adj1" fmla="val 50000"/>
              <a:gd name="adj2" fmla="val 38535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262160" y="5300640"/>
            <a:ext cx="369720" cy="708120"/>
          </a:xfrm>
          <a:prstGeom prst="downArrow">
            <a:avLst>
              <a:gd name="adj1" fmla="val 50000"/>
              <a:gd name="adj2" fmla="val 478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389320" y="3614760"/>
            <a:ext cx="2879640" cy="345960"/>
          </a:xfrm>
          <a:prstGeom prst="leftRightArrow">
            <a:avLst>
              <a:gd name="adj1" fmla="val 50000"/>
              <a:gd name="adj2" fmla="val 16570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3040" y="6197760"/>
            <a:ext cx="2068560" cy="345960"/>
          </a:xfrm>
          <a:prstGeom prst="leftRightArrow">
            <a:avLst>
              <a:gd name="adj1" fmla="val 50000"/>
              <a:gd name="adj2" fmla="val 119030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890800" y="5773680"/>
            <a:ext cx="1875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670120" y="3228840"/>
            <a:ext cx="2546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838480" y="1330200"/>
            <a:ext cx="702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43640" y="2373480"/>
            <a:ext cx="1257120" cy="550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989680" y="1752480"/>
            <a:ext cx="368280" cy="621000"/>
          </a:xfrm>
          <a:prstGeom prst="downArrow">
            <a:avLst>
              <a:gd name="adj1" fmla="val 50000"/>
              <a:gd name="adj2" fmla="val 42155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324400" y="3494160"/>
            <a:ext cx="1698840" cy="628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54680" y="5994360"/>
            <a:ext cx="2438280" cy="7081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543640" y="4735440"/>
            <a:ext cx="1257120" cy="550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987880" y="4122720"/>
            <a:ext cx="370080" cy="614520"/>
          </a:xfrm>
          <a:prstGeom prst="downArrow">
            <a:avLst>
              <a:gd name="adj1" fmla="val 50000"/>
              <a:gd name="adj2" fmla="val 41513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87880" y="2924280"/>
            <a:ext cx="370080" cy="569880"/>
          </a:xfrm>
          <a:prstGeom prst="downArrow">
            <a:avLst>
              <a:gd name="adj1" fmla="val 50000"/>
              <a:gd name="adj2" fmla="val 38497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987880" y="5286240"/>
            <a:ext cx="370080" cy="708120"/>
          </a:xfrm>
          <a:prstGeom prst="downArrow">
            <a:avLst>
              <a:gd name="adj1" fmla="val 50000"/>
              <a:gd name="adj2" fmla="val 4783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93480" y="1386000"/>
            <a:ext cx="288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650360" y="3321000"/>
            <a:ext cx="18759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810560" y="5911920"/>
            <a:ext cx="1708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068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609480" y="685800"/>
            <a:ext cx="8637840" cy="6005160"/>
            <a:chOff x="609480" y="685800"/>
            <a:chExt cx="8637840" cy="6005160"/>
          </a:xfrm>
        </p:grpSpPr>
        <p:sp>
          <p:nvSpPr>
            <p:cNvPr id="1023" name=""/>
            <p:cNvSpPr/>
            <p:nvPr/>
          </p:nvSpPr>
          <p:spPr>
            <a:xfrm>
              <a:off x="609480" y="5058360"/>
              <a:ext cx="8637840" cy="16326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480" y="3350520"/>
              <a:ext cx="8637840" cy="17078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9480" y="785520"/>
              <a:ext cx="8637840" cy="26420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57280" y="1102680"/>
              <a:ext cx="961560" cy="4046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Dev_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34000" y="1089720"/>
              <a:ext cx="961560" cy="4046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6920"/>
                  <a:tab algn="l" pos="1654200"/>
                  <a:tab algn="l" pos="2481120"/>
                  <a:tab algn="l" pos="3308400"/>
                  <a:tab algn="l" pos="4135320"/>
                  <a:tab algn="l" pos="4962600"/>
                  <a:tab algn="l" pos="5789520"/>
                  <a:tab algn="l" pos="6616800"/>
                  <a:tab algn="l" pos="7443720"/>
                  <a:tab algn="l" pos="8271000"/>
                  <a:tab algn="l" pos="9097920"/>
                  <a:tab algn="l" pos="9925200"/>
                  <a:tab algn="l" pos="1075212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Dev_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3488400" y="2552040"/>
              <a:ext cx="2844000" cy="556200"/>
              <a:chOff x="3488400" y="2552040"/>
              <a:chExt cx="2844000" cy="556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3897000" y="2552040"/>
                <a:ext cx="1799640" cy="5562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urier New"/>
                  </a:rPr>
                  <a:t>initia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urier New"/>
                  </a:rPr>
                  <a:t>authentica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0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3488400" y="3077640"/>
                <a:ext cx="2844360" cy="108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1033" name=""/>
            <p:cNvGrpSpPr/>
            <p:nvPr/>
          </p:nvGrpSpPr>
          <p:grpSpPr>
            <a:xfrm>
              <a:off x="2120040" y="2338920"/>
              <a:ext cx="5578200" cy="1010880"/>
              <a:chOff x="2120040" y="2338920"/>
              <a:chExt cx="5578200" cy="1010880"/>
            </a:xfrm>
          </p:grpSpPr>
          <p:sp>
            <p:nvSpPr>
              <p:cNvPr id="1031" name=""/>
              <p:cNvSpPr/>
              <p:nvPr/>
            </p:nvSpPr>
            <p:spPr>
              <a:xfrm>
                <a:off x="2120040" y="2805480"/>
                <a:ext cx="1367640" cy="544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7640" rIns="1076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emporar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link ke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30960" y="2805480"/>
                <a:ext cx="1367280" cy="544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7640" rIns="1076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emporar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link ke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4" name=""/>
              <p:cNvCxnSpPr>
                <a:stCxn id="1035" idx="2"/>
                <a:endCxn id="1031" idx="0"/>
              </p:cNvCxnSpPr>
              <p:nvPr/>
            </p:nvCxnSpPr>
            <p:spPr>
              <a:xfrm>
                <a:off x="2803320" y="2338920"/>
                <a:ext cx="1080" cy="466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6" name=""/>
              <p:cNvCxnSpPr>
                <a:stCxn id="1037" idx="2"/>
                <a:endCxn id="1032" idx="0"/>
              </p:cNvCxnSpPr>
              <p:nvPr/>
            </p:nvCxnSpPr>
            <p:spPr>
              <a:xfrm>
                <a:off x="7014240" y="2338920"/>
                <a:ext cx="1080" cy="466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38" name=""/>
            <p:cNvGrpSpPr/>
            <p:nvPr/>
          </p:nvGrpSpPr>
          <p:grpSpPr>
            <a:xfrm>
              <a:off x="1977840" y="685800"/>
              <a:ext cx="5864760" cy="1652760"/>
              <a:chOff x="1977840" y="685800"/>
              <a:chExt cx="5864760" cy="1652760"/>
            </a:xfrm>
          </p:grpSpPr>
          <p:grpSp>
            <p:nvGrpSpPr>
              <p:cNvPr id="1039" name=""/>
              <p:cNvGrpSpPr/>
              <p:nvPr/>
            </p:nvGrpSpPr>
            <p:grpSpPr>
              <a:xfrm>
                <a:off x="1977840" y="1478880"/>
                <a:ext cx="5864760" cy="859680"/>
                <a:chOff x="1977840" y="1478880"/>
                <a:chExt cx="5864760" cy="8596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1977840" y="1795680"/>
                  <a:ext cx="1654920" cy="54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7000" rIns="117000" tIns="58680" bIns="58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temporary link key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eneration algorithm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187320" y="1795680"/>
                  <a:ext cx="1655280" cy="54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7000" rIns="117000" tIns="58680" bIns="58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temporary link key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eneration algorithm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40" name=""/>
                <p:cNvCxnSpPr>
                  <a:stCxn id="1035" idx="0"/>
                  <a:endCxn id="1037" idx="0"/>
                </p:cNvCxnSpPr>
                <p:nvPr/>
              </p:nvCxnSpPr>
              <p:spPr>
                <a:xfrm flipH="1" rot="16200000">
                  <a:off x="4908960" y="-308520"/>
                  <a:ext cx="2160" cy="4210200"/>
                </a:xfrm>
                <a:prstGeom prst="bentConnector3">
                  <a:avLst>
                    <a:gd name="adj1" fmla="val -17600000"/>
                  </a:avLst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  <p:sp>
            <p:nvSpPr>
              <p:cNvPr id="1041" name=""/>
              <p:cNvSpPr/>
              <p:nvPr/>
            </p:nvSpPr>
            <p:spPr>
              <a:xfrm>
                <a:off x="3200760" y="685800"/>
                <a:ext cx="3340080" cy="684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000" rIns="117000" tIns="58680" bIns="58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ser enters common P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(initializatio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860760" y="3076560"/>
              <a:ext cx="8205840" cy="972000"/>
              <a:chOff x="860760" y="3076560"/>
              <a:chExt cx="8205840" cy="972000"/>
            </a:xfrm>
          </p:grpSpPr>
          <p:sp>
            <p:nvSpPr>
              <p:cNvPr id="1043" name=""/>
              <p:cNvSpPr/>
              <p:nvPr/>
            </p:nvSpPr>
            <p:spPr>
              <a:xfrm>
                <a:off x="860760" y="3582720"/>
                <a:ext cx="1439280" cy="465840"/>
              </a:xfrm>
              <a:prstGeom prst="flowChartPreparation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000" rIns="117000" tIns="58680" bIns="58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ust device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27320" y="3582720"/>
                <a:ext cx="1439280" cy="465840"/>
              </a:xfrm>
              <a:prstGeom prst="flowChartPreparation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000" rIns="117000" tIns="58680" bIns="58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ust device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5" name=""/>
              <p:cNvCxnSpPr>
                <a:stCxn id="1031" idx="1"/>
                <a:endCxn id="1043" idx="0"/>
              </p:cNvCxnSpPr>
              <p:nvPr/>
            </p:nvCxnSpPr>
            <p:spPr>
              <a:xfrm flipV="1" rot="10800000">
                <a:off x="1579680" y="3076560"/>
                <a:ext cx="540360" cy="505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46" name=""/>
              <p:cNvCxnSpPr>
                <a:stCxn id="1032" idx="3"/>
                <a:endCxn id="1044" idx="0"/>
              </p:cNvCxnSpPr>
              <p:nvPr/>
            </p:nvCxnSpPr>
            <p:spPr>
              <a:xfrm>
                <a:off x="7698600" y="3077280"/>
                <a:ext cx="648360" cy="50580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47" name=""/>
              <p:cNvSpPr/>
              <p:nvPr/>
            </p:nvSpPr>
            <p:spPr>
              <a:xfrm>
                <a:off x="3025800" y="3605400"/>
                <a:ext cx="3539160" cy="3866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000" rIns="117000" tIns="58680" bIns="58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Courier New"/>
                  </a:rPr>
                  <a:t>trust is a mutual rel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2408760" y="4325760"/>
              <a:ext cx="5110200" cy="556200"/>
              <a:chOff x="2408760" y="4325760"/>
              <a:chExt cx="5110200" cy="556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444480" y="4325760"/>
                <a:ext cx="3057120" cy="5562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urier New"/>
                  </a:rPr>
                  <a:t>in future authentication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urier New"/>
                  </a:rPr>
                  <a:t>use permanent link ke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0" name=""/>
              <p:cNvCxnSpPr>
                <a:stCxn id="1051" idx="3"/>
                <a:endCxn id="1052" idx="1"/>
              </p:cNvCxnSpPr>
              <p:nvPr/>
            </p:nvCxnSpPr>
            <p:spPr>
              <a:xfrm>
                <a:off x="2408760" y="4631400"/>
                <a:ext cx="5110560" cy="108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1053" name=""/>
            <p:cNvGrpSpPr/>
            <p:nvPr/>
          </p:nvGrpSpPr>
          <p:grpSpPr>
            <a:xfrm>
              <a:off x="1579680" y="3550680"/>
              <a:ext cx="6766920" cy="2130120"/>
              <a:chOff x="1579680" y="3550680"/>
              <a:chExt cx="6766920" cy="2130120"/>
            </a:xfrm>
          </p:grpSpPr>
          <p:sp>
            <p:nvSpPr>
              <p:cNvPr id="1054" name=""/>
              <p:cNvSpPr/>
              <p:nvPr/>
            </p:nvSpPr>
            <p:spPr>
              <a:xfrm>
                <a:off x="2156400" y="5214600"/>
                <a:ext cx="1295640" cy="466200"/>
              </a:xfrm>
              <a:prstGeom prst="flowChartPreparation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ncrypt link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5" name=""/>
              <p:cNvCxnSpPr>
                <a:stCxn id="1043" idx="3"/>
                <a:endCxn id="1054" idx="0"/>
              </p:cNvCxnSpPr>
              <p:nvPr/>
            </p:nvCxnSpPr>
            <p:spPr>
              <a:xfrm>
                <a:off x="2300400" y="3815640"/>
                <a:ext cx="504360" cy="139932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56" name=""/>
              <p:cNvCxnSpPr>
                <a:stCxn id="1051" idx="2"/>
                <a:endCxn id="1054" idx="1"/>
              </p:cNvCxnSpPr>
              <p:nvPr/>
            </p:nvCxnSpPr>
            <p:spPr>
              <a:xfrm flipH="1" rot="16200000">
                <a:off x="1595520" y="4887720"/>
                <a:ext cx="544680" cy="57636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57" name=""/>
              <p:cNvSpPr/>
              <p:nvPr/>
            </p:nvSpPr>
            <p:spPr>
              <a:xfrm>
                <a:off x="6367320" y="5214600"/>
                <a:ext cx="1295640" cy="466200"/>
              </a:xfrm>
              <a:prstGeom prst="flowChartPreparation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encrypt link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8" name=""/>
              <p:cNvCxnSpPr>
                <a:stCxn id="1044" idx="1"/>
                <a:endCxn id="1057" idx="0"/>
              </p:cNvCxnSpPr>
              <p:nvPr/>
            </p:nvCxnSpPr>
            <p:spPr>
              <a:xfrm flipV="1" rot="10800000">
                <a:off x="7014600" y="3814920"/>
                <a:ext cx="612720" cy="139932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59" name=""/>
              <p:cNvCxnSpPr>
                <a:stCxn id="1052" idx="2"/>
                <a:endCxn id="1057" idx="3"/>
              </p:cNvCxnSpPr>
              <p:nvPr/>
            </p:nvCxnSpPr>
            <p:spPr>
              <a:xfrm rot="5400000">
                <a:off x="7732440" y="4833720"/>
                <a:ext cx="544680" cy="684360"/>
              </a:xfrm>
              <a:prstGeom prst="bent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60" name=""/>
              <p:cNvSpPr/>
              <p:nvPr/>
            </p:nvSpPr>
            <p:spPr>
              <a:xfrm>
                <a:off x="2216160" y="3550680"/>
                <a:ext cx="387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03320" y="3550680"/>
                <a:ext cx="387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753480" y="4048920"/>
              <a:ext cx="8421840" cy="854640"/>
              <a:chOff x="753480" y="4048920"/>
              <a:chExt cx="8421840" cy="854640"/>
            </a:xfrm>
          </p:grpSpPr>
          <p:sp>
            <p:nvSpPr>
              <p:cNvPr id="1051" name=""/>
              <p:cNvSpPr/>
              <p:nvPr/>
            </p:nvSpPr>
            <p:spPr>
              <a:xfrm>
                <a:off x="753480" y="4359960"/>
                <a:ext cx="1655640" cy="5436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rate and sto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ermanent link ke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520040" y="4359960"/>
                <a:ext cx="1655280" cy="5436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rate and sto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ermanent link ke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3" name=""/>
              <p:cNvCxnSpPr>
                <a:stCxn id="1043" idx="2"/>
                <a:endCxn id="1051" idx="0"/>
              </p:cNvCxnSpPr>
              <p:nvPr/>
            </p:nvCxnSpPr>
            <p:spPr>
              <a:xfrm>
                <a:off x="1581120" y="4048920"/>
                <a:ext cx="1080" cy="311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64" name=""/>
              <p:cNvCxnSpPr>
                <a:stCxn id="1044" idx="2"/>
                <a:endCxn id="1052" idx="0"/>
              </p:cNvCxnSpPr>
              <p:nvPr/>
            </p:nvCxnSpPr>
            <p:spPr>
              <a:xfrm>
                <a:off x="8347320" y="4048920"/>
                <a:ext cx="1080" cy="311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65" name=""/>
              <p:cNvSpPr/>
              <p:nvPr/>
            </p:nvSpPr>
            <p:spPr>
              <a:xfrm>
                <a:off x="1545480" y="4048920"/>
                <a:ext cx="472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911360" y="4048920"/>
                <a:ext cx="472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27080" rIns="127080" tIns="63360" bIns="63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3632400" y="5971320"/>
              <a:ext cx="2555280" cy="327960"/>
              <a:chOff x="3632400" y="5971320"/>
              <a:chExt cx="2555280" cy="327960"/>
            </a:xfrm>
          </p:grpSpPr>
          <p:sp>
            <p:nvSpPr>
              <p:cNvPr id="1068" name=""/>
              <p:cNvSpPr/>
              <p:nvPr/>
            </p:nvSpPr>
            <p:spPr>
              <a:xfrm>
                <a:off x="4132080" y="5971320"/>
                <a:ext cx="1342440" cy="3279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9360" rIns="99360" tIns="49680" bIns="496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urier New"/>
                  </a:rPr>
                  <a:t>encryp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9" name=""/>
              <p:cNvCxnSpPr>
                <a:stCxn id="1070" idx="3"/>
                <a:endCxn id="1071" idx="1"/>
              </p:cNvCxnSpPr>
              <p:nvPr/>
            </p:nvCxnSpPr>
            <p:spPr>
              <a:xfrm>
                <a:off x="3632400" y="6262200"/>
                <a:ext cx="2555640" cy="108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1072" name=""/>
            <p:cNvGrpSpPr/>
            <p:nvPr/>
          </p:nvGrpSpPr>
          <p:grpSpPr>
            <a:xfrm>
              <a:off x="1977840" y="5214240"/>
              <a:ext cx="5864760" cy="1320480"/>
              <a:chOff x="1977840" y="5214240"/>
              <a:chExt cx="5864760" cy="1320480"/>
            </a:xfrm>
          </p:grpSpPr>
          <p:cxnSp>
            <p:nvCxnSpPr>
              <p:cNvPr id="1073" name=""/>
              <p:cNvCxnSpPr>
                <a:stCxn id="1054" idx="2"/>
                <a:endCxn id="1070" idx="0"/>
              </p:cNvCxnSpPr>
              <p:nvPr/>
            </p:nvCxnSpPr>
            <p:spPr>
              <a:xfrm>
                <a:off x="2804760" y="5680080"/>
                <a:ext cx="1080" cy="311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0" name=""/>
              <p:cNvSpPr/>
              <p:nvPr/>
            </p:nvSpPr>
            <p:spPr>
              <a:xfrm>
                <a:off x="1977840" y="5991120"/>
                <a:ext cx="1654920" cy="5436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7880" rIns="137880" tIns="69120" bIns="69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rate temporar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ncryption lin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187320" y="5991120"/>
                <a:ext cx="1655280" cy="54360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7880" rIns="137880" tIns="69120" bIns="69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enerate temporar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ncryption lin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369160" y="5648040"/>
                <a:ext cx="4719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7880" rIns="137880" tIns="69120" bIns="69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5" name=""/>
              <p:cNvCxnSpPr>
                <a:stCxn id="1057" idx="2"/>
                <a:endCxn id="1071" idx="0"/>
              </p:cNvCxnSpPr>
              <p:nvPr/>
            </p:nvCxnSpPr>
            <p:spPr>
              <a:xfrm>
                <a:off x="7014600" y="5680080"/>
                <a:ext cx="1080" cy="311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6" name=""/>
              <p:cNvSpPr/>
              <p:nvPr/>
            </p:nvSpPr>
            <p:spPr>
              <a:xfrm>
                <a:off x="6974640" y="5680440"/>
                <a:ext cx="4719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7880" rIns="137880" tIns="69120" bIns="69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672000" y="5214240"/>
                <a:ext cx="2248560" cy="6667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7880" rIns="137880" tIns="69120" bIns="69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Courier New"/>
                  </a:rPr>
                  <a:t>encryption is 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6920"/>
                    <a:tab algn="l" pos="1654200"/>
                    <a:tab algn="l" pos="2481120"/>
                    <a:tab algn="l" pos="3308400"/>
                    <a:tab algn="l" pos="4135320"/>
                    <a:tab algn="l" pos="4962600"/>
                    <a:tab algn="l" pos="5789520"/>
                    <a:tab algn="l" pos="6616800"/>
                    <a:tab algn="l" pos="7443720"/>
                    <a:tab algn="l" pos="8271000"/>
                    <a:tab algn="l" pos="9097920"/>
                    <a:tab algn="l" pos="9925200"/>
                    <a:tab algn="l" pos="1075212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Courier New"/>
                  </a:rPr>
                  <a:t>mutual ope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8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“upper” layer transport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720720" y="1549080"/>
            <a:ext cx="8159760" cy="500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46320" indent="-346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ost Controller Interface (HCI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rovides a common interface between the Bluetooth host and a Bluetooth modu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Interfaces in spec 1.0: USB; UART; RS-232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46320" indent="-346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Link Layer Control &amp; Adaptation (L2CAP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A simple data link protocol on top of the baseband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onnection-oriented &amp; connectionles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rotocol multiplexing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egmentation &amp; reassembly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QoS flow specification per connection (channel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group abstraction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13800" y="662940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160720" y="1523880"/>
            <a:ext cx="6800760" cy="5094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9960" y="6629400"/>
            <a:ext cx="3628440" cy="5562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: adopted 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: Bluetooth specific 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9520" y="3941640"/>
            <a:ext cx="1041480" cy="777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9520" y="3078000"/>
            <a:ext cx="1041480" cy="77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9520" y="2214720"/>
            <a:ext cx="1041480" cy="77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1521000" y="2387520"/>
            <a:ext cx="799920" cy="69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21000" y="3855960"/>
            <a:ext cx="799920" cy="155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320920" y="5583240"/>
            <a:ext cx="6400800" cy="776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nsport protoc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879800" y="1697040"/>
            <a:ext cx="1121040" cy="51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networ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p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20920" y="1693800"/>
            <a:ext cx="958680" cy="519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udio ap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400480" y="2386080"/>
            <a:ext cx="63212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61040" y="1697040"/>
            <a:ext cx="639720" cy="51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Ir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p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2479680" y="2560680"/>
            <a:ext cx="6241680" cy="2849040"/>
            <a:chOff x="2479680" y="2560680"/>
            <a:chExt cx="6241680" cy="2849040"/>
          </a:xfrm>
        </p:grpSpPr>
        <p:sp>
          <p:nvSpPr>
            <p:cNvPr id="1095" name=""/>
            <p:cNvSpPr/>
            <p:nvPr/>
          </p:nvSpPr>
          <p:spPr>
            <a:xfrm>
              <a:off x="6160320" y="3337560"/>
              <a:ext cx="720000" cy="112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OB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79600" y="2560680"/>
              <a:ext cx="640440" cy="284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contro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79680" y="2560680"/>
              <a:ext cx="640080" cy="284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80160" y="4632840"/>
              <a:ext cx="2960640" cy="776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RFCOM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80120" y="3942000"/>
              <a:ext cx="560160" cy="518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280120" y="3251160"/>
              <a:ext cx="560160" cy="518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80160" y="2560680"/>
              <a:ext cx="559800" cy="518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20240" y="2560680"/>
              <a:ext cx="560160" cy="518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9880" y="2560680"/>
              <a:ext cx="640080" cy="2849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SD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40880" y="2560680"/>
              <a:ext cx="720000" cy="1899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telephon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contro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based 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command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60320" y="2560680"/>
              <a:ext cx="720000" cy="604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rM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001360" y="2560680"/>
              <a:ext cx="720000" cy="2849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85040" bIns="18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TCS-B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36760" y="2647080"/>
              <a:ext cx="528480" cy="344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59840" bIns="159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urier New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960080" y="4719240"/>
              <a:ext cx="528480" cy="344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59840" bIns="159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urier New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60080" y="3683160"/>
              <a:ext cx="528480" cy="344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59840" bIns="159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urier New"/>
                </a:rPr>
                <a:t>(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72240" y="2991960"/>
              <a:ext cx="528480" cy="3452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60200" bIns="160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urier New"/>
                </a:rPr>
                <a:t>(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097840" y="2647080"/>
              <a:ext cx="528480" cy="3448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70080" rIns="370080" tIns="159840" bIns="159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urier New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7040520" y="1697040"/>
            <a:ext cx="1600200" cy="517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telephony ap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middleware protocol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881240" y="662940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at is Bluetooth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A short-range wireless technolog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esigned for several need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rconnecting a computer and peripheral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lear the snake’s nest behind the desk!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rconnecting various handheld devic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aptop computer, cell phone, palmtop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Preplanning of network is impractica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ny short-range application where low cost is essentia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Goal: $5 parts cos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nded to be embedded in other devic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What it is no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nother wireless LA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53" name="BabyTimberNoBkg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28130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iddleware protocols (1)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39360" y="159984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42720" indent="-3427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ervice Discovery Protocol (SDP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2320" indent="-28512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Defines an inquiry/response protocol for discovering service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2" marL="114120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Searching for and browsing service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2320" indent="-28512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Defines a service record format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2" marL="114120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Information about services provided by </a:t>
            </a:r>
            <a:r>
              <a:rPr b="1" i="1" lang="en-US" sz="2800" spc="-1" strike="noStrike">
                <a:solidFill>
                  <a:srgbClr val="0802bc"/>
                </a:solidFill>
                <a:latin typeface="Arial"/>
              </a:rPr>
              <a:t>attribute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2" marL="114120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Attributes composed of an ID (name) and a valu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2" marL="114120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IDs may be universally unique identifiers (UUIDs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8068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720720" y="431640"/>
            <a:ext cx="815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iddleware protocols (2)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39360" y="1523880"/>
            <a:ext cx="8161560" cy="5050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RFCOMM (based on GSM TS07.10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emulates a serial-port to support a large base of legacy (serial-port-based) application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allows multiple “ports” over a single physical channel between two devic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Telephony Control Protocol Spec (TCS)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all control (setup &amp; release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group management for gateway serving multiple devic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Legacy protocol reus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reuse existing protocols, e.g., IrDA’s OBEX, or WAP for interacting with applications on phon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3800" y="670572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teroperability &amp; Profile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4886280" y="1477800"/>
            <a:ext cx="4049280" cy="4160520"/>
            <a:chOff x="4886280" y="1477800"/>
            <a:chExt cx="4049280" cy="4160520"/>
          </a:xfrm>
        </p:grpSpPr>
        <p:sp>
          <p:nvSpPr>
            <p:cNvPr id="1124" name=""/>
            <p:cNvSpPr/>
            <p:nvPr/>
          </p:nvSpPr>
          <p:spPr>
            <a:xfrm>
              <a:off x="5325840" y="2535840"/>
              <a:ext cx="3609720" cy="3254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25840" y="3835080"/>
              <a:ext cx="3609720" cy="3240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25840" y="3185280"/>
              <a:ext cx="3609720" cy="3240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25840" y="4484520"/>
              <a:ext cx="3609720" cy="3254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927760" y="1560600"/>
              <a:ext cx="299880" cy="35737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529320" y="1560600"/>
              <a:ext cx="299880" cy="21106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130880" y="1560600"/>
              <a:ext cx="299880" cy="8132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32440" y="3035880"/>
              <a:ext cx="299520" cy="12866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32200" y="1560600"/>
              <a:ext cx="301320" cy="8132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59080" y="5314320"/>
              <a:ext cx="902880" cy="324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86080" y="5312880"/>
              <a:ext cx="89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86280" y="2861640"/>
              <a:ext cx="301320" cy="129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4516920" y="3363120"/>
              <a:ext cx="106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325840" y="1477800"/>
              <a:ext cx="3609720" cy="73188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324480" y="1650240"/>
              <a:ext cx="1509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30880" y="4322520"/>
              <a:ext cx="299880" cy="8114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30880" y="3023640"/>
              <a:ext cx="299880" cy="6476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32200" y="4322520"/>
              <a:ext cx="301320" cy="8114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39720" y="1731600"/>
            <a:ext cx="4160880" cy="5049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Represents default solution for a usage model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Vertical slice through the protocol stack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Basis for interoperability and logo requirement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Each Bluetooth device supports one or more profile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13800" y="662940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files (spec v.1)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720720" y="1472760"/>
            <a:ext cx="8159760" cy="507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46320" indent="-346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Generic Access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ervice Discovery Application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erial Port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Dial-up Networking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Fax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eadset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LAN Access Profile (using PPP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Generic Object Exchange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3" marL="161352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File Transfer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3" marL="161352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Object Push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3" marL="161352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ynchronization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49880" indent="-288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400" spc="-1" strike="noStrike">
                <a:solidFill>
                  <a:srgbClr val="0802bc"/>
                </a:solidFill>
                <a:latin typeface="Arial"/>
              </a:rPr>
              <a:t>TCS_BIN-based profil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ordless Telephony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2" marL="1153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Intercom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3" marL="161352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7" name=""/>
          <p:cNvGraphicFramePr/>
          <p:nvPr/>
        </p:nvGraphicFramePr>
        <p:xfrm>
          <a:off x="4516560" y="3216240"/>
          <a:ext cx="120780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6560" y="3216240"/>
                    <a:ext cx="12078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"/>
          <p:cNvGraphicFramePr/>
          <p:nvPr/>
        </p:nvGraphicFramePr>
        <p:xfrm>
          <a:off x="1192320" y="3002040"/>
          <a:ext cx="167004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2320" y="3002040"/>
                    <a:ext cx="167004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1" name=""/>
          <p:cNvGrpSpPr/>
          <p:nvPr/>
        </p:nvGrpSpPr>
        <p:grpSpPr>
          <a:xfrm>
            <a:off x="5680080" y="1849320"/>
            <a:ext cx="3219120" cy="4856040"/>
            <a:chOff x="5680080" y="1849320"/>
            <a:chExt cx="3219120" cy="4856040"/>
          </a:xfrm>
        </p:grpSpPr>
        <p:sp>
          <p:nvSpPr>
            <p:cNvPr id="1152" name=""/>
            <p:cNvSpPr/>
            <p:nvPr/>
          </p:nvSpPr>
          <p:spPr>
            <a:xfrm>
              <a:off x="6508440" y="3049200"/>
              <a:ext cx="1570320" cy="485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9120" bIns="69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08440" y="3049200"/>
              <a:ext cx="1570320" cy="48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80080" y="6057720"/>
              <a:ext cx="3219120" cy="647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9120" bIns="69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0080" y="6057720"/>
              <a:ext cx="3219120" cy="64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36680" y="605772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36680" y="6381360"/>
              <a:ext cx="117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8760" bIns="-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7015680" y="60573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63600" y="6381360"/>
              <a:ext cx="117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8760" bIns="-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63600" y="605772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742600" y="605772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5836680" y="5895360"/>
              <a:ext cx="15840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5080" y="5895720"/>
              <a:ext cx="117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8760" bIns="-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7015680" y="5895360"/>
              <a:ext cx="1562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7563600" y="5895360"/>
              <a:ext cx="15840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8742600" y="5895360"/>
              <a:ext cx="15660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22000" y="5895720"/>
              <a:ext cx="117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8760" bIns="-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91880" y="4864320"/>
              <a:ext cx="1570320" cy="485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9120" bIns="69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491880" y="4864320"/>
              <a:ext cx="1570320" cy="48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91880" y="4055040"/>
              <a:ext cx="1570320" cy="485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9120" bIns="69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491880" y="4055040"/>
              <a:ext cx="1570320" cy="48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77040" y="45410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70200" y="3545640"/>
              <a:ext cx="0" cy="44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65240" y="5733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72080" y="5726520"/>
              <a:ext cx="84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7320" bIns="-67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98640" y="5359320"/>
              <a:ext cx="0" cy="37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31920" y="5899320"/>
              <a:ext cx="841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-67320" bIns="-67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01600" y="1849320"/>
              <a:ext cx="1648800" cy="4852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9120" bIns="69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501600" y="1849320"/>
              <a:ext cx="1648800" cy="48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7062120" y="2331000"/>
              <a:ext cx="1440" cy="66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37880" rIns="137880" tIns="68760" bIns="68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AN access point profil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3068280" y="3454560"/>
            <a:ext cx="964800" cy="540720"/>
            <a:chOff x="3068280" y="3454560"/>
            <a:chExt cx="964800" cy="540720"/>
          </a:xfrm>
        </p:grpSpPr>
        <p:sp>
          <p:nvSpPr>
            <p:cNvPr id="1183" name=""/>
            <p:cNvSpPr/>
            <p:nvPr/>
          </p:nvSpPr>
          <p:spPr>
            <a:xfrm>
              <a:off x="3068280" y="3572280"/>
              <a:ext cx="26424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2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2997"/>
                </a:path>
              </a:pathLst>
            </a:custGeom>
            <a:noFill/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27400" y="3541680"/>
              <a:ext cx="31752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2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2997"/>
                </a:path>
              </a:pathLst>
            </a:custGeom>
            <a:noFill/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87600" y="3498120"/>
              <a:ext cx="395280" cy="45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2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2997"/>
                </a:path>
              </a:pathLst>
            </a:custGeom>
            <a:noFill/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62920" y="3454560"/>
              <a:ext cx="47016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92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92997"/>
                </a:path>
              </a:pathLst>
            </a:custGeom>
            <a:noFill/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files (spec v.2)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720720" y="1472760"/>
            <a:ext cx="8159760" cy="4318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Radio 2 (next generation radio)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lvl="1" marL="734400" indent="-28188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backward compatib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ar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AN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uman Interface Devic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Co-existence/Interoperability with 2.4 GHz ISM Device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Richer Audio/Voice/Video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rinting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Still Image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Extended Service Discovery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Local Positioning Profile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39120" indent="-339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UDI for Japanese 3G Handset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13800" y="662940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802.15.1 standard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230040" y="1295280"/>
          <a:ext cx="898056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295280"/>
                    <a:ext cx="898056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4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00280" y="1468440"/>
            <a:ext cx="8161200" cy="4749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2bc"/>
                </a:solidFill>
                <a:latin typeface="Times New Roman"/>
              </a:rPr>
              <a:t>Bluetooth is a global, RF-based (ISM band: 2.4 GHz), short-range, connectivity solution for portable, personal devices</a:t>
            </a:r>
            <a:endParaRPr b="1" lang="en-US" sz="3200" spc="-1" strike="noStrike">
              <a:solidFill>
                <a:srgbClr val="0802b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802b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Times New Roman"/>
              </a:rPr>
              <a:t>it is not just a radio, it is an end-to-end solution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2bc"/>
                </a:solidFill>
                <a:latin typeface="Times New Roman"/>
              </a:rPr>
              <a:t>The Bluetooth spec comprises</a:t>
            </a:r>
            <a:endParaRPr b="1" lang="en-US" sz="3200" spc="-1" strike="noStrike">
              <a:solidFill>
                <a:srgbClr val="0802b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802b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Times New Roman"/>
              </a:rPr>
              <a:t>a HW &amp; SW protocol specification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802b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Times New Roman"/>
              </a:rPr>
              <a:t>usage case scenario profiles and interoperability requirements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2bc"/>
                </a:solidFill>
                <a:latin typeface="Times New Roman"/>
              </a:rPr>
              <a:t>IEEE 802.15.1 is working on standardizing the PHY and MAC layers in Bluetooth</a:t>
            </a:r>
            <a:endParaRPr b="1" lang="en-US" sz="32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2bc"/>
                </a:solidFill>
                <a:latin typeface="Times New Roman"/>
              </a:rPr>
              <a:t>To learn more: </a:t>
            </a:r>
            <a:r>
              <a:rPr b="1" i="1" lang="en-US" sz="3200" spc="-1" strike="noStrike">
                <a:solidFill>
                  <a:srgbClr val="0802bc"/>
                </a:solidFill>
                <a:latin typeface="Times New Roman"/>
              </a:rPr>
              <a:t>http://www.bluetooth.org</a:t>
            </a:r>
            <a:r>
              <a:rPr b="1" i="1" lang="en-US" sz="3200" spc="-1" strike="noStrike">
                <a:solidFill>
                  <a:srgbClr val="0802b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13800" y="6781680"/>
            <a:ext cx="35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r. Chatschik Bisdikian &lt;bisdik@us.ib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ore on Bluetooth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re Info: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ttp://www.bluetooth.com/developer/specification/specification.asp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re Info: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ttp://internet.motlabs.com/books.ht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1200" name="bluetoothconnectwocablesbook" descr=""/>
          <p:cNvPicPr/>
          <p:nvPr/>
        </p:nvPicPr>
        <p:blipFill>
          <a:blip r:embed="rId1"/>
          <a:stretch/>
        </p:blipFill>
        <p:spPr>
          <a:xfrm>
            <a:off x="3352680" y="4800600"/>
            <a:ext cx="1009800" cy="1333440"/>
          </a:xfrm>
          <a:prstGeom prst="rect">
            <a:avLst/>
          </a:prstGeom>
          <a:ln w="0">
            <a:noFill/>
          </a:ln>
        </p:spPr>
      </p:pic>
      <p:pic>
        <p:nvPicPr>
          <p:cNvPr id="1201" name="bluetoothdemystifiedbook" descr=""/>
          <p:cNvPicPr/>
          <p:nvPr/>
        </p:nvPicPr>
        <p:blipFill>
          <a:blip r:embed="rId2"/>
          <a:stretch/>
        </p:blipFill>
        <p:spPr>
          <a:xfrm>
            <a:off x="4495680" y="4800600"/>
            <a:ext cx="1047960" cy="1333440"/>
          </a:xfrm>
          <a:prstGeom prst="rect">
            <a:avLst/>
          </a:prstGeom>
          <a:ln w="0">
            <a:noFill/>
          </a:ln>
        </p:spPr>
      </p:pic>
      <p:pic>
        <p:nvPicPr>
          <p:cNvPr id="1202" name="bluetoothrevealedbook" descr=""/>
          <p:cNvPicPr/>
          <p:nvPr/>
        </p:nvPicPr>
        <p:blipFill>
          <a:blip r:embed="rId3"/>
          <a:stretch/>
        </p:blipFill>
        <p:spPr>
          <a:xfrm>
            <a:off x="2209680" y="4800600"/>
            <a:ext cx="1009800" cy="1333440"/>
          </a:xfrm>
          <a:prstGeom prst="rect">
            <a:avLst/>
          </a:prstGeom>
          <a:ln w="0">
            <a:noFill/>
          </a:ln>
        </p:spPr>
      </p:pic>
      <p:pic>
        <p:nvPicPr>
          <p:cNvPr id="1203" name="dataoverwirelessnetworks" descr=""/>
          <p:cNvPicPr/>
          <p:nvPr/>
        </p:nvPicPr>
        <p:blipFill>
          <a:blip r:embed="rId4"/>
          <a:stretch/>
        </p:blipFill>
        <p:spPr>
          <a:xfrm>
            <a:off x="5638680" y="4800600"/>
            <a:ext cx="1067040" cy="1333440"/>
          </a:xfrm>
          <a:prstGeom prst="rect">
            <a:avLst/>
          </a:prstGeom>
          <a:ln w="0">
            <a:noFill/>
          </a:ln>
        </p:spPr>
      </p:pic>
      <p:pic>
        <p:nvPicPr>
          <p:cNvPr id="1204" name="ieeebluetooth" descr=""/>
          <p:cNvPicPr/>
          <p:nvPr/>
        </p:nvPicPr>
        <p:blipFill>
          <a:blip r:embed="rId5"/>
          <a:stretch/>
        </p:blipFill>
        <p:spPr>
          <a:xfrm>
            <a:off x="1143000" y="48006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6"/>
          <a:stretch/>
        </p:blipFill>
        <p:spPr>
          <a:xfrm>
            <a:off x="2209680" y="2057400"/>
            <a:ext cx="1152720" cy="16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6" name="" descr=""/>
          <p:cNvPicPr/>
          <p:nvPr/>
        </p:nvPicPr>
        <p:blipFill>
          <a:blip r:embed="rId7"/>
          <a:stretch/>
        </p:blipFill>
        <p:spPr>
          <a:xfrm>
            <a:off x="1143000" y="1905120"/>
            <a:ext cx="1143000" cy="160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ore on Bluetooth? (cont)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Join the Bluetooth SIG and participat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ttp://www.bluetooth.org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Join the IEEE WG for WPANs and participate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ttp://ieee802.org/15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Join the IETF IP over Bluetooth (IPoBT) BoF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ttp://internet.motlabs.com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802bc"/>
                </a:solidFill>
                <a:latin typeface="Arial"/>
              </a:rPr>
              <a:t>Also visit the Bluetooth(TM) Weblog</a:t>
            </a:r>
            <a:endParaRPr b="1" lang="en-US" sz="2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http://bluetooth.weblogs.com/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hat does Bluetooth do for me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91120" y="3575520"/>
            <a:ext cx="2457000" cy="3208320"/>
            <a:chOff x="4191120" y="3575520"/>
            <a:chExt cx="2457000" cy="3208320"/>
          </a:xfrm>
        </p:grpSpPr>
        <p:sp>
          <p:nvSpPr>
            <p:cNvPr id="56" name=""/>
            <p:cNvSpPr/>
            <p:nvPr/>
          </p:nvSpPr>
          <p:spPr>
            <a:xfrm>
              <a:off x="4317840" y="3581280"/>
              <a:ext cx="2292120" cy="21697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0" y="3652560"/>
              <a:ext cx="825480" cy="3618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726520" y="3890520"/>
              <a:ext cx="938880" cy="318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644360" y="4397400"/>
              <a:ext cx="939240" cy="3168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591520" y="4448160"/>
              <a:ext cx="825480" cy="36216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4480" y="5678640"/>
              <a:ext cx="229104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4191120" y="4044960"/>
            <a:ext cx="578160" cy="79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4044960"/>
                      <a:ext cx="578160" cy="7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180760" y="4895640"/>
            <a:ext cx="577080" cy="79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0760" y="4895640"/>
                      <a:ext cx="57708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071400" y="4348080"/>
            <a:ext cx="576720" cy="79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71400" y="4348080"/>
                      <a:ext cx="576720" cy="79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329440" y="3618000"/>
            <a:ext cx="412560" cy="574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29440" y="3618000"/>
                      <a:ext cx="412560" cy="57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6002280" y="1459080"/>
            <a:ext cx="3255480" cy="3101400"/>
            <a:chOff x="6002280" y="1459080"/>
            <a:chExt cx="3255480" cy="3101400"/>
          </a:xfrm>
        </p:grpSpPr>
        <p:sp>
          <p:nvSpPr>
            <p:cNvPr id="71" name=""/>
            <p:cNvSpPr/>
            <p:nvPr/>
          </p:nvSpPr>
          <p:spPr>
            <a:xfrm>
              <a:off x="6082200" y="1459080"/>
              <a:ext cx="2675880" cy="24559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002280" y="1622520"/>
              <a:ext cx="3255480" cy="2937960"/>
              <a:chOff x="6002280" y="1622520"/>
              <a:chExt cx="3255480" cy="2937960"/>
            </a:xfrm>
          </p:grpSpPr>
          <p:sp>
            <p:nvSpPr>
              <p:cNvPr id="73" name=""/>
              <p:cNvSpPr/>
              <p:nvPr/>
            </p:nvSpPr>
            <p:spPr>
              <a:xfrm>
                <a:off x="6540840" y="2007360"/>
                <a:ext cx="529920" cy="22104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54240" y="1731960"/>
                <a:ext cx="533160" cy="22104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54240" y="2118960"/>
                <a:ext cx="677880" cy="44244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684120" y="3608640"/>
                <a:ext cx="878040" cy="385920"/>
                <a:chOff x="6684120" y="3608640"/>
                <a:chExt cx="878040" cy="385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925680" y="3608640"/>
                  <a:ext cx="636480" cy="21816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84120" y="3618720"/>
                  <a:ext cx="869040" cy="37584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84120" y="3765240"/>
                  <a:ext cx="664560" cy="20772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7342560" y="3780720"/>
                  <a:ext cx="207360" cy="17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770880" y="3633840"/>
                  <a:ext cx="744480" cy="314280"/>
                  <a:chOff x="6770880" y="3633840"/>
                  <a:chExt cx="744480" cy="31428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797160" y="3706920"/>
                    <a:ext cx="613080" cy="183240"/>
                    <a:chOff x="6797160" y="3706920"/>
                    <a:chExt cx="613080" cy="1832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97160" y="3706920"/>
                      <a:ext cx="64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851160" y="3722040"/>
                      <a:ext cx="4356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888240" y="3732120"/>
                      <a:ext cx="446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925680" y="3742560"/>
                      <a:ext cx="460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964200" y="3756240"/>
                      <a:ext cx="5256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7280" bIns="-172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009200" y="3765960"/>
                      <a:ext cx="417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7046280" y="3776400"/>
                      <a:ext cx="493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7089480" y="3785040"/>
                      <a:ext cx="4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8640" bIns="-86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7128720" y="3798360"/>
                      <a:ext cx="432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7170480" y="3808800"/>
                      <a:ext cx="432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7209000" y="3821040"/>
                      <a:ext cx="4788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7250760" y="3830760"/>
                      <a:ext cx="4788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7284960" y="3840840"/>
                      <a:ext cx="525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333200" y="3856320"/>
                      <a:ext cx="770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770880" y="3727440"/>
                    <a:ext cx="592920" cy="220680"/>
                    <a:chOff x="6770880" y="3727440"/>
                    <a:chExt cx="592920" cy="22068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770880" y="3727440"/>
                      <a:ext cx="666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06160" y="3759840"/>
                      <a:ext cx="4464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77440" y="3759840"/>
                      <a:ext cx="558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7221240" y="3878640"/>
                      <a:ext cx="446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8640" bIns="-86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7264800" y="3897360"/>
                      <a:ext cx="475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7312680" y="3914280"/>
                      <a:ext cx="511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7284960" y="3873600"/>
                      <a:ext cx="586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7170480" y="3839400"/>
                      <a:ext cx="55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933240" y="3771720"/>
                      <a:ext cx="23364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28800" bIns="288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891480" y="3652560"/>
                    <a:ext cx="600480" cy="185040"/>
                    <a:chOff x="6891480" y="3652560"/>
                    <a:chExt cx="600480" cy="1850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891480" y="3652560"/>
                      <a:ext cx="428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926760" y="3660840"/>
                      <a:ext cx="478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965640" y="3670920"/>
                      <a:ext cx="475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002720" y="3684600"/>
                      <a:ext cx="478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7043040" y="3691440"/>
                      <a:ext cx="4788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7083360" y="3703320"/>
                      <a:ext cx="475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126560" y="3710160"/>
                      <a:ext cx="4464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168320" y="3725640"/>
                      <a:ext cx="446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205760" y="3732120"/>
                      <a:ext cx="403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244280" y="3742560"/>
                      <a:ext cx="4464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281360" y="3755880"/>
                      <a:ext cx="4464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7280" bIns="-172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324920" y="3765960"/>
                      <a:ext cx="417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362360" y="3776400"/>
                      <a:ext cx="428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400880" y="3786480"/>
                      <a:ext cx="475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444080" y="3798360"/>
                      <a:ext cx="478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826680" y="3691440"/>
                    <a:ext cx="611640" cy="178200"/>
                    <a:chOff x="6826680" y="3691440"/>
                    <a:chExt cx="611640" cy="17820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890040" y="3703320"/>
                      <a:ext cx="432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925680" y="3713760"/>
                      <a:ext cx="4608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968880" y="3725640"/>
                      <a:ext cx="4464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440" bIns="-10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7009200" y="3737160"/>
                      <a:ext cx="478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049520" y="3749040"/>
                      <a:ext cx="432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826680" y="3691440"/>
                      <a:ext cx="72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089480" y="3764520"/>
                      <a:ext cx="46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7130160" y="3771360"/>
                      <a:ext cx="435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170480" y="3781440"/>
                      <a:ext cx="46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7215480" y="3798360"/>
                      <a:ext cx="4608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7280" bIns="-172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7257240" y="3803400"/>
                      <a:ext cx="432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7293960" y="3817440"/>
                      <a:ext cx="478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7333200" y="3825720"/>
                      <a:ext cx="1051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5400" bIns="-540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856200" y="3671280"/>
                    <a:ext cx="608400" cy="178560"/>
                    <a:chOff x="6856200" y="3671280"/>
                    <a:chExt cx="608400" cy="1785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856200" y="3671280"/>
                      <a:ext cx="648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11640" y="3684960"/>
                      <a:ext cx="4464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7280" bIns="-172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945480" y="3693600"/>
                      <a:ext cx="4788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984720" y="3703320"/>
                      <a:ext cx="507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026480" y="3713760"/>
                      <a:ext cx="4932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069680" y="3726000"/>
                      <a:ext cx="4176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440" bIns="-10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110000" y="3737520"/>
                      <a:ext cx="46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149960" y="3747960"/>
                      <a:ext cx="44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185960" y="3764880"/>
                      <a:ext cx="460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7229160" y="3764880"/>
                      <a:ext cx="464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8640" bIns="-86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7266240" y="3780360"/>
                      <a:ext cx="5256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306560" y="3798720"/>
                      <a:ext cx="5076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7280" bIns="-172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346880" y="3805560"/>
                      <a:ext cx="525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394760" y="3815640"/>
                      <a:ext cx="698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922440" y="3633840"/>
                    <a:ext cx="592920" cy="180000"/>
                    <a:chOff x="6922440" y="3633840"/>
                    <a:chExt cx="592920" cy="18000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996600" y="3651120"/>
                      <a:ext cx="3852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440" bIns="-10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035480" y="3662640"/>
                      <a:ext cx="40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072560" y="3670920"/>
                      <a:ext cx="432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7110000" y="3683160"/>
                      <a:ext cx="460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120" bIns="-1512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153200" y="3693240"/>
                      <a:ext cx="4320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191720" y="3703320"/>
                      <a:ext cx="40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7230600" y="3711960"/>
                      <a:ext cx="46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7273800" y="3727440"/>
                      <a:ext cx="40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2240" bIns="-122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311240" y="373716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346520" y="3746160"/>
                      <a:ext cx="432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4040" bIns="-140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7388280" y="3756240"/>
                      <a:ext cx="44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3680" bIns="-136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427520" y="3764520"/>
                      <a:ext cx="4320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440" bIns="-10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922440" y="3633840"/>
                      <a:ext cx="370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958080" y="3651120"/>
                      <a:ext cx="417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5480" bIns="-154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466040" y="3774600"/>
                      <a:ext cx="493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9000" rIns="99000" tIns="-10080" bIns="-1008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751160" y="3489840"/>
                <a:ext cx="312840" cy="282240"/>
                <a:chOff x="7751160" y="3489840"/>
                <a:chExt cx="312840" cy="282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795800" y="3549240"/>
                  <a:ext cx="1980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57280" y="3491280"/>
                  <a:ext cx="264960" cy="25704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758720" y="3602160"/>
                  <a:ext cx="152640" cy="14616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916040" y="37483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929720" y="3654360"/>
                  <a:ext cx="87840" cy="9504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019360" y="365148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982280" y="3605400"/>
                  <a:ext cx="81720" cy="4032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9000" bIns="-9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013600" y="3581640"/>
                  <a:ext cx="19800" cy="23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39080" y="3521880"/>
                  <a:ext cx="72360" cy="5256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3240" bIns="32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863840" y="3491280"/>
                  <a:ext cx="70920" cy="3384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15480" bIns="-154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769520" y="3489840"/>
                  <a:ext cx="90720" cy="6444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15120" bIns="15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760160" y="356760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752240" y="358164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751160" y="3593520"/>
                  <a:ext cx="18360" cy="234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920" bIns="-25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55480" y="3593520"/>
                  <a:ext cx="266760" cy="15624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31520" y="3651480"/>
                  <a:ext cx="90720" cy="8820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38880" bIns="38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914240" y="3741480"/>
                  <a:ext cx="20160" cy="252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4120" bIns="-24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55480" y="3593520"/>
                  <a:ext cx="157320" cy="14112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51160" y="3593520"/>
                  <a:ext cx="18360" cy="234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920" bIns="-25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758720" y="3602160"/>
                  <a:ext cx="152640" cy="14616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916040" y="3748320"/>
                  <a:ext cx="21600" cy="237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931520" y="3654360"/>
                  <a:ext cx="86400" cy="9504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19360" y="3630960"/>
                  <a:ext cx="21600" cy="457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3600" bIns="-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760160" y="3562560"/>
                  <a:ext cx="261000" cy="12924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767720" y="3492720"/>
                  <a:ext cx="243720" cy="16488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758720" y="3602160"/>
                  <a:ext cx="152640" cy="14616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16040" y="37483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929720" y="3654360"/>
                  <a:ext cx="87840" cy="9504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019360" y="365148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82280" y="3605400"/>
                  <a:ext cx="81720" cy="4032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9000" bIns="-9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13600" y="3581640"/>
                  <a:ext cx="19800" cy="23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939080" y="3521880"/>
                  <a:ext cx="72360" cy="5256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3240" bIns="32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863840" y="3491280"/>
                  <a:ext cx="70920" cy="3384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15480" bIns="-154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769520" y="3489840"/>
                  <a:ext cx="90720" cy="6444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15120" bIns="15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760160" y="356760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752240" y="358164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751160" y="3593520"/>
                  <a:ext cx="18360" cy="2340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920" bIns="-25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791120" y="3494520"/>
                  <a:ext cx="117000" cy="8316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33840" bIns="338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88240" y="3566160"/>
                  <a:ext cx="39600" cy="2880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0520" bIns="-20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835760" y="3566160"/>
                  <a:ext cx="20160" cy="2016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54120" y="355752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852680" y="3557520"/>
                  <a:ext cx="21600" cy="237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55920" y="355752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862040" y="354204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878960" y="353700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77520" y="3537000"/>
                  <a:ext cx="21240" cy="237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883640" y="353700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889760" y="352188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906680" y="351684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06680" y="3513240"/>
                  <a:ext cx="20160" cy="255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3760" bIns="-23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85440" y="3511800"/>
                  <a:ext cx="21240" cy="144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871400" y="3494520"/>
                  <a:ext cx="18360" cy="252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4120" bIns="-24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849800" y="34912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843680" y="3511800"/>
                  <a:ext cx="19800" cy="23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841880" y="3511800"/>
                  <a:ext cx="18360" cy="252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4120" bIns="-24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822080" y="351324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15600" y="3531960"/>
                  <a:ext cx="19800" cy="219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812720" y="3530160"/>
                  <a:ext cx="20160" cy="255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3760" bIns="-23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95800" y="353376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88240" y="3554280"/>
                  <a:ext cx="1980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520" bIns="-47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69520" y="3557520"/>
                  <a:ext cx="41400" cy="2196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795800" y="3494520"/>
                  <a:ext cx="109440" cy="78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28800" bIns="28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846560" y="3513240"/>
                  <a:ext cx="18360" cy="255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3760" bIns="-23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62040" y="3506760"/>
                  <a:ext cx="21600" cy="471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160" bIns="-2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88320" y="35200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885440" y="3511800"/>
                  <a:ext cx="21240" cy="144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71400" y="3494520"/>
                  <a:ext cx="18360" cy="2520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4120" bIns="-241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849800" y="349128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51240" y="3513240"/>
                  <a:ext cx="12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9320" bIns="-49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22080" y="353376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832880" y="3549240"/>
                  <a:ext cx="23040" cy="144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862040" y="354060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857360" y="3530160"/>
                  <a:ext cx="2016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520" bIns="-47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843680" y="3515040"/>
                  <a:ext cx="1800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22080" y="351324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822080" y="3525120"/>
                  <a:ext cx="1080" cy="2376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791120" y="3554280"/>
                  <a:ext cx="18360" cy="237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808040" y="3547440"/>
                  <a:ext cx="21600" cy="471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160" bIns="-2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834320" y="3559320"/>
                  <a:ext cx="21600" cy="223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31080" y="3554280"/>
                  <a:ext cx="20160" cy="180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47520" bIns="-47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815600" y="3537000"/>
                  <a:ext cx="19800" cy="237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5560" bIns="-255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795800" y="353376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000" bIns="-270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862040" y="350820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35760" y="3528720"/>
                  <a:ext cx="21600" cy="2016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9160" bIns="-29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08040" y="3549240"/>
                  <a:ext cx="23040" cy="2196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27360" bIns="-27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8134200" y="1622520"/>
              <a:ext cx="163080" cy="298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134200" y="1622520"/>
                        <a:ext cx="163080" cy="29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8281080" y="1953360"/>
                <a:ext cx="179640" cy="410040"/>
                <a:chOff x="8281080" y="1953360"/>
                <a:chExt cx="179640" cy="4100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400600" y="2068920"/>
                  <a:ext cx="0" cy="226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380440" y="2068920"/>
                  <a:ext cx="0" cy="226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367840" y="1958760"/>
                  <a:ext cx="41760" cy="3888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10440" bIns="-10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282520" y="1953360"/>
                  <a:ext cx="133200" cy="10908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333640" y="2053800"/>
                  <a:ext cx="40320" cy="26532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49320" bIns="493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281080" y="2005920"/>
                  <a:ext cx="69840" cy="612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11880" bIns="11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283960" y="2319480"/>
                  <a:ext cx="176760" cy="43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5400" bIns="-54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335440" y="1982160"/>
                  <a:ext cx="21600" cy="2556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000" rIns="99000" tIns="-30960" bIns="-309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604280" y="2007360"/>
                <a:ext cx="628200" cy="16704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04280" y="2340000"/>
                <a:ext cx="193320" cy="115488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09160" y="2392200"/>
                <a:ext cx="146520" cy="121248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02800" y="3790440"/>
                <a:ext cx="215496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360" rIns="99360" tIns="49680" bIns="496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6002280" y="2127960"/>
              <a:ext cx="575280" cy="701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002280" y="2127960"/>
                        <a:ext cx="575280" cy="70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759000" y="1830960"/>
              <a:ext cx="804960" cy="9666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759000" y="1830960"/>
                        <a:ext cx="804960" cy="96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8034480" y="2574360"/>
              <a:ext cx="520200" cy="892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034480" y="2574360"/>
                        <a:ext cx="520200" cy="89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275" name=""/>
          <p:cNvGraphicFramePr/>
          <p:nvPr/>
        </p:nvGraphicFramePr>
        <p:xfrm>
          <a:off x="4043520" y="2211480"/>
          <a:ext cx="404640" cy="104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3520" y="2211480"/>
                    <a:ext cx="404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692640" y="1447920"/>
            <a:ext cx="4240800" cy="2376360"/>
            <a:chOff x="692640" y="1447920"/>
            <a:chExt cx="4240800" cy="2376360"/>
          </a:xfrm>
        </p:grpSpPr>
        <p:sp>
          <p:nvSpPr>
            <p:cNvPr id="278" name=""/>
            <p:cNvSpPr/>
            <p:nvPr/>
          </p:nvSpPr>
          <p:spPr>
            <a:xfrm>
              <a:off x="2251440" y="1763280"/>
              <a:ext cx="1742400" cy="16336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461040" y="1979640"/>
              <a:ext cx="160920" cy="137520"/>
              <a:chOff x="3461040" y="1979640"/>
              <a:chExt cx="160920" cy="137520"/>
            </a:xfrm>
          </p:grpSpPr>
          <p:sp>
            <p:nvSpPr>
              <p:cNvPr id="280" name=""/>
              <p:cNvSpPr/>
              <p:nvPr/>
            </p:nvSpPr>
            <p:spPr>
              <a:xfrm>
                <a:off x="3462120" y="1985040"/>
                <a:ext cx="153000" cy="12600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96320" y="2001960"/>
                <a:ext cx="84240" cy="8496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30960" bIns="30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93440" y="21045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02080" y="21056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2840" bIns="-42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84080" y="1994040"/>
                <a:ext cx="108720" cy="10116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47160" bIns="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79840" y="210564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2840" bIns="-42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65800" y="21045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52840" y="2104560"/>
                <a:ext cx="360" cy="1260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37720" y="2104560"/>
                <a:ext cx="11880" cy="126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23680" y="21045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10080" y="1994040"/>
                <a:ext cx="1080" cy="105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1840" bIns="51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12240" y="1995480"/>
                <a:ext cx="9720" cy="10332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63920" y="1995480"/>
                <a:ext cx="11880" cy="10332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49320" bIns="49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92360" y="21034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760" bIns="-41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92360" y="21045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1400" bIns="-41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09360" y="1985040"/>
                <a:ext cx="11880" cy="12384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61040" y="1985040"/>
                <a:ext cx="11160" cy="12384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0040" y="1985040"/>
                <a:ext cx="137160" cy="12384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54000" bIns="54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83000" y="1992960"/>
                <a:ext cx="110880" cy="1022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3000" y="1992960"/>
                <a:ext cx="110880" cy="1022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48240" bIns="48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95240" y="200124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32040" bIns="32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95240" y="200124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32040" bIns="32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74800" y="210348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74800" y="210564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60760" y="210348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60760" y="210564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547800" y="210348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47800" y="2105640"/>
                <a:ext cx="1080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34480" y="210348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34480" y="2105640"/>
                <a:ext cx="11880" cy="72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19360" y="210348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19360" y="2105640"/>
                <a:ext cx="11160" cy="72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53280" bIns="-53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9200" y="1979640"/>
                <a:ext cx="7920" cy="900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7160" bIns="-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84080" y="1979640"/>
                <a:ext cx="6840" cy="900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-47160" bIns="-47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flipV="1">
              <a:off x="3073320" y="2306160"/>
              <a:ext cx="387720" cy="21852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461040" y="2144520"/>
              <a:ext cx="97200" cy="43560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89120" y="2525400"/>
              <a:ext cx="726480" cy="547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720" bIns="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655800" y="1979640"/>
              <a:ext cx="241200" cy="547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720" bIns="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2840" y="2961360"/>
              <a:ext cx="483840" cy="27216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3000" y="2634120"/>
              <a:ext cx="289800" cy="2185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383560" y="2470320"/>
              <a:ext cx="183960" cy="113400"/>
              <a:chOff x="2383560" y="2470320"/>
              <a:chExt cx="183960" cy="113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2383560" y="2530440"/>
                <a:ext cx="183960" cy="53280"/>
                <a:chOff x="2383560" y="2530440"/>
                <a:chExt cx="183960" cy="53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383560" y="2530440"/>
                  <a:ext cx="183960" cy="5328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720" bIns="-7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86440" y="2554560"/>
                  <a:ext cx="17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87520" y="2551320"/>
                  <a:ext cx="17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385000" y="2579760"/>
                  <a:ext cx="181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390040" y="2558880"/>
                  <a:ext cx="171000" cy="2160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32400" bIns="-324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400120" y="2561760"/>
                  <a:ext cx="50760" cy="151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38880" bIns="-38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02280" y="2563560"/>
                  <a:ext cx="45360" cy="1116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2840" bIns="-428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0876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408040" y="25675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406600" y="25693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405160" y="257076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3720" y="25722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41380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41164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434680" y="25732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425320" y="257004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425320" y="256680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42712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427120" y="25732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429640" y="257004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27120" y="257004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429640" y="256680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427120" y="2566800"/>
                  <a:ext cx="6120" cy="68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43072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430720" y="25732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434320" y="257004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430720" y="257004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430720" y="256680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430720" y="25693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436480" y="2565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36480" y="25732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880" bIns="-478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39360" y="257004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439360" y="256680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435400" y="256680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436480" y="25693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462400" y="2562840"/>
                  <a:ext cx="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473920" y="2562840"/>
                  <a:ext cx="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484720" y="2562840"/>
                  <a:ext cx="5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496600" y="2562840"/>
                  <a:ext cx="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06680" y="2562840"/>
                  <a:ext cx="5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518200" y="2562840"/>
                  <a:ext cx="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29000" y="2562840"/>
                  <a:ext cx="5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527560" y="256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51604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50524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94440" y="2561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83280" y="2561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7176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6096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527560" y="256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51604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0524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94440" y="2561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83280" y="2561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7176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60960" y="25617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62400" y="25707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73920" y="2570760"/>
                  <a:ext cx="7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515320" y="25707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526120" y="2570760"/>
                  <a:ext cx="7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360" rIns="108360" tIns="-54000" bIns="-54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23960" y="2570040"/>
                  <a:ext cx="11520" cy="7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513160" y="257004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471760" y="2570040"/>
                  <a:ext cx="11160" cy="7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960" y="257004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523960" y="2570040"/>
                  <a:ext cx="11520" cy="7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13160" y="257004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71760" y="2570040"/>
                  <a:ext cx="11160" cy="72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60960" y="2570040"/>
                  <a:ext cx="10800" cy="72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6800" bIns="-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92200" y="2561760"/>
                  <a:ext cx="7200" cy="1116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2840" bIns="-428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93640" y="2562840"/>
                  <a:ext cx="720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8360" rIns="108360" tIns="-47160" bIns="-471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 flipV="1">
                <a:off x="2543040" y="2470320"/>
                <a:ext cx="0" cy="63720"/>
              </a:xfrm>
              <a:prstGeom prst="line">
                <a:avLst/>
              </a:prstGeom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360" rIns="10836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H="1">
              <a:off x="1993680" y="2538360"/>
              <a:ext cx="41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-54000" bIns="-54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4960" y="2556000"/>
              <a:ext cx="229320" cy="14256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76560" y="2435400"/>
              <a:ext cx="225000" cy="9540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41400" bIns="41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99600" y="2237760"/>
              <a:ext cx="202320" cy="29304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001240" y="2089440"/>
              <a:ext cx="253080" cy="219600"/>
              <a:chOff x="2001240" y="2089440"/>
              <a:chExt cx="253080" cy="219600"/>
            </a:xfrm>
          </p:grpSpPr>
          <p:pic>
            <p:nvPicPr>
              <p:cNvPr id="39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001240" y="2128680"/>
                <a:ext cx="253080" cy="1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2054160" y="2089440"/>
                <a:ext cx="173880" cy="8892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360" rIns="108360" tIns="34920" bIns="34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0" name="" descr=""/>
            <p:cNvPicPr/>
            <p:nvPr/>
          </p:nvPicPr>
          <p:blipFill>
            <a:blip r:embed="rId20"/>
            <a:stretch/>
          </p:blipFill>
          <p:spPr>
            <a:xfrm>
              <a:off x="2035800" y="2352240"/>
              <a:ext cx="150480" cy="1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370880" y="2423520"/>
              <a:ext cx="80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360" bIns="54360" anchor="t">
              <a:sp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9120" y="1926000"/>
              <a:ext cx="179640" cy="29304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80360" y="2634120"/>
              <a:ext cx="483840" cy="1645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000" bIns="540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2640" y="3380040"/>
              <a:ext cx="4240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54360" bIns="5436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2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5" name=""/>
            <p:cNvGraphicFramePr/>
            <p:nvPr/>
          </p:nvGraphicFramePr>
          <p:xfrm>
            <a:off x="3026880" y="2559240"/>
            <a:ext cx="632160" cy="760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026880" y="2559240"/>
                      <a:ext cx="632160" cy="76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998000" y="2944800"/>
            <a:ext cx="242280" cy="676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998000" y="2944800"/>
                      <a:ext cx="242280" cy="6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1863720" y="2607120"/>
            <a:ext cx="308160" cy="386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863720" y="2607120"/>
                      <a:ext cx="308160" cy="38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668320" y="2896920"/>
            <a:ext cx="268560" cy="2102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668320" y="2896920"/>
                      <a:ext cx="268560" cy="21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758320" y="2124720"/>
            <a:ext cx="326880" cy="385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758320" y="2124720"/>
                      <a:ext cx="32688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2176560" y="1447920"/>
            <a:ext cx="558360" cy="827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176560" y="1447920"/>
                      <a:ext cx="55836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"/>
          <p:cNvSpPr/>
          <p:nvPr/>
        </p:nvSpPr>
        <p:spPr>
          <a:xfrm>
            <a:off x="457200" y="670572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courtesy of Tom Siep, TI, and Chatschik Bisdikian,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 flipH="1">
            <a:off x="3428640" y="4495680"/>
            <a:ext cx="19810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352680" y="5181480"/>
            <a:ext cx="198144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ore on IEEE 802.15.1?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4003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ul99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itial Discussion on Proposals.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v99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itial draft ready for WG ballot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an00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irst Ballot complete, second ballot kicked off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r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raft ready for IEEE sponsor ballot.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ul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p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pproval by IEEE Standards Boar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ov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ec0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9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pproval by IEEE Standards Boar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529080" cy="45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4" name=""/>
          <p:cNvSpPr/>
          <p:nvPr/>
        </p:nvSpPr>
        <p:spPr>
          <a:xfrm>
            <a:off x="4199760" y="4800600"/>
            <a:ext cx="22258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 Sponsor Expec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48920" y="4159080"/>
            <a:ext cx="20980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5.1 Project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EEE 802.15.1 SDL Overview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4003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What is SDL?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Specification and Description Language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Standardized by ITU-T in the Z-series Mainly ITU-T Recommendation Z.100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Why use SDL?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Provides Clear and Unambiguous Description of … (e.g. Protocols, or Systems)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Simulation, Validation, and Verification tools available for SDLs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Conversion tools available to take SDL in and generate “useable code” or “TTCN tests”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When to create SDLs?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In the beginning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Not after the protocol is described by other means (e.g. English text)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Arial"/>
              </a:rPr>
              <a:t>After English text to aid in protocol review, validation, and testing.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332240" cy="514368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685800" y="6477120"/>
            <a:ext cx="3886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EEE Draft P802.15.1/D0.9.1 SDL is 579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1159 pages.  Currently it is norm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533520" y="1604880"/>
            <a:ext cx="853272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 anchorCtr="1">
            <a:noAutofit/>
          </a:bodyPr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Ian Gifford - IEEE 802.15.1 Ch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giffordi@ieee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978 815 818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Dr. Chatschik Bisdikian, IEEE 802.15.1 Vice Ch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bisdik@us.ibm.co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914 784 743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Thomas Siep, IEEE 802.15.1 Editor-in-Chie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siep@ti.co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214 480 6786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Francis Truntzer, Bluetooth SIG Ch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francis.l.truntzer@intel.co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408 765 5989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James Kardach, Bluetooth SIG Ch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Jim.Kardach@intel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408 765 446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Jim Carlo, IEEE802 LAN/MAN Standards Committee, Ch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jcarlo@ti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214 693 1776 (Cellular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500" spc="-1" strike="noStrike">
                <a:solidFill>
                  <a:srgbClr val="00ae00"/>
                </a:solidFill>
                <a:latin typeface="Comic Sans MS"/>
              </a:rPr>
              <a:t>Susan Tatiner, IEEE-SA Director Standards Publishing Pro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s.tatiner@ieee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mic Sans MS"/>
              </a:rPr>
              <a:t>Tel: +1 732 562 38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0720" y="723960"/>
            <a:ext cx="8159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Compatibility and Interference Issue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0ae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Compatibility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: devices you want to communicate wit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Interference</a:t>
            </a:r>
            <a:r>
              <a:rPr b="1" lang="en-US" sz="1800" spc="-1" strike="noStrike">
                <a:solidFill>
                  <a:srgbClr val="867a34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devices you don’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 is in an </a:t>
            </a:r>
            <a:r>
              <a:rPr b="1" lang="en-US" sz="1800" spc="-1" strike="noStrike" u="sng">
                <a:solidFill>
                  <a:srgbClr val="0802bc"/>
                </a:solidFill>
                <a:uFillTx/>
                <a:latin typeface="Arial"/>
              </a:rPr>
              <a:t>unlicensed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 band -- this is good and ba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Good in that there’s no red tape, devices can go most anywher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ad in that other simultaneous usage is unpredictabl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SM band: Industrial, Scientific, and Medica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ll sorts of uses, many predating data communica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xamples: microwave ovens, RF plasma light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CC mandates spread spectrum to spread the pain of interfere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ll users get some interference rather than some a lot and some none at al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Frequency Hopping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ne way to spread the spectru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Used by Bluetooth, HomeRF, and the original (1 or 2 Mbps) version of 802.1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requency changes after many bits are sen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Relatively easy to implemen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lternative: Direct Seque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requency changes faster than bit rat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fficient but complex; used by newer versions of 802.1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Unless spectrum is very  crowded, probability of two users at same time at same frequency is low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ther wireless technologies use different hopping rat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: 1600 hops per secon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omeRF: 8 hops per secon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icrowave Oven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1544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Use RF induction heating, in the same frequency band as Bluetoot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Do their own version of spread spectrum, varying the frequency as the AC line voltage rises from zero to pea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1228" name="MicrowaveEmissionGraph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954760" cy="349596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5486400" y="3200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from NTIA, courtesy of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icrowave Lighting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he next big thing in lighting, but RF emissions could be a problem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rgon plasma transfers energy to sulfur, which radiates ligh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SM band is legitimate for such application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trong incentives for adopting microwave light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st efficient broad-spectrum light known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(6x more than incandescent)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unlight appeara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igh outpu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Very compac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mission limits established in Europ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CC working on the issu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pic>
        <p:nvPicPr>
          <p:cNvPr id="1232" name="Bulbs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54200" cy="354960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6705720" y="2895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629400" y="6553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sion Lighting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7724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The Radio Jam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ots of different types of networks, all using the ISM ban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ow badly will they interfere with each other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EEE 802.11 wireless LA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luetooth/802.15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omeRF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 consortium developing in-home wireless network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RF technology is simplified 802.1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ased on assumption that full 802.11 is too costly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ack in the game after 9/00 FCC decision for wideband FH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TSI Hiperlan wireless LA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EEE 802.16.4 “Wireless HUMAN”  -- just started up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High-speed unlicensed metropolitan area networ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ireless access network aimed at home Internet user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ntiment is in favor of using 802.11 physical lay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ignals will be strong near antenna tower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5486400"/>
            <a:ext cx="7620120" cy="304920"/>
          </a:xfrm>
          <a:prstGeom prst="rect">
            <a:avLst/>
          </a:prstGeom>
          <a:solidFill>
            <a:srgbClr val="a89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627360" y="5257800"/>
            <a:ext cx="94320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terference Concern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39720" y="1731960"/>
            <a:ext cx="8656560" cy="253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88000"/>
          </a:bodyPr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wo levels of interfere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139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hysical layer: interfering signal acts like nois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pread spectrum technology minimizes thi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rference for a brief interval, then one or both systems move 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Error-correcting code may correct garbled sec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C lay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Interfering signal may look like a rogue member of the networ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or example, Bluetooth might confuse 802.11 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046160" indent="0"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039680" y="5775480"/>
            <a:ext cx="74026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5573880"/>
            <a:ext cx="0" cy="403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5130720"/>
            <a:ext cx="460080" cy="644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0800" y="5130720"/>
            <a:ext cx="555840" cy="644760"/>
          </a:xfrm>
          <a:prstGeom prst="rect">
            <a:avLst/>
          </a:prstGeom>
          <a:solidFill>
            <a:srgbClr val="fe3a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103480" y="5257800"/>
            <a:ext cx="5572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757600" y="5257800"/>
            <a:ext cx="5554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667400" y="5257800"/>
            <a:ext cx="55692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386160" y="5257800"/>
            <a:ext cx="168120" cy="50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14480" y="5130720"/>
            <a:ext cx="412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01840" y="5276880"/>
            <a:ext cx="67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297160" y="5359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878200" y="5359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7200" y="5359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36960" y="5359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070680" y="5257800"/>
            <a:ext cx="5572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240600" y="5359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56520" y="5257800"/>
            <a:ext cx="5554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26440" y="5359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14400" y="4724280"/>
            <a:ext cx="1162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33720" y="5867280"/>
            <a:ext cx="14475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2.11 users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24280" y="5867280"/>
            <a:ext cx="1541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ference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52680" y="4876920"/>
            <a:ext cx="15415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p expected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352680" y="6172200"/>
            <a:ext cx="144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orking on Coexistence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101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Work in IEEE 802 to develop coexistence strategies: 802.15 TG 2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ethods include channel selection and adaptive hopping sequenc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762120" y="2895480"/>
          <a:ext cx="8001000" cy="36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8001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4419720" y="66294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Nada Golmie, NIST, presentation to IEEE 802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969240" y="3073320"/>
            <a:ext cx="992160" cy="1417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276720" y="5334120"/>
            <a:ext cx="4680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500" spc="-1" strike="noStrike">
                <a:solidFill>
                  <a:srgbClr val="00ae00"/>
                </a:solidFill>
                <a:latin typeface="Arial"/>
              </a:rPr>
              <a:t>Wireless Freedom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6921360" y="1380960"/>
            <a:ext cx="1600200" cy="154800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4494240" y="1670040"/>
            <a:ext cx="2760120" cy="2346120"/>
            <a:chOff x="4494240" y="1670040"/>
            <a:chExt cx="2760120" cy="2346120"/>
          </a:xfrm>
        </p:grpSpPr>
        <p:graphicFrame>
          <p:nvGraphicFramePr>
            <p:cNvPr id="422" name=""/>
            <p:cNvGraphicFramePr/>
            <p:nvPr/>
          </p:nvGraphicFramePr>
          <p:xfrm>
            <a:off x="5397480" y="2189880"/>
            <a:ext cx="1615320" cy="9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7480" y="2189880"/>
                      <a:ext cx="1615320" cy="9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5342400" y="2907720"/>
            <a:ext cx="1615320" cy="96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42400" y="2907720"/>
                      <a:ext cx="1615320" cy="96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4494240" y="1670040"/>
              <a:ext cx="1920240" cy="2270880"/>
            </a:xfrm>
            <a:custGeom>
              <a:avLst/>
              <a:gdLst>
                <a:gd name="textAreaLeft" fmla="*/ 855720 w 1920240"/>
                <a:gd name="textAreaRight" fmla="*/ 1064520 w 1920240"/>
                <a:gd name="textAreaTop" fmla="*/ 1011960 h 2270880"/>
                <a:gd name="textAreaBottom" fmla="*/ 1258920 h 22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7" name=""/>
            <p:cNvGraphicFramePr/>
            <p:nvPr/>
          </p:nvGraphicFramePr>
          <p:xfrm>
            <a:off x="5639040" y="3053520"/>
            <a:ext cx="1615320" cy="96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9040" y="3053520"/>
                      <a:ext cx="1615320" cy="9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612760" y="2044080"/>
            <a:ext cx="1615320" cy="962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12760" y="2044080"/>
                      <a:ext cx="1615320" cy="9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31" name="photo16" descr=""/>
          <p:cNvPicPr/>
          <p:nvPr/>
        </p:nvPicPr>
        <p:blipFill>
          <a:blip r:embed="rId11"/>
          <a:stretch/>
        </p:blipFill>
        <p:spPr>
          <a:xfrm>
            <a:off x="879480" y="1611360"/>
            <a:ext cx="1920960" cy="2073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grpSp>
        <p:nvGrpSpPr>
          <p:cNvPr id="432" name=""/>
          <p:cNvGrpSpPr/>
          <p:nvPr/>
        </p:nvGrpSpPr>
        <p:grpSpPr>
          <a:xfrm>
            <a:off x="4079880" y="2216160"/>
            <a:ext cx="1630080" cy="1687320"/>
            <a:chOff x="4079880" y="2216160"/>
            <a:chExt cx="1630080" cy="1687320"/>
          </a:xfrm>
        </p:grpSpPr>
        <p:pic>
          <p:nvPicPr>
            <p:cNvPr id="433" name="Headset" descr=""/>
            <p:cNvPicPr/>
            <p:nvPr/>
          </p:nvPicPr>
          <p:blipFill>
            <a:blip r:embed="rId12"/>
            <a:stretch/>
          </p:blipFill>
          <p:spPr>
            <a:xfrm>
              <a:off x="4079880" y="2216160"/>
              <a:ext cx="1540440" cy="164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5230080" y="3644640"/>
              <a:ext cx="4798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Usage scenarios: Headset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9360" y="4444920"/>
            <a:ext cx="8161560" cy="1960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User benefits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Multiple device access 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Cordless phone benefits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Hand’s free operation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6553080"/>
            <a:ext cx="45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courtesy of Tom Siep, TI, and Chatschik Bisdikian,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Interoperability Problem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wo versions of Bluetooth now in the fiel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1.0b and 1.1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1.1 just approved, but many implementers started with tha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Lack of full interoperability was embarrassing at Consumer Electronics Show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ut not a real problem: numbers of units produced so far is miniscule compared to ultimate produc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5346720" y="1525680"/>
            <a:ext cx="2760120" cy="2345760"/>
            <a:chOff x="5346720" y="1525680"/>
            <a:chExt cx="2760120" cy="2345760"/>
          </a:xfrm>
        </p:grpSpPr>
        <p:graphicFrame>
          <p:nvGraphicFramePr>
            <p:cNvPr id="439" name=""/>
            <p:cNvGraphicFramePr/>
            <p:nvPr/>
          </p:nvGraphicFramePr>
          <p:xfrm>
            <a:off x="6249960" y="2045160"/>
            <a:ext cx="1614960" cy="9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9960" y="2045160"/>
                      <a:ext cx="161496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"/>
            <p:cNvGraphicFramePr/>
            <p:nvPr/>
          </p:nvGraphicFramePr>
          <p:xfrm>
            <a:off x="6195240" y="2763360"/>
            <a:ext cx="1614960" cy="96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5240" y="2763360"/>
                      <a:ext cx="161496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" name=""/>
            <p:cNvSpPr/>
            <p:nvPr/>
          </p:nvSpPr>
          <p:spPr>
            <a:xfrm>
              <a:off x="5346720" y="1525680"/>
              <a:ext cx="1919880" cy="2270520"/>
            </a:xfrm>
            <a:custGeom>
              <a:avLst/>
              <a:gdLst>
                <a:gd name="textAreaLeft" fmla="*/ 855360 w 1919880"/>
                <a:gd name="textAreaRight" fmla="*/ 1064520 w 1919880"/>
                <a:gd name="textAreaTop" fmla="*/ 1011600 h 2270520"/>
                <a:gd name="textAreaBottom" fmla="*/ 1258920 h 227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4" name=""/>
            <p:cNvGraphicFramePr/>
            <p:nvPr/>
          </p:nvGraphicFramePr>
          <p:xfrm>
            <a:off x="6491880" y="2909160"/>
            <a:ext cx="1614960" cy="96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91880" y="2909160"/>
                      <a:ext cx="161496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6" name=""/>
            <p:cNvGraphicFramePr/>
            <p:nvPr/>
          </p:nvGraphicFramePr>
          <p:xfrm>
            <a:off x="6464880" y="1899720"/>
            <a:ext cx="1614960" cy="96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64880" y="1899720"/>
                      <a:ext cx="161496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48" name=""/>
          <p:cNvGraphicFramePr/>
          <p:nvPr/>
        </p:nvGraphicFramePr>
        <p:xfrm>
          <a:off x="920880" y="1468440"/>
          <a:ext cx="2449440" cy="237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0880" y="1468440"/>
                    <a:ext cx="244944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" descr=""/>
          <p:cNvPicPr/>
          <p:nvPr/>
        </p:nvPicPr>
        <p:blipFill>
          <a:blip r:embed="rId11"/>
          <a:stretch/>
        </p:blipFill>
        <p:spPr>
          <a:xfrm>
            <a:off x="7878600" y="1641600"/>
            <a:ext cx="862200" cy="13017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2"/>
          <a:stretch/>
        </p:blipFill>
        <p:spPr>
          <a:xfrm>
            <a:off x="7823160" y="2928960"/>
            <a:ext cx="990720" cy="1417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505320" y="5410080"/>
            <a:ext cx="52419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500" spc="-1" strike="noStrike">
                <a:solidFill>
                  <a:srgbClr val="00ae00"/>
                </a:solidFill>
                <a:latin typeface="Arial"/>
              </a:rPr>
              <a:t>Sharing Common Data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3"/>
          <a:stretch/>
        </p:blipFill>
        <p:spPr>
          <a:xfrm>
            <a:off x="4079880" y="2008080"/>
            <a:ext cx="2160720" cy="2089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Usage scenarios: Synchronization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39360" y="4255560"/>
            <a:ext cx="8161560" cy="1584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Times New Roman"/>
              </a:rPr>
              <a:t>User benefits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Times New Roman"/>
              </a:rPr>
              <a:t>Proximity synchronization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Times New Roman"/>
              </a:rPr>
              <a:t>Easily maintained database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Times New Roman"/>
              </a:rPr>
              <a:t>Common information database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160" y="6705720"/>
            <a:ext cx="45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courtesy of Tom Siep, TI, and Chatschik Bisdikian,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79480" y="1981080"/>
            <a:ext cx="1920960" cy="201456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</p:pic>
      <p:grpSp>
        <p:nvGrpSpPr>
          <p:cNvPr id="458" name=""/>
          <p:cNvGrpSpPr/>
          <p:nvPr/>
        </p:nvGrpSpPr>
        <p:grpSpPr>
          <a:xfrm>
            <a:off x="4137120" y="3809880"/>
            <a:ext cx="903240" cy="1195200"/>
            <a:chOff x="4137120" y="3809880"/>
            <a:chExt cx="903240" cy="1195200"/>
          </a:xfrm>
        </p:grpSpPr>
        <p:sp>
          <p:nvSpPr>
            <p:cNvPr id="459" name=""/>
            <p:cNvSpPr/>
            <p:nvPr/>
          </p:nvSpPr>
          <p:spPr>
            <a:xfrm rot="20846400">
              <a:off x="4206600" y="3889080"/>
              <a:ext cx="555480" cy="55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0" name="tosh500" descr=""/>
            <p:cNvPicPr/>
            <p:nvPr/>
          </p:nvPicPr>
          <p:blipFill>
            <a:blip r:embed="rId2"/>
            <a:stretch/>
          </p:blipFill>
          <p:spPr>
            <a:xfrm>
              <a:off x="4137120" y="3809880"/>
              <a:ext cx="903240" cy="119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1" name="globe3" descr=""/>
          <p:cNvPicPr/>
          <p:nvPr/>
        </p:nvPicPr>
        <p:blipFill>
          <a:blip r:embed="rId3"/>
          <a:srcRect l="13639" t="0" r="12661" b="0"/>
          <a:stretch/>
        </p:blipFill>
        <p:spPr>
          <a:xfrm>
            <a:off x="7343640" y="3733920"/>
            <a:ext cx="1478160" cy="15397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3581280" y="1981080"/>
            <a:ext cx="12099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4555800" y="1905120"/>
            <a:ext cx="2832840" cy="3065040"/>
            <a:chOff x="4555800" y="1905120"/>
            <a:chExt cx="2832840" cy="3065040"/>
          </a:xfrm>
        </p:grpSpPr>
        <p:pic>
          <p:nvPicPr>
            <p:cNvPr id="464" name="" descr=""/>
            <p:cNvPicPr/>
            <p:nvPr/>
          </p:nvPicPr>
          <p:blipFill>
            <a:blip r:embed="rId5"/>
            <a:stretch/>
          </p:blipFill>
          <p:spPr>
            <a:xfrm>
              <a:off x="5594400" y="3599640"/>
              <a:ext cx="1004760" cy="137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5" name=""/>
            <p:cNvGrpSpPr/>
            <p:nvPr/>
          </p:nvGrpSpPr>
          <p:grpSpPr>
            <a:xfrm>
              <a:off x="6423840" y="4066920"/>
              <a:ext cx="964800" cy="540720"/>
              <a:chOff x="6423840" y="4066920"/>
              <a:chExt cx="964800" cy="5407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23840" y="4184640"/>
                <a:ext cx="264240" cy="30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82960" y="4154040"/>
                <a:ext cx="317520" cy="36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43160" y="4110480"/>
                <a:ext cx="395280" cy="45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18480" y="4066920"/>
                <a:ext cx="470160" cy="54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628880" y="4075920"/>
              <a:ext cx="964800" cy="542880"/>
              <a:chOff x="4628880" y="4075920"/>
              <a:chExt cx="964800" cy="542880"/>
            </a:xfrm>
          </p:grpSpPr>
          <p:sp>
            <p:nvSpPr>
              <p:cNvPr id="471" name=""/>
              <p:cNvSpPr/>
              <p:nvPr/>
            </p:nvSpPr>
            <p:spPr>
              <a:xfrm>
                <a:off x="4628880" y="4194360"/>
                <a:ext cx="264240" cy="3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788000" y="4163400"/>
                <a:ext cx="317520" cy="36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48200" y="4119480"/>
                <a:ext cx="395280" cy="456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23520" y="4075920"/>
                <a:ext cx="470160" cy="54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720" rIns="99720" tIns="49680" bIns="49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555800" y="1905120"/>
              <a:ext cx="2774520" cy="1119600"/>
              <a:chOff x="4555800" y="1905120"/>
              <a:chExt cx="2774520" cy="1119600"/>
            </a:xfrm>
          </p:grpSpPr>
          <p:pic>
            <p:nvPicPr>
              <p:cNvPr id="4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19240" y="2483640"/>
                <a:ext cx="1021320" cy="47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7" name=""/>
              <p:cNvGrpSpPr/>
              <p:nvPr/>
            </p:nvGrpSpPr>
            <p:grpSpPr>
              <a:xfrm>
                <a:off x="4555800" y="2483640"/>
                <a:ext cx="964800" cy="541080"/>
                <a:chOff x="4555800" y="2483640"/>
                <a:chExt cx="964800" cy="5410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555800" y="2601720"/>
                  <a:ext cx="264240" cy="306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714920" y="2570760"/>
                  <a:ext cx="317520" cy="36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875120" y="2527200"/>
                  <a:ext cx="395280" cy="45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050440" y="2483640"/>
                  <a:ext cx="470160" cy="54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5212800" y="1905120"/>
                <a:ext cx="171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1300" spc="-1" strike="noStrike">
                    <a:solidFill>
                      <a:srgbClr val="00ae00"/>
                    </a:solidFill>
                    <a:latin typeface="Arial"/>
                  </a:rPr>
                  <a:t>PSTN, ISDN,</a:t>
                </a:r>
                <a:br>
                  <a:rPr sz="1300"/>
                </a:br>
                <a:r>
                  <a:rPr b="1" lang="en-US" sz="1300" spc="-1" strike="noStrike">
                    <a:solidFill>
                      <a:srgbClr val="00ae00"/>
                    </a:solidFill>
                    <a:latin typeface="Arial"/>
                  </a:rPr>
                  <a:t>LAN, WAN, xDS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6365520" y="2483640"/>
                <a:ext cx="964800" cy="541080"/>
                <a:chOff x="6365520" y="2483640"/>
                <a:chExt cx="964800" cy="5410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365520" y="2601720"/>
                  <a:ext cx="264240" cy="306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4640" y="2570760"/>
                  <a:ext cx="317520" cy="36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84840" y="2527200"/>
                  <a:ext cx="395280" cy="45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60160" y="2483640"/>
                  <a:ext cx="470160" cy="54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9720" rIns="99720" tIns="49680" bIns="4968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8" name=""/>
          <p:cNvSpPr/>
          <p:nvPr/>
        </p:nvSpPr>
        <p:spPr>
          <a:xfrm>
            <a:off x="1447920" y="5410080"/>
            <a:ext cx="75214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500" spc="-1" strike="noStrike">
                <a:solidFill>
                  <a:srgbClr val="00ae00"/>
                </a:solidFill>
                <a:latin typeface="Arial"/>
              </a:rPr>
              <a:t>Remote Connections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Usage scenarios: Data access points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39360" y="4370040"/>
            <a:ext cx="8161560" cy="2035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User benefits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No more connectors 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Easy internet access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802bc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802bc"/>
                </a:solidFill>
                <a:latin typeface="Times New Roman"/>
              </a:rPr>
              <a:t>Common connection experience</a:t>
            </a:r>
            <a:endParaRPr b="1" lang="en-US" sz="14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6629400"/>
            <a:ext cx="45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courtesy of Tom Siep, TI, and Chatschik Bisdikian,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globe3" descr=""/>
          <p:cNvPicPr/>
          <p:nvPr/>
        </p:nvPicPr>
        <p:blipFill>
          <a:blip r:embed="rId7"/>
          <a:srcRect l="13639" t="0" r="12661" b="0"/>
          <a:stretch/>
        </p:blipFill>
        <p:spPr>
          <a:xfrm>
            <a:off x="7343640" y="1981080"/>
            <a:ext cx="1478160" cy="154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2592360" y="3495600"/>
            <a:ext cx="4048200" cy="3619080"/>
            <a:chOff x="2592360" y="3495600"/>
            <a:chExt cx="4048200" cy="3619080"/>
          </a:xfrm>
        </p:grpSpPr>
        <p:pic>
          <p:nvPicPr>
            <p:cNvPr id="494" name="wrldwest" descr=""/>
            <p:cNvPicPr/>
            <p:nvPr/>
          </p:nvPicPr>
          <p:blipFill>
            <a:blip r:embed="rId1"/>
            <a:stretch/>
          </p:blipFill>
          <p:spPr>
            <a:xfrm>
              <a:off x="2592360" y="3495600"/>
              <a:ext cx="404820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officbld" descr=""/>
            <p:cNvPicPr/>
            <p:nvPr/>
          </p:nvPicPr>
          <p:blipFill>
            <a:blip r:embed="rId2"/>
            <a:stretch/>
          </p:blipFill>
          <p:spPr>
            <a:xfrm>
              <a:off x="3272040" y="4253760"/>
              <a:ext cx="45288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officbld" descr=""/>
            <p:cNvPicPr/>
            <p:nvPr/>
          </p:nvPicPr>
          <p:blipFill>
            <a:blip r:embed="rId3"/>
            <a:stretch/>
          </p:blipFill>
          <p:spPr>
            <a:xfrm>
              <a:off x="6066360" y="5168520"/>
              <a:ext cx="452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officbld" descr=""/>
            <p:cNvPicPr/>
            <p:nvPr/>
          </p:nvPicPr>
          <p:blipFill>
            <a:blip r:embed="rId4"/>
            <a:stretch/>
          </p:blipFill>
          <p:spPr>
            <a:xfrm>
              <a:off x="3649320" y="4503240"/>
              <a:ext cx="45288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fficbld" descr=""/>
            <p:cNvPicPr/>
            <p:nvPr/>
          </p:nvPicPr>
          <p:blipFill>
            <a:blip r:embed="rId5"/>
            <a:stretch/>
          </p:blipFill>
          <p:spPr>
            <a:xfrm>
              <a:off x="3875760" y="5583960"/>
              <a:ext cx="452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fficbld" descr=""/>
            <p:cNvPicPr/>
            <p:nvPr/>
          </p:nvPicPr>
          <p:blipFill>
            <a:blip r:embed="rId6"/>
            <a:stretch/>
          </p:blipFill>
          <p:spPr>
            <a:xfrm>
              <a:off x="5386680" y="4752720"/>
              <a:ext cx="45288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fficbld" descr=""/>
            <p:cNvPicPr/>
            <p:nvPr/>
          </p:nvPicPr>
          <p:blipFill>
            <a:blip r:embed="rId7"/>
            <a:stretch/>
          </p:blipFill>
          <p:spPr>
            <a:xfrm>
              <a:off x="5311080" y="3838320"/>
              <a:ext cx="452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fficbld" descr=""/>
            <p:cNvPicPr/>
            <p:nvPr/>
          </p:nvPicPr>
          <p:blipFill>
            <a:blip r:embed="rId8"/>
            <a:stretch/>
          </p:blipFill>
          <p:spPr>
            <a:xfrm>
              <a:off x="4178160" y="6082560"/>
              <a:ext cx="452880" cy="2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20720" y="723600"/>
            <a:ext cx="8159760" cy="711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ireless Positioning</a:t>
            </a:r>
            <a:endParaRPr b="1" lang="en-US" sz="3200" spc="-1" strike="noStrike">
              <a:solidFill>
                <a:srgbClr val="00ae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40160" y="1468440"/>
            <a:ext cx="2400120" cy="2158920"/>
          </a:xfrm>
          <a:prstGeom prst="ellipse">
            <a:avLst/>
          </a:prstGeom>
          <a:solidFill>
            <a:srgbClr val="333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explain" descr=""/>
          <p:cNvPicPr/>
          <p:nvPr/>
        </p:nvPicPr>
        <p:blipFill>
          <a:blip r:embed="rId9"/>
          <a:stretch/>
        </p:blipFill>
        <p:spPr>
          <a:xfrm>
            <a:off x="4465800" y="1547640"/>
            <a:ext cx="371160" cy="104004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3835440" y="1947960"/>
            <a:ext cx="1659960" cy="1374480"/>
            <a:chOff x="3835440" y="1947960"/>
            <a:chExt cx="1659960" cy="1374480"/>
          </a:xfrm>
        </p:grpSpPr>
        <p:graphicFrame>
          <p:nvGraphicFramePr>
            <p:cNvPr id="506" name=""/>
            <p:cNvGraphicFramePr/>
            <p:nvPr/>
          </p:nvGraphicFramePr>
          <p:xfrm>
            <a:off x="5097240" y="1947960"/>
            <a:ext cx="314640" cy="35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097240" y="1947960"/>
                      <a:ext cx="31464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8" name=""/>
            <p:cNvGraphicFramePr/>
            <p:nvPr/>
          </p:nvGraphicFramePr>
          <p:xfrm>
            <a:off x="4701960" y="2426400"/>
            <a:ext cx="793440" cy="8960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701960" y="2426400"/>
                      <a:ext cx="79344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0" name=""/>
            <p:cNvGraphicFramePr/>
            <p:nvPr/>
          </p:nvGraphicFramePr>
          <p:xfrm>
            <a:off x="3835440" y="2426400"/>
            <a:ext cx="566640" cy="649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835440" y="2426400"/>
                      <a:ext cx="5666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2" name=""/>
            <p:cNvGrpSpPr/>
            <p:nvPr/>
          </p:nvGrpSpPr>
          <p:grpSpPr>
            <a:xfrm>
              <a:off x="3913560" y="1947960"/>
              <a:ext cx="244440" cy="195840"/>
              <a:chOff x="3913560" y="1947960"/>
              <a:chExt cx="244440" cy="195840"/>
            </a:xfrm>
          </p:grpSpPr>
          <p:sp>
            <p:nvSpPr>
              <p:cNvPr id="513" name=""/>
              <p:cNvSpPr/>
              <p:nvPr/>
            </p:nvSpPr>
            <p:spPr>
              <a:xfrm>
                <a:off x="3915000" y="1955880"/>
                <a:ext cx="232200" cy="18000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967200" y="1980000"/>
                <a:ext cx="128160" cy="1213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62520" y="2125800"/>
                <a:ext cx="15120" cy="180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976200" y="212796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48840" y="1968840"/>
                <a:ext cx="164880" cy="14436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93920" y="2127960"/>
                <a:ext cx="18360" cy="158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72680" y="21258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52880" y="2125800"/>
                <a:ext cx="360" cy="1800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29840" y="2125800"/>
                <a:ext cx="18360" cy="180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08240" y="212580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39640" y="1968840"/>
                <a:ext cx="1440" cy="15084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42880" y="1970640"/>
                <a:ext cx="15120" cy="14724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18240" y="1970640"/>
                <a:ext cx="18360" cy="14724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60720" y="212436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60720" y="2125800"/>
                <a:ext cx="16920" cy="180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38560" y="1955880"/>
                <a:ext cx="18360" cy="17640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13560" y="1955880"/>
                <a:ext cx="16920" cy="17640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27240" y="1955880"/>
                <a:ext cx="207720" cy="17640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947040" y="1967400"/>
                <a:ext cx="168480" cy="14580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947040" y="1967400"/>
                <a:ext cx="168480" cy="14580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65400" y="1978560"/>
                <a:ext cx="129960" cy="1227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65400" y="1978560"/>
                <a:ext cx="129960" cy="1227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86360" y="21243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86360" y="21279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64760" y="21243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64760" y="21279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45320" y="21243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45320" y="21279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25160" y="21243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25160" y="212796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02120" y="2124360"/>
                <a:ext cx="169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002120" y="2127960"/>
                <a:ext cx="169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971520" y="1947960"/>
                <a:ext cx="11880" cy="12600"/>
              </a:xfrm>
              <a:prstGeom prst="ellipse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8840" y="1947960"/>
                <a:ext cx="10440" cy="1260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7" name=""/>
          <p:cNvSpPr/>
          <p:nvPr/>
        </p:nvSpPr>
        <p:spPr>
          <a:xfrm>
            <a:off x="0" y="5354640"/>
            <a:ext cx="31212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ell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-Campus Global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60520" y="1727280"/>
            <a:ext cx="2878920" cy="2590200"/>
            <a:chOff x="560520" y="1727280"/>
            <a:chExt cx="2878920" cy="2590200"/>
          </a:xfrm>
        </p:grpSpPr>
        <p:sp>
          <p:nvSpPr>
            <p:cNvPr id="549" name=""/>
            <p:cNvSpPr/>
            <p:nvPr/>
          </p:nvSpPr>
          <p:spPr>
            <a:xfrm flipH="1" flipV="1">
              <a:off x="2319480" y="3108600"/>
              <a:ext cx="1119960" cy="12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0520" y="1727280"/>
              <a:ext cx="22392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ireless LA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-campus: Office, School, Airport, Hotel, 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761080" y="1650960"/>
            <a:ext cx="3600000" cy="5984280"/>
            <a:chOff x="5761080" y="1650960"/>
            <a:chExt cx="3600000" cy="5984280"/>
          </a:xfrm>
        </p:grpSpPr>
        <p:sp>
          <p:nvSpPr>
            <p:cNvPr id="552" name=""/>
            <p:cNvSpPr/>
            <p:nvPr/>
          </p:nvSpPr>
          <p:spPr>
            <a:xfrm>
              <a:off x="6240960" y="1650960"/>
              <a:ext cx="3120120" cy="59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luetoot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 Space: Office, Room, Briefcase, Pocket, C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ort Range/Low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oice AND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w-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mall form f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y Co-located N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iversal Bridg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61080" y="1985760"/>
              <a:ext cx="11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-49320" bIns="-49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286000" y="7238880"/>
            <a:ext cx="457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ide courtesy of Tom Siep, TI, and Chatschik Bisdikian,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4T23:04:18Z</dcterms:created>
  <dc:creator>Jim Mollenauer</dc:creator>
  <dc:description/>
  <dc:language>en-US</dc:language>
  <cp:lastModifiedBy>Jim Mollenauer</cp:lastModifiedBy>
  <cp:lastPrinted>2001-04-13T16:19:52Z</cp:lastPrinted>
  <dcterms:modified xsi:type="dcterms:W3CDTF">2001-04-19T17:12:30Z</dcterms:modified>
  <cp:revision>50</cp:revision>
  <dc:subject/>
  <dc:title>Introduction to ATM</dc:title>
</cp:coreProperties>
</file>