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wmf" ContentType="image/x-wmf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875E2-76A8-48AE-88D8-CCA40B460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6B5D1-CABD-407B-ADF5-B2793B3AA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F7174-FE69-4E2F-8C21-CB69A4E6A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CD847-438A-4897-9A00-D8F990FFF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06BA0-FA9C-412C-9249-193F4D47E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3B4AB-C257-44F7-A21A-86461BC1A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DE519-DA39-4FFB-BD9F-884965912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3BFFA-8B92-40D6-8F10-B97BC5C0B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66DB5-E97C-4B6B-A3D5-0663E8A29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685440" y="380520"/>
            <a:ext cx="6553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27D26-CDAE-4731-BDBF-8FCE639CB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10AD1-0C8E-4709-9100-F8BFBD232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2146C-7E4E-434C-9953-116098AFD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33BE3-56E4-468B-9C08-A104BE1FD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C064A-46A9-438F-BF28-FE2269051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8DF8E-A37F-4224-B451-C0ACF5BC7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A8D24-E33F-4689-853C-8FF58EE8E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A40F3-F4AE-494A-9FC9-DEBA369E4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5808B-407B-4CD1-80C7-AD4227F95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0C7C7-FB63-4B9B-917B-FF3978252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2A8A9-90AB-479C-9D22-E1D993CB3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440" y="380520"/>
            <a:ext cx="6553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05A47-2805-42E9-8C7E-133F4BA44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6F32F-7D56-46A9-B93C-2291C1E7B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3899A-9666-4440-AF0C-5684DD662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36F7C-1ED7-45B0-9536-C5AD3690A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66"/>
                </a:solidFill>
                <a:latin typeface="Times New Roman"/>
              </a:rPr>
              <a:t>Click to edit the title text format</a:t>
            </a:r>
            <a:endParaRPr b="1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Khaled Am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March 199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IEEE 802 Study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on QoS/F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A7982-4722-47DB-BA1E-D67DAA749C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logo2" descr=""/>
          <p:cNvPicPr/>
          <p:nvPr/>
        </p:nvPicPr>
        <p:blipFill>
          <a:blip r:embed="rId2"/>
          <a:stretch/>
        </p:blipFill>
        <p:spPr>
          <a:xfrm>
            <a:off x="7620120" y="228600"/>
            <a:ext cx="1218960" cy="117468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0" y="1676520"/>
            <a:ext cx="9144000" cy="0"/>
          </a:xfrm>
          <a:prstGeom prst="line">
            <a:avLst/>
          </a:prstGeom>
          <a:ln w="63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6324480"/>
            <a:ext cx="9142560" cy="0"/>
          </a:xfrm>
          <a:prstGeom prst="line">
            <a:avLst/>
          </a:prstGeom>
          <a:ln w="507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457200" y="2057400"/>
            <a:ext cx="8152920" cy="1599840"/>
            <a:chOff x="457200" y="2057400"/>
            <a:chExt cx="8152920" cy="1599840"/>
          </a:xfrm>
        </p:grpSpPr>
        <p:sp>
          <p:nvSpPr>
            <p:cNvPr id="45" name=""/>
            <p:cNvSpPr/>
            <p:nvPr/>
          </p:nvSpPr>
          <p:spPr>
            <a:xfrm>
              <a:off x="2886480" y="205740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811960" y="222264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771280" y="244332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457200" y="277344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66"/>
                </a:solidFill>
                <a:latin typeface="Times New Roman"/>
              </a:rPr>
              <a:t>Click to edit the title text format</a:t>
            </a:r>
            <a:endParaRPr b="1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A0152-4755-44D6-8BAF-F31D397065E9}" type="datetime5">
              <a:rPr b="0" lang="en-US" sz="1400" spc="-1" strike="noStrike">
                <a:solidFill>
                  <a:srgbClr val="000000"/>
                </a:solidFill>
                <a:latin typeface="Arial"/>
              </a:rPr>
              <a:t>Jul 30, 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90CF2-65FC-44E5-8F9D-C5B35F26C7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66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66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66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152352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1" i="1" lang="en-US" sz="4400" spc="-1" strike="noStrike">
                <a:solidFill>
                  <a:srgbClr val="000066"/>
                </a:solidFill>
                <a:latin typeface="Times New Roman"/>
              </a:rPr>
              <a:t>IEEE 802</a:t>
            </a:r>
            <a:br>
              <a:rPr sz="4400"/>
            </a:br>
            <a:r>
              <a:rPr b="1" i="1" lang="en-US" sz="4400" spc="-1" strike="noStrike">
                <a:solidFill>
                  <a:srgbClr val="000066"/>
                </a:solidFill>
                <a:latin typeface="Times New Roman"/>
              </a:rPr>
              <a:t>QoS/FC Study Group </a:t>
            </a:r>
            <a:br>
              <a:rPr sz="4400"/>
            </a:br>
            <a:r>
              <a:rPr b="1" i="1" lang="en-US" sz="4400" spc="-1" strike="noStrike">
                <a:solidFill>
                  <a:srgbClr val="000066"/>
                </a:solidFill>
                <a:latin typeface="Times New Roman"/>
              </a:rPr>
              <a:t>General Information</a:t>
            </a:r>
            <a:endParaRPr b="1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279440" y="3774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905120" y="3505320"/>
            <a:ext cx="510516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Khaled Am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Chairma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IEEE 80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Executive Committee Study Grou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QoS/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March 19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66"/>
                </a:solidFill>
                <a:latin typeface="Times New Roman"/>
              </a:rPr>
              <a:t>Analysis Work Needed</a:t>
            </a:r>
            <a:r>
              <a:rPr b="1" i="1" lang="en-US" sz="4400" spc="-1" strike="noStrike">
                <a:solidFill>
                  <a:srgbClr val="000066"/>
                </a:solidFill>
                <a:latin typeface="Times New Roman"/>
              </a:rPr>
              <a:t>	</a:t>
            </a:r>
            <a:endParaRPr b="1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ling work will be needed to simul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urrent network environments and protoco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posed enhancements or new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rious traffic stream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action of proposed layer 2 solutions with layer 4 flow control (especially TC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action of LAN/WAN environ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action of time-sensitive streams and traditional data strea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AEF98-57C9-4B40-969B-5BBBC9D7D3DA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0515EB-A31B-4366-9332-41BCA878AC4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655344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66"/>
                </a:solidFill>
                <a:latin typeface="Arial"/>
              </a:rPr>
              <a:t>Meetings Held</a:t>
            </a:r>
            <a:endParaRPr b="1" i="1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EEE 802 Plenary Mee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v 1999 - Albuquer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erim mee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n 1999 -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uthern Flori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EEE 802 Plenary Mee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 1999 - Austin, T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penciline" descr=""/>
          <p:cNvPicPr/>
          <p:nvPr/>
        </p:nvPicPr>
        <p:blipFill>
          <a:blip r:embed="rId1"/>
          <a:stretch/>
        </p:blipFill>
        <p:spPr>
          <a:xfrm>
            <a:off x="2438280" y="2971800"/>
            <a:ext cx="3962520" cy="357120"/>
          </a:xfrm>
          <a:prstGeom prst="rect">
            <a:avLst/>
          </a:prstGeom>
          <a:ln w="0">
            <a:noFill/>
          </a:ln>
        </p:spPr>
      </p:pic>
      <p:pic>
        <p:nvPicPr>
          <p:cNvPr id="119" name="bus17" descr=""/>
          <p:cNvPicPr/>
          <p:nvPr/>
        </p:nvPicPr>
        <p:blipFill>
          <a:blip r:embed="rId2"/>
          <a:stretch/>
        </p:blipFill>
        <p:spPr>
          <a:xfrm>
            <a:off x="6400800" y="304920"/>
            <a:ext cx="2362320" cy="1716120"/>
          </a:xfrm>
          <a:prstGeom prst="rect">
            <a:avLst/>
          </a:prstGeom>
          <a:ln w="0">
            <a:noFill/>
          </a:ln>
        </p:spPr>
      </p:pic>
      <p:pic>
        <p:nvPicPr>
          <p:cNvPr id="120" name="penciline" descr=""/>
          <p:cNvPicPr/>
          <p:nvPr/>
        </p:nvPicPr>
        <p:blipFill>
          <a:blip r:embed="rId3"/>
          <a:stretch/>
        </p:blipFill>
        <p:spPr>
          <a:xfrm>
            <a:off x="2438280" y="4495680"/>
            <a:ext cx="3962520" cy="357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17A34-9D67-471B-A37E-9760950DE7E9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603513-2ED1-47B3-BA74-647CD5D9FD4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66"/>
                </a:solidFill>
                <a:latin typeface="Times New Roman"/>
              </a:rPr>
              <a:t>Sample of Presentations</a:t>
            </a:r>
            <a:endParaRPr b="1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rminology and objecti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ral presentations about 802.3x limitations and suggested extensions (as well as other mechanism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sentations on MPEG, QoS, LAN/WAN interoperability and other related topi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cussions on draft PAR and 5 criter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DE4D8-01C4-465A-9940-D77A4ED97E75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BC2749-A245-4E46-9779-1B498F11177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66"/>
                </a:solidFill>
                <a:latin typeface="Times New Roman"/>
              </a:rPr>
              <a:t>Some Proposals</a:t>
            </a:r>
            <a:endParaRPr b="1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lvl="1" marL="720720" indent="-2772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tching LANs to wide-area flow contro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Jim Mollenauer - Technical Strategy Associat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PEG Tutorial and QoS requirem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Don Pannell – I-Cub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atural Enhancements to 802.3x Flow Contro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Ken Macleod – Vertex Network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low Control Issues for Gb Etherne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Jeff Lynch/Clark Jeffries/Metin Aydemir - IB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sign Issues for Enhanced Flow Contro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Ken Macleod – Vertex Networks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15192-A5EA-4E8A-B042-FF17DEF375AF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2EB232-79A4-4C46-9B20-9B5BA3AA05C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66"/>
                </a:solidFill>
                <a:latin typeface="Times New Roman"/>
              </a:rPr>
              <a:t>Interaction with the IETF</a:t>
            </a:r>
            <a:endParaRPr b="1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nt formal letter to Scott Bradner after discussing it on the reflec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ral volunteers participated in the IETF meeting of Dec 9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t and established working relationship with chairs of relevant IETF working grou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vited Scott Bradner to an IEEE 802 meeting (March 99 - Austi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C85BF-45A4-4515-8BDA-604ECF37E119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E778E7-5190-4092-AA09-AAF2382983D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66"/>
                </a:solidFill>
                <a:latin typeface="Times New Roman"/>
              </a:rPr>
              <a:t>IETF Position</a:t>
            </a:r>
            <a:r>
              <a:rPr b="1" i="1" lang="en-US" sz="4400" spc="-1" strike="noStrike">
                <a:solidFill>
                  <a:srgbClr val="000066"/>
                </a:solidFill>
                <a:latin typeface="Times New Roman"/>
              </a:rPr>
              <a:t>	</a:t>
            </a:r>
            <a:endParaRPr b="1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rested in the QoS work going on in the IEEE 802 study gro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erned about the interaction of L2 flow control with L4 flow control of TC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n’t know if it would help or hu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 much work done in that ar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ff3300"/>
                </a:solidFill>
                <a:latin typeface="Times New Roman"/>
              </a:rPr>
              <a:t>Conclusion: Not enough info in this ar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25DBE-ABED-4C89-8ADC-96B9870C9CB2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CBF29F-196A-428F-B586-4C8092E5F6C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66"/>
                </a:solidFill>
                <a:latin typeface="Times New Roman"/>
              </a:rPr>
              <a:t>Concerns raised in the IEEE 802 Committee</a:t>
            </a:r>
            <a:endParaRPr b="1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chnical Concern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rehension on interaction of L2 flow control with that of L4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cern about TCP operation if packet discard were avoid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ed to share work of the study group with the IETF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95F0D-90FD-4F77-84B0-B8AED0268D6F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58CECA-871A-4D29-97FA-7B425A16E53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66"/>
                </a:solidFill>
                <a:latin typeface="Times New Roman"/>
              </a:rPr>
              <a:t>Other Concerns raised in the IEEE 802 Committee ...</a:t>
            </a:r>
            <a:endParaRPr b="1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cedural Concern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oS and flow control still need a lot of analysis and research before establishing a stand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EEE 802 not a research organization for doing such 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F67BC-CA13-4971-B1D0-458DB938699C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6BDBB2-3891-42E8-B306-0E5F92D1BA8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80880" y="533520"/>
            <a:ext cx="60199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66"/>
                </a:solidFill>
                <a:latin typeface="Arial"/>
              </a:rPr>
              <a:t>E-Mail Reflector</a:t>
            </a:r>
            <a:endParaRPr b="1" i="1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33160" y="1905120"/>
            <a:ext cx="8001000" cy="396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ress: stds-802-qos-fc@ieee.or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rrently 150 subscrib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To be added to the refl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nd an e-mail containing the lin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scribe stds-802-qos-fc &lt;your e-mail address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jordomo@majordomo.ieee.or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7238880" y="2209680"/>
            <a:ext cx="1538280" cy="1676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DE45F-9CAE-4915-86B7-5D58BD94C057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E13951-961D-4E02-8712-C64F0FF52DC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33160" y="609480"/>
            <a:ext cx="25146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66"/>
                </a:solidFill>
                <a:latin typeface="Arial"/>
              </a:rPr>
              <a:t>Web Site</a:t>
            </a:r>
            <a:endParaRPr b="1" i="1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09480" y="1828440"/>
            <a:ext cx="7925040" cy="380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74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://grouper.ieee.org/groups/802/QOSF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ked to the IEEE 802 WG p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y group Presentations pos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7238880" y="3809880"/>
            <a:ext cx="1257480" cy="1117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F938E-5AF5-4ED4-AFEB-7CDB9FE3EA73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C974DB-F7A3-462F-851F-C365A7F44AA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66"/>
                </a:solidFill>
                <a:latin typeface="Arial"/>
              </a:rPr>
              <a:t>Formation of the </a:t>
            </a:r>
            <a:br>
              <a:rPr sz="3600"/>
            </a:br>
            <a:r>
              <a:rPr b="1" i="1" lang="en-US" sz="3600" spc="-1" strike="noStrike">
                <a:solidFill>
                  <a:srgbClr val="000066"/>
                </a:solidFill>
                <a:latin typeface="Arial"/>
              </a:rPr>
              <a:t>QoS/FC ECSG</a:t>
            </a:r>
            <a:endParaRPr b="1" i="1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EEE 802 chartered an Executive Committee Study Group (ECSG) to look into establishing an IEEE 802 standard for Quality of Service and flow contr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haled Amer appointed as the Chairpers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ticipa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5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of March 99 there were 150 members representing more than 50 compan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hndshake2" descr=""/>
          <p:cNvPicPr/>
          <p:nvPr/>
        </p:nvPicPr>
        <p:blipFill>
          <a:blip r:embed="rId1"/>
          <a:stretch/>
        </p:blipFill>
        <p:spPr>
          <a:xfrm>
            <a:off x="6905520" y="4267080"/>
            <a:ext cx="2238480" cy="1657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28B37-CEF1-4245-863A-E4A4F39B7988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810391-ED58-40D6-A9EA-166D4EB1935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04920" y="609480"/>
            <a:ext cx="68580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66"/>
                </a:solidFill>
                <a:latin typeface="Arial"/>
              </a:rPr>
              <a:t>For more Information</a:t>
            </a:r>
            <a:endParaRPr b="1" i="1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905120" y="1676520"/>
            <a:ext cx="4572000" cy="312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tact Khaled Am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one Number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949) 552-11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ail addr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haledamer@usa.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phone" descr=""/>
          <p:cNvPicPr/>
          <p:nvPr/>
        </p:nvPicPr>
        <p:blipFill>
          <a:blip r:embed="rId1"/>
          <a:stretch/>
        </p:blipFill>
        <p:spPr>
          <a:xfrm>
            <a:off x="609480" y="1752480"/>
            <a:ext cx="860400" cy="121932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533520" y="3886200"/>
            <a:ext cx="961920" cy="84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CD17F-A3D3-4426-BFE1-5D9AB1C04A42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394B7A-C00E-4248-BC72-71228C82408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66"/>
                </a:solidFill>
                <a:latin typeface="Times New Roman"/>
              </a:rPr>
              <a:t>Backup Slides with more info</a:t>
            </a:r>
            <a:endParaRPr b="1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66"/>
                </a:solidFill>
                <a:latin typeface="Times New Roman"/>
              </a:rPr>
              <a:t>Defining the problem</a:t>
            </a:r>
            <a:endParaRPr b="1" i="1" lang="en-US" sz="5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6320" y="2361960"/>
            <a:ext cx="9067680" cy="37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volume, mix and # of sources of network traffic are ris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infusion of long, high speed connections without slow start mechanisms and long round trip times will bring new LAN management problem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increasing volume of LAN traffic, coupled with uncontrolled external sources will result in an increase in the variability of LAN demand/utiliz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F0027-62FB-4BFF-8DB6-08C964266F6E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E027F7-52B5-40D7-8ACB-81D947B59B4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66"/>
                </a:solidFill>
                <a:latin typeface="Times New Roman"/>
              </a:rPr>
              <a:t>Refining the problem</a:t>
            </a:r>
            <a:endParaRPr b="1" i="1" lang="en-US" sz="4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es this represent a problem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does it occur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re does it occur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are the options for managing i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are the trade-offs in selection a management op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ll the management approach work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9FB26-00C3-4A74-9A5F-064A2DFF3370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E617C7-BC2D-4ED1-A151-885F10E362B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8080" y="8377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66"/>
                </a:solidFill>
                <a:latin typeface="Times New Roman"/>
              </a:rPr>
              <a:t>Study Group Focus</a:t>
            </a:r>
            <a:endParaRPr b="1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6320" y="1981080"/>
            <a:ext cx="9067680" cy="365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agement of conges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hancements to current FC (Flow control) mechanis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servation of QoS (Quality of Service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eded for time-sensitive ap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tection of low priority data against loss and undue delay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N/WAN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9900"/>
                </a:solidFill>
                <a:latin typeface="Times New Roman"/>
              </a:rPr>
              <a:t>Request for Contributions in these are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838E7-8E5C-4A26-A880-6E807C3E4E5B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B3E717-E63F-4CAF-B18A-9A72DF3AD9E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66"/>
                </a:solidFill>
                <a:latin typeface="Times New Roman"/>
              </a:rPr>
              <a:t>Congestion Management</a:t>
            </a:r>
            <a:endParaRPr b="1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802.3x doesn’t go far enough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Provides framework for extension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low Control can be improved to handl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Head of line block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524"/>
              </a:spcBef>
              <a:buClr>
                <a:srgbClr val="0000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One flow is currently able to impede another flow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524"/>
              </a:spcBef>
              <a:buClr>
                <a:srgbClr val="0000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Need to differentiate flow control on a per flow basi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Prioritizat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524"/>
              </a:spcBef>
              <a:buClr>
                <a:srgbClr val="0000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Multi-media will encounter unpredictable delay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524"/>
              </a:spcBef>
              <a:buClr>
                <a:srgbClr val="0000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Flow control needs to be able to differentiate prioritie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10D4E-F8C3-484B-A7A3-57960E21075C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716065-5682-435F-859A-983965F38AF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66"/>
                </a:solidFill>
                <a:latin typeface="Times New Roman"/>
              </a:rPr>
              <a:t>Preservation of QoS</a:t>
            </a:r>
            <a:endParaRPr b="1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Ns interact with AT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DSL increases ATM to the ed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spcBef>
                <a:spcPts val="601"/>
              </a:spcBef>
              <a:buClr>
                <a:srgbClr val="0000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ectation of Q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spcBef>
                <a:spcPts val="601"/>
              </a:spcBef>
              <a:buClr>
                <a:srgbClr val="0000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ouldn’t lose QoS just because we came into L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spcBef>
                <a:spcPts val="601"/>
              </a:spcBef>
              <a:buClr>
                <a:srgbClr val="0000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uld be a motivation for ATM to penetrate LAN strongho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Ns interact with time sensitive ap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ed mechanism to communicate QoS needs to lower LAN lay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8E5C9-3EF2-4778-BC58-4796DFF25752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84BF1F-6DD9-4135-9DEE-0B40E4394A7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66"/>
                </a:solidFill>
                <a:latin typeface="Times New Roman"/>
              </a:rPr>
              <a:t>Protection of traditional </a:t>
            </a:r>
            <a:br>
              <a:rPr sz="4400"/>
            </a:br>
            <a:r>
              <a:rPr b="1" i="1" lang="en-US" sz="4400" spc="-1" strike="noStrike">
                <a:solidFill>
                  <a:srgbClr val="000066"/>
                </a:solidFill>
                <a:latin typeface="Times New Roman"/>
              </a:rPr>
              <a:t>(low priority) data</a:t>
            </a:r>
            <a:endParaRPr b="1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g increase of time sensitive traff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ss deployment of Cable modem and xDSL creating appetite for time sensitive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liferation of these apps into the L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eamed UDP applications will in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low start (instant ramp u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tential congestion effecting traditiona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6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ffer overflow, data loss, retransmiss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DB6E2-2B85-4BE4-A3E2-182C6BE931DD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9F0755-6D81-45D8-ADB5-EDADC7E96E4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66"/>
                </a:solidFill>
                <a:latin typeface="Times New Roman"/>
              </a:rPr>
              <a:t>LAN/WAN Interoperability</a:t>
            </a:r>
            <a:endParaRPr b="1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AN has its own QoS and Flow Control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LAN/WAN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sential interoperability issues a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ow 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se services should be ubiquito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DD1D6-AB8A-468E-9F86-F913B5BAF2E2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B870B4-A686-4AEF-AD88-F8FE42765CE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66"/>
                </a:solidFill>
                <a:latin typeface="Times New Roman"/>
              </a:rPr>
              <a:t>Why do we care?</a:t>
            </a:r>
            <a:endParaRPr b="1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0948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se issues impact 802 LA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802 atten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blish where the work should be done in 80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develop solutions for these issues before they develop into network crise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3511E-84EA-4607-A0CA-4A1077C32063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CA3B24-5723-40B3-8079-5CD4C0A1728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66"/>
                </a:solidFill>
                <a:latin typeface="Times New Roman"/>
              </a:rPr>
              <a:t>Trends in Networks</a:t>
            </a:r>
            <a:endParaRPr b="1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8000"/>
          </a:bodyPr>
          <a:p>
            <a:pPr marL="267480" indent="-267480">
              <a:spcBef>
                <a:spcPts val="6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ss deployment of High speed WAN links injecting traffic into 802 LA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spcBef>
                <a:spcPts val="601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xD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spcBef>
                <a:spcPts val="601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able Mod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spcBef>
                <a:spcPts val="601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SP high speed connecti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spcBef>
                <a:spcPts val="6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ramatic increase in time-sensitive traffic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spcBef>
                <a:spcPts val="601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QoS guarantees need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spcBef>
                <a:spcPts val="601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oes not follow the slow start mechanism of TC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spcBef>
                <a:spcPts val="601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an disrupt data traffic on LANs causing buffer overflows, packet loss, retransmissions and severe performance degrad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15B01-D05A-4361-8C71-947DF245D9D5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3F9DD2-BE56-4267-A571-41BDCF179BC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655308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66"/>
                </a:solidFill>
                <a:latin typeface="Arial"/>
              </a:rPr>
              <a:t>Challenge Statement</a:t>
            </a:r>
            <a:endParaRPr b="1" i="1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812960" y="4765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09480" y="1905120"/>
            <a:ext cx="7848720" cy="37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key challenge is loss and unacceptable delay/delay jitter of frames which is due to congestion caused b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-17604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ed Mismatch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-17604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subscrib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-17604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action with high bandwidth                                      fast start data strea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7620120" y="3124080"/>
            <a:ext cx="1130040" cy="1600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96022-29B1-476E-9A1F-F23068B694D4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4B835A-EBC2-4414-ABFC-1DC1BA9D3CB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4560" y="456840"/>
            <a:ext cx="65530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66"/>
                </a:solidFill>
                <a:latin typeface="Arial"/>
              </a:rPr>
              <a:t>Objective Statement</a:t>
            </a:r>
            <a:endParaRPr b="1" i="1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0">
              <a:lnSpc>
                <a:spcPct val="15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study the potential of developing             an IEEE 802 standard in order to facilitate   the addition of new kinds of traffic over 802 networks, including real-time voice and video, while maintaining classic datagram service.This standard is intended to work with relevant IETF standar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7620120" y="1828800"/>
            <a:ext cx="1295280" cy="1295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0336E-524A-43E6-88CA-CADDD2EC9806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6CA5C5-6BE7-46EE-B7FC-235159A7A30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65534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66"/>
                </a:solidFill>
                <a:latin typeface="Arial"/>
              </a:rPr>
              <a:t>Basic Approach</a:t>
            </a:r>
            <a:endParaRPr b="1" i="1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ost effective method of meeting th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jective i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sioning the LAN with ample      bandwid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ing enhanced Layer 2 flow control, including means of differentiating service for various classes of traffi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7162920" y="2666880"/>
            <a:ext cx="1450800" cy="1524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27E62-1F6F-4041-BEC8-1E9FE7E27775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F888B4-A72B-4BDB-998A-9EE52F60ADB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66"/>
                </a:solidFill>
                <a:latin typeface="Times New Roman"/>
              </a:rPr>
              <a:t>Scope of Work</a:t>
            </a:r>
            <a:endParaRPr b="1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roposed scope is to be limited to link-by-link QoS and flow control, since it is anticipated that end-to-end mechanisms would be inappropriate for IEEE 802 to defin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roposed scope is to be further limited to packet-by-packet mechanisms, since control of specification of ‘Flows’ or ‘Virtual Connections’ or ‘Sessions’ would be outside the scope of IEEE 802’s Layer 2 activiti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01FCB-57F1-4C26-8E14-56E1AD17D970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FA1390-07B2-4741-BE16-B66F6519385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655344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66"/>
                </a:solidFill>
                <a:latin typeface="Arial"/>
              </a:rPr>
              <a:t>Scope of Work ...</a:t>
            </a:r>
            <a:endParaRPr b="1" i="1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fforts for Layer 3 QoS (such as the IETF’s efforts) should be reviewed for possible interactions with IEEE 80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nce Layer 3 QoS efforts might benefit from Layer 2 QoS services and interface, coordinated efforts may be warran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F768E-C291-4D43-8CB6-AF2E30BA27DB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DB8251-5B51-422D-ACE5-BAEAF7AC083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560" y="533160"/>
            <a:ext cx="65530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66"/>
                </a:solidFill>
                <a:latin typeface="Arial"/>
              </a:rPr>
              <a:t>Example of Challenge</a:t>
            </a:r>
            <a:endParaRPr b="1" i="1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DP streams that do not follow the TCP slow start mechanism, which are being used in numerous multimedia and video conferencing applica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C47B5-009D-4EED-B4C2-4F5BF991B711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7C40B8-2740-4CB4-9C15-BF95CAF5170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8T20:31:52Z</dcterms:created>
  <dc:creator>Khaled Amer</dc:creator>
  <dc:description/>
  <dc:language>en-US</dc:language>
  <cp:lastModifiedBy>khaled amer</cp:lastModifiedBy>
  <cp:lastPrinted>1999-03-07T05:17:58Z</cp:lastPrinted>
  <dcterms:modified xsi:type="dcterms:W3CDTF">2000-07-07T17:17:20Z</dcterms:modified>
  <cp:revision>214</cp:revision>
  <dc:subject/>
  <dc:title>General Info on Qos-FC Study Group</dc:title>
</cp:coreProperties>
</file>