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8520" y="1781280"/>
            <a:ext cx="941688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520" y="4910760"/>
            <a:ext cx="941688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8520" y="178128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23960" y="178128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98520" y="491076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23960" y="491076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8520" y="1781280"/>
            <a:ext cx="30319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2360" y="1781280"/>
            <a:ext cx="30319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66200" y="1781280"/>
            <a:ext cx="30319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8520" y="4910760"/>
            <a:ext cx="30319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2360" y="4910760"/>
            <a:ext cx="30319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66200" y="4910760"/>
            <a:ext cx="30319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98520" y="1781280"/>
            <a:ext cx="941688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98520" y="1781280"/>
            <a:ext cx="941688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8520" y="1781280"/>
            <a:ext cx="459540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23960" y="1781280"/>
            <a:ext cx="459540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0055160" cy="71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8520" y="178128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3960" y="1781280"/>
            <a:ext cx="459540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98520" y="491076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8520" y="1781280"/>
            <a:ext cx="459540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23960" y="178128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23960" y="491076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8520" y="178128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23960" y="1781280"/>
            <a:ext cx="459540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520" y="4910760"/>
            <a:ext cx="941688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10055160" cy="15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8520" y="1781280"/>
            <a:ext cx="941688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1" marL="819000" indent="-31752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2" marL="1262160" indent="-25092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3" marL="1766880" indent="-25092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4" marL="2273400" indent="-25092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5" marL="2273400" indent="-25092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6" marL="2273400" indent="-25092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7320" y="714240"/>
            <a:ext cx="9710640" cy="350856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076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461520"/>
                <a:tab algn="l" pos="965196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IEEE 802.16</a:t>
            </a:r>
            <a:br>
              <a:rPr sz="4800"/>
            </a:b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Working Group on </a:t>
            </a:r>
            <a:br>
              <a:rPr sz="4800"/>
            </a:b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Broadband Wireless Access</a:t>
            </a:r>
            <a:br>
              <a:rPr sz="4800"/>
            </a:b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(BWA)</a:t>
            </a:r>
            <a:br>
              <a:rPr sz="4800"/>
            </a:b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98160" y="3723840"/>
            <a:ext cx="9420120" cy="331956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376200" indent="0" algn="ctr">
              <a:lnSpc>
                <a:spcPct val="93000"/>
              </a:lnSpc>
              <a:buNone/>
              <a:tabLst>
                <a:tab algn="l" pos="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461520"/>
                <a:tab algn="l" pos="965196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0" y="81000"/>
            <a:ext cx="2235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44280">
              <a:lnSpc>
                <a:spcPct val="93000"/>
              </a:lnSpc>
              <a:spcBef>
                <a:spcPts val="1562"/>
              </a:spcBef>
              <a:tabLst>
                <a:tab algn="l" pos="0"/>
                <a:tab algn="l" pos="5076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1005840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"/>
                <a:ea typeface="Arial"/>
              </a:rPr>
              <a:t>2009-09-02</a:t>
            </a:r>
            <a:endParaRPr b="0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6248520" y="81000"/>
            <a:ext cx="3504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0" anchor="t">
            <a:noAutofit/>
          </a:bodyPr>
          <a:p>
            <a:pPr marL="44280" algn="r">
              <a:lnSpc>
                <a:spcPct val="93000"/>
              </a:lnSpc>
              <a:spcBef>
                <a:spcPts val="1562"/>
              </a:spcBef>
              <a:tabLst>
                <a:tab algn="l" pos="0"/>
                <a:tab algn="l" pos="5076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10058400"/>
              </a:tabLst>
            </a:pPr>
            <a:r>
              <a:rPr b="0" lang="en-US" sz="2500" spc="-1" strike="noStrike">
                <a:solidFill>
                  <a:srgbClr val="fafd00"/>
                </a:solidFill>
                <a:latin typeface="Arial"/>
                <a:ea typeface="Arial"/>
              </a:rPr>
              <a:t>IEEE 802.16-09/0048</a:t>
            </a:r>
            <a:endParaRPr b="0" lang="en-US" sz="25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276720" y="3733920"/>
            <a:ext cx="365760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323856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5076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461520"/>
                <a:tab algn="l" pos="9651960"/>
                <a:tab algn="l" pos="10058400"/>
              </a:tabLst>
            </a:pPr>
            <a:r>
              <a:rPr b="1" lang="en-US" sz="4800" spc="-1" strike="noStrike">
                <a:solidFill>
                  <a:srgbClr val="fafd00"/>
                </a:solidFill>
                <a:latin typeface="Arial"/>
              </a:rPr>
              <a:t>Welcome</a:t>
            </a:r>
            <a:br>
              <a:rPr sz="4800"/>
            </a:b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IEEE 802.16</a:t>
            </a:r>
            <a:br>
              <a:rPr sz="4800"/>
            </a:b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Working Group on </a:t>
            </a:r>
            <a:br>
              <a:rPr sz="4800"/>
            </a:b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Broadband Wireless Access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8960" y="3238560"/>
            <a:ext cx="9499680" cy="4548240"/>
          </a:xfrm>
          <a:prstGeom prst="rect">
            <a:avLst/>
          </a:prstGeom>
          <a:noFill/>
          <a:ln w="0">
            <a:noFill/>
          </a:ln>
        </p:spPr>
        <p:txBody>
          <a:bodyPr lIns="50760" rIns="51120" tIns="50760" bIns="50760" anchor="t">
            <a:normAutofit/>
          </a:bodyPr>
          <a:p>
            <a:pPr marL="376200" indent="0" algn="ctr">
              <a:lnSpc>
                <a:spcPct val="93000"/>
              </a:lnSpc>
              <a:buNone/>
              <a:tabLst>
                <a:tab algn="l" pos="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461520"/>
                <a:tab algn="l" pos="965196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802.16 Session #63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marL="376200" indent="0" algn="ctr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461520"/>
                <a:tab algn="l" pos="965196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Midweek Plenary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marL="376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461520"/>
                <a:tab algn="l" pos="9651960"/>
                <a:tab algn="l" pos="10058400"/>
              </a:tabLst>
            </a:pP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marL="376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461520"/>
                <a:tab algn="l" pos="965196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2 September 2009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  <a:p>
            <a:pPr marL="3762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507960"/>
                <a:tab algn="l" pos="965160"/>
                <a:tab algn="l" pos="1422360"/>
                <a:tab algn="l" pos="1879560"/>
                <a:tab algn="l" pos="2336760"/>
                <a:tab algn="l" pos="2793960"/>
                <a:tab algn="l" pos="3251160"/>
                <a:tab algn="l" pos="3708360"/>
                <a:tab algn="l" pos="4165560"/>
                <a:tab algn="l" pos="4622760"/>
                <a:tab algn="l" pos="5079960"/>
                <a:tab algn="l" pos="5537160"/>
                <a:tab algn="l" pos="5994360"/>
                <a:tab algn="l" pos="6451560"/>
                <a:tab algn="l" pos="6908760"/>
                <a:tab algn="l" pos="7365960"/>
                <a:tab algn="l" pos="7823160"/>
                <a:tab algn="l" pos="8280360"/>
                <a:tab algn="l" pos="8737560"/>
                <a:tab algn="l" pos="9194760"/>
                <a:tab algn="l" pos="9461520"/>
                <a:tab algn="l" pos="9651960"/>
                <a:tab algn="l" pos="10058400"/>
              </a:tabLst>
            </a:pPr>
            <a:r>
              <a:rPr b="0" lang="en-US" sz="4800" spc="-1" strike="noStrike">
                <a:solidFill>
                  <a:srgbClr val="fafd00"/>
                </a:solidFill>
                <a:latin typeface="Arial"/>
              </a:rPr>
              <a:t>Jeju Island, Korea</a:t>
            </a:r>
            <a:endParaRPr b="0" lang="en-US" sz="4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80964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Autofit/>
          </a:bodyPr>
          <a:p>
            <a:pPr marL="5076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Agenda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8160" y="647280"/>
            <a:ext cx="9420120" cy="712476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rmAutofit/>
          </a:bodyPr>
          <a:p>
            <a:pPr marL="43020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620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Patent Policy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620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Task Group Reports and Discussion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lnSpc>
                <a:spcPct val="110000"/>
              </a:lnSpc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Maintenance TG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lnSpc>
                <a:spcPct val="110000"/>
              </a:lnSpc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Task Group m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lnSpc>
                <a:spcPct val="110000"/>
              </a:lnSpc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ITU-R Liaison Group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lvl="1" marL="873000" indent="-317520">
              <a:lnSpc>
                <a:spcPct val="110000"/>
              </a:lnSpc>
              <a:spcBef>
                <a:spcPts val="901"/>
              </a:spcBef>
              <a:buClr>
                <a:srgbClr val="fafd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License-Exempt TG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  <a:p>
            <a:pPr marL="430200" indent="-37620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Coordination issues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  <a:p>
            <a:pPr marL="430200" indent="-37620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Adjourn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Autofit/>
          </a:bodyPr>
          <a:p>
            <a:pPr marL="5076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Maintenance Task Group</a:t>
            </a: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10058400" cy="655308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rmAutofit/>
          </a:bodyPr>
          <a:p>
            <a:pPr marL="430200" indent="-37620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afd00"/>
                </a:solidFill>
                <a:latin typeface="Arial"/>
              </a:rPr>
              <a:t>Jon Labs, Chair</a:t>
            </a:r>
            <a:endParaRPr b="0" lang="en-US" sz="36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058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Autofit/>
          </a:bodyPr>
          <a:p>
            <a:pPr marL="5076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Task Group m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10058400" cy="678168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rmAutofit/>
          </a:bodyPr>
          <a:p>
            <a:pPr marL="430200" indent="-37620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Brian Kiernan, Chair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Autofit/>
          </a:bodyPr>
          <a:p>
            <a:pPr marL="5076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ITU-R Liaison Group</a:t>
            </a: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10058400" cy="655308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rmAutofit/>
          </a:bodyPr>
          <a:p>
            <a:pPr marL="430200" indent="-376200">
              <a:lnSpc>
                <a:spcPct val="11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Chair: Reza Arefi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Autofit/>
          </a:bodyPr>
          <a:p>
            <a:pPr marL="5076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1ceff"/>
                </a:solidFill>
                <a:latin typeface="Arial"/>
              </a:rPr>
              <a:t>Licensed-Exempt Task Group</a:t>
            </a:r>
            <a:r>
              <a:rPr b="0" lang="en-US" sz="4800" spc="-1" strike="noStrike">
                <a:solidFill>
                  <a:srgbClr val="c1ce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1ce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58400" cy="6629400"/>
          </a:xfrm>
          <a:prstGeom prst="rect">
            <a:avLst/>
          </a:prstGeom>
          <a:noFill/>
          <a:ln w="0">
            <a:noFill/>
          </a:ln>
        </p:spPr>
        <p:txBody>
          <a:bodyPr lIns="0" rIns="51120" tIns="0" bIns="0" anchor="t">
            <a:normAutofit/>
          </a:bodyPr>
          <a:p>
            <a:pPr marL="430200" indent="-376200">
              <a:lnSpc>
                <a:spcPct val="90000"/>
              </a:lnSpc>
              <a:spcBef>
                <a:spcPts val="1001"/>
              </a:spcBef>
              <a:buClr>
                <a:srgbClr val="fafd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afd00"/>
                </a:solidFill>
                <a:latin typeface="Arial"/>
              </a:rPr>
              <a:t>Mariana Goldhamer, Chair</a:t>
            </a:r>
            <a:endParaRPr b="0" lang="en-US" sz="3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2:31:49Z</dcterms:created>
  <dc:creator>Roger B. Marks</dc:creator>
  <dc:description/>
  <cp:keywords/>
  <dc:language>en-US</dc:language>
  <cp:lastModifiedBy>Roger Marks</cp:lastModifiedBy>
  <dcterms:modified xsi:type="dcterms:W3CDTF">2009-09-01T22:46:13Z</dcterms:modified>
  <cp:revision>91</cp:revision>
  <dc:subject/>
  <dc:title>  Technical Standards for Broadband Wireless Access   January 2</dc:title>
</cp:coreProperties>
</file>