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9B144-530C-45D9-83F6-2D241ED04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23040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0B04-2222-4EB0-A306-8B3309FAA21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Slide 6" TargetMode="External"/><Relationship Id="rId2" Type="http://schemas.openxmlformats.org/officeDocument/2006/relationships/hyperlink" Target="http://standards.ieee.org/guides/bylaws/sect6-7.html#Slide 6" TargetMode="External"/><Relationship Id="rId3" Type="http://schemas.openxmlformats.org/officeDocument/2006/relationships/hyperlink" Target="http://standards.ieee.org/guides/bylaws/sect6-7.html#Slide 6"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 name="Text Box 4"/>
          <p:cNvSpPr/>
          <p:nvPr/>
        </p:nvSpPr>
        <p:spPr>
          <a:xfrm>
            <a:off x="0" y="533520"/>
            <a:ext cx="8991720" cy="529740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Project Planning Adhoc Closing Report</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10/0007</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10-01-13</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Jose Puthenkulam</a:t>
            </a:r>
            <a:r>
              <a:rPr b="0" lang="en-US" sz="1200" spc="-1" strike="noStrike">
                <a:solidFill>
                  <a:srgbClr val="000000"/>
                </a:solidFill>
                <a:latin typeface="Times New Roman"/>
              </a:rPr>
              <a:t>	</a:t>
            </a:r>
            <a:r>
              <a:rPr b="0" lang="en-US" sz="1200" spc="-1" strike="noStrike">
                <a:solidFill>
                  <a:srgbClr val="262699"/>
                </a:solidFill>
                <a:latin typeface="Times New Roman"/>
              </a:rPr>
              <a:t> E</a:t>
            </a:r>
            <a:r>
              <a:rPr b="0" lang="en-US" sz="1200" spc="-1" strike="noStrike">
                <a:solidFill>
                  <a:srgbClr val="262699"/>
                </a:solidFill>
                <a:latin typeface="Times New Roman"/>
              </a:rPr>
              <a:t>-mail: jose.p.puthenkulam@intel.com</a:t>
            </a:r>
            <a:r>
              <a:rPr b="0" lang="en-US" sz="1200" spc="-1" strike="noStrike">
                <a:solidFill>
                  <a:srgbClr val="262699"/>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ntel Corpora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roject Planning Adhoc Chair)</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an Diego, CA,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roject Planning Adhoc Closing Report</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guides/opman/sect6.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ning Adhoc Report (1/3)</a:t>
            </a:r>
            <a:endParaRPr b="0" lang="en-US" sz="3200" spc="-1" strike="noStrike">
              <a:solidFill>
                <a:srgbClr val="000000"/>
              </a:solidFill>
              <a:latin typeface="Times New Roman"/>
            </a:endParaRPr>
          </a:p>
        </p:txBody>
      </p:sp>
      <p:sp>
        <p:nvSpPr>
          <p:cNvPr id="40"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imeslots we met this week:</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on Session: 7:30PM-10:20 PM – Room Salon F</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Tue Session: 7:20-11:20 PM – Room Salon F</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hoc Objectives were: </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planning aspects for:</a:t>
            </a:r>
            <a:endParaRPr b="0" lang="en-US" sz="2400" spc="-1" strike="noStrike">
              <a:solidFill>
                <a:srgbClr val="000000"/>
              </a:solidFill>
              <a:latin typeface="Times New Roman"/>
            </a:endParaRPr>
          </a:p>
          <a:p>
            <a:pPr lvl="2" marL="10857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802.16 projects (Mon and Tue)</a:t>
            </a:r>
            <a:endParaRPr b="0" lang="en-US" sz="2000" spc="-1" strike="noStrike">
              <a:solidFill>
                <a:srgbClr val="000000"/>
              </a:solidFill>
              <a:latin typeface="Times New Roman"/>
            </a:endParaRPr>
          </a:p>
          <a:p>
            <a:pPr lvl="2" marL="10857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urrent Active 802.16 projects (Tue)</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Develop planning recommendations to WG for (Tue):</a:t>
            </a:r>
            <a:endParaRPr b="0" lang="en-US" sz="2400" spc="-1" strike="noStrike">
              <a:solidFill>
                <a:srgbClr val="000000"/>
              </a:solidFill>
              <a:latin typeface="Times New Roman"/>
            </a:endParaRPr>
          </a:p>
          <a:p>
            <a:pPr lvl="2" marL="10857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Future projects: Projects beyond 802.16m, Potential March Tutorial Plans, New PAR suggestions</a:t>
            </a:r>
            <a:endParaRPr b="0" lang="en-US" sz="2000" spc="-1" strike="noStrike">
              <a:solidFill>
                <a:srgbClr val="000000"/>
              </a:solidFill>
              <a:latin typeface="Times New Roman"/>
            </a:endParaRPr>
          </a:p>
          <a:p>
            <a:pPr lvl="2" marL="10857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urrent projects: Suggestions for 802.16m Work Plan Updates</a:t>
            </a:r>
            <a:endParaRPr b="0" lang="en-US" sz="2000" spc="-1" strike="noStrike">
              <a:solidFill>
                <a:srgbClr val="000000"/>
              </a:solidFill>
              <a:latin typeface="Times New Roman"/>
            </a:endParaRPr>
          </a:p>
          <a:p>
            <a:pPr lvl="2" marL="108576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ning Adhoc Report (2/3)</a:t>
            </a:r>
            <a:endParaRPr b="0" lang="en-US" sz="3200" spc="-1" strike="noStrike">
              <a:solidFill>
                <a:srgbClr val="000000"/>
              </a:solidFill>
              <a:latin typeface="Times New Roman"/>
            </a:endParaRPr>
          </a:p>
        </p:txBody>
      </p:sp>
      <p:sp>
        <p:nvSpPr>
          <p:cNvPr id="42"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put contributions discussed:</a:t>
            </a:r>
            <a:endParaRPr b="0" lang="en-US" sz="28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nday:</a:t>
            </a:r>
            <a:endParaRPr b="0" lang="en-US" sz="20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9: Future Wireless Broadband Networks: Challenges and Possibilities</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2: Future Wireless Broadband Networks PAR proposal and Timeline</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3: Heterogeneous Networking for Future Wireless Broadband Networks </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7: Enhancing Mobile Video Service Capabilities over Next-Generation WiMAX</a:t>
            </a:r>
            <a:endParaRPr b="0" lang="en-US" sz="16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Tuesday:</a:t>
            </a:r>
            <a:endParaRPr b="0" lang="en-US" sz="20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6: Enhancing Mobile Internet Experience over Next-Generation WiMAX</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5: Client Cooperation in Future Wireless Broadband Networks </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4: Multi-tier Topologies in Future Wireless Broadband Networks </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8: Energy Efficiency for Future Wireless Broadband Networks</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10.ppt: Terminal-to-terminal direct communication </a:t>
            </a:r>
            <a:endParaRPr b="0" lang="en-US" sz="16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ations to WG (1/2)</a:t>
            </a:r>
            <a:endParaRPr b="0" lang="en-US" sz="3200" spc="-1" strike="noStrike">
              <a:solidFill>
                <a:srgbClr val="000000"/>
              </a:solidFill>
              <a:latin typeface="Times New Roman"/>
            </a:endParaRPr>
          </a:p>
        </p:txBody>
      </p:sp>
      <p:sp>
        <p:nvSpPr>
          <p:cNvPr id="44" name=""/>
          <p:cNvSpPr txBox="1"/>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Future projects – For Projects beyond 802.16m:</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dhoc proposes initiating two Study Groups in March:</a:t>
            </a:r>
            <a:endParaRPr b="0" lang="en-US" sz="20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vanced Services Support Study Group</a:t>
            </a:r>
            <a:endParaRPr b="0" lang="en-US" sz="18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y High Capacity Networks Study Group</a:t>
            </a:r>
            <a:endParaRPr b="0" lang="en-US" sz="18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ll the above study groups get established the discussions on these topics could continue in the Project Planning Adhoc.</a:t>
            </a:r>
            <a:endParaRPr b="0" lang="en-US" sz="18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ction Item</a:t>
            </a:r>
            <a:r>
              <a:rPr b="0" lang="en-US" sz="1800" spc="-1" strike="noStrike">
                <a:solidFill>
                  <a:srgbClr val="000000"/>
                </a:solidFill>
                <a:latin typeface="Times New Roman"/>
              </a:rPr>
              <a:t>: To clarify with Roger on the WG motions required for initiating these SGs in March</a:t>
            </a:r>
            <a:endParaRPr b="0" lang="en-US" sz="18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arch Tutorial Plans Discussion and follow-up actions</a:t>
            </a:r>
            <a:endParaRPr b="0" lang="en-US" sz="20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Develop a Call for Interest Tutorial for the above study groups</a:t>
            </a:r>
            <a:endParaRPr b="0" lang="en-US" sz="18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The following people have volunteered to develop the presentation for the CFI for the March 802 Plenary</a:t>
            </a:r>
            <a:endParaRPr b="0" lang="en-US" sz="1800" spc="-1" strike="noStrike">
              <a:solidFill>
                <a:srgbClr val="000000"/>
              </a:solidFill>
              <a:latin typeface="Times New Roman"/>
            </a:endParaRPr>
          </a:p>
          <a:p>
            <a:pPr lvl="3" marL="1428840" indent="-228600">
              <a:spcBef>
                <a:spcPts val="34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Shilpa Talwar, Hokyu Choi, Nageen Himayat, Dan Gal, Upkar Dhaliwal, Rath Vannithamby, Kerstin Johnsson, Mariana Goldhamer, Ozgur Oyman, Jose Puthenkulam, Junghoon Jee, Michael Gundlach, </a:t>
            </a:r>
            <a:r>
              <a:rPr b="0" lang="en-US" sz="1400" spc="-1" strike="noStrike">
                <a:solidFill>
                  <a:srgbClr val="ff0000"/>
                </a:solidFill>
                <a:latin typeface="Times New Roman"/>
              </a:rPr>
              <a:t>Bin-Chul Ihm</a:t>
            </a:r>
            <a:endParaRPr b="0" lang="en-US" sz="1400" spc="-1" strike="noStrike">
              <a:solidFill>
                <a:srgbClr val="000000"/>
              </a:solidFill>
              <a:latin typeface="Times New Roman"/>
            </a:endParaRPr>
          </a:p>
          <a:p>
            <a:pPr lvl="2" marL="108576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42884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ations to WG (2/2)</a:t>
            </a:r>
            <a:endParaRPr b="0" lang="en-US" sz="3200" spc="-1" strike="noStrike">
              <a:solidFill>
                <a:srgbClr val="000000"/>
              </a:solidFill>
              <a:latin typeface="Times New Roman"/>
            </a:endParaRPr>
          </a:p>
        </p:txBody>
      </p:sp>
      <p:sp>
        <p:nvSpPr>
          <p:cNvPr id="46" name=""/>
          <p:cNvSpPr txBox="1"/>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urrent projects: </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Discussion on 802.16m Work Plan</a:t>
            </a:r>
            <a:endParaRPr b="0" lang="en-US" sz="20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Adhoc discussed the option to drop or deprioritize less mature features extensively. The idea was to consider the drop features in another PAR. But no conclusion was ma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Puthenkulam, Jose P</cp:lastModifiedBy>
  <cp:lastPrinted>1998-02-10T13:28:06Z</cp:lastPrinted>
  <dcterms:modified xsi:type="dcterms:W3CDTF">2010-01-15T03:49:35Z</dcterms:modified>
  <cp:revision>469</cp:revision>
  <dc:subject/>
  <dc:title>No Slide Title</dc:title>
</cp:coreProperties>
</file>