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iana.goldhammer@alvarion.com" TargetMode="External"/><Relationship Id="rId2" Type="http://schemas.openxmlformats.org/officeDocument/2006/relationships/hyperlink" Target="http://standards.ieee.org/guides/bylaws/sect6-7.html#Comment B46 by Aik Chindapol" TargetMode="External"/><Relationship Id="rId3" Type="http://schemas.openxmlformats.org/officeDocument/2006/relationships/hyperlink" Target="http://standards.ieee.org/guides/bylaws/sect6-7.html#Comment B46 by Aik Chindapol"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611280" y="0"/>
            <a:ext cx="8064360" cy="5936400"/>
          </a:xfrm>
          <a:prstGeom prst="rect">
            <a:avLst/>
          </a:prstGeom>
          <a:noFill/>
          <a:ln w="0">
            <a:noFill/>
          </a:ln>
        </p:spPr>
        <p:style>
          <a:lnRef idx="0"/>
          <a:fillRef idx="0"/>
          <a:effectRef idx="0"/>
          <a:fontRef idx="minor"/>
        </p:style>
        <p:txBody>
          <a:bodyPr lIns="90000" rIns="90000" tIns="46800" bIns="46800" anchor="t">
            <a:spAutoFit/>
          </a:bodyPr>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Title: </a:t>
            </a:r>
            <a:r>
              <a:rPr b="1" lang="en-US" sz="1400" spc="-1" strike="noStrike">
                <a:solidFill>
                  <a:srgbClr val="000000"/>
                </a:solidFill>
                <a:latin typeface="Times New Roman"/>
              </a:rPr>
              <a:t>Supporting Report to EC for Request to Forward P802.16h to RevCom</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 IEEE 802.16-10/002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 March 18, 201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Chair of LE TG: Mariana Goldhame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oice:+972 3 645 624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u="sng">
                <a:solidFill>
                  <a:srgbClr val="0000ff"/>
                </a:solidFill>
                <a:uFillTx/>
                <a:latin typeface="Times New Roman"/>
                <a:ea typeface="Times New Roman"/>
                <a:hlinkClick r:id="rId1"/>
              </a:rPr>
              <a:t>mariana.goldhamer@alvarion.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ALVAR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21a HaBarzel Street, Tel Aviv, Israel</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     </a:t>
            </a:r>
            <a:r>
              <a:rPr b="0" lang="en-US" sz="1200" spc="-1" strike="noStrike">
                <a:solidFill>
                  <a:srgbClr val="000000"/>
                </a:solidFill>
                <a:latin typeface="Times New Roman"/>
              </a:rPr>
              <a:t>Session #66, 15-18 March, 2010</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Documen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 Provide the information requested by 802 Executive Committe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2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e contributor is familiar with the IEEE-SA Patent Policy and Procedures:&lt;</a:t>
            </a:r>
            <a:r>
              <a:rPr b="0" lang="en-US" sz="1200" spc="-1" strike="noStrike">
                <a:solidFill>
                  <a:srgbClr val="0000ff"/>
                </a:solidFill>
                <a:latin typeface="Times New Roman"/>
              </a:rPr>
              <a:t>http://standards.ieee.org/guides/bylaws/sect6-7</a:t>
            </a:r>
            <a:r>
              <a:rPr b="0" lang="en-US" sz="1200" spc="-1" strike="noStrike" u="sng">
                <a:solidFill>
                  <a:srgbClr val="0000ff"/>
                </a:solidFill>
                <a:uFillTx/>
                <a:latin typeface="Times New Roman"/>
                <a:hlinkClick r:id="rId2"/>
              </a:rPr>
              <a:t>.</a:t>
            </a:r>
            <a:r>
              <a:rPr b="0" lang="en-US" sz="1200" spc="-1" strike="noStrike" u="sng">
                <a:solidFill>
                  <a:srgbClr val="0000ff"/>
                </a:solidFill>
                <a:uFillTx/>
                <a:latin typeface="Times New Roman"/>
                <a:hlinkClick r:id="rId3"/>
              </a:rPr>
              <a:t>html#6</a:t>
            </a:r>
            <a:r>
              <a:rPr b="0" lang="en-US" sz="1200" spc="-1" strike="noStrike">
                <a:solidFill>
                  <a:srgbClr val="000000"/>
                </a:solidFill>
                <a:latin typeface="Times New Roman"/>
              </a:rPr>
              <a:t>&gt; and &lt;</a:t>
            </a:r>
            <a:r>
              <a:rPr b="0" lang="en-US" sz="1200" spc="-1" strike="noStrike">
                <a:solidFill>
                  <a:srgbClr val="0000ff"/>
                </a:solidFill>
                <a:latin typeface="Times New Roman"/>
              </a:rPr>
              <a:t>http://standards.ieee.org/guides/opman/sect6.html#6.3</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urther information is located at &lt;</a:t>
            </a:r>
            <a:r>
              <a:rPr b="0" lang="en-US" sz="1200" spc="-1" strike="noStrike">
                <a:solidFill>
                  <a:srgbClr val="0000ff"/>
                </a:solidFill>
                <a:latin typeface="Times New Roman"/>
              </a:rPr>
              <a:t>http://standards.ieee.org/board/pat/pat-material.html</a:t>
            </a:r>
            <a:r>
              <a:rPr b="0" lang="en-US" sz="1200" spc="-1" strike="noStrike">
                <a:solidFill>
                  <a:srgbClr val="000000"/>
                </a:solidFill>
                <a:latin typeface="Times New Roman"/>
              </a:rPr>
              <a:t>&gt; and &lt;</a:t>
            </a:r>
            <a:r>
              <a:rPr b="0" lang="en-US" sz="1200" spc="-1" strike="noStrike">
                <a:solidFill>
                  <a:srgbClr val="0000ff"/>
                </a:solidFill>
                <a:latin typeface="Times New Roman"/>
              </a:rPr>
              <a:t>http://standards.ieee.org/board/pat</a:t>
            </a:r>
            <a:r>
              <a:rPr b="0" lang="en-US" sz="1200" spc="-1" strike="noStrike">
                <a:solidFill>
                  <a:srgbClr val="000000"/>
                </a:solidFill>
                <a:latin typeface="Times New Roman"/>
              </a:rPr>
              <a:t> &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9 by Paul Piggin</a:t>
            </a:r>
            <a:endParaRPr b="0" lang="en-US" sz="3200" spc="-1" strike="noStrike">
              <a:solidFill>
                <a:srgbClr val="000000"/>
              </a:solidFill>
              <a:latin typeface="Times New Roman"/>
            </a:endParaRPr>
          </a:p>
        </p:txBody>
      </p:sp>
      <p:sp>
        <p:nvSpPr>
          <p:cNvPr id="61" name="PlaceHolder 2"/>
          <p:cNvSpPr>
            <a:spLocks noGrp="1"/>
          </p:cNvSpPr>
          <p:nvPr>
            <p:ph/>
          </p:nvPr>
        </p:nvSpPr>
        <p:spPr>
          <a:xfrm>
            <a:off x="324000" y="1268280"/>
            <a:ext cx="864072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olution of Comment 577 in Sponsor Ballot database 802.16-08/047r4 modified section 15.4 together with other sections by means of contribution IEEE C8021.16h-08/042. Furthermore resolution to Comment 696 consolidated section 6.4.1.3.4 by means of contribution IEEE C8021.16h-08/043. The motivation for these comments and subsequent resolutions was centered on PAR scope issues related to coexistence with systems other than 802.16. The 802.16h amendment still contains features and references pertaining to coexistence with systems other than 802.16. Comment 577 has therefore not been completely addressed. Using the argument that there is an implicit assumption that the amendment needs to coexist with other systems is not valid; in this case the amendment is clearly targeting inappropriate band. The amendment IEEE P802.16h/D8 contains 39 references to 'bursty systems'. 'Bursty systems‘ within the sense of the amendment are defined and exemplified by the term Wireless LANs. Furthermore there are 4 references to '802.11'. Coexistence with these or other systems is out of scope and therefore any specification should be removed. Specification of coexistence with 'bursty systems' is focused in section 15.4.1 and its sub sections specifically 15.4.1.4.1, and uses the feature name of 'CX-CBP'. Section 15.4.1.4 makes specific mention of coexistence with systems other than 802.16 system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ggested remedy</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ete section 15.4.1 and its subsections to remove specification of coexistence with 'bursty systems'. Remove other coexistence features related to coexistence with systems other than 802.16. Remove all references to 'bursty systems' throughout the draft and align the remaining specification accordingly. Remove all references to explicit coexistence with '802.11' systems throughout the draft and align the remaining specification accordingly. In light of these far reaching and extensive changes the document may have to be sent back to the Working Group for redrafting.</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2" name="" descr=""/>
          <p:cNvPicPr/>
          <p:nvPr/>
        </p:nvPicPr>
        <p:blipFill>
          <a:blip r:embed="rId1"/>
          <a:stretch/>
        </p:blipFill>
        <p:spPr>
          <a:xfrm>
            <a:off x="1187280" y="954000"/>
            <a:ext cx="7201080" cy="31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9 by Paul Piggin – cont.</a:t>
            </a:r>
            <a:endParaRPr b="0" lang="en-US" sz="3200" spc="-1" strike="noStrike">
              <a:solidFill>
                <a:srgbClr val="000000"/>
              </a:solidFill>
              <a:latin typeface="Times New Roman"/>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decis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gre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son for group decision</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he group disagrees that the coexistence with systems, like 802.11, is out of the PAR scope. We bring as argument the ITU-R allocations in the document RR-2008 Vol.1, where the systems providing MOBILE services are included in primary services in 2.4GHz and 5GHz. The coexistence with these systems is within the PAR scope “to facilitate the coexistence of such systems with primary user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e group disagrees with the proposed solution to comment A9, which targets to delete the clause 15.4.1, including the basic 802.16h coexistence approach between 802.16-based systems, based on the Coexistence Frame. On this approach resides the Coexistence between 802.16 based-systems, Coexistence Control Channel, Master Frame optimization, Token protocol, Message relaying, etc.</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group agrees that the word "bursty" should not be extensively used, and in many comments addressing the same issue we have deleted many appearances of this w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 for Confirmation Ballot</a:t>
            </a:r>
            <a:br>
              <a:rPr sz="3200"/>
            </a:br>
            <a:r>
              <a:rPr b="1" lang="en-US" sz="3200" spc="-1" strike="noStrike">
                <a:solidFill>
                  <a:srgbClr val="000000"/>
                </a:solidFill>
                <a:latin typeface="Times New Roman"/>
              </a:rPr>
              <a:t>and Resolution Meeting</a:t>
            </a:r>
            <a:endParaRPr b="0" lang="en-US" sz="3200" spc="-1" strike="noStrike">
              <a:solidFill>
                <a:srgbClr val="000000"/>
              </a:solidFill>
              <a:latin typeface="Times New Roman"/>
            </a:endParaRPr>
          </a:p>
        </p:txBody>
      </p:sp>
      <p:sp>
        <p:nvSpPr>
          <p:cNvPr id="66"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irculation 8 of P802.16h/D15:</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on March 24, close on April 8</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uccessful, send draft to RevCOM</a:t>
            </a:r>
            <a:endParaRPr b="0" lang="en-US" sz="24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resolve comments by a Comment Resolution Committee and Re-circulate between April 19 and May 3</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uccessful, send draft to RevCOM</a:t>
            </a:r>
            <a:endParaRPr b="0" lang="en-US" sz="20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resolve comments in 802.16 May meeting</a:t>
            </a: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SC P&amp;P Clause 19: Motions requesting conditional approval to forward where the prior ballot has closed shall be accompanied by:</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e the ballot clos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te tally including Approve, Disapprove and Abstain vot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ents that support the remaining disapprove votes and Working Group respons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chedule for confirmation ballot and resolution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 the Ballot closed: 7 February 2010</a:t>
            </a:r>
            <a:endParaRPr b="0" lang="en-US" sz="3200" spc="-1" strike="noStrike">
              <a:solidFill>
                <a:srgbClr val="000000"/>
              </a:solidFill>
              <a:latin typeface="Times New Roman"/>
            </a:endParaRPr>
          </a:p>
        </p:txBody>
      </p:sp>
      <p:graphicFrame>
        <p:nvGraphicFramePr>
          <p:cNvPr id="42" name=""/>
          <p:cNvGraphicFramePr/>
          <p:nvPr/>
        </p:nvGraphicFramePr>
        <p:xfrm>
          <a:off x="457200" y="1600200"/>
          <a:ext cx="8228880" cy="4525560"/>
        </p:xfrm>
        <a:graphic>
          <a:graphicData uri="http://schemas.openxmlformats.org/drawingml/2006/table">
            <a:tbl>
              <a:tblPr/>
              <a:tblGrid>
                <a:gridCol w="3791880"/>
                <a:gridCol w="2299320"/>
                <a:gridCol w="2137680"/>
              </a:tblGrid>
              <a:tr h="4528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age</a:t>
                      </a:r>
                      <a:endParaRPr b="0" lang="en-US" sz="2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pen</a:t>
                      </a:r>
                      <a:endParaRPr b="0" lang="en-US" sz="20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99cc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ose</a:t>
                      </a:r>
                      <a:endParaRPr b="0" lang="en-US" sz="20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99ccff"/>
                    </a:solidFill>
                  </a:tcPr>
                </a:tc>
              </a:tr>
              <a:tr h="509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a:t>
                      </a:r>
                      <a:endParaRPr b="0" lang="en-US" sz="2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6-Aug-08</a:t>
                      </a: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5-Sep-08</a:t>
                      </a:r>
                      <a:endParaRPr b="0" lang="en-US" sz="24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ccffff"/>
                    </a:solidFill>
                  </a:tcPr>
                </a:tc>
              </a:tr>
              <a:tr h="50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1</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4-Dec-08</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Dec-08</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9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2</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pr-09</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Apr-09</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9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3</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ug-09</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Aug-09</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4</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Sept.-2009 </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Sep-09</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8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5</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Oct.-2009 </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Nov.-2009</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90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6</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Dec-09</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5-Jan-10</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a:noFill/>
                    </a:lnB>
                    <a:solidFill>
                      <a:srgbClr val="ccffff"/>
                    </a:solidFill>
                  </a:tcPr>
                </a:tc>
              </a:tr>
              <a:tr h="5094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ponsor Ballot Recirc #7</a:t>
                      </a:r>
                      <a:endParaRPr b="0" lang="en-US" sz="20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Jan-10</a:t>
                      </a: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7-Feb-10</a:t>
                      </a:r>
                      <a:endParaRPr b="0" lang="en-US" sz="24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te tally including Approve, Disapprove</a:t>
            </a:r>
            <a:br>
              <a:rPr sz="3200"/>
            </a:br>
            <a:r>
              <a:rPr b="1" lang="en-US" sz="3200" spc="-1" strike="noStrike">
                <a:solidFill>
                  <a:srgbClr val="000000"/>
                </a:solidFill>
                <a:latin typeface="Times New Roman"/>
              </a:rPr>
              <a:t>and Abstain votes</a:t>
            </a:r>
            <a:endParaRPr b="0" lang="en-US" sz="3200" spc="-1" strike="noStrike">
              <a:solidFill>
                <a:srgbClr val="000000"/>
              </a:solidFill>
              <a:latin typeface="Times New Roman"/>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circ. 7:</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 104</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e: 6</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ain: 7</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ratio: 86.5%</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 ratio: 94.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that support the remaining disapprove</a:t>
            </a:r>
            <a:br>
              <a:rPr sz="2800"/>
            </a:br>
            <a:r>
              <a:rPr b="1" lang="en-US" sz="2800" spc="-1" strike="noStrike">
                <a:solidFill>
                  <a:srgbClr val="000000"/>
                </a:solidFill>
                <a:latin typeface="Times New Roman"/>
              </a:rPr>
              <a:t>votes </a:t>
            </a:r>
            <a:endParaRPr b="0" lang="en-US" sz="2800" spc="-1" strike="noStrike">
              <a:solidFill>
                <a:srgbClr val="000000"/>
              </a:solidFill>
              <a:latin typeface="Times New Roman"/>
            </a:endParaRPr>
          </a:p>
        </p:txBody>
      </p:sp>
      <p:sp>
        <p:nvSpPr>
          <p:cNvPr id="46" name=""/>
          <p:cNvSpPr/>
          <p:nvPr/>
        </p:nvSpPr>
        <p:spPr>
          <a:xfrm>
            <a:off x="1116000" y="4797360"/>
            <a:ext cx="763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Emails or statements in the meeting were provided by four commenters showing their satisfaction with the resolutions of their comments.</a:t>
            </a:r>
            <a:endParaRPr b="0" lang="en-US" sz="2000" spc="-1" strike="noStrike">
              <a:solidFill>
                <a:srgbClr val="000000"/>
              </a:solidFill>
              <a:latin typeface="Times New Roman"/>
            </a:endParaRPr>
          </a:p>
        </p:txBody>
      </p:sp>
      <p:graphicFrame>
        <p:nvGraphicFramePr>
          <p:cNvPr id="47" name=""/>
          <p:cNvGraphicFramePr/>
          <p:nvPr/>
        </p:nvGraphicFramePr>
        <p:xfrm>
          <a:off x="539640" y="1628640"/>
          <a:ext cx="8301240" cy="3168720"/>
        </p:xfrm>
        <a:graphic>
          <a:graphicData uri="http://schemas.openxmlformats.org/drawingml/2006/table">
            <a:tbl>
              <a:tblPr/>
              <a:tblGrid>
                <a:gridCol w="1712880"/>
                <a:gridCol w="622440"/>
                <a:gridCol w="851040"/>
                <a:gridCol w="853920"/>
                <a:gridCol w="852480"/>
                <a:gridCol w="851040"/>
                <a:gridCol w="852480"/>
                <a:gridCol w="852480"/>
                <a:gridCol w="852480"/>
              </a:tblGrid>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irc</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2</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3</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4</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5</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 6</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circ. 7</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7a</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8</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9</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1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11</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12</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13</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14</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solidFill>
                      <a:srgbClr val="ccffff"/>
                    </a:solid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indapol, Aik</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abs, Jonatha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5806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urias, Ronald G</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yles, Andrew</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iggin, Paul</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a:no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a:noFill/>
                    </a:lnB>
                    <a:noFill/>
                  </a:tcPr>
                </a:tc>
              </a:tr>
              <a:tr h="3373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ng, Lei</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solidFill>
                      <a:srgbClr val="cc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0</a:t>
                      </a:r>
                      <a:endParaRPr b="0" lang="en-US" sz="16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6 by Aik Chindapol</a:t>
            </a:r>
            <a:endParaRPr b="0" lang="en-US" sz="32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a:t>
            </a:r>
            <a:endParaRPr b="0" lang="en-US" sz="18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could not find any comment in the previous resolution of Sponsor Ballot's recirculation http://ieee802.org/16/docs/08/80216-08_065r5.pdf that suggests addition of this new sub-clause on coexistence Forward Acknowledge Message. It looks like this is out of scope of the recirculation. Technically, the use of CX-FWG-ACK is redundant and causes additional delay. The exchange sequence of CX-FWD-REQ and CX-FWD-RSP is consistent with many other management messages involving REQ and RSP messages. In addition, management messages are typically transmitted with a robust MCS and the ACK message does not add additional value in this case.</a:t>
            </a:r>
            <a:endParaRPr b="0" lang="en-US" sz="1400" spc="-1" strike="noStrike">
              <a:solidFill>
                <a:srgbClr val="000000"/>
              </a:solidFill>
              <a:latin typeface="Times New Roman"/>
            </a:endParaRPr>
          </a:p>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ggested remedy</a:t>
            </a:r>
            <a:endParaRPr b="0" lang="en-US" sz="18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sub-clause 6.3.2.3.64 and relevant statements referring to this sub-clause.</a:t>
            </a:r>
            <a:endParaRPr b="0" lang="en-US" sz="1400" spc="-1" strike="noStrike">
              <a:solidFill>
                <a:srgbClr val="000000"/>
              </a:solidFill>
              <a:latin typeface="Times New Roman"/>
            </a:endParaRPr>
          </a:p>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decision</a:t>
            </a:r>
            <a:endParaRPr b="0" lang="en-US" sz="18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nciple</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 that applying this messages to all the responses will introduce not necessary delay. Instruction to Editor: insert at page 17, line 25, the following text: "This message will be transmitted after receiving one of the CX-FWD-RSP messages with the Action Code as described at  15.5.3.4, 15.5.3.6, 15.5.3.9, 15.5.3.17, 15.5.3.19, 15.5.3.21, 15.5.3.23, 15.5.3.25, 15.5.3.27, 15.5.3.29, 15.5.3.31.“</a:t>
            </a:r>
            <a:endParaRPr b="0" lang="en-US" sz="1400" spc="-1" strike="noStrike">
              <a:solidFill>
                <a:srgbClr val="000000"/>
              </a:solidFill>
              <a:latin typeface="Times New Roman"/>
            </a:endParaRPr>
          </a:p>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son for group decision</a:t>
            </a:r>
            <a:endParaRPr b="0" lang="en-US" sz="18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The comment was introduced and accepted in the WG data-base IEEE 802.16-09/0012, as response to the additional comments from the WG;  </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Technically the message is necessary because some of the Action Codes of the CX-FWD-RSP may indicate a choice or a different behaviour from the requested one. This is the case of the Action Codes described in 15.5.3.4, 15.5.3.6, 15.5.3.9, 15.5.3.17, 15.5.3.19, 15.5.3.21, 15.5.3.23, 15.5.3.25, 15.5.3.27, 15.5.3.29, 15.5.3.31.</a:t>
            </a:r>
            <a:endParaRPr b="0" lang="en-US" sz="1400" spc="-1" strike="noStrike">
              <a:solidFill>
                <a:srgbClr val="000000"/>
              </a:solidFill>
              <a:latin typeface="Times New Roman"/>
            </a:endParaRPr>
          </a:p>
          <a:p>
            <a:pPr lvl="1" marL="683280" indent="-26280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The resolution addresses the technical need but in a different way, therefore was marked as "principle".</a:t>
            </a:r>
            <a:endParaRPr b="0" lang="en-US" sz="1400" spc="-1" strike="noStrike">
              <a:solidFill>
                <a:srgbClr val="000000"/>
              </a:solidFill>
              <a:latin typeface="Times New Roman"/>
            </a:endParaRPr>
          </a:p>
          <a:p>
            <a:pPr lvl="1" marL="6832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0" name="" descr=""/>
          <p:cNvPicPr/>
          <p:nvPr/>
        </p:nvPicPr>
        <p:blipFill>
          <a:blip r:embed="rId1"/>
          <a:stretch/>
        </p:blipFill>
        <p:spPr>
          <a:xfrm>
            <a:off x="611280" y="1125360"/>
            <a:ext cx="8137440" cy="2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7 by Aik Chindapol</a:t>
            </a:r>
            <a:endParaRPr b="0" lang="en-US" sz="3200" spc="-1" strike="noStrike">
              <a:solidFill>
                <a:srgbClr val="000000"/>
              </a:solidFill>
              <a:latin typeface="Times New Roman"/>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o not agree with this change (changing the definition of the MAP relevance for the allocation start time) as implemented in D9. There should not be any ambiguity regarding the MAP relevance. The text in D9 changes the term "shall" to "should" and implies that the MAP relevance for the allocation start time is no longer normative. It causes confusion to the terminals and may cause the terminals to miss the MAP messages.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ggested remedy</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 the term "should" back to "shall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decis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gre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the resolution and its reason for comment B58. Instruction to Editor: Add on page 23 after  Allocation End time &lt;8*Tf" the following sentence: "The MAP relevance supported by a SS/MS is indicated in SBC-REQ/RSP message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son for group decis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he use of word "should" implies a recommendation;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here is no confusion, as one of the bits in the SBC-REQ/RSP (see 11.8) idicate which MAP relevance is supported by a device;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The text at 6.3.2.3.23 and 6.3.2.3.24 indicate the proper TLVs to be used; 4. Changing to "shall" will make 802.16h incompatible with the existing devices.</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3" name="" descr=""/>
          <p:cNvPicPr/>
          <p:nvPr/>
        </p:nvPicPr>
        <p:blipFill>
          <a:blip r:embed="rId1"/>
          <a:stretch/>
        </p:blipFill>
        <p:spPr>
          <a:xfrm>
            <a:off x="684360" y="1052640"/>
            <a:ext cx="7416720" cy="264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8 by Aik Chindapol</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do not agree with this change (deletion of downlink-listen-before-talk) as implemented in D9. When co-existing with non-SSU, non-802.16 systems, the downlink-listen-before-talk mechanism needs to be in place in order to avoid collision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remedy</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instate the last sentence (line 13-15) and sub-clause 6.4.1.4.5.</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decision</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gree</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he resolution and its reason for comment B58. Instruction to Editor: Add on page 23 after Allocation End time &lt;8*Tf" the following sentence: "The MAP relevance supported by a SS/MS is indicated in SBC-REQ/RSP messages".</a:t>
            </a:r>
            <a:endParaRPr b="0" lang="en-US" sz="1800" spc="-1" strike="noStrike">
              <a:solidFill>
                <a:srgbClr val="000000"/>
              </a:solidFill>
              <a:latin typeface="Times New Roman"/>
            </a:endParaRPr>
          </a:p>
          <a:p>
            <a:pPr marL="325800" indent="-32580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son for group decision:</a:t>
            </a:r>
            <a:endParaRPr b="0" lang="en-US" sz="20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The use of word "should" implies a recommendation;</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There is no confusion, as one of the bits in the SBC-REQ/RSP (see 11.8) indicate which MAP relevance is supported by a device;</a:t>
            </a:r>
            <a:endParaRPr b="0" lang="en-US" sz="1800" spc="-1" strike="noStrike">
              <a:solidFill>
                <a:srgbClr val="000000"/>
              </a:solidFill>
              <a:latin typeface="Times New Roman"/>
            </a:endParaRPr>
          </a:p>
          <a:p>
            <a:pPr lvl="1" marL="705600" indent="-2714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he text at 6.3.2.3.23 and 6.3.2.3.24 indicate the proper TLVs to be used; 4. Changing to "shall" will make 802.16h incompatible with the existing devices.</a:t>
            </a:r>
            <a:endParaRPr b="0" lang="en-US" sz="1800" spc="-1" strike="noStrike">
              <a:solidFill>
                <a:srgbClr val="000000"/>
              </a:solidFill>
              <a:latin typeface="Times New Roman"/>
            </a:endParaRPr>
          </a:p>
          <a:p>
            <a:pPr lvl="1" marL="705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 descr=""/>
          <p:cNvPicPr/>
          <p:nvPr/>
        </p:nvPicPr>
        <p:blipFill>
          <a:blip r:embed="rId1"/>
          <a:stretch/>
        </p:blipFill>
        <p:spPr>
          <a:xfrm>
            <a:off x="826920" y="1052640"/>
            <a:ext cx="7274160" cy="36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52 by Aik Chindapol</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 do not agree with this change (adding the use of IP address for inter-network coordination) as implemented in D9. The use of the BS's IP address to coordinate interference cannot be implemented in its current form. It is not clear what this address should be (i.e., proxy). Besides Figure 402 (page 120), there is no normative text anywhere describing how to specify the IP address or how the mechanism actually works In addition, the IP address may be local (unlike BSID which is globally unique) and the mechanism then will not work with another system that belongs to another local IP addres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ggested remedy</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ete entries related to the use of IP address for interference coordination in Table 612b (BS_NURBC TLV), sub-clause 11.1.13 and modify Fig 402 to remove IP address.</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Decis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ncipl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lace "BS IP Address" with "Network address of Source BS". Replace "IPv4" with "for example "IPv4". Replace "IPv6" with "for example IPv6“</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ason for group decision</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hange is editorial only, no new text was added: the tables which were previously on page 121 of the same document and were moved to page 72</a:t>
            </a:r>
            <a:endParaRPr b="0" lang="en-US" sz="1600" spc="-1" strike="noStrike">
              <a:solidFill>
                <a:srgbClr val="000000"/>
              </a:solidFill>
              <a:latin typeface="Times New Roman"/>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9" name="" descr=""/>
          <p:cNvPicPr/>
          <p:nvPr/>
        </p:nvPicPr>
        <p:blipFill>
          <a:blip r:embed="rId1"/>
          <a:stretch/>
        </p:blipFill>
        <p:spPr>
          <a:xfrm>
            <a:off x="684360" y="981000"/>
            <a:ext cx="7200720" cy="36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2T11:11:38Z</dcterms:created>
  <dc:creator>mariana</dc:creator>
  <dc:description/>
  <dc:language>en-US</dc:language>
  <cp:lastModifiedBy>Mariana</cp:lastModifiedBy>
  <cp:lastPrinted>2004-03-18T13:55:48Z</cp:lastPrinted>
  <dcterms:modified xsi:type="dcterms:W3CDTF">2010-03-18T15:29:41Z</dcterms:modified>
  <cp:revision>233</cp:revision>
  <dc:subject/>
  <dc:title>PowerPoint Presentation</dc:title>
</cp:coreProperties>
</file>