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94201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160" y="4910760"/>
            <a:ext cx="94201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540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8160" y="491076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25400" y="491076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3080" y="178128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68360" y="178128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8160" y="491076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3080" y="491076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68360" y="4910760"/>
            <a:ext cx="303300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8160" y="1781280"/>
            <a:ext cx="942012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942012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459684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25400" y="1781280"/>
            <a:ext cx="459684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10058400" cy="71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5400" y="1781280"/>
            <a:ext cx="459684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8160" y="491076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459684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540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5400" y="491076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16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5400" y="1781280"/>
            <a:ext cx="459684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160" y="4910760"/>
            <a:ext cx="9420120" cy="28576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53828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8160" y="1781280"/>
            <a:ext cx="9420120" cy="5991120"/>
          </a:xfrm>
          <a:prstGeom prst="rect">
            <a:avLst/>
          </a:prstGeom>
          <a:noFill/>
          <a:ln w="0">
            <a:noFill/>
          </a:ln>
        </p:spPr>
        <p:txBody>
          <a:bodyPr lIns="50760" rIns="102240" tIns="50760" bIns="50760" anchor="t">
            <a:normAutofit/>
          </a:bodyPr>
          <a:p>
            <a:pPr marL="37944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2224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2" marL="1265400" indent="-25272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3" marL="1770120" indent="-25236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4" marL="2276640" indent="-252720">
              <a:spcBef>
                <a:spcPts val="9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5" marL="2276640" indent="-252720">
              <a:spcBef>
                <a:spcPts val="9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6" marL="2276640" indent="-252720">
              <a:spcBef>
                <a:spcPts val="9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485640"/>
            <a:ext cx="1005840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IEEE 802.16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Working Group on </a:t>
            </a:r>
            <a:br>
              <a:rPr sz="4800"/>
            </a:br>
            <a:r>
              <a:rPr b="1" lang="en-US" sz="4800" spc="-1" strike="noStrike">
                <a:solidFill>
                  <a:srgbClr val="00279f"/>
                </a:solidFill>
                <a:latin typeface="Arial"/>
              </a:rPr>
              <a:t>Broadband Wireless Access</a:t>
            </a:r>
            <a:br>
              <a:rPr sz="4800"/>
            </a:br>
            <a:r>
              <a:rPr b="1" lang="en-US" sz="3600" spc="-1" strike="noStrike">
                <a:solidFill>
                  <a:srgbClr val="3365fb"/>
                </a:solidFill>
                <a:latin typeface="Arial"/>
              </a:rPr>
              <a:t>Roger Marks, Chair</a:t>
            </a:r>
            <a:br>
              <a:rPr sz="3600"/>
            </a:br>
            <a:endParaRPr b="0" lang="en-US" sz="36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8160" y="3723840"/>
            <a:ext cx="9420120" cy="404820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0"/>
            <a:ext cx="1836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  <a:ea typeface="Arial"/>
              </a:rPr>
              <a:t>2010-07-10</a:t>
            </a:r>
            <a:endParaRPr b="0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477120" y="0"/>
            <a:ext cx="3581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  <a:ea typeface="Arial"/>
              </a:rPr>
              <a:t>IEEE 802.16-10/0041</a:t>
            </a:r>
            <a:endParaRPr b="0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124080" y="3506760"/>
            <a:ext cx="36576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ITU-R Liaison Group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hair: Reza Arefi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Drafting several contribution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mainly ITU-R Working Party 5D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IMT-Advanced technology proposa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One of two technologies under consideratio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ositive evaluations reported at ITU-R Working Party 5D meeting in June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2" marL="1316160" indent="-252360">
              <a:spcBef>
                <a:spcPts val="799"/>
              </a:spcBef>
              <a:buClr>
                <a:srgbClr val="fafd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No technical issues identified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Decisions due at ITU-R Working Party 5D meeting in October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Project Planning Committee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hair: Jose Puthenkulam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onsidering planning activities and new project proposal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PAR Proposal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P802.16p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Amendment: </a:t>
            </a:r>
            <a:r>
              <a:rPr b="0" i="1" lang="en-US" sz="3800" spc="-1" strike="noStrike">
                <a:solidFill>
                  <a:srgbClr val="fafd00"/>
                </a:solidFill>
                <a:latin typeface="Arial"/>
              </a:rPr>
              <a:t>Enhancements to provide functionalities specific to Machine to Machine Communication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ubmitted for LMSC consideration this week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80964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802.16 WG Officers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8160" y="647280"/>
            <a:ext cx="9420120" cy="712476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hair: Roger Mark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Vice Chair: Jose Puthenkulam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cretary: Scott Probasco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Treasurer: Scott Migaldi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Resources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10058400" cy="63244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cal server: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ttp://lan.WirelessMAN.org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marL="43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ermanently: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http://WirelessMAN.org </a:t>
            </a:r>
            <a:endParaRPr b="0" lang="en-US" sz="4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0363320" cy="381024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IEEE 802.16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Working Group on 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Broadband Wireless Access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(BWA)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8160" y="4191120"/>
            <a:ext cx="9420120" cy="35812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c1ceff"/>
                </a:solidFill>
                <a:latin typeface="Arial"/>
              </a:rPr>
              <a:t>Status Report</a:t>
            </a:r>
            <a:endParaRPr b="0" lang="en-US" sz="4700" spc="-1" strike="noStrike">
              <a:solidFill>
                <a:srgbClr val="fafd00"/>
              </a:solidFill>
              <a:latin typeface="Arial"/>
            </a:endParaRPr>
          </a:p>
          <a:p>
            <a:pPr marL="43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afd00"/>
                </a:solidFill>
                <a:latin typeface="Arial"/>
              </a:rPr>
              <a:t>12 July 2010</a:t>
            </a:r>
            <a:endParaRPr b="0" lang="en-US" sz="4700" spc="-1" strike="noStrike">
              <a:solidFill>
                <a:srgbClr val="fafd00"/>
              </a:solidFill>
              <a:latin typeface="Arial"/>
            </a:endParaRPr>
          </a:p>
          <a:p>
            <a:pPr marL="43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afd00"/>
                </a:solidFill>
                <a:latin typeface="Arial"/>
              </a:rPr>
              <a:t>San Diego, CA, USA</a:t>
            </a:r>
            <a:endParaRPr b="0" lang="en-US" sz="4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42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802.16 WG Function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818640" cy="65581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</a:rPr>
              <a:t>Develops standards and recommended practices to support the development and deployment of Broadband Wireless Metropolitan Area Networks (WirelessMAN®)</a:t>
            </a:r>
            <a:endParaRPr b="0" lang="en-US" sz="42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42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802.16 Membership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8160" y="1213920"/>
            <a:ext cx="9420120" cy="65581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300 Members [prior to session]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28 Potential Members [eligible to become members at this session]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ssion #68 this week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12600"/>
            <a:ext cx="10058400" cy="8380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802.16 Interim Sessions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pic>
        <p:nvPicPr>
          <p:cNvPr id="50" name="Rectangle 2" descr=""/>
          <p:cNvPicPr/>
          <p:nvPr/>
        </p:nvPicPr>
        <p:blipFill>
          <a:blip r:embed="rId1"/>
          <a:stretch/>
        </p:blipFill>
        <p:spPr>
          <a:xfrm>
            <a:off x="-19080" y="987480"/>
            <a:ext cx="10071000" cy="67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105264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Completed Projects – 2010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39320"/>
            <a:ext cx="10058400" cy="67201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EEE Std 802.16h-2010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afd00"/>
                </a:solidFill>
                <a:latin typeface="Arial"/>
              </a:rPr>
              <a:t>Improved Coexistence Mechanisms for License-Exempt Operation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Approved 17 June 2010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ublication editing in progress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EEE Std 802.16.2-2004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Reaffirmed 25 March 2010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105264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Active Projects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39320"/>
            <a:ext cx="10058400" cy="67201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In development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802.16m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P802.16n: 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2" marL="1316160" indent="-252360">
              <a:spcBef>
                <a:spcPts val="799"/>
              </a:spcBef>
              <a:buClr>
                <a:srgbClr val="fafd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Amendment: Higher Reliability Networks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lvl="2" marL="1316160" indent="-252360">
              <a:spcBef>
                <a:spcPts val="799"/>
              </a:spcBef>
              <a:buClr>
                <a:srgbClr val="fafd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Approved 17 June 2010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  <a:p>
            <a:pPr lvl="2" marL="1316160" indent="-252360">
              <a:spcBef>
                <a:spcPts val="799"/>
              </a:spcBef>
              <a:buClr>
                <a:srgbClr val="fafd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afd00"/>
                </a:solidFill>
                <a:latin typeface="Arial"/>
              </a:rPr>
              <a:t>Overseen through this session by GRIDMAN Study Group</a:t>
            </a:r>
            <a:endParaRPr b="0" lang="en-US" sz="34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Task Group m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10058400" cy="67816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Brian Kiernan, Chair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P802.16m PAR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P802.16m Draft: P802.16m/D6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Completed WG Letter Ballot #31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Sponsor Ballot: 9 June – 9 July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Many comments to resolve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marL="507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Maintenance Task Group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430200" indent="-379440"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Jon Labs, Chair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No active PAR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944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ontinuing to meet and conduct ongoing WG maintenance activitie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0T00:20:44Z</dcterms:created>
  <dc:creator>Roger B. Marks</dc:creator>
  <dc:description/>
  <cp:keywords/>
  <dc:language>en-US</dc:language>
  <cp:lastModifiedBy>technical comment</cp:lastModifiedBy>
  <dcterms:modified xsi:type="dcterms:W3CDTF">2010-07-12T21:08:39Z</dcterms:modified>
  <cp:revision>68</cp:revision>
  <dc:subject/>
  <dc:title>  Technical Standards for Broadband Wireless Access   January 21, 1999</dc:title>
</cp:coreProperties>
</file>