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304-639B-4156-8146-52B87D58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03632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052-3771-42CF-B57B-C01DF006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346-BC1F-4F78-AABE-607D6730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5CE-57A4-4198-B485-8E592CFF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F099-CA83-4174-ACA1-42C165DC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6C25-8321-462E-9B8C-73B7A622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C7BE-3867-4B84-8E08-5273988B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D6E7-E9BA-4481-8402-5C17BC76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A8DC-BDE5-4FB4-AB5E-785D3FE6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74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A726-A94D-45E4-874D-F4F04EB5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53E70-11FA-45E8-9932-CAC1792E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D07-4105-400F-89B7-7AB8CA5D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5CBB-FBDE-4892-A11F-F4930EAA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092A-2A52-400A-A178-758E53EB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03632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E512-1168-4436-AFAD-D3A9C23B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D8BE-68D5-47CF-B337-B25AA0A1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2EED-B8D8-4412-AAB2-B4ECCA3A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3FE4B-CF9D-40EA-ADF7-BCD11E42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8CA8A-6AD7-46BD-ACF6-5282A760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94A81-4257-44E6-9868-24AB4636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FD654-9B0B-4469-9CDA-CA873DF7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E1A348-D0CE-4781-9C22-A0BC3A70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FD4-0BF7-415B-B018-61F1BE10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74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0B465-529D-4840-81E6-3139537E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23D77-BD32-44BC-AC17-7F56F88D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DE15C5-7C39-47B6-8434-BADA9638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102CE-4B92-4CE3-AE6E-7E53F8E5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03632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FBD41-A0F8-4BF7-A9B3-7176100B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ACD39-497B-4425-A977-6F1D67C2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D0738-7FA6-4AD7-8064-50FCA148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C1BA7-9606-4978-9E50-015A2D31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46778-D251-442A-9D5E-71AE31EA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7C06F-64FC-42E2-A285-A603E130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1E15-E0AB-46CE-8463-61D63004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5AF67-301D-4E68-9DE9-7A896563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6CA9D-0CC8-480C-842A-A36A23AE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74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80EF9-D417-40A8-882D-2BCC0EBF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C2C8E-2F43-46A2-8791-96DF329A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DFFB6-802B-41A3-B24D-A63CE31A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7FDC7-75D8-4497-8FCF-2BE71B7B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03632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59EAB-866C-4250-BDCE-18456B6F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770FC-AC5B-4EE5-ABF2-2B9D14FC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56A2E-A14A-441D-A1F7-810388A56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FE9F0C-0871-4489-9661-08C2F0E5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EC9-EF2D-4ACF-AA18-F864F1D8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D6447E-7332-4E97-B555-1BA468C7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60AEF-8CFC-4B08-A70B-62A4A86B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2F6D6-26A1-498C-90E7-280DAB7A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CDD8D-27C2-4D01-8B9C-4E79158B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74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D0AE9-0F6D-4EDF-B530-8FF436E8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18B0EA-1671-44D8-9C3B-0D16BF73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FBE1CF-4AD2-44AD-9955-2019F2B7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21061A-0A9B-4D41-9302-A6EC6442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03632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29CCE9-A1A4-4F23-9A97-DF856FD8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5963CA-7EDB-4CE3-84FC-B59D83DE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74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BEA-86A1-4230-96E2-6B2DFFB6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0662B-7A9F-4F1F-86F9-BAFBA15E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822A16-16DD-45FB-85F8-EBCF92EC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267E3F-52DA-4732-B96C-C3728108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4AF364-92E2-4E52-8D50-27B2F4E1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888B4A-2C8F-4F25-B040-CE03825BF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F344F8-548F-48B0-9F99-FC87CC33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74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05652C-63C0-4691-BBDB-D3946665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2555AA-BE9B-4D7A-B64C-E2796DF6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FCFE4D-6DDF-4FEF-8780-F45E3099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80A78A-8550-4332-9E49-75D79339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272-1283-42F6-AA31-E3E36175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03632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0A821F-F145-459E-8446-236C80A0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FAE17C-E0C1-437D-A04A-14CC7FB1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D58E57-6907-484F-B6A0-753F2C12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60456E-B218-40C0-A5CE-71DD0BAD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69C39-EE60-45C5-818C-314E93B3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D8C714-F6A1-47BF-B31A-54BD53D8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63C1BB-C7B3-4E38-9399-BA4F27A5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030416-7E84-4599-B694-40DDFC22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74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9052FC-0FF2-40E0-B002-AAC3FC1F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988D0F-1F17-4B9E-AC4A-E6C09E08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D38-D256-42F7-81A4-7682AB3B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0B44F5-2691-417D-BEDD-A3CCB9C1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928155-BC79-4BCB-9B45-2EA5474D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03632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3009E8-E40F-4973-AB5D-19860A35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03632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19ABB5-7783-4CED-BFC3-B296AEB2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37124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036320"/>
            <a:ext cx="240444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E83FF3-D0AC-4297-BA15-1D330CFE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371240"/>
            <a:ext cx="36439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36320"/>
            <a:ext cx="746748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6679-F605-4A05-A09C-CC6986D8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C787-F697-412E-A59C-EBD28CB64F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2685-4184-45AE-8C26-5B3082ACD8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C636-96CB-4B7F-9CE2-7F68291561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1A8E-623F-4E44-A918-A069DB7D59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F308-0332-4CAC-9C44-B3A676CD0A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AF21-30CC-41C8-99B4-E8F55AAFD4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37124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B3F0-5A85-4620-8904-9525044454B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ndards.ieee.org/guides/bylaws/sect6-7.html#Meeting Registration" TargetMode="External"/><Relationship Id="rId2" Type="http://schemas.openxmlformats.org/officeDocument/2006/relationships/hyperlink" Target="http://standards.ieee.org/guides/bylaws/sect6-7.html#Meeting Registration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0" y="0"/>
            <a:ext cx="9144000" cy="56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date on IEEE 802.16 Interim Session # 75 in Bangkok, Thai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IEEE 802.16 Presentation Submission Template (Rev. 9.2)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 Number: IEEE C802.16-11/0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 Submit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11-07-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ti Wongthavaraw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mail: kitti.wongthavarawat@nectec.or.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Electronics and Computer Technology Center (NECTEC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2 Thailand Science Park, Phahon Yothin Rd., Klong Luang, Pathumthani, Thai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Contrib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date on IEEE 802.16 Interim Session #75 in Bangkok, Thailand during 19-22 September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document does not represent the agreed views of the IEEE 802.16 Working Group or any of its subgroup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 It represents only the views of the participants listed in the “Source(s)” field above. It is offered as a basis for discussion. It is not binding on the contributor(s), who reserve(s) the right to add, amend or withdraw material contained herein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Poli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ontributor is familiar with the IEEE-SA Copyright Policy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http://standards.ieee.org/IPR/copyrightpolicy.htm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gt;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ent Poli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ontributor is familiar with the IEEE-SA Patent Policy and Procedur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2006640">
              <a:lnSpc>
                <a:spcPct val="100000"/>
              </a:lnSpc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http://standards.ieee.org/guides/bylaws/sect6-7</a:t>
            </a:r>
            <a:r>
              <a:rPr b="0" lang="en-US" sz="1000" spc="-1" strike="noStrike" u="sng">
                <a:solidFill>
                  <a:srgbClr val="d2611c"/>
                </a:solidFill>
                <a:uFillTx/>
                <a:latin typeface="Times New Roman"/>
                <a:ea typeface="ＭＳ Ｐゴシック"/>
                <a:hlinkClick r:id="rId1"/>
              </a:rPr>
              <a:t>.</a:t>
            </a:r>
            <a:r>
              <a:rPr b="0" lang="en-US" sz="1000" spc="-1" strike="noStrike" u="sng">
                <a:solidFill>
                  <a:srgbClr val="d2611c"/>
                </a:solidFill>
                <a:uFillTx/>
                <a:latin typeface="Times New Roman"/>
                <a:ea typeface="ＭＳ Ｐゴシック"/>
                <a:hlinkClick r:id="rId2"/>
              </a:rPr>
              <a:t>html#6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gt; and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http://standards.ieee.org/guides/opman/sect6.html#6.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urther information is located at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http://standards.ieee.org/board/pat/pat-material.htm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gt; and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http://standards.ieee.org/board/p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AIRPORT TRANSPORTATION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51920" y="9903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Suvarnabhumi International Air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taxi  45 – 60 min depending on the traffic (Approximately THB 400 one-w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Airport Link to Phayathai City Terminal (25 min.) and continue to BTS to Siam Square Terminal (10 min.) and 5 min-walk to the hotel through Sky-Walk (Approximately THB 130 one-w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658656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VISA INFORMATION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6840" y="1218960"/>
            <a:ext cx="74674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a information is available from Ministry of Foreign Affairs, Kingdom of Thai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mfa.go.th/web/12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Immigrant Visa “B” - (Business Vi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VISA INVITATION LETTER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837720"/>
            <a:ext cx="81532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nline request form at portal site (available soon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Or send the request email to session75@wimaxitvalley.org and please provide information as the follow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56200" indent="-2372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tle, Last Name, First N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6200" indent="-2372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Job title or posi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6200" indent="-2372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epartment, Company/Organiz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6200" indent="-2372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ddress, City, Province/District, Country, Postal cod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6200" indent="-2372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elephone (Start with country cod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6200" indent="-2372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6200" indent="-2372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ate of birth (YYYY-MM-DD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6200" indent="-2372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lace of Bir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6200" indent="-2372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ationality of Passpor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6200" indent="-2372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assport Numb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6200" indent="-2372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assport Expiration Date (YYYY-MM-DD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556200" indent="-23724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rimary Working Group (either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802.16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802.21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UPDATE ON IEEE 802.16 INTERIM SESSION # 75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3" name="Title 1"/>
          <p:cNvSpPr/>
          <p:nvPr/>
        </p:nvSpPr>
        <p:spPr>
          <a:xfrm>
            <a:off x="685800" y="2971800"/>
            <a:ext cx="7467480" cy="18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Arial"/>
              </a:rPr>
              <a:t>BANGKOK, THAI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Arial"/>
              </a:rPr>
              <a:t>SEPTEMBER 2011</a:t>
            </a:r>
            <a:br>
              <a:rPr sz="3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4724280" y="2971800"/>
            <a:ext cx="320040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WELCOME TO BANGKOK, THAILAND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228600" y="1371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ed by National Electronics and Computer Technology Center (NECT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4" descr="http://www.thaiwebsites.com/download/grandpalace_bangkok.jpg"/>
          <p:cNvPicPr/>
          <p:nvPr/>
        </p:nvPicPr>
        <p:blipFill>
          <a:blip r:embed="rId1"/>
          <a:stretch/>
        </p:blipFill>
        <p:spPr>
          <a:xfrm>
            <a:off x="457200" y="2514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" descr=""/>
          <p:cNvPicPr/>
          <p:nvPr/>
        </p:nvPicPr>
        <p:blipFill>
          <a:blip r:embed="rId2"/>
          <a:stretch/>
        </p:blipFill>
        <p:spPr>
          <a:xfrm>
            <a:off x="4495680" y="2498760"/>
            <a:ext cx="39625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WELCOME TO BANGKOK, THAILAND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228600" y="13712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gkok is the capital city of Thai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in Thai as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rung Thep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ning “city of angels”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wea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ainy Season (July – October) with frequent heavy rain around 5.00p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verage temperature : 32°C (89°F) during the day and 25°C (77°F) at nigh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time: GMT+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: 220V 50 Hz, Two-flat blade pl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port: Suvarnabhumi International Airport located about 25 km. east of Bangk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2" descr="http://gotoknow.org/file/sasinanda/%E0%B9%81%E0%B8%9C%E0%B8%99%E0%B8%97%E0%B8%B5%E0%B9%88%E0%B8%9B%E0%B8%A3%E0%B8%B0%E0%B9%80%E0%B8%97%E0%B8%A8%E0%B9%84%E0%B8%97%E0%B8%A2.jpg"/>
          <p:cNvPicPr/>
          <p:nvPr/>
        </p:nvPicPr>
        <p:blipFill>
          <a:blip r:embed="rId1"/>
          <a:stretch/>
        </p:blipFill>
        <p:spPr>
          <a:xfrm>
            <a:off x="7010280" y="152280"/>
            <a:ext cx="151920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DATE FOR IEEE INTERIM SESSION # 75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37124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Date: Monday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- Thursday 2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ptember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ue: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Centara Grand &amp; Bangkok Convention Center at Central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162920" cy="39927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5"/>
          <p:cNvSpPr/>
          <p:nvPr/>
        </p:nvSpPr>
        <p:spPr>
          <a:xfrm>
            <a:off x="914400" y="5562720"/>
            <a:ext cx="3962520" cy="3045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IEEE 802.16 Interim Session # 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1981080" y="4876920"/>
            <a:ext cx="4876920" cy="3045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WiMAX Forum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MEETING REGISTRATION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371240"/>
            <a:ext cx="830592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line registration (through portal site), or On-site reg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ee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B13,5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rough 19 August 2011. Afterwards, the fee becom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B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gistration fee for the session is payable on-site at the registration de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198360"/>
            <a:ext cx="8534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FOOD FUNCTIONS AT THE MEETING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560" y="121932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onday – Thursd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9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ffee/Tea Break with snacks (Morning and Afternoon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9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national Buffet Lunch provid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9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dnesd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lnSpc>
                <a:spcPct val="9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vening social event (Sponsored by TBD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Arial"/>
              </a:rPr>
              <a:t>MEETING HOTEL: CENTARA GRAND &amp; BANGKOK CONVENTION CENTER AT CENTRALWORLD </a:t>
            </a:r>
            <a:endParaRPr b="0" lang="en-US" sz="27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04560" y="129528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9/99 Rama 1 Road, Patumwan, Bangkok, 10330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e: +66 (0) 2100 1234   Fax +66 (0) 2100 123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ail: cgcw@chr.co.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centarahotelsresorts.com/cgcw/cgcw_default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Arial"/>
              </a:rPr>
              <a:t>MEETING HOTEL: CENTARA GRAND &amp; BANGKOK CONVENTION CENTER AT CENTRALWORLD </a:t>
            </a:r>
            <a:endParaRPr b="0" lang="en-US" sz="27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960" y="1218960"/>
            <a:ext cx="88390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74600" indent="-17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tel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320" indent="-1746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discounted group rate per night is shown below, inclusive of daily buffet breakfast, 10% service charge and 7% V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585000" indent="-1166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om Type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uxe World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85000" indent="-1166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B 4,000 net for Single Occupancy,  THB 4,400 net for Double Occupa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85000" indent="-1166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imentary in-room internet (1 user/roo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85000" indent="-1166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320" indent="-1746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egistration through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Hotel Reservation Form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(available soon on portal site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320" indent="-174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320" indent="-17460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585000" indent="-1166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tel rooms are not guaranteed after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5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85000" indent="-11664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cellation without penalt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2 hou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fore the scheduled arrival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9320" indent="-17460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7:00:55Z</dcterms:created>
  <dc:creator>Roger Marks</dc:creator>
  <dc:description/>
  <dc:language>en-US</dc:language>
  <cp:lastModifiedBy>T</cp:lastModifiedBy>
  <cp:lastPrinted>1998-02-10T13:28:06Z</cp:lastPrinted>
  <dcterms:modified xsi:type="dcterms:W3CDTF">2011-07-21T22:53:19Z</dcterms:modified>
  <cp:revision>120</cp:revision>
  <dc:subject/>
  <dc:title>No Slide Title</dc:title>
</cp:coreProperties>
</file>