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1"/>
          </p:nvPr>
        </p:nvSpPr>
        <p:spPr>
          <a:xfrm>
            <a:off x="3352680" y="8838720"/>
            <a:ext cx="1778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484052-36DE-4645-9481-FBF7A59E8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Line 9"/>
          <p:cNvSpPr/>
          <p:nvPr/>
        </p:nvSpPr>
        <p:spPr>
          <a:xfrm>
            <a:off x="685800" y="883908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826200" y="879948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598320" y="3636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3"/>
          <p:cNvSpPr/>
          <p:nvPr/>
        </p:nvSpPr>
        <p:spPr>
          <a:xfrm>
            <a:off x="4635720" y="36360"/>
            <a:ext cx="159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 801.16xx-99/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5"/>
          <p:cNvSpPr/>
          <p:nvPr/>
        </p:nvSpPr>
        <p:spPr>
          <a:xfrm>
            <a:off x="4271760" y="8839080"/>
            <a:ext cx="166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name, Affil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3123720" y="883908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4E9B87-B5C9-4669-A01E-52855A920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eee802.org/16/submit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0"/>
            <a:ext cx="9144000" cy="64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[Insert Document Title Her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IEEE 802.16 Mentor Presentation Template (Rev. 0)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 Numb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According to the format “IEEE 802.16-YY-#####-RR-FFFF”, per &lt;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ieee802.org/16/submit.htm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gt;.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 Submit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The dat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his revi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f the document i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upload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in the format 2012-01-01. Tell the truth. Automatic numbering is prohibited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Author Name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Telephone Number (optional)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Affiliation*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mail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email address (recommended)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Address Line 1 (optional)]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Address Line 2 (optional)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&lt;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http://standards.ieee.org/faqs/affiliationFAQ.ht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Cite the specific document number of the appropriate Call for Contributions, the ballot number, etc.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Contrib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If this presentation accompanies a base 802.16 contribution, cite it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 nu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escription of wh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pecif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is requested of the 802.16 Working Group or subgroup.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is document does not represent the agreed views of the IEEE 802.16 Working Group or any of its subgroup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 It represents only the views of the participants listed in the “Source(s)” field above. It is offered as a basis for discussion. It is not binding on the contributor(s), who reserve(s) the right to add, amend or withdraw material contained herein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Poli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contributor is familiar with the IEEE-SA Copyright Policy 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http://standards.ieee.org/IPR/copyrightpolicy.htm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ent Poli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contributor is familiar with the IEEE-SA Patent Policy and Procedur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2006640">
              <a:lnSpc>
                <a:spcPct val="100000"/>
              </a:lnSpc>
              <a:tabLst>
                <a:tab algn="l" pos="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http://standards.ieee.org/guides/bylaws/sect6-7.html#6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 and 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http://standards.ieee.org/guides/opman/sect6.html#6.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urther information is located at 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http://standards.ieee.org/board/pat/pat-material.htm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 and 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http://standards.ieee.org/board/pa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gt;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18880"/>
            <a:ext cx="8686800" cy="4809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EEE 802.16 Presentation Cover Sheet Instructions</a:t>
            </a:r>
            <a:br>
              <a:rPr sz="32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 the cover sheet for all presentations at IEEE 802.16 WG meetings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format i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uitable for formal contributions, which must be submitted with the IEEE 802.16 WG Document Submission Template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&lt;http://ieee802.org/16/submit.html&gt;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s: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1) Fill in the cover page information. Remove the square brackets. Leave the disclaimers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2) Add presentation materials in your own format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gos and other unnecessary commercial graphics are not permitted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Use only the fonts “Times” (or “Times New Roman”), “Arial” (or “Helvetica”) and “Symbol,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ince these fonts need not be embedded in PDF files. You may use other fonts only i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ecessary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your presentation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5) Delete this instruction page from your submission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6) Submit the presentation following the instructions in the Call for Contributions or the 802.16 Document Submission Instructions &lt;http://ieee802.org/16/submit.html&gt;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7:00:55Z</dcterms:created>
  <dc:creator>Roger Marks</dc:creator>
  <dc:description/>
  <dc:language>en-US</dc:language>
  <cp:lastModifiedBy>Roger Marks</cp:lastModifiedBy>
  <cp:lastPrinted>1998-02-10T13:28:06Z</cp:lastPrinted>
  <dcterms:modified xsi:type="dcterms:W3CDTF">2011-12-30T01:21:46Z</dcterms:modified>
  <cp:revision>68</cp:revision>
  <dc:subject/>
  <dc:title>No Slide Title</dc:title>
</cp:coreProperties>
</file>