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MS PGothic"/>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6BD9-91F5-4FAA-9803-C8C371AA68C5}"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0EB83-B8EC-4F6A-A6C3-FD227FFC60A6}"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43B84-8A7E-4E9E-ABCD-C4BC1CD1BBF2}"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2A3D-EE3D-4574-91CC-910BC7EAF4CE}"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CCFE-499A-409F-B725-BA34A7BC9993}"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EC998-F4DC-49F1-BCB9-149CFC96BC08}"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Times New Roman"/>
              <a:ea typeface="Gulim"/>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F007B-EFA2-4EFB-B83D-460A6EB37CCD}"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D802E7-53B7-4F08-A27E-6759EB9806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7E18D-0C0F-4733-8FF4-5EF566FADA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E5EEA4-93E4-4A75-BA64-67F7F843C7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68B7B8-7E03-4D9D-A45B-CA94D1414E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A2B6D6C-C071-4077-B6EB-8A0E72C1C9E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49"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BC4DC8B-0046-40CA-8F40-FDFC5772675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0333FFE-6ED8-4D8A-874C-7623F6C282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3"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4"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887DDFB-75A2-4EF9-A5D4-A370F9DA9F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E0A578-05B9-4FB7-8030-2218A8E073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6CD404-D8EB-4C86-A381-2B34DBD9B1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58"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E78E30-1571-48A7-ADD2-79C221F231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D29CF4-1C3C-4B96-B00F-8190082FE2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2"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A45E58-E3DA-4C98-9696-64D1A793932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8"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D898A0-09BB-46DB-A0AE-F03921BE486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0"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1"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AE4B139-D738-4B8E-AF77-C97F0A6C30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5"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6"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404BD40-F7FB-4BAD-A610-8173519F53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8"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9"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0"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1"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2"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83"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B2D3428-1360-4A66-812E-C2B075563E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C59A53-36EB-461C-BD00-8608ABC7B0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936A7-CF42-4120-BCE0-B2F460700A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4A7F90-C6DE-41B3-B1DC-8534CF8A4A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47D904-439F-405D-A76F-B4970F40F9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78E675-ADF8-4843-BBB6-3D7BB43966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CB07D-EEA7-4662-9654-73551A71FC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36C4B9F-DA5B-4B88-9309-FE4D2CB69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800"/>
            <a:ext cx="261936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3447-1F06-44D1-AD3D-926FE572CD41}"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4" name="Picture 6" descr="smllieee"/>
          <p:cNvPicPr/>
          <p:nvPr/>
        </p:nvPicPr>
        <p:blipFill>
          <a:blip r:embed="rId2"/>
          <a:stretch/>
        </p:blipFill>
        <p:spPr>
          <a:xfrm>
            <a:off x="228600" y="57240"/>
            <a:ext cx="754200" cy="857160"/>
          </a:xfrm>
          <a:prstGeom prst="rect">
            <a:avLst/>
          </a:prstGeom>
          <a:ln w="0">
            <a:noFill/>
          </a:ln>
        </p:spPr>
      </p:pic>
      <p:pic>
        <p:nvPicPr>
          <p:cNvPr id="5"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mllieee"/>
          <p:cNvPicPr/>
          <p:nvPr/>
        </p:nvPicPr>
        <p:blipFill>
          <a:blip r:embed="rId2"/>
          <a:stretch/>
        </p:blipFill>
        <p:spPr>
          <a:xfrm>
            <a:off x="228600" y="57240"/>
            <a:ext cx="754200" cy="857160"/>
          </a:xfrm>
          <a:prstGeom prst="rect">
            <a:avLst/>
          </a:prstGeom>
          <a:ln w="0">
            <a:noFill/>
          </a:ln>
        </p:spPr>
      </p:pic>
      <p:pic>
        <p:nvPicPr>
          <p:cNvPr id="43" name="Picture 7" descr="802logo"/>
          <p:cNvPicPr/>
          <p:nvPr/>
        </p:nvPicPr>
        <p:blipFill>
          <a:blip r:embed="rId3"/>
          <a:stretch/>
        </p:blipFill>
        <p:spPr>
          <a:xfrm>
            <a:off x="8237520" y="76320"/>
            <a:ext cx="754200" cy="777600"/>
          </a:xfrm>
          <a:prstGeom prst="rect">
            <a:avLst/>
          </a:prstGeom>
          <a:ln w="0">
            <a:noFill/>
          </a:ln>
        </p:spPr>
      </p:pic>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45"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6" name="PlaceHolder 3"/>
          <p:cNvSpPr>
            <a:spLocks noGrp="1"/>
          </p:cNvSpPr>
          <p:nvPr>
            <p:ph type="ftr" idx="3"/>
          </p:nvPr>
        </p:nvSpPr>
        <p:spPr>
          <a:xfrm>
            <a:off x="428400" y="6400800"/>
            <a:ext cx="2571480" cy="28584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
        <p:nvSpPr>
          <p:cNvPr id="47" name="PlaceHolder 4"/>
          <p:cNvSpPr>
            <a:spLocks noGrp="1"/>
          </p:cNvSpPr>
          <p:nvPr>
            <p:ph type="sldNum" idx="4"/>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3683-1DCD-4737-AB9C-270396E713FD}"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16</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CN: L80216-10_0080</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Title: </a:t>
            </a:r>
            <a:r>
              <a:rPr b="1" lang="en-US" sz="2400" spc="-1" strike="noStrike">
                <a:solidFill>
                  <a:srgbClr val="000000"/>
                </a:solidFill>
                <a:latin typeface="Times New Roman"/>
                <a:ea typeface="MS PGothic"/>
              </a:rPr>
              <a:t>IEEE 802.21c TG Closing Report</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Date Submitted: </a:t>
            </a:r>
            <a:r>
              <a:rPr b="0" lang="en-US" sz="2400" spc="-1" strike="noStrike">
                <a:solidFill>
                  <a:srgbClr val="000000"/>
                </a:solidFill>
                <a:latin typeface="Times New Roman"/>
                <a:ea typeface="Gulim"/>
              </a:rPr>
              <a:t>July </a:t>
            </a:r>
            <a:r>
              <a:rPr b="0" lang="en-US" sz="2400" spc="-1" strike="noStrike">
                <a:solidFill>
                  <a:srgbClr val="000000"/>
                </a:solidFill>
                <a:latin typeface="Times New Roman"/>
                <a:ea typeface="MS PGothic"/>
              </a:rPr>
              <a:t>15, 2010</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Presented at IEEE 802.16 session #68 in San Diego</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H Anthony Chan (Huawei Technologies)</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MS PGothic"/>
              </a:rPr>
              <a:t>Abstract: 802.21WG liaison Report </a:t>
            </a:r>
            <a:endParaRPr b="0" lang="en-US" sz="2400" spc="-1" strike="noStrike">
              <a:solidFill>
                <a:srgbClr val="000000"/>
              </a:solidFill>
              <a:latin typeface="Times New Roman"/>
            </a:endParaRPr>
          </a:p>
        </p:txBody>
      </p:sp>
      <p:sp>
        <p:nvSpPr>
          <p:cNvPr id="92"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39B07-2EAD-4F57-BE9E-0E7B4C723A1C}"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7FD3-32A9-44EB-BF90-B5B78E387D25}"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94"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Gulim"/>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Gulim"/>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Gulim"/>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Gulim"/>
              </a:rPr>
              <a:t>’</a:t>
            </a:r>
            <a:r>
              <a:rPr b="0" lang="en-US" sz="1600" spc="-1" strike="noStrike">
                <a:solidFill>
                  <a:srgbClr val="000000"/>
                </a:solidFill>
                <a:latin typeface="Times New Roman"/>
                <a:ea typeface="Gulim"/>
              </a:rPr>
              <a:t>s name any IEEE Standards publication even though it may include portions of this contribution; and at the IEEE</a:t>
            </a:r>
            <a:r>
              <a:rPr b="0" lang="en-US" sz="1600" spc="-1" strike="noStrike">
                <a:solidFill>
                  <a:srgbClr val="000000"/>
                </a:solidFill>
                <a:latin typeface="Times New Roman"/>
                <a:ea typeface="Gulim"/>
              </a:rPr>
              <a:t>’</a:t>
            </a:r>
            <a:r>
              <a:rPr b="0" lang="en-US" sz="1600" spc="-1" strike="noStrike">
                <a:solidFill>
                  <a:srgbClr val="000000"/>
                </a:solidFill>
                <a:latin typeface="Times New Roman"/>
                <a:ea typeface="Gulim"/>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Gulim"/>
              </a:rPr>
              <a:t>The contributor is familiar with IEEE patent policy, as stated in Section 6 of the IEEE-SA Standards Board bylaws</a:t>
            </a:r>
            <a:r>
              <a:rPr b="0" lang="en-US" sz="1600" spc="-1" strike="noStrike">
                <a:solidFill>
                  <a:srgbClr val="000099"/>
                </a:solidFill>
                <a:latin typeface="Times New Roman"/>
                <a:ea typeface="Gulim"/>
              </a:rPr>
              <a:t> </a:t>
            </a:r>
            <a:r>
              <a:rPr b="0" lang="en-US" sz="1600" spc="-1" strike="noStrike">
                <a:solidFill>
                  <a:srgbClr val="000000"/>
                </a:solidFill>
                <a:latin typeface="Times New Roman"/>
                <a:ea typeface="Gulim"/>
              </a:rPr>
              <a:t>&lt;http://standards.ieee.org/guides/bylaws/sect6-7.html#6&gt; and in </a:t>
            </a:r>
            <a:r>
              <a:rPr b="0" i="1" lang="en-US" sz="1600" spc="-1" strike="noStrike">
                <a:solidFill>
                  <a:srgbClr val="000000"/>
                </a:solidFill>
                <a:latin typeface="Times New Roman"/>
                <a:ea typeface="Gulim"/>
              </a:rPr>
              <a:t>Understanding Patent Issues During IEEE Standards Development</a:t>
            </a:r>
            <a:r>
              <a:rPr b="0" lang="en-US" sz="1600" spc="-1" strike="noStrike">
                <a:solidFill>
                  <a:srgbClr val="000000"/>
                </a:solidFill>
                <a:latin typeface="Times New Roman"/>
                <a:ea typeface="Gulim"/>
              </a:rPr>
              <a:t> http://standards.ieee.org/board/pat/faq.pdf&gt;</a:t>
            </a:r>
            <a:r>
              <a:rPr b="0" lang="en-US" sz="1600" spc="-1" strike="noStrike">
                <a:solidFill>
                  <a:srgbClr val="000000"/>
                </a:solidFill>
                <a:latin typeface="Times New Roman"/>
                <a:ea typeface="Gulim"/>
              </a:rPr>
              <a:t> </a:t>
            </a:r>
            <a:endParaRPr b="0" lang="en-US" sz="1600" spc="-1" strike="noStrike">
              <a:solidFill>
                <a:srgbClr val="000000"/>
              </a:solidFill>
              <a:latin typeface="Times New Roman"/>
            </a:endParaRPr>
          </a:p>
        </p:txBody>
      </p:sp>
      <p:sp>
        <p:nvSpPr>
          <p:cNvPr id="95" name="Footer Placeholder 3"/>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21a Security Extension TG</a:t>
            </a:r>
            <a:endParaRPr b="1" lang="en-US" sz="3600" spc="-1" strike="noStrike">
              <a:solidFill>
                <a:srgbClr val="000000"/>
              </a:solidFill>
              <a:latin typeface="Times New Roman"/>
            </a:endParaRPr>
          </a:p>
        </p:txBody>
      </p:sp>
      <p:sp>
        <p:nvSpPr>
          <p:cNvPr id="97"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own-selection was successful completed: All options have been accepted as part of 802.21a draft specifica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Editor presented 802.21a pre-draft specification: DCN 21-10-0148 and is making further editing</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im to start Letter Ballot after September 2010 meeting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8" name="Slide Number Placeholder 4"/>
          <p:cNvSpPr/>
          <p:nvPr/>
        </p:nvSpPr>
        <p:spPr>
          <a:xfrm>
            <a:off x="7772400" y="6432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400F1-2CF0-4621-8961-F0C0ACD13D43}"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99"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Gulim"/>
              </a:rPr>
              <a:t>802.21b Handovers with Downlink Only Technologies TG</a:t>
            </a:r>
            <a:endParaRPr b="1" lang="en-US" sz="3200" spc="-1" strike="noStrike">
              <a:solidFill>
                <a:srgbClr val="000000"/>
              </a:solidFill>
              <a:latin typeface="Times New Roman"/>
            </a:endParaRPr>
          </a:p>
        </p:txBody>
      </p:sp>
      <p:sp>
        <p:nvSpPr>
          <p:cNvPr id="101"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SG has the first draft P802.21bD01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G has approved to send P802.21b D01 for a WG 30 day Letter Ballo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ill start comment resolution process at the September meeting</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2" name="Slide Number Placeholder 4"/>
          <p:cNvSpPr/>
          <p:nvPr/>
        </p:nvSpPr>
        <p:spPr>
          <a:xfrm>
            <a:off x="7772400" y="6432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8A86-F46D-4D30-ACA5-754F7CEB9505}"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103"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Gulim"/>
              </a:rPr>
              <a:t>802.21c Optimized Single Radio Handover TG</a:t>
            </a:r>
            <a:endParaRPr b="1" lang="en-US" sz="3200" spc="-1" strike="noStrike">
              <a:solidFill>
                <a:srgbClr val="000000"/>
              </a:solidFill>
              <a:latin typeface="Times New Roman"/>
            </a:endParaRPr>
          </a:p>
        </p:txBody>
      </p:sp>
      <p:sp>
        <p:nvSpPr>
          <p:cNvPr id="105"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iscuss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3GPP IWLAN and SRVCC</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1-10-135-00-srh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SRHO Procedures</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1-10-114-03-srh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 </a:t>
            </a:r>
            <a:r>
              <a:rPr b="0" lang="en-US" sz="2400" spc="-1" strike="noStrike">
                <a:solidFill>
                  <a:srgbClr val="000000"/>
                </a:solidFill>
                <a:latin typeface="Times New Roman"/>
                <a:ea typeface="Gulim"/>
              </a:rPr>
              <a:t>IEs a CS applicability for WMF SRHO</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1-10-128-00-srho</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mendment for WMF SRHO (Proposal)</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1-10-131-02-srho</a:t>
            </a:r>
            <a:endParaRPr b="0" lang="en-US" sz="2400" spc="-1" strike="noStrike">
              <a:solidFill>
                <a:srgbClr val="000000"/>
              </a:solidFill>
              <a:latin typeface="Times New Roman"/>
            </a:endParaRPr>
          </a:p>
          <a:p>
            <a:pPr lvl="2" marL="1147680" indent="-195120">
              <a:lnSpc>
                <a:spcPct val="90000"/>
              </a:lnSpc>
              <a:buClr>
                <a:srgbClr val="618ffd"/>
              </a:buClr>
              <a:buSzPct val="75000"/>
              <a:buFont typeface="Times"/>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ncorporated into the TGc Framework Document </a:t>
            </a:r>
            <a:endParaRPr b="0" lang="en-US" sz="2400" spc="-1" strike="noStrike">
              <a:solidFill>
                <a:srgbClr val="000000"/>
              </a:solidFill>
              <a:latin typeface="Times New Roman"/>
            </a:endParaRPr>
          </a:p>
        </p:txBody>
      </p:sp>
      <p:sp>
        <p:nvSpPr>
          <p:cNvPr id="106" name="Slide Number Placeholder 4"/>
          <p:cNvSpPr/>
          <p:nvPr/>
        </p:nvSpPr>
        <p:spPr>
          <a:xfrm>
            <a:off x="7772400" y="6432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9555-43A2-4AAC-A07A-14D652594D16}"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107"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wireless network management SG</a:t>
            </a:r>
            <a:endParaRPr b="1" lang="en-US" sz="3600" spc="-1" strike="noStrike">
              <a:solidFill>
                <a:srgbClr val="000000"/>
              </a:solidFill>
              <a:latin typeface="Times New Roman"/>
            </a:endParaRPr>
          </a:p>
        </p:txBody>
      </p:sp>
      <p:sp>
        <p:nvSpPr>
          <p:cNvPr id="109"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2 presentations to the SG in this meeting</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K. Grochla, W. Buga (Proximetry): Practical experiences with media-independent link control</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A. de la Oliva (UC3M), J. Lessmann (NEC), C. Niephaus (FhG): Heterogeneous Wireless Management for Coexistenc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1 presentation of SG to the 802.21/802.19 joint session</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A. de la Oliva (UC3M), J. Lessmann (NEC), C. Niephaus (FhG): IEEE 802.19.1 as a Media Independence Service Layer</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1 presentation postponed (I-Kang Fu, MediaTek)</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Plan for future progres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continue elaborating on use cases/requirements with previous presenter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discuss overlap of SG objectives with 802.19.1</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decision on how to proceed with SG will be made in Nov. latest</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10" name="Slide Number Placeholder 4"/>
          <p:cNvSpPr/>
          <p:nvPr/>
        </p:nvSpPr>
        <p:spPr>
          <a:xfrm>
            <a:off x="7772400" y="6432480"/>
            <a:ext cx="685800" cy="3812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9F3C1-8124-4CDF-9473-B10613C72294}"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111" name="Footer Placeholder 4"/>
          <p:cNvSpPr/>
          <p:nvPr/>
        </p:nvSpPr>
        <p:spPr>
          <a:xfrm>
            <a:off x="428760" y="6400800"/>
            <a:ext cx="257148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21-10-0160-00-srh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With other 802 WG</a:t>
            </a:r>
            <a:endParaRPr b="1" lang="en-US" sz="3600" spc="-1" strike="noStrike">
              <a:solidFill>
                <a:srgbClr val="000000"/>
              </a:solidFill>
              <a:latin typeface="Times New Roman"/>
            </a:endParaRPr>
          </a:p>
        </p:txBody>
      </p:sp>
      <p:sp>
        <p:nvSpPr>
          <p:cNvPr id="113"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802 Architecture Discussion</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tributed to the 802 architecture discussion. Proposing to add media independent control plane to the 802 reference architecture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ith 802.19 WG: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Joint session with 802.19 to discuss how to complement each other’s work</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ith 802.23 WG: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llowed 802.21 voting members to participate in 802.23 meetings with reciprocal voting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unghoon.jee</dc:creator>
  <dc:description/>
  <dc:language>en-US</dc:language>
  <cp:lastModifiedBy>C73782</cp:lastModifiedBy>
  <dcterms:modified xsi:type="dcterms:W3CDTF">2010-07-16T03:41:21Z</dcterms:modified>
  <cp:revision>95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79251325</vt:lpwstr>
  </property>
</Properties>
</file>