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2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3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6AFA-1109-4C43-B0A2-01B041ACE1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EF8E-094D-4A24-9DBC-CDFDE96DCDDF}" type="slidenum">
              <a:rPr b="0" lang="ko-KR" sz="1200" spc="-1" strike="noStrike">
                <a:solidFill>
                  <a:srgbClr val="000000"/>
                </a:solidFill>
                <a:latin typeface="HY헤드라인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79280" y="368928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7928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144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49640" y="981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0000" y="981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79280" y="3689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49640" y="3689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0000" y="3689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71360" y="60480"/>
            <a:ext cx="886464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7928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144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9280" y="368928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79280" y="368928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8144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149640" y="981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20000" y="981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79280" y="3689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149640" y="3689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120000" y="3689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71360" y="60480"/>
            <a:ext cx="886464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7928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8144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79280" y="368928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79280" y="368928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7928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8144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149640" y="981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20000" y="98100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79280" y="3689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149640" y="3689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20000" y="3689280"/>
            <a:ext cx="282852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71360" y="60480"/>
            <a:ext cx="886464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7928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1440" y="368928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981000"/>
            <a:ext cx="42872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79280" y="3689280"/>
            <a:ext cx="878544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8510760" y="656100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F063-A806-449A-8DA2-41662073CBD1}" type="slidenum">
              <a:rPr b="0" lang="en-US" sz="1000" spc="-1" strike="noStrike">
                <a:solidFill>
                  <a:srgbClr val="99cc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Y헤드라인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헤드라인M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560" y="1598400"/>
            <a:ext cx="7993080" cy="118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b61b7"/>
                </a:solidFill>
                <a:latin typeface="HY헤드라인M"/>
                <a:ea typeface="Times New Roman"/>
              </a:rPr>
              <a:t>TTA</a:t>
            </a:r>
            <a:r>
              <a:rPr b="0" lang="en-US" sz="3600" spc="-1" strike="noStrike">
                <a:solidFill>
                  <a:srgbClr val="3b61b7"/>
                </a:solidFill>
                <a:latin typeface="Arial Unicode MS"/>
                <a:ea typeface="Arial Unicode MS"/>
              </a:rPr>
              <a:t>′</a:t>
            </a:r>
            <a:r>
              <a:rPr b="0" lang="en-US" sz="3600" spc="-1" strike="noStrike">
                <a:solidFill>
                  <a:srgbClr val="3b61b7"/>
                </a:solidFill>
                <a:latin typeface="HY헤드라인M"/>
                <a:ea typeface="Arial Unicode MS"/>
              </a:rPr>
              <a:t>s</a:t>
            </a:r>
            <a:r>
              <a:rPr b="0" lang="en-US" sz="3600" spc="-1" strike="noStrike">
                <a:solidFill>
                  <a:srgbClr val="3b61b7"/>
                </a:solidFill>
                <a:latin typeface="HY헤드라인M"/>
                <a:ea typeface="Times New Roman"/>
              </a:rPr>
              <a:t> Transposition Status and Plan</a:t>
            </a:r>
            <a:br>
              <a:rPr sz="3600"/>
            </a:br>
            <a:r>
              <a:rPr b="0" lang="en-US" sz="1400" spc="-1" strike="noStrike">
                <a:solidFill>
                  <a:srgbClr val="3b61b7"/>
                </a:solidFill>
                <a:latin typeface="HY헤드라인M"/>
                <a:ea typeface="Times New Roman"/>
              </a:rPr>
              <a:t>July 19 2011</a:t>
            </a:r>
            <a:endParaRPr b="0" lang="en-US" sz="14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206520" y="3652560"/>
            <a:ext cx="539244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Elly (Eunkyo) Kim 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Assistant Manager, TTA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vekimv@tta.or.kr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19600" y="3024000"/>
            <a:ext cx="4929120" cy="17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굴림"/>
              </a:rPr>
              <a:t>1. Introd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굴림"/>
              </a:rPr>
              <a:t>2. TTA Standardization Procedu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굴림"/>
              </a:rPr>
              <a:t>3. Transposition Schedu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굴림"/>
              </a:rPr>
              <a:t>4. Other Issues on transposition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23" name="Picture 8" descr="contests_3"/>
          <p:cNvPicPr/>
          <p:nvPr/>
        </p:nvPicPr>
        <p:blipFill>
          <a:blip r:embed="rId1"/>
          <a:stretch/>
        </p:blipFill>
        <p:spPr>
          <a:xfrm>
            <a:off x="5481720" y="2133720"/>
            <a:ext cx="2232000" cy="47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</a:rPr>
              <a:t>1. Introduction</a:t>
            </a: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TTA (Telecommunication Technology Association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Domestic Standardization Activitie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Industrial ICT standard establishment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Coordination between industrial requirement and government policies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Proposal of National Standard (KICS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Global Standardization Activitie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3GPP/3GPP2 Organizational Members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Activities on IEEE, ITU(R/T/D), AWG, WRC, and so on 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CJK(China-Japan-Korea) standardization cooperation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3419640" y="1467000"/>
            <a:ext cx="5545080" cy="144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http://www.tta.or.kr/English/new/about/images/purpose_image.gif"/>
          <p:cNvPicPr/>
          <p:nvPr/>
        </p:nvPicPr>
        <p:blipFill>
          <a:blip r:embed="rId3"/>
          <a:stretch/>
        </p:blipFill>
        <p:spPr>
          <a:xfrm>
            <a:off x="179280" y="1467000"/>
            <a:ext cx="34290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</a:rPr>
              <a:t>1. Introduction (cont</a:t>
            </a:r>
            <a:r>
              <a:rPr b="0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′</a:t>
            </a:r>
            <a:r>
              <a:rPr b="0" lang="en-US" sz="2800" spc="-1" strike="noStrike">
                <a:solidFill>
                  <a:srgbClr val="ffffff"/>
                </a:solidFill>
                <a:latin typeface="HY헤드라인M"/>
              </a:rPr>
              <a:t>d)</a:t>
            </a: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Organization Chart for Standardization Committee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480360" cy="5203800"/>
          </a:xfrm>
          <a:prstGeom prst="rect">
            <a:avLst/>
          </a:prstGeom>
          <a:ln w="0">
            <a:noFill/>
          </a:ln>
        </p:spPr>
      </p:pic>
      <p:sp>
        <p:nvSpPr>
          <p:cNvPr id="131" name="직사각형 4"/>
          <p:cNvSpPr/>
          <p:nvPr/>
        </p:nvSpPr>
        <p:spPr>
          <a:xfrm>
            <a:off x="1187280" y="5516640"/>
            <a:ext cx="6480360" cy="57636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2" name="직사각형 5"/>
          <p:cNvSpPr/>
          <p:nvPr/>
        </p:nvSpPr>
        <p:spPr>
          <a:xfrm>
            <a:off x="3564000" y="5697360"/>
            <a:ext cx="503280" cy="252720"/>
          </a:xfrm>
          <a:prstGeom prst="rect">
            <a:avLst/>
          </a:prstGeom>
          <a:solidFill>
            <a:srgbClr val="ff0000">
              <a:alpha val="20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</a:rPr>
              <a:t>2. TTA Standardization Procedure</a:t>
            </a: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4560" y="907920"/>
            <a:ext cx="50418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Approval Process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Y헤드라인M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 : Project Group (PG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Y헤드라인M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 : Technical Committee(TC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Y헤드라인M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 : Coordination Committee(CC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HY헤드라인M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 : Technical Assembly(TA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Meeting interval (General)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PG: several times a year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TC: four times a year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CC: four times a year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TA: 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</a:rPr>
              <a:t>twice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 a year (</a:t>
            </a:r>
            <a:r>
              <a:rPr b="0" lang="en-US" sz="2000" spc="-1" strike="noStrike">
                <a:solidFill>
                  <a:srgbClr val="003399"/>
                </a:solidFill>
                <a:latin typeface="HY헤드라인M"/>
              </a:rPr>
              <a:t>Jun, Dec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Need final draft doc by early Mar and  early Sep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5076720" y="765000"/>
            <a:ext cx="3888000" cy="5877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1"/>
          <p:cNvSpPr/>
          <p:nvPr/>
        </p:nvSpPr>
        <p:spPr>
          <a:xfrm>
            <a:off x="5148360" y="8366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HY헤드라인M"/>
              </a:rPr>
              <a:t>Done</a:t>
            </a:r>
            <a:endParaRPr b="0" lang="en-US" sz="1200" spc="-1" strike="noStrike">
              <a:solidFill>
                <a:srgbClr val="000000"/>
              </a:solidFill>
              <a:latin typeface="HY헤드라인M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5076720" y="765000"/>
            <a:ext cx="3888000" cy="5977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</a:rPr>
              <a:t>3. Transposition Work Status</a:t>
            </a: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TTA adopted 4 IEEE standards 16m, 16h, 16j and 16-2009 in June 2011.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Without any modification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9280" y="2349360"/>
          <a:ext cx="8785440" cy="3768840"/>
        </p:xfrm>
        <a:graphic>
          <a:graphicData uri="http://schemas.openxmlformats.org/drawingml/2006/table">
            <a:tbl>
              <a:tblPr/>
              <a:tblGrid>
                <a:gridCol w="576360"/>
                <a:gridCol w="1295280"/>
                <a:gridCol w="1708200"/>
                <a:gridCol w="928800"/>
                <a:gridCol w="1252440"/>
                <a:gridCol w="1535040"/>
                <a:gridCol w="930240"/>
                <a:gridCol w="559080"/>
              </a:tblGrid>
              <a:tr h="128880">
                <a:tc rowSpan="2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Standa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TA Standa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ndard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i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ublication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ndard N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it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ublication da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angu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7286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Std. 802.16™-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802.16-2009, “IEEE Standard for Local and Metropolitan Area Networks - Part 16: Air Interface for Broadband Wireless Access Systems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9.05.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TAE.IE-802.16-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802.16-2009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휴대인터넷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와이브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무선접속 규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11.06.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Std. 802.16j™-2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Std 802.16j-2009, "IEEE Standard for Local and metropolitan area- Part 16: Air Interface  for  Broadband  Wireless  Access  Systems-"Amendment  1:  Multihop Relay Specifi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09.05.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TAE.IE-802.16j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802.16j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휴대인터넷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와이브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무선접속 규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11.06.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Std. 802.16h™-20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Std 802.16h-2010, “IEEE Standard for Local and Metropolitan Area Networks – Part 16: Air Interface for Broadband Wireless Access Sysems – Amendment 2: Improved Coexistence Mechanisms for License-Exempt Operation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10.07.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TAE.IE-802.16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802.16h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휴대인터넷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와이브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무선접속 규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11.06.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Std. 802.16m™-2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802.16m-2011, "IEEE Standard for Local and metropolitan area- Part 16: Air Interface  for  Broadband  Wireless  Access  Systems - Amendment 3: Advanced Air Interface"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11.03.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TAE.IE-802.16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EEE 802.16m 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휴대인터넷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와이브로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무선접속 규격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11.06.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HY헤드라인M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1360" y="60480"/>
            <a:ext cx="8864640" cy="57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헤드라인M"/>
              </a:rPr>
              <a:t>4. Future Plan</a:t>
            </a:r>
            <a:endParaRPr b="0" lang="en-US" sz="2800" spc="-1" strike="noStrike">
              <a:solidFill>
                <a:srgbClr val="ffffff"/>
              </a:solidFill>
              <a:latin typeface="HY헤드라인M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9280" y="981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TTA will deliver Certification C with hyperlinks to ITU-R by Sep 21.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Currently, 3GPP specifications for </a:t>
            </a:r>
            <a:r>
              <a:rPr b="0" i="1" lang="en-US" sz="2000" spc="-1" strike="noStrike">
                <a:solidFill>
                  <a:srgbClr val="000000"/>
                </a:solidFill>
                <a:latin typeface="HY헤드라인M"/>
              </a:rPr>
              <a:t>LTE-Advanced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 is in public hearing status.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Both hyperlinks for </a:t>
            </a:r>
            <a:r>
              <a:rPr b="0" i="1" lang="en-US" sz="2000" spc="-1" strike="noStrike">
                <a:solidFill>
                  <a:srgbClr val="000000"/>
                </a:solidFill>
                <a:latin typeface="HY헤드라인M"/>
              </a:rPr>
              <a:t>WirelessMAN-Advanced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 and LTE-Advanced will be delivered together.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Y헤드라인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Follow up the update of </a:t>
            </a:r>
            <a:r>
              <a:rPr b="0" i="1" lang="en-US" sz="2400" spc="-1" strike="noStrike">
                <a:solidFill>
                  <a:srgbClr val="000000"/>
                </a:solidFill>
                <a:latin typeface="HY헤드라인M"/>
              </a:rPr>
              <a:t>WirelessMAN-Advanced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</a:rPr>
              <a:t> specification</a:t>
            </a:r>
            <a:endParaRPr b="0" lang="en-US" sz="24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</a:rPr>
              <a:t>To complete transposition of updated specification in Sep 2012, it is necessary to receive the final draft by end of February 2012.</a:t>
            </a: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HY헤드라인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3"/>
          <p:cNvSpPr/>
          <p:nvPr/>
        </p:nvSpPr>
        <p:spPr>
          <a:xfrm>
            <a:off x="3780000" y="243360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HY헤드라인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06:21:27Z</dcterms:created>
  <dc:creator>korea</dc:creator>
  <dc:description/>
  <dc:language>en-US</dc:language>
  <cp:lastModifiedBy>Shawn</cp:lastModifiedBy>
  <dcterms:modified xsi:type="dcterms:W3CDTF">2011-07-19T16:08:04Z</dcterms:modified>
  <cp:revision>204</cp:revision>
  <dc:subject/>
  <dc:title>슬라이드 1</dc:title>
</cp:coreProperties>
</file>