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EAA0-E1EC-48BD-9B4A-B73D66EFA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263A-C995-48FA-9B9B-1AF2C730C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E3AA-37F3-4853-9DEC-3E947157E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931C-3975-4DEF-BABC-789180081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160200"/>
            <a:ext cx="8321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2546-33D7-4D05-BA5A-AAED39E39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D34C-77BB-4EBF-A4BF-2C8E43F6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7A63-989D-4F75-8E75-4FAD42298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E9A3-727A-4A1E-B5B5-308DBC02F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60200"/>
            <a:ext cx="8321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679C-7485-4B33-A852-C072B4892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F61D-5E9A-4314-935D-E06A73B00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C776-72B8-435D-A603-9473E31A3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7E7E-0572-42DD-AA5B-6BC793AE1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603840"/>
            <a:ext cx="2362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000" y="6633720"/>
            <a:ext cx="9716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32C-9F8F-4302-95C1-D5DD7255AB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0" y="83808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83664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7391520" y="698400"/>
            <a:ext cx="174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78ba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4678b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0" y="6603840"/>
            <a:ext cx="2362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e4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3ce4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7240" y="12697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4678ba"/>
                </a:solidFill>
                <a:latin typeface="Arial"/>
                <a:ea typeface="HY타자전각B"/>
              </a:rPr>
              <a:t>Service Requirement</a:t>
            </a:r>
            <a:endParaRPr b="1" lang="en-US" sz="5400" spc="-1" strike="noStrike">
              <a:solidFill>
                <a:srgbClr val="4678b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789000"/>
            <a:ext cx="6705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Minsung, Kim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Korea Telecom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Jun 9th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 &amp; 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 or 1:N Conversation or Confer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Video/Voice) ; Max.400ms (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4 (Video/Voice) ; Max.10e-5 (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Max.10e-6 (File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aving Mod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1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ing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00BC-6E57-4983-B41B-3C3F60134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 or 1:N Video/Voice Conserv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Voice Transmission Service for Specific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e Transmiss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Video/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4 (Video/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aving Mod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5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sh To Talk (PTT)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3740-A218-41C4-A6E3-15EABDC766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&amp; Music Video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udio/Video Broadcas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Buffer Can Be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Multicas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 Streaming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9C57-6998-44BF-A2A3-C678DBC61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torage File Upload / Download &amp; Searching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 Sharing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Not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If Error Exists, Retransmission Is Mandatory (Max.10e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Storage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494A-4095-459B-9135-D9BB00112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8000" y="1066320"/>
            <a:ext cx="892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Real-time Gam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Real-time Communication Among 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00ms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ransmission May Be Meaningless Because of Dela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ve Game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80CD-C0F0-4025-93CF-422FBB1A0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720" y="1773360"/>
            <a:ext cx="7803360" cy="3627360"/>
            <a:chOff x="468720" y="1773360"/>
            <a:chExt cx="7803360" cy="3627360"/>
          </a:xfrm>
        </p:grpSpPr>
        <p:sp>
          <p:nvSpPr>
            <p:cNvPr id="96" name=""/>
            <p:cNvSpPr/>
            <p:nvPr/>
          </p:nvSpPr>
          <p:spPr>
            <a:xfrm flipV="1">
              <a:off x="1085760" y="2037240"/>
              <a:ext cx="0" cy="336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240" y="478296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120" y="45770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7000" y="1773360"/>
              <a:ext cx="115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Los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1280" y="4714560"/>
              <a:ext cx="823320" cy="617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/ contro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Telnet, Interact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s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3479040"/>
              <a:ext cx="2196000" cy="123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sationa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and vide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8640" y="3479040"/>
              <a:ext cx="891720" cy="1235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ce/video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35040" y="3959280"/>
              <a:ext cx="892080" cy="754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/video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99880" y="4714560"/>
              <a:ext cx="1098000" cy="61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E-commerce,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-browsing, E-mail access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15640" y="4714560"/>
              <a:ext cx="891720" cy="617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ing, Download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FTP,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ill image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76480" y="4439880"/>
              <a:ext cx="754560" cy="274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3640" y="4714560"/>
              <a:ext cx="1098000" cy="342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Usene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5360" y="22435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9840" y="443988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05080" y="44398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1720" y="443988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9080" y="44398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3312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012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748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484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8720" y="4851720"/>
              <a:ext cx="5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8804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6628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0772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71520" y="4233960"/>
              <a:ext cx="700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85760" y="4714560"/>
              <a:ext cx="693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0920" y="115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-T G.101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AB1D-B3BE-4EFA-85BA-88F2FC3FD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yberk</cp:lastModifiedBy>
  <dcterms:modified xsi:type="dcterms:W3CDTF">2004-06-09T08:52:53Z</dcterms:modified>
  <cp:revision>1736</cp:revision>
  <dc:subject/>
  <dc:title>Resilient Packet Ring (RPR)</dc:title>
</cp:coreProperties>
</file>