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EC4A-1ED2-4029-9DBE-834E7FE3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FBC-FC30-4F4B-BD3E-1D11F6495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E81A-3A78-4D8B-BA19-C47A0CE0B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FE63-72F0-4717-BC61-9EE405E8C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160200"/>
            <a:ext cx="8321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02EC-E424-4486-9A04-CAD520601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778E-2FB6-4A84-A4FB-A69BC4D47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0DEB-FE2E-46DD-ADD9-FA2BAC8BC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F888-0EA7-42FC-8970-7AEC07C6A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60200"/>
            <a:ext cx="83214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D6E5-ABCF-4CE1-AF53-CA9C17C0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F496-E673-4C9B-ACF7-7345B40F9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9413-2E3E-43EF-A3A6-35B8B748E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E4A8-A7B5-42AE-9975-792DEA597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603840"/>
            <a:ext cx="2362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000" y="6633720"/>
            <a:ext cx="9716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222-2F4F-4E5C-8C5A-D7F612F444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23640" y="160200"/>
            <a:ext cx="8321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0" y="83808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83664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7391520" y="698400"/>
            <a:ext cx="174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78ba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4678b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0" y="6603840"/>
            <a:ext cx="2362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e4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3ce4c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3ce4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7240" y="12697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4678ba"/>
                </a:solidFill>
                <a:latin typeface="Arial"/>
                <a:ea typeface="HY타자전각B"/>
              </a:rPr>
              <a:t>Service Requirement</a:t>
            </a:r>
            <a:endParaRPr b="1" lang="en-US" sz="5400" spc="-1" strike="noStrike">
              <a:solidFill>
                <a:srgbClr val="4678b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789000"/>
            <a:ext cx="6705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Minsung, Kim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Korea Telecom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93ce4c"/>
                </a:solidFill>
                <a:latin typeface="Arial"/>
              </a:rPr>
              <a:t>Jun 9th</a:t>
            </a:r>
            <a:endParaRPr b="0" lang="en-US" sz="2400" spc="-1" strike="noStrike">
              <a:solidFill>
                <a:srgbClr val="93ce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 &amp; 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 or 1:N Conversation or Confer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Video/Voice) ; Max.400ms (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4 (Video/Voice) ; Max.10e-5 (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Max.10e-6 (File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aving Mod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1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ing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BF25-1F50-4911-B6B5-F711BA010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 or 1:N Video/Voice Conserv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Voice Transmission Service for Specific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e Transmiss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Video/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4 (Video/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aving Mod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5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sh To Talk (PTT)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2F42-3A61-44A3-A54B-873DD24CD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&amp; Music Video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udio/Video Broadcas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50ms (Buffer Can Be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Multicas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 Streaming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BBFD-E0AD-4547-BB6B-510F16667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torage File Upload / Download &amp; Searching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 Sharing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Not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If Error Exists, Retransmission Is Mandatory (Max.10e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Storage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E5E1-5160-414D-AA1E-B05CBB2CB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8000" y="1066320"/>
            <a:ext cx="892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Real-time Gam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78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Real-time Communication Among 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Max.100ms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: Max.10e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etransmission May Be Meaningless Because of Dela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93c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vel Seamless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ve Game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2391-49FE-488E-9AAB-BC19D95C5D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720" y="1773360"/>
            <a:ext cx="7803360" cy="3627360"/>
            <a:chOff x="468720" y="1773360"/>
            <a:chExt cx="7803360" cy="3627360"/>
          </a:xfrm>
        </p:grpSpPr>
        <p:sp>
          <p:nvSpPr>
            <p:cNvPr id="96" name=""/>
            <p:cNvSpPr/>
            <p:nvPr/>
          </p:nvSpPr>
          <p:spPr>
            <a:xfrm flipV="1">
              <a:off x="1085760" y="2037240"/>
              <a:ext cx="0" cy="336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240" y="478296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120" y="45770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7000" y="1773360"/>
              <a:ext cx="115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Los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1280" y="4714560"/>
              <a:ext cx="823320" cy="617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/ contro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Telnet, Interact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s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3479040"/>
              <a:ext cx="2196000" cy="123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sationa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and vide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8640" y="3479040"/>
              <a:ext cx="891720" cy="1235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ce/video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35040" y="3959280"/>
              <a:ext cx="892080" cy="754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/video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99880" y="4714560"/>
              <a:ext cx="1098000" cy="61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E-commerce,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-browsing, E-mail access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15640" y="4714560"/>
              <a:ext cx="891720" cy="617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ing, Download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FTP,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ill image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76480" y="4439880"/>
              <a:ext cx="754560" cy="274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3640" y="4714560"/>
              <a:ext cx="1098000" cy="342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eg Usene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5360" y="22435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9840" y="443988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05080" y="44398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1720" y="443988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9080" y="44398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se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3312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012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748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4840" y="464580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8720" y="4851720"/>
              <a:ext cx="5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r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8804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6628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07720" y="2106360"/>
              <a:ext cx="0" cy="3294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71520" y="4233960"/>
              <a:ext cx="700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85760" y="4714560"/>
              <a:ext cx="693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0920" y="115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-T G.101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B9CF-FA8B-45B9-9893-7ABB39DA7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yberk</cp:lastModifiedBy>
  <dcterms:modified xsi:type="dcterms:W3CDTF">2004-06-09T08:52:53Z</dcterms:modified>
  <cp:revision>1736</cp:revision>
  <dc:subject/>
  <dc:title>Resilient Packet Ring (RPR)</dc:title>
</cp:coreProperties>
</file>