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-17-01-nnnnn, iii_xxxxx_v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llieee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19040" cy="476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248520" y="655308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302680" y="0"/>
            <a:ext cx="84132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tle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lle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nted 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ly indente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ly really indented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4T01:17:08Z</dcterms:created>
  <dc:creator>Michael Takefman</dc:creator>
  <dc:description/>
  <dc:language>en-US</dc:language>
  <cp:lastModifiedBy>Cisco User</cp:lastModifiedBy>
  <cp:lastPrinted>2000-12-07T16:39:27Z</cp:lastPrinted>
  <dcterms:modified xsi:type="dcterms:W3CDTF">2001-06-16T21:07:51Z</dcterms:modified>
  <cp:revision>36</cp:revision>
  <dc:subject/>
  <dc:title>IEEE 802 LMSC Resilient Packet Ring Study Group Status Report  Mike Takefman  Chair of RPRSG www.ieee802.org/rprsg tak@cisco.com</dc:title>
</cp:coreProperties>
</file>