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-1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1760" y="-1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91440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78036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1760" y="-1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91440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91440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78036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78036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-1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-1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-1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800" y="91440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-1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759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-1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800" y="91440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-1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-1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800" y="91440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1800" y="378036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-1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91440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-1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-1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800" y="91440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1800" y="378036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-1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41000" y="91440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30080" y="91440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41000" y="378036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30080" y="378036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1760" y="-1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-1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91440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-1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1760" y="759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-1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91440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-1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91440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78036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-1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91440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24680" y="6477120"/>
            <a:ext cx="1067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477120"/>
            <a:ext cx="3429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kr_adhoc_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66680" y="6477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&amp;T Labs -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0" y="6356520"/>
            <a:ext cx="106668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60199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-17-01-nnnnn, iii_xxxxx_v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48520" y="6553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&amp;T Labs.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6356520"/>
            <a:ext cx="106668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cope of Fairness AdHoc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ope of the Fairness Adhoc is to specify and evaluate enhancements to Table 9.4 of Draft 2.0 (Conservative Mode) to improve the performance of the sche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is includes changes to the state table, functions and related text required as a consequence of the changes being incorporated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derstanding enhancements through simulations and analysis of implementation complexity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two weeks: identify scenarios and performance benchmark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ext two-three weeks: evaluation via simulation of changes to Table 9.4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ace-to-face: draft recommendation and proposed changes for March plenary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 weeks prior to Plenary: make recommendation available to the WG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6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01:17:08Z</dcterms:created>
  <dc:creator>K. K. Ramakrishnan</dc:creator>
  <dc:description/>
  <dc:language>en-US</dc:language>
  <cp:lastModifiedBy>AT&amp;T Labs</cp:lastModifiedBy>
  <cp:lastPrinted>2000-12-07T16:39:27Z</cp:lastPrinted>
  <dcterms:modified xsi:type="dcterms:W3CDTF">2003-01-15T21:07:30Z</dcterms:modified>
  <cp:revision>119</cp:revision>
  <dc:subject/>
  <dc:title>AT&amp;T Presentation on RPR Conservative Fairn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6684972</vt:r8>
  </property>
  <property fmtid="{D5CDD505-2E9C-101B-9397-08002B2CF9AE}" pid="3" name="_AuthorEmail">
    <vt:lpwstr>crk@research.att.com</vt:lpwstr>
  </property>
  <property fmtid="{D5CDD505-2E9C-101B-9397-08002B2CF9AE}" pid="4" name="_AuthorEmailDisplayName">
    <vt:lpwstr>Kalmanek,Charles R,JR (Charles)</vt:lpwstr>
  </property>
  <property fmtid="{D5CDD505-2E9C-101B-9397-08002B2CF9AE}" pid="5" name="_EmailSubject">
    <vt:lpwstr>Current Draft of RPR meeting presentation</vt:lpwstr>
  </property>
  <property fmtid="{D5CDD505-2E9C-101B-9397-08002B2CF9AE}" pid="6" name="_PreviousAdHocReviewCycleID">
    <vt:r8>-1705466088</vt:r8>
  </property>
</Properties>
</file>