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E320-2DAD-4349-85E4-BC81919F3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BF83-BBB1-4B54-9281-4B675439F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4B77-E7DA-4200-8A5A-E4DFB25BB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AFA5-CABB-48D3-99E7-71740FFB5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A105-08A0-4EB4-BE09-E7A940B3E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19A2-FDE4-49BA-A8FF-AD0CDCA6B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EE78-0722-4F82-8845-F59F80AC1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E23D-C682-4C01-B7C6-7E48E37254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2E3F-4813-4EB5-9376-05243D81D7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E82E-9046-43AB-AC09-F7B76DAB8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C8C7-F555-4C7F-B9DA-46474456D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E6D7-C937-4333-A618-37D1FA078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AE48-5D6C-402D-A46E-478D044CC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7096-7348-4F1D-A1C5-2C01160AAA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8FD8-F239-4532-A139-01A8BAA033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95AC-C986-4C56-8CE5-25470B46D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91B8-933A-4745-8029-C1827BD64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D087-DD28-45E1-B629-FB47775A1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6745-EE59-46F3-963F-02B97BA32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C631-B368-4D83-84AC-7DAB526AB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9B03-CCA1-4497-B656-39BBBF17A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DD8C-19AF-41D2-BAEF-39F60F030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5BF2-031F-4AB4-9CB7-7F193B6D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EFD8-CBD3-4010-9480-CC314026F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3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AAA-E1B9-48D1-A161-21FB5BB2DD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1944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-jf_report_top_prot_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/16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D00A-10AA-4161-BB26-86A4542418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ology/Protection Com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on Fan, Section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ason@luminou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Kao, Technica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kao@cisco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27CE-6050-4E74-A790-14F92739C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4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 technical 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technical non-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edi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oc group resolution (technic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 accepted, accepted/mod, accepted/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superc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deferred (2 technical bi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rejected (1 technical bi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punted to WG (3 technical bi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punted to O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ial license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CDA8-191B-4E9B-B3A0-081592D37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1, Annex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technical 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 technical non-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oc group resolution (technic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 accepted, accepted/mod, accepted/d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uperc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defer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punted to O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ial license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F03D-E270-4F1C-8A7A-67AEBDDB1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: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 to b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topology database to be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will alarm based on duplicate MAC address detection but will not intentionally drop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s to be modified to us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 to be added defining topology databas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y message split into vendor-specific TLV and station TLV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weight TLV optional, not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EED7-0D6A-40C5-84B1-F7A37BFDDF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: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umbo frame preferred station on an RPR ring will behave as a non jumbo frame preferred station if any station on that ring reports that it is not jumbo frame preferred. The behavior of a non jumbo frame preferred station will be defined in Clause 6 as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age queue processing state machine will discard any frame larger than the currently permitted MTU, which never exceeds the jumbo frame size specified in Clause 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it path has the option of either passing or discarding frames larger than the currently permitted M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ing will be used on an RPR ring if all stations on that ring report that they prefer wr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31AD-3933-4AFF-AFB5-5DD7D194A3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: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vendor-specific TLV, vendor will be identified by a 24-bit OUI and a 24-bit OUI-dependen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 periodic timer default value will be changed from 100 ms to 1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ef Editor is requested to provide guidance on where the conversion equations between clause-specified values and MIB defined values is specified. Likely candidates include the clause which specifies the value or the MIB cl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ase of the failure of a station’s pass-through path, a station shall not wrap on both s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description of how internal equipment failures may affect the externally visible behavior of a station will be provided by the PAH to the editors of the implementation guidelines ann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8C4F-D2A3-4880-809C-5582F52EC7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: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 preferred and jumbo preferred bits will both be contained in the protection message. The station capabilities TLV will be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description to be added describing triggering of protection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s will provide clarification of what is needed at protection state machine running on one side of station from protection state machine running on the other side of th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on state machine clean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on message modified to contain protection information from both the east and west sides of a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D8DB-DFFC-4296-B2DC-01290E7075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Deferrals and Rej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7, 2239: Deferred to P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MAC address duplication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37: Deferred to P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additional state machines for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491: Deferred to P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overview needed for topology and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477: Rejected (commenter ag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er believes dynamic bandwidth reservation can be handled at a later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3F2-7116-44EC-9088-2AE79AD665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punts to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8, 1011 (TB), 1067, 1087 (TB), 1106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ed to O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0, 1491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ed from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4 (input provided and punted b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ed from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97 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ed/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0B07-FA37-455F-82BF-85F3BDC1D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4:47:50Z</dcterms:created>
  <dc:creator>John Lemon</dc:creator>
  <dc:description/>
  <dc:language>en-US</dc:language>
  <cp:lastModifiedBy>Jason Fan</cp:lastModifiedBy>
  <dcterms:modified xsi:type="dcterms:W3CDTF">2003-01-16T16:27:06Z</dcterms:modified>
  <cp:revision>211</cp:revision>
  <dc:subject/>
  <dc:title>RPR Topology Discovery Proposal </dc:title>
</cp:coreProperties>
</file>