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802.17/D2.0 PHY 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25C1-371B-4153-B555-7CB81A40C3F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lanta Jan 200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 Comment Resolution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ry Pe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tted 8 hr for tot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technical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technical non-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ed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tracking of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of discussion group summary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ccepted technical binding need to contact commenter: chief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commenter agreed or n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VJ is next do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Comment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e 7: PHY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non-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x B: Ethernet 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non-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x C: SONET/SDH 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non-bi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6  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se 7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pecific PHY def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PHY around the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PHY at both MACDataPat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se B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format label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ter-frame&gt;&lt;preamble&gt;&lt;SFD&gt;&lt;data&gt;&lt;EF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se C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PIC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fail I/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F and SD status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fication of field names and bit ordering to be consistent to claus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ried Over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308: CRC Burst error suscep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 contact NS to provide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102: wet noodle 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103:PH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ment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1297 SF and SD RS punt to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ed Protection CRG comment re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 to WG 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580, 582, and 583 optional length field processing in P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nction in the M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t #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0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and 2103: PHY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t #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69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o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iform PHY connected to the MACData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72 Asymmetrical span punt to W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addressed by C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editorial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o accept CR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o grant editorial license for editorial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support LA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Harry Peng</cp:lastModifiedBy>
  <cp:lastPrinted>2000-12-07T16:39:27Z</cp:lastPrinted>
  <dcterms:modified xsi:type="dcterms:W3CDTF">2003-01-16T13:35:03Z</dcterms:modified>
  <cp:revision>62</cp:revision>
  <dc:subject/>
  <dc:title>IEEE 802 LMSC Resilient Packet Ring Study Group Status Report  Mike Takefman  Chair of RPRSG www.ieee802.org/rprsg tak@cisco.com</dc:title>
</cp:coreProperties>
</file>