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548A-7C4C-448F-B4AB-6B9A37CC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6678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116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7720" y="3992040"/>
            <a:ext cx="8116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534-0676-4406-8DAE-5EEAC110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678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607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6800" y="1523880"/>
            <a:ext cx="39607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7720" y="3992040"/>
            <a:ext cx="39607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96800" y="3992040"/>
            <a:ext cx="39607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3FC9-C0A5-4651-8E8B-E6AD5A43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6678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261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82000" y="1523880"/>
            <a:ext cx="261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26280" y="1523880"/>
            <a:ext cx="261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7720" y="3992040"/>
            <a:ext cx="261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82000" y="3992040"/>
            <a:ext cx="261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26280" y="3992040"/>
            <a:ext cx="261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4E6E-4C39-4BA2-B6C1-D3F5C0CE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9618-AAB2-4D94-909B-AE649B7E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678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523880"/>
            <a:ext cx="8116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2B74-F23F-466D-A752-91806296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678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116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6A3B-4AA4-4A59-84ED-9319B1BE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678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60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6800" y="1523880"/>
            <a:ext cx="3960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3E10-6EDB-44A4-B44C-C4051231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678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9927-41D9-48CF-82CE-474A1404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693360"/>
            <a:ext cx="779292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2B0B-A6BA-4BA4-A406-140AF311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678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607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6800" y="1523880"/>
            <a:ext cx="3960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3992040"/>
            <a:ext cx="39607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6EC2-AE90-411C-B43C-92CE708C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678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7720" y="1523880"/>
            <a:ext cx="8116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725F-74A9-4347-9354-EE7FD740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678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60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6800" y="1523880"/>
            <a:ext cx="39607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96800" y="3992040"/>
            <a:ext cx="39607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6D3A-1925-4356-84BD-64BBCE95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678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607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6800" y="1523880"/>
            <a:ext cx="39607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3992040"/>
            <a:ext cx="8116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E6E4-2C1F-4755-A0DE-2AA329EC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678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116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3992040"/>
            <a:ext cx="8116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D4CD-FC17-45D1-9B19-39C57800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678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607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96800" y="1523880"/>
            <a:ext cx="39607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3992040"/>
            <a:ext cx="39607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96800" y="3992040"/>
            <a:ext cx="39607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12B7-CA2B-4C07-87E3-0962B97B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678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261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82000" y="1523880"/>
            <a:ext cx="261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6280" y="1523880"/>
            <a:ext cx="261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3992040"/>
            <a:ext cx="261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82000" y="3992040"/>
            <a:ext cx="261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6280" y="3992040"/>
            <a:ext cx="261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67CB-57C7-4934-971D-AC576D73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678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116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2E48-807C-465C-BFA8-5C5563D4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678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60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6800" y="1523880"/>
            <a:ext cx="3960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0E51-A7AB-4EA1-AD6E-69F63EF2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678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3F67-CB56-4755-9FD6-D3C19FD7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50560" y="693360"/>
            <a:ext cx="779292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43F4-4A69-4833-ABC3-6397A241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678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607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6800" y="1523880"/>
            <a:ext cx="3960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3992040"/>
            <a:ext cx="39607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A476-99C0-4A7D-B0F6-FAAB0CAF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678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60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6800" y="1523880"/>
            <a:ext cx="39607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96800" y="3992040"/>
            <a:ext cx="39607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50C1-BF3E-4570-A776-8A7E2685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6678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607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6800" y="1523880"/>
            <a:ext cx="39607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92040"/>
            <a:ext cx="8116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87FB-D09A-48D1-A291-C7FDF377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2800" y="1001880"/>
            <a:ext cx="609840" cy="474480"/>
          </a:xfrm>
          <a:prstGeom prst="rect">
            <a:avLst/>
          </a:prstGeom>
          <a:gradFill rotWithShape="0">
            <a:gsLst>
              <a:gs pos="0">
                <a:srgbClr val="eaeaf9"/>
              </a:gs>
              <a:gs pos="100000">
                <a:srgbClr val="3333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423720"/>
            <a:ext cx="31680" cy="1052640"/>
          </a:xfrm>
          <a:prstGeom prst="rect">
            <a:avLst/>
          </a:prstGeom>
          <a:gradFill rotWithShape="0">
            <a:gsLst>
              <a:gs pos="0">
                <a:srgbClr val="c7c7e2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2800" y="1262160"/>
            <a:ext cx="8226360" cy="31680"/>
          </a:xfrm>
          <a:prstGeom prst="rect">
            <a:avLst/>
          </a:prstGeom>
          <a:gradFill rotWithShape="0">
            <a:gsLst>
              <a:gs pos="0">
                <a:srgbClr val="c2c2e0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50560" y="69336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837720" y="1523880"/>
            <a:ext cx="8116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D69C-67C7-49BE-A1A4-1B00E1B82ACE}" type="slidenum">
              <a:rPr b="0" lang="en-US" sz="10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smllieee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19040" cy="4762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299440" y="0"/>
            <a:ext cx="84132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A429-8A7E-49BF-8278-50D4680AB76B}" type="slidenum">
              <a:rPr b="0" lang="en-US" sz="10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mllieee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19040" cy="476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299440" y="0"/>
            <a:ext cx="841320" cy="841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1278000"/>
            <a:ext cx="609840" cy="474480"/>
          </a:xfrm>
          <a:prstGeom prst="rect">
            <a:avLst/>
          </a:prstGeom>
          <a:gradFill rotWithShape="0">
            <a:gsLst>
              <a:gs pos="0">
                <a:srgbClr val="eaeaf9"/>
              </a:gs>
              <a:gs pos="100000">
                <a:srgbClr val="3333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0200" y="700200"/>
            <a:ext cx="31680" cy="1052280"/>
          </a:xfrm>
          <a:prstGeom prst="rect">
            <a:avLst/>
          </a:prstGeom>
          <a:gradFill rotWithShape="0">
            <a:gsLst>
              <a:gs pos="0">
                <a:srgbClr val="c7c7e2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538280"/>
            <a:ext cx="8226720" cy="31680"/>
          </a:xfrm>
          <a:prstGeom prst="rect">
            <a:avLst/>
          </a:prstGeom>
          <a:gradFill rotWithShape="0">
            <a:gsLst>
              <a:gs pos="0">
                <a:srgbClr val="c2c2e0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9336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rebuchet MS"/>
              </a:rPr>
              <a:t>Section 2 (MAC) CRG Summary </a:t>
            </a: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3123720"/>
            <a:ext cx="746784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radley Hand ITC"/>
              </a:rPr>
              <a:t>John Lem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radley Hand ITC"/>
              </a:rPr>
              <a:t>Steve Woo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radley Hand ITC"/>
              </a:rPr>
              <a:t>David Jam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02-17-03-01???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DF37-8F74-4482-9938-16D385F71F0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Jan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9336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rebuchet MS"/>
              </a:rPr>
              <a:t>Comments Deferred To WG (3)</a:t>
            </a: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116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67: Replac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rame.extRingContro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eld with an 8-bit SS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71: Extended frames to be used only in strict fra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74: Reduc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rame.f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eld to 1 bit indicating flood/no_fl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79: Remov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rame.p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e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80: Limit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rame.p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eld to only strict order data frames generated by wrapping s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85: Overloa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rame.par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eld to also be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rame.p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eld for data fra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91: Change the 16-bit HEC to a 32-bit H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02-17-03-01???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4024-1F77-4A6B-9083-E9A715C7DE5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Jan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9336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rebuchet MS"/>
              </a:rPr>
              <a:t>Comments Deferred To WG (4)</a:t>
            </a: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116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08: Broadcast and multicast always considered remo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09: Unknown unicast always considered remo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13: Remove extended frame m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19: Extended frame DA contains actual 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59: Duplicate of 719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72: Fairness frame format ch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78: Remove H.3 (Spatial Queuing) and H.4 (Spatial Shaping) subclau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09: Add separate transit path and FA for class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49: bridge mode is a superset of host m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02-17-03-01???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421C-E447-4533-8838-ECEB75DFB91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Jan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9336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rebuchet MS"/>
              </a:rPr>
              <a:t>Action Items</a:t>
            </a: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116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G requested to provide contributions on latency bounds (see D1.0 #209, D2.0 #’s 241,242,245,36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G requested to provide performance text including delay for all service classes (see D1.2 #78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est input on defining RTT for three cases (Ring, Loop, Fairness-feedbac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c Holness requested to provide text describing context containment mechanism (see D2.0 #45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rry Peng requested to provide justification submission for default values of access delay timers (see D2.0 #52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02-17-03-01???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5415-F66C-440B-817C-7219F98B3EA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Jan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9336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rebuchet MS"/>
              </a:rPr>
              <a:t>Open Issues</a:t>
            </a: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116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precise jitter bounds for classA and class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 to date illustrative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02-17-03-01???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6779-E56E-44B5-BCE0-5428346EA9D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Jan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9336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rebuchet MS"/>
              </a:rPr>
              <a:t>Summary</a:t>
            </a: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116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45 comments for Clauses 5, 6, 8, F, G, H, 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technical comments addres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2 comments deferred to W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itorial license granted on editorial com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95280" y="1995480"/>
          <a:ext cx="6782040" cy="272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95480"/>
                    <a:ext cx="678204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02-17-03-01???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4C7B-19FF-416E-A390-D8B0D52092E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Jan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69336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rebuchet MS"/>
              </a:rPr>
              <a:t>Issues Covered – Clause 5</a:t>
            </a: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116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nglet Selection moved from Control Sublayer to Datapath Sublay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ict and relaxed frames both required to be supported, and strict mode forces all frames to be stri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ct delay/jitter bounds not yet specified, felt to be possible to express, Editor’s Note still remains asking for contrib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ral “Editorial, Binding” com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02-17-03-01???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407F-FA1A-414C-9987-47B18ADC60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Jan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9336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rebuchet MS"/>
              </a:rPr>
              <a:t>Issues Covered – Clause 6</a:t>
            </a: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116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TL setting clarif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e table corrections and enhanc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pecially flooding m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Q siz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lay and jitter boun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oved Cc shaper (redundant with F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classA control frames are subclassA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perD to shape nrXmitRate, but limit only ad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 hop count validation done only on R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ions in passthrough still generate Id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dge mode Rx, Tx rules moved from E to 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“Editorial, Binding” com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02-17-03-01???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413C-AAFA-43B6-AB07-4749C70854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Jan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9336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rebuchet MS"/>
              </a:rPr>
              <a:t>Issues Covered – Clause 8</a:t>
            </a: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116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ligned control frame with data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ame format redefinitions: defer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 is always local to the 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 frames are never jumb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“Editorial, Binding” com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02-17-03-01???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0D7F-7E42-4928-ABA2-4A32951B2B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Jan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9336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rebuchet MS"/>
              </a:rPr>
              <a:t>Issues Covered – Annexes F,G,H,I</a:t>
            </a: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116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C16 changed back to initialization with all 1’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ame as CRC3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 Implementation Guidelines ann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 entry is STQ sizing discu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02-17-03-01???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5EFC-BC4B-47AA-80A7-5C6CC06AE0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Jan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9336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rebuchet MS"/>
              </a:rPr>
              <a:t>Technical, Binding Rejected</a:t>
            </a: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116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69: Adding configuration via MA_control.requ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96: Create new MAC access control and fairness mechanis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75: Add all state transitions into illustrative flow ch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21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rame.S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t to SA field of MA_DATA.requ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24: Change the frame format to group all the RPR control fields toge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64: Replac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xtRingContro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eld with source address consistency che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02-17-03-01???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4D85-ED04-4C1E-87F2-263AA8B224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Jan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9336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rebuchet MS"/>
              </a:rPr>
              <a:t>Comments Deferred To WG (1)</a:t>
            </a: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116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59: Chang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ingletId0/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ast/we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MA_Data.request / MA_Data.indication primi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78: Do not pass SC-FCM to cl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24: Ordering of frames within a micro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4: Remove claims of delay/jitter bounds for classA and class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5: Include subclassA0 and subclassA1 in Service Classes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73: Specify how to measure/calculate RT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86: Allow major priority inver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02-17-03-01???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8552-F267-4778-B201-5B0EBE2481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Jan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9336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rebuchet MS"/>
              </a:rPr>
              <a:t>Comments Deferred To WG (2)</a:t>
            </a:r>
            <a:endParaRPr b="0" lang="en-US" sz="4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116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35: Require availability of simulation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63: Evaluat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rame.p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it only for strict fra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65: Decrement TTL on opposing ringl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67: Discard rule limited t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rame.s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30: When wrapping, bi-directional flooding should not be allow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42: Add shaper to balance add/trans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14: Configurable MTU siz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18: Minimum frame size of 64 bytes for Ethernet PH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34: How to display bit numbers in fig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02-17-03-01???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DDD0-80E5-492F-8D7B-211D435E682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Jan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01:17:08Z</dcterms:created>
  <dc:creator>John Lemon</dc:creator>
  <dc:description/>
  <dc:language>en-US</dc:language>
  <cp:lastModifiedBy>John Lemon</cp:lastModifiedBy>
  <cp:lastPrinted>2000-12-07T16:39:27Z</cp:lastPrinted>
  <dcterms:modified xsi:type="dcterms:W3CDTF">2003-01-16T19:41:53Z</dcterms:modified>
  <cp:revision>72</cp:revision>
  <dc:subject/>
  <dc:title>Section 2 (MAC) CRG Summary</dc:title>
</cp:coreProperties>
</file>