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15/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Sultan / Necdet Uz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9 Comment Resolu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/16/03 Atlanta, 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use 9 Commen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1 total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5 techn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cense granted for ed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j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carried over (create adhoc K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punted to WG (multicho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punted to Clause 6 (classB delay bou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te counts moved back into fai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G response to KK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greed that an adHoc committee would be form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the proposals made in comments 933 and 939.  Harry P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d to host appropriate conference calls.  Technical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K.K. Ramakrishnan will communicate to ensure that resul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ffort will be available for review at least two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to the March 2003 Plenary.  The effort will include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lementation impact of these comments.  It was further agr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his comment will be carried over to the M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plenary.  The scope of the adHoc is fur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d in the accompanying slide (KKR_adhoc_0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nted to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MC facilities to the client is not a stated goal of the standard. MC FCM messages needlessly complicate this standard and no real client is clearly spec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Multi-Choke Fairness mechanism in order to simplify this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Michael Takefman</dc:creator>
  <dc:description/>
  <dc:language>en-US</dc:language>
  <cp:lastModifiedBy> </cp:lastModifiedBy>
  <cp:lastPrinted>2000-12-07T16:39:27Z</cp:lastPrinted>
  <dcterms:modified xsi:type="dcterms:W3CDTF">2003-01-16T14:18:12Z</dcterms:modified>
  <cp:revision>40</cp:revision>
  <dc:subject/>
  <dc:title>IEEE 802 LMSC Resilient Packet Ring Study Group Status Report  Mike Takefman  Chair of RPRSG www.ieee802.org/rprsg tak@cisco.com</dc:title>
</cp:coreProperties>
</file>