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743-0228-48DB-A4F9-EF8727CB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9FF-5335-4E62-80B7-9470F4E7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C5B-CDC0-43F9-B784-BBAC68A8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EBE-483E-472A-B499-81E9D7A7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55A-0A4D-41A1-93B5-85104229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C7D-CC06-4F1C-85E5-A5708B94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9E3-0726-42AB-B4FF-97FADAEC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C5C-F41E-4127-A30E-192A0A90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8FE-A9E0-4C0E-8D0A-EE4DB5E0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395-0533-4537-960C-AB90334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EC7-3205-4291-89C8-249C80CE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9EA-9D04-43A3-9C47-5EF1878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9CA5-2A3A-4869-9C05-499176582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1.bin"/><Relationship Id="rId22" Type="http://schemas.openxmlformats.org/officeDocument/2006/relationships/image" Target="../media/image6.png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9600" y="1476360"/>
            <a:ext cx="68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sioning in RPR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71760" y="304812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dney Lindeme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dney.lindemeier@lglass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62040" y="480060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EEE 802.17 Plenar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Vancouver, BC,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July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l_prov_02.pd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876-BE98-4182-B92C-91C7D1750E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228600"/>
            <a:ext cx="5283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Resilient Packet Ring (RPR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47920"/>
            <a:ext cx="70182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ing-based MAC (Media Access 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Private line and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ing Layer 2 solution designed                                   for MAN fiber r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fiber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-class service guarantees and resil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s restoration; bounded delay and j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BW management and high BW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es Ethernet &amp; SONET PH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packet edge solution (622 Mbps to 10+ G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reuse between segments of the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switching across the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lows in one direction on ring and control information flows in opposite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ighly congested implementations can it survive error free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t be cost competitive to Ethernet and SONET 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02520" y="3340080"/>
            <a:ext cx="303120" cy="127080"/>
          </a:xfrm>
          <a:prstGeom prst="line">
            <a:avLst/>
          </a:prstGeom>
          <a:ln cap="sq"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65760" y="1866960"/>
            <a:ext cx="53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210200" y="2019240"/>
            <a:ext cx="559800" cy="328320"/>
            <a:chOff x="4210200" y="2019240"/>
            <a:chExt cx="559800" cy="3283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4210200" y="2019240"/>
              <a:ext cx="380880" cy="1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4299480" y="2094840"/>
              <a:ext cx="380880" cy="1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4389120" y="2170800"/>
              <a:ext cx="380880" cy="17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4843440" y="2104920"/>
            <a:ext cx="415800" cy="187560"/>
            <a:chOff x="4843440" y="2104920"/>
            <a:chExt cx="415800" cy="187560"/>
          </a:xfrm>
        </p:grpSpPr>
        <p:sp>
          <p:nvSpPr>
            <p:cNvPr id="53" name=""/>
            <p:cNvSpPr/>
            <p:nvPr/>
          </p:nvSpPr>
          <p:spPr>
            <a:xfrm>
              <a:off x="4843440" y="2214360"/>
              <a:ext cx="415800" cy="0"/>
            </a:xfrm>
            <a:prstGeom prst="line">
              <a:avLst/>
            </a:prstGeom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861080" y="2250720"/>
              <a:ext cx="397800" cy="41760"/>
            </a:xfrm>
            <a:prstGeom prst="line">
              <a:avLst/>
            </a:prstGeom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200" y="2104920"/>
              <a:ext cx="383040" cy="66600"/>
            </a:xfrm>
            <a:prstGeom prst="line">
              <a:avLst/>
            </a:prstGeom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778360" y="1616040"/>
            <a:ext cx="1648080" cy="2046240"/>
          </a:xfrm>
          <a:prstGeom prst="ellipse">
            <a:avLst/>
          </a:prstGeom>
          <a:solidFill>
            <a:srgbClr val="414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5200" y="1727280"/>
            <a:ext cx="1414440" cy="182880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1774800"/>
            <a:ext cx="1293840" cy="17334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237440" y="2050560"/>
            <a:ext cx="196920" cy="93960"/>
          </a:xfrm>
          <a:prstGeom prst="line">
            <a:avLst/>
          </a:prstGeom>
          <a:ln cap="sq"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146560" y="2805120"/>
            <a:ext cx="726840" cy="198000"/>
            <a:chOff x="5146560" y="2805120"/>
            <a:chExt cx="726840" cy="198000"/>
          </a:xfrm>
        </p:grpSpPr>
        <p:sp>
          <p:nvSpPr>
            <p:cNvPr id="61" name=""/>
            <p:cNvSpPr/>
            <p:nvPr/>
          </p:nvSpPr>
          <p:spPr>
            <a:xfrm>
              <a:off x="5180040" y="2805120"/>
              <a:ext cx="693360" cy="46080"/>
            </a:xfrm>
            <a:prstGeom prst="line">
              <a:avLst/>
            </a:prstGeom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146560" y="2875320"/>
              <a:ext cx="698040" cy="25920"/>
            </a:xfrm>
            <a:prstGeom prst="line">
              <a:avLst/>
            </a:prstGeom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155560" y="2913840"/>
              <a:ext cx="708480" cy="89280"/>
            </a:xfrm>
            <a:prstGeom prst="line">
              <a:avLst/>
            </a:prstGeom>
            <a:ln cap="sq"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807160" y="2790720"/>
            <a:ext cx="223920" cy="193680"/>
            <a:chOff x="5807160" y="2790720"/>
            <a:chExt cx="223920" cy="193680"/>
          </a:xfrm>
        </p:grpSpPr>
        <p:sp>
          <p:nvSpPr>
            <p:cNvPr id="65" name=""/>
            <p:cNvSpPr/>
            <p:nvPr/>
          </p:nvSpPr>
          <p:spPr>
            <a:xfrm>
              <a:off x="5807160" y="2790720"/>
              <a:ext cx="223920" cy="19368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3816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871960" y="2845800"/>
              <a:ext cx="93960" cy="82800"/>
              <a:chOff x="5871960" y="2845800"/>
              <a:chExt cx="93960" cy="82800"/>
            </a:xfrm>
          </p:grpSpPr>
          <p:sp>
            <p:nvSpPr>
              <p:cNvPr id="67" name=""/>
              <p:cNvSpPr/>
              <p:nvPr/>
            </p:nvSpPr>
            <p:spPr>
              <a:xfrm>
                <a:off x="5875920" y="2846160"/>
                <a:ext cx="90000" cy="8244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5871960" y="2845440"/>
                <a:ext cx="89640" cy="8244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 flipV="1">
            <a:off x="5719680" y="2260440"/>
            <a:ext cx="125640" cy="60480"/>
          </a:xfrm>
          <a:prstGeom prst="line">
            <a:avLst/>
          </a:prstGeom>
          <a:ln cap="sq"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649840" y="2214720"/>
            <a:ext cx="181080" cy="10800"/>
          </a:xfrm>
          <a:prstGeom prst="line">
            <a:avLst/>
          </a:prstGeom>
          <a:ln cap="sq"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5600" y="2149560"/>
            <a:ext cx="287640" cy="30240"/>
          </a:xfrm>
          <a:prstGeom prst="line">
            <a:avLst/>
          </a:prstGeom>
          <a:ln cap="sq"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796000" y="2117880"/>
            <a:ext cx="226800" cy="193680"/>
            <a:chOff x="5796000" y="2117880"/>
            <a:chExt cx="226800" cy="193680"/>
          </a:xfrm>
        </p:grpSpPr>
        <p:sp>
          <p:nvSpPr>
            <p:cNvPr id="73" name=""/>
            <p:cNvSpPr/>
            <p:nvPr/>
          </p:nvSpPr>
          <p:spPr>
            <a:xfrm>
              <a:off x="5796000" y="2117880"/>
              <a:ext cx="226800" cy="19368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3816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861520" y="2172960"/>
              <a:ext cx="94680" cy="82800"/>
              <a:chOff x="5861520" y="2172960"/>
              <a:chExt cx="94680" cy="82800"/>
            </a:xfrm>
          </p:grpSpPr>
          <p:sp>
            <p:nvSpPr>
              <p:cNvPr id="75" name=""/>
              <p:cNvSpPr/>
              <p:nvPr/>
            </p:nvSpPr>
            <p:spPr>
              <a:xfrm>
                <a:off x="5865480" y="2173320"/>
                <a:ext cx="90720" cy="8244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5861520" y="2172600"/>
                <a:ext cx="90720" cy="8244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5299200" y="2149560"/>
            <a:ext cx="402840" cy="252360"/>
            <a:chOff x="5299200" y="2149560"/>
            <a:chExt cx="402840" cy="252360"/>
          </a:xfrm>
        </p:grpSpPr>
        <p:grpSp>
          <p:nvGrpSpPr>
            <p:cNvPr id="78" name=""/>
            <p:cNvGrpSpPr/>
            <p:nvPr/>
          </p:nvGrpSpPr>
          <p:grpSpPr>
            <a:xfrm>
              <a:off x="5299200" y="2149560"/>
              <a:ext cx="234720" cy="110160"/>
              <a:chOff x="5299200" y="2149560"/>
              <a:chExt cx="234720" cy="110160"/>
            </a:xfrm>
          </p:grpSpPr>
          <p:sp>
            <p:nvSpPr>
              <p:cNvPr id="79" name=""/>
              <p:cNvSpPr/>
              <p:nvPr/>
            </p:nvSpPr>
            <p:spPr>
              <a:xfrm>
                <a:off x="5299200" y="2150280"/>
                <a:ext cx="234720" cy="109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32680" y="21495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65080" y="21495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97840" y="21495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29520" y="21495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61920" y="21495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93960" y="21495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5383440" y="2220480"/>
              <a:ext cx="234720" cy="110160"/>
              <a:chOff x="5383440" y="2220480"/>
              <a:chExt cx="234720" cy="110160"/>
            </a:xfrm>
          </p:grpSpPr>
          <p:sp>
            <p:nvSpPr>
              <p:cNvPr id="87" name=""/>
              <p:cNvSpPr/>
              <p:nvPr/>
            </p:nvSpPr>
            <p:spPr>
              <a:xfrm>
                <a:off x="5383440" y="2221200"/>
                <a:ext cx="234720" cy="109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16920" y="222048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49320" y="222048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482080" y="222048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13760" y="222048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46160" y="222048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78200" y="222048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67320" y="2291760"/>
              <a:ext cx="234720" cy="110160"/>
              <a:chOff x="5467320" y="2291760"/>
              <a:chExt cx="234720" cy="110160"/>
            </a:xfrm>
          </p:grpSpPr>
          <p:sp>
            <p:nvSpPr>
              <p:cNvPr id="95" name=""/>
              <p:cNvSpPr/>
              <p:nvPr/>
            </p:nvSpPr>
            <p:spPr>
              <a:xfrm>
                <a:off x="5467320" y="2292480"/>
                <a:ext cx="234720" cy="109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00800" y="22917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33200" y="22917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65960" y="22917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597640" y="22917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630040" y="22917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62080" y="2291760"/>
                <a:ext cx="0" cy="109080"/>
              </a:xfrm>
              <a:prstGeom prst="line">
                <a:avLst/>
              </a:prstGeom>
              <a:ln cap="sq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 flipV="1">
            <a:off x="7203960" y="1957320"/>
            <a:ext cx="235080" cy="15408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023240" y="2048040"/>
            <a:ext cx="225360" cy="193680"/>
            <a:chOff x="7023240" y="2048040"/>
            <a:chExt cx="225360" cy="193680"/>
          </a:xfrm>
        </p:grpSpPr>
        <p:sp>
          <p:nvSpPr>
            <p:cNvPr id="104" name=""/>
            <p:cNvSpPr/>
            <p:nvPr/>
          </p:nvSpPr>
          <p:spPr>
            <a:xfrm>
              <a:off x="7023240" y="2048040"/>
              <a:ext cx="225360" cy="19368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3816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088400" y="2103120"/>
              <a:ext cx="94320" cy="82800"/>
              <a:chOff x="7088400" y="2103120"/>
              <a:chExt cx="94320" cy="82800"/>
            </a:xfrm>
          </p:grpSpPr>
          <p:sp>
            <p:nvSpPr>
              <p:cNvPr id="106" name=""/>
              <p:cNvSpPr/>
              <p:nvPr/>
            </p:nvSpPr>
            <p:spPr>
              <a:xfrm>
                <a:off x="7092360" y="2103480"/>
                <a:ext cx="90360" cy="8244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7088400" y="2102760"/>
                <a:ext cx="90360" cy="8244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7023240" y="3193920"/>
            <a:ext cx="225360" cy="195480"/>
            <a:chOff x="7023240" y="3193920"/>
            <a:chExt cx="225360" cy="195480"/>
          </a:xfrm>
        </p:grpSpPr>
        <p:sp>
          <p:nvSpPr>
            <p:cNvPr id="109" name=""/>
            <p:cNvSpPr/>
            <p:nvPr/>
          </p:nvSpPr>
          <p:spPr>
            <a:xfrm>
              <a:off x="7023240" y="3193920"/>
              <a:ext cx="225360" cy="19548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3816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088400" y="3249360"/>
              <a:ext cx="94320" cy="83520"/>
              <a:chOff x="7088400" y="3249360"/>
              <a:chExt cx="94320" cy="83520"/>
            </a:xfrm>
          </p:grpSpPr>
          <p:sp>
            <p:nvSpPr>
              <p:cNvPr id="111" name=""/>
              <p:cNvSpPr/>
              <p:nvPr/>
            </p:nvSpPr>
            <p:spPr>
              <a:xfrm>
                <a:off x="7092360" y="3249720"/>
                <a:ext cx="90360" cy="8316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440" bIns="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7088400" y="3249000"/>
                <a:ext cx="90360" cy="8316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440" bIns="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7262640" y="3292560"/>
            <a:ext cx="249480" cy="73080"/>
          </a:xfrm>
          <a:prstGeom prst="line">
            <a:avLst/>
          </a:prstGeom>
          <a:ln cap="sq"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45280" y="3306600"/>
            <a:ext cx="1361520" cy="957600"/>
            <a:chOff x="5345280" y="3306600"/>
            <a:chExt cx="1361520" cy="957600"/>
          </a:xfrm>
        </p:grpSpPr>
        <p:grpSp>
          <p:nvGrpSpPr>
            <p:cNvPr id="115" name=""/>
            <p:cNvGrpSpPr/>
            <p:nvPr/>
          </p:nvGrpSpPr>
          <p:grpSpPr>
            <a:xfrm>
              <a:off x="5345280" y="3306600"/>
              <a:ext cx="621360" cy="457920"/>
              <a:chOff x="5345280" y="3306600"/>
              <a:chExt cx="621360" cy="457920"/>
            </a:xfrm>
          </p:grpSpPr>
          <p:sp>
            <p:nvSpPr>
              <p:cNvPr id="116" name=""/>
              <p:cNvSpPr/>
              <p:nvPr/>
            </p:nvSpPr>
            <p:spPr>
              <a:xfrm>
                <a:off x="5345280" y="3306600"/>
                <a:ext cx="621360" cy="457920"/>
              </a:xfrm>
              <a:prstGeom prst="hexagon">
                <a:avLst>
                  <a:gd name="adj" fmla="val 33923"/>
                  <a:gd name="vf" fmla="val 115470"/>
                </a:avLst>
              </a:prstGeom>
              <a:solidFill>
                <a:srgbClr val="585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5522400" y="3396960"/>
                <a:ext cx="283680" cy="209160"/>
                <a:chOff x="5522400" y="3396960"/>
                <a:chExt cx="283680" cy="209160"/>
              </a:xfrm>
            </p:grpSpPr>
            <p:pic>
              <p:nvPicPr>
                <p:cNvPr id="118" name="Monopole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522400" y="3396960"/>
                  <a:ext cx="11484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00160" y="3510000"/>
                  <a:ext cx="205920" cy="9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0" name=""/>
            <p:cNvGrpSpPr/>
            <p:nvPr/>
          </p:nvGrpSpPr>
          <p:grpSpPr>
            <a:xfrm>
              <a:off x="6305400" y="3997080"/>
              <a:ext cx="401400" cy="234720"/>
              <a:chOff x="6305400" y="3997080"/>
              <a:chExt cx="401400" cy="234720"/>
            </a:xfrm>
          </p:grpSpPr>
          <p:sp>
            <p:nvSpPr>
              <p:cNvPr id="121" name=""/>
              <p:cNvSpPr/>
              <p:nvPr/>
            </p:nvSpPr>
            <p:spPr>
              <a:xfrm>
                <a:off x="6433560" y="4120560"/>
                <a:ext cx="150480" cy="111240"/>
              </a:xfrm>
              <a:prstGeom prst="hexagon">
                <a:avLst>
                  <a:gd name="adj" fmla="val 33819"/>
                  <a:gd name="vf" fmla="val 115470"/>
                </a:avLst>
              </a:prstGeom>
              <a:solidFill>
                <a:srgbClr val="585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556320" y="4058640"/>
                <a:ext cx="150480" cy="111240"/>
              </a:xfrm>
              <a:prstGeom prst="hexagon">
                <a:avLst>
                  <a:gd name="adj" fmla="val 33819"/>
                  <a:gd name="vf" fmla="val 115470"/>
                </a:avLst>
              </a:prstGeom>
              <a:solidFill>
                <a:srgbClr val="585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28160" y="3997080"/>
                <a:ext cx="150480" cy="110880"/>
              </a:xfrm>
              <a:prstGeom prst="hexagon">
                <a:avLst>
                  <a:gd name="adj" fmla="val 33929"/>
                  <a:gd name="vf" fmla="val 115470"/>
                </a:avLst>
              </a:prstGeom>
              <a:solidFill>
                <a:srgbClr val="585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05400" y="4058640"/>
                <a:ext cx="150480" cy="111240"/>
              </a:xfrm>
              <a:prstGeom prst="hexagon">
                <a:avLst>
                  <a:gd name="adj" fmla="val 33819"/>
                  <a:gd name="vf" fmla="val 115470"/>
                </a:avLst>
              </a:prstGeom>
              <a:solidFill>
                <a:srgbClr val="585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345280" y="3806280"/>
              <a:ext cx="621360" cy="457920"/>
              <a:chOff x="5345280" y="3806280"/>
              <a:chExt cx="621360" cy="457920"/>
            </a:xfrm>
          </p:grpSpPr>
          <p:sp>
            <p:nvSpPr>
              <p:cNvPr id="126" name=""/>
              <p:cNvSpPr/>
              <p:nvPr/>
            </p:nvSpPr>
            <p:spPr>
              <a:xfrm>
                <a:off x="5345280" y="3806280"/>
                <a:ext cx="621360" cy="457920"/>
              </a:xfrm>
              <a:prstGeom prst="hexagon">
                <a:avLst>
                  <a:gd name="adj" fmla="val 33923"/>
                  <a:gd name="vf" fmla="val 115470"/>
                </a:avLst>
              </a:prstGeom>
              <a:solidFill>
                <a:srgbClr val="585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5522400" y="3896640"/>
                <a:ext cx="283680" cy="209160"/>
                <a:chOff x="5522400" y="3896640"/>
                <a:chExt cx="283680" cy="209160"/>
              </a:xfrm>
            </p:grpSpPr>
            <p:pic>
              <p:nvPicPr>
                <p:cNvPr id="128" name="Monopo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522400" y="3896640"/>
                  <a:ext cx="11484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600160" y="4009680"/>
                  <a:ext cx="205920" cy="9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0" name=""/>
            <p:cNvGrpSpPr/>
            <p:nvPr/>
          </p:nvGrpSpPr>
          <p:grpSpPr>
            <a:xfrm>
              <a:off x="5861520" y="3558600"/>
              <a:ext cx="621360" cy="457920"/>
              <a:chOff x="5861520" y="3558600"/>
              <a:chExt cx="621360" cy="457920"/>
            </a:xfrm>
          </p:grpSpPr>
          <p:sp>
            <p:nvSpPr>
              <p:cNvPr id="131" name=""/>
              <p:cNvSpPr/>
              <p:nvPr/>
            </p:nvSpPr>
            <p:spPr>
              <a:xfrm>
                <a:off x="5861520" y="3558600"/>
                <a:ext cx="621360" cy="457920"/>
              </a:xfrm>
              <a:prstGeom prst="hexagon">
                <a:avLst>
                  <a:gd name="adj" fmla="val 33923"/>
                  <a:gd name="vf" fmla="val 115470"/>
                </a:avLst>
              </a:prstGeom>
              <a:solidFill>
                <a:srgbClr val="585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6038640" y="3648960"/>
                <a:ext cx="283680" cy="209160"/>
                <a:chOff x="6038640" y="3648960"/>
                <a:chExt cx="283680" cy="209160"/>
              </a:xfrm>
            </p:grpSpPr>
            <p:pic>
              <p:nvPicPr>
                <p:cNvPr id="133" name="Monopole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038640" y="3648960"/>
                  <a:ext cx="11484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16400" y="3762000"/>
                  <a:ext cx="205920" cy="9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35" name=""/>
          <p:cNvSpPr/>
          <p:nvPr/>
        </p:nvSpPr>
        <p:spPr>
          <a:xfrm>
            <a:off x="5235480" y="3059280"/>
            <a:ext cx="69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Wirel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48400" y="1670040"/>
            <a:ext cx="1621080" cy="655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997760" y="1738440"/>
            <a:ext cx="604800" cy="245880"/>
            <a:chOff x="7997760" y="1738440"/>
            <a:chExt cx="604800" cy="245880"/>
          </a:xfrm>
        </p:grpSpPr>
        <p:sp>
          <p:nvSpPr>
            <p:cNvPr id="138" name=""/>
            <p:cNvSpPr/>
            <p:nvPr/>
          </p:nvSpPr>
          <p:spPr>
            <a:xfrm>
              <a:off x="8060760" y="1749960"/>
              <a:ext cx="376560" cy="177120"/>
            </a:xfrm>
            <a:prstGeom prst="ellipse">
              <a:avLst/>
            </a:prstGeom>
            <a:solidFill>
              <a:srgbClr val="808080"/>
            </a:solidFill>
            <a:ln cap="sq" w="38160">
              <a:solidFill>
                <a:srgbClr val="b2b2b2"/>
              </a:solidFill>
              <a:miter/>
            </a:ln>
            <a:effectLst>
              <a:outerShdw dist="45929" dir="19571123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8215560" y="1738440"/>
              <a:ext cx="378000" cy="177120"/>
            </a:xfrm>
            <a:prstGeom prst="ellipse">
              <a:avLst/>
            </a:prstGeom>
            <a:solidFill>
              <a:srgbClr val="808080"/>
            </a:solidFill>
            <a:ln cap="sq" w="38160">
              <a:solidFill>
                <a:srgbClr val="b2b2b2"/>
              </a:solidFill>
              <a:miter/>
            </a:ln>
            <a:effectLst>
              <a:outerShdw dist="17819" dir="189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225640" y="1807200"/>
              <a:ext cx="376920" cy="177120"/>
            </a:xfrm>
            <a:prstGeom prst="ellipse">
              <a:avLst/>
            </a:prstGeom>
            <a:solidFill>
              <a:srgbClr val="808080"/>
            </a:solidFill>
            <a:ln cap="sq"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997760" y="1805760"/>
              <a:ext cx="376560" cy="175680"/>
            </a:xfrm>
            <a:prstGeom prst="ellipse">
              <a:avLst/>
            </a:prstGeom>
            <a:solidFill>
              <a:srgbClr val="808080"/>
            </a:solidFill>
            <a:ln cap="sq"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96760" y="1769040"/>
              <a:ext cx="457200" cy="1897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634160" y="1979640"/>
            <a:ext cx="20664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7643880" y="2068560"/>
            <a:ext cx="137880" cy="16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7734240" y="2122560"/>
            <a:ext cx="135000" cy="1620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7507440" y="1808280"/>
            <a:ext cx="201600" cy="131760"/>
            <a:chOff x="7507440" y="1808280"/>
            <a:chExt cx="201600" cy="131760"/>
          </a:xfrm>
        </p:grpSpPr>
        <p:sp>
          <p:nvSpPr>
            <p:cNvPr id="147" name=""/>
            <p:cNvSpPr/>
            <p:nvPr/>
          </p:nvSpPr>
          <p:spPr>
            <a:xfrm>
              <a:off x="7507440" y="1808280"/>
              <a:ext cx="201600" cy="131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3528"/>
                </a:gs>
                <a:gs pos="50000">
                  <a:srgbClr val="00cc99"/>
                </a:gs>
                <a:gs pos="100000">
                  <a:srgbClr val="003528"/>
                </a:gs>
              </a:gsLst>
              <a:lin ang="10800000"/>
            </a:gradFill>
            <a:ln cap="sq"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7534440" y="1814400"/>
              <a:ext cx="146160" cy="50040"/>
              <a:chOff x="7534440" y="1814400"/>
              <a:chExt cx="146160" cy="500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7534440" y="1814400"/>
                <a:ext cx="145440" cy="48960"/>
                <a:chOff x="7534440" y="1814400"/>
                <a:chExt cx="145440" cy="48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610400" y="1815480"/>
                  <a:ext cx="6948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10400" y="1815480"/>
                  <a:ext cx="6948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534440" y="1840320"/>
                  <a:ext cx="6948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34440" y="1840320"/>
                  <a:ext cx="6948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538400" y="1814400"/>
                  <a:ext cx="6948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538400" y="1814400"/>
                  <a:ext cx="6948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07880" y="1842480"/>
                  <a:ext cx="6912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07880" y="1842480"/>
                  <a:ext cx="6912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535520" y="1815480"/>
                <a:ext cx="145080" cy="48960"/>
                <a:chOff x="7535520" y="1815480"/>
                <a:chExt cx="145080" cy="48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611120" y="1816560"/>
                  <a:ext cx="6948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611120" y="1816560"/>
                  <a:ext cx="6948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535520" y="1841400"/>
                  <a:ext cx="6948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35520" y="1841400"/>
                  <a:ext cx="6948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39120" y="1815480"/>
                  <a:ext cx="6912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39120" y="1815480"/>
                  <a:ext cx="6912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08600" y="1843560"/>
                  <a:ext cx="6948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08600" y="1843560"/>
                  <a:ext cx="6948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7" name=""/>
          <p:cNvGrpSpPr/>
          <p:nvPr/>
        </p:nvGrpSpPr>
        <p:grpSpPr>
          <a:xfrm>
            <a:off x="7454880" y="1895400"/>
            <a:ext cx="200160" cy="131760"/>
            <a:chOff x="7454880" y="1895400"/>
            <a:chExt cx="200160" cy="131760"/>
          </a:xfrm>
        </p:grpSpPr>
        <p:sp>
          <p:nvSpPr>
            <p:cNvPr id="168" name=""/>
            <p:cNvSpPr/>
            <p:nvPr/>
          </p:nvSpPr>
          <p:spPr>
            <a:xfrm>
              <a:off x="7454880" y="1895400"/>
              <a:ext cx="200160" cy="1317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3528"/>
                </a:gs>
                <a:gs pos="50000">
                  <a:srgbClr val="00cc99"/>
                </a:gs>
                <a:gs pos="100000">
                  <a:srgbClr val="003528"/>
                </a:gs>
              </a:gsLst>
              <a:lin ang="10800000"/>
            </a:gradFill>
            <a:ln cap="sq"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7481880" y="1901520"/>
              <a:ext cx="144720" cy="50040"/>
              <a:chOff x="7481880" y="1901520"/>
              <a:chExt cx="144720" cy="500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7481880" y="1901520"/>
                <a:ext cx="144360" cy="48960"/>
                <a:chOff x="7481880" y="1901520"/>
                <a:chExt cx="144360" cy="489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557120" y="1902600"/>
                  <a:ext cx="6912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57120" y="1902600"/>
                  <a:ext cx="6912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481880" y="1927440"/>
                  <a:ext cx="6912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481880" y="1927440"/>
                  <a:ext cx="6912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485840" y="1901520"/>
                  <a:ext cx="6912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85840" y="1901520"/>
                  <a:ext cx="6912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554960" y="1929600"/>
                  <a:ext cx="6840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554960" y="1929600"/>
                  <a:ext cx="6840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482960" y="1902600"/>
                <a:ext cx="143640" cy="48960"/>
                <a:chOff x="7482960" y="1902600"/>
                <a:chExt cx="143640" cy="489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557840" y="1903680"/>
                  <a:ext cx="6876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557840" y="1903680"/>
                  <a:ext cx="6876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82960" y="1928520"/>
                  <a:ext cx="6876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482960" y="1928520"/>
                  <a:ext cx="6876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86560" y="1902600"/>
                  <a:ext cx="6840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86560" y="1902600"/>
                  <a:ext cx="6840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555320" y="1930680"/>
                  <a:ext cx="6876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555320" y="1930680"/>
                  <a:ext cx="68760" cy="208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"/>
          <p:cNvGrpSpPr/>
          <p:nvPr/>
        </p:nvGrpSpPr>
        <p:grpSpPr>
          <a:xfrm>
            <a:off x="7837560" y="1846440"/>
            <a:ext cx="182520" cy="185400"/>
            <a:chOff x="7837560" y="1846440"/>
            <a:chExt cx="182520" cy="185400"/>
          </a:xfrm>
        </p:grpSpPr>
        <p:sp>
          <p:nvSpPr>
            <p:cNvPr id="189" name=""/>
            <p:cNvSpPr/>
            <p:nvPr/>
          </p:nvSpPr>
          <p:spPr>
            <a:xfrm>
              <a:off x="7837560" y="1846440"/>
              <a:ext cx="182520" cy="185400"/>
            </a:xfrm>
            <a:prstGeom prst="can">
              <a:avLst>
                <a:gd name="adj" fmla="val 39541"/>
              </a:avLst>
            </a:prstGeom>
            <a:gradFill rotWithShape="0">
              <a:gsLst>
                <a:gs pos="0">
                  <a:srgbClr val="003528"/>
                </a:gs>
                <a:gs pos="50000">
                  <a:srgbClr val="00cc99"/>
                </a:gs>
                <a:gs pos="100000">
                  <a:srgbClr val="003528"/>
                </a:gs>
              </a:gsLst>
              <a:lin ang="10800000"/>
            </a:gradFill>
            <a:ln cap="sq"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871760" y="1849680"/>
              <a:ext cx="118440" cy="58680"/>
              <a:chOff x="7871760" y="1849680"/>
              <a:chExt cx="118440" cy="586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7871760" y="1849680"/>
                <a:ext cx="117360" cy="57240"/>
                <a:chOff x="7871760" y="1849680"/>
                <a:chExt cx="117360" cy="572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932960" y="1851120"/>
                  <a:ext cx="5616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932960" y="1851120"/>
                  <a:ext cx="5616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871760" y="1879920"/>
                  <a:ext cx="56160" cy="2592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871760" y="1879920"/>
                  <a:ext cx="56160" cy="2592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875000" y="1849680"/>
                  <a:ext cx="5616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875000" y="1849680"/>
                  <a:ext cx="5616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31160" y="1882440"/>
                  <a:ext cx="5580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931160" y="1882440"/>
                  <a:ext cx="5580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872840" y="1851120"/>
                <a:ext cx="117360" cy="57240"/>
                <a:chOff x="7872840" y="1851120"/>
                <a:chExt cx="117360" cy="572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934040" y="1852200"/>
                  <a:ext cx="5616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934040" y="1852200"/>
                  <a:ext cx="5616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872840" y="1881360"/>
                  <a:ext cx="56160" cy="2556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872840" y="1881360"/>
                  <a:ext cx="56160" cy="2556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75720" y="1851120"/>
                  <a:ext cx="5580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875720" y="1851120"/>
                  <a:ext cx="5580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931880" y="1883880"/>
                  <a:ext cx="5616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931880" y="1883880"/>
                  <a:ext cx="56160" cy="2448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9" name=""/>
          <p:cNvSpPr/>
          <p:nvPr/>
        </p:nvSpPr>
        <p:spPr>
          <a:xfrm>
            <a:off x="7558200" y="2023920"/>
            <a:ext cx="115920" cy="108000"/>
          </a:xfrm>
          <a:custGeom>
            <a:avLst/>
            <a:gdLst/>
            <a:ahLst/>
            <a:rect l="l" t="t" r="r" b="b"/>
            <a:pathLst>
              <a:path w="136" h="160">
                <a:moveTo>
                  <a:pt x="0" y="0"/>
                </a:moveTo>
                <a:lnTo>
                  <a:pt x="0" y="160"/>
                </a:lnTo>
                <a:lnTo>
                  <a:pt x="136" y="160"/>
                </a:ln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267760" y="1981080"/>
            <a:ext cx="266760" cy="233640"/>
            <a:chOff x="8267760" y="1981080"/>
            <a:chExt cx="266760" cy="233640"/>
          </a:xfrm>
        </p:grpSpPr>
        <p:pic>
          <p:nvPicPr>
            <p:cNvPr id="211" name="" descr=""/>
            <p:cNvPicPr/>
            <p:nvPr/>
          </p:nvPicPr>
          <p:blipFill>
            <a:blip r:embed="rId12"/>
            <a:stretch/>
          </p:blipFill>
          <p:spPr>
            <a:xfrm>
              <a:off x="8267760" y="1981080"/>
              <a:ext cx="136440" cy="1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3"/>
            <a:stretch/>
          </p:blipFill>
          <p:spPr>
            <a:xfrm>
              <a:off x="8328960" y="2013840"/>
              <a:ext cx="136800" cy="1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4"/>
            <a:stretch/>
          </p:blipFill>
          <p:spPr>
            <a:xfrm>
              <a:off x="8397720" y="2052000"/>
              <a:ext cx="136800" cy="16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8636040" y="1647720"/>
            <a:ext cx="76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3366"/>
                </a:solidFill>
                <a:latin typeface="Trebuchet MS"/>
              </a:rPr>
              <a:t>IS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7480" y="1709640"/>
            <a:ext cx="64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rebuchet MS"/>
              </a:rPr>
              <a:t>IP</a:t>
            </a:r>
            <a:br>
              <a:rPr sz="800"/>
            </a:br>
            <a:r>
              <a:rPr b="1" lang="en-US" sz="800" spc="-1" strike="noStrike">
                <a:solidFill>
                  <a:srgbClr val="003366"/>
                </a:solidFill>
                <a:latin typeface="Trebuchet MS"/>
              </a:rPr>
              <a:t>Backb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46920" y="2136600"/>
            <a:ext cx="98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rebuchet MS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85120" y="3165480"/>
            <a:ext cx="1547640" cy="657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034480" y="3234960"/>
            <a:ext cx="604800" cy="244080"/>
            <a:chOff x="8034480" y="3234960"/>
            <a:chExt cx="604800" cy="244080"/>
          </a:xfrm>
        </p:grpSpPr>
        <p:sp>
          <p:nvSpPr>
            <p:cNvPr id="219" name=""/>
            <p:cNvSpPr/>
            <p:nvPr/>
          </p:nvSpPr>
          <p:spPr>
            <a:xfrm>
              <a:off x="8097480" y="3246480"/>
              <a:ext cx="376560" cy="176040"/>
            </a:xfrm>
            <a:prstGeom prst="ellipse">
              <a:avLst/>
            </a:prstGeom>
            <a:solidFill>
              <a:srgbClr val="808080"/>
            </a:solidFill>
            <a:ln cap="sq" w="38160">
              <a:solidFill>
                <a:srgbClr val="b2b2b2"/>
              </a:solidFill>
              <a:miter/>
            </a:ln>
            <a:effectLst>
              <a:outerShdw dist="45929" dir="19571123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252280" y="3234600"/>
              <a:ext cx="378000" cy="176040"/>
            </a:xfrm>
            <a:prstGeom prst="ellipse">
              <a:avLst/>
            </a:prstGeom>
            <a:solidFill>
              <a:srgbClr val="808080"/>
            </a:solidFill>
            <a:ln cap="sq" w="38160">
              <a:solidFill>
                <a:srgbClr val="b2b2b2"/>
              </a:solidFill>
              <a:miter/>
            </a:ln>
            <a:effectLst>
              <a:outerShdw dist="17819" dir="189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262360" y="3302640"/>
              <a:ext cx="376920" cy="176040"/>
            </a:xfrm>
            <a:prstGeom prst="ellipse">
              <a:avLst/>
            </a:prstGeom>
            <a:solidFill>
              <a:srgbClr val="808080"/>
            </a:solidFill>
            <a:ln cap="sq"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034480" y="3301560"/>
              <a:ext cx="376560" cy="174600"/>
            </a:xfrm>
            <a:prstGeom prst="ellipse">
              <a:avLst/>
            </a:prstGeom>
            <a:solidFill>
              <a:srgbClr val="808080"/>
            </a:solidFill>
            <a:ln cap="sq"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33480" y="3265560"/>
              <a:ext cx="457200" cy="18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670880" y="3476520"/>
            <a:ext cx="20484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5"/>
          <a:stretch/>
        </p:blipFill>
        <p:spPr>
          <a:xfrm>
            <a:off x="7680240" y="3564000"/>
            <a:ext cx="138240" cy="162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7770960" y="3618000"/>
            <a:ext cx="133200" cy="16200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7543800" y="3305160"/>
            <a:ext cx="201600" cy="130320"/>
            <a:chOff x="7543800" y="3305160"/>
            <a:chExt cx="201600" cy="130320"/>
          </a:xfrm>
        </p:grpSpPr>
        <p:sp>
          <p:nvSpPr>
            <p:cNvPr id="228" name=""/>
            <p:cNvSpPr/>
            <p:nvPr/>
          </p:nvSpPr>
          <p:spPr>
            <a:xfrm>
              <a:off x="7543800" y="3305160"/>
              <a:ext cx="201600" cy="1303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3528"/>
                </a:gs>
                <a:gs pos="50000">
                  <a:srgbClr val="00cc99"/>
                </a:gs>
                <a:gs pos="100000">
                  <a:srgbClr val="003528"/>
                </a:gs>
              </a:gsLst>
              <a:lin ang="10800000"/>
            </a:gradFill>
            <a:ln cap="sq"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570800" y="3310920"/>
              <a:ext cx="146160" cy="49320"/>
              <a:chOff x="7570800" y="3310920"/>
              <a:chExt cx="146160" cy="4932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7570800" y="3310920"/>
                <a:ext cx="145440" cy="47880"/>
                <a:chOff x="7570800" y="3310920"/>
                <a:chExt cx="145440" cy="478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646760" y="3312000"/>
                  <a:ext cx="6948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646760" y="3312000"/>
                  <a:ext cx="6948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570800" y="3336480"/>
                  <a:ext cx="6948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70800" y="3336480"/>
                  <a:ext cx="6948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574760" y="3310920"/>
                  <a:ext cx="6948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74760" y="3310920"/>
                  <a:ext cx="6948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644240" y="3338280"/>
                  <a:ext cx="6912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644240" y="3338280"/>
                  <a:ext cx="6912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7571880" y="3312000"/>
                <a:ext cx="145080" cy="48240"/>
                <a:chOff x="7571880" y="3312000"/>
                <a:chExt cx="145080" cy="482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7647480" y="3313080"/>
                  <a:ext cx="6948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647480" y="3313080"/>
                  <a:ext cx="6948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571880" y="3337560"/>
                  <a:ext cx="69480" cy="2160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571880" y="3337560"/>
                  <a:ext cx="69480" cy="2160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575480" y="3312000"/>
                  <a:ext cx="6912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575480" y="3312000"/>
                  <a:ext cx="6912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644960" y="3339720"/>
                  <a:ext cx="6948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644960" y="3339720"/>
                  <a:ext cx="6948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8" name=""/>
          <p:cNvGrpSpPr/>
          <p:nvPr/>
        </p:nvGrpSpPr>
        <p:grpSpPr>
          <a:xfrm>
            <a:off x="7489800" y="3392640"/>
            <a:ext cx="200160" cy="129960"/>
            <a:chOff x="7489800" y="3392640"/>
            <a:chExt cx="200160" cy="129960"/>
          </a:xfrm>
        </p:grpSpPr>
        <p:sp>
          <p:nvSpPr>
            <p:cNvPr id="249" name=""/>
            <p:cNvSpPr/>
            <p:nvPr/>
          </p:nvSpPr>
          <p:spPr>
            <a:xfrm>
              <a:off x="7489800" y="3392640"/>
              <a:ext cx="200160" cy="1299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3528"/>
                </a:gs>
                <a:gs pos="50000">
                  <a:srgbClr val="00cc99"/>
                </a:gs>
                <a:gs pos="100000">
                  <a:srgbClr val="003528"/>
                </a:gs>
              </a:gsLst>
              <a:lin ang="10800000"/>
            </a:gradFill>
            <a:ln cap="sq"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7516800" y="3398400"/>
              <a:ext cx="144720" cy="49320"/>
              <a:chOff x="7516800" y="3398400"/>
              <a:chExt cx="144720" cy="493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7516800" y="3398400"/>
                <a:ext cx="144360" cy="47880"/>
                <a:chOff x="7516800" y="3398400"/>
                <a:chExt cx="144360" cy="478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592040" y="3399480"/>
                  <a:ext cx="6912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592040" y="3399480"/>
                  <a:ext cx="6912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516800" y="3423960"/>
                  <a:ext cx="6912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516800" y="3423960"/>
                  <a:ext cx="69120" cy="2196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520760" y="3398400"/>
                  <a:ext cx="6912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520760" y="3398400"/>
                  <a:ext cx="6912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589880" y="3425760"/>
                  <a:ext cx="6840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589880" y="3425760"/>
                  <a:ext cx="6840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7517880" y="3399480"/>
                <a:ext cx="143640" cy="48240"/>
                <a:chOff x="7517880" y="3399480"/>
                <a:chExt cx="143640" cy="48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7592760" y="3400560"/>
                  <a:ext cx="6876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592760" y="3400560"/>
                  <a:ext cx="6876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517880" y="3425040"/>
                  <a:ext cx="68760" cy="2160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17880" y="3425040"/>
                  <a:ext cx="68760" cy="2160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21480" y="3399480"/>
                  <a:ext cx="6840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21480" y="3399480"/>
                  <a:ext cx="6840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590240" y="3427200"/>
                  <a:ext cx="6876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590240" y="3427200"/>
                  <a:ext cx="68760" cy="2052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9" name=""/>
          <p:cNvGrpSpPr/>
          <p:nvPr/>
        </p:nvGrpSpPr>
        <p:grpSpPr>
          <a:xfrm>
            <a:off x="7872480" y="3341520"/>
            <a:ext cx="182520" cy="187560"/>
            <a:chOff x="7872480" y="3341520"/>
            <a:chExt cx="182520" cy="187560"/>
          </a:xfrm>
        </p:grpSpPr>
        <p:sp>
          <p:nvSpPr>
            <p:cNvPr id="270" name=""/>
            <p:cNvSpPr/>
            <p:nvPr/>
          </p:nvSpPr>
          <p:spPr>
            <a:xfrm>
              <a:off x="7872480" y="3341520"/>
              <a:ext cx="182520" cy="187560"/>
            </a:xfrm>
            <a:prstGeom prst="can">
              <a:avLst>
                <a:gd name="adj" fmla="val 39541"/>
              </a:avLst>
            </a:prstGeom>
            <a:gradFill rotWithShape="0">
              <a:gsLst>
                <a:gs pos="0">
                  <a:srgbClr val="003528"/>
                </a:gs>
                <a:gs pos="50000">
                  <a:srgbClr val="00cc99"/>
                </a:gs>
                <a:gs pos="100000">
                  <a:srgbClr val="003528"/>
                </a:gs>
              </a:gsLst>
              <a:lin ang="10800000"/>
            </a:gradFill>
            <a:ln cap="sq"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906680" y="3344760"/>
              <a:ext cx="118440" cy="59400"/>
              <a:chOff x="7906680" y="3344760"/>
              <a:chExt cx="118440" cy="5940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7906680" y="3344760"/>
                <a:ext cx="117360" cy="57960"/>
                <a:chOff x="7906680" y="3344760"/>
                <a:chExt cx="117360" cy="57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967880" y="3346200"/>
                  <a:ext cx="5616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967880" y="3346200"/>
                  <a:ext cx="5616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120"/>
                      </a:moveTo>
                      <a:lnTo>
                        <a:pt x="104" y="155"/>
                      </a:lnTo>
                      <a:lnTo>
                        <a:pt x="355" y="52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3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906680" y="3375360"/>
                  <a:ext cx="56160" cy="2628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906680" y="3375360"/>
                  <a:ext cx="56160" cy="26280"/>
                </a:xfrm>
                <a:custGeom>
                  <a:avLst/>
                  <a:gdLst/>
                  <a:ahLst/>
                  <a:rect l="l" t="t" r="r" b="b"/>
                  <a:pathLst>
                    <a:path w="467" h="162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1" y="103"/>
                      </a:lnTo>
                      <a:lnTo>
                        <a:pt x="0" y="69"/>
                      </a:lnTo>
                      <a:lnTo>
                        <a:pt x="60" y="162"/>
                      </a:lnTo>
                      <a:lnTo>
                        <a:pt x="363" y="162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909920" y="3344760"/>
                  <a:ext cx="5616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909920" y="3344760"/>
                  <a:ext cx="5616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34"/>
                      </a:moveTo>
                      <a:lnTo>
                        <a:pt x="104" y="0"/>
                      </a:lnTo>
                      <a:lnTo>
                        <a:pt x="354" y="94"/>
                      </a:lnTo>
                      <a:lnTo>
                        <a:pt x="467" y="68"/>
                      </a:lnTo>
                      <a:lnTo>
                        <a:pt x="406" y="154"/>
                      </a:lnTo>
                      <a:lnTo>
                        <a:pt x="112" y="154"/>
                      </a:lnTo>
                      <a:lnTo>
                        <a:pt x="233" y="128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66080" y="3377880"/>
                  <a:ext cx="5580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66080" y="3377880"/>
                  <a:ext cx="5580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1" y="52"/>
                      </a:lnTo>
                      <a:lnTo>
                        <a:pt x="0" y="86"/>
                      </a:lnTo>
                      <a:lnTo>
                        <a:pt x="60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907760" y="3346200"/>
                <a:ext cx="117360" cy="57960"/>
                <a:chOff x="7907760" y="3346200"/>
                <a:chExt cx="117360" cy="57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968960" y="3347640"/>
                  <a:ext cx="5616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968960" y="3347640"/>
                  <a:ext cx="5616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4">
                      <a:moveTo>
                        <a:pt x="0" y="120"/>
                      </a:moveTo>
                      <a:lnTo>
                        <a:pt x="104" y="154"/>
                      </a:lnTo>
                      <a:lnTo>
                        <a:pt x="355" y="51"/>
                      </a:lnTo>
                      <a:lnTo>
                        <a:pt x="467" y="86"/>
                      </a:lnTo>
                      <a:lnTo>
                        <a:pt x="406" y="0"/>
                      </a:lnTo>
                      <a:lnTo>
                        <a:pt x="112" y="0"/>
                      </a:lnTo>
                      <a:lnTo>
                        <a:pt x="234" y="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07760" y="3376800"/>
                  <a:ext cx="56160" cy="2592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907760" y="3376800"/>
                  <a:ext cx="56160" cy="25920"/>
                </a:xfrm>
                <a:custGeom>
                  <a:avLst/>
                  <a:gdLst/>
                  <a:ahLst/>
                  <a:rect l="l" t="t" r="r" b="b"/>
                  <a:pathLst>
                    <a:path w="467" h="161">
                      <a:moveTo>
                        <a:pt x="467" y="34"/>
                      </a:moveTo>
                      <a:lnTo>
                        <a:pt x="363" y="0"/>
                      </a:lnTo>
                      <a:lnTo>
                        <a:pt x="122" y="101"/>
                      </a:lnTo>
                      <a:lnTo>
                        <a:pt x="0" y="68"/>
                      </a:lnTo>
                      <a:lnTo>
                        <a:pt x="61" y="161"/>
                      </a:lnTo>
                      <a:lnTo>
                        <a:pt x="363" y="161"/>
                      </a:lnTo>
                      <a:lnTo>
                        <a:pt x="233" y="127"/>
                      </a:lnTo>
                      <a:lnTo>
                        <a:pt x="46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0640" y="3346200"/>
                  <a:ext cx="5580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10640" y="3346200"/>
                  <a:ext cx="5580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5">
                      <a:moveTo>
                        <a:pt x="0" y="35"/>
                      </a:moveTo>
                      <a:lnTo>
                        <a:pt x="104" y="0"/>
                      </a:lnTo>
                      <a:lnTo>
                        <a:pt x="355" y="95"/>
                      </a:lnTo>
                      <a:lnTo>
                        <a:pt x="467" y="69"/>
                      </a:lnTo>
                      <a:lnTo>
                        <a:pt x="407" y="155"/>
                      </a:lnTo>
                      <a:lnTo>
                        <a:pt x="113" y="155"/>
                      </a:lnTo>
                      <a:lnTo>
                        <a:pt x="233" y="12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66800" y="3379320"/>
                  <a:ext cx="5616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66800" y="3379320"/>
                  <a:ext cx="56160" cy="24840"/>
                </a:xfrm>
                <a:custGeom>
                  <a:avLst/>
                  <a:gdLst/>
                  <a:ahLst/>
                  <a:rect l="l" t="t" r="r" b="b"/>
                  <a:pathLst>
                    <a:path w="467" h="153">
                      <a:moveTo>
                        <a:pt x="467" y="119"/>
                      </a:moveTo>
                      <a:lnTo>
                        <a:pt x="364" y="153"/>
                      </a:lnTo>
                      <a:lnTo>
                        <a:pt x="122" y="51"/>
                      </a:lnTo>
                      <a:lnTo>
                        <a:pt x="0" y="84"/>
                      </a:lnTo>
                      <a:lnTo>
                        <a:pt x="61" y="0"/>
                      </a:lnTo>
                      <a:lnTo>
                        <a:pt x="364" y="0"/>
                      </a:lnTo>
                      <a:lnTo>
                        <a:pt x="234" y="26"/>
                      </a:lnTo>
                      <a:lnTo>
                        <a:pt x="467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0" name=""/>
          <p:cNvSpPr/>
          <p:nvPr/>
        </p:nvSpPr>
        <p:spPr>
          <a:xfrm>
            <a:off x="7594560" y="3519360"/>
            <a:ext cx="115920" cy="108000"/>
          </a:xfrm>
          <a:custGeom>
            <a:avLst/>
            <a:gdLst/>
            <a:ahLst/>
            <a:rect l="l" t="t" r="r" b="b"/>
            <a:pathLst>
              <a:path w="136" h="160">
                <a:moveTo>
                  <a:pt x="0" y="0"/>
                </a:moveTo>
                <a:lnTo>
                  <a:pt x="0" y="160"/>
                </a:lnTo>
                <a:lnTo>
                  <a:pt x="136" y="160"/>
                </a:ln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302680" y="3476520"/>
            <a:ext cx="266760" cy="233640"/>
            <a:chOff x="8302680" y="3476520"/>
            <a:chExt cx="266760" cy="233640"/>
          </a:xfrm>
        </p:grpSpPr>
        <p:pic>
          <p:nvPicPr>
            <p:cNvPr id="292" name="" descr=""/>
            <p:cNvPicPr/>
            <p:nvPr/>
          </p:nvPicPr>
          <p:blipFill>
            <a:blip r:embed="rId17"/>
            <a:stretch/>
          </p:blipFill>
          <p:spPr>
            <a:xfrm>
              <a:off x="8302680" y="3476520"/>
              <a:ext cx="136440" cy="1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18"/>
            <a:stretch/>
          </p:blipFill>
          <p:spPr>
            <a:xfrm>
              <a:off x="8363880" y="3509280"/>
              <a:ext cx="136800" cy="1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19"/>
            <a:stretch/>
          </p:blipFill>
          <p:spPr>
            <a:xfrm>
              <a:off x="8432640" y="3547440"/>
              <a:ext cx="136800" cy="16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8664480" y="3179880"/>
            <a:ext cx="75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3366"/>
                </a:solidFill>
                <a:latin typeface="Trebuchet MS"/>
              </a:rPr>
              <a:t>AS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45280" y="3219480"/>
            <a:ext cx="67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rebuchet MS"/>
              </a:rPr>
              <a:t>IP</a:t>
            </a:r>
            <a:br>
              <a:rPr sz="800"/>
            </a:br>
            <a:r>
              <a:rPr b="1" lang="en-US" sz="800" spc="-1" strike="noStrike">
                <a:solidFill>
                  <a:srgbClr val="003366"/>
                </a:solidFill>
                <a:latin typeface="Trebuchet MS"/>
              </a:rPr>
              <a:t>Backb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81840" y="3632040"/>
            <a:ext cx="91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Trebuchet MS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889600" y="3498840"/>
            <a:ext cx="231840" cy="38160"/>
          </a:xfrm>
          <a:prstGeom prst="line">
            <a:avLst/>
          </a:prstGeom>
          <a:ln cap="sq"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925960" y="3514320"/>
            <a:ext cx="211320" cy="90360"/>
          </a:xfrm>
          <a:prstGeom prst="line">
            <a:avLst/>
          </a:prstGeom>
          <a:ln cap="sq"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999040" y="3520800"/>
            <a:ext cx="166680" cy="144360"/>
          </a:xfrm>
          <a:prstGeom prst="line">
            <a:avLst/>
          </a:prstGeom>
          <a:ln cap="sq"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067440" y="3279600"/>
            <a:ext cx="223920" cy="192240"/>
            <a:chOff x="6067440" y="3279600"/>
            <a:chExt cx="223920" cy="192240"/>
          </a:xfrm>
        </p:grpSpPr>
        <p:sp>
          <p:nvSpPr>
            <p:cNvPr id="302" name=""/>
            <p:cNvSpPr/>
            <p:nvPr/>
          </p:nvSpPr>
          <p:spPr>
            <a:xfrm>
              <a:off x="6067440" y="3279600"/>
              <a:ext cx="223920" cy="1922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3816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132240" y="3334320"/>
              <a:ext cx="93960" cy="82080"/>
              <a:chOff x="6132240" y="3334320"/>
              <a:chExt cx="93960" cy="82080"/>
            </a:xfrm>
          </p:grpSpPr>
          <p:sp>
            <p:nvSpPr>
              <p:cNvPr id="304" name=""/>
              <p:cNvSpPr/>
              <p:nvPr/>
            </p:nvSpPr>
            <p:spPr>
              <a:xfrm>
                <a:off x="6136200" y="3334680"/>
                <a:ext cx="90000" cy="8172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132240" y="3333960"/>
                <a:ext cx="89640" cy="81720"/>
              </a:xfrm>
              <a:custGeom>
                <a:avLst/>
                <a:gdLst/>
                <a:ahLst/>
                <a:rect l="l" t="t" r="r" b="b"/>
                <a:pathLst>
                  <a:path w="252" h="266">
                    <a:moveTo>
                      <a:pt x="252" y="266"/>
                    </a:moveTo>
                    <a:lnTo>
                      <a:pt x="198" y="26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noFill/>
              <a:ln cap="sq" w="284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6027840" y="2038320"/>
            <a:ext cx="1141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esilient Packet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(R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9969800">
            <a:off x="5912640" y="1874160"/>
            <a:ext cx="1216440" cy="9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74" y="798"/>
                </a:moveTo>
                <a:arcTo wR="10800" hR="10800" stAng="-4070311" swAng="1760792"/>
                <a:lnTo>
                  <a:pt x="10800" y="10800"/>
                </a:lnTo>
                <a:close/>
              </a:path>
              <a:path fill="none" w="21600" h="21600">
                <a:moveTo>
                  <a:pt x="14874" y="798"/>
                </a:moveTo>
                <a:arcTo wR="10800" hR="10800" stAng="-4070311" swAng="1760792"/>
              </a:path>
            </a:pathLst>
          </a:custGeom>
          <a:noFill/>
          <a:ln cap="sq" w="38160">
            <a:solidFill>
              <a:srgbClr val="ff66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12825600">
            <a:off x="6062760" y="1693440"/>
            <a:ext cx="1211760" cy="96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74" y="798"/>
                </a:moveTo>
                <a:arcTo wR="10800" hR="10800" stAng="-4070311" swAng="1760792"/>
                <a:lnTo>
                  <a:pt x="10800" y="10800"/>
                </a:lnTo>
                <a:close/>
              </a:path>
              <a:path fill="none" w="21600" h="21600">
                <a:moveTo>
                  <a:pt x="14874" y="798"/>
                </a:moveTo>
                <a:arcTo wR="10800" hR="10800" stAng="-4070311" swAng="1760792"/>
              </a:path>
            </a:pathLst>
          </a:custGeom>
          <a:noFill/>
          <a:ln cap="sq" w="38160">
            <a:solidFill>
              <a:srgbClr val="ffcc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38720" y="3178080"/>
            <a:ext cx="92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rebuchet MS"/>
              </a:rPr>
              <a:t>10 G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72160" y="2484360"/>
            <a:ext cx="1068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Metro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0"/>
          <a:stretch/>
        </p:blipFill>
        <p:spPr>
          <a:xfrm>
            <a:off x="4422600" y="2639880"/>
            <a:ext cx="667080" cy="438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203240" y="4800600"/>
            <a:ext cx="1935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b018"/>
                </a:solidFill>
                <a:latin typeface="Arial"/>
              </a:rPr>
              <a:t>Standard un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b018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b018"/>
                </a:solidFill>
                <a:latin typeface="Arial"/>
              </a:rPr>
              <a:t>in IEEE 802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0"/>
          <a:ext cx="2209680" cy="68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22096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l_prov_02.pd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8E4-1DA5-49C4-94E8-EFEFC018E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2286000" y="170964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964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4098960" y="4518000"/>
            <a:ext cx="1289160" cy="88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47080" y="3359160"/>
            <a:ext cx="1218960" cy="826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47840" y="1976400"/>
            <a:ext cx="1219320" cy="82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52640" y="3257640"/>
            <a:ext cx="1218960" cy="826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3720" y="1951200"/>
            <a:ext cx="1219320" cy="826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2514600"/>
            <a:ext cx="6311880" cy="2362320"/>
          </a:xfrm>
          <a:prstGeom prst="ellipse">
            <a:avLst/>
          </a:prstGeom>
          <a:noFill/>
          <a:ln w="28440">
            <a:solidFill>
              <a:srgbClr val="deb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25760" y="2387520"/>
            <a:ext cx="6311880" cy="2641680"/>
          </a:xfrm>
          <a:prstGeom prst="ellipse">
            <a:avLst/>
          </a:prstGeom>
          <a:noFill/>
          <a:ln w="28440">
            <a:solidFill>
              <a:srgbClr val="deb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380880"/>
            <a:ext cx="4167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PR Failure Scena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240920" y="3358800"/>
            <a:ext cx="810000" cy="657720"/>
            <a:chOff x="1240920" y="3358800"/>
            <a:chExt cx="810000" cy="657720"/>
          </a:xfrm>
        </p:grpSpPr>
        <p:sp>
          <p:nvSpPr>
            <p:cNvPr id="326" name=""/>
            <p:cNvSpPr/>
            <p:nvPr/>
          </p:nvSpPr>
          <p:spPr>
            <a:xfrm>
              <a:off x="1241280" y="3359160"/>
              <a:ext cx="808200" cy="36828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1240920" y="3533760"/>
              <a:ext cx="17172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41280" y="3533760"/>
              <a:ext cx="18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241280" y="3358800"/>
              <a:ext cx="171720" cy="1746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13000" y="33591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13000" y="335916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4880" y="335916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4880" y="3359160"/>
              <a:ext cx="174600" cy="1746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49480" y="35337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878120" y="3533760"/>
              <a:ext cx="17136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78120" y="37274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413000" y="3727440"/>
              <a:ext cx="46512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13000" y="37274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13000" y="3727440"/>
              <a:ext cx="465120" cy="287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13000" y="372744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13000" y="40147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13000" y="4014720"/>
              <a:ext cx="46512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78120" y="40147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878120" y="372744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78120" y="37274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413000" y="3727440"/>
              <a:ext cx="46512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13000" y="37274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78120" y="3533760"/>
              <a:ext cx="171360" cy="48096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78120" y="372744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78120" y="40147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878120" y="3821040"/>
              <a:ext cx="17136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49480" y="382104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049480" y="353376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49480" y="35337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78120" y="3533760"/>
              <a:ext cx="17136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8120" y="37274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41280" y="3533760"/>
              <a:ext cx="171720" cy="48096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3000" y="372744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13000" y="40147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1240920" y="3808080"/>
              <a:ext cx="171720" cy="206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41280" y="3808440"/>
              <a:ext cx="18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241280" y="3533400"/>
              <a:ext cx="1800" cy="274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41280" y="3533760"/>
              <a:ext cx="18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41280" y="3533760"/>
              <a:ext cx="17172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13000" y="37274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87520" y="3736800"/>
              <a:ext cx="317520" cy="262080"/>
            </a:xfrm>
            <a:custGeom>
              <a:avLst/>
              <a:gdLst>
                <a:gd name="textAreaLeft" fmla="*/ 72720 w 317520"/>
                <a:gd name="textAreaRight" fmla="*/ 244800 w 317520"/>
                <a:gd name="textAreaTop" fmla="*/ 60120 h 262080"/>
                <a:gd name="textAreaBottom" fmla="*/ 201960 h 26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46280" y="3411360"/>
              <a:ext cx="0" cy="2620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1419120" y="3541680"/>
              <a:ext cx="4572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430280" y="3425760"/>
              <a:ext cx="434880" cy="238320"/>
              <a:chOff x="1430280" y="3425760"/>
              <a:chExt cx="434880" cy="238320"/>
            </a:xfrm>
          </p:grpSpPr>
          <p:sp>
            <p:nvSpPr>
              <p:cNvPr id="370" name=""/>
              <p:cNvSpPr/>
              <p:nvPr/>
            </p:nvSpPr>
            <p:spPr>
              <a:xfrm>
                <a:off x="1430280" y="3425760"/>
                <a:ext cx="434880" cy="23832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30280" y="3425760"/>
                <a:ext cx="434880" cy="23832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H="1">
              <a:off x="1417680" y="3541680"/>
              <a:ext cx="457200" cy="18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430280" y="3424320"/>
              <a:ext cx="434880" cy="237960"/>
              <a:chOff x="1430280" y="3424320"/>
              <a:chExt cx="434880" cy="237960"/>
            </a:xfrm>
          </p:grpSpPr>
          <p:sp>
            <p:nvSpPr>
              <p:cNvPr id="374" name=""/>
              <p:cNvSpPr/>
              <p:nvPr/>
            </p:nvSpPr>
            <p:spPr>
              <a:xfrm>
                <a:off x="1430280" y="3424320"/>
                <a:ext cx="434880" cy="23796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30280" y="3424320"/>
                <a:ext cx="434880" cy="23796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1646280" y="3413160"/>
              <a:ext cx="0" cy="262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96880" y="3743280"/>
              <a:ext cx="300240" cy="250920"/>
            </a:xfrm>
            <a:custGeom>
              <a:avLst/>
              <a:gdLst>
                <a:gd name="textAreaLeft" fmla="*/ 74880 w 300240"/>
                <a:gd name="textAreaRight" fmla="*/ 225360 w 300240"/>
                <a:gd name="textAreaTop" fmla="*/ 62640 h 250920"/>
                <a:gd name="textAreaBottom" fmla="*/ 18828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351240" y="2092320"/>
            <a:ext cx="809280" cy="657000"/>
            <a:chOff x="3351240" y="2092320"/>
            <a:chExt cx="809280" cy="657000"/>
          </a:xfrm>
        </p:grpSpPr>
        <p:sp>
          <p:nvSpPr>
            <p:cNvPr id="379" name=""/>
            <p:cNvSpPr/>
            <p:nvPr/>
          </p:nvSpPr>
          <p:spPr>
            <a:xfrm>
              <a:off x="3351240" y="2092320"/>
              <a:ext cx="807840" cy="36756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3351240" y="226584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51240" y="226584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351240" y="2092320"/>
              <a:ext cx="17064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21880" y="20923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21880" y="209232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83760" y="209232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83760" y="2092320"/>
              <a:ext cx="17496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59080" y="226584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988440" y="226584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88440" y="245988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521520" y="245988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21880" y="24598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21880" y="2459880"/>
              <a:ext cx="466200" cy="288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21880" y="245988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21880" y="27478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21880" y="2747880"/>
              <a:ext cx="4662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88440" y="274788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988440" y="245988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88440" y="245988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521520" y="245988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1880" y="24598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88440" y="226584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88440" y="245988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88440" y="274788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988440" y="255420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25542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159080" y="226584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226584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988440" y="226584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88440" y="245988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51240" y="226584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21880" y="245988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21880" y="27478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3351240" y="2541240"/>
              <a:ext cx="170640" cy="2066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51240" y="25412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351240" y="2265840"/>
              <a:ext cx="1440" cy="2750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51240" y="226584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240" y="226584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21880" y="24598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97480" y="2469600"/>
              <a:ext cx="316440" cy="261720"/>
            </a:xfrm>
            <a:custGeom>
              <a:avLst/>
              <a:gdLst>
                <a:gd name="textAreaLeft" fmla="*/ 72720 w 316440"/>
                <a:gd name="textAreaRight" fmla="*/ 243720 w 31644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55160" y="214416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529080" y="2274480"/>
              <a:ext cx="45576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3539520" y="2158560"/>
              <a:ext cx="434880" cy="237600"/>
              <a:chOff x="3539520" y="2158560"/>
              <a:chExt cx="434880" cy="237600"/>
            </a:xfrm>
          </p:grpSpPr>
          <p:sp>
            <p:nvSpPr>
              <p:cNvPr id="423" name=""/>
              <p:cNvSpPr/>
              <p:nvPr/>
            </p:nvSpPr>
            <p:spPr>
              <a:xfrm>
                <a:off x="3539520" y="215856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39520" y="215856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 flipH="1">
              <a:off x="3528000" y="2274480"/>
              <a:ext cx="4557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3539520" y="2157120"/>
              <a:ext cx="434880" cy="237600"/>
              <a:chOff x="3539520" y="2157120"/>
              <a:chExt cx="434880" cy="237600"/>
            </a:xfrm>
          </p:grpSpPr>
          <p:sp>
            <p:nvSpPr>
              <p:cNvPr id="427" name=""/>
              <p:cNvSpPr/>
              <p:nvPr/>
            </p:nvSpPr>
            <p:spPr>
              <a:xfrm>
                <a:off x="3539520" y="215712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539520" y="215712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756600" y="214560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06840" y="2476080"/>
              <a:ext cx="299880" cy="250560"/>
            </a:xfrm>
            <a:custGeom>
              <a:avLst/>
              <a:gdLst>
                <a:gd name="textAreaLeft" fmla="*/ 74880 w 299880"/>
                <a:gd name="textAreaRight" fmla="*/ 225000 w 299880"/>
                <a:gd name="textAreaTop" fmla="*/ 62640 h 250560"/>
                <a:gd name="textAreaBottom" fmla="*/ 18792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369200" y="3463920"/>
            <a:ext cx="809280" cy="657000"/>
            <a:chOff x="7369200" y="3463920"/>
            <a:chExt cx="809280" cy="657000"/>
          </a:xfrm>
        </p:grpSpPr>
        <p:sp>
          <p:nvSpPr>
            <p:cNvPr id="432" name=""/>
            <p:cNvSpPr/>
            <p:nvPr/>
          </p:nvSpPr>
          <p:spPr>
            <a:xfrm>
              <a:off x="7369200" y="3463920"/>
              <a:ext cx="807840" cy="36756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7369200" y="363744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69200" y="363744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69200" y="3463920"/>
              <a:ext cx="17064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39840" y="34639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39840" y="346392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720" y="346392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720" y="3463920"/>
              <a:ext cx="17496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77040" y="363744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8006400" y="363744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06400" y="383148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539480" y="383148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39840" y="38314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39840" y="3831480"/>
              <a:ext cx="466200" cy="288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39840" y="383148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39840" y="41194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39840" y="4119480"/>
              <a:ext cx="4662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06400" y="411948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8006400" y="383148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006400" y="383148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539480" y="383148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840" y="38314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06400" y="363744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06400" y="383148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06400" y="411948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8006400" y="392580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77040" y="39258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177040" y="363744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177040" y="363744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006400" y="363744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06400" y="383148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69200" y="363744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39840" y="383148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9840" y="41194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7369200" y="3912840"/>
              <a:ext cx="170640" cy="2066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39128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69200" y="3637440"/>
              <a:ext cx="1440" cy="2750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69200" y="363744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69200" y="363744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9840" y="38314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15440" y="3841200"/>
              <a:ext cx="316440" cy="261720"/>
            </a:xfrm>
            <a:custGeom>
              <a:avLst/>
              <a:gdLst>
                <a:gd name="textAreaLeft" fmla="*/ 72720 w 316440"/>
                <a:gd name="textAreaRight" fmla="*/ 243720 w 31644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73120" y="351576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547040" y="3646080"/>
              <a:ext cx="45576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557480" y="3530160"/>
              <a:ext cx="434880" cy="237600"/>
              <a:chOff x="7557480" y="3530160"/>
              <a:chExt cx="434880" cy="237600"/>
            </a:xfrm>
          </p:grpSpPr>
          <p:sp>
            <p:nvSpPr>
              <p:cNvPr id="476" name=""/>
              <p:cNvSpPr/>
              <p:nvPr/>
            </p:nvSpPr>
            <p:spPr>
              <a:xfrm>
                <a:off x="7557480" y="353016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557480" y="353016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 flipH="1">
              <a:off x="7545960" y="3646080"/>
              <a:ext cx="4557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557480" y="3528720"/>
              <a:ext cx="434880" cy="237600"/>
              <a:chOff x="7557480" y="3528720"/>
              <a:chExt cx="434880" cy="237600"/>
            </a:xfrm>
          </p:grpSpPr>
          <p:sp>
            <p:nvSpPr>
              <p:cNvPr id="480" name=""/>
              <p:cNvSpPr/>
              <p:nvPr/>
            </p:nvSpPr>
            <p:spPr>
              <a:xfrm>
                <a:off x="7557480" y="352872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557480" y="352872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7774560" y="351720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24800" y="3847680"/>
              <a:ext cx="299880" cy="250560"/>
            </a:xfrm>
            <a:custGeom>
              <a:avLst/>
              <a:gdLst>
                <a:gd name="textAreaLeft" fmla="*/ 74880 w 299880"/>
                <a:gd name="textAreaRight" fmla="*/ 225000 w 299880"/>
                <a:gd name="textAreaTop" fmla="*/ 62640 h 250560"/>
                <a:gd name="textAreaBottom" fmla="*/ 18792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372920" y="556416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0440" y="26589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22880" y="27306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52520" y="14508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84800" y="3733920"/>
            <a:ext cx="1033200" cy="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022280" y="3213000"/>
            <a:ext cx="16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and Pro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919680" y="168408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578400" y="167760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84080" y="3481560"/>
            <a:ext cx="493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763560" y="3881520"/>
            <a:ext cx="493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8076960" y="3517920"/>
            <a:ext cx="493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8097480" y="4005360"/>
            <a:ext cx="493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50880" y="129240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80" y="344340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24640" y="352440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13240" y="349560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Gb R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1280" y="5281560"/>
            <a:ext cx="3121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ly loaded RPR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ffic from Edge 1 to Edg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ffic from Edge 1 to Edg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ffic from Edge 2 to Edg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70960" y="5281560"/>
            <a:ext cx="312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ffic from Edge 3 to Edg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ffic from Edge 4 to Edg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happens after a c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ween Edge 2 and Edg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307120" y="2066760"/>
            <a:ext cx="809280" cy="657000"/>
            <a:chOff x="5307120" y="2066760"/>
            <a:chExt cx="809280" cy="657000"/>
          </a:xfrm>
        </p:grpSpPr>
        <p:sp>
          <p:nvSpPr>
            <p:cNvPr id="503" name=""/>
            <p:cNvSpPr/>
            <p:nvPr/>
          </p:nvSpPr>
          <p:spPr>
            <a:xfrm>
              <a:off x="5307120" y="2066760"/>
              <a:ext cx="807840" cy="36756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5307120" y="224028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07120" y="22402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5307120" y="2066760"/>
              <a:ext cx="17064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77760" y="20667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77760" y="206676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39640" y="206676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39640" y="2066760"/>
              <a:ext cx="17496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14960" y="22402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944320" y="224028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44320" y="243432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477400" y="243432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77760" y="2434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77760" y="2434320"/>
              <a:ext cx="466200" cy="288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77760" y="243432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77760" y="27223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77760" y="2722320"/>
              <a:ext cx="4662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44320" y="272232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5944320" y="243432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44320" y="243432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477400" y="243432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77760" y="2434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44320" y="224028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44320" y="243432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44320" y="272232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944320" y="252864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14960" y="25286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114960" y="224028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14960" y="22402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944320" y="224028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4320" y="243432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07120" y="224028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77760" y="243432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77760" y="27223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5307120" y="2515680"/>
              <a:ext cx="170640" cy="2066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07120" y="25156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307120" y="2240280"/>
              <a:ext cx="1440" cy="2750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07120" y="22402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07120" y="224028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77760" y="2434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53360" y="2444040"/>
              <a:ext cx="316440" cy="261720"/>
            </a:xfrm>
            <a:custGeom>
              <a:avLst/>
              <a:gdLst>
                <a:gd name="textAreaLeft" fmla="*/ 72720 w 316440"/>
                <a:gd name="textAreaRight" fmla="*/ 243720 w 31644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11040" y="211860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484960" y="2248920"/>
              <a:ext cx="45576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5495400" y="2133000"/>
              <a:ext cx="434880" cy="237600"/>
              <a:chOff x="5495400" y="2133000"/>
              <a:chExt cx="434880" cy="237600"/>
            </a:xfrm>
          </p:grpSpPr>
          <p:sp>
            <p:nvSpPr>
              <p:cNvPr id="547" name=""/>
              <p:cNvSpPr/>
              <p:nvPr/>
            </p:nvSpPr>
            <p:spPr>
              <a:xfrm>
                <a:off x="5495400" y="21330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95400" y="21330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flipH="1">
              <a:off x="5483880" y="2248920"/>
              <a:ext cx="4557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495400" y="2131560"/>
              <a:ext cx="434880" cy="237600"/>
              <a:chOff x="5495400" y="2131560"/>
              <a:chExt cx="434880" cy="237600"/>
            </a:xfrm>
          </p:grpSpPr>
          <p:sp>
            <p:nvSpPr>
              <p:cNvPr id="551" name=""/>
              <p:cNvSpPr/>
              <p:nvPr/>
            </p:nvSpPr>
            <p:spPr>
              <a:xfrm>
                <a:off x="5495400" y="213156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95400" y="213156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5712480" y="212004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62720" y="2450520"/>
              <a:ext cx="299880" cy="250560"/>
            </a:xfrm>
            <a:custGeom>
              <a:avLst/>
              <a:gdLst>
                <a:gd name="textAreaLeft" fmla="*/ 74880 w 299880"/>
                <a:gd name="textAreaRight" fmla="*/ 225000 w 299880"/>
                <a:gd name="textAreaTop" fmla="*/ 62640 h 250560"/>
                <a:gd name="textAreaBottom" fmla="*/ 18792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265440" y="14000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875200" y="165852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533920" y="1652760"/>
            <a:ext cx="0" cy="406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06760" y="126684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03800" y="4632480"/>
            <a:ext cx="819000" cy="352440"/>
          </a:xfrm>
          <a:custGeom>
            <a:avLst/>
            <a:gdLst/>
            <a:ahLst/>
            <a:rect l="l" t="t" r="r" b="b"/>
            <a:pathLst>
              <a:path w="652" h="217">
                <a:moveTo>
                  <a:pt x="138" y="217"/>
                </a:moveTo>
                <a:lnTo>
                  <a:pt x="0" y="103"/>
                </a:lnTo>
                <a:lnTo>
                  <a:pt x="138" y="0"/>
                </a:lnTo>
                <a:lnTo>
                  <a:pt x="510" y="0"/>
                </a:lnTo>
                <a:lnTo>
                  <a:pt x="652" y="103"/>
                </a:lnTo>
                <a:lnTo>
                  <a:pt x="514" y="217"/>
                </a:lnTo>
                <a:lnTo>
                  <a:pt x="138" y="217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4303800" y="479916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03800" y="4799160"/>
            <a:ext cx="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303800" y="4632120"/>
            <a:ext cx="172800" cy="166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76600" y="4632480"/>
            <a:ext cx="180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76600" y="4632480"/>
            <a:ext cx="46836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44960" y="4632480"/>
            <a:ext cx="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44960" y="4632480"/>
            <a:ext cx="177840" cy="166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22800" y="4799160"/>
            <a:ext cx="180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4950000" y="479916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0000" y="4984920"/>
            <a:ext cx="144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476240" y="4984920"/>
            <a:ext cx="4734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76600" y="498492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76600" y="4984920"/>
            <a:ext cx="473400" cy="2743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76600" y="4984920"/>
            <a:ext cx="1800" cy="2743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76600" y="5259240"/>
            <a:ext cx="180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76600" y="5259240"/>
            <a:ext cx="47340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50000" y="5259240"/>
            <a:ext cx="144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950000" y="4984920"/>
            <a:ext cx="1440" cy="2743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950000" y="4984920"/>
            <a:ext cx="144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476240" y="4984920"/>
            <a:ext cx="4734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76600" y="498492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950000" y="4799160"/>
            <a:ext cx="172800" cy="460080"/>
          </a:xfrm>
          <a:custGeom>
            <a:avLst/>
            <a:gdLst/>
            <a:ahLst/>
            <a:rect l="l" t="t" r="r" b="b"/>
            <a:pathLst>
              <a:path w="138" h="284">
                <a:moveTo>
                  <a:pt x="0" y="114"/>
                </a:moveTo>
                <a:lnTo>
                  <a:pt x="0" y="284"/>
                </a:lnTo>
                <a:lnTo>
                  <a:pt x="138" y="170"/>
                </a:lnTo>
                <a:lnTo>
                  <a:pt x="138" y="0"/>
                </a:lnTo>
                <a:lnTo>
                  <a:pt x="0" y="114"/>
                </a:lnTo>
                <a:close/>
              </a:path>
            </a:pathLst>
          </a:custGeom>
          <a:solidFill>
            <a:srgbClr val="004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0000" y="4984920"/>
            <a:ext cx="1440" cy="2743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0000" y="5259240"/>
            <a:ext cx="144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950000" y="5074920"/>
            <a:ext cx="172800" cy="1839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22800" y="507528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122800" y="4798800"/>
            <a:ext cx="1800" cy="2761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22800" y="4799160"/>
            <a:ext cx="180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4950000" y="479916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950000" y="4984920"/>
            <a:ext cx="144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03800" y="4799160"/>
            <a:ext cx="172800" cy="460080"/>
          </a:xfrm>
          <a:custGeom>
            <a:avLst/>
            <a:gdLst/>
            <a:ahLst/>
            <a:rect l="l" t="t" r="r" b="b"/>
            <a:pathLst>
              <a:path w="138" h="284">
                <a:moveTo>
                  <a:pt x="138" y="114"/>
                </a:moveTo>
                <a:lnTo>
                  <a:pt x="138" y="284"/>
                </a:lnTo>
                <a:lnTo>
                  <a:pt x="0" y="162"/>
                </a:lnTo>
                <a:lnTo>
                  <a:pt x="0" y="0"/>
                </a:lnTo>
                <a:lnTo>
                  <a:pt x="138" y="114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76600" y="4984920"/>
            <a:ext cx="1800" cy="2743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76600" y="5259240"/>
            <a:ext cx="180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4303800" y="5060520"/>
            <a:ext cx="172800" cy="1983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03800" y="5060880"/>
            <a:ext cx="0" cy="32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4303800" y="4798800"/>
            <a:ext cx="0" cy="2617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03800" y="4799160"/>
            <a:ext cx="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03800" y="479916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476600" y="498492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713120" y="4681440"/>
            <a:ext cx="0" cy="250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484520" y="4807080"/>
            <a:ext cx="46224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494240" y="4697280"/>
            <a:ext cx="441360" cy="227160"/>
            <a:chOff x="4494240" y="4697280"/>
            <a:chExt cx="441360" cy="227160"/>
          </a:xfrm>
        </p:grpSpPr>
        <p:sp>
          <p:nvSpPr>
            <p:cNvPr id="602" name=""/>
            <p:cNvSpPr/>
            <p:nvPr/>
          </p:nvSpPr>
          <p:spPr>
            <a:xfrm>
              <a:off x="4494240" y="4697280"/>
              <a:ext cx="441360" cy="22716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0" y="0"/>
                  </a:moveTo>
                  <a:lnTo>
                    <a:pt x="427" y="0"/>
                  </a:lnTo>
                  <a:lnTo>
                    <a:pt x="1289" y="850"/>
                  </a:lnTo>
                  <a:lnTo>
                    <a:pt x="1717" y="850"/>
                  </a:lnTo>
                </a:path>
              </a:pathLst>
            </a:custGeom>
            <a:noFill/>
            <a:ln cap="rnd"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94240" y="4697280"/>
              <a:ext cx="441360" cy="22716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1717" y="0"/>
                  </a:moveTo>
                  <a:lnTo>
                    <a:pt x="1289" y="0"/>
                  </a:lnTo>
                  <a:lnTo>
                    <a:pt x="427" y="850"/>
                  </a:lnTo>
                  <a:lnTo>
                    <a:pt x="0" y="850"/>
                  </a:lnTo>
                </a:path>
              </a:pathLst>
            </a:custGeom>
            <a:noFill/>
            <a:ln cap="rnd"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H="1">
            <a:off x="4482720" y="4807080"/>
            <a:ext cx="4618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494240" y="4694400"/>
            <a:ext cx="441360" cy="226800"/>
            <a:chOff x="4494240" y="4694400"/>
            <a:chExt cx="441360" cy="226800"/>
          </a:xfrm>
        </p:grpSpPr>
        <p:sp>
          <p:nvSpPr>
            <p:cNvPr id="606" name=""/>
            <p:cNvSpPr/>
            <p:nvPr/>
          </p:nvSpPr>
          <p:spPr>
            <a:xfrm>
              <a:off x="4494240" y="4694400"/>
              <a:ext cx="441360" cy="22680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0" y="0"/>
                  </a:moveTo>
                  <a:lnTo>
                    <a:pt x="427" y="0"/>
                  </a:lnTo>
                  <a:lnTo>
                    <a:pt x="1289" y="850"/>
                  </a:lnTo>
                  <a:lnTo>
                    <a:pt x="1717" y="85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94240" y="4694400"/>
              <a:ext cx="441360" cy="22680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1717" y="0"/>
                  </a:moveTo>
                  <a:lnTo>
                    <a:pt x="1289" y="0"/>
                  </a:lnTo>
                  <a:lnTo>
                    <a:pt x="427" y="850"/>
                  </a:lnTo>
                  <a:lnTo>
                    <a:pt x="0" y="85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714920" y="4683240"/>
            <a:ext cx="0" cy="250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92520" y="5029200"/>
            <a:ext cx="243000" cy="190440"/>
          </a:xfrm>
          <a:custGeom>
            <a:avLst/>
            <a:gdLst>
              <a:gd name="textAreaLeft" fmla="*/ 60840 w 243000"/>
              <a:gd name="textAreaRight" fmla="*/ 182160 w 24300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343400" y="1841400"/>
            <a:ext cx="851040" cy="0"/>
          </a:xfrm>
          <a:prstGeom prst="line">
            <a:avLst/>
          </a:prstGeom>
          <a:ln w="28440">
            <a:solidFill>
              <a:srgbClr val="cccc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19800" y="1477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1778760" y="1968480"/>
            <a:ext cx="62218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15" y="22"/>
                </a:moveTo>
                <a:arcTo wR="10800" hR="10800" stAng="-5618064" swAng="5618064"/>
                <a:lnTo>
                  <a:pt x="10800" y="10800"/>
                </a:lnTo>
                <a:close/>
              </a:path>
              <a:path fill="none" w="21600" h="21600">
                <a:moveTo>
                  <a:pt x="10115" y="22"/>
                </a:moveTo>
                <a:arcTo wR="10800" hR="10800" stAng="-5618064" swAng="5618064"/>
              </a:path>
            </a:pathLst>
          </a:custGeom>
          <a:noFill/>
          <a:ln w="28440">
            <a:solidFill>
              <a:srgbClr val="ee592e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92600" y="2011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930320" y="2413080"/>
            <a:ext cx="2386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b2b2b2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46400" y="24685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393040" y="1111320"/>
            <a:ext cx="51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62320" y="4013280"/>
            <a:ext cx="4775040" cy="430200"/>
          </a:xfrm>
          <a:custGeom>
            <a:avLst/>
            <a:gdLst/>
            <a:ahLst/>
            <a:rect l="l" t="t" r="r" b="b"/>
            <a:pathLst>
              <a:path w="3008" h="271">
                <a:moveTo>
                  <a:pt x="0" y="0"/>
                </a:moveTo>
                <a:cubicBezTo>
                  <a:pt x="425" y="128"/>
                  <a:pt x="851" y="257"/>
                  <a:pt x="1352" y="264"/>
                </a:cubicBezTo>
                <a:cubicBezTo>
                  <a:pt x="1853" y="271"/>
                  <a:pt x="2731" y="77"/>
                  <a:pt x="3008" y="40"/>
                </a:cubicBezTo>
              </a:path>
            </a:pathLst>
          </a:custGeom>
          <a:noFill/>
          <a:ln w="28440">
            <a:solidFill>
              <a:srgbClr val="deb018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07120" y="3992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72280" y="2467080"/>
            <a:ext cx="2387160" cy="12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38" y="34"/>
                </a:moveTo>
                <a:arcTo wR="10800" hR="10800" stAng="-5674733" swAng="6152511"/>
                <a:lnTo>
                  <a:pt x="10800" y="10800"/>
                </a:lnTo>
                <a:close/>
              </a:path>
              <a:path fill="none" w="21600" h="21600">
                <a:moveTo>
                  <a:pt x="9938" y="34"/>
                </a:moveTo>
                <a:arcTo wR="10800" hR="10800" stAng="-5674733" swAng="6152511"/>
              </a:path>
            </a:pathLst>
          </a:custGeom>
          <a:noFill/>
          <a:ln w="28440">
            <a:solidFill>
              <a:srgbClr val="ffff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1480" y="22654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0" y="0"/>
          <a:ext cx="2209680" cy="6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2096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l_prov_02.pd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826-BCAD-4C49-B222-1C2C7EE697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4098960" y="4227480"/>
            <a:ext cx="1289160" cy="88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147080" y="3068640"/>
            <a:ext cx="1218960" cy="826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47840" y="1685880"/>
            <a:ext cx="1219320" cy="82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052640" y="2967120"/>
            <a:ext cx="1218960" cy="826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03720" y="1660680"/>
            <a:ext cx="1219320" cy="826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76520" y="2224080"/>
            <a:ext cx="6311880" cy="2362320"/>
          </a:xfrm>
          <a:prstGeom prst="ellipse">
            <a:avLst/>
          </a:prstGeom>
          <a:noFill/>
          <a:ln w="28440">
            <a:solidFill>
              <a:srgbClr val="deb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25760" y="2097000"/>
            <a:ext cx="6311880" cy="2641680"/>
          </a:xfrm>
          <a:prstGeom prst="ellipse">
            <a:avLst/>
          </a:prstGeom>
          <a:noFill/>
          <a:ln w="28440">
            <a:solidFill>
              <a:srgbClr val="deb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4604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PR Failure Scenario with Wrapping Prote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240920" y="3068280"/>
            <a:ext cx="810000" cy="657720"/>
            <a:chOff x="1240920" y="3068280"/>
            <a:chExt cx="810000" cy="657720"/>
          </a:xfrm>
        </p:grpSpPr>
        <p:sp>
          <p:nvSpPr>
            <p:cNvPr id="632" name=""/>
            <p:cNvSpPr/>
            <p:nvPr/>
          </p:nvSpPr>
          <p:spPr>
            <a:xfrm>
              <a:off x="1241280" y="3068640"/>
              <a:ext cx="808200" cy="36828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1240920" y="3243240"/>
              <a:ext cx="17172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41280" y="3243240"/>
              <a:ext cx="18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241280" y="3068280"/>
              <a:ext cx="171720" cy="1746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13000" y="30686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13000" y="306864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74880" y="306864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74880" y="3068640"/>
              <a:ext cx="174600" cy="1746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49480" y="32432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1878120" y="3243240"/>
              <a:ext cx="17136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78120" y="34369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413000" y="3436920"/>
              <a:ext cx="46512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13000" y="34369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13000" y="3436920"/>
              <a:ext cx="465120" cy="287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13000" y="343692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413000" y="372420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13000" y="3724200"/>
              <a:ext cx="46512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78120" y="372420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78120" y="343692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78120" y="34369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413000" y="3436920"/>
              <a:ext cx="46512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13000" y="34369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78120" y="3243240"/>
              <a:ext cx="171360" cy="48096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78120" y="343692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78120" y="372420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878120" y="3530520"/>
              <a:ext cx="17136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49480" y="35305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049480" y="324324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49480" y="32432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878120" y="3243240"/>
              <a:ext cx="17136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78120" y="34369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41280" y="3243240"/>
              <a:ext cx="171720" cy="48096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13000" y="3436920"/>
              <a:ext cx="1440" cy="287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372420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1240920" y="3517560"/>
              <a:ext cx="171720" cy="206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41280" y="3517920"/>
              <a:ext cx="18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1241280" y="3242880"/>
              <a:ext cx="1800" cy="274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41280" y="3243240"/>
              <a:ext cx="18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41280" y="3243240"/>
              <a:ext cx="17172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13000" y="34369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87520" y="3446280"/>
              <a:ext cx="317520" cy="262080"/>
            </a:xfrm>
            <a:custGeom>
              <a:avLst/>
              <a:gdLst>
                <a:gd name="textAreaLeft" fmla="*/ 72720 w 317520"/>
                <a:gd name="textAreaRight" fmla="*/ 244800 w 317520"/>
                <a:gd name="textAreaTop" fmla="*/ 60120 h 262080"/>
                <a:gd name="textAreaBottom" fmla="*/ 201960 h 26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46280" y="3120840"/>
              <a:ext cx="0" cy="2620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1419120" y="3251160"/>
              <a:ext cx="4572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1430280" y="3135240"/>
              <a:ext cx="434880" cy="238320"/>
              <a:chOff x="1430280" y="3135240"/>
              <a:chExt cx="434880" cy="238320"/>
            </a:xfrm>
          </p:grpSpPr>
          <p:sp>
            <p:nvSpPr>
              <p:cNvPr id="676" name=""/>
              <p:cNvSpPr/>
              <p:nvPr/>
            </p:nvSpPr>
            <p:spPr>
              <a:xfrm>
                <a:off x="1430280" y="3135240"/>
                <a:ext cx="434880" cy="23832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30280" y="3135240"/>
                <a:ext cx="434880" cy="23832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 flipH="1">
              <a:off x="1417680" y="3251160"/>
              <a:ext cx="457200" cy="18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1430280" y="3133800"/>
              <a:ext cx="434880" cy="237960"/>
              <a:chOff x="1430280" y="3133800"/>
              <a:chExt cx="434880" cy="237960"/>
            </a:xfrm>
          </p:grpSpPr>
          <p:sp>
            <p:nvSpPr>
              <p:cNvPr id="680" name=""/>
              <p:cNvSpPr/>
              <p:nvPr/>
            </p:nvSpPr>
            <p:spPr>
              <a:xfrm>
                <a:off x="1430280" y="3133800"/>
                <a:ext cx="434880" cy="23796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30280" y="3133800"/>
                <a:ext cx="434880" cy="23796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646280" y="3122640"/>
              <a:ext cx="0" cy="262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96880" y="3452760"/>
              <a:ext cx="300240" cy="250920"/>
            </a:xfrm>
            <a:custGeom>
              <a:avLst/>
              <a:gdLst>
                <a:gd name="textAreaLeft" fmla="*/ 74880 w 300240"/>
                <a:gd name="textAreaRight" fmla="*/ 225360 w 300240"/>
                <a:gd name="textAreaTop" fmla="*/ 62640 h 250920"/>
                <a:gd name="textAreaBottom" fmla="*/ 18828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3351240" y="1801800"/>
            <a:ext cx="809280" cy="657000"/>
            <a:chOff x="3351240" y="1801800"/>
            <a:chExt cx="809280" cy="657000"/>
          </a:xfrm>
        </p:grpSpPr>
        <p:sp>
          <p:nvSpPr>
            <p:cNvPr id="685" name=""/>
            <p:cNvSpPr/>
            <p:nvPr/>
          </p:nvSpPr>
          <p:spPr>
            <a:xfrm>
              <a:off x="3351240" y="1801800"/>
              <a:ext cx="807840" cy="36756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3351240" y="19753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51240" y="1975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351240" y="1801800"/>
              <a:ext cx="17064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21880" y="18018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521880" y="180180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83760" y="180180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83760" y="1801800"/>
              <a:ext cx="17496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59080" y="1975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3988440" y="19753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88440" y="21693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521520" y="21693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21880" y="21693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21880" y="2169360"/>
              <a:ext cx="466200" cy="288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21880" y="21693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21880" y="24573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21880" y="2457360"/>
              <a:ext cx="4662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88440" y="24573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988440" y="21693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88440" y="21693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521520" y="21693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21880" y="21693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88440" y="197532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88440" y="21693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88440" y="24573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3988440" y="226368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59080" y="22636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4159080" y="197532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159080" y="1975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988440" y="19753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88440" y="21693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51240" y="197532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21880" y="21693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21880" y="24573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3351240" y="2250720"/>
              <a:ext cx="170640" cy="2066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51240" y="22507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351240" y="1975320"/>
              <a:ext cx="1440" cy="2750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51240" y="1975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51240" y="19753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21880" y="21693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97480" y="2179080"/>
              <a:ext cx="316440" cy="261720"/>
            </a:xfrm>
            <a:custGeom>
              <a:avLst/>
              <a:gdLst>
                <a:gd name="textAreaLeft" fmla="*/ 72720 w 316440"/>
                <a:gd name="textAreaRight" fmla="*/ 243720 w 31644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55160" y="185364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3529080" y="1983960"/>
              <a:ext cx="45576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3539520" y="1868040"/>
              <a:ext cx="434880" cy="237600"/>
              <a:chOff x="3539520" y="1868040"/>
              <a:chExt cx="434880" cy="237600"/>
            </a:xfrm>
          </p:grpSpPr>
          <p:sp>
            <p:nvSpPr>
              <p:cNvPr id="729" name=""/>
              <p:cNvSpPr/>
              <p:nvPr/>
            </p:nvSpPr>
            <p:spPr>
              <a:xfrm>
                <a:off x="3539520" y="186804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539520" y="186804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 flipH="1">
              <a:off x="3528000" y="1983960"/>
              <a:ext cx="4557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3539520" y="1866600"/>
              <a:ext cx="434880" cy="237600"/>
              <a:chOff x="3539520" y="1866600"/>
              <a:chExt cx="434880" cy="237600"/>
            </a:xfrm>
          </p:grpSpPr>
          <p:sp>
            <p:nvSpPr>
              <p:cNvPr id="733" name=""/>
              <p:cNvSpPr/>
              <p:nvPr/>
            </p:nvSpPr>
            <p:spPr>
              <a:xfrm>
                <a:off x="3539520" y="18666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539520" y="18666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3756600" y="185508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06840" y="2185560"/>
              <a:ext cx="299880" cy="250560"/>
            </a:xfrm>
            <a:custGeom>
              <a:avLst/>
              <a:gdLst>
                <a:gd name="textAreaLeft" fmla="*/ 74880 w 299880"/>
                <a:gd name="textAreaRight" fmla="*/ 225000 w 299880"/>
                <a:gd name="textAreaTop" fmla="*/ 62640 h 250560"/>
                <a:gd name="textAreaBottom" fmla="*/ 18792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7369200" y="3173400"/>
            <a:ext cx="809280" cy="657000"/>
            <a:chOff x="7369200" y="3173400"/>
            <a:chExt cx="809280" cy="657000"/>
          </a:xfrm>
        </p:grpSpPr>
        <p:sp>
          <p:nvSpPr>
            <p:cNvPr id="738" name=""/>
            <p:cNvSpPr/>
            <p:nvPr/>
          </p:nvSpPr>
          <p:spPr>
            <a:xfrm>
              <a:off x="7369200" y="3173400"/>
              <a:ext cx="807840" cy="36756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7369200" y="33469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69200" y="33469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7369200" y="3173400"/>
              <a:ext cx="17064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39840" y="31734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39840" y="317340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001720" y="317340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01720" y="3173400"/>
              <a:ext cx="17496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77040" y="33469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8006400" y="33469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6400" y="35409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539480" y="35409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539840" y="35409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39840" y="3540960"/>
              <a:ext cx="466200" cy="288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39840" y="35409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39840" y="38289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539840" y="3828960"/>
              <a:ext cx="4662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006400" y="38289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006400" y="35409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06400" y="35409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539480" y="35409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39840" y="35409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06400" y="334692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06400" y="35409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06400" y="38289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8006400" y="363528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77040" y="36352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8177040" y="334692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77040" y="33469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8006400" y="33469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06400" y="35409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369200" y="334692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39840" y="35409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39840" y="38289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7369200" y="3622320"/>
              <a:ext cx="170640" cy="2066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69200" y="36223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69200" y="3346920"/>
              <a:ext cx="1440" cy="2750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69200" y="33469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69200" y="33469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39840" y="35409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615440" y="3550680"/>
              <a:ext cx="316440" cy="261720"/>
            </a:xfrm>
            <a:custGeom>
              <a:avLst/>
              <a:gdLst>
                <a:gd name="textAreaLeft" fmla="*/ 72720 w 316440"/>
                <a:gd name="textAreaRight" fmla="*/ 243720 w 31644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73120" y="322524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547040" y="3355560"/>
              <a:ext cx="45576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7557480" y="3239640"/>
              <a:ext cx="434880" cy="237600"/>
              <a:chOff x="7557480" y="3239640"/>
              <a:chExt cx="434880" cy="237600"/>
            </a:xfrm>
          </p:grpSpPr>
          <p:sp>
            <p:nvSpPr>
              <p:cNvPr id="782" name=""/>
              <p:cNvSpPr/>
              <p:nvPr/>
            </p:nvSpPr>
            <p:spPr>
              <a:xfrm>
                <a:off x="7557480" y="323964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557480" y="323964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 flipH="1">
              <a:off x="7545960" y="3355560"/>
              <a:ext cx="4557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7557480" y="3238200"/>
              <a:ext cx="434880" cy="237600"/>
              <a:chOff x="7557480" y="3238200"/>
              <a:chExt cx="434880" cy="237600"/>
            </a:xfrm>
          </p:grpSpPr>
          <p:sp>
            <p:nvSpPr>
              <p:cNvPr id="786" name=""/>
              <p:cNvSpPr/>
              <p:nvPr/>
            </p:nvSpPr>
            <p:spPr>
              <a:xfrm>
                <a:off x="7557480" y="32382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557480" y="32382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7774560" y="322668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24800" y="3557160"/>
              <a:ext cx="299880" cy="250560"/>
            </a:xfrm>
            <a:custGeom>
              <a:avLst/>
              <a:gdLst>
                <a:gd name="textAreaLeft" fmla="*/ 74880 w 299880"/>
                <a:gd name="textAreaRight" fmla="*/ 225000 w 299880"/>
                <a:gd name="textAreaTop" fmla="*/ 62640 h 250560"/>
                <a:gd name="textAreaBottom" fmla="*/ 18792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4372920" y="527364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50680" y="249696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922880" y="24400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52520" y="11606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84800" y="3443400"/>
            <a:ext cx="1033200" cy="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022280" y="2922480"/>
            <a:ext cx="16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and Pro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919680" y="139356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3578400" y="138708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784080" y="3191040"/>
            <a:ext cx="493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763560" y="3591000"/>
            <a:ext cx="493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076960" y="3227400"/>
            <a:ext cx="493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097480" y="3714840"/>
            <a:ext cx="493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0880" y="100188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80" y="315288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324640" y="323388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13240" y="320508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Gb R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1280" y="5533920"/>
            <a:ext cx="299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is case the bandwidth demand between Edge 2 and Edge 4 is 20Gb which is twice the HS r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307120" y="1776240"/>
            <a:ext cx="809280" cy="657000"/>
            <a:chOff x="5307120" y="1776240"/>
            <a:chExt cx="809280" cy="657000"/>
          </a:xfrm>
        </p:grpSpPr>
        <p:sp>
          <p:nvSpPr>
            <p:cNvPr id="808" name=""/>
            <p:cNvSpPr/>
            <p:nvPr/>
          </p:nvSpPr>
          <p:spPr>
            <a:xfrm>
              <a:off x="5307120" y="1776240"/>
              <a:ext cx="807840" cy="36756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 flipV="1">
              <a:off x="5307120" y="194976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07120" y="19497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307120" y="1776240"/>
              <a:ext cx="17064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77760" y="177624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77760" y="177624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39640" y="177624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39640" y="1776240"/>
              <a:ext cx="17496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14960" y="19497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944320" y="194976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44320" y="214380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477400" y="214380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77760" y="214380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77760" y="2143800"/>
              <a:ext cx="466200" cy="288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77760" y="214380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77760" y="24318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77760" y="2431800"/>
              <a:ext cx="4662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44320" y="243180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944320" y="214380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944320" y="214380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5477400" y="214380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77760" y="214380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944320" y="194976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4320" y="214380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44320" y="243180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5944320" y="22381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14960" y="22381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114960" y="19497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114960" y="19497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944320" y="194976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944320" y="214380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7120" y="194976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77760" y="214380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477760" y="24318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5307120" y="2225160"/>
              <a:ext cx="170640" cy="2066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07120" y="22251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5307120" y="1949760"/>
              <a:ext cx="1440" cy="2750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07120" y="19497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07120" y="194976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77760" y="214380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53360" y="2153520"/>
              <a:ext cx="316440" cy="261720"/>
            </a:xfrm>
            <a:custGeom>
              <a:avLst/>
              <a:gdLst>
                <a:gd name="textAreaLeft" fmla="*/ 72720 w 316440"/>
                <a:gd name="textAreaRight" fmla="*/ 243720 w 31644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11040" y="182808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5484960" y="1958400"/>
              <a:ext cx="45576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5495400" y="1842480"/>
              <a:ext cx="434880" cy="237600"/>
              <a:chOff x="5495400" y="1842480"/>
              <a:chExt cx="434880" cy="237600"/>
            </a:xfrm>
          </p:grpSpPr>
          <p:sp>
            <p:nvSpPr>
              <p:cNvPr id="852" name=""/>
              <p:cNvSpPr/>
              <p:nvPr/>
            </p:nvSpPr>
            <p:spPr>
              <a:xfrm>
                <a:off x="5495400" y="184248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495400" y="184248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 flipH="1">
              <a:off x="5483880" y="1958400"/>
              <a:ext cx="4557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5495400" y="1841040"/>
              <a:ext cx="434880" cy="237600"/>
              <a:chOff x="5495400" y="1841040"/>
              <a:chExt cx="434880" cy="237600"/>
            </a:xfrm>
          </p:grpSpPr>
          <p:sp>
            <p:nvSpPr>
              <p:cNvPr id="856" name=""/>
              <p:cNvSpPr/>
              <p:nvPr/>
            </p:nvSpPr>
            <p:spPr>
              <a:xfrm>
                <a:off x="5495400" y="184104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495400" y="184104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712480" y="182952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562720" y="2160000"/>
              <a:ext cx="299880" cy="250560"/>
            </a:xfrm>
            <a:custGeom>
              <a:avLst/>
              <a:gdLst>
                <a:gd name="textAreaLeft" fmla="*/ 74880 w 299880"/>
                <a:gd name="textAreaRight" fmla="*/ 225000 w 299880"/>
                <a:gd name="textAreaTop" fmla="*/ 62640 h 250560"/>
                <a:gd name="textAreaBottom" fmla="*/ 18792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6265440" y="11095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875200" y="136800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533920" y="1362240"/>
            <a:ext cx="0" cy="406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06760" y="97632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303800" y="4341960"/>
            <a:ext cx="819000" cy="352440"/>
          </a:xfrm>
          <a:custGeom>
            <a:avLst/>
            <a:gdLst/>
            <a:ahLst/>
            <a:rect l="l" t="t" r="r" b="b"/>
            <a:pathLst>
              <a:path w="652" h="217">
                <a:moveTo>
                  <a:pt x="138" y="217"/>
                </a:moveTo>
                <a:lnTo>
                  <a:pt x="0" y="103"/>
                </a:lnTo>
                <a:lnTo>
                  <a:pt x="138" y="0"/>
                </a:lnTo>
                <a:lnTo>
                  <a:pt x="510" y="0"/>
                </a:lnTo>
                <a:lnTo>
                  <a:pt x="652" y="103"/>
                </a:lnTo>
                <a:lnTo>
                  <a:pt x="514" y="217"/>
                </a:lnTo>
                <a:lnTo>
                  <a:pt x="138" y="217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4303800" y="450864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303800" y="4508640"/>
            <a:ext cx="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303800" y="4341600"/>
            <a:ext cx="172800" cy="166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476600" y="4341960"/>
            <a:ext cx="180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476600" y="4341960"/>
            <a:ext cx="46836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944960" y="4341960"/>
            <a:ext cx="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944960" y="4341960"/>
            <a:ext cx="177840" cy="166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22800" y="4508640"/>
            <a:ext cx="180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4950000" y="450864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50000" y="4694400"/>
            <a:ext cx="144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4476240" y="4694400"/>
            <a:ext cx="4734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76600" y="469440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76600" y="4694400"/>
            <a:ext cx="473400" cy="2743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76600" y="4694400"/>
            <a:ext cx="1800" cy="2743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76600" y="4968720"/>
            <a:ext cx="180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76600" y="4968720"/>
            <a:ext cx="47340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950000" y="4968720"/>
            <a:ext cx="144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950000" y="4694400"/>
            <a:ext cx="1440" cy="2743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0000" y="4694400"/>
            <a:ext cx="144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4476240" y="4694400"/>
            <a:ext cx="4734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476600" y="469440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0000" y="4508640"/>
            <a:ext cx="172800" cy="460080"/>
          </a:xfrm>
          <a:custGeom>
            <a:avLst/>
            <a:gdLst/>
            <a:ahLst/>
            <a:rect l="l" t="t" r="r" b="b"/>
            <a:pathLst>
              <a:path w="138" h="284">
                <a:moveTo>
                  <a:pt x="0" y="114"/>
                </a:moveTo>
                <a:lnTo>
                  <a:pt x="0" y="284"/>
                </a:lnTo>
                <a:lnTo>
                  <a:pt x="138" y="170"/>
                </a:lnTo>
                <a:lnTo>
                  <a:pt x="138" y="0"/>
                </a:lnTo>
                <a:lnTo>
                  <a:pt x="0" y="114"/>
                </a:lnTo>
                <a:close/>
              </a:path>
            </a:pathLst>
          </a:custGeom>
          <a:solidFill>
            <a:srgbClr val="004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50000" y="4694400"/>
            <a:ext cx="1440" cy="2743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0000" y="4968720"/>
            <a:ext cx="144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950000" y="4784400"/>
            <a:ext cx="172800" cy="1839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22800" y="478476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122800" y="4508280"/>
            <a:ext cx="1800" cy="2761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22800" y="4508640"/>
            <a:ext cx="180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4950000" y="450864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50000" y="4694400"/>
            <a:ext cx="144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303800" y="4508640"/>
            <a:ext cx="172800" cy="460080"/>
          </a:xfrm>
          <a:custGeom>
            <a:avLst/>
            <a:gdLst/>
            <a:ahLst/>
            <a:rect l="l" t="t" r="r" b="b"/>
            <a:pathLst>
              <a:path w="138" h="284">
                <a:moveTo>
                  <a:pt x="138" y="114"/>
                </a:moveTo>
                <a:lnTo>
                  <a:pt x="138" y="284"/>
                </a:lnTo>
                <a:lnTo>
                  <a:pt x="0" y="162"/>
                </a:lnTo>
                <a:lnTo>
                  <a:pt x="0" y="0"/>
                </a:lnTo>
                <a:lnTo>
                  <a:pt x="138" y="114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76600" y="4694400"/>
            <a:ext cx="1800" cy="2743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76600" y="4968720"/>
            <a:ext cx="180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4303800" y="4770000"/>
            <a:ext cx="172800" cy="1983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303800" y="4770360"/>
            <a:ext cx="0" cy="32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4303800" y="4508280"/>
            <a:ext cx="0" cy="2617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303800" y="4508640"/>
            <a:ext cx="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303800" y="450864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76600" y="469440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713120" y="4390920"/>
            <a:ext cx="0" cy="250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484520" y="4516560"/>
            <a:ext cx="46224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4494240" y="4406760"/>
            <a:ext cx="441360" cy="227160"/>
            <a:chOff x="4494240" y="4406760"/>
            <a:chExt cx="441360" cy="227160"/>
          </a:xfrm>
        </p:grpSpPr>
        <p:sp>
          <p:nvSpPr>
            <p:cNvPr id="907" name=""/>
            <p:cNvSpPr/>
            <p:nvPr/>
          </p:nvSpPr>
          <p:spPr>
            <a:xfrm>
              <a:off x="4494240" y="4406760"/>
              <a:ext cx="441360" cy="22716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0" y="0"/>
                  </a:moveTo>
                  <a:lnTo>
                    <a:pt x="427" y="0"/>
                  </a:lnTo>
                  <a:lnTo>
                    <a:pt x="1289" y="850"/>
                  </a:lnTo>
                  <a:lnTo>
                    <a:pt x="1717" y="850"/>
                  </a:lnTo>
                </a:path>
              </a:pathLst>
            </a:custGeom>
            <a:noFill/>
            <a:ln cap="rnd"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94240" y="4406760"/>
              <a:ext cx="441360" cy="22716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1717" y="0"/>
                  </a:moveTo>
                  <a:lnTo>
                    <a:pt x="1289" y="0"/>
                  </a:lnTo>
                  <a:lnTo>
                    <a:pt x="427" y="850"/>
                  </a:lnTo>
                  <a:lnTo>
                    <a:pt x="0" y="850"/>
                  </a:lnTo>
                </a:path>
              </a:pathLst>
            </a:custGeom>
            <a:noFill/>
            <a:ln cap="rnd"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 flipH="1">
            <a:off x="4482720" y="4516560"/>
            <a:ext cx="4618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494240" y="4403880"/>
            <a:ext cx="441360" cy="226800"/>
            <a:chOff x="4494240" y="4403880"/>
            <a:chExt cx="441360" cy="226800"/>
          </a:xfrm>
        </p:grpSpPr>
        <p:sp>
          <p:nvSpPr>
            <p:cNvPr id="911" name=""/>
            <p:cNvSpPr/>
            <p:nvPr/>
          </p:nvSpPr>
          <p:spPr>
            <a:xfrm>
              <a:off x="4494240" y="4403880"/>
              <a:ext cx="441360" cy="22680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0" y="0"/>
                  </a:moveTo>
                  <a:lnTo>
                    <a:pt x="427" y="0"/>
                  </a:lnTo>
                  <a:lnTo>
                    <a:pt x="1289" y="850"/>
                  </a:lnTo>
                  <a:lnTo>
                    <a:pt x="1717" y="85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94240" y="4403880"/>
              <a:ext cx="441360" cy="22680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1717" y="0"/>
                  </a:moveTo>
                  <a:lnTo>
                    <a:pt x="1289" y="0"/>
                  </a:lnTo>
                  <a:lnTo>
                    <a:pt x="427" y="850"/>
                  </a:lnTo>
                  <a:lnTo>
                    <a:pt x="0" y="85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4714920" y="4392720"/>
            <a:ext cx="0" cy="250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92520" y="4738680"/>
            <a:ext cx="243000" cy="190440"/>
          </a:xfrm>
          <a:custGeom>
            <a:avLst/>
            <a:gdLst>
              <a:gd name="textAreaLeft" fmla="*/ 60840 w 243000"/>
              <a:gd name="textAreaRight" fmla="*/ 182160 w 24300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344960" y="1549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930320" y="2122560"/>
            <a:ext cx="2386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b2b2b2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46400" y="2178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291520" y="1111320"/>
            <a:ext cx="51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362320" y="3722760"/>
            <a:ext cx="4775040" cy="430200"/>
          </a:xfrm>
          <a:custGeom>
            <a:avLst/>
            <a:gdLst/>
            <a:ahLst/>
            <a:rect l="l" t="t" r="r" b="b"/>
            <a:pathLst>
              <a:path w="3008" h="271">
                <a:moveTo>
                  <a:pt x="0" y="0"/>
                </a:moveTo>
                <a:cubicBezTo>
                  <a:pt x="425" y="128"/>
                  <a:pt x="851" y="257"/>
                  <a:pt x="1352" y="264"/>
                </a:cubicBezTo>
                <a:cubicBezTo>
                  <a:pt x="1853" y="271"/>
                  <a:pt x="2731" y="77"/>
                  <a:pt x="3008" y="40"/>
                </a:cubicBezTo>
              </a:path>
            </a:pathLst>
          </a:custGeom>
          <a:noFill/>
          <a:ln w="28440">
            <a:solidFill>
              <a:srgbClr val="deb018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07120" y="3701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72280" y="2176560"/>
            <a:ext cx="2387160" cy="12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38" y="34"/>
                </a:moveTo>
                <a:arcTo wR="10800" hR="10800" stAng="-5674733" swAng="6152511"/>
                <a:lnTo>
                  <a:pt x="10800" y="10800"/>
                </a:lnTo>
                <a:close/>
              </a:path>
              <a:path fill="none" w="21600" h="21600">
                <a:moveTo>
                  <a:pt x="9938" y="34"/>
                </a:moveTo>
                <a:arcTo wR="10800" hR="10800" stAng="-5674733" swAng="6152511"/>
              </a:path>
            </a:pathLst>
          </a:custGeom>
          <a:noFill/>
          <a:ln w="28440">
            <a:solidFill>
              <a:srgbClr val="ffff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161480" y="1974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rot="16200000">
            <a:off x="3202200" y="258480"/>
            <a:ext cx="3565440" cy="681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9" y="4802"/>
                </a:moveTo>
                <a:arcTo wR="10800" hR="10800" stAng="-8775816" swAng="17838912"/>
                <a:lnTo>
                  <a:pt x="10800" y="10800"/>
                </a:lnTo>
                <a:close/>
              </a:path>
              <a:path fill="none" w="21600" h="21600">
                <a:moveTo>
                  <a:pt x="1819" y="4802"/>
                </a:moveTo>
                <a:arcTo wR="10800" hR="10800" stAng="-8775816" swAng="17838912"/>
              </a:path>
            </a:pathLst>
          </a:custGeom>
          <a:noFill/>
          <a:ln w="28440">
            <a:solidFill>
              <a:srgbClr val="ee592e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97000" y="48895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Gb  Protec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 rot="16200000">
            <a:off x="2685240" y="-243360"/>
            <a:ext cx="4338720" cy="80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" y="6144"/>
                </a:moveTo>
                <a:arcTo wR="10800" hR="10800" stAng="-9267719" swAng="18789852"/>
                <a:lnTo>
                  <a:pt x="10800" y="10800"/>
                </a:lnTo>
                <a:close/>
              </a:path>
              <a:path fill="none" w="21600" h="21600">
                <a:moveTo>
                  <a:pt x="1055" y="6144"/>
                </a:moveTo>
                <a:arcTo wR="10800" hR="10800" stAng="-9267719" swAng="18789852"/>
              </a:path>
            </a:pathLst>
          </a:custGeom>
          <a:noFill/>
          <a:ln w="28440">
            <a:solidFill>
              <a:srgbClr val="cccc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870000" y="58831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Gb  Protec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573440" y="1771560"/>
            <a:ext cx="51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rot="19248600">
            <a:off x="1083600" y="1696680"/>
            <a:ext cx="2515680" cy="10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65" y="20190"/>
                </a:moveTo>
                <a:arcTo wR="10800" hR="10800" stAng="7176314" swAng="14043004"/>
                <a:lnTo>
                  <a:pt x="10800" y="10800"/>
                </a:lnTo>
                <a:close/>
              </a:path>
              <a:path fill="none" w="21600" h="21600">
                <a:moveTo>
                  <a:pt x="5465" y="20190"/>
                </a:moveTo>
                <a:arcTo wR="10800" hR="10800" stAng="7176314" swAng="14043004"/>
              </a:path>
            </a:pathLst>
          </a:custGeom>
          <a:noFill/>
          <a:ln w="28440">
            <a:solidFill>
              <a:srgbClr val="ee592e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0" y="0"/>
          <a:ext cx="182880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828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l_prov_02.pd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78C-BEAD-456C-A19C-8730AF3908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4098960" y="4280040"/>
            <a:ext cx="1289160" cy="88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47080" y="3121200"/>
            <a:ext cx="1218960" cy="826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47840" y="1738440"/>
            <a:ext cx="1219320" cy="826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052640" y="3019320"/>
            <a:ext cx="1218960" cy="82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03720" y="1712880"/>
            <a:ext cx="1219320" cy="82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76520" y="2276640"/>
            <a:ext cx="6311880" cy="2361960"/>
          </a:xfrm>
          <a:prstGeom prst="ellipse">
            <a:avLst/>
          </a:prstGeom>
          <a:noFill/>
          <a:ln w="28440">
            <a:solidFill>
              <a:srgbClr val="deb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625760" y="2149560"/>
            <a:ext cx="6311880" cy="2641680"/>
          </a:xfrm>
          <a:prstGeom prst="ellipse">
            <a:avLst/>
          </a:prstGeom>
          <a:noFill/>
          <a:ln w="28440">
            <a:solidFill>
              <a:srgbClr val="deb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498600"/>
            <a:ext cx="91440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PR Failure Scenario with Steering Prote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240920" y="3121200"/>
            <a:ext cx="810000" cy="656640"/>
            <a:chOff x="1240920" y="3121200"/>
            <a:chExt cx="810000" cy="656640"/>
          </a:xfrm>
        </p:grpSpPr>
        <p:sp>
          <p:nvSpPr>
            <p:cNvPr id="940" name=""/>
            <p:cNvSpPr/>
            <p:nvPr/>
          </p:nvSpPr>
          <p:spPr>
            <a:xfrm>
              <a:off x="1241280" y="3121200"/>
              <a:ext cx="808200" cy="36792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flipV="1">
              <a:off x="1240920" y="3295080"/>
              <a:ext cx="17172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241280" y="3295440"/>
              <a:ext cx="180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1241280" y="3121200"/>
              <a:ext cx="171720" cy="1742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13000" y="3121200"/>
              <a:ext cx="144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413000" y="3121200"/>
              <a:ext cx="46188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74880" y="3121200"/>
              <a:ext cx="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74880" y="3121200"/>
              <a:ext cx="174600" cy="1742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49480" y="3295440"/>
              <a:ext cx="144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878120" y="3295440"/>
              <a:ext cx="17136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78120" y="3489120"/>
              <a:ext cx="144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1413000" y="3489120"/>
              <a:ext cx="46512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13000" y="3489120"/>
              <a:ext cx="144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13000" y="3489120"/>
              <a:ext cx="465120" cy="2869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13000" y="3489120"/>
              <a:ext cx="1440" cy="2869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13000" y="37764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413000" y="3776400"/>
              <a:ext cx="46512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78120" y="37764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878120" y="3488760"/>
              <a:ext cx="1440" cy="2869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78120" y="3489120"/>
              <a:ext cx="144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1413000" y="3489120"/>
              <a:ext cx="46512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13000" y="3489120"/>
              <a:ext cx="144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878120" y="3295440"/>
              <a:ext cx="171360" cy="48060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878120" y="3489120"/>
              <a:ext cx="1440" cy="2869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78120" y="37764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1878120" y="3582360"/>
              <a:ext cx="17136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49480" y="35827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2049480" y="3295080"/>
              <a:ext cx="1440" cy="2869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049480" y="3295440"/>
              <a:ext cx="144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1878120" y="3295440"/>
              <a:ext cx="17136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78120" y="3489120"/>
              <a:ext cx="144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41280" y="3295440"/>
              <a:ext cx="171720" cy="48060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13000" y="3489120"/>
              <a:ext cx="1440" cy="2869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13000" y="37764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1240920" y="3570120"/>
              <a:ext cx="171720" cy="2059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41280" y="3570120"/>
              <a:ext cx="180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241280" y="3295440"/>
              <a:ext cx="1800" cy="274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241280" y="3295440"/>
              <a:ext cx="180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41280" y="3295440"/>
              <a:ext cx="17172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13000" y="3489120"/>
              <a:ext cx="1440" cy="10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87520" y="3498480"/>
              <a:ext cx="317520" cy="261720"/>
            </a:xfrm>
            <a:custGeom>
              <a:avLst/>
              <a:gdLst>
                <a:gd name="textAreaLeft" fmla="*/ 72720 w 317520"/>
                <a:gd name="textAreaRight" fmla="*/ 244800 w 31752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46280" y="317304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1419120" y="3303360"/>
              <a:ext cx="45720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"/>
            <p:cNvGrpSpPr/>
            <p:nvPr/>
          </p:nvGrpSpPr>
          <p:grpSpPr>
            <a:xfrm>
              <a:off x="1430280" y="3187440"/>
              <a:ext cx="434880" cy="237960"/>
              <a:chOff x="1430280" y="3187440"/>
              <a:chExt cx="434880" cy="237960"/>
            </a:xfrm>
          </p:grpSpPr>
          <p:sp>
            <p:nvSpPr>
              <p:cNvPr id="984" name=""/>
              <p:cNvSpPr/>
              <p:nvPr/>
            </p:nvSpPr>
            <p:spPr>
              <a:xfrm>
                <a:off x="1430280" y="3187440"/>
                <a:ext cx="434880" cy="23796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430280" y="3187440"/>
                <a:ext cx="434880" cy="23796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 flipH="1">
              <a:off x="1417680" y="3303360"/>
              <a:ext cx="45720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1430280" y="3186000"/>
              <a:ext cx="434880" cy="237600"/>
              <a:chOff x="1430280" y="3186000"/>
              <a:chExt cx="434880" cy="237600"/>
            </a:xfrm>
          </p:grpSpPr>
          <p:sp>
            <p:nvSpPr>
              <p:cNvPr id="988" name=""/>
              <p:cNvSpPr/>
              <p:nvPr/>
            </p:nvSpPr>
            <p:spPr>
              <a:xfrm>
                <a:off x="1430280" y="31860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430280" y="31860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1646280" y="317484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96880" y="3504960"/>
              <a:ext cx="300240" cy="250560"/>
            </a:xfrm>
            <a:custGeom>
              <a:avLst/>
              <a:gdLst>
                <a:gd name="textAreaLeft" fmla="*/ 74880 w 300240"/>
                <a:gd name="textAreaRight" fmla="*/ 225360 w 300240"/>
                <a:gd name="textAreaTop" fmla="*/ 62640 h 250560"/>
                <a:gd name="textAreaBottom" fmla="*/ 18792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3351240" y="1854360"/>
            <a:ext cx="809280" cy="656640"/>
            <a:chOff x="3351240" y="1854360"/>
            <a:chExt cx="809280" cy="656640"/>
          </a:xfrm>
        </p:grpSpPr>
        <p:sp>
          <p:nvSpPr>
            <p:cNvPr id="993" name=""/>
            <p:cNvSpPr/>
            <p:nvPr/>
          </p:nvSpPr>
          <p:spPr>
            <a:xfrm>
              <a:off x="3351240" y="1854360"/>
              <a:ext cx="807840" cy="36720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 flipV="1">
              <a:off x="3351240" y="202752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51240" y="20278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351240" y="1854360"/>
              <a:ext cx="17064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21880" y="18543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21880" y="185436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83760" y="185436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983760" y="1854360"/>
              <a:ext cx="17496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59080" y="20278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3988440" y="202788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88440" y="22215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521520" y="22215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21880" y="22215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1880" y="2221560"/>
              <a:ext cx="466200" cy="288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21880" y="22215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21880" y="25095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21880" y="2509560"/>
              <a:ext cx="4662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88440" y="25095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3988440" y="22215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988440" y="22215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521520" y="22215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521880" y="22215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88440" y="202788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88440" y="22215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988440" y="25095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988440" y="231552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159080" y="23158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4159080" y="202788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59080" y="20278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3988440" y="202788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88440" y="22215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51240" y="202788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521880" y="22215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521880" y="25095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3351240" y="2302920"/>
              <a:ext cx="170640" cy="206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51240" y="23032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3351240" y="2027880"/>
              <a:ext cx="1440" cy="2750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51240" y="20278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51240" y="202788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21880" y="22215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97480" y="2231640"/>
              <a:ext cx="316440" cy="261720"/>
            </a:xfrm>
            <a:custGeom>
              <a:avLst/>
              <a:gdLst>
                <a:gd name="textAreaLeft" fmla="*/ 72720 w 316440"/>
                <a:gd name="textAreaRight" fmla="*/ 243720 w 31644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55160" y="190620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529080" y="2036520"/>
              <a:ext cx="45576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3539520" y="1920600"/>
              <a:ext cx="434880" cy="237240"/>
              <a:chOff x="3539520" y="1920600"/>
              <a:chExt cx="434880" cy="237240"/>
            </a:xfrm>
          </p:grpSpPr>
          <p:sp>
            <p:nvSpPr>
              <p:cNvPr id="1037" name=""/>
              <p:cNvSpPr/>
              <p:nvPr/>
            </p:nvSpPr>
            <p:spPr>
              <a:xfrm>
                <a:off x="3539520" y="1920600"/>
                <a:ext cx="434880" cy="23724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539520" y="1920600"/>
                <a:ext cx="434880" cy="23724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 flipH="1">
              <a:off x="3528000" y="2036520"/>
              <a:ext cx="4557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3539520" y="1919160"/>
              <a:ext cx="434880" cy="237240"/>
              <a:chOff x="3539520" y="1919160"/>
              <a:chExt cx="434880" cy="237240"/>
            </a:xfrm>
          </p:grpSpPr>
          <p:sp>
            <p:nvSpPr>
              <p:cNvPr id="1041" name=""/>
              <p:cNvSpPr/>
              <p:nvPr/>
            </p:nvSpPr>
            <p:spPr>
              <a:xfrm>
                <a:off x="3539520" y="1919160"/>
                <a:ext cx="434880" cy="23724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39520" y="1919160"/>
                <a:ext cx="434880" cy="23724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3756600" y="190764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606840" y="2237760"/>
              <a:ext cx="299880" cy="250200"/>
            </a:xfrm>
            <a:custGeom>
              <a:avLst/>
              <a:gdLst>
                <a:gd name="textAreaLeft" fmla="*/ 74880 w 299880"/>
                <a:gd name="textAreaRight" fmla="*/ 225000 w 299880"/>
                <a:gd name="textAreaTop" fmla="*/ 62640 h 250200"/>
                <a:gd name="textAreaBottom" fmla="*/ 187920 h 25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7369200" y="3225960"/>
            <a:ext cx="809280" cy="656640"/>
            <a:chOff x="7369200" y="3225960"/>
            <a:chExt cx="809280" cy="656640"/>
          </a:xfrm>
        </p:grpSpPr>
        <p:sp>
          <p:nvSpPr>
            <p:cNvPr id="1046" name=""/>
            <p:cNvSpPr/>
            <p:nvPr/>
          </p:nvSpPr>
          <p:spPr>
            <a:xfrm>
              <a:off x="7369200" y="3225960"/>
              <a:ext cx="807840" cy="36720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 flipV="1">
              <a:off x="7369200" y="339912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69200" y="33994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369200" y="3225960"/>
              <a:ext cx="17064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539840" y="32259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39840" y="322596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001720" y="322596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001720" y="3225960"/>
              <a:ext cx="17496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77040" y="33994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8006400" y="339948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006400" y="35931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7539480" y="35931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539840" y="35931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39840" y="3593160"/>
              <a:ext cx="466200" cy="288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539840" y="35931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539840" y="38811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539840" y="3881160"/>
              <a:ext cx="4662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006400" y="38811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8006400" y="35931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006400" y="35931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7539480" y="35931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39840" y="35931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006400" y="339948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006400" y="35931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006400" y="38811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8006400" y="368712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177040" y="36874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8177040" y="339948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177040" y="33994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8006400" y="339948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006400" y="35931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369200" y="339948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539840" y="35931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539840" y="38811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 flipV="1">
              <a:off x="7369200" y="3674520"/>
              <a:ext cx="170640" cy="2062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369200" y="36748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7369200" y="3399480"/>
              <a:ext cx="1440" cy="2750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369200" y="339948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69200" y="3399480"/>
              <a:ext cx="170640" cy="1933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539840" y="35931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615440" y="3603240"/>
              <a:ext cx="316440" cy="261720"/>
            </a:xfrm>
            <a:custGeom>
              <a:avLst/>
              <a:gdLst>
                <a:gd name="textAreaLeft" fmla="*/ 72720 w 316440"/>
                <a:gd name="textAreaRight" fmla="*/ 243720 w 31644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73120" y="327780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7547040" y="3408120"/>
              <a:ext cx="45576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7557480" y="3292200"/>
              <a:ext cx="434880" cy="237240"/>
              <a:chOff x="7557480" y="3292200"/>
              <a:chExt cx="434880" cy="237240"/>
            </a:xfrm>
          </p:grpSpPr>
          <p:sp>
            <p:nvSpPr>
              <p:cNvPr id="1090" name=""/>
              <p:cNvSpPr/>
              <p:nvPr/>
            </p:nvSpPr>
            <p:spPr>
              <a:xfrm>
                <a:off x="7557480" y="3292200"/>
                <a:ext cx="434880" cy="23724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557480" y="3292200"/>
                <a:ext cx="434880" cy="23724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2" name=""/>
            <p:cNvSpPr/>
            <p:nvPr/>
          </p:nvSpPr>
          <p:spPr>
            <a:xfrm flipH="1">
              <a:off x="7545960" y="3408120"/>
              <a:ext cx="4557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7557480" y="3290760"/>
              <a:ext cx="434880" cy="237240"/>
              <a:chOff x="7557480" y="3290760"/>
              <a:chExt cx="434880" cy="237240"/>
            </a:xfrm>
          </p:grpSpPr>
          <p:sp>
            <p:nvSpPr>
              <p:cNvPr id="1094" name=""/>
              <p:cNvSpPr/>
              <p:nvPr/>
            </p:nvSpPr>
            <p:spPr>
              <a:xfrm>
                <a:off x="7557480" y="3290760"/>
                <a:ext cx="434880" cy="23724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557480" y="3290760"/>
                <a:ext cx="434880" cy="23724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7774560" y="327924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624800" y="3609360"/>
              <a:ext cx="299880" cy="250200"/>
            </a:xfrm>
            <a:custGeom>
              <a:avLst/>
              <a:gdLst>
                <a:gd name="textAreaLeft" fmla="*/ 74880 w 299880"/>
                <a:gd name="textAreaRight" fmla="*/ 225000 w 299880"/>
                <a:gd name="textAreaTop" fmla="*/ 62640 h 250200"/>
                <a:gd name="textAreaBottom" fmla="*/ 187920 h 25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4372920" y="532620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20440" y="2421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922880" y="2492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52520" y="12128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384800" y="3495600"/>
            <a:ext cx="1033200" cy="1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22280" y="2975040"/>
            <a:ext cx="16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and Pro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3919680" y="144576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3578400" y="143964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784080" y="3243240"/>
            <a:ext cx="493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63560" y="3643200"/>
            <a:ext cx="493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8076960" y="3279600"/>
            <a:ext cx="493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8097480" y="3767040"/>
            <a:ext cx="493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350880" y="105408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880" y="320508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324640" y="328608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613240" y="325764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Gb R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307120" y="1828800"/>
            <a:ext cx="809280" cy="657000"/>
            <a:chOff x="5307120" y="1828800"/>
            <a:chExt cx="809280" cy="657000"/>
          </a:xfrm>
        </p:grpSpPr>
        <p:sp>
          <p:nvSpPr>
            <p:cNvPr id="1115" name=""/>
            <p:cNvSpPr/>
            <p:nvPr/>
          </p:nvSpPr>
          <p:spPr>
            <a:xfrm>
              <a:off x="5307120" y="1828800"/>
              <a:ext cx="807840" cy="367560"/>
            </a:xfrm>
            <a:custGeom>
              <a:avLst/>
              <a:gdLst/>
              <a:ahLst/>
              <a:rect l="l" t="t" r="r" b="b"/>
              <a:pathLst>
                <a:path w="652" h="217">
                  <a:moveTo>
                    <a:pt x="138" y="217"/>
                  </a:moveTo>
                  <a:lnTo>
                    <a:pt x="0" y="103"/>
                  </a:lnTo>
                  <a:lnTo>
                    <a:pt x="138" y="0"/>
                  </a:lnTo>
                  <a:lnTo>
                    <a:pt x="510" y="0"/>
                  </a:lnTo>
                  <a:lnTo>
                    <a:pt x="652" y="103"/>
                  </a:lnTo>
                  <a:lnTo>
                    <a:pt x="514" y="217"/>
                  </a:lnTo>
                  <a:lnTo>
                    <a:pt x="138" y="217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5307120" y="20023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07120" y="2002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307120" y="1828800"/>
              <a:ext cx="17064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77760" y="182880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477760" y="1828800"/>
              <a:ext cx="4618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939640" y="1828800"/>
              <a:ext cx="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39640" y="1828800"/>
              <a:ext cx="174960" cy="17352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114960" y="2002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5944320" y="20023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44320" y="21963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477400" y="21963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77760" y="21963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77760" y="2196360"/>
              <a:ext cx="466200" cy="288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477760" y="21963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477760" y="24843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77760" y="2484360"/>
              <a:ext cx="46620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44320" y="24843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5944320" y="21963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44320" y="21963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5477400" y="2196360"/>
              <a:ext cx="46620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477760" y="21963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4320" y="200232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0" y="114"/>
                  </a:moveTo>
                  <a:lnTo>
                    <a:pt x="0" y="284"/>
                  </a:lnTo>
                  <a:lnTo>
                    <a:pt x="138" y="170"/>
                  </a:lnTo>
                  <a:lnTo>
                    <a:pt x="138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44320" y="2196360"/>
              <a:ext cx="108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44320" y="2484360"/>
              <a:ext cx="108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944320" y="229068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114960" y="229068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6114960" y="200232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14960" y="2002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5944320" y="20023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44320" y="2196360"/>
              <a:ext cx="108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307120" y="2002320"/>
              <a:ext cx="170640" cy="48168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8" y="114"/>
                  </a:moveTo>
                  <a:lnTo>
                    <a:pt x="138" y="284"/>
                  </a:lnTo>
                  <a:lnTo>
                    <a:pt x="0" y="162"/>
                  </a:lnTo>
                  <a:lnTo>
                    <a:pt x="0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00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77760" y="2196360"/>
              <a:ext cx="1440" cy="2880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77760" y="248436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flipV="1">
              <a:off x="5307120" y="2277720"/>
              <a:ext cx="170640" cy="2066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07120" y="2277720"/>
              <a:ext cx="1440" cy="14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5307120" y="2002320"/>
              <a:ext cx="1440" cy="27504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307120" y="200232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07120" y="2002320"/>
              <a:ext cx="170640" cy="19368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77760" y="2196360"/>
              <a:ext cx="1440" cy="1800"/>
            </a:xfrm>
            <a:prstGeom prst="line">
              <a:avLst/>
            </a:prstGeom>
            <a:ln w="648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553360" y="2206080"/>
              <a:ext cx="316440" cy="261720"/>
            </a:xfrm>
            <a:custGeom>
              <a:avLst/>
              <a:gdLst>
                <a:gd name="textAreaLeft" fmla="*/ 72720 w 316440"/>
                <a:gd name="textAreaRight" fmla="*/ 243720 w 316440"/>
                <a:gd name="textAreaTop" fmla="*/ 60120 h 261720"/>
                <a:gd name="textAreaBottom" fmla="*/ 2016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4" y="4964"/>
                  </a:moveTo>
                  <a:lnTo>
                    <a:pt x="9431" y="4964"/>
                  </a:lnTo>
                  <a:lnTo>
                    <a:pt x="9431" y="3220"/>
                  </a:lnTo>
                  <a:lnTo>
                    <a:pt x="8100" y="3220"/>
                  </a:lnTo>
                  <a:lnTo>
                    <a:pt x="10800" y="0"/>
                  </a:lnTo>
                  <a:lnTo>
                    <a:pt x="13500" y="3220"/>
                  </a:lnTo>
                  <a:lnTo>
                    <a:pt x="12169" y="3220"/>
                  </a:lnTo>
                  <a:lnTo>
                    <a:pt x="12169" y="4964"/>
                  </a:lnTo>
                  <a:lnTo>
                    <a:pt x="16636" y="4964"/>
                  </a:lnTo>
                  <a:lnTo>
                    <a:pt x="16636" y="9431"/>
                  </a:lnTo>
                  <a:lnTo>
                    <a:pt x="18380" y="9431"/>
                  </a:lnTo>
                  <a:lnTo>
                    <a:pt x="18380" y="8100"/>
                  </a:lnTo>
                  <a:lnTo>
                    <a:pt x="21600" y="10800"/>
                  </a:lnTo>
                  <a:lnTo>
                    <a:pt x="18380" y="13500"/>
                  </a:lnTo>
                  <a:lnTo>
                    <a:pt x="18380" y="12169"/>
                  </a:lnTo>
                  <a:lnTo>
                    <a:pt x="16636" y="12169"/>
                  </a:lnTo>
                  <a:lnTo>
                    <a:pt x="16636" y="16636"/>
                  </a:lnTo>
                  <a:lnTo>
                    <a:pt x="12169" y="16636"/>
                  </a:lnTo>
                  <a:lnTo>
                    <a:pt x="12169" y="18380"/>
                  </a:lnTo>
                  <a:lnTo>
                    <a:pt x="13500" y="18380"/>
                  </a:lnTo>
                  <a:lnTo>
                    <a:pt x="10800" y="21600"/>
                  </a:lnTo>
                  <a:lnTo>
                    <a:pt x="8100" y="18380"/>
                  </a:lnTo>
                  <a:lnTo>
                    <a:pt x="9431" y="18380"/>
                  </a:lnTo>
                  <a:lnTo>
                    <a:pt x="9431" y="16636"/>
                  </a:lnTo>
                  <a:lnTo>
                    <a:pt x="4964" y="16636"/>
                  </a:lnTo>
                  <a:lnTo>
                    <a:pt x="4964" y="12169"/>
                  </a:lnTo>
                  <a:lnTo>
                    <a:pt x="3220" y="12169"/>
                  </a:lnTo>
                  <a:lnTo>
                    <a:pt x="3220" y="13500"/>
                  </a:lnTo>
                  <a:lnTo>
                    <a:pt x="0" y="10800"/>
                  </a:lnTo>
                  <a:lnTo>
                    <a:pt x="3220" y="8100"/>
                  </a:lnTo>
                  <a:lnTo>
                    <a:pt x="3220" y="9431"/>
                  </a:lnTo>
                  <a:lnTo>
                    <a:pt x="4964" y="9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11040" y="1880640"/>
              <a:ext cx="0" cy="2617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5484960" y="2010960"/>
              <a:ext cx="45576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495400" y="1895040"/>
              <a:ext cx="434880" cy="237600"/>
              <a:chOff x="5495400" y="1895040"/>
              <a:chExt cx="434880" cy="237600"/>
            </a:xfrm>
          </p:grpSpPr>
          <p:sp>
            <p:nvSpPr>
              <p:cNvPr id="1159" name=""/>
              <p:cNvSpPr/>
              <p:nvPr/>
            </p:nvSpPr>
            <p:spPr>
              <a:xfrm>
                <a:off x="5495400" y="189504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95400" y="189504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 flipH="1">
              <a:off x="5483880" y="2010960"/>
              <a:ext cx="455760" cy="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2" name=""/>
            <p:cNvGrpSpPr/>
            <p:nvPr/>
          </p:nvGrpSpPr>
          <p:grpSpPr>
            <a:xfrm>
              <a:off x="5495400" y="1893600"/>
              <a:ext cx="434880" cy="237600"/>
              <a:chOff x="5495400" y="1893600"/>
              <a:chExt cx="434880" cy="237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5495400" y="18936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0" y="0"/>
                    </a:moveTo>
                    <a:lnTo>
                      <a:pt x="427" y="0"/>
                    </a:lnTo>
                    <a:lnTo>
                      <a:pt x="1289" y="850"/>
                    </a:lnTo>
                    <a:lnTo>
                      <a:pt x="1717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95400" y="1893600"/>
                <a:ext cx="434880" cy="237600"/>
              </a:xfrm>
              <a:custGeom>
                <a:avLst/>
                <a:gdLst/>
                <a:ahLst/>
                <a:rect l="l" t="t" r="r" b="b"/>
                <a:pathLst>
                  <a:path w="1718" h="851">
                    <a:moveTo>
                      <a:pt x="1717" y="0"/>
                    </a:moveTo>
                    <a:lnTo>
                      <a:pt x="1289" y="0"/>
                    </a:lnTo>
                    <a:lnTo>
                      <a:pt x="427" y="850"/>
                    </a:lnTo>
                    <a:lnTo>
                      <a:pt x="0" y="85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5712480" y="1882080"/>
              <a:ext cx="0" cy="261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62720" y="2212560"/>
              <a:ext cx="299880" cy="250560"/>
            </a:xfrm>
            <a:custGeom>
              <a:avLst/>
              <a:gdLst>
                <a:gd name="textAreaLeft" fmla="*/ 74880 w 299880"/>
                <a:gd name="textAreaRight" fmla="*/ 225000 w 299880"/>
                <a:gd name="textAreaTop" fmla="*/ 62640 h 250560"/>
                <a:gd name="textAreaBottom" fmla="*/ 18792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6265440" y="11620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875200" y="142056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533920" y="1414080"/>
            <a:ext cx="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306760" y="102888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303800" y="4394160"/>
            <a:ext cx="819000" cy="352440"/>
          </a:xfrm>
          <a:custGeom>
            <a:avLst/>
            <a:gdLst/>
            <a:ahLst/>
            <a:rect l="l" t="t" r="r" b="b"/>
            <a:pathLst>
              <a:path w="652" h="217">
                <a:moveTo>
                  <a:pt x="138" y="217"/>
                </a:moveTo>
                <a:lnTo>
                  <a:pt x="0" y="103"/>
                </a:lnTo>
                <a:lnTo>
                  <a:pt x="138" y="0"/>
                </a:lnTo>
                <a:lnTo>
                  <a:pt x="510" y="0"/>
                </a:lnTo>
                <a:lnTo>
                  <a:pt x="652" y="103"/>
                </a:lnTo>
                <a:lnTo>
                  <a:pt x="514" y="217"/>
                </a:lnTo>
                <a:lnTo>
                  <a:pt x="138" y="217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4303800" y="456084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03800" y="4560840"/>
            <a:ext cx="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4303800" y="4393800"/>
            <a:ext cx="172800" cy="166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476600" y="4394160"/>
            <a:ext cx="180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476600" y="4394160"/>
            <a:ext cx="46836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944960" y="4394160"/>
            <a:ext cx="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944960" y="4394160"/>
            <a:ext cx="177840" cy="166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122800" y="4560840"/>
            <a:ext cx="180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4950000" y="456084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50000" y="4746600"/>
            <a:ext cx="144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4476240" y="4746600"/>
            <a:ext cx="4734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476600" y="474660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476600" y="4746600"/>
            <a:ext cx="473400" cy="27468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76600" y="4746600"/>
            <a:ext cx="1800" cy="274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476600" y="5021280"/>
            <a:ext cx="180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76600" y="5021280"/>
            <a:ext cx="47340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0000" y="5021280"/>
            <a:ext cx="144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950000" y="4746240"/>
            <a:ext cx="1440" cy="274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950000" y="4746600"/>
            <a:ext cx="144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4476240" y="4746600"/>
            <a:ext cx="4734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476600" y="474660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0000" y="4560840"/>
            <a:ext cx="172800" cy="460440"/>
          </a:xfrm>
          <a:custGeom>
            <a:avLst/>
            <a:gdLst/>
            <a:ahLst/>
            <a:rect l="l" t="t" r="r" b="b"/>
            <a:pathLst>
              <a:path w="138" h="284">
                <a:moveTo>
                  <a:pt x="0" y="114"/>
                </a:moveTo>
                <a:lnTo>
                  <a:pt x="0" y="284"/>
                </a:lnTo>
                <a:lnTo>
                  <a:pt x="138" y="170"/>
                </a:lnTo>
                <a:lnTo>
                  <a:pt x="138" y="0"/>
                </a:lnTo>
                <a:lnTo>
                  <a:pt x="0" y="114"/>
                </a:lnTo>
                <a:close/>
              </a:path>
            </a:pathLst>
          </a:custGeom>
          <a:solidFill>
            <a:srgbClr val="004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950000" y="4746600"/>
            <a:ext cx="1440" cy="274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950000" y="5021280"/>
            <a:ext cx="144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4950000" y="4836960"/>
            <a:ext cx="172800" cy="1843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22800" y="483696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5122800" y="4560480"/>
            <a:ext cx="1800" cy="27612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22800" y="4560840"/>
            <a:ext cx="180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4950000" y="456084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950000" y="4746600"/>
            <a:ext cx="144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303800" y="4560840"/>
            <a:ext cx="172800" cy="460440"/>
          </a:xfrm>
          <a:custGeom>
            <a:avLst/>
            <a:gdLst/>
            <a:ahLst/>
            <a:rect l="l" t="t" r="r" b="b"/>
            <a:pathLst>
              <a:path w="138" h="284">
                <a:moveTo>
                  <a:pt x="138" y="114"/>
                </a:moveTo>
                <a:lnTo>
                  <a:pt x="138" y="284"/>
                </a:lnTo>
                <a:lnTo>
                  <a:pt x="0" y="162"/>
                </a:lnTo>
                <a:lnTo>
                  <a:pt x="0" y="0"/>
                </a:lnTo>
                <a:lnTo>
                  <a:pt x="138" y="114"/>
                </a:lnTo>
                <a:close/>
              </a:path>
            </a:pathLst>
          </a:custGeom>
          <a:solidFill>
            <a:srgbClr val="00b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76600" y="4746600"/>
            <a:ext cx="1800" cy="2746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76600" y="5021280"/>
            <a:ext cx="1800" cy="14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303800" y="4822560"/>
            <a:ext cx="172800" cy="1983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03800" y="4822920"/>
            <a:ext cx="0" cy="324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4303800" y="4560840"/>
            <a:ext cx="0" cy="26208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303800" y="4560840"/>
            <a:ext cx="0" cy="180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303800" y="4560840"/>
            <a:ext cx="172800" cy="18576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76600" y="4746600"/>
            <a:ext cx="1800" cy="0"/>
          </a:xfrm>
          <a:prstGeom prst="line">
            <a:avLst/>
          </a:prstGeom>
          <a:ln w="648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713120" y="4443480"/>
            <a:ext cx="0" cy="2509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484520" y="4568760"/>
            <a:ext cx="462240" cy="18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494240" y="4459320"/>
            <a:ext cx="441360" cy="227160"/>
            <a:chOff x="4494240" y="4459320"/>
            <a:chExt cx="441360" cy="227160"/>
          </a:xfrm>
        </p:grpSpPr>
        <p:sp>
          <p:nvSpPr>
            <p:cNvPr id="1214" name=""/>
            <p:cNvSpPr/>
            <p:nvPr/>
          </p:nvSpPr>
          <p:spPr>
            <a:xfrm>
              <a:off x="4494240" y="4459320"/>
              <a:ext cx="441360" cy="22716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0" y="0"/>
                  </a:moveTo>
                  <a:lnTo>
                    <a:pt x="427" y="0"/>
                  </a:lnTo>
                  <a:lnTo>
                    <a:pt x="1289" y="850"/>
                  </a:lnTo>
                  <a:lnTo>
                    <a:pt x="1717" y="850"/>
                  </a:lnTo>
                </a:path>
              </a:pathLst>
            </a:custGeom>
            <a:noFill/>
            <a:ln cap="rnd"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494240" y="4459320"/>
              <a:ext cx="441360" cy="22716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1717" y="0"/>
                  </a:moveTo>
                  <a:lnTo>
                    <a:pt x="1289" y="0"/>
                  </a:lnTo>
                  <a:lnTo>
                    <a:pt x="427" y="850"/>
                  </a:lnTo>
                  <a:lnTo>
                    <a:pt x="0" y="850"/>
                  </a:lnTo>
                </a:path>
              </a:pathLst>
            </a:custGeom>
            <a:noFill/>
            <a:ln cap="rnd"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 flipH="1">
            <a:off x="4482720" y="4568760"/>
            <a:ext cx="4618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4494240" y="4456080"/>
            <a:ext cx="441360" cy="227160"/>
            <a:chOff x="4494240" y="4456080"/>
            <a:chExt cx="441360" cy="227160"/>
          </a:xfrm>
        </p:grpSpPr>
        <p:sp>
          <p:nvSpPr>
            <p:cNvPr id="1218" name=""/>
            <p:cNvSpPr/>
            <p:nvPr/>
          </p:nvSpPr>
          <p:spPr>
            <a:xfrm>
              <a:off x="4494240" y="4456080"/>
              <a:ext cx="441360" cy="22716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0" y="0"/>
                  </a:moveTo>
                  <a:lnTo>
                    <a:pt x="427" y="0"/>
                  </a:lnTo>
                  <a:lnTo>
                    <a:pt x="1289" y="850"/>
                  </a:lnTo>
                  <a:lnTo>
                    <a:pt x="1717" y="85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494240" y="4456080"/>
              <a:ext cx="441360" cy="227160"/>
            </a:xfrm>
            <a:custGeom>
              <a:avLst/>
              <a:gdLst/>
              <a:ahLst/>
              <a:rect l="l" t="t" r="r" b="b"/>
              <a:pathLst>
                <a:path w="1718" h="851">
                  <a:moveTo>
                    <a:pt x="1717" y="0"/>
                  </a:moveTo>
                  <a:lnTo>
                    <a:pt x="1289" y="0"/>
                  </a:lnTo>
                  <a:lnTo>
                    <a:pt x="427" y="850"/>
                  </a:lnTo>
                  <a:lnTo>
                    <a:pt x="0" y="85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4714920" y="4444920"/>
            <a:ext cx="0" cy="2509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592520" y="4791240"/>
            <a:ext cx="243000" cy="190440"/>
          </a:xfrm>
          <a:custGeom>
            <a:avLst/>
            <a:gdLst>
              <a:gd name="textAreaLeft" fmla="*/ 60840 w 243000"/>
              <a:gd name="textAreaRight" fmla="*/ 182160 w 24300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1930320" y="2174760"/>
            <a:ext cx="238680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b2b2b2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246400" y="2230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291520" y="1163520"/>
            <a:ext cx="51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362320" y="3774960"/>
            <a:ext cx="4775040" cy="430200"/>
          </a:xfrm>
          <a:custGeom>
            <a:avLst/>
            <a:gdLst/>
            <a:ahLst/>
            <a:rect l="l" t="t" r="r" b="b"/>
            <a:pathLst>
              <a:path w="3008" h="271">
                <a:moveTo>
                  <a:pt x="0" y="0"/>
                </a:moveTo>
                <a:cubicBezTo>
                  <a:pt x="425" y="128"/>
                  <a:pt x="851" y="257"/>
                  <a:pt x="1352" y="264"/>
                </a:cubicBezTo>
                <a:cubicBezTo>
                  <a:pt x="1853" y="271"/>
                  <a:pt x="2731" y="77"/>
                  <a:pt x="3008" y="40"/>
                </a:cubicBezTo>
              </a:path>
            </a:pathLst>
          </a:custGeom>
          <a:noFill/>
          <a:ln w="28440">
            <a:solidFill>
              <a:srgbClr val="deb018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307120" y="3754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72280" y="2228760"/>
            <a:ext cx="2387160" cy="12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38" y="34"/>
                </a:moveTo>
                <a:arcTo wR="10800" hR="10800" stAng="-5674733" swAng="6152511"/>
                <a:lnTo>
                  <a:pt x="10800" y="10800"/>
                </a:lnTo>
                <a:close/>
              </a:path>
              <a:path fill="none" w="21600" h="21600">
                <a:moveTo>
                  <a:pt x="9938" y="34"/>
                </a:moveTo>
                <a:arcTo wR="10800" hR="10800" stAng="-5674733" swAng="6152511"/>
              </a:path>
            </a:pathLst>
          </a:custGeom>
          <a:noFill/>
          <a:ln w="28440">
            <a:solidFill>
              <a:srgbClr val="ffff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161480" y="2027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 rot="16200000">
            <a:off x="3202200" y="311040"/>
            <a:ext cx="3565440" cy="681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44630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4463096"/>
              </a:path>
            </a:pathLst>
          </a:custGeom>
          <a:noFill/>
          <a:ln w="28440">
            <a:solidFill>
              <a:srgbClr val="ee592e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697000" y="4941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Gb  Protec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rot="16200000">
            <a:off x="2685600" y="-190800"/>
            <a:ext cx="4338360" cy="80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" y="6144"/>
                </a:moveTo>
                <a:arcTo wR="10800" hR="10800" stAng="-9267719" swAng="18789852"/>
                <a:lnTo>
                  <a:pt x="10800" y="10800"/>
                </a:lnTo>
                <a:close/>
              </a:path>
              <a:path fill="none" w="21600" h="21600">
                <a:moveTo>
                  <a:pt x="1055" y="6144"/>
                </a:moveTo>
                <a:arcTo wR="10800" hR="10800" stAng="-9267719" swAng="18789852"/>
              </a:path>
            </a:pathLst>
          </a:custGeom>
          <a:noFill/>
          <a:ln w="28440">
            <a:solidFill>
              <a:srgbClr val="cccc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70000" y="59356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Gb  Protec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573440" y="1824120"/>
            <a:ext cx="51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3480" y="5533920"/>
            <a:ext cx="299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is case the bandwidth demand between Edge 2 and Edge 4 is 20Gb which is twice the HS r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0" y="0"/>
          <a:ext cx="198108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9810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l_prov_02.pd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6D6-0656-4454-A7BF-63B1E278B2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-647640" y="2057400"/>
            <a:ext cx="97916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wo fibers do not allow for  TDM 10 Gb / OC192c signal trans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ircuit Emulated TDM traffic on an RPR ring can not exceed 50% of the effective bandwidth on the RPR ring over any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t will be difficult for RPR to be Competitive against 4 fiber BLSR designs for TDM type traffi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 Data, will the through put be sufficient to compete against SON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089080" y="817560"/>
            <a:ext cx="5992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sues associated with Bandwidth provis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0" y="0"/>
          <a:ext cx="22096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096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l_prov_02.pd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BB3-5857-41DF-AF58-8E0A53B895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1441440" y="817560"/>
            <a:ext cx="5992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sues associated with Bandwidth provis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1979640"/>
            <a:ext cx="914400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Circuit Emulated TDM traffic on an RPR ring does exceed 50%, CE traffic will drop during a fiber switching ev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uld the provisioning section (there is not provisioning section), have rules for provisioning (only a small paragraph 9.10 that has pre-provisioning capability for HP traffic)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this get addressed in the specification or is this a vendor implementation iss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3" name=""/>
          <p:cNvGraphicFramePr/>
          <p:nvPr/>
        </p:nvGraphicFramePr>
        <p:xfrm>
          <a:off x="0" y="0"/>
          <a:ext cx="22096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096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l_prov_02.pd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69F-6BFE-41F9-B865-AF952EA877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441440" y="817560"/>
            <a:ext cx="5992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sues associated with Bandwidth provis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1979640"/>
            <a:ext cx="9144000" cy="33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will affect all RPR implementations whether they are only 2 fiber rings or ringlets, whether wrapping or steering application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may be so simple that  the general consensus is that one would not provision more than 50% CE traf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has not been discussed and now is the time to inject provisioning rules into the specification if it is going to happ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7" name=""/>
          <p:cNvGraphicFramePr/>
          <p:nvPr/>
        </p:nvGraphicFramePr>
        <p:xfrm>
          <a:off x="0" y="0"/>
          <a:ext cx="22096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096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l_prov_02.pd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FCF-EDBD-4835-9154-67F54CDE5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16:33:59Z</dcterms:created>
  <dc:creator>Rodney Lindemeier</dc:creator>
  <dc:description/>
  <dc:language>en-US</dc:language>
  <cp:lastModifiedBy>Rodney Lindemeier</cp:lastModifiedBy>
  <dcterms:modified xsi:type="dcterms:W3CDTF">2002-07-08T21:27:46Z</dcterms:modified>
  <cp:revision>7</cp:revision>
  <dc:subject/>
  <dc:title>PowerPoint Presentation</dc:title>
</cp:coreProperties>
</file>