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D6B5D-C3B7-472F-8B00-97F0E8AB1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1BDD1-D0EA-4951-AF6F-1CAD65BC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9EBE6-83FD-41F3-8366-77AE31366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8EE08-0720-4EF7-A726-AECA2D5D5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D4401-1B48-447A-B38A-89F5DC749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7E44E-F363-4E29-973D-7FF1C2877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635B-EBE6-4EC5-850E-128BA2ECE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6AB1-47C5-493E-804C-D24ADE05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D132C-EDF8-4049-BBD5-8E7E954D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E558E-0D65-4A10-856F-D1605FFA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AA69-8811-4829-98CF-725B5C11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12961-472D-4322-AEBC-41CE93950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9808-1AF4-43B0-8218-86226260D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2003-03-1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HH:MM</a:t>
            </a:r>
            <a:endParaRPr b="0" lang="en-US" sz="2800" spc="-1" strike="noStrike">
              <a:solidFill>
                <a:srgbClr val="000000"/>
              </a:solidFill>
              <a:latin typeface="Times New Roman"/>
            </a:endParaRPr>
          </a:p>
        </p:txBody>
      </p:sp>
      <p:sp>
        <p:nvSpPr>
          <p:cNvPr id="42"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o approve interim session  of the 802.17 WG prior to the July 2003 IEEE 802 Plenary session and to preauthorize the WG to make decisions to progress the draft standa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Mike Takefma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Tom Alexand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3:46:55Z</dcterms:created>
  <dc:creator>Khaled Amer</dc:creator>
  <dc:description/>
  <dc:language>en-US</dc:language>
  <cp:lastModifiedBy>Mike Takefman (tak)</cp:lastModifiedBy>
  <dcterms:modified xsi:type="dcterms:W3CDTF">2003-03-14T00:17:46Z</dcterms:modified>
  <cp:revision>9</cp:revision>
  <dc:subject/>
  <dc:title>Motions for Harmen</dc:title>
</cp:coreProperties>
</file>