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FD0B8-F6BA-4C2A-B127-5D7C05654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4634-5177-4B88-8451-962137136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32229-0657-444C-9A7E-1783B7727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6B75F-0172-42D6-B5D6-A3D3A23B8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700C-B212-43CF-8392-70630B4C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95AAC-24C2-4496-AA86-1D9ABDD9F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1A55-D675-4548-8548-B8652C39D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0AA37-91D6-44CE-ABFA-31EF57423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684AE-F943-46EB-B540-FFDC420A7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8D3B-FF87-401F-8C5C-5EBB2980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010F-4567-4D46-8DFA-6120F062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6E56-1847-49D7-B7B9-9CD676B68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D8B5-3AE8-4321-86D0-A0DD7C30F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11-12-0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19:58</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at this meeting, a single presentation be made to the group, on MAC comparisons. This presentation will be the last presentation on comparison before voting on MAC related issues. This presentation shall be developed by representatives of each of the three proposals that have been submitted to the web-si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Bob Lo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000000"/>
                </a:solidFill>
                <a:latin typeface="Times New Roman"/>
              </a:rPr>
              <a:t>	</a:t>
            </a:r>
            <a:r>
              <a:rPr b="0" lang="en-US" sz="2800" spc="-1" strike="noStrike">
                <a:solidFill>
                  <a:srgbClr val="000000"/>
                </a:solidFill>
                <a:latin typeface="Times New Roman"/>
              </a:rPr>
              <a:t>David Jam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20</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Cisco User</cp:lastModifiedBy>
  <dcterms:modified xsi:type="dcterms:W3CDTF">2001-11-13T03:39:47Z</dcterms:modified>
  <cp:revision>11</cp:revision>
  <dc:subject/>
  <dc:title>Motions for Harmen</dc:title>
</cp:coreProperties>
</file>