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81C71-F985-40DC-A4B0-32726F8C4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D7689-F1FB-48FE-AB47-F876E26EC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8B9EB-C7BB-4694-A86C-D72FF571E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2C8A9-B899-494D-8157-4DDDBC7FE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71241-15EE-4CCF-A429-23A98937E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449E5-CA7C-4472-BAD5-04C042DF6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60BA1-53DB-4605-B0ED-5B98F1BF0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F5065-1CC0-4BE8-A0B9-58FE305D5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B622F-84F3-4556-8AF7-202222243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F95EE-864C-4A5C-9740-AC86169B1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EC8C3-6F8A-467A-8802-525908F9A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CF947-035E-4693-85AA-952A26081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430D-0359-4CF0-B3DE-F12D261515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11-12-0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19:58</a:t>
            </a:r>
            <a:endParaRPr b="0" lang="en-US" sz="2400" spc="-1" strike="noStrike">
              <a:solidFill>
                <a:srgbClr val="000000"/>
              </a:solidFill>
              <a:latin typeface="Times New Roman"/>
            </a:endParaRPr>
          </a:p>
        </p:txBody>
      </p:sp>
      <p:sp>
        <p:nvSpPr>
          <p:cNvPr id="42"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at this meeting, a single presentation be made to the group, on MAC comparisons. This presentation will be the last presentation on comparison before voting on MAC related issues. This presentation shall be developed by representatives of each of the three proposals that have been submitted to the web-si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a:t>
            </a:r>
            <a:r>
              <a:rPr b="0" lang="en-US" sz="2800" spc="-1" strike="noStrike">
                <a:solidFill>
                  <a:srgbClr val="000000"/>
                </a:solidFill>
                <a:latin typeface="Times New Roman"/>
              </a:rPr>
              <a:t>	</a:t>
            </a:r>
            <a:r>
              <a:rPr b="0" lang="en-US" sz="2800" spc="-1" strike="noStrike">
                <a:solidFill>
                  <a:srgbClr val="000000"/>
                </a:solidFill>
                <a:latin typeface="Times New Roman"/>
              </a:rPr>
              <a:t>Bob Lov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a:t>
            </a:r>
            <a:r>
              <a:rPr b="0" lang="en-US" sz="2800" spc="-1" strike="noStrike">
                <a:solidFill>
                  <a:srgbClr val="000000"/>
                </a:solidFill>
                <a:latin typeface="Times New Roman"/>
              </a:rPr>
              <a:t>	</a:t>
            </a:r>
            <a:r>
              <a:rPr b="0" lang="en-US" sz="2800" spc="-1" strike="noStrike">
                <a:solidFill>
                  <a:srgbClr val="000000"/>
                </a:solidFill>
                <a:latin typeface="Times New Roman"/>
              </a:rPr>
              <a:t>David Jam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20</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3:46:55Z</dcterms:created>
  <dc:creator>Khaled Amer</dc:creator>
  <dc:description/>
  <dc:language>en-US</dc:language>
  <cp:lastModifiedBy>Cisco User</cp:lastModifiedBy>
  <dcterms:modified xsi:type="dcterms:W3CDTF">2001-11-13T03:39:47Z</dcterms:modified>
  <cp:revision>11</cp:revision>
  <dc:subject/>
  <dc:title>Motions for Harmen</dc:title>
</cp:coreProperties>
</file>