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8D3-3D40-4DF5-B113-A2AEC4FA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C58-041D-4753-B248-DD5BF26D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D17-DCD8-4883-BFB2-E6C94CCA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70B-7CA3-470C-AD96-DA8DDFE7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079-3007-43DF-A12C-DD2B7BD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C42-B74B-4EA9-A27E-EAB3A2A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A6F-C959-4633-B33B-4B797090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426-6570-40F6-A503-6AAE738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962-0459-4394-8C76-C0A196A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54B-3720-4C51-95D6-32EE978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BB4-7195-4F35-BA04-2A1FAF14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584-32A6-4914-BF83-977AE78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DC5-34F9-4DCA-AD01-138A5FCD5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0: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-hoc to be formed to develop an outline for the IEEE 802.17 standard to be presented at this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er Vij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isak Mekkittik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2:43:50Z</dcterms:modified>
  <cp:revision>9</cp:revision>
  <dc:subject/>
  <dc:title>Motions for Harmen</dc:title>
</cp:coreProperties>
</file>