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F57-B9D5-47F4-8CFB-F402A4BE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CB3-D91B-4B6C-BC87-74BBC248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06C-03E3-4D73-B710-81DF09F7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BE1-39FC-48F6-948B-C243C4D7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FD2-D80C-48FA-8844-F3C35513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DF4-C286-4290-820D-2E670E73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59E-294A-44E4-9413-F8C6DEB9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10B-21B8-43CC-BBAE-1B5E0994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093-8897-4E87-853F-D798AE19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E3F-1E35-4C44-9699-5233D263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E3C-5986-459F-B679-87374D94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858-F556-4657-9E9F-73601810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5B57-20FB-4949-AB8D-EBF595859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2-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20: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d-hoc to be formed to develop an outline for the IEEE 802.17 standard to be presented at this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er Vije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isak Mekkittik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3T02:43:50Z</dcterms:modified>
  <cp:revision>9</cp:revision>
  <dc:subject/>
  <dc:title>Motions for Harmen</dc:title>
</cp:coreProperties>
</file>