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AFC-2E0C-4CEB-A62A-F32E62DE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AA0-444A-495F-8833-FAC1168C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B0D-9434-43A0-95C2-3555D065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486-846E-475B-9C05-41F10EB6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80A-60FF-4636-8E22-1CE4155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190-B0FE-424B-8C5F-C4C4E82C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382-9103-4175-BF60-955A091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CEF-657C-4C35-BE34-325DBF93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4EC-3816-4F99-918A-378AEF20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081-046C-4DCA-A644-0163ED0E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B83-A03D-4F1F-8248-4AFDE25E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CA4-48E0-4321-B3DC-EB8D5E82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0576-A3B4-47A5-8DF2-624434A9B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2-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20: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e time on the agenda where arguments in support of each proposal (not to exceed 15 minutes) are presented, followed by opportunities for Q/A by th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Bob Sul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Bob Castell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3T03:13:41Z</dcterms:modified>
  <cp:revision>9</cp:revision>
  <dc:subject/>
  <dc:title>Motions for Harmen</dc:title>
</cp:coreProperties>
</file>