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4B15-0615-4B37-BB08-85D42273A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3790-665E-4FDC-9FCB-374A8094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1343-343D-4319-B1FE-02417A43A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BDB6-A73D-4183-9503-CE155F0F2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4201-1ECF-4F8C-B5DA-33D4B7C5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B05D-77B0-49EF-83C3-61B56C0D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809B-9ADE-43BE-AE75-222E73D1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AA30-486E-43B4-BE0E-00DC2EAF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7CE6-88D5-4D52-B2CD-61BEA177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332F-E531-40E1-90E1-BC54C209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7D3F-B8EC-4D4A-93D0-F8AC074D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B085-0771-44E1-A3F6-AA4DE4B0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4920-A491-492A-A355-46741287B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2001-11-12-0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: 20: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rve time on the agenda where arguments in support of each proposal (not to exceed 15 minutes) are presented, followed by opportunities for Q/A by the gro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: Bob Sult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: Bob Castell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3:46:55Z</dcterms:created>
  <dc:creator>Khaled Amer</dc:creator>
  <dc:description/>
  <dc:language>en-US</dc:language>
  <cp:lastModifiedBy>Cisco User</cp:lastModifiedBy>
  <dcterms:modified xsi:type="dcterms:W3CDTF">2001-11-13T03:13:41Z</dcterms:modified>
  <cp:revision>9</cp:revision>
  <dc:subject/>
  <dc:title>Motions for Harmen</dc:title>
</cp:coreProperties>
</file>