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4DD-4B9C-40D1-B1A5-6E86577E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3C3-5924-4BFC-A3BC-87EF2610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FDB-A6EF-4F7A-94A7-3BE292CB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475-5231-4EA8-B930-62F5F475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B8A-BF73-4809-A6DB-566030EE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097-684A-47EA-A203-AC0511E2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682-4E9E-4B6A-BB0A-4355317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7DA-3256-4799-8CB9-079592B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E4D-19DB-4DFF-BB28-A0C13A6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431-34CB-4F26-9F1F-16DC406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7E8-C3C8-41C4-9A88-ECE74540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6FD-1678-4EF2-A92E-F0598E3D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D8EB-31C2-4F52-8ED2-26FE08CFF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11-12-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21: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e 802.17 Baseline Draft be based on the voting of the functional aspects of 802.17 as opposed to any one of the three proposed drafts as a whole. The WG would vote on the following proposed categories: Frame Format; Transit Path&amp;Fairness; Topology Discovery; Protection; Physical Layer; OAM; and other categories as discovered. This does not preclude motions made on more specific aspects in these or other categ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Bob Castel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Bob Su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11-13T03:54:26Z</dcterms:modified>
  <cp:revision>9</cp:revision>
  <dc:subject/>
  <dc:title>Motions for Harmen</dc:title>
</cp:coreProperties>
</file>