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F6C-C3F0-4976-89E1-FA856196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C30-70DB-48C3-8494-BE50C5F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820-4833-4C77-AFD1-6C8F7C5E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BE0-1448-46B6-8411-55418EAE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9E8-2D6F-4748-8035-7C31C489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E04-9905-443C-B069-A066F226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EA4-8BE5-4F75-87A0-9BE25FA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BF2-081A-4CF1-84AD-CDFE032E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692-6602-4092-A74D-6B61A21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CF4-1539-4C48-A134-C796EEF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553-B4E1-4B06-A40B-0242EEA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B06-6270-45BD-B5E1-8D638D0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3B3-3F4E-4E18-8CF3-E61A67DD9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2-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21: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 802.17 Baseline Draft be based on the voting of the functional aspects of 802.17 as opposed to any one of the three proposed drafts as a whole. The WG would vote on the following proposed categories: Frame Format; Transit Path&amp;Fairness; Topology Discovery; Protection; Physical Layer; OAM; and other categories as discovered. This does not preclude motions made on more specific aspects in these or other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Bob Castel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Bob Su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3T03:54:26Z</dcterms:modified>
  <cp:revision>9</cp:revision>
  <dc:subject/>
  <dc:title>Motions for Harmen</dc:title>
</cp:coreProperties>
</file>