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A15-6887-46A3-B292-C6F4493A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30B-F8D6-4CBA-9094-5318BA2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032-131E-4D0E-A575-AF114CC7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945-6592-402F-8579-DCC64395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132-E570-4B17-B4BD-CE29816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458-7C66-4375-AABE-88E2E7D3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385-D8A9-408A-BDAD-A96BF0A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A67-F231-4F9E-A79B-03940DE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C2B-547B-4D4A-8297-51C72B67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110-91B4-4B6A-89CE-5572535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987-1ED7-4D76-A8CF-2509402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C5D-EB4A-4960-85F1-D51863B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DE7-0196-4BEB-96FF-D92739051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Month-Day-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Mov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econd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05-24T20:02:07Z</dcterms:modified>
  <cp:revision>8</cp:revision>
  <dc:subject/>
  <dc:title>Motions for Harmen</dc:title>
</cp:coreProperties>
</file>