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8DA0-7197-4957-9A99-85430E018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DCE7-B49B-4077-B14B-3CC04C4B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E377-52E1-40E8-9458-B53B73BF2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3AF7-458D-4F2C-98CB-3E0BE5DBF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AA88-A37E-44F5-98A9-23727BFA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E761-70D6-4043-B0C9-53782D70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F84F-7214-41F8-A71E-387C5109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0618-321A-466F-97FF-A4EC9C66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4970-3A09-4886-872A-FF70EA9A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25FC-E552-4F4D-928D-632D4A41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24C3-54DF-45D1-BA7E-C60AEC9D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F9FE-14F3-44AB-ADEA-DEC9551C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89B4-8FB8-4F0A-8899-16ECF9857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2001-Month-Day-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: HH: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text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: Mover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: Seconder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3:46:55Z</dcterms:created>
  <dc:creator>Khaled Amer</dc:creator>
  <dc:description/>
  <dc:language>en-US</dc:language>
  <cp:lastModifiedBy>Cisco User</cp:lastModifiedBy>
  <dcterms:modified xsi:type="dcterms:W3CDTF">2001-05-24T20:02:07Z</dcterms:modified>
  <cp:revision>8</cp:revision>
  <dc:subject/>
  <dc:title>Motions for Harmen</dc:title>
</cp:coreProperties>
</file>