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570-06BE-4432-88F3-3223E565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3C6-242A-4473-A5CE-1CD117C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ADD-AF8D-4861-9BB5-3DA6D531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A47-5689-41CB-810C-E232F1FF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C88-A3D4-417D-A5B2-33C3A168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3ED-16B0-4FBD-8834-645E9FFD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0CF-E6D8-4BE7-8AC9-1662C27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699-86CA-4642-9FEB-087111A2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08B-3D11-4CD0-9D2D-F39E95F7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D57-A6DB-4E8D-9204-9F3C3DF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0EB-E8DE-4908-A42A-90F54F9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A6E-8CE2-497C-A4F2-DA5C979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F6D-D6FE-4D77-9015-B253E162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3-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8: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n ad-hoc to prepare a presentation for the W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have it approved by the W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iscussion with 802.1D on the following top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“Simple” Compliance with 802.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patial Re-use with 802.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Encapsulating Bridging with 802.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ssignment of typ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Customer Separation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Bob Castel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Spencer Dawk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4T01:33:16Z</dcterms:modified>
  <cp:revision>10</cp:revision>
  <dc:subject/>
  <dc:title>Motions for Harmen</dc:title>
</cp:coreProperties>
</file>