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0AC-5FF7-4E2D-875D-2A01EBFE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7F9-A4E5-4DAA-8A27-B51DA714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CE7-02E0-4B69-B5DE-9218EDF2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2D7-9609-4FFB-A0B8-743EFDE6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9AA-B593-4B28-AF5A-305876B1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459-48F7-497A-AFA5-8816898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C4C-3B79-4532-B123-FBDEA26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251-7DC1-4586-9113-BE8287AC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607-A4FF-46B8-A419-44A43E0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203-B710-4FD0-9157-835079E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B01-9E23-4B26-A221-24EB958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0A8-B69D-415C-9381-AC3B700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4A10-4BE7-425D-8EDB-B24C89FA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3-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8: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n ad-hoc to prepare a presentation for the W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have it approved by the W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discussion with 802.1D on the following top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“Simple” Compliance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patial Re-use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Encapsulating Bridging with 802.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ssignment of typ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Customer Separation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Bob Castel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Spencer Dawk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4T01:33:16Z</dcterms:modified>
  <cp:revision>10</cp:revision>
  <dc:subject/>
  <dc:title>Motions for Harmen</dc:title>
</cp:coreProperties>
</file>