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8F2-D7CF-4BA0-8C37-C1A88B2A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FC8-E383-4004-8F43-AE7C0525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7A2-AC38-42CC-B6EC-1CCEB0F7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80A-6575-4133-85E1-98A4FC29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115-56AD-406A-8DCC-80379BEC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F90-41E5-49C2-8D54-495848C1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857-ED94-4AC7-B634-E75699F4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346-4801-41C9-BC90-6DCEE6CE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4D3-B7AE-475D-A580-C1949130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6F7-731B-4B5A-96AB-4C7E81A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36E-D07C-4AA7-A668-F4B4093F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5E4-77D7-4EEA-9823-49AC1481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3096-34E7-431A-AA02-2D07E7DFB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4-0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17: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pprove the presentation prepared by the Bridging Ad-Hoc for presentation to 802.1 on 11/14/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David J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Jim Mollena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4T23:29:50Z</dcterms:modified>
  <cp:revision>9</cp:revision>
  <dc:subject/>
  <dc:title>Motions for Harmen</dc:title>
</cp:coreProperties>
</file>