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884-495B-4170-9FB5-3F2F20AC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A8E-EEFA-4DC3-AB87-DF53E7D6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FCA6-1742-4FAF-9C4F-3F7CDB2A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563-EABB-4221-8C1D-836F5690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685-C934-4649-A4C1-BE2AE95D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DFAC-2DA3-4ADE-BE45-9408DCD5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6E6E-4CB4-4D08-BAAC-C9D5663A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977-7B30-4B4D-B815-358763FE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64EE-E2D5-4D92-8CCB-5696F973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3639-D1C7-45EB-88BD-0D07F705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E2AA-58CA-4475-AFB5-2DE72367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49CE-4EEF-4BB5-A788-EF1E7612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25D1-B872-4D1E-B15C-1C488C05F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001-11-14-0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 17: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pprove the presentation prepared by the Bridging Ad-Hoc for presentation to 802.1 on 11/14/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: David J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 Jim Mollena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46:55Z</dcterms:created>
  <dc:creator>Khaled Amer</dc:creator>
  <dc:description/>
  <dc:language>en-US</dc:language>
  <cp:lastModifiedBy>Cisco User</cp:lastModifiedBy>
  <dcterms:modified xsi:type="dcterms:W3CDTF">2001-11-14T23:29:50Z</dcterms:modified>
  <cp:revision>9</cp:revision>
  <dc:subject/>
  <dc:title>Motions for Harmen</dc:title>
</cp:coreProperties>
</file>