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B68-86D6-4F27-A13E-191B067D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01C-3C22-4EC8-BA81-70282F4A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71D-C1AE-47DB-BF53-2E37A1C0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A4F-664E-4BBF-BB70-BEFBB857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BD3-644D-40B8-84DC-6FDF226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CD4-A92A-4E60-A67F-1A9FFA39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B4A-2549-4070-9AEC-B54C904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816-0CAF-4E09-9E81-C034C2B3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A3A-BB5A-47C1-BB85-3D323CA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74E-5B8E-48CC-9F74-EABA590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528-9138-4E91-A018-9217A2B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206-0013-49DE-A17D-E45394E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5D6-9687-4CEA-AAAA-90EC1103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5-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08: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lace the 802.17 Performance Committee into hibernation until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Bob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5T14:54:29Z</dcterms:modified>
  <cp:revision>9</cp:revision>
  <dc:subject/>
  <dc:title>Motions for Harmen</dc:title>
</cp:coreProperties>
</file>