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4FA-13D7-4ACB-BCC6-EB770B48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863-6C87-49FE-80D0-B914F3C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188-4BB8-414F-A718-03E2E44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BD1-5D14-4481-8CF9-8E027E19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9FF-DFF8-409B-97CD-4709883C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963-D2D6-44D9-9396-C2CE05A0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785-9CE0-4300-9B5C-51699BF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B3E-6D71-4EA8-8499-D0923FC4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B02-A901-44E8-84D8-B4E3577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5F9-7DF9-425C-BA5F-F5E92EF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C25-30DE-4454-A9C8-D6D06A3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8DF-900C-41AE-A193-604D016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63C-7549-464F-979F-D258725B6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5-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08: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lace the 802.17 Performance Committee into hibernation until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Bob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5T14:54:29Z</dcterms:modified>
  <cp:revision>9</cp:revision>
  <dc:subject/>
  <dc:title>Motions for Harmen</dc:title>
</cp:coreProperties>
</file>