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D99D9-BFFA-4939-A975-B51AEE9CD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606A-5EB3-4C0D-9AC9-B978C25D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2E280-BF54-4018-9727-24FD2F642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3ABC9-BF44-4D64-8356-E6487DA91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C244-2DC5-46F2-BD8B-BA2FD07C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F3111-0565-4B10-84FC-C7E2648C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E747-D5C9-4865-9DD7-935CE070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3D67-74CE-4EB0-A83B-2B4A97290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A1D9-AEFE-46B1-91AA-1BC8F881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4DBF-236E-43BB-8AF5-C744A4656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7079-250F-46A4-9167-58DF47A7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D5B0-0E79-4DA4-8720-732133B8F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2478-4425-465D-B3B2-BB18515DA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11-15-09</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02.17 pre-authorizes the voting members of 802.17 to progress the work of 802.17 through voting on motions at our January, 2002 interim meeting, so long as at least 40 voting members are present.  The outcomes of those motions will be binding on 802.17 with the same authority as if they were motions passed by the voting members of 802.17 at a plenary meet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Lov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John Hawki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52</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tak</cp:lastModifiedBy>
  <dcterms:modified xsi:type="dcterms:W3CDTF">2001-11-15T17:50:12Z</dcterms:modified>
  <cp:revision>13</cp:revision>
  <dc:subject/>
  <dc:title>Motions for Harmen</dc:title>
</cp:coreProperties>
</file>