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EFC-4010-403E-B362-9752532C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00D-6CBF-4FA6-9E22-63BDD047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907-A493-4ADE-A824-16C6C412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167-7254-43A3-82DD-A280E6C5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F6A-3CA9-406D-9B7B-A8D76722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23F-D9B4-420E-B13E-638CA913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554-1C38-4DEC-8BA5-4078D8FA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D61-EC34-46FE-A448-A628C9D7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BCE-AB86-4671-87A1-7879692A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577-B615-49F1-8B81-0750C04C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224-7D1C-440D-8D05-0198D578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211-9958-4BD6-92CB-D72960D2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BA10-93DC-425A-8F14-200FF15DE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5-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11: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7 WG approves the liaison letter as written by Jim Mollenauer allowing for formating changes. This letter shall be sent to the ETSI SPAN committee on behalf of the 802.17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Italo Bu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Jim Mollena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5T17:21:57Z</dcterms:modified>
  <cp:revision>10</cp:revision>
  <dc:subject/>
  <dc:title>Motions for Harmen</dc:title>
</cp:coreProperties>
</file>