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E81-703C-4526-A5D8-2BA1E837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5E5-0BA4-490E-A962-8B5F5321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F75-D203-44F1-97A7-6756F550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A25-308B-4939-8D24-69311E20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6EB-2E41-499E-9BDD-FD397645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BD8-F1BB-4B24-803D-C068346E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BD5-F5E5-4458-BFC5-46D04A41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66A-8F2B-4415-99E4-30E1BD6D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1E0-8B7B-4578-A62A-431F7164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2EB-8FA9-4185-B337-3DFF459E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B25-41F3-42D6-9170-2F8E61EA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89C-934E-4413-874B-1DEE500D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DD5A-AFE2-4341-8D59-531CBCB8A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11-15-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11: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7 WG approves the liaison letter as written by Jim Mollenauer allowing for formating changes. This letter shall be sent to the ETSI SPAN committee on behalf of the 802.17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: Italo Bu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Jim Mollena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11-15T17:21:57Z</dcterms:modified>
  <cp:revision>10</cp:revision>
  <dc:subject/>
  <dc:title>Motions for Harmen</dc:title>
</cp:coreProperties>
</file>