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74DF0-42A0-4B00-9281-5D06F9242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95AAD-C653-4E6C-9579-81B307E6F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51ADF-3576-40D3-B1F3-A5A5EFC3B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3EBDF-295E-4DDD-8EEC-05F0E1B39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D2520-6B07-4498-A508-B25B81DBC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6BF0E-C368-4576-A29E-8B3B8A4A6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6A44-FBF2-4413-A8ED-2CDB5F04B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91817-09DE-4622-B78E-86236A12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D988-4E6B-4B77-94E6-C13DDE377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28F68-7F20-43B6-A338-2FDA51916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CC35-AE6B-450C-8F6F-357ACD8AD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C427-4E0C-4469-92C1-85A2F7342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087B-06AC-421C-912B-6C89B4EFB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header and data shall be individually protected by separate CRC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provide the client with sufficient information to support selection of packets based on the hop distance between the source and destination stations. As an example, this MAC-supplied information would allow the client to send a packet over 2 hops, while inhibiting sending of packets over 4 hops.</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support the allocation of best-effort traffic using weighted fairnes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have idle management  mechanims that ensure no packet loss with the assumption that each MAC may have independent clocks. Furthermore, these clocks may deviate by a physical-layer dependent amount, possibly as large as ±100PPM.</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0"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PR MAC shall support wrapping and steering. The client shall be able to label individual frames, so that the desired protection mechanism can be selected on a per-frame basi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David V.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tein Gjes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PR MAC capabilities shall not be compromised by the desire to support more than 2 ringlets on each ring. Specificall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ringID</a:t>
            </a:r>
            <a:r>
              <a:rPr b="0" lang="en-US" sz="2800" spc="-1" strike="noStrike">
                <a:solidFill>
                  <a:srgbClr val="000000"/>
                </a:solidFill>
                <a:latin typeface="Times New Roman"/>
              </a:rPr>
              <a:t> identifiers are mandated in the header,</a:t>
            </a:r>
            <a:br>
              <a:rPr sz="2800"/>
            </a:br>
            <a:r>
              <a:rPr b="0" lang="en-US" sz="2800" spc="-1" strike="noStrike">
                <a:solidFill>
                  <a:srgbClr val="000000"/>
                </a:solidFill>
                <a:latin typeface="Times New Roman"/>
              </a:rPr>
              <a:t>     these identifiers shall have a 1-bit siz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ions that support only two ringlets shall not</a:t>
            </a:r>
            <a:br>
              <a:rPr sz="2800"/>
            </a:br>
            <a:r>
              <a:rPr b="0" lang="en-US" sz="2800" spc="-1" strike="noStrike">
                <a:solidFill>
                  <a:srgbClr val="000000"/>
                </a:solidFill>
                <a:latin typeface="Times New Roman"/>
              </a:rPr>
              <a:t>    be complicated by the desired to support N+1 ring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David V. Jam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Stein Gjess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4"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PR MAC shall support three classes of traffic, as follow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A: Provisioned BW &amp; low latency</a:t>
            </a:r>
            <a:br>
              <a:rPr sz="2800"/>
            </a:br>
            <a:r>
              <a:rPr b="0" lang="en-US" sz="2800" spc="-1" strike="noStrike">
                <a:solidFill>
                  <a:srgbClr val="000000"/>
                </a:solidFill>
                <a:latin typeface="Times New Roman"/>
              </a:rPr>
              <a:t>(latency is not affected by ringlet circumferen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B: Provisioned BW &amp; latency  </a:t>
            </a:r>
            <a:br>
              <a:rPr sz="2800"/>
            </a:br>
            <a:r>
              <a:rPr b="0" lang="en-US" sz="2800" spc="-1" strike="noStrike">
                <a:solidFill>
                  <a:srgbClr val="000000"/>
                </a:solidFill>
                <a:latin typeface="Times New Roman"/>
              </a:rPr>
              <a:t>(latency possibly  affected by ringlet circumferen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B: Unprovisioned. Residual opportunistic BW.</a:t>
            </a:r>
            <a:br>
              <a:rPr sz="2800"/>
            </a:br>
            <a:r>
              <a:rPr b="0" lang="en-US" sz="2800" spc="-1" strike="noStrike">
                <a:solidFill>
                  <a:srgbClr val="000000"/>
                </a:solidFill>
                <a:latin typeface="Times New Roman"/>
              </a:rPr>
              <a:t>Allocated based on weighted fairnes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David V. Jam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Stein Gjess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Nov-15-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56"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PR MAC shall support two forms of class-A (guaranteed-bandwidth low-latency bandwidth) bandwidth management protocols, called proactive and reactive. The proactive protocol has no (significant) lower-class transit buffer requirement and relies on prenegotiated transmission rates. The reactive protocol relies on a larger transit buffer to hold lower-class traffic while sending dynamic flow-control information upstream.</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David V. Jam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Stein Gjess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David  James</cp:lastModifiedBy>
  <dcterms:modified xsi:type="dcterms:W3CDTF">2001-11-15T17:09:15Z</dcterms:modified>
  <cp:revision>13</cp:revision>
  <dc:subject/>
  <dc:title>Motions for Harmen</dc:title>
</cp:coreProperties>
</file>