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10503F-3170-43D3-8687-F729CEA183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D2AEA7-7DCA-493C-836D-0AB07CDF2F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DC4C93-93CB-4BAF-957A-297E0BFC20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3515CD-B4DC-48F8-A2BC-99E661F6A8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A743C2-DA42-43E6-B534-513330A9F2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B31008-5639-430F-9367-BEC2DCC988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D18DE3-8D13-44FE-B340-FAC1835016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794FB5-172B-4988-A466-E947DC9A0D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2207B6-5652-4555-ACD4-5AE1D4F2C8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6624BF-7F03-43AC-95D5-A84015A8E5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763F7F-48A0-4BAE-8F98-9B4ABCA87B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FBA08A-5D2B-4EF7-95D7-F1456F2B7E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0E7EF-AD3C-4F58-9F7B-3E1719AB10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360"/>
            <a:ext cx="78487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tion 2001-Nov-15-Number</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ime: HH:MM</a:t>
            </a:r>
            <a:endParaRPr b="0" lang="en-US" sz="2400" spc="-1" strike="noStrike">
              <a:solidFill>
                <a:srgbClr val="000000"/>
              </a:solidFill>
              <a:latin typeface="Times New Roman"/>
            </a:endParaRPr>
          </a:p>
        </p:txBody>
      </p:sp>
      <p:sp>
        <p:nvSpPr>
          <p:cNvPr id="42" name="PlaceHolder 2"/>
          <p:cNvSpPr>
            <a:spLocks noGrp="1"/>
          </p:cNvSpPr>
          <p:nvPr>
            <p:ph/>
          </p:nvPr>
        </p:nvSpPr>
        <p:spPr>
          <a:xfrm>
            <a:off x="228600" y="762120"/>
            <a:ext cx="8686800" cy="5943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PR header and data shall be individually protected by separate CRCs.</a:t>
            </a:r>
            <a:endParaRPr b="0" lang="en-US" sz="3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 David V. Jame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 Stein Gjessing</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N: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80880" y="-360"/>
            <a:ext cx="78487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tion 2001-Nov-15-Number</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ime: HH:MM</a:t>
            </a:r>
            <a:endParaRPr b="0" lang="en-US" sz="2400" spc="-1" strike="noStrike">
              <a:solidFill>
                <a:srgbClr val="000000"/>
              </a:solidFill>
              <a:latin typeface="Times New Roman"/>
            </a:endParaRPr>
          </a:p>
        </p:txBody>
      </p:sp>
      <p:sp>
        <p:nvSpPr>
          <p:cNvPr id="44" name="PlaceHolder 2"/>
          <p:cNvSpPr>
            <a:spLocks noGrp="1"/>
          </p:cNvSpPr>
          <p:nvPr>
            <p:ph/>
          </p:nvPr>
        </p:nvSpPr>
        <p:spPr>
          <a:xfrm>
            <a:off x="228600" y="762120"/>
            <a:ext cx="8686800" cy="5943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PR MAC shall provide the client with sufficient information to support selection of packets based on the hop distance between the source and destination stations. As an example, this MAC-supplied information would allow the client to send a packet over 2 hops, while inhibiting sending of packets over 4 hops.</a:t>
            </a:r>
            <a:endParaRPr b="0" lang="en-US" sz="32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 David V. Jame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 Stein Gjessing</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N: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80880" y="-360"/>
            <a:ext cx="78487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tion 2001-Nov-15-Number</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ime: HH:MM</a:t>
            </a:r>
            <a:endParaRPr b="0" lang="en-US" sz="2400" spc="-1" strike="noStrike">
              <a:solidFill>
                <a:srgbClr val="000000"/>
              </a:solidFill>
              <a:latin typeface="Times New Roman"/>
            </a:endParaRPr>
          </a:p>
        </p:txBody>
      </p:sp>
      <p:sp>
        <p:nvSpPr>
          <p:cNvPr id="46" name="PlaceHolder 2"/>
          <p:cNvSpPr>
            <a:spLocks noGrp="1"/>
          </p:cNvSpPr>
          <p:nvPr>
            <p:ph/>
          </p:nvPr>
        </p:nvSpPr>
        <p:spPr>
          <a:xfrm>
            <a:off x="228600" y="762120"/>
            <a:ext cx="8686800" cy="5943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PR MAC shall support the allocation of best-effort traffic using weighted fairness.</a:t>
            </a:r>
            <a:endParaRPr b="0" lang="en-US" sz="3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 David V. Jame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 Stein Gjessing</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N: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360"/>
            <a:ext cx="78487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tion 2001-Nov-15-Number</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ime: HH:MM</a:t>
            </a:r>
            <a:endParaRPr b="0" lang="en-US" sz="2400" spc="-1" strike="noStrike">
              <a:solidFill>
                <a:srgbClr val="000000"/>
              </a:solidFill>
              <a:latin typeface="Times New Roman"/>
            </a:endParaRPr>
          </a:p>
        </p:txBody>
      </p:sp>
      <p:sp>
        <p:nvSpPr>
          <p:cNvPr id="48" name="PlaceHolder 2"/>
          <p:cNvSpPr>
            <a:spLocks noGrp="1"/>
          </p:cNvSpPr>
          <p:nvPr>
            <p:ph/>
          </p:nvPr>
        </p:nvSpPr>
        <p:spPr>
          <a:xfrm>
            <a:off x="228600" y="762120"/>
            <a:ext cx="8686800" cy="5943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PR MAC shall have idle management  mechanims that ensure no packet loss with the assumption that each MAC may have independent clocks. Furthermore, these clocks may deviate by a physical-layer dependent amount, possibly as large as ±100PPM.</a:t>
            </a:r>
            <a:endParaRPr b="0" lang="en-US" sz="3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 David V. Jame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 Stein Gjessing</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N: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360"/>
            <a:ext cx="78487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tion 2001-Nov-15-Number</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ime: HH:MM</a:t>
            </a:r>
            <a:endParaRPr b="0" lang="en-US" sz="2400" spc="-1" strike="noStrike">
              <a:solidFill>
                <a:srgbClr val="000000"/>
              </a:solidFill>
              <a:latin typeface="Times New Roman"/>
            </a:endParaRPr>
          </a:p>
        </p:txBody>
      </p:sp>
      <p:sp>
        <p:nvSpPr>
          <p:cNvPr id="50" name="PlaceHolder 2"/>
          <p:cNvSpPr>
            <a:spLocks noGrp="1"/>
          </p:cNvSpPr>
          <p:nvPr>
            <p:ph/>
          </p:nvPr>
        </p:nvSpPr>
        <p:spPr>
          <a:xfrm>
            <a:off x="228600" y="762120"/>
            <a:ext cx="8686800" cy="5943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PR MAC shall support wrapping and steering. The client shall be able to label individual frames, so that the desired protection mechanism can be selected on a per-frame basis.</a:t>
            </a:r>
            <a:endParaRPr b="0" lang="en-US" sz="3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 David V. Jame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 Stein Gjessing</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N: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360"/>
            <a:ext cx="78487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tion 2001-Nov-15-Number</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ime: HH:MM</a:t>
            </a:r>
            <a:endParaRPr b="0" lang="en-US" sz="2400" spc="-1" strike="noStrike">
              <a:solidFill>
                <a:srgbClr val="000000"/>
              </a:solidFill>
              <a:latin typeface="Times New Roman"/>
            </a:endParaRPr>
          </a:p>
        </p:txBody>
      </p:sp>
      <p:sp>
        <p:nvSpPr>
          <p:cNvPr id="52" name="PlaceHolder 2"/>
          <p:cNvSpPr>
            <a:spLocks noGrp="1"/>
          </p:cNvSpPr>
          <p:nvPr>
            <p:ph/>
          </p:nvPr>
        </p:nvSpPr>
        <p:spPr>
          <a:xfrm>
            <a:off x="228600" y="762120"/>
            <a:ext cx="8686800" cy="5943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PR MAC capabilities shall not be compromised by the desire to support more than 2 ringlets on each ring. Specifically:</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f </a:t>
            </a:r>
            <a:r>
              <a:rPr b="0" i="1" lang="en-US" sz="2800" spc="-1" strike="noStrike">
                <a:solidFill>
                  <a:srgbClr val="000000"/>
                </a:solidFill>
                <a:latin typeface="Times New Roman"/>
              </a:rPr>
              <a:t>ringID</a:t>
            </a:r>
            <a:r>
              <a:rPr b="0" lang="en-US" sz="2800" spc="-1" strike="noStrike">
                <a:solidFill>
                  <a:srgbClr val="000000"/>
                </a:solidFill>
                <a:latin typeface="Times New Roman"/>
              </a:rPr>
              <a:t> identifiers are mandated in the header,</a:t>
            </a:r>
            <a:br>
              <a:rPr sz="2800"/>
            </a:br>
            <a:r>
              <a:rPr b="0" lang="en-US" sz="2800" spc="-1" strike="noStrike">
                <a:solidFill>
                  <a:srgbClr val="000000"/>
                </a:solidFill>
                <a:latin typeface="Times New Roman"/>
              </a:rPr>
              <a:t>     these identifiers shall have a 1-bit siz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tations that support only two ringlets shall not</a:t>
            </a:r>
            <a:br>
              <a:rPr sz="2800"/>
            </a:br>
            <a:r>
              <a:rPr b="0" lang="en-US" sz="2800" spc="-1" strike="noStrike">
                <a:solidFill>
                  <a:srgbClr val="000000"/>
                </a:solidFill>
                <a:latin typeface="Times New Roman"/>
              </a:rPr>
              <a:t>    be complicated by the desired to support N+1 ringlet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 David V. Jame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 Stein Gjessing</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N: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360"/>
            <a:ext cx="78487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tion 2001-Nov-15-Number</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ime: HH:MM</a:t>
            </a:r>
            <a:endParaRPr b="0" lang="en-US" sz="2400" spc="-1" strike="noStrike">
              <a:solidFill>
                <a:srgbClr val="000000"/>
              </a:solidFill>
              <a:latin typeface="Times New Roman"/>
            </a:endParaRPr>
          </a:p>
        </p:txBody>
      </p:sp>
      <p:sp>
        <p:nvSpPr>
          <p:cNvPr id="54" name="PlaceHolder 2"/>
          <p:cNvSpPr>
            <a:spLocks noGrp="1"/>
          </p:cNvSpPr>
          <p:nvPr>
            <p:ph/>
          </p:nvPr>
        </p:nvSpPr>
        <p:spPr>
          <a:xfrm>
            <a:off x="228600" y="762120"/>
            <a:ext cx="8686800" cy="5943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PR MAC shall support three classes of traffic, as follow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lass-A: Provisioned BW &amp; low latency</a:t>
            </a:r>
            <a:br>
              <a:rPr sz="2800"/>
            </a:br>
            <a:r>
              <a:rPr b="0" lang="en-US" sz="2800" spc="-1" strike="noStrike">
                <a:solidFill>
                  <a:srgbClr val="000000"/>
                </a:solidFill>
                <a:latin typeface="Times New Roman"/>
              </a:rPr>
              <a:t>(latency is not affected by ringlet circumferenc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lass-B: Provisioned BW &amp; latency  </a:t>
            </a:r>
            <a:br>
              <a:rPr sz="2800"/>
            </a:br>
            <a:r>
              <a:rPr b="0" lang="en-US" sz="2800" spc="-1" strike="noStrike">
                <a:solidFill>
                  <a:srgbClr val="000000"/>
                </a:solidFill>
                <a:latin typeface="Times New Roman"/>
              </a:rPr>
              <a:t>(latency possibly  affected by ringlet circumferenc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lass-B: Unprovisioned. Residual opportunistic BW.</a:t>
            </a:r>
            <a:br>
              <a:rPr sz="2800"/>
            </a:br>
            <a:r>
              <a:rPr b="0" lang="en-US" sz="2800" spc="-1" strike="noStrike">
                <a:solidFill>
                  <a:srgbClr val="000000"/>
                </a:solidFill>
                <a:latin typeface="Times New Roman"/>
              </a:rPr>
              <a:t>Allocated based on weighted fairness.</a:t>
            </a:r>
            <a:endParaRPr b="0" lang="en-US" sz="2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 David V. Jame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 Stein Gjessing</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N: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360"/>
            <a:ext cx="78487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tion 2001-Nov-15-Number</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ime: HH:MM</a:t>
            </a:r>
            <a:endParaRPr b="0" lang="en-US" sz="2400" spc="-1" strike="noStrike">
              <a:solidFill>
                <a:srgbClr val="000000"/>
              </a:solidFill>
              <a:latin typeface="Times New Roman"/>
            </a:endParaRPr>
          </a:p>
        </p:txBody>
      </p:sp>
      <p:sp>
        <p:nvSpPr>
          <p:cNvPr id="56" name="PlaceHolder 2"/>
          <p:cNvSpPr>
            <a:spLocks noGrp="1"/>
          </p:cNvSpPr>
          <p:nvPr>
            <p:ph/>
          </p:nvPr>
        </p:nvSpPr>
        <p:spPr>
          <a:xfrm>
            <a:off x="228600" y="762120"/>
            <a:ext cx="8686800" cy="5943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PR MAC shall support two forms of class-A (guaranteed-bandwidth low-latency bandwidth) bandwidth management protocols, called proactive and reactive. The proactive protocol has no (significant) lower-class transit buffer requirement and relies on prenegotiated transmission rates. The reactive protocol relies on a larger transit buffer to hold lower-class traffic while sending dynamic flow-control information upstream.</a:t>
            </a:r>
            <a:endParaRPr b="0" lang="en-US" sz="2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 David V. Jame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 Stein Gjessing</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N: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7T13:46:55Z</dcterms:created>
  <dc:creator>Khaled Amer</dc:creator>
  <dc:description/>
  <dc:language>en-US</dc:language>
  <cp:lastModifiedBy>David  James</cp:lastModifiedBy>
  <dcterms:modified xsi:type="dcterms:W3CDTF">2001-11-15T17:09:15Z</dcterms:modified>
  <cp:revision>13</cp:revision>
  <dc:subject/>
  <dc:title>Motions for Harmen</dc:title>
</cp:coreProperties>
</file>