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8BEB-E4EE-4148-A379-9D339B566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ABDB-81B2-45AB-9DE5-68352544F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CC1F-DDD2-4142-B2B3-CAEAF93E6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A437-560E-4E88-AE82-1139DEF93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C5C2-7D7B-47CE-B75E-ABE384BE39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E4B8-B718-4C38-B8A6-27A5AD3203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1E67-07EB-48BA-83B4-9869A15CBB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B9F6-0113-4FE2-A5E2-59C1F277CC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7563-F896-47DC-B600-8DDA7D7747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FA87-4167-45E7-8E5B-F8D24B674E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1E4C-EF90-4153-99C5-362036CDE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8CE6-1A43-4B71-8D97-F0407A6A8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E703-DD4A-4B62-B440-3BE7887B8A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52BD-0295-4039-8F78-9E44079D48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BD4C-1A61-4E43-9F6E-DF3EC7B5DC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23E3-9F70-4AFE-97A1-982B15CF58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20CB-4A13-4FC0-81D2-D6B5CA614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940F-73FE-416D-8E67-F8A56629A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4D57-C2CD-4DAB-8939-DFFB9471E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F57F-2E85-4C0D-9C09-51F6A54B8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85CC-7A6E-4317-9203-4DDBAA2CC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9F9A-BBBC-459E-B9E0-93CE4346E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D017-7E29-4B29-96E1-147D09661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5714-503E-4A99-A8DD-E34F3AAF6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3" name="smllieee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86600" y="6171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9418-6C7D-49A7-BEF8-2CB76B9DE77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1944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6576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02-17-jf_sec_mac_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0/23/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46" name="smllieee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7086600" y="6171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DC7C-F091-483E-B74B-50DBB5CEB8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02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itional Secondary MAC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rules are in addition to what is currently in comments #386-#3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nglet selection, on a given ringlet, uses secondary MAC information that is contained in a valid topology entry, and that is marked in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w secondary MAC address information is received and topology is valid, or when topology becomes va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ew information is written into the topology database and is marked not in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ary MAC address validation is performed, taking into account all secondary addresses (whether or not in us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validation passes, all secondary MAC addresses within the reachable topology are marked in 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validation fails, there is no effect on secondary MAC addresses in the topology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F5A9-C4BC-45A1-A0BF-42423734A1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itional Secondary MAC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opology becomes unstable or inva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ffect on secondary MAC addresses in the topology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w secondary MAC address information is received and topology is not va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secondary MAC address information is added to database, and is marked not in 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P frame is received that duplicates a secondary MAC address of the local s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uplicated secondary MAC address is marked not in 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valid topology database entry becomes invalid or when the station MAC address in a valid entry is rewrit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ATD information is cleared from that entry. This is needed because a new topology can be discovered well within a single ATD timer peri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2C5F-C8FB-45A6-8C6F-599DC313C7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4:47:50Z</dcterms:created>
  <dc:creator>John Lemon</dc:creator>
  <dc:description/>
  <dc:language>en-US</dc:language>
  <cp:lastModifiedBy>Jason Fan</cp:lastModifiedBy>
  <dcterms:modified xsi:type="dcterms:W3CDTF">2003-10-23T21:16:12Z</dcterms:modified>
  <cp:revision>280</cp:revision>
  <dc:subject/>
  <dc:title>RPR Topology Discovery Proposal </dc:title>
</cp:coreProperties>
</file>