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BCAA-12E9-4145-8D1D-85B48B70C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8CED-8ACE-42CD-A496-88BB46312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77F4-7286-43B1-BB76-0147A4A6F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718F-81C9-4DAA-A027-5A1E86424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FF1A-2F12-4EF1-8D13-D910251C4D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B9EA-E426-4DD3-B8EB-0BA63464EE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6D0E-EDBA-4D46-B664-6C714CB1C3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205E-6A64-46A9-AD76-9661C1B21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3BE8-B8E6-4E53-BD11-4572781660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FF1B-B566-4AC5-887B-00A48B20AA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C4BF-C9D7-4F3C-A4AF-D11949372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53BC-B25F-4CD2-B15F-61CC77B23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49DC-FF7A-4B2A-A8BF-9B67751846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B504-CD05-42CE-9D16-85B522FC6B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5656-A6F2-4433-967A-9686AE4E98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45F8-87D7-42DC-AA5A-7595F9365B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0C07-A103-4E07-909D-6C107245B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CB84-6198-45D6-8076-33233CCC8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F7E7-53B7-4766-9AFC-D89CB05D4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7887-499B-4C32-A554-0D885ED12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8D06-2B50-4EE0-86E2-B6E93AAFB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855D-5892-444F-834F-3525CB9A6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74C4-3BA9-4AB3-9805-91E0DF231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05AF-F913-4CCC-8F0F-E5C1E97DF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3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903D-8965-43F2-B63F-5F29DDF5E7F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1944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576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-jf_sec_mac_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61722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0/23/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46" name="smllieee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7086600" y="6171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464F-2CD6-44C6-9AC7-13CA8A0057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802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Secondary MAC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rules are in addition to what is currently in comments #386-#3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nglet selection, on a given ringlet, uses secondary MAC information that is contained in a valid topology entry, and that is marked in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w secondary MAC address information is received and topology is valid, or when topology becomes 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w information is written into the topology database and is marked not in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ary MAC address validation is performed, taking into account all secondary addresses (whether or not in us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validation passes, all secondary MAC addresses within the reachable topology are marked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validation fails, there is no effect on secondary MAC addresses in the topology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CC41-69B0-4777-947D-98B6B02D34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Secondary MAC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opology becomes unstable or in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ffect on secondary MAC addresses in the topology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w secondary MAC address information is received and topology is not va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econdary MAC address information is added to database, and is marked not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P frame is received that duplicates a secondary MAC address of the local s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uplicated secondary MAC address is marked not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valid topology database entry becomes invalid or when the station MAC address in a valid entry is rewrit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ATD information is cleared from that entry. This is needed because a new topology can be discovered well within a single ATD timer peri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8425-AF9D-4C3B-9A79-A950497488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4:47:50Z</dcterms:created>
  <dc:creator>John Lemon</dc:creator>
  <dc:description/>
  <dc:language>en-US</dc:language>
  <cp:lastModifiedBy>Jason Fan</cp:lastModifiedBy>
  <dcterms:modified xsi:type="dcterms:W3CDTF">2003-10-23T21:16:12Z</dcterms:modified>
  <cp:revision>280</cp:revision>
  <dc:subject/>
  <dc:title>RPR Topology Discovery Proposal </dc:title>
</cp:coreProperties>
</file>