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018D-312B-4F0B-AA14-3C3DBAB9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3516-61A0-4557-B6B3-DA5BD98B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138-2317-4CFC-9350-2CF1DB23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848-B26A-45BC-88B6-51AD132E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96E1-948F-46CF-A887-EDC8E2EA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2C3F-6FF7-4541-917F-A30C39C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FB9-598B-4A03-9436-8E35A2D0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43A5-4A83-4C9E-9352-18FEBD48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73FB-40D8-461A-A0C4-E10B61DA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8EB4-B45B-4414-9CDA-59A10C49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097A-82D7-42C8-B436-7AC4880A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4A5-F661-47C2-B938-F6191088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3B1F-F520-4C25-B9D2-50422DD8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03D0-6E50-4E32-AE24-703489CE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1DB-C465-4678-8F3B-2BFF7BB0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36DB-CA46-4042-8BBD-B3080749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0EF6-98D9-47D4-921B-17661652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07B-1580-412C-829A-B00EED9F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505A-2C18-40AD-8C4A-10E85C0F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3D3-046E-48F1-B47D-8CB66C36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5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3EE-F372-43B1-A9B2-51670AC8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655-62F1-4DE6-A925-1ECC6466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C9B-2B3D-4A60-BD47-99877EA5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AA1-C877-493D-B56B-4AFAEFC0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Khaled A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ept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erformance Committ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IEEE 802.17 - Interim Meeting - San J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28CB-802F-4616-827B-73324EDB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549440"/>
            <a:ext cx="9144000" cy="0"/>
          </a:xfrm>
          <a:prstGeom prst="line">
            <a:avLst/>
          </a:prstGeom>
          <a:ln w="63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324480"/>
            <a:ext cx="914256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EE47-F8FB-4A31-99B8-0816C41861EA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16BA-FD78-47F8-AEF5-3F02BE443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ogo2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18960" cy="1174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IEEE 802.17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 Terms and Definitions </a:t>
            </a:r>
            <a:br>
              <a:rPr sz="4400"/>
            </a:b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elated to Performanc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79440" y="3774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0957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haled A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eri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an Jose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ept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T&amp;D input needed from the Perf Committe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ame transmission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amount of time elapsed between the time the first bit of a frame is submitted to a transmission medium and the time the last bit is submitted to that mediu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obal Fair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t needed - recommend removing i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l Fair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t needed - recommend removing it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C11-30AD-46C6-9E58-5954B73CE1B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08F7F-2B36-4ECA-B65F-0CDEB10534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T&amp;D input needed from the Perf Committee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C end-to-end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amount of time elapsed between the first bit of a frame submitted from the MAC client to the MAC layer at the source station and the first bit of the frame received by the MAC client at the destination st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dium access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amount of time elapsed between the first bit of a frame submitted from the MAC client to the MAC layer and the first bit of that frame submitted to the transmission mediu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etization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suggestions from perf committee - recommend removing i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B36-9B3D-4558-AACC-858FAB2D1B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F24F0-4BF1-4F3F-AF6D-C20A6E135F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T&amp;D input needed from the Perf Committee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thru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amount of time elapsed between the first bit of a passthru frame received by a station from the transmission medium and the first bit of that frame submitted to the transmission mediu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thru delay buff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suggestions from perf committee - recommend removing i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agation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ommend getting the formal definition from the IEEE dictionary or other previous standards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 not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amount of time it takes a bit to move between two reference points on the same link of the transmission medium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1D1-E0F0-4A4B-A84A-4D36523936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BAA5C-82EF-45FE-9980-6672BCDAB0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T&amp;D input needed from the Perf Committee ...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tocol Stack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suggestions from perf committee - recommend removing i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end-to-end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amount of time elapsed between the first bit of a frame submitted to the transmission medium by a source station and the first bit of that frame received from the transmission medium by the destination stati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ng latenc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e Ring end-to-end dela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on passthru de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suggestions from perf committee - recommend removing i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C48-DF84-4E03-95C3-713083AF264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69F6E-DEC0-4F05-BE75-2C295C92F5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</a:rPr>
              <a:t>Review of other T&amp;D perf related definitions</a:t>
            </a:r>
            <a:endParaRPr b="1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irne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gestion contro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it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9529-F2AC-476E-B54F-AD3ABF2312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768A5-FC33-49AE-BFAD-EBD32ECB24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8T20:31:52Z</dcterms:created>
  <dc:creator>Khaled Amer</dc:creator>
  <dc:description/>
  <dc:language>en-US</dc:language>
  <cp:lastModifiedBy>Khaled Amer</cp:lastModifiedBy>
  <cp:lastPrinted>2000-07-10T06:27:53Z</cp:lastPrinted>
  <dcterms:modified xsi:type="dcterms:W3CDTF">2001-09-13T01:57:31Z</dcterms:modified>
  <cp:revision>312</cp:revision>
  <dc:subject/>
  <dc:title>Modeling project Overview (vers3)</dc:title>
</cp:coreProperties>
</file>