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FC2-B9EC-457C-974E-3ABD4032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DA6-8103-4632-89A2-044699C0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4AF-84BB-431E-BD4A-8C98C6AC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219-79DD-4A0F-92FD-914823AC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6B52-13B3-4329-B703-5571D50F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2EB2-B2C2-4C8B-81CD-394776AF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D5DC-4F06-4F12-97CB-42A1631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C687-6D4D-44C8-8791-794E3443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F091-36B4-4959-A325-5EB6FD3A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A5C6-0EE2-443C-8A90-8EF7D301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CB6D-8DF8-4FE1-8734-38D23E1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A20-CC28-4299-AFA1-EC3DBCA6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0EEE-CA59-4185-BB4F-4D642C5B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6063-4986-4733-806C-A8D21A6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1DFB-DDA5-4B56-98ED-1AED0211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EFF2-4D2C-4C75-8951-BF474215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7A95-2FB0-4A2B-BD18-ECF4EBEB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0AE-FB5B-42D8-A247-9C535A45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E60-D6BF-4117-9C7C-436FA29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A46-2C99-47BE-9B9B-3B6D9B79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251-497A-431B-8350-FA3699E4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E7D-B524-4207-971C-B5C4B232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AA9-B8BF-490C-9EE6-65D0310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1AC-2A47-499E-BF9C-6B44E8EC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haled A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erformance Adhoc 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EEE 802.17 - Plenary Meeting - Hilton 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BF21-D3C2-4E17-BF9D-77A98C7A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549440"/>
            <a:ext cx="9144000" cy="0"/>
          </a:xfrm>
          <a:prstGeom prst="line">
            <a:avLst/>
          </a:prstGeom>
          <a:ln w="63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256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C963-F1BC-49EF-9483-BC4FBA098A2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4859-BE92-409B-BEFF-3558AF776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erformance Adhoc Group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EE 802.17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mmary of Progres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79440" y="377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0957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haled 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EEE 802.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lenar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Decisions made on Monday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cument describing methodology and framework (David James + volunteer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I of simula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s no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s in May and Ju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TC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4AD-368A-4526-8D8F-73399FDDC2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93741-DEAC-450C-A293-B4306B4CF3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Decisions made on Monday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 II of simula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 discussions of Phase II details in May 200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 simulations in July 200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s in Sept and Nov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TC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7F8-9B9B-435F-BCF8-E917981CDC5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B3607-2A25-4D94-B018-347BD49F21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esolved Issue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6200" y="191772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different modeling too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considered to be a big probl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even be an advantage (?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876-A80F-446A-8FC4-5FD80A85A0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F693F-9B9E-4C71-8F81-DCDBD3FDF8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esolved Issue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8880" y="205740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 the RPR MAC/PHY interface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hitectural/behavioral abstractions needed for each RPR propos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 the effect of various architectural aspects instead of various vendor implement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 a reference model  - Harry Pe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D84-229B-4046-AA7C-65A466CADE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C6A69-219C-48AE-8FBD-2866FD85DF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esolved Issues for Phase I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6200" y="191772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overload: continuous supply of packe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bbing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nodes send and receive to/from a common node on the 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dom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/dest pairs: uniformly distribu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need to run the ring underloaded (?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509-E62F-49D3-8F16-0E93E4C3C3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241EC-682E-483E-8488-E8A595B9E2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Open Issue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 of models from various vend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E delay: From where to wher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AF6-1CF7-4C18-8D08-0C8479BC48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7DF93-6D3B-4653-98E9-AD155C0D30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ions Made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ison of RPR with SON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we model/check the ordering of packet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normal m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rotection m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gress/Egress buffer size: 100 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we make it 2*RT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C71-B52E-4329-8067-E29EA4587B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E9938-664F-49FA-B0FC-8BA0FD17B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2840" y="38052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hase I Simulation Scenario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upper layer protoc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staggering of input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Basic Ring Parameter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estion Contr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156-E1A3-4AE1-B4E7-0F9E47A700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5D1C9-A94D-4781-B842-2C2D0F73E6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ing Performanc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s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utilization under heavy loa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control overhe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throughp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79B-545B-476B-8A26-15D9225530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E7EBF-DB12-4C29-A3F2-70FCDEB8F6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gestion Control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1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s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put in the presence of  conges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las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nod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onversation (or flow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DB9-4BA4-4C3D-B101-AA36860698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CE616-8EAD-4123-8B75-0541084E4A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Formation of the Perf Adhoc Group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55640"/>
            <a:ext cx="7772400" cy="34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ed in Jan 2001 as a separate Adho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ittee within 802.17 WG to loo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o performance iss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5DE-43C7-443A-8B50-23CFF99EC2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3B677-8435-498B-87C0-84CB8F93E8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airnes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1755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s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put and end-to-end packet delay and jitte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las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nod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onversation (or flow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scenarios that demonstrate fairness in overload condi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A24-66A1-4F5F-9CCC-D9F1A95A6A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23A0A-E2E6-4207-938F-00770A3C1D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Starting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figuration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8320" y="1915920"/>
            <a:ext cx="7772400" cy="35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al R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running under capacity and well as over capacity (overloa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circumference (100Km, 1000Km)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rate: 10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2DB-3C00-4DA8-B3EC-EB2FFA3A57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DCF7C-C595-489E-8003-46ABB642B9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Starting Applicat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800" y="1784520"/>
            <a:ext cx="7772400" cy="33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b appl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% of the traffic is generated by all nodes and flows to the hub node (let’s say node #15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% of the traffic is generated by the hub node and flows to all the other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F0D-DC62-4904-9DFA-041EE6CDF5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874FC-79F1-44C6-9488-0A89B08E30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Starting Applications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1800" y="1961640"/>
            <a:ext cx="7772400" cy="32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dom source/destination pai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uld demonstrate spatial reuse effect better than hub appl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631-C379-4250-8934-EE9606B388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E952C-AD72-4A6F-8B10-4FF64714DB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7200" y="356760"/>
            <a:ext cx="659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Traffic Characteristic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6880" y="1689120"/>
            <a:ext cx="829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size distributions (probabilistic)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moda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60% 64B, 20% 512B, 20% 1518B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modal (?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0% 64B, 15% 512B, 15% 1518B, 20% 9K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itted rate per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% of ring capacity / #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% of ring capacity / #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E8B-AC86-40A9-B984-EF1579F773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0ABD3-9525-40C4-8666-7F34AD97CE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uggested Simulation output result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200" y="1943280"/>
            <a:ext cx="890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pu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E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itter (99.9th percentile of delay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we use CDF’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ll output result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curves and number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 node, per class, per convers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848-1ED0-48C8-AA35-6817A9B5F4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A13DE-F0F5-42D0-AF3E-3D24673271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Next steps and Discuss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us17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343400" cy="315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12C-43A0-4F40-AF4F-673223770F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3859F-0DBD-4553-BC1D-986E63885D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erf Adhoc Objective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parameters, metrics, scenarios to help provide a consistent way of comparing architectural ide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ze simulations results presented in the 802.17 WG meeting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chartered to run simulations for the working grou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00D-788D-4819-BF1F-7C5CAE7EB1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8A63D-3D77-4BD1-B82B-DEE56CD1D8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erf Adhoc Objectives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82440"/>
            <a:ext cx="7772400" cy="34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ee on common/consistent perf simulation scenarios and metric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Scenari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ation format/sty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E5A-316F-4DDE-BDF4-FE5A312898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8A943-1C05-4DFB-9716-FEA368D4D9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erf Adhoc Objectives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149560"/>
            <a:ext cx="7772400" cy="27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would be used to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e the performance characteristics of various propos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e performance characteristics of RPR solutions vs. competing technologies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BDA-17C9-439C-B6E3-1A44C917B5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A55FD-A3EA-44DC-809E-0BE448F4DF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Mailing Lis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1844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ly using the 802.17 reflec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‘RPR Perf:’ in subject fiel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decide to have a separate mailing list for perf discussions in the future (?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3D9-4597-4A6A-A88C-17E9C1C363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A8652-6DBA-4240-97CC-1BA0A90A71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articipation in Perf Adhoc Group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22480"/>
            <a:ext cx="7772400" cy="27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one welcome to particip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ho can contribute to the perf analysis and perf model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just interested in these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concerned about performance related issues and comparison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… anyone is welcome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252-E449-437A-BEE6-8BA433D409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0CDCA-6662-4667-AB9E-C7DE147DCA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Goals for this week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 unresolved and open issues to facilitate running simulations adhering to the methodology developed by the perf adhoc committ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ize plans for Phase I of simulations and have participants start simul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0A9-BCED-422F-9D6A-BE3ED09AD6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FE94F-4534-4CBF-B50D-2E4D1D228D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ogress and Status Repor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5436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ations and discussions held Monday morning, Monday evening and Wed eve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sed on many of the general performance metrics and scenari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rived to agreement on details of initial simulation scenarios (Phase I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191-9977-4977-B705-B3146448B7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965A2-DD47-4E06-9A12-6E698AA701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8T20:31:52Z</dcterms:created>
  <dc:creator>Khaled Amer</dc:creator>
  <dc:description/>
  <dc:language>en-US</dc:language>
  <cp:lastModifiedBy>Khaled Amer</cp:lastModifiedBy>
  <cp:lastPrinted>2000-07-10T06:27:53Z</cp:lastPrinted>
  <dcterms:modified xsi:type="dcterms:W3CDTF">2001-03-14T20:46:26Z</dcterms:modified>
  <cp:revision>296</cp:revision>
  <dc:subject/>
  <dc:title>Modeling project Overview (vers3)</dc:title>
</cp:coreProperties>
</file>