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4C7-BEA0-44A4-AE8B-EE27235B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389-D24C-4924-A03C-F5392D12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1E9-1682-4BB0-A738-EC2DA9AF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17D-869E-4AF1-B5B0-F6214038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F820-2AEE-4B85-9CA4-A42015BF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2408-70CD-4E74-841E-4945ED37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D88D-D6C0-4048-9A67-40569D3F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69FC-C45C-4B80-9384-55A808A6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4F66-E0F8-4342-B4C0-1C3B8855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1C34-82E5-4D53-B36C-3CC7AEAF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3BB1-61E6-428D-AB34-FE32F1CC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C18-24E4-4E73-B77D-236039DA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BC21-06DE-4B8E-AF05-FF7BD499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C5A5-EC78-4373-8E15-4E282839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DF6E-06CF-44ED-B852-971A3C64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948C-7758-45E7-82F8-7632ED7B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07D3-E551-4860-A4CF-CFE102EF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E1A-FD49-426F-9014-20B97743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D98-AF74-44CC-AA42-FB1CDC35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6F8-F34F-4C9C-A456-3DA8F425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D67-6B66-4E0E-95CC-97EE93FA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4B7-88BB-4420-9BA9-B99147E6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6D3-C6D9-4ADD-AAE7-B2487D62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10A-3EC7-4DFB-B536-4EF06B6D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haled A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rch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erformance Adhoc Committ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IEEE 802.17 - Plenary Meeting - Hilton 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4507-116B-42F8-9B14-6EB4465EC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18960" cy="1174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549440"/>
            <a:ext cx="9144000" cy="0"/>
          </a:xfrm>
          <a:prstGeom prst="line">
            <a:avLst/>
          </a:prstGeom>
          <a:ln w="63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324480"/>
            <a:ext cx="914256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8078-3BF9-449F-AB3B-0E634704A3DC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C79E-DC80-4C63-912E-DC9C6F185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18960" cy="1174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erformance Adhoc Group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EEE 802.17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ummary of Progres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79440" y="377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09572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haled A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EEE 802.1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lenar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rch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Decisions made on Monday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2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cument describing methodology and framework (David James + volunteer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ase I of simulation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ts no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s in May and Jul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TC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BF1-7B97-4AA6-AA19-78E4C94FDE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67EA7-C87D-4984-800E-F01AC71FC2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Decisions made on Monday ...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ase II of simulation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t discussions of Phase II details in May 200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t simulations in July 200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s in Sept and Nov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 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 TC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C81-D474-4E4C-B293-6CAD038C872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C3A52-B720-41FF-9E7E-6DF3FDC286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Resolved Issue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6200" y="191772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different modeling too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considered to be a big probl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even be an advantage (?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F2D-E3E3-4811-91F5-50E8001EEA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88D86-A93E-49A0-8F40-DFC4E703DC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Resolved Issue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8880" y="205740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 the RPR MAC/PHY interface mod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chitectural/behavioral abstractions needed for each RPR propos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 the effect of various architectural aspects instead of various vendor implement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 a reference model  - Harry Pe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479-3957-4C88-BA68-03ACC1E361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A4A85-34B3-431E-809F-54A789F382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Resolved Issues for Phase I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6200" y="191772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overload: continuous supply of packe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ubbing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nodes send and receive to/from a common node on the 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ndom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/dest pairs: uniformly distribut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need to run the ring underloaded (?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BA6-B467-478B-BE54-6FCC0A017F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7EA6E-98E3-420C-BDF7-9BC10BCD77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Open Issue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ailability of models from various vend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E delay: From where to wher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340-7BE2-4424-85F2-8E1DE574C2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5B2E0-16E4-4862-B219-67C24CC3CA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uggestions Made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ison of RPR with SON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uld we model/check the ordering of packet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normal m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rotection m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gress/Egress buffer size: 100 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uld we make it 2*RT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6C24-ED4E-4269-922A-28E4150C5F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9B009-ACC0-4A70-A529-4805030502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2840" y="38052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hase I Simulation Scenario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upper layer protoc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staggering of input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 Basic Ring Parameter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Perform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estion Contr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ir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20B-6837-47D0-9CEE-A305804C78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10ADD-1BB9-4172-86A5-D5523510EB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Ring Performance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rics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 utilization under heavy loa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 control overhea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throughpu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5AA-E97F-4FF1-A2AE-7758587723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16EE3-A550-4A99-8FEB-BEE8E84B43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ongestion Control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1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rics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put in the presence of  conges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clas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nod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conversation (or flow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367-0F13-4AA1-930D-199B17193EF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EEDB1-E128-4B78-99B7-4560025483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Formation of the Perf Adhoc Group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55640"/>
            <a:ext cx="7772400" cy="34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ed in Jan 2001 as a separate Adho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ittee within 802.17 WG to loo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o performance issu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96A-AA7E-4DD2-8E10-E62A80F053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ED7E0-E02D-4111-9F27-0ADCFE2D3D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airnes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800" y="1755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rics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put and end-to-end packet delay and jitter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clas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nod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conversation (or flow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scenarios that demonstrate fairness in overload condi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D41-426A-4C72-BA12-D49686B22D5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DBFB8-15EC-4FCC-B85C-AA15758F9E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uggested Starting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onfiguration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8320" y="1915920"/>
            <a:ext cx="7772400" cy="35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al R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no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running under capacity and well as over capacity (overloa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circumference (100Km, 1000Km)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rate: 10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D05-6529-4DE6-874C-D111F356C2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A4303-B9AD-4ED1-98F2-AF1D3C4815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uggested Starting Application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800" y="1784520"/>
            <a:ext cx="7772400" cy="33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ub appli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% of the traffic is generated by all nodes and flows to the hub node (let’s say node #15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% of the traffic is generated by the hub node and flows to all the other no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386-B5C9-4DD6-AC35-000375A2C15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CEC56-BD82-4655-B53D-B9FAB67851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uggested Starting Applications ...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1800" y="1961640"/>
            <a:ext cx="7772400" cy="32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ndom source/destination pai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uld demonstrate spatial reuse effect better than hub appli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772-AE92-48FB-B3E6-94968AD9CDF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DBE71-3C13-4EB2-8385-E0D8B77F9A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7200" y="356760"/>
            <a:ext cx="659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uggested Traffic Characteristic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6880" y="1689120"/>
            <a:ext cx="829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size distributions (probabilistic)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moda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60% 64B, 20% 512B, 20% 1518B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modal (?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0% 64B, 15% 512B, 15% 1518B, 20% 9K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itted rate per n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% of ring capacity / # no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% of ring capacity / # no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4C3-0833-4AD7-8D82-53AEF72EEE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39D02-9C0D-450F-8791-193869A1D3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uggested Simulation output result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1200" y="1943280"/>
            <a:ext cx="8902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oughpu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E de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itter (99.9th percentile of delay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uld we use CDF’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all output result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curves and number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 node, per class, per convers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332-358A-4504-8FF0-B44C8DC937F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89688-5C58-4CAD-AC7F-005181BB43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Next steps and Discussion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us17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343400" cy="315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337-27EC-4D8E-8230-F0233008882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2BA90-6F0F-4FC1-AD55-9AECB23B86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erf Adhoc Objective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 parameters, metrics, scenarios to help provide a consistent way of comparing architectural ide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ze simulations results presented in the 802.17 WG meeting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chartered to run simulations for the working grou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996-A513-4A61-8369-0DD455F5FF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E01C7-AFB0-4688-A2FE-3AF11DEB92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erf Adhoc Objectives ...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82440"/>
            <a:ext cx="7772400" cy="34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ree on common/consistent perf simulation scenarios and metric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ance Metr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 Scenari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ation format/sty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3EE-1A80-4BFD-A20F-EA67D3476B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C058D-C3D3-4C73-8FA6-12638384AD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erf Adhoc Objectives ...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149560"/>
            <a:ext cx="7772400" cy="27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would be used to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e the performance characteristics of various propos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e performance characteristics of RPR solutions vs. competing technologies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523-D241-43F7-BB1E-8A7F1DBC82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152A6-B024-4F31-AADD-4A3E089A9C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Mailing Lis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1844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tly using the 802.17 reflect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‘RPR Perf:’ in subject fiel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decide to have a separate mailing list for perf discussions in the future (?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1A5D-ED0D-4180-9043-63734678DCB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F58EC-E325-43E5-A550-0B825C00D1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articipation in Perf Adhoc Group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22480"/>
            <a:ext cx="7772400" cy="27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one welcome to particip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who can contribute to the perf analysis and perf model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just interested in these top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concerned about performance related issues and comparison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then … anyone is welcome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4CE-709C-4FE6-86D0-1BC6C49FBB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ADAA6-E450-4EBF-8CED-8CC6E03EAF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Goals for this week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ress unresolved and open issues to facilitate running simulations adhering to the methodology developed by the perf adhoc committe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ize plans for Phase I of simulations and have participants start simul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EE9-00CB-43B7-B51D-AA9CAF0D1E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0B482-4B30-46D4-A22C-B9381A632A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rogress and Status Repor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54360"/>
            <a:ext cx="8182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ations and discussions held Monday morning, Monday evening and Wed eve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osed on many of the general performance metrics and scenari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rived to agreement on details of initial simulation scenarios (Phase I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C8B-01F2-4612-BCB0-3B0014E2BB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D7BCE-CDAC-4BF1-AE63-DE286AEF69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8T20:31:52Z</dcterms:created>
  <dc:creator>Khaled Amer</dc:creator>
  <dc:description/>
  <dc:language>en-US</dc:language>
  <cp:lastModifiedBy>Khaled Amer</cp:lastModifiedBy>
  <cp:lastPrinted>2000-07-10T06:27:53Z</cp:lastPrinted>
  <dcterms:modified xsi:type="dcterms:W3CDTF">2001-03-14T20:46:26Z</dcterms:modified>
  <cp:revision>296</cp:revision>
  <dc:subject/>
  <dc:title>Modeling project Overview (vers3)</dc:title>
</cp:coreProperties>
</file>