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4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5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F43728A-EE5D-47F8-81CA-742682262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lient packet ring in many ways is where Ethernet meets SONET and like any other encounter whether C or P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question of bridging the gap &amp; to do that is a matter of G&amp;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 we do need context, so that the encounter has a useful out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 am proposing one possible context/framework for service differentiation in R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7088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7720" y="15235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708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7720" y="40708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39720" y="15235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3640" y="15235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708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39720" y="40708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3640" y="40708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830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7720" y="1523520"/>
            <a:ext cx="3830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523520"/>
            <a:ext cx="3830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708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830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5235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7720" y="40708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7720" y="15235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7088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6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590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3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19040" y="6552720"/>
            <a:ext cx="4933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EE 802.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mllieee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419040" cy="476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248520" y="655308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rw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302680" y="0"/>
            <a:ext cx="841320" cy="8413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85800" y="990720"/>
            <a:ext cx="777240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peng@nortelnetworks.co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2058840"/>
            <a:ext cx="84582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H 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ry Peng  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hpeng@nortelnetworks.com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oss Requiremen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47280" y="12283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7 is a Media Access De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 can occur at ring ingress and egress out side the 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s at ring add rate &lt;&lt; ring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lligent edge, which is scalable and fea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gress policed by fairne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s jitter upper b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protocol uses loss as congestio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ier requir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acket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% preempt-able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ottom Lin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s for Lower than low priority traff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lost in the 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guaranteed on B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fair and consistent access is better than variable burst with lo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PR Applicatio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rcumference &lt; 5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 count &lt;6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rcumference &lt; 100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 count &lt; 1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 and W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 engineer ring to take advantage of Protection, port consolidation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erms and Definitio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priority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of traffic on the Ring with transport behavior that provides low bounded delay and jitter O[NxMTU] , no loss, and committed BW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um Priority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of traffic on the Ring with transport behavior that provides bounded delay and jitter ~O[2xRTT] , no loss, and committed B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provide an Excess BW service above the committed if ring BW for Low priority is not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priorty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of traffic on the Ring with transport behavior that provides bounded delay and jitter &gt;O[2xRTT] , no loss, no guaranteed B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erms and Defini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it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ical connection from ringlet ingress to ringlet transmit scheduler. Packets received from ring ingress to be forward to downstream stations takes this path in the MA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reordering within the same cla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 the transit scheduler is busy transmitting a packet, newly arrived packets are queued to be schedul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packets are transmitted till end of packed before the next scheduling even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ket from the local station arrives at the scheduler via the add path. In the Add path there are up to 3 priority leve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add path traffic are shap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priority traffic are guaranteed. It cannot be overprovision. Traffic Engineering is required. Synchronization of reservation information is also required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ransmit Scheduler Behavior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823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 schedu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ion resolution. Does not segment or preempt pack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jitter accumula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e to upstream station transmit simultaneous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[NxMTU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really O[NxB]. If B&lt;= 1 MTU than above is cor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 = number of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= ring add burst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 jitter accumula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e to contention as down stream station transmitti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 path jitter gener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priority packet: O[NxMTU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um priority packet: &gt;[NxMTU]-&gt; trasit buffer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priority packet: &gt; &gt;[NxMTU ]-&gt; trasit buffer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erms and definitions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pplicati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12800" y="11696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erved Global B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vic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300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ranteed B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300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delay jitter O(NxMTU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249"/>
              </a:spcBef>
              <a:buClr>
                <a:srgbClr val="66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here N= number of stat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300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sless on the 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W is reserved all the way around the rin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300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W reservation information is sent to all stations on the r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plies to ring high priority traff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erved Link B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vic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300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ranteed B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300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delay jitter O(NxMTU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249"/>
              </a:spcBef>
              <a:buClr>
                <a:srgbClr val="66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here N= number of stat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300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sless on the 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W is reserved on a per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300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erved information is sent to all s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ply to ring high priority traff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served-G is simpler to manage: less state values, state synchronization is requir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served-L is managing station-station connections; better ring BW usage, more state values, state synchronization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laim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dwidth reserved not being used can be used by another conversation of same or different prio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a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reclaim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dwidth reserved for a conversation cannot be used by any body el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AC Data Path I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1880" y="5910120"/>
            <a:ext cx="82137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ate monitor on transit utilization. Congestion threshold is set according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Monitor transit medium and low u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60560" y="4454640"/>
            <a:ext cx="1763640" cy="796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4080" y="4454640"/>
            <a:ext cx="8622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91120" y="4424400"/>
            <a:ext cx="966600" cy="86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7680" y="4846680"/>
            <a:ext cx="41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789200" y="4649760"/>
            <a:ext cx="58716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67280" y="4846680"/>
            <a:ext cx="5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75200" y="3567240"/>
            <a:ext cx="260280" cy="355320"/>
          </a:xfrm>
          <a:prstGeom prst="flowChartProcess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40320" y="3567240"/>
            <a:ext cx="260280" cy="355320"/>
          </a:xfrm>
          <a:prstGeom prst="flowChartProcess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32440" y="3567240"/>
            <a:ext cx="260280" cy="355320"/>
          </a:xfrm>
          <a:prstGeom prst="flowChartProcess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3097080"/>
            <a:ext cx="51069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3600" y="268596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5520" y="32688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44920" y="1249200"/>
            <a:ext cx="260280" cy="77184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25800" y="1249200"/>
            <a:ext cx="260280" cy="77184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73560" y="1249200"/>
            <a:ext cx="260280" cy="77184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1249200"/>
            <a:ext cx="260640" cy="77184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02080" y="1249200"/>
            <a:ext cx="260640" cy="77184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79840" y="2259000"/>
            <a:ext cx="1971720" cy="365040"/>
          </a:xfrm>
          <a:prstGeom prst="flowChartManualOperation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62360" y="2625840"/>
            <a:ext cx="6480" cy="61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1554120"/>
            <a:ext cx="88920" cy="92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24280" y="1566720"/>
            <a:ext cx="88920" cy="92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63960" y="1566720"/>
            <a:ext cx="88920" cy="92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2560" y="3919680"/>
            <a:ext cx="326880" cy="76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76760" y="3919680"/>
            <a:ext cx="0" cy="73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848120" y="3927600"/>
            <a:ext cx="339840" cy="78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04000" y="3611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89560" y="35956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14720" y="3618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09840" y="126036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89360" y="105264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ard: RED, W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89440" y="1627200"/>
            <a:ext cx="26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ues: perVoQ, perCla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24360" y="2328840"/>
            <a:ext cx="25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eduler: Shapers, G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7280" y="1219320"/>
            <a:ext cx="260280" cy="77148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8160" y="1219320"/>
            <a:ext cx="260640" cy="77148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15920" y="1219320"/>
            <a:ext cx="260280" cy="77148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95600" y="1219320"/>
            <a:ext cx="260280" cy="77148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44800" y="1219320"/>
            <a:ext cx="260280" cy="77148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14360" y="1523880"/>
            <a:ext cx="88920" cy="92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67000" y="1536840"/>
            <a:ext cx="88920" cy="91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6680" y="1536840"/>
            <a:ext cx="88920" cy="91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41520" y="2319480"/>
            <a:ext cx="1292040" cy="365040"/>
          </a:xfrm>
          <a:prstGeom prst="flowChartManualOperation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1254240" y="2664000"/>
            <a:ext cx="1440" cy="169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84600" y="201780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46400" y="201780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83000" y="201780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75280" y="2023920"/>
            <a:ext cx="0" cy="24156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1880" y="203040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33440" y="198612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795240" y="198612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131840" y="198612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824120" y="199224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160720" y="199872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1640" y="2235240"/>
            <a:ext cx="1733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27320" y="223524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89800" y="273672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.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3920" y="273672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.indic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84600" y="3257640"/>
            <a:ext cx="177840" cy="164880"/>
          </a:xfrm>
          <a:prstGeom prst="flowChartConnector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209840" y="3384720"/>
            <a:ext cx="3999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73520" y="340992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49840" y="3378240"/>
            <a:ext cx="38736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73760" y="4419720"/>
            <a:ext cx="247680" cy="183960"/>
          </a:xfrm>
          <a:prstGeom prst="flowChartProcess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94440" y="5361120"/>
            <a:ext cx="106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m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edu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24080" y="41292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it 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10400" y="4791240"/>
            <a:ext cx="377640" cy="272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80200" y="475308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moni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16560" y="4319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gress shap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14760" y="5245200"/>
            <a:ext cx="496800" cy="352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17920" y="4649760"/>
            <a:ext cx="574920" cy="457200"/>
          </a:xfrm>
          <a:prstGeom prst="flowChartSummingJunct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33720" y="4441680"/>
            <a:ext cx="0" cy="314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40000" y="4537080"/>
            <a:ext cx="1004760" cy="22068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57720" y="4702320"/>
            <a:ext cx="1122120" cy="6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27520" y="4729320"/>
            <a:ext cx="0" cy="5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9320" y="4330800"/>
            <a:ext cx="1109880" cy="1019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89280" y="4116240"/>
            <a:ext cx="496800" cy="352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395520"/>
            <a:ext cx="1136520" cy="5749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2520" y="3801960"/>
            <a:ext cx="639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30440" y="3719520"/>
            <a:ext cx="11494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25760" y="3637080"/>
            <a:ext cx="1594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3382920" y="3932280"/>
            <a:ext cx="457200" cy="195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278160" y="3944880"/>
            <a:ext cx="471600" cy="1293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718920" y="3697200"/>
            <a:ext cx="1579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76360" y="2847960"/>
            <a:ext cx="1658880" cy="1684440"/>
          </a:xfrm>
          <a:custGeom>
            <a:avLst/>
            <a:gdLst/>
            <a:ahLst/>
            <a:rect l="l" t="t" r="r" b="b"/>
            <a:pathLst>
              <a:path w="1045" h="1061">
                <a:moveTo>
                  <a:pt x="0" y="1061"/>
                </a:moveTo>
                <a:lnTo>
                  <a:pt x="0" y="296"/>
                </a:lnTo>
                <a:lnTo>
                  <a:pt x="1045" y="296"/>
                </a:lnTo>
                <a:lnTo>
                  <a:pt x="104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9640" y="3767040"/>
            <a:ext cx="11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airness Ms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50520" y="2521080"/>
            <a:ext cx="11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airness Ms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42760" y="388944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 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AC Data path II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1880" y="5909760"/>
            <a:ext cx="82137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f threshold are set as desired, fairness, and ingress shapers can provide the desired traffic behavior for the different class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There are ingress client queues! Where low priority packets suffers delay and may be los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60560" y="4454640"/>
            <a:ext cx="1763640" cy="796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84080" y="4454640"/>
            <a:ext cx="8622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91120" y="4424400"/>
            <a:ext cx="966600" cy="86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7680" y="4846680"/>
            <a:ext cx="41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789200" y="4846320"/>
            <a:ext cx="27468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3344760" y="4867200"/>
            <a:ext cx="1096920" cy="16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67280" y="4846680"/>
            <a:ext cx="5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75200" y="3567240"/>
            <a:ext cx="260280" cy="355320"/>
          </a:xfrm>
          <a:prstGeom prst="flowChartProcess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40320" y="3567240"/>
            <a:ext cx="260280" cy="355320"/>
          </a:xfrm>
          <a:prstGeom prst="flowChartProcess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32440" y="3567240"/>
            <a:ext cx="260280" cy="355320"/>
          </a:xfrm>
          <a:prstGeom prst="flowChartProcess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3097080"/>
            <a:ext cx="51069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3600" y="268596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5520" y="32688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44920" y="1249200"/>
            <a:ext cx="260280" cy="77184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25800" y="1249200"/>
            <a:ext cx="260280" cy="77184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73560" y="1249200"/>
            <a:ext cx="260280" cy="77184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52880" y="1249200"/>
            <a:ext cx="260640" cy="77184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02080" y="1249200"/>
            <a:ext cx="260640" cy="77184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79840" y="2259000"/>
            <a:ext cx="1971720" cy="365040"/>
          </a:xfrm>
          <a:prstGeom prst="flowChartManualOperation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62360" y="2625840"/>
            <a:ext cx="6480" cy="61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0" y="1554120"/>
            <a:ext cx="88920" cy="92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24280" y="1566720"/>
            <a:ext cx="88920" cy="92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63960" y="1566720"/>
            <a:ext cx="88920" cy="92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92560" y="3919680"/>
            <a:ext cx="326880" cy="76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76760" y="3919680"/>
            <a:ext cx="0" cy="73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848120" y="3927600"/>
            <a:ext cx="33984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04000" y="3611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89560" y="35956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14720" y="3618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09840" y="126036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89360" y="105264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ard: RED, W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89080" y="1627200"/>
            <a:ext cx="27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ues: per VoQ, perCla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24360" y="2328840"/>
            <a:ext cx="25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eduler: Shapers, G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7280" y="1219320"/>
            <a:ext cx="260280" cy="77148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8160" y="1219320"/>
            <a:ext cx="260640" cy="77148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15920" y="1219320"/>
            <a:ext cx="260280" cy="77148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95600" y="1219320"/>
            <a:ext cx="260280" cy="77148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44800" y="1219320"/>
            <a:ext cx="260280" cy="77148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14360" y="1523880"/>
            <a:ext cx="88920" cy="92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67000" y="1536840"/>
            <a:ext cx="88920" cy="91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06680" y="1536840"/>
            <a:ext cx="88920" cy="91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41520" y="2319480"/>
            <a:ext cx="1292040" cy="365040"/>
          </a:xfrm>
          <a:prstGeom prst="flowChartManualOperation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241280" y="2703240"/>
            <a:ext cx="0" cy="17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84600" y="201780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46400" y="201780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83000" y="201780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75280" y="2023920"/>
            <a:ext cx="0" cy="24156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11880" y="203040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33440" y="198612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95240" y="198612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131840" y="198612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824120" y="199224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160720" y="199872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1640" y="2235240"/>
            <a:ext cx="1733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27320" y="223524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9800" y="273672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.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79080" y="274968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.indic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84600" y="3257640"/>
            <a:ext cx="177840" cy="164880"/>
          </a:xfrm>
          <a:prstGeom prst="flowChartConnector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209840" y="3384720"/>
            <a:ext cx="3999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73520" y="340992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49840" y="3378240"/>
            <a:ext cx="38736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873760" y="4419720"/>
            <a:ext cx="247680" cy="183960"/>
          </a:xfrm>
          <a:prstGeom prst="flowChartProcess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21200" y="5270400"/>
            <a:ext cx="106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m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edu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24080" y="41292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it 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10400" y="4791240"/>
            <a:ext cx="377640" cy="272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80200" y="475308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moni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16560" y="4319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gress shap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78120" y="5079960"/>
            <a:ext cx="497160" cy="352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17920" y="4649760"/>
            <a:ext cx="574920" cy="457200"/>
          </a:xfrm>
          <a:prstGeom prst="flowChartSummingJunct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67120" y="4441680"/>
            <a:ext cx="1440" cy="314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40000" y="4537080"/>
            <a:ext cx="1004760" cy="22068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T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20920" y="4950000"/>
            <a:ext cx="1004760" cy="22032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57720" y="4702320"/>
            <a:ext cx="1122120" cy="6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957480" y="4964040"/>
            <a:ext cx="0" cy="1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9320" y="4330800"/>
            <a:ext cx="1109880" cy="1019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0920" y="4754520"/>
            <a:ext cx="157320" cy="22212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2168640" y="4637160"/>
            <a:ext cx="182520" cy="15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08240" y="4924440"/>
            <a:ext cx="1303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689280" y="4116240"/>
            <a:ext cx="496800" cy="352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3395520"/>
            <a:ext cx="1136520" cy="5749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ir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22520" y="3801960"/>
            <a:ext cx="639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30440" y="3719520"/>
            <a:ext cx="11494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5760" y="3637080"/>
            <a:ext cx="1594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3382920" y="3932280"/>
            <a:ext cx="457200" cy="195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3292560" y="3984480"/>
            <a:ext cx="457200" cy="1254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18920" y="3697200"/>
            <a:ext cx="1579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76360" y="2847960"/>
            <a:ext cx="1658880" cy="1684440"/>
          </a:xfrm>
          <a:custGeom>
            <a:avLst/>
            <a:gdLst/>
            <a:ahLst/>
            <a:rect l="l" t="t" r="r" b="b"/>
            <a:pathLst>
              <a:path w="1045" h="1061">
                <a:moveTo>
                  <a:pt x="0" y="1061"/>
                </a:moveTo>
                <a:lnTo>
                  <a:pt x="0" y="296"/>
                </a:lnTo>
                <a:lnTo>
                  <a:pt x="1045" y="296"/>
                </a:lnTo>
                <a:lnTo>
                  <a:pt x="104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9640" y="3767040"/>
            <a:ext cx="11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airness Ms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50520" y="2521080"/>
            <a:ext cx="11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airness Ms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06560" y="3879720"/>
            <a:ext cx="719280" cy="1606680"/>
          </a:xfrm>
          <a:custGeom>
            <a:avLst/>
            <a:gdLst/>
            <a:ahLst/>
            <a:rect l="l" t="t" r="r" b="b"/>
            <a:pathLst>
              <a:path w="453" h="1012">
                <a:moveTo>
                  <a:pt x="453" y="815"/>
                </a:moveTo>
                <a:lnTo>
                  <a:pt x="453" y="1012"/>
                </a:lnTo>
                <a:lnTo>
                  <a:pt x="0" y="1012"/>
                </a:lnTo>
                <a:lnTo>
                  <a:pt x="0" y="0"/>
                </a:lnTo>
                <a:lnTo>
                  <a:pt x="2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44480" y="5451480"/>
            <a:ext cx="103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reshol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25840" y="5121360"/>
            <a:ext cx="2103480" cy="365040"/>
          </a:xfrm>
          <a:custGeom>
            <a:avLst/>
            <a:gdLst/>
            <a:ahLst/>
            <a:rect l="l" t="t" r="r" b="b"/>
            <a:pathLst>
              <a:path w="1325" h="230">
                <a:moveTo>
                  <a:pt x="0" y="230"/>
                </a:moveTo>
                <a:lnTo>
                  <a:pt x="1325" y="222"/>
                </a:lnTo>
                <a:lnTo>
                  <a:pt x="131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05280" y="5173560"/>
            <a:ext cx="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4T01:17:08Z</dcterms:created>
  <dc:creator>Harry Peng</dc:creator>
  <dc:description/>
  <dc:language>en-US</dc:language>
  <cp:lastModifiedBy>HPENG</cp:lastModifiedBy>
  <cp:lastPrinted>2000-12-07T16:39:27Z</cp:lastPrinted>
  <dcterms:modified xsi:type="dcterms:W3CDTF">2002-03-25T21:12:39Z</dcterms:modified>
  <cp:revision>151</cp:revision>
  <dc:subject/>
  <dc:title>RAH   Harry Peng   hpeng@nortelnetworks.com  Necdet Uzun nuzun@cisoc.com     </dc:title>
</cp:coreProperties>
</file>