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8EC144-6C62-438A-9B08-2410348FF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lient packet ring in many ways is where Ethernet meets SONET and like any other encounter whether C or P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question of bridging the gap &amp; to do that is a matter of G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we do need context, so that the encounter has a useful out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 am proposing one possible context/framework for service differentiation in R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972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364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972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364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9040" y="6552720"/>
            <a:ext cx="493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.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7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peng@nortelnetworks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5884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H 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Peng  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peng@nortelnetworks.co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 Require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7280" y="1228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7 is a Media Access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can occur at ring ingress and egress out side th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s at ring add rate &lt;&lt; ring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t edge, which is scalable and 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ress policed by fairne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jitter upper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protocol uses loss as 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ack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% preempt-able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for Lower than low priority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lost in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uaranteed on B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air and consistent access is better than variable burst with l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PR Applic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mference &lt; 5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unt &lt;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mference &lt; 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unt &lt;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and 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engineer ring to take advantage of Protection, port consolidatio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low bounded delay and jitter O[NxMTU] , no loss, and committed B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bounded delay and jitter ~O[2xRTT] , no loss, and committed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provide an Excess BW service above the committed if ring BW for Low priority is no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rior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bounded delay and jitter &gt;O[2xRTT] , no loss, no guaranteed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connection from ringlet ingress to ringlet transmit scheduler. Packets received from ring ingress to be forward to downstream stations takes this path in the MA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reordering within the same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transit scheduler is busy transmitting a packet, newly arrived packets are queued to be schedu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packets are transmitted till end of packed before the next scheduling ev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from the local station arrives at the scheduler via the add path. In the Add path there are up to 3 priority lev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add path traffic are shap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priority traffic are guaranteed. It cannot be overprovision. Traffic Engineering is required. Synchronization of reservation information is also required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mit Scheduler Behavio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82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sched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ion resolution. Does not segment or preempt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jitter accum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upstream station transmit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[NxMT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really O[NxB]. If B&lt;= 1 MTU than above is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number of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ring add burs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jitter accum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contention as down stream station transmi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path jitter gen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: O[NxMT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 priority packet: &gt;[NxMTU]-&gt; trasit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ority packet: &gt; &gt;[NxMTU ]-&gt; trasit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s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800" y="1169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Global B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anteed 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elay jitter O(NxMT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N= number of stat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less on the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is reserved all the way around the r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W reservation information is sent to all stations on the 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es to ring high priorit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Link B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anteed 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elay jitter O(NxMT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N= number of stat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less on the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is reserved on a per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erved information is sent to all 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y to ring high priorit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-G is simpler to manage: less state values, state synchronization is requi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-L is managing station-station connections; better ring BW usage, more state values, state synchronization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reserved not being used can be used by another conversation of same or different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cla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reserved for a conversation cannot be used by any body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C Data Path 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880" y="5910120"/>
            <a:ext cx="82137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ate monitor on transit utilization. Congestion threshold is set according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onitor transit medium and low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0560" y="4454640"/>
            <a:ext cx="1763640" cy="79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080" y="4454640"/>
            <a:ext cx="86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424400"/>
            <a:ext cx="96660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80" y="4846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89200" y="4649760"/>
            <a:ext cx="5871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67280" y="484668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520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4032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244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97080"/>
            <a:ext cx="5106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3600" y="2685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520" y="326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4492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2580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7356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020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9840" y="2259000"/>
            <a:ext cx="197172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62360" y="2625840"/>
            <a:ext cx="648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41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6396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2560" y="3919680"/>
            <a:ext cx="32688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76760" y="391968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48120" y="3927600"/>
            <a:ext cx="339840" cy="78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04000" y="361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9560" y="3595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147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09840" y="1260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9360" y="1052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ard: RED, W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89440" y="16272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: perVoQ, p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23288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: Shapers, G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728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1219320"/>
            <a:ext cx="26064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56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448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152388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668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1520" y="2319480"/>
            <a:ext cx="129204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254240" y="2664000"/>
            <a:ext cx="1440" cy="16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846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64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30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202392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1880" y="20304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34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952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318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4120" y="199224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60720" y="19987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2235240"/>
            <a:ext cx="17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27320" y="2235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9800" y="2736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3920" y="2736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in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3257640"/>
            <a:ext cx="177840" cy="1648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09840" y="3384720"/>
            <a:ext cx="399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3409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9840" y="3378240"/>
            <a:ext cx="3873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73760" y="4419720"/>
            <a:ext cx="247680" cy="1839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94440" y="536112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24080" y="4129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10400" y="4791240"/>
            <a:ext cx="377640" cy="27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0200" y="4753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6560" y="4319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sh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4760" y="524520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7920" y="4649760"/>
            <a:ext cx="574920" cy="4572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3720" y="4441680"/>
            <a:ext cx="0" cy="3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537080"/>
            <a:ext cx="1004760" cy="2206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7720" y="4702320"/>
            <a:ext cx="1122120" cy="6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27520" y="47293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9320" y="4330800"/>
            <a:ext cx="1109880" cy="1019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9280" y="411624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395520"/>
            <a:ext cx="1136520" cy="57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2520" y="3801960"/>
            <a:ext cx="639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0440" y="3719520"/>
            <a:ext cx="114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5760" y="3637080"/>
            <a:ext cx="1594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382920" y="3932280"/>
            <a:ext cx="457200" cy="19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8160" y="3944880"/>
            <a:ext cx="471600" cy="12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18920" y="3697200"/>
            <a:ext cx="157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847960"/>
            <a:ext cx="1658880" cy="1684440"/>
          </a:xfrm>
          <a:custGeom>
            <a:avLst/>
            <a:gdLst/>
            <a:ahLst/>
            <a:rect l="l" t="t" r="r" b="b"/>
            <a:pathLst>
              <a:path w="1045" h="1061">
                <a:moveTo>
                  <a:pt x="0" y="1061"/>
                </a:moveTo>
                <a:lnTo>
                  <a:pt x="0" y="296"/>
                </a:lnTo>
                <a:lnTo>
                  <a:pt x="1045" y="296"/>
                </a:lnTo>
                <a:lnTo>
                  <a:pt x="104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9640" y="37670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0520" y="2521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2760" y="388944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C Data path I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1880" y="5909760"/>
            <a:ext cx="82137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f threshold are set as desired, fairness, and ingress shapers can provide the desired traffic behavior for the different clas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here are ingress client queues! Where low priority packets suffers delay and may be lo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0560" y="4454640"/>
            <a:ext cx="1763640" cy="79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080" y="4454640"/>
            <a:ext cx="86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424400"/>
            <a:ext cx="96660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7680" y="4846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89200" y="4846320"/>
            <a:ext cx="2746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344760" y="4867200"/>
            <a:ext cx="109692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67280" y="484668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7520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244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097080"/>
            <a:ext cx="5106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600" y="2685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520" y="326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4492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580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7356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020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9840" y="2259000"/>
            <a:ext cx="197172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62360" y="2625840"/>
            <a:ext cx="648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5541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6396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2560" y="3919680"/>
            <a:ext cx="32688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6760" y="391968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48120" y="3927600"/>
            <a:ext cx="33984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4000" y="361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89560" y="3595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147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09840" y="1260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9360" y="1052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ard: RED, W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89080" y="16272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: per VoQ, p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3288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: Shapers, G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728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60" y="1219320"/>
            <a:ext cx="26064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592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56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48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4360" y="152388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700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668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41520" y="2319480"/>
            <a:ext cx="129204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41280" y="2703240"/>
            <a:ext cx="0" cy="17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6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64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830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75280" y="202392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1880" y="20304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334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952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1318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24120" y="199224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60720" y="19987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2235240"/>
            <a:ext cx="17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27320" y="2235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9800" y="2736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79080" y="2749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in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84600" y="3257640"/>
            <a:ext cx="177840" cy="1648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209840" y="3384720"/>
            <a:ext cx="399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73520" y="3409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49840" y="3378240"/>
            <a:ext cx="3873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73760" y="4419720"/>
            <a:ext cx="247680" cy="1839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1200" y="527040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24080" y="4129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0" y="4791240"/>
            <a:ext cx="377640" cy="27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0200" y="4753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6560" y="4319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sh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78120" y="5079960"/>
            <a:ext cx="49716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7920" y="4649760"/>
            <a:ext cx="574920" cy="4572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67120" y="4441680"/>
            <a:ext cx="1440" cy="3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37080"/>
            <a:ext cx="1004760" cy="2206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T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20920" y="4950000"/>
            <a:ext cx="1004760" cy="2203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7720" y="4702320"/>
            <a:ext cx="1122120" cy="6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7480" y="496404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9320" y="4330800"/>
            <a:ext cx="1109880" cy="1019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4754520"/>
            <a:ext cx="157320" cy="2221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168640" y="4637160"/>
            <a:ext cx="18252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8240" y="4924440"/>
            <a:ext cx="1303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89280" y="411624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3395520"/>
            <a:ext cx="1136520" cy="57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2520" y="3801960"/>
            <a:ext cx="639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440" y="3719520"/>
            <a:ext cx="114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5760" y="3637080"/>
            <a:ext cx="1594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382920" y="3932280"/>
            <a:ext cx="457200" cy="19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3292560" y="3984480"/>
            <a:ext cx="457200" cy="125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18920" y="3697200"/>
            <a:ext cx="157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2847960"/>
            <a:ext cx="1658880" cy="1684440"/>
          </a:xfrm>
          <a:custGeom>
            <a:avLst/>
            <a:gdLst/>
            <a:ahLst/>
            <a:rect l="l" t="t" r="r" b="b"/>
            <a:pathLst>
              <a:path w="1045" h="1061">
                <a:moveTo>
                  <a:pt x="0" y="1061"/>
                </a:moveTo>
                <a:lnTo>
                  <a:pt x="0" y="296"/>
                </a:lnTo>
                <a:lnTo>
                  <a:pt x="1045" y="296"/>
                </a:lnTo>
                <a:lnTo>
                  <a:pt x="104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640" y="37670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50520" y="2521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6560" y="3879720"/>
            <a:ext cx="719280" cy="1606680"/>
          </a:xfrm>
          <a:custGeom>
            <a:avLst/>
            <a:gdLst/>
            <a:ahLst/>
            <a:rect l="l" t="t" r="r" b="b"/>
            <a:pathLst>
              <a:path w="453" h="1012">
                <a:moveTo>
                  <a:pt x="453" y="815"/>
                </a:moveTo>
                <a:lnTo>
                  <a:pt x="453" y="1012"/>
                </a:lnTo>
                <a:lnTo>
                  <a:pt x="0" y="1012"/>
                </a:lnTo>
                <a:lnTo>
                  <a:pt x="0" y="0"/>
                </a:lnTo>
                <a:lnTo>
                  <a:pt x="2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44480" y="54514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s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5840" y="5121360"/>
            <a:ext cx="2103480" cy="365040"/>
          </a:xfrm>
          <a:custGeom>
            <a:avLst/>
            <a:gdLst/>
            <a:ahLst/>
            <a:rect l="l" t="t" r="r" b="b"/>
            <a:pathLst>
              <a:path w="1325" h="230">
                <a:moveTo>
                  <a:pt x="0" y="230"/>
                </a:moveTo>
                <a:lnTo>
                  <a:pt x="1325" y="222"/>
                </a:ln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05280" y="517356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Harry Peng</dc:creator>
  <dc:description/>
  <dc:language>en-US</dc:language>
  <cp:lastModifiedBy>HPENG</cp:lastModifiedBy>
  <cp:lastPrinted>2000-12-07T16:39:27Z</cp:lastPrinted>
  <dcterms:modified xsi:type="dcterms:W3CDTF">2002-03-26T15:20:50Z</dcterms:modified>
  <cp:revision>152</cp:revision>
  <dc:subject/>
  <dc:title>RAH   Harry Peng   hpeng@nortelnetworks.com  Necdet Uzun nuzun@cisoc.com     </dc:title>
</cp:coreProperties>
</file>