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4"/>
          </p:nvPr>
        </p:nvSpPr>
        <p:spPr>
          <a:xfrm>
            <a:off x="-360" y="88074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5"/>
          </p:nvPr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4EE808E-3DE9-49B6-9D6D-247EEF30CC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ilient packet ring in many ways is where Ethernet meets SONET and like any other encounter whether C or P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question of bridging the gap &amp; to do that is a matter of G&amp;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 we do need context, so that the encounter has a useful outc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I am proposing one possible context/framework for service differentiation in R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70880"/>
            <a:ext cx="784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7720" y="15235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7088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7720" y="407088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39720" y="152352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3640" y="152352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7088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39720" y="407088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3640" y="407088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830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7720" y="1523520"/>
            <a:ext cx="3830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7720" y="1523520"/>
            <a:ext cx="3830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7088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830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7720" y="15235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7720" y="407088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7720" y="15235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70880"/>
            <a:ext cx="784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66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2590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3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19040" y="6552720"/>
            <a:ext cx="4933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EE 802.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smllieee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419040" cy="4762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6248520" y="655308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02.17 Dra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302680" y="0"/>
            <a:ext cx="841320" cy="8413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685800" y="990720"/>
            <a:ext cx="7772400" cy="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peng@nortelnetworks.com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2058840"/>
            <a:ext cx="84582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H 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ry Peng   </a:t>
            </a:r>
            <a:r>
              <a:rPr b="0" lang="en-US" sz="2800" spc="-1" strike="noStrike" u="sng">
                <a:solidFill>
                  <a:srgbClr val="0033cc"/>
                </a:solidFill>
                <a:uFillTx/>
                <a:latin typeface="Times New Roman"/>
                <a:hlinkClick r:id="rId1"/>
              </a:rPr>
              <a:t>hpeng@nortelnetworks.com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ynchronou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4319280"/>
            <a:ext cx="7848720" cy="20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mit is frequency locked to the rece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rate = Read r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 frequency jitter and wa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06440" y="1608120"/>
            <a:ext cx="1096920" cy="977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63760" y="2063880"/>
            <a:ext cx="664920" cy="3524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66720" y="2233440"/>
            <a:ext cx="8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3480" y="1509840"/>
            <a:ext cx="85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ng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87520" y="1919160"/>
            <a:ext cx="69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09840" y="2203560"/>
            <a:ext cx="69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69600" y="1889280"/>
            <a:ext cx="4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66000" y="1584360"/>
            <a:ext cx="56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83040" y="1566720"/>
            <a:ext cx="2155680" cy="941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61040" y="186228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it Buf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61280" y="250200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090760" y="25257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67360" y="1536840"/>
            <a:ext cx="1096920" cy="977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76880" y="2830680"/>
            <a:ext cx="665280" cy="3520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57800" y="1849320"/>
            <a:ext cx="69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254560" y="2211480"/>
            <a:ext cx="690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93880" y="1911240"/>
            <a:ext cx="4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7720" y="1514520"/>
            <a:ext cx="56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505560" y="2495520"/>
            <a:ext cx="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88040" y="2006640"/>
            <a:ext cx="665280" cy="3524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S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080120" y="1998720"/>
            <a:ext cx="66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31680" y="1360440"/>
            <a:ext cx="85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ng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57360" y="157644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332400" y="158580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608520" y="32860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c-tx = fc-r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50960" y="2733840"/>
            <a:ext cx="15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c-rx+/- Y pp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743200" y="2208240"/>
            <a:ext cx="3435480" cy="822240"/>
          </a:xfrm>
          <a:custGeom>
            <a:avLst/>
            <a:gdLst/>
            <a:ahLst/>
            <a:rect l="l" t="t" r="r" b="b"/>
            <a:pathLst>
              <a:path w="2164" h="518">
                <a:moveTo>
                  <a:pt x="0" y="0"/>
                </a:moveTo>
                <a:lnTo>
                  <a:pt x="0" y="518"/>
                </a:lnTo>
                <a:lnTo>
                  <a:pt x="2164" y="51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synchronou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45840" y="3340080"/>
            <a:ext cx="78483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34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HY uses CDR to recover clock from the 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34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 data at Rate = upstream Tx oscillator: fc(rx)+/- Y pp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34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mit data at local oscillator baud rate= fc(tx)+/- X pp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34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ock Accura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-168840">
              <a:lnSpc>
                <a:spcPct val="90000"/>
              </a:lnSpc>
              <a:spcBef>
                <a:spcPts val="300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run SONET +/- 20pp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-168840">
              <a:lnSpc>
                <a:spcPct val="90000"/>
              </a:lnSpc>
              <a:spcBef>
                <a:spcPts val="300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hernet +/- 100pp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34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ock stability, 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smatch of Write and Read 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34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rvation: fc(tx) &gt; fc(r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34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verflow: fc(tx) &lt; fc(r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306440" y="1608120"/>
            <a:ext cx="1096920" cy="977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63760" y="2063880"/>
            <a:ext cx="664920" cy="3524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66720" y="2233440"/>
            <a:ext cx="8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3480" y="1509840"/>
            <a:ext cx="85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ng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87520" y="1919160"/>
            <a:ext cx="69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409840" y="2203560"/>
            <a:ext cx="69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69600" y="1889280"/>
            <a:ext cx="4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466000" y="1584360"/>
            <a:ext cx="56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83040" y="1566720"/>
            <a:ext cx="2155680" cy="941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61040" y="186228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it Buf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61280" y="250200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090760" y="25257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67360" y="1536840"/>
            <a:ext cx="1096920" cy="977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176880" y="2830680"/>
            <a:ext cx="665280" cy="3520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257800" y="1849320"/>
            <a:ext cx="69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54560" y="2211480"/>
            <a:ext cx="690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93880" y="1911240"/>
            <a:ext cx="4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7720" y="1514520"/>
            <a:ext cx="56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6505560" y="2495520"/>
            <a:ext cx="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88040" y="2006640"/>
            <a:ext cx="665280" cy="3524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S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080120" y="1998720"/>
            <a:ext cx="66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231680" y="1360440"/>
            <a:ext cx="85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ng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57360" y="157644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332400" y="158580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61680" y="2803680"/>
            <a:ext cx="16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c(tx)+/- Xpp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51320" y="273384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c(rx)+/- Ypp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47960" y="2208240"/>
            <a:ext cx="3343320" cy="834840"/>
          </a:xfrm>
          <a:custGeom>
            <a:avLst/>
            <a:gdLst/>
            <a:ahLst/>
            <a:rect l="l" t="t" r="r" b="b"/>
            <a:pathLst>
              <a:path w="2106" h="526">
                <a:moveTo>
                  <a:pt x="0" y="0"/>
                </a:moveTo>
                <a:lnTo>
                  <a:pt x="0" y="526"/>
                </a:lnTo>
                <a:lnTo>
                  <a:pt x="2106" y="52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synchronou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81040" y="3549240"/>
            <a:ext cx="784872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marL="209160" indent="-20916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ynchronous operation applies to ethernet and Byte escape 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9160" indent="-20916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th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240" indent="-17424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PG and rate adaptation in Ethernet 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696960" indent="-139320">
              <a:lnSpc>
                <a:spcPct val="90000"/>
              </a:lnSpc>
              <a:spcBef>
                <a:spcPts val="349"/>
              </a:spcBef>
              <a:buClr>
                <a:srgbClr val="6633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e byte adjusted in IPG for every 5000 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9160" indent="-20916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yte Esc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240" indent="-17424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sumes PHY is doing the escap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696960" indent="-139320">
              <a:lnSpc>
                <a:spcPct val="90000"/>
              </a:lnSpc>
              <a:spcBef>
                <a:spcPts val="349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SAP interface is in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696960" indent="-139320">
              <a:lnSpc>
                <a:spcPct val="90000"/>
              </a:lnSpc>
              <a:spcBef>
                <a:spcPts val="349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scaping occurs for both ingress and egress, balances 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696960" indent="-139320">
              <a:lnSpc>
                <a:spcPct val="90000"/>
              </a:lnSpc>
              <a:spcBef>
                <a:spcPts val="349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duces add 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240" indent="-17424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te adaptation is the the SONET 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09160" indent="-20916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istent Rate adaptation function prefer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170000" y="1333440"/>
          <a:ext cx="6735600" cy="2081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0000" y="1333440"/>
                    <a:ext cx="6735600" cy="20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ynopsi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to make sure no starve on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umbo fra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extra byte for every 5000 data bytes  (+/-100 pp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fill FIFO before launching pa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Idle on e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s a bonu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f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e Idles on in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ete one IDLE for every 5000 data bytes (+/- 100 pp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to ensure there is enough Idle between packets so removing is not a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4T01:17:08Z</dcterms:created>
  <dc:creator>Harry Peng</dc:creator>
  <dc:description/>
  <dc:language>en-US</dc:language>
  <cp:lastModifiedBy>HPENG</cp:lastModifiedBy>
  <cp:lastPrinted>2000-12-07T16:39:27Z</cp:lastPrinted>
  <dcterms:modified xsi:type="dcterms:W3CDTF">2002-03-27T16:08:08Z</dcterms:modified>
  <cp:revision>163</cp:revision>
  <dc:subject/>
  <dc:title>RAH   Harry Peng   hpeng@nortelnetworks.com  Necdet Uzun nuzun@cisoc.com     </dc:title>
</cp:coreProperties>
</file>