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7555B9-FF02-4A7F-875F-723FBC8B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lient packet ring in many ways is where Ethernet meets SONET and like any other encounter whether C or P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question of bridging the gap &amp; to do that is a matter of G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we do need context, so that the encounter has a useful out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 am proposing one possible context/framework for service differentiation in R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72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3640" y="15235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72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3640" y="40708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720" y="40708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720" y="15235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9040" y="6552720"/>
            <a:ext cx="493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7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peng@nortelnetworks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5884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H 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Peng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peng@nortelnetworks.co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ynchrono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4319280"/>
            <a:ext cx="784872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is frequency locked to the rece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rate = Read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frequency jitter and w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06440" y="160812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3760" y="2063880"/>
            <a:ext cx="66492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720" y="22334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3480" y="15098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87520" y="19191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9840" y="22035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69600" y="18892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66000" y="15843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83040" y="1566720"/>
            <a:ext cx="2155680" cy="941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61040" y="186228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61280" y="2502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0760" y="2525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67360" y="153684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6880" y="2830680"/>
            <a:ext cx="665280" cy="352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184932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4560" y="22114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3880" y="19112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7720" y="15145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505560" y="249552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88040" y="2006640"/>
            <a:ext cx="66528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0120" y="19987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1680" y="13604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57360" y="1576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32400" y="1585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08520" y="32860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-tx = fc-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0960" y="27338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-rx+/- Y 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208240"/>
            <a:ext cx="3435480" cy="822240"/>
          </a:xfrm>
          <a:custGeom>
            <a:avLst/>
            <a:gdLst/>
            <a:ahLst/>
            <a:rect l="l" t="t" r="r" b="b"/>
            <a:pathLst>
              <a:path w="2164" h="518">
                <a:moveTo>
                  <a:pt x="0" y="0"/>
                </a:moveTo>
                <a:lnTo>
                  <a:pt x="0" y="518"/>
                </a:lnTo>
                <a:lnTo>
                  <a:pt x="2164" y="5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ynchrono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5840" y="3340080"/>
            <a:ext cx="78483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 uses CDR to recover clock from th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 data at Rate = upstream Tx oscillator: fc(rx)+/- Y p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 data at local oscillator baud rate= fc(tx)+/- X p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ck Accu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run SONET +/- 20p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net +/- 100p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ck stability, 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smatch of Write and Read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vation: fc(tx) &gt; fc(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erflow: fc(tx) &lt; fc(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06440" y="160812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63760" y="2063880"/>
            <a:ext cx="66492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720" y="22334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3480" y="15098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87520" y="19191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9840" y="22035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69600" y="18892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66000" y="15843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3040" y="1566720"/>
            <a:ext cx="2155680" cy="941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61040" y="186228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1280" y="2502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90760" y="2525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67360" y="1536840"/>
            <a:ext cx="1096920" cy="97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6880" y="2830680"/>
            <a:ext cx="665280" cy="352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84932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4560" y="22114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3880" y="19112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7720" y="15145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505560" y="249552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88040" y="2006640"/>
            <a:ext cx="665280" cy="352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0120" y="199872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1680" y="136044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ng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57360" y="1576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32400" y="1585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61680" y="2803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(tx)+/- X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1320" y="27338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(rx)+/- Y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7960" y="2208240"/>
            <a:ext cx="3343320" cy="834840"/>
          </a:xfrm>
          <a:custGeom>
            <a:avLst/>
            <a:gdLst/>
            <a:ahLst/>
            <a:rect l="l" t="t" r="r" b="b"/>
            <a:pathLst>
              <a:path w="2106" h="526">
                <a:moveTo>
                  <a:pt x="0" y="0"/>
                </a:moveTo>
                <a:lnTo>
                  <a:pt x="0" y="526"/>
                </a:lnTo>
                <a:lnTo>
                  <a:pt x="2106" y="52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ynchrono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1040" y="3549240"/>
            <a:ext cx="784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operation applies to ethernet and Byte escap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G and rate adaptation in Ethernet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byte adjusted in IPG for every 5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te E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es PHY is doing the esc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AP interface is in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caping occurs for both ingress and egress, balance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ces add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e adaptation is the the SONET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ent Rate adaptation function prefer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70000" y="1333440"/>
          <a:ext cx="6735600" cy="20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333440"/>
                    <a:ext cx="67356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ynopsi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o make sure no starve on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mbo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xtra byte for every 5000 data bytes  (+/-100 p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ll FIFO before launching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Idle on e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bon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Idles on i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one IDLE for every 5000 data bytes (+/- 100 p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to ensure there is enough Idle between packets so removing is not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Harry Peng</dc:creator>
  <dc:description/>
  <dc:language>en-US</dc:language>
  <cp:lastModifiedBy>HPENG</cp:lastModifiedBy>
  <cp:lastPrinted>2000-12-07T16:39:27Z</cp:lastPrinted>
  <dcterms:modified xsi:type="dcterms:W3CDTF">2002-03-27T16:08:08Z</dcterms:modified>
  <cp:revision>163</cp:revision>
  <dc:subject/>
  <dc:title>RAH   Harry Peng   hpeng@nortelnetworks.com  Necdet Uzun nuzun@cisoc.com     </dc:title>
</cp:coreProperties>
</file>